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wmf" ContentType="image/x-wmf"/>
  <Override PartName="/ppt/media/image14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0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5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07400"/>
            <a:ext cx="5486040" cy="40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6352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24B9-4262-4023-A17C-B38DA61FE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7339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2538360"/>
            <a:ext cx="37339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C470-F5AB-4FDD-8BDA-26F0164C6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20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253836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2000" y="253836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494D-B683-44EE-866B-2B18662EF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91120" y="198108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53640" y="198108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253836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91120" y="253836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53640" y="253836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872F-EA0E-46C2-A3E3-ADF36BEF6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3733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7339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821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142000" y="1981080"/>
            <a:ext cx="1821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142000" y="1981080"/>
            <a:ext cx="1821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253836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3733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19A5-E322-443A-B0BE-DDB5356A7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821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1420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42000" y="253836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1420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2538360"/>
            <a:ext cx="37339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7339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2538360"/>
            <a:ext cx="37339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1420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253836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142000" y="253836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91120" y="198108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753640" y="198108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253836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1491120" y="253836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2753640" y="253836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992A3-CC58-48CA-800F-03B58E68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3733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2539D-94FF-41D2-B937-C0CE9FC3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7339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E201F-21A0-4076-816A-E62C0BCB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821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142000" y="1981080"/>
            <a:ext cx="1821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6466C-3EEB-47D9-BB21-2C6BC43B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087AE-129A-4C98-B249-266D695B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7339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3244-F6D2-4810-800E-E40F7E063B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7DFC4-D89D-4423-85AD-0FB99C1E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142000" y="1981080"/>
            <a:ext cx="1821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600" y="253836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592EB-044D-4358-8E49-05556447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821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1420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142000" y="253836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C43AA-F6E9-4EFB-83EE-683C47F7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1420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2538360"/>
            <a:ext cx="37339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24964-E0C6-48CF-ABB4-CA437F2B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7339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8600" y="2538360"/>
            <a:ext cx="37339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D100E-96E6-4720-A2C4-AEC45CAA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420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253836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142000" y="253836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90574-6562-4F9D-8744-EDCD16A7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91120" y="198108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753640" y="198108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228600" y="253836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1491120" y="253836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2753640" y="2538360"/>
            <a:ext cx="12020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4519D-95CA-42E1-8B62-B57BCA36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821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2000" y="1981080"/>
            <a:ext cx="1821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98E6-EC4E-4CBE-B9C8-EACDC5DBD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0343-73FB-4951-A667-C1C04D968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37BA-96AE-44E3-9588-BC65FDA96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2000" y="1981080"/>
            <a:ext cx="1821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253836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8E5A-A47E-45A9-B632-7188C775A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821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20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2000" y="253836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89D5-7FB8-4BDF-96CD-05BCF5E39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2000" y="1981080"/>
            <a:ext cx="1821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2538360"/>
            <a:ext cx="37339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DE09-7DDF-4E33-8FB0-1CDDD64C6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cc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cc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cc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cc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cc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360" y="6095520"/>
            <a:ext cx="5334120" cy="7621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6053-9186-4644-B719-73E14BDB09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BIS Models, Feb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137200" y="6095880"/>
            <a:ext cx="40068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04920" y="5562720"/>
            <a:ext cx="754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137200" y="6026040"/>
            <a:ext cx="4006800" cy="831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cc"/>
              </a:buClr>
              <a:buSzPct val="65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cc"/>
              </a:buClr>
              <a:buSzPct val="65000"/>
              <a:buFont typeface="Arial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cc"/>
              </a:buClr>
              <a:buSzPct val="65000"/>
              <a:buFont typeface="Arial"/>
              <a:buChar char="■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F8BA-5DE1-4809-A540-E7D9A6E64B3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F2B2-DDA7-456B-9DDB-B78AAFCDA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0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How IBIS Models Relate to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I, PI, and EMI-EMC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y Leventh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ignCon 200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BIS Summit Meet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nta Clara, C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5, 200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5280" y="33307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7893000" cy="1636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Virtual Test Board 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Before and After EMI Treatment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828800"/>
          <a:ext cx="8153280" cy="37638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32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hielded, Unterminated, 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Constant Impedance Ne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elded, Terminated, 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 Impedance Ne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Net4EMI_1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733480" cy="2924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Net2EMI_2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3143520" cy="283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1196-8C61-43DB-B0D2-ABCF95D969C8}" type="slidenum">
              <a:t>10</a:t>
            </a:fld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Near Field EMI Simulators</a:t>
            </a:r>
            <a:endParaRPr b="1" lang="en-US" sz="3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5943600" cy="45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2133720" y="5638680"/>
            <a:ext cx="449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age Courtesy of Johnson Controls Automotive, Inc. Used with per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E013-B2F9-44E6-A1FC-631F40000ED4}" type="slidenum">
              <a:t>11</a:t>
            </a:fld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PI and the IEC 62014-3 Proposal</a:t>
            </a:r>
            <a:endParaRPr b="1" lang="en-US" sz="3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" y="1294920"/>
            <a:ext cx="7772400" cy="31244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courtesy of Etienne Sicard, INSA-Toulo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is happening with IEC 62014-3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2120" y="2209680"/>
          <a:ext cx="7619760" cy="24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209680"/>
                    <a:ext cx="761976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6407-751D-4980-8A19-3D7BB7061C0C}" type="slidenum">
              <a:t>12</a:t>
            </a:fld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Bypassing the Power Supply for PI</a:t>
            </a:r>
            <a:endParaRPr b="1" lang="en-US" sz="3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705360" cy="35658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4724280"/>
            <a:ext cx="7696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lide courtesy of Lee Ritchey, Speeding Edg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inder to myself: Let’s have a discussion of some of the latest PCB techniques for controlling power plane bounce, crosstalk, and emis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6753-8099-4571-8334-B3C96E562D07}" type="slidenum">
              <a:t>13</a:t>
            </a:fld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3D Full-Wave EMI Simulators</a:t>
            </a:r>
            <a:endParaRPr b="1" lang="en-US" sz="3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914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Bas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9144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Ground Pin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3505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Standoff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371600" y="1300320"/>
            <a:ext cx="2714760" cy="1825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442120" y="1295280"/>
            <a:ext cx="2778120" cy="1830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219320" y="3963960"/>
            <a:ext cx="2860560" cy="1827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486400" y="3967200"/>
            <a:ext cx="2733840" cy="183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4952880" y="34336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ins and Stand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3205080"/>
            <a:ext cx="205740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Coupling to Slot-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560" y="2214360"/>
            <a:ext cx="99036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396720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5867280"/>
            <a:ext cx="449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Slide courtesy of FloEMC used with per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9A09-86F9-44BE-90C1-A31482E96941}" type="slidenum">
              <a:t>14</a:t>
            </a:fld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Far-Field EMI Simulators</a:t>
            </a:r>
            <a:endParaRPr b="1" lang="en-US" sz="3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41702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95280" y="1523880"/>
            <a:ext cx="2225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U1 Star com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523880"/>
            <a:ext cx="2225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U1 Star com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5715000"/>
            <a:ext cx="449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Slide courtesy of FloEMC used with per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AC90-6E9F-4C37-B59A-157B4CC8660F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The Virtual Test Bench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981080" y="37339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114800" y="1219320"/>
            <a:ext cx="4648320" cy="2404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228600" y="1219320"/>
            <a:ext cx="3809880" cy="2450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257800" y="4384800"/>
            <a:ext cx="3503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lide courtesy of Jerry Meyerhoff, Continental AG, and CST/FloEMC. Used with permis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3A44-1D18-44EE-84B9-13D60821FBD8}" type="slidenum">
              <a:t>16</a:t>
            </a:fld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Modelers Need to Use the Language of the Frequency Domain in Talking to EMI Engineers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4626000" cy="248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938760" y="3027240"/>
            <a:ext cx="4479840" cy="2347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448640" y="44197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0880" y="1600200"/>
            <a:ext cx="314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lots of a typical 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gulatory EMI 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roblem and its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4840" y="54100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E998-A38C-45C0-A476-B76746A6C179}" type="slidenum">
              <a:t>17</a:t>
            </a:fld>
          </a:p>
        </p:txBody>
      </p: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1" lang="en-US" sz="3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MI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riven by the strength and speed of the output driv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riven by the discontinuities of the transmission 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s to much higher harmonics than SI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MI can be controlled by sophisticated techniques for resolving the problems created by high-speed driv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MI issues at the PCB, enclosure, and system level can be studied with sophisticated CEM tools. CEM facilitates the study of EMI design tradeoffs related to models and net desig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delers use time domain concepts. EMI Engineers use frequency domain concepts. They need to communicate in each other’s languag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98F6-F725-4057-B13B-91DA9A98CF79}" type="slidenum">
              <a:t>18</a:t>
            </a:fld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2362320" y="3047760"/>
            <a:ext cx="5029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semiconductorsimulation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semiconductormodel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y.Leventhal@ieee.or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47-590-939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93000" cy="16365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2280" y="533520"/>
            <a:ext cx="8763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943600"/>
            <a:ext cx="9144000" cy="9406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An Example of a Complex Network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219320" y="1676520"/>
          <a:ext cx="6553080" cy="403848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37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18-Slot Bi-Directional Backplane B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4057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C72F-4BF8-4020-A312-BE0C02B13214}" type="slidenum">
              <a:t>2</a:t>
            </a:fld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Simulation Results 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from too Simple a Model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4040" y="1219320"/>
            <a:ext cx="3597120" cy="4343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cc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lex nets are hard to terminate and have many refle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ple dV/dt modeling and device behavior is inadequa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-T curves need to be modeled for correct results in GTL/GTLP bu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A039-0BD6-4966-894B-404265663806}" type="slidenum">
              <a:t>3</a:t>
            </a:fld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IBIS Modeling of V-T Curves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How GTLP Really Behaves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0160" y="1219320"/>
            <a:ext cx="339588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slide shows how to correctly model GTL/GTL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ft turn-on/turn-off removes many high-frequency components (think about Fourier transformation) from driving the li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6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esults of the change in modeling detail are shown nex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4096-7688-49B6-BB28-1D0E501799F5}" type="slidenum">
              <a:t>4</a:t>
            </a:fld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Better Models Give Better Results</a:t>
            </a:r>
            <a:endParaRPr b="1" lang="en-US" sz="3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verything should be as simple as possible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and no simple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”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----Albert Einste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12680" y="1066680"/>
            <a:ext cx="32767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A892-4CFF-4C7D-916D-71F4903C6B15}" type="slidenum">
              <a:t>5</a:t>
            </a:fld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Test Net for SI and EMI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19320" y="990720"/>
          <a:ext cx="6629400" cy="4983120"/>
        </p:xfrm>
        <a:graphic>
          <a:graphicData uri="http://schemas.openxmlformats.org/drawingml/2006/table">
            <a:tbl>
              <a:tblPr/>
              <a:tblGrid>
                <a:gridCol w="6629400"/>
              </a:tblGrid>
              <a:tr h="40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MHz Clock Topology as Modified </a:t>
                      </a:r>
                      <a:br>
                        <a:rPr sz="22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tesy of Hamilton-Sundstr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lkOut Modified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248520" cy="384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2218-38B1-422E-B747-C4B405EE9BC6}" type="slidenum">
              <a:t>6</a:t>
            </a:fld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How SI is Affected by Overshoot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1294920"/>
            <a:ext cx="7772400" cy="3505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ReflWave" descr=""/>
          <p:cNvPicPr/>
          <p:nvPr/>
        </p:nvPicPr>
        <p:blipFill>
          <a:blip r:embed="rId2"/>
          <a:srcRect l="0" t="14389" r="0" b="0"/>
          <a:stretch/>
        </p:blipFill>
        <p:spPr>
          <a:xfrm>
            <a:off x="685800" y="990720"/>
            <a:ext cx="7543800" cy="3857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727360" y="5165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572000"/>
            <a:ext cx="7086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fore Termin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502920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Before termination, SI and stress on the receiver is not a high concern – the real payoff will be in EMI control as shown in the next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E936-8391-4A78-93CD-A82C16FEBF86}" type="slidenum">
              <a:t>7</a:t>
            </a:fld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How EMI is Affected by Overshoot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810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EMISpectrum" descr=""/>
          <p:cNvPicPr/>
          <p:nvPr/>
        </p:nvPicPr>
        <p:blipFill>
          <a:blip r:embed="rId2"/>
          <a:srcRect l="0" t="11140" r="0" b="0"/>
          <a:stretch/>
        </p:blipFill>
        <p:spPr>
          <a:xfrm>
            <a:off x="1219320" y="1295280"/>
            <a:ext cx="6400800" cy="3772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19320" y="4800600"/>
            <a:ext cx="7086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fore Termin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5334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I Engineer has to manage harmonics out to about the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EMI engineer has to manage harmonics out to, perhaps, the 10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5D52-D771-429B-869F-F31650EB2246}" type="slidenum">
              <a:t>8</a:t>
            </a:fld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Example of Virtual Test Board</a:t>
            </a:r>
            <a:endParaRPr b="1" lang="en-US" sz="34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990720"/>
          <a:ext cx="7772400" cy="49845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4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oard on the left has the following stackup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: 1.2 mil Cu signal Zo = 8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: 12 mil FR4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= 4.5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: 1.2 mil Cu shield Vcc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: 12 mil FR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: 1.2 mil Cu shield GN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: 12 mil FR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: 1.2 mil Cu signal Zo = 8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h width is nominally 6 m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the shielded version outer shield layers of 1.2 mil Cu spaced by 12 mils of FR4 were add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ominal 6 mil etch on such an inner layer results in Zo = 59.6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oard is about 3 inches long.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 of the Test Boar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kup of the Test Boar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LayoutTestBrd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2809800" cy="34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7A40-154F-4890-83D4-2A63B2634448}" type="slidenum">
              <a:t>9</a:t>
            </a:fld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b Ross</cp:lastModifiedBy>
  <dcterms:modified xsi:type="dcterms:W3CDTF">2009-01-29T00:31:03Z</dcterms:modified>
  <cp:revision>21</cp:revision>
  <dc:subject/>
  <dc:title>PowerPoint Presentation</dc:title>
</cp:coreProperties>
</file>