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7.png" ContentType="image/png"/>
  <Override PartName="/ppt/media/image3.jpeg" ContentType="image/jpeg"/>
  <Override PartName="/ppt/media/image15.png" ContentType="image/png"/>
  <Override PartName="/ppt/media/image23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4AA7-6877-4DA3-9E34-83869C949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6401-0D71-4236-8BD9-9324E24FA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A41-808C-44DB-9BC2-1E62EE57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AF7-9DEB-489B-AD28-4F9DA441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B815-D1D5-4DE4-A78F-CC289167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2737-68E6-4902-B421-3BFB0A44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E3A8-60CC-43F0-BE11-02008175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F4C9-027A-4A9A-B2EE-3E67B32C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29FE-DD08-43AB-A8A7-AF4183F0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EB39-C076-4C2E-AA98-27FDAE65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CF4F-B466-431E-9904-95FF7117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4632-84E7-4A78-9DDC-3441C464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E7C5-48E5-45B1-84DC-2D469AF7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75E-A01E-434B-8E84-515AF79A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7706-2483-4AAF-9D92-5ADDF682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127A-5FCE-4C5A-AD45-1F1A68C1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CADF-B9F4-442D-B910-5BFF11C5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33DE-B388-4B62-9CC5-FC227248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B0DF-E96C-4708-A30A-02B2C9B7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4D12B-C12F-4C13-B45F-E9B0A9E6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CCA8C-0B01-4799-A45F-C2317E03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CDAE9-4A0E-4E04-BBA7-60013BE6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1DFF4-71C1-4737-8ECE-8462404C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B032C-43A0-42C3-9530-D4C3A766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5897-5CC3-42A3-93FA-60AD94E4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27000-1DED-4F54-85E7-262F595A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4E771-5EBF-4B0D-BA26-9FE31AE6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5C395-A412-4562-A4AF-3E094169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D29B3-A59B-429F-9BA3-888E7C0E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422E-335A-4818-B3A1-6F1AF475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F004B-E576-47C2-A104-152243CA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C5077-FA4B-4B1D-BF02-3BCDFAED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CD718-D99E-4C11-9D74-36AD1BBA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18AB6-4870-4476-A8C5-DF04588D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63943-4DD1-4AB1-96EF-D49BC791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C1E5-5C40-4493-8E06-B50E961B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2082A-9D8E-418D-A038-47137AA3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40BBC-5BC5-43F5-858F-B47FB623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A4BA6-0942-480B-B7B5-4DB16B10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2CBFE-E87F-46B4-AC7F-803B8F21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6E06B-DE37-43B5-9B91-B11EB4BB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C034C-40C8-4554-98F8-DCAE9B36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5CBF9-1F08-4F02-8007-66892A33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45A7C-D96A-4028-A0AB-292F7336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28274-EA6E-4073-9407-269DB8A9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93B43-0F8E-4DE1-B6E2-909A5943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CC43-6FB7-45F4-BD8B-7CDAA086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9AF8F-B045-492C-9DAC-BC628D77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60BDF-072C-4509-ABA7-B9D54159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FA500-F3F1-44D7-9F62-ECC45E03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B53AD-361A-4585-936F-C39245D0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C082E-2920-4188-BB3A-DE2F4007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FC804-A9BF-4F81-A99D-705CCE66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31925-F20D-4008-9B59-3E7CDA8D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399CE-91FD-4309-9856-1B04CAAF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ABAEA-AA2E-4DB5-849E-68E20BA4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2144E-C357-405D-8A13-4F139979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43CF-C750-4679-87DC-78F7303A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98019-B9B9-40B8-9126-B5AA6E5A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AF5-0626-4B57-8CB9-4B85AF61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4878-74E6-4D16-863B-231EF899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09F-CF53-402D-AB04-0A58C270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6179-97DB-4E03-86AF-3DBA0B36605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6FA6-6163-40CE-9CE1-793CBC10297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A99B-DB42-4EDF-A3B4-5F6EF31DD16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8236-8DC5-460D-949A-B84D61B160B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4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D272-B5D7-46BD-A559-AAC40DFF575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E6DE-D6AD-46CC-99D5-FAE87BE91E4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826C-A227-4BF6-87E3-E453104DF7D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ECFB-6062-44CC-BDB5-F326A935715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3EE3-AD58-4484-8119-CD289EB7312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1F81-6B69-4843-9350-2ED09BEDDB4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harksim.com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Perpetua"/>
              </a:rPr>
              <a:t>Tim Coy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Perpetua"/>
              </a:rPr>
              <a:t>Signal Consulting Group LL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Perpetua"/>
              </a:rPr>
              <a:t>IBIS Summit DesignCon 200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Perpetua"/>
              </a:rPr>
              <a:t>Santa Clara, C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Perpetua"/>
              </a:rPr>
              <a:t>February 5, 2009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IBIS DNA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Decoding The Quality Gen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What Is A Quality Model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838080" y="205740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 quality model would be an IBIS model that has no errors or warnings that would stop an engineer from immediately running simulations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5875-E83F-4CC1-AA79-CB7BAFB9F39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f497d"/>
                </a:solidFill>
                <a:uFillTx/>
                <a:latin typeface="Franklin Gothic Book"/>
              </a:rPr>
              <a:t>IBIS Model Quality Review Results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5445000"/>
            <a:ext cx="73152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59%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f IBIS Simulation Models Unsuitable for Signal Integrity Analysi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7" name="Chart 4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6933960" cy="4191120"/>
          </a:xfrm>
          <a:prstGeom prst="rect">
            <a:avLst/>
          </a:prstGeom>
          <a:ln w="0">
            <a:noFill/>
          </a:ln>
        </p:spPr>
      </p:pic>
      <p:sp>
        <p:nvSpPr>
          <p:cNvPr id="288" name="Slide Number Placeholder 5"/>
          <p:cNvSpPr/>
          <p:nvPr/>
        </p:nvSpPr>
        <p:spPr>
          <a:xfrm>
            <a:off x="146160" y="62085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1DA2-3538-47B7-9A98-734FB02F9CC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f497d"/>
                </a:solidFill>
                <a:uFillTx/>
                <a:latin typeface="Franklin Gothic Book"/>
              </a:rPr>
              <a:t>IBIS Model Versions of Reviewed Models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lmost 70% of Models Ver 3.2 or Lat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ut less than 10% of Models Ver 4.0 or Lat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1" name="Chart 4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6553080" cy="40384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5"/>
          <p:cNvSpPr/>
          <p:nvPr/>
        </p:nvSpPr>
        <p:spPr>
          <a:xfrm>
            <a:off x="146160" y="62085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DCD6-FFB7-4C3C-8F84-E27F7972DE4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f497d"/>
                </a:solidFill>
                <a:uFillTx/>
                <a:latin typeface="Franklin Gothic Book"/>
              </a:rPr>
              <a:t>Year IBIS Model Released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lmost 70% of IBIS Models Reviewed Released in Last 3 Yea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5" name="Chart 4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6781680" cy="4038480"/>
          </a:xfrm>
          <a:prstGeom prst="rect">
            <a:avLst/>
          </a:prstGeom>
          <a:ln w="0">
            <a:noFill/>
          </a:ln>
        </p:spPr>
      </p:pic>
      <p:sp>
        <p:nvSpPr>
          <p:cNvPr id="296" name="Slide Number Placeholder 5"/>
          <p:cNvSpPr/>
          <p:nvPr/>
        </p:nvSpPr>
        <p:spPr>
          <a:xfrm>
            <a:off x="146160" y="62085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54E9-DC6D-4613-A39B-8D4FE437474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f497d"/>
                </a:solidFill>
                <a:uFillTx/>
                <a:latin typeface="Franklin Gothic Book"/>
              </a:rPr>
              <a:t>IBIS Model Quality Review (Last 3 Years)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till 55% of IBIS Models Not Suitable for Signal Integrity Analysi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9" name="Chart 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248520" cy="37335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5"/>
          <p:cNvSpPr/>
          <p:nvPr/>
        </p:nvSpPr>
        <p:spPr>
          <a:xfrm>
            <a:off x="146160" y="62085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3BC4-7D3B-4955-9C9F-8AB42E2C752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Franklin Gothic Book"/>
              </a:rPr>
              <a:t>IBIS Quality Error Occurrences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#1 Offender -&gt; Missing Timing Load (Vref, Cref, Rref, Vmeas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85800" y="228600"/>
          <a:ext cx="7467480" cy="4343400"/>
        </p:xfrm>
        <a:graphic>
          <a:graphicData uri="http://schemas.openxmlformats.org/drawingml/2006/table">
            <a:tbl>
              <a:tblPr/>
              <a:tblGrid>
                <a:gridCol w="4132440"/>
                <a:gridCol w="3335040"/>
              </a:tblGrid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libri"/>
                          <a:ea typeface="Times New Roman"/>
                        </a:rPr>
                        <a:t>IBIS Quality Err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libri"/>
                          <a:ea typeface="Times New Roman"/>
                        </a:rPr>
                        <a:t>Percentage of Occur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libri"/>
                          <a:ea typeface="Times New Roman"/>
                        </a:rPr>
                        <a:t>Incorrect File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 w="1872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872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libri"/>
                          <a:ea typeface="Times New Roman"/>
                        </a:rPr>
                        <a:t>Missing Timing Lo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libri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libri"/>
                          <a:ea typeface="Times New Roman"/>
                        </a:rPr>
                        <a:t>Incorrect Receiver Thresh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libri"/>
                          <a:ea typeface="Times New Roman"/>
                        </a:rPr>
                        <a:t>Clamp Curve Doesn’t Reach Z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libri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libri"/>
                          <a:ea typeface="Times New Roman"/>
                        </a:rPr>
                        <a:t>AC/DC Mismatch Error &lt; 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Combined Data Non-Monoton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Extreme Current In Clamp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Unreferenced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Exceeds Line Character Lim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34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Series Mosfet Decreasing Cur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IV Curve Can’t Drive Lo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3dfee"/>
                    </a:solidFill>
                  </a:tcPr>
                </a:tc>
              </a:tr>
              <a:tr h="32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Incorrect Ramp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7365d"/>
                          </a:solidFill>
                          <a:latin typeface="Cambri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Slide Number Placeholder 5"/>
          <p:cNvSpPr/>
          <p:nvPr/>
        </p:nvSpPr>
        <p:spPr>
          <a:xfrm>
            <a:off x="146160" y="62085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1151-7EF0-4A8B-A3F3-8FF9DCB3C18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What Did We Find Ou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06" name="Picture 2" descr="E:\Documents and Settings\Tim\Local Settings\Temporary Internet Files\Content.IE5\79IFV2GO\MPj04395340000[1].jpg"/>
          <p:cNvPicPr/>
          <p:nvPr/>
        </p:nvPicPr>
        <p:blipFill>
          <a:blip r:embed="rId1"/>
          <a:stretch/>
        </p:blipFill>
        <p:spPr>
          <a:xfrm>
            <a:off x="609480" y="1676520"/>
            <a:ext cx="2895840" cy="4313160"/>
          </a:xfrm>
          <a:prstGeom prst="rect">
            <a:avLst/>
          </a:prstGeom>
          <a:ln w="0">
            <a:noFill/>
          </a:ln>
        </p:spPr>
      </p:pic>
      <p:sp>
        <p:nvSpPr>
          <p:cNvPr id="307" name="TextBox 4"/>
          <p:cNvSpPr/>
          <p:nvPr/>
        </p:nvSpPr>
        <p:spPr>
          <a:xfrm>
            <a:off x="3657600" y="167652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ver 50% of IBIS Models Not Suitable for Signal Integrity Analysi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ewer IBIS version models not abunda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till Need Improvement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9AD8-7164-42DC-9157-D4272C14A8B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But We Can Fix These Error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10" name="Picture 2" descr="E:\Documents and Settings\Tim\Local Settings\Temporary Internet Files\Content.IE5\BDHR27I9\MPj03142530000[1].jpg"/>
          <p:cNvPicPr/>
          <p:nvPr/>
        </p:nvPicPr>
        <p:blipFill>
          <a:blip r:embed="rId1"/>
          <a:stretch/>
        </p:blipFill>
        <p:spPr>
          <a:xfrm>
            <a:off x="457200" y="1905120"/>
            <a:ext cx="2362320" cy="2361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4"/>
          <p:cNvSpPr/>
          <p:nvPr/>
        </p:nvSpPr>
        <p:spPr>
          <a:xfrm>
            <a:off x="3276720" y="2057400"/>
            <a:ext cx="5562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ost of These Quality Issues Can Be Fixe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ome Easier Than Othe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ad the Report for Full Detail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ecause There’s Still A Proble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9697-2DA8-4274-A30E-DF4B303DE68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Going Beyond The Parser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14" name="Picture 2" descr="E:\Documents and Settings\Tim\Local Settings\Temporary Internet Files\Content.IE5\X29EH82E\MPj04311700000[1].jpg"/>
          <p:cNvPicPr/>
          <p:nvPr/>
        </p:nvPicPr>
        <p:blipFill>
          <a:blip r:embed="rId1"/>
          <a:stretch/>
        </p:blipFill>
        <p:spPr>
          <a:xfrm>
            <a:off x="533520" y="1828800"/>
            <a:ext cx="2968560" cy="19764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/>
          <p:cNvSpPr/>
          <p:nvPr/>
        </p:nvSpPr>
        <p:spPr>
          <a:xfrm>
            <a:off x="3657600" y="1905120"/>
            <a:ext cx="4495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Quality Control Does Not Stop With the IBIS Pars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arser Does Not Check For A Lot Of Thing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arser Does Not VALIDATE that IBIS Parameters Are Correc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E7C1-03C3-47DA-9FCA-9483DCF6DE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IBIS Model Quality Review 2.0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18" name="Picture 4" descr="E:\Documents and Settings\Tim\Local Settings\Temporary Internet Files\Content.IE5\X29EH82E\MPj04387240000[1].jpg"/>
          <p:cNvPicPr/>
          <p:nvPr/>
        </p:nvPicPr>
        <p:blipFill>
          <a:blip r:embed="rId1"/>
          <a:stretch/>
        </p:blipFill>
        <p:spPr>
          <a:xfrm>
            <a:off x="380880" y="1981080"/>
            <a:ext cx="3124440" cy="234468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657600" y="1595520"/>
            <a:ext cx="5181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ook 45% of IBIS Models With No Errors and Ran Through Next Level Of Quality Check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icked 5 Parameters To Compare Against Data Sheet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1. Only Typical Dat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2. Not Enough Data Poin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3. Inadequate Voltage Swee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4. Incorrect Timing Load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5. Invalid C_Com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0" name="Slide Number Placeholder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E99B-C100-4C05-99E3-5C0F33CB214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About SCG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42" name="Content Placeholder 4" descr="new_logo.jpg"/>
          <p:cNvPicPr/>
          <p:nvPr/>
        </p:nvPicPr>
        <p:blipFill>
          <a:blip r:embed="rId1"/>
          <a:stretch/>
        </p:blipFill>
        <p:spPr>
          <a:xfrm>
            <a:off x="5410080" y="228600"/>
            <a:ext cx="3108600" cy="1239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services.jpg"/>
          <p:cNvPicPr/>
          <p:nvPr/>
        </p:nvPicPr>
        <p:blipFill>
          <a:blip r:embed="rId2"/>
          <a:stretch/>
        </p:blipFill>
        <p:spPr>
          <a:xfrm>
            <a:off x="533520" y="26668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SignalConsultingGroupLLCSharkSim18845-FinalLogoD4L4.jpg"/>
          <p:cNvPicPr/>
          <p:nvPr/>
        </p:nvPicPr>
        <p:blipFill>
          <a:blip r:embed="rId3"/>
          <a:stretch/>
        </p:blipFill>
        <p:spPr>
          <a:xfrm>
            <a:off x="3733920" y="2666880"/>
            <a:ext cx="1925640" cy="1347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june_cover_feature.png"/>
          <p:cNvPicPr/>
          <p:nvPr/>
        </p:nvPicPr>
        <p:blipFill>
          <a:blip r:embed="rId4"/>
          <a:stretch/>
        </p:blipFill>
        <p:spPr>
          <a:xfrm>
            <a:off x="6858000" y="2666880"/>
            <a:ext cx="1397160" cy="1828800"/>
          </a:xfrm>
          <a:prstGeom prst="rect">
            <a:avLst/>
          </a:prstGeom>
          <a:ln w="0">
            <a:noFill/>
          </a:ln>
        </p:spPr>
      </p:pic>
      <p:sp>
        <p:nvSpPr>
          <p:cNvPr id="246" name="TextBox 9"/>
          <p:cNvSpPr/>
          <p:nvPr/>
        </p:nvSpPr>
        <p:spPr>
          <a:xfrm>
            <a:off x="640080" y="175248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onsult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3779280" y="175248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TextBox 11"/>
          <p:cNvSpPr/>
          <p:nvPr/>
        </p:nvSpPr>
        <p:spPr>
          <a:xfrm>
            <a:off x="6677640" y="175248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456480" y="457200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ww.siconsultant.com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3596040" y="45720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ww.sharksim.com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6171480" y="457200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www.xrosstalkmag.com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Slide Number Placeholder 1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1EE4-55AE-464A-B150-EC7C56428B3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And The Result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1447920" y="2133720"/>
            <a:ext cx="6248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f497d"/>
                </a:solidFill>
                <a:latin typeface="Perpetua"/>
              </a:rPr>
              <a:t>22%</a:t>
            </a:r>
            <a:r>
              <a:rPr b="1" lang="en-US" sz="9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f IBIS Models Passed Second Level of Quality Check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C35E-BF76-47F0-8E85-D6F42105A68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So What Do The Users Think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25" name="Picture 3" descr="E:\Documents and Settings\Tim\Local Settings\Temporary Internet Files\Content.IE5\BDHR27I9\MPj04331510000[1].jpg"/>
          <p:cNvPicPr/>
          <p:nvPr/>
        </p:nvPicPr>
        <p:blipFill>
          <a:blip r:embed="rId1"/>
          <a:stretch/>
        </p:blipFill>
        <p:spPr>
          <a:xfrm>
            <a:off x="533520" y="1981080"/>
            <a:ext cx="3771720" cy="2514600"/>
          </a:xfrm>
          <a:prstGeom prst="rect">
            <a:avLst/>
          </a:prstGeom>
          <a:ln w="0">
            <a:noFill/>
          </a:ln>
        </p:spPr>
      </p:pic>
      <p:sp>
        <p:nvSpPr>
          <p:cNvPr id="326" name="TextBox 5"/>
          <p:cNvSpPr/>
          <p:nvPr/>
        </p:nvSpPr>
        <p:spPr>
          <a:xfrm>
            <a:off x="4495680" y="1828800"/>
            <a:ext cx="4114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formal Survey of 22 IBIS Model Use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sked A Bunch Of Ques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ame Up With Some Conclus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580D-0F7A-4178-AE30-51509B92EBB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f497d"/>
                </a:solidFill>
                <a:uFillTx/>
                <a:latin typeface="Franklin Gothic Book"/>
              </a:rPr>
              <a:t>Question 1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 percentages of IBIS models have an error or warning that makes it unsuitable for simulation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1523880" y="762120"/>
            <a:ext cx="64771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0 to 25% Have Errors -&gt;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1" lang="en-US" sz="3200" spc="-1" strike="noStrike">
                <a:solidFill>
                  <a:srgbClr val="1f497d"/>
                </a:solidFill>
                <a:latin typeface="Perpetua"/>
              </a:rPr>
              <a:t>23%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25 to 50% Have Errors -&gt;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  </a:t>
            </a:r>
            <a:r>
              <a:rPr b="1" lang="en-US" sz="3200" spc="-1" strike="noStrike">
                <a:solidFill>
                  <a:srgbClr val="1f497d"/>
                </a:solidFill>
                <a:latin typeface="Perpetua"/>
              </a:rPr>
              <a:t>23%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50 to 75% Have Errors -&gt;             </a:t>
            </a:r>
            <a:r>
              <a:rPr b="1" lang="en-US" sz="3200" spc="-1" strike="noStrike">
                <a:solidFill>
                  <a:srgbClr val="1f497d"/>
                </a:solidFill>
                <a:latin typeface="Perpetua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75 to 100% Have Errors -&gt;             </a:t>
            </a:r>
            <a:r>
              <a:rPr b="1" lang="en-US" sz="3200" spc="-1" strike="noStrike">
                <a:solidFill>
                  <a:srgbClr val="1f497d"/>
                </a:solidFill>
                <a:latin typeface="Perpetua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146160" y="62085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782D-4C4C-4B53-9950-81B6207970C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f497d"/>
                </a:solidFill>
                <a:uFillTx/>
                <a:latin typeface="Franklin Gothic Book"/>
              </a:rPr>
              <a:t>Question 2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o you use a formal IBIS quality checking procedure?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1523880" y="762120"/>
            <a:ext cx="64771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o -&gt;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en-US" sz="3200" spc="-1" strike="noStrike">
                <a:solidFill>
                  <a:srgbClr val="1f497d"/>
                </a:solidFill>
                <a:latin typeface="Perpetua"/>
              </a:rPr>
              <a:t>13%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Q Checklist -&gt;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        </a:t>
            </a:r>
            <a:r>
              <a:rPr b="1" lang="en-US" sz="3200" spc="-1" strike="noStrike">
                <a:solidFill>
                  <a:srgbClr val="1f497d"/>
                </a:solidFill>
                <a:latin typeface="Perpetua"/>
              </a:rPr>
              <a:t>13%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ternal -&gt;                    </a:t>
            </a:r>
            <a:r>
              <a:rPr b="1" lang="en-US" sz="3200" spc="-1" strike="noStrike">
                <a:solidFill>
                  <a:srgbClr val="1f497d"/>
                </a:solidFill>
                <a:latin typeface="Perpetua"/>
              </a:rPr>
              <a:t>65%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easurement -&gt;            </a:t>
            </a:r>
            <a:r>
              <a:rPr b="1" lang="en-US" sz="3200" spc="-1" strike="noStrike">
                <a:solidFill>
                  <a:srgbClr val="1f497d"/>
                </a:solidFill>
                <a:latin typeface="Perpetua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146160" y="62085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7498-1771-4DD4-92FB-29E232E0B1C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f497d"/>
                </a:solidFill>
                <a:uFillTx/>
                <a:latin typeface="Franklin Gothic Book"/>
              </a:rPr>
              <a:t>Question 3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oes the availability of quality IBIS models influence your company’s purchase decisions of components in any way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1676520" y="1600200"/>
            <a:ext cx="62481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f497d"/>
                </a:solidFill>
                <a:latin typeface="Perpetua"/>
              </a:rPr>
              <a:t>43%</a:t>
            </a:r>
            <a:r>
              <a:rPr b="1" lang="en-US" sz="9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f Respondents said Yes IBIS Models Matt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Slide Number Placeholder 6"/>
          <p:cNvSpPr/>
          <p:nvPr/>
        </p:nvSpPr>
        <p:spPr>
          <a:xfrm>
            <a:off x="146160" y="62085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A764-2BDB-4EF8-B9EA-AC8EB2DA888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4900320"/>
            <a:ext cx="73152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f497d"/>
                </a:solidFill>
                <a:uFillTx/>
                <a:latin typeface="Franklin Gothic Book"/>
              </a:rPr>
              <a:t>Question 4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5444640"/>
            <a:ext cx="7315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o you feel that the silicon vendors are doing a good job of delivering quality IBIS models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1676520" y="1600200"/>
            <a:ext cx="62481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f497d"/>
                </a:solidFill>
                <a:latin typeface="Perpetua"/>
              </a:rPr>
              <a:t>23%</a:t>
            </a:r>
            <a:r>
              <a:rPr b="1" lang="en-US" sz="9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of Respondents said Vendors Are Doing A Good Job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Slide Number Placeholder 4"/>
          <p:cNvSpPr/>
          <p:nvPr/>
        </p:nvSpPr>
        <p:spPr>
          <a:xfrm>
            <a:off x="146160" y="62085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AE5C-4BBB-48FB-A4BB-5F08063C560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Wisdom Of Crowd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45" name="Picture 4" descr="E:\Documents and Settings\Tim\Local Settings\Temporary Internet Files\Content.IE5\79IFV2GO\MPj04388270000[1].jpg"/>
          <p:cNvPicPr/>
          <p:nvPr/>
        </p:nvPicPr>
        <p:blipFill>
          <a:blip r:embed="rId1"/>
          <a:stretch/>
        </p:blipFill>
        <p:spPr>
          <a:xfrm>
            <a:off x="457200" y="1600200"/>
            <a:ext cx="2486160" cy="3733920"/>
          </a:xfrm>
          <a:prstGeom prst="rect">
            <a:avLst/>
          </a:prstGeom>
          <a:ln w="0">
            <a:noFill/>
          </a:ln>
        </p:spPr>
      </p:pic>
      <p:sp>
        <p:nvSpPr>
          <p:cNvPr id="346" name="TextBox 6"/>
          <p:cNvSpPr/>
          <p:nvPr/>
        </p:nvSpPr>
        <p:spPr>
          <a:xfrm>
            <a:off x="3200400" y="1676520"/>
            <a:ext cx="4952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sers Told Us A Few Thing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y Know IBIS Model Quality Is Less Than 50%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ey Are Basing Business And Design Decisions on IBIS Model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Not Happy With Quality of Model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Slide Number Placeholder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173C-ECCF-4F68-86A8-9A53512C04F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A Process Flow Is Needed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49" name="Picture 4" descr="E:\Documents and Settings\Tim\Local Settings\Temporary Internet Files\Content.IE5\KQOVCLGZ\MPj04068950000[1].jpg"/>
          <p:cNvPicPr/>
          <p:nvPr/>
        </p:nvPicPr>
        <p:blipFill>
          <a:blip r:embed="rId1"/>
          <a:stretch/>
        </p:blipFill>
        <p:spPr>
          <a:xfrm>
            <a:off x="380880" y="1981080"/>
            <a:ext cx="3238560" cy="25909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6"/>
          <p:cNvSpPr/>
          <p:nvPr/>
        </p:nvSpPr>
        <p:spPr>
          <a:xfrm>
            <a:off x="4572000" y="1828800"/>
            <a:ext cx="304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Generat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Validat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orrelat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Slide Number Placeholder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67E2-B307-4608-9CC6-A5097666B3D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Process Flow: Generat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886200" cy="45118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4876920" y="1600200"/>
            <a:ext cx="3962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utomate the Process of SPICE to IBI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Extract C_Comp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Get the Test Dat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E8C8-895C-4EEF-B7AD-B5F44842F3F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Why Test Data Is Important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4191120" y="1828800"/>
            <a:ext cx="4267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orrelate IBIS Model Before Released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orrelation Data Automatically Given To Custom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ustomer Sees Your Correlation, Has the Correlation Dat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You’re Done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3333600" cy="159084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609C-4688-41A5-B37E-1F5645A037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Referenc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BIS Quality Report: A Report On The State of IBIS Simulation Models for Signal Integrity Analysis” published by SGC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Go to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Perpetua"/>
                <a:hlinkClick r:id="rId1"/>
              </a:rPr>
              <a:t>www.sharksim.com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and request a copy of the whitepap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3B3C-DA27-4B58-99E4-56750D2DD76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Process Flow: Validat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1" name="TextBox 4"/>
          <p:cNvSpPr/>
          <p:nvPr/>
        </p:nvSpPr>
        <p:spPr>
          <a:xfrm>
            <a:off x="4495680" y="1600200"/>
            <a:ext cx="426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un The Parse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Graph The Dat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heck The Syntax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002120" cy="3495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2209680" y="4191120"/>
            <a:ext cx="3764160" cy="243828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16B4-622C-4171-BE80-D78223D8E75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Going Beyond The Parser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3929040" cy="32767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6"/>
          <p:cNvSpPr/>
          <p:nvPr/>
        </p:nvSpPr>
        <p:spPr>
          <a:xfrm>
            <a:off x="4114800" y="1828800"/>
            <a:ext cx="4724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Validate Against Datashee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heck That Values Are There And Are Correc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heck Package Pin Ou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Look For Over Clock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Get The Output Impedanc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8" name="Slide Number Placeholder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FBB7-11FF-4377-8FF2-3FE36B1C441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Process Flow: Correlation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0" name="TextBox 6"/>
          <p:cNvSpPr/>
          <p:nvPr/>
        </p:nvSpPr>
        <p:spPr>
          <a:xfrm>
            <a:off x="4114800" y="1828800"/>
            <a:ext cx="4724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lways Simulate Buffer Into Standard and System Loa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se Test Data For Automatic Correlation of Different Loa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oth Vendor and Customer Can Use This Flow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911760" cy="3504960"/>
          </a:xfrm>
          <a:prstGeom prst="rect">
            <a:avLst/>
          </a:prstGeom>
          <a:ln w="0">
            <a:noFill/>
          </a:ln>
        </p:spPr>
      </p:pic>
      <p:sp>
        <p:nvSpPr>
          <p:cNvPr id="37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FFE9-791C-4CDB-98D7-AA6884026D7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We Can Do This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3657600" y="1447920"/>
            <a:ext cx="472428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till Quality Issues With IBIS Models Today &gt; </a:t>
            </a:r>
            <a:r>
              <a:rPr b="1" lang="en-US" sz="4400" spc="-1" strike="noStrike">
                <a:solidFill>
                  <a:srgbClr val="1f497d"/>
                </a:solidFill>
                <a:latin typeface="Perpetua"/>
              </a:rPr>
              <a:t>50%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sers Not Happy  </a:t>
            </a:r>
            <a:r>
              <a:rPr b="1" lang="en-US" sz="4400" spc="-1" strike="noStrike">
                <a:solidFill>
                  <a:srgbClr val="1f497d"/>
                </a:solidFill>
                <a:latin typeface="Perpetua"/>
              </a:rPr>
              <a:t>77%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Perpetua"/>
              </a:rPr>
              <a:t>Vendors AND Users Together With Right Flow Can Help Each Other Solve the Problem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5" name="Picture 2" descr="E:\Documents and Settings\Tim\Local Settings\Temporary Internet Files\Content.IE5\79IFV2GO\MPj04330270000[1].jpg"/>
          <p:cNvPicPr/>
          <p:nvPr/>
        </p:nvPicPr>
        <p:blipFill>
          <a:blip r:embed="rId1"/>
          <a:stretch/>
        </p:blipFill>
        <p:spPr>
          <a:xfrm>
            <a:off x="304920" y="19051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37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AE1F-9A65-46C5-9942-A67E294E35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Thanks For Your Time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1523880" y="2209680"/>
            <a:ext cx="57150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Perpetua"/>
              </a:rPr>
              <a:t>Comments?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B173-904F-40E4-9237-D4F9A332038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0" name="Content Placeholder 4" descr="new_logo.jpg"/>
          <p:cNvPicPr/>
          <p:nvPr/>
        </p:nvPicPr>
        <p:blipFill>
          <a:blip r:embed="rId1"/>
          <a:stretch/>
        </p:blipFill>
        <p:spPr>
          <a:xfrm>
            <a:off x="5715000" y="5257800"/>
            <a:ext cx="32479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How It All Started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57" name="Picture 5" descr="E:\Documents and Settings\Tim\Local Settings\Temporary Internet Files\Content.IE5\79IFV2GO\MPj04392880000[1].jpg"/>
          <p:cNvPicPr/>
          <p:nvPr/>
        </p:nvPicPr>
        <p:blipFill>
          <a:blip r:embed="rId1"/>
          <a:stretch/>
        </p:blipFill>
        <p:spPr>
          <a:xfrm>
            <a:off x="685800" y="16765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58" name="TextBox 8"/>
          <p:cNvSpPr/>
          <p:nvPr/>
        </p:nvSpPr>
        <p:spPr>
          <a:xfrm>
            <a:off x="685800" y="502920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his is me. I have a lot of Signal Integrity work to do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TextBox 10"/>
          <p:cNvSpPr/>
          <p:nvPr/>
        </p:nvSpPr>
        <p:spPr>
          <a:xfrm>
            <a:off x="4267080" y="1600200"/>
            <a:ext cx="4648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Generate IBIS Model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Validate IBIS Model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ix and Update IBIS Model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un SI Sim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o Timing Analysi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Feed the ca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ay the bill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t goes on and 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Slide Number Placeholder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7C4F-0A72-48C3-82BA-502C7477BB0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Where It Was Going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62" name="Picture 4" descr="E:\Documents and Settings\Tim\Local Settings\Temporary Internet Files\Content.IE5\BDHR27I9\MPj04222240000[1].jpg"/>
          <p:cNvPicPr/>
          <p:nvPr/>
        </p:nvPicPr>
        <p:blipFill>
          <a:blip r:embed="rId1"/>
          <a:stretch/>
        </p:blipFill>
        <p:spPr>
          <a:xfrm>
            <a:off x="533520" y="1828800"/>
            <a:ext cx="2361960" cy="35416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6"/>
          <p:cNvSpPr/>
          <p:nvPr/>
        </p:nvSpPr>
        <p:spPr>
          <a:xfrm>
            <a:off x="3276720" y="1752480"/>
            <a:ext cx="563868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pending a lot of time fixing and updating IBIS model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sing different tools, scripts, books, duct tape …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y don’t I just make my own tool to make my life easier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Slide Number Placeholder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6C56-E0D3-4023-B133-692936E1F67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And So I Did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2819520" y="3886200"/>
            <a:ext cx="6172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Built IBIS Modeling software tool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alled it SharkSi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Started using it, seemed good, start licensing to clients, and life is good …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Picture 4" descr="sharksim_main_graphic_test copy.png"/>
          <p:cNvPicPr/>
          <p:nvPr/>
        </p:nvPicPr>
        <p:blipFill>
          <a:blip r:embed="rId1"/>
          <a:stretch/>
        </p:blipFill>
        <p:spPr>
          <a:xfrm>
            <a:off x="533520" y="1600200"/>
            <a:ext cx="3251160" cy="2133720"/>
          </a:xfrm>
          <a:prstGeom prst="rect">
            <a:avLst/>
          </a:prstGeom>
          <a:ln w="0">
            <a:noFill/>
          </a:ln>
        </p:spPr>
      </p:pic>
      <p:sp>
        <p:nvSpPr>
          <p:cNvPr id="26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6CB3-F59B-4538-BC7C-AA834D52EC0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But Then I Hit A Wall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70" name="Picture 4" descr="E:\Documents and Settings\Tim\Local Settings\Temporary Internet Files\Content.IE5\79IFV2GO\MPPH03963I0000[1].jpg"/>
          <p:cNvPicPr/>
          <p:nvPr/>
        </p:nvPicPr>
        <p:blipFill>
          <a:blip r:embed="rId1"/>
          <a:stretch/>
        </p:blipFill>
        <p:spPr>
          <a:xfrm>
            <a:off x="304920" y="2057400"/>
            <a:ext cx="3809880" cy="26035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8"/>
          <p:cNvSpPr/>
          <p:nvPr/>
        </p:nvSpPr>
        <p:spPr>
          <a:xfrm>
            <a:off x="4648320" y="1905120"/>
            <a:ext cx="426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hat issues are IBIS users facing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re there still quality issues with models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How do I figure this out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Slide Number Placeholder 9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81AD-52F8-4173-A132-245C792DC29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Than An Idea = This Presentation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74" name="Picture 3" descr="E:\Documents and Settings\Tim\Local Settings\Temporary Internet Files\Content.IE5\KQOVCLGZ\MPj04385560000[1].jpg"/>
          <p:cNvPicPr/>
          <p:nvPr/>
        </p:nvPicPr>
        <p:blipFill>
          <a:blip r:embed="rId1"/>
          <a:stretch/>
        </p:blipFill>
        <p:spPr>
          <a:xfrm>
            <a:off x="838080" y="1981080"/>
            <a:ext cx="1684440" cy="251460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3276720" y="1828800"/>
            <a:ext cx="4800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view a bunch of models and see what the issues ar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alk to IBIS model users and see what their issues ar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Perpetua"/>
              </a:rPr>
              <a:t>Engineers Love Dat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6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559B-3D69-4E89-9634-FF4F57241CE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f497d"/>
                </a:solidFill>
                <a:uFillTx/>
                <a:latin typeface="Franklin Gothic Book"/>
              </a:rPr>
              <a:t>IBIS Model Quality Review</a:t>
            </a:r>
            <a:endParaRPr b="0" lang="en-US" sz="40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278" name="Picture 2" descr="E:\Documents and Settings\Tim\Local Settings\Temporary Internet Files\Content.IE5\79IFV2GO\MPj04386800000[1].jpg"/>
          <p:cNvPicPr/>
          <p:nvPr/>
        </p:nvPicPr>
        <p:blipFill>
          <a:blip r:embed="rId1"/>
          <a:stretch/>
        </p:blipFill>
        <p:spPr>
          <a:xfrm>
            <a:off x="380880" y="1981080"/>
            <a:ext cx="3086280" cy="20574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3886200" y="1905120"/>
            <a:ext cx="4800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viewed 32 Model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Used IBIS Parser 4.2.2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ategorized Warnings/Error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914400" y="46483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* Flagged any warning/error that would not make an IBIS model suitable for Signal Integrity analysi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0D07-671B-4167-8C37-EDB87F6E1F8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3:36:19Z</dcterms:created>
  <dc:creator>Timothy Coyle</dc:creator>
  <dc:description/>
  <dc:language>en-US</dc:language>
  <cp:lastModifiedBy>Timothy Coyle</cp:lastModifiedBy>
  <dcterms:modified xsi:type="dcterms:W3CDTF">2009-01-29T03:07:00Z</dcterms:modified>
  <cp:revision>27</cp:revision>
  <dc:subject/>
  <dc:title>IBIS DNA: Decoding The Quality Gene</dc:title>
</cp:coreProperties>
</file>