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8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A2471FC-8BEA-45FC-BB87-C65586F8D7D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ulti-Mode Modeling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7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figurable Buffers in IBI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ent methods in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Model Selector] (general usage – all voltages, modes, technologies, condition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Alternate Package Models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Series Switch Groups] (and [On], [Off] model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Add Submodel] (for specific state (e.g., Non-driving mode on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ol/user select based on ALL choices docu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tate selection (e.g., for I/O Driving or Non-driving operation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BD format – multiple buffers on ne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gorithmic Model Executable (Windows, Unix, Linux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ulti-lingual language selection (VHDL-AMS, SPICE, Verilog_A(MS)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yntax with levels of override for higher level functionality (technical and levels of specification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issing Configurability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ifferential/single-ended reconfigur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3-state vs. I/O distinction if both exist in device (not really needed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3-state on/off toggle dynamic characterization when “enable” is switched (not really needed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offer separate [Component]s for hard coded configur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A tools can hard override the configu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 of one configurable buffer giv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al Output Clock(s) Examp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190760" y="3352680"/>
            <a:ext cx="1066680" cy="762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4190400" y="4647960"/>
            <a:ext cx="1067040" cy="7621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4190760" y="1981080"/>
            <a:ext cx="1066680" cy="7621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2362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733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50292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5053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895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3623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502920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2362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209680"/>
            <a:ext cx="38124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886200"/>
            <a:ext cx="381240" cy="1219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8862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1447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 Sync. Mode Selector MUX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LVPECL, LVDS [Model Selector]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MOS (3.3V, 2.5V, 1.8V, 1.5V plus slew rates [Model Selector]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2578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(Complimentary CMOS possible, but not in this de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our [Component] Choic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371600"/>
            <a:ext cx="3504960" cy="4386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Component]    CLOCKS_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Component]    CLOCKS_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Component]    CLOCKS_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Component]    CLOCKS_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8 Single-ended (S) pins (1-8) or 4 Differential (D) pin-pairs (1,2 3,4 5,6 7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odel Selectors in Sync. with Differential Pin assignments (next two sl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908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odel Selector] Choices for  [Pin]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523880"/>
            <a:ext cx="3809880" cy="3706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PIN]         |      S                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   clk_1   { CMOS_A   ||   Diff_A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   clk_2   { CMOS_A   ||   Diff_A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   clk_3   { CMOS_A   ||   Diff_A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   clk_4   { CMOS_A   ||   Diff_A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5   clk_5   { CMOS_B   ||   Diff_B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6   clk_6   { CMOS_B   ||   Diff_B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7   clk_7   { CMOS_B   ||   Diff_B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8   clk_8   { CMOS_B   ||   Diff_B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908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Four Distinct [Diff Pin] Assignm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990720"/>
            <a:ext cx="3429000" cy="5375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Diff Pin]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7  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odel Selector]     CMO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odel Selector]     CMOS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odel Selector]     Diff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Model Selector]     Diff_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14479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2860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oth or Neither for Bank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286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Both or Neither for Ban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90844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ssues Under Consider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fferential Mode (vdiff location problem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vdiff” – can be different for PECL and LVDS if these were Input model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Not a problem here for Output only clocks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 Limi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o selection mechanism for re-configuration of single-ended (matched pairs) to differential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riginally an ECL option for early devic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ust use different [Component]s for hard-coded choic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figurability makes a strong case for moving differential parameters into the [Model] scope directly along with single-ended parame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ready done for [Receiver Thresholds]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gly but solves dual mode problem for some technologies (DDR, USB, ECL, Configurabl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ffering a single-ended/differential selection o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nother mechanism for EDA tools to contro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elps limit the choic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t selectors and S/D modes must be in syn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8-01-31T18:20:59Z</dcterms:modified>
  <cp:revision>649</cp:revision>
  <dc:subject/>
  <dc:title>IBIS</dc:title>
</cp:coreProperties>
</file>