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8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87F51585-2748-400E-8A39-60BD2C5D04A3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uchstone Syntax for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s 1.0 and 2.0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200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ta Clara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bruary 7, 200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even IBIS-like Keyword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d key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Version] 2.0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Only “2.0” is permitted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Omitted [Version] implies “Version 1.0”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Must be first keyword before or after comment lines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Number of Ports] &lt;n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[Two-Port Data Order] {21_12 | 12_21} required for n=2 only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Number of Frequencies] &lt;nf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onal key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Reference] &lt;list of n reference resistances in port order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Matrix Format] {Full | Lower | Upper}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Defaults to Full if omitted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Number of Noise Frequencies] &lt;nnf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Used ONLY for 2-port data (should require n=2)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Required only if noise data follows 2-port data list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uchstone Version 2.0 Rul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Version] 2.0 required as first entry in file or after ! l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yword and option block before any n-por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ll other keywords in any order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ption line anywhere within block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arser uses count information to check data block (and noise block) data content from n and nf (and nnf if given) and [Matrix Format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new frequency must be first entry in a r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umber of entries per row is optional (n value determines when new frequency and port grouping occur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scending frequency still requir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ise parameter data format unchang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till requires at least one line of 2-port data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till requires out of sequence frequency from last data se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ata Normalization Chang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ion 1.0” (and original Touchston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Z, Y, G, H automatically normalized based on the R &lt;value&gt; or defaul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31480" indent="-22608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So the Z11 = 1.0 </a:t>
            </a:r>
            <a:r>
              <a:rPr b="0" lang="en-US" sz="2000" spc="-1" strike="noStrike">
                <a:solidFill>
                  <a:srgbClr val="186e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 (normalized) entry with R 50 documents the actual Z11 magnitude is 50.0 </a:t>
            </a:r>
            <a:r>
              <a:rPr b="0" lang="en-US" sz="2000" spc="-1" strike="noStrike">
                <a:solidFill>
                  <a:srgbClr val="186ecc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ffective noise resistance is normalized with respect to  R &lt;value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ion 2.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Z, Y, G, H entries are direct and independent of &lt;value&gt; or [Reference] values (NOT normalized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ffective noise resistance is NOT normaliz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nd Non-IBIS Conven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 keywords follow IBIS rules exac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ounded by “[“ and  “]”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eparated within by single space or under-bar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ollowed by data or data list of selected argument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ubparameters not defined in Touchstone Version 2.0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comment character “!” similar to IBIS comment character (beginning or within lin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thing is case insensitive (unlike IBI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ts are predefined – no multipliers allowed as in IB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ak numerical typing like IB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umerical data can be fixed point, floating point or exponential (for example, 50 = 50.0 = 5e1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Unique 2-port Featur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quires n=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[Two-Port Data Order] requir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G- H- Parameters Allow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oise Parameters Allow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rror if any of above exist for n &lt; &gt;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osur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ntax rule and data interpretation summary for all Touchstone ver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legacy rules retained for compatibilit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par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Only Version 2.0 syntax?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ass all “Version 1.0” syntax?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® trademark - indefinite lif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examples in latest draft document (in temporary link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eda.org/pub/ibis/docs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anks to Michael Mirmak for preparing document, to Radek Biernacki for some very detailed review, and all the other participants for their he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xt Step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ish review and vote for IBIS rele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 request for parser quotes docu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parser quotes and select develop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ise money committ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bably start project in 2009 or earli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mit as GEIA standard either as Version 2.0 or wait for a Version 2.1 based on parser developer review comments and chan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ackgroun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issued in 1984 by EEsof (now part of Agilent Technologie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is an OPEN, defacto format supported by nearly all companies supplying or handling S-parameter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® is a registered trademark January 7, 1984 to October 10, 2007 – but it may have an indefinite lif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“Version 1.0” uploaded as public reference for ICM refe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eda.org/pub/ibis/connector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chstone Version 2.0 extended to remove some limitations and add some resistance per port flexibility for PDS applications, but no mixed mode (differential) y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eda.org/pub/ibis/docs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Version 2.0 Document Overview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Document Still Under Review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ains Touchstone “Version 1.0”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Version 1.0” is designation of compatible superset of original format, although “1.0” never enter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0 advan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lectable reference resistance by por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plicit [Number of Ports] and [Number of Frequencies] keywords yields more flexible data forma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Selectable 2-port ordering (12_21 or 21_12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ymmetrical matrix format efficienc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ome reference normalization chang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mment and Options Lin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ame for All Version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ent character: “!” at beginning or within 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ons Line with 4 arguments in any ord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#    frequency_unit    parameter   format    R,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requency_unit:  {GHz | MHz | kHz | Hz}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arameter:  {S | Y | Z | H | G}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ormat: {DB | MA | RI}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,n:  R &lt;value&gt;      ! (R and &lt;value&gt; pair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s (when arguments missing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GHz, S, MA, R 50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#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! Use the defaults, but one # is requir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# GHz S DB R 25  ! Any order exampl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# R 25 S GHz DB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# GHz MHz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! Error example – two frequency unit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“Version 1.0” Format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SnP where n=number of ports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S2P ordering (21 before 12 retaine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atural order is 11  12   21  22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n-port formatting of data rules (n =&gt; 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dering and number or entries per line formed indirect way of determining number of po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ew line required for each new frequenc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requencies must be in increasing order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 of file or beginning of noise parameters terminate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ise parameters indicated by out of sequence frequency entry less than last frequency (for 2-port data onl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-, H- defined for 2-ports only – all ver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Version 1.0” Fixed Format Exampl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f = frequency, s = data-pai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066680"/>
            <a:ext cx="8384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1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   f s   f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114800"/>
            <a:ext cx="121932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2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f s s s s  f s s s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066680"/>
            <a:ext cx="990720" cy="302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3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s s   s s s   f s s s  s s s   s s s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066680"/>
            <a:ext cx="121932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4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 s s s s       s s s s       s s s s      f s s s s     s s s s     s s s s     s s s s     f …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1066680"/>
            <a:ext cx="121896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5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          s s s s    s            s s s s    s           s s s s     s           s s s s     s        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1066680"/>
            <a:ext cx="1219320" cy="594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6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s         s s s s    s s         s s s s    s s         s s s s    s s         s s s s    s s         s s s s    s s         f …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548640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ormatting, frequency ordering, and end of file implies number of ports and frequencies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tc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mpatibility Notes” Advances Original Touchstone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ces between original Touchstone and “Version 1.0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99 port limit removed (usually not enforced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B (dB/angle) allowed for Y-, Z-, H-, and G- parameters (even though potential data at infinity problem when the magnitude is 0.0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Y- and Z- parameters allowed for n =&gt; 3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0 (versus “Version 1.0”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 normalization for Y-, Z-, H-, and G- parameters and effective noise resistan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ata format restrictions relax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Noise Format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for All Version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2-port data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ve entries per lin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quency (starts with out of sequence frequency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inimum noise figure in dB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ource reflection coefficient always normalized with respect to R &lt;value&gt;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hase of source reflection coefficient in degre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ffective noise resistan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Normalized with respect to R &lt;value&gt; for “Version 1.0” and below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Not normalized for Version 2.0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2.0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29528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2514600"/>
            <a:ext cx="655308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295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Keywords and Option Line (first entry is [Version] &lt;n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5909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-port Data Block                    (new line required only for each new ascending order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al Noise Data Block     (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8-01-30T00:04:53Z</dcterms:modified>
  <cp:revision>671</cp:revision>
  <dc:subject/>
  <dc:title>IBIS</dc:title>
</cp:coreProperties>
</file>