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50.wmf" ContentType="image/x-wmf"/>
  <Override PartName="/ppt/media/image38.wmf" ContentType="image/x-wmf"/>
  <Override PartName="/ppt/media/image55.png" ContentType="image/png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30.png" ContentType="image/png"/>
  <Override PartName="/ppt/media/image49.wmf" ContentType="image/x-wmf"/>
  <Override PartName="/ppt/media/image6.png" ContentType="image/png"/>
  <Override PartName="/ppt/media/image29.png" ContentType="image/png"/>
  <Override PartName="/ppt/media/image52.png" ContentType="image/png"/>
  <Override PartName="/ppt/media/image35.wmf" ContentType="image/x-wmf"/>
  <Override PartName="/ppt/media/image53.png" ContentType="image/png"/>
  <Override PartName="/ppt/media/image36.wmf" ContentType="image/x-wmf"/>
  <Override PartName="/ppt/media/image54.png" ContentType="image/png"/>
  <Override PartName="/ppt/media/image37.wmf" ContentType="image/x-wmf"/>
  <Override PartName="/ppt/media/image42.wmf" ContentType="image/x-wmf"/>
  <Override PartName="/ppt/media/image9.png" ContentType="image/png"/>
  <Override PartName="/ppt/media/image13.png" ContentType="image/png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51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3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4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C1A5FE8-E75A-4C47-A586-ACD8570E3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72DF121-875F-48A5-AC2F-1789CCD13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1E7F591-9D69-43D0-8AAC-F990C3549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800" y="36604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800" y="36604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6840" y="36604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52240" y="9140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34680" y="9140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800" y="36604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52240" y="36604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34680" y="36604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2C37-2C21-43B6-AD70-B4C4495F9E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98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6998-01C8-4CA4-9B00-18FF807A23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0BD8-4F4E-4FDA-AB41-CFBB57B117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381D-1CF6-442C-B34D-8FD6163ADA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5F38-FFAA-46DF-ABAE-07B7F8AF1A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9800" y="209160"/>
            <a:ext cx="822960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6FA9-B015-4E62-918B-E68A044A35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9800" y="36604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5759-B585-4F9D-B04F-75CD9BC9EF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698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6840" y="36604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6930-8CB6-453E-8AC4-D20AA8D90B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800" y="36604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AF19-1B3F-4C0F-9BAB-693DF7C9C8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800" y="36604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F436-3042-47C7-BF0E-31484B5149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9800" y="36604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6840" y="36604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8FF8-BE02-4514-96AD-EA329A8AFE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2240" y="9140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4680" y="9140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800" y="36604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52240" y="36604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4680" y="36604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933C-274A-4E15-8BC3-2EE57B5194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98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9800" y="209160"/>
            <a:ext cx="822960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800" y="36604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6840" y="36604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9800" y="36604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800" y="36604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9800" y="36604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6840" y="36604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2240" y="9140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4680" y="9140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800" y="36604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2240" y="36604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4680" y="36604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69800" y="209160"/>
            <a:ext cx="822960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69800" y="36604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6840" y="36604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9140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800" y="36604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280200"/>
            <a:ext cx="304812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"/>
          <p:cNvPicPr/>
          <p:nvPr/>
        </p:nvPicPr>
        <p:blipFill>
          <a:blip r:embed="rId2"/>
          <a:stretch/>
        </p:blipFill>
        <p:spPr>
          <a:xfrm>
            <a:off x="3886200" y="6281640"/>
            <a:ext cx="5257800" cy="5857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1"/>
          </p:nvPr>
        </p:nvSpPr>
        <p:spPr>
          <a:xfrm>
            <a:off x="815292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08DD-D90E-4293-887F-C99434054909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698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999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  <a:p>
            <a:pPr lvl="3" marL="708120" indent="-176400">
              <a:lnSpc>
                <a:spcPts val="2999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  <a:p>
            <a:pPr lvl="4" marL="885960" indent="-17640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  <a:p>
            <a:pPr lvl="5" marL="885960" indent="-17640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  <a:p>
            <a:pPr lvl="6" marL="885960" indent="-17640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pic>
        <p:nvPicPr>
          <p:cNvPr id="41" name="Picture 7" descr="wht_slide_logo copy"/>
          <p:cNvPicPr/>
          <p:nvPr/>
        </p:nvPicPr>
        <p:blipFill>
          <a:blip r:embed="rId3"/>
          <a:stretch/>
        </p:blipFill>
        <p:spPr>
          <a:xfrm>
            <a:off x="228600" y="6396120"/>
            <a:ext cx="1600200" cy="325440"/>
          </a:xfrm>
          <a:prstGeom prst="rect">
            <a:avLst/>
          </a:prstGeom>
          <a:ln w="0">
            <a:noFill/>
          </a:ln>
        </p:spPr>
      </p:pic>
      <p:sp>
        <p:nvSpPr>
          <p:cNvPr id="42" name="Line 9"/>
          <p:cNvSpPr/>
          <p:nvPr/>
        </p:nvSpPr>
        <p:spPr>
          <a:xfrm>
            <a:off x="463680" y="838080"/>
            <a:ext cx="8280360" cy="0"/>
          </a:xfrm>
          <a:prstGeom prst="line">
            <a:avLst/>
          </a:prstGeom>
          <a:ln w="19080">
            <a:solidFill>
              <a:srgbClr val="005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4"/>
          <p:cNvSpPr/>
          <p:nvPr/>
        </p:nvSpPr>
        <p:spPr>
          <a:xfrm>
            <a:off x="0" y="6270480"/>
            <a:ext cx="9147240" cy="0"/>
          </a:xfrm>
          <a:prstGeom prst="line">
            <a:avLst/>
          </a:prstGeom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"/>
          <p:cNvPicPr/>
          <p:nvPr/>
        </p:nvPicPr>
        <p:blipFill>
          <a:blip r:embed="rId4"/>
          <a:stretch/>
        </p:blipFill>
        <p:spPr>
          <a:xfrm>
            <a:off x="2057400" y="6354720"/>
            <a:ext cx="182880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Rectangle 3"/>
            <p:cNvSpPr/>
            <p:nvPr/>
          </p:nvSpPr>
          <p:spPr>
            <a:xfrm>
              <a:off x="8458200" y="0"/>
              <a:ext cx="6858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newTitle2_wedgeREV copy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7598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8" descr="wht_title_logo copy"/>
          <p:cNvPicPr/>
          <p:nvPr/>
        </p:nvPicPr>
        <p:blipFill>
          <a:blip r:embed="rId3"/>
          <a:stretch/>
        </p:blipFill>
        <p:spPr>
          <a:xfrm>
            <a:off x="6858000" y="4876920"/>
            <a:ext cx="1866960" cy="35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4"/>
          <a:stretch/>
        </p:blipFill>
        <p:spPr>
          <a:xfrm>
            <a:off x="6477120" y="5410080"/>
            <a:ext cx="2462040" cy="563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5962680" y="6419880"/>
            <a:ext cx="30481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BIS Summit,  7th Feb' 2008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56168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Interconnect Models Removes Simulation Uncertain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37720" y="4533840"/>
            <a:ext cx="4637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ngyi Rao, Agilen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d Morgan, Tyco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uk Borich, Agilen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njeev Gupta, Agilen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95360" y="1581120"/>
            <a:ext cx="6629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Interconnect Models Removes Simulation Uncertain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6617-D241-431E-955F-405AA89234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637000" y="3832200"/>
            <a:ext cx="3709800" cy="2316240"/>
          </a:xfrm>
          <a:prstGeom prst="rect">
            <a:avLst/>
          </a:prstGeom>
          <a:solidFill>
            <a:srgbClr val="78bde8"/>
          </a:solidFill>
          <a:ln w="9360">
            <a:solidFill>
              <a:srgbClr val="78b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Getting Impulse Responses Directly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9800" y="83160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56960" indent="-1569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f one has impulse responses, they can be used directly in transient convolution without inverse transform issue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6960" indent="-1569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mpulse response sources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Several time-domain modeling tools (FIM, FDTD, TLM)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Component manufacturers (let experts deal with the iDFT issues)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6960" indent="-1569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Problem: No standard file format for model distribut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6960" indent="-1569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Solution: Create a new time-domain impulse file format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File format allows multiple tools to exchange informat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A specific file format is proposed later in the paper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2597040" y="3795840"/>
            <a:ext cx="3711600" cy="230652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F7F2-0948-444A-93CA-08CD2AB28A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3760" y="228240"/>
            <a:ext cx="843588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Converting S-parameters to Impulses: Difficulties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9800" y="839880"/>
            <a:ext cx="826632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56960" indent="-1569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f one only has band-limited S-parameters, one must use the inverse discrete Fourier transform (iDFT or iFFT) to get time-domain impulse responses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658800" y="1622520"/>
                <a:ext cx="48560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  <m:r>
                              <m:t xml:space="preserve">/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n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N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n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Text Box 6"/>
          <p:cNvSpPr/>
          <p:nvPr/>
        </p:nvSpPr>
        <p:spPr>
          <a:xfrm>
            <a:off x="5766480" y="1679400"/>
            <a:ext cx="280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80"/>
                </a:solidFill>
                <a:latin typeface="Arial"/>
              </a:rPr>
              <a:t>x(n) is the discrete time-domain 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80"/>
                </a:solidFill>
                <a:latin typeface="Arial"/>
              </a:rPr>
              <a:t>X(m) is the discrete frequency-domain 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80"/>
                </a:solidFill>
                <a:latin typeface="Arial"/>
              </a:rPr>
              <a:t>N is the total number of samples in x(n) and X(m)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69800" y="2138400"/>
            <a:ext cx="82663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The major source of error in calculating time-domain impulse responses from band-limited S-parameters is termed iDFT </a:t>
            </a:r>
            <a:r>
              <a:rPr b="0" i="1" lang="en-US" sz="1800" spc="-1" strike="noStrike">
                <a:solidFill>
                  <a:srgbClr val="98002e"/>
                </a:solidFill>
                <a:latin typeface="Arial"/>
              </a:rPr>
              <a:t>LEA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The iDFT has ZERO leakage only if a structure is lossless/dispersionless such that its delay is constant at all frequencies and a multiple of 1/2F</a:t>
            </a:r>
            <a:r>
              <a:rPr b="0" lang="en-US" sz="1800" spc="-1" strike="noStrike" baseline="-25000">
                <a:solidFill>
                  <a:srgbClr val="005480"/>
                </a:solidFill>
                <a:latin typeface="Arial"/>
                <a:ea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8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5480"/>
                </a:solidFill>
                <a:latin typeface="Arial"/>
                <a:ea typeface="Arial"/>
              </a:rPr>
              <a:t>(i.e. Delay(f) = Constant = m/2F</a:t>
            </a:r>
            <a:r>
              <a:rPr b="0" lang="en-US" sz="1400" spc="-1" strike="noStrike" baseline="-25000">
                <a:solidFill>
                  <a:srgbClr val="005480"/>
                </a:solidFill>
                <a:latin typeface="Arial"/>
                <a:ea typeface="Arial"/>
              </a:rPr>
              <a:t>max</a:t>
            </a:r>
            <a:r>
              <a:rPr b="0" lang="en-US" sz="1400" spc="-1" strike="noStrike">
                <a:solidFill>
                  <a:srgbClr val="00548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548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5480"/>
                </a:solidFill>
                <a:latin typeface="Arial"/>
                <a:ea typeface="Arial"/>
              </a:rPr>
              <a:t> Fmax can be tuned to eliminate leak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9800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2e"/>
                </a:solidFill>
                <a:latin typeface="Arial"/>
                <a:ea typeface="Arial"/>
              </a:rPr>
              <a:t>Real physical structures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 have loss &amp; reflections, so delay varies across frequency – </a:t>
            </a:r>
            <a:r>
              <a:rPr b="0" lang="en-US" sz="1800" spc="-1" strike="noStrike">
                <a:solidFill>
                  <a:srgbClr val="98002e"/>
                </a:solidFill>
                <a:latin typeface="Arial"/>
                <a:ea typeface="Arial"/>
              </a:rPr>
              <a:t>iDFT leakage CANNOT BE AVOIDED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 enti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Time-domain energy existing between discrete iDFT time steps will manifest error on ALL available discrete time points as a syn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Frequency-domain windowing can greatly minimize iDFT leakage error, but there are issues with this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52320" y="5756400"/>
            <a:ext cx="796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80"/>
                </a:solidFill>
                <a:latin typeface="Arial"/>
              </a:rPr>
              <a:t>*Given band-limited s-parameters with N/2 points (Ranging from 0 to F</a:t>
            </a:r>
            <a:r>
              <a:rPr b="0" i="1" lang="en-US" sz="1000" spc="-1" strike="noStrike" baseline="-25000">
                <a:solidFill>
                  <a:srgbClr val="005480"/>
                </a:solidFill>
                <a:latin typeface="Arial"/>
              </a:rPr>
              <a:t>max</a:t>
            </a:r>
            <a:r>
              <a:rPr b="0" i="1" lang="en-US" sz="1000" spc="-1" strike="noStrike">
                <a:solidFill>
                  <a:srgbClr val="005480"/>
                </a:solidFill>
                <a:latin typeface="Arial"/>
              </a:rPr>
              <a:t> in steps of F</a:t>
            </a:r>
            <a:r>
              <a:rPr b="0" i="1" lang="en-US" sz="1000" spc="-1" strike="noStrike" baseline="-25000">
                <a:solidFill>
                  <a:srgbClr val="005480"/>
                </a:solidFill>
                <a:latin typeface="Arial"/>
              </a:rPr>
              <a:t>step</a:t>
            </a:r>
            <a:r>
              <a:rPr b="0" i="1" lang="en-US" sz="1000" spc="-1" strike="noStrike">
                <a:solidFill>
                  <a:srgbClr val="005480"/>
                </a:solidFill>
                <a:latin typeface="Arial"/>
              </a:rPr>
              <a:t>), X(m) is usually created with N points by mirroring the initial spectrum.  The iDFT of X(m) then yields a real-valued time-domain signal, x(n), where the time step is defined as 1/2F</a:t>
            </a:r>
            <a:r>
              <a:rPr b="0" i="1" lang="en-US" sz="1000" spc="-1" strike="noStrike" baseline="-25000">
                <a:solidFill>
                  <a:srgbClr val="005480"/>
                </a:solidFill>
                <a:latin typeface="Arial"/>
              </a:rPr>
              <a:t>max</a:t>
            </a:r>
            <a:r>
              <a:rPr b="0" i="1" lang="en-US" sz="1000" spc="-1" strike="noStrike">
                <a:solidFill>
                  <a:srgbClr val="005480"/>
                </a:solidFill>
                <a:latin typeface="Arial"/>
              </a:rPr>
              <a:t> and the stop time is defined as 1/F</a:t>
            </a:r>
            <a:r>
              <a:rPr b="0" i="1" lang="en-US" sz="1000" spc="-1" strike="noStrike" baseline="-25000">
                <a:solidFill>
                  <a:srgbClr val="005480"/>
                </a:solidFill>
                <a:latin typeface="Arial"/>
              </a:rPr>
              <a:t>step</a:t>
            </a:r>
            <a:r>
              <a:rPr b="0" i="1" lang="en-US" sz="1000" spc="-1" strike="noStrike">
                <a:solidFill>
                  <a:srgbClr val="00548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738B-2020-458A-AF67-4A4BD32DC4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3152880" y="4444920"/>
            <a:ext cx="2387520" cy="159552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552600" y="4448160"/>
            <a:ext cx="2435040" cy="159696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2" descr=""/>
          <p:cNvPicPr/>
          <p:nvPr/>
        </p:nvPicPr>
        <p:blipFill>
          <a:blip r:embed="rId1"/>
          <a:stretch/>
        </p:blipFill>
        <p:spPr>
          <a:xfrm>
            <a:off x="520560" y="4422600"/>
            <a:ext cx="2432160" cy="158760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pic>
        <p:nvPicPr>
          <p:cNvPr id="233" name="Picture 13" descr=""/>
          <p:cNvPicPr/>
          <p:nvPr/>
        </p:nvPicPr>
        <p:blipFill>
          <a:blip r:embed="rId2"/>
          <a:stretch/>
        </p:blipFill>
        <p:spPr>
          <a:xfrm>
            <a:off x="3121200" y="4421160"/>
            <a:ext cx="2379600" cy="158580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sp>
        <p:nvSpPr>
          <p:cNvPr id="234" name="Rectangle 16"/>
          <p:cNvSpPr/>
          <p:nvPr/>
        </p:nvSpPr>
        <p:spPr>
          <a:xfrm>
            <a:off x="6181560" y="2309760"/>
            <a:ext cx="2519640" cy="163368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3081240" y="2308320"/>
            <a:ext cx="2484360" cy="163332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550800" y="2305080"/>
            <a:ext cx="2436840" cy="163368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Converting S-parameters to Impulses: Difficulties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3"/>
          <a:stretch/>
        </p:blipFill>
        <p:spPr>
          <a:xfrm>
            <a:off x="6149880" y="2279520"/>
            <a:ext cx="2508480" cy="162252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pic>
        <p:nvPicPr>
          <p:cNvPr id="239" name="Picture 10" descr=""/>
          <p:cNvPicPr/>
          <p:nvPr/>
        </p:nvPicPr>
        <p:blipFill>
          <a:blip r:embed="rId4"/>
          <a:stretch/>
        </p:blipFill>
        <p:spPr>
          <a:xfrm>
            <a:off x="525600" y="2276640"/>
            <a:ext cx="2420640" cy="162540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pic>
        <p:nvPicPr>
          <p:cNvPr id="240" name="Picture 11" descr=""/>
          <p:cNvPicPr/>
          <p:nvPr/>
        </p:nvPicPr>
        <p:blipFill>
          <a:blip r:embed="rId5"/>
          <a:stretch/>
        </p:blipFill>
        <p:spPr>
          <a:xfrm>
            <a:off x="3046320" y="2276640"/>
            <a:ext cx="2489400" cy="162216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sp>
        <p:nvSpPr>
          <p:cNvPr id="241" name="Line 17"/>
          <p:cNvSpPr/>
          <p:nvPr/>
        </p:nvSpPr>
        <p:spPr>
          <a:xfrm flipV="1">
            <a:off x="1967040" y="2500200"/>
            <a:ext cx="587160" cy="532080"/>
          </a:xfrm>
          <a:prstGeom prst="line">
            <a:avLst/>
          </a:prstGeom>
          <a:ln w="9360">
            <a:solidFill>
              <a:srgbClr val="0054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251000" y="2878200"/>
            <a:ext cx="775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80"/>
                </a:solidFill>
                <a:latin typeface="Arial"/>
              </a:rPr>
              <a:t>Loss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4754520" y="2724120"/>
            <a:ext cx="428760" cy="235080"/>
          </a:xfrm>
          <a:prstGeom prst="line">
            <a:avLst/>
          </a:prstGeom>
          <a:ln w="9360">
            <a:solidFill>
              <a:srgbClr val="0054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3581280" y="2579760"/>
            <a:ext cx="122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80"/>
                </a:solidFill>
                <a:latin typeface="Arial"/>
              </a:rPr>
              <a:t>Constant De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1"/>
          <p:cNvSpPr/>
          <p:nvPr/>
        </p:nvSpPr>
        <p:spPr>
          <a:xfrm>
            <a:off x="5614920" y="2922480"/>
            <a:ext cx="486000" cy="243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5480"/>
              </a:gs>
              <a:gs pos="50000">
                <a:srgbClr val="78bde8"/>
              </a:gs>
              <a:gs pos="100000">
                <a:srgbClr val="0054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9800" y="839880"/>
            <a:ext cx="83520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56960" indent="-1569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Lossless, constant delay example of iDFT </a:t>
            </a:r>
            <a:r>
              <a:rPr b="0" lang="en-US" sz="1800" spc="-1" strike="noStrike">
                <a:solidFill>
                  <a:srgbClr val="98002e"/>
                </a:solidFill>
                <a:latin typeface="Arial"/>
              </a:rPr>
              <a:t>LEAKAGE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80"/>
                </a:solidFill>
                <a:latin typeface="Arial"/>
              </a:rPr>
              <a:t>In this case, leakage can be avoided by selecting (F</a:t>
            </a:r>
            <a:r>
              <a:rPr b="0" lang="en-US" sz="1600" spc="-1" strike="noStrike" baseline="-25000">
                <a:solidFill>
                  <a:srgbClr val="005480"/>
                </a:solidFill>
                <a:latin typeface="Arial"/>
              </a:rPr>
              <a:t>max </a:t>
            </a:r>
            <a:r>
              <a:rPr b="0" lang="en-US" sz="1600" spc="-1" strike="noStrike">
                <a:solidFill>
                  <a:srgbClr val="005480"/>
                </a:solidFill>
                <a:latin typeface="Arial"/>
              </a:rPr>
              <a:t>= m / 2*Delay, m = integer) </a:t>
            </a:r>
            <a:endParaRPr b="0" lang="en-US" sz="16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80"/>
                </a:solidFill>
                <a:latin typeface="Arial"/>
              </a:rPr>
              <a:t>Green waveform shows no leakage when data falls on a discrete time point</a:t>
            </a:r>
            <a:endParaRPr b="0" lang="en-US" sz="16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80"/>
                </a:solidFill>
                <a:latin typeface="Arial"/>
              </a:rPr>
              <a:t>Red waveform shows sync leakage when data falls between discrete time points</a:t>
            </a:r>
            <a:endParaRPr b="0" lang="en-US" sz="16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5673960" y="2693880"/>
            <a:ext cx="329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80"/>
                </a:solidFill>
                <a:latin typeface="Arial"/>
              </a:rPr>
              <a:t>iD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5"/>
          <p:cNvSpPr/>
          <p:nvPr/>
        </p:nvSpPr>
        <p:spPr>
          <a:xfrm>
            <a:off x="5614920" y="5195880"/>
            <a:ext cx="486000" cy="243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5480"/>
              </a:gs>
              <a:gs pos="50000">
                <a:srgbClr val="78bde8"/>
              </a:gs>
              <a:gs pos="100000">
                <a:srgbClr val="0054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5673960" y="4967280"/>
            <a:ext cx="3297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80"/>
                </a:solidFill>
                <a:latin typeface="Arial"/>
              </a:rPr>
              <a:t>iD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7"/>
          <p:cNvSpPr/>
          <p:nvPr/>
        </p:nvSpPr>
        <p:spPr>
          <a:xfrm>
            <a:off x="469800" y="3967200"/>
            <a:ext cx="835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Lossy, varying delay example of iDFT </a:t>
            </a:r>
            <a:r>
              <a:rPr b="0" lang="en-US" sz="1800" spc="-1" strike="noStrike">
                <a:solidFill>
                  <a:srgbClr val="98002e"/>
                </a:solidFill>
                <a:latin typeface="Arial"/>
              </a:rPr>
              <a:t>LEAKAGE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6348240" y="4832280"/>
            <a:ext cx="22147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8002e"/>
                </a:solidFill>
                <a:latin typeface="Arial"/>
              </a:rPr>
              <a:t>Eliminating LEAKAGE </a:t>
            </a:r>
            <a:r>
              <a:rPr b="1" i="1" lang="en-US" sz="1200" spc="-1" strike="noStrike">
                <a:solidFill>
                  <a:srgbClr val="98002e"/>
                </a:solidFill>
                <a:latin typeface="Arial"/>
              </a:rPr>
              <a:t>at all time points</a:t>
            </a:r>
            <a:r>
              <a:rPr b="1" lang="en-US" sz="1200" spc="-1" strike="noStrike">
                <a:solidFill>
                  <a:srgbClr val="98002e"/>
                </a:solidFill>
                <a:latin typeface="Arial"/>
              </a:rPr>
              <a:t> is IMPOSSIBLE, because energy is coming out of the system at different times for different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9B11-7E75-4852-95FF-79B2A06977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3351240" y="4503600"/>
            <a:ext cx="2473200" cy="165276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612720" y="4510080"/>
            <a:ext cx="2548080" cy="165276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87880" y="4506840"/>
            <a:ext cx="2548080" cy="165276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9800" y="83196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56960" indent="-1569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Frequency-domain windowing:  S-parameters are multiplied by common window shapes to decrease output magnitude with increasing frequency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Advantage: iDFT sinusoid ‘pulsation’ is minimized (less time leakage)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Disadvantages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24880" indent="-1803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Many window functions are non-causal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24880" indent="-1803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High-frequency data is not preserved (time-domain signal is damped)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6960" indent="-1569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Natural windows’ have helped many SI engineers get good simulation data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Step, pulse, and bit pattern responses all have spectra that roll-off with increasing frequency (defined by edge rate)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System simulations typically examine highly lossy insertion loss responses, which roll off dramatically with increasing frequency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Converting S-parameters to Impulses: Difficulties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5948280" y="4460760"/>
            <a:ext cx="2532240" cy="165276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pic>
        <p:nvPicPr>
          <p:cNvPr id="259" name="Picture 9" descr=""/>
          <p:cNvPicPr/>
          <p:nvPr/>
        </p:nvPicPr>
        <p:blipFill>
          <a:blip r:embed="rId2"/>
          <a:stretch/>
        </p:blipFill>
        <p:spPr>
          <a:xfrm>
            <a:off x="609480" y="4460760"/>
            <a:ext cx="2502000" cy="164628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pic>
        <p:nvPicPr>
          <p:cNvPr id="260" name="Picture 11" descr=""/>
          <p:cNvPicPr/>
          <p:nvPr/>
        </p:nvPicPr>
        <p:blipFill>
          <a:blip r:embed="rId3"/>
          <a:stretch/>
        </p:blipFill>
        <p:spPr>
          <a:xfrm>
            <a:off x="3306600" y="4462560"/>
            <a:ext cx="2463840" cy="164628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93EF-8757-40F3-85ED-EBF5133E4D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4906800" y="3673440"/>
            <a:ext cx="3219480" cy="204300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1220760" y="3673440"/>
            <a:ext cx="3144960" cy="204300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4" descr=""/>
          <p:cNvPicPr/>
          <p:nvPr/>
        </p:nvPicPr>
        <p:blipFill>
          <a:blip r:embed="rId1"/>
          <a:stretch/>
        </p:blipFill>
        <p:spPr>
          <a:xfrm>
            <a:off x="4859280" y="3637080"/>
            <a:ext cx="3214800" cy="202392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4120" y="228240"/>
            <a:ext cx="845352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Converting S-parameters to Impulses: Difficulties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9800" y="839520"/>
            <a:ext cx="8266320" cy="20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Causality enforcement is a good goal for any sophisticated iDFT convers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Base delay’ causality enforcement better…must find structure’s ‘base delay’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Delay versus frequency can be plotted using the equation below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For a reflectionless system, this is the true delay versus frequency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f a system has reflections, delay is distorted above &amp; below the true delay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One can use the minimum value of delay vs. frequency as the ‘base delay’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6"/>
              <p:cNvSpPr txBox="1"/>
              <p:nvPr/>
            </p:nvSpPr>
            <p:spPr>
              <a:xfrm>
                <a:off x="2550960" y="2995560"/>
                <a:ext cx="4038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lay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ime for 1 </m:t>
                        </m:r>
                        <m:r>
                          <m:t xml:space="preserve">λ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# of </m:t>
                        </m:r>
                        <m:r>
                          <m:t xml:space="preserve">λs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nwra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has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L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8" name="Picture 8" descr=""/>
          <p:cNvPicPr/>
          <p:nvPr/>
        </p:nvPicPr>
        <p:blipFill>
          <a:blip r:embed="rId2"/>
          <a:stretch/>
        </p:blipFill>
        <p:spPr>
          <a:xfrm>
            <a:off x="1181160" y="3633840"/>
            <a:ext cx="3125880" cy="202716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sp>
        <p:nvSpPr>
          <p:cNvPr id="269" name="Text Box 9"/>
          <p:cNvSpPr/>
          <p:nvPr/>
        </p:nvSpPr>
        <p:spPr>
          <a:xfrm>
            <a:off x="2867040" y="4222800"/>
            <a:ext cx="1158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480"/>
                </a:solidFill>
                <a:latin typeface="Arial"/>
              </a:rPr>
              <a:t>Base Delay (2.54 n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3705120" y="4375080"/>
            <a:ext cx="484200" cy="542880"/>
          </a:xfrm>
          <a:prstGeom prst="line">
            <a:avLst/>
          </a:prstGeom>
          <a:ln w="9360">
            <a:solidFill>
              <a:srgbClr val="0054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2"/>
          <p:cNvSpPr/>
          <p:nvPr/>
        </p:nvSpPr>
        <p:spPr>
          <a:xfrm flipV="1">
            <a:off x="6097680" y="4381200"/>
            <a:ext cx="1119240" cy="539640"/>
          </a:xfrm>
          <a:prstGeom prst="line">
            <a:avLst/>
          </a:prstGeom>
          <a:ln w="9360">
            <a:solidFill>
              <a:srgbClr val="0054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6707160" y="4235400"/>
            <a:ext cx="102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480"/>
                </a:solidFill>
                <a:latin typeface="Arial"/>
              </a:rPr>
              <a:t>Base Delay (2.54 n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469800" y="5757840"/>
            <a:ext cx="8266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Note:  Group delay is NOT a true measure of delay…only of phase linearit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1BDF-588E-4D54-9645-87363F0A56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460440" y="5000760"/>
            <a:ext cx="82296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500"/>
              </a:lnSpc>
              <a:buClr>
                <a:srgbClr val="980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002e"/>
                </a:solidFill>
                <a:latin typeface="Arial"/>
              </a:rPr>
              <a:t>Note: Completing an accurate Hilbert transform can be difficult since it requires calculation of the iDFT, which has leakage for band-limited S-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4120" y="228240"/>
            <a:ext cx="845352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Converting S-parameters to Impulses: Difficulties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9800" y="830160"/>
            <a:ext cx="827568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Base delay’ causality can be enforced using phase shifting and the discrete Hilbert transform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1924200" y="2203560"/>
                <a:ext cx="184140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Upp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Upp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3557520" y="2736720"/>
                <a:ext cx="1855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Upp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t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πk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N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,    k eve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  k 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" name="Rectangle 3"/>
          <p:cNvSpPr/>
          <p:nvPr/>
        </p:nvSpPr>
        <p:spPr>
          <a:xfrm>
            <a:off x="469800" y="3487680"/>
            <a:ext cx="826632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The Hilbert transform is usually calculat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80"/>
                </a:solidFill>
                <a:latin typeface="Arial"/>
              </a:rPr>
              <a:t>Take the </a:t>
            </a:r>
            <a:r>
              <a:rPr b="0" lang="en-US" sz="1600" spc="-1" strike="noStrike">
                <a:solidFill>
                  <a:srgbClr val="98002e"/>
                </a:solidFill>
                <a:latin typeface="Arial"/>
              </a:rPr>
              <a:t>iDFT</a:t>
            </a:r>
            <a:r>
              <a:rPr b="0" lang="en-US" sz="1600" spc="-1" strike="noStrike">
                <a:solidFill>
                  <a:srgbClr val="005480"/>
                </a:solidFill>
                <a:latin typeface="Arial"/>
              </a:rPr>
              <a:t> of the real frequency data to get the time signal’s even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80"/>
                </a:solidFill>
                <a:latin typeface="Arial"/>
              </a:rPr>
              <a:t>Since the signal is real/causal, one can calculate the time signal’s odd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80"/>
                </a:solidFill>
                <a:latin typeface="Arial"/>
              </a:rPr>
              <a:t>Take the DFT of the time signal’s odd component to get imaginary frequency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2678040" y="1820880"/>
                <a:ext cx="36147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ase Shifting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jω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or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where 't'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ase dela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6"/>
              <p:cNvSpPr txBox="1"/>
              <p:nvPr/>
            </p:nvSpPr>
            <p:spPr>
              <a:xfrm>
                <a:off x="3882960" y="2203560"/>
                <a:ext cx="31622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Upp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j</m:t>
                        </m:r>
                        <m:sSub>
                          <m:e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Upp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Upp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Upp>
                    <m:r>
                      <m:t xml:space="preserve">[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4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7AFC-F9CD-4AD7-BA49-1581F7E2EA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1054080" y="3481560"/>
            <a:ext cx="2276640" cy="147312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5110200" y="3481560"/>
            <a:ext cx="2276280" cy="147312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4120" y="228240"/>
            <a:ext cx="845352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Converting S-parameters to Impulses: Difficulties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9800" y="839520"/>
            <a:ext cx="826632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56960" indent="-1569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Checking &amp; enforcing passive component physical passivity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At each frequency, an s-parameter matrix is passive only if the minimum eigenvalue of I-S’S* is greater than or equal to zero (semi-positive definite)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A small ‘EigenBuffer &gt; 0’ value can be used for over-passificat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One can multiply the entire [S] matrix by a scalar multiplier at each frequency to force passivity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771480" y="2914560"/>
                <a:ext cx="277020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i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/>
                                </m:sSup>
                              </m:e>
                            </m:d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EigenBuffe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0"/>
              <p:cNvSpPr txBox="1"/>
              <p:nvPr/>
            </p:nvSpPr>
            <p:spPr>
              <a:xfrm>
                <a:off x="3954600" y="2795760"/>
                <a:ext cx="42494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ltiplier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genBuffe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Eigen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, if MinEigen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EigenBuffe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0" name="Picture 11" descr=""/>
          <p:cNvPicPr/>
          <p:nvPr/>
        </p:nvPicPr>
        <p:blipFill>
          <a:blip r:embed="rId1"/>
          <a:stretch/>
        </p:blipFill>
        <p:spPr>
          <a:xfrm>
            <a:off x="1011240" y="3435480"/>
            <a:ext cx="2274840" cy="147456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pic>
        <p:nvPicPr>
          <p:cNvPr id="291" name="Picture 12" descr=""/>
          <p:cNvPicPr/>
          <p:nvPr/>
        </p:nvPicPr>
        <p:blipFill>
          <a:blip r:embed="rId2"/>
          <a:stretch/>
        </p:blipFill>
        <p:spPr>
          <a:xfrm>
            <a:off x="5099040" y="3433680"/>
            <a:ext cx="2243160" cy="147024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sp>
        <p:nvSpPr>
          <p:cNvPr id="292" name="Line 16"/>
          <p:cNvSpPr/>
          <p:nvPr/>
        </p:nvSpPr>
        <p:spPr>
          <a:xfrm flipH="1" flipV="1">
            <a:off x="2705040" y="3807000"/>
            <a:ext cx="765360" cy="279360"/>
          </a:xfrm>
          <a:prstGeom prst="line">
            <a:avLst/>
          </a:prstGeom>
          <a:ln w="9360">
            <a:solidFill>
              <a:srgbClr val="0054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432600" y="3951360"/>
            <a:ext cx="1368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80"/>
                </a:solidFill>
                <a:latin typeface="Arial"/>
              </a:rPr>
              <a:t>EigenBuffer=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>
            <a:off x="469800" y="4952880"/>
            <a:ext cx="8266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Other frequency-domain model 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00548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 must be large enough to ensure adequate time step (T</a:t>
            </a:r>
            <a:r>
              <a:rPr b="0" lang="en-US" sz="1800" spc="-1" strike="noStrike" baseline="-25000">
                <a:solidFill>
                  <a:srgbClr val="00548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 = 1 / 2F</a:t>
            </a:r>
            <a:r>
              <a:rPr b="0" lang="en-US" sz="1800" spc="-1" strike="noStrike" baseline="-25000">
                <a:solidFill>
                  <a:srgbClr val="00548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DC extrapolation &amp; frequency interpolation must be ha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600E-1451-4EE5-AB6B-AADA52AB79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3324240" y="2768760"/>
            <a:ext cx="2449440" cy="1676160"/>
          </a:xfrm>
          <a:prstGeom prst="rect">
            <a:avLst/>
          </a:prstGeom>
          <a:solidFill>
            <a:srgbClr val="78bde8"/>
          </a:solidFill>
          <a:ln w="9360">
            <a:solidFill>
              <a:srgbClr val="78b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6114960" y="2768760"/>
            <a:ext cx="2514600" cy="1676160"/>
          </a:xfrm>
          <a:prstGeom prst="rect">
            <a:avLst/>
          </a:prstGeom>
          <a:solidFill>
            <a:srgbClr val="78bde8"/>
          </a:solidFill>
          <a:ln w="9360">
            <a:solidFill>
              <a:srgbClr val="78b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590400" y="2749680"/>
            <a:ext cx="2514600" cy="1676160"/>
          </a:xfrm>
          <a:prstGeom prst="rect">
            <a:avLst/>
          </a:prstGeom>
          <a:solidFill>
            <a:srgbClr val="78bde8"/>
          </a:solidFill>
          <a:ln w="9360">
            <a:solidFill>
              <a:srgbClr val="78b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69440" y="914040"/>
            <a:ext cx="829332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Bottom Line…it is easier to get valid frequency-domain data from time-domain data than it is to get valid time-domain data from band-limited frequency-domain data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DFT of settled impulse response yields accurate S-parameter data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DFT of band-limited S-parameter data yields impulse response with leakage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533520" y="2730600"/>
            <a:ext cx="2514600" cy="164628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pic>
        <p:nvPicPr>
          <p:cNvPr id="301" name="Picture 8" descr=""/>
          <p:cNvPicPr/>
          <p:nvPr/>
        </p:nvPicPr>
        <p:blipFill>
          <a:blip r:embed="rId2"/>
          <a:stretch/>
        </p:blipFill>
        <p:spPr>
          <a:xfrm>
            <a:off x="3276720" y="2730600"/>
            <a:ext cx="2438280" cy="166212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pic>
        <p:nvPicPr>
          <p:cNvPr id="302" name="Picture 9" descr=""/>
          <p:cNvPicPr/>
          <p:nvPr/>
        </p:nvPicPr>
        <p:blipFill>
          <a:blip r:embed="rId3"/>
          <a:stretch/>
        </p:blipFill>
        <p:spPr>
          <a:xfrm>
            <a:off x="6019920" y="2730600"/>
            <a:ext cx="2563560" cy="166032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sp>
        <p:nvSpPr>
          <p:cNvPr id="303" name="AutoShape 12"/>
          <p:cNvSpPr/>
          <p:nvPr/>
        </p:nvSpPr>
        <p:spPr>
          <a:xfrm>
            <a:off x="2019240" y="4483080"/>
            <a:ext cx="2228760" cy="438120"/>
          </a:xfrm>
          <a:custGeom>
            <a:avLst/>
            <a:gdLst>
              <a:gd name="textAreaLeft" fmla="*/ 406800 w 2228760"/>
              <a:gd name="textAreaRight" fmla="*/ 1638720 w 2228760"/>
              <a:gd name="textAreaTop" fmla="*/ 58680 h 438120"/>
              <a:gd name="textAreaBottom" fmla="*/ 37944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6" hR="21600" stAng="10800000" swAng="-5400000"/>
                <a:lnTo>
                  <a:pt x="11937" y="21600"/>
                </a:lnTo>
                <a:arcTo wR="7886" hR="21600" stAng="5400000" swAng="-2755195"/>
                <a:lnTo>
                  <a:pt x="21149" y="7200"/>
                </a:lnTo>
                <a:lnTo>
                  <a:pt x="17798" y="0"/>
                </a:lnTo>
                <a:lnTo>
                  <a:pt x="13544" y="7200"/>
                </a:lnTo>
                <a:lnTo>
                  <a:pt x="15321" y="7200"/>
                </a:lnTo>
                <a:arcTo wR="7886" hR="21600" stAng="2644805" swAng="2422677"/>
                <a:lnTo>
                  <a:pt x="9912" y="20875"/>
                </a:lnTo>
                <a:arcTo wR="7886" hR="21600" stAng="5732518" swAng="5067482"/>
                <a:close/>
              </a:path>
              <a:path fill="darkenLess" w="21600" h="21600">
                <a:moveTo>
                  <a:pt x="0" y="0"/>
                </a:moveTo>
                <a:arcTo wR="7886" hR="21600" stAng="10800000" swAng="-5400000"/>
                <a:lnTo>
                  <a:pt x="11937" y="21600"/>
                </a:lnTo>
                <a:arcTo wR="7886" hR="21600" stAng="5400000" swAng="332518"/>
                <a:lnTo>
                  <a:pt x="9912" y="20875"/>
                </a:lnTo>
                <a:arcTo wR="7886" hR="21600" stAng="5732518" swAng="5067482"/>
                <a:close/>
              </a:path>
            </a:pathLst>
          </a:custGeom>
          <a:gradFill rotWithShape="0">
            <a:gsLst>
              <a:gs pos="0">
                <a:srgbClr val="005480"/>
              </a:gs>
              <a:gs pos="50000">
                <a:srgbClr val="78bde8"/>
              </a:gs>
              <a:gs pos="100000">
                <a:srgbClr val="0054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5010120" y="4483080"/>
            <a:ext cx="2114640" cy="438120"/>
          </a:xfrm>
          <a:custGeom>
            <a:avLst/>
            <a:gdLst>
              <a:gd name="textAreaLeft" fmla="*/ 385920 w 2114640"/>
              <a:gd name="textAreaRight" fmla="*/ 1554840 w 2114640"/>
              <a:gd name="textAreaTop" fmla="*/ 58680 h 438120"/>
              <a:gd name="textAreaBottom" fmla="*/ 37944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6" hR="21600" stAng="10800000" swAng="-5400000"/>
                <a:lnTo>
                  <a:pt x="11937" y="21600"/>
                </a:lnTo>
                <a:arcTo wR="7886" hR="21600" stAng="5400000" swAng="-2755195"/>
                <a:lnTo>
                  <a:pt x="21149" y="7200"/>
                </a:lnTo>
                <a:lnTo>
                  <a:pt x="17798" y="0"/>
                </a:lnTo>
                <a:lnTo>
                  <a:pt x="13544" y="7200"/>
                </a:lnTo>
                <a:lnTo>
                  <a:pt x="15321" y="7200"/>
                </a:lnTo>
                <a:arcTo wR="7886" hR="21600" stAng="2644805" swAng="2422677"/>
                <a:lnTo>
                  <a:pt x="9912" y="20875"/>
                </a:lnTo>
                <a:arcTo wR="7886" hR="21600" stAng="5732518" swAng="5067482"/>
                <a:close/>
              </a:path>
              <a:path fill="darkenLess" w="21600" h="21600">
                <a:moveTo>
                  <a:pt x="0" y="0"/>
                </a:moveTo>
                <a:arcTo wR="7886" hR="21600" stAng="10800000" swAng="-5400000"/>
                <a:lnTo>
                  <a:pt x="11937" y="21600"/>
                </a:lnTo>
                <a:arcTo wR="7886" hR="21600" stAng="5400000" swAng="332518"/>
                <a:lnTo>
                  <a:pt x="9912" y="20875"/>
                </a:lnTo>
                <a:arcTo wR="7886" hR="21600" stAng="5732518" swAng="5067482"/>
                <a:close/>
              </a:path>
            </a:pathLst>
          </a:custGeom>
          <a:gradFill rotWithShape="0">
            <a:gsLst>
              <a:gs pos="0">
                <a:srgbClr val="98002e"/>
              </a:gs>
              <a:gs pos="50000">
                <a:srgbClr val="de747e"/>
              </a:gs>
              <a:gs pos="100000">
                <a:srgbClr val="98002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5657760" y="4424400"/>
            <a:ext cx="62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8002e"/>
                </a:solidFill>
                <a:latin typeface="Arial"/>
              </a:rPr>
              <a:t>iD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Converting S-parameters to Impulses: Difficulties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19440" y="4797360"/>
            <a:ext cx="691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5480"/>
                </a:solidFill>
                <a:latin typeface="Arial"/>
              </a:rPr>
              <a:t>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5342040" y="4807080"/>
            <a:ext cx="1344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8002e"/>
                </a:solidFill>
                <a:latin typeface="Arial"/>
              </a:rPr>
              <a:t>Difficul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2813040" y="4433760"/>
            <a:ext cx="53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5480"/>
                </a:solidFill>
                <a:latin typeface="Arial"/>
              </a:rPr>
              <a:t>D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1"/>
          <p:cNvSpPr/>
          <p:nvPr/>
        </p:nvSpPr>
        <p:spPr>
          <a:xfrm>
            <a:off x="469800" y="5140440"/>
            <a:ext cx="8293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t is desirable to have a tool that can complete the iDFT proper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Tool must eliminate leakage with minimal change to initial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Tool must enforce ‘base-delay causality’ and pass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BD64-7760-4768-96EA-824C938F07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Impulse Response Model Implementation Needs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9800" y="83484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There are advantages to directly using impulse responses in time-domain simulations, and there is a need for a standardized file format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Given band-limited S-parameters, it is difficult to directly calculate accurate time-domain impulse responses, and there is a need for a tool to do so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Concludes Tyco Electronics portion of the presentation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1998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had.morgan@tycoelectronics.com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1998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www.tycoelectronics.com/documentation/spiceelectricalmodels/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1998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odeling@tycoelectronics.com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Agilent Technologies up next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Fangyi Rao, Vuk Borich, &amp; Sanjeev Gupta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New approach for calculating valid impulse response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mpulse response model methodology and Agilent support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pic>
        <p:nvPicPr>
          <p:cNvPr id="314" name="Picture 4" descr="wht_slide_logo copy"/>
          <p:cNvPicPr/>
          <p:nvPr/>
        </p:nvPicPr>
        <p:blipFill>
          <a:blip r:embed="rId1"/>
          <a:stretch/>
        </p:blipFill>
        <p:spPr>
          <a:xfrm>
            <a:off x="939960" y="4726080"/>
            <a:ext cx="2598480" cy="528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5353200" y="4718160"/>
            <a:ext cx="2719080" cy="62064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6"/>
          <p:cNvSpPr/>
          <p:nvPr/>
        </p:nvSpPr>
        <p:spPr>
          <a:xfrm>
            <a:off x="2031840" y="5329080"/>
            <a:ext cx="5632560" cy="508320"/>
          </a:xfrm>
          <a:custGeom>
            <a:avLst/>
            <a:gdLst>
              <a:gd name="textAreaLeft" fmla="*/ 1113480 w 5632560"/>
              <a:gd name="textAreaRight" fmla="*/ 4095360 w 5632560"/>
              <a:gd name="textAreaTop" fmla="*/ 68040 h 508320"/>
              <a:gd name="textAreaBottom" fmla="*/ 440280 h 50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41" hR="21600" stAng="10800000" swAng="-5400000"/>
                <a:lnTo>
                  <a:pt x="11434" y="21600"/>
                </a:lnTo>
                <a:arcTo wR="8541" hR="21600" stAng="5400000" swAng="-2530620"/>
                <a:lnTo>
                  <a:pt x="20887" y="8640"/>
                </a:lnTo>
                <a:lnTo>
                  <a:pt x="18529" y="0"/>
                </a:lnTo>
                <a:lnTo>
                  <a:pt x="14744" y="8640"/>
                </a:lnTo>
                <a:lnTo>
                  <a:pt x="16369" y="8640"/>
                </a:lnTo>
                <a:arcTo wR="8541" hR="21600" stAng="2869380" swAng="2297386"/>
                <a:lnTo>
                  <a:pt x="9988" y="21288"/>
                </a:lnTo>
                <a:arcTo wR="8541" hR="21600" stAng="5633234" swAng="5166766"/>
                <a:close/>
              </a:path>
              <a:path fill="darkenLess" w="21600" h="21600">
                <a:moveTo>
                  <a:pt x="0" y="0"/>
                </a:moveTo>
                <a:arcTo wR="8541" hR="21600" stAng="10800000" swAng="-5400000"/>
                <a:lnTo>
                  <a:pt x="11434" y="21600"/>
                </a:lnTo>
                <a:arcTo wR="8541" hR="21600" stAng="5400000" swAng="233234"/>
                <a:lnTo>
                  <a:pt x="9988" y="21288"/>
                </a:lnTo>
                <a:arcTo wR="8541" hR="21600" stAng="5633234" swAng="5166766"/>
                <a:close/>
              </a:path>
            </a:pathLst>
          </a:custGeom>
          <a:gradFill rotWithShape="0">
            <a:gsLst>
              <a:gs pos="0">
                <a:srgbClr val="005480"/>
              </a:gs>
              <a:gs pos="50000">
                <a:srgbClr val="78bde8"/>
              </a:gs>
              <a:gs pos="100000">
                <a:srgbClr val="0054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4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5403-B67D-447F-A462-4727119C7E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Time Domain Convolution Challenges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240" y="1511280"/>
            <a:ext cx="8072280" cy="4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Causal condition: Kramers-Kronig (K-K) relation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914400" y="2092320"/>
            <a:ext cx="501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89120" y="298944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6"/>
          <p:cNvSpPr/>
          <p:nvPr/>
        </p:nvSpPr>
        <p:spPr>
          <a:xfrm>
            <a:off x="1928880" y="2917800"/>
            <a:ext cx="1165320" cy="2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7"/>
          <p:cNvSpPr/>
          <p:nvPr/>
        </p:nvSpPr>
        <p:spPr>
          <a:xfrm>
            <a:off x="2755800" y="3244680"/>
            <a:ext cx="2016360" cy="262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8" descr="MCj03087120000[1]"/>
          <p:cNvPicPr/>
          <p:nvPr/>
        </p:nvPicPr>
        <p:blipFill>
          <a:blip r:embed="rId1"/>
          <a:stretch/>
        </p:blipFill>
        <p:spPr>
          <a:xfrm>
            <a:off x="6302520" y="2492280"/>
            <a:ext cx="1393560" cy="94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5" name="Object 9"/>
              <p:cNvSpPr txBox="1"/>
              <p:nvPr/>
            </p:nvSpPr>
            <p:spPr>
              <a:xfrm>
                <a:off x="1901880" y="2124000"/>
                <a:ext cx="322272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P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p>
                          <m:e>
                            <m:r>
                              <m:t xml:space="preserve">dω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P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p>
                          <m:e>
                            <m:r>
                              <m:t xml:space="preserve">dω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6" name="Rectangle 10"/>
          <p:cNvSpPr/>
          <p:nvPr/>
        </p:nvSpPr>
        <p:spPr>
          <a:xfrm>
            <a:off x="433440" y="4032360"/>
            <a:ext cx="80722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Real and imaginary parts are not independ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Hilbert integrals involve entire spectr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Truncation in band-limited spectrum breaks K-K relations. Direct iDFT is non-cau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520560" y="933480"/>
            <a:ext cx="82296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Caus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2C12-8D62-4803-972A-83A720BEC6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Presentation Outline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55520" indent="-15552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Tyco Electronics: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1" marL="338760" indent="-181800">
              <a:lnSpc>
                <a:spcPts val="2999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Passive Component Model Review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1" marL="338760" indent="-181800">
              <a:lnSpc>
                <a:spcPts val="2999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Simulation Tools and Methods Review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1" marL="338760" indent="-181800">
              <a:lnSpc>
                <a:spcPts val="2999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Simulation Advantages from Using Impulse Responses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1" marL="338760" indent="-181800">
              <a:lnSpc>
                <a:spcPts val="2999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Getting Impulse Responses Directly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1" marL="338760" indent="-181800">
              <a:lnSpc>
                <a:spcPts val="2999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Converting Band-Limited S-parameters to Impulse Responses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1" marL="338760" indent="-181800">
              <a:lnSpc>
                <a:spcPts val="2999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Practical Implementation Needs for Impulse Response Models 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1" marL="338760"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marL="155520" indent="-15552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Agilent Technologies: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1" marL="338760" indent="-181800">
              <a:lnSpc>
                <a:spcPts val="2999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A New Method to Convert Band-Limited Spectrum to Impulse Responses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1" marL="338760" indent="-181800">
              <a:lnSpc>
                <a:spcPts val="2999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Method Validation Data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1" marL="338760" indent="-181800">
              <a:lnSpc>
                <a:spcPts val="2999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Proposed Time Domain Impulse Response Model Methodology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1" marL="338760" indent="-181800">
              <a:lnSpc>
                <a:spcPts val="2999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EDA Support for Exporting/Importing Impulse Response Data File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00A8-B7CE-4793-AF57-F646072F5D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8" descr=""/>
          <p:cNvPicPr/>
          <p:nvPr/>
        </p:nvPicPr>
        <p:blipFill>
          <a:blip r:embed="rId1"/>
          <a:stretch/>
        </p:blipFill>
        <p:spPr>
          <a:xfrm>
            <a:off x="3914640" y="2968560"/>
            <a:ext cx="4977000" cy="3446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7" descr=""/>
          <p:cNvPicPr/>
          <p:nvPr/>
        </p:nvPicPr>
        <p:blipFill>
          <a:blip r:embed="rId2"/>
          <a:stretch/>
        </p:blipFill>
        <p:spPr>
          <a:xfrm>
            <a:off x="-401760" y="3146400"/>
            <a:ext cx="5043600" cy="32734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Case Study: A Simple Response Function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914400" y="2092320"/>
            <a:ext cx="501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0"/>
          <p:cNvSpPr/>
          <p:nvPr/>
        </p:nvSpPr>
        <p:spPr>
          <a:xfrm flipV="1">
            <a:off x="4295880" y="2517480"/>
            <a:ext cx="1315800" cy="47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7715160" y="1152360"/>
            <a:ext cx="452520" cy="102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50"/>
          <p:cNvGrpSpPr/>
          <p:nvPr/>
        </p:nvGrpSpPr>
        <p:grpSpPr>
          <a:xfrm>
            <a:off x="1090440" y="1019160"/>
            <a:ext cx="6435720" cy="965160"/>
            <a:chOff x="1090440" y="1019160"/>
            <a:chExt cx="6435720" cy="965160"/>
          </a:xfrm>
        </p:grpSpPr>
        <mc:AlternateContent>
          <mc:Choice xmlns:a14="http://schemas.microsoft.com/office/drawing/2010/main" Requires="a14">
            <p:sp>
              <p:nvSpPr>
                <p:cNvPr id="339" name="Object 17"/>
                <p:cNvSpPr txBox="1"/>
                <p:nvPr/>
              </p:nvSpPr>
              <p:spPr>
                <a:xfrm>
                  <a:off x="1090440" y="1200240"/>
                  <a:ext cx="184464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rPr>
                              <m:lit/>
                              <m:nor/>
                            </m:rPr>
                            <m:t xml:space="preserve">ω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Object 19"/>
                <p:cNvSpPr txBox="1"/>
                <p:nvPr/>
              </p:nvSpPr>
              <p:spPr>
                <a:xfrm>
                  <a:off x="5084640" y="1146240"/>
                  <a:ext cx="24415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&lt;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f>
                                            <m:fPr>
                                              <m:type m:val="lin"/>
                                            </m:fPr>
                                            <m:num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t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τ</m:t>
                                              </m:r>
                                            </m:den>
                                          </m:f>
                                        </m:sup>
                                      </m:sSup>
                                    </m:e>
                                    <m:e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≥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41" name="AutoShape 22"/>
            <p:cNvSpPr/>
            <p:nvPr/>
          </p:nvSpPr>
          <p:spPr>
            <a:xfrm>
              <a:off x="3643200" y="1451160"/>
              <a:ext cx="599760" cy="285480"/>
            </a:xfrm>
            <a:prstGeom prst="rightArrow">
              <a:avLst>
                <a:gd name="adj1" fmla="val 50000"/>
                <a:gd name="adj2" fmla="val 525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23"/>
            <p:cNvSpPr/>
            <p:nvPr/>
          </p:nvSpPr>
          <p:spPr>
            <a:xfrm>
              <a:off x="3639960" y="1019160"/>
              <a:ext cx="61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7800" y="205092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53720" indent="-15372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Truncate H at 1 Hz (</a:t>
            </a:r>
            <a:r>
              <a:rPr b="0" lang="en-US" sz="1800" spc="-1" strike="noStrike">
                <a:solidFill>
                  <a:srgbClr val="00548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 = 1). Compute impulse response by iDFT. Result is non-causal.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3720" indent="-15372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Restore causality by adjusting response to 0 at t &lt; 0. Spectrum is altered.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372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2589120" y="298944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7"/>
          <p:cNvSpPr/>
          <p:nvPr/>
        </p:nvSpPr>
        <p:spPr>
          <a:xfrm>
            <a:off x="2755800" y="3244680"/>
            <a:ext cx="2016360" cy="262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2"/>
          <p:cNvSpPr/>
          <p:nvPr/>
        </p:nvSpPr>
        <p:spPr>
          <a:xfrm flipV="1">
            <a:off x="4272120" y="2793600"/>
            <a:ext cx="1352520" cy="149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 flipV="1">
            <a:off x="6923160" y="4502160"/>
            <a:ext cx="1440" cy="59688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6407280" y="4013280"/>
            <a:ext cx="97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riginal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2"/>
          <p:cNvSpPr/>
          <p:nvPr/>
        </p:nvSpPr>
        <p:spPr>
          <a:xfrm flipH="1">
            <a:off x="7829640" y="4006800"/>
            <a:ext cx="1440" cy="1305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4"/>
          <p:cNvSpPr/>
          <p:nvPr/>
        </p:nvSpPr>
        <p:spPr>
          <a:xfrm>
            <a:off x="5862600" y="3519360"/>
            <a:ext cx="2692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FT adjusted causal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5"/>
          <p:cNvSpPr/>
          <p:nvPr/>
        </p:nvSpPr>
        <p:spPr>
          <a:xfrm>
            <a:off x="2289240" y="3614760"/>
            <a:ext cx="628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6"/>
          <p:cNvSpPr/>
          <p:nvPr/>
        </p:nvSpPr>
        <p:spPr>
          <a:xfrm>
            <a:off x="2081880" y="4944960"/>
            <a:ext cx="1538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DFT truncated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 flipH="1">
            <a:off x="1881000" y="3986280"/>
            <a:ext cx="423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9"/>
          <p:cNvSpPr/>
          <p:nvPr/>
        </p:nvSpPr>
        <p:spPr>
          <a:xfrm flipH="1" flipV="1">
            <a:off x="1633320" y="5049360"/>
            <a:ext cx="492120" cy="2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1"/>
          <p:cNvSpPr/>
          <p:nvPr/>
        </p:nvSpPr>
        <p:spPr>
          <a:xfrm>
            <a:off x="1456560" y="3162240"/>
            <a:ext cx="1863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ulse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2"/>
          <p:cNvSpPr/>
          <p:nvPr/>
        </p:nvSpPr>
        <p:spPr>
          <a:xfrm>
            <a:off x="6344280" y="3160800"/>
            <a:ext cx="1049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5B82-A725-4C33-B35B-51D10CE2B4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Problems with Windowing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914400" y="2092320"/>
            <a:ext cx="501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7"/>
          <p:cNvSpPr/>
          <p:nvPr/>
        </p:nvSpPr>
        <p:spPr>
          <a:xfrm>
            <a:off x="7715160" y="1152360"/>
            <a:ext cx="452520" cy="102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7800" y="939600"/>
            <a:ext cx="8229600" cy="16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56960" indent="-15696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Standard window functions are non-causal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6960" indent="-15696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Equivalent to convolving h(t) with LPF. Leads to non-causal response at t &lt; 0.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6960" indent="-15696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Spectrum roll-off at truncation frequency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6960" indent="-15696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Example: apply Hanning window to H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69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grpSp>
        <p:nvGrpSpPr>
          <p:cNvPr id="363" name="Group 32"/>
          <p:cNvGrpSpPr/>
          <p:nvPr/>
        </p:nvGrpSpPr>
        <p:grpSpPr>
          <a:xfrm>
            <a:off x="-212760" y="2476440"/>
            <a:ext cx="9356760" cy="3557520"/>
            <a:chOff x="-212760" y="2476440"/>
            <a:chExt cx="9356760" cy="3557520"/>
          </a:xfrm>
        </p:grpSpPr>
        <p:pic>
          <p:nvPicPr>
            <p:cNvPr id="364" name="Picture 31" descr=""/>
            <p:cNvPicPr/>
            <p:nvPr/>
          </p:nvPicPr>
          <p:blipFill>
            <a:blip r:embed="rId1"/>
            <a:stretch/>
          </p:blipFill>
          <p:spPr>
            <a:xfrm>
              <a:off x="4019400" y="2476440"/>
              <a:ext cx="5124600" cy="35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30" descr=""/>
            <p:cNvPicPr/>
            <p:nvPr/>
          </p:nvPicPr>
          <p:blipFill>
            <a:blip r:embed="rId2"/>
            <a:stretch/>
          </p:blipFill>
          <p:spPr>
            <a:xfrm>
              <a:off x="-212760" y="2676600"/>
              <a:ext cx="5173560" cy="33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Line 6"/>
            <p:cNvSpPr/>
            <p:nvPr/>
          </p:nvSpPr>
          <p:spPr>
            <a:xfrm flipV="1">
              <a:off x="4295880" y="2758680"/>
              <a:ext cx="1315800" cy="476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0" y="34606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1"/>
            <p:cNvSpPr/>
            <p:nvPr/>
          </p:nvSpPr>
          <p:spPr>
            <a:xfrm>
              <a:off x="0" y="3441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2589120" y="3230640"/>
              <a:ext cx="184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8"/>
            <p:cNvSpPr/>
            <p:nvPr/>
          </p:nvSpPr>
          <p:spPr>
            <a:xfrm>
              <a:off x="2755800" y="3485880"/>
              <a:ext cx="2016360" cy="262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9"/>
            <p:cNvSpPr/>
            <p:nvPr/>
          </p:nvSpPr>
          <p:spPr>
            <a:xfrm flipV="1">
              <a:off x="4272120" y="3034800"/>
              <a:ext cx="1352520" cy="14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0"/>
            <p:cNvSpPr/>
            <p:nvPr/>
          </p:nvSpPr>
          <p:spPr>
            <a:xfrm flipH="1" flipV="1">
              <a:off x="6644880" y="3905280"/>
              <a:ext cx="1800" cy="522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21"/>
            <p:cNvSpPr/>
            <p:nvPr/>
          </p:nvSpPr>
          <p:spPr>
            <a:xfrm>
              <a:off x="6167520" y="3416040"/>
              <a:ext cx="9730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Original 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2"/>
            <p:cNvSpPr/>
            <p:nvPr/>
          </p:nvSpPr>
          <p:spPr>
            <a:xfrm flipH="1">
              <a:off x="7791480" y="4411440"/>
              <a:ext cx="6480" cy="61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23"/>
            <p:cNvSpPr/>
            <p:nvPr/>
          </p:nvSpPr>
          <p:spPr>
            <a:xfrm>
              <a:off x="7369200" y="3898800"/>
              <a:ext cx="1287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Windowed 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24"/>
            <p:cNvSpPr/>
            <p:nvPr/>
          </p:nvSpPr>
          <p:spPr>
            <a:xfrm>
              <a:off x="2576520" y="3216240"/>
              <a:ext cx="628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Ex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25"/>
            <p:cNvSpPr/>
            <p:nvPr/>
          </p:nvSpPr>
          <p:spPr>
            <a:xfrm>
              <a:off x="2336760" y="4535280"/>
              <a:ext cx="1584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iDFT windowed 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6"/>
            <p:cNvSpPr/>
            <p:nvPr/>
          </p:nvSpPr>
          <p:spPr>
            <a:xfrm flipH="1">
              <a:off x="2144520" y="3589200"/>
              <a:ext cx="423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7"/>
            <p:cNvSpPr/>
            <p:nvPr/>
          </p:nvSpPr>
          <p:spPr>
            <a:xfrm flipH="1" flipV="1">
              <a:off x="1820880" y="4563720"/>
              <a:ext cx="541440" cy="30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28"/>
            <p:cNvSpPr/>
            <p:nvPr/>
          </p:nvSpPr>
          <p:spPr>
            <a:xfrm>
              <a:off x="1856520" y="2601720"/>
              <a:ext cx="1863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ulse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29"/>
            <p:cNvSpPr/>
            <p:nvPr/>
          </p:nvSpPr>
          <p:spPr>
            <a:xfrm>
              <a:off x="6344280" y="2612880"/>
              <a:ext cx="1049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ectr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3D63-D306-4160-AE7D-B044BBFCEA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Delay Preservation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9800" y="835200"/>
            <a:ext cx="8229600" cy="26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Delay causality: no response before system base delay time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Common sources of violat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- Substrate dielectric constant model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Does not satisfy K-K relations if tan</a:t>
            </a:r>
            <a:r>
              <a:rPr b="0" lang="en-US" sz="1800" spc="-1" strike="noStrike">
                <a:solidFill>
                  <a:srgbClr val="005480"/>
                </a:solidFill>
                <a:latin typeface="Symbol"/>
                <a:ea typeface="Symbol"/>
              </a:rPr>
              <a:t>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s constant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- Skin loss model: sqrt(f) dependent loss is non-causal without imaginary part.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914400" y="2092320"/>
            <a:ext cx="501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7"/>
              <p:cNvSpPr txBox="1"/>
              <p:nvPr/>
            </p:nvSpPr>
            <p:spPr>
              <a:xfrm>
                <a:off x="2362320" y="1930320"/>
                <a:ext cx="2985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3" descr=""/>
          <p:cNvPicPr/>
          <p:nvPr/>
        </p:nvPicPr>
        <p:blipFill>
          <a:blip r:embed="rId1"/>
          <a:stretch/>
        </p:blipFill>
        <p:spPr>
          <a:xfrm>
            <a:off x="1368360" y="3003480"/>
            <a:ext cx="5364360" cy="3489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4"/>
          <p:cNvSpPr/>
          <p:nvPr/>
        </p:nvSpPr>
        <p:spPr>
          <a:xfrm>
            <a:off x="4664160" y="3411360"/>
            <a:ext cx="1073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as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5"/>
          <p:cNvSpPr/>
          <p:nvPr/>
        </p:nvSpPr>
        <p:spPr>
          <a:xfrm rot="16200000">
            <a:off x="1004040" y="4143960"/>
            <a:ext cx="1860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form (m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6"/>
          <p:cNvSpPr/>
          <p:nvPr/>
        </p:nvSpPr>
        <p:spPr>
          <a:xfrm flipH="1">
            <a:off x="4255920" y="3757680"/>
            <a:ext cx="4240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2706840" y="4576680"/>
            <a:ext cx="863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ode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8"/>
          <p:cNvSpPr/>
          <p:nvPr/>
        </p:nvSpPr>
        <p:spPr>
          <a:xfrm>
            <a:off x="3154320" y="5025960"/>
            <a:ext cx="320760" cy="227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359A-1D8D-42A8-96E9-DD67678635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Passivity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9800" y="835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Measurement or numerical modeling error cause non-passive S-parameter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Passivity can be corrected frequency-by-frequency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Requirement for passivity correct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- minimum impact on original data, avoid over-damping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- preserve causality in corrected S-parameter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14400" y="2092320"/>
            <a:ext cx="501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589120" y="298944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"/>
          <p:cNvSpPr/>
          <p:nvPr/>
        </p:nvSpPr>
        <p:spPr>
          <a:xfrm>
            <a:off x="1928880" y="2917800"/>
            <a:ext cx="1165320" cy="2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7"/>
          <p:cNvSpPr/>
          <p:nvPr/>
        </p:nvSpPr>
        <p:spPr>
          <a:xfrm>
            <a:off x="2755800" y="3244680"/>
            <a:ext cx="2016360" cy="262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"/>
          <p:cNvSpPr/>
          <p:nvPr/>
        </p:nvSpPr>
        <p:spPr>
          <a:xfrm>
            <a:off x="2128680" y="3419640"/>
            <a:ext cx="1403640" cy="338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FDA8-5EAA-4A11-84B1-A5544E672A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80"/>
                </a:solidFill>
                <a:latin typeface="Arial"/>
              </a:rPr>
              <a:t>Rigorous Approach for Impulse Response Calculation</a:t>
            </a: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31640" y="107316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Calculate impulse response from band-limited spectrum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Automatic causality enforcement with respect to time zero and delay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Correct passivity violation in S-parameters while maintaining causality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Impulse response matches original spectrum to highest possible accuracy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914400" y="2092320"/>
            <a:ext cx="501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2589120" y="298944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6"/>
          <p:cNvSpPr/>
          <p:nvPr/>
        </p:nvSpPr>
        <p:spPr>
          <a:xfrm>
            <a:off x="1928880" y="2917800"/>
            <a:ext cx="1165320" cy="2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7"/>
          <p:cNvSpPr/>
          <p:nvPr/>
        </p:nvSpPr>
        <p:spPr>
          <a:xfrm>
            <a:off x="2755800" y="3244680"/>
            <a:ext cx="2016360" cy="262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A844-0432-4095-BE24-2053564D50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9" descr=""/>
          <p:cNvPicPr/>
          <p:nvPr/>
        </p:nvPicPr>
        <p:blipFill>
          <a:blip r:embed="rId1"/>
          <a:stretch/>
        </p:blipFill>
        <p:spPr>
          <a:xfrm>
            <a:off x="4025880" y="2122560"/>
            <a:ext cx="5118120" cy="3720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8" descr=""/>
          <p:cNvPicPr/>
          <p:nvPr/>
        </p:nvPicPr>
        <p:blipFill>
          <a:blip r:embed="rId2"/>
          <a:stretch/>
        </p:blipFill>
        <p:spPr>
          <a:xfrm>
            <a:off x="-401760" y="2516040"/>
            <a:ext cx="5126040" cy="33274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Revisit Simple Response Function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9800" y="835200"/>
            <a:ext cx="822960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53720" indent="-1537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Use new approach to compute impulse response from truncated H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3720" indent="-1537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Response is causal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3720" indent="-1537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FT of impulse response matches original H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3720" indent="-1537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No roll-off at high frequency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372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914400" y="2092320"/>
            <a:ext cx="501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2602080" y="248760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6"/>
          <p:cNvSpPr/>
          <p:nvPr/>
        </p:nvSpPr>
        <p:spPr>
          <a:xfrm>
            <a:off x="1941480" y="2416320"/>
            <a:ext cx="1165320" cy="2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7"/>
          <p:cNvSpPr/>
          <p:nvPr/>
        </p:nvSpPr>
        <p:spPr>
          <a:xfrm>
            <a:off x="2768760" y="2743200"/>
            <a:ext cx="2016000" cy="262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1"/>
          <p:cNvSpPr/>
          <p:nvPr/>
        </p:nvSpPr>
        <p:spPr>
          <a:xfrm>
            <a:off x="6335640" y="3648240"/>
            <a:ext cx="88920" cy="8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6518160" y="3327480"/>
            <a:ext cx="2127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FT impulse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4"/>
          <p:cNvSpPr/>
          <p:nvPr/>
        </p:nvSpPr>
        <p:spPr>
          <a:xfrm>
            <a:off x="6249960" y="3319560"/>
            <a:ext cx="225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7"/>
          <p:cNvSpPr/>
          <p:nvPr/>
        </p:nvSpPr>
        <p:spPr>
          <a:xfrm>
            <a:off x="6532560" y="2973240"/>
            <a:ext cx="97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riginal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0"/>
          <p:cNvSpPr/>
          <p:nvPr/>
        </p:nvSpPr>
        <p:spPr>
          <a:xfrm>
            <a:off x="861840" y="3398760"/>
            <a:ext cx="628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1"/>
          <p:cNvSpPr/>
          <p:nvPr/>
        </p:nvSpPr>
        <p:spPr>
          <a:xfrm>
            <a:off x="1452600" y="3760920"/>
            <a:ext cx="363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2"/>
          <p:cNvSpPr/>
          <p:nvPr/>
        </p:nvSpPr>
        <p:spPr>
          <a:xfrm>
            <a:off x="2376360" y="3392640"/>
            <a:ext cx="1720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mpulse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23"/>
          <p:cNvSpPr/>
          <p:nvPr/>
        </p:nvSpPr>
        <p:spPr>
          <a:xfrm flipH="1">
            <a:off x="2542680" y="3870360"/>
            <a:ext cx="476280" cy="374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4"/>
          <p:cNvSpPr/>
          <p:nvPr/>
        </p:nvSpPr>
        <p:spPr>
          <a:xfrm>
            <a:off x="1618560" y="2486160"/>
            <a:ext cx="1863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ulse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5"/>
          <p:cNvSpPr/>
          <p:nvPr/>
        </p:nvSpPr>
        <p:spPr>
          <a:xfrm>
            <a:off x="6458400" y="2482920"/>
            <a:ext cx="1049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8875-EDC0-4E62-AF76-902B568473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S-parameters of Low Impedance RLC Network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9800" y="83484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Extract S-parameters of RLC sub-network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Compare waveforms between lumped network and S-parameter convolut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Tough case for convolution: Ohm impedance network normalized to 50 Ohm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Narrow dynamic range in S-parameters. Requires highly accurate impulse response.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1181160" y="3387600"/>
            <a:ext cx="501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2855880" y="428472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6"/>
          <p:cNvSpPr/>
          <p:nvPr/>
        </p:nvSpPr>
        <p:spPr>
          <a:xfrm>
            <a:off x="2195640" y="4213080"/>
            <a:ext cx="1164960" cy="276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7"/>
          <p:cNvSpPr/>
          <p:nvPr/>
        </p:nvSpPr>
        <p:spPr>
          <a:xfrm>
            <a:off x="3022560" y="4540320"/>
            <a:ext cx="2016000" cy="261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8"/>
          <p:cNvSpPr/>
          <p:nvPr/>
        </p:nvSpPr>
        <p:spPr>
          <a:xfrm>
            <a:off x="2395440" y="4714920"/>
            <a:ext cx="1403280" cy="338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"/>
          <p:cNvPicPr/>
          <p:nvPr/>
        </p:nvPicPr>
        <p:blipFill>
          <a:blip r:embed="rId1"/>
          <a:stretch/>
        </p:blipFill>
        <p:spPr>
          <a:xfrm>
            <a:off x="492120" y="3392640"/>
            <a:ext cx="4673520" cy="1211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524560" y="2666880"/>
            <a:ext cx="2971800" cy="254808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11"/>
          <p:cNvSpPr/>
          <p:nvPr/>
        </p:nvSpPr>
        <p:spPr>
          <a:xfrm>
            <a:off x="6972480" y="2743200"/>
            <a:ext cx="838080" cy="685800"/>
          </a:xfrm>
          <a:prstGeom prst="wedgeEllipseCallout">
            <a:avLst>
              <a:gd name="adj1" fmla="val -457384"/>
              <a:gd name="adj2" fmla="val 46064"/>
            </a:avLst>
          </a:prstGeom>
          <a:noFill/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6972480" y="48769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9"/>
          <p:cNvSpPr/>
          <p:nvPr/>
        </p:nvSpPr>
        <p:spPr>
          <a:xfrm>
            <a:off x="6585120" y="1335240"/>
            <a:ext cx="1247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riginal S(1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8" descr=""/>
          <p:cNvPicPr/>
          <p:nvPr/>
        </p:nvPicPr>
        <p:blipFill>
          <a:blip r:embed="rId1"/>
          <a:stretch/>
        </p:blipFill>
        <p:spPr>
          <a:xfrm>
            <a:off x="225360" y="3708360"/>
            <a:ext cx="4395960" cy="2854440"/>
          </a:xfrm>
          <a:prstGeom prst="rect">
            <a:avLst/>
          </a:prstGeom>
          <a:ln w="0">
            <a:noFill/>
          </a:ln>
        </p:spPr>
      </p:pic>
      <p:sp>
        <p:nvSpPr>
          <p:cNvPr id="443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5F98-A9AF-40D4-8C2E-B0A5757361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181160" y="3387600"/>
            <a:ext cx="501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855880" y="428472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7"/>
          <p:cNvSpPr/>
          <p:nvPr/>
        </p:nvSpPr>
        <p:spPr>
          <a:xfrm>
            <a:off x="3022560" y="4540320"/>
            <a:ext cx="2016000" cy="261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6972480" y="48769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4" descr=""/>
          <p:cNvPicPr/>
          <p:nvPr/>
        </p:nvPicPr>
        <p:blipFill>
          <a:blip r:embed="rId2"/>
          <a:stretch/>
        </p:blipFill>
        <p:spPr>
          <a:xfrm>
            <a:off x="250920" y="1092240"/>
            <a:ext cx="4338720" cy="281628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Lumped vs S-parameter Convolution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9800" y="87588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56960"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Direct iDFT Approach: poor agreement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51" name="Rectangle 17"/>
          <p:cNvSpPr/>
          <p:nvPr/>
        </p:nvSpPr>
        <p:spPr>
          <a:xfrm>
            <a:off x="457200" y="356868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New Approach: 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19" descr=""/>
          <p:cNvPicPr/>
          <p:nvPr/>
        </p:nvPicPr>
        <p:blipFill>
          <a:blip r:embed="rId3"/>
          <a:stretch/>
        </p:blipFill>
        <p:spPr>
          <a:xfrm>
            <a:off x="4302000" y="3397320"/>
            <a:ext cx="4364280" cy="3174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0" descr=""/>
          <p:cNvPicPr/>
          <p:nvPr/>
        </p:nvPicPr>
        <p:blipFill>
          <a:blip r:embed="rId4"/>
          <a:stretch/>
        </p:blipFill>
        <p:spPr>
          <a:xfrm>
            <a:off x="4278240" y="1052640"/>
            <a:ext cx="4356000" cy="28684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47"/>
          <p:cNvGrpSpPr/>
          <p:nvPr/>
        </p:nvGrpSpPr>
        <p:grpSpPr>
          <a:xfrm>
            <a:off x="3441600" y="1322280"/>
            <a:ext cx="1282680" cy="751320"/>
            <a:chOff x="3441600" y="1322280"/>
            <a:chExt cx="1282680" cy="751320"/>
          </a:xfrm>
        </p:grpSpPr>
        <p:sp>
          <p:nvSpPr>
            <p:cNvPr id="455" name="Text Box 21"/>
            <p:cNvSpPr/>
            <p:nvPr/>
          </p:nvSpPr>
          <p:spPr>
            <a:xfrm>
              <a:off x="3485880" y="1322280"/>
              <a:ext cx="765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Lump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2"/>
            <p:cNvSpPr/>
            <p:nvPr/>
          </p:nvSpPr>
          <p:spPr>
            <a:xfrm>
              <a:off x="3473280" y="1522440"/>
              <a:ext cx="1251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-parame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3"/>
            <p:cNvSpPr/>
            <p:nvPr/>
          </p:nvSpPr>
          <p:spPr>
            <a:xfrm>
              <a:off x="3450960" y="1901880"/>
              <a:ext cx="85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24"/>
            <p:cNvSpPr/>
            <p:nvPr/>
          </p:nvSpPr>
          <p:spPr>
            <a:xfrm>
              <a:off x="3441600" y="1695240"/>
              <a:ext cx="950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 Box 25"/>
          <p:cNvSpPr/>
          <p:nvPr/>
        </p:nvSpPr>
        <p:spPr>
          <a:xfrm rot="16200000">
            <a:off x="121680" y="1902240"/>
            <a:ext cx="1251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6"/>
          <p:cNvSpPr/>
          <p:nvPr/>
        </p:nvSpPr>
        <p:spPr>
          <a:xfrm rot="16200000">
            <a:off x="4122000" y="1902240"/>
            <a:ext cx="1251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7"/>
          <p:cNvSpPr/>
          <p:nvPr/>
        </p:nvSpPr>
        <p:spPr>
          <a:xfrm>
            <a:off x="6585120" y="1535040"/>
            <a:ext cx="1809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FT impuls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2"/>
          <p:cNvSpPr/>
          <p:nvPr/>
        </p:nvSpPr>
        <p:spPr>
          <a:xfrm>
            <a:off x="6477120" y="170172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3"/>
          <p:cNvSpPr/>
          <p:nvPr/>
        </p:nvSpPr>
        <p:spPr>
          <a:xfrm>
            <a:off x="6477120" y="189216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5"/>
          <p:cNvSpPr/>
          <p:nvPr/>
        </p:nvSpPr>
        <p:spPr>
          <a:xfrm>
            <a:off x="3498840" y="3932280"/>
            <a:ext cx="76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Lum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6"/>
          <p:cNvSpPr/>
          <p:nvPr/>
        </p:nvSpPr>
        <p:spPr>
          <a:xfrm>
            <a:off x="3476520" y="4122720"/>
            <a:ext cx="1251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-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7"/>
          <p:cNvSpPr/>
          <p:nvPr/>
        </p:nvSpPr>
        <p:spPr>
          <a:xfrm>
            <a:off x="3463920" y="4492800"/>
            <a:ext cx="85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8"/>
          <p:cNvSpPr/>
          <p:nvPr/>
        </p:nvSpPr>
        <p:spPr>
          <a:xfrm>
            <a:off x="3463920" y="4295880"/>
            <a:ext cx="95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9"/>
          <p:cNvSpPr/>
          <p:nvPr/>
        </p:nvSpPr>
        <p:spPr>
          <a:xfrm>
            <a:off x="6622920" y="4189320"/>
            <a:ext cx="1733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FT impuls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0"/>
          <p:cNvSpPr/>
          <p:nvPr/>
        </p:nvSpPr>
        <p:spPr>
          <a:xfrm>
            <a:off x="6622920" y="3989520"/>
            <a:ext cx="1305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riginal S(1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41"/>
          <p:cNvSpPr/>
          <p:nvPr/>
        </p:nvSpPr>
        <p:spPr>
          <a:xfrm>
            <a:off x="6515280" y="4356000"/>
            <a:ext cx="15840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2"/>
          <p:cNvSpPr/>
          <p:nvPr/>
        </p:nvSpPr>
        <p:spPr>
          <a:xfrm>
            <a:off x="6515280" y="4546440"/>
            <a:ext cx="15840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4"/>
          <p:cNvSpPr/>
          <p:nvPr/>
        </p:nvSpPr>
        <p:spPr>
          <a:xfrm rot="16200000">
            <a:off x="96120" y="4518360"/>
            <a:ext cx="1251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6"/>
          <p:cNvSpPr/>
          <p:nvPr/>
        </p:nvSpPr>
        <p:spPr>
          <a:xfrm rot="16200000">
            <a:off x="4147560" y="4518360"/>
            <a:ext cx="1251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C6C5-BB18-4915-A760-2E3F0C1E44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3" descr=""/>
          <p:cNvPicPr/>
          <p:nvPr/>
        </p:nvPicPr>
        <p:blipFill>
          <a:blip r:embed="rId1"/>
          <a:stretch/>
        </p:blipFill>
        <p:spPr>
          <a:xfrm>
            <a:off x="876240" y="1306440"/>
            <a:ext cx="6300720" cy="444672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S-parameters of 30 Meter Coaxial Cable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9800" y="834840"/>
            <a:ext cx="8229600" cy="10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Data measured up to 6.4 GHz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Noisy data at  high frequency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mpulse response accurately represent original spectrum even in noisy reg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914400" y="2092320"/>
            <a:ext cx="501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2602080" y="248760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1941480" y="2416320"/>
            <a:ext cx="1165320" cy="2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3994920" y="1822320"/>
            <a:ext cx="1049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5"/>
          <p:cNvSpPr/>
          <p:nvPr/>
        </p:nvSpPr>
        <p:spPr>
          <a:xfrm rot="16200000">
            <a:off x="1497600" y="3213360"/>
            <a:ext cx="42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32"/>
          <p:cNvGrpSpPr/>
          <p:nvPr/>
        </p:nvGrpSpPr>
        <p:grpSpPr>
          <a:xfrm>
            <a:off x="4349880" y="2354400"/>
            <a:ext cx="2214720" cy="817560"/>
            <a:chOff x="4349880" y="2354400"/>
            <a:chExt cx="2214720" cy="817560"/>
          </a:xfrm>
        </p:grpSpPr>
        <p:sp>
          <p:nvSpPr>
            <p:cNvPr id="484" name="Text Box 28"/>
            <p:cNvSpPr/>
            <p:nvPr/>
          </p:nvSpPr>
          <p:spPr>
            <a:xfrm>
              <a:off x="4591800" y="2354400"/>
              <a:ext cx="1331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Original S(2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7"/>
            <p:cNvSpPr/>
            <p:nvPr/>
          </p:nvSpPr>
          <p:spPr>
            <a:xfrm>
              <a:off x="4349880" y="2705040"/>
              <a:ext cx="25380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9"/>
            <p:cNvSpPr/>
            <p:nvPr/>
          </p:nvSpPr>
          <p:spPr>
            <a:xfrm>
              <a:off x="4356000" y="2959200"/>
              <a:ext cx="253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30"/>
            <p:cNvSpPr/>
            <p:nvPr/>
          </p:nvSpPr>
          <p:spPr>
            <a:xfrm>
              <a:off x="4590000" y="2620800"/>
              <a:ext cx="1974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DFT impulse respo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21"/>
          <p:cNvGrpSpPr/>
          <p:nvPr/>
        </p:nvGrpSpPr>
        <p:grpSpPr>
          <a:xfrm>
            <a:off x="453960" y="1004760"/>
            <a:ext cx="6989760" cy="5084640"/>
            <a:chOff x="453960" y="1004760"/>
            <a:chExt cx="6989760" cy="5084640"/>
          </a:xfrm>
        </p:grpSpPr>
        <p:pic>
          <p:nvPicPr>
            <p:cNvPr id="489" name="Picture 20" descr=""/>
            <p:cNvPicPr/>
            <p:nvPr/>
          </p:nvPicPr>
          <p:blipFill>
            <a:blip r:embed="rId1"/>
            <a:stretch/>
          </p:blipFill>
          <p:spPr>
            <a:xfrm>
              <a:off x="453960" y="1004760"/>
              <a:ext cx="698976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 Box 5"/>
            <p:cNvSpPr/>
            <p:nvPr/>
          </p:nvSpPr>
          <p:spPr>
            <a:xfrm>
              <a:off x="2487600" y="2271600"/>
              <a:ext cx="1839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6"/>
            <p:cNvSpPr/>
            <p:nvPr/>
          </p:nvSpPr>
          <p:spPr>
            <a:xfrm>
              <a:off x="1827000" y="2200320"/>
              <a:ext cx="1165320" cy="276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7"/>
            <p:cNvSpPr/>
            <p:nvPr/>
          </p:nvSpPr>
          <p:spPr>
            <a:xfrm>
              <a:off x="2654280" y="2527200"/>
              <a:ext cx="2016000" cy="262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10"/>
            <p:cNvSpPr/>
            <p:nvPr/>
          </p:nvSpPr>
          <p:spPr>
            <a:xfrm rot="16200000">
              <a:off x="839520" y="3237840"/>
              <a:ext cx="732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(2,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3218400" y="4246560"/>
              <a:ext cx="18464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FT impulse respo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13"/>
            <p:cNvSpPr/>
            <p:nvPr/>
          </p:nvSpPr>
          <p:spPr>
            <a:xfrm>
              <a:off x="3209760" y="3903480"/>
              <a:ext cx="794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>
              <a:off x="2936520" y="4254480"/>
              <a:ext cx="263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>
              <a:off x="2936520" y="4584600"/>
              <a:ext cx="263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8909-B773-4F3A-8796-7B6B922875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S-parameters of 20 cm Multilayer Line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9800" y="835200"/>
            <a:ext cx="8229600" cy="12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8-layer transmission line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Complex structure in spectrum due to coupling between layer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Excellent match between impulse response and original spectrum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C414-7664-4F8C-B926-6693D58382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129440" y="1747800"/>
            <a:ext cx="1203480" cy="1947960"/>
          </a:xfrm>
          <a:prstGeom prst="rect">
            <a:avLst/>
          </a:prstGeom>
          <a:solidFill>
            <a:srgbClr val="78bde8"/>
          </a:solidFill>
          <a:ln w="9360">
            <a:solidFill>
              <a:srgbClr val="78b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935000" y="1971720"/>
            <a:ext cx="3760920" cy="1752480"/>
          </a:xfrm>
          <a:prstGeom prst="rect">
            <a:avLst/>
          </a:prstGeom>
          <a:solidFill>
            <a:srgbClr val="78bde8"/>
          </a:solidFill>
          <a:ln w="9360">
            <a:solidFill>
              <a:srgbClr val="78b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Passive Component Models: Traditional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929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Quasi-Static 2D &amp; 3D solvers used to derive inductance (L), mutual inductance (k), and capacitance (C) for component cross sections.  Models typically lossless with the exception of series DC resistance (R)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7086600" y="1676520"/>
            <a:ext cx="1197000" cy="198108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3733560" cy="177156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sp>
        <p:nvSpPr>
          <p:cNvPr id="143" name="Rectangle 9"/>
          <p:cNvSpPr/>
          <p:nvPr/>
        </p:nvSpPr>
        <p:spPr>
          <a:xfrm>
            <a:off x="457200" y="3657600"/>
            <a:ext cx="8292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Advantages: Sub-circuit models use generic SPICE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Can be run in transient simulations with non-linear active devi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Can be run in AC-sweep simulations to compute linear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Models are inherently causal and 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Disadvantages: At high data rates, models become complex and in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Model complexity and run-time increase with shorter cross-section l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Frequency-dependant loss &amp; dispersion not adequately mode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Longitudinal modes and transverse currents not adequately mode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4" descr=""/>
          <p:cNvPicPr/>
          <p:nvPr/>
        </p:nvPicPr>
        <p:blipFill>
          <a:blip r:embed="rId1"/>
          <a:stretch/>
        </p:blipFill>
        <p:spPr>
          <a:xfrm>
            <a:off x="1203480" y="2319480"/>
            <a:ext cx="6024240" cy="3954240"/>
          </a:xfrm>
          <a:prstGeom prst="rect">
            <a:avLst/>
          </a:prstGeom>
          <a:ln w="0">
            <a:noFill/>
          </a:ln>
        </p:spPr>
      </p:pic>
      <p:sp>
        <p:nvSpPr>
          <p:cNvPr id="502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EA7B-0B94-40A7-A7E1-6D0BB237C8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Delay Modeling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9800" y="834840"/>
            <a:ext cx="8229600" cy="17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Analytic transmission line model optimized to match measured S-parameter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Non-causal lossy substrate dielectric constant is used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Results in non-physical response before delay time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n new approach, delay causality violation is automatically corrected in impulse response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05" name="Text Box 15"/>
          <p:cNvSpPr/>
          <p:nvPr/>
        </p:nvSpPr>
        <p:spPr>
          <a:xfrm rot="16200000">
            <a:off x="915120" y="3610440"/>
            <a:ext cx="1860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form (m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6"/>
          <p:cNvSpPr/>
          <p:nvPr/>
        </p:nvSpPr>
        <p:spPr>
          <a:xfrm>
            <a:off x="4905360" y="2840040"/>
            <a:ext cx="1073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as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7"/>
          <p:cNvSpPr/>
          <p:nvPr/>
        </p:nvSpPr>
        <p:spPr>
          <a:xfrm>
            <a:off x="4892760" y="3119400"/>
            <a:ext cx="1073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ode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8"/>
          <p:cNvSpPr/>
          <p:nvPr/>
        </p:nvSpPr>
        <p:spPr>
          <a:xfrm>
            <a:off x="4699080" y="318780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711680" y="346716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7"/>
          <p:cNvSpPr/>
          <p:nvPr/>
        </p:nvSpPr>
        <p:spPr>
          <a:xfrm>
            <a:off x="2631960" y="3805200"/>
            <a:ext cx="113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Zero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7"/>
          <p:cNvSpPr/>
          <p:nvPr/>
        </p:nvSpPr>
        <p:spPr>
          <a:xfrm>
            <a:off x="2622600" y="4059360"/>
            <a:ext cx="1212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efore de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378240" y="4673520"/>
            <a:ext cx="444600" cy="419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174840" y="4533840"/>
            <a:ext cx="254160" cy="203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7054-442E-4F8C-8A4C-10AF6302FE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80"/>
                </a:solidFill>
                <a:latin typeface="Arial"/>
              </a:rPr>
              <a:t>Impulse Response Model Methodology</a:t>
            </a:r>
            <a:endParaRPr b="0" lang="en-US" sz="3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69800" y="83520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t is not straightforward to calculate impulse response from band-limited S-parameter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Must consider not only accuracy, but also causality, passivity and delay preservat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Much easier to start with impulse response models for convolution. Spectrum can be easily recovered by DFT.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914400" y="2092320"/>
            <a:ext cx="501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589120" y="298944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1928880" y="2917800"/>
            <a:ext cx="1165320" cy="2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7"/>
          <p:cNvSpPr/>
          <p:nvPr/>
        </p:nvSpPr>
        <p:spPr>
          <a:xfrm>
            <a:off x="2755800" y="3244680"/>
            <a:ext cx="2016360" cy="262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8"/>
          <p:cNvSpPr/>
          <p:nvPr/>
        </p:nvSpPr>
        <p:spPr>
          <a:xfrm>
            <a:off x="2128680" y="3419640"/>
            <a:ext cx="1403640" cy="338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4"/>
          <p:cNvGrpSpPr/>
          <p:nvPr/>
        </p:nvGrpSpPr>
        <p:grpSpPr>
          <a:xfrm>
            <a:off x="1425600" y="2936880"/>
            <a:ext cx="5904000" cy="1744200"/>
            <a:chOff x="1425600" y="2936880"/>
            <a:chExt cx="5904000" cy="1744200"/>
          </a:xfrm>
        </p:grpSpPr>
        <p:sp>
          <p:nvSpPr>
            <p:cNvPr id="523" name="Rectangle 11"/>
            <p:cNvSpPr/>
            <p:nvPr/>
          </p:nvSpPr>
          <p:spPr>
            <a:xfrm>
              <a:off x="1482840" y="2984400"/>
              <a:ext cx="5846760" cy="1696680"/>
            </a:xfrm>
            <a:prstGeom prst="rect">
              <a:avLst/>
            </a:prstGeom>
            <a:solidFill>
              <a:srgbClr val="78b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12"/>
            <p:cNvSpPr/>
            <p:nvPr/>
          </p:nvSpPr>
          <p:spPr>
            <a:xfrm>
              <a:off x="1425600" y="2936880"/>
              <a:ext cx="5855040" cy="168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WordArt 13"/>
            <p:cNvSpPr txBox="1"/>
            <p:nvPr/>
          </p:nvSpPr>
          <p:spPr>
            <a:xfrm>
              <a:off x="3608640" y="3028680"/>
              <a:ext cx="1797120" cy="24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0">
                    <a:noFill/>
                  </a:ln>
                  <a:solidFill>
                    <a:srgbClr val="98002e"/>
                  </a:solidFill>
                  <a:latin typeface="Arial Black"/>
                </a:rPr>
                <a:t>Impulse Response</a:t>
              </a:r>
              <a:endParaRPr b="0" lang="en-US" sz="1600" spc="1" strike="noStrike">
                <a:ln w="0">
                  <a:noFill/>
                </a:ln>
                <a:solidFill>
                  <a:srgbClr val="98002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6" name="WordArt 14"/>
            <p:cNvSpPr txBox="1"/>
            <p:nvPr/>
          </p:nvSpPr>
          <p:spPr>
            <a:xfrm>
              <a:off x="2356200" y="3601800"/>
              <a:ext cx="1269720" cy="21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0">
                    <a:noFill/>
                  </a:ln>
                  <a:solidFill>
                    <a:srgbClr val="98002e"/>
                  </a:solidFill>
                  <a:latin typeface="Arial Black"/>
                </a:rPr>
                <a:t>S-parameters</a:t>
              </a:r>
              <a:endParaRPr b="0" lang="en-US" sz="1600" spc="1" strike="noStrike">
                <a:ln w="0">
                  <a:noFill/>
                </a:ln>
                <a:solidFill>
                  <a:srgbClr val="98002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7" name="WordArt 15"/>
            <p:cNvSpPr txBox="1"/>
            <p:nvPr/>
          </p:nvSpPr>
          <p:spPr>
            <a:xfrm>
              <a:off x="1839960" y="4227480"/>
              <a:ext cx="1795680" cy="21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0">
                    <a:noFill/>
                  </a:ln>
                  <a:solidFill>
                    <a:srgbClr val="98002e"/>
                  </a:solidFill>
                  <a:latin typeface="Arial Black"/>
                </a:rPr>
                <a:t>SPICE Macro-modeling</a:t>
              </a:r>
              <a:endParaRPr b="0" lang="en-US" sz="1600" spc="1" strike="noStrike">
                <a:ln w="0">
                  <a:noFill/>
                </a:ln>
                <a:solidFill>
                  <a:srgbClr val="98002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8" name="WordArt 16"/>
            <p:cNvSpPr txBox="1"/>
            <p:nvPr/>
          </p:nvSpPr>
          <p:spPr>
            <a:xfrm>
              <a:off x="5451840" y="4260600"/>
              <a:ext cx="167616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0">
                    <a:noFill/>
                  </a:ln>
                  <a:solidFill>
                    <a:srgbClr val="98002e"/>
                  </a:solidFill>
                  <a:latin typeface="Arial Black"/>
                </a:rPr>
                <a:t>Transient Convolution</a:t>
              </a:r>
              <a:endParaRPr b="0" lang="en-US" sz="1600" spc="1" strike="noStrike">
                <a:ln w="0">
                  <a:noFill/>
                </a:ln>
                <a:solidFill>
                  <a:srgbClr val="98002e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9" name="AutoShape 17"/>
            <p:cNvSpPr/>
            <p:nvPr/>
          </p:nvSpPr>
          <p:spPr>
            <a:xfrm flipH="1" rot="16200000">
              <a:off x="3457800" y="3558600"/>
              <a:ext cx="1225080" cy="704880"/>
            </a:xfrm>
            <a:prstGeom prst="pie">
              <a:avLst/>
            </a:prstGeom>
            <a:gradFill rotWithShape="0">
              <a:gsLst>
                <a:gs pos="0">
                  <a:srgbClr val="005480"/>
                </a:gs>
                <a:gs pos="50000">
                  <a:srgbClr val="78bde8"/>
                </a:gs>
                <a:gs pos="100000">
                  <a:srgbClr val="0054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8"/>
            <p:cNvSpPr/>
            <p:nvPr/>
          </p:nvSpPr>
          <p:spPr>
            <a:xfrm rot="5400000">
              <a:off x="4426920" y="3562560"/>
              <a:ext cx="1225080" cy="706320"/>
            </a:xfrm>
            <a:prstGeom prst="pie">
              <a:avLst/>
            </a:prstGeom>
            <a:gradFill rotWithShape="0">
              <a:gsLst>
                <a:gs pos="0">
                  <a:srgbClr val="005480"/>
                </a:gs>
                <a:gs pos="50000">
                  <a:srgbClr val="78bde8"/>
                </a:gs>
                <a:gs pos="100000">
                  <a:srgbClr val="0054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19"/>
            <p:cNvSpPr/>
            <p:nvPr/>
          </p:nvSpPr>
          <p:spPr>
            <a:xfrm flipH="1" rot="16200000">
              <a:off x="3636360" y="3372840"/>
              <a:ext cx="512280" cy="373320"/>
            </a:xfrm>
            <a:prstGeom prst="pie">
              <a:avLst/>
            </a:prstGeom>
            <a:gradFill rotWithShape="0">
              <a:gsLst>
                <a:gs pos="0">
                  <a:srgbClr val="005480"/>
                </a:gs>
                <a:gs pos="50000">
                  <a:srgbClr val="78bde8"/>
                </a:gs>
                <a:gs pos="100000">
                  <a:srgbClr val="0054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20"/>
            <p:cNvSpPr/>
            <p:nvPr/>
          </p:nvSpPr>
          <p:spPr>
            <a:xfrm>
              <a:off x="2560680" y="3840120"/>
              <a:ext cx="243000" cy="361440"/>
            </a:xfrm>
            <a:prstGeom prst="downArrow">
              <a:avLst>
                <a:gd name="adj1" fmla="val 42861"/>
                <a:gd name="adj2" fmla="val 50523"/>
              </a:avLst>
            </a:prstGeom>
            <a:gradFill rotWithShape="0">
              <a:gsLst>
                <a:gs pos="0">
                  <a:srgbClr val="005480"/>
                </a:gs>
                <a:gs pos="50000">
                  <a:srgbClr val="78bde8"/>
                </a:gs>
                <a:gs pos="100000">
                  <a:srgbClr val="0054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21"/>
            <p:cNvSpPr/>
            <p:nvPr/>
          </p:nvSpPr>
          <p:spPr>
            <a:xfrm>
              <a:off x="3661200" y="3387600"/>
              <a:ext cx="2962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5480"/>
                  </a:solidFill>
                  <a:latin typeface="Arial"/>
                </a:rPr>
                <a:t>D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22"/>
            <p:cNvSpPr/>
            <p:nvPr/>
          </p:nvSpPr>
          <p:spPr>
            <a:xfrm>
              <a:off x="1459800" y="3887640"/>
              <a:ext cx="11224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5480"/>
                  </a:solidFill>
                  <a:latin typeface="Arial"/>
                </a:rPr>
                <a:t>Pole/Residue F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23"/>
            <p:cNvSpPr/>
            <p:nvPr/>
          </p:nvSpPr>
          <p:spPr>
            <a:xfrm>
              <a:off x="2912040" y="3887640"/>
              <a:ext cx="136944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5480"/>
                  </a:solidFill>
                  <a:latin typeface="Arial"/>
                </a:rPr>
                <a:t>Exponential Sum F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25"/>
          <p:cNvSpPr/>
          <p:nvPr/>
        </p:nvSpPr>
        <p:spPr>
          <a:xfrm>
            <a:off x="495360" y="4748040"/>
            <a:ext cx="822960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Need standard time domain file format for impuls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Allows interoperability and distribution of causal/passive impulse response obtained by our new approach or other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5480"/>
                </a:solidFill>
                <a:uFillTx/>
                <a:latin typeface="Arial"/>
              </a:rPr>
              <a:t>Eliminates EDA vendor-proprietary treatment of S-parameter con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Interconnect Model Exchange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03200" y="847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80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999"/>
              </a:lnSpc>
              <a:buClr>
                <a:srgbClr val="0054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S-parameters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999"/>
              </a:lnSpc>
              <a:buClr>
                <a:srgbClr val="0054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No standard simulation methodology results in variation of simulation results between different EDA tool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999"/>
              </a:lnSpc>
              <a:buClr>
                <a:srgbClr val="0054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Lumped SPICE models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999"/>
              </a:lnSpc>
              <a:buClr>
                <a:srgbClr val="0054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Difficult to extract for long and complex channel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999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80"/>
                </a:solidFill>
                <a:latin typeface="Arial"/>
              </a:rPr>
              <a:t>Future vision</a:t>
            </a: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999"/>
              </a:lnSpc>
              <a:buClr>
                <a:srgbClr val="0054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Multiport Impulse response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30800" y="3809880"/>
            <a:ext cx="7841880" cy="2122200"/>
            <a:chOff x="730800" y="3809880"/>
            <a:chExt cx="7841880" cy="2122200"/>
          </a:xfrm>
        </p:grpSpPr>
        <p:sp>
          <p:nvSpPr>
            <p:cNvPr id="540" name=""/>
            <p:cNvSpPr/>
            <p:nvPr/>
          </p:nvSpPr>
          <p:spPr>
            <a:xfrm>
              <a:off x="1019160" y="5300640"/>
              <a:ext cx="2279520" cy="587880"/>
            </a:xfrm>
            <a:prstGeom prst="ellipse">
              <a:avLst/>
            </a:prstGeom>
            <a:noFill/>
            <a:ln w="3816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51000" y="5171760"/>
              <a:ext cx="184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nector Vend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81000" y="4027320"/>
              <a:ext cx="2279880" cy="587160"/>
            </a:xfrm>
            <a:prstGeom prst="ellipse">
              <a:avLst/>
            </a:prstGeom>
            <a:noFill/>
            <a:ln w="3816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27320" y="3996360"/>
              <a:ext cx="1699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age Vend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1200" y="4636800"/>
              <a:ext cx="2914560" cy="663840"/>
            </a:xfrm>
            <a:prstGeom prst="rect">
              <a:avLst/>
            </a:prstGeom>
            <a:noFill/>
            <a:ln w="2844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0800" y="4562640"/>
              <a:ext cx="28994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ltiport ADS Impulse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24200" y="4604040"/>
              <a:ext cx="1352520" cy="674640"/>
            </a:xfrm>
            <a:prstGeom prst="rightArrow">
              <a:avLst>
                <a:gd name="adj1" fmla="val 50000"/>
                <a:gd name="adj2" fmla="val 50120"/>
              </a:avLst>
            </a:prstGeom>
            <a:noFill/>
            <a:ln w="2844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05520" y="4092480"/>
              <a:ext cx="1533240" cy="489960"/>
            </a:xfrm>
            <a:prstGeom prst="rect">
              <a:avLst/>
            </a:prstGeom>
            <a:noFill/>
            <a:ln w="2844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80840" y="3985200"/>
              <a:ext cx="9824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ICE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14880" y="4669560"/>
              <a:ext cx="1533600" cy="489240"/>
            </a:xfrm>
            <a:prstGeom prst="rect">
              <a:avLst/>
            </a:prstGeom>
            <a:noFill/>
            <a:ln w="2844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90200" y="4562640"/>
              <a:ext cx="9824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ICE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14880" y="5246280"/>
              <a:ext cx="1533600" cy="489960"/>
            </a:xfrm>
            <a:prstGeom prst="rect">
              <a:avLst/>
            </a:prstGeom>
            <a:noFill/>
            <a:ln w="2844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90920" y="5139360"/>
              <a:ext cx="1049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ICE 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58000" y="3809880"/>
              <a:ext cx="88920" cy="212220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55080 h 2122200"/>
                <a:gd name="textAreaBottom" fmla="*/ 2067120 h 21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51680" y="4562640"/>
              <a:ext cx="1521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milar 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7061040" y="4954680"/>
            <a:ext cx="2043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certai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8200" y="5707080"/>
            <a:ext cx="3769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or ensure the quality of the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EB2E-F4A6-4DAB-AE02-4C0E76EC65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ADS Time Domain Impulse Format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9800" y="83484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443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Easy to use: 2 simple step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44360" indent="-1443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80"/>
                </a:solidFill>
                <a:latin typeface="Arial"/>
              </a:rPr>
              <a:t>Create Impulse response from S-parameter ( connector and package vendors)</a:t>
            </a:r>
            <a:endParaRPr b="0" lang="en-US" sz="1600" spc="-1" strike="noStrike">
              <a:solidFill>
                <a:srgbClr val="005480"/>
              </a:solidFill>
              <a:latin typeface="Arial"/>
            </a:endParaRPr>
          </a:p>
          <a:p>
            <a:pPr marL="144360" indent="-1443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80"/>
                </a:solidFill>
                <a:latin typeface="Arial"/>
              </a:rPr>
              <a:t>Use impulse response within ED Tools</a:t>
            </a:r>
            <a:endParaRPr b="0" lang="en-US" sz="1600" spc="-1" strike="noStrike">
              <a:solidFill>
                <a:srgbClr val="00548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260360" y="2201760"/>
            <a:ext cx="2323800" cy="2611800"/>
            <a:chOff x="1260360" y="2201760"/>
            <a:chExt cx="2323800" cy="2611800"/>
          </a:xfrm>
        </p:grpSpPr>
        <p:sp>
          <p:nvSpPr>
            <p:cNvPr id="561" name="Text Box 17"/>
            <p:cNvSpPr/>
            <p:nvPr/>
          </p:nvSpPr>
          <p:spPr>
            <a:xfrm>
              <a:off x="1260360" y="2201760"/>
              <a:ext cx="2323800" cy="551160"/>
            </a:xfrm>
            <a:prstGeom prst="rect">
              <a:avLst/>
            </a:prstGeom>
            <a:noFill/>
            <a:ln w="936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5480"/>
                  </a:solidFill>
                  <a:latin typeface="Arial"/>
                </a:rPr>
                <a:t>S-paramet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7"/>
            <p:cNvSpPr/>
            <p:nvPr/>
          </p:nvSpPr>
          <p:spPr>
            <a:xfrm>
              <a:off x="1794240" y="3220920"/>
              <a:ext cx="1255320" cy="551160"/>
            </a:xfrm>
            <a:prstGeom prst="rect">
              <a:avLst/>
            </a:prstGeom>
            <a:noFill/>
            <a:ln w="3816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5480"/>
                  </a:solidFill>
                  <a:latin typeface="Arial"/>
                </a:rPr>
                <a:t>EDA To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7"/>
            <p:cNvSpPr/>
            <p:nvPr/>
          </p:nvSpPr>
          <p:spPr>
            <a:xfrm>
              <a:off x="1260360" y="4262400"/>
              <a:ext cx="2323800" cy="551160"/>
            </a:xfrm>
            <a:prstGeom prst="rect">
              <a:avLst/>
            </a:prstGeom>
            <a:noFill/>
            <a:ln w="936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5480"/>
                  </a:solidFill>
                  <a:latin typeface="Arial"/>
                </a:rPr>
                <a:t>Impulse Fil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73680" y="2768760"/>
              <a:ext cx="518400" cy="4302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95280" y="3835440"/>
              <a:ext cx="517680" cy="4176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5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17"/>
          <p:cNvSpPr/>
          <p:nvPr/>
        </p:nvSpPr>
        <p:spPr>
          <a:xfrm>
            <a:off x="5934240" y="2712960"/>
            <a:ext cx="2041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ep 1: input S-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5952960" y="3554280"/>
            <a:ext cx="2041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ep 2: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876840" y="2335320"/>
            <a:ext cx="21524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C3C1-EBC5-4D06-B435-8E31392705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5480"/>
                </a:solidFill>
                <a:latin typeface="Arial"/>
              </a:rPr>
              <a:t>Proposed ADS Impulse Response Format</a:t>
            </a:r>
            <a:endParaRPr b="0" lang="en-US" sz="3400" spc="-1" strike="noStrike">
              <a:solidFill>
                <a:srgbClr val="00548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236600" y="976320"/>
            <a:ext cx="7207560" cy="4783320"/>
            <a:chOff x="1236600" y="976320"/>
            <a:chExt cx="7207560" cy="4783320"/>
          </a:xfrm>
        </p:grpSpPr>
        <p:sp>
          <p:nvSpPr>
            <p:cNvPr id="572" name=""/>
            <p:cNvSpPr/>
            <p:nvPr/>
          </p:nvSpPr>
          <p:spPr>
            <a:xfrm>
              <a:off x="4610880" y="1220760"/>
              <a:ext cx="1883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upport S/Y/Z fo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23120" y="2097000"/>
              <a:ext cx="2957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uniform time step and time un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47600" y="2554200"/>
              <a:ext cx="1930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base delay of S(I,J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36800" y="2973240"/>
              <a:ext cx="2741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number of time point for S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" descr=""/>
            <p:cNvPicPr/>
            <p:nvPr/>
          </p:nvPicPr>
          <p:blipFill>
            <a:blip r:embed="rId1"/>
            <a:stretch/>
          </p:blipFill>
          <p:spPr>
            <a:xfrm>
              <a:off x="1236600" y="976320"/>
              <a:ext cx="3267000" cy="47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2336400" y="1562040"/>
              <a:ext cx="2133360" cy="1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39720" y="2450880"/>
              <a:ext cx="1117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47680" y="290808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3187440" y="3252600"/>
              <a:ext cx="3861720" cy="551160"/>
              <a:chOff x="3187440" y="3252600"/>
              <a:chExt cx="3861720" cy="551160"/>
            </a:xfrm>
          </p:grpSpPr>
          <p:sp>
            <p:nvSpPr>
              <p:cNvPr id="581" name=""/>
              <p:cNvSpPr/>
              <p:nvPr/>
            </p:nvSpPr>
            <p:spPr>
              <a:xfrm>
                <a:off x="3695040" y="3340080"/>
                <a:ext cx="761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32840" y="3252600"/>
                <a:ext cx="2416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impulse response of S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187440" y="3593880"/>
                <a:ext cx="12949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4636800" y="3646440"/>
              <a:ext cx="2741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number of time point for S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187440" y="3925800"/>
              <a:ext cx="3861720" cy="551160"/>
              <a:chOff x="3187440" y="3925800"/>
              <a:chExt cx="3861720" cy="551160"/>
            </a:xfrm>
          </p:grpSpPr>
          <p:sp>
            <p:nvSpPr>
              <p:cNvPr id="586" name=""/>
              <p:cNvSpPr/>
              <p:nvPr/>
            </p:nvSpPr>
            <p:spPr>
              <a:xfrm>
                <a:off x="3695040" y="4013280"/>
                <a:ext cx="761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32840" y="3925800"/>
                <a:ext cx="2416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impulse response of S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187440" y="4267080"/>
                <a:ext cx="12949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4232520" y="4751280"/>
              <a:ext cx="421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36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mpulse data is real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Data starts from delay time (0 before dela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Rectangle 3"/>
          <p:cNvSpPr/>
          <p:nvPr/>
        </p:nvSpPr>
        <p:spPr>
          <a:xfrm>
            <a:off x="482760" y="5737320"/>
            <a:ext cx="822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nitial version. Format is opened to mod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80"/>
                </a:solidFill>
                <a:latin typeface="Arial"/>
              </a:rPr>
              <a:t>S-parameter Simulation</a:t>
            </a:r>
            <a:endParaRPr b="0" lang="en-US" sz="2800" spc="-1" strike="noStrike">
              <a:solidFill>
                <a:srgbClr val="00548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681120" y="1317600"/>
            <a:ext cx="6372000" cy="276876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757600" y="1171440"/>
            <a:ext cx="1455480" cy="1011240"/>
          </a:xfrm>
          <a:custGeom>
            <a:avLst/>
            <a:gdLst/>
            <a:ahLst/>
            <a:rect l="l" t="t" r="r" b="b"/>
            <a:pathLst>
              <a:path w="1031" h="727">
                <a:moveTo>
                  <a:pt x="9" y="204"/>
                </a:moveTo>
                <a:cubicBezTo>
                  <a:pt x="53" y="132"/>
                  <a:pt x="97" y="60"/>
                  <a:pt x="213" y="36"/>
                </a:cubicBezTo>
                <a:cubicBezTo>
                  <a:pt x="329" y="12"/>
                  <a:pt x="578" y="12"/>
                  <a:pt x="705" y="60"/>
                </a:cubicBezTo>
                <a:cubicBezTo>
                  <a:pt x="832" y="108"/>
                  <a:pt x="938" y="234"/>
                  <a:pt x="975" y="324"/>
                </a:cubicBezTo>
                <a:cubicBezTo>
                  <a:pt x="1012" y="414"/>
                  <a:pt x="1031" y="538"/>
                  <a:pt x="927" y="600"/>
                </a:cubicBezTo>
                <a:cubicBezTo>
                  <a:pt x="823" y="662"/>
                  <a:pt x="500" y="727"/>
                  <a:pt x="351" y="696"/>
                </a:cubicBezTo>
                <a:cubicBezTo>
                  <a:pt x="202" y="665"/>
                  <a:pt x="66" y="530"/>
                  <a:pt x="33" y="414"/>
                </a:cubicBezTo>
                <a:cubicBezTo>
                  <a:pt x="0" y="298"/>
                  <a:pt x="76" y="149"/>
                  <a:pt x="153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05200" y="1039680"/>
            <a:ext cx="1501920" cy="5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uls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3" descr=""/>
          <p:cNvPicPr/>
          <p:nvPr/>
        </p:nvPicPr>
        <p:blipFill>
          <a:blip r:embed="rId2"/>
          <a:stretch/>
        </p:blipFill>
        <p:spPr>
          <a:xfrm>
            <a:off x="4067280" y="2857680"/>
            <a:ext cx="4643280" cy="32763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260280" y="4697280"/>
            <a:ext cx="454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-parameter simulation of impulse response can be compared with original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Cascaded Impulse Models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314280" y="1701720"/>
            <a:ext cx="8820360" cy="2536920"/>
          </a:xfrm>
          <a:prstGeom prst="rect">
            <a:avLst/>
          </a:prstGeom>
          <a:ln w="0">
            <a:noFill/>
          </a:ln>
        </p:spPr>
      </p:pic>
      <p:grpSp>
        <p:nvGrpSpPr>
          <p:cNvPr id="600" name=""/>
          <p:cNvGrpSpPr/>
          <p:nvPr/>
        </p:nvGrpSpPr>
        <p:grpSpPr>
          <a:xfrm>
            <a:off x="3219120" y="1847880"/>
            <a:ext cx="1524240" cy="114120"/>
            <a:chOff x="3219120" y="1847880"/>
            <a:chExt cx="1524240" cy="114120"/>
          </a:xfrm>
        </p:grpSpPr>
        <p:sp>
          <p:nvSpPr>
            <p:cNvPr id="601" name=""/>
            <p:cNvSpPr/>
            <p:nvPr/>
          </p:nvSpPr>
          <p:spPr>
            <a:xfrm>
              <a:off x="3228840" y="1847880"/>
              <a:ext cx="1514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3219120" y="1962000"/>
              <a:ext cx="1485720" cy="0"/>
            </a:xfrm>
            <a:prstGeom prst="line">
              <a:avLst/>
            </a:prstGeom>
            <a:ln w="9360">
              <a:solidFill>
                <a:srgbClr val="9800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3029040" y="2333520"/>
            <a:ext cx="2361600" cy="133200"/>
            <a:chOff x="3029040" y="2333520"/>
            <a:chExt cx="2361600" cy="133200"/>
          </a:xfrm>
        </p:grpSpPr>
        <p:sp>
          <p:nvSpPr>
            <p:cNvPr id="604" name=""/>
            <p:cNvSpPr/>
            <p:nvPr/>
          </p:nvSpPr>
          <p:spPr>
            <a:xfrm>
              <a:off x="3043440" y="2333520"/>
              <a:ext cx="234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3029040" y="2466720"/>
              <a:ext cx="2302560" cy="0"/>
            </a:xfrm>
            <a:prstGeom prst="line">
              <a:avLst/>
            </a:prstGeom>
            <a:ln w="9360">
              <a:solidFill>
                <a:srgbClr val="9800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762160" y="2000160"/>
            <a:ext cx="819360" cy="104760"/>
            <a:chOff x="5762160" y="2000160"/>
            <a:chExt cx="819360" cy="104760"/>
          </a:xfrm>
        </p:grpSpPr>
        <p:sp>
          <p:nvSpPr>
            <p:cNvPr id="607" name=""/>
            <p:cNvSpPr/>
            <p:nvPr/>
          </p:nvSpPr>
          <p:spPr>
            <a:xfrm>
              <a:off x="5767200" y="2000160"/>
              <a:ext cx="814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762160" y="2104920"/>
              <a:ext cx="798840" cy="0"/>
            </a:xfrm>
            <a:prstGeom prst="line">
              <a:avLst/>
            </a:prstGeom>
            <a:ln w="9360">
              <a:solidFill>
                <a:srgbClr val="9800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1114560" y="2019240"/>
            <a:ext cx="818640" cy="104760"/>
            <a:chOff x="1114560" y="2019240"/>
            <a:chExt cx="818640" cy="104760"/>
          </a:xfrm>
        </p:grpSpPr>
        <p:sp>
          <p:nvSpPr>
            <p:cNvPr id="610" name=""/>
            <p:cNvSpPr/>
            <p:nvPr/>
          </p:nvSpPr>
          <p:spPr>
            <a:xfrm>
              <a:off x="1119240" y="2019240"/>
              <a:ext cx="813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1114560" y="2124000"/>
              <a:ext cx="798480" cy="0"/>
            </a:xfrm>
            <a:prstGeom prst="line">
              <a:avLst/>
            </a:prstGeom>
            <a:ln w="9360">
              <a:solidFill>
                <a:srgbClr val="9800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926640" y="4240080"/>
            <a:ext cx="659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reflections, crosstalk, insertion loss are accounted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voltage and current at every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frequency, time and envelope domain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7061-5F43-4BC2-BCAF-A9906854BB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5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5480"/>
                </a:solidFill>
                <a:latin typeface="Arial"/>
              </a:rPr>
              <a:t>Summary</a:t>
            </a:r>
            <a:endParaRPr b="0" lang="en-US" sz="34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31640" y="1092240"/>
            <a:ext cx="82296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80"/>
                </a:solidFill>
                <a:latin typeface="Arial"/>
              </a:rPr>
              <a:t>Fundamental difficulties due to causality and passivity in impulse response calculations and effects on time domain convolution</a:t>
            </a: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80"/>
                </a:solidFill>
                <a:latin typeface="Arial"/>
              </a:rPr>
              <a:t>New approach for accurate and causal impulse calculation from band-limited spectrum</a:t>
            </a: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80"/>
                </a:solidFill>
                <a:latin typeface="Arial"/>
              </a:rPr>
              <a:t>Validation in various SI applications</a:t>
            </a: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80"/>
                </a:solidFill>
                <a:latin typeface="Arial"/>
              </a:rPr>
              <a:t>Propose a new impulse response model methodology</a:t>
            </a: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80"/>
                </a:solidFill>
                <a:latin typeface="Arial"/>
              </a:rPr>
              <a:t>Need for time domain data format of impulse files</a:t>
            </a: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914400" y="2092320"/>
            <a:ext cx="501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589120" y="298944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6"/>
          <p:cNvSpPr/>
          <p:nvPr/>
        </p:nvSpPr>
        <p:spPr>
          <a:xfrm>
            <a:off x="1928880" y="2917800"/>
            <a:ext cx="1165320" cy="2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"/>
          <p:cNvSpPr/>
          <p:nvPr/>
        </p:nvSpPr>
        <p:spPr>
          <a:xfrm>
            <a:off x="2128680" y="3419640"/>
            <a:ext cx="1403640" cy="338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C341-94D9-4956-BACF-9D0CB4679D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053040" y="2509920"/>
            <a:ext cx="2530440" cy="1412640"/>
          </a:xfrm>
          <a:prstGeom prst="rect">
            <a:avLst/>
          </a:prstGeom>
          <a:solidFill>
            <a:srgbClr val="78bde8"/>
          </a:solidFill>
          <a:ln w="9360">
            <a:solidFill>
              <a:srgbClr val="78b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3381480" y="2514600"/>
            <a:ext cx="1800000" cy="1181160"/>
          </a:xfrm>
          <a:prstGeom prst="rect">
            <a:avLst/>
          </a:prstGeom>
          <a:solidFill>
            <a:srgbClr val="78bde8"/>
          </a:solidFill>
          <a:ln w="9360">
            <a:solidFill>
              <a:srgbClr val="78b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87520" y="2484360"/>
            <a:ext cx="1900080" cy="1201680"/>
          </a:xfrm>
          <a:prstGeom prst="rect">
            <a:avLst/>
          </a:prstGeom>
          <a:solidFill>
            <a:srgbClr val="78bde8"/>
          </a:solidFill>
          <a:ln w="9360">
            <a:solidFill>
              <a:srgbClr val="78b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Passive Component Models: Modern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9800" y="762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56960" indent="-1569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Scattering parameters (S-parameters)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Measurable by modern vector network analyzers (VNAs) with or without device under test (DUT) fixturing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Generated by parametric equations, 2D field solvers (frequency-dependant RLGC tables), 2.5D field solvers, and 3D full-wave field solver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69800" y="3657600"/>
            <a:ext cx="83502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Advantage: Frequency-domain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Flexible…can be directly used with linear simulations and de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Accurate…frequency-dependant losses and higher-order mode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Portable…can be transferred between simulators using Touchstone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Disadvantage: Time-domain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Must be converted to pole/residue macro-models or impulses for SI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Conversion to impulse data requires significant expertise (more than iD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Many SI engineers struggling to use S-parameters efficiently in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49360" y="2446200"/>
            <a:ext cx="1888920" cy="119232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sp>
        <p:nvSpPr>
          <p:cNvPr id="152" name="AutoShape 8"/>
          <p:cNvSpPr/>
          <p:nvPr/>
        </p:nvSpPr>
        <p:spPr>
          <a:xfrm>
            <a:off x="2584440" y="2900520"/>
            <a:ext cx="647640" cy="323640"/>
          </a:xfrm>
          <a:prstGeom prst="right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005480"/>
              </a:gs>
              <a:gs pos="50000">
                <a:srgbClr val="78bde8"/>
              </a:gs>
              <a:gs pos="100000">
                <a:srgbClr val="0054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"/>
          <p:cNvPicPr/>
          <p:nvPr/>
        </p:nvPicPr>
        <p:blipFill>
          <a:blip r:embed="rId2"/>
          <a:stretch/>
        </p:blipFill>
        <p:spPr>
          <a:xfrm>
            <a:off x="3295800" y="2448000"/>
            <a:ext cx="1828800" cy="119844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pic>
        <p:nvPicPr>
          <p:cNvPr id="154" name="Picture 13" descr=""/>
          <p:cNvPicPr/>
          <p:nvPr/>
        </p:nvPicPr>
        <p:blipFill>
          <a:blip r:embed="rId3"/>
          <a:stretch/>
        </p:blipFill>
        <p:spPr>
          <a:xfrm>
            <a:off x="6004080" y="2452680"/>
            <a:ext cx="2531880" cy="142884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sp>
        <p:nvSpPr>
          <p:cNvPr id="155" name="AutoShape 15"/>
          <p:cNvSpPr/>
          <p:nvPr/>
        </p:nvSpPr>
        <p:spPr>
          <a:xfrm flipH="1">
            <a:off x="5255640" y="2895480"/>
            <a:ext cx="647640" cy="324000"/>
          </a:xfrm>
          <a:prstGeom prst="right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005480"/>
              </a:gs>
              <a:gs pos="50000">
                <a:srgbClr val="78bde8"/>
              </a:gs>
              <a:gs pos="100000">
                <a:srgbClr val="0054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2F23-CAC4-46C3-B56E-CC74F812FF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9440" y="838080"/>
            <a:ext cx="829332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Generic SPICE (i.e. Berkeley SPICE v3): Can only solve transient simulations through time-stepping of differential equations from ‘traditional’ elements – must convert S-parameters into lumped element circuits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Genetic algorithms: Given a structure, can determine lumped element values that will fit given S-parameters…difficult to know structure ahead of time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Macro-modeling: ‘Vectfit’ procedure fits S-parameters to a pole/residue function, passivity is enforced, and a lumped element circuit is produced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Laplace domain simulat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Uses recursive convolution (usually faster than time integration of the lumped element approximation) to evaluate the model i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Pole/residue (1), pole/zero (2) or rational polynomial (3) form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746440" y="2000160"/>
            <a:ext cx="3659040" cy="657360"/>
          </a:xfrm>
          <a:prstGeom prst="rect">
            <a:avLst/>
          </a:prstGeom>
          <a:solidFill>
            <a:srgbClr val="78bde8"/>
          </a:solidFill>
          <a:ln w="9360">
            <a:solidFill>
              <a:srgbClr val="78b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Simulation Tools: Traditional SPICE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615960" y="5518080"/>
                <a:ext cx="1295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692760" y="5518080"/>
                <a:ext cx="1752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2244600" y="5518080"/>
                <a:ext cx="4130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Text Box 12"/>
          <p:cNvSpPr/>
          <p:nvPr/>
        </p:nvSpPr>
        <p:spPr>
          <a:xfrm>
            <a:off x="1886040" y="5530680"/>
            <a:ext cx="304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6324480" y="5530680"/>
            <a:ext cx="38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8420040" y="5530680"/>
            <a:ext cx="30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5" descr=""/>
          <p:cNvPicPr/>
          <p:nvPr/>
        </p:nvPicPr>
        <p:blipFill>
          <a:blip r:embed="rId1"/>
          <a:stretch/>
        </p:blipFill>
        <p:spPr>
          <a:xfrm>
            <a:off x="2716200" y="1971720"/>
            <a:ext cx="3645000" cy="64764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C866-5E0E-48D1-93BF-08FAAF7E17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059440" y="1327320"/>
            <a:ext cx="3564000" cy="931680"/>
          </a:xfrm>
          <a:prstGeom prst="rect">
            <a:avLst/>
          </a:prstGeom>
          <a:solidFill>
            <a:srgbClr val="78bde8"/>
          </a:solidFill>
          <a:ln w="9360">
            <a:solidFill>
              <a:srgbClr val="78b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5045040" y="3208320"/>
            <a:ext cx="3692520" cy="2732040"/>
          </a:xfrm>
          <a:prstGeom prst="rect">
            <a:avLst/>
          </a:prstGeom>
          <a:solidFill>
            <a:srgbClr val="78bde8"/>
          </a:solidFill>
          <a:ln w="9360">
            <a:solidFill>
              <a:srgbClr val="78b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Simulation Tools: Custom &amp; Commercial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9440" y="802800"/>
            <a:ext cx="45450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Math programming languages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Frequency-domain multiplicat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Take DFT of source waveform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Multiply by system S-parameter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Take iDFT of result to get output</a:t>
            </a:r>
            <a:r>
              <a:rPr b="0" lang="en-US" sz="1800" spc="-1" strike="noStrike">
                <a:solidFill>
                  <a:srgbClr val="98002e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Time-domain convolut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Take iDFT of system S-parameters</a:t>
            </a:r>
            <a:r>
              <a:rPr b="0" lang="en-US" sz="1800" spc="-1" strike="noStrike">
                <a:solidFill>
                  <a:srgbClr val="98002e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Convolve with source waveform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0">
              <a:lnSpc>
                <a:spcPts val="2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Commercial tools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Advanced algorithms to complete S-parameter-to-impulse response conversion, along with convolut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Passivity and causality are enforced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Data validity maintained to Fmax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69800" y="592128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002e"/>
                </a:solidFill>
                <a:latin typeface="Arial"/>
              </a:rPr>
              <a:t>*Completing a valid iDFT of band-limited S-parameters is not a trivial task (will be sh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4987800" y="3151080"/>
            <a:ext cx="3703680" cy="274320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sp>
        <p:nvSpPr>
          <p:cNvPr id="174" name="AutoShape 10"/>
          <p:cNvSpPr/>
          <p:nvPr/>
        </p:nvSpPr>
        <p:spPr>
          <a:xfrm>
            <a:off x="4433760" y="3629160"/>
            <a:ext cx="507960" cy="379440"/>
          </a:xfrm>
          <a:prstGeom prst="pie">
            <a:avLst/>
          </a:prstGeom>
          <a:gradFill rotWithShape="0">
            <a:gsLst>
              <a:gs pos="0">
                <a:srgbClr val="005480"/>
              </a:gs>
              <a:gs pos="50000">
                <a:srgbClr val="78bde8"/>
              </a:gs>
              <a:gs pos="100000">
                <a:srgbClr val="0054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4403880" y="1636560"/>
            <a:ext cx="527040" cy="249480"/>
          </a:xfrm>
          <a:prstGeom prst="rightArrow">
            <a:avLst>
              <a:gd name="adj1" fmla="val 50000"/>
              <a:gd name="adj2" fmla="val 52814"/>
            </a:avLst>
          </a:prstGeom>
          <a:gradFill rotWithShape="0">
            <a:gsLst>
              <a:gs pos="0">
                <a:srgbClr val="005480"/>
              </a:gs>
              <a:gs pos="50000">
                <a:srgbClr val="78bde8"/>
              </a:gs>
              <a:gs pos="100000">
                <a:srgbClr val="0054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2" descr=""/>
          <p:cNvPicPr/>
          <p:nvPr/>
        </p:nvPicPr>
        <p:blipFill>
          <a:blip r:embed="rId2"/>
          <a:stretch/>
        </p:blipFill>
        <p:spPr>
          <a:xfrm>
            <a:off x="5021280" y="1281240"/>
            <a:ext cx="3556080" cy="93960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08AC-2510-456D-B113-5EDB0F4371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494240" y="1273320"/>
            <a:ext cx="4292640" cy="2879640"/>
          </a:xfrm>
          <a:prstGeom prst="rect">
            <a:avLst/>
          </a:prstGeom>
          <a:solidFill>
            <a:srgbClr val="78bde8"/>
          </a:solidFill>
          <a:ln w="9360">
            <a:solidFill>
              <a:srgbClr val="78b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Simulation Tools: Method Summary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9800" y="914040"/>
            <a:ext cx="394344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Macro-modeling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Pole-residue curve fit and passification for all frequencie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Produces strictly causal and passive models for SPICE usage 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Difficulties: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Consistent passificat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2" marL="530280" indent="-18252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Time-domain data validity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4422600" y="1179360"/>
            <a:ext cx="4322880" cy="29419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469800" y="4100400"/>
            <a:ext cx="8229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Transient conv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Must have accurate impulse responses to complet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One must overcome iDFT difficulties to compute impulse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69800" y="5126040"/>
            <a:ext cx="82296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500"/>
              </a:lnSpc>
              <a:buClr>
                <a:srgbClr val="980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002e"/>
                </a:solidFill>
                <a:latin typeface="Arial"/>
              </a:rPr>
              <a:t>The focus of this paper will be on transient con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9800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002e"/>
                </a:solidFill>
                <a:latin typeface="Arial"/>
                <a:ea typeface="Arial"/>
              </a:rPr>
              <a:t>Converting band-limited S-parameters to causal, passive impu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9800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002e"/>
                </a:solidFill>
                <a:latin typeface="Arial"/>
                <a:ea typeface="Arial"/>
              </a:rPr>
              <a:t>Discussing a standard impulse response file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06CE-A9EE-46B1-A686-CDB266B1EF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3581280" y="4275000"/>
            <a:ext cx="4907160" cy="100332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3583080" y="5229360"/>
            <a:ext cx="4906800" cy="100332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649440" y="3341520"/>
            <a:ext cx="2490480" cy="110196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9800" y="839880"/>
            <a:ext cx="8266320" cy="13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56960" indent="-1569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If one has the impulse response, convolution is simple to accomplish: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Consistent impulse response time steps make convolution easier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lvl="1" marL="342360" indent="-18360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Separated ‘base delay’ makes convolution more efficient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  <a:p>
            <a:pPr marL="156960" indent="-1569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80"/>
                </a:solidFill>
                <a:latin typeface="Arial"/>
              </a:rPr>
              <a:t>Convolution can then be easily coded by doing the following:</a:t>
            </a:r>
            <a:endParaRPr b="0" lang="en-US" sz="20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27120" y="2284560"/>
            <a:ext cx="2509920" cy="91440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Impulse Response Advantages: Convolution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598320" y="2233440"/>
            <a:ext cx="2494080" cy="91620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sp>
        <p:nvSpPr>
          <p:cNvPr id="192" name="Rectangle 9"/>
          <p:cNvSpPr/>
          <p:nvPr/>
        </p:nvSpPr>
        <p:spPr>
          <a:xfrm>
            <a:off x="804960" y="2284560"/>
            <a:ext cx="1128600" cy="7095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2170080" y="2287440"/>
            <a:ext cx="876240" cy="709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"/>
          <p:cNvPicPr/>
          <p:nvPr/>
        </p:nvPicPr>
        <p:blipFill>
          <a:blip r:embed="rId2"/>
          <a:stretch/>
        </p:blipFill>
        <p:spPr>
          <a:xfrm>
            <a:off x="601560" y="3284640"/>
            <a:ext cx="2479680" cy="111132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sp>
        <p:nvSpPr>
          <p:cNvPr id="195" name="Rectangle 17"/>
          <p:cNvSpPr/>
          <p:nvPr/>
        </p:nvSpPr>
        <p:spPr>
          <a:xfrm>
            <a:off x="3186000" y="2192400"/>
            <a:ext cx="538164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5960" indent="-185760">
              <a:lnSpc>
                <a:spcPts val="1500"/>
              </a:lnSpc>
              <a:buClr>
                <a:srgbClr val="9800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2e"/>
                </a:solidFill>
                <a:latin typeface="Arial"/>
                <a:ea typeface="Arial"/>
              </a:rPr>
              <a:t>Reduce the impulse response to its shortest lengt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30280" indent="-182520">
              <a:lnSpc>
                <a:spcPts val="1500"/>
              </a:lnSpc>
              <a:buClr>
                <a:srgbClr val="980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2e"/>
                </a:solidFill>
                <a:latin typeface="Arial"/>
                <a:ea typeface="Arial"/>
              </a:rPr>
              <a:t>Remove all zero points before the impulse ‘base delay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30280" indent="-182520">
              <a:lnSpc>
                <a:spcPts val="1500"/>
              </a:lnSpc>
              <a:buClr>
                <a:srgbClr val="980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2e"/>
                </a:solidFill>
                <a:latin typeface="Arial"/>
                <a:ea typeface="Arial"/>
              </a:rPr>
              <a:t>Remove all zero points after the impulse has sett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1500"/>
              </a:lnSpc>
              <a:buClr>
                <a:srgbClr val="9800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2e"/>
                </a:solidFill>
                <a:latin typeface="Arial"/>
                <a:ea typeface="Arial"/>
              </a:rPr>
              <a:t>Mirror the shortened impulse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1500"/>
              </a:lnSpc>
              <a:buClr>
                <a:srgbClr val="9800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2e"/>
                </a:solidFill>
                <a:latin typeface="Arial"/>
                <a:ea typeface="Arial"/>
              </a:rPr>
              <a:t>Generate the input waveform (same time steps as impu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1500"/>
              </a:lnSpc>
              <a:buClr>
                <a:srgbClr val="9800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2e"/>
                </a:solidFill>
                <a:latin typeface="Arial"/>
                <a:ea typeface="Arial"/>
              </a:rPr>
              <a:t>Complete transient convolu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30280" indent="-182520">
              <a:lnSpc>
                <a:spcPts val="1500"/>
              </a:lnSpc>
              <a:buClr>
                <a:srgbClr val="980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2e"/>
                </a:solidFill>
                <a:latin typeface="Arial"/>
                <a:ea typeface="Arial"/>
              </a:rPr>
              <a:t>Step the impulse through the input wav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30280" indent="-182520">
              <a:lnSpc>
                <a:spcPts val="1500"/>
              </a:lnSpc>
              <a:buClr>
                <a:srgbClr val="980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2e"/>
                </a:solidFill>
                <a:latin typeface="Arial"/>
                <a:ea typeface="Arial"/>
              </a:rPr>
              <a:t>Multiply all overlapping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30280" indent="-182520">
              <a:lnSpc>
                <a:spcPts val="1500"/>
              </a:lnSpc>
              <a:buClr>
                <a:srgbClr val="980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2e"/>
                </a:solidFill>
                <a:latin typeface="Arial"/>
                <a:ea typeface="Arial"/>
              </a:rPr>
              <a:t>Add the multiplication results to get the output at each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1500"/>
              </a:lnSpc>
              <a:buClr>
                <a:srgbClr val="9800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8002e"/>
                </a:solidFill>
                <a:latin typeface="Arial"/>
                <a:ea typeface="Arial"/>
              </a:rPr>
              <a:t>Shift the output waveform forward in time by the ‘base delay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8" descr=""/>
          <p:cNvPicPr/>
          <p:nvPr/>
        </p:nvPicPr>
        <p:blipFill>
          <a:blip r:embed="rId3"/>
          <a:stretch/>
        </p:blipFill>
        <p:spPr>
          <a:xfrm>
            <a:off x="3548160" y="5194440"/>
            <a:ext cx="4894200" cy="99036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p:sp>
        <p:nvSpPr>
          <p:cNvPr id="197" name="AutoShape 21"/>
          <p:cNvSpPr/>
          <p:nvPr/>
        </p:nvSpPr>
        <p:spPr>
          <a:xfrm flipV="1">
            <a:off x="2779560" y="4504680"/>
            <a:ext cx="727200" cy="401400"/>
          </a:xfrm>
          <a:prstGeom prst="pie">
            <a:avLst/>
          </a:prstGeom>
          <a:gradFill rotWithShape="0">
            <a:gsLst>
              <a:gs pos="0">
                <a:srgbClr val="005480"/>
              </a:gs>
              <a:gs pos="50000">
                <a:srgbClr val="78bde8"/>
              </a:gs>
              <a:gs pos="100000">
                <a:srgbClr val="0054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2" descr=""/>
          <p:cNvPicPr/>
          <p:nvPr/>
        </p:nvPicPr>
        <p:blipFill>
          <a:blip r:embed="rId4"/>
          <a:stretch/>
        </p:blipFill>
        <p:spPr>
          <a:xfrm>
            <a:off x="3548160" y="4240080"/>
            <a:ext cx="4894200" cy="949320"/>
          </a:xfrm>
          <a:prstGeom prst="rect">
            <a:avLst/>
          </a:prstGeom>
          <a:ln w="9360">
            <a:solidFill>
              <a:srgbClr val="00548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99" name="Object 23"/>
              <p:cNvSpPr txBox="1"/>
              <p:nvPr/>
            </p:nvSpPr>
            <p:spPr>
              <a:xfrm>
                <a:off x="628560" y="5110200"/>
                <a:ext cx="2533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8153280" y="6477120"/>
            <a:ext cx="57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B9B2-59FD-415F-80AA-CFF4546113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9800" y="2091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80"/>
                </a:solidFill>
                <a:latin typeface="Arial"/>
              </a:rPr>
              <a:t>Impulse Response Advantages: Conversion</a:t>
            </a:r>
            <a:endParaRPr b="0" lang="en-US" sz="32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800" y="83988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mpulses can be easily converted to S-parameters using a DFT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f impulse has settled (starts/ends at 0 volts), there are few transform issue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S-parameters can be determined up to F</a:t>
            </a:r>
            <a:r>
              <a:rPr b="0" lang="en-US" sz="1800" spc="-1" strike="noStrike" baseline="-25000">
                <a:solidFill>
                  <a:srgbClr val="00548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=1 / (2*T</a:t>
            </a:r>
            <a:r>
              <a:rPr b="0" lang="en-US" sz="1800" spc="-1" strike="noStrike" baseline="-25000">
                <a:solidFill>
                  <a:srgbClr val="005480"/>
                </a:solidFill>
                <a:latin typeface="Arial"/>
              </a:rPr>
              <a:t>step</a:t>
            </a: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mpulse can be zero-padded to get any desired frequency resolution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mpulse can be used to generate SPICE macro-model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Sum of exponentials approximation can be used to get models directly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Pole/residue approximation of S-parameters can be used to get models</a:t>
            </a:r>
            <a:endParaRPr b="0" lang="en-US" sz="1800" spc="-1" strike="noStrike">
              <a:solidFill>
                <a:srgbClr val="005480"/>
              </a:solidFill>
              <a:latin typeface="Arial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1546200" y="3276720"/>
            <a:ext cx="5846760" cy="1697040"/>
          </a:xfrm>
          <a:prstGeom prst="rect">
            <a:avLst/>
          </a:prstGeom>
          <a:solidFill>
            <a:srgbClr val="78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1488960" y="3228840"/>
            <a:ext cx="5854680" cy="168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5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3672000" y="3321000"/>
            <a:ext cx="179676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98002e"/>
                </a:solidFill>
                <a:latin typeface="Arial Black"/>
              </a:rPr>
              <a:t>Impulse Response</a:t>
            </a:r>
            <a:endParaRPr b="0" lang="en-US" sz="1600" spc="1" strike="noStrike">
              <a:ln w="0">
                <a:noFill/>
              </a:ln>
              <a:solidFill>
                <a:srgbClr val="98002e"/>
              </a:solidFill>
              <a:latin typeface="Arial Black"/>
              <a:ea typeface="Arial Black"/>
            </a:endParaRPr>
          </a:p>
        </p:txBody>
      </p:sp>
      <p:sp>
        <p:nvSpPr>
          <p:cNvPr id="206" name="WordArt 8"/>
          <p:cNvSpPr txBox="1"/>
          <p:nvPr/>
        </p:nvSpPr>
        <p:spPr>
          <a:xfrm>
            <a:off x="2419200" y="3894120"/>
            <a:ext cx="1270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98002e"/>
                </a:solidFill>
                <a:latin typeface="Arial Black"/>
              </a:rPr>
              <a:t>S-parameters</a:t>
            </a:r>
            <a:endParaRPr b="0" lang="en-US" sz="1600" spc="1" strike="noStrike">
              <a:ln w="0">
                <a:noFill/>
              </a:ln>
              <a:solidFill>
                <a:srgbClr val="98002e"/>
              </a:solidFill>
              <a:latin typeface="Arial Black"/>
              <a:ea typeface="Arial Black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1903320" y="4519440"/>
            <a:ext cx="179568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98002e"/>
                </a:solidFill>
                <a:latin typeface="Arial Black"/>
              </a:rPr>
              <a:t>SPICE Macro-modeling</a:t>
            </a:r>
            <a:endParaRPr b="0" lang="en-US" sz="1600" spc="1" strike="noStrike">
              <a:ln w="0">
                <a:noFill/>
              </a:ln>
              <a:solidFill>
                <a:srgbClr val="98002e"/>
              </a:solidFill>
              <a:latin typeface="Arial Black"/>
              <a:ea typeface="Arial Black"/>
            </a:endParaRPr>
          </a:p>
        </p:txBody>
      </p:sp>
      <p:sp>
        <p:nvSpPr>
          <p:cNvPr id="208" name="WordArt 10"/>
          <p:cNvSpPr txBox="1"/>
          <p:nvPr/>
        </p:nvSpPr>
        <p:spPr>
          <a:xfrm>
            <a:off x="5514840" y="4552920"/>
            <a:ext cx="167652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98002e"/>
                </a:solidFill>
                <a:latin typeface="Arial Black"/>
              </a:rPr>
              <a:t>Transient Convolution</a:t>
            </a:r>
            <a:endParaRPr b="0" lang="en-US" sz="1600" spc="1" strike="noStrike">
              <a:ln w="0">
                <a:noFill/>
              </a:ln>
              <a:solidFill>
                <a:srgbClr val="98002e"/>
              </a:solidFill>
              <a:latin typeface="Arial Black"/>
              <a:ea typeface="Arial Black"/>
            </a:endParaRPr>
          </a:p>
        </p:txBody>
      </p:sp>
      <p:sp>
        <p:nvSpPr>
          <p:cNvPr id="209" name="AutoShape 15"/>
          <p:cNvSpPr/>
          <p:nvPr/>
        </p:nvSpPr>
        <p:spPr>
          <a:xfrm flipH="1" rot="16200000">
            <a:off x="3521160" y="3851280"/>
            <a:ext cx="1225440" cy="704880"/>
          </a:xfrm>
          <a:prstGeom prst="pie">
            <a:avLst/>
          </a:prstGeom>
          <a:gradFill rotWithShape="0">
            <a:gsLst>
              <a:gs pos="0">
                <a:srgbClr val="005480"/>
              </a:gs>
              <a:gs pos="50000">
                <a:srgbClr val="78bde8"/>
              </a:gs>
              <a:gs pos="100000">
                <a:srgbClr val="0054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 rot="5400000">
            <a:off x="4490280" y="3855240"/>
            <a:ext cx="1225440" cy="706320"/>
          </a:xfrm>
          <a:prstGeom prst="pie">
            <a:avLst/>
          </a:prstGeom>
          <a:gradFill rotWithShape="0">
            <a:gsLst>
              <a:gs pos="0">
                <a:srgbClr val="005480"/>
              </a:gs>
              <a:gs pos="50000">
                <a:srgbClr val="78bde8"/>
              </a:gs>
              <a:gs pos="100000">
                <a:srgbClr val="0054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7"/>
          <p:cNvSpPr/>
          <p:nvPr/>
        </p:nvSpPr>
        <p:spPr>
          <a:xfrm flipH="1" rot="16200000">
            <a:off x="3700440" y="3665520"/>
            <a:ext cx="512640" cy="372960"/>
          </a:xfrm>
          <a:prstGeom prst="pie">
            <a:avLst/>
          </a:prstGeom>
          <a:gradFill rotWithShape="0">
            <a:gsLst>
              <a:gs pos="0">
                <a:srgbClr val="005480"/>
              </a:gs>
              <a:gs pos="50000">
                <a:srgbClr val="78bde8"/>
              </a:gs>
              <a:gs pos="100000">
                <a:srgbClr val="0054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2624040" y="4132440"/>
            <a:ext cx="243000" cy="361800"/>
          </a:xfrm>
          <a:prstGeom prst="downArrow">
            <a:avLst>
              <a:gd name="adj1" fmla="val 42861"/>
              <a:gd name="adj2" fmla="val 50574"/>
            </a:avLst>
          </a:prstGeom>
          <a:gradFill rotWithShape="0">
            <a:gsLst>
              <a:gs pos="0">
                <a:srgbClr val="005480"/>
              </a:gs>
              <a:gs pos="50000">
                <a:srgbClr val="78bde8"/>
              </a:gs>
              <a:gs pos="100000">
                <a:srgbClr val="0054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3724560" y="3679920"/>
            <a:ext cx="2962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80"/>
                </a:solidFill>
                <a:latin typeface="Arial"/>
              </a:rPr>
              <a:t>D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1523160" y="4179960"/>
            <a:ext cx="11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80"/>
                </a:solidFill>
                <a:latin typeface="Arial"/>
              </a:rPr>
              <a:t>Pole/Residue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2975400" y="4179960"/>
            <a:ext cx="1369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80"/>
                </a:solidFill>
                <a:latin typeface="Arial"/>
              </a:rPr>
              <a:t>Exponential Sum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469800" y="4940280"/>
            <a:ext cx="83502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 indent="-158760">
              <a:lnSpc>
                <a:spcPts val="2500"/>
              </a:lnSpc>
              <a:buClr>
                <a:srgbClr val="005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</a:rPr>
              <a:t>Impulse response models represent ‘golden source’ for mode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Impulse response model can be directly used in math tool con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85760">
              <a:lnSpc>
                <a:spcPts val="2500"/>
              </a:lnSpc>
              <a:buClr>
                <a:srgbClr val="0054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80"/>
                </a:solidFill>
                <a:latin typeface="Arial"/>
                <a:ea typeface="Arial"/>
              </a:rPr>
              <a:t>EDA tools should easily be able to handle an impulse respons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9:46:55Z</dcterms:created>
  <dc:creator>andrew johnson</dc:creator>
  <dc:description/>
  <dc:language>en-US</dc:language>
  <cp:lastModifiedBy>US041383</cp:lastModifiedBy>
  <dcterms:modified xsi:type="dcterms:W3CDTF">2008-02-07T17:53:57Z</dcterms:modified>
  <cp:revision>414</cp:revision>
  <dc:subject/>
  <dc:title>Presentation Title Presentation Title 2nd Line</dc:title>
</cp:coreProperties>
</file>