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4DCDD02-2232-4796-B368-6552FCCA4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 we draw the line?  The last two BIRDs are relatively simple, but have not seen much progress since being propo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EA0-9238-489D-8AD7-8439A2F9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AB3-EF43-4279-9E39-B86CB1D6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285E-8896-40C9-9E84-1A11A2AA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596-E8AE-4508-A9D7-2A6C3E80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C51F-6C3B-450C-8AC4-1454F34D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91BC-8AD9-4BCF-BBDF-9E2D4CCB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EF64-3288-4257-BC4C-EC476ABF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E2DE-958D-4327-9F88-8C8EB420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6258-D4E3-4C86-B2D3-D9AFCFBC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F081-E8EB-4DBB-80C5-EC08AA93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7AA8-A425-44A6-9491-E2E03617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5ADA-C5D7-4F33-9DE8-99F62A0F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0655-8373-45B1-BFEA-90BDE612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D697-A3E5-45C2-A0F5-C55A3873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3469-74E0-4768-A06A-A2480573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6A4F-E955-4714-8DA6-31CCE643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0D52-D588-4409-8E86-328AE02C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161-BF60-4866-8901-83333006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05F-363B-4887-9E1C-9929B178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D55-2E3B-4998-A3D5-A1310502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E3E-0152-45E1-81FC-6E7CE229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E5D-7342-4AC9-8267-8BBD8A9E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201-E461-4952-927C-08EF5CDC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1DF-E358-4156-A40B-5D66396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 IBIS Summit at Design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015C-CA0F-43D5-823E-9732E0F1E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2351160"/>
          <a:ext cx="3414960" cy="29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351160"/>
                    <a:ext cx="341496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igroup.org/ibis/" TargetMode="External"/><Relationship Id="rId2" Type="http://schemas.openxmlformats.org/officeDocument/2006/relationships/hyperlink" Target="http://www.eda.org/ibis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24200" y="699120"/>
            <a:ext cx="691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nd Roadma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62000" y="2457360"/>
            <a:ext cx="39625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4800" y="393696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DesignCon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7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igroup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www.eda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76E7-FBD8-488C-A08A-3A3140A796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3160" y="1460520"/>
            <a:ext cx="866592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19240" y="332280"/>
            <a:ext cx="8696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80A-864B-4273-A9B4-2B2D8AB637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42720" y="1114200"/>
            <a:ext cx="8591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IS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BIRD104.1: IBIS-ATM API approv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BIRD98.3: Gate Modulation Effect approv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pecifications and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ouchstone 2.0 in final review; vote likely before Q2’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ontinuing progress on IBIS Quality Specification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uccessful summits in Beijing and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dding Taipei summit as part of ‘08 Summit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2H’07 Achieveme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723960" y="5413320"/>
            <a:ext cx="7620120" cy="80964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Step: IBIS 5.0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A0E-E676-4A27-B814-7451F0EDEA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42720" y="1114200"/>
            <a:ext cx="8591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at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IA no longer a standards-management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GEIA and ITAA have me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parent organization part of GEIA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s and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losed 2007 with positive budget and membership of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2008 fees increased to US$900 per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GEIA dues and operating expenses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Organizational Statu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723960" y="5413320"/>
            <a:ext cx="7620120" cy="80964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BIS outlook positive, even with un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 times ahead in th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695-631F-4D0D-9234-4FD7EA9BC4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32280"/>
            <a:ext cx="7763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5.0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733320" y="5280120"/>
            <a:ext cx="7620120" cy="84780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: draft specification by Q3’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IS 5.0 will be a major advan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480" y="676440"/>
            <a:ext cx="88772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Drawing the line for 5.0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74.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EMI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95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Power Integrity Analysis using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98.3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Gate Modulation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103.1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[Model Spec] DDR2 Over/Undersh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104.1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Algorithmic Modeling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posed BI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ICM-IBIS Linking (draft text distribu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Improved Differential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[External Model] under [Circuit Cal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SPICE Parameter Pa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75320" y="204840"/>
            <a:ext cx="24685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2C2-C7D6-469C-B9EA-F229F87FC9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3160" y="1460520"/>
            <a:ext cx="866592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19240" y="3094560"/>
            <a:ext cx="8696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Q&amp;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8555-E97F-4C23-AED2-3525C20FDE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8-01-29T17:27:08Z</dcterms:modified>
  <cp:revision>491</cp:revision>
  <dc:subject>IBIS Summit 2008</dc:subject>
  <dc:title>IBIS Chair's Report and Roadmap</dc:title>
</cp:coreProperties>
</file>