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230B-CFCA-49D9-A072-6996C14C3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47EF-4268-4524-8C67-346C925E7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03BA-C21F-467D-8A51-B0EC6607B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8CD3-E259-467E-8CEA-68C7DB750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A902-9B75-4550-8B7E-E2A17A76C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8393-853C-46E5-8199-694E6DD8C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D3AA-20C8-401B-B4A0-F74D7469D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782E-D997-40A6-8EB5-8C1745562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C7F0-901C-4118-8D6A-D29D1787D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288A-F02F-45A4-B844-15EE8AB0E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B240-83FA-4F98-BE19-A99E14B1D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E865-3C75-4DB6-8795-2C3930BF7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64520" y="6105600"/>
            <a:ext cx="1517400" cy="517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848720" y="6534000"/>
            <a:ext cx="838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B85F-763B-41E5-ACD3-29D6776DEAF6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43000" y="6400800"/>
            <a:ext cx="4952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IBIS-ATM Report – DesignCon IBIS Summit – Feb 1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4760" y="5935680"/>
            <a:ext cx="1600200" cy="517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07120" y="646416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Signal Integrity Software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da.org/pub/ibis/macromodel_wip/" TargetMode="External"/><Relationship Id="rId2" Type="http://schemas.openxmlformats.org/officeDocument/2006/relationships/hyperlink" Target="http://www.eda.org/pub/ibis/macromodel_wip/" TargetMode="External"/><Relationship Id="rId3" Type="http://schemas.openxmlformats.org/officeDocument/2006/relationships/hyperlink" Target="mailto:ibis-macro-request@freelists.org" TargetMode="External"/><Relationship Id="rId4" Type="http://schemas.openxmlformats.org/officeDocument/2006/relationships/hyperlink" Target="mailto:ibis-macro-request@freelists.org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BIS Advanced Technology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deling Group (IBIS-ATM)</a:t>
            </a:r>
            <a:r>
              <a:rPr b="1" lang="en-US" sz="3200" spc="-1" strike="noStrike" baseline="30000">
                <a:solidFill>
                  <a:srgbClr val="336699"/>
                </a:solidFill>
                <a:latin typeface="Arial"/>
              </a:rPr>
              <a:t>*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atus Repor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Todd Westerhoff, SiSof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DesignCon IBIS Summi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Feb 1, 2007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8400" y="6248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Formerly IBIS-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urrent Statu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ill need better definition of target audienc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licon/circuit designers?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odel developers?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ystem designers?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etwork characterization terminology still unclea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 vs. pulse response vs. transfer function vs. pole/zero representa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dence’s proposal under review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ngoing discussions of detailed implica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Soft recommendations for enhancem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echanism to publish model parameters for EDA too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eed analysis methodology-independent model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ill exploring different analytical approach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2A4D-2EF1-4682-802D-9850A6C1CAA9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For More Informa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777240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ATM / IBIS-Macro Websi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a.org/pub/ibis/macromodel_wip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Macro mail reflec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ail 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bis-macro-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quest@freelists.or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Macro mail archiv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ww.freelists.org/archives/ibis-macro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752480" y="1219320"/>
            <a:ext cx="5791320" cy="15811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2B7F-1486-4C63-824A-527613A5C055}" type="slidenum">
              <a:t>11</a:t>
            </a:fld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pdated Group Chart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ak Distortion Analysi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Spice investigation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adence’s Proposal / BI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ircuit vs. Signal Simulation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LL / Executables / Encrypted Source,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MS / SystemC / Other Languag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erminology Present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1128-66BE-4675-A6E8-CF89E368813E}" type="slidenum">
              <a:t>2</a:t>
            </a:fld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Updated Group Charter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nged name to IBIS Advanced Technology Modeling Group (IBIS-ATM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urrent goal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fine a transmitter/receiver modeling standard for SERDES channel analysis that encompasses equalization and clock recover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solution must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multiple EDA vendor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multiple IC vendor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tect semiconductor vendor IP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combined transmitter/receiver desig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design optimization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6325-D9DC-4521-A83D-F157CD6693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eak Distortion Analys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nalytical method for predicting maximum eye closure based on channel pulse respon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mplemented in VHDL-AMS and demonstrated by Arpad Muranyi of Int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00320" cy="29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295280" y="502920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ference pre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download.intel.com/education/highered/signal/ELCT865/Class2_15_16_Peak_Distortion_Analysis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5FD7-0FD3-4FDC-B40B-44572C7AB9F0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HSpice Investigation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quest from Cadence at Asian IBIS Summit to extend [External Model] Spice syntax to allow parameter pa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rkeley Spice [currently supported] does not provide thi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sked Synopsys if they would make HSpice syntax publicly available [de facto standard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ynopsys declined, not wanting to restrict future extensions to HSpice’s syntax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ssue currently considered clos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pen invitation to group to propose specific syntax for parameter pass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FB30-D2AE-46AC-AE93-35F2A402B4B7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adence’s AMI Proposa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1120" y="1752480"/>
            <a:ext cx="4572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ultiple presentations a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30360" indent="-173160">
              <a:lnSpc>
                <a:spcPct val="9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http://www.vhdl.org/pub/ibis/macromodel_wip/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ngoing discussions of Cadence’s proposal and algorithms therei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lated discussions on details of channel characterization and mode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dence presented proposal as draft IBIS BIR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304812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30240" y="3809880"/>
            <a:ext cx="301644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17C7-B428-45D8-85EA-F010A4C06149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ircuit Simulation vs. Signal Process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ircuit Modeling/Simul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terconnect model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etwork character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ulse Respons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Processing Analysi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ransmitter equal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ceiver equal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ime-domain waveform generation (convolution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ock recovery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66680" y="1143000"/>
            <a:ext cx="3505320" cy="2514600"/>
            <a:chOff x="1066680" y="1143000"/>
            <a:chExt cx="3505320" cy="2514600"/>
          </a:xfrm>
        </p:grpSpPr>
        <p:sp>
          <p:nvSpPr>
            <p:cNvPr id="103" name=""/>
            <p:cNvSpPr/>
            <p:nvPr/>
          </p:nvSpPr>
          <p:spPr>
            <a:xfrm>
              <a:off x="1066680" y="1143000"/>
              <a:ext cx="350532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219320" y="2209680"/>
              <a:ext cx="3123720" cy="1219320"/>
              <a:chOff x="1219320" y="2209680"/>
              <a:chExt cx="3123720" cy="1219320"/>
            </a:xfrm>
          </p:grpSpPr>
          <p:sp>
            <p:nvSpPr>
              <p:cNvPr id="105" name=""/>
              <p:cNvSpPr/>
              <p:nvPr/>
            </p:nvSpPr>
            <p:spPr>
              <a:xfrm rot="5400000">
                <a:off x="3924000" y="2628720"/>
                <a:ext cx="457200" cy="380880"/>
              </a:xfrm>
              <a:prstGeom prst="triangle">
                <a:avLst>
                  <a:gd name="adj" fmla="val 5000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295280" y="2666880"/>
                <a:ext cx="266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47560" y="2971800"/>
                <a:ext cx="251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0560" y="2361960"/>
                <a:ext cx="345960" cy="916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2361960" y="2971440"/>
                <a:ext cx="152280" cy="457560"/>
                <a:chOff x="2361960" y="2971440"/>
                <a:chExt cx="152280" cy="4575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361960" y="3124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361960" y="3200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2438280" y="32000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2438280" y="29714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2361960" y="3352680"/>
                  <a:ext cx="15228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971800" y="2971440"/>
                <a:ext cx="151920" cy="457560"/>
                <a:chOff x="2971800" y="2971440"/>
                <a:chExt cx="151920" cy="4575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971800" y="3124080"/>
                  <a:ext cx="15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971800" y="3200400"/>
                  <a:ext cx="15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3047760" y="32000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3047760" y="29714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2971800" y="3352680"/>
                  <a:ext cx="15192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209680" y="2209680"/>
                <a:ext cx="303840" cy="455760"/>
                <a:chOff x="2209680" y="2209680"/>
                <a:chExt cx="303840" cy="455760"/>
              </a:xfrm>
            </p:grpSpPr>
            <p:grpSp>
              <p:nvGrpSpPr>
                <p:cNvPr id="122" name=""/>
                <p:cNvGrpSpPr/>
                <p:nvPr/>
              </p:nvGrpSpPr>
              <p:grpSpPr>
                <a:xfrm>
                  <a:off x="2361240" y="2284200"/>
                  <a:ext cx="152280" cy="381240"/>
                  <a:chOff x="2361240" y="2284200"/>
                  <a:chExt cx="152280" cy="3812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flipH="1">
                    <a:off x="2361240" y="25128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>
                    <a:off x="2361240" y="2438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437560" y="228420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2437560" y="251280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 rot="10800000">
                  <a:off x="2209680" y="2285640"/>
                  <a:ext cx="151920" cy="75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285640" y="2209680"/>
                  <a:ext cx="151920" cy="76320"/>
                </a:xfrm>
                <a:custGeom>
                  <a:avLst/>
                  <a:gdLst/>
                  <a:ahLst/>
                  <a:rect l="l" t="t" r="r" b="b"/>
                  <a:pathLst>
                    <a:path w="96" h="48">
                      <a:moveTo>
                        <a:pt x="96" y="48"/>
                      </a:moveTo>
                      <a:lnTo>
                        <a:pt x="96" y="0"/>
                      </a:lnTo>
                      <a:lnTo>
                        <a:pt x="0" y="0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971800" y="2209680"/>
                <a:ext cx="303840" cy="456840"/>
                <a:chOff x="2971800" y="2209680"/>
                <a:chExt cx="303840" cy="45684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2971800" y="2286000"/>
                  <a:ext cx="151920" cy="380520"/>
                  <a:chOff x="2971800" y="2286000"/>
                  <a:chExt cx="151920" cy="3805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>
                    <a:off x="2971800" y="251424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2971800" y="2439720"/>
                    <a:ext cx="151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3047760" y="228600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3047760" y="251424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>
                  <a:off x="3047400" y="2209680"/>
                  <a:ext cx="152280" cy="76320"/>
                </a:xfrm>
                <a:custGeom>
                  <a:avLst/>
                  <a:gdLst/>
                  <a:ahLst/>
                  <a:rect l="l" t="t" r="r" b="b"/>
                  <a:pathLst>
                    <a:path w="96" h="48">
                      <a:moveTo>
                        <a:pt x="96" y="48"/>
                      </a:moveTo>
                      <a:lnTo>
                        <a:pt x="96" y="0"/>
                      </a:lnTo>
                      <a:lnTo>
                        <a:pt x="0" y="0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0800000">
                  <a:off x="3123720" y="2285640"/>
                  <a:ext cx="151920" cy="75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809720" y="2895120"/>
                <a:ext cx="475560" cy="152280"/>
                <a:chOff x="1809720" y="2895120"/>
                <a:chExt cx="475560" cy="152280"/>
              </a:xfrm>
            </p:grpSpPr>
            <p:sp>
              <p:nvSpPr>
                <p:cNvPr id="138" name=""/>
                <p:cNvSpPr/>
                <p:nvPr/>
              </p:nvSpPr>
              <p:spPr>
                <a:xfrm rot="16200000">
                  <a:off x="2018520" y="2780640"/>
                  <a:ext cx="15228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9720" y="2971800"/>
                  <a:ext cx="15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828800" y="2590200"/>
                <a:ext cx="475560" cy="152280"/>
                <a:chOff x="1828800" y="2590200"/>
                <a:chExt cx="475560" cy="152280"/>
              </a:xfrm>
            </p:grpSpPr>
            <p:sp>
              <p:nvSpPr>
                <p:cNvPr id="141" name=""/>
                <p:cNvSpPr/>
                <p:nvPr/>
              </p:nvSpPr>
              <p:spPr>
                <a:xfrm rot="16200000">
                  <a:off x="2037600" y="2475720"/>
                  <a:ext cx="15228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28800" y="2666880"/>
                  <a:ext cx="15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200400" y="2590200"/>
                <a:ext cx="475560" cy="152280"/>
                <a:chOff x="3200400" y="2590200"/>
                <a:chExt cx="475560" cy="152280"/>
              </a:xfrm>
            </p:grpSpPr>
            <p:sp>
              <p:nvSpPr>
                <p:cNvPr id="144" name=""/>
                <p:cNvSpPr/>
                <p:nvPr/>
              </p:nvSpPr>
              <p:spPr>
                <a:xfrm rot="16200000">
                  <a:off x="3409200" y="2475720"/>
                  <a:ext cx="15228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200400" y="2666880"/>
                  <a:ext cx="15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200400" y="2895120"/>
                <a:ext cx="475560" cy="152280"/>
                <a:chOff x="3200400" y="2895120"/>
                <a:chExt cx="475560" cy="152280"/>
              </a:xfrm>
            </p:grpSpPr>
            <p:sp>
              <p:nvSpPr>
                <p:cNvPr id="147" name=""/>
                <p:cNvSpPr/>
                <p:nvPr/>
              </p:nvSpPr>
              <p:spPr>
                <a:xfrm rot="16200000">
                  <a:off x="3409200" y="2780640"/>
                  <a:ext cx="15228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00400" y="2971800"/>
                  <a:ext cx="15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 rot="5400000">
                <a:off x="1181160" y="2628720"/>
                <a:ext cx="457200" cy="380880"/>
              </a:xfrm>
              <a:prstGeom prst="triangle">
                <a:avLst>
                  <a:gd name="adj" fmla="val 5000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92120" y="29350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81160" y="29350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295280" y="1295280"/>
              <a:ext cx="609480" cy="457200"/>
              <a:chOff x="1295280" y="1295280"/>
              <a:chExt cx="609480" cy="457200"/>
            </a:xfrm>
          </p:grpSpPr>
          <p:sp>
            <p:nvSpPr>
              <p:cNvPr id="153" name=""/>
              <p:cNvSpPr/>
              <p:nvPr/>
            </p:nvSpPr>
            <p:spPr>
              <a:xfrm>
                <a:off x="1295280" y="152388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0" y="144"/>
                    </a:moveTo>
                    <a:lnTo>
                      <a:pt x="0" y="0"/>
                    </a:lnTo>
                    <a:lnTo>
                      <a:pt x="144" y="0"/>
                    </a:lnTo>
                    <a:lnTo>
                      <a:pt x="144" y="144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95280" y="1752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1295280" y="1295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429000" y="1295280"/>
              <a:ext cx="990720" cy="571680"/>
              <a:chOff x="3429000" y="1295280"/>
              <a:chExt cx="990720" cy="571680"/>
            </a:xfrm>
          </p:grpSpPr>
          <p:sp>
            <p:nvSpPr>
              <p:cNvPr id="157" name=""/>
              <p:cNvSpPr/>
              <p:nvPr/>
            </p:nvSpPr>
            <p:spPr>
              <a:xfrm>
                <a:off x="3429000" y="1752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3429000" y="1295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29000" y="1473120"/>
                <a:ext cx="838080" cy="39384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2057400" y="1523880"/>
              <a:ext cx="1143000" cy="0"/>
            </a:xfrm>
            <a:prstGeom prst="line">
              <a:avLst/>
            </a:prstGeom>
            <a:ln w="57240">
              <a:solidFill>
                <a:srgbClr val="00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6680" y="198108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066680" y="3809880"/>
            <a:ext cx="3505320" cy="2514600"/>
            <a:chOff x="1066680" y="3809880"/>
            <a:chExt cx="3505320" cy="2514600"/>
          </a:xfrm>
        </p:grpSpPr>
        <p:sp>
          <p:nvSpPr>
            <p:cNvPr id="163" name=""/>
            <p:cNvSpPr/>
            <p:nvPr/>
          </p:nvSpPr>
          <p:spPr>
            <a:xfrm>
              <a:off x="1066680" y="3809880"/>
              <a:ext cx="350532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371600" y="4876560"/>
              <a:ext cx="3069720" cy="1144800"/>
              <a:chOff x="1371600" y="4876560"/>
              <a:chExt cx="3069720" cy="1144800"/>
            </a:xfrm>
          </p:grpSpPr>
          <p:sp>
            <p:nvSpPr>
              <p:cNvPr id="165" name=""/>
              <p:cNvSpPr/>
              <p:nvPr/>
            </p:nvSpPr>
            <p:spPr>
              <a:xfrm rot="5400000">
                <a:off x="1534680" y="4927680"/>
                <a:ext cx="457200" cy="354960"/>
              </a:xfrm>
              <a:prstGeom prst="triangle">
                <a:avLst>
                  <a:gd name="adj" fmla="val 5000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371600" y="49528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71600" y="52578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09480" y="5221080"/>
                <a:ext cx="709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42840" y="5562360"/>
                <a:ext cx="784080" cy="459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Clo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Recove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41120" y="5105160"/>
                <a:ext cx="1029960" cy="457200"/>
              </a:xfrm>
              <a:custGeom>
                <a:avLst/>
                <a:gdLst/>
                <a:ahLst/>
                <a:rect l="l" t="t" r="r" b="b"/>
                <a:pathLst>
                  <a:path w="768" h="288">
                    <a:moveTo>
                      <a:pt x="0" y="0"/>
                    </a:moveTo>
                    <a:lnTo>
                      <a:pt x="768" y="0"/>
                    </a:lnTo>
                    <a:lnTo>
                      <a:pt x="768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95480" y="5105160"/>
                <a:ext cx="85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36560" y="5379840"/>
                <a:ext cx="426960" cy="182520"/>
              </a:xfrm>
              <a:custGeom>
                <a:avLst/>
                <a:gdLst/>
                <a:ahLst/>
                <a:rect l="l" t="t" r="r" b="b"/>
                <a:pathLst>
                  <a:path w="288" h="144">
                    <a:moveTo>
                      <a:pt x="0" y="144"/>
                    </a:moveTo>
                    <a:lnTo>
                      <a:pt x="0" y="0"/>
                    </a:lnTo>
                    <a:lnTo>
                      <a:pt x="2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12760" y="4952880"/>
                <a:ext cx="782280" cy="276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Equaliz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656880" y="5029200"/>
                <a:ext cx="784440" cy="459000"/>
                <a:chOff x="3656880" y="5029200"/>
                <a:chExt cx="784440" cy="459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657240" y="5029200"/>
                  <a:ext cx="784080" cy="45900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Sampl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5400000">
                  <a:off x="3613680" y="5301000"/>
                  <a:ext cx="228600" cy="1422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219320" y="3962160"/>
              <a:ext cx="990360" cy="571680"/>
              <a:chOff x="1219320" y="3962160"/>
              <a:chExt cx="990360" cy="571680"/>
            </a:xfrm>
          </p:grpSpPr>
          <p:sp>
            <p:nvSpPr>
              <p:cNvPr id="178" name=""/>
              <p:cNvSpPr/>
              <p:nvPr/>
            </p:nvSpPr>
            <p:spPr>
              <a:xfrm>
                <a:off x="1219320" y="44193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1219320" y="3962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219320" y="4140000"/>
                <a:ext cx="837720" cy="393840"/>
              </a:xfrm>
              <a:custGeom>
                <a:avLst/>
                <a:gdLst/>
                <a:ahLst/>
                <a:rect l="l" t="t" r="r" b="b"/>
                <a:pathLst>
                  <a:path w="528" h="248">
                    <a:moveTo>
                      <a:pt x="0" y="176"/>
                    </a:moveTo>
                    <a:cubicBezTo>
                      <a:pt x="12" y="116"/>
                      <a:pt x="24" y="56"/>
                      <a:pt x="48" y="32"/>
                    </a:cubicBezTo>
                    <a:cubicBezTo>
                      <a:pt x="72" y="8"/>
                      <a:pt x="120" y="0"/>
                      <a:pt x="144" y="32"/>
                    </a:cubicBezTo>
                    <a:cubicBezTo>
                      <a:pt x="168" y="64"/>
                      <a:pt x="168" y="200"/>
                      <a:pt x="192" y="224"/>
                    </a:cubicBezTo>
                    <a:cubicBezTo>
                      <a:pt x="216" y="248"/>
                      <a:pt x="256" y="192"/>
                      <a:pt x="288" y="176"/>
                    </a:cubicBezTo>
                    <a:cubicBezTo>
                      <a:pt x="320" y="160"/>
                      <a:pt x="352" y="128"/>
                      <a:pt x="384" y="128"/>
                    </a:cubicBezTo>
                    <a:cubicBezTo>
                      <a:pt x="416" y="128"/>
                      <a:pt x="456" y="168"/>
                      <a:pt x="480" y="176"/>
                    </a:cubicBezTo>
                    <a:cubicBezTo>
                      <a:pt x="504" y="184"/>
                      <a:pt x="516" y="180"/>
                      <a:pt x="528" y="17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352680" y="4038480"/>
              <a:ext cx="990720" cy="530280"/>
              <a:chOff x="3352680" y="4038480"/>
              <a:chExt cx="990720" cy="530280"/>
            </a:xfrm>
          </p:grpSpPr>
          <p:sp>
            <p:nvSpPr>
              <p:cNvPr id="182" name=""/>
              <p:cNvSpPr/>
              <p:nvPr/>
            </p:nvSpPr>
            <p:spPr>
              <a:xfrm>
                <a:off x="3352680" y="44956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352680" y="4038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197240"/>
                <a:ext cx="822240" cy="371520"/>
              </a:xfrm>
              <a:custGeom>
                <a:avLst/>
                <a:gdLst/>
                <a:ahLst/>
                <a:rect l="l" t="t" r="r" b="b"/>
                <a:pathLst>
                  <a:path w="526" h="234">
                    <a:moveTo>
                      <a:pt x="8" y="188"/>
                    </a:moveTo>
                    <a:cubicBezTo>
                      <a:pt x="4" y="122"/>
                      <a:pt x="0" y="56"/>
                      <a:pt x="24" y="28"/>
                    </a:cubicBezTo>
                    <a:cubicBezTo>
                      <a:pt x="48" y="0"/>
                      <a:pt x="126" y="10"/>
                      <a:pt x="151" y="18"/>
                    </a:cubicBezTo>
                    <a:cubicBezTo>
                      <a:pt x="176" y="26"/>
                      <a:pt x="170" y="45"/>
                      <a:pt x="177" y="78"/>
                    </a:cubicBezTo>
                    <a:cubicBezTo>
                      <a:pt x="184" y="111"/>
                      <a:pt x="176" y="204"/>
                      <a:pt x="196" y="219"/>
                    </a:cubicBezTo>
                    <a:cubicBezTo>
                      <a:pt x="216" y="234"/>
                      <a:pt x="268" y="174"/>
                      <a:pt x="294" y="170"/>
                    </a:cubicBezTo>
                    <a:cubicBezTo>
                      <a:pt x="320" y="166"/>
                      <a:pt x="326" y="193"/>
                      <a:pt x="351" y="195"/>
                    </a:cubicBezTo>
                    <a:cubicBezTo>
                      <a:pt x="376" y="197"/>
                      <a:pt x="416" y="183"/>
                      <a:pt x="445" y="180"/>
                    </a:cubicBezTo>
                    <a:cubicBezTo>
                      <a:pt x="474" y="177"/>
                      <a:pt x="500" y="177"/>
                      <a:pt x="526" y="17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066680" y="46479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4190760"/>
              <a:ext cx="1143000" cy="0"/>
            </a:xfrm>
            <a:prstGeom prst="line">
              <a:avLst/>
            </a:prstGeom>
            <a:ln w="572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A8C6-4F9D-49B2-9269-20773B8B3554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LL / Executables / Encrypted Source,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MS / SystemC / Other Languag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ary / deployment issu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tensively discussed model development and distribution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radeoffs between different development languag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ystem language tren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dvantages / disadvantages of different distribution methods (.dll vs. executable vs. encrypted source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of different IP-protection schem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7598-E5B1-4624-B969-9122D91D0A20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erminology Presentation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98640" y="1143000"/>
            <a:ext cx="315432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3171600" cy="23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048120" y="4800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67080" y="144792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8560" indent="-171360">
              <a:lnSpc>
                <a:spcPct val="9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http://www.vhdl.org/pub/ibis/macromodel_wip/archive/20061024/arpadmuranyi/Channel%20analysis%20flow%20with%20IBIS/IBIS_API_flow.pd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628560" indent="-171360">
              <a:lnSpc>
                <a:spcPct val="9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TinyURL version: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http://tinyurl.com/238mdw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62856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Sof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8560" indent="-171360">
              <a:lnSpc>
                <a:spcPct val="9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http://www.vhdl.org/pub/ibis/macromodel_wip/archive/20061212/toddwesterhoff/Serial%20Link%20Terminology/serial_link_terminology.pd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628560" indent="-171360">
              <a:lnSpc>
                <a:spcPct val="9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TinyURL version: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http://tinyurl.com/yuhxn9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EA33-733F-4D92-AF79-E069030E6197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Todd Westerhoff</cp:lastModifiedBy>
  <dcterms:modified xsi:type="dcterms:W3CDTF">2007-01-24T15:55:52Z</dcterms:modified>
  <cp:revision>119</cp:revision>
  <dc:subject/>
  <dc:title>Slide 1</dc:title>
</cp:coreProperties>
</file>