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14.png" ContentType="image/png"/>
  <Override PartName="/ppt/media/image10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8.png" ContentType="image/png"/>
  <Override PartName="/ppt/media/image16.wmf" ContentType="image/x-wmf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15.wmf" ContentType="image/x-wmf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164388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7E37-E273-4D25-9493-BAA1EC765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2040" y="279360"/>
            <a:ext cx="8359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92040" y="1312560"/>
            <a:ext cx="83599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2040" y="3500640"/>
            <a:ext cx="83599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7B55-2760-4F3C-B744-6CDEE4DB8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2040" y="279360"/>
            <a:ext cx="8359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92040" y="1312560"/>
            <a:ext cx="40795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6040" y="1312560"/>
            <a:ext cx="40795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92040" y="3500640"/>
            <a:ext cx="40795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6040" y="3500640"/>
            <a:ext cx="40795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1173-FC81-4D6A-AB7D-2FA86035A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92040" y="279360"/>
            <a:ext cx="8359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92040" y="1312560"/>
            <a:ext cx="26917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8760" y="1312560"/>
            <a:ext cx="26917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45480" y="1312560"/>
            <a:ext cx="26917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92040" y="3500640"/>
            <a:ext cx="26917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8760" y="3500640"/>
            <a:ext cx="26917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45480" y="3500640"/>
            <a:ext cx="26917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94E1-C374-48BC-BAC0-7B7A10554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6CDC5-D3BB-48F9-B83C-F6325CB3A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2040" y="279360"/>
            <a:ext cx="8359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92040" y="1312560"/>
            <a:ext cx="83599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5000"/>
              </a:lnSpc>
              <a:spcBef>
                <a:spcPts val="10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5F301-0672-4CE6-ABCE-1DD990977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2040" y="279360"/>
            <a:ext cx="8359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2040" y="1312560"/>
            <a:ext cx="83599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A447D-590C-48BA-845D-C446F711D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2040" y="279360"/>
            <a:ext cx="8359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2040" y="1312560"/>
            <a:ext cx="4079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040" y="1312560"/>
            <a:ext cx="4079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20388-28C1-4E42-B8B7-4827FE251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2040" y="279360"/>
            <a:ext cx="8359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6BD42-6CE1-4483-89D0-D46B4F392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92040" y="279360"/>
            <a:ext cx="8359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5000"/>
              </a:lnSpc>
              <a:spcBef>
                <a:spcPts val="106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12529-4CF7-4A25-8B1E-612B4A5A6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2040" y="279360"/>
            <a:ext cx="8359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2040" y="1312560"/>
            <a:ext cx="40795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6040" y="1312560"/>
            <a:ext cx="4079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92040" y="3500640"/>
            <a:ext cx="40795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67A17-7B92-410E-8437-F1130934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2040" y="279360"/>
            <a:ext cx="8359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92040" y="1312560"/>
            <a:ext cx="83599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5000"/>
              </a:lnSpc>
              <a:spcBef>
                <a:spcPts val="10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08C2-CF79-42FB-8770-FBDC240F6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2040" y="279360"/>
            <a:ext cx="8359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2040" y="1312560"/>
            <a:ext cx="4079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6040" y="1312560"/>
            <a:ext cx="40795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6040" y="3500640"/>
            <a:ext cx="40795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3BD0E-3F32-4FC4-A116-B84BF5B7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2040" y="279360"/>
            <a:ext cx="8359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2040" y="1312560"/>
            <a:ext cx="40795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312560"/>
            <a:ext cx="40795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2040" y="3500640"/>
            <a:ext cx="83599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C309E-9167-430A-97ED-4A713B17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2040" y="279360"/>
            <a:ext cx="8359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2040" y="1312560"/>
            <a:ext cx="83599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92040" y="3500640"/>
            <a:ext cx="83599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4DB31-B040-46EB-BA96-4DF3C0297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2040" y="279360"/>
            <a:ext cx="8359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2040" y="1312560"/>
            <a:ext cx="40795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6040" y="1312560"/>
            <a:ext cx="40795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92040" y="3500640"/>
            <a:ext cx="40795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6040" y="3500640"/>
            <a:ext cx="40795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E01AF-2022-4A6C-B297-54C975F52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2040" y="279360"/>
            <a:ext cx="8359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92040" y="1312560"/>
            <a:ext cx="26917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18760" y="1312560"/>
            <a:ext cx="26917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45480" y="1312560"/>
            <a:ext cx="26917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92040" y="3500640"/>
            <a:ext cx="26917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18760" y="3500640"/>
            <a:ext cx="26917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45480" y="3500640"/>
            <a:ext cx="26917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FE725-6A2F-41E3-B882-F2FA4B8CD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2040" y="279360"/>
            <a:ext cx="8359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92040" y="1312560"/>
            <a:ext cx="83599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2327-1903-4518-9B66-3285D7D8A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2040" y="279360"/>
            <a:ext cx="8359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92040" y="1312560"/>
            <a:ext cx="4079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040" y="1312560"/>
            <a:ext cx="4079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D854-389C-4D07-AA3C-5163D787B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2040" y="279360"/>
            <a:ext cx="8359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B53D-4B5E-43FE-A086-BDE408611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392040" y="279360"/>
            <a:ext cx="8359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5000"/>
              </a:lnSpc>
              <a:spcBef>
                <a:spcPts val="106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4E85-3EE7-4204-9EB3-DD7888671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2040" y="279360"/>
            <a:ext cx="8359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2040" y="1312560"/>
            <a:ext cx="40795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312560"/>
            <a:ext cx="4079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92040" y="3500640"/>
            <a:ext cx="40795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554F-9E8C-4A17-9E0C-CC479B55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2040" y="279360"/>
            <a:ext cx="8359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2040" y="1312560"/>
            <a:ext cx="4079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312560"/>
            <a:ext cx="40795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6040" y="3500640"/>
            <a:ext cx="40795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7CE3-09D7-4E70-AA83-07DD568D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2040" y="279360"/>
            <a:ext cx="8359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2040" y="1312560"/>
            <a:ext cx="40795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6040" y="1312560"/>
            <a:ext cx="40795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92040" y="3500640"/>
            <a:ext cx="83599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35F7-205C-485E-8DC3-545AF9D1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041880"/>
            <a:ext cx="9144000" cy="42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92040" y="279360"/>
            <a:ext cx="8359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2040" y="1312560"/>
            <a:ext cx="83599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4160" indent="-254160">
              <a:lnSpc>
                <a:spcPct val="105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54160">
              <a:lnSpc>
                <a:spcPct val="10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254160">
              <a:lnSpc>
                <a:spcPct val="10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25760" indent="-254160">
              <a:lnSpc>
                <a:spcPct val="10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82960" indent="-254160">
              <a:lnSpc>
                <a:spcPct val="10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82960" indent="-254160">
              <a:lnSpc>
                <a:spcPct val="10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82960" indent="-254160">
              <a:lnSpc>
                <a:spcPct val="10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031840" y="6578280"/>
            <a:ext cx="50803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799920" y="5714640"/>
            <a:ext cx="7543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7A636-A846-46DD-9F88-CF5E89C67999}" type="datetime">
              <a:rPr b="0" lang="de-DE" sz="19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624120" y="6568920"/>
            <a:ext cx="508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XP Semiconductors</a:t>
            </a:r>
            <a:r>
              <a:rPr b="0" sz="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darshan H N </a:t>
            </a:r>
            <a:r>
              <a:rPr b="0" sz="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bruary 1, 20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567480" y="6394320"/>
            <a:ext cx="1841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388360" y="6387840"/>
            <a:ext cx="3175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D9928-0564-4947-BC21-3BC7BEB7AD4F}" type="slidenum">
              <a:rPr b="0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 hidden="1"/>
          <p:cNvSpPr/>
          <p:nvPr/>
        </p:nvSpPr>
        <p:spPr>
          <a:xfrm>
            <a:off x="2031840" y="6578640"/>
            <a:ext cx="5080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 hidden="1"/>
          <p:cNvSpPr/>
          <p:nvPr/>
        </p:nvSpPr>
        <p:spPr>
          <a:xfrm>
            <a:off x="800280" y="5715000"/>
            <a:ext cx="7543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50AFF-FBDA-417F-91EE-3F5DA6435D53}" type="datetime">
              <a:rPr b="0" lang="de-DE" sz="19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" descr=""/>
          <p:cNvPicPr/>
          <p:nvPr/>
        </p:nvPicPr>
        <p:blipFill>
          <a:blip r:embed="rId4"/>
          <a:srcRect l="0" t="26942" r="79441" b="13471"/>
          <a:stretch/>
        </p:blipFill>
        <p:spPr>
          <a:xfrm>
            <a:off x="171360" y="6243480"/>
            <a:ext cx="1416240" cy="555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80680" y="3411000"/>
            <a:ext cx="6892920" cy="10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4"/>
          </p:nvPr>
        </p:nvSpPr>
        <p:spPr>
          <a:xfrm>
            <a:off x="2031840" y="6578280"/>
            <a:ext cx="50803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5"/>
          </p:nvPr>
        </p:nvSpPr>
        <p:spPr>
          <a:xfrm>
            <a:off x="799920" y="5714640"/>
            <a:ext cx="7543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EB39F-6E9B-4F27-9887-91E01BDC662C}" type="datetime">
              <a:rPr b="0" lang="de-DE" sz="19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8578800" y="6578280"/>
            <a:ext cx="3175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7DB29-FA7F-4694-9831-9D4DAA7CCF9B}" type="slidenum">
              <a:rPr b="0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956720" y="5969160"/>
            <a:ext cx="761760" cy="4698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4160" indent="-254160">
              <a:lnSpc>
                <a:spcPct val="105000"/>
              </a:lnSpc>
              <a:spcBef>
                <a:spcPts val="1063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5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5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799920" y="4762080"/>
            <a:ext cx="7543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5000"/>
              </a:lnSpc>
              <a:spcBef>
                <a:spcPts val="106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57280" y="4971960"/>
            <a:ext cx="7543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57280" y="5238720"/>
            <a:ext cx="7543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57280" y="5505480"/>
            <a:ext cx="7543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65320" y="4944960"/>
            <a:ext cx="75438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darshan H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XP Semicondu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bruary 1,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125360" y="3094200"/>
            <a:ext cx="689328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BIS Modeling of USB Buffers</a:t>
            </a:r>
            <a:br>
              <a:rPr sz="3000"/>
            </a:b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133640" y="3652920"/>
            <a:ext cx="405756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2040" y="279360"/>
            <a:ext cx="8359920" cy="7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ceiver description in IBI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2040" y="1071720"/>
            <a:ext cx="8586720" cy="46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4160" indent="0">
              <a:lnSpc>
                <a:spcPct val="5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B Differential receiver can be correctly modeled only if the values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75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on Mode Voltage Range (CMV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75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put sensitivity (Diff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e specified (Section 7.1.4.1 of USB 2.0 Spec docum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5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5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5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5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5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5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5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5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5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5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6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addition Single ended receivers has to be described wi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65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H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65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ystersis paramet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431640" y="2657520"/>
            <a:ext cx="8396280" cy="1790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9F8C-2447-4058-A8C4-937C28ABCCB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D3B21C57-D497-4FED-84AF-873A1BF1116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1680" y="279000"/>
            <a:ext cx="809316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[Receiver Thresholds]</a:t>
            </a:r>
            <a:br>
              <a:rPr sz="3000"/>
            </a:b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92040" y="906120"/>
            <a:ext cx="83599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243720" indent="0">
              <a:lnSpc>
                <a:spcPct val="6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Receiver Thresholds]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 for a  differential receiv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R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6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cross_low = 0.8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USB Sp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6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cross_high = 2.5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USB Sp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6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diff_ac = +200m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6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diff_dc =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6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diffslew_ac =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6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6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Receiver Thresholds]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for a  single ended receive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Rx+, Rx-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5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th = 1.4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5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nh_ac = +0.6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5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nh_dc = +100m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5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nl_ac = -0.6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5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nl_dc = -100m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5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slew_ac = 1.2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10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Possible to define [Receiver Thresholds] for both Single ended and differential receivers in a single model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435640" y="1625760"/>
            <a:ext cx="114120" cy="672840"/>
          </a:xfrm>
          <a:custGeom>
            <a:avLst/>
            <a:gdLst>
              <a:gd name="textAreaLeft" fmla="*/ 0 w 114120"/>
              <a:gd name="textAreaRight" fmla="*/ 41040 w 114120"/>
              <a:gd name="textAreaTop" fmla="*/ 17280 h 672840"/>
              <a:gd name="textAreaBottom" fmla="*/ 655560 h 67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003640" y="1181160"/>
            <a:ext cx="88920" cy="749160"/>
          </a:xfrm>
          <a:custGeom>
            <a:avLst/>
            <a:gdLst>
              <a:gd name="textAreaLeft" fmla="*/ 0 w 88920"/>
              <a:gd name="textAreaRight" fmla="*/ 32040 w 88920"/>
              <a:gd name="textAreaTop" fmla="*/ 19440 h 749160"/>
              <a:gd name="textAreaBottom" fmla="*/ 729720 h 74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47520" y="1413000"/>
            <a:ext cx="1258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54160" indent="-254160"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V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5F15-34E1-4B02-A699-AC5BACA6680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B30C58B-410B-4766-BC13-0587506EF53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2040" y="279360"/>
            <a:ext cx="8359920" cy="67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ssue !!!!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2040" y="982800"/>
            <a:ext cx="835992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243720" indent="0">
              <a:lnSpc>
                <a:spcPct val="5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IS has to support both Single ended and differential modes for correct modeling of US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3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Single ended oper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Vinl, Vin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6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Differential mo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: Vdiff for Input Sensi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6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cross_low and Vcross_high for CMV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6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6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from the Cookbook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720" indent="-243720">
              <a:lnSpc>
                <a:spcPct val="65000"/>
              </a:lnSpc>
              <a:spcBef>
                <a:spcPts val="1576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differential Input or I/O model types, the differential input threshold (vdiff) overrides and supersedes the need for Vinh and Vin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720" indent="-243720">
              <a:lnSpc>
                <a:spcPct val="105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[Model Type] has to be created in IBIS specification which can handle both single ended and differential ended operation for USB kind of buff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318C-6867-41C0-A3C7-86AFDFF1F56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9F5F7B4-5094-4127-80D1-89F1876F0CA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2040" y="279360"/>
            <a:ext cx="8359920" cy="7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del Contd..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2040" y="1083960"/>
            <a:ext cx="85759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4160" indent="0">
              <a:lnSpc>
                <a:spcPct val="6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[Model]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USB_F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6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GND Clamp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6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Power Clamp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6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Pulldown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6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Pullup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6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Ramp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6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Rising Waveform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6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Falling Waveform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6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6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[Model]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USB_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6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GND Clamp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6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Power Clamp]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6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Pulldown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6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Pullup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6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6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Ramp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6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Rising Waveform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6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Falling Waveform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523880" y="3720960"/>
            <a:ext cx="254160" cy="825480"/>
          </a:xfrm>
          <a:custGeom>
            <a:avLst/>
            <a:gdLst>
              <a:gd name="textAreaLeft" fmla="*/ 0 w 254160"/>
              <a:gd name="textAreaRight" fmla="*/ 91800 w 254160"/>
              <a:gd name="textAreaTop" fmla="*/ 21240 h 825480"/>
              <a:gd name="textAreaBottom" fmla="*/ 804240 h 82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78200" y="3906720"/>
            <a:ext cx="678780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l these 4 tables are same as that of [Model] USB_IOP_FS. Can we avoid this duplicatio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9421-0737-44AF-BC94-132A21058EF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7E1DBB8F-5C39-4A3A-B2F7-308BB01A91A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8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8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8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8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84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84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2040" y="279360"/>
            <a:ext cx="8359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cessity to avoid this duplic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2040" y="1312560"/>
            <a:ext cx="83599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4160" indent="-254160">
              <a:lnSpc>
                <a:spcPct val="95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GND Clamp], [Power Clamp] , [Pulldown] , [Pullup] - each has 3 tables corresponding to typ, min and max corn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95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 totally 4*3 = 12 simulations required to generate these 4 tab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95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simulation may take 1-2 min(approx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95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 if we avoid these simulations it will effectively reduce ~ 30 mins for one model gener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 ways to do this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105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ify IBIS generating tools to intelligently put the same data for the two [Model] ‘s by simulating only on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105000"/>
              </a:lnSpc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new IBIS specification which avoids tables in the duplicated mod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method is preferable as it reduces the redundancy of data and thereby the file siz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A067-91EB-4F49-BA4E-564CCB333DB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712D15EE-1B97-4E23-8E0F-187885060CC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2040" y="279000"/>
            <a:ext cx="835992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posal to reduce this duplic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66480" y="880560"/>
            <a:ext cx="8372520" cy="51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4160" indent="0">
              <a:lnSpc>
                <a:spcPct val="5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y putting model names in front of the curve nam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55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5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[Model]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USB_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6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GND Clamp]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6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Power Clamp]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6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Pulldow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6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Pullup]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6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Ramp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6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Rising Waveform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6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Falling Waveform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6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6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[Model]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USB_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6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GND Clamp]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USB_F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6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Power Clamp]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USB_F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6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Pulldown]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USB_F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6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Pullup]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USB_F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6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6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Ramp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6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Rising Waveform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6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Falling Waveform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6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FA5C-F53B-42F3-A91F-093F2300F87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DABF9B4B-9711-4749-B296-EE5825FA1FF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2040" y="279360"/>
            <a:ext cx="835992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pplication of USB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B Topolog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162320" y="1179360"/>
            <a:ext cx="4581720" cy="46580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584280" y="2890800"/>
            <a:ext cx="344808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54160" indent="-254160">
              <a:lnSpc>
                <a:spcPct val="55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stream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135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wnstream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A6BC-A5E2-485C-973E-8E905A9A4908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D4D38E3F-B9EE-457C-87EE-4FE411CFDD1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2040" y="279360"/>
            <a:ext cx="8359920" cy="7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ow Speed USB Model in Upstream Mode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20840" y="1592280"/>
            <a:ext cx="4733640" cy="39258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410080" y="1976400"/>
            <a:ext cx="2960640" cy="17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54160" indent="-254160"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 Test Load Condi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55000"/>
              </a:lnSpc>
              <a:spcBef>
                <a:spcPts val="1125"/>
              </a:spcBef>
              <a:buClr>
                <a:srgbClr val="fab400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ref = 15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55000"/>
              </a:lnSpc>
              <a:spcBef>
                <a:spcPts val="1125"/>
              </a:spcBef>
              <a:buClr>
                <a:srgbClr val="fab400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ref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55000"/>
              </a:lnSpc>
              <a:spcBef>
                <a:spcPts val="1125"/>
              </a:spcBef>
              <a:buClr>
                <a:srgbClr val="fab400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f = 100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55000"/>
              </a:lnSpc>
              <a:spcBef>
                <a:spcPts val="1125"/>
              </a:spcBef>
              <a:buClr>
                <a:srgbClr val="fab400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meas = 1.65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6878-AA32-44ED-A7D7-099DA2231B18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A892F6B0-D458-457C-9346-6A50672281A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2040" y="279000"/>
            <a:ext cx="83599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ow Speed USB Model in Downstream Mode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444600" y="1490760"/>
            <a:ext cx="4735440" cy="40464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5511960" y="1951200"/>
            <a:ext cx="2960640" cy="17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54160" indent="-254160"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 Test Load Condi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55000"/>
              </a:lnSpc>
              <a:spcBef>
                <a:spcPts val="1125"/>
              </a:spcBef>
              <a:buClr>
                <a:srgbClr val="fab400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ref = 1.5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55000"/>
              </a:lnSpc>
              <a:spcBef>
                <a:spcPts val="1125"/>
              </a:spcBef>
              <a:buClr>
                <a:srgbClr val="fab400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ref = 3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55000"/>
              </a:lnSpc>
              <a:spcBef>
                <a:spcPts val="1125"/>
              </a:spcBef>
              <a:buClr>
                <a:srgbClr val="fab400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f = 400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55000"/>
              </a:lnSpc>
              <a:spcBef>
                <a:spcPts val="1125"/>
              </a:spcBef>
              <a:buClr>
                <a:srgbClr val="fab400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meas = 1.65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8CE7-52FF-4BC2-B1A6-621BD5A08FD3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D54D10A-E74A-472B-8D7A-B226197F3F9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2040" y="279000"/>
            <a:ext cx="83599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ame Model should work in 2 applications ?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92040" y="1312920"/>
            <a:ext cx="8359920" cy="45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4160" indent="-254160">
              <a:lnSpc>
                <a:spcPct val="105000"/>
              </a:lnSpc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the cell is in low speed mode,  there will be no difference in I-V or V-t curves between upstream and downstream modes and hence there is only one model defin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105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the same model has to cater to 2 kinds of applications with varying Vref, Rref and Cre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105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ossible with the single [Model] 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105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of same model with different names for upstream and downstream,  with models varying in their Vref, Cref, &amp; Rref can be done. But it will result in redundancy of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105000"/>
              </a:lnSpc>
              <a:spcBef>
                <a:spcPts val="11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IS community can look into this iss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4E2A-EA36-4466-9D39-C4C543E3983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267494F-9BCA-4536-8E43-7A28D065B9B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2040" y="279360"/>
            <a:ext cx="8359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2040" y="1312560"/>
            <a:ext cx="83599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4160" indent="-254160">
              <a:lnSpc>
                <a:spcPct val="105000"/>
              </a:lnSpc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105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s of US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105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105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eleton of USB IBIS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105000"/>
              </a:lnSpc>
              <a:spcBef>
                <a:spcPts val="11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 Ope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105000"/>
              </a:lnSpc>
              <a:spcBef>
                <a:spcPts val="112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r Ope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105000"/>
              </a:lnSpc>
              <a:spcBef>
                <a:spcPts val="11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view of USB IBIS Mod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105000"/>
              </a:lnSpc>
              <a:spcBef>
                <a:spcPts val="11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a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105000"/>
              </a:lnSpc>
              <a:spcBef>
                <a:spcPts val="1125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stions/Sugges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392E-9A96-421B-BA75-B675FDE2E4F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9F276CA5-7219-4590-BB6C-705578342CC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92040" y="279000"/>
            <a:ext cx="83599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92040" y="931680"/>
            <a:ext cx="835992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4160" indent="-254160">
              <a:lnSpc>
                <a:spcPct val="95000"/>
              </a:lnSpc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B has 2 complementary single ended drivers , 2 complementary single ended receivers and a differential receiver with full swing signa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95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ossible to model both single ended and differential receiver in IBIS in a single mod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54160">
              <a:lnSpc>
                <a:spcPct val="9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posal : IBIS has to provide new specification to support this type of buff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95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Full speed model and low speed models both have same driver characteristics, simulating the model for these curv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ic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not requ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54160">
              <a:lnSpc>
                <a:spcPct val="9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posal : IBIS can support new specifications as suggested to reduce the time required in  model gen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95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the same model should cater to 2 kinds of applications with varying Vref, Cref &amp; Rref it is not possible with single IBIS mod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54160">
              <a:lnSpc>
                <a:spcPct val="9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posal : There should be an option to override the default values of Rref, Cref and Vref when using IBIS mod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BFF3-6406-413F-9995-923E280A43B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D7766DAB-955C-4033-BAFF-0DACA3E2B63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92040" y="279000"/>
            <a:ext cx="835992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04640" y="1198440"/>
            <a:ext cx="8359920" cy="46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4160" indent="-254160">
              <a:lnSpc>
                <a:spcPct val="85000"/>
              </a:lnSpc>
              <a:spcBef>
                <a:spcPts val="1012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al Serial Bus Revision 2.0 specification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ttp://www.usb.org/developers/do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5000"/>
              </a:lnSpc>
              <a:spcBef>
                <a:spcPts val="1012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ing in USB Consumer Applications by Eva Murphy  &amp; Padraig Fitzgerald , Analog Devices          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ttp://www.analog.com/library/analogDialogue/archives/40-01/usb_switch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5000"/>
              </a:lnSpc>
              <a:spcBef>
                <a:spcPts val="1012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IS 4.2 Specification Document      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ttp://vhdl.org/pub/ibis/ver4.2/ver4_2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5000"/>
              </a:lnSpc>
              <a:spcBef>
                <a:spcPts val="1012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IS Cookbook       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ttp://www.vhdl.org/pub/ibis/cookbook/cookbook-v4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5000"/>
              </a:lnSpc>
              <a:spcBef>
                <a:spcPts val="1012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tion to IBIS models and IBIS model making by Arpad Muranyi at Intel Corp. Nov. 3 &amp; 4, 200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5000"/>
              </a:lnSpc>
              <a:spcBef>
                <a:spcPts val="1012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IS Modeling for High Speed Designs by Dr. Lynne Green - JEDEX 2004 IBIS Workshop, April 16, 200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5000"/>
              </a:lnSpc>
              <a:spcBef>
                <a:spcPts val="1012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IS Models @ 1.25GHz and Beyond by Bob Haller, Barry Katz, Kevin M. Fisher - DESIGNCON EAST June 23, 200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8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E508-BBEB-4722-BDF0-D70C173A769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3F302780-39AF-49EE-B5AA-0A1994CF8B0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91680" y="1312560"/>
            <a:ext cx="410364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4160" indent="-254160">
              <a:lnSpc>
                <a:spcPct val="465000"/>
              </a:lnSpc>
              <a:spcBef>
                <a:spcPts val="1012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s 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465000"/>
              </a:lnSpc>
              <a:spcBef>
                <a:spcPts val="1012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ent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465000"/>
              </a:lnSpc>
              <a:spcBef>
                <a:spcPts val="1012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ggestio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10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3548160" y="1147680"/>
            <a:ext cx="664920" cy="1560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5"/>
          <a:stretch/>
        </p:blipFill>
        <p:spPr>
          <a:xfrm>
            <a:off x="4618080" y="3114720"/>
            <a:ext cx="1878120" cy="11430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6"/>
          <a:stretch/>
        </p:blipFill>
        <p:spPr>
          <a:xfrm>
            <a:off x="3298680" y="4632480"/>
            <a:ext cx="1365480" cy="104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7460-BFEE-4B62-BEFD-40E0D21B2903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58C6DA3-6354-4AA8-A4BA-8BB55802AE3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"/>
          <p:cNvGrpSpPr/>
          <p:nvPr/>
        </p:nvGrpSpPr>
        <p:grpSpPr>
          <a:xfrm>
            <a:off x="0" y="0"/>
            <a:ext cx="9144000" cy="6868800"/>
            <a:chOff x="0" y="0"/>
            <a:chExt cx="9144000" cy="6868800"/>
          </a:xfrm>
        </p:grpSpPr>
        <p:sp>
          <p:nvSpPr>
            <p:cNvPr id="211" name=""/>
            <p:cNvSpPr/>
            <p:nvPr/>
          </p:nvSpPr>
          <p:spPr>
            <a:xfrm>
              <a:off x="0" y="0"/>
              <a:ext cx="9144000" cy="6868800"/>
            </a:xfrm>
            <a:prstGeom prst="rect">
              <a:avLst/>
            </a:prstGeom>
            <a:solidFill>
              <a:srgbClr val="f9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610320" y="0"/>
              <a:ext cx="2533680" cy="6868800"/>
            </a:xfrm>
            <a:prstGeom prst="rect">
              <a:avLst/>
            </a:prstGeom>
            <a:solidFill>
              <a:srgbClr val="c9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06880" y="0"/>
              <a:ext cx="2516040" cy="6868800"/>
            </a:xfrm>
            <a:prstGeom prst="rect">
              <a:avLst/>
            </a:prstGeom>
            <a:solidFill>
              <a:srgbClr val="7bb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738520" y="0"/>
              <a:ext cx="699840" cy="6868800"/>
            </a:xfrm>
            <a:prstGeom prst="rect">
              <a:avLst/>
            </a:prstGeom>
            <a:solidFill>
              <a:srgbClr val="7b80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537160" y="0"/>
              <a:ext cx="1258920" cy="6868800"/>
            </a:xfrm>
            <a:prstGeom prst="rect">
              <a:avLst/>
            </a:prstGeom>
            <a:solidFill>
              <a:srgbClr val="58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2020-ADBE-4398-B5CE-0821BC3DEB9C}" type="slidenum">
              <a:t>2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9499E22-14F1-4FC5-BDE7-D8C23331F6C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2040" y="279360"/>
            <a:ext cx="8359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36680" y="1592280"/>
            <a:ext cx="5643360" cy="15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54160" indent="-254160">
              <a:lnSpc>
                <a:spcPct val="105000"/>
              </a:lnSpc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’s special in USB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5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ended and Differential Receivers connected to the same nod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161040" y="1349280"/>
            <a:ext cx="2409840" cy="21970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46040" y="3546360"/>
            <a:ext cx="5700600" cy="7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54160" indent="-254160">
              <a:lnSpc>
                <a:spcPct val="105000"/>
              </a:lnSpc>
              <a:spcBef>
                <a:spcPts val="24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the problem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FE53-0C30-4363-A905-61B8BE30A8EF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51D4D45F-B990-4841-99E9-5322151EC37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2040" y="279360"/>
            <a:ext cx="8359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des of USB</a:t>
            </a:r>
            <a:br>
              <a:rPr sz="3000"/>
            </a:b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392040" y="906480"/>
            <a:ext cx="8562960" cy="5040360"/>
            <a:chOff x="392040" y="906480"/>
            <a:chExt cx="8562960" cy="5040360"/>
          </a:xfrm>
        </p:grpSpPr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392040" y="906480"/>
              <a:ext cx="8562960" cy="504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 txBox="1"/>
            <p:nvPr/>
          </p:nvSpPr>
          <p:spPr>
            <a:xfrm>
              <a:off x="392040" y="906480"/>
              <a:ext cx="8562960" cy="504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rmAutofit/>
            </a:bodyPr>
            <a:p>
              <a:pPr marL="254160" indent="-254160">
                <a:lnSpc>
                  <a:spcPct val="10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BB6A-E9A9-46E2-9F4B-FD2314FDAFAD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3A582177-8234-4674-B559-CE536B8A908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2040" y="279360"/>
            <a:ext cx="835992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lock Diagr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2040" y="1312920"/>
            <a:ext cx="856296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54160" indent="-254160"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4228920" y="1104840"/>
            <a:ext cx="533160" cy="482760"/>
          </a:xfrm>
          <a:prstGeom prst="flowChartExtra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4317840" y="3619440"/>
            <a:ext cx="533160" cy="482760"/>
          </a:xfrm>
          <a:prstGeom prst="flowChartExtra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16200000">
            <a:off x="2806920" y="1612440"/>
            <a:ext cx="533160" cy="482760"/>
          </a:xfrm>
          <a:prstGeom prst="flowChartExtra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2768400" y="3060360"/>
            <a:ext cx="533520" cy="482760"/>
          </a:xfrm>
          <a:prstGeom prst="flowChartExtra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3848040" y="2298240"/>
            <a:ext cx="533160" cy="482400"/>
          </a:xfrm>
          <a:prstGeom prst="flowChartExtra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71880" y="1346040"/>
            <a:ext cx="2095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62440" y="1346040"/>
            <a:ext cx="139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58920" y="3848040"/>
            <a:ext cx="2197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51360" y="3860640"/>
            <a:ext cx="139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89320" y="3301920"/>
            <a:ext cx="2311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340080" y="1866960"/>
            <a:ext cx="2235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46320" y="3289320"/>
            <a:ext cx="673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33720" y="1854360"/>
            <a:ext cx="698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2146320" y="2540160"/>
            <a:ext cx="1727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56000" y="2400480"/>
            <a:ext cx="863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356000" y="2692440"/>
            <a:ext cx="863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575320" y="133344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219640" y="187956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232240" y="26924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34320" y="360828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x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57720" y="3049560"/>
            <a:ext cx="5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x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91560" y="23893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461600" y="1119240"/>
            <a:ext cx="62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x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34240" y="16398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x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34040" y="1106640"/>
            <a:ext cx="75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81560" y="3659040"/>
            <a:ext cx="7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7760" y="4627440"/>
            <a:ext cx="742536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54160" indent="-254160">
              <a:lnSpc>
                <a:spcPct val="55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iver is essentially two parallel single ended buffers (D+ &amp; D-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55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er has 2 pa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55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parallel single ended buffers carrying complementary signals (Rx+ &amp; Rx-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55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receiver (R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55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gnals at both the driver and receiver side ar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ll swing signal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1219320"/>
            <a:ext cx="546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46640" y="2502000"/>
            <a:ext cx="546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59600" y="2260440"/>
            <a:ext cx="558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59600" y="1168560"/>
            <a:ext cx="533160" cy="342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248520" y="3670200"/>
            <a:ext cx="533160" cy="3430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87920" y="331488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5858-3F09-4C9D-91DC-50BD79FD00FE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D0AEE24-5DDC-48CC-9969-D60885DA837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2040" y="279360"/>
            <a:ext cx="8359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keleton of USB IBIS mod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1680" y="944280"/>
            <a:ext cx="84358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248760" indent="0">
              <a:lnSpc>
                <a:spcPct val="5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[IBIS V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      3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8760" indent="0">
              <a:lnSpc>
                <a:spcPct val="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8760" indent="0">
              <a:lnSpc>
                <a:spcPct val="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8760" indent="0">
              <a:lnSpc>
                <a:spcPct val="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8760" indent="0">
              <a:lnSpc>
                <a:spcPct val="4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[Manufacturer]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NXP Semiconduc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8760" indent="0">
              <a:lnSpc>
                <a:spcPct val="4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8760" indent="0">
              <a:lnSpc>
                <a:spcPct val="4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8760" indent="0">
              <a:lnSpc>
                <a:spcPct val="2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[Pin]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gnal_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_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_pi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_pi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_p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8760" indent="0">
              <a:lnSpc>
                <a:spcPct val="3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wo_speed_buffer_D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0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0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0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8760" indent="0">
              <a:lnSpc>
                <a:spcPct val="3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wo_speed_buffer_D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0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0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0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8760" indent="0">
              <a:lnSpc>
                <a:spcPct val="1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8760" indent="0">
              <a:lnSpc>
                <a:spcPct val="1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8760" indent="0">
              <a:lnSpc>
                <a:spcPct val="1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8760" indent="0">
              <a:lnSpc>
                <a:spcPct val="3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[Diff Pin]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v_pin      vdiff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delay_typ      tdelay_min     tdelay_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8760" indent="0">
              <a:lnSpc>
                <a:spcPct val="3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200mv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N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8760" indent="0">
              <a:lnSpc>
                <a:spcPct val="2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8760" indent="0">
              <a:lnSpc>
                <a:spcPct val="2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8760" indent="0">
              <a:lnSpc>
                <a:spcPct val="2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8760" indent="0">
              <a:lnSpc>
                <a:spcPct val="2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[Model Selector]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wo_speed_buffer_D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8760" indent="0">
              <a:lnSpc>
                <a:spcPct val="3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B_F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ll speed operation of US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8760" indent="0">
              <a:lnSpc>
                <a:spcPct val="2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B_L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w speed operation of US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8760" indent="0">
              <a:lnSpc>
                <a:spcPct val="2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8760" indent="0">
              <a:lnSpc>
                <a:spcPct val="2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8760" indent="0">
              <a:lnSpc>
                <a:spcPct val="2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8760" indent="0">
              <a:lnSpc>
                <a:spcPct val="2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[Model]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USB_FS | of us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8760" indent="0">
              <a:lnSpc>
                <a:spcPct val="5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el_type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I/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8760" indent="0">
              <a:lnSpc>
                <a:spcPct val="5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larit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Non-Inver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8760" indent="0">
              <a:lnSpc>
                <a:spcPct val="5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able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Active-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8760" indent="0">
              <a:lnSpc>
                <a:spcPct val="5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  Reciever Threshol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8760" indent="0">
              <a:lnSpc>
                <a:spcPct val="5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n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= 0.8V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 USB Spec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8760" indent="0">
              <a:lnSpc>
                <a:spcPct val="5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nh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= 2.0V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 USB Spec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6F65-1DEF-40EF-AA30-FBEB6F57504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CE0D4B24-B345-455B-AB5E-F0DAED6A2BE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2040" y="279360"/>
            <a:ext cx="8359920" cy="67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river Oper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2040" y="969840"/>
            <a:ext cx="8359920" cy="50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4160" indent="-254160">
              <a:lnSpc>
                <a:spcPct val="105000"/>
              </a:lnSpc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 is essentially 2 parallel single ended driv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105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raction of I-V and V-t data can be done individu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105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he four I-V curves [Gnd Clamp] [Power Clamp] [Pullup] &amp; [Pulldown] are extracted for each pin by considering each one as a separate buff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105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ly V-t curves [Rising Waveform] &amp; [Falling Waveform] can be done. R_fixture has to be 45 ohm as the USB line will be terminated with 45 ohm Single ended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105000"/>
              </a:lnSpc>
              <a:spcBef>
                <a:spcPts val="11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C_comp can be calculated separately for each p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56AA-9515-495E-BD82-F499E29B16D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81F0300-4FA3-40EB-A111-01F44865DD0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2040" y="279000"/>
            <a:ext cx="83599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ceiver Operation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art 1 : Single Ended Receiv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16200000">
            <a:off x="3225600" y="2006280"/>
            <a:ext cx="533520" cy="482760"/>
          </a:xfrm>
          <a:prstGeom prst="flowChartExtra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16200000">
            <a:off x="3187440" y="3454200"/>
            <a:ext cx="533520" cy="482760"/>
          </a:xfrm>
          <a:prstGeom prst="flowChartExtra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708360" y="3695760"/>
            <a:ext cx="2311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759120" y="2260440"/>
            <a:ext cx="2235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65360" y="3683160"/>
            <a:ext cx="673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52760" y="2247840"/>
            <a:ext cx="6984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976760" y="3443400"/>
            <a:ext cx="5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x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53280" y="20336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x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956200" y="2008080"/>
            <a:ext cx="75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06960" y="2044800"/>
            <a:ext cx="533520" cy="342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952960" y="3481560"/>
            <a:ext cx="7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19920" y="3492360"/>
            <a:ext cx="533160" cy="3430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63640" y="4351320"/>
            <a:ext cx="7413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54160" indent="-254160">
              <a:lnSpc>
                <a:spcPct val="75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gnal at Rx+ (Rx-) will be low only when  signal at D+ (D-) is below 0.8 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gnal at Rx+ (Rx-) will be high only when  signal at D+ (D-) is above 2.0 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ysteresis paramet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9578-6D9E-4BC9-B195-E2A65FE76982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E8BB10AF-A93D-4770-95FD-217F5627FC1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1720" y="291960"/>
            <a:ext cx="835992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art 2 : Differential Receiver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17600" y="2417760"/>
          <a:ext cx="8003880" cy="2690640"/>
        </p:xfrm>
        <a:graphic>
          <a:graphicData uri="http://schemas.openxmlformats.org/drawingml/2006/table">
            <a:tbl>
              <a:tblPr/>
              <a:tblGrid>
                <a:gridCol w="2667600"/>
                <a:gridCol w="2668680"/>
                <a:gridCol w="2667600"/>
              </a:tblGrid>
              <a:tr h="5374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MVR=((D+)+(D-))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 = (D+)-(D-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V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≤CMVR≤2.5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≥200m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 (core logic HIGH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4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V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≤CMVR≤2.5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≤-200m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 (core logic LOW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4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Diff|&lt;200m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defin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V&gt;CMVR&gt;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defin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635040" y="5440320"/>
            <a:ext cx="387180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54160" indent="-254160">
              <a:lnSpc>
                <a:spcPct val="55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VR = Common Mode Voltage R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55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 = Input Sensi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4038480" y="1308240"/>
            <a:ext cx="533520" cy="482400"/>
          </a:xfrm>
          <a:prstGeom prst="flowChartExtra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2336760" y="1549440"/>
            <a:ext cx="1727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46440" y="1409760"/>
            <a:ext cx="863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46440" y="1701720"/>
            <a:ext cx="863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410080" y="88884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423040" y="170172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82360" y="130968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473800" y="826920"/>
            <a:ext cx="75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511960" y="851040"/>
            <a:ext cx="533160" cy="342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419800" y="1982880"/>
            <a:ext cx="7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86400" y="1994040"/>
            <a:ext cx="533520" cy="342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7D23-F1DB-4647-A70F-DD7AA2FA6727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72B2DF5C-FE9D-4CE3-A729-E3FF6304A20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11:40:17Z</dcterms:created>
  <dc:creator/>
  <dc:description/>
  <dc:language>en-US</dc:language>
  <cp:lastModifiedBy/>
  <dcterms:modified xsi:type="dcterms:W3CDTF">2007-01-29T09:49:58Z</dcterms:modified>
  <cp:revision>390</cp:revision>
  <dc:subject>Guidelines for presentations</dc:subject>
  <dc:title>NXP PowerPoint template (Title) Template for presentations (Subtitle)</dc:title>
</cp:coreProperties>
</file>