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7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AF3C2A8-6E32-4B9F-A2C5-1170E17FAFD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X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200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nta Clara, Califor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bruary 1, 200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X Closur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ral types of exception cases show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ndors might handle cases different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Real characterization with “X”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odify model with or without “X”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everal models covering several cas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gnor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in point is that “X” means the exceptions are known, and some resolutions might be suggest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X for Exception Design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im Helliwell, “IBIS Quality Committee Report”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www.eda.org/pub/ibis/summits/feb07/helliwell.pd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exceptions exi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” means exception is noted (DOCUMENTE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exa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-V Glitch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-V tables not crossing 0 V, 0 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DRII (BUG93) – Error in ibischk4 pars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ill discussing best approach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3352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[Power Clamp] extraction (2Vdd to Vdd) with real shutdown protection circuit “glitch” of about 110 uA in clamp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380880"/>
            <a:ext cx="4953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ull [Power Clamp] internal pullup from 2Vdd to -Vdd with “glit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bischk4 giv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uld use “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ill some tools reject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457200"/>
            <a:ext cx="4648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ne choice: remove “glitch” to maximize tool 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bischk4 Warning g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hould we still mark with “X” because overshoot simulations might be dist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520"/>
            <a:ext cx="76212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CML Stearing Logic [Pulldown] Tables Produce Quality Document 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p-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DT [Power Clam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AIN [Pulldow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Driver Schedul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[Pulldow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caled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OST [Pulldow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caled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35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76520" y="3352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352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343400" y="41907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09680" y="2286000"/>
            <a:ext cx="2743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514240" y="2971800"/>
            <a:ext cx="1676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97180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05320" y="1523880"/>
            <a:ext cx="4572000" cy="314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3.10  {LEVEL 3}  [Pulldown] I-V tables pass through zero/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yp, Min, and Max Pulldown table currents should all pass through zero at zero volts from ground (cmos). These three pull down tables should pass through zero/zero except in special cases (i.e. Differential, PECL, LVDS, or SERDES driv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 ibischk4 Warnings, but should exceptions be documented with “X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r should this be left without com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Could become a future Caution 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arser Error for DDRII Model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295280"/>
            <a:ext cx="556236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Model Selector]      DDRII_DIFFCLKIO_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DRII_DIFFCLKIO_75    75 Ohm On Die Termination   | Defau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DRII_DIFFCLKIO_150   150 Ohm On Die 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DRII_DIFFCLKIO_NO    No On Die 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Model]  DDRII_DIFFCLKIO_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Receiver Threshold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th = 0.9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th_min = 0.882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th_max = 0.91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reshold_sensitivity = 0.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ference_supply Power_clamp_r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inh_ac = +250m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inh_dc = +50m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inl_ac = -250m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inl_dc = -50m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slew_ac = 300ps   | Based on JEDEC STANDARD JESD8-1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 Differential parameters (generates Warning message when ad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 Vdiff_ac = +500m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 Vdiff_dc = +100m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181480"/>
            <a:ext cx="274320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209680"/>
            <a:ext cx="4724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ad Warning for differential specifications with [Diff Pin], [Receiver Thresholds], and [Model Selector] (for setting on-die terminator) – BUG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ent the mod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X Dilemma – Parser Giv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Wrong Warning/Error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rect model with Warning/Error NOW, but in future, no Error or Warning (E.g., BUG93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rect model and “X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Yes for covering lag in EDA tool parser updat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 because model is correct even though ibischk4 flags problem today (but then user is confused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ent model parameters and “X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Yes to document modification and suggest future chang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, should not depend on user chang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 discus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7-01-25T06:54:25Z</dcterms:modified>
  <cp:revision>624</cp:revision>
  <dc:subject/>
  <dc:title>IBIS</dc:title>
</cp:coreProperties>
</file>