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D5C4-EC10-4735-A31D-94110897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C15-87C4-4325-809E-59624D3B0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562DA-FCB8-4450-A0B9-84535ECE9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62355-0377-4552-AEB5-44BF033C9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39240-DD18-4555-A614-C215D08A4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9732-7A54-4D00-B1F7-13D821CE1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629B-ED10-4DE4-B23C-DF1C6AA4D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12CCC-1088-4C57-BF98-50FA14D7F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C54DC-588B-4955-BA7E-F869DC3C9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735AF-06BF-4C9B-B7E5-256D703B2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6D825-35CD-4EAC-9CD3-3BBE13453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8DB-6603-4F67-AB51-309833E63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4355-61E4-4523-8BC2-D67698278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1EB27-8EFF-4823-B497-AAC3429D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BFCF5-393F-4213-8931-3A4E211C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23D79-7867-4CF6-8DE2-FF8E0A4A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A4D0C-894D-4244-882F-A80213800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201A-88EA-4AC2-96B4-F92ED086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3783-46A8-4BC1-AF2A-A757E641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E21A-0840-4019-AFE6-C9B4EED5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2CD-BFC6-4509-A8C3-CA044AE08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C681-209A-4380-94BD-01DFD0EE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57BAA-D910-4951-B337-52E8090D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1787-F238-4990-A87D-0432272F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7 IBIS Summit at Design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03BD3-FFAB-4A8E-8F03-2A4958ADF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2351160"/>
          <a:ext cx="3414960" cy="29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351160"/>
                    <a:ext cx="34149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group.org/ibis/" TargetMode="External"/><Relationship Id="rId2" Type="http://schemas.openxmlformats.org/officeDocument/2006/relationships/hyperlink" Target="http://www.eda-stds.org/ibis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eetimes.com/news/design/showArticle.jhtml?articleID=190900760" TargetMode="External"/><Relationship Id="rId2" Type="http://schemas.openxmlformats.org/officeDocument/2006/relationships/hyperlink" Target="http://www.eetimes.com/news/design/showArticle.jhtml?articleID=190900760" TargetMode="External"/><Relationship Id="rId3" Type="http://schemas.openxmlformats.org/officeDocument/2006/relationships/hyperlink" Target="http://www.eetimes.com/news/design/showArticle.jhtml?articleID=190900760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geia.org/" TargetMode="External"/><Relationship Id="rId2" Type="http://schemas.openxmlformats.org/officeDocument/2006/relationships/hyperlink" Target="http://www.geia.org/index.asp?bid=457" TargetMode="External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24200" y="699120"/>
            <a:ext cx="69148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Chair’s Report</a:t>
            </a:r>
            <a:br>
              <a:rPr sz="4400"/>
            </a:b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nd Issues Summary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EIA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Con 2007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1,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igroup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www.eda-stds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6920" y="6145200"/>
            <a:ext cx="555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esentation is best viewed in “build”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69B24-9DBD-4FB2-AC15-29EB05DE8B2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371160" y="237240"/>
            <a:ext cx="78008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Direction and Proposal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952560"/>
            <a:ext cx="822960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2006, 60% of North American users were satisfied                    with schematic capture tools, 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t only 35% said they                      were satisfied with signal integrity… Results from            Europe and Asia were similar.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th American concern about EDA increased in 2006 regarding “signal integrity, thermal/EMI and IC package parasitic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North America: “40% use signal integrity analysis, and an additional 24% expect to use it in two year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tisfaction was lowest in all geographies with cost of ownership, cost of purchase,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ilit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utomation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" y="5634000"/>
            <a:ext cx="828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: EE Times 2006 EDA Tool User Survey (PCB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www.eetimes.com/news/design/showArticle.jhtml?articleID</a:t>
            </a:r>
            <a:r>
              <a:rPr b="0" lang="en-US" sz="1800" spc="-1" strike="noStrike" u="sng">
                <a:solidFill>
                  <a:srgbClr val="ff3300"/>
                </a:solidFill>
                <a:uFillTx/>
                <a:latin typeface="Arial"/>
                <a:hlinkClick r:id="rId3"/>
              </a:rPr>
              <a:t>=1909007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" y="4308480"/>
            <a:ext cx="7905600" cy="126684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audience for SI models is expand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should increase our focus on cookbooks, templat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 tools for the “middle group” of builders and us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086600" y="657360"/>
            <a:ext cx="1886040" cy="1552320"/>
          </a:xfrm>
          <a:custGeom>
            <a:avLst/>
            <a:gdLst>
              <a:gd name="textAreaLeft" fmla="*/ 471600 w 1886040"/>
              <a:gd name="textAreaRight" fmla="*/ 1414800 w 1886040"/>
              <a:gd name="textAreaTop" fmla="*/ 388080 h 1552320"/>
              <a:gd name="textAreaBottom" fmla="*/ 1164240 h 155232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4A3-B03B-419E-9240-23BB25926D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828360" y="316152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BACKUP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D8D3-4D90-4089-A970-19202E1BD4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60360" y="2639880"/>
            <a:ext cx="8381880" cy="149724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6560" y="51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Structur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16" name=""/>
          <p:cNvSpPr/>
          <p:nvPr/>
        </p:nvSpPr>
        <p:spPr>
          <a:xfrm>
            <a:off x="3189240" y="4281480"/>
            <a:ext cx="2741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IBIS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(“IBIS Open Foru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880" y="5697360"/>
            <a:ext cx="3337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EIA is an ANSI-accredited standards bod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79880" y="1616040"/>
            <a:ext cx="274140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1"/>
              </a:rPr>
              <a:t>G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62640" y="2521080"/>
            <a:ext cx="0" cy="471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543480" y="3006720"/>
            <a:ext cx="2049120" cy="70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3300"/>
                </a:solidFill>
                <a:uFillTx/>
                <a:latin typeface="Arial"/>
                <a:ea typeface="Arial"/>
                <a:hlinkClick r:id="rId2"/>
              </a:rPr>
              <a:t>SST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  <a:ea typeface="Arial"/>
              </a:rPr>
              <a:t>Systems, Standar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0099"/>
                </a:solidFill>
                <a:latin typeface="Arial"/>
                <a:ea typeface="Arial"/>
              </a:rPr>
              <a:t>&amp; Technology Counc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0" y="369396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500120" y="2778120"/>
            <a:ext cx="5842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7640" y="375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ci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11280" y="2787480"/>
            <a:ext cx="0" cy="22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0040" y="2998800"/>
            <a:ext cx="2049480" cy="70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Health C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235560" y="3000240"/>
            <a:ext cx="2049480" cy="701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Ot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35720" y="2779560"/>
            <a:ext cx="0" cy="22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46960" y="3294000"/>
            <a:ext cx="184608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Homeland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Committe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E16-5BDA-40ED-9839-7C57ACCE52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360360" y="2363760"/>
            <a:ext cx="8381880" cy="152712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56680" y="511920"/>
            <a:ext cx="8649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Task Group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3178080" y="1285920"/>
            <a:ext cx="2741760" cy="914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IBIS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(“IBIS Open Foru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243320" y="2728800"/>
            <a:ext cx="18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55600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vanced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Arpad Muranyi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422360" y="2589120"/>
            <a:ext cx="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650000" y="2587680"/>
            <a:ext cx="180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72948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ke LaBonte,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14440" y="2581200"/>
            <a:ext cx="6248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516640" y="2576520"/>
            <a:ext cx="1440" cy="1620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81560" y="2587680"/>
            <a:ext cx="1440" cy="16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548240" y="2195640"/>
            <a:ext cx="1440" cy="390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602240" y="274788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Lynne Gre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Green Streak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9640" y="4000680"/>
            <a:ext cx="8148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Notes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Cookbook Task Group has been suspended until critical mass of needed changes is achie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e Futures and Macromodeling Library groups have been combined into the Advanced Technology 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DA vendors comprise Model Review, independently reviewing received models and providing feedback to model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uthors; no specification changes are recommended by this group and it does not hold meet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93560" y="4962600"/>
            <a:ext cx="8409240" cy="13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ipation in the IBIS Task Groups is open to IBIS members and th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neral public alik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 are created and Chairs appointed by the IBIS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issues are handled by Ad Hoc teams for BIRD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23800" y="274464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 Hoc - Inter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chael Mirmak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9A51-0401-4B8F-BAAB-0B32EE11825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6560" y="5119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IBIS Boar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6" name=""/>
          <p:cNvSpPr/>
          <p:nvPr/>
        </p:nvSpPr>
        <p:spPr>
          <a:xfrm>
            <a:off x="500040" y="134316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1480" y="217008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Vice-Ch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01480" y="296064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Secre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19120" y="379404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Web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8480" y="460368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Postma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0560" y="5454720"/>
            <a:ext cx="2741760" cy="48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Model Librari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65520" y="1179360"/>
            <a:ext cx="290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final approver of specification ball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s Task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ks Finan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meetings and summ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7400" y="122544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64440" y="2184480"/>
            <a:ext cx="377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meetings and summits in Chair’s abs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acts as US summit registration cont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98840" y="204480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15480" y="3003480"/>
            <a:ext cx="359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cks balloting, membership and GEIA rel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meeting and summit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492360" y="286236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607200" y="3803760"/>
            <a:ext cx="405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all web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focus on events, specifications, roster and to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484440" y="366228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590280" y="4630680"/>
            <a:ext cx="447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IBIS reflectors (IBIS, IBIS-User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“first responder” to questions from non-list particip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68600" y="4489560"/>
            <a:ext cx="214560" cy="744480"/>
          </a:xfrm>
          <a:custGeom>
            <a:avLst/>
            <a:gdLst>
              <a:gd name="textAreaLeft" fmla="*/ 137160 w 214560"/>
              <a:gd name="textAreaRight" fmla="*/ 214920 w 21456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582360" y="5581800"/>
            <a:ext cx="303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intains on-line model reference libr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459240" y="5324400"/>
            <a:ext cx="214200" cy="744480"/>
          </a:xfrm>
          <a:custGeom>
            <a:avLst/>
            <a:gdLst>
              <a:gd name="textAreaLeft" fmla="*/ 136800 w 214200"/>
              <a:gd name="textAreaRight" fmla="*/ 214560 w 214200"/>
              <a:gd name="textAreaTop" fmla="*/ 19080 h 744480"/>
              <a:gd name="textAreaBottom" fmla="*/ 725400 h 744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58EC-153D-4D1F-BE9F-0CA0C2FAB3F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73160" y="1460520"/>
            <a:ext cx="86659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tional 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k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RD Que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BIS Efforts and th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219240" y="332280"/>
            <a:ext cx="8696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"/>
          <p:cNvSpPr/>
          <p:nvPr/>
        </p:nvSpPr>
        <p:spPr>
          <a:xfrm>
            <a:off x="6953400" y="133200"/>
            <a:ext cx="2038320" cy="24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937-20F6-48E5-90EE-0E2D1DAFDF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953400" y="133200"/>
            <a:ext cx="2038320" cy="24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42720" y="961560"/>
            <a:ext cx="8591400" cy="466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osed 2006 with two successful summits in Shanghai and Toky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Planning a Fall 2007 event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ser and Specificatio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4.2 being standardized through AN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CHK4 improvements under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es BUGs 83, 84 and 90-9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Expect announcements on both in Q2’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Closed 2006 with revenues significantly over expe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Organizational Statu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723960" y="5479920"/>
            <a:ext cx="7620120" cy="74304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ecting healthy budget and membersh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umbers in 200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9732-BD0F-4F7F-B05A-C2A32CD10A7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9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7600" y="245160"/>
            <a:ext cx="87346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Membership Trend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76440" y="893880"/>
            <a:ext cx="8102520" cy="55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6CF9-E9ED-4E51-A409-D7EF647111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218880" y="332280"/>
            <a:ext cx="87152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IBIS Task Group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2" name=""/>
          <p:cNvSpPr/>
          <p:nvPr/>
        </p:nvSpPr>
        <p:spPr>
          <a:xfrm>
            <a:off x="369720" y="1859040"/>
            <a:ext cx="8382240" cy="148896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sk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87800" y="1019160"/>
            <a:ext cx="2741400" cy="676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  <a:ea typeface="Arial"/>
              </a:rPr>
              <a:t>IBIS Commit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99"/>
                </a:solidFill>
                <a:latin typeface="Arial"/>
                <a:ea typeface="Arial"/>
              </a:rPr>
              <a:t>(“IBIS Open Forum”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53040" y="2224080"/>
            <a:ext cx="14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565360" y="224316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vanced Technolo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ing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Arpad Muranyi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2084400"/>
            <a:ext cx="0" cy="165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3800" y="223992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d Hoc - Inter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chael Mirmak, Int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59720" y="2082960"/>
            <a:ext cx="144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38840" y="224316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Mike LaBonte, Cis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24160" y="2076480"/>
            <a:ext cx="624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526000" y="2071800"/>
            <a:ext cx="1800" cy="1616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90920" y="2082960"/>
            <a:ext cx="1440" cy="16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57600" y="1690560"/>
            <a:ext cx="1800" cy="390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611600" y="2243160"/>
            <a:ext cx="1828800" cy="6858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odel Revie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Lynne Green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ff"/>
                </a:solidFill>
                <a:latin typeface="Arial"/>
                <a:ea typeface="SimSun"/>
              </a:rPr>
              <a:t>Green Streak Progr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5200" y="3295800"/>
            <a:ext cx="8610840" cy="24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ity Upd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You will hear details about ATM and Quality later 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Model Review already receiving requests in 200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d Hoc Interconnect is now completing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mproved S-parameter links to IC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oposal for upgrades to Touchstone®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3960" y="5556240"/>
            <a:ext cx="7620120" cy="68580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r participation is encouraged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56D3-850A-4E6F-9789-01667ED3C8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2280"/>
            <a:ext cx="776304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BIRD Queu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8" name=""/>
          <p:cNvSpPr/>
          <p:nvPr/>
        </p:nvSpPr>
        <p:spPr>
          <a:xfrm>
            <a:off x="723960" y="5241960"/>
            <a:ext cx="7620120" cy="819000"/>
          </a:xfrm>
          <a:prstGeom prst="flowChartAlternateProcess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we making progres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e we missing someth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4480" y="676440"/>
            <a:ext cx="8877240" cy="52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838080" indent="-3808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BIRDs for IBIS 5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74.6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EMI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95.6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Power Integrity Analysis using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RD103.1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[Model Spec] DDR2 Over/Undersh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97.2/98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Gate Modulation Eff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Updates expected after Jan. 26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[External Model] under [Circuit Call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ICM-IBIS L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996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User-Defined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SPICE Parameter Pa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10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2343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9900"/>
                </a:solidFill>
                <a:latin typeface="Arial"/>
              </a:rPr>
              <a:t>BIRD1xx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– Algorithmic Modeling (C AP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67360" y="4476600"/>
            <a:ext cx="333720" cy="657360"/>
          </a:xfrm>
          <a:custGeom>
            <a:avLst/>
            <a:gdLst>
              <a:gd name="textAreaLeft" fmla="*/ 0 w 333720"/>
              <a:gd name="textAreaRight" fmla="*/ 120600 w 333720"/>
              <a:gd name="textAreaTop" fmla="*/ 16920 h 657360"/>
              <a:gd name="textAreaBottom" fmla="*/ 640440 h 657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405920" y="455436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3300"/>
                </a:solidFill>
                <a:latin typeface="Arial"/>
              </a:rPr>
              <a:t>Ne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475320" y="204840"/>
            <a:ext cx="246852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438D-0205-4CB5-A609-A38B81DCAAC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43080" y="1066680"/>
            <a:ext cx="843912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62000" y="170640"/>
            <a:ext cx="885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Shifting Balanc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80880" y="1000080"/>
            <a:ext cx="3638520" cy="4438800"/>
            <a:chOff x="380880" y="1000080"/>
            <a:chExt cx="3638520" cy="4438800"/>
          </a:xfrm>
        </p:grpSpPr>
        <p:sp>
          <p:nvSpPr>
            <p:cNvPr id="127" name=""/>
            <p:cNvSpPr/>
            <p:nvPr/>
          </p:nvSpPr>
          <p:spPr>
            <a:xfrm>
              <a:off x="380880" y="1000080"/>
              <a:ext cx="3638520" cy="4438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71760" y="255276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71640" y="3981600"/>
              <a:ext cx="245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2381040" y="961920"/>
            <a:ext cx="3638520" cy="4438800"/>
            <a:chOff x="2381040" y="961920"/>
            <a:chExt cx="3638520" cy="4438800"/>
          </a:xfrm>
        </p:grpSpPr>
        <p:sp>
          <p:nvSpPr>
            <p:cNvPr id="131" name=""/>
            <p:cNvSpPr/>
            <p:nvPr/>
          </p:nvSpPr>
          <p:spPr>
            <a:xfrm rot="10800000">
              <a:off x="2381040" y="961920"/>
              <a:ext cx="3638520" cy="4438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19440" y="3981600"/>
              <a:ext cx="11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29040" y="2533680"/>
              <a:ext cx="23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18240" y="5592600"/>
            <a:ext cx="1128600" cy="8254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91600" y="830160"/>
            <a:ext cx="1197360" cy="825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371600" y="4276800"/>
            <a:ext cx="2685960" cy="714240"/>
            <a:chOff x="1371600" y="4276800"/>
            <a:chExt cx="2685960" cy="714240"/>
          </a:xfrm>
        </p:grpSpPr>
        <p:sp>
          <p:nvSpPr>
            <p:cNvPr id="137" name=""/>
            <p:cNvSpPr/>
            <p:nvPr/>
          </p:nvSpPr>
          <p:spPr>
            <a:xfrm>
              <a:off x="1371600" y="4276800"/>
              <a:ext cx="2685960" cy="7142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3880" y="4408560"/>
              <a:ext cx="24195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BIS 3.2/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886040" y="2685960"/>
            <a:ext cx="2714400" cy="1171440"/>
            <a:chOff x="1886040" y="2685960"/>
            <a:chExt cx="2714400" cy="1171440"/>
          </a:xfrm>
        </p:grpSpPr>
        <p:sp>
          <p:nvSpPr>
            <p:cNvPr id="140" name=""/>
            <p:cNvSpPr/>
            <p:nvPr/>
          </p:nvSpPr>
          <p:spPr>
            <a:xfrm>
              <a:off x="1886040" y="2685960"/>
              <a:ext cx="2714400" cy="117144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28960" y="2788920"/>
              <a:ext cx="2419200" cy="983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BIS 4.1/4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Multi-lingual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RD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400480" y="1324080"/>
            <a:ext cx="2714400" cy="1009440"/>
            <a:chOff x="2400480" y="1324080"/>
            <a:chExt cx="2714400" cy="1009440"/>
          </a:xfrm>
        </p:grpSpPr>
        <p:sp>
          <p:nvSpPr>
            <p:cNvPr id="143" name=""/>
            <p:cNvSpPr/>
            <p:nvPr/>
          </p:nvSpPr>
          <p:spPr>
            <a:xfrm>
              <a:off x="2400480" y="1324080"/>
              <a:ext cx="2714400" cy="1009440"/>
            </a:xfrm>
            <a:prstGeom prst="flowChartAlternateProcess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52760" y="1446120"/>
              <a:ext cx="2419200" cy="754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IBI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e.g., A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772160" y="4276800"/>
            <a:ext cx="4190760" cy="981000"/>
            <a:chOff x="4772160" y="4276800"/>
            <a:chExt cx="4190760" cy="981000"/>
          </a:xfrm>
        </p:grpSpPr>
        <p:sp>
          <p:nvSpPr>
            <p:cNvPr id="146" name=""/>
            <p:cNvSpPr/>
            <p:nvPr/>
          </p:nvSpPr>
          <p:spPr>
            <a:xfrm>
              <a:off x="4772160" y="4276800"/>
              <a:ext cx="4190760" cy="981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64040" y="4421160"/>
              <a:ext cx="383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imple Timing Analysis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mpedance Match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943600" y="1085760"/>
            <a:ext cx="3086280" cy="1400400"/>
            <a:chOff x="5943600" y="1085760"/>
            <a:chExt cx="3086280" cy="1400400"/>
          </a:xfrm>
        </p:grpSpPr>
        <p:sp>
          <p:nvSpPr>
            <p:cNvPr id="149" name=""/>
            <p:cNvSpPr/>
            <p:nvPr/>
          </p:nvSpPr>
          <p:spPr>
            <a:xfrm>
              <a:off x="5943600" y="1085760"/>
              <a:ext cx="3086280" cy="1400400"/>
            </a:xfrm>
            <a:prstGeom prst="flowChartAlternateProcess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983200" y="1192320"/>
              <a:ext cx="2989440" cy="119124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Equaliz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ignal &amp; Data Process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ulti-GHz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LTI SerDes Syste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5391000" y="2647800"/>
            <a:ext cx="3610080" cy="1401840"/>
            <a:chOff x="5391000" y="2647800"/>
            <a:chExt cx="3610080" cy="1401840"/>
          </a:xfrm>
        </p:grpSpPr>
        <p:sp>
          <p:nvSpPr>
            <p:cNvPr id="152" name=""/>
            <p:cNvSpPr/>
            <p:nvPr/>
          </p:nvSpPr>
          <p:spPr>
            <a:xfrm>
              <a:off x="5391000" y="2647800"/>
              <a:ext cx="3610080" cy="140184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48320" y="2676600"/>
              <a:ext cx="3311640" cy="13136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 &amp; Freq. Depende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djustable Buff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ue Differential Buffe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ower Delive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B7A7-04E4-4F99-824A-AFA1C938EF7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43080" y="1066680"/>
            <a:ext cx="843912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62000" y="170640"/>
            <a:ext cx="885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Where We Expend Eff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80880" y="1000080"/>
            <a:ext cx="3638520" cy="4438800"/>
            <a:chOff x="380880" y="1000080"/>
            <a:chExt cx="3638520" cy="4438800"/>
          </a:xfrm>
        </p:grpSpPr>
        <p:sp>
          <p:nvSpPr>
            <p:cNvPr id="157" name=""/>
            <p:cNvSpPr/>
            <p:nvPr/>
          </p:nvSpPr>
          <p:spPr>
            <a:xfrm>
              <a:off x="380880" y="1000080"/>
              <a:ext cx="3638520" cy="4438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71760" y="255276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971640" y="3981600"/>
              <a:ext cx="245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381040" y="961920"/>
            <a:ext cx="3638520" cy="4438800"/>
            <a:chOff x="2381040" y="961920"/>
            <a:chExt cx="3638520" cy="4438800"/>
          </a:xfrm>
        </p:grpSpPr>
        <p:sp>
          <p:nvSpPr>
            <p:cNvPr id="161" name=""/>
            <p:cNvSpPr/>
            <p:nvPr/>
          </p:nvSpPr>
          <p:spPr>
            <a:xfrm rot="10800000">
              <a:off x="2381040" y="961920"/>
              <a:ext cx="3638520" cy="4438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619440" y="3981600"/>
              <a:ext cx="11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029040" y="2533680"/>
              <a:ext cx="23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318240" y="5592600"/>
            <a:ext cx="1128600" cy="8254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240" y="858960"/>
            <a:ext cx="1197360" cy="825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371600" y="4276800"/>
            <a:ext cx="2685960" cy="714240"/>
            <a:chOff x="1371600" y="4276800"/>
            <a:chExt cx="2685960" cy="714240"/>
          </a:xfrm>
        </p:grpSpPr>
        <p:sp>
          <p:nvSpPr>
            <p:cNvPr id="167" name=""/>
            <p:cNvSpPr/>
            <p:nvPr/>
          </p:nvSpPr>
          <p:spPr>
            <a:xfrm>
              <a:off x="1371600" y="4276800"/>
              <a:ext cx="2685960" cy="7142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23880" y="4408560"/>
              <a:ext cx="24195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BIS 3.2/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1886040" y="2685960"/>
            <a:ext cx="2714400" cy="1171440"/>
            <a:chOff x="1886040" y="2685960"/>
            <a:chExt cx="2714400" cy="1171440"/>
          </a:xfrm>
        </p:grpSpPr>
        <p:sp>
          <p:nvSpPr>
            <p:cNvPr id="170" name=""/>
            <p:cNvSpPr/>
            <p:nvPr/>
          </p:nvSpPr>
          <p:spPr>
            <a:xfrm>
              <a:off x="1886040" y="2685960"/>
              <a:ext cx="2714400" cy="117144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28960" y="2788920"/>
              <a:ext cx="2419200" cy="983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BIS 4.1/4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Multi-lingual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RD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2400480" y="1324080"/>
            <a:ext cx="2714400" cy="1009440"/>
            <a:chOff x="2400480" y="1324080"/>
            <a:chExt cx="2714400" cy="1009440"/>
          </a:xfrm>
        </p:grpSpPr>
        <p:sp>
          <p:nvSpPr>
            <p:cNvPr id="173" name=""/>
            <p:cNvSpPr/>
            <p:nvPr/>
          </p:nvSpPr>
          <p:spPr>
            <a:xfrm>
              <a:off x="2400480" y="1324080"/>
              <a:ext cx="2714400" cy="1009440"/>
            </a:xfrm>
            <a:prstGeom prst="flowChartAlternateProcess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552760" y="1446120"/>
              <a:ext cx="2419200" cy="754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IBI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e.g., A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4772160" y="4276800"/>
            <a:ext cx="4190760" cy="981000"/>
            <a:chOff x="4772160" y="4276800"/>
            <a:chExt cx="4190760" cy="981000"/>
          </a:xfrm>
        </p:grpSpPr>
        <p:sp>
          <p:nvSpPr>
            <p:cNvPr id="176" name=""/>
            <p:cNvSpPr/>
            <p:nvPr/>
          </p:nvSpPr>
          <p:spPr>
            <a:xfrm>
              <a:off x="4772160" y="4276800"/>
              <a:ext cx="4190760" cy="98100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64040" y="4421160"/>
              <a:ext cx="38386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 Task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odel Review Task Grou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5972040" y="1228680"/>
            <a:ext cx="2981520" cy="1190520"/>
          </a:xfrm>
          <a:prstGeom prst="flowChartAlternateProcess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van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867040"/>
            <a:ext cx="3571920" cy="89676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Macro Modeling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{Futures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743440" y="5410080"/>
            <a:ext cx="2705400" cy="1009800"/>
          </a:xfrm>
          <a:prstGeom prst="cloudCallout">
            <a:avLst>
              <a:gd name="adj1" fmla="val -6750"/>
              <a:gd name="adj2" fmla="val 157"/>
            </a:avLst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 Ho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conn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7A66-BC11-4FE1-A55C-A81E561D29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343080" y="1066680"/>
            <a:ext cx="843912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title"/>
          </p:nvPr>
        </p:nvSpPr>
        <p:spPr>
          <a:xfrm>
            <a:off x="162000" y="170640"/>
            <a:ext cx="885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Where Is The Industry?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80880" y="1000080"/>
            <a:ext cx="3638520" cy="4438800"/>
            <a:chOff x="380880" y="1000080"/>
            <a:chExt cx="3638520" cy="4438800"/>
          </a:xfrm>
        </p:grpSpPr>
        <p:sp>
          <p:nvSpPr>
            <p:cNvPr id="184" name=""/>
            <p:cNvSpPr/>
            <p:nvPr/>
          </p:nvSpPr>
          <p:spPr>
            <a:xfrm>
              <a:off x="380880" y="1000080"/>
              <a:ext cx="3638520" cy="443880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71760" y="2552760"/>
              <a:ext cx="1266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71640" y="3981600"/>
              <a:ext cx="245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381040" y="961920"/>
            <a:ext cx="3638520" cy="4438800"/>
            <a:chOff x="2381040" y="961920"/>
            <a:chExt cx="3638520" cy="4438800"/>
          </a:xfrm>
        </p:grpSpPr>
        <p:sp>
          <p:nvSpPr>
            <p:cNvPr id="188" name=""/>
            <p:cNvSpPr/>
            <p:nvPr/>
          </p:nvSpPr>
          <p:spPr>
            <a:xfrm rot="10800000">
              <a:off x="2381040" y="961920"/>
              <a:ext cx="3638520" cy="4438800"/>
            </a:xfrm>
            <a:prstGeom prst="triangle">
              <a:avLst>
                <a:gd name="adj" fmla="val 50000"/>
              </a:avLst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619440" y="3981600"/>
              <a:ext cx="1152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9040" y="2533680"/>
              <a:ext cx="23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18240" y="5592600"/>
            <a:ext cx="1128600" cy="8254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rcu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2240" y="858960"/>
            <a:ext cx="1197360" cy="8254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371600" y="4276800"/>
            <a:ext cx="2685960" cy="714240"/>
            <a:chOff x="1371600" y="4276800"/>
            <a:chExt cx="2685960" cy="714240"/>
          </a:xfrm>
        </p:grpSpPr>
        <p:sp>
          <p:nvSpPr>
            <p:cNvPr id="194" name=""/>
            <p:cNvSpPr/>
            <p:nvPr/>
          </p:nvSpPr>
          <p:spPr>
            <a:xfrm>
              <a:off x="1371600" y="4276800"/>
              <a:ext cx="2685960" cy="714240"/>
            </a:xfrm>
            <a:prstGeom prst="roundRect">
              <a:avLst>
                <a:gd name="adj" fmla="val 16667"/>
              </a:avLst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4408560"/>
              <a:ext cx="241956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IBIS 3.2/4.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1886040" y="2685960"/>
            <a:ext cx="2714400" cy="1171440"/>
            <a:chOff x="1886040" y="2685960"/>
            <a:chExt cx="2714400" cy="1171440"/>
          </a:xfrm>
        </p:grpSpPr>
        <p:sp>
          <p:nvSpPr>
            <p:cNvPr id="197" name=""/>
            <p:cNvSpPr/>
            <p:nvPr/>
          </p:nvSpPr>
          <p:spPr>
            <a:xfrm>
              <a:off x="1886040" y="2685960"/>
              <a:ext cx="2714400" cy="1171440"/>
            </a:xfrm>
            <a:prstGeom prst="flowChartAlternateProcess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028960" y="2788920"/>
              <a:ext cx="2419200" cy="98352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BIS 4.1/4.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(Multi-lingual),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BIRD9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400480" y="1324080"/>
            <a:ext cx="2714400" cy="1009440"/>
            <a:chOff x="2400480" y="1324080"/>
            <a:chExt cx="2714400" cy="1009440"/>
          </a:xfrm>
        </p:grpSpPr>
        <p:sp>
          <p:nvSpPr>
            <p:cNvPr id="200" name=""/>
            <p:cNvSpPr/>
            <p:nvPr/>
          </p:nvSpPr>
          <p:spPr>
            <a:xfrm>
              <a:off x="2400480" y="1324080"/>
              <a:ext cx="2714400" cy="1009440"/>
            </a:xfrm>
            <a:prstGeom prst="flowChartAlternateProcess">
              <a:avLst/>
            </a:prstGeom>
            <a:solidFill>
              <a:srgbClr val="66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552760" y="1446120"/>
              <a:ext cx="2419200" cy="75492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“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Future IBIS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e.g., API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4602600" y="5316480"/>
            <a:ext cx="415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EE Times 2006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 Tool User Survey (PC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82200" y="1878120"/>
            <a:ext cx="2840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day the Ave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tform Sig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~830 M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. America)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26200" y="3564000"/>
            <a:ext cx="23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ch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.4 G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in two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486400" y="2647800"/>
            <a:ext cx="438120" cy="1324080"/>
          </a:xfrm>
          <a:custGeom>
            <a:avLst/>
            <a:gdLst>
              <a:gd name="textAreaLeft" fmla="*/ 0 w 438120"/>
              <a:gd name="textAreaRight" fmla="*/ 158040 w 438120"/>
              <a:gd name="textAreaTop" fmla="*/ 34200 h 1324080"/>
              <a:gd name="textAreaBottom" fmla="*/ 1289880 h 13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44A6-F260-43FF-BCA7-AE413A1F28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ichael Mirmak</cp:lastModifiedBy>
  <dcterms:modified xsi:type="dcterms:W3CDTF">2007-01-28T21:43:12Z</dcterms:modified>
  <cp:revision>467</cp:revision>
  <dc:subject>DesignCon IBIS Summit 2007</dc:subject>
  <dc:title>IBIS Chair's Report and Roadmap</dc:title>
</cp:coreProperties>
</file>