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2B7A22B-2C61-450E-B336-B19CD534AF8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7C98D3A-1B6C-425F-82DD-ADCE0313A33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45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of IBIS Waveform Time Off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BIS simulators handle offset and aligned IBIS waveform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Summit Meeting, 1 February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BIS Fall Waves Manually Aligned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8480" y="1295280"/>
            <a:ext cx="6481800" cy="527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18400" y="2209680"/>
            <a:ext cx="268848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BIS mod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39280" y="2209680"/>
            <a:ext cx="2670480" cy="10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sligh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IB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438280"/>
            <a:ext cx="609480" cy="60984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057400" y="2437920"/>
            <a:ext cx="2743200" cy="68580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952880" y="3047760"/>
            <a:ext cx="45720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057400" y="3047760"/>
            <a:ext cx="274320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5214" t="13551" r="14906" b="26452"/>
          <a:stretch/>
        </p:blipFill>
        <p:spPr>
          <a:xfrm>
            <a:off x="2057400" y="3124080"/>
            <a:ext cx="2895480" cy="236232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o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71600" y="2438280"/>
            <a:ext cx="914400" cy="53352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971800"/>
            <a:ext cx="30492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971800"/>
            <a:ext cx="2666880" cy="243828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438280"/>
            <a:ext cx="2666880" cy="9907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18912" t="23226" r="13329" b="26452"/>
          <a:stretch/>
        </p:blipFill>
        <p:spPr>
          <a:xfrm>
            <a:off x="1676520" y="3429000"/>
            <a:ext cx="3276360" cy="198108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5943600" y="1905120"/>
            <a:ext cx="2133720" cy="10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s deleted from IBI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ormal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440" y="1143000"/>
            <a:ext cx="7056360" cy="5384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54600" y="5181480"/>
            <a:ext cx="28044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CQ currents should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1676520"/>
            <a:ext cx="27831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SQ currents should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7056360" cy="5275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Normal IBIS Waveforms - 2 IBIS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946920" cy="5276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Case - Curre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946920" cy="5276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560" y="2057400"/>
            <a:ext cx="392616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urrents are 3X silic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056720" cy="5275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Aligned IBIS Waveforms – 2 IBIS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-33480" y="3462120"/>
            <a:ext cx="9788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s/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29882" t="15461" r="5636" b="18843"/>
          <a:stretch/>
        </p:blipFill>
        <p:spPr>
          <a:xfrm>
            <a:off x="5638680" y="3581280"/>
            <a:ext cx="3124440" cy="2590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clusions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8676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slightly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u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least for one off-the-shelf IBIS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in how they handle pullup/pulldown turn-on/turn-off timing, and therefore power/ground currents, even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ti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IS waveform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95 has been accepted to address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mar wa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imulators differ even more in how they handle pullup/pulldown turn-on/turn-off timing when IBIS waveforms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rect time 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tter case the voltage waveform difference between simulators becomes only slightly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23622" t="16832" r="5669" b="19501"/>
          <a:stretch/>
        </p:blipFill>
        <p:spPr>
          <a:xfrm>
            <a:off x="6249960" y="1343160"/>
            <a:ext cx="2741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states a buffer must turn off one transistor and turn on the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rn-off usually precedes the turn-on, to avoid excessive “through current” while both are partially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s must mimic this time offset controlling the pullup and pulldown I/V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s do not directly convey this ti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s examine IBIS waveforms for 2 fixtures (pulled up and pulled down) to “guess” the turn-on/turn-off ti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veforms have no offset, simulators must revert to some fallback mode, which is proprietary and likely to v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9960" y="1752480"/>
            <a:ext cx="5273640" cy="402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17640" b="0"/>
          <a:stretch/>
        </p:blipFill>
        <p:spPr>
          <a:xfrm>
            <a:off x="4114800" y="1752480"/>
            <a:ext cx="4343400" cy="4024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ffset IBIS Waveforms (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666880"/>
            <a:ext cx="1828800" cy="838440"/>
          </a:xfrm>
          <a:prstGeom prst="borderCallout1">
            <a:avLst>
              <a:gd name="adj1" fmla="val 18750"/>
              <a:gd name="adj2" fmla="val -8333"/>
              <a:gd name="adj3" fmla="val 146212"/>
              <a:gd name="adj4" fmla="val -5390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ff, resistor pull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65760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76388"/>
              <a:gd name="adj4" fmla="val -38541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n, pulls against re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12408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-45138"/>
              <a:gd name="adj4" fmla="val -79254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ff, resistor pull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057400"/>
            <a:ext cx="1828800" cy="914400"/>
          </a:xfrm>
          <a:prstGeom prst="borderCallout1">
            <a:avLst>
              <a:gd name="adj1" fmla="val 18750"/>
              <a:gd name="adj2" fmla="val -8333"/>
              <a:gd name="adj3" fmla="val 20486"/>
              <a:gd name="adj4" fmla="val -6909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n, pulls against re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9960" y="1752480"/>
            <a:ext cx="5273640" cy="402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19086" b="0"/>
          <a:stretch/>
        </p:blipFill>
        <p:spPr>
          <a:xfrm>
            <a:off x="3962520" y="1752480"/>
            <a:ext cx="4267080" cy="4024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ligned IBIS Waveform (ab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895480"/>
            <a:ext cx="1143000" cy="609840"/>
          </a:xfrm>
          <a:prstGeom prst="borderCallout1">
            <a:avLst>
              <a:gd name="adj1" fmla="val 18750"/>
              <a:gd name="adj2" fmla="val -8333"/>
              <a:gd name="adj3" fmla="val 164324"/>
              <a:gd name="adj4" fmla="val -87916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343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15884"/>
              <a:gd name="adj4" fmla="val -62222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2057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29949"/>
              <a:gd name="adj4" fmla="val -152083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down tur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200400"/>
            <a:ext cx="1143000" cy="609480"/>
          </a:xfrm>
          <a:prstGeom prst="borderCallout1">
            <a:avLst>
              <a:gd name="adj1" fmla="val 18750"/>
              <a:gd name="adj2" fmla="val -8333"/>
              <a:gd name="adj3" fmla="val -76300"/>
              <a:gd name="adj4" fmla="val -155277"/>
            </a:avLst>
          </a:prstGeom>
          <a:solidFill>
            <a:srgbClr val="0183b7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up turn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981080"/>
            <a:ext cx="533520" cy="1524240"/>
          </a:xfrm>
          <a:prstGeom prst="ellipse">
            <a:avLst/>
          </a:prstGeom>
          <a:noFill/>
          <a:ln w="38160">
            <a:solidFill>
              <a:srgbClr val="efb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5715000"/>
            <a:ext cx="2514600" cy="914400"/>
          </a:xfrm>
          <a:prstGeom prst="borderCallout1">
            <a:avLst>
              <a:gd name="adj1" fmla="val 18750"/>
              <a:gd name="adj2" fmla="val -8333"/>
              <a:gd name="adj3" fmla="val -244273"/>
              <a:gd name="adj4" fmla="val -44569"/>
            </a:avLst>
          </a:prstGeom>
          <a:solidFill>
            <a:srgbClr val="0183b7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voltage at same time, regardless of fixture volta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5943600"/>
            <a:ext cx="4586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waveform manually shi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imulation Test Circui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624816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V 167MHz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IBIS model, 0 ERRORs, 0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silicon SPI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R=70.4m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=5.3e-9 C=1.08e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ohm T-line terminated to mid-voltage V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with 3 IBIS simulators + Silicon 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measured at buffer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/ground currents measured in 2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with norm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waveform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0492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veforms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184" t="45629" r="7639" b="19248"/>
          <a:stretch/>
        </p:blipFill>
        <p:spPr>
          <a:xfrm>
            <a:off x="4800600" y="4648320"/>
            <a:ext cx="3728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201680"/>
            <a:ext cx="7056360" cy="527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flipV="1">
            <a:off x="2286000" y="2819160"/>
            <a:ext cx="3581280" cy="190476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Baseline: Vendor IBIS, S2IBIS, and Silico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86000" y="5410080"/>
            <a:ext cx="3581280" cy="15264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724280"/>
            <a:ext cx="762120" cy="68580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819520"/>
            <a:ext cx="1143000" cy="190476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5410080"/>
            <a:ext cx="1143000" cy="15264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905120"/>
            <a:ext cx="2514600" cy="17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calculated for s2ibis is about double the vend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9078" t="11595" r="19293" b="18843"/>
          <a:stretch/>
        </p:blipFill>
        <p:spPr>
          <a:xfrm>
            <a:off x="2286000" y="2819520"/>
            <a:ext cx="3200400" cy="274320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ndor IBIS Fall Waves Offset (Norma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481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Vendor IBIS Waveform Case - 3 Simulato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25200" y="2209680"/>
            <a:ext cx="363816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rigger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aveform tr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ndor IBIS Waveform Case – Lined 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591240" cy="527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47960" y="2209680"/>
            <a:ext cx="3417120" cy="7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d in time to line 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1.25V on fall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14600"/>
            <a:ext cx="457200" cy="380880"/>
          </a:xfrm>
          <a:prstGeom prst="rect">
            <a:avLst/>
          </a:prstGeom>
          <a:noFill/>
          <a:ln w="2844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05120" y="2514240"/>
            <a:ext cx="2971800" cy="7621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05520" y="2895120"/>
            <a:ext cx="228600" cy="25909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05120" y="2895120"/>
            <a:ext cx="2971800" cy="2590920"/>
          </a:xfrm>
          <a:prstGeom prst="line">
            <a:avLst/>
          </a:prstGeom>
          <a:ln w="93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23767" t="15484" r="14487" b="28385"/>
          <a:stretch/>
        </p:blipFill>
        <p:spPr>
          <a:xfrm>
            <a:off x="1905120" y="3276720"/>
            <a:ext cx="3200400" cy="2209680"/>
          </a:xfrm>
          <a:prstGeom prst="rect">
            <a:avLst/>
          </a:prstGeom>
          <a:ln w="28440">
            <a:solidFill>
              <a:srgbClr val="0183b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1:35:19Z</dcterms:created>
  <dc:creator>Mike LaBonte</dc:creator>
  <dc:description/>
  <dc:language>en-US</dc:language>
  <cp:lastModifiedBy>Mike LaBonte</cp:lastModifiedBy>
  <dcterms:modified xsi:type="dcterms:W3CDTF">2007-01-25T14:20:19Z</dcterms:modified>
  <cp:revision>25</cp:revision>
  <dc:subject/>
  <dc:title>Slide 1</dc:title>
</cp:coreProperties>
</file>