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500-0DB3-4FF7-A82B-30596A44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77724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534-9AD3-4315-8C7E-A20B6B9B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39880" y="388980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F3E-DB1D-4CED-BEA1-C0578B43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5200" y="388980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12840" y="388980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16D-EB69-41DD-8DF3-61AE123D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4C3-1D24-416A-999E-E9B43297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88980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77724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77724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88980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88980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889800"/>
            <a:ext cx="250236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A00-37C9-40D5-AFCD-93AE0588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7EF-7866-4D9A-87B1-A3B890E6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46B-D935-4306-A0B1-9330FCD1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AF7-E86A-4592-9AD0-80BED28D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05D-4B91-4B98-82EA-E60FC889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39880" y="388980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016-851A-4023-A704-5EEE2F9A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7772400" cy="264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0D2-B0C6-4496-A591-92048769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3900" t="47680" r="1315" b="107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767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C686-11BB-4E19-BE71-3CC28F998808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3101760"/>
            <a:ext cx="6705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4520" y="6489000"/>
            <a:ext cx="152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6 LSI Logic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176"/>
              </a:spcBef>
              <a:buClr>
                <a:srgbClr val="ffffff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101760"/>
            <a:ext cx="6705720" cy="10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BIS Quality Committee Repo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41907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BIS Summit, Feb 1, 2007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im Helliwell, LSI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16320" y="31428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 2 Check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: this list is still under discussion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itability for waveform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 pins must be defined and validated for correct logical/physical/model mapping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Model selector]s must be validate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Diff Pins] must be present if require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_comp values must be checke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ponent [Package] parasitic values reason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V-T tables must be defined for all output driv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 I-V and V-T tables must be inspecte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n-die termination must be properly modeled if presen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yp/Min/Max values must be present and in correct order for all tables and paramet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p Data must be validated in accordance with IBIS spe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p data must be validated against appropriate V-T tables if availabl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36F-05F6-4228-BD64-0C1ED94945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 3 Check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: this list is still under discussion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itability for Timing Ana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inl/Vinh must be defined on rece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andard Load/Vmeas must be defined on driver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ust have at least signal pin RLC parasitic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 package parasitics must be checke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 model spec waveforms and standard load parameters must be defined and validate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 output models must be simulated into standard load and switch through Vmea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CF3-8DCA-4330-92CD-7F6B6E497C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 4 Checks…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: this list is still under discussion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ility for Power Integrity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[Pin Mapping] must be present and corr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ower and Ground pin parasitics pres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ed BIRD95 to be fully cap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437-B0EA-4BAD-BC0A-2A5EEE51C9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of “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d to declare that a file is suitable for a particular analysis even if a required check is not passed by strict standard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Not intended as a “free pass” to distribute a substandard model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ason for the X designation must be documented in the file itself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sers should open the file and check the documentation for the reason for the “X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: IBISCHK gives a warning for scrambled typ/min/max order on component curves even when combined curves are OK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: For certain topologies, the pulldown table will not cross the 0-V, 0-current line for an output buffer, which is flagged as a warning, yet this is expected normal behavior for those topologi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: Parser problems, as in Bug93 ([Model Selector] receiver thresholds for differential receivers result in errors and warnings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ould be used only for warnings that are not possible to resolve, and errors that result from known parser bug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525-2306-47E3-B04A-2A35C5D946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more inform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128600"/>
            <a:ext cx="7772400" cy="5272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71800" y="6348240"/>
            <a:ext cx="29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vhdl.org/pub/ibis/quality_wi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08F-BF63-4920-BDE0-09677ABD0F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Committee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ichael LaBonte, Cisco Systems (Chair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ob Ross, Teraspeed Consul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oy Leventhal, Leventhal Design and Commun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avid Banas, Xilin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hiul Haque, Micron Technolog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im Helliwell, LS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ckhard Lenski, Sieme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dovan Vuletic, Qimond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0E1-D99B-494C-AC79-DEF2616153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Quality Spec (Sample P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03600" y="1600200"/>
            <a:ext cx="3810240" cy="4280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4440" y="1619280"/>
            <a:ext cx="3809880" cy="42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775-BF99-4B70-AD8E-667965FE8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49480" y="990720"/>
            <a:ext cx="4586400" cy="554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80B-8F9D-4820-A978-A4C9A0869C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Quality Classification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umbers indicate leve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0: Passes IBISCHK and some basic automated chec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1: Passes numerous “manual” checks for presence,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pleteness and correctness of da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2: Correlation with simulated or measured da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. Correlates with simul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. Correlates with measurem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3: Both simulation and measurement correlation was don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o: IQ2 a+b = IQ3, essentially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E2E-89B4-4D51-9713-96B3B503F5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OLD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vides no way to designate an unchecked model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(-1?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anings of various levels were hard to keep stra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two letter designations were hard to keep stra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oes “a” refer to simulation or measurement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ving 2ab = 3 might be good algebra, but it’s not a good classification schem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IBISCHK does not occupy its own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king this one step further: any “automated” check we can imagine should, in principle, be added to IBISCHK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“room” to add new levels for timing, power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4ECB-C3D0-4EB0-A79A-474C273036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Quality Classification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umbers indicat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0: unchecked, unverified fil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1: passes IBISCHK with no errors or warnings (explained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arnings are allowed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2: Suitable for basic waveform simula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3: Suitable for timing analysi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4: Suitable for power integrity analysi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ppended letters indicate further qualif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”: has been correlated with simulation result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”: has been correlated with measured result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X”: an exception exists in the file (must be documented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Q1: passes IBISCH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Q2S: can be used for waveform simulation and has been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rrelated with simulation result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Q3MS: Can be used for timing analysis, and has been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rrelated with both simulation and measured result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9A5-D905-4DAE-B4A0-6C8719DF1B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level has a specific mean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re is a level that means “not checked.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etter designations have meaning (therefore can be remembered more easily)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cheme is open ended: more “levels” can be added if necessary, and more letter designations can be added as require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etter designations can be appended to ANY level as appropriat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NEW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810-F418-46B4-AA3A-78747D0087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Quality Task Group Parser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n-Monotonic Warnings for Combined Tables in All Vers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urrently, only 4.0 and higher levels get checked for nonmonotonicity of the combined tabl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s check is useful whatever the file version i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poses that this check be extended to all versions, and that nonmonotonic single tables be flagged as “Info” rather than “Warning”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3399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ser Permits Vmeas not Between Vinh and Vi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ften indicates a problem with the mode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arser does not flag this in any wa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 of a new check that can be automate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ould only be a “Caution,” “Warning” is too strong, since there are cases where this legitimately will occur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61C-6A1C-4FAC-A3D5-769F5CA364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6:37:52Z</dcterms:created>
  <dc:creator>wquock</dc:creator>
  <dc:description/>
  <dc:language>en-US</dc:language>
  <cp:lastModifiedBy>khelliwe</cp:lastModifiedBy>
  <cp:lastPrinted>2006-01-24T22:31:58Z</cp:lastPrinted>
  <dcterms:modified xsi:type="dcterms:W3CDTF">2007-01-16T18:51:35Z</dcterms:modified>
  <cp:revision>45</cp:revision>
  <dc:subject/>
  <dc:title>Slide 1</dc:title>
</cp:coreProperties>
</file>