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468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254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254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5346" r="0" b="81118"/>
          <a:stretch/>
        </p:blipFill>
        <p:spPr>
          <a:xfrm>
            <a:off x="0" y="1052640"/>
            <a:ext cx="9144000" cy="242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6400" indent="-13716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49240" indent="-96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57200" y="657180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BA939AC-C195-40EB-AF15-C531320EFD57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32040" y="6638400"/>
            <a:ext cx="13154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DesignCon West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14720" y="6634080"/>
            <a:ext cx="2802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IBIS 4.1 Macromodel Library for Simulator-independent model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0" b="53339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7800" y="358128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CD572D8-E1B9-4059-8567-5ED43D7B4B18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14720" y="6634080"/>
            <a:ext cx="2802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IBIS 4.1 Macromodel Library for Simulator-independent model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6200" y="6638400"/>
            <a:ext cx="12834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DesignCon East 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6992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12384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1760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ibis-macro-request@freelists.org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276720"/>
            <a:ext cx="7634160" cy="182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Status - IBIS 4.1 Macro Library for Simulator Independent Modeling</a:t>
            </a:r>
            <a:br>
              <a:rPr sz="3200"/>
            </a:br>
            <a:br>
              <a:rPr sz="1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ed b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d Westerhoff, Cisco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5486400"/>
            <a:ext cx="7696080" cy="104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BIS-Macro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tel - Arpad Murany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dence - Ken Wil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sco - Mike LaBonte, Todd Westerhoff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ntor Graph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Ian Do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C State Univers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Fernand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rity - Sam Chitwoo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Soft - Barry Katz, Walter Katz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aspeed - Scott McMorrow, Bob 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ent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24920" cy="411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going weekly meeting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nal coding / testing of element libra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iving EDA tool compatibil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IRD100.2 accept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cruited Paul Fernando (NCSU) to help with model translation issu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leased library versions 1.0 (Verilog-A and VHDL-AMS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7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ww.eda.org/pub/ibis/macromodel_wip/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75000"/>
              </a:lnSpc>
              <a:spcBef>
                <a:spcPts val="137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28600" y="2209680"/>
            <a:ext cx="4419720" cy="3254040"/>
            <a:chOff x="228600" y="2209680"/>
            <a:chExt cx="4419720" cy="32540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0" t="0" r="19914" b="82091"/>
            <a:stretch/>
          </p:blipFill>
          <p:spPr>
            <a:xfrm>
              <a:off x="228600" y="2209680"/>
              <a:ext cx="4419720" cy="101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rcRect l="0" t="17913" r="19910" b="40300"/>
            <a:stretch/>
          </p:blipFill>
          <p:spPr>
            <a:xfrm>
              <a:off x="228600" y="3083760"/>
              <a:ext cx="4419720" cy="237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455760" y="1676520"/>
            <a:ext cx="37800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08280" y="1905120"/>
            <a:ext cx="28566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Da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495680" y="2971800"/>
            <a:ext cx="4419360" cy="3429000"/>
            <a:chOff x="4495680" y="2971800"/>
            <a:chExt cx="4419360" cy="342900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rcRect l="0" t="6383" r="23639" b="47679"/>
            <a:stretch/>
          </p:blipFill>
          <p:spPr>
            <a:xfrm>
              <a:off x="4495680" y="3657600"/>
              <a:ext cx="441936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rcRect l="0" t="0" r="19445" b="87209"/>
            <a:stretch/>
          </p:blipFill>
          <p:spPr>
            <a:xfrm>
              <a:off x="4495680" y="2971800"/>
              <a:ext cx="4419360" cy="725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224920" cy="464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gnificant compatibility issues identified with AMS implementations in different EDA too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7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derstandable, considering relative age of –AMS language and EDA implement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cussions on best way to proce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7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card macro modeling, rely on native A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7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needed AMS language subsets in Verilog and VHD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7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ceed as planned, using macro library a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e fac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bset documentation and test ca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7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ceed as planned, have macro library explicitly defined as compliance test su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inue analog-only vs. full-AMS discuss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ive EDA tool improvements for languag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ek additional semiconductor and EDA vendor particip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e additional templates, determine if additional building blocks are need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224920" cy="1006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IS-Macro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9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ww.eda.org/pub/ibis/macromodel_wip/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6326280" cy="381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IS-Macro mail reflec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l to: </a:t>
            </a:r>
            <a:r>
              <a:rPr b="1" lang="en-US" sz="2600" spc="-1" strike="noStrike" u="sng">
                <a:solidFill>
                  <a:srgbClr val="027fbb"/>
                </a:solidFill>
                <a:uFillTx/>
                <a:latin typeface="Arial"/>
                <a:hlinkClick r:id="rId1"/>
              </a:rPr>
              <a:t>ibis-macro-request@freelists.or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ject: subscrib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IS-Macro mail archiv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ww.freelists.org/archives/ibis-macr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224920" cy="410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206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Origins of IBIS-Macro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206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BIS-Macro concept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206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tatus at last meet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206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ecent activiti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206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urrent issu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206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gi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760" y="1964880"/>
            <a:ext cx="8224560" cy="4359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hasn’t kept up with new I/O techn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CE use for SI is steadily increa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4.1 supports AMS, but adoption has been s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S is powerful, but also compl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 modeling proposed as alternative to full AMS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d by Donald Telian of Cadence, Jan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al proposal used Berkeley SPICE exten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group formed in Mar 2005 to explo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 modeling concept in IB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ndor / Tool / Language Surv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33520" y="1600200"/>
          <a:ext cx="4035240" cy="4879800"/>
        </p:xfrm>
        <a:graphic>
          <a:graphicData uri="http://schemas.openxmlformats.org/drawingml/2006/table">
            <a:tbl>
              <a:tblPr/>
              <a:tblGrid>
                <a:gridCol w="1008000"/>
                <a:gridCol w="1009440"/>
                <a:gridCol w="1009800"/>
                <a:gridCol w="1008000"/>
              </a:tblGrid>
              <a:tr h="53532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 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log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log-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HDL-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8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b2b2b2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b2b2b2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24280" y="2133720"/>
            <a:ext cx="4037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urrent status of 12 popular “SI” tools and their –AMS languag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al: develop a strategy that supports advanced modeling across all these combinations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-Macro 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4130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ive IBIS to support advanced technolog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ulti-simulator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9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me as original IBIS, tool-independent mode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eed EDA/semiconductor adoption of advanced behavioral modeling techniqu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verage existing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9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model developers are familiar with Spice-style macro mode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ro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stantiat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locks with pre-defined functions and behavio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arameteriz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ose blocks by passing values into th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terconnec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locks using a netlist-type syntax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efine external port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o the model using the netlist syntax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-Macro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76520"/>
            <a:ext cx="8002440" cy="4495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f AMS “elements” instantiated and interconnected to create complex buffer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 elements modeled after sources and elements found in popular SPICE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elements can be implemented by substitution in SPICE-only engin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 AMS element library across semiconductor model provi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ion of reference “templates” instantiate AMS elements to address common modeling issues (e.g. pre-emphasis buff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-Macro Element Mapp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716360" cy="2679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6120" y="4267080"/>
            <a:ext cx="2624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ilog-AMS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6480" y="5791320"/>
            <a:ext cx="1951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PICE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3429000" cy="37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_io PUrefB PDrefB IoB InB En PCrefB GCref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 file=‘mybuf.ibs' model=‘mybuf' +power=on buffer=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3276720"/>
            <a:ext cx="1067040" cy="8380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648320"/>
            <a:ext cx="3581280" cy="98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`include ".\Macro_lib\No_ODT_OUTPUT_data.dat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_OUTPUT  #(`OUTPUT_dat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Max_dt(Max_dt_val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Vth_R(Vth_R_val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Vth_F(Vth_F_val))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1  (Power, Ground, Pad, In_D, Power, Grou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23920" y="4184640"/>
            <a:ext cx="2471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HDL-AMS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4565520"/>
            <a:ext cx="4114800" cy="12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_OUTPUT1 : entity MacroLib.IBIS_OUTPUT(IBIS_2EQ2U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ic map ( DataFile =&gt; ".\Macro_lib\No_ODT_IO_data.txt"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map ( PU_ref   =&gt; Pow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D_ref   =&gt; Gro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d      =&gt; Outpu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_D     =&gt; Inpu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C_ref   =&gt; Pow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C_ref   =&gt; Ground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124080" y="4114800"/>
            <a:ext cx="60984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428640" y="4191120"/>
            <a:ext cx="685800" cy="1904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114800"/>
            <a:ext cx="304560" cy="30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at Last Me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964880"/>
            <a:ext cx="8224560" cy="405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liminary library in pla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ruiting semiconductor vendors to test libra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oking for additional model templat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itial set contributed by Caden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oking for resources to help with automated model translation / reformat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5T22:59:28Z</dcterms:created>
  <dc:creator>Todd Westerhoff</dc:creator>
  <dc:description/>
  <cp:keywords/>
  <dc:language>en-US</dc:language>
  <cp:lastModifiedBy>Cisco Systems, Inc.</cp:lastModifiedBy>
  <cp:lastPrinted>1999-01-27T00:54:54Z</cp:lastPrinted>
  <dcterms:modified xsi:type="dcterms:W3CDTF">2006-02-09T05:44:38Z</dcterms:modified>
  <cp:revision>1302</cp:revision>
  <dc:subject/>
  <dc:title>Things in an an IBIS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