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6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5481E6A-BD98-484F-8A5F-665CBFB2267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sian IBIS Summit Review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9,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Q7. - What would you like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 do in the future? (74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er Speed, Multi-GHz, (DDRII, Serdes, etc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I, SSN, P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– all asp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ccept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ccuracy, Correl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ser Interfaces with model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her top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iming and Jitt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MI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 Analysis, simulation, system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Summit commun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Q8. - Please provide any additional comments or suggestions (53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xhaustive, rich cont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alks too short or not enough time for (deep) discussions or interaction with board membe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ny: Excellent, good, ok, very good, successful, very-well and ..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hy should we meet? !!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ore examples training instructions, problems, answers, practical applic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ive all e-mail addresses for private ques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nual Summits and more meeting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ore on ibischk, IBIS information, IBIS simulation, new featur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Future Asian Plans – Under Considera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Japanese JEITA meeting with IBIS officers in second quarter 200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rst Asian Summit in Japan (Toky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tential Hitachi ULSI Systems, JEITA sponsorship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Asian IBIS Summit in China (Shanghai?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Summits (days apart) in fourth quarter 2006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tential DesignCon interest starting 2007 (with IBIS Summi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CHALLENGES AND GROWING ASIAN IBIS INVOLVEMENT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9560" cy="617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33720" y="0"/>
            <a:ext cx="4800600" cy="632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genda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erview of mee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ccesses/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Questions (5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mments (3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102 responses – Worthy of review!!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ture Asian pl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verview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uesday, December 6, 2005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owne Plaza Hotel, Shenzhen Ch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onsors – Huawei Technologies, Cadence Design Systems, Mentor Graphics Corporation, SiSoft, and Si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ur vendor tables outside and extra vendor ev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bout 155 (actually about 160-180) peo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ur US based officers and several US – based sponso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ur China technical report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jor Asian participation (Huawei - 49, ZTE - 2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ll Schedu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:15 am Sign in and vendor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:00 am Program (3 introductions +5 topic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XiangZhong Jiang, and Michael Mirmak, Jian Lu (government speaker) introduc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esentations (China: 2, US: 2, Japan: 1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2:00 pm Free buffet lunch and vendor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ess lunch for IBIS officers and sponso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:30 pm Program (8 topic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esentations (China: 4, US: 3, Japan: 1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:30 pm E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ajor Success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thing first class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oom, projection equipment, podium, tables, chairs, banners, hotel display, posters, flowers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freshment setup with vendor tables, foo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IP dinner, press conference lunch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bility to adapt (meeting laptop, meeting backdrop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aptop and wireless pointer/slide advanc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mooth, on schedule program (Michael Mirmak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ell-prepared presentations in English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i-lingual translation (Lance Wang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outs for everyo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nference Recor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rief case gift (with sponsor logo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inor Difficul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ssed a few people – thus estimated attend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 lot of late signups, but met original estimat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ard to check off nam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Sign-in language – names in Chinese charac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Leaving business cards worked (also used as badge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Managing large sign in list - cumbersome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ncial transa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hree tries to transfer money from GEIA to Chin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Local channels preferred, if possible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tra money issue!!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Feedback Yes/No Questions 1-5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102 responses out of 160-180!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 Do you visit the official IBIS website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7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5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  Are you familiar with IBI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3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.  Do you read the IBIS E-mail reflector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6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4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  Would you like to participate in IBI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8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.  Did you find this meeting valuable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0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-452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whelming meeting support and IBIS familiar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2520" indent="-452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-mail reflectors – few people from China subscribe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Q6. - What was your favorit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pic or presentation? (85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d balance of presen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wer integrity (delivery system) topics (Huawei, Sigrity, Apple) – 36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acets of IBIS and Timing (Mentor, ZTE) - 17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I and IBIS, Macro Model (Cadence, ZTE) – 22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lus hits in all areas and “All” (DDR, ECL, Behavioral Modeling, JEITA topics, experiences, and/or specific tidbits such as EMI, AMS, etc.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ations from Chinese companies popular (but many attendees from Huawei, Z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t many interests (and local concer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6-02-10T17:22:10Z</dcterms:modified>
  <cp:revision>575</cp:revision>
  <dc:subject/>
  <dc:title>IBIS</dc:title>
</cp:coreProperties>
</file>