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AE8-0551-4A74-82B4-6157A343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774-20D3-4E28-AE0F-F4D087E6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7DB-626C-48B5-A267-4AFF31E5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757-228B-4F55-BBD9-32C10618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410-E008-49BA-B077-B7719D2D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FA1-0B58-4EA6-92A3-206CDDA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AFD-9A85-49FB-8B1F-B836E9AB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CF0-E199-43FE-A87F-B0B70E0D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FF1-879D-476B-BB83-EA42D144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35B-FCB2-477A-AF15-B165732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06D-035D-44E4-8A8F-7C78438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5E7E-44E8-4048-B4C4-9B002AC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30160" y="6357600"/>
            <a:ext cx="388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F3F2-2B2B-4875-A374-CE18463DB4E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76520" y="6400800"/>
            <a:ext cx="390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굴림"/>
              </a:rPr>
              <a:t>Differential System Design and Power Delivery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3915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shram S. Pandit and Michael Mirm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 Cor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BIS Summit at DesignC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ebruary 9, 2006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cknowledgements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Julius Delino, Sanjiv Soman, Woong Hwan Ryu, Arpad Muranyi, Henri Marami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pyright © 2006, Intel Corporation.  All rights reserved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river Power On/off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6781680" y="1143000"/>
            <a:ext cx="206712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rge DC &amp; A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≠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56008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326-731E-4625-AD14-548FB7BFA3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rmination #2: Line to Lin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1219320"/>
            <a:ext cx="2438280" cy="32004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40840" y="40384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6080" y="12952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40840" y="129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24080" y="335268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057400" y="914400"/>
            <a:ext cx="3657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2971800"/>
            <a:ext cx="8384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2971800"/>
            <a:ext cx="5191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2971800"/>
            <a:ext cx="16380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29600" y="2590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86600" y="3352680"/>
            <a:ext cx="5335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20120" y="259092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81880" y="30481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1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7400" y="914400"/>
            <a:ext cx="0" cy="1981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7400" y="2971800"/>
            <a:ext cx="3240" cy="23623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867280" y="4419720"/>
            <a:ext cx="0" cy="9144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5334120"/>
            <a:ext cx="3809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1219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240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657240" y="3886200"/>
            <a:ext cx="14940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971440" y="3886200"/>
            <a:ext cx="15228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124080" y="167652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273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1237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7339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131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8095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510552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4800600"/>
            <a:ext cx="457200" cy="30492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480060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2895480"/>
            <a:ext cx="158760" cy="152640"/>
          </a:xfrm>
          <a:prstGeom prst="ellipse">
            <a:avLst/>
          </a:prstGeom>
          <a:solidFill>
            <a:srgbClr val="a6cae1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276720"/>
            <a:ext cx="152280" cy="152280"/>
          </a:xfrm>
          <a:prstGeom prst="ellipse">
            <a:avLst/>
          </a:prstGeom>
          <a:solidFill>
            <a:srgbClr val="a6cae1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15000" y="914400"/>
            <a:ext cx="0" cy="304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905120" y="2895480"/>
            <a:ext cx="3045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1981080" y="2971800"/>
            <a:ext cx="15264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76520" y="2133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22096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95280" y="2819520"/>
            <a:ext cx="5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r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20120" y="380988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20120" y="2590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29600" y="34290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34290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86600" y="152388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4419720"/>
            <a:ext cx="0" cy="1676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15720" y="6400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715000" y="6019920"/>
            <a:ext cx="317520" cy="380160"/>
            <a:chOff x="5715000" y="6019920"/>
            <a:chExt cx="317520" cy="380160"/>
          </a:xfrm>
        </p:grpSpPr>
        <p:grpSp>
          <p:nvGrpSpPr>
            <p:cNvPr id="512" name=""/>
            <p:cNvGrpSpPr/>
            <p:nvPr/>
          </p:nvGrpSpPr>
          <p:grpSpPr>
            <a:xfrm>
              <a:off x="5715000" y="6210360"/>
              <a:ext cx="317520" cy="189720"/>
              <a:chOff x="5715000" y="6210360"/>
              <a:chExt cx="317520" cy="189720"/>
            </a:xfrm>
          </p:grpSpPr>
          <p:sp>
            <p:nvSpPr>
              <p:cNvPr id="513" name=""/>
              <p:cNvSpPr/>
              <p:nvPr/>
            </p:nvSpPr>
            <p:spPr>
              <a:xfrm>
                <a:off x="5715000" y="621036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94200" y="630504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21200" y="635256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46760" y="640008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867280" y="6019920"/>
              <a:ext cx="0" cy="190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H="1">
            <a:off x="5866920" y="6172200"/>
            <a:ext cx="180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0920" y="3809880"/>
            <a:ext cx="304560" cy="381240"/>
          </a:xfrm>
          <a:custGeom>
            <a:avLst/>
            <a:gdLst>
              <a:gd name="textAreaLeft" fmla="*/ 40680 w 304560"/>
              <a:gd name="textAreaRight" fmla="*/ 263880 w 30456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24640" y="25909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24280" y="350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00440" y="26668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23760" y="35053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00600" y="2971800"/>
            <a:ext cx="2133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3352680"/>
            <a:ext cx="2133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486400" y="3276720"/>
            <a:ext cx="45720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486400" y="281952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3200" y="3200400"/>
            <a:ext cx="185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eg model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5 V, 5 nH, 7.8 m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543800" y="28954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3276720"/>
            <a:ext cx="1634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8DE-44D4-470F-AF35-4CFAB6E033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ormal Operating Condi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781680" y="1219320"/>
            <a:ext cx="2067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Small DC &amp;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qual and opposi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184-85F2-40E4-80C5-BD49B4670F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river Power On/off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5334120" cy="53337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6705720" y="1219320"/>
            <a:ext cx="2438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rge DC &amp;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eventually ≈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 with change in common refer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47C-BD86-43F7-A989-E20F8339B6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rmination #3: Groun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4648320" y="1219320"/>
            <a:ext cx="2438280" cy="32004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640" y="28195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00440" y="28954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0840" y="40384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06080" y="12952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40840" y="129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124080" y="335268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057400" y="914400"/>
            <a:ext cx="3657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971800"/>
            <a:ext cx="8384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335268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29600" y="42670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00080" y="32004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914400"/>
            <a:ext cx="0" cy="1981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2971800"/>
            <a:ext cx="3240" cy="23623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419720"/>
            <a:ext cx="0" cy="9144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7400" y="5334120"/>
            <a:ext cx="6705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76720" y="1219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57240" y="3886200"/>
            <a:ext cx="14940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971440" y="3886200"/>
            <a:ext cx="15228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124080" y="167652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481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273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1237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339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131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8095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05320" y="510552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0532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76720" y="4800600"/>
            <a:ext cx="457200" cy="30492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52680" y="480060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80988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2895480"/>
            <a:ext cx="15876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32767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15000" y="914400"/>
            <a:ext cx="0" cy="304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1905120" y="2895480"/>
            <a:ext cx="3045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981080" y="2971800"/>
            <a:ext cx="152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22096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2096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95280" y="2819520"/>
            <a:ext cx="5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r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06080" y="12952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620120" y="297180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153280" y="373392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620120" y="3352680"/>
            <a:ext cx="1143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086600" y="1676520"/>
            <a:ext cx="1447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67280" y="4419720"/>
            <a:ext cx="0" cy="1752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15720" y="6400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715000" y="6019920"/>
            <a:ext cx="317520" cy="380160"/>
            <a:chOff x="5715000" y="6019920"/>
            <a:chExt cx="317520" cy="380160"/>
          </a:xfrm>
        </p:grpSpPr>
        <p:grpSp>
          <p:nvGrpSpPr>
            <p:cNvPr id="589" name=""/>
            <p:cNvGrpSpPr/>
            <p:nvPr/>
          </p:nvGrpSpPr>
          <p:grpSpPr>
            <a:xfrm>
              <a:off x="5715000" y="6210360"/>
              <a:ext cx="317520" cy="189720"/>
              <a:chOff x="5715000" y="6210360"/>
              <a:chExt cx="317520" cy="18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5715000" y="621036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94200" y="630504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21200" y="635256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46760" y="640008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67280" y="6019920"/>
              <a:ext cx="0" cy="190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 flipH="1">
            <a:off x="5866920" y="6172200"/>
            <a:ext cx="1800" cy="50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763120" y="42670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763120" y="464832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29600" y="2895480"/>
            <a:ext cx="14400" cy="838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8229600" y="4191120"/>
            <a:ext cx="14400" cy="1143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686800" y="3809880"/>
            <a:ext cx="16344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777160" y="34290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3800" y="42670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086600" y="297180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543800" y="289548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620120" y="289548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43800" y="3276720"/>
            <a:ext cx="0" cy="223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20120" y="3276720"/>
            <a:ext cx="0" cy="223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238880" y="2590920"/>
            <a:ext cx="7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p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90920" y="3809880"/>
            <a:ext cx="304560" cy="381240"/>
          </a:xfrm>
          <a:custGeom>
            <a:avLst/>
            <a:gdLst>
              <a:gd name="textAreaLeft" fmla="*/ 40680 w 304560"/>
              <a:gd name="textAreaRight" fmla="*/ 263880 w 30456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15200" y="3581280"/>
            <a:ext cx="6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 p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920" y="3276720"/>
            <a:ext cx="185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eg model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5 V, 5 nH, 7.8 m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153280" y="2895480"/>
            <a:ext cx="15264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686800" y="3276720"/>
            <a:ext cx="1634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4E2-5152-4395-B2D5-869671AC70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ormal Operating Condi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086440" cy="510552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705720" y="1371600"/>
            <a:ext cx="20667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Small DC &amp;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qual and opposi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≈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712-C0C7-43A7-9E43-01C007C986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river Power On/off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105520" cy="50292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781680" y="1447920"/>
            <a:ext cx="20671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rge DC &amp;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≠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1440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080" y="6019920"/>
            <a:ext cx="72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) Currents will be equal depending on the cap charge up time, and cap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81C-8043-48F4-AFDA-88E27EC789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ermination #4: </a:t>
            </a:r>
            <a:r>
              <a:rPr b="0" lang="en-US" sz="3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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"/>
          <p:cNvSpPr/>
          <p:nvPr/>
        </p:nvSpPr>
        <p:spPr>
          <a:xfrm>
            <a:off x="4648320" y="1219320"/>
            <a:ext cx="2438280" cy="32004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24640" y="25909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24280" y="350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0440" y="26668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40840" y="40384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06080" y="12952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40840" y="129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335268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057400" y="914400"/>
            <a:ext cx="3657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9880" y="2971800"/>
            <a:ext cx="8384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86600" y="2971800"/>
            <a:ext cx="5191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2940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605720" y="1676520"/>
            <a:ext cx="1440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605720" y="2514600"/>
            <a:ext cx="1440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570880" y="2057400"/>
            <a:ext cx="16344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66124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661240" y="2514600"/>
            <a:ext cx="0" cy="838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29600" y="297180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1676520"/>
            <a:ext cx="1600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10280" y="2057400"/>
            <a:ext cx="60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.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924680" y="20574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23760" y="35053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57400" y="914400"/>
            <a:ext cx="0" cy="1981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2971800"/>
            <a:ext cx="3240" cy="23623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867280" y="4419720"/>
            <a:ext cx="0" cy="1676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057400" y="5334120"/>
            <a:ext cx="3809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1219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39400" y="6400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715000" y="6019920"/>
            <a:ext cx="317520" cy="380160"/>
            <a:chOff x="5715000" y="6019920"/>
            <a:chExt cx="317520" cy="380160"/>
          </a:xfrm>
        </p:grpSpPr>
        <p:grpSp>
          <p:nvGrpSpPr>
            <p:cNvPr id="653" name=""/>
            <p:cNvGrpSpPr/>
            <p:nvPr/>
          </p:nvGrpSpPr>
          <p:grpSpPr>
            <a:xfrm>
              <a:off x="5715000" y="6210360"/>
              <a:ext cx="317520" cy="189720"/>
              <a:chOff x="5715000" y="6210360"/>
              <a:chExt cx="317520" cy="189720"/>
            </a:xfrm>
          </p:grpSpPr>
          <p:sp>
            <p:nvSpPr>
              <p:cNvPr id="654" name=""/>
              <p:cNvSpPr/>
              <p:nvPr/>
            </p:nvSpPr>
            <p:spPr>
              <a:xfrm>
                <a:off x="5715000" y="621036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794200" y="630504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21200" y="635256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46760" y="640008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5867280" y="6019920"/>
              <a:ext cx="0" cy="190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240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3657240" y="3886200"/>
            <a:ext cx="14940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971440" y="3886200"/>
            <a:ext cx="15228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124080" y="167652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481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273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37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7339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131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8095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510552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0532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76720" y="4800600"/>
            <a:ext cx="457200" cy="304920"/>
          </a:xfrm>
          <a:prstGeom prst="flowChartDecision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52680" y="480060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9880" y="4724280"/>
            <a:ext cx="0" cy="3812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33920" y="2895480"/>
            <a:ext cx="15876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48120" y="32767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914400"/>
            <a:ext cx="0" cy="304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905120" y="2895480"/>
            <a:ext cx="3045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981080" y="2971800"/>
            <a:ext cx="152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22096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2133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95280" y="2819520"/>
            <a:ext cx="5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r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2971800"/>
            <a:ext cx="2133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800600" y="3352680"/>
            <a:ext cx="2133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866920" y="6172200"/>
            <a:ext cx="180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3809880"/>
            <a:ext cx="304560" cy="381240"/>
          </a:xfrm>
          <a:custGeom>
            <a:avLst/>
            <a:gdLst>
              <a:gd name="textAreaLeft" fmla="*/ 40680 w 304560"/>
              <a:gd name="textAreaRight" fmla="*/ 263880 w 30456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923960" y="2895480"/>
            <a:ext cx="312840" cy="15264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86600" y="3352680"/>
            <a:ext cx="1600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20120" y="2971800"/>
            <a:ext cx="3045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534520" y="2895480"/>
            <a:ext cx="16344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72400" y="2590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9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23200" y="3276720"/>
            <a:ext cx="185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eg model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5 V, 5 nH, 7.8 m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43800" y="28954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C5A-70F9-47E6-AF33-B976EAB67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ormal Operating Condi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5315040" cy="56386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6705720" y="1143000"/>
            <a:ext cx="20667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Large DC, Small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≠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9C6-E0A1-4802-8BE6-00E948072F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river Power On/Off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5106960" cy="53341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781680" y="1295280"/>
            <a:ext cx="2067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rge DC &amp;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≠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39F-4CF8-41C2-BB2F-92A5EA6CA3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tivatio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on assumptions for differential system design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rrents in differential lines are equal and opposit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mmation of currents in sig and sig# (differential lines) is ze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rrent in power equals current in ground at the driv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valid for all differential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standing current behavior is key to proper differential power delivery desig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BIS* community needs to address this behavior for system simula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2BE-14FF-497A-8D34-48248B29F5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ummary of Current Profil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87572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son of termination schem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685800" y="1828800"/>
          <a:ext cx="7696080" cy="2909880"/>
        </p:xfrm>
        <a:graphic>
          <a:graphicData uri="http://schemas.openxmlformats.org/drawingml/2006/table">
            <a:tbl>
              <a:tblPr/>
              <a:tblGrid>
                <a:gridCol w="1676520"/>
                <a:gridCol w="3047760"/>
                <a:gridCol w="2971800"/>
              </a:tblGrid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ermin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(sig) and I(sig#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(Power) and I(Ground) at dri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w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sig) + I(sig#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≠ 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Power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≠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Ground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ween l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sig) + I(sig#) =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Power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Ground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ound with AC coupl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sig) + I(sig#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≠ 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0 after charge up of ca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Power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≠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Ground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equal after charge-up of ca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sig) + I(sig#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≠  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Power)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lbertus MT"/>
                        </a:rPr>
                        <a:t>≠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(Ground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EC4-3F76-40D7-8AE6-7634F0F4F6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ignificance of Current Profil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(sig) and I(sig#) at dri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half differential driver, the currents in the lines may or may not be equal and opposi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 normal operation, when I(sig) 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lbertus MT"/>
              </a:rPr>
              <a:t>≠</a:t>
            </a:r>
            <a:r>
              <a:rPr b="0" lang="en-US" sz="800" spc="-1" strike="noStrike">
                <a:solidFill>
                  <a:srgbClr val="ffffff"/>
                </a:solidFill>
                <a:latin typeface="Albertu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(sig#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C amplitude may be equal but centered around some DC val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t non-zero DC return curr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 the driver on/off scenario, summation of I(sig) and (sig#) may result in net DC+AC curr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(power) and I(ground) at dri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 normal operation , when I(power) </a:t>
            </a:r>
            <a:r>
              <a:rPr b="0" lang="en-US" sz="1800" spc="-1" strike="noStrike">
                <a:solidFill>
                  <a:srgbClr val="ffffff"/>
                </a:solidFill>
                <a:latin typeface="Albertus MT"/>
              </a:rPr>
              <a:t>≠</a:t>
            </a:r>
            <a:r>
              <a:rPr b="0" lang="en-US" sz="800" spc="-1" strike="noStrike">
                <a:solidFill>
                  <a:srgbClr val="ffffff"/>
                </a:solidFill>
                <a:latin typeface="Albertus MT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(ground), some DC shift is pres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C current may be equ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nsider these currents in the driver on/off scenari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/dt will be different for power and ground in this ca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3B4-8754-4FE6-8E35-E1E5DE8F0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bservations re Energy in PDN and Noi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lf differential driver designs utilize a current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gh-frequency energy in Power Delivery Network (PDN) is small compared to that in driver power on/off scenar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wer delivery solution space (die decoupling, package and board) depends on di/d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ise produced in normal operating condition is smaller than that for driver power on/off cond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st case occurs when driver power on/off cycles occur at resonant frequency of the PD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715-2229-4864-958B-A66208926A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eling Differential System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fferent modeling approaches for half differential dri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ransistor mode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cc(t) metho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BIS mode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a differential system, each modeling approach needs to addr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rmination schemes’ dependence on system curr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in power and groun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in sig and sig#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solution space is dependent on the curr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7DD-536D-4B1F-A519-89021E8006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1658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ransistor Model: SPEED2000*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"/>
          <p:cNvSpPr/>
          <p:nvPr/>
        </p:nvSpPr>
        <p:spPr>
          <a:xfrm>
            <a:off x="7772400" y="45720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45820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77240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8305920" y="3886200"/>
            <a:ext cx="14904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7619760" y="3886200"/>
            <a:ext cx="15228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438880" y="22860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18080" y="19051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772400" y="33526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24680" y="22860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03880" y="19051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458200" y="2971800"/>
            <a:ext cx="0" cy="9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138880" y="5105520"/>
            <a:ext cx="14040" cy="761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15328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924680" y="4800600"/>
            <a:ext cx="457200" cy="30492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01000" y="480060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45820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71800" y="3352680"/>
            <a:ext cx="4800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05320" y="297180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14840" y="190512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324480" y="5867280"/>
            <a:ext cx="1828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1447920"/>
            <a:ext cx="5335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54640" y="23623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959360" y="2362320"/>
            <a:ext cx="6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2480" y="838080"/>
            <a:ext cx="4489200" cy="518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95480" y="1143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(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486400" y="1523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(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2819520"/>
            <a:ext cx="1600200" cy="22860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733920" y="3200400"/>
            <a:ext cx="1606320" cy="22860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225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3498840" y="2514600"/>
            <a:ext cx="648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89548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1800" y="144792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971800" y="2514600"/>
            <a:ext cx="6480" cy="838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362320" y="205740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67240" y="208764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38480" y="2514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=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44960" y="3505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=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86400" y="27432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172200" y="27432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193280" y="3886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pai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978640" y="44956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054960" y="5257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82840" y="48006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054240" y="4876920"/>
            <a:ext cx="457200" cy="228600"/>
          </a:xfrm>
          <a:prstGeom prst="ellipse">
            <a:avLst/>
          </a:prstGeom>
          <a:solidFill>
            <a:srgbClr val="ff5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98160" y="57150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4419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x repres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planar 3-D mode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 and Gnd 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single no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696080" y="3276720"/>
            <a:ext cx="1526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81880" y="2895480"/>
            <a:ext cx="15876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934320" y="23623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istor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07E-11A7-4CC1-850B-24438303D6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igrity SPEED2000* + Synopsys HSPICE*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 Co-simul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73200" y="1371600"/>
            <a:ext cx="4335480" cy="2287440"/>
            <a:chOff x="673200" y="1371600"/>
            <a:chExt cx="4335480" cy="2287440"/>
          </a:xfrm>
        </p:grpSpPr>
        <p:pic>
          <p:nvPicPr>
            <p:cNvPr id="762" name="" descr=""/>
            <p:cNvPicPr/>
            <p:nvPr/>
          </p:nvPicPr>
          <p:blipFill>
            <a:blip r:embed="rId1"/>
            <a:stretch/>
          </p:blipFill>
          <p:spPr>
            <a:xfrm>
              <a:off x="673200" y="1371600"/>
              <a:ext cx="433548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 txBox="1"/>
            <p:nvPr/>
          </p:nvSpPr>
          <p:spPr>
            <a:xfrm>
              <a:off x="673200" y="1371600"/>
              <a:ext cx="4335480" cy="22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4114800" y="1752480"/>
            <a:ext cx="882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1.41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113720" y="2971800"/>
            <a:ext cx="692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1.145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3124080"/>
            <a:ext cx="522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1.1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3581280" y="3772080"/>
            <a:ext cx="5105520" cy="2552400"/>
            <a:chOff x="3581280" y="3772080"/>
            <a:chExt cx="5105520" cy="2552400"/>
          </a:xfrm>
        </p:grpSpPr>
        <p:pic>
          <p:nvPicPr>
            <p:cNvPr id="768" name="" descr=""/>
            <p:cNvPicPr/>
            <p:nvPr/>
          </p:nvPicPr>
          <p:blipFill>
            <a:blip r:embed="rId2"/>
            <a:stretch/>
          </p:blipFill>
          <p:spPr>
            <a:xfrm>
              <a:off x="3581280" y="3772080"/>
              <a:ext cx="5105520" cy="25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 txBox="1"/>
            <p:nvPr/>
          </p:nvSpPr>
          <p:spPr>
            <a:xfrm>
              <a:off x="3581280" y="3772080"/>
              <a:ext cx="5105520" cy="255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723920" y="5715000"/>
            <a:ext cx="607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0.94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19760" y="4114800"/>
            <a:ext cx="607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1.52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107680" y="1371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se at driver 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73640" y="33526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se at termination 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8280" y="472428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ver power on/off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877-8392-46C8-A3A0-81D34A03DB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ntemporary Icc(t) method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791320" y="175248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571640" y="1752480"/>
            <a:ext cx="121932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647960" y="3124080"/>
            <a:ext cx="114300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791320" y="251424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3657600"/>
            <a:ext cx="8077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ypical Icc(t) approach assumes equal currents in power and gr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rmination schemes MATTER when computing Icc(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ents in power and ground may or may not be equal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Monitoring Ivcc and Ivss a mu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200400" y="1600200"/>
            <a:ext cx="1447920" cy="17524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V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PDN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G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486400" y="2133720"/>
            <a:ext cx="609480" cy="457200"/>
          </a:xfrm>
          <a:prstGeom prst="ellips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I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342-71B4-44B3-9C9E-076329C90B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472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cc(t): Proposed Metho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"/>
          <p:cNvSpPr/>
          <p:nvPr/>
        </p:nvSpPr>
        <p:spPr>
          <a:xfrm>
            <a:off x="3352680" y="472428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038480" y="4191120"/>
            <a:ext cx="0" cy="533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352680" y="4191120"/>
            <a:ext cx="0" cy="533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5840" y="4038480"/>
            <a:ext cx="149400" cy="1526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3200040" y="4038480"/>
            <a:ext cx="152280" cy="1526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276720" y="24382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55920" y="20574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352680" y="2895480"/>
            <a:ext cx="6480" cy="1143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62520" y="24382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041720" y="20574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038480" y="2895480"/>
            <a:ext cx="6480" cy="1143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719520" y="5257800"/>
            <a:ext cx="1440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733920" y="472428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505320" y="4952880"/>
            <a:ext cx="457200" cy="30492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581280" y="495288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038480" y="4876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3048120"/>
            <a:ext cx="15876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38640" y="3505320"/>
            <a:ext cx="32907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100400" y="3124080"/>
            <a:ext cx="20574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20574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657600" y="1523880"/>
            <a:ext cx="648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1523880"/>
            <a:ext cx="1523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243400" y="3048120"/>
            <a:ext cx="609840" cy="15228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243400" y="3429000"/>
            <a:ext cx="609840" cy="15228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75360" y="12952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54560" y="9144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6151680" y="1752480"/>
            <a:ext cx="288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32560" y="12952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11760" y="9144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11760" y="1752480"/>
            <a:ext cx="3240" cy="1752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095880" y="914400"/>
            <a:ext cx="1143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191120" y="251460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43200" y="251460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562720" y="137160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05720" y="137160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35480" y="167652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490920" y="54864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49200" y="5486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0552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10552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133720" y="601992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133720" y="1523880"/>
            <a:ext cx="0" cy="44960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49200" y="16765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96400" y="60958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81080" y="32004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162920" y="914400"/>
            <a:ext cx="0" cy="5105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34320" y="20574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962520" y="16002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342900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5520" y="449568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is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82160" y="1027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82920" y="4935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02C-A9A3-4DAB-833F-423FBF57E7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cc(t) for 5 Buffer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635800" cy="335124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7066800" y="2373480"/>
            <a:ext cx="16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 in 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 in gr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359000" y="110340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 power on/off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7E9-7008-491E-90AE-AF387B3B4D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1658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cc(t) Model: SPEED2000*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8138880" y="5105520"/>
            <a:ext cx="14040" cy="761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889360" y="3352680"/>
            <a:ext cx="5263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22520" y="2971800"/>
            <a:ext cx="47307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242040" y="5867280"/>
            <a:ext cx="1911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89360" y="1447920"/>
            <a:ext cx="5331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09680" y="838080"/>
            <a:ext cx="4489560" cy="5181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43920" y="10666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(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51120" y="2819520"/>
            <a:ext cx="1683000" cy="22860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51120" y="3200400"/>
            <a:ext cx="1676520" cy="22860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34008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422520" y="144792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3416040" y="2514600"/>
            <a:ext cx="612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1304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89360" y="144792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889360" y="2514600"/>
            <a:ext cx="6120" cy="838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2133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05320" y="2133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038480" y="2514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=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4800" y="3505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=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18400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pai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777640" y="56386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895840" y="44956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972520" y="52578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00400" y="4800600"/>
            <a:ext cx="0" cy="380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971800" y="487692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8153280" y="1218960"/>
            <a:ext cx="0" cy="46479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848720" y="1676520"/>
            <a:ext cx="609480" cy="38088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848720" y="3657600"/>
            <a:ext cx="609480" cy="38088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324480" y="1219320"/>
            <a:ext cx="1835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63440" y="106668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(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441972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x repres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planar 3-D mode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 and Gnd 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single no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56B-5705-46FF-9D59-A35C9D9E42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utlin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iver and termination types used in differential current ana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ferential” driver typ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ully, Half and Pseudo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rmination schemes and current profi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wer,  Ground,  Between Lines,  P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tailed analysis of the popular half differential driver desig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wer and ground at driv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ferential li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wer Delivery (PD) design examp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rmal operation vs. driver power on/of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BIS model usa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22C-A5E5-4A1D-A12D-D3CE2139AD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vcc, Ivss under Sigrity SPEED2000*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380880" y="1266840"/>
            <a:ext cx="4724640" cy="2467080"/>
            <a:chOff x="380880" y="1266840"/>
            <a:chExt cx="4724640" cy="2467080"/>
          </a:xfrm>
        </p:grpSpPr>
        <p:pic>
          <p:nvPicPr>
            <p:cNvPr id="875" name="" descr=""/>
            <p:cNvPicPr/>
            <p:nvPr/>
          </p:nvPicPr>
          <p:blipFill>
            <a:blip r:embed="rId1"/>
            <a:stretch/>
          </p:blipFill>
          <p:spPr>
            <a:xfrm>
              <a:off x="380880" y="1266840"/>
              <a:ext cx="4724640" cy="24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 txBox="1"/>
            <p:nvPr/>
          </p:nvSpPr>
          <p:spPr>
            <a:xfrm>
              <a:off x="380880" y="1266840"/>
              <a:ext cx="4724640" cy="24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1523880" y="2971800"/>
            <a:ext cx="628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0.85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114800" y="1596960"/>
            <a:ext cx="522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1.6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114800" y="3809880"/>
            <a:ext cx="4724280" cy="2362320"/>
            <a:chOff x="4114800" y="3809880"/>
            <a:chExt cx="4724280" cy="2362320"/>
          </a:xfrm>
        </p:grpSpPr>
        <p:pic>
          <p:nvPicPr>
            <p:cNvPr id="880" name="" descr=""/>
            <p:cNvPicPr/>
            <p:nvPr/>
          </p:nvPicPr>
          <p:blipFill>
            <a:blip r:embed="rId2"/>
            <a:stretch/>
          </p:blipFill>
          <p:spPr>
            <a:xfrm>
              <a:off x="4114800" y="3809880"/>
              <a:ext cx="47242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 txBox="1"/>
            <p:nvPr/>
          </p:nvSpPr>
          <p:spPr>
            <a:xfrm>
              <a:off x="4114800" y="3809880"/>
              <a:ext cx="472428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5192280" y="5364000"/>
            <a:ext cx="607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0.78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924320" y="4068720"/>
            <a:ext cx="607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1.65 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297440" y="91440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se at source 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411520" y="33526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ise at termination 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86880" y="403848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ver power on/off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267-7F1B-4A8A-8B51-EB13A2AE2E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16588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BIS model: Sigrity SPEED2000* Examp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8437320" y="4495680"/>
            <a:ext cx="20520" cy="12956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813040" y="3276720"/>
            <a:ext cx="46544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346560" y="2895480"/>
            <a:ext cx="4120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95880" y="5791320"/>
            <a:ext cx="2362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3040" y="1371600"/>
            <a:ext cx="5335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33720" y="762120"/>
            <a:ext cx="4489200" cy="518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667600" y="9907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(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575160" y="2743200"/>
            <a:ext cx="1682640" cy="22860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575160" y="3124080"/>
            <a:ext cx="1676160" cy="22860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63760" y="19810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346560" y="137160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340080" y="2438280"/>
            <a:ext cx="648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36720" y="19810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13040" y="137160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3040" y="2438280"/>
            <a:ext cx="6480" cy="838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2087640"/>
            <a:ext cx="6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08480" y="20113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62520" y="243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=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3429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=55 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726800" y="3429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p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391520" y="1905120"/>
            <a:ext cx="1295280" cy="281916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e86"/>
                </a:solidFill>
                <a:latin typeface="Arial"/>
              </a:rPr>
              <a:t>IBIS*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095880" y="5105520"/>
            <a:ext cx="1600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69608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72200" y="1066680"/>
            <a:ext cx="2286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72200" y="1523880"/>
            <a:ext cx="1447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620120" y="15238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8457840" y="1066680"/>
            <a:ext cx="20520" cy="838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638680" y="114300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wer (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792040" y="525780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148520" y="4708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443800" y="47084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146720" y="15843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535960" y="1600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19880" y="43434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896200" y="51814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2408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8006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78384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17000" y="4443480"/>
            <a:ext cx="199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x repres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planar 3-D mode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 and Gnd 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single no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098-248C-46C2-9C64-EC3A5ED63A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ormal Oper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572000" cy="21337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5105520" y="1600200"/>
            <a:ext cx="2361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n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in 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037880" y="4419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tion of currents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ission lin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≠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4191120" y="3505320"/>
            <a:ext cx="4462200" cy="244764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1908000" y="19810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Driver Curr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4800600" y="1752480"/>
            <a:ext cx="533520" cy="76320"/>
          </a:xfrm>
          <a:prstGeom prst="line">
            <a:avLst/>
          </a:prstGeom>
          <a:ln w="19080">
            <a:solidFill>
              <a:srgbClr val="ff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4800600" y="2666880"/>
            <a:ext cx="457200" cy="76320"/>
          </a:xfrm>
          <a:prstGeom prst="line">
            <a:avLst/>
          </a:prstGeom>
          <a:ln w="19080">
            <a:solidFill>
              <a:srgbClr val="ff5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D01-B1DA-46F6-8C31-289F2A8A64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river Power On/Off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optimum power delivery system design, driver power on/off behavior of the buffer must be analyz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IBIS*, the output only model cannot be switched o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moving power from the buffer may not be accur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/O model can be powered off through the Enable contr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mplementation is tool-depend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335-C0FB-4CE4-917F-24D47D7B07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233640" indent="-232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half differential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in differential lines are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no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lways equal and oppos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in power and ground are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no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lways equ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rmination schemes play an important r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-232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differential systems, power delivery design must consi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rmal operation vs. power on/off ev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coupling solutions to mitigate worst case operating condi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-232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fferent modeling approaches need to accommodate this behavi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-232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 questions for indus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o today’s tools support driver power on/off event simulation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an IBIS* be used reliably for driver power on/off analys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42880" indent="-3078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oes BIRD95 include all the data needed for this kind of analys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3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FB9-DF92-477F-B1AC-7B532FD4C8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Backup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5C2-169F-48C6-BC32-31A8D3586B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eometry and Stackup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262400" cy="1834920"/>
          </a:xfrm>
          <a:prstGeom prst="rect">
            <a:avLst/>
          </a:prstGeom>
          <a:ln w="0">
            <a:noFill/>
          </a:ln>
        </p:spPr>
      </p:pic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7077240" cy="297180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5141520" y="1432080"/>
            <a:ext cx="21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e width: 5 mi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ce spacing: 7 mi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3C6-A88D-4ACE-ADFA-12B21B1183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3200400" y="1523880"/>
            <a:ext cx="2743200" cy="38124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cc verification with co-simulato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1395360" y="1951200"/>
            <a:ext cx="6647040" cy="350496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3279600" y="563868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 Diff Drivers are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916560" y="91440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-simulator: Sigrity SPEED2000* + Synopsys HSPICE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22280" y="3124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Arial"/>
              </a:rPr>
              <a:t>Current in 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808440" y="434340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e86"/>
                </a:solidFill>
                <a:latin typeface="Arial"/>
              </a:rPr>
              <a:t>Current in gr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80880" y="3200400"/>
            <a:ext cx="13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 on/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196800" y="144792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urrent flow at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42A-ADB5-4F65-B462-457B424FC7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ypical Differential Driver Types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(1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747960" y="472428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33760" y="4191120"/>
            <a:ext cx="0" cy="533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47960" y="4191120"/>
            <a:ext cx="0" cy="533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81120" y="4038480"/>
            <a:ext cx="149400" cy="1526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595320" y="4038480"/>
            <a:ext cx="152280" cy="1526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72000" y="22096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47600" y="266688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7800" y="22096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37000" y="18288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33400" y="266688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29200" y="52578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29200" y="472428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00600" y="4952880"/>
            <a:ext cx="457200" cy="30492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76560" y="495288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3760" y="4876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7800" y="3048120"/>
            <a:ext cx="15876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342900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00400" y="1828800"/>
            <a:ext cx="550800" cy="733680"/>
            <a:chOff x="3200400" y="1828800"/>
            <a:chExt cx="550800" cy="733680"/>
          </a:xfrm>
        </p:grpSpPr>
        <p:sp>
          <p:nvSpPr>
            <p:cNvPr id="108" name=""/>
            <p:cNvSpPr/>
            <p:nvPr/>
          </p:nvSpPr>
          <p:spPr>
            <a:xfrm>
              <a:off x="3751200" y="1828800"/>
              <a:ext cx="0" cy="38088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400" y="2286000"/>
              <a:ext cx="5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662360" y="22860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4280" y="3505320"/>
            <a:ext cx="1447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10080" y="312408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47960" y="18288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920" y="58672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76560" y="5486400"/>
            <a:ext cx="317520" cy="380160"/>
            <a:chOff x="3976560" y="5486400"/>
            <a:chExt cx="317520" cy="380160"/>
          </a:xfrm>
        </p:grpSpPr>
        <p:grpSp>
          <p:nvGrpSpPr>
            <p:cNvPr id="116" name=""/>
            <p:cNvGrpSpPr/>
            <p:nvPr/>
          </p:nvGrpSpPr>
          <p:grpSpPr>
            <a:xfrm>
              <a:off x="3976560" y="5676840"/>
              <a:ext cx="317520" cy="189720"/>
              <a:chOff x="3976560" y="5676840"/>
              <a:chExt cx="317520" cy="189720"/>
            </a:xfrm>
          </p:grpSpPr>
          <p:sp>
            <p:nvSpPr>
              <p:cNvPr id="117" name=""/>
              <p:cNvSpPr/>
              <p:nvPr/>
            </p:nvSpPr>
            <p:spPr>
              <a:xfrm>
                <a:off x="3976560" y="567684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055760" y="577152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82760" y="581904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08320" y="586656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128840" y="5486400"/>
              <a:ext cx="0" cy="190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>
            <a:off x="4129200" y="5638680"/>
            <a:ext cx="144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121932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2880" y="16002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64832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411480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11480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523520" y="3962520"/>
            <a:ext cx="14940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38080" y="3962520"/>
            <a:ext cx="15264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20040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18148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4648320"/>
            <a:ext cx="0" cy="223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876920"/>
            <a:ext cx="457200" cy="30456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4876920"/>
            <a:ext cx="30456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800600"/>
            <a:ext cx="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5812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657600"/>
            <a:ext cx="1447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7913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5410080"/>
            <a:ext cx="317520" cy="380520"/>
            <a:chOff x="1219320" y="5410080"/>
            <a:chExt cx="317520" cy="380520"/>
          </a:xfrm>
        </p:grpSpPr>
        <p:grpSp>
          <p:nvGrpSpPr>
            <p:cNvPr id="141" name=""/>
            <p:cNvGrpSpPr/>
            <p:nvPr/>
          </p:nvGrpSpPr>
          <p:grpSpPr>
            <a:xfrm>
              <a:off x="1219320" y="5600880"/>
              <a:ext cx="317520" cy="189720"/>
              <a:chOff x="1219320" y="5600880"/>
              <a:chExt cx="317520" cy="189720"/>
            </a:xfrm>
          </p:grpSpPr>
          <p:sp>
            <p:nvSpPr>
              <p:cNvPr id="142" name=""/>
              <p:cNvSpPr/>
              <p:nvPr/>
            </p:nvSpPr>
            <p:spPr>
              <a:xfrm>
                <a:off x="1219320" y="560088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98520" y="569556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25520" y="574308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51080" y="579060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1371600" y="5410080"/>
              <a:ext cx="0" cy="19080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1371600" y="5562720"/>
            <a:ext cx="144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523520" y="3048120"/>
            <a:ext cx="14940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38080" y="3048120"/>
            <a:ext cx="15264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438280"/>
            <a:ext cx="0" cy="609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2438280"/>
            <a:ext cx="0" cy="609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905120"/>
            <a:ext cx="457200" cy="30456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90512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18288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429000"/>
            <a:ext cx="7621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43828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0968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676520"/>
            <a:ext cx="0" cy="223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44792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1080" y="1143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44792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3720" y="3352680"/>
            <a:ext cx="15876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971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38862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9718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9625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47960" y="16002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640" y="83808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lly Differ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2800" y="8380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lf Differ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4160" y="838080"/>
            <a:ext cx="23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eudo Different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238880" y="4571640"/>
            <a:ext cx="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5410080"/>
            <a:ext cx="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4876920"/>
            <a:ext cx="0" cy="533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4343400"/>
            <a:ext cx="16765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11000" y="57913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086600" y="5334120"/>
            <a:ext cx="317520" cy="456480"/>
            <a:chOff x="7086600" y="5334120"/>
            <a:chExt cx="317520" cy="456480"/>
          </a:xfrm>
        </p:grpSpPr>
        <p:grpSp>
          <p:nvGrpSpPr>
            <p:cNvPr id="178" name=""/>
            <p:cNvGrpSpPr/>
            <p:nvPr/>
          </p:nvGrpSpPr>
          <p:grpSpPr>
            <a:xfrm>
              <a:off x="7086600" y="5562720"/>
              <a:ext cx="317520" cy="227880"/>
              <a:chOff x="7086600" y="5562720"/>
              <a:chExt cx="317520" cy="227880"/>
            </a:xfrm>
          </p:grpSpPr>
          <p:sp>
            <p:nvSpPr>
              <p:cNvPr id="179" name=""/>
              <p:cNvSpPr/>
              <p:nvPr/>
            </p:nvSpPr>
            <p:spPr>
              <a:xfrm>
                <a:off x="7086600" y="556272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65800" y="567648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92800" y="573372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18360" y="579060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238880" y="5334120"/>
              <a:ext cx="0" cy="22860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238520" y="5562720"/>
            <a:ext cx="180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086240" y="380988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1828800"/>
            <a:ext cx="0" cy="1981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58200" y="266688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1447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144792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58200" y="3200400"/>
            <a:ext cx="0" cy="1447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58200" y="228600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58200" y="5410080"/>
            <a:ext cx="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58200" y="4648320"/>
            <a:ext cx="0" cy="761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30320" y="57913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05920" y="5334120"/>
            <a:ext cx="317520" cy="456480"/>
            <a:chOff x="8305920" y="5334120"/>
            <a:chExt cx="317520" cy="456480"/>
          </a:xfrm>
        </p:grpSpPr>
        <p:grpSp>
          <p:nvGrpSpPr>
            <p:cNvPr id="196" name=""/>
            <p:cNvGrpSpPr/>
            <p:nvPr/>
          </p:nvGrpSpPr>
          <p:grpSpPr>
            <a:xfrm>
              <a:off x="8305920" y="5562720"/>
              <a:ext cx="317520" cy="227880"/>
              <a:chOff x="8305920" y="5562720"/>
              <a:chExt cx="317520" cy="227880"/>
            </a:xfrm>
          </p:grpSpPr>
          <p:sp>
            <p:nvSpPr>
              <p:cNvPr id="197" name=""/>
              <p:cNvSpPr/>
              <p:nvPr/>
            </p:nvSpPr>
            <p:spPr>
              <a:xfrm>
                <a:off x="8305920" y="556272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5120" y="567648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412120" y="573372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579060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458200" y="5334120"/>
              <a:ext cx="0" cy="22860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8458200" y="5562720"/>
            <a:ext cx="144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458200" y="228600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8200" y="1447920"/>
            <a:ext cx="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144792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39480" y="1143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240" y="396252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733920"/>
            <a:ext cx="0" cy="304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086240" y="472428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086240" y="487692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4648320"/>
            <a:ext cx="0" cy="304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477120" y="388620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76760" y="480060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886200"/>
            <a:ext cx="0" cy="9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3809880"/>
            <a:ext cx="152280" cy="15264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8200" y="228600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05560" y="213372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305560" y="228600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05920" y="2057400"/>
            <a:ext cx="0" cy="304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305560" y="304812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305560" y="3200400"/>
            <a:ext cx="152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2971800"/>
            <a:ext cx="0" cy="304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96080" y="220968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124080"/>
            <a:ext cx="6098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2209680"/>
            <a:ext cx="0" cy="9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2133720"/>
            <a:ext cx="152640" cy="15228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602800">
            <a:off x="6209640" y="2471400"/>
            <a:ext cx="300240" cy="233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2521080"/>
            <a:ext cx="152280" cy="15228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2590920"/>
            <a:ext cx="1066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2590920"/>
            <a:ext cx="0" cy="1752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597040"/>
            <a:ext cx="152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4343400"/>
            <a:ext cx="381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60958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1) IBIS Modeling Cookbook for IBIS Ver.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07520" y="449568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May ha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eparate bi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1880" y="2590920"/>
            <a:ext cx="1526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2670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D6C-3076-4DD5-B997-E64BD7765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Differential Interface Characteristic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1447920"/>
          <a:ext cx="8001000" cy="396540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2133720"/>
                <a:gridCol w="2209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Fully Different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Half Different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Pseudo Different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iver Termination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ween sig and sig#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if not at receiv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t combinations (e.g., sig and sig# to power, g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 termina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iver Termination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ween sig and sig#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If not at driv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t combinations (e.g., sig and sig# to power, g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t combinations (e.g., sig and sig# to power, g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river B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y be separate bias circu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ed through term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ually not necessa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ustry Interfac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V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B2.0, PCI Express*, SATA, etc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B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28600" y="5181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64C-3A93-47BF-9146-9B6C3932D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838836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ypical Expectations for Differential System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915120" y="51055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90720" y="4876920"/>
            <a:ext cx="317520" cy="190080"/>
            <a:chOff x="990720" y="4876920"/>
            <a:chExt cx="317520" cy="190080"/>
          </a:xfrm>
        </p:grpSpPr>
        <p:sp>
          <p:nvSpPr>
            <p:cNvPr id="244" name=""/>
            <p:cNvSpPr/>
            <p:nvPr/>
          </p:nvSpPr>
          <p:spPr>
            <a:xfrm>
              <a:off x="990720" y="4876920"/>
              <a:ext cx="3175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9920" y="4971960"/>
              <a:ext cx="1587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96920" y="5019480"/>
              <a:ext cx="1047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22480" y="5067000"/>
              <a:ext cx="5400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1219320"/>
            <a:ext cx="6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5475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3657600"/>
            <a:ext cx="2438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124080"/>
            <a:ext cx="2438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43000" y="1600200"/>
            <a:ext cx="76320" cy="3276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04760" y="1859040"/>
            <a:ext cx="457200" cy="228600"/>
          </a:xfrm>
          <a:prstGeom prst="ellipse">
            <a:avLst/>
          </a:prstGeom>
          <a:solidFill>
            <a:srgbClr val="ff5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18840" y="1859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20880" y="4267080"/>
            <a:ext cx="457200" cy="228600"/>
          </a:xfrm>
          <a:prstGeom prst="ellipse">
            <a:avLst/>
          </a:prstGeom>
          <a:solidFill>
            <a:srgbClr val="ff5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34600" y="4267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1911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971800"/>
            <a:ext cx="457200" cy="228600"/>
          </a:xfrm>
          <a:prstGeom prst="ellipse">
            <a:avLst/>
          </a:prstGeom>
          <a:solidFill>
            <a:srgbClr val="ff5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3581280"/>
            <a:ext cx="457200" cy="228600"/>
          </a:xfrm>
          <a:prstGeom prst="ellipse">
            <a:avLst/>
          </a:prstGeom>
          <a:solidFill>
            <a:srgbClr val="ff5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819520"/>
            <a:ext cx="914400" cy="99036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18288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74320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86000" y="388620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9360" y="24382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39360" y="39625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 rot="5400000">
            <a:off x="799920" y="3085200"/>
            <a:ext cx="1143000" cy="609840"/>
          </a:xfrm>
          <a:prstGeom prst="flowChartMerg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1523880"/>
            <a:ext cx="3740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driver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ent in power = current in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ents in sig + sig#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qual and opposite currents in sig and sig#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ltages in sig and sig# =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rror image with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pect to a commo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53000" y="32367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274320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368784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600200" y="5105520"/>
            <a:ext cx="7424640" cy="914400"/>
            <a:chOff x="1600200" y="5105520"/>
            <a:chExt cx="7424640" cy="914400"/>
          </a:xfrm>
        </p:grpSpPr>
        <p:sp>
          <p:nvSpPr>
            <p:cNvPr id="272" name=""/>
            <p:cNvSpPr/>
            <p:nvPr/>
          </p:nvSpPr>
          <p:spPr>
            <a:xfrm>
              <a:off x="1600200" y="5105520"/>
              <a:ext cx="7424640" cy="914400"/>
            </a:xfrm>
            <a:prstGeom prst="flowChartAlternateProcess">
              <a:avLst/>
            </a:prstGeom>
            <a:solidFill>
              <a:srgbClr val="a6ca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2480" y="5105520"/>
              <a:ext cx="713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</a:rPr>
                <a:t>Assumptions that may not be valid for all differential system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cc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"/>
                </a:rPr>
                <a:t>At driver, current in power = current in gro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cc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0099"/>
                  </a:solidFill>
                  <a:latin typeface="Arial"/>
                </a:rPr>
                <a:t>Summation of currents in sig and sig# =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183-45F5-4594-8640-010E651546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715000" y="2514600"/>
            <a:ext cx="23590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219320"/>
            <a:ext cx="8237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) Powe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) Line to lin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) Ground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1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2133720"/>
            <a:ext cx="2286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rmination Schemes for Half Differentia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2819520"/>
            <a:ext cx="2271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2438280"/>
            <a:ext cx="15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 rot="5400000">
            <a:off x="723960" y="2324160"/>
            <a:ext cx="914400" cy="533520"/>
          </a:xfrm>
          <a:prstGeom prst="flowChartMerg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9320" y="2452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81240" y="205740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81240" y="289548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3560" y="9907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52840" y="167652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28800" y="1295280"/>
            <a:ext cx="1440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728800" y="2133720"/>
            <a:ext cx="14400" cy="304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27480" y="1676520"/>
            <a:ext cx="16344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7840" y="1295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414240" y="2133720"/>
            <a:ext cx="3240" cy="685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71600" y="18288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0920" y="175248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38440" y="2362320"/>
            <a:ext cx="609480" cy="1522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38440" y="2743200"/>
            <a:ext cx="609480" cy="1522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5410080"/>
            <a:ext cx="2421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 rot="5400000">
            <a:off x="5074560" y="4921920"/>
            <a:ext cx="914400" cy="519120"/>
          </a:xfrm>
          <a:prstGeom prst="flowChartMerg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9960" y="5029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73680" y="464832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73680" y="548640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21960" y="35053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45280" y="42670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21600" y="3886200"/>
            <a:ext cx="1440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221600" y="4724280"/>
            <a:ext cx="14400" cy="304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45280" y="49528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819920" y="4267080"/>
            <a:ext cx="16344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10640" y="38862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24840" y="3886200"/>
            <a:ext cx="6969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91320" y="437364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062920" y="434340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30880" y="4952880"/>
            <a:ext cx="609480" cy="15264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30880" y="5334120"/>
            <a:ext cx="609480" cy="1522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610480" y="2133720"/>
            <a:ext cx="16380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17524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175248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077320" y="297180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17524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2590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77320" y="25909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01000" y="205740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001000" y="2438280"/>
            <a:ext cx="16344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 rot="5400000">
            <a:off x="5181480" y="2057400"/>
            <a:ext cx="990720" cy="533520"/>
          </a:xfrm>
          <a:prstGeom prst="flowChartMerg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213372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40360" y="175248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40360" y="259092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97560" y="2057400"/>
            <a:ext cx="609840" cy="1522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97560" y="2438280"/>
            <a:ext cx="609840" cy="15264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648320"/>
            <a:ext cx="19810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4267080"/>
            <a:ext cx="1521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 rot="5400000">
            <a:off x="647640" y="4152960"/>
            <a:ext cx="914400" cy="533520"/>
          </a:xfrm>
          <a:prstGeom prst="flowChartMerg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83360" y="42814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e86"/>
                </a:solidFill>
                <a:latin typeface="Arial"/>
              </a:rPr>
              <a:t>D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16080" y="388620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16080" y="472428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5105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73280" y="4191120"/>
            <a:ext cx="609480" cy="1522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73280" y="4572000"/>
            <a:ext cx="609480" cy="1522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33720" y="4267080"/>
            <a:ext cx="6094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67240" y="50292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4648320"/>
            <a:ext cx="1128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43200" y="4191120"/>
            <a:ext cx="14400" cy="838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548640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00400" y="5105520"/>
            <a:ext cx="16380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0200" y="426708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4191120"/>
            <a:ext cx="0" cy="223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33720" y="4191120"/>
            <a:ext cx="0" cy="223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5740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3372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05120" y="380988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48769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67240" y="41911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00400" y="4572000"/>
            <a:ext cx="16380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3400" y="510552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5943600"/>
            <a:ext cx="5335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115520" y="6019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09880" y="5943600"/>
            <a:ext cx="317520" cy="380160"/>
            <a:chOff x="3809880" y="5943600"/>
            <a:chExt cx="317520" cy="380160"/>
          </a:xfrm>
        </p:grpSpPr>
        <p:grpSp>
          <p:nvGrpSpPr>
            <p:cNvPr id="359" name=""/>
            <p:cNvGrpSpPr/>
            <p:nvPr/>
          </p:nvGrpSpPr>
          <p:grpSpPr>
            <a:xfrm>
              <a:off x="3809880" y="6134040"/>
              <a:ext cx="317520" cy="189720"/>
              <a:chOff x="3809880" y="6134040"/>
              <a:chExt cx="317520" cy="189720"/>
            </a:xfrm>
          </p:grpSpPr>
          <p:sp>
            <p:nvSpPr>
              <p:cNvPr id="360" name=""/>
              <p:cNvSpPr/>
              <p:nvPr/>
            </p:nvSpPr>
            <p:spPr>
              <a:xfrm>
                <a:off x="3809880" y="613404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89080" y="622872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16080" y="627624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41640" y="632376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962160" y="5943600"/>
              <a:ext cx="0" cy="190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H="1">
            <a:off x="3962520" y="6095880"/>
            <a:ext cx="1440" cy="5076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53280" y="2209680"/>
            <a:ext cx="4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458200" y="5257800"/>
            <a:ext cx="16344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34520" y="50292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924680" y="5943600"/>
            <a:ext cx="6098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34520" y="57150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77320" y="5334120"/>
            <a:ext cx="47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24680" y="472428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924680" y="5105520"/>
            <a:ext cx="0" cy="3045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924680" y="54100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37560" y="5334120"/>
            <a:ext cx="1634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899480" y="4952880"/>
            <a:ext cx="177840" cy="228600"/>
          </a:xfrm>
          <a:custGeom>
            <a:avLst/>
            <a:gdLst/>
            <a:ahLst/>
            <a:rect l="l" t="t" r="r" b="b"/>
            <a:pathLst>
              <a:path w="112" h="144">
                <a:moveTo>
                  <a:pt x="16" y="0"/>
                </a:moveTo>
                <a:cubicBezTo>
                  <a:pt x="64" y="16"/>
                  <a:pt x="112" y="32"/>
                  <a:pt x="112" y="48"/>
                </a:cubicBezTo>
                <a:cubicBezTo>
                  <a:pt x="112" y="64"/>
                  <a:pt x="32" y="80"/>
                  <a:pt x="16" y="96"/>
                </a:cubicBezTo>
                <a:cubicBezTo>
                  <a:pt x="0" y="112"/>
                  <a:pt x="8" y="128"/>
                  <a:pt x="16" y="144"/>
                </a:cubicBezTo>
              </a:path>
            </a:pathLst>
          </a:custGeom>
          <a:noFill/>
          <a:ln w="158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43200" y="129528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8E5-7926-42D7-ABC5-4765AACC68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rmination #1: Powe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4648320" y="1219320"/>
            <a:ext cx="2438280" cy="320040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24640" y="25909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24280" y="3505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in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00440" y="26668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40840" y="40384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606080" y="12952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40840" y="129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35268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057400" y="914400"/>
            <a:ext cx="3657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09880" y="2971800"/>
            <a:ext cx="8384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2971800"/>
            <a:ext cx="5191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2940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05720" y="1676520"/>
            <a:ext cx="1440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605720" y="2514600"/>
            <a:ext cx="1440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28954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04040" y="2057400"/>
            <a:ext cx="16380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9476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94760" y="2514600"/>
            <a:ext cx="0" cy="838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18440" y="3276720"/>
            <a:ext cx="1634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3352680"/>
            <a:ext cx="1219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6600" y="1676520"/>
            <a:ext cx="1219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072200" y="22096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05920" y="2133720"/>
            <a:ext cx="47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23760" y="350532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o_out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914400"/>
            <a:ext cx="0" cy="1981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971800"/>
            <a:ext cx="3240" cy="23623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4419720"/>
            <a:ext cx="0" cy="1143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5334120"/>
            <a:ext cx="3809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12193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2200" y="563868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5715000" y="5486400"/>
            <a:ext cx="317520" cy="380160"/>
            <a:chOff x="5715000" y="5486400"/>
            <a:chExt cx="317520" cy="380160"/>
          </a:xfrm>
        </p:grpSpPr>
        <p:grpSp>
          <p:nvGrpSpPr>
            <p:cNvPr id="411" name=""/>
            <p:cNvGrpSpPr/>
            <p:nvPr/>
          </p:nvGrpSpPr>
          <p:grpSpPr>
            <a:xfrm>
              <a:off x="5715000" y="5676840"/>
              <a:ext cx="317520" cy="189720"/>
              <a:chOff x="5715000" y="5676840"/>
              <a:chExt cx="317520" cy="189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15000" y="5676840"/>
                <a:ext cx="31752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4200" y="5771520"/>
                <a:ext cx="158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21200" y="5819040"/>
                <a:ext cx="10476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6760" y="5866560"/>
                <a:ext cx="54000" cy="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5867280" y="5486400"/>
              <a:ext cx="0" cy="19044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4038480"/>
            <a:ext cx="0" cy="5335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657240" y="3886200"/>
            <a:ext cx="14940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971440" y="3886200"/>
            <a:ext cx="15228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124080" y="1676520"/>
            <a:ext cx="15242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481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73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1237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33920" y="2057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13120" y="16765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09520" y="2514600"/>
            <a:ext cx="3240" cy="1371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05320" y="510552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572000"/>
            <a:ext cx="0" cy="223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800600"/>
            <a:ext cx="457200" cy="304920"/>
          </a:xfrm>
          <a:prstGeom prst="flowChartDecision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4800600"/>
            <a:ext cx="304920" cy="2764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Bodoni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9880" y="47242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2895480"/>
            <a:ext cx="15876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32767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5000" y="914400"/>
            <a:ext cx="0" cy="304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905120" y="2895480"/>
            <a:ext cx="3045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981080" y="2971800"/>
            <a:ext cx="152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76520" y="2133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2096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2819520"/>
            <a:ext cx="5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r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2971800"/>
            <a:ext cx="2133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3352680"/>
            <a:ext cx="21337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21337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486400" y="327672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21337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5866920" y="5638680"/>
            <a:ext cx="1800" cy="50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809880"/>
            <a:ext cx="304560" cy="381240"/>
          </a:xfrm>
          <a:custGeom>
            <a:avLst/>
            <a:gdLst>
              <a:gd name="textAreaLeft" fmla="*/ 40680 w 304560"/>
              <a:gd name="textAreaRight" fmla="*/ 263880 w 30456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0120" y="5410080"/>
            <a:ext cx="42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x is an S-parameter-based model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ower, signal ports generated by Power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171840" y="4190760"/>
            <a:ext cx="304920" cy="20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600" y="3200400"/>
            <a:ext cx="185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reg model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5 V, 5 nH, 7.8 m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04760" y="525780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F is a singl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bitrary reference 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87120" y="198108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DN+ 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7E1-21B5-401E-9C11-EEA4EACC1E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ormal Operating Condi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/>
          <p:nvPr/>
        </p:nvSpPr>
        <p:spPr>
          <a:xfrm>
            <a:off x="6705720" y="1143000"/>
            <a:ext cx="2066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Current: Large DC, Small A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ss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 (vccq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rrents in Tlines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mmation ≠ 0  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tages in Tl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5591160" cy="50623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51760" y="6019920"/>
            <a:ext cx="65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1) Majority of return current is through ground, a net DC return 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F7B-03CF-42E1-9C0F-634BB9130F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3:26:00Z</dcterms:created>
  <dc:creator>Vishram S. Pandi, Michael Mirmak</dc:creator>
  <dc:description/>
  <dc:language>en-US</dc:language>
  <cp:lastModifiedBy>Michael Mirmak</cp:lastModifiedBy>
  <dcterms:modified xsi:type="dcterms:W3CDTF">2006-02-08T00:41:55Z</dcterms:modified>
  <cp:revision>353</cp:revision>
  <dc:subject>Current distribution for power delivery</dc:subject>
  <dc:title>Differential System Design and Power Delivery</dc:title>
</cp:coreProperties>
</file>