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42A-09C1-4399-AD60-04204F93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475-FFE5-45DC-96BB-5597C944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DBB-3D20-4370-BF26-F09BC777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548-842D-4E67-BFFC-F03B25FB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B1C-4B19-4DBC-8111-8833A34F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4021-CB52-494E-8DD4-56598280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83FA-1C4B-45B1-9742-9D32777E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4CDA-6574-41BD-B5D2-B613275E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5C4-A750-47F4-A720-9D3DAA7B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591D-C708-4393-90FF-F0C89088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A30D-8C61-4BA0-8CE5-B2C34EA0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3D8-22C5-4335-9F41-2A4A7FA4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60FF-185D-4C4E-AD5C-223D461D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566-3162-4CD3-867F-AE503822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C1E9-2CF8-441D-963F-3915E0A2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888E-C00E-4482-9108-A4DF4709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2EA7-97D9-4C7E-A4D6-29FFF145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732-3587-418B-8A42-61511BC9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294-253B-4F65-892C-174465E0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393-A6B3-4DB4-A0CA-39C5395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C5A-E1B6-485D-ACDC-BD6B3E35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BDA-691D-4FB0-9C13-48926E12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955-0E17-450E-9659-CB0B23B2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BFF-1FD7-4879-A5E3-33798038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 IBIS Summit at Design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FB7A-71CE-4E55-BE18-6C7F20E9C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05680" y="181080"/>
            <a:ext cx="1833480" cy="21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group.org/ibis/" TargetMode="External"/><Relationship Id="rId2" Type="http://schemas.openxmlformats.org/officeDocument/2006/relationships/hyperlink" Target="http://www.eda.org/ibis/" TargetMode="External"/><Relationship Id="rId3" Type="http://schemas.openxmlformats.org/officeDocument/2006/relationships/hyperlink" Target="http://www.eda.org/ibis/" TargetMode="External"/><Relationship Id="rId4" Type="http://schemas.openxmlformats.org/officeDocument/2006/relationships/hyperlink" Target="http://www.eda.org/ibis/" TargetMode="Externa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6991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nd Roadm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EIA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Con 200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9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igroup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www.eda.org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7132-3AFA-4617-AAB4-A808AEED51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Recen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term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CA9-97DB-467F-843F-14F2202996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307880"/>
            <a:ext cx="853416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M 1.1 is now a GEIA stand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GEIA-STD-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n IBIS Summit a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Over 150 registrants from 30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Very high quality of 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Key Recent Eve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113-49D4-4BE1-83A2-9C7CCA030B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43080" y="1609560"/>
            <a:ext cx="803880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Open Forum closed 2005 with 32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2006 renewals are already being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t least two new members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M and IBIS Par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CM parser licensees: Cisco, Intel, Mentor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osed the 2005 year “breaking even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7763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Organizational Heal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723960" y="5518080"/>
            <a:ext cx="7620120" cy="65736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bership trends are healthy for 2006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BC9-7100-4AAC-91E9-811A64D075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Short Term Dire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5640" y="1177920"/>
            <a:ext cx="844524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next six month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pprove and release IBIS 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Drive toward GEIA, ANSI standardiz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mplete IBIS 4.2 par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No cost, with minor bug fixes &amp;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mplete 3 of the 4 remaining IBIS 5.0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Begin (delayed) work on ICM 1.1 Coo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281-F900-4E11-888B-09A4FAE5D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H="1">
            <a:off x="6461280" y="3162240"/>
            <a:ext cx="7920" cy="6224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832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724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2084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120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1560" y="39132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336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832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8120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98320" y="3760920"/>
            <a:ext cx="1082880" cy="152280"/>
            <a:chOff x="598320" y="3760920"/>
            <a:chExt cx="1082880" cy="152280"/>
          </a:xfrm>
        </p:grpSpPr>
        <p:sp>
          <p:nvSpPr>
            <p:cNvPr id="108" name=""/>
            <p:cNvSpPr/>
            <p:nvPr/>
          </p:nvSpPr>
          <p:spPr>
            <a:xfrm>
              <a:off x="59832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98320" y="3817800"/>
              <a:ext cx="1082880" cy="90360"/>
              <a:chOff x="598320" y="3817800"/>
              <a:chExt cx="1082880" cy="9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9832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1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4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8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31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14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9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8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6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347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31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14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97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81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1681200" y="3760920"/>
            <a:ext cx="1085760" cy="152280"/>
            <a:chOff x="1681200" y="3760920"/>
            <a:chExt cx="1085760" cy="152280"/>
          </a:xfrm>
        </p:grpSpPr>
        <p:sp>
          <p:nvSpPr>
            <p:cNvPr id="125" name=""/>
            <p:cNvSpPr/>
            <p:nvPr/>
          </p:nvSpPr>
          <p:spPr>
            <a:xfrm>
              <a:off x="168120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681200" y="3817800"/>
              <a:ext cx="1085760" cy="90360"/>
              <a:chOff x="1681200" y="3817800"/>
              <a:chExt cx="1085760" cy="90360"/>
            </a:xfrm>
          </p:grpSpPr>
          <p:sp>
            <p:nvSpPr>
              <p:cNvPr id="127" name=""/>
              <p:cNvSpPr/>
              <p:nvPr/>
            </p:nvSpPr>
            <p:spPr>
              <a:xfrm>
                <a:off x="168120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64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478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317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49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984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82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65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49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32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160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99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83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66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3808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05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46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6696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732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87680" y="39132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9840" y="3913200"/>
            <a:ext cx="363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696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984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66960" y="376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66960" y="3760920"/>
            <a:ext cx="1082880" cy="152280"/>
            <a:chOff x="2766960" y="3760920"/>
            <a:chExt cx="1082880" cy="152280"/>
          </a:xfrm>
        </p:grpSpPr>
        <p:sp>
          <p:nvSpPr>
            <p:cNvPr id="154" name=""/>
            <p:cNvSpPr/>
            <p:nvPr/>
          </p:nvSpPr>
          <p:spPr>
            <a:xfrm>
              <a:off x="276696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766960" y="3817800"/>
              <a:ext cx="1082880" cy="90360"/>
              <a:chOff x="2766960" y="3817800"/>
              <a:chExt cx="1082880" cy="9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276696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50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332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16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99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83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66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49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3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16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99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82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66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49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3849840" y="3760920"/>
            <a:ext cx="1085760" cy="152280"/>
            <a:chOff x="3849840" y="3760920"/>
            <a:chExt cx="1085760" cy="152280"/>
          </a:xfrm>
        </p:grpSpPr>
        <p:sp>
          <p:nvSpPr>
            <p:cNvPr id="171" name=""/>
            <p:cNvSpPr/>
            <p:nvPr/>
          </p:nvSpPr>
          <p:spPr>
            <a:xfrm>
              <a:off x="384984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849840" y="3817800"/>
              <a:ext cx="1085760" cy="90360"/>
              <a:chOff x="3849840" y="3817800"/>
              <a:chExt cx="1085760" cy="90360"/>
            </a:xfrm>
          </p:grpSpPr>
          <p:sp>
            <p:nvSpPr>
              <p:cNvPr id="173" name=""/>
              <p:cNvSpPr/>
              <p:nvPr/>
            </p:nvSpPr>
            <p:spPr>
              <a:xfrm>
                <a:off x="384984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933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16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004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83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67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50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34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1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0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8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68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51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356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635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03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8600" y="5649840"/>
            <a:ext cx="14904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7720" y="59259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760" y="536724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1054080" y="1046160"/>
            <a:ext cx="3998880" cy="10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an., 2004: IBIS 4.1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15640" y="2206800"/>
            <a:ext cx="15264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55880" y="232092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7160" y="55879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8440" y="53182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7680" y="588960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2280" y="426708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22880" y="2519280"/>
            <a:ext cx="669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450880" y="3125520"/>
            <a:ext cx="12600" cy="655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57480" y="3071880"/>
            <a:ext cx="657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919160" y="3492000"/>
            <a:ext cx="0" cy="279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13080" y="427032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14840" y="305748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67360" y="2924280"/>
            <a:ext cx="746280" cy="505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542360" y="347184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34440" y="2511360"/>
            <a:ext cx="66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869240" y="3082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89600" y="42688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9080" y="5024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880" y="501336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376560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94040" y="426240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8680" y="42480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7440" y="462744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35600" y="391176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9416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776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812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78480" y="391176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4064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35600" y="406404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8120" y="4064040"/>
            <a:ext cx="1086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935600" y="3759120"/>
            <a:ext cx="1076400" cy="152280"/>
            <a:chOff x="4935600" y="3759120"/>
            <a:chExt cx="1076400" cy="152280"/>
          </a:xfrm>
        </p:grpSpPr>
        <p:sp>
          <p:nvSpPr>
            <p:cNvPr id="227" name=""/>
            <p:cNvSpPr/>
            <p:nvPr/>
          </p:nvSpPr>
          <p:spPr>
            <a:xfrm>
              <a:off x="49356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935600" y="3816000"/>
              <a:ext cx="1076400" cy="90360"/>
              <a:chOff x="4935600" y="3816000"/>
              <a:chExt cx="1076400" cy="9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9356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18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00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84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66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4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32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14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598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8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6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460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28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12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6012000" y="3759120"/>
            <a:ext cx="1085760" cy="152280"/>
            <a:chOff x="6012000" y="3759120"/>
            <a:chExt cx="1085760" cy="152280"/>
          </a:xfrm>
        </p:grpSpPr>
        <p:sp>
          <p:nvSpPr>
            <p:cNvPr id="244" name=""/>
            <p:cNvSpPr/>
            <p:nvPr/>
          </p:nvSpPr>
          <p:spPr>
            <a:xfrm>
              <a:off x="60120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012000" y="3816000"/>
              <a:ext cx="1085760" cy="90360"/>
              <a:chOff x="6012000" y="3816000"/>
              <a:chExt cx="1085760" cy="90360"/>
            </a:xfrm>
          </p:grpSpPr>
          <p:sp>
            <p:nvSpPr>
              <p:cNvPr id="246" name=""/>
              <p:cNvSpPr/>
              <p:nvPr/>
            </p:nvSpPr>
            <p:spPr>
              <a:xfrm>
                <a:off x="60120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955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1786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2625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457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2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131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96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801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633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46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303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138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97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579096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97760" y="3911760"/>
            <a:ext cx="366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6460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24960" y="391176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97760" y="4064040"/>
            <a:ext cx="1089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`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97760" y="3759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097760" y="3759120"/>
            <a:ext cx="1082520" cy="152280"/>
            <a:chOff x="7097760" y="3759120"/>
            <a:chExt cx="1082520" cy="152280"/>
          </a:xfrm>
        </p:grpSpPr>
        <p:sp>
          <p:nvSpPr>
            <p:cNvPr id="268" name=""/>
            <p:cNvSpPr/>
            <p:nvPr/>
          </p:nvSpPr>
          <p:spPr>
            <a:xfrm>
              <a:off x="709776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97760" y="3816000"/>
              <a:ext cx="1082520" cy="90360"/>
              <a:chOff x="7097760" y="3816000"/>
              <a:chExt cx="1082520" cy="90360"/>
            </a:xfrm>
          </p:grpSpPr>
          <p:sp>
            <p:nvSpPr>
              <p:cNvPr id="270" name=""/>
              <p:cNvSpPr/>
              <p:nvPr/>
            </p:nvSpPr>
            <p:spPr>
              <a:xfrm>
                <a:off x="709776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80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640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476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30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13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97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80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63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46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93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01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096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180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7966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4480" y="426564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2000" y="3770280"/>
            <a:ext cx="2880" cy="493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4264200"/>
            <a:ext cx="14940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56520" y="424512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5760" y="4070520"/>
            <a:ext cx="79642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69560" y="4946760"/>
            <a:ext cx="2175480" cy="10087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egular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Asia continu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’06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57320" y="2697120"/>
            <a:ext cx="615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32400" y="2622600"/>
            <a:ext cx="803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1240" y="3122640"/>
            <a:ext cx="74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032360" y="34974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77960" y="4241880"/>
            <a:ext cx="228600" cy="19044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6184800"/>
            <a:ext cx="228600" cy="19044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68320" y="618156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EITA IBIS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02400" y="4229280"/>
            <a:ext cx="241200" cy="266400"/>
          </a:xfrm>
          <a:custGeom>
            <a:avLst/>
            <a:gdLst>
              <a:gd name="textAreaLeft" fmla="*/ 99360 w 241200"/>
              <a:gd name="textAreaRight" fmla="*/ 141840 w 241200"/>
              <a:gd name="textAreaTop" fmla="*/ 109800 h 266400"/>
              <a:gd name="textAreaBottom" fmla="*/ 156600 h 26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686480"/>
            <a:ext cx="241200" cy="266400"/>
          </a:xfrm>
          <a:custGeom>
            <a:avLst/>
            <a:gdLst>
              <a:gd name="textAreaLeft" fmla="*/ 99360 w 241200"/>
              <a:gd name="textAreaRight" fmla="*/ 141840 w 241200"/>
              <a:gd name="textAreaTop" fmla="*/ 109800 h 266400"/>
              <a:gd name="textAreaBottom" fmla="*/ 156600 h 26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5920" y="4695840"/>
            <a:ext cx="14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BIS Summit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75240" y="2631960"/>
            <a:ext cx="803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3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A Affi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367160" y="3047760"/>
            <a:ext cx="0" cy="618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711840" y="30729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30B-D6D4-485D-B3B6-2768D06BCB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33000" y="990360"/>
            <a:ext cx="80391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BIS 4.2 – close with BIRD 102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BIRD10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– File Name Limit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10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Section 6b, Figure 12 Example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100.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– Allow Pure Analog *-AMS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99.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AMS Language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9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[Model Spec] and [Receiver Thresholds] Or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94.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Clarifications on [Diff Pin]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93.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– Model and Signal Name Limit Exten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92.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Model Termination and Series Elements under [Mode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91.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Multi-lingual Logic States Cla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90.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Multiple A_to_D Subparameters Cla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89.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Keyword Hierarchy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88.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Driver Schedule 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8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Series Pin Mapping Cla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BIS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74.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– EMI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95.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– Power Integrity Analysis using IB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BIRD97.2/98</a:t>
            </a:r>
            <a:r>
              <a:rPr b="1" lang="en-US" sz="1600" spc="-1" strike="noStrike">
                <a:solidFill>
                  <a:srgbClr val="5afe3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– Gate Modulation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16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– [External Model] under [Circuit Cal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1600" spc="-1" strike="noStrike">
                <a:solidFill>
                  <a:srgbClr val="0099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– ICM-IBIS 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6936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16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– User-Defined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10160" y="5067360"/>
            <a:ext cx="2543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arser change requir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10160" y="5610240"/>
            <a:ext cx="2571840" cy="36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Not yet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228240" y="98820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Future 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769-5AE4-410A-9D23-3810305DE9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.11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43080" y="1609560"/>
            <a:ext cx="840096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teps Before Big Le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BIS 4.2: Standardizing IBIS + 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BIS 5.0: A complete SI modeling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Integrated buffer, package and powe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upport through AMS for lates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Flexible for authors, standard for tools a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7763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Key Messag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723960" y="4651200"/>
            <a:ext cx="7620120" cy="127656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maintain IBIS as the industry’s “solution of choic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system-level SI behavioral mo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E42-AE43-44A9-A867-B59E0FA0D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6040" y="234360"/>
            <a:ext cx="732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85680" y="2471760"/>
            <a:ext cx="7204320" cy="33670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9FE-A8C1-4C1E-9B8A-654745FA34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6-02-03T19:40:29Z</dcterms:modified>
  <cp:revision>362</cp:revision>
  <dc:subject>Update to JEITA</dc:subject>
  <dc:title>IBIS Status and Future Direction</dc:title>
</cp:coreProperties>
</file>