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73F2-77EB-4DC3-82B2-343E50E03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DFCC-A9A6-4376-BAC3-74437B1F4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D45C-126D-46D6-8664-D154AE4DA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B8BF-9B73-4E3B-B72F-65E87797C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ACB8-2996-4FE1-A4E7-32BFA2A0C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4125-D1E6-415B-94AD-693995543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3305-020F-4C34-A3AA-4FC108549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F43F-F85D-4DDE-9347-4A1E00636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804F-95CE-4BAA-9B5D-6FE0027D3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C370-E25E-4C6A-9C6D-CC75E12C5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581D-8BCF-4D0C-A1C3-EC4BD244B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495A-A159-424E-BB98-489572A6E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44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9546-7104-4012-835D-A2F9407D22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34320" y="661356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ntor Graphics 200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IBIS: Addressing Challenges in Behavior and Measurement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2400" spc="-1" strike="noStrike">
                <a:solidFill>
                  <a:srgbClr val="66ffff"/>
                </a:solidFill>
                <a:latin typeface="Arial Black"/>
              </a:rPr>
              <a:t>February 2006</a:t>
            </a:r>
            <a:br>
              <a:rPr sz="38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3733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an C Dod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chitect, High Speed Tool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DD Divis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Proposed General Approach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hanced behavior and measurement information in IB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reate intelligent multi-lingual input models that delay their output signal based in slew rat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hance the IBIS measurement facilities to support the new dynamic overshoot constrai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cribe how to make the measur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form the spreadsheet to add new columns for the data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1BD0-3287-4C77-8A3F-16BAB9C031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Option 1: transistor level SPICE 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C manufacturer can use the internal models that were developed from the Silicon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cryption is required to hide the IP. Each EDA vendor has their own encryption package and proprietary foibles in their transistor primitiv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mulation will be slow compared to IBIS or AM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licated models are prone to bug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lementing flexible measurements in the model (e.g. the new dynamic overshoot) is too difficult. To solve the overall problem we would have to add a comprehensive measurement language to IBI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0EE4-3EDC-4B38-B969-4D369D45F0F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Option 2: Macro-models 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l work with any EDA vendor that has AMS, or is willing to add the (macro) building blocks into their SPICE like simulator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ster simulation than transistor level mode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current building blocks only have been proven in their support of IBIS 3.2. It is likely that new building blocks will soon be needed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lementing flexible measurements in the model (e.g. the new dynamic overshoot) is too difficult. To solve the overall problem we would have to add a comprehensive measurement language to IBI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15A3-7EF8-4096-BF19-F8029F4538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Option 3: Analog Only AMS* 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st EDA vendors have access to analog only AM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ping stone to full AM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latively easy for the model to do its own measureme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n be output as text messages ready for the spreadshee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ugment in IBIS with a simple list of column headings to add to the spreadsheet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st simul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languages are complex and no vendor (to my knowledge) has every feature suppor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uld be alleviated by agreeing to a preferred language subs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lementing digital features e.g. extended history in an equalizer requires jumping through hoop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64960" y="5110920"/>
            <a:ext cx="57128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Analog “AMS” generally differs from “A” in its support for discontinuous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F8A1-1471-4543-A7E8-66B47D0647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Option 4: AMS 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st flexible and technically elegant solu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asy for the model to do its own measureme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n be output as text messages ready for the spreadshee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ugment in IBIS with a simple list of column headings to add to the spreadsheet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st simul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w EDA vendors have currently offered AMS in their SI tool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languages are complex and no vendor (to my knowledge) has every feature suppor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uld be alleviated by agreeing to a preferred language subse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65320" y="5334120"/>
            <a:ext cx="196920" cy="28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2FB6-A4AB-44DE-AB23-210AB1ECB2B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Conclusion 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 will not de-emphasize what we believe to the best long term solution i.e. multi-lingual IBIS with AM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 believe that in addition to the ultimate solution a short term a “lowest common denominator” modeling language is need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BIS 3.2, by itself, is no longer able to reliably meet this requir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solution should address both behavior and measur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re are a number of competing methodologies that will meet many of the requireme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y definition we will only have a “lowest common denominator” if all the major EDA vendors agree on a single solution and add it to their SI tool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65320" y="5334120"/>
            <a:ext cx="196920" cy="28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B0CE-F207-4C74-AE05-8AD7F423CB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9048-6495-487E-9215-4AFC689E87A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Introduction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A Companies have established areas of excellence in their SI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AMS modeling, macro-modeling, (encrypted) SPICE modeling, design templates, flexible measurements, scripting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ce these are established it is extremely unusual for a company to de-emphasis support for these feature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EDA Companies also maintain a “lowest common denominator” for SI device behavior and measuremen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BIS 3.2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ows IC vendors and independent modeling companies to create a single model for use with all major SI tool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eds to accurately cover 99% of de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8951-3034-4B38-AC3F-6388BC8A27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What is the current state of the art?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BIS 3.2 still has lots of life in it for behavior, but there are examples where it is not adequat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ivers with pre-compens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aliz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BIS 3.2 has bigger problems with measurement. It is not adequate fo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eivers with slew rate sensitiv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f clocked data stream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BIS 3.2 no longer meets the 99% criter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ill should be the first choice where it is sufficiently accura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need a new “lowest common denominator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608B-D185-4CAD-9F49-ACF88E9817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814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876920"/>
            <a:ext cx="914400" cy="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9144000" cy="19814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495680"/>
            <a:ext cx="4953240" cy="1067040"/>
          </a:xfrm>
          <a:custGeom>
            <a:avLst/>
            <a:gdLst/>
            <a:ahLst/>
            <a:rect l="l" t="t" r="r" b="b"/>
            <a:pathLst>
              <a:path w="3120" h="672">
                <a:moveTo>
                  <a:pt x="3120" y="528"/>
                </a:moveTo>
                <a:lnTo>
                  <a:pt x="3024" y="672"/>
                </a:lnTo>
                <a:lnTo>
                  <a:pt x="336" y="672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441972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52578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441972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4267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267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267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Synchronous Timing Analysis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876920"/>
            <a:ext cx="236196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514600"/>
            <a:ext cx="83844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1911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3434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1911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51460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743200"/>
            <a:ext cx="2590920" cy="1905120"/>
          </a:xfrm>
          <a:prstGeom prst="parallelogram">
            <a:avLst>
              <a:gd name="adj" fmla="val 35076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940840" y="40694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38280" y="4267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11480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09960" y="430992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945360" y="41457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267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510552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5715000"/>
            <a:ext cx="236232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3352680"/>
            <a:ext cx="83808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58200" y="502920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51814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50292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35268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581280"/>
            <a:ext cx="2590560" cy="1905120"/>
          </a:xfrm>
          <a:prstGeom prst="parallelogram">
            <a:avLst>
              <a:gd name="adj" fmla="val 35071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7893720" y="490788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391160" y="51055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181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5898240" y="49838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52578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1055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03160" y="41457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857640" y="434340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95288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62840" y="514836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043040" y="5185440"/>
            <a:ext cx="4896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57800" y="4495680"/>
            <a:ext cx="152280" cy="15264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41972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144" y="0"/>
                </a:lnTo>
                <a:lnTo>
                  <a:pt x="240" y="144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720" y="2514600"/>
            <a:ext cx="304560" cy="2286000"/>
          </a:xfrm>
          <a:custGeom>
            <a:avLst/>
            <a:gdLst>
              <a:gd name="textAreaLeft" fmla="*/ 0 w 304560"/>
              <a:gd name="textAreaRight" fmla="*/ 10980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591240" y="346680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2590920"/>
            <a:ext cx="175284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tim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setup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2286000"/>
            <a:ext cx="167652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tim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 edg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out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914720" y="2018880"/>
            <a:ext cx="228600" cy="259056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3581280"/>
            <a:ext cx="704880" cy="533520"/>
          </a:xfrm>
          <a:custGeom>
            <a:avLst/>
            <a:gdLst/>
            <a:ahLst/>
            <a:rect l="l" t="t" r="r" b="b"/>
            <a:pathLst>
              <a:path w="444" h="336">
                <a:moveTo>
                  <a:pt x="0" y="0"/>
                </a:moveTo>
                <a:cubicBezTo>
                  <a:pt x="22" y="4"/>
                  <a:pt x="103" y="8"/>
                  <a:pt x="132" y="24"/>
                </a:cubicBezTo>
                <a:cubicBezTo>
                  <a:pt x="161" y="40"/>
                  <a:pt x="162" y="73"/>
                  <a:pt x="172" y="98"/>
                </a:cubicBezTo>
                <a:cubicBezTo>
                  <a:pt x="182" y="123"/>
                  <a:pt x="182" y="148"/>
                  <a:pt x="189" y="176"/>
                </a:cubicBezTo>
                <a:cubicBezTo>
                  <a:pt x="196" y="204"/>
                  <a:pt x="202" y="239"/>
                  <a:pt x="217" y="264"/>
                </a:cubicBezTo>
                <a:cubicBezTo>
                  <a:pt x="232" y="289"/>
                  <a:pt x="239" y="312"/>
                  <a:pt x="277" y="324"/>
                </a:cubicBezTo>
                <a:cubicBezTo>
                  <a:pt x="315" y="336"/>
                  <a:pt x="409" y="334"/>
                  <a:pt x="444" y="336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2280" y="331488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10552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914400"/>
            <a:ext cx="1904760" cy="1219320"/>
          </a:xfrm>
          <a:prstGeom prst="rect">
            <a:avLst/>
          </a:prstGeom>
          <a:solidFill>
            <a:srgbClr val="b3191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eadshee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, resul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io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129528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33720" y="12952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600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05520" y="15998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467480" y="2133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3352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8862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905120"/>
            <a:ext cx="1904760" cy="121896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analys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, receive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age, 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3581280"/>
            <a:ext cx="704880" cy="533520"/>
          </a:xfrm>
          <a:custGeom>
            <a:avLst/>
            <a:gdLst/>
            <a:ahLst/>
            <a:rect l="l" t="t" r="r" b="b"/>
            <a:pathLst>
              <a:path w="444" h="336">
                <a:moveTo>
                  <a:pt x="0" y="0"/>
                </a:moveTo>
                <a:cubicBezTo>
                  <a:pt x="22" y="4"/>
                  <a:pt x="103" y="8"/>
                  <a:pt x="132" y="24"/>
                </a:cubicBezTo>
                <a:cubicBezTo>
                  <a:pt x="161" y="40"/>
                  <a:pt x="162" y="73"/>
                  <a:pt x="172" y="98"/>
                </a:cubicBezTo>
                <a:cubicBezTo>
                  <a:pt x="182" y="123"/>
                  <a:pt x="182" y="148"/>
                  <a:pt x="189" y="176"/>
                </a:cubicBezTo>
                <a:cubicBezTo>
                  <a:pt x="196" y="204"/>
                  <a:pt x="202" y="239"/>
                  <a:pt x="217" y="264"/>
                </a:cubicBezTo>
                <a:cubicBezTo>
                  <a:pt x="232" y="289"/>
                  <a:pt x="239" y="312"/>
                  <a:pt x="277" y="324"/>
                </a:cubicBezTo>
                <a:cubicBezTo>
                  <a:pt x="315" y="336"/>
                  <a:pt x="409" y="334"/>
                  <a:pt x="444" y="336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88360" y="4309920"/>
            <a:ext cx="50040" cy="63000"/>
            <a:chOff x="2088360" y="4309920"/>
            <a:chExt cx="50040" cy="63000"/>
          </a:xfrm>
        </p:grpSpPr>
        <p:sp>
          <p:nvSpPr>
            <p:cNvPr id="162" name=""/>
            <p:cNvSpPr/>
            <p:nvPr/>
          </p:nvSpPr>
          <p:spPr>
            <a:xfrm flipV="1">
              <a:off x="2088360" y="4350600"/>
              <a:ext cx="48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9960" y="4309920"/>
              <a:ext cx="28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038360" y="5149800"/>
            <a:ext cx="50040" cy="63000"/>
            <a:chOff x="7038360" y="5149800"/>
            <a:chExt cx="50040" cy="63000"/>
          </a:xfrm>
        </p:grpSpPr>
        <p:sp>
          <p:nvSpPr>
            <p:cNvPr id="165" name=""/>
            <p:cNvSpPr/>
            <p:nvPr/>
          </p:nvSpPr>
          <p:spPr>
            <a:xfrm flipV="1">
              <a:off x="7038360" y="5190480"/>
              <a:ext cx="48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59960" y="5149800"/>
              <a:ext cx="28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105520" y="3581280"/>
            <a:ext cx="1220760" cy="692280"/>
          </a:xfrm>
          <a:custGeom>
            <a:avLst/>
            <a:gdLst/>
            <a:ahLst/>
            <a:rect l="l" t="t" r="r" b="b"/>
            <a:pathLst>
              <a:path w="769" h="436">
                <a:moveTo>
                  <a:pt x="0" y="3"/>
                </a:moveTo>
                <a:cubicBezTo>
                  <a:pt x="26" y="7"/>
                  <a:pt x="114" y="0"/>
                  <a:pt x="156" y="29"/>
                </a:cubicBezTo>
                <a:cubicBezTo>
                  <a:pt x="198" y="58"/>
                  <a:pt x="227" y="128"/>
                  <a:pt x="251" y="176"/>
                </a:cubicBezTo>
                <a:cubicBezTo>
                  <a:pt x="275" y="224"/>
                  <a:pt x="283" y="278"/>
                  <a:pt x="297" y="317"/>
                </a:cubicBezTo>
                <a:cubicBezTo>
                  <a:pt x="311" y="356"/>
                  <a:pt x="322" y="395"/>
                  <a:pt x="336" y="411"/>
                </a:cubicBezTo>
                <a:cubicBezTo>
                  <a:pt x="350" y="427"/>
                  <a:pt x="372" y="436"/>
                  <a:pt x="384" y="411"/>
                </a:cubicBezTo>
                <a:cubicBezTo>
                  <a:pt x="396" y="386"/>
                  <a:pt x="402" y="306"/>
                  <a:pt x="411" y="260"/>
                </a:cubicBezTo>
                <a:cubicBezTo>
                  <a:pt x="420" y="214"/>
                  <a:pt x="430" y="140"/>
                  <a:pt x="440" y="132"/>
                </a:cubicBezTo>
                <a:cubicBezTo>
                  <a:pt x="450" y="124"/>
                  <a:pt x="461" y="186"/>
                  <a:pt x="468" y="210"/>
                </a:cubicBezTo>
                <a:cubicBezTo>
                  <a:pt x="475" y="234"/>
                  <a:pt x="475" y="245"/>
                  <a:pt x="485" y="278"/>
                </a:cubicBezTo>
                <a:cubicBezTo>
                  <a:pt x="495" y="311"/>
                  <a:pt x="514" y="411"/>
                  <a:pt x="528" y="411"/>
                </a:cubicBezTo>
                <a:cubicBezTo>
                  <a:pt x="542" y="411"/>
                  <a:pt x="557" y="311"/>
                  <a:pt x="569" y="278"/>
                </a:cubicBezTo>
                <a:cubicBezTo>
                  <a:pt x="581" y="245"/>
                  <a:pt x="586" y="210"/>
                  <a:pt x="601" y="214"/>
                </a:cubicBezTo>
                <a:cubicBezTo>
                  <a:pt x="616" y="218"/>
                  <a:pt x="631" y="286"/>
                  <a:pt x="659" y="304"/>
                </a:cubicBezTo>
                <a:cubicBezTo>
                  <a:pt x="687" y="322"/>
                  <a:pt x="746" y="318"/>
                  <a:pt x="769" y="321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729F-076C-4AD6-88E3-4CD4126183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Analysis of Synchronous Nets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ominant technology when IBIS 2.1 was developed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BIS model describes behavior with IV and VT tables, Ccomp etc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BIS supports measurement with Vinh, Vinl, Vmeas etc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ypical Spreadsheet content (abbreviated)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/max/actual trace length, max/actual number of vias, max/actual stub leng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ysical topolog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/max/min actual/max actual driver to load delay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/actual overshoot voltage, max/actual ring-back volta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n-monotonic eve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9F9C-E7CF-4FCA-BA0B-FC9C1BB3EC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952880" y="5638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5715000"/>
            <a:ext cx="914400" cy="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638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876920"/>
            <a:ext cx="914400" cy="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038480"/>
            <a:ext cx="9144000" cy="19814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441972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43434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4267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267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Source Synchronous Timing Analysis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715000"/>
            <a:ext cx="236232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352680"/>
            <a:ext cx="83808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41911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43434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35268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581280"/>
            <a:ext cx="2590920" cy="1905120"/>
          </a:xfrm>
          <a:prstGeom prst="parallelogram">
            <a:avLst>
              <a:gd name="adj" fmla="val 35076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2788560" y="40694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36196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419112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09960" y="430992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510552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715000"/>
            <a:ext cx="236232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3352680"/>
            <a:ext cx="83808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35268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3581280"/>
            <a:ext cx="2590560" cy="1905120"/>
          </a:xfrm>
          <a:prstGeom prst="parallelogram">
            <a:avLst>
              <a:gd name="adj" fmla="val 35071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5181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5898240" y="49838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51055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6203160" y="41457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857640" y="434340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95288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62840" y="514836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043040" y="5185440"/>
            <a:ext cx="4896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257800" y="4495680"/>
            <a:ext cx="152280" cy="15264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41972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144" y="0"/>
                </a:lnTo>
                <a:lnTo>
                  <a:pt x="240" y="144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6591240" y="346680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838080"/>
            <a:ext cx="236232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book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setup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914720" y="2018880"/>
            <a:ext cx="228600" cy="259056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3581280"/>
            <a:ext cx="704880" cy="533520"/>
          </a:xfrm>
          <a:custGeom>
            <a:avLst/>
            <a:gdLst/>
            <a:ahLst/>
            <a:rect l="l" t="t" r="r" b="b"/>
            <a:pathLst>
              <a:path w="444" h="336">
                <a:moveTo>
                  <a:pt x="0" y="0"/>
                </a:moveTo>
                <a:cubicBezTo>
                  <a:pt x="22" y="4"/>
                  <a:pt x="103" y="8"/>
                  <a:pt x="132" y="24"/>
                </a:cubicBezTo>
                <a:cubicBezTo>
                  <a:pt x="161" y="40"/>
                  <a:pt x="162" y="73"/>
                  <a:pt x="172" y="98"/>
                </a:cubicBezTo>
                <a:cubicBezTo>
                  <a:pt x="182" y="123"/>
                  <a:pt x="182" y="148"/>
                  <a:pt x="189" y="176"/>
                </a:cubicBezTo>
                <a:cubicBezTo>
                  <a:pt x="196" y="204"/>
                  <a:pt x="202" y="239"/>
                  <a:pt x="217" y="264"/>
                </a:cubicBezTo>
                <a:cubicBezTo>
                  <a:pt x="232" y="289"/>
                  <a:pt x="239" y="312"/>
                  <a:pt x="277" y="324"/>
                </a:cubicBezTo>
                <a:cubicBezTo>
                  <a:pt x="315" y="336"/>
                  <a:pt x="409" y="334"/>
                  <a:pt x="444" y="336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352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8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1295280"/>
            <a:ext cx="1905120" cy="1219320"/>
          </a:xfrm>
          <a:prstGeom prst="rect">
            <a:avLst/>
          </a:prstGeom>
          <a:solidFill>
            <a:srgbClr val="b3191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eadshee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, resul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io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3352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862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86200" y="1981080"/>
            <a:ext cx="2592360" cy="2325960"/>
            <a:chOff x="3886200" y="1981080"/>
            <a:chExt cx="2592360" cy="2325960"/>
          </a:xfrm>
        </p:grpSpPr>
        <p:sp>
          <p:nvSpPr>
            <p:cNvPr id="224" name=""/>
            <p:cNvSpPr/>
            <p:nvPr/>
          </p:nvSpPr>
          <p:spPr>
            <a:xfrm>
              <a:off x="3886200" y="1981080"/>
              <a:ext cx="2362320" cy="114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 analysis (clock, data):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iver, receiver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ckage, tr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57800" y="3614760"/>
              <a:ext cx="1220760" cy="692280"/>
            </a:xfrm>
            <a:custGeom>
              <a:avLst/>
              <a:gdLst/>
              <a:ahLst/>
              <a:rect l="l" t="t" r="r" b="b"/>
              <a:pathLst>
                <a:path w="769" h="436">
                  <a:moveTo>
                    <a:pt x="0" y="3"/>
                  </a:moveTo>
                  <a:cubicBezTo>
                    <a:pt x="26" y="7"/>
                    <a:pt x="114" y="0"/>
                    <a:pt x="156" y="29"/>
                  </a:cubicBezTo>
                  <a:cubicBezTo>
                    <a:pt x="198" y="58"/>
                    <a:pt x="227" y="128"/>
                    <a:pt x="251" y="176"/>
                  </a:cubicBezTo>
                  <a:cubicBezTo>
                    <a:pt x="275" y="224"/>
                    <a:pt x="283" y="278"/>
                    <a:pt x="297" y="317"/>
                  </a:cubicBezTo>
                  <a:cubicBezTo>
                    <a:pt x="311" y="356"/>
                    <a:pt x="322" y="395"/>
                    <a:pt x="336" y="411"/>
                  </a:cubicBezTo>
                  <a:cubicBezTo>
                    <a:pt x="350" y="427"/>
                    <a:pt x="372" y="436"/>
                    <a:pt x="384" y="411"/>
                  </a:cubicBezTo>
                  <a:cubicBezTo>
                    <a:pt x="396" y="386"/>
                    <a:pt x="402" y="306"/>
                    <a:pt x="411" y="260"/>
                  </a:cubicBezTo>
                  <a:cubicBezTo>
                    <a:pt x="420" y="214"/>
                    <a:pt x="430" y="140"/>
                    <a:pt x="440" y="132"/>
                  </a:cubicBezTo>
                  <a:cubicBezTo>
                    <a:pt x="450" y="124"/>
                    <a:pt x="461" y="186"/>
                    <a:pt x="468" y="210"/>
                  </a:cubicBezTo>
                  <a:cubicBezTo>
                    <a:pt x="475" y="234"/>
                    <a:pt x="475" y="245"/>
                    <a:pt x="485" y="278"/>
                  </a:cubicBezTo>
                  <a:cubicBezTo>
                    <a:pt x="495" y="311"/>
                    <a:pt x="514" y="411"/>
                    <a:pt x="528" y="411"/>
                  </a:cubicBezTo>
                  <a:cubicBezTo>
                    <a:pt x="542" y="411"/>
                    <a:pt x="557" y="311"/>
                    <a:pt x="569" y="278"/>
                  </a:cubicBezTo>
                  <a:cubicBezTo>
                    <a:pt x="581" y="245"/>
                    <a:pt x="586" y="210"/>
                    <a:pt x="601" y="214"/>
                  </a:cubicBezTo>
                  <a:cubicBezTo>
                    <a:pt x="616" y="218"/>
                    <a:pt x="631" y="286"/>
                    <a:pt x="659" y="304"/>
                  </a:cubicBezTo>
                  <a:cubicBezTo>
                    <a:pt x="687" y="322"/>
                    <a:pt x="746" y="318"/>
                    <a:pt x="769" y="321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6200" y="3581280"/>
              <a:ext cx="704880" cy="533520"/>
            </a:xfrm>
            <a:custGeom>
              <a:avLst/>
              <a:gdLst/>
              <a:ahLst/>
              <a:rect l="l" t="t" r="r" b="b"/>
              <a:pathLst>
                <a:path w="444" h="336">
                  <a:moveTo>
                    <a:pt x="0" y="0"/>
                  </a:moveTo>
                  <a:cubicBezTo>
                    <a:pt x="22" y="4"/>
                    <a:pt x="103" y="8"/>
                    <a:pt x="132" y="24"/>
                  </a:cubicBezTo>
                  <a:cubicBezTo>
                    <a:pt x="161" y="40"/>
                    <a:pt x="162" y="73"/>
                    <a:pt x="172" y="98"/>
                  </a:cubicBezTo>
                  <a:cubicBezTo>
                    <a:pt x="182" y="123"/>
                    <a:pt x="182" y="148"/>
                    <a:pt x="189" y="176"/>
                  </a:cubicBezTo>
                  <a:cubicBezTo>
                    <a:pt x="196" y="204"/>
                    <a:pt x="202" y="239"/>
                    <a:pt x="217" y="264"/>
                  </a:cubicBezTo>
                  <a:cubicBezTo>
                    <a:pt x="232" y="289"/>
                    <a:pt x="239" y="312"/>
                    <a:pt x="277" y="324"/>
                  </a:cubicBezTo>
                  <a:cubicBezTo>
                    <a:pt x="315" y="336"/>
                    <a:pt x="409" y="334"/>
                    <a:pt x="444" y="336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217240" y="4419720"/>
            <a:ext cx="49320" cy="62640"/>
            <a:chOff x="2217240" y="4419720"/>
            <a:chExt cx="49320" cy="62640"/>
          </a:xfrm>
        </p:grpSpPr>
        <p:sp>
          <p:nvSpPr>
            <p:cNvPr id="228" name=""/>
            <p:cNvSpPr/>
            <p:nvPr/>
          </p:nvSpPr>
          <p:spPr>
            <a:xfrm flipV="1">
              <a:off x="2217240" y="4459680"/>
              <a:ext cx="4860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4419720"/>
              <a:ext cx="28080" cy="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038360" y="5149800"/>
            <a:ext cx="50040" cy="63000"/>
            <a:chOff x="7038360" y="5149800"/>
            <a:chExt cx="50040" cy="63000"/>
          </a:xfrm>
        </p:grpSpPr>
        <p:sp>
          <p:nvSpPr>
            <p:cNvPr id="231" name=""/>
            <p:cNvSpPr/>
            <p:nvPr/>
          </p:nvSpPr>
          <p:spPr>
            <a:xfrm flipV="1">
              <a:off x="7038360" y="5190480"/>
              <a:ext cx="48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59960" y="5149800"/>
              <a:ext cx="28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0400" y="41911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52578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525780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144" y="0"/>
                </a:lnTo>
                <a:lnTo>
                  <a:pt x="240" y="144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502920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410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5181480"/>
            <a:ext cx="457200" cy="15264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02920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5181480"/>
            <a:ext cx="38124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52578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029200" y="5333760"/>
            <a:ext cx="152280" cy="15228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48640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548640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5410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2559960" y="490788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285640" y="4457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438280" y="4448160"/>
            <a:ext cx="0" cy="65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38280" y="5105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1295280"/>
            <a:ext cx="7617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248520" y="2057400"/>
            <a:ext cx="7617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A05C-3074-4803-93E9-6E6D201556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Analysis of Source Synchronous Nets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on technology when IBIS 3.2 was developed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itions to IBIS behavior include series passives, driver scheduling, bus hold 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itions to IBIS measurement include dynamic overshoot, strength dependant thresholds 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itions to the Typical Spreadshee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/actual trace length difference between data and clock ne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/max/min actual/max actual driver to load delay difference match data and clock net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Derived from setup and hold requirement.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/actual dynamic overshoot voltage and ti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DFAB-B59C-4F92-A2F7-F7455BF104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What Is New that Affects IBIS?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rce synchronous devices with input slew rate sensitivity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vy inter-symbol interfere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 definitions for threshold voltages and overshoo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gigabit, self clocked sign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-compens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aliz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ase locked loop data and clock recove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ye diagrams and mask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level sign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6829-55D3-48EF-9D85-A69C2F71B9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A look at one challenge: DDR2 (simplified)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ock and data receivers have very significant sensitivity to input slew ra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overshoot is specified using a VT area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e want to be able to include DDR2 nets in an automated scan of the whole PCB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do not want to hard code DDR2 specific features into the waveform analysis or results spreadshee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s will be a never ending job and delivered later than the customer wants i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BIS: Challenges in Behavior and Measurement,   IBIS Open Forum,   February  2006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6BC7-EF44-4D5B-97C7-7F8E306162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Ian C Dodd</dc:creator>
  <dc:description/>
  <dc:language>en-US</dc:language>
  <cp:lastModifiedBy>idodd</cp:lastModifiedBy>
  <cp:lastPrinted>2001-01-30T21:17:30Z</cp:lastPrinted>
  <dcterms:modified xsi:type="dcterms:W3CDTF">2006-02-05T12:00:04Z</dcterms:modified>
  <cp:revision>752</cp:revision>
  <dc:subject/>
  <dc:title>IBIS: Addressing Challenges in Behavior and Measurement</dc:title>
</cp:coreProperties>
</file>