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205-743A-4831-B119-7EE8EF07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842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2680" y="3799800"/>
            <a:ext cx="842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5C5-C16A-47F6-85E2-D9E28E4F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26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572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53D-E57D-462B-9EBA-BA1E5F07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89920" y="13716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6800" y="13716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42680" y="37998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89920" y="37998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6800" y="3799800"/>
            <a:ext cx="2711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6DF-FA66-4A2C-9677-8D78F081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42680" y="13716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138-93E4-4521-8155-6D6521D1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A12-7753-4A6C-ABB3-D24665E9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16E-F81A-49E3-8EDF-1528215D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92A-377D-4B97-8D9B-27F2874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60240" y="304560"/>
            <a:ext cx="8585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1F4-393F-4684-B89D-A7456F38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6FF-9F31-4AC8-BF6D-BA908E3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57280" y="37998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FF1-63A3-47FA-88CC-5B811D54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371600"/>
            <a:ext cx="4108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3799800"/>
            <a:ext cx="84200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A76-1358-48B6-8525-67B9E0E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371600"/>
            <a:ext cx="842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55627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9000" y="55627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22760" y="6400440"/>
            <a:ext cx="74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903D-FDB1-4171-8C03-FACE27356C45}" type="slidenum"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8000" y="6400800"/>
            <a:ext cx="40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uropean IBIS Summit Meeting, Feb. 20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228600"/>
            <a:ext cx="9448920" cy="617220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31920" y="331920"/>
          <a:ext cx="582480" cy="58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920" y="331920"/>
                    <a:ext cx="5824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" name=""/>
          <p:cNvGrpSpPr/>
          <p:nvPr/>
        </p:nvGrpSpPr>
        <p:grpSpPr>
          <a:xfrm>
            <a:off x="8768160" y="6070680"/>
            <a:ext cx="757440" cy="812160"/>
            <a:chOff x="8768160" y="6070680"/>
            <a:chExt cx="757440" cy="812160"/>
          </a:xfrm>
        </p:grpSpPr>
        <p:sp>
          <p:nvSpPr>
            <p:cNvPr id="10" name=""/>
            <p:cNvSpPr/>
            <p:nvPr/>
          </p:nvSpPr>
          <p:spPr>
            <a:xfrm>
              <a:off x="8768160" y="6070680"/>
              <a:ext cx="3150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900" spc="-1" strike="noStrike">
                  <a:solidFill>
                    <a:srgbClr val="0099ff"/>
                  </a:solidFill>
                  <a:latin typeface="Comic Sans MS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83240" y="60706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99ff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956800" y="641304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35920" y="6159240"/>
              <a:ext cx="411120" cy="244080"/>
            </a:xfrm>
            <a:custGeom>
              <a:avLst/>
              <a:gdLst/>
              <a:ahLst/>
              <a:rect l="l" t="t" r="r" b="b"/>
              <a:pathLst>
                <a:path w="259" h="154">
                  <a:moveTo>
                    <a:pt x="0" y="152"/>
                  </a:moveTo>
                  <a:cubicBezTo>
                    <a:pt x="5" y="151"/>
                    <a:pt x="24" y="154"/>
                    <a:pt x="33" y="148"/>
                  </a:cubicBezTo>
                  <a:cubicBezTo>
                    <a:pt x="42" y="142"/>
                    <a:pt x="48" y="135"/>
                    <a:pt x="56" y="116"/>
                  </a:cubicBezTo>
                  <a:cubicBezTo>
                    <a:pt x="65" y="97"/>
                    <a:pt x="73" y="53"/>
                    <a:pt x="81" y="35"/>
                  </a:cubicBezTo>
                  <a:cubicBezTo>
                    <a:pt x="89" y="16"/>
                    <a:pt x="99" y="0"/>
                    <a:pt x="106" y="5"/>
                  </a:cubicBezTo>
                  <a:cubicBezTo>
                    <a:pt x="114" y="10"/>
                    <a:pt x="119" y="66"/>
                    <a:pt x="127" y="66"/>
                  </a:cubicBezTo>
                  <a:cubicBezTo>
                    <a:pt x="136" y="67"/>
                    <a:pt x="146" y="12"/>
                    <a:pt x="154" y="6"/>
                  </a:cubicBezTo>
                  <a:cubicBezTo>
                    <a:pt x="163" y="1"/>
                    <a:pt x="168" y="15"/>
                    <a:pt x="176" y="33"/>
                  </a:cubicBezTo>
                  <a:cubicBezTo>
                    <a:pt x="183" y="51"/>
                    <a:pt x="190" y="97"/>
                    <a:pt x="199" y="116"/>
                  </a:cubicBezTo>
                  <a:cubicBezTo>
                    <a:pt x="207" y="135"/>
                    <a:pt x="214" y="142"/>
                    <a:pt x="224" y="148"/>
                  </a:cubicBezTo>
                  <a:cubicBezTo>
                    <a:pt x="234" y="154"/>
                    <a:pt x="252" y="151"/>
                    <a:pt x="259" y="151"/>
                  </a:cubicBezTo>
                </a:path>
              </a:pathLst>
            </a:custGeom>
            <a:noFill/>
            <a:ln w="316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6302160"/>
              <a:ext cx="711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99ff"/>
                  </a:solidFill>
                  <a:latin typeface="Comic Sans MS"/>
                </a:rPr>
                <a:t>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7440" y="182844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rametric Models in IBIS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lingual Framework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342900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G.Canaver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A.Mai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. Ros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.S.Stievan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litecnico di Torino, Italy,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aspeed Consult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LC  (US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igor.stievano@polito.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http://www.eln.polito.it/research/em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HDL-AMS Model Implementation (ii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312264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parametr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2209680"/>
            <a:ext cx="152640" cy="2743200"/>
          </a:xfrm>
          <a:custGeom>
            <a:avLst/>
            <a:gdLst>
              <a:gd name="textAreaLeft" fmla="*/ 97560 w 152640"/>
              <a:gd name="textAreaRight" fmla="*/ 15300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981080" y="1484280"/>
            <a:ext cx="4496040" cy="3957480"/>
            <a:chOff x="1981080" y="1484280"/>
            <a:chExt cx="4496040" cy="3957480"/>
          </a:xfrm>
        </p:grpSpPr>
        <p:sp>
          <p:nvSpPr>
            <p:cNvPr id="288" name=""/>
            <p:cNvSpPr/>
            <p:nvPr/>
          </p:nvSpPr>
          <p:spPr>
            <a:xfrm>
              <a:off x="1981080" y="1484280"/>
              <a:ext cx="4496040" cy="39574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f (d_control = '0' and flag = 10) use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1 == Lookup("Vt", now-trans_inst, w1_10, tw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2 == Lookup("Vt", now-trans_inst, w2_01, tw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sif (d_control = '1' and flag = 01) us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1 == Lookup("Vt", now-trans_inst, w1_01, tw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2 == Lookup("Vt", now-trans_inst, w2_10, tw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 use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 architecture bufferbehav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1560600"/>
              <a:ext cx="182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driverX.v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3720" y="3809880"/>
              <a:ext cx="3962160" cy="838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1 == -a1*(2/(1+exp(-2*c1*Vu_ref +…) –1) +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2 ==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 ==  w1*f1 + w2*f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27640" y="5079960"/>
              <a:ext cx="198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172200" y="2743200"/>
            <a:ext cx="3352680" cy="1447560"/>
            <a:chOff x="6172200" y="2743200"/>
            <a:chExt cx="3352680" cy="1447560"/>
          </a:xfrm>
        </p:grpSpPr>
        <p:sp>
          <p:nvSpPr>
            <p:cNvPr id="293" name=""/>
            <p:cNvSpPr/>
            <p:nvPr/>
          </p:nvSpPr>
          <p:spPr>
            <a:xfrm>
              <a:off x="6705720" y="2743200"/>
              <a:ext cx="2819160" cy="10022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i =</a:t>
              </a:r>
              <a:r>
                <a:rPr b="0" i="1" lang="it-IT" sz="2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(t)f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(v,dv/dt)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+ w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(t)f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(v,dv/dt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3664440"/>
              <a:ext cx="1905120" cy="526320"/>
            </a:xfrm>
            <a:custGeom>
              <a:avLst/>
              <a:gdLst/>
              <a:ahLst/>
              <a:rect l="l" t="t" r="r" b="b"/>
              <a:pathLst>
                <a:path w="1104" h="336">
                  <a:moveTo>
                    <a:pt x="1104" y="0"/>
                  </a:moveTo>
                  <a:lnTo>
                    <a:pt x="1104" y="33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859800" y="2057400"/>
            <a:ext cx="26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ample representat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MOS single ended 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08C-C20C-410A-BFE3-BD710624FD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6765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EVIC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5480" y="304920"/>
            <a:ext cx="858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1 (i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2040" y="2590920"/>
            <a:ext cx="20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ARAMET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1680" y="4603680"/>
            <a:ext cx="210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63280" y="4998960"/>
            <a:ext cx="15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Z0=50.19 </a:t>
            </a:r>
            <a:r>
              <a:rPr b="1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TD=0.72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81760" y="2579760"/>
            <a:ext cx="6358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(2) basis functions for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nd and dynamic ord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78160" y="1701720"/>
            <a:ext cx="481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igh-speed IBM CMOS Driver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1.8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386160" y="4573440"/>
            <a:ext cx="3243240" cy="530280"/>
            <a:chOff x="3386160" y="4573440"/>
            <a:chExt cx="3243240" cy="530280"/>
          </a:xfrm>
        </p:grpSpPr>
        <p:sp>
          <p:nvSpPr>
            <p:cNvPr id="304" name=""/>
            <p:cNvSpPr/>
            <p:nvPr/>
          </p:nvSpPr>
          <p:spPr>
            <a:xfrm>
              <a:off x="3963960" y="4646520"/>
              <a:ext cx="41292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0" y="288"/>
                  </a:lnTo>
                  <a:lnTo>
                    <a:pt x="28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76880" y="487512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45400" y="4875120"/>
              <a:ext cx="330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21160" y="45734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9080" y="457344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86160" y="4802040"/>
              <a:ext cx="495360" cy="15228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0" y="144"/>
                  </a:moveTo>
                  <a:lnTo>
                    <a:pt x="48" y="144"/>
                  </a:lnTo>
                  <a:lnTo>
                    <a:pt x="48" y="0"/>
                  </a:lnTo>
                  <a:lnTo>
                    <a:pt x="144" y="0"/>
                  </a:lnTo>
                  <a:lnTo>
                    <a:pt x="144" y="144"/>
                  </a:lnTo>
                  <a:lnTo>
                    <a:pt x="192" y="144"/>
                  </a:lnTo>
                  <a:lnTo>
                    <a:pt x="192" y="0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76960" y="4678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53280" y="4678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53280" y="4873320"/>
              <a:ext cx="20016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05400" y="4873320"/>
              <a:ext cx="1523880" cy="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3440" y="4802040"/>
              <a:ext cx="75960" cy="15228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0" y="0"/>
                  </a:moveTo>
                  <a:lnTo>
                    <a:pt x="0" y="96"/>
                  </a:lnTo>
                  <a:lnTo>
                    <a:pt x="48" y="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352680" y="3049560"/>
            <a:ext cx="5562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[I.S.Stievano et Al., “Parametric Macromodels of Drivers for SSN Simulations,” Proc. of IEEE International Symposium on EMC, Boston, MA, USA, Aug. 18-22, 200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86880" y="4954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Courier New"/>
              </a:rPr>
              <a:t>1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A84-E88F-4067-9E11-25B6B58963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25480" y="304920"/>
            <a:ext cx="858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1 (ii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057400" y="1685880"/>
          <a:ext cx="632448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85880"/>
                    <a:ext cx="632448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752480" y="2514600"/>
            <a:ext cx="0" cy="213372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95360" y="5257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40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5562720"/>
            <a:ext cx="1295280" cy="30456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720" y="0"/>
                </a:moveTo>
                <a:lnTo>
                  <a:pt x="720" y="192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265760" y="34282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0440" y="3733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ff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5360" y="1803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2560" y="5562720"/>
            <a:ext cx="495360" cy="15228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144"/>
                </a:moveTo>
                <a:lnTo>
                  <a:pt x="48" y="144"/>
                </a:lnTo>
                <a:lnTo>
                  <a:pt x="48" y="0"/>
                </a:lnTo>
                <a:lnTo>
                  <a:pt x="144" y="0"/>
                </a:lnTo>
                <a:lnTo>
                  <a:pt x="144" y="144"/>
                </a:lnTo>
                <a:lnTo>
                  <a:pt x="192" y="144"/>
                </a:lnTo>
                <a:lnTo>
                  <a:pt x="192" y="0"/>
                </a:lnTo>
                <a:lnTo>
                  <a:pt x="24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5638680"/>
            <a:ext cx="762120" cy="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5334120"/>
            <a:ext cx="762120" cy="6094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2000" y="990720"/>
            <a:ext cx="9016920" cy="530280"/>
            <a:chOff x="432000" y="990720"/>
            <a:chExt cx="9016920" cy="530280"/>
          </a:xfrm>
        </p:grpSpPr>
        <p:sp>
          <p:nvSpPr>
            <p:cNvPr id="330" name=""/>
            <p:cNvSpPr/>
            <p:nvPr/>
          </p:nvSpPr>
          <p:spPr>
            <a:xfrm>
              <a:off x="2590920" y="1090440"/>
              <a:ext cx="203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imulation: IC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6205680" y="990720"/>
              <a:ext cx="3243240" cy="530280"/>
              <a:chOff x="6205680" y="990720"/>
              <a:chExt cx="3243240" cy="530280"/>
            </a:xfrm>
          </p:grpSpPr>
          <p:sp>
            <p:nvSpPr>
              <p:cNvPr id="332" name=""/>
              <p:cNvSpPr/>
              <p:nvPr/>
            </p:nvSpPr>
            <p:spPr>
              <a:xfrm>
                <a:off x="6783480" y="1063800"/>
                <a:ext cx="412920" cy="4572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88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96400" y="1292400"/>
                <a:ext cx="16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764920" y="1292400"/>
                <a:ext cx="3301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40680" y="9907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88600" y="990720"/>
                <a:ext cx="28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05680" y="1219320"/>
                <a:ext cx="495360" cy="15228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48" y="144"/>
                    </a:lnTo>
                    <a:lnTo>
                      <a:pt x="48" y="0"/>
                    </a:lnTo>
                    <a:lnTo>
                      <a:pt x="144" y="0"/>
                    </a:lnTo>
                    <a:lnTo>
                      <a:pt x="144" y="144"/>
                    </a:lnTo>
                    <a:lnTo>
                      <a:pt x="192" y="144"/>
                    </a:lnTo>
                    <a:lnTo>
                      <a:pt x="192" y="0"/>
                    </a:lnTo>
                    <a:lnTo>
                      <a:pt x="240" y="0"/>
                    </a:lnTo>
                  </a:path>
                </a:pathLst>
              </a:custGeom>
              <a:noFill/>
              <a:ln w="381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9096480" y="10954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9172800" y="10954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9172800" y="1290600"/>
                <a:ext cx="2001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24920" y="1290600"/>
                <a:ext cx="1523880" cy="0"/>
              </a:xfrm>
              <a:prstGeom prst="line">
                <a:avLst/>
              </a:prstGeom>
              <a:ln w="88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9372960" y="1219320"/>
                <a:ext cx="75960" cy="1522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0" y="0"/>
                    </a:moveTo>
                    <a:lnTo>
                      <a:pt x="0" y="96"/>
                    </a:lnTo>
                    <a:lnTo>
                      <a:pt x="48" y="4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432000" y="1143000"/>
              <a:ext cx="2238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Driver_test.i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B78-7A1A-4360-8C90-DEBBB31A16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825480" y="304920"/>
            <a:ext cx="858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1 (iii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09480" y="1859040"/>
          <a:ext cx="609624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59040"/>
                    <a:ext cx="6096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2971800" y="1981080"/>
            <a:ext cx="5765760" cy="2743200"/>
            <a:chOff x="2971800" y="1981080"/>
            <a:chExt cx="5765760" cy="2743200"/>
          </a:xfrm>
        </p:grpSpPr>
        <p:graphicFrame>
          <p:nvGraphicFramePr>
            <p:cNvPr id="348" name=""/>
            <p:cNvGraphicFramePr/>
            <p:nvPr/>
          </p:nvGraphicFramePr>
          <p:xfrm>
            <a:off x="7162560" y="2819520"/>
            <a:ext cx="1575000" cy="190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560" y="2819520"/>
                      <a:ext cx="1575000" cy="1904760"/>
                    </a:xfrm>
                    <a:prstGeom prst="rect">
                      <a:avLst/>
                    </a:prstGeom>
                    <a:ln w="38160">
                      <a:solidFill>
                        <a:srgbClr val="0099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0" name=""/>
            <p:cNvSpPr/>
            <p:nvPr/>
          </p:nvSpPr>
          <p:spPr>
            <a:xfrm>
              <a:off x="2971800" y="1981080"/>
              <a:ext cx="914400" cy="10670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86200" y="2438280"/>
              <a:ext cx="4038480" cy="304920"/>
            </a:xfrm>
            <a:custGeom>
              <a:avLst/>
              <a:gdLst/>
              <a:ahLst/>
              <a:rect l="l" t="t" r="r" b="b"/>
              <a:pathLst>
                <a:path w="2448" h="912">
                  <a:moveTo>
                    <a:pt x="0" y="0"/>
                  </a:moveTo>
                  <a:lnTo>
                    <a:pt x="2448" y="0"/>
                  </a:lnTo>
                  <a:lnTo>
                    <a:pt x="2448" y="912"/>
                  </a:lnTo>
                </a:path>
              </a:pathLst>
            </a:custGeom>
            <a:noFill/>
            <a:ln w="38160">
              <a:solidFill>
                <a:srgbClr val="00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63600" y="1127160"/>
            <a:ext cx="6497640" cy="398880"/>
            <a:chOff x="363600" y="1127160"/>
            <a:chExt cx="6497640" cy="398880"/>
          </a:xfrm>
        </p:grpSpPr>
        <p:sp>
          <p:nvSpPr>
            <p:cNvPr id="353" name=""/>
            <p:cNvSpPr/>
            <p:nvPr/>
          </p:nvSpPr>
          <p:spPr>
            <a:xfrm>
              <a:off x="363600" y="11271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omparison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61160" y="1157400"/>
              <a:ext cx="2238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Driver_test.ib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23120" y="1157400"/>
              <a:ext cx="2238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Driver_test.c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57800" y="1127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4120" y="4952880"/>
            <a:ext cx="3886200" cy="990360"/>
            <a:chOff x="5334120" y="4952880"/>
            <a:chExt cx="3886200" cy="990360"/>
          </a:xfrm>
        </p:grpSpPr>
        <p:sp>
          <p:nvSpPr>
            <p:cNvPr id="358" name=""/>
            <p:cNvSpPr/>
            <p:nvPr/>
          </p:nvSpPr>
          <p:spPr>
            <a:xfrm>
              <a:off x="5334120" y="4952880"/>
              <a:ext cx="38862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464440" y="5105160"/>
              <a:ext cx="3753720" cy="763560"/>
              <a:chOff x="5464440" y="5105160"/>
              <a:chExt cx="3753720" cy="763560"/>
            </a:xfrm>
          </p:grpSpPr>
          <p:sp>
            <p:nvSpPr>
              <p:cNvPr id="360" name=""/>
              <p:cNvSpPr/>
              <p:nvPr/>
            </p:nvSpPr>
            <p:spPr>
              <a:xfrm>
                <a:off x="8046720" y="5105160"/>
                <a:ext cx="714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ICX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046720" y="548604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PSPIC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86400" y="533844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464440" y="571968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42080" y="5119560"/>
                <a:ext cx="2238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Courier New"/>
                  </a:rPr>
                  <a:t>Driver_test.i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2080" y="5500440"/>
                <a:ext cx="2238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Courier New"/>
                  </a:rPr>
                  <a:t>Driver_test.ci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BA3-0BDD-400D-B9D9-9A88D7E081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25480" y="304920"/>
            <a:ext cx="858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2 (i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41925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5413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4268880"/>
            <a:ext cx="495360" cy="15228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144"/>
                </a:moveTo>
                <a:lnTo>
                  <a:pt x="48" y="144"/>
                </a:lnTo>
                <a:lnTo>
                  <a:pt x="48" y="0"/>
                </a:lnTo>
                <a:lnTo>
                  <a:pt x="144" y="0"/>
                </a:lnTo>
                <a:lnTo>
                  <a:pt x="144" y="144"/>
                </a:lnTo>
                <a:lnTo>
                  <a:pt x="192" y="144"/>
                </a:lnTo>
                <a:lnTo>
                  <a:pt x="192" y="0"/>
                </a:lnTo>
                <a:lnTo>
                  <a:pt x="240" y="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4495680"/>
            <a:ext cx="3808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5716440"/>
            <a:ext cx="228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38480" y="4040280"/>
            <a:ext cx="457200" cy="609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0" y="288"/>
                </a:lnTo>
                <a:lnTo>
                  <a:pt x="288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0120" y="5259240"/>
            <a:ext cx="457200" cy="6098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0"/>
                </a:moveTo>
                <a:lnTo>
                  <a:pt x="0" y="288"/>
                </a:lnTo>
                <a:lnTo>
                  <a:pt x="288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2820960"/>
            <a:ext cx="57150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[I.S.Stievano, C.Siviero, I.A.Maio, F.G.Canavero, “Modeling of the Static and Dynamic Behavior of Differential Drivers,” Proc. of EMC-Compo 2004, Mar. 31 – Apr. 1, 200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52680" y="1371600"/>
            <a:ext cx="5029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irchild FIN1001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3.3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LV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igh Speed Differential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1447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EVIC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6080" y="2438280"/>
            <a:ext cx="20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ARAMET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5720" y="4040280"/>
            <a:ext cx="210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EST CIRC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61840" y="525924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66ff"/>
                </a:solidFill>
                <a:latin typeface="Symbol"/>
                <a:ea typeface="Symbol"/>
              </a:rPr>
              <a:t>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i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66360" y="3887640"/>
            <a:ext cx="2634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coupled line stru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ri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3 ns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4 v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97280" y="4754520"/>
            <a:ext cx="205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28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it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 ns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200 ps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j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116240"/>
            <a:ext cx="2819520" cy="1295640"/>
          </a:xfrm>
          <a:custGeom>
            <a:avLst/>
            <a:gdLst/>
            <a:ahLst/>
            <a:rect l="l" t="t" r="r" b="b"/>
            <a:pathLst>
              <a:path w="1776" h="816">
                <a:moveTo>
                  <a:pt x="0" y="48"/>
                </a:moveTo>
                <a:lnTo>
                  <a:pt x="432" y="48"/>
                </a:lnTo>
                <a:lnTo>
                  <a:pt x="432" y="816"/>
                </a:lnTo>
                <a:lnTo>
                  <a:pt x="768" y="816"/>
                </a:lnTo>
                <a:lnTo>
                  <a:pt x="768" y="0"/>
                </a:lnTo>
                <a:lnTo>
                  <a:pt x="1440" y="0"/>
                </a:lnTo>
                <a:lnTo>
                  <a:pt x="1440" y="816"/>
                </a:lnTo>
                <a:lnTo>
                  <a:pt x="1776" y="816"/>
                </a:lnTo>
              </a:path>
            </a:pathLst>
          </a:custGeom>
          <a:noFill/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497480"/>
            <a:ext cx="2819520" cy="1218960"/>
          </a:xfrm>
          <a:custGeom>
            <a:avLst/>
            <a:gdLst/>
            <a:ahLst/>
            <a:rect l="l" t="t" r="r" b="b"/>
            <a:pathLst>
              <a:path w="1776" h="768">
                <a:moveTo>
                  <a:pt x="0" y="0"/>
                </a:moveTo>
                <a:lnTo>
                  <a:pt x="240" y="0"/>
                </a:lnTo>
                <a:lnTo>
                  <a:pt x="240" y="768"/>
                </a:lnTo>
                <a:lnTo>
                  <a:pt x="960" y="768"/>
                </a:lnTo>
                <a:lnTo>
                  <a:pt x="960" y="0"/>
                </a:lnTo>
                <a:lnTo>
                  <a:pt x="1248" y="0"/>
                </a:lnTo>
                <a:lnTo>
                  <a:pt x="1248" y="768"/>
                </a:lnTo>
                <a:lnTo>
                  <a:pt x="1776" y="768"/>
                </a:lnTo>
              </a:path>
            </a:pathLst>
          </a:custGeom>
          <a:noFill/>
          <a:ln w="88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9160" y="2449440"/>
            <a:ext cx="44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cromodel </a:t>
            </a:r>
            <a:r>
              <a:rPr b="1" lang="it-IT" sz="2000" spc="-1" strike="noStrike">
                <a:solidFill>
                  <a:srgbClr val="339933"/>
                </a:solidFill>
                <a:latin typeface="Arial"/>
              </a:rPr>
              <a:t>detail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it-IT" sz="2000" spc="-1" strike="noStrike">
                <a:solidFill>
                  <a:srgbClr val="339933"/>
                </a:solidFill>
                <a:latin typeface="Arial"/>
              </a:rPr>
              <a:t>valida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412-E627-4FB3-B511-4E430F8314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1711440" y="1887480"/>
          <a:ext cx="647676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1887480"/>
                    <a:ext cx="647676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988200" y="116676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CX Application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y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5480" y="304920"/>
            <a:ext cx="858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2 (ii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82840" y="2498760"/>
            <a:ext cx="0" cy="281952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200000">
            <a:off x="789840" y="37108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600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46040" y="2041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7620120" y="990720"/>
            <a:ext cx="1752480" cy="761760"/>
            <a:chOff x="7620120" y="990720"/>
            <a:chExt cx="1752480" cy="761760"/>
          </a:xfrm>
        </p:grpSpPr>
        <p:sp>
          <p:nvSpPr>
            <p:cNvPr id="393" name=""/>
            <p:cNvSpPr/>
            <p:nvPr/>
          </p:nvSpPr>
          <p:spPr>
            <a:xfrm>
              <a:off x="8534520" y="1143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534520" y="1598760"/>
              <a:ext cx="22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63120" y="990720"/>
              <a:ext cx="609480" cy="76176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0" y="288"/>
                  </a:lnTo>
                  <a:lnTo>
                    <a:pt x="28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31400" y="1143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8534520" y="1219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305560" y="11430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305560" y="16002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8001000" y="1143000"/>
              <a:ext cx="380880" cy="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001000" y="1600200"/>
              <a:ext cx="380880" cy="0"/>
            </a:xfrm>
            <a:prstGeom prst="line">
              <a:avLst/>
            </a:prstGeom>
            <a:ln w="88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620120" y="1143000"/>
              <a:ext cx="304560" cy="0"/>
            </a:xfrm>
            <a:prstGeom prst="line">
              <a:avLst/>
            </a:prstGeom>
            <a:ln w="8892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620120" y="1600200"/>
              <a:ext cx="304560" cy="0"/>
            </a:xfrm>
            <a:prstGeom prst="line">
              <a:avLst/>
            </a:prstGeom>
            <a:ln w="8892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2930040" y="5699160"/>
            <a:ext cx="3886200" cy="0"/>
          </a:xfrm>
          <a:prstGeom prst="line">
            <a:avLst/>
          </a:prstGeom>
          <a:ln w="255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32400" y="53625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1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695-F1A1-4C1F-B121-32CB024215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1295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Parametric models are well suited to IB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Arial"/>
              </a:rPr>
              <a:t>multilingual extension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asy implementatio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e in IBIS compliant simulator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2743200"/>
            <a:ext cx="8229600" cy="1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Math Foundations and Gener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HIGH ACCURAC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LOW COMPLEXIT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like classical IBIS mod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Good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ROTECTION OF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57200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vanced modeling techniques introduced via IBIS multilingual extensio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not affect IBIS standard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and requir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no upgrades of IBIS ver. 4.1 compliant sim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79252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647640" y="329688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C4F-891A-4AB1-A6C7-3E8F3E3F79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knowledgement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2286000"/>
            <a:ext cx="8534520" cy="4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3960" indent="-453960">
              <a:lnSpc>
                <a:spcPct val="11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providing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C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1280" y="15238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3133800"/>
            <a:ext cx="80773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lnSpc>
                <a:spcPct val="11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Sergio Perazza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n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taly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 the technical support on ICX and for the validation Exampl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4191120"/>
            <a:ext cx="8077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Arpad Murany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Intel) for VHDL templates and code posted 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0099ff"/>
                </a:solidFill>
                <a:latin typeface="Arial"/>
              </a:rPr>
              <a:t>http://www.eda.org/pub/ibis/summits/jun03a/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 and </a:t>
            </a:r>
            <a:r>
              <a:rPr b="0" lang="en-GB" sz="2200" spc="-1" strike="noStrike">
                <a:solidFill>
                  <a:srgbClr val="0099ff"/>
                </a:solidFill>
                <a:latin typeface="Arial"/>
              </a:rPr>
              <a:t>http://www.eda.org/pub/ibis/summits/feb04a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447920" y="2209680"/>
          <a:ext cx="198108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1981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AB0-C1D4-4F56-B6F4-BFA26808B9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roduction (i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219320"/>
            <a:ext cx="7924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IBIS Implementation of I/O buffer Parametric Models for High-Performance SI and EMC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048120" y="2436480"/>
            <a:ext cx="3733200" cy="1906560"/>
            <a:chOff x="3048120" y="2436480"/>
            <a:chExt cx="3733200" cy="1906560"/>
          </a:xfrm>
        </p:grpSpPr>
        <p:grpSp>
          <p:nvGrpSpPr>
            <p:cNvPr id="56" name=""/>
            <p:cNvGrpSpPr/>
            <p:nvPr/>
          </p:nvGrpSpPr>
          <p:grpSpPr>
            <a:xfrm>
              <a:off x="3048120" y="2871000"/>
              <a:ext cx="3026160" cy="1298520"/>
              <a:chOff x="3048120" y="2871000"/>
              <a:chExt cx="3026160" cy="12985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3830400" y="3049560"/>
                <a:ext cx="573840" cy="357840"/>
                <a:chOff x="3830400" y="3049560"/>
                <a:chExt cx="573840" cy="3578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882600" y="3094560"/>
                  <a:ext cx="469440" cy="268200"/>
                </a:xfrm>
                <a:custGeom>
                  <a:avLst/>
                  <a:gdLst/>
                  <a:ahLst/>
                  <a:rect l="l" t="t" r="r" b="b"/>
                  <a:pathLst>
                    <a:path w="432" h="288">
                      <a:moveTo>
                        <a:pt x="432" y="0"/>
                      </a:moveTo>
                      <a:lnTo>
                        <a:pt x="288" y="288"/>
                      </a:lnTo>
                      <a:lnTo>
                        <a:pt x="0" y="288"/>
                      </a:lnTo>
                      <a:lnTo>
                        <a:pt x="144" y="0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934800" y="3139200"/>
                  <a:ext cx="469440" cy="8964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82600" y="3228840"/>
                  <a:ext cx="469440" cy="8928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830400" y="3318120"/>
                  <a:ext cx="469440" cy="8928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882600" y="3049920"/>
                  <a:ext cx="469440" cy="268200"/>
                </a:xfrm>
                <a:custGeom>
                  <a:avLst/>
                  <a:gdLst/>
                  <a:ahLst/>
                  <a:rect l="l" t="t" r="r" b="b"/>
                  <a:pathLst>
                    <a:path w="432" h="288">
                      <a:moveTo>
                        <a:pt x="432" y="0"/>
                      </a:moveTo>
                      <a:lnTo>
                        <a:pt x="288" y="288"/>
                      </a:lnTo>
                      <a:lnTo>
                        <a:pt x="0" y="288"/>
                      </a:lnTo>
                      <a:lnTo>
                        <a:pt x="144" y="0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882600" y="3049920"/>
                  <a:ext cx="469440" cy="313200"/>
                </a:xfrm>
                <a:custGeom>
                  <a:avLst/>
                  <a:gdLst/>
                  <a:ahLst/>
                  <a:rect l="l" t="t" r="r" b="b"/>
                  <a:pathLst>
                    <a:path w="432" h="336">
                      <a:moveTo>
                        <a:pt x="0" y="336"/>
                      </a:moveTo>
                      <a:lnTo>
                        <a:pt x="288" y="336"/>
                      </a:lnTo>
                      <a:lnTo>
                        <a:pt x="432" y="48"/>
                      </a:lnTo>
                      <a:lnTo>
                        <a:pt x="432" y="0"/>
                      </a:lnTo>
                      <a:lnTo>
                        <a:pt x="144" y="0"/>
                      </a:lnTo>
                      <a:lnTo>
                        <a:pt x="0" y="288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882600" y="3318120"/>
                  <a:ext cx="31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4195440" y="3049560"/>
                  <a:ext cx="156240" cy="26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4195440" y="3318120"/>
                  <a:ext cx="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935160" y="3139200"/>
                <a:ext cx="1199520" cy="716760"/>
                <a:chOff x="3935160" y="3139200"/>
                <a:chExt cx="1199520" cy="71676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039200" y="3676680"/>
                  <a:ext cx="260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300200" y="3318480"/>
                  <a:ext cx="20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4300200" y="3318480"/>
                  <a:ext cx="208440" cy="35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87000" y="3766320"/>
                  <a:ext cx="46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V="1">
                  <a:off x="4456440" y="3229200"/>
                  <a:ext cx="312840" cy="537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352400" y="3229200"/>
                  <a:ext cx="41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65240" y="3408120"/>
                  <a:ext cx="41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404600" y="3139560"/>
                  <a:ext cx="573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874040" y="3139200"/>
                  <a:ext cx="104040" cy="178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874040" y="3318480"/>
                  <a:ext cx="260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769640" y="3497760"/>
                  <a:ext cx="261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4561200" y="3497760"/>
                  <a:ext cx="208440" cy="35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935160" y="3855960"/>
                  <a:ext cx="626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048120" y="2871000"/>
                <a:ext cx="3026160" cy="1298520"/>
                <a:chOff x="3048120" y="2871000"/>
                <a:chExt cx="3026160" cy="12985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048120" y="2871000"/>
                  <a:ext cx="3026160" cy="1298520"/>
                </a:xfrm>
                <a:custGeom>
                  <a:avLst/>
                  <a:gdLst/>
                  <a:ahLst/>
                  <a:rect l="l" t="t" r="r" b="b"/>
                  <a:pathLst>
                    <a:path w="2784" h="1392">
                      <a:moveTo>
                        <a:pt x="0" y="1344"/>
                      </a:moveTo>
                      <a:lnTo>
                        <a:pt x="672" y="0"/>
                      </a:lnTo>
                      <a:lnTo>
                        <a:pt x="2784" y="0"/>
                      </a:lnTo>
                      <a:lnTo>
                        <a:pt x="2784" y="48"/>
                      </a:lnTo>
                      <a:lnTo>
                        <a:pt x="2112" y="1392"/>
                      </a:lnTo>
                      <a:lnTo>
                        <a:pt x="0" y="1392"/>
                      </a:lnTo>
                      <a:lnTo>
                        <a:pt x="0" y="1344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48120" y="2871000"/>
                  <a:ext cx="3026160" cy="1253520"/>
                </a:xfrm>
                <a:custGeom>
                  <a:avLst/>
                  <a:gdLst/>
                  <a:ahLst/>
                  <a:rect l="l" t="t" r="r" b="b"/>
                  <a:pathLst>
                    <a:path w="2784" h="1344">
                      <a:moveTo>
                        <a:pt x="0" y="1344"/>
                      </a:moveTo>
                      <a:lnTo>
                        <a:pt x="2112" y="1344"/>
                      </a:lnTo>
                      <a:lnTo>
                        <a:pt x="278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5343840" y="4124520"/>
                  <a:ext cx="0" cy="4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517560" y="3587040"/>
                <a:ext cx="573840" cy="357840"/>
                <a:chOff x="3517560" y="3587040"/>
                <a:chExt cx="573840" cy="3578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569760" y="3632040"/>
                  <a:ext cx="469440" cy="268200"/>
                </a:xfrm>
                <a:custGeom>
                  <a:avLst/>
                  <a:gdLst/>
                  <a:ahLst/>
                  <a:rect l="l" t="t" r="r" b="b"/>
                  <a:pathLst>
                    <a:path w="432" h="288">
                      <a:moveTo>
                        <a:pt x="432" y="0"/>
                      </a:moveTo>
                      <a:lnTo>
                        <a:pt x="288" y="288"/>
                      </a:lnTo>
                      <a:lnTo>
                        <a:pt x="0" y="288"/>
                      </a:lnTo>
                      <a:lnTo>
                        <a:pt x="144" y="0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621960" y="3676680"/>
                  <a:ext cx="469440" cy="8964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69760" y="3766320"/>
                  <a:ext cx="469440" cy="8928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7560" y="3855600"/>
                  <a:ext cx="469440" cy="8928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569760" y="3587400"/>
                  <a:ext cx="469440" cy="268200"/>
                </a:xfrm>
                <a:custGeom>
                  <a:avLst/>
                  <a:gdLst/>
                  <a:ahLst/>
                  <a:rect l="l" t="t" r="r" b="b"/>
                  <a:pathLst>
                    <a:path w="432" h="288">
                      <a:moveTo>
                        <a:pt x="432" y="0"/>
                      </a:moveTo>
                      <a:lnTo>
                        <a:pt x="288" y="288"/>
                      </a:lnTo>
                      <a:lnTo>
                        <a:pt x="0" y="288"/>
                      </a:lnTo>
                      <a:lnTo>
                        <a:pt x="144" y="0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569760" y="3587400"/>
                  <a:ext cx="469440" cy="313200"/>
                </a:xfrm>
                <a:custGeom>
                  <a:avLst/>
                  <a:gdLst/>
                  <a:ahLst/>
                  <a:rect l="l" t="t" r="r" b="b"/>
                  <a:pathLst>
                    <a:path w="432" h="336">
                      <a:moveTo>
                        <a:pt x="0" y="336"/>
                      </a:moveTo>
                      <a:lnTo>
                        <a:pt x="288" y="336"/>
                      </a:lnTo>
                      <a:lnTo>
                        <a:pt x="432" y="48"/>
                      </a:lnTo>
                      <a:lnTo>
                        <a:pt x="432" y="0"/>
                      </a:lnTo>
                      <a:lnTo>
                        <a:pt x="144" y="0"/>
                      </a:lnTo>
                      <a:lnTo>
                        <a:pt x="0" y="288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569760" y="3855600"/>
                  <a:ext cx="31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3882600" y="3587040"/>
                  <a:ext cx="156240" cy="26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V="1">
                  <a:off x="3882600" y="3855600"/>
                  <a:ext cx="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978440" y="3228840"/>
                <a:ext cx="573840" cy="357840"/>
                <a:chOff x="4978440" y="3228840"/>
                <a:chExt cx="573840" cy="3578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030640" y="3273840"/>
                  <a:ext cx="469440" cy="268200"/>
                </a:xfrm>
                <a:custGeom>
                  <a:avLst/>
                  <a:gdLst/>
                  <a:ahLst/>
                  <a:rect l="l" t="t" r="r" b="b"/>
                  <a:pathLst>
                    <a:path w="432" h="288">
                      <a:moveTo>
                        <a:pt x="432" y="0"/>
                      </a:moveTo>
                      <a:lnTo>
                        <a:pt x="288" y="288"/>
                      </a:lnTo>
                      <a:lnTo>
                        <a:pt x="0" y="288"/>
                      </a:lnTo>
                      <a:lnTo>
                        <a:pt x="144" y="0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82840" y="3318480"/>
                  <a:ext cx="469440" cy="8964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0640" y="3408120"/>
                  <a:ext cx="469440" cy="8928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978440" y="3497400"/>
                  <a:ext cx="469440" cy="89280"/>
                </a:xfrm>
                <a:custGeom>
                  <a:avLst/>
                  <a:gdLst/>
                  <a:ahLst/>
                  <a:rect l="l" t="t" r="r" b="b"/>
                  <a:pathLst>
                    <a:path w="96" h="1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30640" y="3229200"/>
                  <a:ext cx="469440" cy="268200"/>
                </a:xfrm>
                <a:custGeom>
                  <a:avLst/>
                  <a:gdLst/>
                  <a:ahLst/>
                  <a:rect l="l" t="t" r="r" b="b"/>
                  <a:pathLst>
                    <a:path w="432" h="288">
                      <a:moveTo>
                        <a:pt x="432" y="0"/>
                      </a:moveTo>
                      <a:lnTo>
                        <a:pt x="288" y="288"/>
                      </a:lnTo>
                      <a:lnTo>
                        <a:pt x="0" y="288"/>
                      </a:lnTo>
                      <a:lnTo>
                        <a:pt x="144" y="0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030640" y="3229200"/>
                  <a:ext cx="469440" cy="313200"/>
                </a:xfrm>
                <a:custGeom>
                  <a:avLst/>
                  <a:gdLst/>
                  <a:ahLst/>
                  <a:rect l="l" t="t" r="r" b="b"/>
                  <a:pathLst>
                    <a:path w="432" h="336">
                      <a:moveTo>
                        <a:pt x="0" y="336"/>
                      </a:moveTo>
                      <a:lnTo>
                        <a:pt x="288" y="336"/>
                      </a:lnTo>
                      <a:lnTo>
                        <a:pt x="432" y="48"/>
                      </a:lnTo>
                      <a:lnTo>
                        <a:pt x="432" y="0"/>
                      </a:lnTo>
                      <a:lnTo>
                        <a:pt x="144" y="0"/>
                      </a:lnTo>
                      <a:lnTo>
                        <a:pt x="0" y="288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30640" y="3497400"/>
                  <a:ext cx="31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343480" y="3228840"/>
                  <a:ext cx="156240" cy="26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5343480" y="3497400"/>
                  <a:ext cx="0" cy="44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4290480" y="2436480"/>
              <a:ext cx="918720" cy="522720"/>
              <a:chOff x="4290480" y="2436480"/>
              <a:chExt cx="918720" cy="522720"/>
            </a:xfrm>
          </p:grpSpPr>
          <p:sp>
            <p:nvSpPr>
              <p:cNvPr id="106" name=""/>
              <p:cNvSpPr/>
              <p:nvPr/>
            </p:nvSpPr>
            <p:spPr>
              <a:xfrm rot="20400000">
                <a:off x="4377240" y="2438280"/>
                <a:ext cx="64080" cy="5194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96" y="240"/>
                    </a:moveTo>
                    <a:cubicBezTo>
                      <a:pt x="48" y="204"/>
                      <a:pt x="0" y="168"/>
                      <a:pt x="0" y="144"/>
                    </a:cubicBezTo>
                    <a:cubicBezTo>
                      <a:pt x="0" y="120"/>
                      <a:pt x="96" y="120"/>
                      <a:pt x="96" y="96"/>
                    </a:cubicBezTo>
                    <a:cubicBezTo>
                      <a:pt x="96" y="72"/>
                      <a:pt x="16" y="16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21000000">
                <a:off x="4505040" y="2437920"/>
                <a:ext cx="64080" cy="5194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96" y="240"/>
                    </a:moveTo>
                    <a:cubicBezTo>
                      <a:pt x="48" y="204"/>
                      <a:pt x="0" y="168"/>
                      <a:pt x="0" y="144"/>
                    </a:cubicBezTo>
                    <a:cubicBezTo>
                      <a:pt x="0" y="120"/>
                      <a:pt x="96" y="120"/>
                      <a:pt x="96" y="96"/>
                    </a:cubicBezTo>
                    <a:cubicBezTo>
                      <a:pt x="96" y="72"/>
                      <a:pt x="16" y="16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00000">
                <a:off x="4762800" y="2437920"/>
                <a:ext cx="64080" cy="5194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96" y="240"/>
                    </a:moveTo>
                    <a:cubicBezTo>
                      <a:pt x="48" y="204"/>
                      <a:pt x="0" y="168"/>
                      <a:pt x="0" y="144"/>
                    </a:cubicBezTo>
                    <a:cubicBezTo>
                      <a:pt x="0" y="120"/>
                      <a:pt x="96" y="120"/>
                      <a:pt x="96" y="96"/>
                    </a:cubicBezTo>
                    <a:cubicBezTo>
                      <a:pt x="96" y="72"/>
                      <a:pt x="16" y="16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200000">
                <a:off x="4890960" y="2437920"/>
                <a:ext cx="64080" cy="5194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96" y="240"/>
                    </a:moveTo>
                    <a:cubicBezTo>
                      <a:pt x="48" y="204"/>
                      <a:pt x="0" y="168"/>
                      <a:pt x="0" y="144"/>
                    </a:cubicBezTo>
                    <a:cubicBezTo>
                      <a:pt x="0" y="120"/>
                      <a:pt x="96" y="120"/>
                      <a:pt x="96" y="96"/>
                    </a:cubicBezTo>
                    <a:cubicBezTo>
                      <a:pt x="96" y="72"/>
                      <a:pt x="16" y="16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33920" y="2438280"/>
                <a:ext cx="64080" cy="5194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96" y="240"/>
                    </a:moveTo>
                    <a:cubicBezTo>
                      <a:pt x="48" y="204"/>
                      <a:pt x="0" y="168"/>
                      <a:pt x="0" y="144"/>
                    </a:cubicBezTo>
                    <a:cubicBezTo>
                      <a:pt x="0" y="120"/>
                      <a:pt x="96" y="120"/>
                      <a:pt x="96" y="96"/>
                    </a:cubicBezTo>
                    <a:cubicBezTo>
                      <a:pt x="96" y="72"/>
                      <a:pt x="16" y="16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800000">
                <a:off x="5019480" y="2437920"/>
                <a:ext cx="64080" cy="51948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96" y="240"/>
                    </a:moveTo>
                    <a:cubicBezTo>
                      <a:pt x="48" y="204"/>
                      <a:pt x="0" y="168"/>
                      <a:pt x="0" y="144"/>
                    </a:cubicBezTo>
                    <a:cubicBezTo>
                      <a:pt x="0" y="120"/>
                      <a:pt x="96" y="120"/>
                      <a:pt x="96" y="96"/>
                    </a:cubicBezTo>
                    <a:cubicBezTo>
                      <a:pt x="96" y="72"/>
                      <a:pt x="16" y="16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678640" y="3736800"/>
              <a:ext cx="1102680" cy="606240"/>
              <a:chOff x="5678640" y="3736800"/>
              <a:chExt cx="1102680" cy="606240"/>
            </a:xfrm>
          </p:grpSpPr>
          <p:sp>
            <p:nvSpPr>
              <p:cNvPr id="113" name=""/>
              <p:cNvSpPr/>
              <p:nvPr/>
            </p:nvSpPr>
            <p:spPr>
              <a:xfrm>
                <a:off x="5800680" y="3888360"/>
                <a:ext cx="735120" cy="429120"/>
              </a:xfrm>
              <a:custGeom>
                <a:avLst/>
                <a:gdLst/>
                <a:ahLst/>
                <a:rect l="l" t="t" r="r" b="b"/>
                <a:pathLst>
                  <a:path w="720" h="408">
                    <a:moveTo>
                      <a:pt x="0" y="320"/>
                    </a:moveTo>
                    <a:cubicBezTo>
                      <a:pt x="36" y="316"/>
                      <a:pt x="72" y="312"/>
                      <a:pt x="96" y="320"/>
                    </a:cubicBezTo>
                    <a:cubicBezTo>
                      <a:pt x="120" y="328"/>
                      <a:pt x="128" y="408"/>
                      <a:pt x="144" y="368"/>
                    </a:cubicBezTo>
                    <a:cubicBezTo>
                      <a:pt x="160" y="328"/>
                      <a:pt x="176" y="136"/>
                      <a:pt x="192" y="80"/>
                    </a:cubicBezTo>
                    <a:cubicBezTo>
                      <a:pt x="208" y="24"/>
                      <a:pt x="224" y="0"/>
                      <a:pt x="240" y="32"/>
                    </a:cubicBezTo>
                    <a:cubicBezTo>
                      <a:pt x="256" y="64"/>
                      <a:pt x="272" y="256"/>
                      <a:pt x="288" y="272"/>
                    </a:cubicBezTo>
                    <a:cubicBezTo>
                      <a:pt x="304" y="288"/>
                      <a:pt x="320" y="160"/>
                      <a:pt x="336" y="128"/>
                    </a:cubicBezTo>
                    <a:cubicBezTo>
                      <a:pt x="352" y="96"/>
                      <a:pt x="368" y="72"/>
                      <a:pt x="384" y="80"/>
                    </a:cubicBezTo>
                    <a:cubicBezTo>
                      <a:pt x="400" y="88"/>
                      <a:pt x="400" y="160"/>
                      <a:pt x="432" y="176"/>
                    </a:cubicBezTo>
                    <a:cubicBezTo>
                      <a:pt x="464" y="192"/>
                      <a:pt x="528" y="176"/>
                      <a:pt x="576" y="176"/>
                    </a:cubicBezTo>
                    <a:cubicBezTo>
                      <a:pt x="624" y="176"/>
                      <a:pt x="672" y="176"/>
                      <a:pt x="720" y="176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5678640" y="3736800"/>
                <a:ext cx="0" cy="60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78640" y="4343040"/>
                <a:ext cx="110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 flipV="1">
              <a:off x="4744440" y="3650040"/>
              <a:ext cx="848520" cy="34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990720" y="464976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modeling of latest technologies and high-order eff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LVDS drivers with pre-emphas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DR memor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ower supply ports,  etc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F18-790E-45A1-9E5E-52313FA7A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2489040"/>
            <a:ext cx="83818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vailable applic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Macromodel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I/O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sion of slowly-varying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evice parameter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eg, tempera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clusion of the </a:t>
            </a:r>
            <a:r>
              <a:rPr b="1" lang="it-IT" sz="1800" spc="-1" strike="noStrike">
                <a:solidFill>
                  <a:srgbClr val="0066ff"/>
                </a:solidFill>
                <a:latin typeface="Arial"/>
              </a:rPr>
              <a:t>power-supply volt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els of the </a:t>
            </a:r>
            <a:r>
              <a:rPr b="1" lang="it-IT" sz="1800" spc="-1" strike="noStrike">
                <a:solidFill>
                  <a:srgbClr val="339933"/>
                </a:solidFill>
                <a:latin typeface="Arial"/>
              </a:rPr>
              <a:t>power supply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els of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tristate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els of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LVD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roduction (ii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092320"/>
            <a:ext cx="7924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219320"/>
            <a:ext cx="5562720" cy="91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romodel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amet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tification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o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261120" y="1143000"/>
            <a:ext cx="3492360" cy="1676520"/>
            <a:chOff x="6261120" y="1143000"/>
            <a:chExt cx="3492360" cy="1676520"/>
          </a:xfrm>
        </p:grpSpPr>
        <p:sp>
          <p:nvSpPr>
            <p:cNvPr id="123" name=""/>
            <p:cNvSpPr/>
            <p:nvPr/>
          </p:nvSpPr>
          <p:spPr>
            <a:xfrm>
              <a:off x="7861320" y="2133720"/>
              <a:ext cx="762120" cy="533160"/>
            </a:xfrm>
            <a:custGeom>
              <a:avLst/>
              <a:gdLst/>
              <a:ahLst/>
              <a:rect l="l" t="t" r="r" b="b"/>
              <a:pathLst>
                <a:path w="480" h="384">
                  <a:moveTo>
                    <a:pt x="0" y="384"/>
                  </a:moveTo>
                  <a:lnTo>
                    <a:pt x="0" y="0"/>
                  </a:lnTo>
                  <a:lnTo>
                    <a:pt x="4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61320" y="159984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61560" y="1285920"/>
              <a:ext cx="4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0120" y="213372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400" y="2666880"/>
              <a:ext cx="1652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48" y="96"/>
                  </a:lnTo>
                  <a:lnTo>
                    <a:pt x="96" y="48"/>
                  </a:lnTo>
                  <a:lnTo>
                    <a:pt x="48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623440" y="22093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2680" y="213372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079760" y="2666880"/>
              <a:ext cx="15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51800" y="1828800"/>
              <a:ext cx="577800" cy="6094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0" y="288"/>
                  </a:lnTo>
                  <a:lnTo>
                    <a:pt x="28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080120" y="2209320"/>
              <a:ext cx="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27800" y="2133720"/>
              <a:ext cx="165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7823160" y="1219320"/>
            <a:ext cx="1403280" cy="92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23160" y="1219320"/>
                      <a:ext cx="1403280" cy="92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7575480" y="1143000"/>
              <a:ext cx="577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0120" y="1600200"/>
              <a:ext cx="57816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lnTo>
                    <a:pt x="0" y="240"/>
                  </a:lnTo>
                  <a:lnTo>
                    <a:pt x="432" y="2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5120" y="12193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61120" y="2012760"/>
              <a:ext cx="825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PUT PORT (RE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63120" y="2012760"/>
              <a:ext cx="99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ORT (DRV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04640" y="3022560"/>
            <a:ext cx="738360" cy="1447920"/>
            <a:chOff x="404640" y="3022560"/>
            <a:chExt cx="738360" cy="1447920"/>
          </a:xfrm>
        </p:grpSpPr>
        <p:sp>
          <p:nvSpPr>
            <p:cNvPr id="142" name=""/>
            <p:cNvSpPr/>
            <p:nvPr/>
          </p:nvSpPr>
          <p:spPr>
            <a:xfrm>
              <a:off x="990720" y="302256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9320" y="3465360"/>
              <a:ext cx="123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gle-en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295280" y="46386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[I.S.Stievano, I.A.Maio, F.G.Canavero, “M</a:t>
            </a:r>
            <a:r>
              <a:rPr b="0" lang="it-IT" sz="1400" spc="-1" strike="noStrike">
                <a:solidFill>
                  <a:srgbClr val="5f5f5f"/>
                </a:solidFill>
                <a:latin typeface="Symbol"/>
                <a:ea typeface="Symbol"/>
              </a:rPr>
              <a:t></a:t>
            </a:r>
            <a:r>
              <a:rPr b="0" i="1" lang="it-IT" sz="1400" spc="-1" strike="noStrike">
                <a:solidFill>
                  <a:srgbClr val="5f5f5f"/>
                </a:solidFill>
                <a:latin typeface="Arial"/>
              </a:rPr>
              <a:t>log</a:t>
            </a: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, Macromodeling via Parametric Identification of Logic Gates,” Trans. Of Adv. Pack., 2003 (in press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613480"/>
            <a:ext cx="74678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[I.S.Stievano, C.Siviero, I.A.Maio, F.G.Canavero, “Modeling of the Static and Dynamic Behavior of Differential Drivers,” Proc. of EMC-Compo 200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E56-BC1F-49F5-8446-1DC7D663D2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review (i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1360" y="2376360"/>
            <a:ext cx="8432640" cy="2619360"/>
            <a:chOff x="711360" y="2376360"/>
            <a:chExt cx="8432640" cy="2619360"/>
          </a:xfrm>
        </p:grpSpPr>
        <p:sp>
          <p:nvSpPr>
            <p:cNvPr id="148" name=""/>
            <p:cNvSpPr/>
            <p:nvPr/>
          </p:nvSpPr>
          <p:spPr>
            <a:xfrm>
              <a:off x="838080" y="2897280"/>
              <a:ext cx="83059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mathematical expressio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roducing the electrical behavior of the 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360" y="2376360"/>
              <a:ext cx="24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What is it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279520" y="3624120"/>
              <a:ext cx="2091600" cy="1371600"/>
              <a:chOff x="2279520" y="3624120"/>
              <a:chExt cx="2091600" cy="1371600"/>
            </a:xfrm>
          </p:grpSpPr>
          <p:sp>
            <p:nvSpPr>
              <p:cNvPr id="151" name=""/>
              <p:cNvSpPr/>
              <p:nvPr/>
            </p:nvSpPr>
            <p:spPr>
              <a:xfrm>
                <a:off x="3022560" y="377640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79520" y="377640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22560" y="408132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22560" y="4385880"/>
                <a:ext cx="2476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22560" y="4690800"/>
                <a:ext cx="247680" cy="152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70240" y="4157280"/>
                <a:ext cx="41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79520" y="4081320"/>
                <a:ext cx="247680" cy="161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79520" y="4385880"/>
                <a:ext cx="247680" cy="16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9520" y="4690800"/>
                <a:ext cx="247680" cy="162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76360" y="3624120"/>
                <a:ext cx="825480" cy="1371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44760" y="4029840"/>
                <a:ext cx="69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70240" y="4767120"/>
                <a:ext cx="41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3682800" y="4233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70240" y="4157280"/>
                <a:ext cx="247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35040" y="3624120"/>
                <a:ext cx="55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65240" y="423360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4672080" y="3548160"/>
            <a:ext cx="3064320" cy="1295280"/>
            <a:chOff x="4672080" y="3548160"/>
            <a:chExt cx="3064320" cy="1295280"/>
          </a:xfrm>
        </p:grpSpPr>
        <p:sp>
          <p:nvSpPr>
            <p:cNvPr id="168" name=""/>
            <p:cNvSpPr/>
            <p:nvPr/>
          </p:nvSpPr>
          <p:spPr>
            <a:xfrm>
              <a:off x="4672080" y="4202280"/>
              <a:ext cx="426960" cy="380880"/>
            </a:xfrm>
            <a:prstGeom prst="rightArrow">
              <a:avLst>
                <a:gd name="adj1" fmla="val 50000"/>
                <a:gd name="adj2" fmla="val 28025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54600" y="3548160"/>
              <a:ext cx="1981800" cy="1295280"/>
              <a:chOff x="5754600" y="3548160"/>
              <a:chExt cx="1981800" cy="1295280"/>
            </a:xfrm>
          </p:grpSpPr>
          <p:sp>
            <p:nvSpPr>
              <p:cNvPr id="170" name=""/>
              <p:cNvSpPr/>
              <p:nvPr/>
            </p:nvSpPr>
            <p:spPr>
              <a:xfrm>
                <a:off x="6593040" y="4081320"/>
                <a:ext cx="455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16720" y="4691160"/>
                <a:ext cx="53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7048440" y="415764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93040" y="4081320"/>
                <a:ext cx="290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00680" y="3548160"/>
                <a:ext cx="55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0520" y="415764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4600" y="3852720"/>
                <a:ext cx="914400" cy="9907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3200" spc="-1" strike="noStrike">
                    <a:solidFill>
                      <a:srgbClr val="0066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4883040" y="5003640"/>
            <a:ext cx="3295800" cy="1017720"/>
            <a:chOff x="4883040" y="5003640"/>
            <a:chExt cx="3295800" cy="1017720"/>
          </a:xfrm>
        </p:grpSpPr>
        <p:sp>
          <p:nvSpPr>
            <p:cNvPr id="178" name=""/>
            <p:cNvSpPr/>
            <p:nvPr/>
          </p:nvSpPr>
          <p:spPr>
            <a:xfrm>
              <a:off x="5434920" y="5003640"/>
              <a:ext cx="21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i=</a:t>
              </a:r>
              <a:r>
                <a:rPr b="1" i="1" lang="en-US" sz="3200" spc="-1" strike="noStrike">
                  <a:solidFill>
                    <a:srgbClr val="0066ff"/>
                  </a:solidFill>
                  <a:latin typeface="Times New Roman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v, d/d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83040" y="5653080"/>
              <a:ext cx="32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66ff"/>
                  </a:solidFill>
                  <a:latin typeface="Arial"/>
                </a:rPr>
                <a:t>Nonlinear dynamic relation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209680" y="1219320"/>
            <a:ext cx="5562720" cy="91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romodel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amet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ntification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o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2F9-60B1-48BA-B5DA-CBCC66D202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6680160" y="5454360"/>
            <a:ext cx="0" cy="40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802640" y="5454360"/>
            <a:ext cx="0" cy="407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61920" y="2682720"/>
            <a:ext cx="5362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al Device (or its physical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conveniently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stim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</a:rPr>
              <a:t>Reac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port transient respons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used to build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067440" y="2784600"/>
            <a:ext cx="3076200" cy="1558800"/>
            <a:chOff x="6067440" y="2784600"/>
            <a:chExt cx="3076200" cy="1558800"/>
          </a:xfrm>
        </p:grpSpPr>
        <p:sp>
          <p:nvSpPr>
            <p:cNvPr id="185" name=""/>
            <p:cNvSpPr/>
            <p:nvPr/>
          </p:nvSpPr>
          <p:spPr>
            <a:xfrm>
              <a:off x="6810480" y="2946600"/>
              <a:ext cx="2476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67440" y="2946600"/>
              <a:ext cx="2476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0480" y="3241800"/>
              <a:ext cx="2476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10480" y="3546720"/>
              <a:ext cx="2476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851280"/>
              <a:ext cx="2476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7440" y="3241800"/>
              <a:ext cx="247680" cy="162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67440" y="3546720"/>
              <a:ext cx="247680" cy="16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67440" y="3851280"/>
              <a:ext cx="247680" cy="162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64280" y="2784600"/>
              <a:ext cx="825480" cy="1371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32680" y="3190320"/>
              <a:ext cx="6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58160" y="3927600"/>
              <a:ext cx="41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615440" y="2895840"/>
              <a:ext cx="1490400" cy="717480"/>
              <a:chOff x="7615440" y="2895840"/>
              <a:chExt cx="1490400" cy="7174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7615440" y="2895840"/>
                <a:ext cx="1490400" cy="717480"/>
              </a:xfrm>
              <a:prstGeom prst="rightArrow">
                <a:avLst>
                  <a:gd name="adj1" fmla="val 50000"/>
                  <a:gd name="adj2" fmla="val 51932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80040" y="3090960"/>
                <a:ext cx="1177920" cy="3373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imul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656480" y="3613320"/>
              <a:ext cx="1487160" cy="730080"/>
              <a:chOff x="7656480" y="3613320"/>
              <a:chExt cx="1487160" cy="730080"/>
            </a:xfrm>
          </p:grpSpPr>
          <p:sp>
            <p:nvSpPr>
              <p:cNvPr id="200" name=""/>
              <p:cNvSpPr/>
              <p:nvPr/>
            </p:nvSpPr>
            <p:spPr>
              <a:xfrm>
                <a:off x="7656480" y="3613320"/>
                <a:ext cx="1487160" cy="730080"/>
              </a:xfrm>
              <a:prstGeom prst="rightArrow">
                <a:avLst>
                  <a:gd name="adj1" fmla="val 50000"/>
                  <a:gd name="adj2" fmla="val 50925"/>
                </a:avLst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7694280" y="3808080"/>
                <a:ext cx="1201680" cy="3373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a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061400" y="3319560"/>
              <a:ext cx="41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11360" y="1752480"/>
            <a:ext cx="34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w does it work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review (ii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184-7D4C-4C8A-8E47-85A673351A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what is the output ?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229360" y="3252960"/>
            <a:ext cx="3914640" cy="2918880"/>
            <a:chOff x="5229360" y="3252960"/>
            <a:chExt cx="3914640" cy="29188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334120" y="3252960"/>
              <a:ext cx="3809880" cy="28479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6019920" y="5415120"/>
                  <a:ext cx="214200" cy="26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696080" y="5643720"/>
                  <a:ext cx="79380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5229360" y="3354480"/>
                  <a:ext cx="181764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 flipH="1">
              <a:off x="5938560" y="3738600"/>
              <a:ext cx="4680" cy="1290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5929200" y="5019480"/>
              <a:ext cx="1300320" cy="1152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917280" y="1143000"/>
            <a:ext cx="81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del structure:</a:t>
            </a:r>
            <a:r>
              <a:rPr b="1" i="1" lang="it-IT" sz="2800" spc="-1" strike="noStrike">
                <a:solidFill>
                  <a:srgbClr val="0066ff"/>
                </a:solidFill>
                <a:latin typeface="Times New Roman"/>
              </a:rPr>
              <a:t> F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66ff"/>
                </a:solidFill>
                <a:latin typeface="Symbol"/>
                <a:ea typeface="Symbol"/>
              </a:rPr>
              <a:t>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 </a:t>
            </a:r>
            <a:r>
              <a:rPr b="0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nonlinear 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B</a:t>
            </a:r>
            <a:r>
              <a:rPr b="0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asis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 F</a:t>
            </a:r>
            <a:r>
              <a:rPr b="0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unctions</a:t>
            </a:r>
            <a:r>
              <a:rPr b="1" lang="it-IT" sz="2000" spc="-1" strike="noStrike">
                <a:solidFill>
                  <a:srgbClr val="0066ff"/>
                </a:solidFill>
                <a:latin typeface="Arial"/>
                <a:ea typeface="Gungsuh"/>
              </a:rPr>
              <a:t> (various 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20400" y="1967040"/>
            <a:ext cx="7618680" cy="627840"/>
            <a:chOff x="1220400" y="1967040"/>
            <a:chExt cx="7618680" cy="627840"/>
          </a:xfrm>
        </p:grpSpPr>
        <p:sp>
          <p:nvSpPr>
            <p:cNvPr id="215" name=""/>
            <p:cNvSpPr/>
            <p:nvPr/>
          </p:nvSpPr>
          <p:spPr>
            <a:xfrm flipV="1">
              <a:off x="4703760" y="2149200"/>
              <a:ext cx="0" cy="407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40560" y="2149200"/>
              <a:ext cx="0" cy="4078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1967040"/>
              <a:ext cx="6781680" cy="627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800" spc="-1" strike="noStrike">
                  <a:solidFill>
                    <a:srgbClr val="000000"/>
                  </a:solidFill>
                  <a:latin typeface="Times New Roman"/>
                </a:rPr>
                <a:t>i =</a:t>
              </a:r>
              <a:r>
                <a:rPr b="0" i="1" lang="it-IT" sz="28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0" i="1" lang="it-IT" sz="2800" spc="-1" strike="noStrike">
                  <a:solidFill>
                    <a:srgbClr val="ff0000"/>
                  </a:solidFill>
                  <a:latin typeface="Times New Roman"/>
                </a:rPr>
                <a:t>-a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Times New Roman"/>
                </a:rPr>
                <a:t>1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an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i="1" lang="it-IT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imes New Roman"/>
                </a:rPr>
                <a:t>v </a:t>
              </a: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it-IT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it-IT" sz="28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it-IT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an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{</a:t>
              </a:r>
              <a:r>
                <a:rPr b="0" i="1" lang="it-IT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0" i="1" lang="it-IT" sz="2800" spc="-1" strike="noStrike">
                  <a:solidFill>
                    <a:srgbClr val="000000"/>
                  </a:solidFill>
                  <a:latin typeface="Times New Roman"/>
                </a:rPr>
                <a:t>dv/d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i="1" lang="it-IT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0" lang="it-IT" sz="28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i="1" lang="it-IT" sz="28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0400" y="208440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.g.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44680" y="2652480"/>
            <a:ext cx="7837200" cy="3247560"/>
            <a:chOff x="544680" y="2652480"/>
            <a:chExt cx="7837200" cy="3247560"/>
          </a:xfrm>
        </p:grpSpPr>
        <p:grpSp>
          <p:nvGrpSpPr>
            <p:cNvPr id="220" name=""/>
            <p:cNvGrpSpPr/>
            <p:nvPr/>
          </p:nvGrpSpPr>
          <p:grpSpPr>
            <a:xfrm>
              <a:off x="544680" y="3352680"/>
              <a:ext cx="5173200" cy="2547360"/>
              <a:chOff x="544680" y="3352680"/>
              <a:chExt cx="5173200" cy="2547360"/>
            </a:xfrm>
          </p:grpSpPr>
          <p:sp>
            <p:nvSpPr>
              <p:cNvPr id="221" name=""/>
              <p:cNvSpPr/>
              <p:nvPr/>
            </p:nvSpPr>
            <p:spPr>
              <a:xfrm>
                <a:off x="544680" y="5562720"/>
                <a:ext cx="517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nknown parameters: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amplitude,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position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,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spreading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84280" y="3352680"/>
                    <a:ext cx="1785960" cy="38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23" name=""/>
              <p:cNvGrpSpPr/>
              <p:nvPr/>
            </p:nvGrpSpPr>
            <p:grpSpPr>
              <a:xfrm>
                <a:off x="1447920" y="3809520"/>
                <a:ext cx="3414600" cy="1600200"/>
                <a:chOff x="1447920" y="3809520"/>
                <a:chExt cx="3414600" cy="16002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24" name=""/>
                    <p:cNvSpPr txBox="1"/>
                    <p:nvPr/>
                  </p:nvSpPr>
                  <p:spPr>
                    <a:xfrm>
                      <a:off x="4648320" y="4614840"/>
                      <a:ext cx="214200" cy="262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v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225" name=""/>
                <p:cNvSpPr/>
                <p:nvPr/>
              </p:nvSpPr>
              <p:spPr>
                <a:xfrm flipV="1">
                  <a:off x="1447920" y="3809520"/>
                  <a:ext cx="0" cy="160020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47920" y="4724280"/>
                  <a:ext cx="312408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47920" y="3903480"/>
                  <a:ext cx="2724120" cy="820800"/>
                </a:xfrm>
                <a:custGeom>
                  <a:avLst/>
                  <a:gdLst/>
                  <a:ahLst/>
                  <a:rect l="l" t="t" r="r" b="b"/>
                  <a:pathLst>
                    <a:path w="1716" h="517">
                      <a:moveTo>
                        <a:pt x="0" y="517"/>
                      </a:moveTo>
                      <a:lnTo>
                        <a:pt x="254" y="517"/>
                      </a:lnTo>
                      <a:cubicBezTo>
                        <a:pt x="370" y="442"/>
                        <a:pt x="582" y="128"/>
                        <a:pt x="698" y="64"/>
                      </a:cubicBezTo>
                      <a:cubicBezTo>
                        <a:pt x="814" y="0"/>
                        <a:pt x="873" y="87"/>
                        <a:pt x="948" y="136"/>
                      </a:cubicBezTo>
                      <a:lnTo>
                        <a:pt x="1152" y="358"/>
                      </a:lnTo>
                      <a:cubicBezTo>
                        <a:pt x="1213" y="405"/>
                        <a:pt x="1220" y="408"/>
                        <a:pt x="1314" y="418"/>
                      </a:cubicBezTo>
                      <a:lnTo>
                        <a:pt x="1716" y="418"/>
                      </a:ln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447920" y="4081320"/>
                  <a:ext cx="1714320" cy="696960"/>
                </a:xfrm>
                <a:custGeom>
                  <a:avLst/>
                  <a:gdLst/>
                  <a:ahLst/>
                  <a:rect l="l" t="t" r="r" b="b"/>
                  <a:pathLst>
                    <a:path w="1080" h="439">
                      <a:moveTo>
                        <a:pt x="0" y="439"/>
                      </a:moveTo>
                      <a:lnTo>
                        <a:pt x="240" y="438"/>
                      </a:lnTo>
                      <a:cubicBezTo>
                        <a:pt x="300" y="424"/>
                        <a:pt x="296" y="416"/>
                        <a:pt x="358" y="354"/>
                      </a:cubicBezTo>
                      <a:lnTo>
                        <a:pt x="612" y="66"/>
                      </a:lnTo>
                      <a:cubicBezTo>
                        <a:pt x="677" y="7"/>
                        <a:pt x="672" y="11"/>
                        <a:pt x="750" y="0"/>
                      </a:cubicBezTo>
                      <a:lnTo>
                        <a:pt x="1080" y="0"/>
                      </a:lnTo>
                      <a:lnTo>
                        <a:pt x="894" y="0"/>
                      </a:lnTo>
                    </a:path>
                  </a:pathLst>
                </a:custGeom>
                <a:noFill/>
                <a:ln w="381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233440" y="4776840"/>
                  <a:ext cx="1710000" cy="476280"/>
                </a:xfrm>
                <a:custGeom>
                  <a:avLst/>
                  <a:gdLst/>
                  <a:ahLst/>
                  <a:rect l="l" t="t" r="r" b="b"/>
                  <a:pathLst>
                    <a:path w="1077" h="300">
                      <a:moveTo>
                        <a:pt x="0" y="0"/>
                      </a:moveTo>
                      <a:lnTo>
                        <a:pt x="240" y="1"/>
                      </a:lnTo>
                      <a:cubicBezTo>
                        <a:pt x="300" y="10"/>
                        <a:pt x="296" y="16"/>
                        <a:pt x="358" y="58"/>
                      </a:cubicBezTo>
                      <a:lnTo>
                        <a:pt x="612" y="254"/>
                      </a:lnTo>
                      <a:cubicBezTo>
                        <a:pt x="677" y="295"/>
                        <a:pt x="706" y="291"/>
                        <a:pt x="750" y="299"/>
                      </a:cubicBezTo>
                      <a:lnTo>
                        <a:pt x="879" y="300"/>
                      </a:lnTo>
                      <a:lnTo>
                        <a:pt x="1077" y="300"/>
                      </a:lnTo>
                    </a:path>
                  </a:pathLst>
                </a:custGeom>
                <a:noFill/>
                <a:ln w="38160">
                  <a:solidFill>
                    <a:srgbClr val="00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212560" y="4259160"/>
                  <a:ext cx="42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99ff"/>
                      </a:solidFill>
                      <a:latin typeface="Arial"/>
                    </a:rPr>
                    <a:t>(1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998440" y="4773600"/>
                  <a:ext cx="42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99ff"/>
                      </a:solidFill>
                      <a:latin typeface="Arial"/>
                    </a:rPr>
                    <a:t>(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 rot="16200000">
              <a:off x="3771720" y="1547280"/>
              <a:ext cx="228600" cy="2438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640"/>
                <a:gd name="textAreaBottom" fmla="*/ 2375280 h 243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6895800" y="1395000"/>
              <a:ext cx="228600" cy="2743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60480" y="283536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Arial"/>
                </a:rPr>
                <a:t>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4560" y="28195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ff"/>
                  </a:solidFill>
                  <a:latin typeface="Arial"/>
                </a:rPr>
                <a:t>(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907-7CAC-4D08-8817-6B28EF769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: implementat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6781680" cy="627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0" i="1" lang="it-IT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n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n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v/d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36400" y="1981080"/>
            <a:ext cx="6717240" cy="2650320"/>
            <a:chOff x="1436400" y="1981080"/>
            <a:chExt cx="6717240" cy="2650320"/>
          </a:xfrm>
        </p:grpSpPr>
        <p:grpSp>
          <p:nvGrpSpPr>
            <p:cNvPr id="239" name=""/>
            <p:cNvGrpSpPr/>
            <p:nvPr/>
          </p:nvGrpSpPr>
          <p:grpSpPr>
            <a:xfrm>
              <a:off x="1436400" y="2514600"/>
              <a:ext cx="6717240" cy="2116800"/>
              <a:chOff x="1436400" y="2514600"/>
              <a:chExt cx="6717240" cy="211680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858000" y="3521160"/>
                <a:ext cx="838080" cy="685800"/>
                <a:chOff x="6858000" y="3521160"/>
                <a:chExt cx="838080" cy="6858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858000" y="3521160"/>
                  <a:ext cx="838080" cy="685800"/>
                </a:xfrm>
                <a:prstGeom prst="rect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Courier New"/>
                    </a:rPr>
                    <a:t>F.ci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3960" y="39020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933960" y="39783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933960" y="40546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1998360" y="3124080"/>
                <a:ext cx="3570120" cy="1507320"/>
                <a:chOff x="1998360" y="3124080"/>
                <a:chExt cx="3570120" cy="1507320"/>
              </a:xfrm>
            </p:grpSpPr>
            <p:pic>
              <p:nvPicPr>
                <p:cNvPr id="24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3560" y="3436560"/>
                  <a:ext cx="2971800" cy="84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3422520" y="365724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14200" y="4190760"/>
                  <a:ext cx="608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583880" y="4190760"/>
                  <a:ext cx="608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75080" y="365724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36680" y="312408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98360" y="3657240"/>
                  <a:ext cx="293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20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1436400" y="2514600"/>
                <a:ext cx="671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66ff"/>
                    </a:solidFill>
                    <a:latin typeface="Arial"/>
                  </a:rPr>
                  <a:t>(a)</a:t>
                </a:r>
                <a:r>
                  <a:rPr b="1" lang="it-IT" sz="1800" spc="-1" strike="noStrike">
                    <a:solidFill>
                      <a:srgbClr val="0066ff"/>
                    </a:solidFill>
                    <a:latin typeface="Arial"/>
                  </a:rPr>
                  <a:t> CIRCUIT INTERPRETATION &amp; SPICE IMPLEMEN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51520" y="3657600"/>
                <a:ext cx="426960" cy="380880"/>
              </a:xfrm>
              <a:prstGeom prst="rightArrow">
                <a:avLst>
                  <a:gd name="adj1" fmla="val 50000"/>
                  <a:gd name="adj2" fmla="val 28025"/>
                </a:avLst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rot="16200000">
              <a:off x="3200040" y="838080"/>
              <a:ext cx="152640" cy="2438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6324480" y="685800"/>
              <a:ext cx="152640" cy="27432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0200" y="20574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4280" y="20574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436760" y="4816440"/>
            <a:ext cx="6580080" cy="1663200"/>
            <a:chOff x="1436760" y="4816440"/>
            <a:chExt cx="6580080" cy="1663200"/>
          </a:xfrm>
        </p:grpSpPr>
        <p:sp>
          <p:nvSpPr>
            <p:cNvPr id="260" name=""/>
            <p:cNvSpPr/>
            <p:nvPr/>
          </p:nvSpPr>
          <p:spPr>
            <a:xfrm>
              <a:off x="1436760" y="4816440"/>
              <a:ext cx="6580080" cy="1663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3960" indent="-453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66ff"/>
                  </a:solidFill>
                  <a:latin typeface="Arial"/>
                </a:rPr>
                <a:t>(b)</a:t>
              </a:r>
              <a:r>
                <a:rPr b="1" lang="it-IT" sz="1800" spc="-1" strike="noStrike">
                  <a:solidFill>
                    <a:srgbClr val="0066ff"/>
                  </a:solidFill>
                  <a:latin typeface="Arial"/>
                </a:rPr>
                <a:t> DIRECT EQUATION DESCRIPTION/IMPLEMENTATIO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3960" indent="-45396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VHDL-AMS and IBIS Multilingual Extension</a:t>
              </a:r>
              <a:r>
                <a:rPr b="1" lang="it-IT" sz="1800" spc="-1" strike="noStrike">
                  <a:solidFill>
                    <a:srgbClr val="0066ff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3960" indent="-45396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or                       ICX Ver. 3.2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3960" indent="-453960"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427120" y="5638680"/>
            <a:ext cx="1371600" cy="505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27120" y="5638680"/>
                      <a:ext cx="1371600" cy="5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A58-4310-4855-B721-C7961129C2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19320" y="984240"/>
            <a:ext cx="5410080" cy="5305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IBIS Ver]      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File name]   driver_test.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File Rev]     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Date]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28/01/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|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Component]    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Manufacturer]  Pol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Package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Pin]  signal_name   model_name    R_pin    L_pin       C_p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    vout          MODEL_PAR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|*****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[Model]  MODEL_P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el_type      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larity         Non-Inve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[External Mod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anguage  VHDL-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| corner_name     file_name         circuit_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Corner  Typ       driverX.vhd      driverX(bufferbeha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|       d_control  a_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orts   D_control  A_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[End External Mod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60240" y="3045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BIS Multilingual Extension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12080" y="1074600"/>
            <a:ext cx="223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river_test.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08920" y="4343400"/>
            <a:ext cx="2209680" cy="1554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e example syntax details differ slightly from the approved IBIS Version 4.1 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280120" y="2895480"/>
            <a:ext cx="3886200" cy="2210040"/>
            <a:chOff x="5280120" y="2895480"/>
            <a:chExt cx="3886200" cy="2210040"/>
          </a:xfrm>
        </p:grpSpPr>
        <p:grpSp>
          <p:nvGrpSpPr>
            <p:cNvPr id="268" name=""/>
            <p:cNvGrpSpPr/>
            <p:nvPr/>
          </p:nvGrpSpPr>
          <p:grpSpPr>
            <a:xfrm>
              <a:off x="6118560" y="2895480"/>
              <a:ext cx="3047760" cy="1219320"/>
              <a:chOff x="6118560" y="2895480"/>
              <a:chExt cx="3047760" cy="1219320"/>
            </a:xfrm>
          </p:grpSpPr>
          <p:sp>
            <p:nvSpPr>
              <p:cNvPr id="269" name=""/>
              <p:cNvSpPr/>
              <p:nvPr/>
            </p:nvSpPr>
            <p:spPr>
              <a:xfrm>
                <a:off x="6118560" y="2895480"/>
                <a:ext cx="3047760" cy="1219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6121440" y="3048120"/>
                <a:ext cx="2918160" cy="914400"/>
                <a:chOff x="6121440" y="3048120"/>
                <a:chExt cx="2918160" cy="914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792840" y="3505320"/>
                  <a:ext cx="175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sm" type="oval" w="sm"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21440" y="3048120"/>
                  <a:ext cx="1125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D</a:t>
                  </a:r>
                  <a:r>
                    <a:rPr b="1" lang="en-GB" sz="1600" spc="-1" strike="noStrike">
                      <a:solidFill>
                        <a:srgbClr val="ff0000"/>
                      </a:solidFill>
                      <a:latin typeface="Arial"/>
                    </a:rPr>
                    <a:t>_contro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014680" y="3048120"/>
                  <a:ext cx="102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A</a:t>
                  </a:r>
                  <a:r>
                    <a:rPr b="1" lang="en-GB" sz="1600" spc="-1" strike="noStrike">
                      <a:solidFill>
                        <a:srgbClr val="ff0000"/>
                      </a:solidFill>
                      <a:latin typeface="Arial"/>
                    </a:rPr>
                    <a:t>_</a:t>
                  </a: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sig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5400000">
                  <a:off x="7249320" y="3124440"/>
                  <a:ext cx="914400" cy="761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5280120" y="4114800"/>
              <a:ext cx="1600200" cy="990720"/>
            </a:xfrm>
            <a:custGeom>
              <a:avLst/>
              <a:gdLst/>
              <a:ahLst/>
              <a:rect l="l" t="t" r="r" b="b"/>
              <a:pathLst>
                <a:path w="1392" h="624">
                  <a:moveTo>
                    <a:pt x="1392" y="0"/>
                  </a:moveTo>
                  <a:lnTo>
                    <a:pt x="1392" y="624"/>
                  </a:lnTo>
                  <a:lnTo>
                    <a:pt x="0" y="6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9EB-FB46-4160-9DB6-73AD44333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HDL-AMS Model Implementation (i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8080" y="3946680"/>
            <a:ext cx="1676520" cy="1904760"/>
            <a:chOff x="838080" y="3946680"/>
            <a:chExt cx="1676520" cy="1904760"/>
          </a:xfrm>
        </p:grpSpPr>
        <p:sp>
          <p:nvSpPr>
            <p:cNvPr id="278" name=""/>
            <p:cNvSpPr/>
            <p:nvPr/>
          </p:nvSpPr>
          <p:spPr>
            <a:xfrm>
              <a:off x="838080" y="441972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Digit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to analog conve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2320" y="3946680"/>
              <a:ext cx="152280" cy="1904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590920" y="990720"/>
            <a:ext cx="4800600" cy="5337360"/>
            <a:chOff x="2590920" y="990720"/>
            <a:chExt cx="4800600" cy="5337360"/>
          </a:xfrm>
        </p:grpSpPr>
        <p:sp>
          <p:nvSpPr>
            <p:cNvPr id="281" name=""/>
            <p:cNvSpPr/>
            <p:nvPr/>
          </p:nvSpPr>
          <p:spPr>
            <a:xfrm>
              <a:off x="2590920" y="990720"/>
              <a:ext cx="4800600" cy="53373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tity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riverX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ic 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s: real :=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d_control : in std_logic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terminal a_signal : electrica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d entity driverX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"/>
                </a:rPr>
                <a:t>architecture bufferbehav of driverX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99ff"/>
                  </a:solidFill>
                  <a:latin typeface="Arial"/>
                </a:rPr>
                <a:t>quantity Vu_ref across i through a_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99ff"/>
                  </a:solidFill>
                  <a:latin typeface="Arial"/>
                </a:rPr>
                <a:t>to Electrical_ref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-- w1_01 low to high 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stant w1_01 : real_vector :=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InputBITSTR: process (d_contro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begin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if (d_control'event and d_control = '0')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flag &lt;= 10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trans_inst &lt;= now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elsif (d_control'event and d_control = '1')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flag &lt;= 01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trans_inst &lt;= now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end if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339933"/>
                  </a:solidFill>
                  <a:latin typeface="Arial"/>
                </a:rPr>
                <a:t>end process InputBITSTR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400" y="1065240"/>
              <a:ext cx="1828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urier New"/>
                </a:rPr>
                <a:t>driverX.v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37360" y="5873760"/>
              <a:ext cx="198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46E2-6E1B-4B91-AFD1-6E5F5F755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3:40:16Z</dcterms:created>
  <dc:creator>DELEN</dc:creator>
  <dc:description/>
  <dc:language>en-US</dc:language>
  <cp:lastModifiedBy>stievano</cp:lastModifiedBy>
  <dcterms:modified xsi:type="dcterms:W3CDTF">2004-02-12T15:40:47Z</dcterms:modified>
  <cp:revision>442</cp:revision>
  <dc:subject/>
  <dc:title>Title of the presentation </dc:title>
</cp:coreProperties>
</file>