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5212-A5E6-4E05-891F-0FA09F3FD8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ncluding reduction techniques in the early design phases and simulating the parasitic emission before fabrication, as suggested by low emission design methodologies, requires efficient IC models and adequate to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odels related to EMC start to appear, as well as specific tools to handle the EMC behaviour of the 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817884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200"/>
            <a:ext cx="817884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13184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20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77820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2633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131840"/>
            <a:ext cx="2633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131840"/>
            <a:ext cx="2633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200"/>
            <a:ext cx="2633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778200"/>
            <a:ext cx="2633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778200"/>
            <a:ext cx="2633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93BDF-4526-431D-B60B-074C0B04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131840"/>
            <a:ext cx="81788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7D737-91A2-4BCC-9B65-C5CF6D1F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817884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51747-6AEC-4289-B57C-48C1452B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399096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131840"/>
            <a:ext cx="399096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661FC-8C6C-400B-A02E-7E736255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E5BE9-7AC5-4A7B-82C7-FFD786D2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F99B2-EACD-496D-98DA-4B39EA6C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131840"/>
            <a:ext cx="399096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7820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CB7E6-C587-41DB-B1BF-CDF40F95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131840"/>
            <a:ext cx="817884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399096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600" y="113184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47600" y="377820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76CD3-FEF3-412F-86CF-EE173D25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13184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778200"/>
            <a:ext cx="817884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231E4-14E3-46E5-BA55-6522B8BE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817884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840" y="3778200"/>
            <a:ext cx="817884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BB765-DAE6-4511-BF27-882F1E72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600" y="113184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77820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47600" y="377820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C36B3-3F2F-4294-A59F-98597BC5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2633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22360" y="1131840"/>
            <a:ext cx="2633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7880" y="1131840"/>
            <a:ext cx="2633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6840" y="3778200"/>
            <a:ext cx="2633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22360" y="3778200"/>
            <a:ext cx="2633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7880" y="3778200"/>
            <a:ext cx="2633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BF5ED-17B3-431A-8D70-0192F26C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817884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399096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131840"/>
            <a:ext cx="399096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131840"/>
            <a:ext cx="399096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20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399096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13184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77820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3184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131840"/>
            <a:ext cx="39909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200"/>
            <a:ext cx="817884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5.wmf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131840"/>
            <a:ext cx="817884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94920" y="6286680"/>
            <a:ext cx="31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February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17840" y="6352920"/>
            <a:ext cx="385128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DATE Ibis Summit, DIV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914400" y="81612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19040" y="6248520"/>
            <a:ext cx="8229600" cy="152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123400" y="6438960"/>
            <a:ext cx="62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317D-B150-4FE2-9A0A-B068D6C696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571760" cy="8967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671840" y="228600"/>
            <a:ext cx="5862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System Dependability and Compatibility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Z’EMC att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924680" y="152280"/>
            <a:ext cx="993960" cy="6746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711360" y="6291000"/>
            <a:ext cx="19303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620D-AEFE-4F78-B6C5-05A9B7BEFE02}" type="slidenum">
              <a:rPr b="0" lang="fr-F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038240"/>
            <a:ext cx="8864640" cy="34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6762600" y="0"/>
          <a:ext cx="2381400" cy="9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2600" y="0"/>
                    <a:ext cx="238140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41120" y="19080"/>
          <a:ext cx="2016360" cy="1066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120" y="19080"/>
                    <a:ext cx="20163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279360" y="2351160"/>
            <a:ext cx="8864640" cy="25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inspice.com/" TargetMode="External"/><Relationship Id="rId2" Type="http://schemas.openxmlformats.org/officeDocument/2006/relationships/hyperlink" Target="http://www.winspice.com/" TargetMode="External"/><Relationship Id="rId3" Type="http://schemas.openxmlformats.org/officeDocument/2006/relationships/hyperlink" Target="http://www.winspice.com/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c-emc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1828800"/>
            <a:ext cx="762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C-E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paring Simulated/Measured IC Emission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96320" y="3581280"/>
            <a:ext cx="624636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ienne SICARD, Amaury SOUBEY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etienne.sicard@insa-tlse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amaury.soubeyran@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http://www.ic-emc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106668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afd"/>
                </a:solidFill>
                <a:latin typeface="Arial"/>
              </a:rPr>
              <a:t>3.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3680" y="1752480"/>
            <a:ext cx="72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nalog simulator: PC Spice freeware from </a:t>
            </a:r>
            <a:r>
              <a:rPr b="0" lang="en-GB" sz="20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www.</a:t>
            </a:r>
            <a:r>
              <a:rPr b="0" lang="en-GB" sz="20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winspice</a:t>
            </a:r>
            <a:r>
              <a:rPr b="0" lang="en-GB" sz="20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.com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2895480" y="2360520"/>
          <a:ext cx="5126040" cy="384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2360520"/>
                    <a:ext cx="512604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52280" y="2286000"/>
            <a:ext cx="281952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imple, free PC t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upport from Mike Sm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imple clear man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cript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ccess to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imple TRAN, AC, DC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3399"/>
                </a:solidFill>
                <a:latin typeface="Arial"/>
              </a:rPr>
              <a:t>… </a:t>
            </a:r>
            <a:r>
              <a:rPr b="0" i="1" lang="en-GB" sz="1800" spc="-1" strike="noStrike">
                <a:solidFill>
                  <a:srgbClr val="003399"/>
                </a:solidFill>
                <a:latin typeface="Arial"/>
              </a:rPr>
              <a:t>Poor F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106668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afd"/>
                </a:solidFill>
                <a:latin typeface="Arial"/>
              </a:rPr>
              <a:t>3.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4400" y="1752480"/>
            <a:ext cx="38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dB vs frequency post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2286000"/>
            <a:ext cx="281952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g/Log, 10MHz-10GH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Based on WinSpice tex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ccess to FFT parameters, scale, l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an add 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an save in simple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5800680" cy="417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28600" y="17524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 library of EMC/IC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106668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afd"/>
                </a:solidFill>
                <a:latin typeface="Arial"/>
              </a:rPr>
              <a:t>4. Adde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1752480" cy="13496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3962520" y="4267080"/>
            <a:ext cx="1965240" cy="12225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7010280" y="3962520"/>
            <a:ext cx="1114560" cy="11332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4038480" y="373392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3399"/>
                </a:solidFill>
                <a:latin typeface="Arial"/>
              </a:rPr>
              <a:t>Tem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62520" y="54864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3399"/>
                </a:solidFill>
                <a:latin typeface="Arial"/>
              </a:rPr>
              <a:t>GTem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81680" y="52578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3399"/>
                </a:solidFill>
                <a:latin typeface="Arial"/>
              </a:rPr>
              <a:t>PCB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33520" y="2590920"/>
          <a:ext cx="3200400" cy="317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2590920"/>
                    <a:ext cx="3200400" cy="31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6629400" y="2057400"/>
          <a:ext cx="1300320" cy="1895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29400" y="2057400"/>
                    <a:ext cx="1300320" cy="18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04920" y="17524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 data base of measured emission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106668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afd"/>
                </a:solidFill>
                <a:latin typeface="Arial"/>
              </a:rPr>
              <a:t>4. Adde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5190840" cy="37321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04920" y="2666880"/>
            <a:ext cx="3124080" cy="15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16 bit micro-control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32 bit micro-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0.18µm CMOS Test-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4876920"/>
            <a:ext cx="32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Full SPICE model given for immediate comparison with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106668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afd"/>
                </a:solidFill>
                <a:latin typeface="Arial"/>
              </a:rPr>
              <a:t>4. Adde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7720" y="1828800"/>
            <a:ext cx="68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 convenient way to investigate </a:t>
            </a:r>
            <a:r>
              <a:rPr b="0" i="1" lang="en-GB" sz="2000" spc="-1" strike="noStrike">
                <a:solidFill>
                  <a:srgbClr val="003399"/>
                </a:solidFill>
                <a:latin typeface="Arial"/>
              </a:rPr>
              <a:t>what if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impact on e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733920" y="2438280"/>
          <a:ext cx="3271680" cy="18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438280"/>
                    <a:ext cx="327168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3733920" y="4419720"/>
          <a:ext cx="3348000" cy="18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4419720"/>
                    <a:ext cx="334800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304920" y="2666880"/>
            <a:ext cx="3581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16 bit micro-controller, core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4800600"/>
            <a:ext cx="31244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16 bit micro-controller, core and active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106668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afd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4920" y="1828800"/>
            <a:ext cx="8458200" cy="35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60000"/>
              </a:lnSpc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n environment for simple emission simulation has been develo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The schematic editor interfaces with WinSp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 post processor has been setup for easy comparison between measured and simulated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 library of models and measurements is avail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The package is online at </a:t>
            </a:r>
            <a:r>
              <a:rPr b="0" lang="en-GB" sz="20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www.ic-emc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Demos at DATE’04, EmcCompo 04, IEEE EMC 2004 St Cl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1246320"/>
            <a:ext cx="8534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able of 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Tahoma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Tahoma"/>
              </a:rPr>
              <a:t>What is IC-E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Tahoma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Tahoma"/>
              </a:rPr>
              <a:t>Added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Tahom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5410440" cy="3814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98080" y="2057400"/>
            <a:ext cx="281556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b Micro-controler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68960" y="3114720"/>
            <a:ext cx="1868400" cy="1903320"/>
          </a:xfrm>
          <a:prstGeom prst="ellipse">
            <a:avLst/>
          </a:prstGeom>
          <a:noFill/>
          <a:ln w="93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29280" y="2978280"/>
            <a:ext cx="2145960" cy="2176200"/>
          </a:xfrm>
          <a:prstGeom prst="ellipse">
            <a:avLst/>
          </a:prstGeom>
          <a:noFill/>
          <a:ln w="93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22640" y="2774880"/>
            <a:ext cx="2490840" cy="2514600"/>
          </a:xfrm>
          <a:prstGeom prst="ellipse">
            <a:avLst/>
          </a:prstGeom>
          <a:noFill/>
          <a:ln w="93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1143000"/>
            <a:ext cx="6553080" cy="5867280"/>
          </a:xfrm>
          <a:prstGeom prst="ellipse">
            <a:avLst/>
          </a:prstGeom>
          <a:noFill/>
          <a:ln w="93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97180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nterfere with Mo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0.9,1.8,1.9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 rot="1509000">
            <a:off x="2057400" y="2819520"/>
            <a:ext cx="2514600" cy="533160"/>
          </a:xfrm>
          <a:prstGeom prst="leftArrow">
            <a:avLst>
              <a:gd name="adj1" fmla="val 50000"/>
              <a:gd name="adj2" fmla="val 11791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3808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1. Context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5080" y="1447920"/>
            <a:ext cx="530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More Complex Embedded electronic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010360" y="4495680"/>
            <a:ext cx="735120" cy="482760"/>
            <a:chOff x="8010360" y="4495680"/>
            <a:chExt cx="735120" cy="48276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8013600" y="4500720"/>
              <a:ext cx="723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8010360" y="4495680"/>
              <a:ext cx="735120" cy="482760"/>
            </a:xfrm>
            <a:prstGeom prst="rect">
              <a:avLst/>
            </a:prstGeom>
            <a:noFill/>
            <a:ln w="93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76520" y="3048120"/>
            <a:ext cx="527040" cy="822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334120" y="2590920"/>
            <a:ext cx="982440" cy="653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514600" y="5105520"/>
            <a:ext cx="878040" cy="844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3505320" y="5105520"/>
            <a:ext cx="482400" cy="72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4952880" y="3809880"/>
          <a:ext cx="381240" cy="32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3809880"/>
                    <a:ext cx="381240" cy="3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609480" y="51814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nterfere with Compu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2.5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5105520"/>
            <a:ext cx="18288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nterfere with AB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1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1905120"/>
            <a:ext cx="16765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nterfere with Airba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1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03680" y="3164040"/>
            <a:ext cx="3778200" cy="1182600"/>
          </a:xfrm>
          <a:custGeom>
            <a:avLst/>
            <a:gdLst/>
            <a:ahLst/>
            <a:rect l="l" t="t" r="r" b="b"/>
            <a:pathLst>
              <a:path w="2380" h="745">
                <a:moveTo>
                  <a:pt x="9" y="436"/>
                </a:moveTo>
                <a:cubicBezTo>
                  <a:pt x="21" y="472"/>
                  <a:pt x="0" y="536"/>
                  <a:pt x="45" y="536"/>
                </a:cubicBezTo>
                <a:cubicBezTo>
                  <a:pt x="71" y="541"/>
                  <a:pt x="100" y="540"/>
                  <a:pt x="124" y="551"/>
                </a:cubicBezTo>
                <a:cubicBezTo>
                  <a:pt x="143" y="560"/>
                  <a:pt x="150" y="584"/>
                  <a:pt x="163" y="600"/>
                </a:cubicBezTo>
                <a:cubicBezTo>
                  <a:pt x="199" y="646"/>
                  <a:pt x="237" y="692"/>
                  <a:pt x="263" y="745"/>
                </a:cubicBezTo>
                <a:lnTo>
                  <a:pt x="1612" y="743"/>
                </a:lnTo>
                <a:cubicBezTo>
                  <a:pt x="1628" y="727"/>
                  <a:pt x="1646" y="713"/>
                  <a:pt x="1660" y="695"/>
                </a:cubicBezTo>
                <a:cubicBezTo>
                  <a:pt x="1697" y="648"/>
                  <a:pt x="1669" y="667"/>
                  <a:pt x="1690" y="627"/>
                </a:cubicBezTo>
                <a:cubicBezTo>
                  <a:pt x="1716" y="576"/>
                  <a:pt x="1765" y="549"/>
                  <a:pt x="1818" y="536"/>
                </a:cubicBezTo>
                <a:cubicBezTo>
                  <a:pt x="1895" y="485"/>
                  <a:pt x="1977" y="527"/>
                  <a:pt x="2072" y="527"/>
                </a:cubicBezTo>
                <a:lnTo>
                  <a:pt x="2380" y="503"/>
                </a:lnTo>
                <a:lnTo>
                  <a:pt x="2332" y="407"/>
                </a:lnTo>
                <a:cubicBezTo>
                  <a:pt x="2103" y="292"/>
                  <a:pt x="2192" y="325"/>
                  <a:pt x="1999" y="309"/>
                </a:cubicBezTo>
                <a:cubicBezTo>
                  <a:pt x="1979" y="247"/>
                  <a:pt x="1964" y="123"/>
                  <a:pt x="1990" y="63"/>
                </a:cubicBezTo>
                <a:cubicBezTo>
                  <a:pt x="1996" y="49"/>
                  <a:pt x="2021" y="57"/>
                  <a:pt x="2036" y="54"/>
                </a:cubicBezTo>
                <a:cubicBezTo>
                  <a:pt x="2060" y="49"/>
                  <a:pt x="2136" y="31"/>
                  <a:pt x="2136" y="0"/>
                </a:cubicBezTo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79920" y="3870360"/>
            <a:ext cx="966600" cy="260280"/>
          </a:xfrm>
          <a:custGeom>
            <a:avLst/>
            <a:gdLst/>
            <a:ahLst/>
            <a:rect l="l" t="t" r="r" b="b"/>
            <a:pathLst>
              <a:path w="609" h="164">
                <a:moveTo>
                  <a:pt x="609" y="0"/>
                </a:moveTo>
                <a:cubicBezTo>
                  <a:pt x="512" y="6"/>
                  <a:pt x="424" y="19"/>
                  <a:pt x="327" y="27"/>
                </a:cubicBezTo>
                <a:cubicBezTo>
                  <a:pt x="318" y="30"/>
                  <a:pt x="308" y="31"/>
                  <a:pt x="300" y="36"/>
                </a:cubicBezTo>
                <a:cubicBezTo>
                  <a:pt x="293" y="41"/>
                  <a:pt x="290" y="51"/>
                  <a:pt x="282" y="55"/>
                </a:cubicBezTo>
                <a:cubicBezTo>
                  <a:pt x="265" y="64"/>
                  <a:pt x="245" y="67"/>
                  <a:pt x="227" y="73"/>
                </a:cubicBezTo>
                <a:cubicBezTo>
                  <a:pt x="151" y="124"/>
                  <a:pt x="246" y="55"/>
                  <a:pt x="182" y="118"/>
                </a:cubicBezTo>
                <a:cubicBezTo>
                  <a:pt x="135" y="164"/>
                  <a:pt x="59" y="164"/>
                  <a:pt x="0" y="164"/>
                </a:cubicBezTo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03600" y="3220920"/>
            <a:ext cx="735120" cy="677880"/>
          </a:xfrm>
          <a:custGeom>
            <a:avLst/>
            <a:gdLst/>
            <a:ahLst/>
            <a:rect l="l" t="t" r="r" b="b"/>
            <a:pathLst>
              <a:path w="463" h="427">
                <a:moveTo>
                  <a:pt x="81" y="427"/>
                </a:moveTo>
                <a:cubicBezTo>
                  <a:pt x="90" y="393"/>
                  <a:pt x="93" y="371"/>
                  <a:pt x="117" y="345"/>
                </a:cubicBezTo>
                <a:cubicBezTo>
                  <a:pt x="124" y="323"/>
                  <a:pt x="137" y="309"/>
                  <a:pt x="108" y="291"/>
                </a:cubicBezTo>
                <a:cubicBezTo>
                  <a:pt x="92" y="281"/>
                  <a:pt x="72" y="279"/>
                  <a:pt x="54" y="273"/>
                </a:cubicBezTo>
                <a:cubicBezTo>
                  <a:pt x="45" y="270"/>
                  <a:pt x="26" y="264"/>
                  <a:pt x="26" y="264"/>
                </a:cubicBezTo>
                <a:cubicBezTo>
                  <a:pt x="0" y="183"/>
                  <a:pt x="62" y="211"/>
                  <a:pt x="108" y="173"/>
                </a:cubicBezTo>
                <a:cubicBezTo>
                  <a:pt x="184" y="111"/>
                  <a:pt x="269" y="73"/>
                  <a:pt x="363" y="45"/>
                </a:cubicBezTo>
                <a:cubicBezTo>
                  <a:pt x="395" y="24"/>
                  <a:pt x="429" y="16"/>
                  <a:pt x="463" y="0"/>
                </a:cubicBezTo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43440" y="3736800"/>
            <a:ext cx="336600" cy="335160"/>
          </a:xfrm>
          <a:custGeom>
            <a:avLst/>
            <a:gdLst/>
            <a:ahLst/>
            <a:rect l="l" t="t" r="r" b="b"/>
            <a:pathLst>
              <a:path w="212" h="211">
                <a:moveTo>
                  <a:pt x="3" y="211"/>
                </a:moveTo>
                <a:cubicBezTo>
                  <a:pt x="6" y="147"/>
                  <a:pt x="0" y="83"/>
                  <a:pt x="12" y="20"/>
                </a:cubicBezTo>
                <a:cubicBezTo>
                  <a:pt x="12" y="19"/>
                  <a:pt x="63" y="3"/>
                  <a:pt x="85" y="2"/>
                </a:cubicBezTo>
                <a:cubicBezTo>
                  <a:pt x="127" y="0"/>
                  <a:pt x="170" y="2"/>
                  <a:pt x="212" y="2"/>
                </a:cubicBezTo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895480" y="2362320"/>
            <a:ext cx="228600" cy="3200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2362320"/>
            <a:ext cx="228600" cy="3200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81520" y="2362320"/>
            <a:ext cx="152640" cy="3200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2362320"/>
            <a:ext cx="228600" cy="3200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0280" y="2362320"/>
            <a:ext cx="228600" cy="3200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2362320"/>
            <a:ext cx="228600" cy="3200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2390760"/>
            <a:ext cx="228600" cy="3200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0080" y="2362320"/>
            <a:ext cx="152640" cy="3200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08108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afd"/>
                </a:solidFill>
                <a:latin typeface="Arial"/>
              </a:rPr>
              <a:t>1.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5440" y="1676520"/>
            <a:ext cx="49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81afd"/>
                </a:solidFill>
                <a:latin typeface="Arial"/>
                <a:ea typeface="ＭＳ Ｐゴシック"/>
              </a:rPr>
              <a:t>Trend: investigate ever higher frequ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38760" y="5602320"/>
            <a:ext cx="263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77800" y="2349360"/>
            <a:ext cx="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36720" y="2349360"/>
            <a:ext cx="144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92320" y="2349360"/>
            <a:ext cx="144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7440" y="2349360"/>
            <a:ext cx="324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51240" y="2349360"/>
            <a:ext cx="144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5880" y="2349360"/>
            <a:ext cx="180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03600" y="2349360"/>
            <a:ext cx="144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09800" y="2349360"/>
            <a:ext cx="180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16480" y="2349360"/>
            <a:ext cx="144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76840" y="2349360"/>
            <a:ext cx="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29200" y="2349360"/>
            <a:ext cx="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25760" y="2349360"/>
            <a:ext cx="324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89560" y="2349360"/>
            <a:ext cx="324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22760" y="2349360"/>
            <a:ext cx="324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41920" y="2349360"/>
            <a:ext cx="324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46680" y="2349360"/>
            <a:ext cx="144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1960" y="2349360"/>
            <a:ext cx="144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41720" y="2349360"/>
            <a:ext cx="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65080" y="2349360"/>
            <a:ext cx="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1320" y="5578560"/>
            <a:ext cx="22320" cy="32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1320" y="5256360"/>
            <a:ext cx="223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1320" y="4932360"/>
            <a:ext cx="22320" cy="32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41320" y="4610160"/>
            <a:ext cx="22320" cy="32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1320" y="4286160"/>
            <a:ext cx="22320" cy="3240"/>
          </a:xfrm>
          <a:prstGeom prst="line">
            <a:avLst/>
          </a:prstGeom>
          <a:ln w="144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41320" y="3963960"/>
            <a:ext cx="22320" cy="3240"/>
          </a:xfrm>
          <a:prstGeom prst="line">
            <a:avLst/>
          </a:prstGeom>
          <a:ln w="144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865080" y="2349360"/>
            <a:ext cx="7135560" cy="3232440"/>
            <a:chOff x="865080" y="2349360"/>
            <a:chExt cx="7135560" cy="3232440"/>
          </a:xfrm>
        </p:grpSpPr>
        <p:sp>
          <p:nvSpPr>
            <p:cNvPr id="164" name=""/>
            <p:cNvSpPr/>
            <p:nvPr/>
          </p:nvSpPr>
          <p:spPr>
            <a:xfrm>
              <a:off x="865080" y="5256360"/>
              <a:ext cx="7135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65080" y="4932360"/>
              <a:ext cx="713556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5080" y="4610160"/>
              <a:ext cx="713556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65080" y="4286160"/>
              <a:ext cx="7135560" cy="3240"/>
            </a:xfrm>
            <a:prstGeom prst="line">
              <a:avLst/>
            </a:prstGeom>
            <a:ln w="144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65080" y="3963960"/>
              <a:ext cx="7135560" cy="3240"/>
            </a:xfrm>
            <a:prstGeom prst="line">
              <a:avLst/>
            </a:prstGeom>
            <a:ln w="144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5080" y="3639960"/>
              <a:ext cx="7135560" cy="1800"/>
            </a:xfrm>
            <a:prstGeom prst="line">
              <a:avLst/>
            </a:prstGeom>
            <a:ln w="144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65080" y="3317760"/>
              <a:ext cx="7135560" cy="3240"/>
            </a:xfrm>
            <a:prstGeom prst="line">
              <a:avLst/>
            </a:prstGeom>
            <a:ln w="144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65080" y="2992320"/>
              <a:ext cx="713556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65080" y="2671920"/>
              <a:ext cx="713556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5080" y="2349360"/>
              <a:ext cx="71355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5080" y="5578560"/>
              <a:ext cx="713556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V="1">
            <a:off x="865080" y="5578560"/>
            <a:ext cx="0" cy="410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901960" y="5578560"/>
            <a:ext cx="1440" cy="410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941720" y="5578560"/>
            <a:ext cx="0" cy="410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7520" y="5516640"/>
            <a:ext cx="9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5400" y="4869000"/>
            <a:ext cx="1270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6120" y="4870440"/>
            <a:ext cx="18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5400" y="4545000"/>
            <a:ext cx="1270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5400" y="4222800"/>
            <a:ext cx="12708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6120" y="4222800"/>
            <a:ext cx="18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5400" y="3900600"/>
            <a:ext cx="127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5400" y="3576600"/>
            <a:ext cx="12708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6120" y="3576600"/>
            <a:ext cx="18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5400" y="3254400"/>
            <a:ext cx="12708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5400" y="2928960"/>
            <a:ext cx="12708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6120" y="2928960"/>
            <a:ext cx="18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5400" y="2608200"/>
            <a:ext cx="127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286000"/>
            <a:ext cx="168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4000" y="2286000"/>
            <a:ext cx="279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2880" y="5692680"/>
            <a:ext cx="15552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14320" y="5694480"/>
            <a:ext cx="55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10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25640" y="5692680"/>
            <a:ext cx="21132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24200" y="569448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100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36960" y="5694480"/>
            <a:ext cx="42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1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38720" y="5616720"/>
            <a:ext cx="395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40680" y="2471760"/>
            <a:ext cx="51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(dBµ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71680" y="3657600"/>
            <a:ext cx="3429000" cy="1371600"/>
          </a:xfrm>
          <a:custGeom>
            <a:avLst/>
            <a:gdLst/>
            <a:ahLst/>
            <a:rect l="l" t="t" r="r" b="b"/>
            <a:pathLst>
              <a:path w="2160" h="864">
                <a:moveTo>
                  <a:pt x="0" y="144"/>
                </a:moveTo>
                <a:lnTo>
                  <a:pt x="240" y="240"/>
                </a:lnTo>
                <a:lnTo>
                  <a:pt x="384" y="384"/>
                </a:lnTo>
                <a:lnTo>
                  <a:pt x="528" y="192"/>
                </a:lnTo>
                <a:lnTo>
                  <a:pt x="624" y="192"/>
                </a:lnTo>
                <a:lnTo>
                  <a:pt x="672" y="0"/>
                </a:lnTo>
                <a:lnTo>
                  <a:pt x="720" y="0"/>
                </a:lnTo>
                <a:lnTo>
                  <a:pt x="768" y="96"/>
                </a:lnTo>
                <a:lnTo>
                  <a:pt x="816" y="48"/>
                </a:lnTo>
                <a:lnTo>
                  <a:pt x="864" y="96"/>
                </a:lnTo>
                <a:lnTo>
                  <a:pt x="912" y="288"/>
                </a:lnTo>
                <a:lnTo>
                  <a:pt x="960" y="240"/>
                </a:lnTo>
                <a:lnTo>
                  <a:pt x="1008" y="384"/>
                </a:lnTo>
                <a:lnTo>
                  <a:pt x="1056" y="240"/>
                </a:lnTo>
                <a:lnTo>
                  <a:pt x="1152" y="336"/>
                </a:lnTo>
                <a:lnTo>
                  <a:pt x="1200" y="432"/>
                </a:lnTo>
                <a:lnTo>
                  <a:pt x="1248" y="432"/>
                </a:lnTo>
                <a:lnTo>
                  <a:pt x="1344" y="576"/>
                </a:lnTo>
                <a:lnTo>
                  <a:pt x="1392" y="480"/>
                </a:lnTo>
                <a:lnTo>
                  <a:pt x="1440" y="432"/>
                </a:lnTo>
                <a:lnTo>
                  <a:pt x="1488" y="480"/>
                </a:lnTo>
                <a:lnTo>
                  <a:pt x="1536" y="672"/>
                </a:lnTo>
                <a:lnTo>
                  <a:pt x="1632" y="576"/>
                </a:lnTo>
                <a:lnTo>
                  <a:pt x="1680" y="528"/>
                </a:lnTo>
                <a:lnTo>
                  <a:pt x="1728" y="624"/>
                </a:lnTo>
                <a:lnTo>
                  <a:pt x="1776" y="576"/>
                </a:lnTo>
                <a:lnTo>
                  <a:pt x="1824" y="720"/>
                </a:lnTo>
                <a:lnTo>
                  <a:pt x="1872" y="624"/>
                </a:lnTo>
                <a:lnTo>
                  <a:pt x="1920" y="816"/>
                </a:lnTo>
                <a:lnTo>
                  <a:pt x="1968" y="816"/>
                </a:lnTo>
                <a:lnTo>
                  <a:pt x="2016" y="864"/>
                </a:lnTo>
                <a:lnTo>
                  <a:pt x="2064" y="864"/>
                </a:lnTo>
                <a:lnTo>
                  <a:pt x="2160" y="864"/>
                </a:ln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51560" y="2349360"/>
            <a:ext cx="144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11920" y="2349360"/>
            <a:ext cx="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64280" y="2349360"/>
            <a:ext cx="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61200" y="2349360"/>
            <a:ext cx="324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24640" y="2349360"/>
            <a:ext cx="324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57840" y="2349360"/>
            <a:ext cx="324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77000" y="2349360"/>
            <a:ext cx="324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81760" y="2349360"/>
            <a:ext cx="180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77160" y="2349360"/>
            <a:ext cx="0" cy="3229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937040" y="5578560"/>
            <a:ext cx="1800" cy="410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977160" y="5578560"/>
            <a:ext cx="0" cy="410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77320" y="5334120"/>
            <a:ext cx="569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(M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80960" y="571500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10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94560" y="2362320"/>
            <a:ext cx="1800" cy="3228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954920" y="2362320"/>
            <a:ext cx="0" cy="3228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3276720"/>
            <a:ext cx="6453000" cy="1828800"/>
          </a:xfrm>
          <a:custGeom>
            <a:avLst/>
            <a:gdLst/>
            <a:ahLst/>
            <a:rect l="l" t="t" r="r" b="b"/>
            <a:pathLst>
              <a:path w="4065" h="1296">
                <a:moveTo>
                  <a:pt x="0" y="358"/>
                </a:moveTo>
                <a:cubicBezTo>
                  <a:pt x="133" y="369"/>
                  <a:pt x="79" y="366"/>
                  <a:pt x="164" y="394"/>
                </a:cubicBezTo>
                <a:cubicBezTo>
                  <a:pt x="188" y="411"/>
                  <a:pt x="207" y="429"/>
                  <a:pt x="227" y="449"/>
                </a:cubicBezTo>
                <a:lnTo>
                  <a:pt x="369" y="240"/>
                </a:lnTo>
                <a:lnTo>
                  <a:pt x="465" y="336"/>
                </a:lnTo>
                <a:lnTo>
                  <a:pt x="609" y="144"/>
                </a:lnTo>
                <a:lnTo>
                  <a:pt x="705" y="384"/>
                </a:lnTo>
                <a:lnTo>
                  <a:pt x="753" y="48"/>
                </a:lnTo>
                <a:lnTo>
                  <a:pt x="801" y="384"/>
                </a:lnTo>
                <a:lnTo>
                  <a:pt x="849" y="0"/>
                </a:lnTo>
                <a:lnTo>
                  <a:pt x="945" y="384"/>
                </a:lnTo>
                <a:lnTo>
                  <a:pt x="1089" y="48"/>
                </a:lnTo>
                <a:lnTo>
                  <a:pt x="1281" y="336"/>
                </a:lnTo>
                <a:lnTo>
                  <a:pt x="1425" y="96"/>
                </a:lnTo>
                <a:lnTo>
                  <a:pt x="1569" y="288"/>
                </a:lnTo>
                <a:lnTo>
                  <a:pt x="1665" y="192"/>
                </a:lnTo>
                <a:lnTo>
                  <a:pt x="1761" y="384"/>
                </a:lnTo>
                <a:lnTo>
                  <a:pt x="1857" y="336"/>
                </a:lnTo>
                <a:lnTo>
                  <a:pt x="1953" y="576"/>
                </a:lnTo>
                <a:lnTo>
                  <a:pt x="2049" y="480"/>
                </a:lnTo>
                <a:lnTo>
                  <a:pt x="2193" y="720"/>
                </a:lnTo>
                <a:lnTo>
                  <a:pt x="2241" y="672"/>
                </a:lnTo>
                <a:lnTo>
                  <a:pt x="2337" y="816"/>
                </a:lnTo>
                <a:lnTo>
                  <a:pt x="2385" y="768"/>
                </a:lnTo>
                <a:lnTo>
                  <a:pt x="2433" y="912"/>
                </a:lnTo>
                <a:lnTo>
                  <a:pt x="2577" y="1104"/>
                </a:lnTo>
                <a:lnTo>
                  <a:pt x="2721" y="1008"/>
                </a:lnTo>
                <a:lnTo>
                  <a:pt x="2817" y="1104"/>
                </a:lnTo>
                <a:lnTo>
                  <a:pt x="2865" y="1056"/>
                </a:lnTo>
                <a:lnTo>
                  <a:pt x="2961" y="1152"/>
                </a:lnTo>
                <a:lnTo>
                  <a:pt x="3057" y="1152"/>
                </a:lnTo>
                <a:lnTo>
                  <a:pt x="3201" y="1248"/>
                </a:lnTo>
                <a:lnTo>
                  <a:pt x="3297" y="1296"/>
                </a:lnTo>
                <a:lnTo>
                  <a:pt x="3393" y="1248"/>
                </a:lnTo>
                <a:lnTo>
                  <a:pt x="4065" y="12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409720" y="2286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876560" y="2209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4480" y="22096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02520" y="1828800"/>
            <a:ext cx="2931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portant frequency 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943600" y="5638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943600"/>
            <a:ext cx="692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934320" y="5638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5943600"/>
            <a:ext cx="692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952880" y="5638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90760" y="5943600"/>
            <a:ext cx="83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2971800"/>
            <a:ext cx="6118200" cy="1660680"/>
          </a:xfrm>
          <a:custGeom>
            <a:avLst/>
            <a:gdLst/>
            <a:ahLst/>
            <a:rect l="l" t="t" r="r" b="b"/>
            <a:pathLst>
              <a:path w="3854" h="1046">
                <a:moveTo>
                  <a:pt x="0" y="246"/>
                </a:moveTo>
                <a:cubicBezTo>
                  <a:pt x="40" y="233"/>
                  <a:pt x="74" y="197"/>
                  <a:pt x="109" y="173"/>
                </a:cubicBezTo>
                <a:cubicBezTo>
                  <a:pt x="157" y="140"/>
                  <a:pt x="207" y="117"/>
                  <a:pt x="254" y="82"/>
                </a:cubicBezTo>
                <a:cubicBezTo>
                  <a:pt x="328" y="92"/>
                  <a:pt x="378" y="99"/>
                  <a:pt x="454" y="91"/>
                </a:cubicBezTo>
                <a:cubicBezTo>
                  <a:pt x="544" y="1"/>
                  <a:pt x="494" y="26"/>
                  <a:pt x="599" y="0"/>
                </a:cubicBezTo>
                <a:cubicBezTo>
                  <a:pt x="739" y="3"/>
                  <a:pt x="878" y="3"/>
                  <a:pt x="1018" y="9"/>
                </a:cubicBezTo>
                <a:cubicBezTo>
                  <a:pt x="1089" y="12"/>
                  <a:pt x="1005" y="19"/>
                  <a:pt x="1063" y="37"/>
                </a:cubicBezTo>
                <a:cubicBezTo>
                  <a:pt x="1086" y="44"/>
                  <a:pt x="1112" y="43"/>
                  <a:pt x="1136" y="46"/>
                </a:cubicBezTo>
                <a:cubicBezTo>
                  <a:pt x="1214" y="98"/>
                  <a:pt x="1126" y="46"/>
                  <a:pt x="1327" y="73"/>
                </a:cubicBezTo>
                <a:cubicBezTo>
                  <a:pt x="1341" y="75"/>
                  <a:pt x="1377" y="100"/>
                  <a:pt x="1390" y="109"/>
                </a:cubicBezTo>
                <a:cubicBezTo>
                  <a:pt x="1406" y="159"/>
                  <a:pt x="1433" y="153"/>
                  <a:pt x="1481" y="173"/>
                </a:cubicBezTo>
                <a:cubicBezTo>
                  <a:pt x="1552" y="203"/>
                  <a:pt x="1571" y="234"/>
                  <a:pt x="1645" y="246"/>
                </a:cubicBezTo>
                <a:cubicBezTo>
                  <a:pt x="1670" y="271"/>
                  <a:pt x="1705" y="290"/>
                  <a:pt x="1727" y="318"/>
                </a:cubicBezTo>
                <a:cubicBezTo>
                  <a:pt x="1784" y="389"/>
                  <a:pt x="1784" y="378"/>
                  <a:pt x="1872" y="418"/>
                </a:cubicBezTo>
                <a:cubicBezTo>
                  <a:pt x="1949" y="453"/>
                  <a:pt x="1830" y="426"/>
                  <a:pt x="1954" y="446"/>
                </a:cubicBezTo>
                <a:cubicBezTo>
                  <a:pt x="2002" y="467"/>
                  <a:pt x="2028" y="487"/>
                  <a:pt x="2072" y="509"/>
                </a:cubicBezTo>
                <a:cubicBezTo>
                  <a:pt x="2099" y="536"/>
                  <a:pt x="2142" y="554"/>
                  <a:pt x="2154" y="591"/>
                </a:cubicBezTo>
                <a:cubicBezTo>
                  <a:pt x="2160" y="609"/>
                  <a:pt x="2162" y="629"/>
                  <a:pt x="2172" y="646"/>
                </a:cubicBezTo>
                <a:cubicBezTo>
                  <a:pt x="2219" y="726"/>
                  <a:pt x="2378" y="781"/>
                  <a:pt x="2463" y="809"/>
                </a:cubicBezTo>
                <a:cubicBezTo>
                  <a:pt x="2490" y="837"/>
                  <a:pt x="2507" y="846"/>
                  <a:pt x="2545" y="855"/>
                </a:cubicBezTo>
                <a:cubicBezTo>
                  <a:pt x="2627" y="937"/>
                  <a:pt x="2524" y="842"/>
                  <a:pt x="2599" y="891"/>
                </a:cubicBezTo>
                <a:cubicBezTo>
                  <a:pt x="2672" y="939"/>
                  <a:pt x="2587" y="903"/>
                  <a:pt x="2654" y="928"/>
                </a:cubicBezTo>
                <a:cubicBezTo>
                  <a:pt x="2686" y="952"/>
                  <a:pt x="2707" y="979"/>
                  <a:pt x="2745" y="991"/>
                </a:cubicBezTo>
                <a:cubicBezTo>
                  <a:pt x="2812" y="988"/>
                  <a:pt x="2879" y="992"/>
                  <a:pt x="2945" y="982"/>
                </a:cubicBezTo>
                <a:cubicBezTo>
                  <a:pt x="2985" y="976"/>
                  <a:pt x="2988" y="927"/>
                  <a:pt x="3017" y="909"/>
                </a:cubicBezTo>
                <a:cubicBezTo>
                  <a:pt x="3033" y="899"/>
                  <a:pt x="3090" y="892"/>
                  <a:pt x="3099" y="891"/>
                </a:cubicBezTo>
                <a:cubicBezTo>
                  <a:pt x="3241" y="894"/>
                  <a:pt x="3384" y="894"/>
                  <a:pt x="3526" y="900"/>
                </a:cubicBezTo>
                <a:cubicBezTo>
                  <a:pt x="3565" y="902"/>
                  <a:pt x="3590" y="952"/>
                  <a:pt x="3626" y="964"/>
                </a:cubicBezTo>
                <a:cubicBezTo>
                  <a:pt x="3712" y="992"/>
                  <a:pt x="3758" y="1046"/>
                  <a:pt x="3854" y="1046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477120" y="38098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360" y="3733920"/>
            <a:ext cx="88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64 b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696080" y="5638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21320" y="5943600"/>
            <a:ext cx="69264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3429000" y="37339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57240" y="3886200"/>
            <a:ext cx="768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2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2133720" y="41911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5640" y="4419720"/>
            <a:ext cx="768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52280" y="2057400"/>
            <a:ext cx="5639040" cy="373392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C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2514600"/>
            <a:ext cx="1447920" cy="685800"/>
          </a:xfrm>
          <a:prstGeom prst="flowChartAlternateProcess">
            <a:avLst/>
          </a:prstGeom>
          <a:gradFill rotWithShape="0">
            <a:gsLst>
              <a:gs pos="0">
                <a:srgbClr val="ff6600"/>
              </a:gs>
              <a:gs pos="100000">
                <a:srgbClr val="b84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Architectu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3276720"/>
            <a:ext cx="1676520" cy="685800"/>
          </a:xfrm>
          <a:prstGeom prst="flowChartAlternateProcess">
            <a:avLst/>
          </a:prstGeom>
          <a:gradFill rotWithShape="0">
            <a:gsLst>
              <a:gs pos="0">
                <a:srgbClr val="ff6600"/>
              </a:gs>
              <a:gs pos="100000">
                <a:srgbClr val="b84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Design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sign Archit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828800" y="2743200"/>
            <a:ext cx="762120" cy="533520"/>
          </a:xfrm>
          <a:custGeom>
            <a:avLst/>
            <a:gdLst>
              <a:gd name="textAreaLeft" fmla="*/ 254160 w 762120"/>
              <a:gd name="textAreaRight" fmla="*/ 653040 w 76212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81720" y="4419720"/>
            <a:ext cx="1905120" cy="152388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C FABR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5105520"/>
            <a:ext cx="1600200" cy="457200"/>
          </a:xfrm>
          <a:prstGeom prst="flowChartAlternateProcess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MC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5334120" y="4495320"/>
            <a:ext cx="533160" cy="1752840"/>
          </a:xfrm>
          <a:prstGeom prst="downArrow">
            <a:avLst>
              <a:gd name="adj1" fmla="val 39889"/>
              <a:gd name="adj2" fmla="val 69193"/>
            </a:avLst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200400" y="3504600"/>
            <a:ext cx="762120" cy="533160"/>
          </a:xfrm>
          <a:custGeom>
            <a:avLst/>
            <a:gdLst>
              <a:gd name="textAreaLeft" fmla="*/ 254160 w 762120"/>
              <a:gd name="textAreaRight" fmla="*/ 653040 w 762120"/>
              <a:gd name="textAreaTop" fmla="*/ 306720 h 533160"/>
              <a:gd name="textAreaBottom" fmla="*/ 456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4038480"/>
            <a:ext cx="1828800" cy="1600200"/>
          </a:xfrm>
          <a:prstGeom prst="flowChartAlternateProcess">
            <a:avLst/>
          </a:prstGeom>
          <a:gradFill rotWithShape="0">
            <a:gsLst>
              <a:gs pos="0">
                <a:srgbClr val="ccffff"/>
              </a:gs>
              <a:gs pos="100000">
                <a:srgbClr val="93b8b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EMC Si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Complianc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2666160" y="2743200"/>
            <a:ext cx="762120" cy="533520"/>
          </a:xfrm>
          <a:custGeom>
            <a:avLst/>
            <a:gdLst>
              <a:gd name="textAreaLeft" fmla="*/ 253800 w 762120"/>
              <a:gd name="textAreaRight" fmla="*/ 652680 w 76212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5181480"/>
            <a:ext cx="609480" cy="381240"/>
          </a:xfrm>
          <a:prstGeom prst="flowChartAlternateProcess">
            <a:avLst/>
          </a:prstGeom>
          <a:gradFill rotWithShape="0">
            <a:gsLst>
              <a:gs pos="0">
                <a:srgbClr val="00ff00"/>
              </a:gs>
              <a:gs pos="100000">
                <a:srgbClr val="008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33920" y="4724280"/>
            <a:ext cx="609480" cy="381240"/>
          </a:xfrm>
          <a:prstGeom prst="flowChartAlternateProcess">
            <a:avLst/>
          </a:prstGeom>
          <a:gradFill rotWithShape="0">
            <a:gsLst>
              <a:gs pos="0">
                <a:srgbClr val="ff0000"/>
              </a:gs>
              <a:gs pos="100000">
                <a:srgbClr val="82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600200"/>
            <a:ext cx="913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Help to simulate IC Electromagnetic Emission </a:t>
            </a:r>
            <a:r>
              <a:rPr b="0" lang="en-GB" sz="2000" spc="-1" strike="noStrike" u="sng">
                <a:solidFill>
                  <a:srgbClr val="003399"/>
                </a:solidFill>
                <a:uFillTx/>
                <a:latin typeface="Arial"/>
              </a:rPr>
              <a:t>before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fabr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037760" y="2895480"/>
            <a:ext cx="1676520" cy="2133720"/>
          </a:xfrm>
          <a:custGeom>
            <a:avLst/>
            <a:gdLst>
              <a:gd name="textAreaLeft" fmla="*/ -360 w 1676520"/>
              <a:gd name="textAreaRight" fmla="*/ 1676520 w 167652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1600" h="21600">
                <a:moveTo>
                  <a:pt x="14871" y="18642"/>
                </a:moveTo>
                <a:arcTo wR="-8836" hR="-8836" stAng="3754074" swAng="-10905434"/>
                <a:lnTo>
                  <a:pt x="16067" y="20229"/>
                </a:lnTo>
                <a:arcTo wR="10800" hR="10800" stAng="3648640" swAng="10905434"/>
                <a:lnTo>
                  <a:pt x="4581" y="-1182"/>
                </a:lnTo>
                <a:lnTo>
                  <a:pt x="9545" y="390"/>
                </a:lnTo>
                <a:lnTo>
                  <a:pt x="7973" y="5354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2286000"/>
            <a:ext cx="182880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Narrow"/>
              </a:rPr>
              <a:t>EMC Guide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4343400"/>
            <a:ext cx="1066680" cy="685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 Narrow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106668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afd"/>
                </a:solidFill>
                <a:latin typeface="Arial"/>
              </a:rPr>
              <a:t>1.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4191120"/>
            <a:ext cx="1371600" cy="609480"/>
          </a:xfrm>
          <a:prstGeom prst="can">
            <a:avLst>
              <a:gd name="adj" fmla="val 4166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bis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4800600"/>
            <a:ext cx="1371600" cy="609480"/>
          </a:xfrm>
          <a:prstGeom prst="can">
            <a:avLst>
              <a:gd name="adj" fmla="val 4166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CEM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05920" y="5181480"/>
            <a:ext cx="609480" cy="381240"/>
          </a:xfrm>
          <a:prstGeom prst="flowChartAlternateProcess">
            <a:avLst/>
          </a:prstGeom>
          <a:gradFill rotWithShape="0">
            <a:gsLst>
              <a:gs pos="0">
                <a:srgbClr val="00ff00"/>
              </a:gs>
              <a:gs pos="100000">
                <a:srgbClr val="008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 - EMC for ICs/EMC issu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F0C19-62FF-41BB-9263-18F594667A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106668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afd"/>
                </a:solidFill>
                <a:latin typeface="Arial"/>
              </a:rPr>
              <a:t>2. What is IC-E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0360" y="1882800"/>
            <a:ext cx="7030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40000"/>
              </a:lnSpc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n electric circuit ed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40000"/>
              </a:lnSpc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n IBIS to circuit trans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40000"/>
              </a:lnSpc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n analog sim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40000"/>
              </a:lnSpc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 dB vs. frequency post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40000"/>
              </a:lnSpc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 library of EMC/IC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40000"/>
              </a:lnSpc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 data base of measured e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40000"/>
              </a:lnSpc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 simple tool to compared measured/Simulated e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40000"/>
              </a:lnSpc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 convenient way to investigate </a:t>
            </a:r>
            <a:r>
              <a:rPr b="0" i="1" lang="en-GB" sz="2000" spc="-1" strike="noStrike">
                <a:solidFill>
                  <a:srgbClr val="003399"/>
                </a:solidFill>
                <a:latin typeface="Arial"/>
              </a:rPr>
              <a:t>what if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impact on e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40000"/>
              </a:lnSpc>
              <a:buClr>
                <a:srgbClr val="003399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46716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06668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afd"/>
                </a:solidFill>
                <a:latin typeface="Arial"/>
              </a:rPr>
              <a:t>3.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219320" y="2023920"/>
            <a:ext cx="6324480" cy="43405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flipH="1">
            <a:off x="3504960" y="2481120"/>
            <a:ext cx="75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50280" y="1998720"/>
            <a:ext cx="12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CB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70972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1120" y="2227320"/>
            <a:ext cx="1441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Suppl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019920" y="26337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720" y="2303640"/>
            <a:ext cx="1477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IC cor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105160" y="225252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5760" y="1770120"/>
            <a:ext cx="1614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ackag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560640" y="377676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04120" y="3446640"/>
            <a:ext cx="1508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Basic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15238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Electric circuit ed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595840" cy="424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6248520" y="2286000"/>
          <a:ext cx="2286000" cy="355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2286000"/>
                    <a:ext cx="228600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5638680" y="4876920"/>
            <a:ext cx="762120" cy="152280"/>
          </a:xfrm>
          <a:custGeom>
            <a:avLst/>
            <a:gdLst>
              <a:gd name="textAreaLeft" fmla="*/ 95040 w 762120"/>
              <a:gd name="textAreaRight" fmla="*/ 667080 w 7621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1523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BIS to Schema Trans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06668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afd"/>
                </a:solidFill>
                <a:latin typeface="Arial"/>
              </a:rPr>
              <a:t>3.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72200" y="1447920"/>
            <a:ext cx="2438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Equivalent R,L,C of supply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81680" y="5791320"/>
            <a:ext cx="1524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3399"/>
                </a:solidFill>
                <a:latin typeface="Arial"/>
              </a:rPr>
              <a:t>R/n, L/n, C*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28600" y="1538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BIS to Schema Trans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106668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afd"/>
                </a:solidFill>
                <a:latin typeface="Arial"/>
              </a:rPr>
              <a:t>3.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5367240" cy="4067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52280" y="2286000"/>
            <a:ext cx="24386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imple comparison between simulated, measured and IBIS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880" y="5181480"/>
            <a:ext cx="1143000" cy="7621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. Sica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7T11:51:20Z</dcterms:created>
  <dc:creator>Etienne SICARD</dc:creator>
  <dc:description/>
  <dc:language>en-US</dc:language>
  <cp:lastModifiedBy>Bob Ross</cp:lastModifiedBy>
  <cp:lastPrinted>2000-06-26T15:57:57Z</cp:lastPrinted>
  <dcterms:modified xsi:type="dcterms:W3CDTF">2004-02-13T08:04:06Z</dcterms:modified>
  <cp:revision>137</cp:revision>
  <dc:subject/>
  <dc:title>IC-Emit</dc:title>
</cp:coreProperties>
</file>