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7917-CE7A-46D6-85A1-3C9090431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E68B-55EE-41E0-9023-949623D7D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8E4F-CE93-4859-B826-875821F18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277B-0C6D-4345-928E-CD392A8BA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E66E-EEF7-4EA6-938E-2A9E8A2D5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A0B9-D8B5-4603-87D9-BA643146E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5539-3728-45E1-AE6D-67B7C30DC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ACF1-013E-4C34-9C25-6E88B0F27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0F91-E229-451E-B5FD-0E6501589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F187-ACB2-4864-818D-F57B9E62D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2BEA-6CDC-4617-AF54-807EE888D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1E6F-264E-487C-A965-8B7D1FAF4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2DE2-2BC7-47A3-8A87-DA78BF9E0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1E02-39B2-482D-8145-080F71332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438280" y="6248160"/>
            <a:ext cx="4191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Benefits of Multi-Lingual Extensions to I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E IBIS Summi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6290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80DB-A56A-489E-9F69-2E973049B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The Benefits of Multi-Lingual Extensions to IBI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6800" y="2819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Black"/>
              </a:rPr>
              <a:t>Stéphane Rousseau</a:t>
            </a:r>
            <a:endParaRPr b="0" lang="en-US" sz="2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Black"/>
              </a:rPr>
              <a:t>PCB European Product Specialist</a:t>
            </a:r>
            <a:endParaRPr b="0" lang="en-US" sz="23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ssues with SPICE Model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n’t simulate Driver separate from receive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ly simulating extra nodes that are irrelev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bcircuits encrypted (Eldo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lobal nodes (.global in SPICE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flict with models from another sou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ale option = 1u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 possible conflict with other mode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50840" y="502920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* These are common issues with SPICE models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9771-89C5-41A2-8F8A-D7CE7083BB8D}" type="slidenum">
              <a:t>10</a:t>
            </a:fld>
          </a:p>
        </p:txBody>
      </p:sp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Transceiver Model Reduc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ver and Receiver sections separa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ows instantiation of driver and receiver IBIS 4.1 models on separate parts for design verif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ver section reduc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and pre-emphasis signal generation simplified with controlled-source logi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 time reduced to 12 minutes real time – 57% of original ti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23906" t="11745" r="15808" b="9205"/>
          <a:stretch/>
        </p:blipFill>
        <p:spPr>
          <a:xfrm>
            <a:off x="152280" y="1143000"/>
            <a:ext cx="4419720" cy="4648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54680" y="533412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iver simpl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151D-CDC5-47A6-BB47-807702169D86}" type="slidenum">
              <a:t>11</a:t>
            </a:fld>
          </a:p>
        </p:txBody>
      </p:sp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ackage Model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361960" y="487692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plex package mod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differential pairs fully coupl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cascaded se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284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1571400" y="2303280"/>
            <a:ext cx="971640" cy="761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5225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284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2781360"/>
            <a:ext cx="152640" cy="1299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819520" y="1355760"/>
            <a:ext cx="914400" cy="2720880"/>
            <a:chOff x="2819520" y="1355760"/>
            <a:chExt cx="914400" cy="2720880"/>
          </a:xfrm>
        </p:grpSpPr>
        <p:sp>
          <p:nvSpPr>
            <p:cNvPr id="296" name=""/>
            <p:cNvSpPr/>
            <p:nvPr/>
          </p:nvSpPr>
          <p:spPr>
            <a:xfrm>
              <a:off x="2819520" y="1355760"/>
              <a:ext cx="914400" cy="2720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819520" y="2451600"/>
              <a:ext cx="914400" cy="264240"/>
              <a:chOff x="2819520" y="2451600"/>
              <a:chExt cx="914400" cy="264240"/>
            </a:xfrm>
          </p:grpSpPr>
          <p:sp>
            <p:nvSpPr>
              <p:cNvPr id="298" name=""/>
              <p:cNvSpPr/>
              <p:nvPr/>
            </p:nvSpPr>
            <p:spPr>
              <a:xfrm>
                <a:off x="2819520" y="25214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3657600" y="25214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00400" y="25214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00520" y="245160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53040" y="245664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76720" y="25214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0400" y="25862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00400" y="26510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510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819520" y="2781000"/>
              <a:ext cx="914400" cy="264240"/>
              <a:chOff x="2819520" y="2781000"/>
              <a:chExt cx="914400" cy="264240"/>
            </a:xfrm>
          </p:grpSpPr>
          <p:sp>
            <p:nvSpPr>
              <p:cNvPr id="308" name=""/>
              <p:cNvSpPr/>
              <p:nvPr/>
            </p:nvSpPr>
            <p:spPr>
              <a:xfrm>
                <a:off x="2819520" y="28508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3657600" y="28508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200400" y="28508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00520" y="278100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3040" y="278604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76720" y="28508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200400" y="29156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00400" y="29804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276720" y="29804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819520" y="3299040"/>
              <a:ext cx="914400" cy="264240"/>
              <a:chOff x="2819520" y="3299040"/>
              <a:chExt cx="914400" cy="264240"/>
            </a:xfrm>
          </p:grpSpPr>
          <p:sp>
            <p:nvSpPr>
              <p:cNvPr id="318" name=""/>
              <p:cNvSpPr/>
              <p:nvPr/>
            </p:nvSpPr>
            <p:spPr>
              <a:xfrm>
                <a:off x="2819520" y="336888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657600" y="336888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00400" y="33688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00520" y="329904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53040" y="330408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76720" y="336888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00400" y="34336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00400" y="34984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76720" y="349848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19520" y="3623040"/>
              <a:ext cx="914400" cy="264240"/>
              <a:chOff x="2819520" y="3623040"/>
              <a:chExt cx="914400" cy="2642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19520" y="369288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3657600" y="369288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36928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00520" y="362304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53040" y="3628080"/>
                <a:ext cx="295200" cy="12708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76720" y="369288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0400" y="37580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400" y="38224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76720" y="382248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819520" y="1938600"/>
              <a:ext cx="914400" cy="264240"/>
              <a:chOff x="2819520" y="1938600"/>
              <a:chExt cx="914400" cy="264240"/>
            </a:xfrm>
          </p:grpSpPr>
          <p:sp>
            <p:nvSpPr>
              <p:cNvPr id="338" name=""/>
              <p:cNvSpPr/>
              <p:nvPr/>
            </p:nvSpPr>
            <p:spPr>
              <a:xfrm>
                <a:off x="2819520" y="20084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3657600" y="20084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00400" y="20084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00520" y="193860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53040" y="194364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276720" y="20084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00400" y="20732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00400" y="21380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276720" y="21380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819520" y="1614960"/>
              <a:ext cx="914400" cy="264240"/>
              <a:chOff x="2819520" y="1614960"/>
              <a:chExt cx="914400" cy="264240"/>
            </a:xfrm>
          </p:grpSpPr>
          <p:sp>
            <p:nvSpPr>
              <p:cNvPr id="348" name=""/>
              <p:cNvSpPr/>
              <p:nvPr/>
            </p:nvSpPr>
            <p:spPr>
              <a:xfrm>
                <a:off x="2819520" y="16848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657600" y="16848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00400" y="168480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00520" y="161496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353040" y="162000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276720" y="168480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174960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00400" y="181440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76720" y="181440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2286000" y="3624120"/>
            <a:ext cx="533520" cy="128880"/>
            <a:chOff x="2286000" y="3624120"/>
            <a:chExt cx="533520" cy="128880"/>
          </a:xfrm>
        </p:grpSpPr>
        <p:sp>
          <p:nvSpPr>
            <p:cNvPr id="358" name=""/>
            <p:cNvSpPr/>
            <p:nvPr/>
          </p:nvSpPr>
          <p:spPr>
            <a:xfrm flipH="1">
              <a:off x="2743200" y="368856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666880" y="3688560"/>
              <a:ext cx="7596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90920" y="3624120"/>
              <a:ext cx="76320" cy="1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514600" y="3624120"/>
              <a:ext cx="76320" cy="1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2438280" y="3624120"/>
              <a:ext cx="75960" cy="1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362320" y="3624120"/>
              <a:ext cx="7632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286000" y="368856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H="1">
            <a:off x="2133360" y="3687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981080" y="3687840"/>
            <a:ext cx="304560" cy="271080"/>
            <a:chOff x="1981080" y="3687840"/>
            <a:chExt cx="304560" cy="271080"/>
          </a:xfrm>
        </p:grpSpPr>
        <p:sp>
          <p:nvSpPr>
            <p:cNvPr id="367" name=""/>
            <p:cNvSpPr/>
            <p:nvPr/>
          </p:nvSpPr>
          <p:spPr>
            <a:xfrm>
              <a:off x="2133360" y="3687840"/>
              <a:ext cx="0" cy="129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81080" y="381744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57040" y="38822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2200" y="3957840"/>
              <a:ext cx="3348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cubicBezTo>
                    <a:pt x="7" y="0"/>
                    <a:pt x="14" y="0"/>
                    <a:pt x="2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286000" y="3300120"/>
            <a:ext cx="533520" cy="128880"/>
            <a:chOff x="2286000" y="3300120"/>
            <a:chExt cx="533520" cy="128880"/>
          </a:xfrm>
        </p:grpSpPr>
        <p:sp>
          <p:nvSpPr>
            <p:cNvPr id="372" name=""/>
            <p:cNvSpPr/>
            <p:nvPr/>
          </p:nvSpPr>
          <p:spPr>
            <a:xfrm flipH="1">
              <a:off x="2743200" y="336456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666880" y="3364560"/>
              <a:ext cx="75960" cy="6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90920" y="3300480"/>
              <a:ext cx="7632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514600" y="3300480"/>
              <a:ext cx="7632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2438280" y="3300120"/>
              <a:ext cx="7596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362320" y="3300480"/>
              <a:ext cx="76320" cy="6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2286000" y="336456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981080" y="3363840"/>
            <a:ext cx="304560" cy="271080"/>
            <a:chOff x="1981080" y="3363840"/>
            <a:chExt cx="304560" cy="271080"/>
          </a:xfrm>
        </p:grpSpPr>
        <p:sp>
          <p:nvSpPr>
            <p:cNvPr id="380" name=""/>
            <p:cNvSpPr/>
            <p:nvPr/>
          </p:nvSpPr>
          <p:spPr>
            <a:xfrm>
              <a:off x="2133360" y="3363840"/>
              <a:ext cx="0" cy="129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81080" y="349344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57040" y="35582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22200" y="3633840"/>
              <a:ext cx="3348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cubicBezTo>
                    <a:pt x="7" y="0"/>
                    <a:pt x="14" y="0"/>
                    <a:pt x="2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2133360" y="3363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286000" y="1939680"/>
            <a:ext cx="533520" cy="128880"/>
            <a:chOff x="2286000" y="1939680"/>
            <a:chExt cx="533520" cy="128880"/>
          </a:xfrm>
        </p:grpSpPr>
        <p:sp>
          <p:nvSpPr>
            <p:cNvPr id="386" name=""/>
            <p:cNvSpPr/>
            <p:nvPr/>
          </p:nvSpPr>
          <p:spPr>
            <a:xfrm flipH="1">
              <a:off x="2743200" y="200412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666880" y="2004120"/>
              <a:ext cx="75960" cy="6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90920" y="1940040"/>
              <a:ext cx="7632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2514600" y="1940040"/>
              <a:ext cx="7632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2438280" y="1939680"/>
              <a:ext cx="7596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362320" y="1940040"/>
              <a:ext cx="76320" cy="6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286000" y="200412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 flipH="1">
            <a:off x="2133360" y="200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2003400"/>
            <a:ext cx="304560" cy="271080"/>
            <a:chOff x="1981080" y="2003400"/>
            <a:chExt cx="304560" cy="271080"/>
          </a:xfrm>
        </p:grpSpPr>
        <p:sp>
          <p:nvSpPr>
            <p:cNvPr id="395" name=""/>
            <p:cNvSpPr/>
            <p:nvPr/>
          </p:nvSpPr>
          <p:spPr>
            <a:xfrm>
              <a:off x="2133360" y="2003400"/>
              <a:ext cx="0" cy="129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1080" y="213300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57040" y="21978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2200" y="2273400"/>
              <a:ext cx="3348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cubicBezTo>
                    <a:pt x="7" y="0"/>
                    <a:pt x="14" y="0"/>
                    <a:pt x="2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286000" y="1615680"/>
            <a:ext cx="533520" cy="128880"/>
            <a:chOff x="2286000" y="1615680"/>
            <a:chExt cx="533520" cy="128880"/>
          </a:xfrm>
        </p:grpSpPr>
        <p:sp>
          <p:nvSpPr>
            <p:cNvPr id="400" name=""/>
            <p:cNvSpPr/>
            <p:nvPr/>
          </p:nvSpPr>
          <p:spPr>
            <a:xfrm flipH="1">
              <a:off x="2743200" y="168012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1680120"/>
              <a:ext cx="75960" cy="6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0920" y="1616040"/>
              <a:ext cx="7632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514600" y="1616040"/>
              <a:ext cx="7632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2438280" y="1615680"/>
              <a:ext cx="7596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362320" y="1616040"/>
              <a:ext cx="76320" cy="6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286000" y="168012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981080" y="1679400"/>
            <a:ext cx="304560" cy="271440"/>
            <a:chOff x="1981080" y="1679400"/>
            <a:chExt cx="304560" cy="271440"/>
          </a:xfrm>
        </p:grpSpPr>
        <p:sp>
          <p:nvSpPr>
            <p:cNvPr id="408" name=""/>
            <p:cNvSpPr/>
            <p:nvPr/>
          </p:nvSpPr>
          <p:spPr>
            <a:xfrm>
              <a:off x="2133360" y="1679400"/>
              <a:ext cx="0" cy="129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81080" y="180900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57040" y="18741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22200" y="1949760"/>
              <a:ext cx="3348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cubicBezTo>
                    <a:pt x="7" y="0"/>
                    <a:pt x="14" y="0"/>
                    <a:pt x="2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 flipH="1">
            <a:off x="2133360" y="1679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10080" y="1355760"/>
            <a:ext cx="914400" cy="2720880"/>
            <a:chOff x="5410080" y="1355760"/>
            <a:chExt cx="914400" cy="2720880"/>
          </a:xfrm>
        </p:grpSpPr>
        <p:sp>
          <p:nvSpPr>
            <p:cNvPr id="414" name=""/>
            <p:cNvSpPr/>
            <p:nvPr/>
          </p:nvSpPr>
          <p:spPr>
            <a:xfrm>
              <a:off x="5410080" y="1355760"/>
              <a:ext cx="914400" cy="2720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410080" y="2451600"/>
              <a:ext cx="914400" cy="264240"/>
              <a:chOff x="5410080" y="2451600"/>
              <a:chExt cx="914400" cy="264240"/>
            </a:xfrm>
          </p:grpSpPr>
          <p:sp>
            <p:nvSpPr>
              <p:cNvPr id="416" name=""/>
              <p:cNvSpPr/>
              <p:nvPr/>
            </p:nvSpPr>
            <p:spPr>
              <a:xfrm>
                <a:off x="5410080" y="25214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248160" y="25214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790960" y="25214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91080" y="245160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43600" y="245664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67280" y="25214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790960" y="25862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90960" y="26510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7280" y="26510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10080" y="2781000"/>
              <a:ext cx="914400" cy="264240"/>
              <a:chOff x="5410080" y="2781000"/>
              <a:chExt cx="914400" cy="264240"/>
            </a:xfrm>
          </p:grpSpPr>
          <p:sp>
            <p:nvSpPr>
              <p:cNvPr id="426" name=""/>
              <p:cNvSpPr/>
              <p:nvPr/>
            </p:nvSpPr>
            <p:spPr>
              <a:xfrm>
                <a:off x="5410080" y="28508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248160" y="28508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90960" y="28508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91080" y="278100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943600" y="278604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67280" y="28508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790960" y="29156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790960" y="29804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7280" y="29804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410080" y="3299040"/>
              <a:ext cx="914400" cy="264240"/>
              <a:chOff x="5410080" y="3299040"/>
              <a:chExt cx="914400" cy="264240"/>
            </a:xfrm>
          </p:grpSpPr>
          <p:sp>
            <p:nvSpPr>
              <p:cNvPr id="436" name=""/>
              <p:cNvSpPr/>
              <p:nvPr/>
            </p:nvSpPr>
            <p:spPr>
              <a:xfrm>
                <a:off x="5410080" y="336888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248160" y="336888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90960" y="33688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91080" y="329904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43600" y="330408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67280" y="336888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90960" y="34336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90960" y="34984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67280" y="349848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410080" y="3623040"/>
              <a:ext cx="914400" cy="264240"/>
              <a:chOff x="5410080" y="3623040"/>
              <a:chExt cx="914400" cy="264240"/>
            </a:xfrm>
          </p:grpSpPr>
          <p:sp>
            <p:nvSpPr>
              <p:cNvPr id="446" name=""/>
              <p:cNvSpPr/>
              <p:nvPr/>
            </p:nvSpPr>
            <p:spPr>
              <a:xfrm>
                <a:off x="5410080" y="369288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248160" y="369288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90960" y="36928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91080" y="362304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43600" y="3628080"/>
                <a:ext cx="295200" cy="12708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67280" y="369288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90960" y="37580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90960" y="382248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7280" y="382248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5410080" y="1938600"/>
              <a:ext cx="914400" cy="264240"/>
              <a:chOff x="5410080" y="1938600"/>
              <a:chExt cx="914400" cy="264240"/>
            </a:xfrm>
          </p:grpSpPr>
          <p:sp>
            <p:nvSpPr>
              <p:cNvPr id="456" name=""/>
              <p:cNvSpPr/>
              <p:nvPr/>
            </p:nvSpPr>
            <p:spPr>
              <a:xfrm>
                <a:off x="5410080" y="20084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248160" y="200844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790960" y="20084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91080" y="193860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43600" y="194364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67280" y="20084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90960" y="20732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90960" y="21380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67280" y="213804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410080" y="1614960"/>
              <a:ext cx="914400" cy="264240"/>
              <a:chOff x="5410080" y="1614960"/>
              <a:chExt cx="914400" cy="264240"/>
            </a:xfrm>
          </p:grpSpPr>
          <p:sp>
            <p:nvSpPr>
              <p:cNvPr id="466" name=""/>
              <p:cNvSpPr/>
              <p:nvPr/>
            </p:nvSpPr>
            <p:spPr>
              <a:xfrm>
                <a:off x="5410080" y="16848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248160" y="16848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0960" y="168480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1080" y="1614960"/>
                <a:ext cx="295200" cy="12636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943600" y="1620000"/>
                <a:ext cx="295200" cy="12672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52"/>
                    </a:moveTo>
                    <a:cubicBezTo>
                      <a:pt x="5" y="42"/>
                      <a:pt x="2" y="31"/>
                      <a:pt x="11" y="24"/>
                    </a:cubicBezTo>
                    <a:cubicBezTo>
                      <a:pt x="14" y="11"/>
                      <a:pt x="25" y="2"/>
                      <a:pt x="38" y="0"/>
                    </a:cubicBezTo>
                    <a:cubicBezTo>
                      <a:pt x="45" y="1"/>
                      <a:pt x="50" y="0"/>
                      <a:pt x="56" y="3"/>
                    </a:cubicBezTo>
                    <a:cubicBezTo>
                      <a:pt x="63" y="7"/>
                      <a:pt x="63" y="14"/>
                      <a:pt x="71" y="16"/>
                    </a:cubicBezTo>
                    <a:cubicBezTo>
                      <a:pt x="73" y="24"/>
                      <a:pt x="75" y="33"/>
                      <a:pt x="80" y="40"/>
                    </a:cubicBezTo>
                    <a:cubicBezTo>
                      <a:pt x="83" y="53"/>
                      <a:pt x="87" y="67"/>
                      <a:pt x="78" y="79"/>
                    </a:cubicBezTo>
                    <a:cubicBezTo>
                      <a:pt x="76" y="87"/>
                      <a:pt x="75" y="93"/>
                      <a:pt x="66" y="94"/>
                    </a:cubicBezTo>
                    <a:cubicBezTo>
                      <a:pt x="58" y="93"/>
                      <a:pt x="58" y="90"/>
                      <a:pt x="54" y="84"/>
                    </a:cubicBezTo>
                    <a:cubicBezTo>
                      <a:pt x="53" y="79"/>
                      <a:pt x="51" y="75"/>
                      <a:pt x="50" y="70"/>
                    </a:cubicBezTo>
                    <a:cubicBezTo>
                      <a:pt x="51" y="53"/>
                      <a:pt x="52" y="38"/>
                      <a:pt x="62" y="24"/>
                    </a:cubicBezTo>
                    <a:cubicBezTo>
                      <a:pt x="64" y="12"/>
                      <a:pt x="71" y="2"/>
                      <a:pt x="83" y="0"/>
                    </a:cubicBezTo>
                    <a:cubicBezTo>
                      <a:pt x="91" y="1"/>
                      <a:pt x="97" y="3"/>
                      <a:pt x="104" y="4"/>
                    </a:cubicBezTo>
                    <a:cubicBezTo>
                      <a:pt x="115" y="9"/>
                      <a:pt x="121" y="13"/>
                      <a:pt x="128" y="24"/>
                    </a:cubicBezTo>
                    <a:cubicBezTo>
                      <a:pt x="129" y="32"/>
                      <a:pt x="132" y="41"/>
                      <a:pt x="134" y="49"/>
                    </a:cubicBezTo>
                    <a:cubicBezTo>
                      <a:pt x="132" y="61"/>
                      <a:pt x="133" y="82"/>
                      <a:pt x="117" y="85"/>
                    </a:cubicBezTo>
                    <a:cubicBezTo>
                      <a:pt x="111" y="89"/>
                      <a:pt x="109" y="92"/>
                      <a:pt x="105" y="85"/>
                    </a:cubicBezTo>
                    <a:cubicBezTo>
                      <a:pt x="103" y="74"/>
                      <a:pt x="102" y="65"/>
                      <a:pt x="107" y="54"/>
                    </a:cubicBezTo>
                    <a:cubicBezTo>
                      <a:pt x="108" y="47"/>
                      <a:pt x="112" y="42"/>
                      <a:pt x="116" y="36"/>
                    </a:cubicBezTo>
                    <a:cubicBezTo>
                      <a:pt x="118" y="25"/>
                      <a:pt x="126" y="19"/>
                      <a:pt x="135" y="12"/>
                    </a:cubicBezTo>
                    <a:cubicBezTo>
                      <a:pt x="155" y="13"/>
                      <a:pt x="153" y="13"/>
                      <a:pt x="167" y="16"/>
                    </a:cubicBezTo>
                    <a:cubicBezTo>
                      <a:pt x="171" y="23"/>
                      <a:pt x="176" y="26"/>
                      <a:pt x="179" y="33"/>
                    </a:cubicBezTo>
                    <a:cubicBezTo>
                      <a:pt x="180" y="39"/>
                      <a:pt x="182" y="42"/>
                      <a:pt x="185" y="48"/>
                    </a:cubicBezTo>
                    <a:cubicBezTo>
                      <a:pt x="185" y="50"/>
                      <a:pt x="186" y="55"/>
                      <a:pt x="186" y="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7280" y="168480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90960" y="174960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90960" y="181440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7280" y="1814400"/>
                <a:ext cx="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4114800" y="1355760"/>
            <a:ext cx="914400" cy="2720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114800" y="1616040"/>
            <a:ext cx="914400" cy="128520"/>
            <a:chOff x="4114800" y="1616040"/>
            <a:chExt cx="914400" cy="128520"/>
          </a:xfrm>
        </p:grpSpPr>
        <p:sp>
          <p:nvSpPr>
            <p:cNvPr id="477" name=""/>
            <p:cNvSpPr/>
            <p:nvPr/>
          </p:nvSpPr>
          <p:spPr>
            <a:xfrm>
              <a:off x="4267440" y="1616040"/>
              <a:ext cx="609480" cy="128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114800" y="1680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76920" y="1680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114800" y="1940040"/>
            <a:ext cx="914400" cy="128520"/>
            <a:chOff x="4114800" y="1940040"/>
            <a:chExt cx="914400" cy="128520"/>
          </a:xfrm>
        </p:grpSpPr>
        <p:sp>
          <p:nvSpPr>
            <p:cNvPr id="481" name=""/>
            <p:cNvSpPr/>
            <p:nvPr/>
          </p:nvSpPr>
          <p:spPr>
            <a:xfrm>
              <a:off x="4267440" y="1940040"/>
              <a:ext cx="609480" cy="128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114800" y="2004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76920" y="2004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114800" y="2457360"/>
            <a:ext cx="914400" cy="130320"/>
            <a:chOff x="4114800" y="2457360"/>
            <a:chExt cx="914400" cy="130320"/>
          </a:xfrm>
        </p:grpSpPr>
        <p:sp>
          <p:nvSpPr>
            <p:cNvPr id="485" name=""/>
            <p:cNvSpPr/>
            <p:nvPr/>
          </p:nvSpPr>
          <p:spPr>
            <a:xfrm>
              <a:off x="4267440" y="2457360"/>
              <a:ext cx="609480" cy="130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114800" y="25221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76920" y="2522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114800" y="2781360"/>
            <a:ext cx="914400" cy="129960"/>
            <a:chOff x="4114800" y="2781360"/>
            <a:chExt cx="914400" cy="129960"/>
          </a:xfrm>
        </p:grpSpPr>
        <p:sp>
          <p:nvSpPr>
            <p:cNvPr id="489" name=""/>
            <p:cNvSpPr/>
            <p:nvPr/>
          </p:nvSpPr>
          <p:spPr>
            <a:xfrm>
              <a:off x="4267440" y="2781360"/>
              <a:ext cx="609480" cy="129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114800" y="28461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76920" y="284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114800" y="3300480"/>
            <a:ext cx="914400" cy="128520"/>
            <a:chOff x="4114800" y="3300480"/>
            <a:chExt cx="914400" cy="128520"/>
          </a:xfrm>
        </p:grpSpPr>
        <p:sp>
          <p:nvSpPr>
            <p:cNvPr id="493" name=""/>
            <p:cNvSpPr/>
            <p:nvPr/>
          </p:nvSpPr>
          <p:spPr>
            <a:xfrm>
              <a:off x="4267440" y="3300480"/>
              <a:ext cx="609480" cy="128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114800" y="33645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33645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114800" y="3624120"/>
            <a:ext cx="914400" cy="128880"/>
            <a:chOff x="4114800" y="3624120"/>
            <a:chExt cx="914400" cy="128880"/>
          </a:xfrm>
        </p:grpSpPr>
        <p:sp>
          <p:nvSpPr>
            <p:cNvPr id="497" name=""/>
            <p:cNvSpPr/>
            <p:nvPr/>
          </p:nvSpPr>
          <p:spPr>
            <a:xfrm>
              <a:off x="4267440" y="3624120"/>
              <a:ext cx="609480" cy="12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6882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6920" y="36882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324480" y="1616040"/>
            <a:ext cx="838080" cy="334440"/>
            <a:chOff x="6324480" y="1616040"/>
            <a:chExt cx="838080" cy="334440"/>
          </a:xfrm>
        </p:grpSpPr>
        <p:grpSp>
          <p:nvGrpSpPr>
            <p:cNvPr id="501" name=""/>
            <p:cNvGrpSpPr/>
            <p:nvPr/>
          </p:nvGrpSpPr>
          <p:grpSpPr>
            <a:xfrm>
              <a:off x="6324480" y="1616040"/>
              <a:ext cx="532800" cy="128880"/>
              <a:chOff x="6324480" y="1616040"/>
              <a:chExt cx="532800" cy="12888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6781320" y="168048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705720" y="1680480"/>
                <a:ext cx="75600" cy="6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629400" y="1616040"/>
                <a:ext cx="7596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552720" y="1616040"/>
                <a:ext cx="7596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6477120" y="1616040"/>
                <a:ext cx="7560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00440" y="1616040"/>
                <a:ext cx="75960" cy="6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324480" y="168048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H="1">
              <a:off x="6857640" y="1680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6858000" y="1680120"/>
              <a:ext cx="304560" cy="270360"/>
              <a:chOff x="6858000" y="1680120"/>
              <a:chExt cx="304560" cy="270360"/>
            </a:xfrm>
          </p:grpSpPr>
          <p:sp>
            <p:nvSpPr>
              <p:cNvPr id="511" name=""/>
              <p:cNvSpPr/>
              <p:nvPr/>
            </p:nvSpPr>
            <p:spPr>
              <a:xfrm>
                <a:off x="7010280" y="1680120"/>
                <a:ext cx="0" cy="129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58000" y="1809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33960" y="187416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99120" y="194940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5" name=""/>
          <p:cNvGrpSpPr/>
          <p:nvPr/>
        </p:nvGrpSpPr>
        <p:grpSpPr>
          <a:xfrm>
            <a:off x="6324480" y="1940040"/>
            <a:ext cx="838080" cy="334080"/>
            <a:chOff x="6324480" y="1940040"/>
            <a:chExt cx="838080" cy="334080"/>
          </a:xfrm>
        </p:grpSpPr>
        <p:grpSp>
          <p:nvGrpSpPr>
            <p:cNvPr id="516" name=""/>
            <p:cNvGrpSpPr/>
            <p:nvPr/>
          </p:nvGrpSpPr>
          <p:grpSpPr>
            <a:xfrm>
              <a:off x="6324480" y="1940040"/>
              <a:ext cx="532800" cy="128880"/>
              <a:chOff x="6324480" y="1940040"/>
              <a:chExt cx="532800" cy="128880"/>
            </a:xfrm>
          </p:grpSpPr>
          <p:sp>
            <p:nvSpPr>
              <p:cNvPr id="517" name=""/>
              <p:cNvSpPr/>
              <p:nvPr/>
            </p:nvSpPr>
            <p:spPr>
              <a:xfrm flipH="1">
                <a:off x="6781320" y="200448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6705720" y="2004480"/>
                <a:ext cx="75600" cy="6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629400" y="1940040"/>
                <a:ext cx="7596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6552720" y="1940040"/>
                <a:ext cx="7596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6477120" y="1940040"/>
                <a:ext cx="7560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6400440" y="1940040"/>
                <a:ext cx="75960" cy="6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6324480" y="200448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flipH="1">
              <a:off x="6857640" y="2004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858000" y="2004120"/>
              <a:ext cx="304560" cy="270000"/>
              <a:chOff x="6858000" y="2004120"/>
              <a:chExt cx="304560" cy="270000"/>
            </a:xfrm>
          </p:grpSpPr>
          <p:sp>
            <p:nvSpPr>
              <p:cNvPr id="526" name=""/>
              <p:cNvSpPr/>
              <p:nvPr/>
            </p:nvSpPr>
            <p:spPr>
              <a:xfrm>
                <a:off x="7010280" y="2004120"/>
                <a:ext cx="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58000" y="21330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960" y="219780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99120" y="227304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6324480" y="3300480"/>
            <a:ext cx="838080" cy="334080"/>
            <a:chOff x="6324480" y="3300480"/>
            <a:chExt cx="838080" cy="334080"/>
          </a:xfrm>
        </p:grpSpPr>
        <p:grpSp>
          <p:nvGrpSpPr>
            <p:cNvPr id="531" name=""/>
            <p:cNvGrpSpPr/>
            <p:nvPr/>
          </p:nvGrpSpPr>
          <p:grpSpPr>
            <a:xfrm>
              <a:off x="6324480" y="3300480"/>
              <a:ext cx="532800" cy="128880"/>
              <a:chOff x="6324480" y="3300480"/>
              <a:chExt cx="532800" cy="12888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781320" y="336492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705720" y="3364920"/>
                <a:ext cx="75600" cy="6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29400" y="3300480"/>
                <a:ext cx="7596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6552720" y="3300480"/>
                <a:ext cx="7596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6477120" y="3300480"/>
                <a:ext cx="7560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6400440" y="3300480"/>
                <a:ext cx="75960" cy="6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6324480" y="336492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 flipH="1">
              <a:off x="6857640" y="33645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858000" y="3364560"/>
              <a:ext cx="304560" cy="270000"/>
              <a:chOff x="6858000" y="3364560"/>
              <a:chExt cx="304560" cy="270000"/>
            </a:xfrm>
          </p:grpSpPr>
          <p:sp>
            <p:nvSpPr>
              <p:cNvPr id="541" name=""/>
              <p:cNvSpPr/>
              <p:nvPr/>
            </p:nvSpPr>
            <p:spPr>
              <a:xfrm>
                <a:off x="7010280" y="3364560"/>
                <a:ext cx="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58000" y="349344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33960" y="35582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999120" y="363348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6324480" y="3624120"/>
            <a:ext cx="838080" cy="334440"/>
            <a:chOff x="6324480" y="3624120"/>
            <a:chExt cx="838080" cy="334440"/>
          </a:xfrm>
        </p:grpSpPr>
        <p:grpSp>
          <p:nvGrpSpPr>
            <p:cNvPr id="546" name=""/>
            <p:cNvGrpSpPr/>
            <p:nvPr/>
          </p:nvGrpSpPr>
          <p:grpSpPr>
            <a:xfrm>
              <a:off x="6324480" y="3624120"/>
              <a:ext cx="532800" cy="128880"/>
              <a:chOff x="6324480" y="3624120"/>
              <a:chExt cx="532800" cy="12888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6781320" y="368856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6705720" y="3688560"/>
                <a:ext cx="75600" cy="6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29400" y="3624120"/>
                <a:ext cx="7596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552720" y="3624120"/>
                <a:ext cx="7596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flipV="1">
                <a:off x="6477120" y="3624120"/>
                <a:ext cx="75600" cy="1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400440" y="3624120"/>
                <a:ext cx="75960" cy="6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324480" y="368856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flipH="1">
              <a:off x="6857640" y="36882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858000" y="3688200"/>
              <a:ext cx="304560" cy="270360"/>
              <a:chOff x="6858000" y="3688200"/>
              <a:chExt cx="304560" cy="270360"/>
            </a:xfrm>
          </p:grpSpPr>
          <p:sp>
            <p:nvSpPr>
              <p:cNvPr id="556" name=""/>
              <p:cNvSpPr/>
              <p:nvPr/>
            </p:nvSpPr>
            <p:spPr>
              <a:xfrm>
                <a:off x="7010280" y="3688200"/>
                <a:ext cx="0" cy="129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858000" y="381744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33960" y="388224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999120" y="395748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/>
          <p:cNvSpPr/>
          <p:nvPr/>
        </p:nvSpPr>
        <p:spPr>
          <a:xfrm>
            <a:off x="3733920" y="1679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33920" y="200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33920" y="252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33920" y="2846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33638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33920" y="36878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29200" y="1679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29200" y="200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252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846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33638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29200" y="36878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2522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838080"/>
            <a:ext cx="701064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46160" y="41450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74560" y="407664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G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99440" y="41418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781680" y="2328840"/>
            <a:ext cx="1295640" cy="71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457360"/>
            <a:ext cx="1143000" cy="1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2781360"/>
            <a:ext cx="1143000" cy="12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252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81680" y="2846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F790-B452-42E8-9B68-28A685B4B0B1}" type="slidenum">
              <a:t>12</a:t>
            </a:fld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ackage Model Reduc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438280" y="2133360"/>
            <a:ext cx="6019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ement elimina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mple IBIS RLC paramete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-parameter mod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941E-B2AA-419E-8D69-000379B87022}" type="slidenum">
              <a:t>13</a:t>
            </a:fld>
          </a:p>
        </p:txBody>
      </p:sp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solidFill>
            <a:srgbClr val="00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066680" y="838080"/>
            <a:ext cx="7010640" cy="3886200"/>
            <a:chOff x="1066680" y="838080"/>
            <a:chExt cx="7010640" cy="3886200"/>
          </a:xfrm>
        </p:grpSpPr>
        <p:sp>
          <p:nvSpPr>
            <p:cNvPr id="586" name=""/>
            <p:cNvSpPr/>
            <p:nvPr/>
          </p:nvSpPr>
          <p:spPr>
            <a:xfrm>
              <a:off x="6324480" y="2846520"/>
              <a:ext cx="457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5400000">
              <a:off x="1571400" y="2303280"/>
              <a:ext cx="971640" cy="7617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09680" y="2522520"/>
              <a:ext cx="609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62320" y="2846520"/>
              <a:ext cx="457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09680" y="2781360"/>
              <a:ext cx="152640" cy="1299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2819520" y="1355760"/>
              <a:ext cx="914400" cy="2720880"/>
              <a:chOff x="2819520" y="1355760"/>
              <a:chExt cx="914400" cy="2720880"/>
            </a:xfrm>
          </p:grpSpPr>
          <p:sp>
            <p:nvSpPr>
              <p:cNvPr id="592" name=""/>
              <p:cNvSpPr/>
              <p:nvPr/>
            </p:nvSpPr>
            <p:spPr>
              <a:xfrm>
                <a:off x="2819520" y="1355760"/>
                <a:ext cx="914400" cy="272088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2819520" y="2451600"/>
                <a:ext cx="914400" cy="264240"/>
                <a:chOff x="2819520" y="2451600"/>
                <a:chExt cx="914400" cy="2642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819520" y="25214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>
                  <a:off x="3657600" y="25214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00400" y="25214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00520" y="245160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53040" y="245664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6720" y="25214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00400" y="25862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00400" y="26510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6720" y="26510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2819520" y="2781000"/>
                <a:ext cx="914400" cy="264240"/>
                <a:chOff x="2819520" y="2781000"/>
                <a:chExt cx="914400" cy="26424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2819520" y="28508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3657600" y="28508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00400" y="28508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900520" y="278100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353040" y="278604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6720" y="28508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00400" y="29156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00400" y="29804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276720" y="29804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2819520" y="3299040"/>
                <a:ext cx="914400" cy="264240"/>
                <a:chOff x="2819520" y="3299040"/>
                <a:chExt cx="914400" cy="2642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2819520" y="336888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3657600" y="336888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200400" y="33688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900520" y="329904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353040" y="330408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76720" y="336888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200400" y="34336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200400" y="34984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720" y="349848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2819520" y="3623040"/>
                <a:ext cx="914400" cy="264240"/>
                <a:chOff x="2819520" y="3623040"/>
                <a:chExt cx="914400" cy="264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2819520" y="369288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>
                  <a:off x="3657600" y="369288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200400" y="36928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0520" y="362304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353040" y="3628080"/>
                  <a:ext cx="295200" cy="12708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276720" y="369288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200400" y="37580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00400" y="38224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276720" y="382248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819520" y="1938600"/>
                <a:ext cx="914400" cy="264240"/>
                <a:chOff x="2819520" y="1938600"/>
                <a:chExt cx="914400" cy="2642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819520" y="20084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3657600" y="20084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200400" y="20084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900520" y="193860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353040" y="194364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76720" y="20084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00400" y="20732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200400" y="21380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276720" y="21380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2819520" y="1614960"/>
                <a:ext cx="914400" cy="264240"/>
                <a:chOff x="2819520" y="1614960"/>
                <a:chExt cx="914400" cy="2642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2819520" y="168480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>
                  <a:off x="3657600" y="168480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200400" y="168480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900520" y="161496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353040" y="162000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276720" y="168480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200400" y="174960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00400" y="181440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276720" y="181440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3" name=""/>
            <p:cNvGrpSpPr/>
            <p:nvPr/>
          </p:nvGrpSpPr>
          <p:grpSpPr>
            <a:xfrm>
              <a:off x="2286000" y="3624120"/>
              <a:ext cx="533520" cy="128880"/>
              <a:chOff x="2286000" y="3624120"/>
              <a:chExt cx="533520" cy="128880"/>
            </a:xfrm>
          </p:grpSpPr>
          <p:sp>
            <p:nvSpPr>
              <p:cNvPr id="654" name=""/>
              <p:cNvSpPr/>
              <p:nvPr/>
            </p:nvSpPr>
            <p:spPr>
              <a:xfrm flipH="1">
                <a:off x="2743200" y="3688560"/>
                <a:ext cx="76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666880" y="3688560"/>
                <a:ext cx="75960" cy="64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590920" y="3624120"/>
                <a:ext cx="76320" cy="12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2514600" y="3624120"/>
                <a:ext cx="76320" cy="12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2438280" y="3624120"/>
                <a:ext cx="75960" cy="12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2362320" y="3624120"/>
                <a:ext cx="76320" cy="64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2286000" y="3688560"/>
                <a:ext cx="76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2133360" y="3687840"/>
              <a:ext cx="1522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1981080" y="3687840"/>
              <a:ext cx="304560" cy="271080"/>
              <a:chOff x="1981080" y="3687840"/>
              <a:chExt cx="304560" cy="271080"/>
            </a:xfrm>
          </p:grpSpPr>
          <p:sp>
            <p:nvSpPr>
              <p:cNvPr id="663" name=""/>
              <p:cNvSpPr/>
              <p:nvPr/>
            </p:nvSpPr>
            <p:spPr>
              <a:xfrm>
                <a:off x="2133360" y="3687840"/>
                <a:ext cx="0" cy="129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81080" y="3817440"/>
                <a:ext cx="304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057040" y="388224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122200" y="395784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286000" y="3300120"/>
              <a:ext cx="533520" cy="128880"/>
              <a:chOff x="2286000" y="3300120"/>
              <a:chExt cx="533520" cy="128880"/>
            </a:xfrm>
          </p:grpSpPr>
          <p:sp>
            <p:nvSpPr>
              <p:cNvPr id="668" name=""/>
              <p:cNvSpPr/>
              <p:nvPr/>
            </p:nvSpPr>
            <p:spPr>
              <a:xfrm flipH="1">
                <a:off x="2743200" y="3364560"/>
                <a:ext cx="76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2666880" y="3364560"/>
                <a:ext cx="75960" cy="64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90920" y="3300480"/>
                <a:ext cx="7632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2514600" y="3300480"/>
                <a:ext cx="7632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2438280" y="3300120"/>
                <a:ext cx="7596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362320" y="3300480"/>
                <a:ext cx="76320" cy="64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286000" y="3364560"/>
                <a:ext cx="76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981080" y="3363840"/>
              <a:ext cx="304560" cy="271080"/>
              <a:chOff x="1981080" y="3363840"/>
              <a:chExt cx="304560" cy="271080"/>
            </a:xfrm>
          </p:grpSpPr>
          <p:sp>
            <p:nvSpPr>
              <p:cNvPr id="676" name=""/>
              <p:cNvSpPr/>
              <p:nvPr/>
            </p:nvSpPr>
            <p:spPr>
              <a:xfrm>
                <a:off x="2133360" y="3363840"/>
                <a:ext cx="0" cy="129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981080" y="3493440"/>
                <a:ext cx="304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057040" y="355824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122200" y="363384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 flipH="1">
              <a:off x="2133360" y="3363840"/>
              <a:ext cx="1522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2286000" y="1939680"/>
              <a:ext cx="533520" cy="128880"/>
              <a:chOff x="2286000" y="1939680"/>
              <a:chExt cx="533520" cy="128880"/>
            </a:xfrm>
          </p:grpSpPr>
          <p:sp>
            <p:nvSpPr>
              <p:cNvPr id="682" name=""/>
              <p:cNvSpPr/>
              <p:nvPr/>
            </p:nvSpPr>
            <p:spPr>
              <a:xfrm flipH="1">
                <a:off x="2743200" y="2004120"/>
                <a:ext cx="76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2666880" y="2004120"/>
                <a:ext cx="75960" cy="64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90920" y="1940040"/>
                <a:ext cx="7632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2514600" y="1940040"/>
                <a:ext cx="7632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 flipV="1">
                <a:off x="2438280" y="1939680"/>
                <a:ext cx="7596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62320" y="1940040"/>
                <a:ext cx="76320" cy="64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2286000" y="2004120"/>
                <a:ext cx="76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>
              <a:off x="2133360" y="2003400"/>
              <a:ext cx="1522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1981080" y="2003400"/>
              <a:ext cx="304560" cy="271080"/>
              <a:chOff x="1981080" y="2003400"/>
              <a:chExt cx="304560" cy="271080"/>
            </a:xfrm>
          </p:grpSpPr>
          <p:sp>
            <p:nvSpPr>
              <p:cNvPr id="691" name=""/>
              <p:cNvSpPr/>
              <p:nvPr/>
            </p:nvSpPr>
            <p:spPr>
              <a:xfrm>
                <a:off x="2133360" y="2003400"/>
                <a:ext cx="0" cy="129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981080" y="2133000"/>
                <a:ext cx="304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057040" y="219780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122200" y="227340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286000" y="1615680"/>
              <a:ext cx="533520" cy="128880"/>
              <a:chOff x="2286000" y="1615680"/>
              <a:chExt cx="533520" cy="128880"/>
            </a:xfrm>
          </p:grpSpPr>
          <p:sp>
            <p:nvSpPr>
              <p:cNvPr id="696" name=""/>
              <p:cNvSpPr/>
              <p:nvPr/>
            </p:nvSpPr>
            <p:spPr>
              <a:xfrm flipH="1">
                <a:off x="2743200" y="1680120"/>
                <a:ext cx="76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2666880" y="1680120"/>
                <a:ext cx="75960" cy="64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590920" y="1616040"/>
                <a:ext cx="7632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2514600" y="1616040"/>
                <a:ext cx="7632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2438280" y="1615680"/>
                <a:ext cx="75960" cy="128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2362320" y="1616040"/>
                <a:ext cx="76320" cy="64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286000" y="1680120"/>
                <a:ext cx="76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1981080" y="1679400"/>
              <a:ext cx="304560" cy="271440"/>
              <a:chOff x="1981080" y="1679400"/>
              <a:chExt cx="304560" cy="271440"/>
            </a:xfrm>
          </p:grpSpPr>
          <p:sp>
            <p:nvSpPr>
              <p:cNvPr id="704" name=""/>
              <p:cNvSpPr/>
              <p:nvPr/>
            </p:nvSpPr>
            <p:spPr>
              <a:xfrm>
                <a:off x="2133360" y="1679400"/>
                <a:ext cx="0" cy="129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981080" y="1809000"/>
                <a:ext cx="304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057040" y="187416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122200" y="194976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 flipH="1">
              <a:off x="2133360" y="1679400"/>
              <a:ext cx="1522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5410080" y="1355760"/>
              <a:ext cx="914400" cy="2720880"/>
              <a:chOff x="5410080" y="1355760"/>
              <a:chExt cx="914400" cy="2720880"/>
            </a:xfrm>
          </p:grpSpPr>
          <p:sp>
            <p:nvSpPr>
              <p:cNvPr id="710" name=""/>
              <p:cNvSpPr/>
              <p:nvPr/>
            </p:nvSpPr>
            <p:spPr>
              <a:xfrm>
                <a:off x="5410080" y="1355760"/>
                <a:ext cx="914400" cy="272088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1" name=""/>
              <p:cNvGrpSpPr/>
              <p:nvPr/>
            </p:nvGrpSpPr>
            <p:grpSpPr>
              <a:xfrm>
                <a:off x="5410080" y="2451600"/>
                <a:ext cx="914400" cy="264240"/>
                <a:chOff x="5410080" y="2451600"/>
                <a:chExt cx="914400" cy="2642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5410080" y="25214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6248160" y="25214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90960" y="25214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491080" y="245160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943600" y="245664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867280" y="25214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790960" y="25862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790960" y="26510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867280" y="26510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410080" y="2781000"/>
                <a:ext cx="914400" cy="264240"/>
                <a:chOff x="5410080" y="2781000"/>
                <a:chExt cx="914400" cy="26424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410080" y="28508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6248160" y="28508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90960" y="28508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91080" y="278100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943600" y="278604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867280" y="28508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790960" y="29156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90960" y="29804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867280" y="29804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5410080" y="3299040"/>
                <a:ext cx="914400" cy="264240"/>
                <a:chOff x="5410080" y="3299040"/>
                <a:chExt cx="914400" cy="2642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5410080" y="336888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6248160" y="336888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790960" y="33688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491080" y="329904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943600" y="330408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867280" y="336888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790960" y="34336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790960" y="34984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867280" y="349848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5410080" y="3623040"/>
                <a:ext cx="914400" cy="264240"/>
                <a:chOff x="5410080" y="3623040"/>
                <a:chExt cx="914400" cy="2642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5410080" y="369288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6248160" y="369288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790960" y="36928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491080" y="362304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943600" y="3628080"/>
                  <a:ext cx="295200" cy="12708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867280" y="369288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790960" y="37580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790960" y="382248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867280" y="382248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5410080" y="1938600"/>
                <a:ext cx="914400" cy="264240"/>
                <a:chOff x="5410080" y="1938600"/>
                <a:chExt cx="914400" cy="2642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5410080" y="20084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6248160" y="200844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790960" y="20084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491080" y="193860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943600" y="194364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867280" y="20084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90960" y="20732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790960" y="21380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867280" y="213804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5410080" y="1614960"/>
                <a:ext cx="914400" cy="264240"/>
                <a:chOff x="5410080" y="1614960"/>
                <a:chExt cx="914400" cy="26424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5410080" y="168480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6248160" y="1684800"/>
                  <a:ext cx="763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790960" y="168480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491080" y="1614960"/>
                  <a:ext cx="29520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943600" y="1620000"/>
                  <a:ext cx="295200" cy="126720"/>
                </a:xfrm>
                <a:custGeom>
                  <a:avLst/>
                  <a:gdLst/>
                  <a:ahLst/>
                  <a:rect l="l" t="t" r="r" b="b"/>
                  <a:pathLst>
                    <a:path w="186" h="94">
                      <a:moveTo>
                        <a:pt x="0" y="52"/>
                      </a:moveTo>
                      <a:cubicBezTo>
                        <a:pt x="5" y="42"/>
                        <a:pt x="2" y="31"/>
                        <a:pt x="11" y="24"/>
                      </a:cubicBezTo>
                      <a:cubicBezTo>
                        <a:pt x="14" y="11"/>
                        <a:pt x="25" y="2"/>
                        <a:pt x="38" y="0"/>
                      </a:cubicBezTo>
                      <a:cubicBezTo>
                        <a:pt x="45" y="1"/>
                        <a:pt x="50" y="0"/>
                        <a:pt x="56" y="3"/>
                      </a:cubicBezTo>
                      <a:cubicBezTo>
                        <a:pt x="63" y="7"/>
                        <a:pt x="63" y="14"/>
                        <a:pt x="71" y="16"/>
                      </a:cubicBezTo>
                      <a:cubicBezTo>
                        <a:pt x="73" y="24"/>
                        <a:pt x="75" y="33"/>
                        <a:pt x="80" y="40"/>
                      </a:cubicBezTo>
                      <a:cubicBezTo>
                        <a:pt x="83" y="53"/>
                        <a:pt x="87" y="67"/>
                        <a:pt x="78" y="79"/>
                      </a:cubicBezTo>
                      <a:cubicBezTo>
                        <a:pt x="76" y="87"/>
                        <a:pt x="75" y="93"/>
                        <a:pt x="66" y="94"/>
                      </a:cubicBezTo>
                      <a:cubicBezTo>
                        <a:pt x="58" y="93"/>
                        <a:pt x="58" y="90"/>
                        <a:pt x="54" y="84"/>
                      </a:cubicBezTo>
                      <a:cubicBezTo>
                        <a:pt x="53" y="79"/>
                        <a:pt x="51" y="75"/>
                        <a:pt x="50" y="70"/>
                      </a:cubicBezTo>
                      <a:cubicBezTo>
                        <a:pt x="51" y="53"/>
                        <a:pt x="52" y="38"/>
                        <a:pt x="62" y="24"/>
                      </a:cubicBezTo>
                      <a:cubicBezTo>
                        <a:pt x="64" y="12"/>
                        <a:pt x="71" y="2"/>
                        <a:pt x="83" y="0"/>
                      </a:cubicBezTo>
                      <a:cubicBezTo>
                        <a:pt x="91" y="1"/>
                        <a:pt x="97" y="3"/>
                        <a:pt x="104" y="4"/>
                      </a:cubicBezTo>
                      <a:cubicBezTo>
                        <a:pt x="115" y="9"/>
                        <a:pt x="121" y="13"/>
                        <a:pt x="128" y="24"/>
                      </a:cubicBezTo>
                      <a:cubicBezTo>
                        <a:pt x="129" y="32"/>
                        <a:pt x="132" y="41"/>
                        <a:pt x="134" y="49"/>
                      </a:cubicBezTo>
                      <a:cubicBezTo>
                        <a:pt x="132" y="61"/>
                        <a:pt x="133" y="82"/>
                        <a:pt x="117" y="85"/>
                      </a:cubicBezTo>
                      <a:cubicBezTo>
                        <a:pt x="111" y="89"/>
                        <a:pt x="109" y="92"/>
                        <a:pt x="105" y="85"/>
                      </a:cubicBezTo>
                      <a:cubicBezTo>
                        <a:pt x="103" y="74"/>
                        <a:pt x="102" y="65"/>
                        <a:pt x="107" y="54"/>
                      </a:cubicBezTo>
                      <a:cubicBezTo>
                        <a:pt x="108" y="47"/>
                        <a:pt x="112" y="42"/>
                        <a:pt x="116" y="36"/>
                      </a:cubicBezTo>
                      <a:cubicBezTo>
                        <a:pt x="118" y="25"/>
                        <a:pt x="126" y="19"/>
                        <a:pt x="135" y="12"/>
                      </a:cubicBezTo>
                      <a:cubicBezTo>
                        <a:pt x="155" y="13"/>
                        <a:pt x="153" y="13"/>
                        <a:pt x="167" y="16"/>
                      </a:cubicBezTo>
                      <a:cubicBezTo>
                        <a:pt x="171" y="23"/>
                        <a:pt x="176" y="26"/>
                        <a:pt x="179" y="33"/>
                      </a:cubicBezTo>
                      <a:cubicBezTo>
                        <a:pt x="180" y="39"/>
                        <a:pt x="182" y="42"/>
                        <a:pt x="185" y="48"/>
                      </a:cubicBezTo>
                      <a:cubicBezTo>
                        <a:pt x="185" y="50"/>
                        <a:pt x="186" y="55"/>
                        <a:pt x="186" y="55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867280" y="168480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90960" y="174960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790960" y="181440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867280" y="1814400"/>
                  <a:ext cx="0" cy="648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1" name=""/>
            <p:cNvSpPr/>
            <p:nvPr/>
          </p:nvSpPr>
          <p:spPr>
            <a:xfrm>
              <a:off x="4114800" y="1355760"/>
              <a:ext cx="914400" cy="27208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4114800" y="1616040"/>
              <a:ext cx="914400" cy="128520"/>
              <a:chOff x="4114800" y="1616040"/>
              <a:chExt cx="914400" cy="128520"/>
            </a:xfrm>
          </p:grpSpPr>
          <p:sp>
            <p:nvSpPr>
              <p:cNvPr id="773" name=""/>
              <p:cNvSpPr/>
              <p:nvPr/>
            </p:nvSpPr>
            <p:spPr>
              <a:xfrm>
                <a:off x="4267440" y="1616040"/>
                <a:ext cx="609480" cy="1285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4114800" y="168012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876920" y="1680120"/>
                <a:ext cx="152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114800" y="1940040"/>
              <a:ext cx="914400" cy="128520"/>
              <a:chOff x="4114800" y="1940040"/>
              <a:chExt cx="914400" cy="128520"/>
            </a:xfrm>
          </p:grpSpPr>
          <p:sp>
            <p:nvSpPr>
              <p:cNvPr id="777" name=""/>
              <p:cNvSpPr/>
              <p:nvPr/>
            </p:nvSpPr>
            <p:spPr>
              <a:xfrm>
                <a:off x="4267440" y="1940040"/>
                <a:ext cx="609480" cy="1285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4114800" y="200412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2004120"/>
                <a:ext cx="152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4114800" y="2457360"/>
              <a:ext cx="914400" cy="130320"/>
              <a:chOff x="4114800" y="2457360"/>
              <a:chExt cx="914400" cy="130320"/>
            </a:xfrm>
          </p:grpSpPr>
          <p:sp>
            <p:nvSpPr>
              <p:cNvPr id="781" name=""/>
              <p:cNvSpPr/>
              <p:nvPr/>
            </p:nvSpPr>
            <p:spPr>
              <a:xfrm>
                <a:off x="4267440" y="2457360"/>
                <a:ext cx="609480" cy="1303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4114800" y="252216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6920" y="2522160"/>
                <a:ext cx="152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4114800" y="2781360"/>
              <a:ext cx="914400" cy="129960"/>
              <a:chOff x="4114800" y="2781360"/>
              <a:chExt cx="914400" cy="129960"/>
            </a:xfrm>
          </p:grpSpPr>
          <p:sp>
            <p:nvSpPr>
              <p:cNvPr id="785" name=""/>
              <p:cNvSpPr/>
              <p:nvPr/>
            </p:nvSpPr>
            <p:spPr>
              <a:xfrm>
                <a:off x="4267440" y="2781360"/>
                <a:ext cx="609480" cy="12996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4114800" y="284616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876920" y="2846160"/>
                <a:ext cx="152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114800" y="3300480"/>
              <a:ext cx="914400" cy="128520"/>
              <a:chOff x="4114800" y="3300480"/>
              <a:chExt cx="914400" cy="128520"/>
            </a:xfrm>
          </p:grpSpPr>
          <p:sp>
            <p:nvSpPr>
              <p:cNvPr id="789" name=""/>
              <p:cNvSpPr/>
              <p:nvPr/>
            </p:nvSpPr>
            <p:spPr>
              <a:xfrm>
                <a:off x="4267440" y="3300480"/>
                <a:ext cx="609480" cy="1285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114800" y="336456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876920" y="3364560"/>
                <a:ext cx="152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4114800" y="3624120"/>
              <a:ext cx="914400" cy="128880"/>
              <a:chOff x="4114800" y="3624120"/>
              <a:chExt cx="914400" cy="128880"/>
            </a:xfrm>
          </p:grpSpPr>
          <p:sp>
            <p:nvSpPr>
              <p:cNvPr id="793" name=""/>
              <p:cNvSpPr/>
              <p:nvPr/>
            </p:nvSpPr>
            <p:spPr>
              <a:xfrm>
                <a:off x="4267440" y="3624120"/>
                <a:ext cx="609480" cy="12888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4114800" y="368820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876920" y="3688200"/>
                <a:ext cx="1522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324480" y="1616040"/>
              <a:ext cx="838080" cy="334440"/>
              <a:chOff x="6324480" y="1616040"/>
              <a:chExt cx="838080" cy="33444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6324480" y="1616040"/>
                <a:ext cx="532800" cy="128880"/>
                <a:chOff x="6324480" y="1616040"/>
                <a:chExt cx="532800" cy="128880"/>
              </a:xfrm>
            </p:grpSpPr>
            <p:sp>
              <p:nvSpPr>
                <p:cNvPr id="798" name=""/>
                <p:cNvSpPr/>
                <p:nvPr/>
              </p:nvSpPr>
              <p:spPr>
                <a:xfrm flipH="1">
                  <a:off x="6781320" y="1680480"/>
                  <a:ext cx="75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6705720" y="1680480"/>
                  <a:ext cx="75600" cy="644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629400" y="1616040"/>
                  <a:ext cx="7596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6552720" y="1616040"/>
                  <a:ext cx="7596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flipV="1">
                  <a:off x="6477120" y="1616040"/>
                  <a:ext cx="7560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6400440" y="1616040"/>
                  <a:ext cx="75960" cy="644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6324480" y="1680480"/>
                  <a:ext cx="75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 flipH="1">
                <a:off x="6857640" y="168012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6858000" y="1680120"/>
                <a:ext cx="304560" cy="270360"/>
                <a:chOff x="6858000" y="1680120"/>
                <a:chExt cx="304560" cy="2703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7010280" y="1680120"/>
                  <a:ext cx="0" cy="1292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858000" y="180936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933960" y="187416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999120" y="1949400"/>
                  <a:ext cx="33480" cy="1080"/>
                </a:xfrm>
                <a:custGeom>
                  <a:avLst/>
                  <a:gdLst/>
                  <a:ahLst/>
                  <a:rect l="l" t="t" r="r" b="b"/>
                  <a:pathLst>
                    <a:path w="21" h="1">
                      <a:moveTo>
                        <a:pt x="0" y="0"/>
                      </a:moveTo>
                      <a:cubicBezTo>
                        <a:pt x="7" y="0"/>
                        <a:pt x="14" y="0"/>
                        <a:pt x="21" y="0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1" name=""/>
            <p:cNvGrpSpPr/>
            <p:nvPr/>
          </p:nvGrpSpPr>
          <p:grpSpPr>
            <a:xfrm>
              <a:off x="6324480" y="1940040"/>
              <a:ext cx="838080" cy="334080"/>
              <a:chOff x="6324480" y="1940040"/>
              <a:chExt cx="838080" cy="33408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324480" y="1940040"/>
                <a:ext cx="532800" cy="128880"/>
                <a:chOff x="6324480" y="1940040"/>
                <a:chExt cx="532800" cy="128880"/>
              </a:xfrm>
            </p:grpSpPr>
            <p:sp>
              <p:nvSpPr>
                <p:cNvPr id="813" name=""/>
                <p:cNvSpPr/>
                <p:nvPr/>
              </p:nvSpPr>
              <p:spPr>
                <a:xfrm flipH="1">
                  <a:off x="6781320" y="2004480"/>
                  <a:ext cx="75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>
                  <a:off x="6705720" y="2004480"/>
                  <a:ext cx="75600" cy="644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629400" y="1940040"/>
                  <a:ext cx="7596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>
                  <a:off x="6552720" y="1940040"/>
                  <a:ext cx="7596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flipV="1">
                  <a:off x="6477120" y="1940040"/>
                  <a:ext cx="7560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6400440" y="1940040"/>
                  <a:ext cx="75960" cy="644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6324480" y="2004480"/>
                  <a:ext cx="75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" name=""/>
              <p:cNvSpPr/>
              <p:nvPr/>
            </p:nvSpPr>
            <p:spPr>
              <a:xfrm flipH="1">
                <a:off x="6857640" y="200412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6858000" y="2004120"/>
                <a:ext cx="304560" cy="270000"/>
                <a:chOff x="6858000" y="2004120"/>
                <a:chExt cx="304560" cy="2700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010280" y="2004120"/>
                  <a:ext cx="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858000" y="213300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933960" y="219780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999120" y="2273040"/>
                  <a:ext cx="33480" cy="1080"/>
                </a:xfrm>
                <a:custGeom>
                  <a:avLst/>
                  <a:gdLst/>
                  <a:ahLst/>
                  <a:rect l="l" t="t" r="r" b="b"/>
                  <a:pathLst>
                    <a:path w="21" h="1">
                      <a:moveTo>
                        <a:pt x="0" y="0"/>
                      </a:moveTo>
                      <a:cubicBezTo>
                        <a:pt x="7" y="0"/>
                        <a:pt x="14" y="0"/>
                        <a:pt x="21" y="0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6" name=""/>
            <p:cNvGrpSpPr/>
            <p:nvPr/>
          </p:nvGrpSpPr>
          <p:grpSpPr>
            <a:xfrm>
              <a:off x="6324480" y="3300480"/>
              <a:ext cx="838080" cy="334080"/>
              <a:chOff x="6324480" y="3300480"/>
              <a:chExt cx="838080" cy="334080"/>
            </a:xfrm>
          </p:grpSpPr>
          <p:grpSp>
            <p:nvGrpSpPr>
              <p:cNvPr id="827" name=""/>
              <p:cNvGrpSpPr/>
              <p:nvPr/>
            </p:nvGrpSpPr>
            <p:grpSpPr>
              <a:xfrm>
                <a:off x="6324480" y="3300480"/>
                <a:ext cx="532800" cy="128880"/>
                <a:chOff x="6324480" y="3300480"/>
                <a:chExt cx="532800" cy="128880"/>
              </a:xfrm>
            </p:grpSpPr>
            <p:sp>
              <p:nvSpPr>
                <p:cNvPr id="828" name=""/>
                <p:cNvSpPr/>
                <p:nvPr/>
              </p:nvSpPr>
              <p:spPr>
                <a:xfrm flipH="1">
                  <a:off x="6781320" y="3364920"/>
                  <a:ext cx="75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6705720" y="3364920"/>
                  <a:ext cx="75600" cy="644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629400" y="3300480"/>
                  <a:ext cx="7596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6552720" y="3300480"/>
                  <a:ext cx="7596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flipV="1">
                  <a:off x="6477120" y="3300480"/>
                  <a:ext cx="7560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6400440" y="3300480"/>
                  <a:ext cx="75960" cy="644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6324480" y="3364920"/>
                  <a:ext cx="75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 flipH="1">
                <a:off x="6857640" y="336456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6" name=""/>
              <p:cNvGrpSpPr/>
              <p:nvPr/>
            </p:nvGrpSpPr>
            <p:grpSpPr>
              <a:xfrm>
                <a:off x="6858000" y="3364560"/>
                <a:ext cx="304560" cy="270000"/>
                <a:chOff x="6858000" y="3364560"/>
                <a:chExt cx="304560" cy="27000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7010280" y="3364560"/>
                  <a:ext cx="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858000" y="349344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933960" y="35582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999120" y="3633480"/>
                  <a:ext cx="33480" cy="1080"/>
                </a:xfrm>
                <a:custGeom>
                  <a:avLst/>
                  <a:gdLst/>
                  <a:ahLst/>
                  <a:rect l="l" t="t" r="r" b="b"/>
                  <a:pathLst>
                    <a:path w="21" h="1">
                      <a:moveTo>
                        <a:pt x="0" y="0"/>
                      </a:moveTo>
                      <a:cubicBezTo>
                        <a:pt x="7" y="0"/>
                        <a:pt x="14" y="0"/>
                        <a:pt x="21" y="0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1" name=""/>
            <p:cNvGrpSpPr/>
            <p:nvPr/>
          </p:nvGrpSpPr>
          <p:grpSpPr>
            <a:xfrm>
              <a:off x="6324480" y="3624120"/>
              <a:ext cx="838080" cy="334440"/>
              <a:chOff x="6324480" y="3624120"/>
              <a:chExt cx="838080" cy="33444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6324480" y="3624120"/>
                <a:ext cx="532800" cy="128880"/>
                <a:chOff x="6324480" y="3624120"/>
                <a:chExt cx="532800" cy="128880"/>
              </a:xfrm>
            </p:grpSpPr>
            <p:sp>
              <p:nvSpPr>
                <p:cNvPr id="843" name=""/>
                <p:cNvSpPr/>
                <p:nvPr/>
              </p:nvSpPr>
              <p:spPr>
                <a:xfrm flipH="1">
                  <a:off x="6781320" y="3688560"/>
                  <a:ext cx="75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6705720" y="3688560"/>
                  <a:ext cx="75600" cy="644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629400" y="3624120"/>
                  <a:ext cx="7596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6552720" y="3624120"/>
                  <a:ext cx="7596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flipV="1">
                  <a:off x="6477120" y="3624120"/>
                  <a:ext cx="75600" cy="128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6400440" y="3624120"/>
                  <a:ext cx="75960" cy="644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6324480" y="3688560"/>
                  <a:ext cx="759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0" name=""/>
              <p:cNvSpPr/>
              <p:nvPr/>
            </p:nvSpPr>
            <p:spPr>
              <a:xfrm flipH="1">
                <a:off x="6857640" y="3688200"/>
                <a:ext cx="152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6858000" y="3688200"/>
                <a:ext cx="304560" cy="270360"/>
                <a:chOff x="6858000" y="3688200"/>
                <a:chExt cx="304560" cy="27036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7010280" y="3688200"/>
                  <a:ext cx="0" cy="1292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858000" y="381744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933960" y="3882240"/>
                  <a:ext cx="1526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999120" y="3957480"/>
                  <a:ext cx="33480" cy="1080"/>
                </a:xfrm>
                <a:custGeom>
                  <a:avLst/>
                  <a:gdLst/>
                  <a:ahLst/>
                  <a:rect l="l" t="t" r="r" b="b"/>
                  <a:pathLst>
                    <a:path w="21" h="1">
                      <a:moveTo>
                        <a:pt x="0" y="0"/>
                      </a:moveTo>
                      <a:cubicBezTo>
                        <a:pt x="7" y="0"/>
                        <a:pt x="14" y="0"/>
                        <a:pt x="21" y="0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6" name=""/>
            <p:cNvSpPr/>
            <p:nvPr/>
          </p:nvSpPr>
          <p:spPr>
            <a:xfrm>
              <a:off x="3733920" y="167940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33920" y="200340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33920" y="252252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33920" y="284652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33920" y="336384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33920" y="368784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029200" y="167940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29200" y="200340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29200" y="252252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29200" y="284652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29200" y="336384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29200" y="3687840"/>
              <a:ext cx="38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324480" y="2522520"/>
              <a:ext cx="457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66680" y="838080"/>
              <a:ext cx="7010640" cy="38862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46160" y="414504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ff"/>
                  </a:solidFill>
                  <a:latin typeface="Arial Black"/>
                </a:rPr>
                <a:t>bu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74560" y="407664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ff"/>
                  </a:solidFill>
                  <a:latin typeface="Arial Black"/>
                </a:rPr>
                <a:t>BG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ff"/>
                  </a:solidFill>
                  <a:latin typeface="Arial Black"/>
                </a:rPr>
                <a:t>tr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99440" y="41418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ff"/>
                  </a:solidFill>
                  <a:latin typeface="Arial Black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81680" y="2328840"/>
              <a:ext cx="1295640" cy="71136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34320" y="2457360"/>
              <a:ext cx="1143000" cy="1303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34320" y="2781360"/>
              <a:ext cx="1143000" cy="1299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81680" y="252252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284652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ackage Model Element Elimina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904760" y="487692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uced simulation time by about 10%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anged results beyond acceptable erro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24480" y="284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5400000">
            <a:off x="1571400" y="2303280"/>
            <a:ext cx="971640" cy="761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09680" y="25225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362320" y="284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09680" y="2781360"/>
            <a:ext cx="152640" cy="1299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19520" y="1355760"/>
            <a:ext cx="914400" cy="2720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2819520" y="2451240"/>
            <a:ext cx="914400" cy="264600"/>
            <a:chOff x="2819520" y="2451240"/>
            <a:chExt cx="914400" cy="264600"/>
          </a:xfrm>
        </p:grpSpPr>
        <p:sp>
          <p:nvSpPr>
            <p:cNvPr id="887" name=""/>
            <p:cNvSpPr/>
            <p:nvPr/>
          </p:nvSpPr>
          <p:spPr>
            <a:xfrm>
              <a:off x="2819520" y="252144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657600" y="252144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00400" y="25214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900520" y="2451240"/>
              <a:ext cx="295200" cy="12672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53040" y="245628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76720" y="2521440"/>
              <a:ext cx="0" cy="6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00400" y="25862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00400" y="26510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76720" y="2651040"/>
              <a:ext cx="0" cy="6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2819520" y="2781360"/>
            <a:ext cx="914400" cy="263160"/>
            <a:chOff x="2819520" y="2781360"/>
            <a:chExt cx="914400" cy="263160"/>
          </a:xfrm>
        </p:grpSpPr>
        <p:sp>
          <p:nvSpPr>
            <p:cNvPr id="897" name=""/>
            <p:cNvSpPr/>
            <p:nvPr/>
          </p:nvSpPr>
          <p:spPr>
            <a:xfrm>
              <a:off x="2819520" y="285120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657600" y="285120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00400" y="28512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00520" y="2781360"/>
              <a:ext cx="295200" cy="12600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53040" y="2786400"/>
              <a:ext cx="295200" cy="12636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76720" y="2851200"/>
              <a:ext cx="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00400" y="29156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200400" y="29800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76720" y="2980080"/>
              <a:ext cx="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2819520" y="3298680"/>
            <a:ext cx="914400" cy="264960"/>
            <a:chOff x="2819520" y="3298680"/>
            <a:chExt cx="914400" cy="264960"/>
          </a:xfrm>
        </p:grpSpPr>
        <p:sp>
          <p:nvSpPr>
            <p:cNvPr id="907" name=""/>
            <p:cNvSpPr/>
            <p:nvPr/>
          </p:nvSpPr>
          <p:spPr>
            <a:xfrm>
              <a:off x="2819520" y="3368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3657600" y="3368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00400" y="336888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00520" y="329868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53040" y="3303720"/>
              <a:ext cx="295200" cy="12744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76720" y="336888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00400" y="343404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00400" y="349884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76720" y="349884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819520" y="3622680"/>
            <a:ext cx="914400" cy="264600"/>
            <a:chOff x="2819520" y="3622680"/>
            <a:chExt cx="914400" cy="264600"/>
          </a:xfrm>
        </p:grpSpPr>
        <p:sp>
          <p:nvSpPr>
            <p:cNvPr id="917" name=""/>
            <p:cNvSpPr/>
            <p:nvPr/>
          </p:nvSpPr>
          <p:spPr>
            <a:xfrm>
              <a:off x="2819520" y="3692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657600" y="3692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0400" y="369288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00520" y="3622680"/>
              <a:ext cx="295200" cy="12672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353040" y="362772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76720" y="369288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00400" y="375768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200400" y="382248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76720" y="382248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2819520" y="1938240"/>
            <a:ext cx="914400" cy="264960"/>
            <a:chOff x="2819520" y="1938240"/>
            <a:chExt cx="914400" cy="264960"/>
          </a:xfrm>
        </p:grpSpPr>
        <p:sp>
          <p:nvSpPr>
            <p:cNvPr id="927" name=""/>
            <p:cNvSpPr/>
            <p:nvPr/>
          </p:nvSpPr>
          <p:spPr>
            <a:xfrm>
              <a:off x="2819520" y="200844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3657600" y="200844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00400" y="200844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00520" y="193824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53040" y="1943280"/>
              <a:ext cx="295200" cy="12744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76720" y="200844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200400" y="20736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00400" y="21384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76720" y="213840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819520" y="1614600"/>
            <a:ext cx="914400" cy="264600"/>
            <a:chOff x="2819520" y="1614600"/>
            <a:chExt cx="914400" cy="264600"/>
          </a:xfrm>
        </p:grpSpPr>
        <p:sp>
          <p:nvSpPr>
            <p:cNvPr id="937" name=""/>
            <p:cNvSpPr/>
            <p:nvPr/>
          </p:nvSpPr>
          <p:spPr>
            <a:xfrm>
              <a:off x="2819520" y="168480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3657600" y="168480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00400" y="16848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900520" y="1614600"/>
              <a:ext cx="295200" cy="12672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53040" y="161964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76720" y="168480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00400" y="17496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00400" y="18144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76720" y="181440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286000" y="3624120"/>
            <a:ext cx="533520" cy="128880"/>
            <a:chOff x="2286000" y="3624120"/>
            <a:chExt cx="533520" cy="128880"/>
          </a:xfrm>
        </p:grpSpPr>
        <p:sp>
          <p:nvSpPr>
            <p:cNvPr id="947" name=""/>
            <p:cNvSpPr/>
            <p:nvPr/>
          </p:nvSpPr>
          <p:spPr>
            <a:xfrm flipH="1">
              <a:off x="2743200" y="368856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2666880" y="3688560"/>
              <a:ext cx="75960" cy="64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590920" y="3624120"/>
              <a:ext cx="76320" cy="12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2514600" y="3624120"/>
              <a:ext cx="76320" cy="12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flipV="1">
              <a:off x="2438280" y="3624120"/>
              <a:ext cx="75960" cy="12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2362320" y="3624120"/>
              <a:ext cx="76320" cy="64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286000" y="368856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flipH="1">
            <a:off x="2133360" y="3687840"/>
            <a:ext cx="152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981080" y="3687840"/>
            <a:ext cx="304560" cy="271080"/>
            <a:chOff x="1981080" y="3687840"/>
            <a:chExt cx="304560" cy="271080"/>
          </a:xfrm>
        </p:grpSpPr>
        <p:sp>
          <p:nvSpPr>
            <p:cNvPr id="956" name=""/>
            <p:cNvSpPr/>
            <p:nvPr/>
          </p:nvSpPr>
          <p:spPr>
            <a:xfrm>
              <a:off x="2133360" y="3687840"/>
              <a:ext cx="0" cy="12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981080" y="3817440"/>
              <a:ext cx="30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057040" y="388224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22200" y="3957840"/>
              <a:ext cx="3348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cubicBezTo>
                    <a:pt x="7" y="0"/>
                    <a:pt x="14" y="0"/>
                    <a:pt x="21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286000" y="3300120"/>
            <a:ext cx="533520" cy="128880"/>
            <a:chOff x="2286000" y="3300120"/>
            <a:chExt cx="533520" cy="128880"/>
          </a:xfrm>
        </p:grpSpPr>
        <p:sp>
          <p:nvSpPr>
            <p:cNvPr id="961" name=""/>
            <p:cNvSpPr/>
            <p:nvPr/>
          </p:nvSpPr>
          <p:spPr>
            <a:xfrm flipH="1">
              <a:off x="2743200" y="336456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2666880" y="3364560"/>
              <a:ext cx="75960" cy="6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90920" y="3300480"/>
              <a:ext cx="7632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2514600" y="3300480"/>
              <a:ext cx="7632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flipV="1">
              <a:off x="2438280" y="3300120"/>
              <a:ext cx="75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2362320" y="3300480"/>
              <a:ext cx="76320" cy="6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2286000" y="336456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981080" y="3363840"/>
            <a:ext cx="304560" cy="271080"/>
            <a:chOff x="1981080" y="3363840"/>
            <a:chExt cx="304560" cy="271080"/>
          </a:xfrm>
        </p:grpSpPr>
        <p:sp>
          <p:nvSpPr>
            <p:cNvPr id="969" name=""/>
            <p:cNvSpPr/>
            <p:nvPr/>
          </p:nvSpPr>
          <p:spPr>
            <a:xfrm>
              <a:off x="2133360" y="3363840"/>
              <a:ext cx="0" cy="12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981080" y="3493440"/>
              <a:ext cx="30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057040" y="355824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22200" y="3633840"/>
              <a:ext cx="3348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cubicBezTo>
                    <a:pt x="7" y="0"/>
                    <a:pt x="14" y="0"/>
                    <a:pt x="21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 flipH="1">
            <a:off x="2133360" y="3363840"/>
            <a:ext cx="152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2286000" y="1939680"/>
            <a:ext cx="533520" cy="128880"/>
            <a:chOff x="2286000" y="1939680"/>
            <a:chExt cx="533520" cy="128880"/>
          </a:xfrm>
        </p:grpSpPr>
        <p:sp>
          <p:nvSpPr>
            <p:cNvPr id="975" name=""/>
            <p:cNvSpPr/>
            <p:nvPr/>
          </p:nvSpPr>
          <p:spPr>
            <a:xfrm flipH="1">
              <a:off x="2743200" y="20041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2666880" y="2004120"/>
              <a:ext cx="75960" cy="6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0920" y="1940040"/>
              <a:ext cx="7632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2514600" y="1940040"/>
              <a:ext cx="7632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2438280" y="1939680"/>
              <a:ext cx="75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362320" y="1940040"/>
              <a:ext cx="76320" cy="6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286000" y="20041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 flipH="1">
            <a:off x="2133360" y="2003400"/>
            <a:ext cx="152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81080" y="2003400"/>
            <a:ext cx="304560" cy="271080"/>
            <a:chOff x="1981080" y="2003400"/>
            <a:chExt cx="304560" cy="271080"/>
          </a:xfrm>
        </p:grpSpPr>
        <p:sp>
          <p:nvSpPr>
            <p:cNvPr id="984" name=""/>
            <p:cNvSpPr/>
            <p:nvPr/>
          </p:nvSpPr>
          <p:spPr>
            <a:xfrm>
              <a:off x="2133360" y="2003400"/>
              <a:ext cx="0" cy="12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81080" y="2133000"/>
              <a:ext cx="30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57040" y="21978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22200" y="2273400"/>
              <a:ext cx="3348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cubicBezTo>
                    <a:pt x="7" y="0"/>
                    <a:pt x="14" y="0"/>
                    <a:pt x="21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2286000" y="1615680"/>
            <a:ext cx="533520" cy="128880"/>
            <a:chOff x="2286000" y="1615680"/>
            <a:chExt cx="533520" cy="128880"/>
          </a:xfrm>
        </p:grpSpPr>
        <p:sp>
          <p:nvSpPr>
            <p:cNvPr id="989" name=""/>
            <p:cNvSpPr/>
            <p:nvPr/>
          </p:nvSpPr>
          <p:spPr>
            <a:xfrm flipH="1">
              <a:off x="2743200" y="16801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2666880" y="1680120"/>
              <a:ext cx="75960" cy="6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90920" y="1616040"/>
              <a:ext cx="7632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514600" y="1616040"/>
              <a:ext cx="7632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flipV="1">
              <a:off x="2438280" y="1615680"/>
              <a:ext cx="75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362320" y="1616040"/>
              <a:ext cx="76320" cy="6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286000" y="16801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1981080" y="1679400"/>
            <a:ext cx="304560" cy="271440"/>
            <a:chOff x="1981080" y="1679400"/>
            <a:chExt cx="304560" cy="271440"/>
          </a:xfrm>
        </p:grpSpPr>
        <p:sp>
          <p:nvSpPr>
            <p:cNvPr id="997" name=""/>
            <p:cNvSpPr/>
            <p:nvPr/>
          </p:nvSpPr>
          <p:spPr>
            <a:xfrm>
              <a:off x="2133360" y="1679400"/>
              <a:ext cx="0" cy="12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81080" y="1809000"/>
              <a:ext cx="30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057040" y="187416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22200" y="1949760"/>
              <a:ext cx="3348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cubicBezTo>
                    <a:pt x="7" y="0"/>
                    <a:pt x="14" y="0"/>
                    <a:pt x="21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 flipH="1">
            <a:off x="2133360" y="1679400"/>
            <a:ext cx="152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410080" y="1355760"/>
            <a:ext cx="914400" cy="2720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410080" y="2451240"/>
            <a:ext cx="914400" cy="264600"/>
            <a:chOff x="5410080" y="2451240"/>
            <a:chExt cx="914400" cy="264600"/>
          </a:xfrm>
        </p:grpSpPr>
        <p:sp>
          <p:nvSpPr>
            <p:cNvPr id="1004" name=""/>
            <p:cNvSpPr/>
            <p:nvPr/>
          </p:nvSpPr>
          <p:spPr>
            <a:xfrm>
              <a:off x="5410080" y="252144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6248160" y="252144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90960" y="25214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91080" y="2451240"/>
              <a:ext cx="295200" cy="12672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3600" y="245628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67280" y="2521440"/>
              <a:ext cx="0" cy="6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90960" y="25862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90960" y="26510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67280" y="2651040"/>
              <a:ext cx="0" cy="6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5410080" y="2781360"/>
            <a:ext cx="914400" cy="263160"/>
            <a:chOff x="5410080" y="2781360"/>
            <a:chExt cx="914400" cy="263160"/>
          </a:xfrm>
        </p:grpSpPr>
        <p:sp>
          <p:nvSpPr>
            <p:cNvPr id="1014" name=""/>
            <p:cNvSpPr/>
            <p:nvPr/>
          </p:nvSpPr>
          <p:spPr>
            <a:xfrm>
              <a:off x="5410080" y="285120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6248160" y="285120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90960" y="28512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91080" y="2781360"/>
              <a:ext cx="295200" cy="12600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43600" y="2786400"/>
              <a:ext cx="295200" cy="12636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67280" y="2851200"/>
              <a:ext cx="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790960" y="29156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90960" y="29800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867280" y="2980080"/>
              <a:ext cx="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410080" y="3298680"/>
            <a:ext cx="914400" cy="264960"/>
            <a:chOff x="5410080" y="3298680"/>
            <a:chExt cx="914400" cy="264960"/>
          </a:xfrm>
        </p:grpSpPr>
        <p:sp>
          <p:nvSpPr>
            <p:cNvPr id="1024" name=""/>
            <p:cNvSpPr/>
            <p:nvPr/>
          </p:nvSpPr>
          <p:spPr>
            <a:xfrm>
              <a:off x="5410080" y="3368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6248160" y="3368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90960" y="336888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91080" y="329868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43600" y="3303720"/>
              <a:ext cx="295200" cy="12744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67280" y="336888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90960" y="343404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90960" y="349884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67280" y="349884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410080" y="3622680"/>
            <a:ext cx="914400" cy="264600"/>
            <a:chOff x="5410080" y="3622680"/>
            <a:chExt cx="914400" cy="264600"/>
          </a:xfrm>
        </p:grpSpPr>
        <p:sp>
          <p:nvSpPr>
            <p:cNvPr id="1034" name=""/>
            <p:cNvSpPr/>
            <p:nvPr/>
          </p:nvSpPr>
          <p:spPr>
            <a:xfrm>
              <a:off x="5410080" y="3692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6248160" y="3692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90960" y="369288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91080" y="3622680"/>
              <a:ext cx="295200" cy="12672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943600" y="362772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67280" y="369288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90960" y="375768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90960" y="382248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67280" y="382248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5410080" y="1938240"/>
            <a:ext cx="914400" cy="264960"/>
            <a:chOff x="5410080" y="1938240"/>
            <a:chExt cx="914400" cy="264960"/>
          </a:xfrm>
        </p:grpSpPr>
        <p:sp>
          <p:nvSpPr>
            <p:cNvPr id="1044" name=""/>
            <p:cNvSpPr/>
            <p:nvPr/>
          </p:nvSpPr>
          <p:spPr>
            <a:xfrm>
              <a:off x="5410080" y="200844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248160" y="200844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790960" y="200844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491080" y="193824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943600" y="1943280"/>
              <a:ext cx="295200" cy="12744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67280" y="200844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790960" y="20736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90960" y="21384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67280" y="213840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5410080" y="1614600"/>
            <a:ext cx="914400" cy="264600"/>
            <a:chOff x="5410080" y="1614600"/>
            <a:chExt cx="914400" cy="264600"/>
          </a:xfrm>
        </p:grpSpPr>
        <p:sp>
          <p:nvSpPr>
            <p:cNvPr id="1054" name=""/>
            <p:cNvSpPr/>
            <p:nvPr/>
          </p:nvSpPr>
          <p:spPr>
            <a:xfrm>
              <a:off x="5410080" y="168480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248160" y="168480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90960" y="16848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91080" y="1614600"/>
              <a:ext cx="295200" cy="12672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943600" y="1619640"/>
              <a:ext cx="295200" cy="12708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67280" y="168480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90960" y="17496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90960" y="18144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67280" y="1814400"/>
              <a:ext cx="0" cy="64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4114800" y="1355760"/>
            <a:ext cx="914400" cy="2720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114800" y="1616040"/>
            <a:ext cx="914400" cy="128520"/>
            <a:chOff x="4114800" y="1616040"/>
            <a:chExt cx="914400" cy="128520"/>
          </a:xfrm>
        </p:grpSpPr>
        <p:sp>
          <p:nvSpPr>
            <p:cNvPr id="1065" name=""/>
            <p:cNvSpPr/>
            <p:nvPr/>
          </p:nvSpPr>
          <p:spPr>
            <a:xfrm>
              <a:off x="4267440" y="1616040"/>
              <a:ext cx="609480" cy="12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4114800" y="168012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876920" y="1680120"/>
              <a:ext cx="1522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114800" y="1940040"/>
            <a:ext cx="914400" cy="128520"/>
            <a:chOff x="4114800" y="1940040"/>
            <a:chExt cx="914400" cy="128520"/>
          </a:xfrm>
        </p:grpSpPr>
        <p:sp>
          <p:nvSpPr>
            <p:cNvPr id="1069" name=""/>
            <p:cNvSpPr/>
            <p:nvPr/>
          </p:nvSpPr>
          <p:spPr>
            <a:xfrm>
              <a:off x="4267440" y="1940040"/>
              <a:ext cx="609480" cy="12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114800" y="200412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876920" y="2004120"/>
              <a:ext cx="1522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4114800" y="2457360"/>
            <a:ext cx="914400" cy="130320"/>
            <a:chOff x="4114800" y="2457360"/>
            <a:chExt cx="914400" cy="130320"/>
          </a:xfrm>
        </p:grpSpPr>
        <p:sp>
          <p:nvSpPr>
            <p:cNvPr id="1073" name=""/>
            <p:cNvSpPr/>
            <p:nvPr/>
          </p:nvSpPr>
          <p:spPr>
            <a:xfrm>
              <a:off x="4267440" y="2457360"/>
              <a:ext cx="609480" cy="130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114800" y="25221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76920" y="2522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4114800" y="2781360"/>
            <a:ext cx="914400" cy="129960"/>
            <a:chOff x="4114800" y="2781360"/>
            <a:chExt cx="914400" cy="129960"/>
          </a:xfrm>
        </p:grpSpPr>
        <p:sp>
          <p:nvSpPr>
            <p:cNvPr id="1077" name=""/>
            <p:cNvSpPr/>
            <p:nvPr/>
          </p:nvSpPr>
          <p:spPr>
            <a:xfrm>
              <a:off x="4267440" y="2781360"/>
              <a:ext cx="609480" cy="129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4114800" y="28461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876920" y="284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4114800" y="3300480"/>
            <a:ext cx="914400" cy="128520"/>
            <a:chOff x="4114800" y="3300480"/>
            <a:chExt cx="914400" cy="128520"/>
          </a:xfrm>
        </p:grpSpPr>
        <p:sp>
          <p:nvSpPr>
            <p:cNvPr id="1081" name=""/>
            <p:cNvSpPr/>
            <p:nvPr/>
          </p:nvSpPr>
          <p:spPr>
            <a:xfrm>
              <a:off x="4267440" y="3300480"/>
              <a:ext cx="609480" cy="12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114800" y="336456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76920" y="3364560"/>
              <a:ext cx="1522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4114800" y="3624120"/>
            <a:ext cx="914400" cy="128880"/>
            <a:chOff x="4114800" y="3624120"/>
            <a:chExt cx="914400" cy="128880"/>
          </a:xfrm>
        </p:grpSpPr>
        <p:sp>
          <p:nvSpPr>
            <p:cNvPr id="1085" name=""/>
            <p:cNvSpPr/>
            <p:nvPr/>
          </p:nvSpPr>
          <p:spPr>
            <a:xfrm>
              <a:off x="4267440" y="3624120"/>
              <a:ext cx="609480" cy="12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114800" y="36882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876920" y="3688200"/>
              <a:ext cx="1522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324480" y="1616040"/>
            <a:ext cx="838080" cy="334440"/>
            <a:chOff x="6324480" y="1616040"/>
            <a:chExt cx="838080" cy="334440"/>
          </a:xfrm>
        </p:grpSpPr>
        <p:grpSp>
          <p:nvGrpSpPr>
            <p:cNvPr id="1089" name=""/>
            <p:cNvGrpSpPr/>
            <p:nvPr/>
          </p:nvGrpSpPr>
          <p:grpSpPr>
            <a:xfrm>
              <a:off x="6324480" y="1616040"/>
              <a:ext cx="532800" cy="128880"/>
              <a:chOff x="6324480" y="1616040"/>
              <a:chExt cx="532800" cy="128880"/>
            </a:xfrm>
          </p:grpSpPr>
          <p:sp>
            <p:nvSpPr>
              <p:cNvPr id="1090" name=""/>
              <p:cNvSpPr/>
              <p:nvPr/>
            </p:nvSpPr>
            <p:spPr>
              <a:xfrm flipH="1">
                <a:off x="6781320" y="1680480"/>
                <a:ext cx="7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705720" y="1680480"/>
                <a:ext cx="75600" cy="64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629400" y="1616040"/>
                <a:ext cx="7596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6552720" y="1616040"/>
                <a:ext cx="7596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6477120" y="1616040"/>
                <a:ext cx="7560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6400440" y="1616040"/>
                <a:ext cx="75960" cy="64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6324480" y="1680480"/>
                <a:ext cx="7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flipH="1">
              <a:off x="6857640" y="168012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6858000" y="1680120"/>
              <a:ext cx="304560" cy="270360"/>
              <a:chOff x="6858000" y="1680120"/>
              <a:chExt cx="304560" cy="270360"/>
            </a:xfrm>
          </p:grpSpPr>
          <p:sp>
            <p:nvSpPr>
              <p:cNvPr id="1099" name=""/>
              <p:cNvSpPr/>
              <p:nvPr/>
            </p:nvSpPr>
            <p:spPr>
              <a:xfrm>
                <a:off x="7010280" y="1680120"/>
                <a:ext cx="0" cy="1292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858000" y="1809360"/>
                <a:ext cx="3045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933960" y="1874160"/>
                <a:ext cx="152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999120" y="194940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6324480" y="1940040"/>
            <a:ext cx="838080" cy="334080"/>
            <a:chOff x="6324480" y="1940040"/>
            <a:chExt cx="838080" cy="334080"/>
          </a:xfrm>
        </p:grpSpPr>
        <p:grpSp>
          <p:nvGrpSpPr>
            <p:cNvPr id="1104" name=""/>
            <p:cNvGrpSpPr/>
            <p:nvPr/>
          </p:nvGrpSpPr>
          <p:grpSpPr>
            <a:xfrm>
              <a:off x="6324480" y="1940040"/>
              <a:ext cx="532800" cy="128880"/>
              <a:chOff x="6324480" y="1940040"/>
              <a:chExt cx="532800" cy="128880"/>
            </a:xfrm>
          </p:grpSpPr>
          <p:sp>
            <p:nvSpPr>
              <p:cNvPr id="1105" name=""/>
              <p:cNvSpPr/>
              <p:nvPr/>
            </p:nvSpPr>
            <p:spPr>
              <a:xfrm flipH="1">
                <a:off x="6781320" y="2004480"/>
                <a:ext cx="7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6705720" y="2004480"/>
                <a:ext cx="75600" cy="64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629400" y="1940040"/>
                <a:ext cx="7596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6552720" y="1940040"/>
                <a:ext cx="7596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 flipV="1">
                <a:off x="6477120" y="1940040"/>
                <a:ext cx="7560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6400440" y="1940040"/>
                <a:ext cx="75960" cy="64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6324480" y="2004480"/>
                <a:ext cx="7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 flipH="1">
              <a:off x="6857640" y="200412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6858000" y="2004120"/>
              <a:ext cx="304560" cy="270000"/>
              <a:chOff x="6858000" y="2004120"/>
              <a:chExt cx="304560" cy="270000"/>
            </a:xfrm>
          </p:grpSpPr>
          <p:sp>
            <p:nvSpPr>
              <p:cNvPr id="1114" name=""/>
              <p:cNvSpPr/>
              <p:nvPr/>
            </p:nvSpPr>
            <p:spPr>
              <a:xfrm>
                <a:off x="7010280" y="2004120"/>
                <a:ext cx="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858000" y="2133000"/>
                <a:ext cx="3045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933960" y="2197800"/>
                <a:ext cx="152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99120" y="227304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8" name=""/>
          <p:cNvGrpSpPr/>
          <p:nvPr/>
        </p:nvGrpSpPr>
        <p:grpSpPr>
          <a:xfrm>
            <a:off x="6324480" y="3300480"/>
            <a:ext cx="838080" cy="334080"/>
            <a:chOff x="6324480" y="3300480"/>
            <a:chExt cx="838080" cy="334080"/>
          </a:xfrm>
        </p:grpSpPr>
        <p:grpSp>
          <p:nvGrpSpPr>
            <p:cNvPr id="1119" name=""/>
            <p:cNvGrpSpPr/>
            <p:nvPr/>
          </p:nvGrpSpPr>
          <p:grpSpPr>
            <a:xfrm>
              <a:off x="6324480" y="3300480"/>
              <a:ext cx="532800" cy="128880"/>
              <a:chOff x="6324480" y="3300480"/>
              <a:chExt cx="532800" cy="128880"/>
            </a:xfrm>
          </p:grpSpPr>
          <p:sp>
            <p:nvSpPr>
              <p:cNvPr id="1120" name=""/>
              <p:cNvSpPr/>
              <p:nvPr/>
            </p:nvSpPr>
            <p:spPr>
              <a:xfrm flipH="1">
                <a:off x="6781320" y="3364920"/>
                <a:ext cx="7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6705720" y="3364920"/>
                <a:ext cx="75600" cy="64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629400" y="3300480"/>
                <a:ext cx="7596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6552720" y="3300480"/>
                <a:ext cx="7596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flipV="1">
                <a:off x="6477120" y="3300480"/>
                <a:ext cx="7560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6400440" y="3300480"/>
                <a:ext cx="75960" cy="64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6324480" y="3364920"/>
                <a:ext cx="7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 flipH="1">
              <a:off x="6857640" y="336456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6858000" y="3364560"/>
              <a:ext cx="304560" cy="270000"/>
              <a:chOff x="6858000" y="3364560"/>
              <a:chExt cx="304560" cy="270000"/>
            </a:xfrm>
          </p:grpSpPr>
          <p:sp>
            <p:nvSpPr>
              <p:cNvPr id="1129" name=""/>
              <p:cNvSpPr/>
              <p:nvPr/>
            </p:nvSpPr>
            <p:spPr>
              <a:xfrm>
                <a:off x="7010280" y="3364560"/>
                <a:ext cx="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58000" y="3493440"/>
                <a:ext cx="3045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933960" y="3558240"/>
                <a:ext cx="152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999120" y="363348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3" name=""/>
          <p:cNvGrpSpPr/>
          <p:nvPr/>
        </p:nvGrpSpPr>
        <p:grpSpPr>
          <a:xfrm>
            <a:off x="6324480" y="3624120"/>
            <a:ext cx="838080" cy="334440"/>
            <a:chOff x="6324480" y="3624120"/>
            <a:chExt cx="838080" cy="334440"/>
          </a:xfrm>
        </p:grpSpPr>
        <p:grpSp>
          <p:nvGrpSpPr>
            <p:cNvPr id="1134" name=""/>
            <p:cNvGrpSpPr/>
            <p:nvPr/>
          </p:nvGrpSpPr>
          <p:grpSpPr>
            <a:xfrm>
              <a:off x="6324480" y="3624120"/>
              <a:ext cx="532800" cy="128880"/>
              <a:chOff x="6324480" y="3624120"/>
              <a:chExt cx="532800" cy="128880"/>
            </a:xfrm>
          </p:grpSpPr>
          <p:sp>
            <p:nvSpPr>
              <p:cNvPr id="1135" name=""/>
              <p:cNvSpPr/>
              <p:nvPr/>
            </p:nvSpPr>
            <p:spPr>
              <a:xfrm flipH="1">
                <a:off x="6781320" y="3688560"/>
                <a:ext cx="7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6705720" y="3688560"/>
                <a:ext cx="75600" cy="64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29400" y="3624120"/>
                <a:ext cx="7596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6552720" y="3624120"/>
                <a:ext cx="7596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 flipV="1">
                <a:off x="6477120" y="3624120"/>
                <a:ext cx="75600" cy="128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6400440" y="3624120"/>
                <a:ext cx="75960" cy="64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6324480" y="3688560"/>
                <a:ext cx="7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 flipH="1">
              <a:off x="6857640" y="3688200"/>
              <a:ext cx="152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6858000" y="3688200"/>
              <a:ext cx="304560" cy="270360"/>
              <a:chOff x="6858000" y="3688200"/>
              <a:chExt cx="304560" cy="270360"/>
            </a:xfrm>
          </p:grpSpPr>
          <p:sp>
            <p:nvSpPr>
              <p:cNvPr id="1144" name=""/>
              <p:cNvSpPr/>
              <p:nvPr/>
            </p:nvSpPr>
            <p:spPr>
              <a:xfrm>
                <a:off x="7010280" y="3688200"/>
                <a:ext cx="0" cy="1292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58000" y="3817440"/>
                <a:ext cx="3045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33960" y="3882240"/>
                <a:ext cx="152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999120" y="395748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8" name=""/>
          <p:cNvSpPr/>
          <p:nvPr/>
        </p:nvSpPr>
        <p:spPr>
          <a:xfrm>
            <a:off x="3733920" y="167940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00340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33920" y="252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733920" y="2846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33920" y="336384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33920" y="368784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029200" y="167940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029200" y="200340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252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029200" y="2846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336384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029200" y="368784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324480" y="2522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066680" y="838080"/>
            <a:ext cx="701064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846160" y="41450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174560" y="407664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G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599440" y="41418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781680" y="2328840"/>
            <a:ext cx="1295640" cy="71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934320" y="2457360"/>
            <a:ext cx="1143000" cy="1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934320" y="2781360"/>
            <a:ext cx="1143000" cy="12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781680" y="252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781680" y="2846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B910-8A68-4E38-9AF0-73216DF54175}" type="slidenum">
              <a:t>14</a:t>
            </a:fld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imple IBIS RLC Parameter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n’t be more accurate than reduced element mod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ould provide much faster simulation ti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uced simulation time by 25%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uced overshoo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umed impedance of 50 Ohms was better than original SPICE mod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837720" y="1523880"/>
            <a:ext cx="2971440" cy="1522800"/>
            <a:chOff x="837720" y="1523880"/>
            <a:chExt cx="2971440" cy="1522800"/>
          </a:xfrm>
        </p:grpSpPr>
        <p:sp>
          <p:nvSpPr>
            <p:cNvPr id="1173" name=""/>
            <p:cNvSpPr/>
            <p:nvPr/>
          </p:nvSpPr>
          <p:spPr>
            <a:xfrm>
              <a:off x="1993680" y="1672200"/>
              <a:ext cx="165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18800" y="1672200"/>
              <a:ext cx="990360" cy="13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69000" y="1523880"/>
              <a:ext cx="639360" cy="270360"/>
            </a:xfrm>
            <a:custGeom>
              <a:avLst/>
              <a:gdLst/>
              <a:ahLst/>
              <a:rect l="l" t="t" r="r" b="b"/>
              <a:pathLst>
                <a:path w="186" h="94">
                  <a:moveTo>
                    <a:pt x="0" y="52"/>
                  </a:moveTo>
                  <a:cubicBezTo>
                    <a:pt x="5" y="42"/>
                    <a:pt x="2" y="31"/>
                    <a:pt x="11" y="24"/>
                  </a:cubicBezTo>
                  <a:cubicBezTo>
                    <a:pt x="14" y="11"/>
                    <a:pt x="25" y="2"/>
                    <a:pt x="38" y="0"/>
                  </a:cubicBezTo>
                  <a:cubicBezTo>
                    <a:pt x="45" y="1"/>
                    <a:pt x="50" y="0"/>
                    <a:pt x="56" y="3"/>
                  </a:cubicBezTo>
                  <a:cubicBezTo>
                    <a:pt x="63" y="7"/>
                    <a:pt x="63" y="14"/>
                    <a:pt x="71" y="16"/>
                  </a:cubicBezTo>
                  <a:cubicBezTo>
                    <a:pt x="73" y="24"/>
                    <a:pt x="75" y="33"/>
                    <a:pt x="80" y="40"/>
                  </a:cubicBezTo>
                  <a:cubicBezTo>
                    <a:pt x="83" y="53"/>
                    <a:pt x="87" y="67"/>
                    <a:pt x="78" y="79"/>
                  </a:cubicBezTo>
                  <a:cubicBezTo>
                    <a:pt x="76" y="87"/>
                    <a:pt x="75" y="93"/>
                    <a:pt x="66" y="94"/>
                  </a:cubicBezTo>
                  <a:cubicBezTo>
                    <a:pt x="58" y="93"/>
                    <a:pt x="58" y="90"/>
                    <a:pt x="54" y="84"/>
                  </a:cubicBezTo>
                  <a:cubicBezTo>
                    <a:pt x="53" y="79"/>
                    <a:pt x="51" y="75"/>
                    <a:pt x="50" y="70"/>
                  </a:cubicBezTo>
                  <a:cubicBezTo>
                    <a:pt x="51" y="53"/>
                    <a:pt x="52" y="38"/>
                    <a:pt x="62" y="24"/>
                  </a:cubicBezTo>
                  <a:cubicBezTo>
                    <a:pt x="64" y="12"/>
                    <a:pt x="71" y="2"/>
                    <a:pt x="83" y="0"/>
                  </a:cubicBezTo>
                  <a:cubicBezTo>
                    <a:pt x="91" y="1"/>
                    <a:pt x="97" y="3"/>
                    <a:pt x="104" y="4"/>
                  </a:cubicBezTo>
                  <a:cubicBezTo>
                    <a:pt x="115" y="9"/>
                    <a:pt x="121" y="13"/>
                    <a:pt x="128" y="24"/>
                  </a:cubicBezTo>
                  <a:cubicBezTo>
                    <a:pt x="129" y="32"/>
                    <a:pt x="132" y="41"/>
                    <a:pt x="134" y="49"/>
                  </a:cubicBezTo>
                  <a:cubicBezTo>
                    <a:pt x="132" y="61"/>
                    <a:pt x="133" y="82"/>
                    <a:pt x="117" y="85"/>
                  </a:cubicBezTo>
                  <a:cubicBezTo>
                    <a:pt x="111" y="89"/>
                    <a:pt x="109" y="92"/>
                    <a:pt x="105" y="85"/>
                  </a:cubicBezTo>
                  <a:cubicBezTo>
                    <a:pt x="103" y="74"/>
                    <a:pt x="102" y="65"/>
                    <a:pt x="107" y="54"/>
                  </a:cubicBezTo>
                  <a:cubicBezTo>
                    <a:pt x="108" y="47"/>
                    <a:pt x="112" y="42"/>
                    <a:pt x="116" y="36"/>
                  </a:cubicBezTo>
                  <a:cubicBezTo>
                    <a:pt x="118" y="25"/>
                    <a:pt x="126" y="19"/>
                    <a:pt x="135" y="12"/>
                  </a:cubicBezTo>
                  <a:cubicBezTo>
                    <a:pt x="155" y="13"/>
                    <a:pt x="153" y="13"/>
                    <a:pt x="167" y="16"/>
                  </a:cubicBezTo>
                  <a:cubicBezTo>
                    <a:pt x="171" y="23"/>
                    <a:pt x="176" y="26"/>
                    <a:pt x="179" y="33"/>
                  </a:cubicBezTo>
                  <a:cubicBezTo>
                    <a:pt x="180" y="39"/>
                    <a:pt x="182" y="42"/>
                    <a:pt x="185" y="48"/>
                  </a:cubicBezTo>
                  <a:cubicBezTo>
                    <a:pt x="185" y="50"/>
                    <a:pt x="186" y="55"/>
                    <a:pt x="186" y="5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479400" y="1686240"/>
              <a:ext cx="0" cy="324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149640" y="2010240"/>
              <a:ext cx="659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149640" y="2172600"/>
              <a:ext cx="659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479400" y="2148840"/>
              <a:ext cx="0" cy="347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837720" y="1527480"/>
              <a:ext cx="1154880" cy="272880"/>
              <a:chOff x="837720" y="1527480"/>
              <a:chExt cx="1154880" cy="272880"/>
            </a:xfrm>
          </p:grpSpPr>
          <p:sp>
            <p:nvSpPr>
              <p:cNvPr id="1181" name=""/>
              <p:cNvSpPr/>
              <p:nvPr/>
            </p:nvSpPr>
            <p:spPr>
              <a:xfrm flipH="1">
                <a:off x="1827360" y="1663920"/>
                <a:ext cx="165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1663200" y="1663920"/>
                <a:ext cx="16416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497960" y="1527480"/>
                <a:ext cx="165240" cy="272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1332360" y="1527480"/>
                <a:ext cx="165240" cy="272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1168560" y="1527480"/>
                <a:ext cx="164160" cy="272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1002960" y="1527480"/>
                <a:ext cx="16524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837720" y="1663920"/>
                <a:ext cx="165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149640" y="2472840"/>
              <a:ext cx="658800" cy="573840"/>
              <a:chOff x="3149640" y="2472840"/>
              <a:chExt cx="658800" cy="573840"/>
            </a:xfrm>
          </p:grpSpPr>
          <p:sp>
            <p:nvSpPr>
              <p:cNvPr id="1189" name=""/>
              <p:cNvSpPr/>
              <p:nvPr/>
            </p:nvSpPr>
            <p:spPr>
              <a:xfrm>
                <a:off x="3479040" y="2472840"/>
                <a:ext cx="0" cy="273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149640" y="2746800"/>
                <a:ext cx="658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313800" y="2884320"/>
                <a:ext cx="330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454920" y="3044160"/>
                <a:ext cx="72360" cy="252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cubicBezTo>
                      <a:pt x="7" y="0"/>
                      <a:pt x="14" y="0"/>
                      <a:pt x="21" y="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3" name=""/>
          <p:cNvSpPr/>
          <p:nvPr/>
        </p:nvSpPr>
        <p:spPr>
          <a:xfrm>
            <a:off x="914400" y="3200400"/>
            <a:ext cx="320040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asured from original simulation is 83ps (Tr ~ 200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4.15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1.66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25C4-EC98-4E1E-B259-54B33581F165}" type="slidenum">
              <a:t>15</a:t>
            </a:fld>
          </a:p>
        </p:txBody>
      </p:sp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"/>
          <p:cNvGrpSpPr/>
          <p:nvPr/>
        </p:nvGrpSpPr>
        <p:grpSpPr>
          <a:xfrm>
            <a:off x="304920" y="838080"/>
            <a:ext cx="4025880" cy="5105520"/>
            <a:chOff x="304920" y="838080"/>
            <a:chExt cx="4025880" cy="5105520"/>
          </a:xfrm>
        </p:grpSpPr>
        <p:pic>
          <p:nvPicPr>
            <p:cNvPr id="1195" name="" descr=""/>
            <p:cNvPicPr/>
            <p:nvPr/>
          </p:nvPicPr>
          <p:blipFill>
            <a:blip r:embed="rId1"/>
            <a:srcRect l="325" t="3474" r="44773" b="5747"/>
            <a:stretch/>
          </p:blipFill>
          <p:spPr>
            <a:xfrm>
              <a:off x="304920" y="838080"/>
              <a:ext cx="4020840" cy="510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6" name=""/>
            <p:cNvGrpSpPr/>
            <p:nvPr/>
          </p:nvGrpSpPr>
          <p:grpSpPr>
            <a:xfrm>
              <a:off x="776160" y="1312920"/>
              <a:ext cx="3554640" cy="4386240"/>
              <a:chOff x="776160" y="1312920"/>
              <a:chExt cx="3554640" cy="4386240"/>
            </a:xfrm>
          </p:grpSpPr>
          <p:sp>
            <p:nvSpPr>
              <p:cNvPr id="1197" name=""/>
              <p:cNvSpPr/>
              <p:nvPr/>
            </p:nvSpPr>
            <p:spPr>
              <a:xfrm>
                <a:off x="776160" y="2728800"/>
                <a:ext cx="800280" cy="2452680"/>
              </a:xfrm>
              <a:custGeom>
                <a:avLst/>
                <a:gdLst/>
                <a:ahLst/>
                <a:rect l="l" t="t" r="r" b="b"/>
                <a:pathLst>
                  <a:path w="504" h="1545">
                    <a:moveTo>
                      <a:pt x="0" y="1431"/>
                    </a:moveTo>
                    <a:cubicBezTo>
                      <a:pt x="25" y="1426"/>
                      <a:pt x="50" y="1420"/>
                      <a:pt x="75" y="1416"/>
                    </a:cubicBezTo>
                    <a:cubicBezTo>
                      <a:pt x="134" y="1421"/>
                      <a:pt x="187" y="1435"/>
                      <a:pt x="246" y="1440"/>
                    </a:cubicBezTo>
                    <a:cubicBezTo>
                      <a:pt x="293" y="1438"/>
                      <a:pt x="328" y="1431"/>
                      <a:pt x="372" y="1422"/>
                    </a:cubicBezTo>
                    <a:cubicBezTo>
                      <a:pt x="384" y="1439"/>
                      <a:pt x="392" y="1467"/>
                      <a:pt x="396" y="1488"/>
                    </a:cubicBezTo>
                    <a:cubicBezTo>
                      <a:pt x="400" y="1510"/>
                      <a:pt x="398" y="1529"/>
                      <a:pt x="414" y="1545"/>
                    </a:cubicBezTo>
                    <a:cubicBezTo>
                      <a:pt x="434" y="1538"/>
                      <a:pt x="435" y="1498"/>
                      <a:pt x="441" y="1479"/>
                    </a:cubicBezTo>
                    <a:cubicBezTo>
                      <a:pt x="442" y="1421"/>
                      <a:pt x="431" y="1310"/>
                      <a:pt x="453" y="1245"/>
                    </a:cubicBezTo>
                    <a:cubicBezTo>
                      <a:pt x="456" y="1218"/>
                      <a:pt x="462" y="1164"/>
                      <a:pt x="462" y="1164"/>
                    </a:cubicBezTo>
                    <a:cubicBezTo>
                      <a:pt x="455" y="1111"/>
                      <a:pt x="453" y="1132"/>
                      <a:pt x="459" y="1101"/>
                    </a:cubicBezTo>
                    <a:cubicBezTo>
                      <a:pt x="468" y="997"/>
                      <a:pt x="469" y="891"/>
                      <a:pt x="471" y="786"/>
                    </a:cubicBezTo>
                    <a:cubicBezTo>
                      <a:pt x="475" y="602"/>
                      <a:pt x="460" y="666"/>
                      <a:pt x="477" y="597"/>
                    </a:cubicBezTo>
                    <a:cubicBezTo>
                      <a:pt x="478" y="556"/>
                      <a:pt x="470" y="394"/>
                      <a:pt x="489" y="336"/>
                    </a:cubicBezTo>
                    <a:cubicBezTo>
                      <a:pt x="486" y="294"/>
                      <a:pt x="479" y="255"/>
                      <a:pt x="489" y="213"/>
                    </a:cubicBezTo>
                    <a:cubicBezTo>
                      <a:pt x="492" y="155"/>
                      <a:pt x="485" y="97"/>
                      <a:pt x="492" y="39"/>
                    </a:cubicBezTo>
                    <a:cubicBezTo>
                      <a:pt x="494" y="26"/>
                      <a:pt x="504" y="16"/>
                      <a:pt x="504" y="0"/>
                    </a:cubicBezTo>
                  </a:path>
                </a:pathLst>
              </a:custGeom>
              <a:noFill/>
              <a:ln w="28440">
                <a:solidFill>
                  <a:srgbClr val="b3191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562040" y="1574640"/>
                <a:ext cx="870120" cy="3505320"/>
              </a:xfrm>
              <a:custGeom>
                <a:avLst/>
                <a:gdLst/>
                <a:ahLst/>
                <a:rect l="l" t="t" r="r" b="b"/>
                <a:pathLst>
                  <a:path w="548" h="2208">
                    <a:moveTo>
                      <a:pt x="0" y="728"/>
                    </a:moveTo>
                    <a:cubicBezTo>
                      <a:pt x="7" y="610"/>
                      <a:pt x="14" y="493"/>
                      <a:pt x="20" y="432"/>
                    </a:cubicBezTo>
                    <a:cubicBezTo>
                      <a:pt x="26" y="371"/>
                      <a:pt x="28" y="390"/>
                      <a:pt x="36" y="364"/>
                    </a:cubicBezTo>
                    <a:cubicBezTo>
                      <a:pt x="44" y="338"/>
                      <a:pt x="59" y="293"/>
                      <a:pt x="68" y="276"/>
                    </a:cubicBezTo>
                    <a:cubicBezTo>
                      <a:pt x="77" y="259"/>
                      <a:pt x="81" y="265"/>
                      <a:pt x="88" y="260"/>
                    </a:cubicBezTo>
                    <a:cubicBezTo>
                      <a:pt x="95" y="255"/>
                      <a:pt x="106" y="252"/>
                      <a:pt x="112" y="244"/>
                    </a:cubicBezTo>
                    <a:cubicBezTo>
                      <a:pt x="118" y="236"/>
                      <a:pt x="120" y="239"/>
                      <a:pt x="124" y="212"/>
                    </a:cubicBezTo>
                    <a:cubicBezTo>
                      <a:pt x="128" y="185"/>
                      <a:pt x="132" y="117"/>
                      <a:pt x="136" y="84"/>
                    </a:cubicBezTo>
                    <a:cubicBezTo>
                      <a:pt x="140" y="51"/>
                      <a:pt x="142" y="27"/>
                      <a:pt x="148" y="16"/>
                    </a:cubicBezTo>
                    <a:cubicBezTo>
                      <a:pt x="154" y="5"/>
                      <a:pt x="166" y="0"/>
                      <a:pt x="172" y="16"/>
                    </a:cubicBezTo>
                    <a:cubicBezTo>
                      <a:pt x="178" y="32"/>
                      <a:pt x="181" y="56"/>
                      <a:pt x="184" y="112"/>
                    </a:cubicBezTo>
                    <a:cubicBezTo>
                      <a:pt x="187" y="168"/>
                      <a:pt x="179" y="92"/>
                      <a:pt x="188" y="352"/>
                    </a:cubicBezTo>
                    <a:cubicBezTo>
                      <a:pt x="197" y="612"/>
                      <a:pt x="225" y="1424"/>
                      <a:pt x="240" y="1672"/>
                    </a:cubicBezTo>
                    <a:cubicBezTo>
                      <a:pt x="255" y="1920"/>
                      <a:pt x="265" y="1792"/>
                      <a:pt x="276" y="1840"/>
                    </a:cubicBezTo>
                    <a:cubicBezTo>
                      <a:pt x="287" y="1888"/>
                      <a:pt x="293" y="1929"/>
                      <a:pt x="304" y="1960"/>
                    </a:cubicBezTo>
                    <a:cubicBezTo>
                      <a:pt x="315" y="1991"/>
                      <a:pt x="329" y="2003"/>
                      <a:pt x="340" y="2024"/>
                    </a:cubicBezTo>
                    <a:cubicBezTo>
                      <a:pt x="351" y="2045"/>
                      <a:pt x="356" y="2066"/>
                      <a:pt x="368" y="2084"/>
                    </a:cubicBezTo>
                    <a:cubicBezTo>
                      <a:pt x="380" y="2102"/>
                      <a:pt x="399" y="2123"/>
                      <a:pt x="412" y="2132"/>
                    </a:cubicBezTo>
                    <a:cubicBezTo>
                      <a:pt x="425" y="2141"/>
                      <a:pt x="434" y="2140"/>
                      <a:pt x="448" y="2140"/>
                    </a:cubicBezTo>
                    <a:cubicBezTo>
                      <a:pt x="462" y="2140"/>
                      <a:pt x="481" y="2129"/>
                      <a:pt x="496" y="2132"/>
                    </a:cubicBezTo>
                    <a:cubicBezTo>
                      <a:pt x="511" y="2135"/>
                      <a:pt x="527" y="2143"/>
                      <a:pt x="536" y="2156"/>
                    </a:cubicBezTo>
                    <a:cubicBezTo>
                      <a:pt x="545" y="2169"/>
                      <a:pt x="546" y="2188"/>
                      <a:pt x="548" y="2208"/>
                    </a:cubicBezTo>
                  </a:path>
                </a:pathLst>
              </a:custGeom>
              <a:noFill/>
              <a:ln w="28440">
                <a:solidFill>
                  <a:srgbClr val="b3191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432160" y="3308400"/>
                <a:ext cx="215640" cy="2390760"/>
              </a:xfrm>
              <a:custGeom>
                <a:avLst/>
                <a:gdLst/>
                <a:ahLst/>
                <a:rect l="l" t="t" r="r" b="b"/>
                <a:pathLst>
                  <a:path w="136" h="1506">
                    <a:moveTo>
                      <a:pt x="0" y="1116"/>
                    </a:moveTo>
                    <a:cubicBezTo>
                      <a:pt x="19" y="1221"/>
                      <a:pt x="39" y="1327"/>
                      <a:pt x="48" y="1384"/>
                    </a:cubicBezTo>
                    <a:cubicBezTo>
                      <a:pt x="57" y="1441"/>
                      <a:pt x="49" y="1438"/>
                      <a:pt x="52" y="1456"/>
                    </a:cubicBezTo>
                    <a:cubicBezTo>
                      <a:pt x="55" y="1474"/>
                      <a:pt x="62" y="1506"/>
                      <a:pt x="68" y="1492"/>
                    </a:cubicBezTo>
                    <a:cubicBezTo>
                      <a:pt x="74" y="1478"/>
                      <a:pt x="82" y="1447"/>
                      <a:pt x="88" y="1372"/>
                    </a:cubicBezTo>
                    <a:cubicBezTo>
                      <a:pt x="94" y="1297"/>
                      <a:pt x="96" y="1269"/>
                      <a:pt x="104" y="1040"/>
                    </a:cubicBezTo>
                    <a:cubicBezTo>
                      <a:pt x="112" y="811"/>
                      <a:pt x="124" y="405"/>
                      <a:pt x="136" y="0"/>
                    </a:cubicBezTo>
                  </a:path>
                </a:pathLst>
              </a:custGeom>
              <a:noFill/>
              <a:ln w="28440">
                <a:solidFill>
                  <a:srgbClr val="b3191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378240" y="3308400"/>
                <a:ext cx="374760" cy="2287440"/>
              </a:xfrm>
              <a:custGeom>
                <a:avLst/>
                <a:gdLst/>
                <a:ahLst/>
                <a:rect l="l" t="t" r="r" b="b"/>
                <a:pathLst>
                  <a:path w="236" h="1441">
                    <a:moveTo>
                      <a:pt x="0" y="0"/>
                    </a:moveTo>
                    <a:cubicBezTo>
                      <a:pt x="10" y="254"/>
                      <a:pt x="21" y="508"/>
                      <a:pt x="28" y="624"/>
                    </a:cubicBezTo>
                    <a:cubicBezTo>
                      <a:pt x="35" y="740"/>
                      <a:pt x="33" y="668"/>
                      <a:pt x="40" y="696"/>
                    </a:cubicBezTo>
                    <a:cubicBezTo>
                      <a:pt x="47" y="724"/>
                      <a:pt x="59" y="725"/>
                      <a:pt x="72" y="792"/>
                    </a:cubicBezTo>
                    <a:cubicBezTo>
                      <a:pt x="85" y="859"/>
                      <a:pt x="109" y="1027"/>
                      <a:pt x="120" y="1100"/>
                    </a:cubicBezTo>
                    <a:cubicBezTo>
                      <a:pt x="131" y="1173"/>
                      <a:pt x="136" y="1200"/>
                      <a:pt x="140" y="1232"/>
                    </a:cubicBezTo>
                    <a:cubicBezTo>
                      <a:pt x="144" y="1264"/>
                      <a:pt x="141" y="1265"/>
                      <a:pt x="144" y="1292"/>
                    </a:cubicBezTo>
                    <a:cubicBezTo>
                      <a:pt x="147" y="1319"/>
                      <a:pt x="155" y="1367"/>
                      <a:pt x="160" y="1392"/>
                    </a:cubicBezTo>
                    <a:cubicBezTo>
                      <a:pt x="165" y="1417"/>
                      <a:pt x="167" y="1441"/>
                      <a:pt x="172" y="1440"/>
                    </a:cubicBezTo>
                    <a:cubicBezTo>
                      <a:pt x="177" y="1439"/>
                      <a:pt x="185" y="1417"/>
                      <a:pt x="188" y="1388"/>
                    </a:cubicBezTo>
                    <a:cubicBezTo>
                      <a:pt x="191" y="1359"/>
                      <a:pt x="187" y="1351"/>
                      <a:pt x="192" y="1264"/>
                    </a:cubicBezTo>
                    <a:cubicBezTo>
                      <a:pt x="197" y="1177"/>
                      <a:pt x="209" y="1075"/>
                      <a:pt x="216" y="864"/>
                    </a:cubicBezTo>
                    <a:cubicBezTo>
                      <a:pt x="223" y="653"/>
                      <a:pt x="229" y="326"/>
                      <a:pt x="236" y="0"/>
                    </a:cubicBezTo>
                  </a:path>
                </a:pathLst>
              </a:custGeom>
              <a:noFill/>
              <a:ln w="28440">
                <a:solidFill>
                  <a:srgbClr val="b3191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647800" y="1312920"/>
                <a:ext cx="736920" cy="2001960"/>
              </a:xfrm>
              <a:custGeom>
                <a:avLst/>
                <a:gdLst/>
                <a:ahLst/>
                <a:rect l="l" t="t" r="r" b="b"/>
                <a:pathLst>
                  <a:path w="464" h="1261">
                    <a:moveTo>
                      <a:pt x="0" y="1261"/>
                    </a:moveTo>
                    <a:cubicBezTo>
                      <a:pt x="7" y="1028"/>
                      <a:pt x="15" y="795"/>
                      <a:pt x="20" y="693"/>
                    </a:cubicBezTo>
                    <a:cubicBezTo>
                      <a:pt x="25" y="591"/>
                      <a:pt x="24" y="662"/>
                      <a:pt x="28" y="649"/>
                    </a:cubicBezTo>
                    <a:cubicBezTo>
                      <a:pt x="32" y="636"/>
                      <a:pt x="38" y="626"/>
                      <a:pt x="44" y="613"/>
                    </a:cubicBezTo>
                    <a:cubicBezTo>
                      <a:pt x="50" y="600"/>
                      <a:pt x="54" y="598"/>
                      <a:pt x="64" y="573"/>
                    </a:cubicBezTo>
                    <a:cubicBezTo>
                      <a:pt x="74" y="548"/>
                      <a:pt x="95" y="496"/>
                      <a:pt x="104" y="461"/>
                    </a:cubicBezTo>
                    <a:cubicBezTo>
                      <a:pt x="113" y="426"/>
                      <a:pt x="113" y="409"/>
                      <a:pt x="120" y="365"/>
                    </a:cubicBezTo>
                    <a:cubicBezTo>
                      <a:pt x="127" y="321"/>
                      <a:pt x="136" y="251"/>
                      <a:pt x="144" y="197"/>
                    </a:cubicBezTo>
                    <a:cubicBezTo>
                      <a:pt x="152" y="143"/>
                      <a:pt x="160" y="72"/>
                      <a:pt x="168" y="41"/>
                    </a:cubicBezTo>
                    <a:cubicBezTo>
                      <a:pt x="176" y="10"/>
                      <a:pt x="184" y="10"/>
                      <a:pt x="192" y="9"/>
                    </a:cubicBezTo>
                    <a:cubicBezTo>
                      <a:pt x="200" y="8"/>
                      <a:pt x="209" y="22"/>
                      <a:pt x="216" y="37"/>
                    </a:cubicBezTo>
                    <a:cubicBezTo>
                      <a:pt x="223" y="52"/>
                      <a:pt x="227" y="80"/>
                      <a:pt x="232" y="101"/>
                    </a:cubicBezTo>
                    <a:cubicBezTo>
                      <a:pt x="237" y="122"/>
                      <a:pt x="243" y="149"/>
                      <a:pt x="248" y="165"/>
                    </a:cubicBezTo>
                    <a:cubicBezTo>
                      <a:pt x="253" y="181"/>
                      <a:pt x="257" y="196"/>
                      <a:pt x="264" y="197"/>
                    </a:cubicBezTo>
                    <a:cubicBezTo>
                      <a:pt x="271" y="198"/>
                      <a:pt x="281" y="188"/>
                      <a:pt x="292" y="173"/>
                    </a:cubicBezTo>
                    <a:cubicBezTo>
                      <a:pt x="303" y="158"/>
                      <a:pt x="317" y="118"/>
                      <a:pt x="328" y="105"/>
                    </a:cubicBezTo>
                    <a:cubicBezTo>
                      <a:pt x="339" y="92"/>
                      <a:pt x="351" y="103"/>
                      <a:pt x="360" y="97"/>
                    </a:cubicBezTo>
                    <a:cubicBezTo>
                      <a:pt x="369" y="91"/>
                      <a:pt x="373" y="68"/>
                      <a:pt x="380" y="69"/>
                    </a:cubicBezTo>
                    <a:cubicBezTo>
                      <a:pt x="387" y="70"/>
                      <a:pt x="398" y="84"/>
                      <a:pt x="404" y="105"/>
                    </a:cubicBezTo>
                    <a:cubicBezTo>
                      <a:pt x="410" y="126"/>
                      <a:pt x="406" y="0"/>
                      <a:pt x="416" y="193"/>
                    </a:cubicBezTo>
                    <a:cubicBezTo>
                      <a:pt x="426" y="386"/>
                      <a:pt x="445" y="823"/>
                      <a:pt x="464" y="1261"/>
                    </a:cubicBezTo>
                  </a:path>
                </a:pathLst>
              </a:custGeom>
              <a:noFill/>
              <a:ln w="28440">
                <a:solidFill>
                  <a:srgbClr val="b3191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746520" y="1339920"/>
                <a:ext cx="584280" cy="1974960"/>
              </a:xfrm>
              <a:custGeom>
                <a:avLst/>
                <a:gdLst/>
                <a:ahLst/>
                <a:rect l="l" t="t" r="r" b="b"/>
                <a:pathLst>
                  <a:path w="368" h="1244">
                    <a:moveTo>
                      <a:pt x="0" y="1244"/>
                    </a:moveTo>
                    <a:cubicBezTo>
                      <a:pt x="10" y="1007"/>
                      <a:pt x="21" y="771"/>
                      <a:pt x="24" y="668"/>
                    </a:cubicBezTo>
                    <a:cubicBezTo>
                      <a:pt x="27" y="565"/>
                      <a:pt x="19" y="637"/>
                      <a:pt x="20" y="624"/>
                    </a:cubicBezTo>
                    <a:cubicBezTo>
                      <a:pt x="21" y="611"/>
                      <a:pt x="24" y="605"/>
                      <a:pt x="32" y="588"/>
                    </a:cubicBezTo>
                    <a:cubicBezTo>
                      <a:pt x="40" y="571"/>
                      <a:pt x="59" y="537"/>
                      <a:pt x="68" y="524"/>
                    </a:cubicBezTo>
                    <a:cubicBezTo>
                      <a:pt x="77" y="511"/>
                      <a:pt x="77" y="509"/>
                      <a:pt x="88" y="508"/>
                    </a:cubicBezTo>
                    <a:cubicBezTo>
                      <a:pt x="99" y="507"/>
                      <a:pt x="123" y="527"/>
                      <a:pt x="132" y="520"/>
                    </a:cubicBezTo>
                    <a:cubicBezTo>
                      <a:pt x="141" y="513"/>
                      <a:pt x="136" y="484"/>
                      <a:pt x="140" y="468"/>
                    </a:cubicBezTo>
                    <a:cubicBezTo>
                      <a:pt x="144" y="452"/>
                      <a:pt x="151" y="437"/>
                      <a:pt x="156" y="424"/>
                    </a:cubicBezTo>
                    <a:cubicBezTo>
                      <a:pt x="161" y="411"/>
                      <a:pt x="167" y="403"/>
                      <a:pt x="168" y="388"/>
                    </a:cubicBezTo>
                    <a:cubicBezTo>
                      <a:pt x="169" y="373"/>
                      <a:pt x="159" y="351"/>
                      <a:pt x="160" y="336"/>
                    </a:cubicBezTo>
                    <a:cubicBezTo>
                      <a:pt x="161" y="321"/>
                      <a:pt x="168" y="310"/>
                      <a:pt x="172" y="300"/>
                    </a:cubicBezTo>
                    <a:cubicBezTo>
                      <a:pt x="176" y="290"/>
                      <a:pt x="178" y="281"/>
                      <a:pt x="184" y="276"/>
                    </a:cubicBezTo>
                    <a:cubicBezTo>
                      <a:pt x="190" y="271"/>
                      <a:pt x="195" y="275"/>
                      <a:pt x="208" y="272"/>
                    </a:cubicBezTo>
                    <a:cubicBezTo>
                      <a:pt x="221" y="269"/>
                      <a:pt x="247" y="256"/>
                      <a:pt x="260" y="256"/>
                    </a:cubicBezTo>
                    <a:cubicBezTo>
                      <a:pt x="273" y="256"/>
                      <a:pt x="279" y="281"/>
                      <a:pt x="288" y="272"/>
                    </a:cubicBezTo>
                    <a:cubicBezTo>
                      <a:pt x="297" y="263"/>
                      <a:pt x="309" y="215"/>
                      <a:pt x="316" y="200"/>
                    </a:cubicBezTo>
                    <a:cubicBezTo>
                      <a:pt x="323" y="185"/>
                      <a:pt x="328" y="199"/>
                      <a:pt x="332" y="180"/>
                    </a:cubicBezTo>
                    <a:cubicBezTo>
                      <a:pt x="336" y="161"/>
                      <a:pt x="334" y="114"/>
                      <a:pt x="340" y="84"/>
                    </a:cubicBezTo>
                    <a:cubicBezTo>
                      <a:pt x="346" y="54"/>
                      <a:pt x="357" y="27"/>
                      <a:pt x="368" y="0"/>
                    </a:cubicBezTo>
                  </a:path>
                </a:pathLst>
              </a:custGeom>
              <a:noFill/>
              <a:ln w="28440">
                <a:solidFill>
                  <a:srgbClr val="b3191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-parameter Package Model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47960" y="8380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-parameter set created by SPICE simulation of original package mod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quency steps of 100MHz from 100MHz up to 10GHz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mulation time reduced by 25% from full package model simul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-parameters have other issu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no DC inform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non-causal or non-passive resul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17560" y="884160"/>
            <a:ext cx="14922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620" y="18113"/>
                </a:moveTo>
                <a:lnTo>
                  <a:pt x="22703" y="4000"/>
                </a:lnTo>
              </a:path>
              <a:path w="21600" h="21600">
                <a:moveTo>
                  <a:pt x="22703" y="0"/>
                </a:moveTo>
                <a:lnTo>
                  <a:pt x="22703" y="21600"/>
                </a:ln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-pa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914400"/>
            <a:ext cx="10987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91" y="30263"/>
                </a:moveTo>
                <a:lnTo>
                  <a:pt x="-1498" y="4000"/>
                </a:lnTo>
              </a:path>
              <a:path w="21600" h="21600">
                <a:moveTo>
                  <a:pt x="-1498" y="0"/>
                </a:moveTo>
                <a:lnTo>
                  <a:pt x="-1498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2328-8215-49B6-8D1F-BF276DE37E7E}" type="slidenum">
              <a:t>16</a:t>
            </a:fld>
          </a:p>
        </p:txBody>
      </p:sp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Behavioral Modeling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unctionality and accuracy must be maintained!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jority of simulation time is spent solving the 1000’s of nodes in the transistor level transmitter and receiver mode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time could be greatly reduced by using behavioral models such as VHDL-AM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A99D-C95E-4D98-8DAF-5EC6D6A85B82}" type="slidenum">
              <a:t>17</a:t>
            </a:fld>
          </a:p>
        </p:txBody>
      </p:sp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VHDL-AMS Model Correla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rcRect l="1198" t="2343" r="2071" b="3474"/>
          <a:stretch/>
        </p:blipFill>
        <p:spPr>
          <a:xfrm>
            <a:off x="152280" y="835200"/>
            <a:ext cx="6705720" cy="518472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/>
          <p:nvPr/>
        </p:nvSpPr>
        <p:spPr>
          <a:xfrm>
            <a:off x="6934320" y="121932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meterized model adjusted to match SPICE simulation of driver without pre-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DC68-AE2B-483F-B78A-03EAFC9E6127}" type="slidenum">
              <a:t>18</a:t>
            </a:fld>
          </a:p>
        </p:txBody>
      </p:sp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VHDL-AMS Model Functionality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rcRect l="2290" t="2746" r="2290" b="2746"/>
          <a:stretch/>
        </p:blipFill>
        <p:spPr>
          <a:xfrm>
            <a:off x="152280" y="843120"/>
            <a:ext cx="6705720" cy="514980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6858000" y="12193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 adjusted to match voltage swing and pre-emphasi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A62F-6689-46EC-AD65-628F7E61E5E5}" type="slidenum">
              <a:t>19</a:t>
            </a:fld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 Limit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ced Modeling Capabilit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ing Alternative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tera Stratix G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-Speed Serial Interface (HSSI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F642-E30D-4680-9B4F-FEF6FEB96E85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ignal Comparison at the Receive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rcRect l="517" t="1483" r="5016" b="2475"/>
          <a:stretch/>
        </p:blipFill>
        <p:spPr>
          <a:xfrm>
            <a:off x="152280" y="868320"/>
            <a:ext cx="6705720" cy="516096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6858000" y="914400"/>
            <a:ext cx="2057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correlation is most important at the receiver.  Eye diagrams show little difference caused by package models with the VHDL-AMS buff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286000" y="1697040"/>
            <a:ext cx="1981080" cy="770040"/>
          </a:xfrm>
          <a:prstGeom prst="hexagon">
            <a:avLst>
              <a:gd name="adj" fmla="val 6431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86000" y="4191120"/>
            <a:ext cx="1981080" cy="769680"/>
          </a:xfrm>
          <a:prstGeom prst="hexagon">
            <a:avLst>
              <a:gd name="adj" fmla="val 6434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799680" y="15238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360" y="411480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-pa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5019-13AD-467E-841C-4C83819238D4}" type="slidenum">
              <a:t>20</a:t>
            </a:fld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imulation Time Reduc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224" name=""/>
          <p:cNvGraphicFramePr/>
          <p:nvPr/>
        </p:nvGraphicFramePr>
        <p:xfrm>
          <a:off x="684360" y="1293840"/>
          <a:ext cx="77738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93840"/>
                    <a:ext cx="77738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EE2E-FEC8-481C-A751-4242E185F0BE}" type="slidenum">
              <a:t>21</a:t>
            </a:fld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SPICE model can be reduced to save simulation tim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ackage model can be translated to other formats to save some simulation time, but doesn’t justify the change in result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sing a behavioral model of the driver and receiver drastically decreases simulation time to less than 1/10 and maintains fidelity to the original resul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tensions to IBIS and Multi-Lingual Simulator provide flexibility and perform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1C6B-5626-4591-8EB6-6ACC0C2C44DC}" type="slidenum">
              <a:t>22</a:t>
            </a:fld>
          </a:p>
        </p:txBody>
      </p:sp>
    </p:spTree>
  </p:cSld>
  <p:transition>
    <p:pull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D0F2-06C3-4BAD-8C56-7DF945EDE4F1}" type="slidenum">
              <a:t>23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imulation Limitation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del availability remains an issu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rietary models and languages limit industry mass adop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BIS has major limitations; customers can’t use it exclusivel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extensible synta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able to model today’s buffer technolog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aptive drivers and receiv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ations in modeling power supply dynamic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ICE has issues as wel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o slow for analyzing entire design!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 often encrypted to proprietary forma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dors reluctant to provide the IP often found in SPICE mode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itional engine limitations exis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9CBF-6322-43D0-B5DF-12F39C1803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dvanced Modeling Capability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llow customers to use models in any possible industry standard forma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different model formats and languages in use today for high-speed desig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SPICE, Eldo, PSpice,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-AM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C leve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y providing support for more than one, improve probability of finding a mod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e the right model for the job at han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B37C-E16C-486A-88C5-218940BFE132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Extensions to IBIS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llow IBIS models to reference external models through key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 language extens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-A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Garamond (PCL6)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 (PCL6)"/>
              </a:rPr>
              <a:t>IBIS extens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Garamond (PCL6)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(PCL6)"/>
              </a:rPr>
              <a:t>[External Model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Garamond (PCL6)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(PCL6)"/>
              </a:rPr>
              <a:t>[External Circuit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Garamond (PCL6)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(PCL6)"/>
              </a:rPr>
              <a:t>[Circuit Call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Garamond (PCL6)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(PCL6)"/>
              </a:rPr>
              <a:t>[Node Declaration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BCEA-ACC3-493B-AD05-51F906312DD2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/O Buffer Exampl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61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BIS onl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BIS Parasitics with SPICE Buff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ICE Parasitics with VHDL-AMS buff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038480" y="1219320"/>
            <a:ext cx="4488120" cy="1130040"/>
            <a:chOff x="4038480" y="1219320"/>
            <a:chExt cx="4488120" cy="1130040"/>
          </a:xfrm>
        </p:grpSpPr>
        <p:grpSp>
          <p:nvGrpSpPr>
            <p:cNvPr id="100" name=""/>
            <p:cNvGrpSpPr/>
            <p:nvPr/>
          </p:nvGrpSpPr>
          <p:grpSpPr>
            <a:xfrm>
              <a:off x="6283440" y="1219320"/>
              <a:ext cx="2243160" cy="1130040"/>
              <a:chOff x="6283440" y="1219320"/>
              <a:chExt cx="2243160" cy="1130040"/>
            </a:xfrm>
          </p:grpSpPr>
          <p:sp>
            <p:nvSpPr>
              <p:cNvPr id="101" name=""/>
              <p:cNvSpPr/>
              <p:nvPr/>
            </p:nvSpPr>
            <p:spPr>
              <a:xfrm>
                <a:off x="6283440" y="1219320"/>
                <a:ext cx="2243160" cy="11300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29400" y="1716120"/>
                <a:ext cx="120600" cy="1173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05560" y="1717560"/>
                <a:ext cx="122400" cy="119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84960" y="1717560"/>
                <a:ext cx="120600" cy="119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73800" y="1784520"/>
                <a:ext cx="385920" cy="648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213320" y="1778040"/>
                <a:ext cx="81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7655040" y="1779480"/>
                <a:ext cx="69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10440" y="1909800"/>
                <a:ext cx="15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10440" y="1943280"/>
                <a:ext cx="15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8191440" y="1943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8190000" y="1821960"/>
                <a:ext cx="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959520" y="1778040"/>
                <a:ext cx="27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88160" y="1630440"/>
                <a:ext cx="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6708600" y="1511280"/>
                <a:ext cx="157320" cy="146160"/>
                <a:chOff x="6708600" y="1511280"/>
                <a:chExt cx="157320" cy="1461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719760" y="1511280"/>
                  <a:ext cx="134640" cy="146160"/>
                </a:xfrm>
                <a:prstGeom prst="flowChartExtra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708600" y="1511280"/>
                  <a:ext cx="157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708600" y="1886040"/>
                <a:ext cx="157320" cy="145800"/>
                <a:chOff x="6708600" y="1886040"/>
                <a:chExt cx="157320" cy="145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719760" y="1886040"/>
                  <a:ext cx="134640" cy="145800"/>
                </a:xfrm>
                <a:prstGeom prst="flowChartExtra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708600" y="1886040"/>
                  <a:ext cx="157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7000920" y="1900080"/>
                <a:ext cx="15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00920" y="1933560"/>
                <a:ext cx="15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7081920" y="1933200"/>
                <a:ext cx="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7078680" y="181296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86680" y="1781280"/>
                <a:ext cx="2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0800000">
                <a:off x="7029360" y="2050560"/>
                <a:ext cx="90720" cy="79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37600" y="1741320"/>
                <a:ext cx="147600" cy="59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62720" y="1901880"/>
                <a:ext cx="0" cy="8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59480" y="1901880"/>
                <a:ext cx="4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59480" y="1984320"/>
                <a:ext cx="4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38960" y="1901880"/>
                <a:ext cx="0" cy="8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386400" y="1943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6505560" y="1863360"/>
                <a:ext cx="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505560" y="1982520"/>
                <a:ext cx="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62720" y="1558800"/>
                <a:ext cx="0" cy="8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59480" y="1558800"/>
                <a:ext cx="4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459480" y="1641600"/>
                <a:ext cx="4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38960" y="1558800"/>
                <a:ext cx="0" cy="8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386400" y="1600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505560" y="1520640"/>
                <a:ext cx="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6505560" y="1639440"/>
                <a:ext cx="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05560" y="166356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505560" y="1327320"/>
                <a:ext cx="0" cy="19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788160" y="1328760"/>
                <a:ext cx="0" cy="177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05560" y="2017800"/>
                <a:ext cx="0" cy="21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88160" y="2035080"/>
                <a:ext cx="0" cy="19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0800000">
                <a:off x="6737040" y="2230560"/>
                <a:ext cx="9036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0800000">
                <a:off x="6459480" y="2230560"/>
                <a:ext cx="907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6505560" y="1778040"/>
                <a:ext cx="473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61160" y="127944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77120" y="1273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7705800" y="1709640"/>
                <a:ext cx="393120" cy="144360"/>
                <a:chOff x="7705800" y="1709640"/>
                <a:chExt cx="393120" cy="144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705800" y="1781280"/>
                  <a:ext cx="99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7804800" y="1712880"/>
                  <a:ext cx="22680" cy="68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827840" y="1709640"/>
                  <a:ext cx="3636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7864560" y="1713240"/>
                  <a:ext cx="3600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7864560" y="1713240"/>
                  <a:ext cx="3600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904160" y="1713240"/>
                  <a:ext cx="3600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940160" y="1716840"/>
                  <a:ext cx="3636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76880" y="1713240"/>
                  <a:ext cx="22680" cy="68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999920" y="1782360"/>
                  <a:ext cx="99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V="1">
                <a:off x="7078680" y="1773000"/>
                <a:ext cx="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81920" y="2001960"/>
                <a:ext cx="0" cy="4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8186760" y="1777680"/>
                <a:ext cx="144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186760" y="2006640"/>
                <a:ext cx="1440" cy="4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0800000">
                <a:off x="8138880" y="2045880"/>
                <a:ext cx="90360" cy="79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27560" y="12628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BIS Mod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038480" y="1303200"/>
              <a:ext cx="1490760" cy="962280"/>
              <a:chOff x="4038480" y="1303200"/>
              <a:chExt cx="1490760" cy="962280"/>
            </a:xfrm>
          </p:grpSpPr>
          <p:sp>
            <p:nvSpPr>
              <p:cNvPr id="168" name=""/>
              <p:cNvSpPr/>
              <p:nvPr/>
            </p:nvSpPr>
            <p:spPr>
              <a:xfrm>
                <a:off x="4038480" y="1303200"/>
                <a:ext cx="1490760" cy="96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22840" y="1868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955040" y="1717560"/>
                <a:ext cx="475920" cy="271440"/>
                <a:chOff x="4955040" y="1717560"/>
                <a:chExt cx="475920" cy="271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972320" y="1717560"/>
                  <a:ext cx="458640" cy="271440"/>
                </a:xfrm>
                <a:custGeom>
                  <a:avLst/>
                  <a:gdLst/>
                  <a:ahLst/>
                  <a:rect l="l" t="t" r="r" b="b"/>
                  <a:pathLst>
                    <a:path w="337" h="193">
                      <a:moveTo>
                        <a:pt x="0" y="96"/>
                      </a:moveTo>
                      <a:lnTo>
                        <a:pt x="48" y="0"/>
                      </a:lnTo>
                      <a:lnTo>
                        <a:pt x="288" y="0"/>
                      </a:lnTo>
                      <a:lnTo>
                        <a:pt x="336" y="96"/>
                      </a:lnTo>
                      <a:lnTo>
                        <a:pt x="288" y="192"/>
                      </a:lnTo>
                      <a:lnTo>
                        <a:pt x="48" y="192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955040" y="1717560"/>
                  <a:ext cx="39168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252680" y="1657440"/>
                <a:ext cx="463320" cy="407880"/>
                <a:chOff x="4252680" y="1657440"/>
                <a:chExt cx="463320" cy="407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387680" y="1657440"/>
                  <a:ext cx="328320" cy="407880"/>
                </a:xfrm>
                <a:custGeom>
                  <a:avLst/>
                  <a:gdLst/>
                  <a:ahLst/>
                  <a:rect l="l" t="t" r="r" b="b"/>
                  <a:pathLst>
                    <a:path w="241" h="289">
                      <a:moveTo>
                        <a:pt x="0" y="0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4252680" y="18604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4315680" y="1328040"/>
                <a:ext cx="94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662440" y="1486080"/>
              <a:ext cx="533520" cy="598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120" bIns="51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038480" y="2743200"/>
            <a:ext cx="4964400" cy="1130400"/>
            <a:chOff x="4038480" y="2743200"/>
            <a:chExt cx="4964400" cy="1130400"/>
          </a:xfrm>
        </p:grpSpPr>
        <p:grpSp>
          <p:nvGrpSpPr>
            <p:cNvPr id="179" name=""/>
            <p:cNvGrpSpPr/>
            <p:nvPr/>
          </p:nvGrpSpPr>
          <p:grpSpPr>
            <a:xfrm>
              <a:off x="6283440" y="2743200"/>
              <a:ext cx="2719440" cy="1130400"/>
              <a:chOff x="6283440" y="2743200"/>
              <a:chExt cx="2719440" cy="1130400"/>
            </a:xfrm>
          </p:grpSpPr>
          <p:sp>
            <p:nvSpPr>
              <p:cNvPr id="180" name=""/>
              <p:cNvSpPr/>
              <p:nvPr/>
            </p:nvSpPr>
            <p:spPr>
              <a:xfrm>
                <a:off x="6283440" y="2743200"/>
                <a:ext cx="2719440" cy="11304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73920" y="3335400"/>
                <a:ext cx="120600" cy="1173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50080" y="3336840"/>
                <a:ext cx="122400" cy="119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29480" y="3336840"/>
                <a:ext cx="120600" cy="119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18320" y="3403440"/>
                <a:ext cx="385920" cy="65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557840" y="3397320"/>
                <a:ext cx="81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7999560" y="3398760"/>
                <a:ext cx="69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454960" y="3529080"/>
                <a:ext cx="15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454960" y="3562200"/>
                <a:ext cx="15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8535960" y="3561840"/>
                <a:ext cx="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8534520" y="3441240"/>
                <a:ext cx="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304040" y="3397320"/>
                <a:ext cx="27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45440" y="3519360"/>
                <a:ext cx="15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45440" y="3552840"/>
                <a:ext cx="15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426440" y="355284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7423200" y="343224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431200" y="3400560"/>
                <a:ext cx="2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7373880" y="3669840"/>
                <a:ext cx="90720" cy="79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682120" y="3360600"/>
                <a:ext cx="147600" cy="59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8050320" y="3328920"/>
                <a:ext cx="393120" cy="144360"/>
                <a:chOff x="8050320" y="3328920"/>
                <a:chExt cx="393120" cy="1443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8050320" y="3400560"/>
                  <a:ext cx="99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8149320" y="3332520"/>
                  <a:ext cx="22680" cy="6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72360" y="3328920"/>
                  <a:ext cx="36360" cy="13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8209080" y="3332520"/>
                  <a:ext cx="3600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8209080" y="3332520"/>
                  <a:ext cx="3600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48680" y="3332520"/>
                  <a:ext cx="3600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8284680" y="3336120"/>
                  <a:ext cx="3636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321400" y="3332520"/>
                  <a:ext cx="22680" cy="6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44440" y="3401640"/>
                  <a:ext cx="99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7423200" y="3392280"/>
                <a:ext cx="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26440" y="3621240"/>
                <a:ext cx="0" cy="4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8531280" y="3396960"/>
                <a:ext cx="144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31280" y="3625920"/>
                <a:ext cx="1440" cy="4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8483400" y="3665160"/>
                <a:ext cx="90360" cy="79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296040" y="2799720"/>
                <a:ext cx="27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osite Mod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35720" y="3124080"/>
                <a:ext cx="855720" cy="61128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120" bIns="51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61720" y="3101400"/>
                <a:ext cx="630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P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uff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od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038480" y="2827440"/>
              <a:ext cx="1490760" cy="961920"/>
              <a:chOff x="4038480" y="2827440"/>
              <a:chExt cx="1490760" cy="961920"/>
            </a:xfrm>
          </p:grpSpPr>
          <p:sp>
            <p:nvSpPr>
              <p:cNvPr id="218" name=""/>
              <p:cNvSpPr/>
              <p:nvPr/>
            </p:nvSpPr>
            <p:spPr>
              <a:xfrm>
                <a:off x="4038480" y="2827440"/>
                <a:ext cx="1490760" cy="961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22840" y="339264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4955040" y="3241800"/>
                <a:ext cx="475920" cy="271440"/>
                <a:chOff x="4955040" y="3241800"/>
                <a:chExt cx="475920" cy="2714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972320" y="3241800"/>
                  <a:ext cx="458640" cy="271440"/>
                </a:xfrm>
                <a:custGeom>
                  <a:avLst/>
                  <a:gdLst/>
                  <a:ahLst/>
                  <a:rect l="l" t="t" r="r" b="b"/>
                  <a:pathLst>
                    <a:path w="337" h="193">
                      <a:moveTo>
                        <a:pt x="0" y="96"/>
                      </a:moveTo>
                      <a:lnTo>
                        <a:pt x="48" y="0"/>
                      </a:lnTo>
                      <a:lnTo>
                        <a:pt x="288" y="0"/>
                      </a:lnTo>
                      <a:lnTo>
                        <a:pt x="336" y="96"/>
                      </a:lnTo>
                      <a:lnTo>
                        <a:pt x="288" y="192"/>
                      </a:lnTo>
                      <a:lnTo>
                        <a:pt x="48" y="192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955040" y="3241800"/>
                  <a:ext cx="39168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252680" y="3181320"/>
                <a:ext cx="463320" cy="407880"/>
                <a:chOff x="4252680" y="3181320"/>
                <a:chExt cx="463320" cy="4078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387680" y="3181320"/>
                  <a:ext cx="328320" cy="407880"/>
                </a:xfrm>
                <a:custGeom>
                  <a:avLst/>
                  <a:gdLst/>
                  <a:ahLst/>
                  <a:rect l="l" t="t" r="r" b="b"/>
                  <a:pathLst>
                    <a:path w="241" h="289">
                      <a:moveTo>
                        <a:pt x="0" y="0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252680" y="338436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4315680" y="2851920"/>
                <a:ext cx="94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662440" y="3008160"/>
              <a:ext cx="533520" cy="598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120" bIns="51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38480" y="4191120"/>
            <a:ext cx="4964400" cy="1130040"/>
            <a:chOff x="4038480" y="4191120"/>
            <a:chExt cx="4964400" cy="1130040"/>
          </a:xfrm>
        </p:grpSpPr>
        <p:grpSp>
          <p:nvGrpSpPr>
            <p:cNvPr id="229" name=""/>
            <p:cNvGrpSpPr/>
            <p:nvPr/>
          </p:nvGrpSpPr>
          <p:grpSpPr>
            <a:xfrm>
              <a:off x="6283440" y="4191120"/>
              <a:ext cx="2719440" cy="1130040"/>
              <a:chOff x="6283440" y="4191120"/>
              <a:chExt cx="2719440" cy="1130040"/>
            </a:xfrm>
          </p:grpSpPr>
          <p:sp>
            <p:nvSpPr>
              <p:cNvPr id="230" name=""/>
              <p:cNvSpPr/>
              <p:nvPr/>
            </p:nvSpPr>
            <p:spPr>
              <a:xfrm>
                <a:off x="6283440" y="4191120"/>
                <a:ext cx="2719440" cy="11300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96040" y="4195080"/>
                <a:ext cx="27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osite Mod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90040" y="4570560"/>
                <a:ext cx="726840" cy="56988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120" bIns="51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73840" y="4545720"/>
                <a:ext cx="736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PICE Pack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od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524800" y="4859280"/>
                <a:ext cx="13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645400" y="4824360"/>
                <a:ext cx="147600" cy="58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58280" y="4854600"/>
                <a:ext cx="12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08600" y="4570560"/>
                <a:ext cx="932040" cy="56988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120" bIns="51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37320" y="4533120"/>
                <a:ext cx="10540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VHDL-A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uff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od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4038480" y="4275000"/>
              <a:ext cx="1490760" cy="962280"/>
              <a:chOff x="4038480" y="4275000"/>
              <a:chExt cx="1490760" cy="962280"/>
            </a:xfrm>
          </p:grpSpPr>
          <p:sp>
            <p:nvSpPr>
              <p:cNvPr id="240" name=""/>
              <p:cNvSpPr/>
              <p:nvPr/>
            </p:nvSpPr>
            <p:spPr>
              <a:xfrm>
                <a:off x="4038480" y="4275000"/>
                <a:ext cx="1490760" cy="96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22840" y="48402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4955040" y="4689360"/>
                <a:ext cx="475920" cy="271440"/>
                <a:chOff x="4955040" y="4689360"/>
                <a:chExt cx="475920" cy="271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972320" y="4689360"/>
                  <a:ext cx="458640" cy="271440"/>
                </a:xfrm>
                <a:custGeom>
                  <a:avLst/>
                  <a:gdLst/>
                  <a:ahLst/>
                  <a:rect l="l" t="t" r="r" b="b"/>
                  <a:pathLst>
                    <a:path w="337" h="193">
                      <a:moveTo>
                        <a:pt x="0" y="96"/>
                      </a:moveTo>
                      <a:lnTo>
                        <a:pt x="48" y="0"/>
                      </a:lnTo>
                      <a:lnTo>
                        <a:pt x="288" y="0"/>
                      </a:lnTo>
                      <a:lnTo>
                        <a:pt x="336" y="96"/>
                      </a:lnTo>
                      <a:lnTo>
                        <a:pt x="288" y="192"/>
                      </a:lnTo>
                      <a:lnTo>
                        <a:pt x="48" y="192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955040" y="4689360"/>
                  <a:ext cx="39168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252680" y="4629240"/>
                <a:ext cx="463320" cy="407880"/>
                <a:chOff x="4252680" y="4629240"/>
                <a:chExt cx="463320" cy="4078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387680" y="4629240"/>
                  <a:ext cx="328320" cy="407880"/>
                </a:xfrm>
                <a:custGeom>
                  <a:avLst/>
                  <a:gdLst/>
                  <a:ahLst/>
                  <a:rect l="l" t="t" r="r" b="b"/>
                  <a:pathLst>
                    <a:path w="241" h="289">
                      <a:moveTo>
                        <a:pt x="0" y="0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4252680" y="48322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4315680" y="4299840"/>
                <a:ext cx="94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62440" y="4457880"/>
              <a:ext cx="533520" cy="598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120" bIns="51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2F88-C698-43EE-B992-94BFA9A2BAD1}" type="slidenum">
              <a:t>6</a:t>
            </a:fld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ulti-Lingual Simula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46196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x and match driver model formats on a single 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199040" y="2216160"/>
          <a:ext cx="4473360" cy="37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9040" y="2216160"/>
                    <a:ext cx="44733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293840" y="460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352760" y="1117440"/>
            <a:ext cx="4580280" cy="1824120"/>
            <a:chOff x="4352760" y="1117440"/>
            <a:chExt cx="4580280" cy="1824120"/>
          </a:xfrm>
        </p:grpSpPr>
        <p:sp>
          <p:nvSpPr>
            <p:cNvPr id="256" name=""/>
            <p:cNvSpPr/>
            <p:nvPr/>
          </p:nvSpPr>
          <p:spPr>
            <a:xfrm>
              <a:off x="4352760" y="1117440"/>
              <a:ext cx="458028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entity ibis_tx_cmos i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generic 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c_comp:real:=7.0e-12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vpudata:real_vector:=( -5.250000e+00, … ,7.500000e+00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pudata:real_vector:=( 3.555770e-01, … ,-1.356870e-01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…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same for vpd, ipd, vpc,ipc, vgc, ig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07840" y="117468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VHDL-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40560" y="1989000"/>
              <a:ext cx="728640" cy="95256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lnTo>
                    <a:pt x="0" y="432"/>
                  </a:lnTo>
                  <a:lnTo>
                    <a:pt x="384" y="432"/>
                  </a:lnTo>
                </a:path>
              </a:pathLst>
            </a:custGeom>
            <a:noFill/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5120" y="2712960"/>
            <a:ext cx="4107600" cy="1616760"/>
            <a:chOff x="465120" y="2712960"/>
            <a:chExt cx="4107600" cy="1616760"/>
          </a:xfrm>
        </p:grpSpPr>
        <p:sp>
          <p:nvSpPr>
            <p:cNvPr id="260" name=""/>
            <p:cNvSpPr/>
            <p:nvPr/>
          </p:nvSpPr>
          <p:spPr>
            <a:xfrm>
              <a:off x="465120" y="2712960"/>
              <a:ext cx="3371760" cy="161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8a8a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_I$277 VCC out1 1.55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_I$272 ibias N$238 28.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_I$46 N$240 ibias 0 0 NFET L=1.52U W=7.85U M=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_I$283 out2 out2b VCC VCC PFET L=0.5U W=4U M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MODEL NFET NMOS (RSH=17 KP=1.34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 GAMMA=0.919 PHI=0.707 LAMBDA=0.1M RD=52.88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 RS=52.55 CBD=4.79P CBS=5.73P PB=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 CGSO=3.17P CGDO=2.04P CGBO=4.01P MJ=0.189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10800" y="27543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 rot="5400000">
              <a:off x="3863520" y="3170880"/>
              <a:ext cx="420480" cy="99684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lnTo>
                    <a:pt x="0" y="432"/>
                  </a:lnTo>
                  <a:lnTo>
                    <a:pt x="384" y="432"/>
                  </a:lnTo>
                </a:path>
              </a:pathLst>
            </a:custGeom>
            <a:noFill/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433760" y="4094280"/>
            <a:ext cx="3904560" cy="1919160"/>
            <a:chOff x="4433760" y="4094280"/>
            <a:chExt cx="3904560" cy="1919160"/>
          </a:xfrm>
        </p:grpSpPr>
        <p:grpSp>
          <p:nvGrpSpPr>
            <p:cNvPr id="264" name=""/>
            <p:cNvGrpSpPr/>
            <p:nvPr/>
          </p:nvGrpSpPr>
          <p:grpSpPr>
            <a:xfrm>
              <a:off x="4433760" y="4094280"/>
              <a:ext cx="2478240" cy="1919160"/>
              <a:chOff x="4433760" y="4094280"/>
              <a:chExt cx="2478240" cy="1919160"/>
            </a:xfrm>
          </p:grpSpPr>
          <p:sp>
            <p:nvSpPr>
              <p:cNvPr id="265" name=""/>
              <p:cNvSpPr/>
              <p:nvPr/>
            </p:nvSpPr>
            <p:spPr>
              <a:xfrm>
                <a:off x="4433760" y="4094280"/>
                <a:ext cx="2478240" cy="1919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IBIS Ver]    3.2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File name]   sample.ibs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File Rev]   0.0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Date]        August 31, 2002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Source]    Data Book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Notes]      Default model for source.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Disclaimer]  This information is modeling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|**************************************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Component]     Drive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Manufacturer]  Generic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[Package]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typ               min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_pkg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0                   N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L_pkg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5.0nH         N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_pkg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.0pF           N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0880" y="41482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IB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697080" y="4433400"/>
              <a:ext cx="1641240" cy="792720"/>
              <a:chOff x="6697080" y="4433400"/>
              <a:chExt cx="1641240" cy="792720"/>
            </a:xfrm>
          </p:grpSpPr>
          <p:sp>
            <p:nvSpPr>
              <p:cNvPr id="268" name=""/>
              <p:cNvSpPr/>
              <p:nvPr/>
            </p:nvSpPr>
            <p:spPr>
              <a:xfrm flipH="1" flipV="1" rot="5400000">
                <a:off x="6888600" y="4241160"/>
                <a:ext cx="420840" cy="804600"/>
              </a:xfrm>
              <a:custGeom>
                <a:avLst/>
                <a:gdLst/>
                <a:ahLst/>
                <a:rect l="l" t="t" r="r" b="b"/>
                <a:pathLst>
                  <a:path w="384" h="432">
                    <a:moveTo>
                      <a:pt x="0" y="0"/>
                    </a:moveTo>
                    <a:lnTo>
                      <a:pt x="0" y="432"/>
                    </a:lnTo>
                    <a:lnTo>
                      <a:pt x="384" y="432"/>
                    </a:lnTo>
                  </a:path>
                </a:pathLst>
              </a:custGeom>
              <a:noFill/>
              <a:ln w="5724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6200000">
                <a:off x="7342560" y="4230720"/>
                <a:ext cx="372960" cy="1617480"/>
              </a:xfrm>
              <a:custGeom>
                <a:avLst/>
                <a:gdLst/>
                <a:ahLst/>
                <a:rect l="l" t="t" r="r" b="b"/>
                <a:pathLst>
                  <a:path w="384" h="432">
                    <a:moveTo>
                      <a:pt x="0" y="0"/>
                    </a:moveTo>
                    <a:lnTo>
                      <a:pt x="0" y="432"/>
                    </a:lnTo>
                    <a:lnTo>
                      <a:pt x="384" y="432"/>
                    </a:lnTo>
                  </a:path>
                </a:pathLst>
              </a:custGeom>
              <a:noFill/>
              <a:ln w="5724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itials, Presentation Subject, Month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77D8-D3E2-4871-833E-A425EBBA0370}" type="slidenum">
              <a:t>7</a:t>
            </a:fld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6290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110C-16DC-47FB-963A-63B5E13F4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438280" y="6248160"/>
            <a:ext cx="4191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Benefits of Multi-Lingual Extensions to I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E IBIS Summi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tera Stratix GX High-Speed Serial Interface (HSSI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transistor level mod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circuit for transceiv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able parameters for Driver pre-emphasis levels, Driver output voltage amplitude, Driver impedance, Receiver equalization level, Receiver impedance, Trace length and l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” lossy differential pair trace model from driver pins to receiver pin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ircuit as delivered took 21 minutes (real time) to simulate in Eldo (SPICE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odeling Alternatives: Starting Poin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6290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446F-E16A-40B6-98F5-93E79C77F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438280" y="6248160"/>
            <a:ext cx="4191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Benefits of Multi-Lingual Extensions to I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E IBIS Summi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9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Original Transceiver Model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30571" t="11719" r="24933" b="7031"/>
          <a:stretch/>
        </p:blipFill>
        <p:spPr>
          <a:xfrm>
            <a:off x="990720" y="1039680"/>
            <a:ext cx="3263760" cy="4776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rcRect l="31184" t="12317" r="25164" b="8615"/>
          <a:stretch/>
        </p:blipFill>
        <p:spPr>
          <a:xfrm>
            <a:off x="4724280" y="1143000"/>
            <a:ext cx="3200400" cy="464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733920" y="5867280"/>
            <a:ext cx="518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Multi-page schematic created with SpiceVision PRO from Concept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Bob Ross</cp:lastModifiedBy>
  <cp:lastPrinted>2002-05-03T20:18:08Z</cp:lastPrinted>
  <dcterms:modified xsi:type="dcterms:W3CDTF">2004-02-13T17:39:27Z</dcterms:modified>
  <cp:revision>122</cp:revision>
  <dc:subject/>
  <dc:title>No Slide Title</dc:title>
</cp:coreProperties>
</file>