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39520" y="202680"/>
            <a:ext cx="79945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739520" y="202680"/>
            <a:ext cx="79945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9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069400" y="277920"/>
            <a:ext cx="1409400" cy="255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800360" y="6477120"/>
            <a:ext cx="8105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77120"/>
            <a:ext cx="1800360" cy="380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648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9,8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39400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5,4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14980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,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48608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7,6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130680" y="-3049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0,9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-495360" y="1039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6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-495360" y="332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0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-495360" y="63738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8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057400" y="6553080"/>
            <a:ext cx="760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                              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Page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9354960" y="655308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A1B1-0A29-4AEB-8508-04AB20FA8806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50960" cy="114300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 txBox="1"/>
          <p:nvPr/>
        </p:nvSpPr>
        <p:spPr>
          <a:xfrm rot="576000">
            <a:off x="705960" y="6120"/>
            <a:ext cx="797040" cy="75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9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6600"/>
                </a:solidFill>
                <a:latin typeface="Arial Black"/>
              </a:rPr>
              <a:t>M&amp;L TDC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7" name=""/>
          <p:cNvSpPr/>
          <p:nvPr/>
        </p:nvSpPr>
        <p:spPr>
          <a:xfrm>
            <a:off x="1999440" y="6513480"/>
            <a:ext cx="173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ICN M&amp;L TDC CE TC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5390280" y="6456240"/>
            <a:ext cx="24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66"/>
                </a:solidFill>
                <a:latin typeface="Arial"/>
              </a:rPr>
              <a:t>IBIS summit  DATE 2004   20</a:t>
            </a:r>
            <a:r>
              <a:rPr b="0" lang="de-DE" sz="1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de-DE" sz="1000" spc="-1" strike="noStrike">
                <a:solidFill>
                  <a:srgbClr val="003366"/>
                </a:solidFill>
                <a:latin typeface="Arial"/>
              </a:rPr>
              <a:t> Feb. 200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3648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9,8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9400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5,4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4980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,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8608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7,6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30680" y="-3049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0,9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495360" y="1039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6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495360" y="332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0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495360" y="63738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8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855960"/>
            <a:ext cx="179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Communication Network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572000"/>
            <a:ext cx="9906120" cy="1143000"/>
          </a:xfrm>
          <a:prstGeom prst="rect">
            <a:avLst/>
          </a:prstGeom>
          <a:solidFill>
            <a:srgbClr val="ff9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16200" y="457164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340000" y="3468600"/>
            <a:ext cx="2641320" cy="389160"/>
            <a:chOff x="2340000" y="3468600"/>
            <a:chExt cx="2641320" cy="389160"/>
          </a:xfrm>
        </p:grpSpPr>
        <p:sp>
          <p:nvSpPr>
            <p:cNvPr id="68" name=""/>
            <p:cNvSpPr/>
            <p:nvPr/>
          </p:nvSpPr>
          <p:spPr>
            <a:xfrm>
              <a:off x="4664520" y="3468600"/>
              <a:ext cx="316800" cy="38916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2"/>
                  </a:lnTo>
                  <a:lnTo>
                    <a:pt x="1894" y="622"/>
                  </a:lnTo>
                  <a:lnTo>
                    <a:pt x="1894" y="622"/>
                  </a:lnTo>
                  <a:lnTo>
                    <a:pt x="1639" y="536"/>
                  </a:lnTo>
                  <a:lnTo>
                    <a:pt x="1393" y="484"/>
                  </a:lnTo>
                  <a:lnTo>
                    <a:pt x="1171" y="467"/>
                  </a:lnTo>
                  <a:lnTo>
                    <a:pt x="1171" y="467"/>
                  </a:lnTo>
                  <a:lnTo>
                    <a:pt x="947" y="498"/>
                  </a:lnTo>
                  <a:lnTo>
                    <a:pt x="806" y="579"/>
                  </a:lnTo>
                  <a:lnTo>
                    <a:pt x="757" y="694"/>
                  </a:lnTo>
                  <a:lnTo>
                    <a:pt x="757" y="694"/>
                  </a:lnTo>
                  <a:lnTo>
                    <a:pt x="776" y="786"/>
                  </a:lnTo>
                  <a:lnTo>
                    <a:pt x="852" y="85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717" y="1277"/>
                  </a:lnTo>
                  <a:lnTo>
                    <a:pt x="1883" y="1409"/>
                  </a:lnTo>
                  <a:lnTo>
                    <a:pt x="2004" y="1562"/>
                  </a:lnTo>
                  <a:lnTo>
                    <a:pt x="2078" y="1739"/>
                  </a:lnTo>
                  <a:lnTo>
                    <a:pt x="2103" y="1944"/>
                  </a:lnTo>
                  <a:lnTo>
                    <a:pt x="2103" y="1944"/>
                  </a:lnTo>
                  <a:lnTo>
                    <a:pt x="2081" y="2120"/>
                  </a:lnTo>
                  <a:lnTo>
                    <a:pt x="2019" y="2278"/>
                  </a:lnTo>
                  <a:lnTo>
                    <a:pt x="1919" y="2419"/>
                  </a:lnTo>
                  <a:lnTo>
                    <a:pt x="1783" y="2540"/>
                  </a:lnTo>
                  <a:lnTo>
                    <a:pt x="1614" y="2639"/>
                  </a:lnTo>
                  <a:lnTo>
                    <a:pt x="1415" y="2712"/>
                  </a:lnTo>
                  <a:lnTo>
                    <a:pt x="1187" y="2758"/>
                  </a:lnTo>
                  <a:lnTo>
                    <a:pt x="935" y="2773"/>
                  </a:lnTo>
                  <a:lnTo>
                    <a:pt x="935" y="2773"/>
                  </a:lnTo>
                  <a:lnTo>
                    <a:pt x="732" y="2767"/>
                  </a:lnTo>
                  <a:lnTo>
                    <a:pt x="512" y="2749"/>
                  </a:lnTo>
                  <a:lnTo>
                    <a:pt x="284" y="2716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353" y="2210"/>
                  </a:lnTo>
                  <a:lnTo>
                    <a:pt x="632" y="2261"/>
                  </a:lnTo>
                  <a:lnTo>
                    <a:pt x="882" y="2278"/>
                  </a:lnTo>
                  <a:lnTo>
                    <a:pt x="882" y="2278"/>
                  </a:lnTo>
                  <a:lnTo>
                    <a:pt x="1124" y="2246"/>
                  </a:lnTo>
                  <a:lnTo>
                    <a:pt x="1273" y="2161"/>
                  </a:lnTo>
                  <a:lnTo>
                    <a:pt x="1324" y="2043"/>
                  </a:lnTo>
                  <a:lnTo>
                    <a:pt x="1324" y="2043"/>
                  </a:lnTo>
                  <a:lnTo>
                    <a:pt x="1304" y="1952"/>
                  </a:lnTo>
                  <a:lnTo>
                    <a:pt x="1246" y="1874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375" y="1460"/>
                  </a:lnTo>
                  <a:lnTo>
                    <a:pt x="207" y="1330"/>
                  </a:lnTo>
                  <a:lnTo>
                    <a:pt x="90" y="1178"/>
                  </a:lnTo>
                  <a:lnTo>
                    <a:pt x="22" y="1002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7"/>
                  </a:lnTo>
                  <a:lnTo>
                    <a:pt x="175" y="330"/>
                  </a:lnTo>
                  <a:lnTo>
                    <a:pt x="305" y="214"/>
                  </a:lnTo>
                  <a:lnTo>
                    <a:pt x="466" y="124"/>
                  </a:lnTo>
                  <a:lnTo>
                    <a:pt x="657" y="56"/>
                  </a:lnTo>
                  <a:lnTo>
                    <a:pt x="875" y="13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5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64520" y="3468600"/>
              <a:ext cx="316800" cy="38916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3"/>
                  </a:lnTo>
                  <a:lnTo>
                    <a:pt x="1894" y="623"/>
                  </a:lnTo>
                  <a:lnTo>
                    <a:pt x="1894" y="623"/>
                  </a:lnTo>
                  <a:lnTo>
                    <a:pt x="1640" y="536"/>
                  </a:lnTo>
                  <a:lnTo>
                    <a:pt x="1394" y="484"/>
                  </a:lnTo>
                  <a:lnTo>
                    <a:pt x="1172" y="467"/>
                  </a:lnTo>
                  <a:lnTo>
                    <a:pt x="1172" y="467"/>
                  </a:lnTo>
                  <a:lnTo>
                    <a:pt x="947" y="499"/>
                  </a:lnTo>
                  <a:lnTo>
                    <a:pt x="806" y="581"/>
                  </a:lnTo>
                  <a:lnTo>
                    <a:pt x="757" y="695"/>
                  </a:lnTo>
                  <a:lnTo>
                    <a:pt x="757" y="695"/>
                  </a:lnTo>
                  <a:lnTo>
                    <a:pt x="777" y="787"/>
                  </a:lnTo>
                  <a:lnTo>
                    <a:pt x="852" y="860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717" y="1278"/>
                  </a:lnTo>
                  <a:lnTo>
                    <a:pt x="1884" y="1410"/>
                  </a:lnTo>
                  <a:lnTo>
                    <a:pt x="2004" y="1562"/>
                  </a:lnTo>
                  <a:lnTo>
                    <a:pt x="2078" y="1740"/>
                  </a:lnTo>
                  <a:lnTo>
                    <a:pt x="2103" y="1945"/>
                  </a:lnTo>
                  <a:lnTo>
                    <a:pt x="2103" y="1945"/>
                  </a:lnTo>
                  <a:lnTo>
                    <a:pt x="2081" y="2121"/>
                  </a:lnTo>
                  <a:lnTo>
                    <a:pt x="2020" y="2279"/>
                  </a:lnTo>
                  <a:lnTo>
                    <a:pt x="1919" y="2420"/>
                  </a:lnTo>
                  <a:lnTo>
                    <a:pt x="1783" y="2541"/>
                  </a:lnTo>
                  <a:lnTo>
                    <a:pt x="1614" y="2640"/>
                  </a:lnTo>
                  <a:lnTo>
                    <a:pt x="1416" y="2713"/>
                  </a:lnTo>
                  <a:lnTo>
                    <a:pt x="1189" y="2758"/>
                  </a:lnTo>
                  <a:lnTo>
                    <a:pt x="936" y="2773"/>
                  </a:lnTo>
                  <a:lnTo>
                    <a:pt x="936" y="2773"/>
                  </a:lnTo>
                  <a:lnTo>
                    <a:pt x="732" y="2768"/>
                  </a:lnTo>
                  <a:lnTo>
                    <a:pt x="512" y="2750"/>
                  </a:lnTo>
                  <a:lnTo>
                    <a:pt x="285" y="271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354" y="2210"/>
                  </a:lnTo>
                  <a:lnTo>
                    <a:pt x="632" y="2262"/>
                  </a:lnTo>
                  <a:lnTo>
                    <a:pt x="882" y="2279"/>
                  </a:lnTo>
                  <a:lnTo>
                    <a:pt x="882" y="2279"/>
                  </a:lnTo>
                  <a:lnTo>
                    <a:pt x="1125" y="2246"/>
                  </a:lnTo>
                  <a:lnTo>
                    <a:pt x="1273" y="2161"/>
                  </a:lnTo>
                  <a:lnTo>
                    <a:pt x="1324" y="2044"/>
                  </a:lnTo>
                  <a:lnTo>
                    <a:pt x="1324" y="2044"/>
                  </a:lnTo>
                  <a:lnTo>
                    <a:pt x="1305" y="1952"/>
                  </a:lnTo>
                  <a:lnTo>
                    <a:pt x="1246" y="1874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375" y="1461"/>
                  </a:lnTo>
                  <a:lnTo>
                    <a:pt x="208" y="1330"/>
                  </a:lnTo>
                  <a:lnTo>
                    <a:pt x="91" y="1179"/>
                  </a:lnTo>
                  <a:lnTo>
                    <a:pt x="23" y="100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1" y="624"/>
                  </a:lnTo>
                  <a:lnTo>
                    <a:pt x="80" y="468"/>
                  </a:lnTo>
                  <a:lnTo>
                    <a:pt x="175" y="331"/>
                  </a:lnTo>
                  <a:lnTo>
                    <a:pt x="306" y="216"/>
                  </a:lnTo>
                  <a:lnTo>
                    <a:pt x="466" y="124"/>
                  </a:lnTo>
                  <a:lnTo>
                    <a:pt x="658" y="56"/>
                  </a:lnTo>
                  <a:lnTo>
                    <a:pt x="876" y="14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6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48360" y="3476160"/>
              <a:ext cx="353520" cy="373680"/>
            </a:xfrm>
            <a:custGeom>
              <a:avLst/>
              <a:gdLst/>
              <a:ahLst/>
              <a:rect l="l" t="t" r="r" b="b"/>
              <a:pathLst>
                <a:path w="2352" h="2666">
                  <a:moveTo>
                    <a:pt x="2352" y="0"/>
                  </a:moveTo>
                  <a:lnTo>
                    <a:pt x="2352" y="2666"/>
                  </a:lnTo>
                  <a:lnTo>
                    <a:pt x="1497" y="2666"/>
                  </a:lnTo>
                  <a:lnTo>
                    <a:pt x="539" y="958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09" y="1682"/>
                  </a:lnTo>
                  <a:lnTo>
                    <a:pt x="1809" y="0"/>
                  </a:lnTo>
                  <a:lnTo>
                    <a:pt x="2352" y="0"/>
                  </a:lnTo>
                  <a:lnTo>
                    <a:pt x="2352" y="0"/>
                  </a:lnTo>
                  <a:lnTo>
                    <a:pt x="23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48360" y="3476160"/>
              <a:ext cx="353520" cy="373680"/>
            </a:xfrm>
            <a:custGeom>
              <a:avLst/>
              <a:gdLst/>
              <a:ahLst/>
              <a:rect l="l" t="t" r="r" b="b"/>
              <a:pathLst>
                <a:path w="2354" h="2666">
                  <a:moveTo>
                    <a:pt x="2354" y="0"/>
                  </a:moveTo>
                  <a:lnTo>
                    <a:pt x="2354" y="2666"/>
                  </a:lnTo>
                  <a:lnTo>
                    <a:pt x="1498" y="2666"/>
                  </a:lnTo>
                  <a:lnTo>
                    <a:pt x="539" y="957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10" y="1682"/>
                  </a:lnTo>
                  <a:lnTo>
                    <a:pt x="1810" y="0"/>
                  </a:lnTo>
                  <a:lnTo>
                    <a:pt x="2354" y="0"/>
                  </a:lnTo>
                  <a:lnTo>
                    <a:pt x="2354" y="0"/>
                  </a:lnTo>
                  <a:lnTo>
                    <a:pt x="235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80080" y="3476160"/>
              <a:ext cx="300960" cy="37368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4" y="0"/>
                  </a:moveTo>
                  <a:lnTo>
                    <a:pt x="1974" y="490"/>
                  </a:lnTo>
                  <a:lnTo>
                    <a:pt x="775" y="490"/>
                  </a:lnTo>
                  <a:lnTo>
                    <a:pt x="775" y="1082"/>
                  </a:lnTo>
                  <a:lnTo>
                    <a:pt x="1818" y="1082"/>
                  </a:lnTo>
                  <a:lnTo>
                    <a:pt x="1818" y="1523"/>
                  </a:lnTo>
                  <a:lnTo>
                    <a:pt x="775" y="1523"/>
                  </a:lnTo>
                  <a:lnTo>
                    <a:pt x="775" y="2146"/>
                  </a:lnTo>
                  <a:lnTo>
                    <a:pt x="2001" y="2146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4" y="0"/>
                  </a:lnTo>
                  <a:lnTo>
                    <a:pt x="1974" y="0"/>
                  </a:lnTo>
                  <a:lnTo>
                    <a:pt x="19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80080" y="3476160"/>
              <a:ext cx="301680" cy="37368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3" y="0"/>
                  </a:moveTo>
                  <a:lnTo>
                    <a:pt x="1973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8" y="1081"/>
                  </a:lnTo>
                  <a:lnTo>
                    <a:pt x="1818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2001" y="2145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3" y="0"/>
                  </a:lnTo>
                  <a:lnTo>
                    <a:pt x="1973" y="0"/>
                  </a:lnTo>
                  <a:lnTo>
                    <a:pt x="197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91480" y="3476160"/>
              <a:ext cx="495000" cy="37728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30"/>
                  </a:lnTo>
                  <a:lnTo>
                    <a:pt x="2361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91480" y="3476160"/>
              <a:ext cx="495000" cy="37800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29"/>
                  </a:lnTo>
                  <a:lnTo>
                    <a:pt x="2362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24640" y="3476160"/>
              <a:ext cx="300240" cy="37368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5" y="0"/>
                  </a:moveTo>
                  <a:lnTo>
                    <a:pt x="1965" y="490"/>
                  </a:lnTo>
                  <a:lnTo>
                    <a:pt x="774" y="490"/>
                  </a:lnTo>
                  <a:lnTo>
                    <a:pt x="774" y="1082"/>
                  </a:lnTo>
                  <a:lnTo>
                    <a:pt x="1814" y="1082"/>
                  </a:lnTo>
                  <a:lnTo>
                    <a:pt x="1814" y="1523"/>
                  </a:lnTo>
                  <a:lnTo>
                    <a:pt x="774" y="1523"/>
                  </a:lnTo>
                  <a:lnTo>
                    <a:pt x="774" y="2146"/>
                  </a:lnTo>
                  <a:lnTo>
                    <a:pt x="1992" y="2146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5" y="0"/>
                  </a:lnTo>
                  <a:lnTo>
                    <a:pt x="1965" y="0"/>
                  </a:lnTo>
                  <a:lnTo>
                    <a:pt x="19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24640" y="3476160"/>
              <a:ext cx="300240" cy="37368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4" y="0"/>
                  </a:moveTo>
                  <a:lnTo>
                    <a:pt x="1964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3" y="1081"/>
                  </a:lnTo>
                  <a:lnTo>
                    <a:pt x="1813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1992" y="2145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4" y="0"/>
                  </a:lnTo>
                  <a:lnTo>
                    <a:pt x="1964" y="0"/>
                  </a:lnTo>
                  <a:lnTo>
                    <a:pt x="196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10440" y="3476160"/>
              <a:ext cx="120240" cy="373680"/>
            </a:xfrm>
            <a:custGeom>
              <a:avLst/>
              <a:gdLst/>
              <a:ahLst/>
              <a:rect l="l" t="t" r="r" b="b"/>
              <a:pathLst>
                <a:path w="802" h="2666">
                  <a:moveTo>
                    <a:pt x="802" y="0"/>
                  </a:moveTo>
                  <a:lnTo>
                    <a:pt x="80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2" y="0"/>
                  </a:lnTo>
                  <a:lnTo>
                    <a:pt x="802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10440" y="3476160"/>
              <a:ext cx="120240" cy="373680"/>
            </a:xfrm>
            <a:custGeom>
              <a:avLst/>
              <a:gdLst/>
              <a:ahLst/>
              <a:rect l="l" t="t" r="r" b="b"/>
              <a:pathLst>
                <a:path w="801" h="2666">
                  <a:moveTo>
                    <a:pt x="801" y="0"/>
                  </a:moveTo>
                  <a:lnTo>
                    <a:pt x="8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1" y="0"/>
                  </a:lnTo>
                  <a:lnTo>
                    <a:pt x="801" y="0"/>
                  </a:lnTo>
                  <a:lnTo>
                    <a:pt x="80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40000" y="3468600"/>
              <a:ext cx="315360" cy="38916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2"/>
                  </a:lnTo>
                  <a:lnTo>
                    <a:pt x="1885" y="622"/>
                  </a:lnTo>
                  <a:lnTo>
                    <a:pt x="1885" y="622"/>
                  </a:lnTo>
                  <a:lnTo>
                    <a:pt x="1631" y="536"/>
                  </a:lnTo>
                  <a:lnTo>
                    <a:pt x="1385" y="484"/>
                  </a:lnTo>
                  <a:lnTo>
                    <a:pt x="1164" y="467"/>
                  </a:lnTo>
                  <a:lnTo>
                    <a:pt x="1164" y="467"/>
                  </a:lnTo>
                  <a:lnTo>
                    <a:pt x="939" y="498"/>
                  </a:lnTo>
                  <a:lnTo>
                    <a:pt x="798" y="579"/>
                  </a:lnTo>
                  <a:lnTo>
                    <a:pt x="748" y="694"/>
                  </a:lnTo>
                  <a:lnTo>
                    <a:pt x="748" y="694"/>
                  </a:lnTo>
                  <a:lnTo>
                    <a:pt x="775" y="786"/>
                  </a:lnTo>
                  <a:lnTo>
                    <a:pt x="858" y="85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708" y="1277"/>
                  </a:lnTo>
                  <a:lnTo>
                    <a:pt x="1876" y="1408"/>
                  </a:lnTo>
                  <a:lnTo>
                    <a:pt x="1996" y="1557"/>
                  </a:lnTo>
                  <a:lnTo>
                    <a:pt x="2069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2"/>
                  </a:lnTo>
                  <a:lnTo>
                    <a:pt x="2029" y="2232"/>
                  </a:lnTo>
                  <a:lnTo>
                    <a:pt x="1948" y="2368"/>
                  </a:lnTo>
                  <a:lnTo>
                    <a:pt x="1839" y="2485"/>
                  </a:lnTo>
                  <a:lnTo>
                    <a:pt x="1704" y="2585"/>
                  </a:lnTo>
                  <a:lnTo>
                    <a:pt x="1542" y="2664"/>
                  </a:lnTo>
                  <a:lnTo>
                    <a:pt x="1358" y="2723"/>
                  </a:lnTo>
                  <a:lnTo>
                    <a:pt x="1152" y="2761"/>
                  </a:lnTo>
                  <a:lnTo>
                    <a:pt x="927" y="2773"/>
                  </a:lnTo>
                  <a:lnTo>
                    <a:pt x="927" y="2773"/>
                  </a:lnTo>
                  <a:lnTo>
                    <a:pt x="725" y="2767"/>
                  </a:lnTo>
                  <a:lnTo>
                    <a:pt x="508" y="2749"/>
                  </a:lnTo>
                  <a:lnTo>
                    <a:pt x="280" y="2716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349" y="2210"/>
                  </a:lnTo>
                  <a:lnTo>
                    <a:pt x="626" y="2261"/>
                  </a:lnTo>
                  <a:lnTo>
                    <a:pt x="874" y="2278"/>
                  </a:lnTo>
                  <a:lnTo>
                    <a:pt x="874" y="2278"/>
                  </a:lnTo>
                  <a:lnTo>
                    <a:pt x="1117" y="2245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40" y="1872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368" y="1458"/>
                  </a:lnTo>
                  <a:lnTo>
                    <a:pt x="203" y="1322"/>
                  </a:lnTo>
                  <a:lnTo>
                    <a:pt x="88" y="1166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9" y="467"/>
                  </a:lnTo>
                  <a:lnTo>
                    <a:pt x="173" y="330"/>
                  </a:lnTo>
                  <a:lnTo>
                    <a:pt x="301" y="214"/>
                  </a:lnTo>
                  <a:lnTo>
                    <a:pt x="461" y="124"/>
                  </a:lnTo>
                  <a:lnTo>
                    <a:pt x="651" y="56"/>
                  </a:lnTo>
                  <a:lnTo>
                    <a:pt x="868" y="13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5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40000" y="3468600"/>
              <a:ext cx="315360" cy="38916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3"/>
                  </a:lnTo>
                  <a:lnTo>
                    <a:pt x="1885" y="623"/>
                  </a:lnTo>
                  <a:lnTo>
                    <a:pt x="1885" y="623"/>
                  </a:lnTo>
                  <a:lnTo>
                    <a:pt x="1630" y="536"/>
                  </a:lnTo>
                  <a:lnTo>
                    <a:pt x="1385" y="484"/>
                  </a:lnTo>
                  <a:lnTo>
                    <a:pt x="1163" y="467"/>
                  </a:lnTo>
                  <a:lnTo>
                    <a:pt x="1163" y="467"/>
                  </a:lnTo>
                  <a:lnTo>
                    <a:pt x="939" y="499"/>
                  </a:lnTo>
                  <a:lnTo>
                    <a:pt x="798" y="581"/>
                  </a:lnTo>
                  <a:lnTo>
                    <a:pt x="748" y="695"/>
                  </a:lnTo>
                  <a:lnTo>
                    <a:pt x="748" y="695"/>
                  </a:lnTo>
                  <a:lnTo>
                    <a:pt x="775" y="787"/>
                  </a:lnTo>
                  <a:lnTo>
                    <a:pt x="858" y="860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708" y="1278"/>
                  </a:lnTo>
                  <a:lnTo>
                    <a:pt x="1875" y="1408"/>
                  </a:lnTo>
                  <a:lnTo>
                    <a:pt x="1996" y="1557"/>
                  </a:lnTo>
                  <a:lnTo>
                    <a:pt x="2070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3"/>
                  </a:lnTo>
                  <a:lnTo>
                    <a:pt x="2028" y="2233"/>
                  </a:lnTo>
                  <a:lnTo>
                    <a:pt x="1947" y="2368"/>
                  </a:lnTo>
                  <a:lnTo>
                    <a:pt x="1838" y="2486"/>
                  </a:lnTo>
                  <a:lnTo>
                    <a:pt x="1703" y="2585"/>
                  </a:lnTo>
                  <a:lnTo>
                    <a:pt x="1542" y="2666"/>
                  </a:lnTo>
                  <a:lnTo>
                    <a:pt x="1358" y="2724"/>
                  </a:lnTo>
                  <a:lnTo>
                    <a:pt x="1152" y="2761"/>
                  </a:lnTo>
                  <a:lnTo>
                    <a:pt x="926" y="2773"/>
                  </a:lnTo>
                  <a:lnTo>
                    <a:pt x="926" y="2773"/>
                  </a:lnTo>
                  <a:lnTo>
                    <a:pt x="725" y="2768"/>
                  </a:lnTo>
                  <a:lnTo>
                    <a:pt x="507" y="2750"/>
                  </a:lnTo>
                  <a:lnTo>
                    <a:pt x="279" y="271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348" y="2210"/>
                  </a:lnTo>
                  <a:lnTo>
                    <a:pt x="626" y="2262"/>
                  </a:lnTo>
                  <a:lnTo>
                    <a:pt x="874" y="2279"/>
                  </a:lnTo>
                  <a:lnTo>
                    <a:pt x="874" y="2279"/>
                  </a:lnTo>
                  <a:lnTo>
                    <a:pt x="1116" y="2246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39" y="1874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368" y="1458"/>
                  </a:lnTo>
                  <a:lnTo>
                    <a:pt x="202" y="1322"/>
                  </a:lnTo>
                  <a:lnTo>
                    <a:pt x="87" y="1167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8"/>
                  </a:lnTo>
                  <a:lnTo>
                    <a:pt x="172" y="331"/>
                  </a:lnTo>
                  <a:lnTo>
                    <a:pt x="300" y="216"/>
                  </a:lnTo>
                  <a:lnTo>
                    <a:pt x="460" y="124"/>
                  </a:lnTo>
                  <a:lnTo>
                    <a:pt x="651" y="56"/>
                  </a:lnTo>
                  <a:lnTo>
                    <a:pt x="867" y="14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6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0" y="0"/>
            <a:ext cx="1805040" cy="68644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021200"/>
            <a:ext cx="179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Communication Network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99440" y="6513480"/>
            <a:ext cx="173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ICN M&amp;L TDC CE TC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0280" y="6456240"/>
            <a:ext cx="24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66"/>
                </a:solidFill>
                <a:latin typeface="Arial"/>
              </a:rPr>
              <a:t>IBIS summit  DATE 2004   20</a:t>
            </a:r>
            <a:r>
              <a:rPr b="0" lang="de-DE" sz="1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de-DE" sz="1000" spc="-1" strike="noStrike">
                <a:solidFill>
                  <a:srgbClr val="003366"/>
                </a:solidFill>
                <a:latin typeface="Arial"/>
              </a:rPr>
              <a:t> Feb. 200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 flipH="1">
            <a:off x="2234880" y="6856560"/>
            <a:ext cx="144360" cy="144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234880" y="6856560"/>
            <a:ext cx="144360" cy="144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35520" y="1595520"/>
            <a:ext cx="141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16200" y="457164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Arial"/>
              </a:rPr>
              <a:t>IBIS, current status (4.1) and some notes  </a:t>
            </a:r>
            <a:br>
              <a:rPr sz="3000"/>
            </a:br>
            <a:r>
              <a:rPr b="1" lang="en-GB" sz="3000" spc="-1" strike="noStrike">
                <a:solidFill>
                  <a:srgbClr val="003366"/>
                </a:solidFill>
                <a:latin typeface="Arial"/>
              </a:rPr>
              <a:t>         on IBIS4.0 parameters 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800000" y="5791320"/>
            <a:ext cx="8103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Eckhard Lenski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366"/>
                </a:solidFill>
                <a:latin typeface="Arial"/>
              </a:rPr>
              <a:t>New Receiver thresholds  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287280" y="1407960"/>
            <a:ext cx="8782200" cy="459720"/>
            <a:chOff x="287280" y="1407960"/>
            <a:chExt cx="8782200" cy="459720"/>
          </a:xfrm>
        </p:grpSpPr>
        <p:sp>
          <p:nvSpPr>
            <p:cNvPr id="1060" name=""/>
            <p:cNvSpPr/>
            <p:nvPr/>
          </p:nvSpPr>
          <p:spPr>
            <a:xfrm>
              <a:off x="1704600" y="1407960"/>
              <a:ext cx="736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VinL_ac, VinL_dc is offset to Vth , no min max value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287280" y="1496880"/>
              <a:ext cx="1066680" cy="280800"/>
              <a:chOff x="287280" y="1496880"/>
              <a:chExt cx="1066680" cy="280800"/>
            </a:xfrm>
          </p:grpSpPr>
          <p:sp>
            <p:nvSpPr>
              <p:cNvPr id="1062" name=""/>
              <p:cNvSpPr/>
              <p:nvPr/>
            </p:nvSpPr>
            <p:spPr>
              <a:xfrm>
                <a:off x="500760" y="17316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07680" y="169056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21160" y="1690560"/>
                <a:ext cx="21312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87280" y="17316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13880" y="173160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927000" y="173160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141200" y="17316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60240" y="156636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928440" y="16495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00760" y="164952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14600" y="164952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94920" y="169056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21160" y="160776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07680" y="160776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076" name=""/>
              <p:cNvGrpSpPr/>
              <p:nvPr/>
            </p:nvGrpSpPr>
            <p:grpSpPr>
              <a:xfrm>
                <a:off x="654840" y="1607400"/>
                <a:ext cx="330480" cy="170280"/>
                <a:chOff x="654840" y="1607400"/>
                <a:chExt cx="330480" cy="17028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714240" y="160740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708120" y="162144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702720" y="163512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697320" y="164916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692280" y="166320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686880" y="167760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681480" y="169164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676080" y="170604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670680" y="172044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665640" y="173520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660240" y="174924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4840" y="176364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9" name=""/>
              <p:cNvSpPr/>
              <p:nvPr/>
            </p:nvSpPr>
            <p:spPr>
              <a:xfrm rot="16200000">
                <a:off x="785520" y="14198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090" name=""/>
              <p:cNvGrpSpPr/>
              <p:nvPr/>
            </p:nvGrpSpPr>
            <p:grpSpPr>
              <a:xfrm>
                <a:off x="786240" y="1580760"/>
                <a:ext cx="68040" cy="26280"/>
                <a:chOff x="786240" y="1580760"/>
                <a:chExt cx="68040" cy="26280"/>
              </a:xfrm>
            </p:grpSpPr>
            <p:grpSp>
              <p:nvGrpSpPr>
                <p:cNvPr id="1091" name=""/>
                <p:cNvGrpSpPr/>
                <p:nvPr/>
              </p:nvGrpSpPr>
              <p:grpSpPr>
                <a:xfrm>
                  <a:off x="786240" y="1580760"/>
                  <a:ext cx="68040" cy="26280"/>
                  <a:chOff x="786240" y="1580760"/>
                  <a:chExt cx="68040" cy="2628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786240" y="15807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854280" y="15807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786240" y="15807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5" name=""/>
                <p:cNvSpPr/>
                <p:nvPr/>
              </p:nvSpPr>
              <p:spPr>
                <a:xfrm>
                  <a:off x="792000" y="158220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6" name=""/>
              <p:cNvSpPr/>
              <p:nvPr/>
            </p:nvSpPr>
            <p:spPr>
              <a:xfrm>
                <a:off x="1033920" y="169056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8382240" y="5742000"/>
            <a:ext cx="1223280" cy="718920"/>
            <a:chOff x="8382240" y="5742000"/>
            <a:chExt cx="1223280" cy="718920"/>
          </a:xfrm>
        </p:grpSpPr>
        <p:sp>
          <p:nvSpPr>
            <p:cNvPr id="1098" name=""/>
            <p:cNvSpPr/>
            <p:nvPr/>
          </p:nvSpPr>
          <p:spPr>
            <a:xfrm>
              <a:off x="8382240" y="5742000"/>
              <a:ext cx="122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3366"/>
                  </a:solidFill>
                  <a:latin typeface="Monotype Corsiva"/>
                </a:rPr>
                <a:t>parameter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099" name=""/>
            <p:cNvGrpSpPr/>
            <p:nvPr/>
          </p:nvGrpSpPr>
          <p:grpSpPr>
            <a:xfrm>
              <a:off x="8483760" y="5942520"/>
              <a:ext cx="514440" cy="518400"/>
              <a:chOff x="8483760" y="5942520"/>
              <a:chExt cx="514440" cy="518400"/>
            </a:xfrm>
          </p:grpSpPr>
          <p:sp>
            <p:nvSpPr>
              <p:cNvPr id="1100" name=""/>
              <p:cNvSpPr/>
              <p:nvPr/>
            </p:nvSpPr>
            <p:spPr>
              <a:xfrm>
                <a:off x="8586720" y="63759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8638200" y="63003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8741160" y="6300360"/>
                <a:ext cx="10296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8483760" y="63759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8689680" y="6375960"/>
                <a:ext cx="102960" cy="75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792280" y="63759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8895600" y="63759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8663760" y="6071400"/>
                <a:ext cx="155520" cy="75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793000" y="6224040"/>
                <a:ext cx="102600" cy="759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586720" y="6224040"/>
                <a:ext cx="102960" cy="759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690040" y="6224040"/>
                <a:ext cx="102600" cy="75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8535600" y="63003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8741160" y="614808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8638200" y="614808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114" name=""/>
              <p:cNvGrpSpPr/>
              <p:nvPr/>
            </p:nvGrpSpPr>
            <p:grpSpPr>
              <a:xfrm>
                <a:off x="8660880" y="6147000"/>
                <a:ext cx="159480" cy="313920"/>
                <a:chOff x="8660880" y="6147000"/>
                <a:chExt cx="159480" cy="31392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8689320" y="6147000"/>
                  <a:ext cx="10296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8686440" y="6172920"/>
                  <a:ext cx="1080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8683920" y="6198120"/>
                  <a:ext cx="1130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8681400" y="6224040"/>
                  <a:ext cx="1184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8678880" y="6249960"/>
                  <a:ext cx="12348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8676360" y="6276240"/>
                  <a:ext cx="12852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8673480" y="6302520"/>
                  <a:ext cx="13392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8670960" y="6328440"/>
                  <a:ext cx="13896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8668440" y="6355080"/>
                  <a:ext cx="1440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8665920" y="6382800"/>
                  <a:ext cx="1494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8663400" y="6408720"/>
                  <a:ext cx="1544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8660880" y="6434640"/>
                  <a:ext cx="15948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7" name=""/>
              <p:cNvSpPr/>
              <p:nvPr/>
            </p:nvSpPr>
            <p:spPr>
              <a:xfrm rot="16200000">
                <a:off x="8676360" y="5952960"/>
                <a:ext cx="128880" cy="107640"/>
              </a:xfrm>
              <a:prstGeom prst="rect">
                <a:avLst/>
              </a:prstGeom>
              <a:solidFill>
                <a:srgbClr val="00ff99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128" name=""/>
              <p:cNvGrpSpPr/>
              <p:nvPr/>
            </p:nvGrpSpPr>
            <p:grpSpPr>
              <a:xfrm>
                <a:off x="8724240" y="6098040"/>
                <a:ext cx="32760" cy="48960"/>
                <a:chOff x="8724240" y="6098040"/>
                <a:chExt cx="32760" cy="48960"/>
              </a:xfrm>
            </p:grpSpPr>
            <p:grpSp>
              <p:nvGrpSpPr>
                <p:cNvPr id="1129" name=""/>
                <p:cNvGrpSpPr/>
                <p:nvPr/>
              </p:nvGrpSpPr>
              <p:grpSpPr>
                <a:xfrm>
                  <a:off x="8724240" y="6098040"/>
                  <a:ext cx="32760" cy="48960"/>
                  <a:chOff x="8724240" y="6098040"/>
                  <a:chExt cx="32760" cy="48960"/>
                </a:xfrm>
              </p:grpSpPr>
              <p:sp>
                <p:nvSpPr>
                  <p:cNvPr id="1130" name=""/>
                  <p:cNvSpPr/>
                  <p:nvPr/>
                </p:nvSpPr>
                <p:spPr>
                  <a:xfrm>
                    <a:off x="8724240" y="6098040"/>
                    <a:ext cx="0" cy="489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8757000" y="6098040"/>
                    <a:ext cx="0" cy="489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8724240" y="6098040"/>
                    <a:ext cx="327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33" name=""/>
                <p:cNvSpPr/>
                <p:nvPr/>
              </p:nvSpPr>
              <p:spPr>
                <a:xfrm>
                  <a:off x="8727120" y="6100920"/>
                  <a:ext cx="27720" cy="4608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"/>
              <p:cNvSpPr/>
              <p:nvPr/>
            </p:nvSpPr>
            <p:spPr>
              <a:xfrm>
                <a:off x="8844120" y="63003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5" name=""/>
          <p:cNvGrpSpPr/>
          <p:nvPr/>
        </p:nvGrpSpPr>
        <p:grpSpPr>
          <a:xfrm>
            <a:off x="287280" y="4906800"/>
            <a:ext cx="7902360" cy="825480"/>
            <a:chOff x="287280" y="4906800"/>
            <a:chExt cx="7902360" cy="825480"/>
          </a:xfrm>
        </p:grpSpPr>
        <p:grpSp>
          <p:nvGrpSpPr>
            <p:cNvPr id="1136" name=""/>
            <p:cNvGrpSpPr/>
            <p:nvPr/>
          </p:nvGrpSpPr>
          <p:grpSpPr>
            <a:xfrm>
              <a:off x="287280" y="5035320"/>
              <a:ext cx="1066680" cy="280800"/>
              <a:chOff x="287280" y="5035320"/>
              <a:chExt cx="1066680" cy="280800"/>
            </a:xfrm>
          </p:grpSpPr>
          <p:sp>
            <p:nvSpPr>
              <p:cNvPr id="1137" name=""/>
              <p:cNvSpPr/>
              <p:nvPr/>
            </p:nvSpPr>
            <p:spPr>
              <a:xfrm>
                <a:off x="500760" y="52700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07680" y="522900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21160" y="5229000"/>
                <a:ext cx="21312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87280" y="52700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13880" y="52700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927000" y="527004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141200" y="52700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60240" y="510480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928440" y="51879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00760" y="518796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14600" y="51879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94920" y="522900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821160" y="514620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07680" y="514620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151" name=""/>
              <p:cNvGrpSpPr/>
              <p:nvPr/>
            </p:nvGrpSpPr>
            <p:grpSpPr>
              <a:xfrm>
                <a:off x="654840" y="5145840"/>
                <a:ext cx="330480" cy="170280"/>
                <a:chOff x="654840" y="5145840"/>
                <a:chExt cx="330480" cy="17028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714240" y="514584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708120" y="515988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702720" y="517356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697320" y="518760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692280" y="520164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686880" y="521604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681480" y="523008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676080" y="524448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70680" y="525888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665640" y="527364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660240" y="528768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654840" y="530208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4" name=""/>
              <p:cNvSpPr/>
              <p:nvPr/>
            </p:nvSpPr>
            <p:spPr>
              <a:xfrm rot="16200000">
                <a:off x="785520" y="495828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165" name=""/>
              <p:cNvGrpSpPr/>
              <p:nvPr/>
            </p:nvGrpSpPr>
            <p:grpSpPr>
              <a:xfrm>
                <a:off x="786240" y="5119200"/>
                <a:ext cx="68040" cy="26280"/>
                <a:chOff x="786240" y="5119200"/>
                <a:chExt cx="68040" cy="26280"/>
              </a:xfrm>
            </p:grpSpPr>
            <p:grpSp>
              <p:nvGrpSpPr>
                <p:cNvPr id="1166" name=""/>
                <p:cNvGrpSpPr/>
                <p:nvPr/>
              </p:nvGrpSpPr>
              <p:grpSpPr>
                <a:xfrm>
                  <a:off x="786240" y="5119200"/>
                  <a:ext cx="68040" cy="26280"/>
                  <a:chOff x="786240" y="5119200"/>
                  <a:chExt cx="68040" cy="26280"/>
                </a:xfrm>
              </p:grpSpPr>
              <p:sp>
                <p:nvSpPr>
                  <p:cNvPr id="1167" name=""/>
                  <p:cNvSpPr/>
                  <p:nvPr/>
                </p:nvSpPr>
                <p:spPr>
                  <a:xfrm>
                    <a:off x="786240" y="51192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854280" y="51192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786240" y="51192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0" name=""/>
                <p:cNvSpPr/>
                <p:nvPr/>
              </p:nvSpPr>
              <p:spPr>
                <a:xfrm>
                  <a:off x="792000" y="512064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1" name=""/>
              <p:cNvSpPr/>
              <p:nvPr/>
            </p:nvSpPr>
            <p:spPr>
              <a:xfrm>
                <a:off x="1033920" y="522900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172" name=""/>
            <p:cNvSpPr/>
            <p:nvPr/>
          </p:nvSpPr>
          <p:spPr>
            <a:xfrm>
              <a:off x="1707120" y="4906800"/>
              <a:ext cx="648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Vcross_low, vcross_high is referenced to gnd,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no min max value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287280" y="2760840"/>
            <a:ext cx="8393400" cy="459720"/>
            <a:chOff x="287280" y="2760840"/>
            <a:chExt cx="8393400" cy="459720"/>
          </a:xfrm>
        </p:grpSpPr>
        <p:grpSp>
          <p:nvGrpSpPr>
            <p:cNvPr id="1174" name=""/>
            <p:cNvGrpSpPr/>
            <p:nvPr/>
          </p:nvGrpSpPr>
          <p:grpSpPr>
            <a:xfrm>
              <a:off x="287280" y="2890800"/>
              <a:ext cx="1066680" cy="281160"/>
              <a:chOff x="287280" y="2890800"/>
              <a:chExt cx="1066680" cy="281160"/>
            </a:xfrm>
          </p:grpSpPr>
          <p:sp>
            <p:nvSpPr>
              <p:cNvPr id="1175" name=""/>
              <p:cNvSpPr/>
              <p:nvPr/>
            </p:nvSpPr>
            <p:spPr>
              <a:xfrm>
                <a:off x="500760" y="31258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07680" y="30848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21160" y="308484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87280" y="31258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13880" y="31258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927000" y="312588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141200" y="31258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60240" y="296028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928440" y="30434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00760" y="304344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14600" y="30434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4920" y="30848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821160" y="300204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07680" y="300204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189" name=""/>
              <p:cNvGrpSpPr/>
              <p:nvPr/>
            </p:nvGrpSpPr>
            <p:grpSpPr>
              <a:xfrm>
                <a:off x="654840" y="3001680"/>
                <a:ext cx="330480" cy="170280"/>
                <a:chOff x="654840" y="3001680"/>
                <a:chExt cx="330480" cy="170280"/>
              </a:xfrm>
            </p:grpSpPr>
            <p:sp>
              <p:nvSpPr>
                <p:cNvPr id="1190" name=""/>
                <p:cNvSpPr/>
                <p:nvPr/>
              </p:nvSpPr>
              <p:spPr>
                <a:xfrm>
                  <a:off x="714240" y="300168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708120" y="301572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702720" y="302940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697320" y="304344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692280" y="305748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686880" y="307188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681480" y="308592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676080" y="310032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670680" y="311472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665640" y="312948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660240" y="314352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654840" y="315792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2" name=""/>
              <p:cNvSpPr/>
              <p:nvPr/>
            </p:nvSpPr>
            <p:spPr>
              <a:xfrm rot="16200000">
                <a:off x="785520" y="28137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203" name=""/>
              <p:cNvGrpSpPr/>
              <p:nvPr/>
            </p:nvGrpSpPr>
            <p:grpSpPr>
              <a:xfrm>
                <a:off x="786240" y="2975040"/>
                <a:ext cx="68040" cy="26280"/>
                <a:chOff x="786240" y="2975040"/>
                <a:chExt cx="68040" cy="26280"/>
              </a:xfrm>
            </p:grpSpPr>
            <p:grpSp>
              <p:nvGrpSpPr>
                <p:cNvPr id="1204" name=""/>
                <p:cNvGrpSpPr/>
                <p:nvPr/>
              </p:nvGrpSpPr>
              <p:grpSpPr>
                <a:xfrm>
                  <a:off x="786240" y="2975040"/>
                  <a:ext cx="68040" cy="26280"/>
                  <a:chOff x="786240" y="2975040"/>
                  <a:chExt cx="68040" cy="26280"/>
                </a:xfrm>
              </p:grpSpPr>
              <p:sp>
                <p:nvSpPr>
                  <p:cNvPr id="1205" name=""/>
                  <p:cNvSpPr/>
                  <p:nvPr/>
                </p:nvSpPr>
                <p:spPr>
                  <a:xfrm>
                    <a:off x="786240" y="29750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854280" y="29750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786240" y="29750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8" name=""/>
                <p:cNvSpPr/>
                <p:nvPr/>
              </p:nvSpPr>
              <p:spPr>
                <a:xfrm>
                  <a:off x="792000" y="297648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9" name=""/>
              <p:cNvSpPr/>
              <p:nvPr/>
            </p:nvSpPr>
            <p:spPr>
              <a:xfrm>
                <a:off x="1033920" y="30848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210" name=""/>
            <p:cNvSpPr/>
            <p:nvPr/>
          </p:nvSpPr>
          <p:spPr>
            <a:xfrm>
              <a:off x="1706040" y="2760840"/>
              <a:ext cx="697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Vth has got reference supply, with min max value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287280" y="5757840"/>
            <a:ext cx="6850800" cy="459720"/>
            <a:chOff x="287280" y="5757840"/>
            <a:chExt cx="6850800" cy="459720"/>
          </a:xfrm>
        </p:grpSpPr>
        <p:grpSp>
          <p:nvGrpSpPr>
            <p:cNvPr id="1212" name=""/>
            <p:cNvGrpSpPr/>
            <p:nvPr/>
          </p:nvGrpSpPr>
          <p:grpSpPr>
            <a:xfrm>
              <a:off x="287280" y="5881680"/>
              <a:ext cx="1066680" cy="280800"/>
              <a:chOff x="287280" y="5881680"/>
              <a:chExt cx="1066680" cy="280800"/>
            </a:xfrm>
          </p:grpSpPr>
          <p:sp>
            <p:nvSpPr>
              <p:cNvPr id="1213" name=""/>
              <p:cNvSpPr/>
              <p:nvPr/>
            </p:nvSpPr>
            <p:spPr>
              <a:xfrm>
                <a:off x="500760" y="61164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07680" y="607536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821160" y="6075360"/>
                <a:ext cx="21312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87280" y="61164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13880" y="611640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927000" y="611640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141200" y="61164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60240" y="595116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928440" y="60343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00760" y="603432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14600" y="603432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94920" y="607536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821160" y="599256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07680" y="599256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227" name=""/>
              <p:cNvGrpSpPr/>
              <p:nvPr/>
            </p:nvGrpSpPr>
            <p:grpSpPr>
              <a:xfrm>
                <a:off x="654840" y="5992200"/>
                <a:ext cx="330480" cy="170280"/>
                <a:chOff x="654840" y="5992200"/>
                <a:chExt cx="330480" cy="17028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714240" y="599220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708120" y="600624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702720" y="601992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697320" y="603396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692280" y="604800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686880" y="606240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681480" y="607644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676080" y="609084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70680" y="610524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5640" y="612000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0240" y="613404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54840" y="614844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0" name=""/>
              <p:cNvSpPr/>
              <p:nvPr/>
            </p:nvSpPr>
            <p:spPr>
              <a:xfrm rot="16200000">
                <a:off x="785520" y="58046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241" name=""/>
              <p:cNvGrpSpPr/>
              <p:nvPr/>
            </p:nvGrpSpPr>
            <p:grpSpPr>
              <a:xfrm>
                <a:off x="786240" y="5965560"/>
                <a:ext cx="68040" cy="26280"/>
                <a:chOff x="786240" y="5965560"/>
                <a:chExt cx="68040" cy="26280"/>
              </a:xfrm>
            </p:grpSpPr>
            <p:grpSp>
              <p:nvGrpSpPr>
                <p:cNvPr id="1242" name=""/>
                <p:cNvGrpSpPr/>
                <p:nvPr/>
              </p:nvGrpSpPr>
              <p:grpSpPr>
                <a:xfrm>
                  <a:off x="786240" y="5965560"/>
                  <a:ext cx="68040" cy="26280"/>
                  <a:chOff x="786240" y="5965560"/>
                  <a:chExt cx="68040" cy="26280"/>
                </a:xfrm>
              </p:grpSpPr>
              <p:sp>
                <p:nvSpPr>
                  <p:cNvPr id="1243" name=""/>
                  <p:cNvSpPr/>
                  <p:nvPr/>
                </p:nvSpPr>
                <p:spPr>
                  <a:xfrm>
                    <a:off x="786240" y="59655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854280" y="59655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786240" y="59655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6" name=""/>
                <p:cNvSpPr/>
                <p:nvPr/>
              </p:nvSpPr>
              <p:spPr>
                <a:xfrm>
                  <a:off x="792000" y="596700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7" name=""/>
              <p:cNvSpPr/>
              <p:nvPr/>
            </p:nvSpPr>
            <p:spPr>
              <a:xfrm>
                <a:off x="1033920" y="607536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248" name=""/>
            <p:cNvSpPr/>
            <p:nvPr/>
          </p:nvSpPr>
          <p:spPr>
            <a:xfrm>
              <a:off x="1704240" y="5757840"/>
              <a:ext cx="543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Vdiff_ac, Vdiff_dc , no min max values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287280" y="2124000"/>
            <a:ext cx="8883360" cy="459720"/>
            <a:chOff x="287280" y="2124000"/>
            <a:chExt cx="8883360" cy="459720"/>
          </a:xfrm>
        </p:grpSpPr>
        <p:sp>
          <p:nvSpPr>
            <p:cNvPr id="1250" name=""/>
            <p:cNvSpPr/>
            <p:nvPr/>
          </p:nvSpPr>
          <p:spPr>
            <a:xfrm>
              <a:off x="1705320" y="2124000"/>
              <a:ext cx="74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VinH_ac, VinH_dc is offset to Vth , no min max value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287280" y="2212920"/>
              <a:ext cx="1066680" cy="280800"/>
              <a:chOff x="287280" y="2212920"/>
              <a:chExt cx="1066680" cy="280800"/>
            </a:xfrm>
          </p:grpSpPr>
          <p:sp>
            <p:nvSpPr>
              <p:cNvPr id="1252" name=""/>
              <p:cNvSpPr/>
              <p:nvPr/>
            </p:nvSpPr>
            <p:spPr>
              <a:xfrm>
                <a:off x="500760" y="24476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07680" y="240660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821160" y="2406600"/>
                <a:ext cx="21312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287280" y="24476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13880" y="24476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927000" y="244764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141200" y="24476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60240" y="228240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928440" y="23655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00760" y="236556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14600" y="23655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94920" y="240660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821160" y="232380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07680" y="232380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266" name=""/>
              <p:cNvGrpSpPr/>
              <p:nvPr/>
            </p:nvGrpSpPr>
            <p:grpSpPr>
              <a:xfrm>
                <a:off x="654840" y="2323440"/>
                <a:ext cx="330480" cy="170280"/>
                <a:chOff x="654840" y="2323440"/>
                <a:chExt cx="330480" cy="17028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714240" y="232344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708120" y="233748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702720" y="235116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697320" y="236520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692280" y="237924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686880" y="239364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681480" y="240768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676080" y="242208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70680" y="243648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665640" y="245124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660240" y="246528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654840" y="247968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9" name=""/>
              <p:cNvSpPr/>
              <p:nvPr/>
            </p:nvSpPr>
            <p:spPr>
              <a:xfrm rot="16200000">
                <a:off x="785520" y="213588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280" name=""/>
              <p:cNvGrpSpPr/>
              <p:nvPr/>
            </p:nvGrpSpPr>
            <p:grpSpPr>
              <a:xfrm>
                <a:off x="786240" y="2296800"/>
                <a:ext cx="68040" cy="26280"/>
                <a:chOff x="786240" y="2296800"/>
                <a:chExt cx="68040" cy="2628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786240" y="2296800"/>
                  <a:ext cx="68040" cy="26280"/>
                  <a:chOff x="786240" y="2296800"/>
                  <a:chExt cx="68040" cy="2628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786240" y="22968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854280" y="22968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786240" y="22968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5" name=""/>
                <p:cNvSpPr/>
                <p:nvPr/>
              </p:nvSpPr>
              <p:spPr>
                <a:xfrm>
                  <a:off x="792000" y="229824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6" name=""/>
              <p:cNvSpPr/>
              <p:nvPr/>
            </p:nvSpPr>
            <p:spPr>
              <a:xfrm>
                <a:off x="1033920" y="240660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7" name=""/>
          <p:cNvGrpSpPr/>
          <p:nvPr/>
        </p:nvGrpSpPr>
        <p:grpSpPr>
          <a:xfrm>
            <a:off x="287280" y="3449520"/>
            <a:ext cx="5123160" cy="459720"/>
            <a:chOff x="287280" y="3449520"/>
            <a:chExt cx="5123160" cy="459720"/>
          </a:xfrm>
        </p:grpSpPr>
        <p:grpSp>
          <p:nvGrpSpPr>
            <p:cNvPr id="1288" name=""/>
            <p:cNvGrpSpPr/>
            <p:nvPr/>
          </p:nvGrpSpPr>
          <p:grpSpPr>
            <a:xfrm>
              <a:off x="287280" y="3573360"/>
              <a:ext cx="1066680" cy="280800"/>
              <a:chOff x="287280" y="3573360"/>
              <a:chExt cx="1066680" cy="280800"/>
            </a:xfrm>
          </p:grpSpPr>
          <p:sp>
            <p:nvSpPr>
              <p:cNvPr id="1289" name=""/>
              <p:cNvSpPr/>
              <p:nvPr/>
            </p:nvSpPr>
            <p:spPr>
              <a:xfrm>
                <a:off x="500760" y="38080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07680" y="376704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21160" y="3767040"/>
                <a:ext cx="21312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87280" y="38080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13880" y="38080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927000" y="380808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141200" y="38080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60240" y="364284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928440" y="37260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00760" y="372600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14600" y="372600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4920" y="376704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21160" y="368424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07680" y="368424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303" name=""/>
              <p:cNvGrpSpPr/>
              <p:nvPr/>
            </p:nvGrpSpPr>
            <p:grpSpPr>
              <a:xfrm>
                <a:off x="654840" y="3683880"/>
                <a:ext cx="330480" cy="170280"/>
                <a:chOff x="654840" y="3683880"/>
                <a:chExt cx="330480" cy="170280"/>
              </a:xfrm>
            </p:grpSpPr>
            <p:sp>
              <p:nvSpPr>
                <p:cNvPr id="1304" name=""/>
                <p:cNvSpPr/>
                <p:nvPr/>
              </p:nvSpPr>
              <p:spPr>
                <a:xfrm>
                  <a:off x="714240" y="368388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708120" y="369792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702720" y="371160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97320" y="372564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92280" y="373968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86880" y="375408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81480" y="376812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76080" y="378252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70680" y="379692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65640" y="381168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60240" y="382572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654840" y="384012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6" name=""/>
              <p:cNvSpPr/>
              <p:nvPr/>
            </p:nvSpPr>
            <p:spPr>
              <a:xfrm rot="16200000">
                <a:off x="785520" y="349632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317" name=""/>
              <p:cNvGrpSpPr/>
              <p:nvPr/>
            </p:nvGrpSpPr>
            <p:grpSpPr>
              <a:xfrm>
                <a:off x="786240" y="3657240"/>
                <a:ext cx="68040" cy="26280"/>
                <a:chOff x="786240" y="3657240"/>
                <a:chExt cx="68040" cy="26280"/>
              </a:xfrm>
            </p:grpSpPr>
            <p:grpSp>
              <p:nvGrpSpPr>
                <p:cNvPr id="1318" name=""/>
                <p:cNvGrpSpPr/>
                <p:nvPr/>
              </p:nvGrpSpPr>
              <p:grpSpPr>
                <a:xfrm>
                  <a:off x="786240" y="3657240"/>
                  <a:ext cx="68040" cy="26280"/>
                  <a:chOff x="786240" y="3657240"/>
                  <a:chExt cx="68040" cy="26280"/>
                </a:xfrm>
              </p:grpSpPr>
              <p:sp>
                <p:nvSpPr>
                  <p:cNvPr id="1319" name=""/>
                  <p:cNvSpPr/>
                  <p:nvPr/>
                </p:nvSpPr>
                <p:spPr>
                  <a:xfrm>
                    <a:off x="786240" y="36572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854280" y="36572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786240" y="36572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2" name=""/>
                <p:cNvSpPr/>
                <p:nvPr/>
              </p:nvSpPr>
              <p:spPr>
                <a:xfrm>
                  <a:off x="792000" y="365868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3" name=""/>
              <p:cNvSpPr/>
              <p:nvPr/>
            </p:nvSpPr>
            <p:spPr>
              <a:xfrm>
                <a:off x="1033920" y="376704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24" name=""/>
            <p:cNvSpPr/>
            <p:nvPr/>
          </p:nvSpPr>
          <p:spPr>
            <a:xfrm>
              <a:off x="1706400" y="3449520"/>
              <a:ext cx="370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Reference_supply for Vth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287280" y="4064040"/>
            <a:ext cx="8817480" cy="459720"/>
            <a:chOff x="287280" y="4064040"/>
            <a:chExt cx="8817480" cy="459720"/>
          </a:xfrm>
        </p:grpSpPr>
        <p:grpSp>
          <p:nvGrpSpPr>
            <p:cNvPr id="1326" name=""/>
            <p:cNvGrpSpPr/>
            <p:nvPr/>
          </p:nvGrpSpPr>
          <p:grpSpPr>
            <a:xfrm>
              <a:off x="287280" y="4187880"/>
              <a:ext cx="1066680" cy="280800"/>
              <a:chOff x="287280" y="4187880"/>
              <a:chExt cx="1066680" cy="280800"/>
            </a:xfrm>
          </p:grpSpPr>
          <p:sp>
            <p:nvSpPr>
              <p:cNvPr id="1327" name=""/>
              <p:cNvSpPr/>
              <p:nvPr/>
            </p:nvSpPr>
            <p:spPr>
              <a:xfrm>
                <a:off x="500760" y="44226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07680" y="438156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821160" y="4381560"/>
                <a:ext cx="21312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87280" y="44226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13880" y="442260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927000" y="442260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141200" y="44226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60240" y="425736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928440" y="43405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00760" y="434052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14600" y="434052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94920" y="438156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821160" y="429876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07680" y="429876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341" name=""/>
              <p:cNvGrpSpPr/>
              <p:nvPr/>
            </p:nvGrpSpPr>
            <p:grpSpPr>
              <a:xfrm>
                <a:off x="654840" y="4298400"/>
                <a:ext cx="330480" cy="170280"/>
                <a:chOff x="654840" y="4298400"/>
                <a:chExt cx="330480" cy="17028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714240" y="429840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708120" y="431244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702720" y="432612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697320" y="434016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692280" y="435420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86880" y="436860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81480" y="438264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676080" y="439704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670680" y="441144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5640" y="442620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0240" y="444024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654840" y="445464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4" name=""/>
              <p:cNvSpPr/>
              <p:nvPr/>
            </p:nvSpPr>
            <p:spPr>
              <a:xfrm rot="16200000">
                <a:off x="785520" y="41108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355" name=""/>
              <p:cNvGrpSpPr/>
              <p:nvPr/>
            </p:nvGrpSpPr>
            <p:grpSpPr>
              <a:xfrm>
                <a:off x="786240" y="4271760"/>
                <a:ext cx="68040" cy="26280"/>
                <a:chOff x="786240" y="4271760"/>
                <a:chExt cx="68040" cy="26280"/>
              </a:xfrm>
            </p:grpSpPr>
            <p:grpSp>
              <p:nvGrpSpPr>
                <p:cNvPr id="1356" name=""/>
                <p:cNvGrpSpPr/>
                <p:nvPr/>
              </p:nvGrpSpPr>
              <p:grpSpPr>
                <a:xfrm>
                  <a:off x="786240" y="4271760"/>
                  <a:ext cx="68040" cy="26280"/>
                  <a:chOff x="786240" y="4271760"/>
                  <a:chExt cx="68040" cy="26280"/>
                </a:xfrm>
              </p:grpSpPr>
              <p:sp>
                <p:nvSpPr>
                  <p:cNvPr id="1357" name=""/>
                  <p:cNvSpPr/>
                  <p:nvPr/>
                </p:nvSpPr>
                <p:spPr>
                  <a:xfrm>
                    <a:off x="786240" y="42717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>
                    <a:off x="854280" y="42717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786240" y="42717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0" name=""/>
                <p:cNvSpPr/>
                <p:nvPr/>
              </p:nvSpPr>
              <p:spPr>
                <a:xfrm>
                  <a:off x="792000" y="427320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1" name=""/>
              <p:cNvSpPr/>
              <p:nvPr/>
            </p:nvSpPr>
            <p:spPr>
              <a:xfrm>
                <a:off x="1033920" y="438156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62" name=""/>
            <p:cNvSpPr/>
            <p:nvPr/>
          </p:nvSpPr>
          <p:spPr>
            <a:xfrm>
              <a:off x="1711080" y="4064040"/>
              <a:ext cx="73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Threshold_sensitivity dependent on reference supply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Single 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nded</a:t>
            </a: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 parameter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8385480" y="1127160"/>
            <a:ext cx="1223280" cy="718920"/>
            <a:chOff x="8385480" y="1127160"/>
            <a:chExt cx="1223280" cy="718920"/>
          </a:xfrm>
        </p:grpSpPr>
        <p:sp>
          <p:nvSpPr>
            <p:cNvPr id="1365" name=""/>
            <p:cNvSpPr/>
            <p:nvPr/>
          </p:nvSpPr>
          <p:spPr>
            <a:xfrm>
              <a:off x="8385480" y="1127160"/>
              <a:ext cx="122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3366"/>
                  </a:solidFill>
                  <a:latin typeface="Monotype Corsiva"/>
                </a:rPr>
                <a:t>parameter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366" name=""/>
            <p:cNvGrpSpPr/>
            <p:nvPr/>
          </p:nvGrpSpPr>
          <p:grpSpPr>
            <a:xfrm>
              <a:off x="8901000" y="1177920"/>
              <a:ext cx="334800" cy="668160"/>
              <a:chOff x="8901000" y="1177920"/>
              <a:chExt cx="334800" cy="668160"/>
            </a:xfrm>
          </p:grpSpPr>
          <p:sp>
            <p:nvSpPr>
              <p:cNvPr id="1367" name=""/>
              <p:cNvSpPr/>
              <p:nvPr/>
            </p:nvSpPr>
            <p:spPr>
              <a:xfrm>
                <a:off x="8967960" y="17348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9001440" y="16376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9068760" y="16376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8901000" y="17348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9034920" y="1734840"/>
                <a:ext cx="66960" cy="96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9101880" y="1734840"/>
                <a:ext cx="6696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9169200" y="17348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9018000" y="1343880"/>
                <a:ext cx="101160" cy="97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9101880" y="1539720"/>
                <a:ext cx="66960" cy="97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8967960" y="1539720"/>
                <a:ext cx="66960" cy="97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9035280" y="1539720"/>
                <a:ext cx="66600" cy="97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8934480" y="1637640"/>
                <a:ext cx="6696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9068400" y="1442160"/>
                <a:ext cx="66960" cy="97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9001440" y="1442160"/>
                <a:ext cx="66600" cy="97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381" name=""/>
              <p:cNvGrpSpPr/>
              <p:nvPr/>
            </p:nvGrpSpPr>
            <p:grpSpPr>
              <a:xfrm>
                <a:off x="9017280" y="1443240"/>
                <a:ext cx="104040" cy="402840"/>
                <a:chOff x="9017280" y="1443240"/>
                <a:chExt cx="104040" cy="40284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9036000" y="1443240"/>
                  <a:ext cx="669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9033840" y="1476720"/>
                  <a:ext cx="705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9032400" y="1508760"/>
                  <a:ext cx="7380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9030600" y="1542240"/>
                  <a:ext cx="7704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9028800" y="1575360"/>
                  <a:ext cx="8064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9027360" y="1609200"/>
                  <a:ext cx="8388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9025560" y="1642680"/>
                  <a:ext cx="8748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9023760" y="1676160"/>
                  <a:ext cx="9072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9022320" y="1710000"/>
                  <a:ext cx="939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9020520" y="1745640"/>
                  <a:ext cx="975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9018720" y="1779120"/>
                  <a:ext cx="10080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9017280" y="1812600"/>
                  <a:ext cx="10404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4" name=""/>
              <p:cNvSpPr/>
              <p:nvPr/>
            </p:nvSpPr>
            <p:spPr>
              <a:xfrm rot="16200000">
                <a:off x="8984880" y="1225800"/>
                <a:ext cx="165960" cy="69840"/>
              </a:xfrm>
              <a:prstGeom prst="rect">
                <a:avLst/>
              </a:prstGeom>
              <a:solidFill>
                <a:srgbClr val="33cc33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395" name=""/>
              <p:cNvGrpSpPr/>
              <p:nvPr/>
            </p:nvGrpSpPr>
            <p:grpSpPr>
              <a:xfrm>
                <a:off x="9057600" y="1377720"/>
                <a:ext cx="21240" cy="63000"/>
                <a:chOff x="9057600" y="1377720"/>
                <a:chExt cx="21240" cy="63000"/>
              </a:xfrm>
            </p:grpSpPr>
            <p:grpSp>
              <p:nvGrpSpPr>
                <p:cNvPr id="1396" name=""/>
                <p:cNvGrpSpPr/>
                <p:nvPr/>
              </p:nvGrpSpPr>
              <p:grpSpPr>
                <a:xfrm>
                  <a:off x="9057600" y="1377720"/>
                  <a:ext cx="21240" cy="63000"/>
                  <a:chOff x="9057600" y="1377720"/>
                  <a:chExt cx="21240" cy="63000"/>
                </a:xfrm>
              </p:grpSpPr>
              <p:sp>
                <p:nvSpPr>
                  <p:cNvPr id="1397" name=""/>
                  <p:cNvSpPr/>
                  <p:nvPr/>
                </p:nvSpPr>
                <p:spPr>
                  <a:xfrm>
                    <a:off x="9057600" y="1377720"/>
                    <a:ext cx="0" cy="630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9078840" y="1377720"/>
                    <a:ext cx="0" cy="630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9057600" y="1377720"/>
                    <a:ext cx="212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0" name=""/>
                <p:cNvSpPr/>
                <p:nvPr/>
              </p:nvSpPr>
              <p:spPr>
                <a:xfrm>
                  <a:off x="9059400" y="1381320"/>
                  <a:ext cx="18000" cy="594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1" name=""/>
              <p:cNvSpPr/>
              <p:nvPr/>
            </p:nvSpPr>
            <p:spPr>
              <a:xfrm>
                <a:off x="9135360" y="16376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2" name=""/>
          <p:cNvGrpSpPr/>
          <p:nvPr/>
        </p:nvGrpSpPr>
        <p:grpSpPr>
          <a:xfrm>
            <a:off x="-360" y="1576440"/>
            <a:ext cx="4692960" cy="4628160"/>
            <a:chOff x="-360" y="1576440"/>
            <a:chExt cx="4692960" cy="4628160"/>
          </a:xfrm>
        </p:grpSpPr>
        <p:sp>
          <p:nvSpPr>
            <p:cNvPr id="1403" name=""/>
            <p:cNvSpPr/>
            <p:nvPr/>
          </p:nvSpPr>
          <p:spPr>
            <a:xfrm>
              <a:off x="0" y="383868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V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nH_dc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93560" y="4938840"/>
              <a:ext cx="638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V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-360" y="3522600"/>
              <a:ext cx="1281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V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nH_ac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66440" y="3209760"/>
              <a:ext cx="672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V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07" name=""/>
            <p:cNvGrpSpPr/>
            <p:nvPr/>
          </p:nvGrpSpPr>
          <p:grpSpPr>
            <a:xfrm>
              <a:off x="1293840" y="1630440"/>
              <a:ext cx="3398760" cy="4078080"/>
              <a:chOff x="1293840" y="1630440"/>
              <a:chExt cx="3398760" cy="4078080"/>
            </a:xfrm>
          </p:grpSpPr>
          <p:sp>
            <p:nvSpPr>
              <p:cNvPr id="1408" name=""/>
              <p:cNvSpPr/>
              <p:nvPr/>
            </p:nvSpPr>
            <p:spPr>
              <a:xfrm>
                <a:off x="1717560" y="3573360"/>
                <a:ext cx="750960" cy="3733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2897640" y="3925800"/>
                <a:ext cx="375480" cy="479520"/>
              </a:xfrm>
              <a:prstGeom prst="ellipse">
                <a:avLst/>
              </a:prstGeom>
              <a:solidFill>
                <a:srgbClr val="0099cc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571040" y="2201760"/>
                <a:ext cx="3121560" cy="3268800"/>
              </a:xfrm>
              <a:custGeom>
                <a:avLst/>
                <a:gdLst/>
                <a:ahLst/>
                <a:rect l="l" t="t" r="r" b="b"/>
                <a:pathLst>
                  <a:path w="4389" h="2940">
                    <a:moveTo>
                      <a:pt x="0" y="2940"/>
                    </a:moveTo>
                    <a:lnTo>
                      <a:pt x="138" y="2542"/>
                    </a:lnTo>
                    <a:lnTo>
                      <a:pt x="227" y="2242"/>
                    </a:lnTo>
                    <a:lnTo>
                      <a:pt x="328" y="1934"/>
                    </a:lnTo>
                    <a:lnTo>
                      <a:pt x="399" y="1806"/>
                    </a:lnTo>
                    <a:lnTo>
                      <a:pt x="466" y="1668"/>
                    </a:lnTo>
                    <a:lnTo>
                      <a:pt x="617" y="1359"/>
                    </a:lnTo>
                    <a:lnTo>
                      <a:pt x="745" y="833"/>
                    </a:lnTo>
                    <a:lnTo>
                      <a:pt x="899" y="401"/>
                    </a:lnTo>
                    <a:lnTo>
                      <a:pt x="1033" y="155"/>
                    </a:lnTo>
                    <a:lnTo>
                      <a:pt x="1167" y="0"/>
                    </a:lnTo>
                    <a:lnTo>
                      <a:pt x="1362" y="144"/>
                    </a:lnTo>
                    <a:lnTo>
                      <a:pt x="1485" y="391"/>
                    </a:lnTo>
                    <a:lnTo>
                      <a:pt x="1609" y="731"/>
                    </a:lnTo>
                    <a:lnTo>
                      <a:pt x="1701" y="1091"/>
                    </a:lnTo>
                    <a:lnTo>
                      <a:pt x="1794" y="1307"/>
                    </a:lnTo>
                    <a:lnTo>
                      <a:pt x="1947" y="1609"/>
                    </a:lnTo>
                    <a:lnTo>
                      <a:pt x="2158" y="1788"/>
                    </a:lnTo>
                    <a:lnTo>
                      <a:pt x="2385" y="1658"/>
                    </a:lnTo>
                    <a:lnTo>
                      <a:pt x="2499" y="1439"/>
                    </a:lnTo>
                    <a:lnTo>
                      <a:pt x="2594" y="1190"/>
                    </a:lnTo>
                    <a:lnTo>
                      <a:pt x="2913" y="904"/>
                    </a:lnTo>
                    <a:lnTo>
                      <a:pt x="3156" y="685"/>
                    </a:lnTo>
                    <a:lnTo>
                      <a:pt x="3407" y="758"/>
                    </a:lnTo>
                    <a:lnTo>
                      <a:pt x="3659" y="798"/>
                    </a:lnTo>
                    <a:lnTo>
                      <a:pt x="3764" y="717"/>
                    </a:lnTo>
                    <a:lnTo>
                      <a:pt x="3894" y="766"/>
                    </a:lnTo>
                    <a:lnTo>
                      <a:pt x="4089" y="766"/>
                    </a:lnTo>
                    <a:lnTo>
                      <a:pt x="4267" y="766"/>
                    </a:lnTo>
                    <a:lnTo>
                      <a:pt x="4389" y="758"/>
                    </a:lnTo>
                  </a:path>
                </a:pathLst>
              </a:custGeom>
              <a:noFill/>
              <a:ln cap="rnd" w="7632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389240" y="1630440"/>
                <a:ext cx="0" cy="4078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321560" y="5622840"/>
                <a:ext cx="333108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293840" y="5099040"/>
                <a:ext cx="307188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396080" y="4084560"/>
                <a:ext cx="2361960" cy="0"/>
              </a:xfrm>
              <a:prstGeom prst="line">
                <a:avLst/>
              </a:prstGeom>
              <a:ln w="57240">
                <a:solidFill>
                  <a:srgbClr val="66cc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V="1">
                <a:off x="1357200" y="3757680"/>
                <a:ext cx="2379960" cy="14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361520" y="3444840"/>
                <a:ext cx="6840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417" name=""/>
            <p:cNvSpPr/>
            <p:nvPr/>
          </p:nvSpPr>
          <p:spPr>
            <a:xfrm>
              <a:off x="3750840" y="5749920"/>
              <a:ext cx="725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52720" y="1576440"/>
              <a:ext cx="1147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Voltag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705040" y="1328760"/>
            <a:ext cx="58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VinH_ac : during a transition from L -&gt; H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input will state change,                      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when crossing Vinh_a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333600" y="4327560"/>
            <a:ext cx="639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VinH_dc : after a transition from L -&gt; H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input will not change the new state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if above Vinh_d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differential parameter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22" name=""/>
          <p:cNvGrpSpPr/>
          <p:nvPr/>
        </p:nvGrpSpPr>
        <p:grpSpPr>
          <a:xfrm>
            <a:off x="8142480" y="1141560"/>
            <a:ext cx="1223280" cy="718560"/>
            <a:chOff x="8142480" y="1141560"/>
            <a:chExt cx="1223280" cy="718560"/>
          </a:xfrm>
        </p:grpSpPr>
        <p:sp>
          <p:nvSpPr>
            <p:cNvPr id="1423" name=""/>
            <p:cNvSpPr/>
            <p:nvPr/>
          </p:nvSpPr>
          <p:spPr>
            <a:xfrm>
              <a:off x="8142480" y="1141560"/>
              <a:ext cx="122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3366"/>
                  </a:solidFill>
                  <a:latin typeface="Monotype Corsiva"/>
                </a:rPr>
                <a:t>parameter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24" name=""/>
            <p:cNvGrpSpPr/>
            <p:nvPr/>
          </p:nvGrpSpPr>
          <p:grpSpPr>
            <a:xfrm>
              <a:off x="8658000" y="1192680"/>
              <a:ext cx="334800" cy="667440"/>
              <a:chOff x="8658000" y="1192680"/>
              <a:chExt cx="334800" cy="667440"/>
            </a:xfrm>
          </p:grpSpPr>
          <p:sp>
            <p:nvSpPr>
              <p:cNvPr id="1425" name=""/>
              <p:cNvSpPr/>
              <p:nvPr/>
            </p:nvSpPr>
            <p:spPr>
              <a:xfrm>
                <a:off x="8724960" y="174888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8758440" y="165168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8825760" y="165168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8658000" y="174888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8791920" y="1748880"/>
                <a:ext cx="66960" cy="96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858880" y="1748880"/>
                <a:ext cx="6696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8926200" y="174888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775000" y="1357920"/>
                <a:ext cx="101160" cy="97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8858880" y="1553760"/>
                <a:ext cx="66960" cy="97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8724960" y="1553760"/>
                <a:ext cx="66960" cy="97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792280" y="1553760"/>
                <a:ext cx="66600" cy="97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691480" y="1651680"/>
                <a:ext cx="6696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8825400" y="1456200"/>
                <a:ext cx="66960" cy="972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8758440" y="1456200"/>
                <a:ext cx="66600" cy="972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439" name=""/>
              <p:cNvGrpSpPr/>
              <p:nvPr/>
            </p:nvGrpSpPr>
            <p:grpSpPr>
              <a:xfrm>
                <a:off x="8774280" y="1457280"/>
                <a:ext cx="104040" cy="402840"/>
                <a:chOff x="8774280" y="1457280"/>
                <a:chExt cx="104040" cy="40284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8793000" y="1457280"/>
                  <a:ext cx="669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8790840" y="1490760"/>
                  <a:ext cx="705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8789400" y="1522800"/>
                  <a:ext cx="7380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8787600" y="1556280"/>
                  <a:ext cx="7704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8785800" y="1589400"/>
                  <a:ext cx="8064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8784360" y="1623240"/>
                  <a:ext cx="8388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8782560" y="1656720"/>
                  <a:ext cx="8748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8780760" y="1690200"/>
                  <a:ext cx="9072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8779320" y="1724040"/>
                  <a:ext cx="939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8777520" y="1759680"/>
                  <a:ext cx="975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8775720" y="1793160"/>
                  <a:ext cx="10080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8774280" y="1826640"/>
                  <a:ext cx="10404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2" name=""/>
              <p:cNvSpPr/>
              <p:nvPr/>
            </p:nvSpPr>
            <p:spPr>
              <a:xfrm rot="16200000">
                <a:off x="8742240" y="1240560"/>
                <a:ext cx="165600" cy="69840"/>
              </a:xfrm>
              <a:prstGeom prst="rect">
                <a:avLst/>
              </a:prstGeom>
              <a:solidFill>
                <a:srgbClr val="33cc33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453" name=""/>
              <p:cNvGrpSpPr/>
              <p:nvPr/>
            </p:nvGrpSpPr>
            <p:grpSpPr>
              <a:xfrm>
                <a:off x="8814600" y="1391760"/>
                <a:ext cx="21240" cy="63000"/>
                <a:chOff x="8814600" y="1391760"/>
                <a:chExt cx="21240" cy="63000"/>
              </a:xfrm>
            </p:grpSpPr>
            <p:grpSp>
              <p:nvGrpSpPr>
                <p:cNvPr id="1454" name=""/>
                <p:cNvGrpSpPr/>
                <p:nvPr/>
              </p:nvGrpSpPr>
              <p:grpSpPr>
                <a:xfrm>
                  <a:off x="8814600" y="1391760"/>
                  <a:ext cx="21240" cy="63000"/>
                  <a:chOff x="8814600" y="1391760"/>
                  <a:chExt cx="21240" cy="63000"/>
                </a:xfrm>
              </p:grpSpPr>
              <p:sp>
                <p:nvSpPr>
                  <p:cNvPr id="1455" name=""/>
                  <p:cNvSpPr/>
                  <p:nvPr/>
                </p:nvSpPr>
                <p:spPr>
                  <a:xfrm>
                    <a:off x="8814600" y="1391760"/>
                    <a:ext cx="0" cy="630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>
                    <a:off x="8835840" y="1391760"/>
                    <a:ext cx="0" cy="630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8814600" y="1391760"/>
                    <a:ext cx="212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8" name=""/>
                <p:cNvSpPr/>
                <p:nvPr/>
              </p:nvSpPr>
              <p:spPr>
                <a:xfrm>
                  <a:off x="8816400" y="1395360"/>
                  <a:ext cx="18000" cy="594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9" name=""/>
              <p:cNvSpPr/>
              <p:nvPr/>
            </p:nvSpPr>
            <p:spPr>
              <a:xfrm>
                <a:off x="8892360" y="165168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0" name=""/>
          <p:cNvGrpSpPr/>
          <p:nvPr/>
        </p:nvGrpSpPr>
        <p:grpSpPr>
          <a:xfrm>
            <a:off x="4685760" y="1765440"/>
            <a:ext cx="4989960" cy="3255840"/>
            <a:chOff x="4685760" y="1765440"/>
            <a:chExt cx="4989960" cy="3255840"/>
          </a:xfrm>
        </p:grpSpPr>
        <p:sp>
          <p:nvSpPr>
            <p:cNvPr id="1461" name=""/>
            <p:cNvSpPr/>
            <p:nvPr/>
          </p:nvSpPr>
          <p:spPr>
            <a:xfrm>
              <a:off x="5377680" y="4054320"/>
              <a:ext cx="1485360" cy="398880"/>
            </a:xfrm>
            <a:prstGeom prst="rect">
              <a:avLst/>
            </a:prstGeom>
            <a:noFill/>
            <a:ln w="12600">
              <a:solidFill>
                <a:srgbClr val="c85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Arial"/>
                </a:rPr>
                <a:t>Vcross_low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240760" y="3232080"/>
              <a:ext cx="1434960" cy="368280"/>
            </a:xfrm>
            <a:prstGeom prst="rect">
              <a:avLst/>
            </a:prstGeom>
            <a:noFill/>
            <a:ln w="12600">
              <a:solidFill>
                <a:srgbClr val="c85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3366"/>
                  </a:solidFill>
                  <a:latin typeface="Arial"/>
                </a:rPr>
                <a:t>Vcross_high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63" name=""/>
            <p:cNvGrpSpPr/>
            <p:nvPr/>
          </p:nvGrpSpPr>
          <p:grpSpPr>
            <a:xfrm>
              <a:off x="4685760" y="1765440"/>
              <a:ext cx="3521520" cy="3255840"/>
              <a:chOff x="4685760" y="1765440"/>
              <a:chExt cx="3521520" cy="3255840"/>
            </a:xfrm>
          </p:grpSpPr>
          <p:sp>
            <p:nvSpPr>
              <p:cNvPr id="1464" name=""/>
              <p:cNvSpPr/>
              <p:nvPr/>
            </p:nvSpPr>
            <p:spPr>
              <a:xfrm>
                <a:off x="4685760" y="3090960"/>
                <a:ext cx="78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Arial Unicode MS"/>
                  </a:rPr>
                  <a:t>Vddq/2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689720" y="2786040"/>
                <a:ext cx="1541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Arial Unicode MS"/>
                  </a:rPr>
                  <a:t>Vddq/2 + 0.175V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689360" y="3395520"/>
                <a:ext cx="1497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Arial Unicode MS"/>
                  </a:rPr>
                  <a:t>Vddq/2 - 0.175V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467" name=""/>
              <p:cNvGrpSpPr/>
              <p:nvPr/>
            </p:nvGrpSpPr>
            <p:grpSpPr>
              <a:xfrm>
                <a:off x="7122960" y="3460320"/>
                <a:ext cx="762120" cy="360720"/>
                <a:chOff x="7122960" y="3460320"/>
                <a:chExt cx="762120" cy="360720"/>
              </a:xfrm>
            </p:grpSpPr>
            <p:grpSp>
              <p:nvGrpSpPr>
                <p:cNvPr id="1468" name=""/>
                <p:cNvGrpSpPr/>
                <p:nvPr/>
              </p:nvGrpSpPr>
              <p:grpSpPr>
                <a:xfrm>
                  <a:off x="7234200" y="3460320"/>
                  <a:ext cx="539280" cy="360720"/>
                  <a:chOff x="7234200" y="3460320"/>
                  <a:chExt cx="539280" cy="360720"/>
                </a:xfrm>
              </p:grpSpPr>
              <p:sp>
                <p:nvSpPr>
                  <p:cNvPr id="1469" name=""/>
                  <p:cNvSpPr/>
                  <p:nvPr/>
                </p:nvSpPr>
                <p:spPr>
                  <a:xfrm>
                    <a:off x="7234200" y="3460680"/>
                    <a:ext cx="202680" cy="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7436880" y="3460680"/>
                    <a:ext cx="134640" cy="36036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7234200" y="3821040"/>
                    <a:ext cx="202680" cy="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 flipV="1">
                    <a:off x="7436880" y="3460320"/>
                    <a:ext cx="134640" cy="36036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7571520" y="3460680"/>
                    <a:ext cx="201960" cy="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7571520" y="3821040"/>
                    <a:ext cx="201960" cy="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75" name=""/>
                <p:cNvSpPr/>
                <p:nvPr/>
              </p:nvSpPr>
              <p:spPr>
                <a:xfrm>
                  <a:off x="7122960" y="3641760"/>
                  <a:ext cx="7621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6" name=""/>
              <p:cNvGrpSpPr/>
              <p:nvPr/>
            </p:nvGrpSpPr>
            <p:grpSpPr>
              <a:xfrm>
                <a:off x="7445520" y="2685600"/>
                <a:ext cx="761760" cy="360720"/>
                <a:chOff x="7445520" y="2685600"/>
                <a:chExt cx="761760" cy="360720"/>
              </a:xfrm>
            </p:grpSpPr>
            <p:grpSp>
              <p:nvGrpSpPr>
                <p:cNvPr id="1477" name=""/>
                <p:cNvGrpSpPr/>
                <p:nvPr/>
              </p:nvGrpSpPr>
              <p:grpSpPr>
                <a:xfrm>
                  <a:off x="7556400" y="2685600"/>
                  <a:ext cx="539280" cy="360720"/>
                  <a:chOff x="7556400" y="2685600"/>
                  <a:chExt cx="539280" cy="360720"/>
                </a:xfrm>
              </p:grpSpPr>
              <p:sp>
                <p:nvSpPr>
                  <p:cNvPr id="1478" name=""/>
                  <p:cNvSpPr/>
                  <p:nvPr/>
                </p:nvSpPr>
                <p:spPr>
                  <a:xfrm>
                    <a:off x="7556400" y="2685960"/>
                    <a:ext cx="202320" cy="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7758720" y="2685960"/>
                    <a:ext cx="134640" cy="36036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7556400" y="3046320"/>
                    <a:ext cx="202320" cy="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1" name=""/>
                  <p:cNvSpPr/>
                  <p:nvPr/>
                </p:nvSpPr>
                <p:spPr>
                  <a:xfrm flipV="1">
                    <a:off x="7758720" y="2685600"/>
                    <a:ext cx="134640" cy="36036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7893720" y="2685960"/>
                    <a:ext cx="201960" cy="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7893720" y="3046320"/>
                    <a:ext cx="201960" cy="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4" name=""/>
                <p:cNvSpPr/>
                <p:nvPr/>
              </p:nvSpPr>
              <p:spPr>
                <a:xfrm>
                  <a:off x="7445520" y="286704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6437160" y="3079440"/>
                <a:ext cx="762120" cy="360720"/>
                <a:chOff x="6437160" y="3079440"/>
                <a:chExt cx="762120" cy="360720"/>
              </a:xfrm>
            </p:grpSpPr>
            <p:grpSp>
              <p:nvGrpSpPr>
                <p:cNvPr id="1486" name=""/>
                <p:cNvGrpSpPr/>
                <p:nvPr/>
              </p:nvGrpSpPr>
              <p:grpSpPr>
                <a:xfrm>
                  <a:off x="6548400" y="3079440"/>
                  <a:ext cx="539280" cy="360720"/>
                  <a:chOff x="6548400" y="3079440"/>
                  <a:chExt cx="539280" cy="360720"/>
                </a:xfrm>
              </p:grpSpPr>
              <p:sp>
                <p:nvSpPr>
                  <p:cNvPr id="1487" name=""/>
                  <p:cNvSpPr/>
                  <p:nvPr/>
                </p:nvSpPr>
                <p:spPr>
                  <a:xfrm>
                    <a:off x="6548400" y="3079800"/>
                    <a:ext cx="202680" cy="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6751080" y="3079800"/>
                    <a:ext cx="134640" cy="36036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>
                    <a:off x="6548400" y="3440160"/>
                    <a:ext cx="202680" cy="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 flipV="1">
                    <a:off x="6751080" y="3079440"/>
                    <a:ext cx="134640" cy="36036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>
                    <a:off x="6885720" y="3079800"/>
                    <a:ext cx="201960" cy="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6885720" y="3440160"/>
                    <a:ext cx="201960" cy="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3" name=""/>
                <p:cNvSpPr/>
                <p:nvPr/>
              </p:nvSpPr>
              <p:spPr>
                <a:xfrm>
                  <a:off x="6437160" y="3260880"/>
                  <a:ext cx="7621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4" name=""/>
              <p:cNvSpPr/>
              <p:nvPr/>
            </p:nvSpPr>
            <p:spPr>
              <a:xfrm>
                <a:off x="6208560" y="3254400"/>
                <a:ext cx="15264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208560" y="3559320"/>
                <a:ext cx="15264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208560" y="2949480"/>
                <a:ext cx="15264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060960" y="4653000"/>
                <a:ext cx="1884600" cy="1440"/>
              </a:xfrm>
              <a:prstGeom prst="line">
                <a:avLst/>
              </a:prstGeom>
              <a:ln cap="rnd" w="28440">
                <a:solidFill>
                  <a:srgbClr val="003366"/>
                </a:solidFill>
                <a:custDash>
                  <a:ds d="100000" sp="1000"/>
                </a:custDash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289560" y="1765440"/>
                <a:ext cx="0" cy="3020760"/>
              </a:xfrm>
              <a:prstGeom prst="line">
                <a:avLst/>
              </a:prstGeom>
              <a:ln cap="rnd" w="28440">
                <a:solidFill>
                  <a:srgbClr val="003366"/>
                </a:solidFill>
                <a:custDash>
                  <a:ds d="100000" sp="1000"/>
                </a:custDash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714080" y="4653000"/>
                <a:ext cx="26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UniversS 55 Roman"/>
                  </a:rPr>
                  <a:t>t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820480" y="183996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UniversS 55 Roman"/>
                  </a:rPr>
                  <a:t>u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7113600" y="3645000"/>
                <a:ext cx="0" cy="1009440"/>
              </a:xfrm>
              <a:prstGeom prst="line">
                <a:avLst/>
              </a:prstGeom>
              <a:ln w="38160">
                <a:solidFill>
                  <a:srgbClr val="c85a9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8140680" y="2878200"/>
                <a:ext cx="0" cy="1776240"/>
              </a:xfrm>
              <a:prstGeom prst="line">
                <a:avLst/>
              </a:prstGeom>
              <a:ln w="38160">
                <a:solidFill>
                  <a:srgbClr val="c85a9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3" name=""/>
          <p:cNvGrpSpPr/>
          <p:nvPr/>
        </p:nvGrpSpPr>
        <p:grpSpPr>
          <a:xfrm>
            <a:off x="603360" y="4511520"/>
            <a:ext cx="4721760" cy="1924200"/>
            <a:chOff x="603360" y="4511520"/>
            <a:chExt cx="4721760" cy="1924200"/>
          </a:xfrm>
        </p:grpSpPr>
        <p:sp>
          <p:nvSpPr>
            <p:cNvPr id="1504" name=""/>
            <p:cNvSpPr/>
            <p:nvPr/>
          </p:nvSpPr>
          <p:spPr>
            <a:xfrm>
              <a:off x="4078440" y="5673600"/>
              <a:ext cx="1209600" cy="12960"/>
            </a:xfrm>
            <a:prstGeom prst="line">
              <a:avLst/>
            </a:prstGeom>
            <a:ln cap="rnd" w="28440">
              <a:solidFill>
                <a:srgbClr val="003366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238640" y="4705200"/>
              <a:ext cx="6480" cy="1730520"/>
            </a:xfrm>
            <a:prstGeom prst="line">
              <a:avLst/>
            </a:prstGeom>
            <a:ln cap="rnd" w="28440">
              <a:solidFill>
                <a:srgbClr val="003366"/>
              </a:solidFill>
              <a:custDash>
                <a:ds d="100000" sp="1000"/>
              </a:custDash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061960" y="581328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UniversS 55 Roman"/>
                </a:rPr>
                <a:t>t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782160" y="451152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UniversS 55 Roman"/>
                </a:rPr>
                <a:t>u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08" name=""/>
            <p:cNvGrpSpPr/>
            <p:nvPr/>
          </p:nvGrpSpPr>
          <p:grpSpPr>
            <a:xfrm>
              <a:off x="4383000" y="5064120"/>
              <a:ext cx="718920" cy="1218960"/>
              <a:chOff x="4383000" y="5064120"/>
              <a:chExt cx="718920" cy="1218960"/>
            </a:xfrm>
          </p:grpSpPr>
          <p:sp>
            <p:nvSpPr>
              <p:cNvPr id="1509" name=""/>
              <p:cNvSpPr/>
              <p:nvPr/>
            </p:nvSpPr>
            <p:spPr>
              <a:xfrm>
                <a:off x="4383000" y="5064120"/>
                <a:ext cx="343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4726800" y="5064120"/>
                <a:ext cx="3132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758120" y="6283080"/>
                <a:ext cx="343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4230720" y="5254560"/>
              <a:ext cx="718920" cy="838080"/>
              <a:chOff x="4230720" y="5254560"/>
              <a:chExt cx="718920" cy="838080"/>
            </a:xfrm>
          </p:grpSpPr>
          <p:sp>
            <p:nvSpPr>
              <p:cNvPr id="1513" name=""/>
              <p:cNvSpPr/>
              <p:nvPr/>
            </p:nvSpPr>
            <p:spPr>
              <a:xfrm>
                <a:off x="4230720" y="5254560"/>
                <a:ext cx="3438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4574520" y="5254560"/>
                <a:ext cx="31320" cy="8380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4605840" y="6092640"/>
                <a:ext cx="3438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516" name=""/>
            <p:cNvSpPr/>
            <p:nvPr/>
          </p:nvSpPr>
          <p:spPr>
            <a:xfrm>
              <a:off x="3409560" y="5203800"/>
              <a:ext cx="7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3366"/>
                  </a:solidFill>
                  <a:latin typeface="UniversS 55 Roman"/>
                </a:rPr>
                <a:t>0.25V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468960" y="492444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3366"/>
                  </a:solidFill>
                  <a:latin typeface="UniversS 55 Roman"/>
                </a:rPr>
                <a:t>0.5V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10040" y="5091120"/>
              <a:ext cx="3049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010040" y="5243400"/>
              <a:ext cx="3049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610800" y="549756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3366"/>
                  </a:solidFill>
                  <a:latin typeface="UniversS 55 Roman"/>
                </a:rPr>
                <a:t>0V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03360" y="5210280"/>
              <a:ext cx="220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3366"/>
                  </a:solidFill>
                  <a:latin typeface="UniversS 55 Roman"/>
                </a:rPr>
                <a:t>Differential signal: 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496440" y="1276200"/>
            <a:ext cx="4183920" cy="3411720"/>
            <a:chOff x="496440" y="1276200"/>
            <a:chExt cx="4183920" cy="3411720"/>
          </a:xfrm>
        </p:grpSpPr>
        <p:grpSp>
          <p:nvGrpSpPr>
            <p:cNvPr id="1523" name=""/>
            <p:cNvGrpSpPr/>
            <p:nvPr/>
          </p:nvGrpSpPr>
          <p:grpSpPr>
            <a:xfrm>
              <a:off x="610200" y="1276200"/>
              <a:ext cx="4070160" cy="3411720"/>
              <a:chOff x="610200" y="1276200"/>
              <a:chExt cx="4070160" cy="3411720"/>
            </a:xfrm>
          </p:grpSpPr>
          <p:sp>
            <p:nvSpPr>
              <p:cNvPr id="1524" name=""/>
              <p:cNvSpPr/>
              <p:nvPr/>
            </p:nvSpPr>
            <p:spPr>
              <a:xfrm>
                <a:off x="3547440" y="2232000"/>
                <a:ext cx="1099800" cy="3988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Arial"/>
                  </a:rPr>
                  <a:t>Vdiff_dc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558600" y="1784520"/>
                <a:ext cx="1099800" cy="3988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Arial"/>
                  </a:rPr>
                  <a:t>Vdiff_ac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526" name=""/>
              <p:cNvGrpSpPr/>
              <p:nvPr/>
            </p:nvGrpSpPr>
            <p:grpSpPr>
              <a:xfrm>
                <a:off x="610200" y="1432080"/>
                <a:ext cx="3272400" cy="3255840"/>
                <a:chOff x="610200" y="1432080"/>
                <a:chExt cx="3272400" cy="325584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2491200" y="4319640"/>
                  <a:ext cx="26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66"/>
                      </a:solidFill>
                      <a:latin typeface="UniversS 55 Roman"/>
                    </a:rPr>
                    <a:t>t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8" name=""/>
                <p:cNvGrpSpPr/>
                <p:nvPr/>
              </p:nvGrpSpPr>
              <p:grpSpPr>
                <a:xfrm>
                  <a:off x="610200" y="1432080"/>
                  <a:ext cx="3272400" cy="3020760"/>
                  <a:chOff x="610200" y="1432080"/>
                  <a:chExt cx="3272400" cy="302076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>
                    <a:off x="1839960" y="2065320"/>
                    <a:ext cx="476280" cy="415800"/>
                  </a:xfrm>
                  <a:prstGeom prst="ellipse">
                    <a:avLst/>
                  </a:prstGeom>
                  <a:solidFill>
                    <a:srgbClr val="66ccff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1819440" y="2957400"/>
                    <a:ext cx="475920" cy="417600"/>
                  </a:xfrm>
                  <a:prstGeom prst="ellipse">
                    <a:avLst/>
                  </a:prstGeom>
                  <a:solidFill>
                    <a:srgbClr val="66ccff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1239840" y="3344760"/>
                    <a:ext cx="480960" cy="3254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1236600" y="1798560"/>
                    <a:ext cx="480960" cy="3240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33" name=""/>
                  <p:cNvGrpSpPr/>
                  <p:nvPr/>
                </p:nvGrpSpPr>
                <p:grpSpPr>
                  <a:xfrm>
                    <a:off x="861840" y="1959120"/>
                    <a:ext cx="2641680" cy="1563480"/>
                    <a:chOff x="861840" y="1959120"/>
                    <a:chExt cx="2641680" cy="1563480"/>
                  </a:xfrm>
                </p:grpSpPr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861840" y="1959120"/>
                      <a:ext cx="2641680" cy="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861840" y="2319480"/>
                      <a:ext cx="2641680" cy="0"/>
                    </a:xfrm>
                    <a:prstGeom prst="line">
                      <a:avLst/>
                    </a:prstGeom>
                    <a:ln w="1908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6" name=""/>
                    <p:cNvSpPr/>
                    <p:nvPr/>
                  </p:nvSpPr>
                  <p:spPr>
                    <a:xfrm>
                      <a:off x="861840" y="3522600"/>
                      <a:ext cx="2641680" cy="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861840" y="3161880"/>
                      <a:ext cx="2641680" cy="0"/>
                    </a:xfrm>
                    <a:prstGeom prst="line">
                      <a:avLst/>
                    </a:prstGeom>
                    <a:ln w="1908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8" name=""/>
                  <p:cNvGrpSpPr/>
                  <p:nvPr/>
                </p:nvGrpSpPr>
                <p:grpSpPr>
                  <a:xfrm>
                    <a:off x="860400" y="1455480"/>
                    <a:ext cx="3022200" cy="2519640"/>
                    <a:chOff x="860400" y="1455480"/>
                    <a:chExt cx="3022200" cy="2519640"/>
                  </a:xfrm>
                </p:grpSpPr>
                <p:grpSp>
                  <p:nvGrpSpPr>
                    <p:cNvPr id="1539" name=""/>
                    <p:cNvGrpSpPr/>
                    <p:nvPr/>
                  </p:nvGrpSpPr>
                  <p:grpSpPr>
                    <a:xfrm>
                      <a:off x="2655000" y="1455840"/>
                      <a:ext cx="1227600" cy="2519280"/>
                      <a:chOff x="2655000" y="1455840"/>
                      <a:chExt cx="1227600" cy="2519280"/>
                    </a:xfrm>
                  </p:grpSpPr>
                  <p:sp>
                    <p:nvSpPr>
                      <p:cNvPr id="1540" name=""/>
                      <p:cNvSpPr/>
                      <p:nvPr/>
                    </p:nvSpPr>
                    <p:spPr>
                      <a:xfrm>
                        <a:off x="2655000" y="1455840"/>
                        <a:ext cx="4183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1" name=""/>
                      <p:cNvSpPr/>
                      <p:nvPr/>
                    </p:nvSpPr>
                    <p:spPr>
                      <a:xfrm>
                        <a:off x="3073320" y="1455840"/>
                        <a:ext cx="279360" cy="2519280"/>
                      </a:xfrm>
                      <a:prstGeom prst="line">
                        <a:avLst/>
                      </a:prstGeom>
                      <a:ln w="381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2" name=""/>
                      <p:cNvSpPr/>
                      <p:nvPr/>
                    </p:nvSpPr>
                    <p:spPr>
                      <a:xfrm>
                        <a:off x="3353040" y="3975120"/>
                        <a:ext cx="5295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3" name=""/>
                      <p:cNvSpPr/>
                      <p:nvPr/>
                    </p:nvSpPr>
                    <p:spPr>
                      <a:xfrm>
                        <a:off x="2655000" y="3975120"/>
                        <a:ext cx="4183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4" name=""/>
                      <p:cNvSpPr/>
                      <p:nvPr/>
                    </p:nvSpPr>
                    <p:spPr>
                      <a:xfrm flipV="1">
                        <a:off x="3073320" y="1455840"/>
                        <a:ext cx="279360" cy="2519280"/>
                      </a:xfrm>
                      <a:prstGeom prst="line">
                        <a:avLst/>
                      </a:prstGeom>
                      <a:ln w="381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5" name=""/>
                      <p:cNvSpPr/>
                      <p:nvPr/>
                    </p:nvSpPr>
                    <p:spPr>
                      <a:xfrm>
                        <a:off x="3353040" y="1455840"/>
                        <a:ext cx="5295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46" name=""/>
                    <p:cNvGrpSpPr/>
                    <p:nvPr/>
                  </p:nvGrpSpPr>
                  <p:grpSpPr>
                    <a:xfrm>
                      <a:off x="860400" y="1455480"/>
                      <a:ext cx="1801080" cy="2519640"/>
                      <a:chOff x="860400" y="1455480"/>
                      <a:chExt cx="1801080" cy="2519640"/>
                    </a:xfrm>
                  </p:grpSpPr>
                  <p:sp>
                    <p:nvSpPr>
                      <p:cNvPr id="1547" name=""/>
                      <p:cNvSpPr/>
                      <p:nvPr/>
                    </p:nvSpPr>
                    <p:spPr>
                      <a:xfrm>
                        <a:off x="860400" y="1455840"/>
                        <a:ext cx="4190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8" name=""/>
                      <p:cNvSpPr/>
                      <p:nvPr/>
                    </p:nvSpPr>
                    <p:spPr>
                      <a:xfrm>
                        <a:off x="1279440" y="1455840"/>
                        <a:ext cx="278640" cy="2519280"/>
                      </a:xfrm>
                      <a:prstGeom prst="line">
                        <a:avLst/>
                      </a:prstGeom>
                      <a:ln w="381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9" name=""/>
                      <p:cNvSpPr/>
                      <p:nvPr/>
                    </p:nvSpPr>
                    <p:spPr>
                      <a:xfrm>
                        <a:off x="860400" y="3975120"/>
                        <a:ext cx="4190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0" name=""/>
                      <p:cNvSpPr/>
                      <p:nvPr/>
                    </p:nvSpPr>
                    <p:spPr>
                      <a:xfrm flipV="1">
                        <a:off x="1279440" y="1455840"/>
                        <a:ext cx="278640" cy="2519280"/>
                      </a:xfrm>
                      <a:prstGeom prst="line">
                        <a:avLst/>
                      </a:prstGeom>
                      <a:ln w="381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1" name=""/>
                      <p:cNvSpPr/>
                      <p:nvPr/>
                    </p:nvSpPr>
                    <p:spPr>
                      <a:xfrm>
                        <a:off x="1558440" y="1455840"/>
                        <a:ext cx="4183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2" name=""/>
                      <p:cNvSpPr/>
                      <p:nvPr/>
                    </p:nvSpPr>
                    <p:spPr>
                      <a:xfrm>
                        <a:off x="1558440" y="3975120"/>
                        <a:ext cx="4183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553" name=""/>
                      <p:cNvGrpSpPr/>
                      <p:nvPr/>
                    </p:nvGrpSpPr>
                    <p:grpSpPr>
                      <a:xfrm>
                        <a:off x="1944000" y="3444120"/>
                        <a:ext cx="674640" cy="530640"/>
                        <a:chOff x="1944000" y="3444120"/>
                        <a:chExt cx="674640" cy="530640"/>
                      </a:xfrm>
                    </p:grpSpPr>
                    <p:sp>
                      <p:nvSpPr>
                        <p:cNvPr id="1554" name=""/>
                        <p:cNvSpPr/>
                        <p:nvPr/>
                      </p:nvSpPr>
                      <p:spPr>
                        <a:xfrm>
                          <a:off x="2200320" y="3974760"/>
                          <a:ext cx="41832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5" name=""/>
                        <p:cNvSpPr/>
                        <p:nvPr/>
                      </p:nvSpPr>
                      <p:spPr>
                        <a:xfrm>
                          <a:off x="2072160" y="3444480"/>
                          <a:ext cx="128160" cy="5302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6" name=""/>
                        <p:cNvSpPr/>
                        <p:nvPr/>
                      </p:nvSpPr>
                      <p:spPr>
                        <a:xfrm flipV="1">
                          <a:off x="1944000" y="3444120"/>
                          <a:ext cx="113760" cy="5302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57" name=""/>
                      <p:cNvGrpSpPr/>
                      <p:nvPr/>
                    </p:nvGrpSpPr>
                    <p:grpSpPr>
                      <a:xfrm>
                        <a:off x="1986840" y="1455480"/>
                        <a:ext cx="674640" cy="530640"/>
                        <a:chOff x="1986840" y="1455480"/>
                        <a:chExt cx="674640" cy="530640"/>
                      </a:xfrm>
                    </p:grpSpPr>
                    <p:sp>
                      <p:nvSpPr>
                        <p:cNvPr id="1558" name=""/>
                        <p:cNvSpPr/>
                        <p:nvPr/>
                      </p:nvSpPr>
                      <p:spPr>
                        <a:xfrm>
                          <a:off x="2243160" y="1455480"/>
                          <a:ext cx="41832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9" name=""/>
                        <p:cNvSpPr/>
                        <p:nvPr/>
                      </p:nvSpPr>
                      <p:spPr>
                        <a:xfrm flipV="1">
                          <a:off x="2115000" y="1455480"/>
                          <a:ext cx="128160" cy="5302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60" name=""/>
                        <p:cNvSpPr/>
                        <p:nvPr/>
                      </p:nvSpPr>
                      <p:spPr>
                        <a:xfrm>
                          <a:off x="1986840" y="1455840"/>
                          <a:ext cx="113760" cy="5302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33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561" name=""/>
                  <p:cNvSpPr/>
                  <p:nvPr/>
                </p:nvSpPr>
                <p:spPr>
                  <a:xfrm>
                    <a:off x="1539720" y="1962000"/>
                    <a:ext cx="0" cy="156384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2068560" y="2319480"/>
                    <a:ext cx="0" cy="842760"/>
                  </a:xfrm>
                  <a:prstGeom prst="line">
                    <a:avLst/>
                  </a:prstGeom>
                  <a:ln w="19080">
                    <a:solidFill>
                      <a:srgbClr val="0066ff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838080" y="4319640"/>
                    <a:ext cx="1884600" cy="1440"/>
                  </a:xfrm>
                  <a:prstGeom prst="line">
                    <a:avLst/>
                  </a:prstGeom>
                  <a:ln cap="rnd" w="28440">
                    <a:solidFill>
                      <a:srgbClr val="003366"/>
                    </a:solidFill>
                    <a:custDash>
                      <a:ds d="100000" sp="1000"/>
                    </a:custDash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1066680" y="1432080"/>
                    <a:ext cx="0" cy="3020760"/>
                  </a:xfrm>
                  <a:prstGeom prst="line">
                    <a:avLst/>
                  </a:prstGeom>
                  <a:ln cap="rnd" w="28440">
                    <a:solidFill>
                      <a:srgbClr val="003366"/>
                    </a:solidFill>
                    <a:custDash>
                      <a:ds d="100000" sp="1000"/>
                    </a:custDash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610200" y="1506600"/>
                    <a:ext cx="322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3366"/>
                        </a:solidFill>
                        <a:latin typeface="UniversS 55 Roman"/>
                      </a:rPr>
                      <a:t>u</a:t>
                    </a:r>
                    <a:endParaRPr b="0" lang="en-US" sz="18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66" name=""/>
              <p:cNvSpPr/>
              <p:nvPr/>
            </p:nvSpPr>
            <p:spPr>
              <a:xfrm>
                <a:off x="3931200" y="1276200"/>
                <a:ext cx="74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3366"/>
                    </a:solidFill>
                    <a:latin typeface="Arial"/>
                  </a:rPr>
                  <a:t>In-pos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925080" y="3780000"/>
                <a:ext cx="75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3366"/>
                    </a:solidFill>
                    <a:latin typeface="Arial"/>
                  </a:rPr>
                  <a:t>In-neg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568" name=""/>
            <p:cNvSpPr/>
            <p:nvPr/>
          </p:nvSpPr>
          <p:spPr>
            <a:xfrm>
              <a:off x="496440" y="418608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366"/>
                  </a:solidFill>
                  <a:latin typeface="Arial"/>
                </a:rPr>
                <a:t>0V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366"/>
                </a:solidFill>
                <a:latin typeface="Arial"/>
              </a:rPr>
              <a:t>Threshold voltage  Vth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446040" y="1676520"/>
            <a:ext cx="5359680" cy="459720"/>
            <a:chOff x="446040" y="1676520"/>
            <a:chExt cx="5359680" cy="459720"/>
          </a:xfrm>
        </p:grpSpPr>
        <p:sp>
          <p:nvSpPr>
            <p:cNvPr id="1571" name=""/>
            <p:cNvSpPr/>
            <p:nvPr/>
          </p:nvSpPr>
          <p:spPr>
            <a:xfrm>
              <a:off x="1865160" y="1676520"/>
              <a:ext cx="394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Vth is for typical values onl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72" name=""/>
            <p:cNvGrpSpPr/>
            <p:nvPr/>
          </p:nvGrpSpPr>
          <p:grpSpPr>
            <a:xfrm>
              <a:off x="446040" y="1765440"/>
              <a:ext cx="1066680" cy="280800"/>
              <a:chOff x="446040" y="1765440"/>
              <a:chExt cx="1066680" cy="280800"/>
            </a:xfrm>
          </p:grpSpPr>
          <p:sp>
            <p:nvSpPr>
              <p:cNvPr id="1573" name=""/>
              <p:cNvSpPr/>
              <p:nvPr/>
            </p:nvSpPr>
            <p:spPr>
              <a:xfrm>
                <a:off x="659520" y="20001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66440" y="195912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979920" y="1959120"/>
                <a:ext cx="21312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46040" y="20001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872640" y="20001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085760" y="200016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1299960" y="20001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19000" y="183492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1087200" y="19180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59520" y="191808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873360" y="19180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53680" y="195912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979920" y="187632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66440" y="187632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587" name=""/>
              <p:cNvGrpSpPr/>
              <p:nvPr/>
            </p:nvGrpSpPr>
            <p:grpSpPr>
              <a:xfrm>
                <a:off x="813600" y="1875960"/>
                <a:ext cx="330480" cy="170280"/>
                <a:chOff x="813600" y="1875960"/>
                <a:chExt cx="330480" cy="170280"/>
              </a:xfrm>
            </p:grpSpPr>
            <p:sp>
              <p:nvSpPr>
                <p:cNvPr id="1588" name=""/>
                <p:cNvSpPr/>
                <p:nvPr/>
              </p:nvSpPr>
              <p:spPr>
                <a:xfrm>
                  <a:off x="873000" y="18759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866880" y="18900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861480" y="19036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856080" y="19177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851040" y="19317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845640" y="19461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840240" y="19602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834840" y="19746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829440" y="19890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824400" y="20037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819000" y="20178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813600" y="20322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0" name=""/>
              <p:cNvSpPr/>
              <p:nvPr/>
            </p:nvSpPr>
            <p:spPr>
              <a:xfrm rot="16200000">
                <a:off x="944280" y="168840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601" name=""/>
              <p:cNvGrpSpPr/>
              <p:nvPr/>
            </p:nvGrpSpPr>
            <p:grpSpPr>
              <a:xfrm>
                <a:off x="945000" y="1849320"/>
                <a:ext cx="68040" cy="26280"/>
                <a:chOff x="945000" y="1849320"/>
                <a:chExt cx="68040" cy="26280"/>
              </a:xfrm>
            </p:grpSpPr>
            <p:grpSp>
              <p:nvGrpSpPr>
                <p:cNvPr id="1602" name=""/>
                <p:cNvGrpSpPr/>
                <p:nvPr/>
              </p:nvGrpSpPr>
              <p:grpSpPr>
                <a:xfrm>
                  <a:off x="945000" y="1849320"/>
                  <a:ext cx="68040" cy="26280"/>
                  <a:chOff x="945000" y="1849320"/>
                  <a:chExt cx="68040" cy="26280"/>
                </a:xfrm>
              </p:grpSpPr>
              <p:sp>
                <p:nvSpPr>
                  <p:cNvPr id="1603" name=""/>
                  <p:cNvSpPr/>
                  <p:nvPr/>
                </p:nvSpPr>
                <p:spPr>
                  <a:xfrm>
                    <a:off x="945000" y="18493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>
                    <a:off x="1013040" y="18493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>
                    <a:off x="945000" y="18493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6" name=""/>
                <p:cNvSpPr/>
                <p:nvPr/>
              </p:nvSpPr>
              <p:spPr>
                <a:xfrm>
                  <a:off x="950760" y="185076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7" name=""/>
              <p:cNvSpPr/>
              <p:nvPr/>
            </p:nvSpPr>
            <p:spPr>
              <a:xfrm>
                <a:off x="1192680" y="195912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8" name=""/>
          <p:cNvGrpSpPr/>
          <p:nvPr/>
        </p:nvGrpSpPr>
        <p:grpSpPr>
          <a:xfrm>
            <a:off x="8418960" y="1130400"/>
            <a:ext cx="1223280" cy="718560"/>
            <a:chOff x="8418960" y="1130400"/>
            <a:chExt cx="1223280" cy="718560"/>
          </a:xfrm>
        </p:grpSpPr>
        <p:sp>
          <p:nvSpPr>
            <p:cNvPr id="1609" name=""/>
            <p:cNvSpPr/>
            <p:nvPr/>
          </p:nvSpPr>
          <p:spPr>
            <a:xfrm>
              <a:off x="8418960" y="1130400"/>
              <a:ext cx="122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3366"/>
                  </a:solidFill>
                  <a:latin typeface="Monotype Corsiva"/>
                </a:rPr>
                <a:t>parameter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10" name=""/>
            <p:cNvGrpSpPr/>
            <p:nvPr/>
          </p:nvGrpSpPr>
          <p:grpSpPr>
            <a:xfrm>
              <a:off x="8520120" y="1330560"/>
              <a:ext cx="514800" cy="518400"/>
              <a:chOff x="8520120" y="1330560"/>
              <a:chExt cx="514800" cy="518400"/>
            </a:xfrm>
          </p:grpSpPr>
          <p:sp>
            <p:nvSpPr>
              <p:cNvPr id="1611" name=""/>
              <p:cNvSpPr/>
              <p:nvPr/>
            </p:nvSpPr>
            <p:spPr>
              <a:xfrm>
                <a:off x="8623080" y="176400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8674560" y="168804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8777880" y="1688040"/>
                <a:ext cx="10296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8520120" y="176400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8726040" y="1764000"/>
                <a:ext cx="102960" cy="75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8829000" y="1764000"/>
                <a:ext cx="10296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8932320" y="176400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8700120" y="1459440"/>
                <a:ext cx="155520" cy="75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8829360" y="1612080"/>
                <a:ext cx="102600" cy="759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8623080" y="1612080"/>
                <a:ext cx="102960" cy="759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8726400" y="1612080"/>
                <a:ext cx="102960" cy="75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8571960" y="168804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8777880" y="153612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8674560" y="153612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625" name=""/>
              <p:cNvGrpSpPr/>
              <p:nvPr/>
            </p:nvGrpSpPr>
            <p:grpSpPr>
              <a:xfrm>
                <a:off x="8697600" y="1535040"/>
                <a:ext cx="159480" cy="313920"/>
                <a:chOff x="8697600" y="1535040"/>
                <a:chExt cx="159480" cy="313920"/>
              </a:xfrm>
            </p:grpSpPr>
            <p:sp>
              <p:nvSpPr>
                <p:cNvPr id="1626" name=""/>
                <p:cNvSpPr/>
                <p:nvPr/>
              </p:nvSpPr>
              <p:spPr>
                <a:xfrm>
                  <a:off x="8726040" y="1535040"/>
                  <a:ext cx="10296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8723160" y="1560960"/>
                  <a:ext cx="1080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8720640" y="1586160"/>
                  <a:ext cx="1130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8718120" y="1612080"/>
                  <a:ext cx="1184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8715600" y="1638000"/>
                  <a:ext cx="12348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8713080" y="1664280"/>
                  <a:ext cx="12852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8710200" y="1690560"/>
                  <a:ext cx="13392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8707680" y="1716480"/>
                  <a:ext cx="13896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8705160" y="1743120"/>
                  <a:ext cx="1440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8702640" y="1770840"/>
                  <a:ext cx="1494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8700120" y="1796760"/>
                  <a:ext cx="1544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8697600" y="1822680"/>
                  <a:ext cx="15948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8" name=""/>
              <p:cNvSpPr/>
              <p:nvPr/>
            </p:nvSpPr>
            <p:spPr>
              <a:xfrm rot="16200000">
                <a:off x="8712720" y="1341000"/>
                <a:ext cx="128880" cy="107640"/>
              </a:xfrm>
              <a:prstGeom prst="rect">
                <a:avLst/>
              </a:prstGeom>
              <a:solidFill>
                <a:srgbClr val="00ff99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639" name=""/>
              <p:cNvGrpSpPr/>
              <p:nvPr/>
            </p:nvGrpSpPr>
            <p:grpSpPr>
              <a:xfrm>
                <a:off x="8760960" y="1486080"/>
                <a:ext cx="32760" cy="48960"/>
                <a:chOff x="8760960" y="1486080"/>
                <a:chExt cx="32760" cy="48960"/>
              </a:xfrm>
            </p:grpSpPr>
            <p:grpSp>
              <p:nvGrpSpPr>
                <p:cNvPr id="1640" name=""/>
                <p:cNvGrpSpPr/>
                <p:nvPr/>
              </p:nvGrpSpPr>
              <p:grpSpPr>
                <a:xfrm>
                  <a:off x="8760960" y="1486080"/>
                  <a:ext cx="32760" cy="48960"/>
                  <a:chOff x="8760960" y="1486080"/>
                  <a:chExt cx="32760" cy="48960"/>
                </a:xfrm>
              </p:grpSpPr>
              <p:sp>
                <p:nvSpPr>
                  <p:cNvPr id="1641" name=""/>
                  <p:cNvSpPr/>
                  <p:nvPr/>
                </p:nvSpPr>
                <p:spPr>
                  <a:xfrm>
                    <a:off x="8760960" y="1486080"/>
                    <a:ext cx="0" cy="489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8793720" y="1486080"/>
                    <a:ext cx="0" cy="489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>
                    <a:off x="8760960" y="1486080"/>
                    <a:ext cx="327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4" name=""/>
                <p:cNvSpPr/>
                <p:nvPr/>
              </p:nvSpPr>
              <p:spPr>
                <a:xfrm>
                  <a:off x="8763840" y="1488960"/>
                  <a:ext cx="27720" cy="4608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5" name=""/>
              <p:cNvSpPr/>
              <p:nvPr/>
            </p:nvSpPr>
            <p:spPr>
              <a:xfrm>
                <a:off x="8880480" y="168804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6" name=""/>
          <p:cNvGrpSpPr/>
          <p:nvPr/>
        </p:nvGrpSpPr>
        <p:grpSpPr>
          <a:xfrm>
            <a:off x="446040" y="3846600"/>
            <a:ext cx="7494840" cy="459720"/>
            <a:chOff x="446040" y="3846600"/>
            <a:chExt cx="7494840" cy="459720"/>
          </a:xfrm>
        </p:grpSpPr>
        <p:grpSp>
          <p:nvGrpSpPr>
            <p:cNvPr id="1647" name=""/>
            <p:cNvGrpSpPr/>
            <p:nvPr/>
          </p:nvGrpSpPr>
          <p:grpSpPr>
            <a:xfrm>
              <a:off x="446040" y="3975120"/>
              <a:ext cx="1066680" cy="280800"/>
              <a:chOff x="446040" y="3975120"/>
              <a:chExt cx="1066680" cy="280800"/>
            </a:xfrm>
          </p:grpSpPr>
          <p:sp>
            <p:nvSpPr>
              <p:cNvPr id="1648" name=""/>
              <p:cNvSpPr/>
              <p:nvPr/>
            </p:nvSpPr>
            <p:spPr>
              <a:xfrm>
                <a:off x="659520" y="42098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66440" y="416880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979920" y="4168800"/>
                <a:ext cx="21312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446040" y="42098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872640" y="42098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1085760" y="420984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1299960" y="42098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819000" y="404460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087200" y="41277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59520" y="412776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873360" y="41277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553680" y="416880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979920" y="408600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66440" y="408600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662" name=""/>
              <p:cNvGrpSpPr/>
              <p:nvPr/>
            </p:nvGrpSpPr>
            <p:grpSpPr>
              <a:xfrm>
                <a:off x="813600" y="4085640"/>
                <a:ext cx="330480" cy="170280"/>
                <a:chOff x="813600" y="4085640"/>
                <a:chExt cx="330480" cy="170280"/>
              </a:xfrm>
            </p:grpSpPr>
            <p:sp>
              <p:nvSpPr>
                <p:cNvPr id="1663" name=""/>
                <p:cNvSpPr/>
                <p:nvPr/>
              </p:nvSpPr>
              <p:spPr>
                <a:xfrm>
                  <a:off x="873000" y="408564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866880" y="409968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861480" y="411336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856080" y="412740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851040" y="414144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845640" y="415584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840240" y="416988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834840" y="418428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829440" y="419868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824400" y="421344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819000" y="422748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813600" y="424188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5" name=""/>
              <p:cNvSpPr/>
              <p:nvPr/>
            </p:nvSpPr>
            <p:spPr>
              <a:xfrm rot="16200000">
                <a:off x="944280" y="389808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676" name=""/>
              <p:cNvGrpSpPr/>
              <p:nvPr/>
            </p:nvGrpSpPr>
            <p:grpSpPr>
              <a:xfrm>
                <a:off x="945000" y="4059000"/>
                <a:ext cx="68040" cy="26280"/>
                <a:chOff x="945000" y="4059000"/>
                <a:chExt cx="68040" cy="26280"/>
              </a:xfrm>
            </p:grpSpPr>
            <p:grpSp>
              <p:nvGrpSpPr>
                <p:cNvPr id="1677" name=""/>
                <p:cNvGrpSpPr/>
                <p:nvPr/>
              </p:nvGrpSpPr>
              <p:grpSpPr>
                <a:xfrm>
                  <a:off x="945000" y="4059000"/>
                  <a:ext cx="68040" cy="26280"/>
                  <a:chOff x="945000" y="4059000"/>
                  <a:chExt cx="68040" cy="26280"/>
                </a:xfrm>
              </p:grpSpPr>
              <p:sp>
                <p:nvSpPr>
                  <p:cNvPr id="1678" name=""/>
                  <p:cNvSpPr/>
                  <p:nvPr/>
                </p:nvSpPr>
                <p:spPr>
                  <a:xfrm>
                    <a:off x="945000" y="40590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>
                    <a:off x="1013040" y="40590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945000" y="40590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1" name=""/>
                <p:cNvSpPr/>
                <p:nvPr/>
              </p:nvSpPr>
              <p:spPr>
                <a:xfrm>
                  <a:off x="950760" y="406044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2" name=""/>
              <p:cNvSpPr/>
              <p:nvPr/>
            </p:nvSpPr>
            <p:spPr>
              <a:xfrm>
                <a:off x="1192680" y="416880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83" name=""/>
            <p:cNvSpPr/>
            <p:nvPr/>
          </p:nvSpPr>
          <p:spPr>
            <a:xfrm>
              <a:off x="1869840" y="3846600"/>
              <a:ext cx="607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These will be calculated using the equatio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446040" y="3083040"/>
            <a:ext cx="8054640" cy="459720"/>
            <a:chOff x="446040" y="3083040"/>
            <a:chExt cx="8054640" cy="459720"/>
          </a:xfrm>
        </p:grpSpPr>
        <p:grpSp>
          <p:nvGrpSpPr>
            <p:cNvPr id="1685" name=""/>
            <p:cNvGrpSpPr/>
            <p:nvPr/>
          </p:nvGrpSpPr>
          <p:grpSpPr>
            <a:xfrm>
              <a:off x="446040" y="3213000"/>
              <a:ext cx="1066680" cy="281160"/>
              <a:chOff x="446040" y="3213000"/>
              <a:chExt cx="1066680" cy="281160"/>
            </a:xfrm>
          </p:grpSpPr>
          <p:sp>
            <p:nvSpPr>
              <p:cNvPr id="1686" name=""/>
              <p:cNvSpPr/>
              <p:nvPr/>
            </p:nvSpPr>
            <p:spPr>
              <a:xfrm>
                <a:off x="659520" y="34480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766440" y="34070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979920" y="340704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46040" y="34480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872640" y="34480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085760" y="344808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299960" y="34480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819000" y="328248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087200" y="33656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659520" y="336564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873360" y="33656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53680" y="34070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979920" y="332424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766440" y="332424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700" name=""/>
              <p:cNvGrpSpPr/>
              <p:nvPr/>
            </p:nvGrpSpPr>
            <p:grpSpPr>
              <a:xfrm>
                <a:off x="813600" y="3323880"/>
                <a:ext cx="330480" cy="170280"/>
                <a:chOff x="813600" y="3323880"/>
                <a:chExt cx="330480" cy="17028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873000" y="332388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866880" y="333792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861480" y="335160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856080" y="336564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851040" y="337968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845640" y="339408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840240" y="340812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834840" y="342252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829440" y="343692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824400" y="345168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819000" y="346572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813600" y="348012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3" name=""/>
              <p:cNvSpPr/>
              <p:nvPr/>
            </p:nvSpPr>
            <p:spPr>
              <a:xfrm rot="16200000">
                <a:off x="944280" y="31359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714" name=""/>
              <p:cNvGrpSpPr/>
              <p:nvPr/>
            </p:nvGrpSpPr>
            <p:grpSpPr>
              <a:xfrm>
                <a:off x="945000" y="3297240"/>
                <a:ext cx="68040" cy="26280"/>
                <a:chOff x="945000" y="3297240"/>
                <a:chExt cx="68040" cy="26280"/>
              </a:xfrm>
            </p:grpSpPr>
            <p:grpSp>
              <p:nvGrpSpPr>
                <p:cNvPr id="1715" name=""/>
                <p:cNvGrpSpPr/>
                <p:nvPr/>
              </p:nvGrpSpPr>
              <p:grpSpPr>
                <a:xfrm>
                  <a:off x="945000" y="3297240"/>
                  <a:ext cx="68040" cy="26280"/>
                  <a:chOff x="945000" y="3297240"/>
                  <a:chExt cx="68040" cy="26280"/>
                </a:xfrm>
              </p:grpSpPr>
              <p:sp>
                <p:nvSpPr>
                  <p:cNvPr id="1716" name=""/>
                  <p:cNvSpPr/>
                  <p:nvPr/>
                </p:nvSpPr>
                <p:spPr>
                  <a:xfrm>
                    <a:off x="945000" y="32972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1013040" y="32972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>
                    <a:off x="945000" y="32972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9" name=""/>
                <p:cNvSpPr/>
                <p:nvPr/>
              </p:nvSpPr>
              <p:spPr>
                <a:xfrm>
                  <a:off x="950760" y="329868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0" name=""/>
              <p:cNvSpPr/>
              <p:nvPr/>
            </p:nvSpPr>
            <p:spPr>
              <a:xfrm>
                <a:off x="1192680" y="34070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>
              <a:off x="1868760" y="3083040"/>
              <a:ext cx="66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No explicit values for min-max-condition Model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446040" y="2349360"/>
            <a:ext cx="8426880" cy="459720"/>
            <a:chOff x="446040" y="2349360"/>
            <a:chExt cx="8426880" cy="459720"/>
          </a:xfrm>
        </p:grpSpPr>
        <p:grpSp>
          <p:nvGrpSpPr>
            <p:cNvPr id="1723" name=""/>
            <p:cNvGrpSpPr/>
            <p:nvPr/>
          </p:nvGrpSpPr>
          <p:grpSpPr>
            <a:xfrm>
              <a:off x="446040" y="2451240"/>
              <a:ext cx="1066680" cy="280800"/>
              <a:chOff x="446040" y="2451240"/>
              <a:chExt cx="1066680" cy="280800"/>
            </a:xfrm>
          </p:grpSpPr>
          <p:sp>
            <p:nvSpPr>
              <p:cNvPr id="1724" name=""/>
              <p:cNvSpPr/>
              <p:nvPr/>
            </p:nvSpPr>
            <p:spPr>
              <a:xfrm>
                <a:off x="659520" y="26859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66440" y="264492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979920" y="2644920"/>
                <a:ext cx="21312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446040" y="26859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872640" y="26859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1085760" y="268596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299960" y="26859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819000" y="252072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1087200" y="26038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59520" y="260388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873360" y="26038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53680" y="264492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979920" y="256212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66440" y="256212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738" name=""/>
              <p:cNvGrpSpPr/>
              <p:nvPr/>
            </p:nvGrpSpPr>
            <p:grpSpPr>
              <a:xfrm>
                <a:off x="813600" y="2561760"/>
                <a:ext cx="330480" cy="170280"/>
                <a:chOff x="813600" y="2561760"/>
                <a:chExt cx="330480" cy="170280"/>
              </a:xfrm>
            </p:grpSpPr>
            <p:sp>
              <p:nvSpPr>
                <p:cNvPr id="1739" name=""/>
                <p:cNvSpPr/>
                <p:nvPr/>
              </p:nvSpPr>
              <p:spPr>
                <a:xfrm>
                  <a:off x="873000" y="25617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866880" y="25758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861480" y="25894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856080" y="26035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851040" y="26175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845640" y="26319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840240" y="26460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834840" y="26604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829440" y="26748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824400" y="26895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819000" y="27036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813600" y="27180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1" name=""/>
              <p:cNvSpPr/>
              <p:nvPr/>
            </p:nvSpPr>
            <p:spPr>
              <a:xfrm rot="16200000">
                <a:off x="944280" y="237420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752" name=""/>
              <p:cNvGrpSpPr/>
              <p:nvPr/>
            </p:nvGrpSpPr>
            <p:grpSpPr>
              <a:xfrm>
                <a:off x="945000" y="2535120"/>
                <a:ext cx="68040" cy="26280"/>
                <a:chOff x="945000" y="2535120"/>
                <a:chExt cx="68040" cy="26280"/>
              </a:xfrm>
            </p:grpSpPr>
            <p:grpSp>
              <p:nvGrpSpPr>
                <p:cNvPr id="1753" name=""/>
                <p:cNvGrpSpPr/>
                <p:nvPr/>
              </p:nvGrpSpPr>
              <p:grpSpPr>
                <a:xfrm>
                  <a:off x="945000" y="2535120"/>
                  <a:ext cx="68040" cy="26280"/>
                  <a:chOff x="945000" y="2535120"/>
                  <a:chExt cx="68040" cy="26280"/>
                </a:xfrm>
              </p:grpSpPr>
              <p:sp>
                <p:nvSpPr>
                  <p:cNvPr id="1754" name=""/>
                  <p:cNvSpPr/>
                  <p:nvPr/>
                </p:nvSpPr>
                <p:spPr>
                  <a:xfrm>
                    <a:off x="945000" y="25351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1013040" y="25351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945000" y="25351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57" name=""/>
                <p:cNvSpPr/>
                <p:nvPr/>
              </p:nvSpPr>
              <p:spPr>
                <a:xfrm>
                  <a:off x="950760" y="253656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8" name=""/>
              <p:cNvSpPr/>
              <p:nvPr/>
            </p:nvSpPr>
            <p:spPr>
              <a:xfrm>
                <a:off x="1192680" y="264492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759" name=""/>
            <p:cNvSpPr/>
            <p:nvPr/>
          </p:nvSpPr>
          <p:spPr>
            <a:xfrm>
              <a:off x="1866240" y="2349360"/>
              <a:ext cx="70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Vth_min, Vth_max are values for typical condit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60" name=""/>
          <p:cNvGrpSpPr/>
          <p:nvPr/>
        </p:nvGrpSpPr>
        <p:grpSpPr>
          <a:xfrm>
            <a:off x="446040" y="4613400"/>
            <a:ext cx="9265320" cy="1191240"/>
            <a:chOff x="446040" y="4613400"/>
            <a:chExt cx="9265320" cy="1191240"/>
          </a:xfrm>
        </p:grpSpPr>
        <p:grpSp>
          <p:nvGrpSpPr>
            <p:cNvPr id="1761" name=""/>
            <p:cNvGrpSpPr/>
            <p:nvPr/>
          </p:nvGrpSpPr>
          <p:grpSpPr>
            <a:xfrm>
              <a:off x="446040" y="4737240"/>
              <a:ext cx="1066680" cy="280800"/>
              <a:chOff x="446040" y="4737240"/>
              <a:chExt cx="1066680" cy="280800"/>
            </a:xfrm>
          </p:grpSpPr>
          <p:sp>
            <p:nvSpPr>
              <p:cNvPr id="1762" name=""/>
              <p:cNvSpPr/>
              <p:nvPr/>
            </p:nvSpPr>
            <p:spPr>
              <a:xfrm>
                <a:off x="659520" y="49719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66440" y="493092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979920" y="4930920"/>
                <a:ext cx="21312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46040" y="49719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872640" y="49719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1085760" y="497196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1299960" y="49719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819000" y="480672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087200" y="48898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59520" y="488988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873360" y="48898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53680" y="493092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979920" y="484812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66440" y="484812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776" name=""/>
              <p:cNvGrpSpPr/>
              <p:nvPr/>
            </p:nvGrpSpPr>
            <p:grpSpPr>
              <a:xfrm>
                <a:off x="813600" y="4847760"/>
                <a:ext cx="330480" cy="170280"/>
                <a:chOff x="813600" y="4847760"/>
                <a:chExt cx="330480" cy="170280"/>
              </a:xfrm>
            </p:grpSpPr>
            <p:sp>
              <p:nvSpPr>
                <p:cNvPr id="1777" name=""/>
                <p:cNvSpPr/>
                <p:nvPr/>
              </p:nvSpPr>
              <p:spPr>
                <a:xfrm>
                  <a:off x="873000" y="48477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866880" y="48618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861480" y="48754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856080" y="48895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851040" y="49035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845640" y="49179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840240" y="49320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834840" y="49464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829440" y="49608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824400" y="49755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819000" y="49896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813600" y="50040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9" name=""/>
              <p:cNvSpPr/>
              <p:nvPr/>
            </p:nvSpPr>
            <p:spPr>
              <a:xfrm rot="16200000">
                <a:off x="944280" y="466020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790" name=""/>
              <p:cNvGrpSpPr/>
              <p:nvPr/>
            </p:nvGrpSpPr>
            <p:grpSpPr>
              <a:xfrm>
                <a:off x="945000" y="4821120"/>
                <a:ext cx="68040" cy="26280"/>
                <a:chOff x="945000" y="4821120"/>
                <a:chExt cx="68040" cy="26280"/>
              </a:xfrm>
            </p:grpSpPr>
            <p:grpSp>
              <p:nvGrpSpPr>
                <p:cNvPr id="1791" name=""/>
                <p:cNvGrpSpPr/>
                <p:nvPr/>
              </p:nvGrpSpPr>
              <p:grpSpPr>
                <a:xfrm>
                  <a:off x="945000" y="4821120"/>
                  <a:ext cx="68040" cy="26280"/>
                  <a:chOff x="945000" y="4821120"/>
                  <a:chExt cx="68040" cy="26280"/>
                </a:xfrm>
              </p:grpSpPr>
              <p:sp>
                <p:nvSpPr>
                  <p:cNvPr id="1792" name=""/>
                  <p:cNvSpPr/>
                  <p:nvPr/>
                </p:nvSpPr>
                <p:spPr>
                  <a:xfrm>
                    <a:off x="945000" y="48211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"/>
                  <p:cNvSpPr/>
                  <p:nvPr/>
                </p:nvSpPr>
                <p:spPr>
                  <a:xfrm>
                    <a:off x="1013040" y="48211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>
                    <a:off x="945000" y="48211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5" name=""/>
                <p:cNvSpPr/>
                <p:nvPr/>
              </p:nvSpPr>
              <p:spPr>
                <a:xfrm>
                  <a:off x="950760" y="482256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6" name=""/>
              <p:cNvSpPr/>
              <p:nvPr/>
            </p:nvSpPr>
            <p:spPr>
              <a:xfrm>
                <a:off x="1192680" y="493092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797" name=""/>
            <p:cNvSpPr/>
            <p:nvPr/>
          </p:nvSpPr>
          <p:spPr>
            <a:xfrm>
              <a:off x="1866600" y="4613400"/>
              <a:ext cx="784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Vth(min/max) =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Vth </a:t>
              </a:r>
              <a:r>
                <a:rPr b="1" lang="de-DE" sz="2400" spc="-1" strike="noStrike">
                  <a:solidFill>
                    <a:srgbClr val="003366"/>
                  </a:solidFill>
                  <a:latin typeface="Arial"/>
                </a:rPr>
                <a:t>+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 ( Threshold sensitivity </a:t>
              </a:r>
              <a:r>
                <a:rPr b="1" lang="de-DE" sz="24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 change in supply voltage )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Threshold example part 1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716400" y="1376280"/>
            <a:ext cx="5648040" cy="1432080"/>
            <a:chOff x="716400" y="1376280"/>
            <a:chExt cx="5648040" cy="1432080"/>
          </a:xfrm>
        </p:grpSpPr>
        <p:sp>
          <p:nvSpPr>
            <p:cNvPr id="1800" name=""/>
            <p:cNvSpPr/>
            <p:nvPr/>
          </p:nvSpPr>
          <p:spPr>
            <a:xfrm>
              <a:off x="3241800" y="1376280"/>
              <a:ext cx="3097080" cy="700200"/>
            </a:xfrm>
            <a:prstGeom prst="ellipse">
              <a:avLst/>
            </a:prstGeom>
            <a:solidFill>
              <a:srgbClr val="99f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267000" y="2108160"/>
              <a:ext cx="3097440" cy="70020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16400" y="1500120"/>
              <a:ext cx="5379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Vcc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3.3V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3.0V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3.6V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Vth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1.65V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1.5V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1.8V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803" name=""/>
          <p:cNvGrpSpPr/>
          <p:nvPr/>
        </p:nvGrpSpPr>
        <p:grpSpPr>
          <a:xfrm>
            <a:off x="-14040" y="2867040"/>
            <a:ext cx="9583560" cy="2024280"/>
            <a:chOff x="-14040" y="2867040"/>
            <a:chExt cx="9583560" cy="2024280"/>
          </a:xfrm>
        </p:grpSpPr>
        <p:sp>
          <p:nvSpPr>
            <p:cNvPr id="1804" name=""/>
            <p:cNvSpPr/>
            <p:nvPr/>
          </p:nvSpPr>
          <p:spPr>
            <a:xfrm>
              <a:off x="4876920" y="3589200"/>
              <a:ext cx="1874880" cy="700200"/>
            </a:xfrm>
            <a:prstGeom prst="ellipse">
              <a:avLst/>
            </a:prstGeom>
            <a:solidFill>
              <a:srgbClr val="99f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530680" y="2889360"/>
              <a:ext cx="4011840" cy="699840"/>
            </a:xfrm>
            <a:prstGeom prst="ellipse">
              <a:avLst/>
            </a:prstGeom>
            <a:solidFill>
              <a:srgbClr val="99f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627280" y="3603600"/>
              <a:ext cx="2023920" cy="70020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606760" y="2867040"/>
              <a:ext cx="2733480" cy="70020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-14040" y="2968560"/>
              <a:ext cx="9583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Threshold sense = ( VthMAX-VthMIN ) / ( VsupplyMAX-VsupplyMIN )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      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= ( 1.8V – 1.5V ) / ( 3.6V –3.0V ) = ( 0.3V ) / ( 0.6V )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     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      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=  0.5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809" name=""/>
          <p:cNvSpPr/>
          <p:nvPr/>
        </p:nvSpPr>
        <p:spPr>
          <a:xfrm>
            <a:off x="7200" y="5270400"/>
            <a:ext cx="638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Arial"/>
              </a:rPr>
              <a:t>Vth and threshold sense must com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Arial"/>
              </a:rPr>
              <a:t>from the IC-Manufactur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10" name=""/>
          <p:cNvGrpSpPr/>
          <p:nvPr/>
        </p:nvGrpSpPr>
        <p:grpSpPr>
          <a:xfrm>
            <a:off x="8418960" y="1130400"/>
            <a:ext cx="1223280" cy="718560"/>
            <a:chOff x="8418960" y="1130400"/>
            <a:chExt cx="1223280" cy="718560"/>
          </a:xfrm>
        </p:grpSpPr>
        <p:sp>
          <p:nvSpPr>
            <p:cNvPr id="1811" name=""/>
            <p:cNvSpPr/>
            <p:nvPr/>
          </p:nvSpPr>
          <p:spPr>
            <a:xfrm>
              <a:off x="8418960" y="1130400"/>
              <a:ext cx="122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3366"/>
                  </a:solidFill>
                  <a:latin typeface="Monotype Corsiva"/>
                </a:rPr>
                <a:t>parameter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812" name=""/>
            <p:cNvGrpSpPr/>
            <p:nvPr/>
          </p:nvGrpSpPr>
          <p:grpSpPr>
            <a:xfrm>
              <a:off x="8520120" y="1330560"/>
              <a:ext cx="514800" cy="518400"/>
              <a:chOff x="8520120" y="1330560"/>
              <a:chExt cx="514800" cy="518400"/>
            </a:xfrm>
          </p:grpSpPr>
          <p:sp>
            <p:nvSpPr>
              <p:cNvPr id="1813" name=""/>
              <p:cNvSpPr/>
              <p:nvPr/>
            </p:nvSpPr>
            <p:spPr>
              <a:xfrm>
                <a:off x="8623080" y="176400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8674560" y="168804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8777880" y="1688040"/>
                <a:ext cx="10296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8520120" y="176400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8726040" y="1764000"/>
                <a:ext cx="102960" cy="75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8829000" y="1764000"/>
                <a:ext cx="10296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8932320" y="176400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8700120" y="1459440"/>
                <a:ext cx="155520" cy="75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8829360" y="1612080"/>
                <a:ext cx="102600" cy="759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8623080" y="1612080"/>
                <a:ext cx="102960" cy="759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8726400" y="1612080"/>
                <a:ext cx="102960" cy="75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8571960" y="168804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8777880" y="153612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8674560" y="153612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827" name=""/>
              <p:cNvGrpSpPr/>
              <p:nvPr/>
            </p:nvGrpSpPr>
            <p:grpSpPr>
              <a:xfrm>
                <a:off x="8697600" y="1535040"/>
                <a:ext cx="159480" cy="313920"/>
                <a:chOff x="8697600" y="1535040"/>
                <a:chExt cx="159480" cy="313920"/>
              </a:xfrm>
            </p:grpSpPr>
            <p:sp>
              <p:nvSpPr>
                <p:cNvPr id="1828" name=""/>
                <p:cNvSpPr/>
                <p:nvPr/>
              </p:nvSpPr>
              <p:spPr>
                <a:xfrm>
                  <a:off x="8726040" y="1535040"/>
                  <a:ext cx="10296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8723160" y="1560960"/>
                  <a:ext cx="1080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8720640" y="1586160"/>
                  <a:ext cx="1130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8718120" y="1612080"/>
                  <a:ext cx="1184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8715600" y="1638000"/>
                  <a:ext cx="12348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8713080" y="1664280"/>
                  <a:ext cx="12852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8710200" y="1690560"/>
                  <a:ext cx="13392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8707680" y="1716480"/>
                  <a:ext cx="13896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8705160" y="1743120"/>
                  <a:ext cx="1440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8702640" y="1770840"/>
                  <a:ext cx="1494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8700120" y="1796760"/>
                  <a:ext cx="1544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8697600" y="1822680"/>
                  <a:ext cx="15948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0" name=""/>
              <p:cNvSpPr/>
              <p:nvPr/>
            </p:nvSpPr>
            <p:spPr>
              <a:xfrm rot="16200000">
                <a:off x="8712720" y="1341000"/>
                <a:ext cx="128880" cy="107640"/>
              </a:xfrm>
              <a:prstGeom prst="rect">
                <a:avLst/>
              </a:prstGeom>
              <a:solidFill>
                <a:srgbClr val="00ff99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841" name=""/>
              <p:cNvGrpSpPr/>
              <p:nvPr/>
            </p:nvGrpSpPr>
            <p:grpSpPr>
              <a:xfrm>
                <a:off x="8760960" y="1486080"/>
                <a:ext cx="32760" cy="48960"/>
                <a:chOff x="8760960" y="1486080"/>
                <a:chExt cx="32760" cy="48960"/>
              </a:xfrm>
            </p:grpSpPr>
            <p:grpSp>
              <p:nvGrpSpPr>
                <p:cNvPr id="1842" name=""/>
                <p:cNvGrpSpPr/>
                <p:nvPr/>
              </p:nvGrpSpPr>
              <p:grpSpPr>
                <a:xfrm>
                  <a:off x="8760960" y="1486080"/>
                  <a:ext cx="32760" cy="48960"/>
                  <a:chOff x="8760960" y="1486080"/>
                  <a:chExt cx="32760" cy="48960"/>
                </a:xfrm>
              </p:grpSpPr>
              <p:sp>
                <p:nvSpPr>
                  <p:cNvPr id="1843" name=""/>
                  <p:cNvSpPr/>
                  <p:nvPr/>
                </p:nvSpPr>
                <p:spPr>
                  <a:xfrm>
                    <a:off x="8760960" y="1486080"/>
                    <a:ext cx="0" cy="489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4" name=""/>
                  <p:cNvSpPr/>
                  <p:nvPr/>
                </p:nvSpPr>
                <p:spPr>
                  <a:xfrm>
                    <a:off x="8793720" y="1486080"/>
                    <a:ext cx="0" cy="489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5" name=""/>
                  <p:cNvSpPr/>
                  <p:nvPr/>
                </p:nvSpPr>
                <p:spPr>
                  <a:xfrm>
                    <a:off x="8760960" y="1486080"/>
                    <a:ext cx="327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6" name=""/>
                <p:cNvSpPr/>
                <p:nvPr/>
              </p:nvSpPr>
              <p:spPr>
                <a:xfrm>
                  <a:off x="8763840" y="1488960"/>
                  <a:ext cx="27720" cy="4608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7" name=""/>
              <p:cNvSpPr/>
              <p:nvPr/>
            </p:nvSpPr>
            <p:spPr>
              <a:xfrm>
                <a:off x="8880480" y="168804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"/>
          <p:cNvSpPr/>
          <p:nvPr/>
        </p:nvSpPr>
        <p:spPr>
          <a:xfrm>
            <a:off x="7448400" y="1365120"/>
            <a:ext cx="885960" cy="2538720"/>
          </a:xfrm>
          <a:prstGeom prst="ellipse">
            <a:avLst/>
          </a:prstGeom>
          <a:solidFill>
            <a:srgbClr val="c85a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730760" y="1352520"/>
            <a:ext cx="885960" cy="2538360"/>
          </a:xfrm>
          <a:prstGeom prst="ellipse">
            <a:avLst/>
          </a:prstGeom>
          <a:solidFill>
            <a:srgbClr val="00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366"/>
                </a:solidFill>
                <a:latin typeface="Arial"/>
              </a:rPr>
              <a:t>Threshold example part 2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51" name=""/>
          <p:cNvGrpSpPr/>
          <p:nvPr/>
        </p:nvGrpSpPr>
        <p:grpSpPr>
          <a:xfrm>
            <a:off x="8418960" y="5742000"/>
            <a:ext cx="1223280" cy="718920"/>
            <a:chOff x="8418960" y="5742000"/>
            <a:chExt cx="1223280" cy="718920"/>
          </a:xfrm>
        </p:grpSpPr>
        <p:sp>
          <p:nvSpPr>
            <p:cNvPr id="1852" name=""/>
            <p:cNvSpPr/>
            <p:nvPr/>
          </p:nvSpPr>
          <p:spPr>
            <a:xfrm>
              <a:off x="8418960" y="5742000"/>
              <a:ext cx="122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3366"/>
                  </a:solidFill>
                  <a:latin typeface="Monotype Corsiva"/>
                </a:rPr>
                <a:t>parameter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853" name=""/>
            <p:cNvGrpSpPr/>
            <p:nvPr/>
          </p:nvGrpSpPr>
          <p:grpSpPr>
            <a:xfrm>
              <a:off x="8520120" y="5942520"/>
              <a:ext cx="514800" cy="518400"/>
              <a:chOff x="8520120" y="5942520"/>
              <a:chExt cx="514800" cy="518400"/>
            </a:xfrm>
          </p:grpSpPr>
          <p:sp>
            <p:nvSpPr>
              <p:cNvPr id="1854" name=""/>
              <p:cNvSpPr/>
              <p:nvPr/>
            </p:nvSpPr>
            <p:spPr>
              <a:xfrm>
                <a:off x="8623080" y="63759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8674560" y="63003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8777880" y="6300360"/>
                <a:ext cx="10296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8520120" y="63759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8726040" y="6375960"/>
                <a:ext cx="102960" cy="75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8829000" y="6375960"/>
                <a:ext cx="10296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8932320" y="63759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8700120" y="6071400"/>
                <a:ext cx="155520" cy="75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8829360" y="6224040"/>
                <a:ext cx="102600" cy="759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8623080" y="6224040"/>
                <a:ext cx="102960" cy="759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8726400" y="6224040"/>
                <a:ext cx="102960" cy="75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8571960" y="63003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8777880" y="614808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8674560" y="614808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868" name=""/>
              <p:cNvGrpSpPr/>
              <p:nvPr/>
            </p:nvGrpSpPr>
            <p:grpSpPr>
              <a:xfrm>
                <a:off x="8697600" y="6147000"/>
                <a:ext cx="159480" cy="313920"/>
                <a:chOff x="8697600" y="6147000"/>
                <a:chExt cx="159480" cy="313920"/>
              </a:xfrm>
            </p:grpSpPr>
            <p:sp>
              <p:nvSpPr>
                <p:cNvPr id="1869" name=""/>
                <p:cNvSpPr/>
                <p:nvPr/>
              </p:nvSpPr>
              <p:spPr>
                <a:xfrm>
                  <a:off x="8726040" y="6147000"/>
                  <a:ext cx="10296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8723160" y="6172920"/>
                  <a:ext cx="1080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8720640" y="6198120"/>
                  <a:ext cx="1130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8718120" y="6224040"/>
                  <a:ext cx="1184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8715600" y="6249960"/>
                  <a:ext cx="12348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8713080" y="6276240"/>
                  <a:ext cx="12852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8710200" y="6302520"/>
                  <a:ext cx="13392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8707680" y="6328440"/>
                  <a:ext cx="13896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8705160" y="6355080"/>
                  <a:ext cx="1440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8702640" y="6382800"/>
                  <a:ext cx="1494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8700120" y="6408720"/>
                  <a:ext cx="1544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8697600" y="6434640"/>
                  <a:ext cx="15948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1" name=""/>
              <p:cNvSpPr/>
              <p:nvPr/>
            </p:nvSpPr>
            <p:spPr>
              <a:xfrm rot="16200000">
                <a:off x="8712720" y="5952960"/>
                <a:ext cx="128880" cy="107640"/>
              </a:xfrm>
              <a:prstGeom prst="rect">
                <a:avLst/>
              </a:prstGeom>
              <a:solidFill>
                <a:srgbClr val="00ff99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882" name=""/>
              <p:cNvGrpSpPr/>
              <p:nvPr/>
            </p:nvGrpSpPr>
            <p:grpSpPr>
              <a:xfrm>
                <a:off x="8760960" y="6098040"/>
                <a:ext cx="32760" cy="48960"/>
                <a:chOff x="8760960" y="6098040"/>
                <a:chExt cx="32760" cy="48960"/>
              </a:xfrm>
            </p:grpSpPr>
            <p:grpSp>
              <p:nvGrpSpPr>
                <p:cNvPr id="1883" name=""/>
                <p:cNvGrpSpPr/>
                <p:nvPr/>
              </p:nvGrpSpPr>
              <p:grpSpPr>
                <a:xfrm>
                  <a:off x="8760960" y="6098040"/>
                  <a:ext cx="32760" cy="48960"/>
                  <a:chOff x="8760960" y="6098040"/>
                  <a:chExt cx="32760" cy="48960"/>
                </a:xfrm>
              </p:grpSpPr>
              <p:sp>
                <p:nvSpPr>
                  <p:cNvPr id="1884" name=""/>
                  <p:cNvSpPr/>
                  <p:nvPr/>
                </p:nvSpPr>
                <p:spPr>
                  <a:xfrm>
                    <a:off x="8760960" y="6098040"/>
                    <a:ext cx="0" cy="489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>
                    <a:off x="8793720" y="6098040"/>
                    <a:ext cx="0" cy="489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6" name=""/>
                  <p:cNvSpPr/>
                  <p:nvPr/>
                </p:nvSpPr>
                <p:spPr>
                  <a:xfrm>
                    <a:off x="8760960" y="6098040"/>
                    <a:ext cx="327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87" name=""/>
                <p:cNvSpPr/>
                <p:nvPr/>
              </p:nvSpPr>
              <p:spPr>
                <a:xfrm>
                  <a:off x="8763840" y="6100920"/>
                  <a:ext cx="27720" cy="4608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8" name=""/>
              <p:cNvSpPr/>
              <p:nvPr/>
            </p:nvSpPr>
            <p:spPr>
              <a:xfrm>
                <a:off x="8880480" y="63003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9" name=""/>
          <p:cNvSpPr/>
          <p:nvPr/>
        </p:nvSpPr>
        <p:spPr>
          <a:xfrm>
            <a:off x="274680" y="1290600"/>
            <a:ext cx="795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Typ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Min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Vth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1.5v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VthMIN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xxx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VthMAX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yy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Vthmin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1.45v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VthMINmin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xx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VthMAXmin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y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Vthmax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1.53v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VthMINmax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VthMAXmax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75400" y="3997440"/>
            <a:ext cx="82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Threshold sensitivity 0.4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Ref. Supply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Power clamp refere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Powerclamp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3.3V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3.15V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3.45V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Threshold example part 3 calculation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1555920" y="1450800"/>
            <a:ext cx="9360" cy="249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2333520" y="1434960"/>
            <a:ext cx="11160" cy="1586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3112920" y="1434960"/>
            <a:ext cx="9720" cy="1586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3112920" y="3565440"/>
            <a:ext cx="9720" cy="265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3112920" y="4094280"/>
            <a:ext cx="9720" cy="264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112920" y="4622760"/>
            <a:ext cx="9720" cy="265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112920" y="5151600"/>
            <a:ext cx="9720" cy="264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112920" y="5680080"/>
            <a:ext cx="9720" cy="264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555920" y="3301920"/>
            <a:ext cx="9360" cy="3187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333520" y="3301920"/>
            <a:ext cx="11160" cy="3187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112920" y="6208560"/>
            <a:ext cx="9720" cy="28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903" name=""/>
          <p:cNvGrpSpPr/>
          <p:nvPr/>
        </p:nvGrpSpPr>
        <p:grpSpPr>
          <a:xfrm>
            <a:off x="8814240" y="5511960"/>
            <a:ext cx="1223280" cy="718560"/>
            <a:chOff x="8814240" y="5511960"/>
            <a:chExt cx="1223280" cy="718560"/>
          </a:xfrm>
        </p:grpSpPr>
        <p:sp>
          <p:nvSpPr>
            <p:cNvPr id="1904" name=""/>
            <p:cNvSpPr/>
            <p:nvPr/>
          </p:nvSpPr>
          <p:spPr>
            <a:xfrm>
              <a:off x="8814240" y="5511960"/>
              <a:ext cx="122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3366"/>
                  </a:solidFill>
                  <a:latin typeface="Monotype Corsiva"/>
                </a:rPr>
                <a:t>parameter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905" name=""/>
            <p:cNvGrpSpPr/>
            <p:nvPr/>
          </p:nvGrpSpPr>
          <p:grpSpPr>
            <a:xfrm>
              <a:off x="8915400" y="5712120"/>
              <a:ext cx="514800" cy="518400"/>
              <a:chOff x="8915400" y="5712120"/>
              <a:chExt cx="514800" cy="518400"/>
            </a:xfrm>
          </p:grpSpPr>
          <p:sp>
            <p:nvSpPr>
              <p:cNvPr id="1906" name=""/>
              <p:cNvSpPr/>
              <p:nvPr/>
            </p:nvSpPr>
            <p:spPr>
              <a:xfrm>
                <a:off x="9018360" y="61455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9069840" y="606960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9173160" y="6069600"/>
                <a:ext cx="10296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8915400" y="61455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9121320" y="6145560"/>
                <a:ext cx="102960" cy="75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9224280" y="6145560"/>
                <a:ext cx="10296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9327600" y="61455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9095400" y="5841000"/>
                <a:ext cx="155520" cy="75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9224640" y="5993640"/>
                <a:ext cx="102600" cy="759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9018360" y="5993640"/>
                <a:ext cx="102960" cy="759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9121680" y="5993640"/>
                <a:ext cx="102960" cy="75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8967240" y="606960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9173160" y="591768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9069840" y="591768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920" name=""/>
              <p:cNvGrpSpPr/>
              <p:nvPr/>
            </p:nvGrpSpPr>
            <p:grpSpPr>
              <a:xfrm>
                <a:off x="9092880" y="5916600"/>
                <a:ext cx="159480" cy="313920"/>
                <a:chOff x="9092880" y="5916600"/>
                <a:chExt cx="159480" cy="313920"/>
              </a:xfrm>
            </p:grpSpPr>
            <p:sp>
              <p:nvSpPr>
                <p:cNvPr id="1921" name=""/>
                <p:cNvSpPr/>
                <p:nvPr/>
              </p:nvSpPr>
              <p:spPr>
                <a:xfrm>
                  <a:off x="9121320" y="5916600"/>
                  <a:ext cx="10296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9118440" y="5942520"/>
                  <a:ext cx="1080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9115920" y="5967720"/>
                  <a:ext cx="1130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9113400" y="5993640"/>
                  <a:ext cx="1184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9110880" y="6019560"/>
                  <a:ext cx="12348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9108360" y="6045840"/>
                  <a:ext cx="12852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9105480" y="6072120"/>
                  <a:ext cx="13392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9102960" y="6098040"/>
                  <a:ext cx="13896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9100440" y="6124680"/>
                  <a:ext cx="1440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9097920" y="6152400"/>
                  <a:ext cx="1494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9095400" y="6178320"/>
                  <a:ext cx="1544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9092880" y="6204240"/>
                  <a:ext cx="15948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3" name=""/>
              <p:cNvSpPr/>
              <p:nvPr/>
            </p:nvSpPr>
            <p:spPr>
              <a:xfrm rot="16200000">
                <a:off x="9108000" y="5722560"/>
                <a:ext cx="128880" cy="107640"/>
              </a:xfrm>
              <a:prstGeom prst="rect">
                <a:avLst/>
              </a:prstGeom>
              <a:solidFill>
                <a:srgbClr val="00ff99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934" name=""/>
              <p:cNvGrpSpPr/>
              <p:nvPr/>
            </p:nvGrpSpPr>
            <p:grpSpPr>
              <a:xfrm>
                <a:off x="9156240" y="5867640"/>
                <a:ext cx="32760" cy="48960"/>
                <a:chOff x="9156240" y="5867640"/>
                <a:chExt cx="32760" cy="48960"/>
              </a:xfrm>
            </p:grpSpPr>
            <p:grpSp>
              <p:nvGrpSpPr>
                <p:cNvPr id="1935" name=""/>
                <p:cNvGrpSpPr/>
                <p:nvPr/>
              </p:nvGrpSpPr>
              <p:grpSpPr>
                <a:xfrm>
                  <a:off x="9156240" y="5867640"/>
                  <a:ext cx="32760" cy="48960"/>
                  <a:chOff x="9156240" y="5867640"/>
                  <a:chExt cx="32760" cy="48960"/>
                </a:xfrm>
              </p:grpSpPr>
              <p:sp>
                <p:nvSpPr>
                  <p:cNvPr id="1936" name=""/>
                  <p:cNvSpPr/>
                  <p:nvPr/>
                </p:nvSpPr>
                <p:spPr>
                  <a:xfrm>
                    <a:off x="9156240" y="5867640"/>
                    <a:ext cx="0" cy="489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>
                    <a:off x="9189000" y="5867640"/>
                    <a:ext cx="0" cy="489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>
                    <a:off x="9156240" y="5867640"/>
                    <a:ext cx="327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9" name=""/>
                <p:cNvSpPr/>
                <p:nvPr/>
              </p:nvSpPr>
              <p:spPr>
                <a:xfrm>
                  <a:off x="9159120" y="5870520"/>
                  <a:ext cx="27720" cy="4608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0" name=""/>
              <p:cNvSpPr/>
              <p:nvPr/>
            </p:nvSpPr>
            <p:spPr>
              <a:xfrm>
                <a:off x="9275760" y="606960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1" name=""/>
          <p:cNvGrpSpPr/>
          <p:nvPr/>
        </p:nvGrpSpPr>
        <p:grpSpPr>
          <a:xfrm>
            <a:off x="5048280" y="1198440"/>
            <a:ext cx="4857480" cy="4692240"/>
            <a:chOff x="5048280" y="1198440"/>
            <a:chExt cx="4857480" cy="4692240"/>
          </a:xfrm>
        </p:grpSpPr>
        <p:sp>
          <p:nvSpPr>
            <p:cNvPr id="1942" name=""/>
            <p:cNvSpPr/>
            <p:nvPr/>
          </p:nvSpPr>
          <p:spPr>
            <a:xfrm>
              <a:off x="5048280" y="1198440"/>
              <a:ext cx="4847040" cy="467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077080" y="1212480"/>
              <a:ext cx="24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yp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690240" y="121248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8302680" y="1212480"/>
              <a:ext cx="33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077800" y="1458720"/>
              <a:ext cx="26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174720" y="14587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689520" y="145872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I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748640" y="145872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,3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8303040" y="145872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AX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9359280" y="145872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,6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077080" y="1703160"/>
              <a:ext cx="55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i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135120" y="170316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,4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689880" y="1703160"/>
              <a:ext cx="88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INmi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7787160" y="17031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,3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303040" y="1703160"/>
              <a:ext cx="94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AXmi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9399960" y="17031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,6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076720" y="1949040"/>
              <a:ext cx="60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ax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135120" y="194904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,53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688440" y="1949040"/>
              <a:ext cx="93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INmax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748640" y="194904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,38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8301960" y="1949040"/>
              <a:ext cx="99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AXmax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9359280" y="194904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,68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073840" y="2195280"/>
              <a:ext cx="98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res sens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226920" y="219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075280" y="2439720"/>
              <a:ext cx="92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f. Supply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876640" y="2439720"/>
              <a:ext cx="183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clamp referenc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076720" y="2685600"/>
              <a:ext cx="98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clamp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457680" y="26856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,3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7192440" y="2685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,1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7998840" y="2685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,4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075640" y="2930040"/>
              <a:ext cx="83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INtyp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878080" y="2930040"/>
              <a:ext cx="91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Vthtyp + 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990840" y="293004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*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7490520" y="2930040"/>
              <a:ext cx="116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 3.15V -3.3V 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882040" y="317628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35V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076360" y="3422160"/>
              <a:ext cx="89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AXtyp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878080" y="3422160"/>
              <a:ext cx="91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Vthtyp + 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990840" y="342216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*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7490520" y="3422160"/>
              <a:ext cx="116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3.45V - 3.3V 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882040" y="366660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65V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077080" y="3912840"/>
              <a:ext cx="88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INmi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879520" y="3912840"/>
              <a:ext cx="96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Vthmin + 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990840" y="391284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*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490520" y="3912840"/>
              <a:ext cx="116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 3.15V -3.3V 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882040" y="415908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30V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075640" y="4403520"/>
              <a:ext cx="93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INmax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878440" y="4403520"/>
              <a:ext cx="101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Vthmax + 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990840" y="440352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*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490520" y="4403520"/>
              <a:ext cx="116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3.15V - 3.3V 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882040" y="464940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38V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076720" y="4893840"/>
              <a:ext cx="94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AXmi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879520" y="4893840"/>
              <a:ext cx="96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Vthmin + 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990840" y="489384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*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7490520" y="4893840"/>
              <a:ext cx="116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 3.45V -3.3V 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882040" y="514008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60V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076000" y="5385960"/>
              <a:ext cx="94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axmax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878440" y="5385960"/>
              <a:ext cx="101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Vthmax + 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990840" y="538596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*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490520" y="5385960"/>
              <a:ext cx="116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3.45V - 3.3V 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882040" y="563040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68V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048280" y="1198440"/>
              <a:ext cx="10800" cy="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466400" y="1198440"/>
              <a:ext cx="10800" cy="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8273520" y="1198440"/>
              <a:ext cx="8640" cy="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9079200" y="1198440"/>
              <a:ext cx="10440" cy="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9884520" y="1198440"/>
              <a:ext cx="10800" cy="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048280" y="5876640"/>
              <a:ext cx="180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048280" y="5876640"/>
              <a:ext cx="1080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466400" y="5876640"/>
              <a:ext cx="180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466400" y="5876640"/>
              <a:ext cx="1080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8273520" y="5876640"/>
              <a:ext cx="144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8273520" y="5876640"/>
              <a:ext cx="864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9079200" y="5876640"/>
              <a:ext cx="144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9079200" y="5876640"/>
              <a:ext cx="1044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9884520" y="5876640"/>
              <a:ext cx="180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9884520" y="5876640"/>
              <a:ext cx="1080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853600" y="5876640"/>
              <a:ext cx="180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853600" y="5876640"/>
              <a:ext cx="1080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660720" y="5876640"/>
              <a:ext cx="144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660720" y="5876640"/>
              <a:ext cx="864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9895320" y="119844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9895320" y="1198440"/>
              <a:ext cx="1044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9895320" y="1444320"/>
              <a:ext cx="144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9895320" y="1444320"/>
              <a:ext cx="1044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9895320" y="1688760"/>
              <a:ext cx="144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9895320" y="1688760"/>
              <a:ext cx="1044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9895320" y="193464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9895320" y="1934640"/>
              <a:ext cx="1044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9895320" y="2180880"/>
              <a:ext cx="144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9895320" y="2180880"/>
              <a:ext cx="1044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9895320" y="242532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9895320" y="2425320"/>
              <a:ext cx="1044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9895320" y="2671560"/>
              <a:ext cx="144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9895320" y="2671560"/>
              <a:ext cx="10440" cy="13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9895320" y="2916000"/>
              <a:ext cx="144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9895320" y="2916000"/>
              <a:ext cx="10440" cy="13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9895320" y="31618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9895320" y="3161880"/>
              <a:ext cx="1044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9895320" y="3408120"/>
              <a:ext cx="144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9895320" y="3408120"/>
              <a:ext cx="10440" cy="13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9895320" y="3652560"/>
              <a:ext cx="144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9895320" y="3652560"/>
              <a:ext cx="10440" cy="13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9895320" y="389844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9895320" y="3898440"/>
              <a:ext cx="1044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9895320" y="4144680"/>
              <a:ext cx="144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9895320" y="4144680"/>
              <a:ext cx="1044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9895320" y="4389120"/>
              <a:ext cx="144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9895320" y="4389120"/>
              <a:ext cx="1044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9895320" y="46350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9895320" y="4635000"/>
              <a:ext cx="1044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9895320" y="4879800"/>
              <a:ext cx="144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9895320" y="4879800"/>
              <a:ext cx="10440" cy="13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9895320" y="5125680"/>
              <a:ext cx="144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9895320" y="5125680"/>
              <a:ext cx="1044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9895320" y="5371920"/>
              <a:ext cx="144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9895320" y="5371920"/>
              <a:ext cx="10440" cy="13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9895320" y="5616360"/>
              <a:ext cx="144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9895320" y="5616360"/>
              <a:ext cx="10440" cy="13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9895320" y="586224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9895320" y="5862240"/>
              <a:ext cx="1044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061" name=""/>
          <p:cNvSpPr/>
          <p:nvPr/>
        </p:nvSpPr>
        <p:spPr>
          <a:xfrm>
            <a:off x="9099720" y="1285920"/>
            <a:ext cx="806400" cy="10764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8150400" y="1144440"/>
            <a:ext cx="496800" cy="34956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5746680" y="1322280"/>
            <a:ext cx="806400" cy="1076400"/>
          </a:xfrm>
          <a:prstGeom prst="ellipse">
            <a:avLst/>
          </a:prstGeom>
          <a:solidFill>
            <a:srgbClr val="33cc33">
              <a:alpha val="50000"/>
            </a:srgbClr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7453440" y="1266840"/>
            <a:ext cx="806400" cy="1076400"/>
          </a:xfrm>
          <a:prstGeom prst="ellipse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6485040" y="1138320"/>
            <a:ext cx="496800" cy="349200"/>
          </a:xfrm>
          <a:prstGeom prst="ellipse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066" name=""/>
          <p:cNvGrpSpPr/>
          <p:nvPr/>
        </p:nvGrpSpPr>
        <p:grpSpPr>
          <a:xfrm>
            <a:off x="0" y="1224000"/>
            <a:ext cx="5038200" cy="4677840"/>
            <a:chOff x="0" y="1224000"/>
            <a:chExt cx="5038200" cy="4677840"/>
          </a:xfrm>
        </p:grpSpPr>
        <p:sp>
          <p:nvSpPr>
            <p:cNvPr id="2067" name=""/>
            <p:cNvSpPr/>
            <p:nvPr/>
          </p:nvSpPr>
          <p:spPr>
            <a:xfrm>
              <a:off x="0" y="1224000"/>
              <a:ext cx="5028120" cy="466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9880" y="1238400"/>
              <a:ext cx="24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yp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703160" y="123840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374640" y="1238400"/>
              <a:ext cx="33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0240" y="1482840"/>
              <a:ext cx="26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170000" y="148284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702440" y="148284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I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2726280" y="14828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,432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375720" y="148284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AX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4397400" y="14828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,567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9880" y="1727640"/>
              <a:ext cx="55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i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127520" y="172764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,4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702080" y="1727640"/>
              <a:ext cx="88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INmi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726280" y="17276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,382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375360" y="1727640"/>
              <a:ext cx="94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AXmi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397400" y="17276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,517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9880" y="1972440"/>
              <a:ext cx="60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ax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127520" y="197244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,53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701360" y="1972440"/>
              <a:ext cx="93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INmax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726280" y="19724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,462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374640" y="1972440"/>
              <a:ext cx="99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AXmax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397400" y="19724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,597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27000" y="2217240"/>
              <a:ext cx="98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res sens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127520" y="221724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,4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8440" y="2462040"/>
              <a:ext cx="92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f. Supply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861120" y="2462040"/>
              <a:ext cx="183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clamp referenc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9880" y="2706120"/>
              <a:ext cx="98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clamp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461960" y="27061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,3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225160" y="270612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,1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060360" y="270612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,4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28800" y="2950920"/>
              <a:ext cx="83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INtyp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863280" y="2950920"/>
              <a:ext cx="91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Vthtyp + 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1920960" y="2950920"/>
              <a:ext cx="46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45 *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534400" y="2950920"/>
              <a:ext cx="116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 3.15V -3.3V 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65440" y="3195720"/>
              <a:ext cx="66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4325V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8800" y="3440520"/>
              <a:ext cx="89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AXtyp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863280" y="3440520"/>
              <a:ext cx="91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Vthtyp + 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920960" y="3440520"/>
              <a:ext cx="46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45 *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534400" y="3440520"/>
              <a:ext cx="116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3.45V - 3.3V 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865440" y="3685680"/>
              <a:ext cx="66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5675V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9520" y="3929760"/>
              <a:ext cx="88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INmi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864000" y="3929760"/>
              <a:ext cx="96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Vthmin + 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1920960" y="3929760"/>
              <a:ext cx="46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45 *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2534400" y="3929760"/>
              <a:ext cx="116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 3.15V -3.3V 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65440" y="4174560"/>
              <a:ext cx="66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3925V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28800" y="4419360"/>
              <a:ext cx="93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INmax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63280" y="4419360"/>
              <a:ext cx="101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Vthmax + 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920960" y="4419360"/>
              <a:ext cx="46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45 *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534400" y="4419360"/>
              <a:ext cx="116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3.15V - 3.3V 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65440" y="4664160"/>
              <a:ext cx="66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4625V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30240" y="4908960"/>
              <a:ext cx="94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AXmi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64000" y="4908960"/>
              <a:ext cx="96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Vthmin + 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920960" y="4908960"/>
              <a:ext cx="46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45 *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534400" y="4908960"/>
              <a:ext cx="116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 3.45V -3.3V 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65440" y="5153400"/>
              <a:ext cx="66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5175V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28800" y="5398200"/>
              <a:ext cx="94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hmaxmax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863280" y="5398200"/>
              <a:ext cx="101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Vthmax + 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920960" y="5398200"/>
              <a:ext cx="46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45 *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534400" y="5398200"/>
              <a:ext cx="116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3.45V - 3.3V 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65440" y="5643000"/>
              <a:ext cx="66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5975V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0" y="1224000"/>
              <a:ext cx="10440" cy="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508480" y="1224000"/>
              <a:ext cx="10440" cy="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345120" y="1224000"/>
              <a:ext cx="10440" cy="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181400" y="1224000"/>
              <a:ext cx="10080" cy="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017320" y="1224000"/>
              <a:ext cx="10440" cy="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0" y="5887800"/>
              <a:ext cx="180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0" y="5887800"/>
              <a:ext cx="1044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508480" y="5887800"/>
              <a:ext cx="180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508480" y="5887800"/>
              <a:ext cx="1044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345120" y="5887800"/>
              <a:ext cx="180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345120" y="5887800"/>
              <a:ext cx="1044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181400" y="5887800"/>
              <a:ext cx="144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181400" y="5887800"/>
              <a:ext cx="100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017320" y="5887800"/>
              <a:ext cx="180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017320" y="5887800"/>
              <a:ext cx="1044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836280" y="5887800"/>
              <a:ext cx="180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836280" y="5887800"/>
              <a:ext cx="1044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1672560" y="5887800"/>
              <a:ext cx="144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1672560" y="5887800"/>
              <a:ext cx="100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028120" y="1224000"/>
              <a:ext cx="1440" cy="25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028120" y="1224000"/>
              <a:ext cx="10080" cy="14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028120" y="1468800"/>
              <a:ext cx="144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028120" y="1468800"/>
              <a:ext cx="100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028120" y="1713600"/>
              <a:ext cx="144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028120" y="1713600"/>
              <a:ext cx="100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028120" y="1958400"/>
              <a:ext cx="144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028120" y="1958400"/>
              <a:ext cx="100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028120" y="2202480"/>
              <a:ext cx="1440" cy="25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028120" y="2202480"/>
              <a:ext cx="10080" cy="14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028120" y="2447280"/>
              <a:ext cx="1440" cy="25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028120" y="2447280"/>
              <a:ext cx="10080" cy="14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028120" y="2692080"/>
              <a:ext cx="144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028120" y="2692080"/>
              <a:ext cx="100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028120" y="2936880"/>
              <a:ext cx="144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028120" y="2936880"/>
              <a:ext cx="100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028120" y="3181680"/>
              <a:ext cx="144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28120" y="3181680"/>
              <a:ext cx="100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028120" y="3426120"/>
              <a:ext cx="1440" cy="25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028120" y="3426120"/>
              <a:ext cx="10080" cy="14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028120" y="3670920"/>
              <a:ext cx="1440" cy="25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028120" y="3670920"/>
              <a:ext cx="10080" cy="14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028120" y="3915720"/>
              <a:ext cx="144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028120" y="3915720"/>
              <a:ext cx="100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028120" y="4160520"/>
              <a:ext cx="144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028120" y="4160520"/>
              <a:ext cx="100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028120" y="4405320"/>
              <a:ext cx="144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28120" y="4405320"/>
              <a:ext cx="100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028120" y="4649400"/>
              <a:ext cx="1440" cy="25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028120" y="4649400"/>
              <a:ext cx="10080" cy="14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028120" y="4894200"/>
              <a:ext cx="1440" cy="25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028120" y="4894200"/>
              <a:ext cx="10080" cy="14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028120" y="5139000"/>
              <a:ext cx="144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028120" y="5139000"/>
              <a:ext cx="100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028120" y="5383800"/>
              <a:ext cx="144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028120" y="5383800"/>
              <a:ext cx="100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028120" y="5628240"/>
              <a:ext cx="1440" cy="25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028120" y="5628240"/>
              <a:ext cx="10080" cy="14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028120" y="5873040"/>
              <a:ext cx="1440" cy="25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028120" y="5873040"/>
              <a:ext cx="10080" cy="14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186" name=""/>
          <p:cNvSpPr/>
          <p:nvPr/>
        </p:nvSpPr>
        <p:spPr>
          <a:xfrm>
            <a:off x="4267080" y="1317600"/>
            <a:ext cx="806400" cy="10764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298680" y="1174680"/>
            <a:ext cx="497160" cy="349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2568600" y="1282680"/>
            <a:ext cx="806400" cy="1076400"/>
          </a:xfrm>
          <a:prstGeom prst="ellipse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631880" y="1174680"/>
            <a:ext cx="496800" cy="349200"/>
          </a:xfrm>
          <a:prstGeom prst="ellipse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887400" y="1390680"/>
            <a:ext cx="806400" cy="1076400"/>
          </a:xfrm>
          <a:prstGeom prst="ellipse">
            <a:avLst/>
          </a:prstGeom>
          <a:solidFill>
            <a:srgbClr val="33cc33">
              <a:alpha val="50000"/>
            </a:srgbClr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366"/>
                </a:solidFill>
                <a:latin typeface="Arial"/>
              </a:rPr>
              <a:t>Threshold example part 4 graph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92" name=""/>
          <p:cNvGrpSpPr/>
          <p:nvPr/>
        </p:nvGrpSpPr>
        <p:grpSpPr>
          <a:xfrm>
            <a:off x="8075880" y="1170000"/>
            <a:ext cx="1223280" cy="718920"/>
            <a:chOff x="8075880" y="1170000"/>
            <a:chExt cx="1223280" cy="718920"/>
          </a:xfrm>
        </p:grpSpPr>
        <p:sp>
          <p:nvSpPr>
            <p:cNvPr id="2193" name=""/>
            <p:cNvSpPr/>
            <p:nvPr/>
          </p:nvSpPr>
          <p:spPr>
            <a:xfrm>
              <a:off x="8075880" y="1170000"/>
              <a:ext cx="122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3366"/>
                  </a:solidFill>
                  <a:latin typeface="Monotype Corsiva"/>
                </a:rPr>
                <a:t>parameter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194" name=""/>
            <p:cNvGrpSpPr/>
            <p:nvPr/>
          </p:nvGrpSpPr>
          <p:grpSpPr>
            <a:xfrm>
              <a:off x="8177040" y="1370520"/>
              <a:ext cx="514800" cy="518400"/>
              <a:chOff x="8177040" y="1370520"/>
              <a:chExt cx="514800" cy="518400"/>
            </a:xfrm>
          </p:grpSpPr>
          <p:sp>
            <p:nvSpPr>
              <p:cNvPr id="2195" name=""/>
              <p:cNvSpPr/>
              <p:nvPr/>
            </p:nvSpPr>
            <p:spPr>
              <a:xfrm>
                <a:off x="8280000" y="18039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8331480" y="17283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8434800" y="1728360"/>
                <a:ext cx="10296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8177040" y="18039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8382960" y="1803960"/>
                <a:ext cx="102960" cy="75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8485920" y="1803960"/>
                <a:ext cx="10296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8589240" y="18039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8357040" y="1499400"/>
                <a:ext cx="155520" cy="75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8486280" y="1652040"/>
                <a:ext cx="102600" cy="759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8280000" y="1652040"/>
                <a:ext cx="102960" cy="759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8383320" y="1652040"/>
                <a:ext cx="102960" cy="75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8228880" y="17283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8434800" y="157608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8331480" y="157608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209" name=""/>
              <p:cNvGrpSpPr/>
              <p:nvPr/>
            </p:nvGrpSpPr>
            <p:grpSpPr>
              <a:xfrm>
                <a:off x="8354520" y="1575000"/>
                <a:ext cx="159480" cy="313920"/>
                <a:chOff x="8354520" y="1575000"/>
                <a:chExt cx="159480" cy="313920"/>
              </a:xfrm>
            </p:grpSpPr>
            <p:sp>
              <p:nvSpPr>
                <p:cNvPr id="2210" name=""/>
                <p:cNvSpPr/>
                <p:nvPr/>
              </p:nvSpPr>
              <p:spPr>
                <a:xfrm>
                  <a:off x="8382960" y="1575000"/>
                  <a:ext cx="10296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8380080" y="1600920"/>
                  <a:ext cx="1080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8377560" y="1626120"/>
                  <a:ext cx="1130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8375040" y="1652040"/>
                  <a:ext cx="1184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8372520" y="1677960"/>
                  <a:ext cx="12348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8370000" y="1704240"/>
                  <a:ext cx="12852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8367120" y="1730520"/>
                  <a:ext cx="13392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8364600" y="1756440"/>
                  <a:ext cx="13896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8362080" y="1783080"/>
                  <a:ext cx="1440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8359560" y="1810800"/>
                  <a:ext cx="1494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8357040" y="1836720"/>
                  <a:ext cx="1544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8354520" y="1862640"/>
                  <a:ext cx="15948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2" name=""/>
              <p:cNvSpPr/>
              <p:nvPr/>
            </p:nvSpPr>
            <p:spPr>
              <a:xfrm rot="16200000">
                <a:off x="8369640" y="1380960"/>
                <a:ext cx="128880" cy="107640"/>
              </a:xfrm>
              <a:prstGeom prst="rect">
                <a:avLst/>
              </a:prstGeom>
              <a:solidFill>
                <a:srgbClr val="00ff99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223" name=""/>
              <p:cNvGrpSpPr/>
              <p:nvPr/>
            </p:nvGrpSpPr>
            <p:grpSpPr>
              <a:xfrm>
                <a:off x="8417880" y="1526040"/>
                <a:ext cx="32760" cy="48960"/>
                <a:chOff x="8417880" y="1526040"/>
                <a:chExt cx="32760" cy="48960"/>
              </a:xfrm>
            </p:grpSpPr>
            <p:grpSp>
              <p:nvGrpSpPr>
                <p:cNvPr id="2224" name=""/>
                <p:cNvGrpSpPr/>
                <p:nvPr/>
              </p:nvGrpSpPr>
              <p:grpSpPr>
                <a:xfrm>
                  <a:off x="8417880" y="1526040"/>
                  <a:ext cx="32760" cy="48960"/>
                  <a:chOff x="8417880" y="1526040"/>
                  <a:chExt cx="32760" cy="48960"/>
                </a:xfrm>
              </p:grpSpPr>
              <p:sp>
                <p:nvSpPr>
                  <p:cNvPr id="2225" name=""/>
                  <p:cNvSpPr/>
                  <p:nvPr/>
                </p:nvSpPr>
                <p:spPr>
                  <a:xfrm>
                    <a:off x="8417880" y="1526040"/>
                    <a:ext cx="0" cy="489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6" name=""/>
                  <p:cNvSpPr/>
                  <p:nvPr/>
                </p:nvSpPr>
                <p:spPr>
                  <a:xfrm>
                    <a:off x="8450640" y="1526040"/>
                    <a:ext cx="0" cy="489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>
                    <a:off x="8417880" y="1526040"/>
                    <a:ext cx="327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8" name=""/>
                <p:cNvSpPr/>
                <p:nvPr/>
              </p:nvSpPr>
              <p:spPr>
                <a:xfrm>
                  <a:off x="8420760" y="1528920"/>
                  <a:ext cx="27720" cy="4608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9" name=""/>
              <p:cNvSpPr/>
              <p:nvPr/>
            </p:nvSpPr>
            <p:spPr>
              <a:xfrm>
                <a:off x="8537400" y="17283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0" name=""/>
          <p:cNvGrpSpPr/>
          <p:nvPr/>
        </p:nvGrpSpPr>
        <p:grpSpPr>
          <a:xfrm>
            <a:off x="0" y="1238400"/>
            <a:ext cx="1854360" cy="982440"/>
            <a:chOff x="0" y="1238400"/>
            <a:chExt cx="1854360" cy="982440"/>
          </a:xfrm>
        </p:grpSpPr>
        <p:sp>
          <p:nvSpPr>
            <p:cNvPr id="2231" name=""/>
            <p:cNvSpPr/>
            <p:nvPr/>
          </p:nvSpPr>
          <p:spPr>
            <a:xfrm>
              <a:off x="0" y="1238400"/>
              <a:ext cx="1854360" cy="9824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69920" y="1352520"/>
              <a:ext cx="1619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Threshol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sensitivit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5961240" y="1735200"/>
            <a:ext cx="1800000" cy="4224240"/>
            <a:chOff x="5961240" y="1735200"/>
            <a:chExt cx="1800000" cy="4224240"/>
          </a:xfrm>
        </p:grpSpPr>
        <p:grpSp>
          <p:nvGrpSpPr>
            <p:cNvPr id="2234" name=""/>
            <p:cNvGrpSpPr/>
            <p:nvPr/>
          </p:nvGrpSpPr>
          <p:grpSpPr>
            <a:xfrm>
              <a:off x="6154560" y="3543480"/>
              <a:ext cx="257400" cy="676080"/>
              <a:chOff x="6154560" y="3543480"/>
              <a:chExt cx="257400" cy="676080"/>
            </a:xfrm>
          </p:grpSpPr>
          <p:sp>
            <p:nvSpPr>
              <p:cNvPr id="2235" name=""/>
              <p:cNvSpPr/>
              <p:nvPr/>
            </p:nvSpPr>
            <p:spPr>
              <a:xfrm>
                <a:off x="6154560" y="3886200"/>
                <a:ext cx="257400" cy="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154560" y="3543480"/>
                <a:ext cx="257400" cy="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154560" y="4219560"/>
                <a:ext cx="257400" cy="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238" name=""/>
            <p:cNvGrpSpPr/>
            <p:nvPr/>
          </p:nvGrpSpPr>
          <p:grpSpPr>
            <a:xfrm>
              <a:off x="7061040" y="3067200"/>
              <a:ext cx="258840" cy="676080"/>
              <a:chOff x="7061040" y="3067200"/>
              <a:chExt cx="258840" cy="676080"/>
            </a:xfrm>
          </p:grpSpPr>
          <p:sp>
            <p:nvSpPr>
              <p:cNvPr id="2239" name=""/>
              <p:cNvSpPr/>
              <p:nvPr/>
            </p:nvSpPr>
            <p:spPr>
              <a:xfrm>
                <a:off x="7061040" y="3409920"/>
                <a:ext cx="25884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061040" y="3067200"/>
                <a:ext cx="25884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061040" y="3743280"/>
                <a:ext cx="25884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242" name=""/>
            <p:cNvGrpSpPr/>
            <p:nvPr/>
          </p:nvGrpSpPr>
          <p:grpSpPr>
            <a:xfrm>
              <a:off x="6654960" y="4024440"/>
              <a:ext cx="257040" cy="676080"/>
              <a:chOff x="6654960" y="4024440"/>
              <a:chExt cx="257040" cy="676080"/>
            </a:xfrm>
          </p:grpSpPr>
          <p:sp>
            <p:nvSpPr>
              <p:cNvPr id="2243" name=""/>
              <p:cNvSpPr/>
              <p:nvPr/>
            </p:nvSpPr>
            <p:spPr>
              <a:xfrm>
                <a:off x="6654960" y="4367160"/>
                <a:ext cx="257040" cy="0"/>
              </a:xfrm>
              <a:prstGeom prst="line">
                <a:avLst/>
              </a:prstGeom>
              <a:ln w="7632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654960" y="4024440"/>
                <a:ext cx="257040" cy="0"/>
              </a:xfrm>
              <a:prstGeom prst="line">
                <a:avLst/>
              </a:prstGeom>
              <a:ln w="7632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6654960" y="4700520"/>
                <a:ext cx="257040" cy="0"/>
              </a:xfrm>
              <a:prstGeom prst="line">
                <a:avLst/>
              </a:prstGeom>
              <a:ln w="7632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246" name=""/>
            <p:cNvSpPr/>
            <p:nvPr/>
          </p:nvSpPr>
          <p:spPr>
            <a:xfrm>
              <a:off x="5961240" y="5959440"/>
              <a:ext cx="18000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5975280" y="2084400"/>
              <a:ext cx="0" cy="387504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248" name=""/>
            <p:cNvGrpSpPr/>
            <p:nvPr/>
          </p:nvGrpSpPr>
          <p:grpSpPr>
            <a:xfrm>
              <a:off x="6573960" y="1735200"/>
              <a:ext cx="794160" cy="633240"/>
              <a:chOff x="6573960" y="1735200"/>
              <a:chExt cx="794160" cy="633240"/>
            </a:xfrm>
          </p:grpSpPr>
          <p:sp>
            <p:nvSpPr>
              <p:cNvPr id="2249" name=""/>
              <p:cNvSpPr/>
              <p:nvPr/>
            </p:nvSpPr>
            <p:spPr>
              <a:xfrm>
                <a:off x="6573960" y="1735200"/>
                <a:ext cx="752040" cy="6332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594480" y="18828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Arial"/>
                  </a:rPr>
                  <a:t>0.45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1" name=""/>
          <p:cNvGrpSpPr/>
          <p:nvPr/>
        </p:nvGrpSpPr>
        <p:grpSpPr>
          <a:xfrm>
            <a:off x="1909800" y="1703520"/>
            <a:ext cx="1800360" cy="4268520"/>
            <a:chOff x="1909800" y="1703520"/>
            <a:chExt cx="1800360" cy="4268520"/>
          </a:xfrm>
        </p:grpSpPr>
        <p:grpSp>
          <p:nvGrpSpPr>
            <p:cNvPr id="2252" name=""/>
            <p:cNvGrpSpPr/>
            <p:nvPr/>
          </p:nvGrpSpPr>
          <p:grpSpPr>
            <a:xfrm>
              <a:off x="2103480" y="3556080"/>
              <a:ext cx="257040" cy="676080"/>
              <a:chOff x="2103480" y="3556080"/>
              <a:chExt cx="257040" cy="676080"/>
            </a:xfrm>
          </p:grpSpPr>
          <p:sp>
            <p:nvSpPr>
              <p:cNvPr id="2253" name=""/>
              <p:cNvSpPr/>
              <p:nvPr/>
            </p:nvSpPr>
            <p:spPr>
              <a:xfrm>
                <a:off x="2103480" y="3898800"/>
                <a:ext cx="257040" cy="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2103480" y="3556080"/>
                <a:ext cx="257040" cy="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2103480" y="4232160"/>
                <a:ext cx="257040" cy="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256" name=""/>
            <p:cNvGrpSpPr/>
            <p:nvPr/>
          </p:nvGrpSpPr>
          <p:grpSpPr>
            <a:xfrm>
              <a:off x="3021120" y="2716200"/>
              <a:ext cx="257040" cy="676080"/>
              <a:chOff x="3021120" y="2716200"/>
              <a:chExt cx="257040" cy="676080"/>
            </a:xfrm>
          </p:grpSpPr>
          <p:sp>
            <p:nvSpPr>
              <p:cNvPr id="2257" name=""/>
              <p:cNvSpPr/>
              <p:nvPr/>
            </p:nvSpPr>
            <p:spPr>
              <a:xfrm>
                <a:off x="3021120" y="3058920"/>
                <a:ext cx="25704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3021120" y="2716200"/>
                <a:ext cx="25704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3021120" y="3392280"/>
                <a:ext cx="25704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260" name=""/>
            <p:cNvGrpSpPr/>
            <p:nvPr/>
          </p:nvGrpSpPr>
          <p:grpSpPr>
            <a:xfrm>
              <a:off x="2604960" y="4479840"/>
              <a:ext cx="257400" cy="676080"/>
              <a:chOff x="2604960" y="4479840"/>
              <a:chExt cx="257400" cy="676080"/>
            </a:xfrm>
          </p:grpSpPr>
          <p:sp>
            <p:nvSpPr>
              <p:cNvPr id="2261" name=""/>
              <p:cNvSpPr/>
              <p:nvPr/>
            </p:nvSpPr>
            <p:spPr>
              <a:xfrm>
                <a:off x="2604960" y="4822560"/>
                <a:ext cx="257400" cy="0"/>
              </a:xfrm>
              <a:prstGeom prst="line">
                <a:avLst/>
              </a:prstGeom>
              <a:ln w="7632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2604960" y="4479840"/>
                <a:ext cx="257400" cy="0"/>
              </a:xfrm>
              <a:prstGeom prst="line">
                <a:avLst/>
              </a:prstGeom>
              <a:ln w="7632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2604960" y="5155920"/>
                <a:ext cx="257400" cy="0"/>
              </a:xfrm>
              <a:prstGeom prst="line">
                <a:avLst/>
              </a:prstGeom>
              <a:ln w="7632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264" name=""/>
            <p:cNvSpPr/>
            <p:nvPr/>
          </p:nvSpPr>
          <p:spPr>
            <a:xfrm>
              <a:off x="1909800" y="5972040"/>
              <a:ext cx="180036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V="1">
              <a:off x="1909800" y="2097000"/>
              <a:ext cx="0" cy="387504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266" name=""/>
            <p:cNvGrpSpPr/>
            <p:nvPr/>
          </p:nvGrpSpPr>
          <p:grpSpPr>
            <a:xfrm>
              <a:off x="2409840" y="1703520"/>
              <a:ext cx="752400" cy="633240"/>
              <a:chOff x="2409840" y="1703520"/>
              <a:chExt cx="752400" cy="633240"/>
            </a:xfrm>
          </p:grpSpPr>
          <p:sp>
            <p:nvSpPr>
              <p:cNvPr id="2267" name=""/>
              <p:cNvSpPr/>
              <p:nvPr/>
            </p:nvSpPr>
            <p:spPr>
              <a:xfrm>
                <a:off x="2409840" y="1703520"/>
                <a:ext cx="752400" cy="6332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2591280" y="17845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9" name=""/>
          <p:cNvGrpSpPr/>
          <p:nvPr/>
        </p:nvGrpSpPr>
        <p:grpSpPr>
          <a:xfrm>
            <a:off x="3419640" y="1252440"/>
            <a:ext cx="3403440" cy="2151000"/>
            <a:chOff x="3419640" y="1252440"/>
            <a:chExt cx="3403440" cy="2151000"/>
          </a:xfrm>
        </p:grpSpPr>
        <p:grpSp>
          <p:nvGrpSpPr>
            <p:cNvPr id="2270" name=""/>
            <p:cNvGrpSpPr/>
            <p:nvPr/>
          </p:nvGrpSpPr>
          <p:grpSpPr>
            <a:xfrm>
              <a:off x="3994200" y="1252440"/>
              <a:ext cx="1961640" cy="1693800"/>
              <a:chOff x="3994200" y="1252440"/>
              <a:chExt cx="1961640" cy="1693800"/>
            </a:xfrm>
          </p:grpSpPr>
          <p:sp>
            <p:nvSpPr>
              <p:cNvPr id="2271" name=""/>
              <p:cNvSpPr/>
              <p:nvPr/>
            </p:nvSpPr>
            <p:spPr>
              <a:xfrm>
                <a:off x="3994200" y="1278000"/>
                <a:ext cx="1936800" cy="16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272" name=""/>
              <p:cNvGrpSpPr/>
              <p:nvPr/>
            </p:nvGrpSpPr>
            <p:grpSpPr>
              <a:xfrm>
                <a:off x="4081680" y="1252440"/>
                <a:ext cx="1874160" cy="1648800"/>
                <a:chOff x="4081680" y="1252440"/>
                <a:chExt cx="1874160" cy="1648800"/>
              </a:xfrm>
            </p:grpSpPr>
            <p:sp>
              <p:nvSpPr>
                <p:cNvPr id="2273" name=""/>
                <p:cNvSpPr/>
                <p:nvPr/>
              </p:nvSpPr>
              <p:spPr>
                <a:xfrm>
                  <a:off x="4081680" y="1868400"/>
                  <a:ext cx="170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Arial"/>
                    </a:rPr>
                    <a:t>VthMAXtyp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4082040" y="1252440"/>
                  <a:ext cx="1873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Arial"/>
                    </a:rPr>
                    <a:t>VthMAXmax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4082400" y="2441520"/>
                  <a:ext cx="1788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Arial"/>
                    </a:rPr>
                    <a:t>VthMAXmin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76" name=""/>
            <p:cNvSpPr/>
            <p:nvPr/>
          </p:nvSpPr>
          <p:spPr>
            <a:xfrm>
              <a:off x="3419640" y="2932200"/>
              <a:ext cx="698400" cy="471240"/>
            </a:xfrm>
            <a:prstGeom prst="leftArrow">
              <a:avLst>
                <a:gd name="adj1" fmla="val 50000"/>
                <a:gd name="adj2" fmla="val 37051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H="1">
              <a:off x="6124680" y="2924280"/>
              <a:ext cx="698400" cy="471240"/>
            </a:xfrm>
            <a:prstGeom prst="leftArrow">
              <a:avLst>
                <a:gd name="adj1" fmla="val 50000"/>
                <a:gd name="adj2" fmla="val 37051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78" name=""/>
          <p:cNvGrpSpPr/>
          <p:nvPr/>
        </p:nvGrpSpPr>
        <p:grpSpPr>
          <a:xfrm>
            <a:off x="2965320" y="4292640"/>
            <a:ext cx="3567240" cy="1668600"/>
            <a:chOff x="2965320" y="4292640"/>
            <a:chExt cx="3567240" cy="1668600"/>
          </a:xfrm>
        </p:grpSpPr>
        <p:grpSp>
          <p:nvGrpSpPr>
            <p:cNvPr id="2279" name=""/>
            <p:cNvGrpSpPr/>
            <p:nvPr/>
          </p:nvGrpSpPr>
          <p:grpSpPr>
            <a:xfrm>
              <a:off x="3743280" y="4292640"/>
              <a:ext cx="1936800" cy="1668600"/>
              <a:chOff x="3743280" y="4292640"/>
              <a:chExt cx="1936800" cy="1668600"/>
            </a:xfrm>
          </p:grpSpPr>
          <p:sp>
            <p:nvSpPr>
              <p:cNvPr id="2280" name=""/>
              <p:cNvSpPr/>
              <p:nvPr/>
            </p:nvSpPr>
            <p:spPr>
              <a:xfrm>
                <a:off x="3743280" y="4292640"/>
                <a:ext cx="1936800" cy="166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3771360" y="4908600"/>
                <a:ext cx="1604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Arial"/>
                  </a:rPr>
                  <a:t>VthMINtyp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3771720" y="4292640"/>
                <a:ext cx="177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Arial"/>
                  </a:rPr>
                  <a:t>VthMINmax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3772440" y="5481720"/>
                <a:ext cx="1688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Arial"/>
                  </a:rPr>
                  <a:t>VthMINmin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284" name=""/>
            <p:cNvSpPr/>
            <p:nvPr/>
          </p:nvSpPr>
          <p:spPr>
            <a:xfrm>
              <a:off x="2965320" y="4576680"/>
              <a:ext cx="698760" cy="471600"/>
            </a:xfrm>
            <a:prstGeom prst="leftArrow">
              <a:avLst>
                <a:gd name="adj1" fmla="val 50000"/>
                <a:gd name="adj2" fmla="val 37042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 flipH="1">
              <a:off x="5834160" y="4503600"/>
              <a:ext cx="698400" cy="471600"/>
            </a:xfrm>
            <a:prstGeom prst="leftArrow">
              <a:avLst>
                <a:gd name="adj1" fmla="val 50000"/>
                <a:gd name="adj2" fmla="val 37023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86" name=""/>
          <p:cNvGrpSpPr/>
          <p:nvPr/>
        </p:nvGrpSpPr>
        <p:grpSpPr>
          <a:xfrm>
            <a:off x="0" y="2954160"/>
            <a:ext cx="5905440" cy="1702800"/>
            <a:chOff x="0" y="2954160"/>
            <a:chExt cx="5905440" cy="1702800"/>
          </a:xfrm>
        </p:grpSpPr>
        <p:grpSp>
          <p:nvGrpSpPr>
            <p:cNvPr id="2287" name=""/>
            <p:cNvGrpSpPr/>
            <p:nvPr/>
          </p:nvGrpSpPr>
          <p:grpSpPr>
            <a:xfrm>
              <a:off x="0" y="2954160"/>
              <a:ext cx="1936800" cy="1702800"/>
              <a:chOff x="0" y="2954160"/>
              <a:chExt cx="1936800" cy="1702800"/>
            </a:xfrm>
          </p:grpSpPr>
          <p:sp>
            <p:nvSpPr>
              <p:cNvPr id="2288" name=""/>
              <p:cNvSpPr/>
              <p:nvPr/>
            </p:nvSpPr>
            <p:spPr>
              <a:xfrm>
                <a:off x="0" y="2954160"/>
                <a:ext cx="1936800" cy="166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800" y="362412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Arial"/>
                  </a:rPr>
                  <a:t>VthTYPtyp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2160" y="3008160"/>
                <a:ext cx="1805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Arial"/>
                  </a:rPr>
                  <a:t>VthTYPmax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2520" y="4197240"/>
                <a:ext cx="1720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Arial"/>
                  </a:rPr>
                  <a:t>VthTYPmin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292" name=""/>
            <p:cNvSpPr/>
            <p:nvPr/>
          </p:nvSpPr>
          <p:spPr>
            <a:xfrm>
              <a:off x="2514600" y="3618000"/>
              <a:ext cx="698400" cy="471240"/>
            </a:xfrm>
            <a:prstGeom prst="leftArrow">
              <a:avLst>
                <a:gd name="adj1" fmla="val 50000"/>
                <a:gd name="adj2" fmla="val 37051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H="1">
              <a:off x="5207040" y="3619440"/>
              <a:ext cx="698400" cy="471600"/>
            </a:xfrm>
            <a:prstGeom prst="leftArrow">
              <a:avLst>
                <a:gd name="adj1" fmla="val 50000"/>
                <a:gd name="adj2" fmla="val 37023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Questions and statement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95" name=""/>
          <p:cNvGrpSpPr/>
          <p:nvPr/>
        </p:nvGrpSpPr>
        <p:grpSpPr>
          <a:xfrm>
            <a:off x="243000" y="1335240"/>
            <a:ext cx="5385960" cy="459720"/>
            <a:chOff x="243000" y="1335240"/>
            <a:chExt cx="5385960" cy="459720"/>
          </a:xfrm>
        </p:grpSpPr>
        <p:sp>
          <p:nvSpPr>
            <p:cNvPr id="2296" name=""/>
            <p:cNvSpPr/>
            <p:nvPr/>
          </p:nvSpPr>
          <p:spPr>
            <a:xfrm>
              <a:off x="1891080" y="1335240"/>
              <a:ext cx="373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Few new members in IBI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297" name=""/>
            <p:cNvGrpSpPr/>
            <p:nvPr/>
          </p:nvGrpSpPr>
          <p:grpSpPr>
            <a:xfrm>
              <a:off x="243000" y="1386000"/>
              <a:ext cx="1066680" cy="280800"/>
              <a:chOff x="243000" y="1386000"/>
              <a:chExt cx="1066680" cy="280800"/>
            </a:xfrm>
          </p:grpSpPr>
          <p:sp>
            <p:nvSpPr>
              <p:cNvPr id="2298" name=""/>
              <p:cNvSpPr/>
              <p:nvPr/>
            </p:nvSpPr>
            <p:spPr>
              <a:xfrm>
                <a:off x="456480" y="16207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63400" y="157968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76880" y="1579680"/>
                <a:ext cx="21312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243000" y="16207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69600" y="162072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882720" y="162072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1096920" y="16207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15960" y="145548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884160" y="15386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456480" y="153864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70320" y="15386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350640" y="157968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76880" y="149688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563400" y="149688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312" name=""/>
              <p:cNvGrpSpPr/>
              <p:nvPr/>
            </p:nvGrpSpPr>
            <p:grpSpPr>
              <a:xfrm>
                <a:off x="610560" y="1496520"/>
                <a:ext cx="330480" cy="170280"/>
                <a:chOff x="610560" y="1496520"/>
                <a:chExt cx="330480" cy="170280"/>
              </a:xfrm>
            </p:grpSpPr>
            <p:sp>
              <p:nvSpPr>
                <p:cNvPr id="2313" name=""/>
                <p:cNvSpPr/>
                <p:nvPr/>
              </p:nvSpPr>
              <p:spPr>
                <a:xfrm>
                  <a:off x="669960" y="149652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663840" y="151056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658440" y="152424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653040" y="153828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648000" y="155232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642600" y="156672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637200" y="158076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631800" y="159516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626400" y="160956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621360" y="162432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615960" y="163836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610560" y="165276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5" name=""/>
              <p:cNvSpPr/>
              <p:nvPr/>
            </p:nvSpPr>
            <p:spPr>
              <a:xfrm rot="16200000">
                <a:off x="741240" y="13089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326" name=""/>
              <p:cNvGrpSpPr/>
              <p:nvPr/>
            </p:nvGrpSpPr>
            <p:grpSpPr>
              <a:xfrm>
                <a:off x="741960" y="1469880"/>
                <a:ext cx="68040" cy="26280"/>
                <a:chOff x="741960" y="1469880"/>
                <a:chExt cx="68040" cy="26280"/>
              </a:xfrm>
            </p:grpSpPr>
            <p:grpSp>
              <p:nvGrpSpPr>
                <p:cNvPr id="2327" name=""/>
                <p:cNvGrpSpPr/>
                <p:nvPr/>
              </p:nvGrpSpPr>
              <p:grpSpPr>
                <a:xfrm>
                  <a:off x="741960" y="1469880"/>
                  <a:ext cx="68040" cy="26280"/>
                  <a:chOff x="741960" y="1469880"/>
                  <a:chExt cx="68040" cy="26280"/>
                </a:xfrm>
              </p:grpSpPr>
              <p:sp>
                <p:nvSpPr>
                  <p:cNvPr id="2328" name=""/>
                  <p:cNvSpPr/>
                  <p:nvPr/>
                </p:nvSpPr>
                <p:spPr>
                  <a:xfrm>
                    <a:off x="741960" y="14698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>
                    <a:off x="810000" y="14698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>
                    <a:off x="741960" y="146988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1" name=""/>
                <p:cNvSpPr/>
                <p:nvPr/>
              </p:nvSpPr>
              <p:spPr>
                <a:xfrm>
                  <a:off x="747720" y="147132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2" name=""/>
              <p:cNvSpPr/>
              <p:nvPr/>
            </p:nvSpPr>
            <p:spPr>
              <a:xfrm>
                <a:off x="989640" y="157968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3" name=""/>
          <p:cNvGrpSpPr/>
          <p:nvPr/>
        </p:nvGrpSpPr>
        <p:grpSpPr>
          <a:xfrm>
            <a:off x="8410680" y="1127160"/>
            <a:ext cx="1166760" cy="718920"/>
            <a:chOff x="8410680" y="1127160"/>
            <a:chExt cx="1166760" cy="718920"/>
          </a:xfrm>
        </p:grpSpPr>
        <p:sp>
          <p:nvSpPr>
            <p:cNvPr id="2334" name=""/>
            <p:cNvSpPr/>
            <p:nvPr/>
          </p:nvSpPr>
          <p:spPr>
            <a:xfrm>
              <a:off x="8410680" y="1127160"/>
              <a:ext cx="116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3366"/>
                  </a:solidFill>
                  <a:latin typeface="Monotype Corsiva"/>
                </a:rPr>
                <a:t>statement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335" name=""/>
            <p:cNvGrpSpPr/>
            <p:nvPr/>
          </p:nvGrpSpPr>
          <p:grpSpPr>
            <a:xfrm>
              <a:off x="8901000" y="1177920"/>
              <a:ext cx="334800" cy="668160"/>
              <a:chOff x="8901000" y="1177920"/>
              <a:chExt cx="334800" cy="668160"/>
            </a:xfrm>
          </p:grpSpPr>
          <p:sp>
            <p:nvSpPr>
              <p:cNvPr id="2336" name=""/>
              <p:cNvSpPr/>
              <p:nvPr/>
            </p:nvSpPr>
            <p:spPr>
              <a:xfrm>
                <a:off x="8967960" y="17348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9001440" y="16376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9068760" y="16376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8901000" y="17348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9034920" y="1734840"/>
                <a:ext cx="66960" cy="96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9101880" y="1734840"/>
                <a:ext cx="6696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9169200" y="17348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9018000" y="1343880"/>
                <a:ext cx="101160" cy="97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9101880" y="1539720"/>
                <a:ext cx="66960" cy="97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967960" y="1539720"/>
                <a:ext cx="66960" cy="97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9035280" y="1539720"/>
                <a:ext cx="66600" cy="97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934480" y="1637640"/>
                <a:ext cx="6696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9068400" y="1442160"/>
                <a:ext cx="66960" cy="97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9001440" y="1442160"/>
                <a:ext cx="66600" cy="97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350" name=""/>
              <p:cNvGrpSpPr/>
              <p:nvPr/>
            </p:nvGrpSpPr>
            <p:grpSpPr>
              <a:xfrm>
                <a:off x="9017280" y="1443240"/>
                <a:ext cx="104040" cy="402840"/>
                <a:chOff x="9017280" y="1443240"/>
                <a:chExt cx="104040" cy="402840"/>
              </a:xfrm>
            </p:grpSpPr>
            <p:sp>
              <p:nvSpPr>
                <p:cNvPr id="2351" name=""/>
                <p:cNvSpPr/>
                <p:nvPr/>
              </p:nvSpPr>
              <p:spPr>
                <a:xfrm>
                  <a:off x="9036000" y="1443240"/>
                  <a:ext cx="669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9033840" y="1476720"/>
                  <a:ext cx="705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9032400" y="1508760"/>
                  <a:ext cx="7380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9030600" y="1542240"/>
                  <a:ext cx="7704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9028800" y="1575360"/>
                  <a:ext cx="8064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9027360" y="1609200"/>
                  <a:ext cx="8388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9025560" y="1642680"/>
                  <a:ext cx="8748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9023760" y="1676160"/>
                  <a:ext cx="9072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9022320" y="1710000"/>
                  <a:ext cx="939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9020520" y="1745640"/>
                  <a:ext cx="975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9018720" y="1779120"/>
                  <a:ext cx="10080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9017280" y="1812600"/>
                  <a:ext cx="10404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3" name=""/>
              <p:cNvSpPr/>
              <p:nvPr/>
            </p:nvSpPr>
            <p:spPr>
              <a:xfrm rot="16200000">
                <a:off x="8984880" y="1225800"/>
                <a:ext cx="165960" cy="69840"/>
              </a:xfrm>
              <a:prstGeom prst="rect">
                <a:avLst/>
              </a:prstGeom>
              <a:solidFill>
                <a:srgbClr val="33cc33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364" name=""/>
              <p:cNvGrpSpPr/>
              <p:nvPr/>
            </p:nvGrpSpPr>
            <p:grpSpPr>
              <a:xfrm>
                <a:off x="9057600" y="1377720"/>
                <a:ext cx="21240" cy="63000"/>
                <a:chOff x="9057600" y="1377720"/>
                <a:chExt cx="21240" cy="63000"/>
              </a:xfrm>
            </p:grpSpPr>
            <p:grpSp>
              <p:nvGrpSpPr>
                <p:cNvPr id="2365" name=""/>
                <p:cNvGrpSpPr/>
                <p:nvPr/>
              </p:nvGrpSpPr>
              <p:grpSpPr>
                <a:xfrm>
                  <a:off x="9057600" y="1377720"/>
                  <a:ext cx="21240" cy="63000"/>
                  <a:chOff x="9057600" y="1377720"/>
                  <a:chExt cx="21240" cy="63000"/>
                </a:xfrm>
              </p:grpSpPr>
              <p:sp>
                <p:nvSpPr>
                  <p:cNvPr id="2366" name=""/>
                  <p:cNvSpPr/>
                  <p:nvPr/>
                </p:nvSpPr>
                <p:spPr>
                  <a:xfrm>
                    <a:off x="9057600" y="1377720"/>
                    <a:ext cx="0" cy="630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>
                    <a:off x="9078840" y="1377720"/>
                    <a:ext cx="0" cy="630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8" name=""/>
                  <p:cNvSpPr/>
                  <p:nvPr/>
                </p:nvSpPr>
                <p:spPr>
                  <a:xfrm>
                    <a:off x="9057600" y="1377720"/>
                    <a:ext cx="212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9" name=""/>
                <p:cNvSpPr/>
                <p:nvPr/>
              </p:nvSpPr>
              <p:spPr>
                <a:xfrm>
                  <a:off x="9059400" y="1381320"/>
                  <a:ext cx="18000" cy="594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0" name=""/>
              <p:cNvSpPr/>
              <p:nvPr/>
            </p:nvSpPr>
            <p:spPr>
              <a:xfrm>
                <a:off x="9135360" y="16376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1" name=""/>
          <p:cNvGrpSpPr/>
          <p:nvPr/>
        </p:nvGrpSpPr>
        <p:grpSpPr>
          <a:xfrm>
            <a:off x="243000" y="2149560"/>
            <a:ext cx="4676040" cy="459720"/>
            <a:chOff x="243000" y="2149560"/>
            <a:chExt cx="4676040" cy="459720"/>
          </a:xfrm>
        </p:grpSpPr>
        <p:grpSp>
          <p:nvGrpSpPr>
            <p:cNvPr id="2372" name=""/>
            <p:cNvGrpSpPr/>
            <p:nvPr/>
          </p:nvGrpSpPr>
          <p:grpSpPr>
            <a:xfrm>
              <a:off x="243000" y="2171880"/>
              <a:ext cx="1066680" cy="280800"/>
              <a:chOff x="243000" y="2171880"/>
              <a:chExt cx="1066680" cy="280800"/>
            </a:xfrm>
          </p:grpSpPr>
          <p:sp>
            <p:nvSpPr>
              <p:cNvPr id="2373" name=""/>
              <p:cNvSpPr/>
              <p:nvPr/>
            </p:nvSpPr>
            <p:spPr>
              <a:xfrm>
                <a:off x="456480" y="24066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563400" y="236556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76880" y="2365560"/>
                <a:ext cx="21312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243000" y="24066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669600" y="240660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882720" y="240660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096920" y="24066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615960" y="224136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884160" y="23245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456480" y="232452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670320" y="232452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350640" y="236556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76880" y="228276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63400" y="228276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387" name=""/>
              <p:cNvGrpSpPr/>
              <p:nvPr/>
            </p:nvGrpSpPr>
            <p:grpSpPr>
              <a:xfrm>
                <a:off x="610560" y="2282400"/>
                <a:ext cx="330480" cy="170280"/>
                <a:chOff x="610560" y="2282400"/>
                <a:chExt cx="330480" cy="170280"/>
              </a:xfrm>
            </p:grpSpPr>
            <p:sp>
              <p:nvSpPr>
                <p:cNvPr id="2388" name=""/>
                <p:cNvSpPr/>
                <p:nvPr/>
              </p:nvSpPr>
              <p:spPr>
                <a:xfrm>
                  <a:off x="669960" y="228240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663840" y="229644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658440" y="231012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653040" y="232416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648000" y="233820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642600" y="235260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637200" y="236664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631800" y="238104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626400" y="239544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621360" y="241020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615960" y="242424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610560" y="243864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0" name=""/>
              <p:cNvSpPr/>
              <p:nvPr/>
            </p:nvSpPr>
            <p:spPr>
              <a:xfrm rot="16200000">
                <a:off x="741240" y="20948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401" name=""/>
              <p:cNvGrpSpPr/>
              <p:nvPr/>
            </p:nvGrpSpPr>
            <p:grpSpPr>
              <a:xfrm>
                <a:off x="741960" y="2255760"/>
                <a:ext cx="68040" cy="26280"/>
                <a:chOff x="741960" y="2255760"/>
                <a:chExt cx="68040" cy="26280"/>
              </a:xfrm>
            </p:grpSpPr>
            <p:grpSp>
              <p:nvGrpSpPr>
                <p:cNvPr id="2402" name=""/>
                <p:cNvGrpSpPr/>
                <p:nvPr/>
              </p:nvGrpSpPr>
              <p:grpSpPr>
                <a:xfrm>
                  <a:off x="741960" y="2255760"/>
                  <a:ext cx="68040" cy="26280"/>
                  <a:chOff x="741960" y="2255760"/>
                  <a:chExt cx="68040" cy="26280"/>
                </a:xfrm>
              </p:grpSpPr>
              <p:sp>
                <p:nvSpPr>
                  <p:cNvPr id="2403" name=""/>
                  <p:cNvSpPr/>
                  <p:nvPr/>
                </p:nvSpPr>
                <p:spPr>
                  <a:xfrm>
                    <a:off x="741960" y="22557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4" name=""/>
                  <p:cNvSpPr/>
                  <p:nvPr/>
                </p:nvSpPr>
                <p:spPr>
                  <a:xfrm>
                    <a:off x="810000" y="22557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5" name=""/>
                  <p:cNvSpPr/>
                  <p:nvPr/>
                </p:nvSpPr>
                <p:spPr>
                  <a:xfrm>
                    <a:off x="741960" y="22557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06" name=""/>
                <p:cNvSpPr/>
                <p:nvPr/>
              </p:nvSpPr>
              <p:spPr>
                <a:xfrm>
                  <a:off x="747720" y="225720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7" name=""/>
              <p:cNvSpPr/>
              <p:nvPr/>
            </p:nvSpPr>
            <p:spPr>
              <a:xfrm>
                <a:off x="989640" y="236556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408" name=""/>
            <p:cNvSpPr/>
            <p:nvPr/>
          </p:nvSpPr>
          <p:spPr>
            <a:xfrm>
              <a:off x="1892880" y="2149560"/>
              <a:ext cx="302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Gurus and beginner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09" name=""/>
          <p:cNvGrpSpPr/>
          <p:nvPr/>
        </p:nvGrpSpPr>
        <p:grpSpPr>
          <a:xfrm>
            <a:off x="243000" y="2835360"/>
            <a:ext cx="6284880" cy="459720"/>
            <a:chOff x="243000" y="2835360"/>
            <a:chExt cx="6284880" cy="459720"/>
          </a:xfrm>
        </p:grpSpPr>
        <p:grpSp>
          <p:nvGrpSpPr>
            <p:cNvPr id="2410" name=""/>
            <p:cNvGrpSpPr/>
            <p:nvPr/>
          </p:nvGrpSpPr>
          <p:grpSpPr>
            <a:xfrm>
              <a:off x="243000" y="2909880"/>
              <a:ext cx="1066680" cy="281160"/>
              <a:chOff x="243000" y="2909880"/>
              <a:chExt cx="1066680" cy="281160"/>
            </a:xfrm>
          </p:grpSpPr>
          <p:sp>
            <p:nvSpPr>
              <p:cNvPr id="2411" name=""/>
              <p:cNvSpPr/>
              <p:nvPr/>
            </p:nvSpPr>
            <p:spPr>
              <a:xfrm>
                <a:off x="456480" y="31449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63400" y="31039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76880" y="310392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243000" y="31449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69600" y="31449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882720" y="314496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1096920" y="31449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615960" y="297936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884160" y="30625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456480" y="306252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670320" y="306252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350640" y="31039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76880" y="302112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63400" y="302112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425" name=""/>
              <p:cNvGrpSpPr/>
              <p:nvPr/>
            </p:nvGrpSpPr>
            <p:grpSpPr>
              <a:xfrm>
                <a:off x="610560" y="3020760"/>
                <a:ext cx="330480" cy="170280"/>
                <a:chOff x="610560" y="3020760"/>
                <a:chExt cx="330480" cy="170280"/>
              </a:xfrm>
            </p:grpSpPr>
            <p:sp>
              <p:nvSpPr>
                <p:cNvPr id="2426" name=""/>
                <p:cNvSpPr/>
                <p:nvPr/>
              </p:nvSpPr>
              <p:spPr>
                <a:xfrm>
                  <a:off x="669960" y="30207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663840" y="30348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658440" y="30484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653040" y="30625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648000" y="30765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642600" y="30909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637200" y="31050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631800" y="31194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626400" y="31338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621360" y="31485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615960" y="31626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610560" y="31770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8" name=""/>
              <p:cNvSpPr/>
              <p:nvPr/>
            </p:nvSpPr>
            <p:spPr>
              <a:xfrm rot="16200000">
                <a:off x="741240" y="28328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439" name=""/>
              <p:cNvGrpSpPr/>
              <p:nvPr/>
            </p:nvGrpSpPr>
            <p:grpSpPr>
              <a:xfrm>
                <a:off x="741960" y="2994120"/>
                <a:ext cx="68040" cy="26280"/>
                <a:chOff x="741960" y="2994120"/>
                <a:chExt cx="68040" cy="26280"/>
              </a:xfrm>
            </p:grpSpPr>
            <p:grpSp>
              <p:nvGrpSpPr>
                <p:cNvPr id="2440" name=""/>
                <p:cNvGrpSpPr/>
                <p:nvPr/>
              </p:nvGrpSpPr>
              <p:grpSpPr>
                <a:xfrm>
                  <a:off x="741960" y="2994120"/>
                  <a:ext cx="68040" cy="26280"/>
                  <a:chOff x="741960" y="2994120"/>
                  <a:chExt cx="68040" cy="26280"/>
                </a:xfrm>
              </p:grpSpPr>
              <p:sp>
                <p:nvSpPr>
                  <p:cNvPr id="2441" name=""/>
                  <p:cNvSpPr/>
                  <p:nvPr/>
                </p:nvSpPr>
                <p:spPr>
                  <a:xfrm>
                    <a:off x="741960" y="29941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2" name=""/>
                  <p:cNvSpPr/>
                  <p:nvPr/>
                </p:nvSpPr>
                <p:spPr>
                  <a:xfrm>
                    <a:off x="810000" y="29941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3" name=""/>
                  <p:cNvSpPr/>
                  <p:nvPr/>
                </p:nvSpPr>
                <p:spPr>
                  <a:xfrm>
                    <a:off x="741960" y="29941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44" name=""/>
                <p:cNvSpPr/>
                <p:nvPr/>
              </p:nvSpPr>
              <p:spPr>
                <a:xfrm>
                  <a:off x="747720" y="299556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5" name=""/>
              <p:cNvSpPr/>
              <p:nvPr/>
            </p:nvSpPr>
            <p:spPr>
              <a:xfrm>
                <a:off x="989640" y="31039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446" name=""/>
            <p:cNvSpPr/>
            <p:nvPr/>
          </p:nvSpPr>
          <p:spPr>
            <a:xfrm>
              <a:off x="1892520" y="2835360"/>
              <a:ext cx="46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IBIS 4.1 contains now 140 page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233280" y="3554280"/>
            <a:ext cx="4946400" cy="459720"/>
            <a:chOff x="233280" y="3554280"/>
            <a:chExt cx="4946400" cy="459720"/>
          </a:xfrm>
        </p:grpSpPr>
        <p:grpSp>
          <p:nvGrpSpPr>
            <p:cNvPr id="2448" name=""/>
            <p:cNvGrpSpPr/>
            <p:nvPr/>
          </p:nvGrpSpPr>
          <p:grpSpPr>
            <a:xfrm>
              <a:off x="233280" y="3627000"/>
              <a:ext cx="1066680" cy="281160"/>
              <a:chOff x="233280" y="3627000"/>
              <a:chExt cx="1066680" cy="281160"/>
            </a:xfrm>
          </p:grpSpPr>
          <p:sp>
            <p:nvSpPr>
              <p:cNvPr id="2449" name=""/>
              <p:cNvSpPr/>
              <p:nvPr/>
            </p:nvSpPr>
            <p:spPr>
              <a:xfrm>
                <a:off x="446760" y="38620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553680" y="38210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67160" y="382104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233280" y="38620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59880" y="38620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873000" y="386208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087200" y="38620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606240" y="369648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874440" y="37796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446760" y="377964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660600" y="37796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340920" y="38210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67160" y="373824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553680" y="373824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463" name=""/>
              <p:cNvGrpSpPr/>
              <p:nvPr/>
            </p:nvGrpSpPr>
            <p:grpSpPr>
              <a:xfrm>
                <a:off x="600840" y="3737880"/>
                <a:ext cx="330480" cy="170280"/>
                <a:chOff x="600840" y="3737880"/>
                <a:chExt cx="330480" cy="170280"/>
              </a:xfrm>
            </p:grpSpPr>
            <p:sp>
              <p:nvSpPr>
                <p:cNvPr id="2464" name=""/>
                <p:cNvSpPr/>
                <p:nvPr/>
              </p:nvSpPr>
              <p:spPr>
                <a:xfrm>
                  <a:off x="660240" y="373788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654120" y="375192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648720" y="376560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643320" y="377964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638280" y="379368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632880" y="380808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627480" y="382212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622080" y="383652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616680" y="385092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611640" y="386568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606240" y="387972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600840" y="389412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6" name=""/>
              <p:cNvSpPr/>
              <p:nvPr/>
            </p:nvSpPr>
            <p:spPr>
              <a:xfrm rot="16200000">
                <a:off x="731520" y="35499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477" name=""/>
              <p:cNvGrpSpPr/>
              <p:nvPr/>
            </p:nvGrpSpPr>
            <p:grpSpPr>
              <a:xfrm>
                <a:off x="732240" y="3711240"/>
                <a:ext cx="68040" cy="26280"/>
                <a:chOff x="732240" y="3711240"/>
                <a:chExt cx="68040" cy="26280"/>
              </a:xfrm>
            </p:grpSpPr>
            <p:grpSp>
              <p:nvGrpSpPr>
                <p:cNvPr id="2478" name=""/>
                <p:cNvGrpSpPr/>
                <p:nvPr/>
              </p:nvGrpSpPr>
              <p:grpSpPr>
                <a:xfrm>
                  <a:off x="732240" y="3711240"/>
                  <a:ext cx="68040" cy="26280"/>
                  <a:chOff x="732240" y="3711240"/>
                  <a:chExt cx="68040" cy="26280"/>
                </a:xfrm>
              </p:grpSpPr>
              <p:sp>
                <p:nvSpPr>
                  <p:cNvPr id="2479" name=""/>
                  <p:cNvSpPr/>
                  <p:nvPr/>
                </p:nvSpPr>
                <p:spPr>
                  <a:xfrm>
                    <a:off x="732240" y="37112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0" name=""/>
                  <p:cNvSpPr/>
                  <p:nvPr/>
                </p:nvSpPr>
                <p:spPr>
                  <a:xfrm>
                    <a:off x="800280" y="37112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1" name=""/>
                  <p:cNvSpPr/>
                  <p:nvPr/>
                </p:nvSpPr>
                <p:spPr>
                  <a:xfrm>
                    <a:off x="732240" y="37112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82" name=""/>
                <p:cNvSpPr/>
                <p:nvPr/>
              </p:nvSpPr>
              <p:spPr>
                <a:xfrm>
                  <a:off x="738000" y="371268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3" name=""/>
              <p:cNvSpPr/>
              <p:nvPr/>
            </p:nvSpPr>
            <p:spPr>
              <a:xfrm>
                <a:off x="979920" y="38210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484" name=""/>
            <p:cNvSpPr/>
            <p:nvPr/>
          </p:nvSpPr>
          <p:spPr>
            <a:xfrm>
              <a:off x="1882440" y="3554280"/>
              <a:ext cx="32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ICM contains 50 page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85" name=""/>
          <p:cNvGrpSpPr/>
          <p:nvPr/>
        </p:nvGrpSpPr>
        <p:grpSpPr>
          <a:xfrm>
            <a:off x="644400" y="4875120"/>
            <a:ext cx="6931800" cy="459720"/>
            <a:chOff x="644400" y="4875120"/>
            <a:chExt cx="6931800" cy="459720"/>
          </a:xfrm>
        </p:grpSpPr>
        <p:sp>
          <p:nvSpPr>
            <p:cNvPr id="2486" name=""/>
            <p:cNvSpPr/>
            <p:nvPr/>
          </p:nvSpPr>
          <p:spPr>
            <a:xfrm>
              <a:off x="2076840" y="4875120"/>
              <a:ext cx="549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E-roadshows  for training &amp; interact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44400" y="4889520"/>
              <a:ext cx="1155960" cy="428760"/>
            </a:xfrm>
            <a:custGeom>
              <a:avLst/>
              <a:gdLst>
                <a:gd name="textAreaLeft" fmla="*/ 144360 w 1155960"/>
                <a:gd name="textAreaRight" fmla="*/ 1011600 w 1155960"/>
                <a:gd name="textAreaTop" fmla="*/ 107280 h 428760"/>
                <a:gd name="textAreaBottom" fmla="*/ 32184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Increasing issue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89" name=""/>
          <p:cNvGrpSpPr/>
          <p:nvPr/>
        </p:nvGrpSpPr>
        <p:grpSpPr>
          <a:xfrm>
            <a:off x="243000" y="1335240"/>
            <a:ext cx="5828400" cy="459720"/>
            <a:chOff x="243000" y="1335240"/>
            <a:chExt cx="5828400" cy="459720"/>
          </a:xfrm>
        </p:grpSpPr>
        <p:sp>
          <p:nvSpPr>
            <p:cNvPr id="2490" name=""/>
            <p:cNvSpPr/>
            <p:nvPr/>
          </p:nvSpPr>
          <p:spPr>
            <a:xfrm>
              <a:off x="1890000" y="1335240"/>
              <a:ext cx="41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Number of IO-models per file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491" name=""/>
            <p:cNvGrpSpPr/>
            <p:nvPr/>
          </p:nvGrpSpPr>
          <p:grpSpPr>
            <a:xfrm>
              <a:off x="243000" y="1386000"/>
              <a:ext cx="1066680" cy="280800"/>
              <a:chOff x="243000" y="1386000"/>
              <a:chExt cx="1066680" cy="280800"/>
            </a:xfrm>
          </p:grpSpPr>
          <p:sp>
            <p:nvSpPr>
              <p:cNvPr id="2492" name=""/>
              <p:cNvSpPr/>
              <p:nvPr/>
            </p:nvSpPr>
            <p:spPr>
              <a:xfrm>
                <a:off x="456480" y="16207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63400" y="157968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76880" y="1579680"/>
                <a:ext cx="21312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243000" y="16207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69600" y="162072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882720" y="162072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1096920" y="16207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15960" y="145548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884160" y="15386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456480" y="153864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70320" y="15386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350640" y="157968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76880" y="149688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563400" y="149688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506" name=""/>
              <p:cNvGrpSpPr/>
              <p:nvPr/>
            </p:nvGrpSpPr>
            <p:grpSpPr>
              <a:xfrm>
                <a:off x="610560" y="1496520"/>
                <a:ext cx="330480" cy="170280"/>
                <a:chOff x="610560" y="1496520"/>
                <a:chExt cx="330480" cy="170280"/>
              </a:xfrm>
            </p:grpSpPr>
            <p:sp>
              <p:nvSpPr>
                <p:cNvPr id="2507" name=""/>
                <p:cNvSpPr/>
                <p:nvPr/>
              </p:nvSpPr>
              <p:spPr>
                <a:xfrm>
                  <a:off x="669960" y="149652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663840" y="151056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658440" y="152424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653040" y="153828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648000" y="155232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642600" y="156672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637200" y="158076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631800" y="159516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626400" y="160956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621360" y="162432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615960" y="163836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610560" y="165276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9" name=""/>
              <p:cNvSpPr/>
              <p:nvPr/>
            </p:nvSpPr>
            <p:spPr>
              <a:xfrm rot="16200000">
                <a:off x="741240" y="13089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520" name=""/>
              <p:cNvGrpSpPr/>
              <p:nvPr/>
            </p:nvGrpSpPr>
            <p:grpSpPr>
              <a:xfrm>
                <a:off x="741960" y="1469880"/>
                <a:ext cx="68040" cy="26280"/>
                <a:chOff x="741960" y="1469880"/>
                <a:chExt cx="68040" cy="26280"/>
              </a:xfrm>
            </p:grpSpPr>
            <p:grpSp>
              <p:nvGrpSpPr>
                <p:cNvPr id="2521" name=""/>
                <p:cNvGrpSpPr/>
                <p:nvPr/>
              </p:nvGrpSpPr>
              <p:grpSpPr>
                <a:xfrm>
                  <a:off x="741960" y="1469880"/>
                  <a:ext cx="68040" cy="26280"/>
                  <a:chOff x="741960" y="1469880"/>
                  <a:chExt cx="68040" cy="26280"/>
                </a:xfrm>
              </p:grpSpPr>
              <p:sp>
                <p:nvSpPr>
                  <p:cNvPr id="2522" name=""/>
                  <p:cNvSpPr/>
                  <p:nvPr/>
                </p:nvSpPr>
                <p:spPr>
                  <a:xfrm>
                    <a:off x="741960" y="14698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3" name=""/>
                  <p:cNvSpPr/>
                  <p:nvPr/>
                </p:nvSpPr>
                <p:spPr>
                  <a:xfrm>
                    <a:off x="810000" y="14698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4" name=""/>
                  <p:cNvSpPr/>
                  <p:nvPr/>
                </p:nvSpPr>
                <p:spPr>
                  <a:xfrm>
                    <a:off x="741960" y="146988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25" name=""/>
                <p:cNvSpPr/>
                <p:nvPr/>
              </p:nvSpPr>
              <p:spPr>
                <a:xfrm>
                  <a:off x="747720" y="147132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6" name=""/>
              <p:cNvSpPr/>
              <p:nvPr/>
            </p:nvSpPr>
            <p:spPr>
              <a:xfrm>
                <a:off x="989640" y="157968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7" name=""/>
          <p:cNvGrpSpPr/>
          <p:nvPr/>
        </p:nvGrpSpPr>
        <p:grpSpPr>
          <a:xfrm>
            <a:off x="8410680" y="1127160"/>
            <a:ext cx="1166760" cy="718920"/>
            <a:chOff x="8410680" y="1127160"/>
            <a:chExt cx="1166760" cy="718920"/>
          </a:xfrm>
        </p:grpSpPr>
        <p:sp>
          <p:nvSpPr>
            <p:cNvPr id="2528" name=""/>
            <p:cNvSpPr/>
            <p:nvPr/>
          </p:nvSpPr>
          <p:spPr>
            <a:xfrm>
              <a:off x="8410680" y="1127160"/>
              <a:ext cx="116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3366"/>
                  </a:solidFill>
                  <a:latin typeface="Monotype Corsiva"/>
                </a:rPr>
                <a:t>statement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529" name=""/>
            <p:cNvGrpSpPr/>
            <p:nvPr/>
          </p:nvGrpSpPr>
          <p:grpSpPr>
            <a:xfrm>
              <a:off x="8901000" y="1177920"/>
              <a:ext cx="334800" cy="668160"/>
              <a:chOff x="8901000" y="1177920"/>
              <a:chExt cx="334800" cy="668160"/>
            </a:xfrm>
          </p:grpSpPr>
          <p:sp>
            <p:nvSpPr>
              <p:cNvPr id="2530" name=""/>
              <p:cNvSpPr/>
              <p:nvPr/>
            </p:nvSpPr>
            <p:spPr>
              <a:xfrm>
                <a:off x="8967960" y="17348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9001440" y="16376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9068760" y="16376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901000" y="17348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9034920" y="1734840"/>
                <a:ext cx="66960" cy="96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9101880" y="1734840"/>
                <a:ext cx="6696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9169200" y="17348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9018000" y="1343880"/>
                <a:ext cx="101160" cy="97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9101880" y="1539720"/>
                <a:ext cx="66960" cy="97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8967960" y="1539720"/>
                <a:ext cx="66960" cy="97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9035280" y="1539720"/>
                <a:ext cx="66600" cy="97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8934480" y="1637640"/>
                <a:ext cx="6696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9068400" y="1442160"/>
                <a:ext cx="66960" cy="97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9001440" y="1442160"/>
                <a:ext cx="66600" cy="97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544" name=""/>
              <p:cNvGrpSpPr/>
              <p:nvPr/>
            </p:nvGrpSpPr>
            <p:grpSpPr>
              <a:xfrm>
                <a:off x="9017280" y="1443240"/>
                <a:ext cx="104040" cy="402840"/>
                <a:chOff x="9017280" y="1443240"/>
                <a:chExt cx="104040" cy="402840"/>
              </a:xfrm>
            </p:grpSpPr>
            <p:sp>
              <p:nvSpPr>
                <p:cNvPr id="2545" name=""/>
                <p:cNvSpPr/>
                <p:nvPr/>
              </p:nvSpPr>
              <p:spPr>
                <a:xfrm>
                  <a:off x="9036000" y="1443240"/>
                  <a:ext cx="669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9033840" y="1476720"/>
                  <a:ext cx="705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9032400" y="1508760"/>
                  <a:ext cx="7380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9030600" y="1542240"/>
                  <a:ext cx="7704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9028800" y="1575360"/>
                  <a:ext cx="8064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9027360" y="1609200"/>
                  <a:ext cx="8388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9025560" y="1642680"/>
                  <a:ext cx="8748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9023760" y="1676160"/>
                  <a:ext cx="9072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9022320" y="1710000"/>
                  <a:ext cx="939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9020520" y="1745640"/>
                  <a:ext cx="975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9018720" y="1779120"/>
                  <a:ext cx="10080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9017280" y="1812600"/>
                  <a:ext cx="10404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7" name=""/>
              <p:cNvSpPr/>
              <p:nvPr/>
            </p:nvSpPr>
            <p:spPr>
              <a:xfrm rot="16200000">
                <a:off x="8984880" y="1225800"/>
                <a:ext cx="165960" cy="69840"/>
              </a:xfrm>
              <a:prstGeom prst="rect">
                <a:avLst/>
              </a:prstGeom>
              <a:solidFill>
                <a:srgbClr val="33cc33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558" name=""/>
              <p:cNvGrpSpPr/>
              <p:nvPr/>
            </p:nvGrpSpPr>
            <p:grpSpPr>
              <a:xfrm>
                <a:off x="9057600" y="1377720"/>
                <a:ext cx="21240" cy="63000"/>
                <a:chOff x="9057600" y="1377720"/>
                <a:chExt cx="21240" cy="63000"/>
              </a:xfrm>
            </p:grpSpPr>
            <p:grpSp>
              <p:nvGrpSpPr>
                <p:cNvPr id="2559" name=""/>
                <p:cNvGrpSpPr/>
                <p:nvPr/>
              </p:nvGrpSpPr>
              <p:grpSpPr>
                <a:xfrm>
                  <a:off x="9057600" y="1377720"/>
                  <a:ext cx="21240" cy="63000"/>
                  <a:chOff x="9057600" y="1377720"/>
                  <a:chExt cx="21240" cy="63000"/>
                </a:xfrm>
              </p:grpSpPr>
              <p:sp>
                <p:nvSpPr>
                  <p:cNvPr id="2560" name=""/>
                  <p:cNvSpPr/>
                  <p:nvPr/>
                </p:nvSpPr>
                <p:spPr>
                  <a:xfrm>
                    <a:off x="9057600" y="1377720"/>
                    <a:ext cx="0" cy="630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1" name=""/>
                  <p:cNvSpPr/>
                  <p:nvPr/>
                </p:nvSpPr>
                <p:spPr>
                  <a:xfrm>
                    <a:off x="9078840" y="1377720"/>
                    <a:ext cx="0" cy="630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2" name=""/>
                  <p:cNvSpPr/>
                  <p:nvPr/>
                </p:nvSpPr>
                <p:spPr>
                  <a:xfrm>
                    <a:off x="9057600" y="1377720"/>
                    <a:ext cx="212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63" name=""/>
                <p:cNvSpPr/>
                <p:nvPr/>
              </p:nvSpPr>
              <p:spPr>
                <a:xfrm>
                  <a:off x="9059400" y="1381320"/>
                  <a:ext cx="18000" cy="594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4" name=""/>
              <p:cNvSpPr/>
              <p:nvPr/>
            </p:nvSpPr>
            <p:spPr>
              <a:xfrm>
                <a:off x="9135360" y="16376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5" name=""/>
          <p:cNvGrpSpPr/>
          <p:nvPr/>
        </p:nvGrpSpPr>
        <p:grpSpPr>
          <a:xfrm>
            <a:off x="272880" y="3801960"/>
            <a:ext cx="9573120" cy="459720"/>
            <a:chOff x="272880" y="3801960"/>
            <a:chExt cx="9573120" cy="459720"/>
          </a:xfrm>
        </p:grpSpPr>
        <p:grpSp>
          <p:nvGrpSpPr>
            <p:cNvPr id="2566" name=""/>
            <p:cNvGrpSpPr/>
            <p:nvPr/>
          </p:nvGrpSpPr>
          <p:grpSpPr>
            <a:xfrm>
              <a:off x="272880" y="3824280"/>
              <a:ext cx="1066680" cy="280800"/>
              <a:chOff x="272880" y="3824280"/>
              <a:chExt cx="1066680" cy="280800"/>
            </a:xfrm>
          </p:grpSpPr>
          <p:sp>
            <p:nvSpPr>
              <p:cNvPr id="2567" name=""/>
              <p:cNvSpPr/>
              <p:nvPr/>
            </p:nvSpPr>
            <p:spPr>
              <a:xfrm flipV="1">
                <a:off x="486360" y="38293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V="1">
                <a:off x="593280" y="387036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807120" y="3870360"/>
                <a:ext cx="21312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V="1">
                <a:off x="272880" y="38293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699840" y="382932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flipV="1">
                <a:off x="912600" y="382932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1126800" y="38293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645840" y="399384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flipV="1">
                <a:off x="914040" y="39114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V="1">
                <a:off x="486360" y="391140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 flipV="1">
                <a:off x="700560" y="391140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V="1">
                <a:off x="380520" y="387036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807120" y="395244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flipV="1">
                <a:off x="593280" y="395244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581" name=""/>
              <p:cNvGrpSpPr/>
              <p:nvPr/>
            </p:nvGrpSpPr>
            <p:grpSpPr>
              <a:xfrm>
                <a:off x="640440" y="3824280"/>
                <a:ext cx="330840" cy="170280"/>
                <a:chOff x="640440" y="3824280"/>
                <a:chExt cx="330840" cy="170280"/>
              </a:xfrm>
            </p:grpSpPr>
            <p:sp>
              <p:nvSpPr>
                <p:cNvPr id="2582" name=""/>
                <p:cNvSpPr/>
                <p:nvPr/>
              </p:nvSpPr>
              <p:spPr>
                <a:xfrm flipV="1">
                  <a:off x="699840" y="3980160"/>
                  <a:ext cx="213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 flipV="1">
                  <a:off x="693720" y="3966120"/>
                  <a:ext cx="2242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 flipV="1">
                  <a:off x="688320" y="3952440"/>
                  <a:ext cx="2347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 flipV="1">
                  <a:off x="682920" y="393840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flipV="1">
                  <a:off x="677880" y="3924360"/>
                  <a:ext cx="2563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flipV="1">
                  <a:off x="672480" y="3909960"/>
                  <a:ext cx="2667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 flipV="1">
                  <a:off x="667080" y="3895920"/>
                  <a:ext cx="2775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V="1">
                  <a:off x="661680" y="388152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flipV="1">
                  <a:off x="656280" y="3867120"/>
                  <a:ext cx="2988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 flipV="1">
                  <a:off x="651240" y="3852360"/>
                  <a:ext cx="3096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flipV="1">
                  <a:off x="645840" y="3838320"/>
                  <a:ext cx="3200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 flipV="1">
                  <a:off x="640440" y="3823920"/>
                  <a:ext cx="3308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4" name=""/>
              <p:cNvSpPr/>
              <p:nvPr/>
            </p:nvSpPr>
            <p:spPr>
              <a:xfrm flipV="1" rot="5400000">
                <a:off x="771120" y="395820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595" name=""/>
              <p:cNvGrpSpPr/>
              <p:nvPr/>
            </p:nvGrpSpPr>
            <p:grpSpPr>
              <a:xfrm>
                <a:off x="771840" y="3994920"/>
                <a:ext cx="68040" cy="26280"/>
                <a:chOff x="771840" y="3994920"/>
                <a:chExt cx="68040" cy="26280"/>
              </a:xfrm>
            </p:grpSpPr>
            <p:grpSp>
              <p:nvGrpSpPr>
                <p:cNvPr id="2596" name=""/>
                <p:cNvGrpSpPr/>
                <p:nvPr/>
              </p:nvGrpSpPr>
              <p:grpSpPr>
                <a:xfrm>
                  <a:off x="771840" y="3994920"/>
                  <a:ext cx="68040" cy="26280"/>
                  <a:chOff x="771840" y="3994920"/>
                  <a:chExt cx="68040" cy="26280"/>
                </a:xfrm>
              </p:grpSpPr>
              <p:sp>
                <p:nvSpPr>
                  <p:cNvPr id="2597" name=""/>
                  <p:cNvSpPr/>
                  <p:nvPr/>
                </p:nvSpPr>
                <p:spPr>
                  <a:xfrm flipV="1">
                    <a:off x="771840" y="39949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8" name=""/>
                  <p:cNvSpPr/>
                  <p:nvPr/>
                </p:nvSpPr>
                <p:spPr>
                  <a:xfrm flipV="1">
                    <a:off x="839880" y="39949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>
                    <a:off x="771840" y="40212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00" name=""/>
                <p:cNvSpPr/>
                <p:nvPr/>
              </p:nvSpPr>
              <p:spPr>
                <a:xfrm flipV="1">
                  <a:off x="777600" y="399456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1" name=""/>
              <p:cNvSpPr/>
              <p:nvPr/>
            </p:nvSpPr>
            <p:spPr>
              <a:xfrm flipV="1">
                <a:off x="1019880" y="387036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602" name=""/>
            <p:cNvSpPr/>
            <p:nvPr/>
          </p:nvSpPr>
          <p:spPr>
            <a:xfrm>
              <a:off x="1920240" y="3801960"/>
              <a:ext cx="792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Gap between current version of IBIS and models you get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603" name=""/>
          <p:cNvGrpSpPr/>
          <p:nvPr/>
        </p:nvGrpSpPr>
        <p:grpSpPr>
          <a:xfrm>
            <a:off x="272880" y="2565360"/>
            <a:ext cx="4879800" cy="459720"/>
            <a:chOff x="272880" y="2565360"/>
            <a:chExt cx="4879800" cy="459720"/>
          </a:xfrm>
        </p:grpSpPr>
        <p:grpSp>
          <p:nvGrpSpPr>
            <p:cNvPr id="2604" name=""/>
            <p:cNvGrpSpPr/>
            <p:nvPr/>
          </p:nvGrpSpPr>
          <p:grpSpPr>
            <a:xfrm>
              <a:off x="272880" y="2639880"/>
              <a:ext cx="1066680" cy="281160"/>
              <a:chOff x="272880" y="2639880"/>
              <a:chExt cx="1066680" cy="281160"/>
            </a:xfrm>
          </p:grpSpPr>
          <p:sp>
            <p:nvSpPr>
              <p:cNvPr id="2605" name=""/>
              <p:cNvSpPr/>
              <p:nvPr/>
            </p:nvSpPr>
            <p:spPr>
              <a:xfrm>
                <a:off x="486360" y="28749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593280" y="28339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806760" y="283392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272880" y="28749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699480" y="28749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912600" y="287496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1126800" y="28749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45840" y="270936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914040" y="27925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486360" y="279252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700200" y="279252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380520" y="28339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806760" y="275112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593280" y="275112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619" name=""/>
              <p:cNvGrpSpPr/>
              <p:nvPr/>
            </p:nvGrpSpPr>
            <p:grpSpPr>
              <a:xfrm>
                <a:off x="640440" y="2750760"/>
                <a:ext cx="330480" cy="170280"/>
                <a:chOff x="640440" y="2750760"/>
                <a:chExt cx="330480" cy="170280"/>
              </a:xfrm>
            </p:grpSpPr>
            <p:sp>
              <p:nvSpPr>
                <p:cNvPr id="2620" name=""/>
                <p:cNvSpPr/>
                <p:nvPr/>
              </p:nvSpPr>
              <p:spPr>
                <a:xfrm>
                  <a:off x="699840" y="27507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693720" y="27648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688320" y="27784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682920" y="27925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677880" y="28065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672480" y="28209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667080" y="28350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661680" y="28494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656280" y="28638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651240" y="28785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645840" y="28926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640440" y="29070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2" name=""/>
              <p:cNvSpPr/>
              <p:nvPr/>
            </p:nvSpPr>
            <p:spPr>
              <a:xfrm rot="16200000">
                <a:off x="771120" y="25628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633" name=""/>
              <p:cNvGrpSpPr/>
              <p:nvPr/>
            </p:nvGrpSpPr>
            <p:grpSpPr>
              <a:xfrm>
                <a:off x="771840" y="2724120"/>
                <a:ext cx="68040" cy="26280"/>
                <a:chOff x="771840" y="2724120"/>
                <a:chExt cx="68040" cy="26280"/>
              </a:xfrm>
            </p:grpSpPr>
            <p:grpSp>
              <p:nvGrpSpPr>
                <p:cNvPr id="2634" name=""/>
                <p:cNvGrpSpPr/>
                <p:nvPr/>
              </p:nvGrpSpPr>
              <p:grpSpPr>
                <a:xfrm>
                  <a:off x="771840" y="2724120"/>
                  <a:ext cx="68040" cy="26280"/>
                  <a:chOff x="771840" y="2724120"/>
                  <a:chExt cx="68040" cy="26280"/>
                </a:xfrm>
              </p:grpSpPr>
              <p:sp>
                <p:nvSpPr>
                  <p:cNvPr id="2635" name=""/>
                  <p:cNvSpPr/>
                  <p:nvPr/>
                </p:nvSpPr>
                <p:spPr>
                  <a:xfrm>
                    <a:off x="771840" y="27241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6" name=""/>
                  <p:cNvSpPr/>
                  <p:nvPr/>
                </p:nvSpPr>
                <p:spPr>
                  <a:xfrm>
                    <a:off x="839880" y="27241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7" name=""/>
                  <p:cNvSpPr/>
                  <p:nvPr/>
                </p:nvSpPr>
                <p:spPr>
                  <a:xfrm>
                    <a:off x="771840" y="27241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38" name=""/>
                <p:cNvSpPr/>
                <p:nvPr/>
              </p:nvSpPr>
              <p:spPr>
                <a:xfrm>
                  <a:off x="777600" y="272556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9" name=""/>
              <p:cNvSpPr/>
              <p:nvPr/>
            </p:nvSpPr>
            <p:spPr>
              <a:xfrm>
                <a:off x="1019520" y="28339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640" name=""/>
            <p:cNvSpPr/>
            <p:nvPr/>
          </p:nvSpPr>
          <p:spPr>
            <a:xfrm>
              <a:off x="1920960" y="2565360"/>
              <a:ext cx="32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Number of parameter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641" name=""/>
          <p:cNvGrpSpPr/>
          <p:nvPr/>
        </p:nvGrpSpPr>
        <p:grpSpPr>
          <a:xfrm>
            <a:off x="272880" y="4973760"/>
            <a:ext cx="9200520" cy="459720"/>
            <a:chOff x="272880" y="4973760"/>
            <a:chExt cx="9200520" cy="459720"/>
          </a:xfrm>
        </p:grpSpPr>
        <p:grpSp>
          <p:nvGrpSpPr>
            <p:cNvPr id="2642" name=""/>
            <p:cNvGrpSpPr/>
            <p:nvPr/>
          </p:nvGrpSpPr>
          <p:grpSpPr>
            <a:xfrm>
              <a:off x="272880" y="5046840"/>
              <a:ext cx="1066680" cy="280800"/>
              <a:chOff x="272880" y="5046840"/>
              <a:chExt cx="1066680" cy="280800"/>
            </a:xfrm>
          </p:grpSpPr>
          <p:sp>
            <p:nvSpPr>
              <p:cNvPr id="2643" name=""/>
              <p:cNvSpPr/>
              <p:nvPr/>
            </p:nvSpPr>
            <p:spPr>
              <a:xfrm flipV="1">
                <a:off x="486360" y="50518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V="1">
                <a:off x="593280" y="509292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807120" y="5092920"/>
                <a:ext cx="21312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 flipV="1">
                <a:off x="272880" y="50518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V="1">
                <a:off x="699840" y="50518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flipV="1">
                <a:off x="912600" y="505188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V="1">
                <a:off x="1126800" y="50518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45840" y="521640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 flipV="1">
                <a:off x="914040" y="51339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V="1">
                <a:off x="486360" y="513396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V="1">
                <a:off x="700560" y="51339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V="1">
                <a:off x="380520" y="509292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807120" y="517500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V="1">
                <a:off x="593280" y="517500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657" name=""/>
              <p:cNvGrpSpPr/>
              <p:nvPr/>
            </p:nvGrpSpPr>
            <p:grpSpPr>
              <a:xfrm>
                <a:off x="640440" y="5046840"/>
                <a:ext cx="330840" cy="170280"/>
                <a:chOff x="640440" y="5046840"/>
                <a:chExt cx="330840" cy="170280"/>
              </a:xfrm>
            </p:grpSpPr>
            <p:sp>
              <p:nvSpPr>
                <p:cNvPr id="2658" name=""/>
                <p:cNvSpPr/>
                <p:nvPr/>
              </p:nvSpPr>
              <p:spPr>
                <a:xfrm flipV="1">
                  <a:off x="699840" y="5202720"/>
                  <a:ext cx="213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 flipV="1">
                  <a:off x="693720" y="5188680"/>
                  <a:ext cx="2242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 flipV="1">
                  <a:off x="688320" y="5175000"/>
                  <a:ext cx="2347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flipV="1">
                  <a:off x="682920" y="516096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 flipV="1">
                  <a:off x="677880" y="5146920"/>
                  <a:ext cx="2563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 flipV="1">
                  <a:off x="672480" y="5132520"/>
                  <a:ext cx="2667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flipV="1">
                  <a:off x="667080" y="5118480"/>
                  <a:ext cx="2775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 flipV="1">
                  <a:off x="661680" y="510408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 flipV="1">
                  <a:off x="656280" y="5089680"/>
                  <a:ext cx="2988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 flipV="1">
                  <a:off x="651240" y="5074920"/>
                  <a:ext cx="3096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 flipV="1">
                  <a:off x="645840" y="5060880"/>
                  <a:ext cx="3200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 flipV="1">
                  <a:off x="640440" y="5046480"/>
                  <a:ext cx="3308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0" name=""/>
              <p:cNvSpPr/>
              <p:nvPr/>
            </p:nvSpPr>
            <p:spPr>
              <a:xfrm flipV="1" rot="5400000">
                <a:off x="771120" y="51807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671" name=""/>
              <p:cNvGrpSpPr/>
              <p:nvPr/>
            </p:nvGrpSpPr>
            <p:grpSpPr>
              <a:xfrm>
                <a:off x="771840" y="5217480"/>
                <a:ext cx="68040" cy="26280"/>
                <a:chOff x="771840" y="5217480"/>
                <a:chExt cx="68040" cy="26280"/>
              </a:xfrm>
            </p:grpSpPr>
            <p:grpSp>
              <p:nvGrpSpPr>
                <p:cNvPr id="2672" name=""/>
                <p:cNvGrpSpPr/>
                <p:nvPr/>
              </p:nvGrpSpPr>
              <p:grpSpPr>
                <a:xfrm>
                  <a:off x="771840" y="5217480"/>
                  <a:ext cx="68040" cy="26280"/>
                  <a:chOff x="771840" y="5217480"/>
                  <a:chExt cx="68040" cy="26280"/>
                </a:xfrm>
              </p:grpSpPr>
              <p:sp>
                <p:nvSpPr>
                  <p:cNvPr id="2673" name=""/>
                  <p:cNvSpPr/>
                  <p:nvPr/>
                </p:nvSpPr>
                <p:spPr>
                  <a:xfrm flipV="1">
                    <a:off x="771840" y="52174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4" name=""/>
                  <p:cNvSpPr/>
                  <p:nvPr/>
                </p:nvSpPr>
                <p:spPr>
                  <a:xfrm flipV="1">
                    <a:off x="839880" y="52174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5" name=""/>
                  <p:cNvSpPr/>
                  <p:nvPr/>
                </p:nvSpPr>
                <p:spPr>
                  <a:xfrm>
                    <a:off x="771840" y="52437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6" name=""/>
                <p:cNvSpPr/>
                <p:nvPr/>
              </p:nvSpPr>
              <p:spPr>
                <a:xfrm flipV="1">
                  <a:off x="777600" y="521712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7" name=""/>
              <p:cNvSpPr/>
              <p:nvPr/>
            </p:nvSpPr>
            <p:spPr>
              <a:xfrm flipV="1">
                <a:off x="1019880" y="509292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678" name=""/>
            <p:cNvSpPr/>
            <p:nvPr/>
          </p:nvSpPr>
          <p:spPr>
            <a:xfrm>
              <a:off x="1924200" y="4973760"/>
              <a:ext cx="75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Information needed, which tool uses which parameter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2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366"/>
                </a:solidFill>
                <a:latin typeface="Arial"/>
              </a:rPr>
              <a:t>Overview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240160" y="1374480"/>
            <a:ext cx="4368960" cy="4965480"/>
            <a:chOff x="5240160" y="1374480"/>
            <a:chExt cx="4368960" cy="4965480"/>
          </a:xfrm>
        </p:grpSpPr>
        <p:sp>
          <p:nvSpPr>
            <p:cNvPr id="130" name=""/>
            <p:cNvSpPr/>
            <p:nvPr/>
          </p:nvSpPr>
          <p:spPr>
            <a:xfrm>
              <a:off x="6114960" y="5524560"/>
              <a:ext cx="871560" cy="723960"/>
            </a:xfrm>
            <a:prstGeom prst="rect">
              <a:avLst/>
            </a:prstGeom>
            <a:solidFill>
              <a:srgbClr val="f8f8f8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4799160"/>
              <a:ext cx="871560" cy="725400"/>
            </a:xfrm>
            <a:prstGeom prst="rect">
              <a:avLst/>
            </a:prstGeom>
            <a:solidFill>
              <a:srgbClr val="f8f8f8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27880" y="4799160"/>
              <a:ext cx="873000" cy="725400"/>
            </a:xfrm>
            <a:prstGeom prst="rect">
              <a:avLst/>
            </a:prstGeom>
            <a:solidFill>
              <a:srgbClr val="f8f8f8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40160" y="5524560"/>
              <a:ext cx="871560" cy="723960"/>
            </a:xfrm>
            <a:prstGeom prst="rect">
              <a:avLst/>
            </a:prstGeom>
            <a:solidFill>
              <a:srgbClr val="f8f8f8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88320" y="5524560"/>
              <a:ext cx="874440" cy="723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61320" y="5524560"/>
              <a:ext cx="873000" cy="723960"/>
            </a:xfrm>
            <a:prstGeom prst="rect">
              <a:avLst/>
            </a:prstGeom>
            <a:solidFill>
              <a:srgbClr val="f8f8f8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737560" y="5524560"/>
              <a:ext cx="871560" cy="723960"/>
            </a:xfrm>
            <a:prstGeom prst="rect">
              <a:avLst/>
            </a:prstGeom>
            <a:solidFill>
              <a:srgbClr val="f8f8f8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69080" y="2608200"/>
              <a:ext cx="1320840" cy="730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66000" y="4071960"/>
              <a:ext cx="871560" cy="727200"/>
            </a:xfrm>
            <a:prstGeom prst="rect">
              <a:avLst/>
            </a:prstGeom>
            <a:solidFill>
              <a:srgbClr val="f8f8f8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14960" y="4071960"/>
              <a:ext cx="873360" cy="727200"/>
            </a:xfrm>
            <a:prstGeom prst="rect">
              <a:avLst/>
            </a:prstGeom>
            <a:solidFill>
              <a:srgbClr val="f8f8f8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91200" y="4071960"/>
              <a:ext cx="874800" cy="72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81520" y="4799160"/>
              <a:ext cx="871560" cy="725400"/>
            </a:xfrm>
            <a:prstGeom prst="rect">
              <a:avLst/>
            </a:prstGeom>
            <a:solidFill>
              <a:srgbClr val="f8f8f8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27880" y="3343320"/>
              <a:ext cx="871560" cy="728640"/>
            </a:xfrm>
            <a:prstGeom prst="rect">
              <a:avLst/>
            </a:prstGeom>
            <a:solidFill>
              <a:srgbClr val="f8f8f8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53080" y="3343320"/>
              <a:ext cx="871560" cy="728640"/>
            </a:xfrm>
            <a:prstGeom prst="rect">
              <a:avLst/>
            </a:prstGeom>
            <a:solidFill>
              <a:srgbClr val="f8f8f8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6746760" y="3332160"/>
              <a:ext cx="1354320" cy="3007800"/>
              <a:chOff x="6746760" y="3332160"/>
              <a:chExt cx="1354320" cy="3007800"/>
            </a:xfrm>
          </p:grpSpPr>
          <p:sp>
            <p:nvSpPr>
              <p:cNvPr id="145" name=""/>
              <p:cNvSpPr/>
              <p:nvPr/>
            </p:nvSpPr>
            <p:spPr>
              <a:xfrm>
                <a:off x="6990120" y="3332160"/>
                <a:ext cx="873000" cy="252000"/>
              </a:xfrm>
              <a:prstGeom prst="rect">
                <a:avLst/>
              </a:prstGeom>
              <a:solidFill>
                <a:srgbClr val="99cc0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964920" y="3582720"/>
                <a:ext cx="917280" cy="252000"/>
              </a:xfrm>
              <a:prstGeom prst="rect">
                <a:avLst/>
              </a:prstGeom>
              <a:solidFill>
                <a:srgbClr val="99cc0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43320" y="3822840"/>
                <a:ext cx="960840" cy="252000"/>
              </a:xfrm>
              <a:prstGeom prst="rect">
                <a:avLst/>
              </a:prstGeom>
              <a:solidFill>
                <a:srgbClr val="99cc0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21720" y="4070880"/>
                <a:ext cx="1004040" cy="252000"/>
              </a:xfrm>
              <a:prstGeom prst="rect">
                <a:avLst/>
              </a:prstGeom>
              <a:solidFill>
                <a:srgbClr val="99cc0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00120" y="4320360"/>
                <a:ext cx="1048320" cy="252000"/>
              </a:xfrm>
              <a:prstGeom prst="rect">
                <a:avLst/>
              </a:prstGeom>
              <a:solidFill>
                <a:srgbClr val="99cc0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78520" y="4572720"/>
                <a:ext cx="1091520" cy="252000"/>
              </a:xfrm>
              <a:prstGeom prst="rect">
                <a:avLst/>
              </a:prstGeom>
              <a:solidFill>
                <a:srgbClr val="99cc0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5840" y="4821840"/>
                <a:ext cx="1135800" cy="252000"/>
              </a:xfrm>
              <a:prstGeom prst="rect">
                <a:avLst/>
              </a:prstGeom>
              <a:solidFill>
                <a:srgbClr val="99cc0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834240" y="5071320"/>
                <a:ext cx="1179000" cy="252000"/>
              </a:xfrm>
              <a:prstGeom prst="rect">
                <a:avLst/>
              </a:prstGeom>
              <a:solidFill>
                <a:srgbClr val="99cc0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812640" y="5325120"/>
                <a:ext cx="1222560" cy="252000"/>
              </a:xfrm>
              <a:prstGeom prst="rect">
                <a:avLst/>
              </a:prstGeom>
              <a:solidFill>
                <a:srgbClr val="99cc0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790680" y="5589360"/>
                <a:ext cx="1266480" cy="252000"/>
              </a:xfrm>
              <a:prstGeom prst="rect">
                <a:avLst/>
              </a:prstGeom>
              <a:solidFill>
                <a:srgbClr val="99cc0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769080" y="5838840"/>
                <a:ext cx="1310040" cy="252000"/>
              </a:xfrm>
              <a:prstGeom prst="rect">
                <a:avLst/>
              </a:prstGeom>
              <a:solidFill>
                <a:srgbClr val="99cc0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46760" y="6087960"/>
                <a:ext cx="1354320" cy="252000"/>
              </a:xfrm>
              <a:prstGeom prst="rect">
                <a:avLst/>
              </a:prstGeom>
              <a:solidFill>
                <a:srgbClr val="99cc0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 rot="16200000">
              <a:off x="6805440" y="1536120"/>
              <a:ext cx="1238040" cy="91440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7283520" y="2863800"/>
              <a:ext cx="279360" cy="468360"/>
              <a:chOff x="7283520" y="2863800"/>
              <a:chExt cx="279360" cy="46836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7283520" y="2863800"/>
                <a:ext cx="279360" cy="468360"/>
                <a:chOff x="7283520" y="2863800"/>
                <a:chExt cx="279360" cy="4683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7283520" y="2863800"/>
                  <a:ext cx="0" cy="46836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561440" y="2863800"/>
                  <a:ext cx="0" cy="46836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283520" y="2863800"/>
                  <a:ext cx="27936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7307640" y="2891880"/>
                <a:ext cx="235800" cy="439920"/>
              </a:xfrm>
              <a:prstGeom prst="rect">
                <a:avLst/>
              </a:prstGeom>
              <a:solidFill>
                <a:srgbClr val="80808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299440" y="4799160"/>
              <a:ext cx="871560" cy="725400"/>
            </a:xfrm>
            <a:prstGeom prst="rect">
              <a:avLst/>
            </a:prstGeom>
            <a:solidFill>
              <a:srgbClr val="f8f8f8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036800" y="1146240"/>
            <a:ext cx="5370120" cy="1735920"/>
            <a:chOff x="1036800" y="1146240"/>
            <a:chExt cx="5370120" cy="1735920"/>
          </a:xfrm>
        </p:grpSpPr>
        <p:sp>
          <p:nvSpPr>
            <p:cNvPr id="166" name=""/>
            <p:cNvSpPr/>
            <p:nvPr/>
          </p:nvSpPr>
          <p:spPr>
            <a:xfrm>
              <a:off x="1036800" y="1146240"/>
              <a:ext cx="5354280" cy="1258920"/>
            </a:xfrm>
            <a:prstGeom prst="horizontalScroll">
              <a:avLst>
                <a:gd name="adj" fmla="val 12500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32200" y="1325880"/>
              <a:ext cx="5274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3200" spc="-1" strike="noStrike">
                  <a:solidFill>
                    <a:srgbClr val="003366"/>
                  </a:solidFill>
                  <a:latin typeface="Monotype Corsiva"/>
                </a:rPr>
                <a:t>IBIS, current status (4.1) and some notes on IBIS4.0 parameters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023920" y="5621400"/>
            <a:ext cx="2195640" cy="990360"/>
            <a:chOff x="2023920" y="5621400"/>
            <a:chExt cx="2195640" cy="990360"/>
          </a:xfrm>
        </p:grpSpPr>
        <p:sp>
          <p:nvSpPr>
            <p:cNvPr id="169" name=""/>
            <p:cNvSpPr/>
            <p:nvPr/>
          </p:nvSpPr>
          <p:spPr>
            <a:xfrm>
              <a:off x="2023920" y="5621400"/>
              <a:ext cx="2195640" cy="615960"/>
            </a:xfrm>
            <a:prstGeom prst="verticalScroll">
              <a:avLst>
                <a:gd name="adj" fmla="val 12500"/>
              </a:avLst>
            </a:prstGeom>
            <a:solidFill>
              <a:srgbClr val="ccff33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30560" y="5786280"/>
              <a:ext cx="1909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400" spc="-1" strike="noStrike">
                  <a:solidFill>
                    <a:srgbClr val="003366"/>
                  </a:solidFill>
                  <a:latin typeface="Monotype Corsiva"/>
                </a:rPr>
                <a:t>current statu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940120" y="2703600"/>
            <a:ext cx="1631520" cy="922320"/>
            <a:chOff x="2940120" y="2703600"/>
            <a:chExt cx="1631520" cy="922320"/>
          </a:xfrm>
        </p:grpSpPr>
        <p:sp>
          <p:nvSpPr>
            <p:cNvPr id="172" name=""/>
            <p:cNvSpPr/>
            <p:nvPr/>
          </p:nvSpPr>
          <p:spPr>
            <a:xfrm>
              <a:off x="2940120" y="2703600"/>
              <a:ext cx="1631520" cy="618840"/>
            </a:xfrm>
            <a:prstGeom prst="verticalScroll">
              <a:avLst>
                <a:gd name="adj" fmla="val 12500"/>
              </a:avLst>
            </a:prstGeom>
            <a:solidFill>
              <a:srgbClr val="33cc33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02840" y="2800440"/>
              <a:ext cx="13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400" spc="-1" strike="noStrike">
                  <a:solidFill>
                    <a:srgbClr val="003366"/>
                  </a:solidFill>
                  <a:latin typeface="Monotype Corsiva"/>
                </a:rPr>
                <a:t>quest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211480" y="4867200"/>
            <a:ext cx="1666800" cy="619200"/>
            <a:chOff x="2211480" y="4867200"/>
            <a:chExt cx="1666800" cy="619200"/>
          </a:xfrm>
        </p:grpSpPr>
        <p:sp>
          <p:nvSpPr>
            <p:cNvPr id="175" name=""/>
            <p:cNvSpPr/>
            <p:nvPr/>
          </p:nvSpPr>
          <p:spPr>
            <a:xfrm>
              <a:off x="2211480" y="4867200"/>
              <a:ext cx="1627560" cy="619200"/>
            </a:xfrm>
            <a:prstGeom prst="verticalScroll">
              <a:avLst>
                <a:gd name="adj" fmla="val 12500"/>
              </a:avLst>
            </a:prstGeom>
            <a:solidFill>
              <a:srgbClr val="009999">
                <a:alpha val="50000"/>
              </a:srgbClr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41360" y="5019840"/>
              <a:ext cx="163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400" spc="-1" strike="noStrike">
                  <a:solidFill>
                    <a:srgbClr val="003366"/>
                  </a:solidFill>
                  <a:latin typeface="Monotype Corsiva"/>
                </a:rPr>
                <a:t>new tool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494080" y="4149720"/>
            <a:ext cx="1644480" cy="922320"/>
            <a:chOff x="2494080" y="4149720"/>
            <a:chExt cx="1644480" cy="922320"/>
          </a:xfrm>
        </p:grpSpPr>
        <p:sp>
          <p:nvSpPr>
            <p:cNvPr id="178" name=""/>
            <p:cNvSpPr/>
            <p:nvPr/>
          </p:nvSpPr>
          <p:spPr>
            <a:xfrm>
              <a:off x="2494080" y="4149720"/>
              <a:ext cx="1644480" cy="619200"/>
            </a:xfrm>
            <a:prstGeom prst="verticalScroll">
              <a:avLst>
                <a:gd name="adj" fmla="val 12500"/>
              </a:avLst>
            </a:prstGeom>
            <a:solidFill>
              <a:srgbClr val="00ff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30520" y="4246560"/>
              <a:ext cx="143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400" spc="-1" strike="noStrike">
                  <a:solidFill>
                    <a:srgbClr val="003366"/>
                  </a:solidFill>
                  <a:latin typeface="Monotype Corsiva"/>
                </a:rPr>
                <a:t>parameter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711520" y="3438360"/>
            <a:ext cx="1724040" cy="992160"/>
            <a:chOff x="2711520" y="3438360"/>
            <a:chExt cx="1724040" cy="992160"/>
          </a:xfrm>
        </p:grpSpPr>
        <p:sp>
          <p:nvSpPr>
            <p:cNvPr id="181" name=""/>
            <p:cNvSpPr/>
            <p:nvPr/>
          </p:nvSpPr>
          <p:spPr>
            <a:xfrm>
              <a:off x="2711520" y="3438360"/>
              <a:ext cx="1724040" cy="618840"/>
            </a:xfrm>
            <a:prstGeom prst="verticalScroll">
              <a:avLst>
                <a:gd name="adj" fmla="val 12500"/>
              </a:avLst>
            </a:prstGeom>
            <a:solidFill>
              <a:srgbClr val="cc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70200" y="3605040"/>
              <a:ext cx="152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400" spc="-1" strike="noStrike">
                  <a:solidFill>
                    <a:srgbClr val="003366"/>
                  </a:solidFill>
                  <a:latin typeface="Monotype Corsiva"/>
                </a:rPr>
                <a:t>statement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736640" y="5869080"/>
            <a:ext cx="76320" cy="7596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94000" y="2971800"/>
            <a:ext cx="465120" cy="76320"/>
          </a:xfrm>
          <a:prstGeom prst="flowChartProcess">
            <a:avLst/>
          </a:prstGeom>
          <a:solidFill>
            <a:srgbClr val="ff66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808280" y="5151600"/>
            <a:ext cx="228600" cy="75960"/>
            <a:chOff x="1808280" y="5151600"/>
            <a:chExt cx="228600" cy="75960"/>
          </a:xfrm>
        </p:grpSpPr>
        <p:sp>
          <p:nvSpPr>
            <p:cNvPr id="186" name=""/>
            <p:cNvSpPr/>
            <p:nvPr/>
          </p:nvSpPr>
          <p:spPr>
            <a:xfrm>
              <a:off x="1808280" y="5151600"/>
              <a:ext cx="75960" cy="7596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60560" y="5151600"/>
              <a:ext cx="76320" cy="7596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959120" y="4408560"/>
            <a:ext cx="380880" cy="75960"/>
            <a:chOff x="1959120" y="4408560"/>
            <a:chExt cx="380880" cy="75960"/>
          </a:xfrm>
        </p:grpSpPr>
        <p:sp>
          <p:nvSpPr>
            <p:cNvPr id="189" name=""/>
            <p:cNvSpPr/>
            <p:nvPr/>
          </p:nvSpPr>
          <p:spPr>
            <a:xfrm>
              <a:off x="1959120" y="4408560"/>
              <a:ext cx="75960" cy="7596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11400" y="4408560"/>
              <a:ext cx="76320" cy="7596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63680" y="4408560"/>
              <a:ext cx="76320" cy="7596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147760" y="3724200"/>
            <a:ext cx="533160" cy="76320"/>
            <a:chOff x="2147760" y="3724200"/>
            <a:chExt cx="533160" cy="76320"/>
          </a:xfrm>
        </p:grpSpPr>
        <p:sp>
          <p:nvSpPr>
            <p:cNvPr id="193" name=""/>
            <p:cNvSpPr/>
            <p:nvPr/>
          </p:nvSpPr>
          <p:spPr>
            <a:xfrm>
              <a:off x="2147760" y="3724200"/>
              <a:ext cx="75960" cy="7632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00040" y="3724200"/>
              <a:ext cx="76320" cy="7632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52320" y="3724200"/>
              <a:ext cx="76320" cy="7632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04960" y="3724200"/>
              <a:ext cx="75960" cy="7632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IBIS is a standard  ANSI/EIA 656-A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3888720" y="2057400"/>
            <a:ext cx="582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Model availabilty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Model qual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Good  accuracy with short simulation 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Tool independe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681" name=""/>
          <p:cNvGrpSpPr/>
          <p:nvPr/>
        </p:nvGrpSpPr>
        <p:grpSpPr>
          <a:xfrm>
            <a:off x="838080" y="1866960"/>
            <a:ext cx="685800" cy="685800"/>
            <a:chOff x="838080" y="1866960"/>
            <a:chExt cx="685800" cy="685800"/>
          </a:xfrm>
        </p:grpSpPr>
        <p:sp>
          <p:nvSpPr>
            <p:cNvPr id="2682" name=""/>
            <p:cNvSpPr/>
            <p:nvPr/>
          </p:nvSpPr>
          <p:spPr>
            <a:xfrm>
              <a:off x="838080" y="18669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990360" y="2019600"/>
              <a:ext cx="76320" cy="75960"/>
            </a:xfrm>
            <a:prstGeom prst="ellipse">
              <a:avLst/>
            </a:prstGeom>
            <a:solidFill>
              <a:srgbClr val="0099ff"/>
            </a:solidFill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1295280" y="2019600"/>
              <a:ext cx="76320" cy="75960"/>
            </a:xfrm>
            <a:prstGeom prst="ellipse">
              <a:avLst/>
            </a:prstGeom>
            <a:solidFill>
              <a:srgbClr val="0099ff"/>
            </a:solidFill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990360" y="2324160"/>
              <a:ext cx="30492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686" name=""/>
          <p:cNvSpPr/>
          <p:nvPr/>
        </p:nvSpPr>
        <p:spPr>
          <a:xfrm>
            <a:off x="838080" y="1752480"/>
            <a:ext cx="2971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687" name=""/>
          <p:cNvGrpSpPr/>
          <p:nvPr/>
        </p:nvGrpSpPr>
        <p:grpSpPr>
          <a:xfrm>
            <a:off x="800280" y="5181480"/>
            <a:ext cx="685800" cy="685800"/>
            <a:chOff x="800280" y="5181480"/>
            <a:chExt cx="685800" cy="685800"/>
          </a:xfrm>
        </p:grpSpPr>
        <p:sp>
          <p:nvSpPr>
            <p:cNvPr id="2688" name=""/>
            <p:cNvSpPr/>
            <p:nvPr/>
          </p:nvSpPr>
          <p:spPr>
            <a:xfrm>
              <a:off x="800280" y="51814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952560" y="5334120"/>
              <a:ext cx="76320" cy="75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257480" y="5334120"/>
              <a:ext cx="76320" cy="75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rot="16200000">
              <a:off x="1067040" y="5447880"/>
              <a:ext cx="152280" cy="3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692" name=""/>
          <p:cNvGrpSpPr/>
          <p:nvPr/>
        </p:nvGrpSpPr>
        <p:grpSpPr>
          <a:xfrm>
            <a:off x="800280" y="3009960"/>
            <a:ext cx="685800" cy="685800"/>
            <a:chOff x="800280" y="3009960"/>
            <a:chExt cx="685800" cy="685800"/>
          </a:xfrm>
        </p:grpSpPr>
        <p:sp>
          <p:nvSpPr>
            <p:cNvPr id="2693" name=""/>
            <p:cNvSpPr/>
            <p:nvPr/>
          </p:nvSpPr>
          <p:spPr>
            <a:xfrm>
              <a:off x="800280" y="30099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952560" y="3162240"/>
              <a:ext cx="76320" cy="763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257480" y="3162240"/>
              <a:ext cx="76320" cy="763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 flipV="1" rot="5400000">
              <a:off x="1104840" y="3314520"/>
              <a:ext cx="76320" cy="3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697" name=""/>
          <p:cNvGrpSpPr/>
          <p:nvPr/>
        </p:nvGrpSpPr>
        <p:grpSpPr>
          <a:xfrm>
            <a:off x="1943280" y="3009960"/>
            <a:ext cx="685800" cy="685800"/>
            <a:chOff x="1943280" y="3009960"/>
            <a:chExt cx="685800" cy="685800"/>
          </a:xfrm>
        </p:grpSpPr>
        <p:sp>
          <p:nvSpPr>
            <p:cNvPr id="2698" name=""/>
            <p:cNvSpPr/>
            <p:nvPr/>
          </p:nvSpPr>
          <p:spPr>
            <a:xfrm>
              <a:off x="1943280" y="30099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095560" y="3162600"/>
              <a:ext cx="76320" cy="75960"/>
            </a:xfrm>
            <a:prstGeom prst="ellipse">
              <a:avLst/>
            </a:prstGeom>
            <a:solidFill>
              <a:srgbClr val="0099ff"/>
            </a:solidFill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400480" y="3162600"/>
              <a:ext cx="76320" cy="75960"/>
            </a:xfrm>
            <a:prstGeom prst="ellipse">
              <a:avLst/>
            </a:prstGeom>
            <a:solidFill>
              <a:srgbClr val="0099ff"/>
            </a:solidFill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095560" y="3467160"/>
              <a:ext cx="30492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702" name=""/>
          <p:cNvGrpSpPr/>
          <p:nvPr/>
        </p:nvGrpSpPr>
        <p:grpSpPr>
          <a:xfrm>
            <a:off x="2133720" y="2036880"/>
            <a:ext cx="345960" cy="345960"/>
            <a:chOff x="2133720" y="2036880"/>
            <a:chExt cx="345960" cy="345960"/>
          </a:xfrm>
        </p:grpSpPr>
        <p:sp>
          <p:nvSpPr>
            <p:cNvPr id="2703" name=""/>
            <p:cNvSpPr/>
            <p:nvPr/>
          </p:nvSpPr>
          <p:spPr>
            <a:xfrm>
              <a:off x="2133720" y="2036880"/>
              <a:ext cx="345960" cy="345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210400" y="2113920"/>
              <a:ext cx="38520" cy="381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364120" y="2113920"/>
              <a:ext cx="38520" cy="381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 rot="16200000">
              <a:off x="2268000" y="2170800"/>
              <a:ext cx="76680" cy="19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707" name=""/>
          <p:cNvGrpSpPr/>
          <p:nvPr/>
        </p:nvGrpSpPr>
        <p:grpSpPr>
          <a:xfrm>
            <a:off x="3174840" y="3059280"/>
            <a:ext cx="517680" cy="517320"/>
            <a:chOff x="3174840" y="3059280"/>
            <a:chExt cx="517680" cy="517320"/>
          </a:xfrm>
        </p:grpSpPr>
        <p:sp>
          <p:nvSpPr>
            <p:cNvPr id="2708" name=""/>
            <p:cNvSpPr/>
            <p:nvPr/>
          </p:nvSpPr>
          <p:spPr>
            <a:xfrm>
              <a:off x="3174840" y="3059280"/>
              <a:ext cx="517680" cy="517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3289680" y="3174120"/>
              <a:ext cx="57600" cy="5724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3519720" y="3174120"/>
              <a:ext cx="57600" cy="5724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rot="16200000">
              <a:off x="3376080" y="3259800"/>
              <a:ext cx="114840" cy="28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712" name=""/>
          <p:cNvGrpSpPr/>
          <p:nvPr/>
        </p:nvGrpSpPr>
        <p:grpSpPr>
          <a:xfrm>
            <a:off x="3086280" y="1866960"/>
            <a:ext cx="685800" cy="685800"/>
            <a:chOff x="3086280" y="1866960"/>
            <a:chExt cx="685800" cy="685800"/>
          </a:xfrm>
        </p:grpSpPr>
        <p:sp>
          <p:nvSpPr>
            <p:cNvPr id="2713" name=""/>
            <p:cNvSpPr/>
            <p:nvPr/>
          </p:nvSpPr>
          <p:spPr>
            <a:xfrm>
              <a:off x="3086280" y="18669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238560" y="2019600"/>
              <a:ext cx="76320" cy="75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3543480" y="2019600"/>
              <a:ext cx="76320" cy="75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 rot="16200000">
              <a:off x="3353040" y="2133360"/>
              <a:ext cx="152280" cy="3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717" name=""/>
          <p:cNvSpPr/>
          <p:nvPr/>
        </p:nvSpPr>
        <p:spPr>
          <a:xfrm>
            <a:off x="683280" y="121932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Past     Today    Futu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718" name=""/>
          <p:cNvGrpSpPr/>
          <p:nvPr/>
        </p:nvGrpSpPr>
        <p:grpSpPr>
          <a:xfrm>
            <a:off x="1995480" y="4181400"/>
            <a:ext cx="539640" cy="540000"/>
            <a:chOff x="1995480" y="4181400"/>
            <a:chExt cx="539640" cy="540000"/>
          </a:xfrm>
        </p:grpSpPr>
        <p:sp>
          <p:nvSpPr>
            <p:cNvPr id="2719" name=""/>
            <p:cNvSpPr/>
            <p:nvPr/>
          </p:nvSpPr>
          <p:spPr>
            <a:xfrm>
              <a:off x="1995480" y="4181400"/>
              <a:ext cx="539640" cy="540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2115000" y="4301280"/>
              <a:ext cx="59760" cy="597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355120" y="4301280"/>
              <a:ext cx="59760" cy="597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 rot="16200000">
              <a:off x="2205000" y="4390920"/>
              <a:ext cx="119880" cy="29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723" name=""/>
          <p:cNvGrpSpPr/>
          <p:nvPr/>
        </p:nvGrpSpPr>
        <p:grpSpPr>
          <a:xfrm>
            <a:off x="3086280" y="4152960"/>
            <a:ext cx="685800" cy="685800"/>
            <a:chOff x="3086280" y="4152960"/>
            <a:chExt cx="685800" cy="685800"/>
          </a:xfrm>
        </p:grpSpPr>
        <p:sp>
          <p:nvSpPr>
            <p:cNvPr id="2724" name=""/>
            <p:cNvSpPr/>
            <p:nvPr/>
          </p:nvSpPr>
          <p:spPr>
            <a:xfrm>
              <a:off x="3086280" y="41529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3238560" y="4305240"/>
              <a:ext cx="76320" cy="7632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543480" y="4305240"/>
              <a:ext cx="76320" cy="7632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 rot="16200000">
              <a:off x="3353040" y="4419000"/>
              <a:ext cx="152280" cy="3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728" name=""/>
          <p:cNvGrpSpPr/>
          <p:nvPr/>
        </p:nvGrpSpPr>
        <p:grpSpPr>
          <a:xfrm>
            <a:off x="1943280" y="5178600"/>
            <a:ext cx="685800" cy="685800"/>
            <a:chOff x="1943280" y="5178600"/>
            <a:chExt cx="685800" cy="685800"/>
          </a:xfrm>
        </p:grpSpPr>
        <p:sp>
          <p:nvSpPr>
            <p:cNvPr id="2729" name=""/>
            <p:cNvSpPr/>
            <p:nvPr/>
          </p:nvSpPr>
          <p:spPr>
            <a:xfrm>
              <a:off x="1943280" y="5178600"/>
              <a:ext cx="685800" cy="68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095560" y="5330880"/>
              <a:ext cx="76320" cy="7632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400480" y="5330880"/>
              <a:ext cx="76320" cy="7632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 rot="16200000">
              <a:off x="2210040" y="5444640"/>
              <a:ext cx="152280" cy="3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733" name=""/>
          <p:cNvGrpSpPr/>
          <p:nvPr/>
        </p:nvGrpSpPr>
        <p:grpSpPr>
          <a:xfrm>
            <a:off x="3038400" y="5178600"/>
            <a:ext cx="685800" cy="685800"/>
            <a:chOff x="3038400" y="5178600"/>
            <a:chExt cx="685800" cy="685800"/>
          </a:xfrm>
        </p:grpSpPr>
        <p:sp>
          <p:nvSpPr>
            <p:cNvPr id="2734" name=""/>
            <p:cNvSpPr/>
            <p:nvPr/>
          </p:nvSpPr>
          <p:spPr>
            <a:xfrm>
              <a:off x="3038400" y="5178600"/>
              <a:ext cx="685800" cy="68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3190680" y="5330880"/>
              <a:ext cx="76320" cy="7632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3495600" y="5330880"/>
              <a:ext cx="76320" cy="7632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 rot="16200000">
              <a:off x="3305160" y="5444640"/>
              <a:ext cx="152280" cy="3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6ff33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738" name=""/>
          <p:cNvGrpSpPr/>
          <p:nvPr/>
        </p:nvGrpSpPr>
        <p:grpSpPr>
          <a:xfrm>
            <a:off x="8410680" y="1127160"/>
            <a:ext cx="1166760" cy="718920"/>
            <a:chOff x="8410680" y="1127160"/>
            <a:chExt cx="1166760" cy="718920"/>
          </a:xfrm>
        </p:grpSpPr>
        <p:sp>
          <p:nvSpPr>
            <p:cNvPr id="2739" name=""/>
            <p:cNvSpPr/>
            <p:nvPr/>
          </p:nvSpPr>
          <p:spPr>
            <a:xfrm>
              <a:off x="8410680" y="1127160"/>
              <a:ext cx="116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3366"/>
                  </a:solidFill>
                  <a:latin typeface="Monotype Corsiva"/>
                </a:rPr>
                <a:t>statement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740" name=""/>
            <p:cNvGrpSpPr/>
            <p:nvPr/>
          </p:nvGrpSpPr>
          <p:grpSpPr>
            <a:xfrm>
              <a:off x="8901000" y="1177920"/>
              <a:ext cx="334800" cy="668160"/>
              <a:chOff x="8901000" y="1177920"/>
              <a:chExt cx="334800" cy="668160"/>
            </a:xfrm>
          </p:grpSpPr>
          <p:sp>
            <p:nvSpPr>
              <p:cNvPr id="2741" name=""/>
              <p:cNvSpPr/>
              <p:nvPr/>
            </p:nvSpPr>
            <p:spPr>
              <a:xfrm>
                <a:off x="8967960" y="17348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9001440" y="16376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9068760" y="16376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8901000" y="17348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9034920" y="1734840"/>
                <a:ext cx="66960" cy="96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9101880" y="1734840"/>
                <a:ext cx="6696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9169200" y="17348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9018000" y="1343880"/>
                <a:ext cx="101160" cy="97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9101880" y="1539720"/>
                <a:ext cx="66960" cy="97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8967960" y="1539720"/>
                <a:ext cx="66960" cy="97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9035280" y="1539720"/>
                <a:ext cx="66600" cy="97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8934480" y="1637640"/>
                <a:ext cx="6696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9068400" y="1442160"/>
                <a:ext cx="66960" cy="97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9001440" y="1442160"/>
                <a:ext cx="66600" cy="97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755" name=""/>
              <p:cNvGrpSpPr/>
              <p:nvPr/>
            </p:nvGrpSpPr>
            <p:grpSpPr>
              <a:xfrm>
                <a:off x="9017280" y="1443240"/>
                <a:ext cx="104040" cy="402840"/>
                <a:chOff x="9017280" y="1443240"/>
                <a:chExt cx="104040" cy="402840"/>
              </a:xfrm>
            </p:grpSpPr>
            <p:sp>
              <p:nvSpPr>
                <p:cNvPr id="2756" name=""/>
                <p:cNvSpPr/>
                <p:nvPr/>
              </p:nvSpPr>
              <p:spPr>
                <a:xfrm>
                  <a:off x="9036000" y="1443240"/>
                  <a:ext cx="669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9033840" y="1476720"/>
                  <a:ext cx="705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9032400" y="1508760"/>
                  <a:ext cx="7380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9030600" y="1542240"/>
                  <a:ext cx="7704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>
                  <a:off x="9028800" y="1575360"/>
                  <a:ext cx="8064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9027360" y="1609200"/>
                  <a:ext cx="8388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9025560" y="1642680"/>
                  <a:ext cx="8748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9023760" y="1676160"/>
                  <a:ext cx="9072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9022320" y="1710000"/>
                  <a:ext cx="939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9020520" y="1745640"/>
                  <a:ext cx="975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9018720" y="1779120"/>
                  <a:ext cx="10080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9017280" y="1812600"/>
                  <a:ext cx="10404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8" name=""/>
              <p:cNvSpPr/>
              <p:nvPr/>
            </p:nvSpPr>
            <p:spPr>
              <a:xfrm rot="16200000">
                <a:off x="8984880" y="1225800"/>
                <a:ext cx="165960" cy="69840"/>
              </a:xfrm>
              <a:prstGeom prst="rect">
                <a:avLst/>
              </a:prstGeom>
              <a:solidFill>
                <a:srgbClr val="33cc33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769" name=""/>
              <p:cNvGrpSpPr/>
              <p:nvPr/>
            </p:nvGrpSpPr>
            <p:grpSpPr>
              <a:xfrm>
                <a:off x="9057600" y="1377720"/>
                <a:ext cx="21240" cy="63000"/>
                <a:chOff x="9057600" y="1377720"/>
                <a:chExt cx="21240" cy="63000"/>
              </a:xfrm>
            </p:grpSpPr>
            <p:grpSp>
              <p:nvGrpSpPr>
                <p:cNvPr id="2770" name=""/>
                <p:cNvGrpSpPr/>
                <p:nvPr/>
              </p:nvGrpSpPr>
              <p:grpSpPr>
                <a:xfrm>
                  <a:off x="9057600" y="1377720"/>
                  <a:ext cx="21240" cy="63000"/>
                  <a:chOff x="9057600" y="1377720"/>
                  <a:chExt cx="21240" cy="63000"/>
                </a:xfrm>
              </p:grpSpPr>
              <p:sp>
                <p:nvSpPr>
                  <p:cNvPr id="2771" name=""/>
                  <p:cNvSpPr/>
                  <p:nvPr/>
                </p:nvSpPr>
                <p:spPr>
                  <a:xfrm>
                    <a:off x="9057600" y="1377720"/>
                    <a:ext cx="0" cy="630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2" name=""/>
                  <p:cNvSpPr/>
                  <p:nvPr/>
                </p:nvSpPr>
                <p:spPr>
                  <a:xfrm>
                    <a:off x="9078840" y="1377720"/>
                    <a:ext cx="0" cy="630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3" name=""/>
                  <p:cNvSpPr/>
                  <p:nvPr/>
                </p:nvSpPr>
                <p:spPr>
                  <a:xfrm>
                    <a:off x="9057600" y="1377720"/>
                    <a:ext cx="212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74" name=""/>
                <p:cNvSpPr/>
                <p:nvPr/>
              </p:nvSpPr>
              <p:spPr>
                <a:xfrm>
                  <a:off x="9059400" y="1381320"/>
                  <a:ext cx="18000" cy="594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5" name=""/>
              <p:cNvSpPr/>
              <p:nvPr/>
            </p:nvSpPr>
            <p:spPr>
              <a:xfrm>
                <a:off x="9135360" y="16376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6" name=""/>
          <p:cNvGrpSpPr/>
          <p:nvPr/>
        </p:nvGrpSpPr>
        <p:grpSpPr>
          <a:xfrm>
            <a:off x="792000" y="4145040"/>
            <a:ext cx="685800" cy="685800"/>
            <a:chOff x="792000" y="4145040"/>
            <a:chExt cx="685800" cy="685800"/>
          </a:xfrm>
        </p:grpSpPr>
        <p:sp>
          <p:nvSpPr>
            <p:cNvPr id="2777" name=""/>
            <p:cNvSpPr/>
            <p:nvPr/>
          </p:nvSpPr>
          <p:spPr>
            <a:xfrm>
              <a:off x="792000" y="41450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944280" y="4297680"/>
              <a:ext cx="76320" cy="75960"/>
            </a:xfrm>
            <a:prstGeom prst="ellipse">
              <a:avLst/>
            </a:prstGeom>
            <a:solidFill>
              <a:srgbClr val="0099ff"/>
            </a:solidFill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249200" y="4297680"/>
              <a:ext cx="76320" cy="75960"/>
            </a:xfrm>
            <a:prstGeom prst="ellipse">
              <a:avLst/>
            </a:prstGeom>
            <a:solidFill>
              <a:srgbClr val="0099ff"/>
            </a:solidFill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944280" y="4602240"/>
              <a:ext cx="30492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"/>
          <p:cNvSpPr/>
          <p:nvPr/>
        </p:nvSpPr>
        <p:spPr>
          <a:xfrm>
            <a:off x="1278000" y="3389400"/>
            <a:ext cx="5796000" cy="523800"/>
          </a:xfrm>
          <a:prstGeom prst="ellipse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366"/>
                </a:solidFill>
                <a:latin typeface="Arial"/>
              </a:rPr>
              <a:t>PVT : Process, Voltage, Temperature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83" name=""/>
          <p:cNvGrpSpPr/>
          <p:nvPr/>
        </p:nvGrpSpPr>
        <p:grpSpPr>
          <a:xfrm>
            <a:off x="8592120" y="1143000"/>
            <a:ext cx="953280" cy="718920"/>
            <a:chOff x="8592120" y="1143000"/>
            <a:chExt cx="953280" cy="718920"/>
          </a:xfrm>
        </p:grpSpPr>
        <p:sp>
          <p:nvSpPr>
            <p:cNvPr id="2784" name=""/>
            <p:cNvSpPr/>
            <p:nvPr/>
          </p:nvSpPr>
          <p:spPr>
            <a:xfrm>
              <a:off x="8592120" y="1143000"/>
              <a:ext cx="95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3366"/>
                  </a:solidFill>
                  <a:latin typeface="Monotype Corsiva"/>
                </a:rPr>
                <a:t>question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785" name=""/>
            <p:cNvGrpSpPr/>
            <p:nvPr/>
          </p:nvGrpSpPr>
          <p:grpSpPr>
            <a:xfrm>
              <a:off x="8647200" y="1343520"/>
              <a:ext cx="514440" cy="518400"/>
              <a:chOff x="8647200" y="1343520"/>
              <a:chExt cx="514440" cy="518400"/>
            </a:xfrm>
          </p:grpSpPr>
          <p:sp>
            <p:nvSpPr>
              <p:cNvPr id="2786" name=""/>
              <p:cNvSpPr/>
              <p:nvPr/>
            </p:nvSpPr>
            <p:spPr>
              <a:xfrm>
                <a:off x="8750160" y="17769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8801640" y="17013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8904600" y="1701360"/>
                <a:ext cx="10296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8647200" y="17769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8853120" y="1776960"/>
                <a:ext cx="102960" cy="75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8955720" y="17769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9059040" y="17769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8827200" y="1472400"/>
                <a:ext cx="155520" cy="75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8956440" y="1625040"/>
                <a:ext cx="102600" cy="759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8750160" y="1625040"/>
                <a:ext cx="102960" cy="759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8853480" y="1625040"/>
                <a:ext cx="102600" cy="75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8699040" y="17013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8904600" y="154908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8801640" y="154908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800" name=""/>
              <p:cNvGrpSpPr/>
              <p:nvPr/>
            </p:nvGrpSpPr>
            <p:grpSpPr>
              <a:xfrm>
                <a:off x="8824320" y="1548000"/>
                <a:ext cx="159480" cy="313920"/>
                <a:chOff x="8824320" y="1548000"/>
                <a:chExt cx="159480" cy="313920"/>
              </a:xfrm>
            </p:grpSpPr>
            <p:sp>
              <p:nvSpPr>
                <p:cNvPr id="2801" name=""/>
                <p:cNvSpPr/>
                <p:nvPr/>
              </p:nvSpPr>
              <p:spPr>
                <a:xfrm>
                  <a:off x="8852760" y="1548000"/>
                  <a:ext cx="10296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8849880" y="1573920"/>
                  <a:ext cx="1080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8847360" y="1599120"/>
                  <a:ext cx="1130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8844840" y="1625040"/>
                  <a:ext cx="1184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8842320" y="1650960"/>
                  <a:ext cx="12348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8839800" y="1677240"/>
                  <a:ext cx="12852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8836920" y="1703520"/>
                  <a:ext cx="13392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8834400" y="1729440"/>
                  <a:ext cx="13896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8831880" y="1756080"/>
                  <a:ext cx="1440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8829360" y="1783800"/>
                  <a:ext cx="1494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8826840" y="1809720"/>
                  <a:ext cx="1544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8824320" y="1835640"/>
                  <a:ext cx="15948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3" name=""/>
              <p:cNvSpPr/>
              <p:nvPr/>
            </p:nvSpPr>
            <p:spPr>
              <a:xfrm rot="16200000">
                <a:off x="8839800" y="1353960"/>
                <a:ext cx="128880" cy="107640"/>
              </a:xfrm>
              <a:prstGeom prst="rect">
                <a:avLst/>
              </a:prstGeom>
              <a:solidFill>
                <a:srgbClr val="00ff99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814" name=""/>
              <p:cNvGrpSpPr/>
              <p:nvPr/>
            </p:nvGrpSpPr>
            <p:grpSpPr>
              <a:xfrm>
                <a:off x="8887680" y="1499040"/>
                <a:ext cx="32760" cy="48960"/>
                <a:chOff x="8887680" y="1499040"/>
                <a:chExt cx="32760" cy="48960"/>
              </a:xfrm>
            </p:grpSpPr>
            <p:grpSp>
              <p:nvGrpSpPr>
                <p:cNvPr id="2815" name=""/>
                <p:cNvGrpSpPr/>
                <p:nvPr/>
              </p:nvGrpSpPr>
              <p:grpSpPr>
                <a:xfrm>
                  <a:off x="8887680" y="1499040"/>
                  <a:ext cx="32760" cy="48960"/>
                  <a:chOff x="8887680" y="1499040"/>
                  <a:chExt cx="32760" cy="48960"/>
                </a:xfrm>
              </p:grpSpPr>
              <p:sp>
                <p:nvSpPr>
                  <p:cNvPr id="2816" name=""/>
                  <p:cNvSpPr/>
                  <p:nvPr/>
                </p:nvSpPr>
                <p:spPr>
                  <a:xfrm>
                    <a:off x="8887680" y="1499040"/>
                    <a:ext cx="0" cy="489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7" name=""/>
                  <p:cNvSpPr/>
                  <p:nvPr/>
                </p:nvSpPr>
                <p:spPr>
                  <a:xfrm>
                    <a:off x="8920440" y="1499040"/>
                    <a:ext cx="0" cy="489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8" name=""/>
                  <p:cNvSpPr/>
                  <p:nvPr/>
                </p:nvSpPr>
                <p:spPr>
                  <a:xfrm>
                    <a:off x="8887680" y="1499040"/>
                    <a:ext cx="327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9" name=""/>
                <p:cNvSpPr/>
                <p:nvPr/>
              </p:nvSpPr>
              <p:spPr>
                <a:xfrm>
                  <a:off x="8890560" y="1501920"/>
                  <a:ext cx="27720" cy="4608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0" name=""/>
              <p:cNvSpPr/>
              <p:nvPr/>
            </p:nvSpPr>
            <p:spPr>
              <a:xfrm>
                <a:off x="9007560" y="17013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1" name=""/>
          <p:cNvSpPr/>
          <p:nvPr/>
        </p:nvSpPr>
        <p:spPr>
          <a:xfrm>
            <a:off x="533520" y="1219320"/>
            <a:ext cx="7162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odel class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δ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Vcc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Tj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±   5%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0 – 110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± 2σ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±   5%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0 – 110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± 3σ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±   5%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40 – 125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± 2σ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±   5%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40 – 125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± 3σ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5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± 10%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0 – 110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± 2σ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6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± 10%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0 – 110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± 3σ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7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± 10%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40 – 125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± 2σ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8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± 10%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40 – 125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± 3σ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± 2σ means    95,5% of all shipped parts fulfill these limi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± 3σ means    99,7% of all shipped parts fulfill these limi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δ</a:t>
            </a:r>
            <a:r>
              <a:rPr b="0" lang="de-DE" sz="1800" spc="-1" strike="noStrike">
                <a:solidFill>
                  <a:srgbClr val="003366"/>
                </a:solidFill>
                <a:latin typeface="Times New Roman"/>
              </a:rPr>
              <a:t>Vcc</a:t>
            </a:r>
            <a:r>
              <a:rPr b="0" lang="de-DE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±  5%   means  e.g. 3P3V  --  3P15V  --  3P45V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δ</a:t>
            </a:r>
            <a:r>
              <a:rPr b="0" lang="de-DE" sz="1800" spc="-1" strike="noStrike">
                <a:solidFill>
                  <a:srgbClr val="003366"/>
                </a:solidFill>
                <a:latin typeface="Times New Roman"/>
              </a:rPr>
              <a:t>Vcc</a:t>
            </a:r>
            <a:r>
              <a:rPr b="0" lang="de-DE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±  10% means  e.g. 3P3V  --  3P00V  --  3P60V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Questions to IBIS4.1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23" name=""/>
          <p:cNvGrpSpPr/>
          <p:nvPr/>
        </p:nvGrpSpPr>
        <p:grpSpPr>
          <a:xfrm>
            <a:off x="243000" y="1335240"/>
            <a:ext cx="5504760" cy="459720"/>
            <a:chOff x="243000" y="1335240"/>
            <a:chExt cx="5504760" cy="459720"/>
          </a:xfrm>
        </p:grpSpPr>
        <p:sp>
          <p:nvSpPr>
            <p:cNvPr id="2824" name=""/>
            <p:cNvSpPr/>
            <p:nvPr/>
          </p:nvSpPr>
          <p:spPr>
            <a:xfrm>
              <a:off x="1892520" y="1335240"/>
              <a:ext cx="385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VHDL-AMS model support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825" name=""/>
            <p:cNvGrpSpPr/>
            <p:nvPr/>
          </p:nvGrpSpPr>
          <p:grpSpPr>
            <a:xfrm>
              <a:off x="243000" y="1386000"/>
              <a:ext cx="1066680" cy="280800"/>
              <a:chOff x="243000" y="1386000"/>
              <a:chExt cx="1066680" cy="280800"/>
            </a:xfrm>
          </p:grpSpPr>
          <p:sp>
            <p:nvSpPr>
              <p:cNvPr id="2826" name=""/>
              <p:cNvSpPr/>
              <p:nvPr/>
            </p:nvSpPr>
            <p:spPr>
              <a:xfrm>
                <a:off x="456480" y="16207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563400" y="157968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776880" y="1579680"/>
                <a:ext cx="21312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243000" y="16207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669600" y="162072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882720" y="162072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1096920" y="16207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615960" y="145548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884160" y="15386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56480" y="153864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670320" y="15386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350640" y="157968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776880" y="149688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563400" y="149688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840" name=""/>
              <p:cNvGrpSpPr/>
              <p:nvPr/>
            </p:nvGrpSpPr>
            <p:grpSpPr>
              <a:xfrm>
                <a:off x="610560" y="1496520"/>
                <a:ext cx="330480" cy="170280"/>
                <a:chOff x="610560" y="1496520"/>
                <a:chExt cx="330480" cy="170280"/>
              </a:xfrm>
            </p:grpSpPr>
            <p:sp>
              <p:nvSpPr>
                <p:cNvPr id="2841" name=""/>
                <p:cNvSpPr/>
                <p:nvPr/>
              </p:nvSpPr>
              <p:spPr>
                <a:xfrm>
                  <a:off x="669960" y="149652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663840" y="151056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>
                  <a:off x="658440" y="152424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>
                  <a:off x="653040" y="153828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648000" y="155232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>
                  <a:off x="642600" y="156672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>
                  <a:off x="637200" y="158076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631800" y="159516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>
                  <a:off x="626400" y="160956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>
                  <a:off x="621360" y="162432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615960" y="163836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610560" y="165276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53" name=""/>
              <p:cNvSpPr/>
              <p:nvPr/>
            </p:nvSpPr>
            <p:spPr>
              <a:xfrm rot="16200000">
                <a:off x="741240" y="13089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854" name=""/>
              <p:cNvGrpSpPr/>
              <p:nvPr/>
            </p:nvGrpSpPr>
            <p:grpSpPr>
              <a:xfrm>
                <a:off x="741960" y="1469880"/>
                <a:ext cx="68040" cy="26280"/>
                <a:chOff x="741960" y="1469880"/>
                <a:chExt cx="68040" cy="26280"/>
              </a:xfrm>
            </p:grpSpPr>
            <p:grpSp>
              <p:nvGrpSpPr>
                <p:cNvPr id="2855" name=""/>
                <p:cNvGrpSpPr/>
                <p:nvPr/>
              </p:nvGrpSpPr>
              <p:grpSpPr>
                <a:xfrm>
                  <a:off x="741960" y="1469880"/>
                  <a:ext cx="68040" cy="26280"/>
                  <a:chOff x="741960" y="1469880"/>
                  <a:chExt cx="68040" cy="26280"/>
                </a:xfrm>
              </p:grpSpPr>
              <p:sp>
                <p:nvSpPr>
                  <p:cNvPr id="2856" name=""/>
                  <p:cNvSpPr/>
                  <p:nvPr/>
                </p:nvSpPr>
                <p:spPr>
                  <a:xfrm>
                    <a:off x="741960" y="14698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7" name=""/>
                  <p:cNvSpPr/>
                  <p:nvPr/>
                </p:nvSpPr>
                <p:spPr>
                  <a:xfrm>
                    <a:off x="810000" y="14698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8" name=""/>
                  <p:cNvSpPr/>
                  <p:nvPr/>
                </p:nvSpPr>
                <p:spPr>
                  <a:xfrm>
                    <a:off x="741960" y="146988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59" name=""/>
                <p:cNvSpPr/>
                <p:nvPr/>
              </p:nvSpPr>
              <p:spPr>
                <a:xfrm>
                  <a:off x="747720" y="147132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60" name=""/>
              <p:cNvSpPr/>
              <p:nvPr/>
            </p:nvSpPr>
            <p:spPr>
              <a:xfrm>
                <a:off x="989640" y="157968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1" name=""/>
          <p:cNvGrpSpPr/>
          <p:nvPr/>
        </p:nvGrpSpPr>
        <p:grpSpPr>
          <a:xfrm>
            <a:off x="233280" y="4073400"/>
            <a:ext cx="3351600" cy="459720"/>
            <a:chOff x="233280" y="4073400"/>
            <a:chExt cx="3351600" cy="459720"/>
          </a:xfrm>
        </p:grpSpPr>
        <p:grpSp>
          <p:nvGrpSpPr>
            <p:cNvPr id="2862" name=""/>
            <p:cNvGrpSpPr/>
            <p:nvPr/>
          </p:nvGrpSpPr>
          <p:grpSpPr>
            <a:xfrm>
              <a:off x="233280" y="4147920"/>
              <a:ext cx="1066680" cy="281160"/>
              <a:chOff x="233280" y="4147920"/>
              <a:chExt cx="1066680" cy="281160"/>
            </a:xfrm>
          </p:grpSpPr>
          <p:sp>
            <p:nvSpPr>
              <p:cNvPr id="2863" name=""/>
              <p:cNvSpPr/>
              <p:nvPr/>
            </p:nvSpPr>
            <p:spPr>
              <a:xfrm>
                <a:off x="446760" y="43830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553680" y="43419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767160" y="434196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233280" y="43830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659880" y="438300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873000" y="438300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1087200" y="43830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606240" y="421740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874440" y="43005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446760" y="430056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660600" y="43005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340920" y="43419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67160" y="425916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553680" y="425916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877" name=""/>
              <p:cNvGrpSpPr/>
              <p:nvPr/>
            </p:nvGrpSpPr>
            <p:grpSpPr>
              <a:xfrm>
                <a:off x="600840" y="4258800"/>
                <a:ext cx="330480" cy="170280"/>
                <a:chOff x="600840" y="4258800"/>
                <a:chExt cx="330480" cy="170280"/>
              </a:xfrm>
            </p:grpSpPr>
            <p:sp>
              <p:nvSpPr>
                <p:cNvPr id="2878" name=""/>
                <p:cNvSpPr/>
                <p:nvPr/>
              </p:nvSpPr>
              <p:spPr>
                <a:xfrm>
                  <a:off x="660240" y="425880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654120" y="427284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648720" y="428652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643320" y="430056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638280" y="431460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632880" y="432900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627480" y="434304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622080" y="435744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616680" y="437184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611640" y="438660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606240" y="440064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600840" y="441504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0" name=""/>
              <p:cNvSpPr/>
              <p:nvPr/>
            </p:nvSpPr>
            <p:spPr>
              <a:xfrm rot="16200000">
                <a:off x="731520" y="407088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891" name=""/>
              <p:cNvGrpSpPr/>
              <p:nvPr/>
            </p:nvGrpSpPr>
            <p:grpSpPr>
              <a:xfrm>
                <a:off x="732240" y="4232160"/>
                <a:ext cx="68040" cy="26280"/>
                <a:chOff x="732240" y="4232160"/>
                <a:chExt cx="68040" cy="26280"/>
              </a:xfrm>
            </p:grpSpPr>
            <p:grpSp>
              <p:nvGrpSpPr>
                <p:cNvPr id="2892" name=""/>
                <p:cNvGrpSpPr/>
                <p:nvPr/>
              </p:nvGrpSpPr>
              <p:grpSpPr>
                <a:xfrm>
                  <a:off x="732240" y="4232160"/>
                  <a:ext cx="68040" cy="26280"/>
                  <a:chOff x="732240" y="4232160"/>
                  <a:chExt cx="68040" cy="26280"/>
                </a:xfrm>
              </p:grpSpPr>
              <p:sp>
                <p:nvSpPr>
                  <p:cNvPr id="2893" name=""/>
                  <p:cNvSpPr/>
                  <p:nvPr/>
                </p:nvSpPr>
                <p:spPr>
                  <a:xfrm>
                    <a:off x="732240" y="42321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>
                    <a:off x="800280" y="42321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5" name=""/>
                  <p:cNvSpPr/>
                  <p:nvPr/>
                </p:nvSpPr>
                <p:spPr>
                  <a:xfrm>
                    <a:off x="732240" y="42321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96" name=""/>
                <p:cNvSpPr/>
                <p:nvPr/>
              </p:nvSpPr>
              <p:spPr>
                <a:xfrm>
                  <a:off x="738000" y="423360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7" name=""/>
              <p:cNvSpPr/>
              <p:nvPr/>
            </p:nvSpPr>
            <p:spPr>
              <a:xfrm>
                <a:off x="979920" y="43419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898" name=""/>
            <p:cNvSpPr/>
            <p:nvPr/>
          </p:nvSpPr>
          <p:spPr>
            <a:xfrm>
              <a:off x="1881720" y="407340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SPICE 3F5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899" name=""/>
          <p:cNvSpPr/>
          <p:nvPr/>
        </p:nvSpPr>
        <p:spPr>
          <a:xfrm>
            <a:off x="1857960" y="1943280"/>
            <a:ext cx="226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How to check 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- visu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- synta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- ??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1739880" y="461016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- How to translate to other SPICE-tools 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- encrypted SPICE 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901" name=""/>
          <p:cNvGrpSpPr/>
          <p:nvPr/>
        </p:nvGrpSpPr>
        <p:grpSpPr>
          <a:xfrm>
            <a:off x="8806320" y="1152360"/>
            <a:ext cx="953280" cy="718920"/>
            <a:chOff x="8806320" y="1152360"/>
            <a:chExt cx="953280" cy="718920"/>
          </a:xfrm>
        </p:grpSpPr>
        <p:sp>
          <p:nvSpPr>
            <p:cNvPr id="2902" name=""/>
            <p:cNvSpPr/>
            <p:nvPr/>
          </p:nvSpPr>
          <p:spPr>
            <a:xfrm>
              <a:off x="8806320" y="1152360"/>
              <a:ext cx="95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3366"/>
                  </a:solidFill>
                  <a:latin typeface="Monotype Corsiva"/>
                </a:rPr>
                <a:t>question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903" name=""/>
            <p:cNvGrpSpPr/>
            <p:nvPr/>
          </p:nvGrpSpPr>
          <p:grpSpPr>
            <a:xfrm>
              <a:off x="8861400" y="1352880"/>
              <a:ext cx="514440" cy="518400"/>
              <a:chOff x="8861400" y="1352880"/>
              <a:chExt cx="514440" cy="518400"/>
            </a:xfrm>
          </p:grpSpPr>
          <p:sp>
            <p:nvSpPr>
              <p:cNvPr id="2904" name=""/>
              <p:cNvSpPr/>
              <p:nvPr/>
            </p:nvSpPr>
            <p:spPr>
              <a:xfrm>
                <a:off x="8964360" y="178632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9015840" y="171072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9118800" y="1710720"/>
                <a:ext cx="10296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8861400" y="178632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9067320" y="1786320"/>
                <a:ext cx="102960" cy="75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9169920" y="178632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9273240" y="178632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9041400" y="1481760"/>
                <a:ext cx="155520" cy="75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9170640" y="1634400"/>
                <a:ext cx="102600" cy="759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8964360" y="1634400"/>
                <a:ext cx="102960" cy="759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9067680" y="1634400"/>
                <a:ext cx="102600" cy="75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8913240" y="171072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9118800" y="155844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9015840" y="155844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918" name=""/>
              <p:cNvGrpSpPr/>
              <p:nvPr/>
            </p:nvGrpSpPr>
            <p:grpSpPr>
              <a:xfrm>
                <a:off x="9038520" y="1557360"/>
                <a:ext cx="159480" cy="313920"/>
                <a:chOff x="9038520" y="1557360"/>
                <a:chExt cx="159480" cy="313920"/>
              </a:xfrm>
            </p:grpSpPr>
            <p:sp>
              <p:nvSpPr>
                <p:cNvPr id="2919" name=""/>
                <p:cNvSpPr/>
                <p:nvPr/>
              </p:nvSpPr>
              <p:spPr>
                <a:xfrm>
                  <a:off x="9066960" y="1557360"/>
                  <a:ext cx="10296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9064080" y="1583280"/>
                  <a:ext cx="1080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9061560" y="1608480"/>
                  <a:ext cx="1130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9059040" y="1634400"/>
                  <a:ext cx="1184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9056520" y="1660320"/>
                  <a:ext cx="12348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9054000" y="1686600"/>
                  <a:ext cx="12852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9051120" y="1712880"/>
                  <a:ext cx="13392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9048600" y="1738800"/>
                  <a:ext cx="13896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9046080" y="1765440"/>
                  <a:ext cx="1440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9043560" y="1793160"/>
                  <a:ext cx="1494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9041040" y="1819080"/>
                  <a:ext cx="1544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9038520" y="1845000"/>
                  <a:ext cx="15948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1" name=""/>
              <p:cNvSpPr/>
              <p:nvPr/>
            </p:nvSpPr>
            <p:spPr>
              <a:xfrm rot="16200000">
                <a:off x="9054000" y="1363320"/>
                <a:ext cx="128880" cy="107640"/>
              </a:xfrm>
              <a:prstGeom prst="rect">
                <a:avLst/>
              </a:prstGeom>
              <a:solidFill>
                <a:srgbClr val="00ff99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932" name=""/>
              <p:cNvGrpSpPr/>
              <p:nvPr/>
            </p:nvGrpSpPr>
            <p:grpSpPr>
              <a:xfrm>
                <a:off x="9101880" y="1508400"/>
                <a:ext cx="32760" cy="48960"/>
                <a:chOff x="9101880" y="1508400"/>
                <a:chExt cx="32760" cy="48960"/>
              </a:xfrm>
            </p:grpSpPr>
            <p:grpSp>
              <p:nvGrpSpPr>
                <p:cNvPr id="2933" name=""/>
                <p:cNvGrpSpPr/>
                <p:nvPr/>
              </p:nvGrpSpPr>
              <p:grpSpPr>
                <a:xfrm>
                  <a:off x="9101880" y="1508400"/>
                  <a:ext cx="32760" cy="48960"/>
                  <a:chOff x="9101880" y="1508400"/>
                  <a:chExt cx="32760" cy="48960"/>
                </a:xfrm>
              </p:grpSpPr>
              <p:sp>
                <p:nvSpPr>
                  <p:cNvPr id="2934" name=""/>
                  <p:cNvSpPr/>
                  <p:nvPr/>
                </p:nvSpPr>
                <p:spPr>
                  <a:xfrm>
                    <a:off x="9101880" y="1508400"/>
                    <a:ext cx="0" cy="489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5" name=""/>
                  <p:cNvSpPr/>
                  <p:nvPr/>
                </p:nvSpPr>
                <p:spPr>
                  <a:xfrm>
                    <a:off x="9134640" y="1508400"/>
                    <a:ext cx="0" cy="489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6" name=""/>
                  <p:cNvSpPr/>
                  <p:nvPr/>
                </p:nvSpPr>
                <p:spPr>
                  <a:xfrm>
                    <a:off x="9101880" y="1508400"/>
                    <a:ext cx="327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7" name=""/>
                <p:cNvSpPr/>
                <p:nvPr/>
              </p:nvSpPr>
              <p:spPr>
                <a:xfrm>
                  <a:off x="9104760" y="1511280"/>
                  <a:ext cx="27720" cy="4608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8" name=""/>
              <p:cNvSpPr/>
              <p:nvPr/>
            </p:nvSpPr>
            <p:spPr>
              <a:xfrm>
                <a:off x="9221760" y="171072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Final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40" name=""/>
          <p:cNvGrpSpPr/>
          <p:nvPr/>
        </p:nvGrpSpPr>
        <p:grpSpPr>
          <a:xfrm>
            <a:off x="272880" y="5586480"/>
            <a:ext cx="4789080" cy="459720"/>
            <a:chOff x="272880" y="5586480"/>
            <a:chExt cx="4789080" cy="459720"/>
          </a:xfrm>
        </p:grpSpPr>
        <p:sp>
          <p:nvSpPr>
            <p:cNvPr id="2941" name=""/>
            <p:cNvSpPr/>
            <p:nvPr/>
          </p:nvSpPr>
          <p:spPr>
            <a:xfrm>
              <a:off x="1275480" y="5586480"/>
              <a:ext cx="378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E-roadshows sounds good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942" name=""/>
            <p:cNvGrpSpPr/>
            <p:nvPr/>
          </p:nvGrpSpPr>
          <p:grpSpPr>
            <a:xfrm>
              <a:off x="272880" y="5683320"/>
              <a:ext cx="609840" cy="281160"/>
              <a:chOff x="272880" y="5683320"/>
              <a:chExt cx="609840" cy="281160"/>
            </a:xfrm>
          </p:grpSpPr>
          <p:sp>
            <p:nvSpPr>
              <p:cNvPr id="2943" name=""/>
              <p:cNvSpPr/>
              <p:nvPr/>
            </p:nvSpPr>
            <p:spPr>
              <a:xfrm>
                <a:off x="394920" y="5918400"/>
                <a:ext cx="1213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456120" y="5877360"/>
                <a:ext cx="1213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578160" y="587736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272880" y="5918400"/>
                <a:ext cx="1213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516960" y="5918400"/>
                <a:ext cx="12204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638640" y="5918400"/>
                <a:ext cx="12204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61040" y="591840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486000" y="5752800"/>
                <a:ext cx="18432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639360" y="5835960"/>
                <a:ext cx="1213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394920" y="583596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17320" y="5835960"/>
                <a:ext cx="12204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334440" y="587736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78160" y="5794560"/>
                <a:ext cx="12132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456120" y="5794560"/>
                <a:ext cx="12132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957" name=""/>
              <p:cNvGrpSpPr/>
              <p:nvPr/>
            </p:nvGrpSpPr>
            <p:grpSpPr>
              <a:xfrm>
                <a:off x="483120" y="5794200"/>
                <a:ext cx="189000" cy="170280"/>
                <a:chOff x="483120" y="5794200"/>
                <a:chExt cx="189000" cy="170280"/>
              </a:xfrm>
            </p:grpSpPr>
            <p:sp>
              <p:nvSpPr>
                <p:cNvPr id="2958" name=""/>
                <p:cNvSpPr/>
                <p:nvPr/>
              </p:nvSpPr>
              <p:spPr>
                <a:xfrm>
                  <a:off x="516960" y="5794200"/>
                  <a:ext cx="1220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513360" y="5808240"/>
                  <a:ext cx="128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510480" y="5821920"/>
                  <a:ext cx="1342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507600" y="5835960"/>
                  <a:ext cx="1400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504360" y="5850000"/>
                  <a:ext cx="1465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501480" y="5864400"/>
                  <a:ext cx="1522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498240" y="5878440"/>
                  <a:ext cx="1587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495360" y="5892840"/>
                  <a:ext cx="1645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492120" y="5907240"/>
                  <a:ext cx="1706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489240" y="5922000"/>
                  <a:ext cx="1767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486000" y="5936040"/>
                  <a:ext cx="1828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483120" y="5950440"/>
                  <a:ext cx="189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0" name=""/>
              <p:cNvSpPr/>
              <p:nvPr/>
            </p:nvSpPr>
            <p:spPr>
              <a:xfrm rot="16200000">
                <a:off x="542520" y="5654160"/>
                <a:ext cx="69840" cy="12780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971" name=""/>
              <p:cNvGrpSpPr/>
              <p:nvPr/>
            </p:nvGrpSpPr>
            <p:grpSpPr>
              <a:xfrm>
                <a:off x="558000" y="5767560"/>
                <a:ext cx="38880" cy="26280"/>
                <a:chOff x="558000" y="5767560"/>
                <a:chExt cx="38880" cy="26280"/>
              </a:xfrm>
            </p:grpSpPr>
            <p:grpSp>
              <p:nvGrpSpPr>
                <p:cNvPr id="2972" name=""/>
                <p:cNvGrpSpPr/>
                <p:nvPr/>
              </p:nvGrpSpPr>
              <p:grpSpPr>
                <a:xfrm>
                  <a:off x="558000" y="5767560"/>
                  <a:ext cx="38880" cy="26280"/>
                  <a:chOff x="558000" y="5767560"/>
                  <a:chExt cx="38880" cy="26280"/>
                </a:xfrm>
              </p:grpSpPr>
              <p:sp>
                <p:nvSpPr>
                  <p:cNvPr id="2973" name=""/>
                  <p:cNvSpPr/>
                  <p:nvPr/>
                </p:nvSpPr>
                <p:spPr>
                  <a:xfrm>
                    <a:off x="558000" y="57675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4" name=""/>
                  <p:cNvSpPr/>
                  <p:nvPr/>
                </p:nvSpPr>
                <p:spPr>
                  <a:xfrm>
                    <a:off x="596880" y="57675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5" name=""/>
                  <p:cNvSpPr/>
                  <p:nvPr/>
                </p:nvSpPr>
                <p:spPr>
                  <a:xfrm>
                    <a:off x="558000" y="5767560"/>
                    <a:ext cx="3888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76" name=""/>
                <p:cNvSpPr/>
                <p:nvPr/>
              </p:nvSpPr>
              <p:spPr>
                <a:xfrm>
                  <a:off x="561240" y="5769000"/>
                  <a:ext cx="3276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7" name=""/>
              <p:cNvSpPr/>
              <p:nvPr/>
            </p:nvSpPr>
            <p:spPr>
              <a:xfrm>
                <a:off x="699840" y="587736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8" name=""/>
          <p:cNvGrpSpPr/>
          <p:nvPr/>
        </p:nvGrpSpPr>
        <p:grpSpPr>
          <a:xfrm>
            <a:off x="272880" y="3603600"/>
            <a:ext cx="7619760" cy="459720"/>
            <a:chOff x="272880" y="3603600"/>
            <a:chExt cx="7619760" cy="459720"/>
          </a:xfrm>
        </p:grpSpPr>
        <p:grpSp>
          <p:nvGrpSpPr>
            <p:cNvPr id="2979" name=""/>
            <p:cNvGrpSpPr/>
            <p:nvPr/>
          </p:nvGrpSpPr>
          <p:grpSpPr>
            <a:xfrm>
              <a:off x="272880" y="3720960"/>
              <a:ext cx="609840" cy="281160"/>
              <a:chOff x="272880" y="3720960"/>
              <a:chExt cx="609840" cy="281160"/>
            </a:xfrm>
          </p:grpSpPr>
          <p:sp>
            <p:nvSpPr>
              <p:cNvPr id="2980" name=""/>
              <p:cNvSpPr/>
              <p:nvPr/>
            </p:nvSpPr>
            <p:spPr>
              <a:xfrm>
                <a:off x="394920" y="3956040"/>
                <a:ext cx="1213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456120" y="3915000"/>
                <a:ext cx="1213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578160" y="391500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272880" y="3956040"/>
                <a:ext cx="1213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516960" y="3956040"/>
                <a:ext cx="12204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638640" y="3956040"/>
                <a:ext cx="12204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61040" y="395604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486000" y="3790440"/>
                <a:ext cx="18432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639360" y="3873600"/>
                <a:ext cx="1213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394920" y="387360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17320" y="3873600"/>
                <a:ext cx="12204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334440" y="391500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78160" y="3832200"/>
                <a:ext cx="12132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456120" y="3832200"/>
                <a:ext cx="12132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994" name=""/>
              <p:cNvGrpSpPr/>
              <p:nvPr/>
            </p:nvGrpSpPr>
            <p:grpSpPr>
              <a:xfrm>
                <a:off x="483120" y="3831840"/>
                <a:ext cx="189000" cy="170280"/>
                <a:chOff x="483120" y="3831840"/>
                <a:chExt cx="189000" cy="170280"/>
              </a:xfrm>
            </p:grpSpPr>
            <p:sp>
              <p:nvSpPr>
                <p:cNvPr id="2995" name=""/>
                <p:cNvSpPr/>
                <p:nvPr/>
              </p:nvSpPr>
              <p:spPr>
                <a:xfrm>
                  <a:off x="516960" y="3831840"/>
                  <a:ext cx="1220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513360" y="3845880"/>
                  <a:ext cx="128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510480" y="3859560"/>
                  <a:ext cx="1342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507600" y="3873600"/>
                  <a:ext cx="1400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504360" y="3887640"/>
                  <a:ext cx="1465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501480" y="3902040"/>
                  <a:ext cx="1522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498240" y="3916080"/>
                  <a:ext cx="1587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495360" y="3930480"/>
                  <a:ext cx="1645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492120" y="3944880"/>
                  <a:ext cx="1706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489240" y="3959640"/>
                  <a:ext cx="1767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486000" y="3973680"/>
                  <a:ext cx="1828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483120" y="3988080"/>
                  <a:ext cx="189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7" name=""/>
              <p:cNvSpPr/>
              <p:nvPr/>
            </p:nvSpPr>
            <p:spPr>
              <a:xfrm rot="16200000">
                <a:off x="542520" y="3691800"/>
                <a:ext cx="69840" cy="12780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008" name=""/>
              <p:cNvGrpSpPr/>
              <p:nvPr/>
            </p:nvGrpSpPr>
            <p:grpSpPr>
              <a:xfrm>
                <a:off x="558000" y="3805200"/>
                <a:ext cx="38880" cy="26280"/>
                <a:chOff x="558000" y="3805200"/>
                <a:chExt cx="38880" cy="26280"/>
              </a:xfrm>
            </p:grpSpPr>
            <p:grpSp>
              <p:nvGrpSpPr>
                <p:cNvPr id="3009" name=""/>
                <p:cNvGrpSpPr/>
                <p:nvPr/>
              </p:nvGrpSpPr>
              <p:grpSpPr>
                <a:xfrm>
                  <a:off x="558000" y="3805200"/>
                  <a:ext cx="38880" cy="26280"/>
                  <a:chOff x="558000" y="3805200"/>
                  <a:chExt cx="38880" cy="26280"/>
                </a:xfrm>
              </p:grpSpPr>
              <p:sp>
                <p:nvSpPr>
                  <p:cNvPr id="3010" name=""/>
                  <p:cNvSpPr/>
                  <p:nvPr/>
                </p:nvSpPr>
                <p:spPr>
                  <a:xfrm>
                    <a:off x="558000" y="38052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1" name=""/>
                  <p:cNvSpPr/>
                  <p:nvPr/>
                </p:nvSpPr>
                <p:spPr>
                  <a:xfrm>
                    <a:off x="596880" y="38052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2" name=""/>
                  <p:cNvSpPr/>
                  <p:nvPr/>
                </p:nvSpPr>
                <p:spPr>
                  <a:xfrm>
                    <a:off x="558000" y="3805200"/>
                    <a:ext cx="3888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13" name=""/>
                <p:cNvSpPr/>
                <p:nvPr/>
              </p:nvSpPr>
              <p:spPr>
                <a:xfrm>
                  <a:off x="561240" y="3806640"/>
                  <a:ext cx="3276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4" name=""/>
              <p:cNvSpPr/>
              <p:nvPr/>
            </p:nvSpPr>
            <p:spPr>
              <a:xfrm>
                <a:off x="699840" y="391500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015" name=""/>
            <p:cNvSpPr/>
            <p:nvPr/>
          </p:nvSpPr>
          <p:spPr>
            <a:xfrm>
              <a:off x="1270080" y="3603600"/>
              <a:ext cx="662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IC vendors must support new parameters faste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16" name=""/>
          <p:cNvGrpSpPr/>
          <p:nvPr/>
        </p:nvGrpSpPr>
        <p:grpSpPr>
          <a:xfrm>
            <a:off x="272880" y="1609560"/>
            <a:ext cx="7838280" cy="459720"/>
            <a:chOff x="272880" y="1609560"/>
            <a:chExt cx="7838280" cy="459720"/>
          </a:xfrm>
        </p:grpSpPr>
        <p:grpSp>
          <p:nvGrpSpPr>
            <p:cNvPr id="3017" name=""/>
            <p:cNvGrpSpPr/>
            <p:nvPr/>
          </p:nvGrpSpPr>
          <p:grpSpPr>
            <a:xfrm>
              <a:off x="272880" y="1653840"/>
              <a:ext cx="609840" cy="281160"/>
              <a:chOff x="272880" y="1653840"/>
              <a:chExt cx="609840" cy="281160"/>
            </a:xfrm>
          </p:grpSpPr>
          <p:sp>
            <p:nvSpPr>
              <p:cNvPr id="3018" name=""/>
              <p:cNvSpPr/>
              <p:nvPr/>
            </p:nvSpPr>
            <p:spPr>
              <a:xfrm>
                <a:off x="394920" y="1888920"/>
                <a:ext cx="1213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56120" y="1847880"/>
                <a:ext cx="1213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578160" y="184788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272880" y="1888920"/>
                <a:ext cx="1213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516960" y="1888920"/>
                <a:ext cx="12204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638640" y="1888920"/>
                <a:ext cx="12204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761040" y="188892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86000" y="1723320"/>
                <a:ext cx="18432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639360" y="1806480"/>
                <a:ext cx="1213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394920" y="180648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17320" y="1806480"/>
                <a:ext cx="12204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34440" y="184788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78160" y="1765080"/>
                <a:ext cx="12132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56120" y="1765080"/>
                <a:ext cx="12132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032" name=""/>
              <p:cNvGrpSpPr/>
              <p:nvPr/>
            </p:nvGrpSpPr>
            <p:grpSpPr>
              <a:xfrm>
                <a:off x="483120" y="1764720"/>
                <a:ext cx="189000" cy="170280"/>
                <a:chOff x="483120" y="1764720"/>
                <a:chExt cx="189000" cy="170280"/>
              </a:xfrm>
            </p:grpSpPr>
            <p:sp>
              <p:nvSpPr>
                <p:cNvPr id="3033" name=""/>
                <p:cNvSpPr/>
                <p:nvPr/>
              </p:nvSpPr>
              <p:spPr>
                <a:xfrm>
                  <a:off x="516960" y="1764720"/>
                  <a:ext cx="1220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513360" y="1778760"/>
                  <a:ext cx="128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510480" y="1792440"/>
                  <a:ext cx="1342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507600" y="1806480"/>
                  <a:ext cx="1400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504360" y="1820520"/>
                  <a:ext cx="1465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501480" y="1834920"/>
                  <a:ext cx="1522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498240" y="1848960"/>
                  <a:ext cx="1587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495360" y="1863360"/>
                  <a:ext cx="1645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492120" y="1877760"/>
                  <a:ext cx="1706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489240" y="1892520"/>
                  <a:ext cx="1767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486000" y="1906560"/>
                  <a:ext cx="1828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483120" y="1920960"/>
                  <a:ext cx="189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45" name=""/>
              <p:cNvSpPr/>
              <p:nvPr/>
            </p:nvSpPr>
            <p:spPr>
              <a:xfrm rot="16200000">
                <a:off x="542520" y="1624680"/>
                <a:ext cx="69840" cy="12780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046" name=""/>
              <p:cNvGrpSpPr/>
              <p:nvPr/>
            </p:nvGrpSpPr>
            <p:grpSpPr>
              <a:xfrm>
                <a:off x="558000" y="1738080"/>
                <a:ext cx="38880" cy="26280"/>
                <a:chOff x="558000" y="1738080"/>
                <a:chExt cx="38880" cy="26280"/>
              </a:xfrm>
            </p:grpSpPr>
            <p:grpSp>
              <p:nvGrpSpPr>
                <p:cNvPr id="3047" name=""/>
                <p:cNvGrpSpPr/>
                <p:nvPr/>
              </p:nvGrpSpPr>
              <p:grpSpPr>
                <a:xfrm>
                  <a:off x="558000" y="1738080"/>
                  <a:ext cx="38880" cy="26280"/>
                  <a:chOff x="558000" y="1738080"/>
                  <a:chExt cx="38880" cy="26280"/>
                </a:xfrm>
              </p:grpSpPr>
              <p:sp>
                <p:nvSpPr>
                  <p:cNvPr id="3048" name=""/>
                  <p:cNvSpPr/>
                  <p:nvPr/>
                </p:nvSpPr>
                <p:spPr>
                  <a:xfrm>
                    <a:off x="558000" y="17380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9" name=""/>
                  <p:cNvSpPr/>
                  <p:nvPr/>
                </p:nvSpPr>
                <p:spPr>
                  <a:xfrm>
                    <a:off x="596880" y="17380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0" name=""/>
                  <p:cNvSpPr/>
                  <p:nvPr/>
                </p:nvSpPr>
                <p:spPr>
                  <a:xfrm>
                    <a:off x="558000" y="1738080"/>
                    <a:ext cx="3888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51" name=""/>
                <p:cNvSpPr/>
                <p:nvPr/>
              </p:nvSpPr>
              <p:spPr>
                <a:xfrm>
                  <a:off x="561240" y="1739520"/>
                  <a:ext cx="3276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2" name=""/>
              <p:cNvSpPr/>
              <p:nvPr/>
            </p:nvSpPr>
            <p:spPr>
              <a:xfrm>
                <a:off x="699840" y="184788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053" name=""/>
            <p:cNvSpPr/>
            <p:nvPr/>
          </p:nvSpPr>
          <p:spPr>
            <a:xfrm>
              <a:off x="1272240" y="1609560"/>
              <a:ext cx="68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Acceptance of new IBIS-versions must be higher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54" name=""/>
          <p:cNvGrpSpPr/>
          <p:nvPr/>
        </p:nvGrpSpPr>
        <p:grpSpPr>
          <a:xfrm>
            <a:off x="272880" y="2620800"/>
            <a:ext cx="6959160" cy="459720"/>
            <a:chOff x="272880" y="2620800"/>
            <a:chExt cx="6959160" cy="459720"/>
          </a:xfrm>
        </p:grpSpPr>
        <p:grpSp>
          <p:nvGrpSpPr>
            <p:cNvPr id="3055" name=""/>
            <p:cNvGrpSpPr/>
            <p:nvPr/>
          </p:nvGrpSpPr>
          <p:grpSpPr>
            <a:xfrm>
              <a:off x="272880" y="2703240"/>
              <a:ext cx="609840" cy="281160"/>
              <a:chOff x="272880" y="2703240"/>
              <a:chExt cx="609840" cy="281160"/>
            </a:xfrm>
          </p:grpSpPr>
          <p:sp>
            <p:nvSpPr>
              <p:cNvPr id="3056" name=""/>
              <p:cNvSpPr/>
              <p:nvPr/>
            </p:nvSpPr>
            <p:spPr>
              <a:xfrm>
                <a:off x="394920" y="2938320"/>
                <a:ext cx="1213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456120" y="2897280"/>
                <a:ext cx="1213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78160" y="289728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72880" y="2938320"/>
                <a:ext cx="1213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16960" y="2938320"/>
                <a:ext cx="12204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38640" y="2938320"/>
                <a:ext cx="12204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61040" y="293832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486000" y="2772720"/>
                <a:ext cx="18432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639360" y="2855880"/>
                <a:ext cx="1213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394920" y="285588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17320" y="2855880"/>
                <a:ext cx="12204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334440" y="289728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78160" y="2814480"/>
                <a:ext cx="12132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56120" y="2814480"/>
                <a:ext cx="12132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070" name=""/>
              <p:cNvGrpSpPr/>
              <p:nvPr/>
            </p:nvGrpSpPr>
            <p:grpSpPr>
              <a:xfrm>
                <a:off x="483120" y="2814120"/>
                <a:ext cx="189000" cy="170280"/>
                <a:chOff x="483120" y="2814120"/>
                <a:chExt cx="189000" cy="170280"/>
              </a:xfrm>
            </p:grpSpPr>
            <p:sp>
              <p:nvSpPr>
                <p:cNvPr id="3071" name=""/>
                <p:cNvSpPr/>
                <p:nvPr/>
              </p:nvSpPr>
              <p:spPr>
                <a:xfrm>
                  <a:off x="516960" y="2814120"/>
                  <a:ext cx="1220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513360" y="2828160"/>
                  <a:ext cx="128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510480" y="2841840"/>
                  <a:ext cx="1342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507600" y="2855880"/>
                  <a:ext cx="1400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504360" y="2869920"/>
                  <a:ext cx="1465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501480" y="2884320"/>
                  <a:ext cx="1522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498240" y="2898360"/>
                  <a:ext cx="1587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495360" y="2912760"/>
                  <a:ext cx="1645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492120" y="2927160"/>
                  <a:ext cx="1706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489240" y="2941920"/>
                  <a:ext cx="1767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486000" y="2955960"/>
                  <a:ext cx="1828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483120" y="2970360"/>
                  <a:ext cx="189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3" name=""/>
              <p:cNvSpPr/>
              <p:nvPr/>
            </p:nvSpPr>
            <p:spPr>
              <a:xfrm rot="16200000">
                <a:off x="542520" y="2674080"/>
                <a:ext cx="69840" cy="12780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084" name=""/>
              <p:cNvGrpSpPr/>
              <p:nvPr/>
            </p:nvGrpSpPr>
            <p:grpSpPr>
              <a:xfrm>
                <a:off x="558000" y="2787480"/>
                <a:ext cx="38880" cy="26280"/>
                <a:chOff x="558000" y="2787480"/>
                <a:chExt cx="38880" cy="26280"/>
              </a:xfrm>
            </p:grpSpPr>
            <p:grpSp>
              <p:nvGrpSpPr>
                <p:cNvPr id="3085" name=""/>
                <p:cNvGrpSpPr/>
                <p:nvPr/>
              </p:nvGrpSpPr>
              <p:grpSpPr>
                <a:xfrm>
                  <a:off x="558000" y="2787480"/>
                  <a:ext cx="38880" cy="26280"/>
                  <a:chOff x="558000" y="2787480"/>
                  <a:chExt cx="38880" cy="26280"/>
                </a:xfrm>
              </p:grpSpPr>
              <p:sp>
                <p:nvSpPr>
                  <p:cNvPr id="3086" name=""/>
                  <p:cNvSpPr/>
                  <p:nvPr/>
                </p:nvSpPr>
                <p:spPr>
                  <a:xfrm>
                    <a:off x="558000" y="27874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7" name=""/>
                  <p:cNvSpPr/>
                  <p:nvPr/>
                </p:nvSpPr>
                <p:spPr>
                  <a:xfrm>
                    <a:off x="596880" y="27874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8" name=""/>
                  <p:cNvSpPr/>
                  <p:nvPr/>
                </p:nvSpPr>
                <p:spPr>
                  <a:xfrm>
                    <a:off x="558000" y="2787480"/>
                    <a:ext cx="3888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89" name=""/>
                <p:cNvSpPr/>
                <p:nvPr/>
              </p:nvSpPr>
              <p:spPr>
                <a:xfrm>
                  <a:off x="561240" y="2788920"/>
                  <a:ext cx="3276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0" name=""/>
              <p:cNvSpPr/>
              <p:nvPr/>
            </p:nvSpPr>
            <p:spPr>
              <a:xfrm>
                <a:off x="699840" y="289728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091" name=""/>
            <p:cNvSpPr/>
            <p:nvPr/>
          </p:nvSpPr>
          <p:spPr>
            <a:xfrm>
              <a:off x="1275480" y="2620800"/>
              <a:ext cx="595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More graphical explanations of parameter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92" name=""/>
          <p:cNvGrpSpPr/>
          <p:nvPr/>
        </p:nvGrpSpPr>
        <p:grpSpPr>
          <a:xfrm>
            <a:off x="9056520" y="1192320"/>
            <a:ext cx="718920" cy="718560"/>
            <a:chOff x="9056520" y="1192320"/>
            <a:chExt cx="718920" cy="718560"/>
          </a:xfrm>
        </p:grpSpPr>
        <p:sp>
          <p:nvSpPr>
            <p:cNvPr id="3093" name=""/>
            <p:cNvSpPr/>
            <p:nvPr/>
          </p:nvSpPr>
          <p:spPr>
            <a:xfrm>
              <a:off x="9056520" y="1192320"/>
              <a:ext cx="183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094" name=""/>
            <p:cNvGrpSpPr/>
            <p:nvPr/>
          </p:nvGrpSpPr>
          <p:grpSpPr>
            <a:xfrm>
              <a:off x="9440640" y="1243440"/>
              <a:ext cx="334800" cy="667440"/>
              <a:chOff x="9440640" y="1243440"/>
              <a:chExt cx="334800" cy="667440"/>
            </a:xfrm>
          </p:grpSpPr>
          <p:sp>
            <p:nvSpPr>
              <p:cNvPr id="3095" name=""/>
              <p:cNvSpPr/>
              <p:nvPr/>
            </p:nvSpPr>
            <p:spPr>
              <a:xfrm>
                <a:off x="9507600" y="17996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9541080" y="17024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9608400" y="17024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9440640" y="17996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9574560" y="1799640"/>
                <a:ext cx="66960" cy="96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9641520" y="1799640"/>
                <a:ext cx="6696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9708840" y="17996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9557640" y="1408680"/>
                <a:ext cx="101160" cy="97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9641520" y="1604520"/>
                <a:ext cx="66960" cy="97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9507600" y="1604520"/>
                <a:ext cx="66960" cy="97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9574920" y="1604520"/>
                <a:ext cx="66600" cy="97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9474120" y="1702440"/>
                <a:ext cx="6696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9608040" y="1506960"/>
                <a:ext cx="66960" cy="972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9541080" y="1506960"/>
                <a:ext cx="66600" cy="972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109" name=""/>
              <p:cNvGrpSpPr/>
              <p:nvPr/>
            </p:nvGrpSpPr>
            <p:grpSpPr>
              <a:xfrm>
                <a:off x="9556920" y="1508040"/>
                <a:ext cx="104040" cy="402840"/>
                <a:chOff x="9556920" y="1508040"/>
                <a:chExt cx="104040" cy="402840"/>
              </a:xfrm>
            </p:grpSpPr>
            <p:sp>
              <p:nvSpPr>
                <p:cNvPr id="3110" name=""/>
                <p:cNvSpPr/>
                <p:nvPr/>
              </p:nvSpPr>
              <p:spPr>
                <a:xfrm>
                  <a:off x="9575640" y="1508040"/>
                  <a:ext cx="669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>
                  <a:off x="9573480" y="1541520"/>
                  <a:ext cx="705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9572040" y="1573560"/>
                  <a:ext cx="7380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>
                  <a:off x="9570240" y="1607040"/>
                  <a:ext cx="7704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>
                  <a:off x="9568440" y="1640160"/>
                  <a:ext cx="8064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>
                  <a:off x="9567000" y="1674000"/>
                  <a:ext cx="8388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>
                  <a:off x="9565200" y="1707480"/>
                  <a:ext cx="8748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9563400" y="1740960"/>
                  <a:ext cx="9072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9561960" y="1774800"/>
                  <a:ext cx="939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9560160" y="1810440"/>
                  <a:ext cx="9756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>
                  <a:off x="9558360" y="1843920"/>
                  <a:ext cx="10080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>
                  <a:off x="9556920" y="1877400"/>
                  <a:ext cx="104040" cy="33480"/>
                </a:xfrm>
                <a:prstGeom prst="rect">
                  <a:avLst/>
                </a:prstGeom>
                <a:solidFill>
                  <a:srgbClr val="33cc33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22" name=""/>
              <p:cNvSpPr/>
              <p:nvPr/>
            </p:nvSpPr>
            <p:spPr>
              <a:xfrm rot="16200000">
                <a:off x="9524880" y="1291320"/>
                <a:ext cx="165600" cy="69840"/>
              </a:xfrm>
              <a:prstGeom prst="rect">
                <a:avLst/>
              </a:prstGeom>
              <a:solidFill>
                <a:srgbClr val="33cc33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123" name=""/>
              <p:cNvGrpSpPr/>
              <p:nvPr/>
            </p:nvGrpSpPr>
            <p:grpSpPr>
              <a:xfrm>
                <a:off x="9597240" y="1442520"/>
                <a:ext cx="21240" cy="63000"/>
                <a:chOff x="9597240" y="1442520"/>
                <a:chExt cx="21240" cy="63000"/>
              </a:xfrm>
            </p:grpSpPr>
            <p:grpSp>
              <p:nvGrpSpPr>
                <p:cNvPr id="3124" name=""/>
                <p:cNvGrpSpPr/>
                <p:nvPr/>
              </p:nvGrpSpPr>
              <p:grpSpPr>
                <a:xfrm>
                  <a:off x="9597240" y="1442520"/>
                  <a:ext cx="21240" cy="63000"/>
                  <a:chOff x="9597240" y="1442520"/>
                  <a:chExt cx="21240" cy="63000"/>
                </a:xfrm>
              </p:grpSpPr>
              <p:sp>
                <p:nvSpPr>
                  <p:cNvPr id="3125" name=""/>
                  <p:cNvSpPr/>
                  <p:nvPr/>
                </p:nvSpPr>
                <p:spPr>
                  <a:xfrm>
                    <a:off x="9597240" y="1442520"/>
                    <a:ext cx="0" cy="630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6" name=""/>
                  <p:cNvSpPr/>
                  <p:nvPr/>
                </p:nvSpPr>
                <p:spPr>
                  <a:xfrm>
                    <a:off x="9618480" y="1442520"/>
                    <a:ext cx="0" cy="630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7" name=""/>
                  <p:cNvSpPr/>
                  <p:nvPr/>
                </p:nvSpPr>
                <p:spPr>
                  <a:xfrm>
                    <a:off x="9597240" y="1442520"/>
                    <a:ext cx="212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28" name=""/>
                <p:cNvSpPr/>
                <p:nvPr/>
              </p:nvSpPr>
              <p:spPr>
                <a:xfrm>
                  <a:off x="9599040" y="1446120"/>
                  <a:ext cx="18000" cy="594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29" name=""/>
              <p:cNvSpPr/>
              <p:nvPr/>
            </p:nvSpPr>
            <p:spPr>
              <a:xfrm>
                <a:off x="9675000" y="1702440"/>
                <a:ext cx="66600" cy="96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30" name=""/>
          <p:cNvGrpSpPr/>
          <p:nvPr/>
        </p:nvGrpSpPr>
        <p:grpSpPr>
          <a:xfrm>
            <a:off x="272880" y="4680000"/>
            <a:ext cx="7907760" cy="459720"/>
            <a:chOff x="272880" y="4680000"/>
            <a:chExt cx="7907760" cy="459720"/>
          </a:xfrm>
        </p:grpSpPr>
        <p:grpSp>
          <p:nvGrpSpPr>
            <p:cNvPr id="3131" name=""/>
            <p:cNvGrpSpPr/>
            <p:nvPr/>
          </p:nvGrpSpPr>
          <p:grpSpPr>
            <a:xfrm>
              <a:off x="272880" y="4797360"/>
              <a:ext cx="609840" cy="281160"/>
              <a:chOff x="272880" y="4797360"/>
              <a:chExt cx="609840" cy="281160"/>
            </a:xfrm>
          </p:grpSpPr>
          <p:sp>
            <p:nvSpPr>
              <p:cNvPr id="3132" name=""/>
              <p:cNvSpPr/>
              <p:nvPr/>
            </p:nvSpPr>
            <p:spPr>
              <a:xfrm>
                <a:off x="394920" y="5032440"/>
                <a:ext cx="1213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456120" y="4991400"/>
                <a:ext cx="1213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578160" y="499140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272880" y="5032440"/>
                <a:ext cx="1213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516960" y="5032440"/>
                <a:ext cx="12204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638640" y="5032440"/>
                <a:ext cx="12204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61040" y="503244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486000" y="4866840"/>
                <a:ext cx="18432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39360" y="4950000"/>
                <a:ext cx="1213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394920" y="495000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517320" y="4950000"/>
                <a:ext cx="12204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334440" y="499140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578160" y="4908600"/>
                <a:ext cx="12132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456120" y="4908600"/>
                <a:ext cx="12132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146" name=""/>
              <p:cNvGrpSpPr/>
              <p:nvPr/>
            </p:nvGrpSpPr>
            <p:grpSpPr>
              <a:xfrm>
                <a:off x="483120" y="4908240"/>
                <a:ext cx="189000" cy="170280"/>
                <a:chOff x="483120" y="4908240"/>
                <a:chExt cx="189000" cy="170280"/>
              </a:xfrm>
            </p:grpSpPr>
            <p:sp>
              <p:nvSpPr>
                <p:cNvPr id="3147" name=""/>
                <p:cNvSpPr/>
                <p:nvPr/>
              </p:nvSpPr>
              <p:spPr>
                <a:xfrm>
                  <a:off x="516960" y="4908240"/>
                  <a:ext cx="1220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513360" y="4922280"/>
                  <a:ext cx="128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510480" y="4935960"/>
                  <a:ext cx="1342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507600" y="4950000"/>
                  <a:ext cx="1400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504360" y="4964040"/>
                  <a:ext cx="1465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>
                  <a:off x="501480" y="4978440"/>
                  <a:ext cx="1522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498240" y="4992480"/>
                  <a:ext cx="1587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495360" y="5006880"/>
                  <a:ext cx="1645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492120" y="5021280"/>
                  <a:ext cx="1706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489240" y="5036040"/>
                  <a:ext cx="1767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486000" y="5050080"/>
                  <a:ext cx="1828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483120" y="5064480"/>
                  <a:ext cx="189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9" name=""/>
              <p:cNvSpPr/>
              <p:nvPr/>
            </p:nvSpPr>
            <p:spPr>
              <a:xfrm rot="16200000">
                <a:off x="542520" y="4768200"/>
                <a:ext cx="69840" cy="12780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160" name=""/>
              <p:cNvGrpSpPr/>
              <p:nvPr/>
            </p:nvGrpSpPr>
            <p:grpSpPr>
              <a:xfrm>
                <a:off x="558000" y="4881600"/>
                <a:ext cx="38880" cy="26280"/>
                <a:chOff x="558000" y="4881600"/>
                <a:chExt cx="38880" cy="26280"/>
              </a:xfrm>
            </p:grpSpPr>
            <p:grpSp>
              <p:nvGrpSpPr>
                <p:cNvPr id="3161" name=""/>
                <p:cNvGrpSpPr/>
                <p:nvPr/>
              </p:nvGrpSpPr>
              <p:grpSpPr>
                <a:xfrm>
                  <a:off x="558000" y="4881600"/>
                  <a:ext cx="38880" cy="26280"/>
                  <a:chOff x="558000" y="4881600"/>
                  <a:chExt cx="38880" cy="26280"/>
                </a:xfrm>
              </p:grpSpPr>
              <p:sp>
                <p:nvSpPr>
                  <p:cNvPr id="3162" name=""/>
                  <p:cNvSpPr/>
                  <p:nvPr/>
                </p:nvSpPr>
                <p:spPr>
                  <a:xfrm>
                    <a:off x="558000" y="48816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3" name=""/>
                  <p:cNvSpPr/>
                  <p:nvPr/>
                </p:nvSpPr>
                <p:spPr>
                  <a:xfrm>
                    <a:off x="596880" y="48816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4" name=""/>
                  <p:cNvSpPr/>
                  <p:nvPr/>
                </p:nvSpPr>
                <p:spPr>
                  <a:xfrm>
                    <a:off x="558000" y="4881600"/>
                    <a:ext cx="3888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65" name=""/>
                <p:cNvSpPr/>
                <p:nvPr/>
              </p:nvSpPr>
              <p:spPr>
                <a:xfrm>
                  <a:off x="561240" y="4883040"/>
                  <a:ext cx="3276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6" name=""/>
              <p:cNvSpPr/>
              <p:nvPr/>
            </p:nvSpPr>
            <p:spPr>
              <a:xfrm>
                <a:off x="699840" y="4991400"/>
                <a:ext cx="1216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167" name=""/>
            <p:cNvSpPr/>
            <p:nvPr/>
          </p:nvSpPr>
          <p:spPr>
            <a:xfrm>
              <a:off x="1271520" y="4680000"/>
              <a:ext cx="69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Tool vendors must support new parameters faste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3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3366"/>
                </a:solidFill>
                <a:latin typeface="Arial"/>
              </a:rPr>
              <a:t>IBIS 4.1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-120240" y="1143000"/>
            <a:ext cx="1458000" cy="718920"/>
            <a:chOff x="-120240" y="1143000"/>
            <a:chExt cx="1458000" cy="718920"/>
          </a:xfrm>
        </p:grpSpPr>
        <p:sp>
          <p:nvSpPr>
            <p:cNvPr id="199" name=""/>
            <p:cNvSpPr/>
            <p:nvPr/>
          </p:nvSpPr>
          <p:spPr>
            <a:xfrm>
              <a:off x="-120240" y="1143000"/>
              <a:ext cx="145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3366"/>
                  </a:solidFill>
                  <a:latin typeface="Monotype Corsiva"/>
                </a:rPr>
                <a:t>Current statu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11680" y="1363680"/>
              <a:ext cx="311760" cy="498240"/>
              <a:chOff x="211680" y="1363680"/>
              <a:chExt cx="311760" cy="498240"/>
            </a:xfrm>
          </p:grpSpPr>
          <p:sp>
            <p:nvSpPr>
              <p:cNvPr id="201" name=""/>
              <p:cNvSpPr/>
              <p:nvPr/>
            </p:nvSpPr>
            <p:spPr>
              <a:xfrm>
                <a:off x="273960" y="1779840"/>
                <a:ext cx="61920" cy="7272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5280" y="1707120"/>
                <a:ext cx="62280" cy="723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7920" y="1707120"/>
                <a:ext cx="61920" cy="723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11680" y="1779840"/>
                <a:ext cx="61920" cy="7272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36240" y="1779840"/>
                <a:ext cx="6228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98880" y="1779840"/>
                <a:ext cx="61920" cy="7272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61520" y="1779840"/>
                <a:ext cx="61920" cy="7272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20760" y="1487160"/>
                <a:ext cx="9396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9240" y="1634400"/>
                <a:ext cx="62280" cy="7272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73960" y="1634400"/>
                <a:ext cx="61920" cy="7272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36600" y="1634400"/>
                <a:ext cx="6228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43000" y="1707120"/>
                <a:ext cx="61920" cy="723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67920" y="1561320"/>
                <a:ext cx="62280" cy="7308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05280" y="1561320"/>
                <a:ext cx="62280" cy="7308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318960" y="1559880"/>
                <a:ext cx="96840" cy="302040"/>
                <a:chOff x="318960" y="1559880"/>
                <a:chExt cx="96840" cy="3020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36240" y="1559880"/>
                  <a:ext cx="62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34440" y="158508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33000" y="1609200"/>
                  <a:ext cx="68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31200" y="1634040"/>
                  <a:ext cx="72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29760" y="165888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28320" y="1684440"/>
                  <a:ext cx="78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520" y="1709640"/>
                  <a:ext cx="81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25080" y="1734480"/>
                  <a:ext cx="84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23640" y="1760040"/>
                  <a:ext cx="87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21840" y="1786680"/>
                  <a:ext cx="907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20400" y="1811520"/>
                  <a:ext cx="939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8960" y="1836720"/>
                  <a:ext cx="968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 rot="16200000">
                <a:off x="305280" y="1392840"/>
                <a:ext cx="12384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357840" y="1513080"/>
                <a:ext cx="19800" cy="46800"/>
                <a:chOff x="357840" y="1513080"/>
                <a:chExt cx="19800" cy="46800"/>
              </a:xfrm>
            </p:grpSpPr>
            <p:grpSp>
              <p:nvGrpSpPr>
                <p:cNvPr id="230" name=""/>
                <p:cNvGrpSpPr/>
                <p:nvPr/>
              </p:nvGrpSpPr>
              <p:grpSpPr>
                <a:xfrm>
                  <a:off x="357840" y="1513080"/>
                  <a:ext cx="19800" cy="46800"/>
                  <a:chOff x="357840" y="1513080"/>
                  <a:chExt cx="19800" cy="4680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>
                    <a:off x="357840" y="15130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377640" y="15130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57840" y="151308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4" name=""/>
                <p:cNvSpPr/>
                <p:nvPr/>
              </p:nvSpPr>
              <p:spPr>
                <a:xfrm>
                  <a:off x="359280" y="1515600"/>
                  <a:ext cx="16920" cy="4428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430200" y="1707120"/>
                <a:ext cx="62280" cy="723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6" name=""/>
          <p:cNvSpPr/>
          <p:nvPr/>
        </p:nvSpPr>
        <p:spPr>
          <a:xfrm>
            <a:off x="800640" y="1463760"/>
            <a:ext cx="43642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IBIS 4.1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Includes now external models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VHDL AM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Verilog AM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SPICE ( 3F5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New Keyword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8485560" y="1125360"/>
            <a:ext cx="1458000" cy="718920"/>
            <a:chOff x="8485560" y="1125360"/>
            <a:chExt cx="1458000" cy="718920"/>
          </a:xfrm>
        </p:grpSpPr>
        <p:sp>
          <p:nvSpPr>
            <p:cNvPr id="239" name=""/>
            <p:cNvSpPr/>
            <p:nvPr/>
          </p:nvSpPr>
          <p:spPr>
            <a:xfrm>
              <a:off x="8485560" y="1125360"/>
              <a:ext cx="145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3366"/>
                  </a:solidFill>
                  <a:latin typeface="Monotype Corsiva"/>
                </a:rPr>
                <a:t>Current statu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8816400" y="1346040"/>
              <a:ext cx="310680" cy="498240"/>
              <a:chOff x="8816400" y="1346040"/>
              <a:chExt cx="310680" cy="498240"/>
            </a:xfrm>
          </p:grpSpPr>
          <p:sp>
            <p:nvSpPr>
              <p:cNvPr id="241" name=""/>
              <p:cNvSpPr/>
              <p:nvPr/>
            </p:nvSpPr>
            <p:spPr>
              <a:xfrm>
                <a:off x="8878680" y="1762200"/>
                <a:ext cx="61920" cy="7272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909640" y="1689480"/>
                <a:ext cx="61920" cy="723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971920" y="1689480"/>
                <a:ext cx="61920" cy="723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816400" y="1762200"/>
                <a:ext cx="61920" cy="7272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940600" y="1762200"/>
                <a:ext cx="6228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002880" y="1762200"/>
                <a:ext cx="61920" cy="7272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065160" y="1762200"/>
                <a:ext cx="61920" cy="7272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925120" y="1469520"/>
                <a:ext cx="9360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9003240" y="1616760"/>
                <a:ext cx="61920" cy="7272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878680" y="1616760"/>
                <a:ext cx="61920" cy="7272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940960" y="16167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847720" y="1689480"/>
                <a:ext cx="61920" cy="723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971920" y="1543680"/>
                <a:ext cx="61920" cy="7308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909640" y="1543680"/>
                <a:ext cx="61920" cy="7308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8923320" y="1542240"/>
                <a:ext cx="96480" cy="302040"/>
                <a:chOff x="8923320" y="1542240"/>
                <a:chExt cx="96480" cy="3020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8940600" y="154224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938800" y="156744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937360" y="159156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935560" y="161640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934120" y="164124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932680" y="166680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930880" y="169200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929440" y="171684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928000" y="174240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926200" y="176904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24760" y="179388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923320" y="181908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 rot="16200000">
                <a:off x="8909640" y="1375560"/>
                <a:ext cx="123840" cy="6480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8961840" y="1495440"/>
                <a:ext cx="19440" cy="46800"/>
                <a:chOff x="8961840" y="1495440"/>
                <a:chExt cx="19440" cy="4680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8961840" y="1495440"/>
                  <a:ext cx="19440" cy="46800"/>
                  <a:chOff x="8961840" y="1495440"/>
                  <a:chExt cx="19440" cy="4680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8961840" y="149544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8981280" y="149544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8961840" y="1495440"/>
                    <a:ext cx="194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4" name=""/>
                <p:cNvSpPr/>
                <p:nvPr/>
              </p:nvSpPr>
              <p:spPr>
                <a:xfrm>
                  <a:off x="8963280" y="1497960"/>
                  <a:ext cx="16560" cy="4428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>
                <a:off x="9033840" y="1689480"/>
                <a:ext cx="61920" cy="723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"/>
          <p:cNvSpPr/>
          <p:nvPr/>
        </p:nvSpPr>
        <p:spPr>
          <a:xfrm>
            <a:off x="674640" y="1236600"/>
            <a:ext cx="31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Keyword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35840" y="1889280"/>
            <a:ext cx="556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s connectivity and IBIS-Parameter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ke VinH, VinL from [Model] Keywor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80120" y="3209760"/>
            <a:ext cx="44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Connectivity an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measurement parameters ar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defined inside ‚external circuit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( e.g. Inputs with 4 Thresholds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63080" y="3200400"/>
            <a:ext cx="4177080" cy="2288520"/>
            <a:chOff x="163080" y="3200400"/>
            <a:chExt cx="4177080" cy="2288520"/>
          </a:xfrm>
        </p:grpSpPr>
        <p:grpSp>
          <p:nvGrpSpPr>
            <p:cNvPr id="280" name=""/>
            <p:cNvGrpSpPr/>
            <p:nvPr/>
          </p:nvGrpSpPr>
          <p:grpSpPr>
            <a:xfrm>
              <a:off x="163080" y="3875040"/>
              <a:ext cx="281160" cy="1066680"/>
              <a:chOff x="163080" y="3875040"/>
              <a:chExt cx="281160" cy="1066680"/>
            </a:xfrm>
          </p:grpSpPr>
          <p:sp>
            <p:nvSpPr>
              <p:cNvPr id="281" name=""/>
              <p:cNvSpPr/>
              <p:nvPr/>
            </p:nvSpPr>
            <p:spPr>
              <a:xfrm rot="5400000">
                <a:off x="82080" y="41745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5400000">
                <a:off x="123120" y="42811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5400000">
                <a:off x="122760" y="449496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5400000">
                <a:off x="82080" y="39607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5400000">
                <a:off x="81720" y="43876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5400000">
                <a:off x="81720" y="460080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5400000">
                <a:off x="82080" y="48146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5400000">
                <a:off x="192600" y="438840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164520" y="46018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5400000">
                <a:off x="164160" y="417492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5400000">
                <a:off x="164160" y="438840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123120" y="40687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5400000">
                <a:off x="205920" y="449460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5400000">
                <a:off x="205920" y="428112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163080" y="4242600"/>
                <a:ext cx="170280" cy="330480"/>
                <a:chOff x="163080" y="4242600"/>
                <a:chExt cx="170280" cy="330480"/>
              </a:xfrm>
            </p:grpSpPr>
            <p:sp>
              <p:nvSpPr>
                <p:cNvPr id="296" name=""/>
                <p:cNvSpPr/>
                <p:nvPr/>
              </p:nvSpPr>
              <p:spPr>
                <a:xfrm rot="5400000">
                  <a:off x="219600" y="44013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5400000">
                  <a:off x="200160" y="440064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5400000">
                  <a:off x="181080" y="440064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5400000">
                  <a:off x="161640" y="440064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5400000">
                  <a:off x="142200" y="440100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5400000">
                  <a:off x="122760" y="440064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5400000">
                  <a:off x="103320" y="440064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5400000">
                  <a:off x="83520" y="440064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5400000">
                  <a:off x="63720" y="440064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5400000">
                  <a:off x="43560" y="440100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5400000">
                  <a:off x="24480" y="440064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5400000">
                  <a:off x="4680" y="440064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374400" y="429660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333720" y="4374000"/>
                <a:ext cx="26280" cy="68040"/>
                <a:chOff x="333720" y="4374000"/>
                <a:chExt cx="26280" cy="68040"/>
              </a:xfrm>
            </p:grpSpPr>
            <p:grpSp>
              <p:nvGrpSpPr>
                <p:cNvPr id="310" name=""/>
                <p:cNvGrpSpPr/>
                <p:nvPr/>
              </p:nvGrpSpPr>
              <p:grpSpPr>
                <a:xfrm>
                  <a:off x="333720" y="4374000"/>
                  <a:ext cx="26280" cy="68040"/>
                  <a:chOff x="333720" y="4374000"/>
                  <a:chExt cx="26280" cy="6804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 flipH="1">
                    <a:off x="333720" y="4374000"/>
                    <a:ext cx="2628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H="1">
                    <a:off x="333720" y="4442040"/>
                    <a:ext cx="2628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360000" y="4374000"/>
                    <a:ext cx="0" cy="6804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4" name=""/>
                <p:cNvSpPr/>
                <p:nvPr/>
              </p:nvSpPr>
              <p:spPr>
                <a:xfrm rot="5400000">
                  <a:off x="317160" y="439596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 rot="5400000">
                <a:off x="123120" y="47073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674640" y="3200400"/>
              <a:ext cx="3665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[External Circuit]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[End External Circuit]   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[Node Declarations]    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[End Node Declarations]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[Circuit Call]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[End Circuit Call]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57320" y="1798560"/>
            <a:ext cx="3649680" cy="1066680"/>
            <a:chOff x="157320" y="1798560"/>
            <a:chExt cx="3649680" cy="1066680"/>
          </a:xfrm>
        </p:grpSpPr>
        <p:grpSp>
          <p:nvGrpSpPr>
            <p:cNvPr id="318" name=""/>
            <p:cNvGrpSpPr/>
            <p:nvPr/>
          </p:nvGrpSpPr>
          <p:grpSpPr>
            <a:xfrm>
              <a:off x="157320" y="1798560"/>
              <a:ext cx="280800" cy="1066680"/>
              <a:chOff x="157320" y="1798560"/>
              <a:chExt cx="280800" cy="1066680"/>
            </a:xfrm>
          </p:grpSpPr>
          <p:sp>
            <p:nvSpPr>
              <p:cNvPr id="319" name=""/>
              <p:cNvSpPr/>
              <p:nvPr/>
            </p:nvSpPr>
            <p:spPr>
              <a:xfrm rot="5400000">
                <a:off x="76320" y="20980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5400000">
                <a:off x="117360" y="220500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5400000">
                <a:off x="117360" y="2418840"/>
                <a:ext cx="21312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5400000">
                <a:off x="76320" y="18842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5400000">
                <a:off x="75960" y="23115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5400000">
                <a:off x="75960" y="252432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5400000">
                <a:off x="76320" y="27381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5400000">
                <a:off x="186480" y="231192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5400000">
                <a:off x="158400" y="25254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5400000">
                <a:off x="158040" y="209844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5400000">
                <a:off x="158040" y="23122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5400000">
                <a:off x="117360" y="199260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5400000">
                <a:off x="200160" y="241848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5400000">
                <a:off x="200160" y="220464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157320" y="2166120"/>
                <a:ext cx="170280" cy="330840"/>
                <a:chOff x="157320" y="2166120"/>
                <a:chExt cx="170280" cy="330840"/>
              </a:xfrm>
            </p:grpSpPr>
            <p:sp>
              <p:nvSpPr>
                <p:cNvPr id="334" name=""/>
                <p:cNvSpPr/>
                <p:nvPr/>
              </p:nvSpPr>
              <p:spPr>
                <a:xfrm rot="5400000">
                  <a:off x="213840" y="2325240"/>
                  <a:ext cx="213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5400000">
                  <a:off x="194400" y="2324520"/>
                  <a:ext cx="2242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5400000">
                  <a:off x="175320" y="2324160"/>
                  <a:ext cx="2347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5400000">
                  <a:off x="155880" y="232416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5400000">
                  <a:off x="136440" y="2324520"/>
                  <a:ext cx="2563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5400000">
                  <a:off x="116640" y="2324520"/>
                  <a:ext cx="2667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5400000">
                  <a:off x="97200" y="2324520"/>
                  <a:ext cx="2775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5400000">
                  <a:off x="77760" y="232416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rot="5400000">
                  <a:off x="57960" y="2324160"/>
                  <a:ext cx="2988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rot="5400000">
                  <a:off x="37800" y="2324520"/>
                  <a:ext cx="3096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5400000">
                  <a:off x="18360" y="2324520"/>
                  <a:ext cx="3200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5400000">
                  <a:off x="-1080" y="2324520"/>
                  <a:ext cx="3308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368280" y="222012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327960" y="2297520"/>
                <a:ext cx="26280" cy="68040"/>
                <a:chOff x="327960" y="2297520"/>
                <a:chExt cx="26280" cy="68040"/>
              </a:xfrm>
            </p:grpSpPr>
            <p:grpSp>
              <p:nvGrpSpPr>
                <p:cNvPr id="348" name=""/>
                <p:cNvGrpSpPr/>
                <p:nvPr/>
              </p:nvGrpSpPr>
              <p:grpSpPr>
                <a:xfrm>
                  <a:off x="327960" y="2297520"/>
                  <a:ext cx="26280" cy="68040"/>
                  <a:chOff x="327960" y="2297520"/>
                  <a:chExt cx="26280" cy="6804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H="1">
                    <a:off x="327960" y="2297520"/>
                    <a:ext cx="2628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>
                    <a:off x="327960" y="2365560"/>
                    <a:ext cx="2628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354240" y="2297520"/>
                    <a:ext cx="0" cy="6804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2" name=""/>
                <p:cNvSpPr/>
                <p:nvPr/>
              </p:nvSpPr>
              <p:spPr>
                <a:xfrm rot="5400000">
                  <a:off x="311400" y="231948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 rot="5400000">
                <a:off x="117360" y="263160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674640" y="1922400"/>
              <a:ext cx="313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[External Model]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[End External Model]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New model type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8485560" y="1125360"/>
            <a:ext cx="1458000" cy="718920"/>
            <a:chOff x="8485560" y="1125360"/>
            <a:chExt cx="1458000" cy="718920"/>
          </a:xfrm>
        </p:grpSpPr>
        <p:sp>
          <p:nvSpPr>
            <p:cNvPr id="357" name=""/>
            <p:cNvSpPr/>
            <p:nvPr/>
          </p:nvSpPr>
          <p:spPr>
            <a:xfrm>
              <a:off x="8485560" y="1125360"/>
              <a:ext cx="145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3366"/>
                  </a:solidFill>
                  <a:latin typeface="Monotype Corsiva"/>
                </a:rPr>
                <a:t>Current statu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8816400" y="1346040"/>
              <a:ext cx="310680" cy="498240"/>
              <a:chOff x="8816400" y="1346040"/>
              <a:chExt cx="310680" cy="498240"/>
            </a:xfrm>
          </p:grpSpPr>
          <p:sp>
            <p:nvSpPr>
              <p:cNvPr id="359" name=""/>
              <p:cNvSpPr/>
              <p:nvPr/>
            </p:nvSpPr>
            <p:spPr>
              <a:xfrm>
                <a:off x="8878680" y="1762200"/>
                <a:ext cx="61920" cy="7272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909640" y="1689480"/>
                <a:ext cx="61920" cy="723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971920" y="1689480"/>
                <a:ext cx="61920" cy="723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816400" y="1762200"/>
                <a:ext cx="61920" cy="7272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940600" y="1762200"/>
                <a:ext cx="6228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9002880" y="1762200"/>
                <a:ext cx="61920" cy="7272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9065160" y="1762200"/>
                <a:ext cx="61920" cy="7272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925120" y="1469520"/>
                <a:ext cx="9360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9003240" y="1616760"/>
                <a:ext cx="61920" cy="7272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878680" y="1616760"/>
                <a:ext cx="61920" cy="7272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940960" y="16167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847720" y="1689480"/>
                <a:ext cx="61920" cy="723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971920" y="1543680"/>
                <a:ext cx="61920" cy="7308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909640" y="1543680"/>
                <a:ext cx="61920" cy="7308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8923320" y="1542240"/>
                <a:ext cx="96480" cy="302040"/>
                <a:chOff x="8923320" y="1542240"/>
                <a:chExt cx="96480" cy="30204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8940600" y="154224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938800" y="156744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937360" y="159156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935560" y="161640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8934120" y="164124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932680" y="166680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930880" y="169200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8929440" y="171684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8928000" y="174240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8926200" y="176904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924760" y="179388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923320" y="181908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 rot="16200000">
                <a:off x="8909640" y="1375560"/>
                <a:ext cx="123840" cy="6480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8961840" y="1495440"/>
                <a:ext cx="19440" cy="46800"/>
                <a:chOff x="8961840" y="1495440"/>
                <a:chExt cx="19440" cy="46800"/>
              </a:xfrm>
            </p:grpSpPr>
            <p:grpSp>
              <p:nvGrpSpPr>
                <p:cNvPr id="388" name=""/>
                <p:cNvGrpSpPr/>
                <p:nvPr/>
              </p:nvGrpSpPr>
              <p:grpSpPr>
                <a:xfrm>
                  <a:off x="8961840" y="1495440"/>
                  <a:ext cx="19440" cy="46800"/>
                  <a:chOff x="8961840" y="1495440"/>
                  <a:chExt cx="19440" cy="4680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8961840" y="149544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981280" y="149544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961840" y="1495440"/>
                    <a:ext cx="194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2" name=""/>
                <p:cNvSpPr/>
                <p:nvPr/>
              </p:nvSpPr>
              <p:spPr>
                <a:xfrm>
                  <a:off x="8963280" y="1497960"/>
                  <a:ext cx="16560" cy="4428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9033840" y="1689480"/>
                <a:ext cx="61920" cy="723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331920" y="1214280"/>
            <a:ext cx="4857480" cy="1983600"/>
            <a:chOff x="331920" y="1214280"/>
            <a:chExt cx="4857480" cy="1983600"/>
          </a:xfrm>
        </p:grpSpPr>
        <p:sp>
          <p:nvSpPr>
            <p:cNvPr id="395" name=""/>
            <p:cNvSpPr/>
            <p:nvPr/>
          </p:nvSpPr>
          <p:spPr>
            <a:xfrm>
              <a:off x="1954440" y="1214280"/>
              <a:ext cx="3234960" cy="19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366"/>
                  </a:solidFill>
                  <a:latin typeface="Arial"/>
                </a:rPr>
                <a:t>4 new model types</a:t>
              </a: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Courier New"/>
                  <a:ea typeface="Courier New"/>
                </a:rPr>
                <a:t> 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I/O_diff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  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Output_diff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  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3-state_diff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  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Input_diff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331920" y="1460520"/>
              <a:ext cx="1066680" cy="280800"/>
              <a:chOff x="331920" y="1460520"/>
              <a:chExt cx="1066680" cy="280800"/>
            </a:xfrm>
          </p:grpSpPr>
          <p:sp>
            <p:nvSpPr>
              <p:cNvPr id="397" name=""/>
              <p:cNvSpPr/>
              <p:nvPr/>
            </p:nvSpPr>
            <p:spPr>
              <a:xfrm>
                <a:off x="545400" y="16952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52320" y="165420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65800" y="1654200"/>
                <a:ext cx="21312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31920" y="16952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58520" y="16952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971640" y="169524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185840" y="16952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04880" y="153000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973080" y="16131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5400" y="161316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59240" y="16131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39560" y="165420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65800" y="157140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52320" y="157140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699480" y="1571040"/>
                <a:ext cx="330480" cy="170280"/>
                <a:chOff x="699480" y="1571040"/>
                <a:chExt cx="330480" cy="17028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758880" y="157104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52760" y="158508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47360" y="159876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41960" y="161280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36920" y="162684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31520" y="164124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26120" y="165528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20720" y="166968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15320" y="168408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10280" y="169884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04880" y="171288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99480" y="172728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4" name=""/>
              <p:cNvSpPr/>
              <p:nvPr/>
            </p:nvSpPr>
            <p:spPr>
              <a:xfrm rot="16200000">
                <a:off x="830160" y="138348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830880" y="1544400"/>
                <a:ext cx="68040" cy="26280"/>
                <a:chOff x="830880" y="1544400"/>
                <a:chExt cx="68040" cy="2628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830880" y="1544400"/>
                  <a:ext cx="68040" cy="26280"/>
                  <a:chOff x="830880" y="1544400"/>
                  <a:chExt cx="68040" cy="2628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830880" y="15444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898920" y="15444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830880" y="15444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0" name=""/>
                <p:cNvSpPr/>
                <p:nvPr/>
              </p:nvSpPr>
              <p:spPr>
                <a:xfrm>
                  <a:off x="836640" y="154584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1078560" y="165420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"/>
          <p:cNvGrpSpPr/>
          <p:nvPr/>
        </p:nvGrpSpPr>
        <p:grpSpPr>
          <a:xfrm>
            <a:off x="306360" y="3633840"/>
            <a:ext cx="5353200" cy="1252080"/>
            <a:chOff x="306360" y="3633840"/>
            <a:chExt cx="5353200" cy="1252080"/>
          </a:xfrm>
        </p:grpSpPr>
        <p:sp>
          <p:nvSpPr>
            <p:cNvPr id="433" name=""/>
            <p:cNvSpPr/>
            <p:nvPr/>
          </p:nvSpPr>
          <p:spPr>
            <a:xfrm>
              <a:off x="1955520" y="3633840"/>
              <a:ext cx="37040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366"/>
                  </a:solidFill>
                  <a:latin typeface="Arial"/>
                </a:rPr>
                <a:t>2 new sub parameters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Courier New"/>
                  <a:ea typeface="Courier New"/>
                </a:rPr>
                <a:t> 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Rref_diff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  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Cref_diff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306360" y="3832200"/>
              <a:ext cx="1066680" cy="281160"/>
              <a:chOff x="306360" y="3832200"/>
              <a:chExt cx="1066680" cy="281160"/>
            </a:xfrm>
          </p:grpSpPr>
          <p:sp>
            <p:nvSpPr>
              <p:cNvPr id="435" name=""/>
              <p:cNvSpPr/>
              <p:nvPr/>
            </p:nvSpPr>
            <p:spPr>
              <a:xfrm>
                <a:off x="519840" y="40672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6760" y="40262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40240" y="402624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06360" y="40672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32960" y="40672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946080" y="406728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160280" y="40672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79320" y="390168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947520" y="39848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19840" y="398484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33680" y="39848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14000" y="40262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40240" y="394344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26760" y="394344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673920" y="3943080"/>
                <a:ext cx="330480" cy="170280"/>
                <a:chOff x="673920" y="3943080"/>
                <a:chExt cx="330480" cy="17028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733320" y="394308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27200" y="395712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21800" y="397080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16400" y="398484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11360" y="399888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05960" y="401328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00560" y="402732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95160" y="404172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89760" y="405612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84720" y="407088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9320" y="408492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73920" y="409932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 rot="16200000">
                <a:off x="804600" y="37551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805320" y="3916440"/>
                <a:ext cx="68040" cy="26280"/>
                <a:chOff x="805320" y="3916440"/>
                <a:chExt cx="68040" cy="26280"/>
              </a:xfrm>
            </p:grpSpPr>
            <p:grpSp>
              <p:nvGrpSpPr>
                <p:cNvPr id="464" name=""/>
                <p:cNvGrpSpPr/>
                <p:nvPr/>
              </p:nvGrpSpPr>
              <p:grpSpPr>
                <a:xfrm>
                  <a:off x="805320" y="3916440"/>
                  <a:ext cx="68040" cy="26280"/>
                  <a:chOff x="805320" y="3916440"/>
                  <a:chExt cx="68040" cy="2628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805320" y="39164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873360" y="39164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805320" y="39164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8" name=""/>
                <p:cNvSpPr/>
                <p:nvPr/>
              </p:nvSpPr>
              <p:spPr>
                <a:xfrm>
                  <a:off x="811080" y="391788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" name=""/>
              <p:cNvSpPr/>
              <p:nvPr/>
            </p:nvSpPr>
            <p:spPr>
              <a:xfrm>
                <a:off x="1053000" y="40262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355680" y="5227560"/>
            <a:ext cx="7557480" cy="459720"/>
            <a:chOff x="355680" y="5227560"/>
            <a:chExt cx="7557480" cy="459720"/>
          </a:xfrm>
        </p:grpSpPr>
        <p:sp>
          <p:nvSpPr>
            <p:cNvPr id="471" name=""/>
            <p:cNvSpPr/>
            <p:nvPr/>
          </p:nvSpPr>
          <p:spPr>
            <a:xfrm>
              <a:off x="1958040" y="5227560"/>
              <a:ext cx="595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clarifications of many keyword descript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355680" y="5329080"/>
              <a:ext cx="1066680" cy="281160"/>
              <a:chOff x="355680" y="5329080"/>
              <a:chExt cx="1066680" cy="281160"/>
            </a:xfrm>
          </p:grpSpPr>
          <p:sp>
            <p:nvSpPr>
              <p:cNvPr id="473" name=""/>
              <p:cNvSpPr/>
              <p:nvPr/>
            </p:nvSpPr>
            <p:spPr>
              <a:xfrm>
                <a:off x="569160" y="55641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6080" y="55231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89560" y="552312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55680" y="55641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2280" y="55641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995400" y="556416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209600" y="55641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28640" y="539856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996840" y="54817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69160" y="548172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83000" y="548172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63320" y="55231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89560" y="544032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76080" y="544032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723240" y="5439960"/>
                <a:ext cx="330480" cy="170280"/>
                <a:chOff x="723240" y="5439960"/>
                <a:chExt cx="330480" cy="1702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782640" y="54399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76520" y="54540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71120" y="54676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65720" y="54817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60680" y="54957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55280" y="55101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49880" y="55242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44480" y="55386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39080" y="55530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34040" y="55677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28640" y="55818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23240" y="55962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0" name=""/>
              <p:cNvSpPr/>
              <p:nvPr/>
            </p:nvSpPr>
            <p:spPr>
              <a:xfrm rot="16200000">
                <a:off x="853920" y="52520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501" name=""/>
              <p:cNvGrpSpPr/>
              <p:nvPr/>
            </p:nvGrpSpPr>
            <p:grpSpPr>
              <a:xfrm>
                <a:off x="854640" y="5413320"/>
                <a:ext cx="68040" cy="26280"/>
                <a:chOff x="854640" y="5413320"/>
                <a:chExt cx="68040" cy="26280"/>
              </a:xfrm>
            </p:grpSpPr>
            <p:grpSp>
              <p:nvGrpSpPr>
                <p:cNvPr id="502" name=""/>
                <p:cNvGrpSpPr/>
                <p:nvPr/>
              </p:nvGrpSpPr>
              <p:grpSpPr>
                <a:xfrm>
                  <a:off x="854640" y="5413320"/>
                  <a:ext cx="68040" cy="26280"/>
                  <a:chOff x="854640" y="5413320"/>
                  <a:chExt cx="68040" cy="26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>
                    <a:off x="854640" y="54133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922680" y="54133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854640" y="54133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6" name=""/>
                <p:cNvSpPr/>
                <p:nvPr/>
              </p:nvSpPr>
              <p:spPr>
                <a:xfrm>
                  <a:off x="860400" y="541476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" name=""/>
              <p:cNvSpPr/>
              <p:nvPr/>
            </p:nvSpPr>
            <p:spPr>
              <a:xfrm>
                <a:off x="1102320" y="55231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366"/>
                </a:solidFill>
                <a:latin typeface="Arial"/>
              </a:rPr>
              <a:t>A living standard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252360" y="1550880"/>
          <a:ext cx="8415360" cy="48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1550880"/>
                    <a:ext cx="841536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1" name=""/>
          <p:cNvGrpSpPr/>
          <p:nvPr/>
        </p:nvGrpSpPr>
        <p:grpSpPr>
          <a:xfrm>
            <a:off x="8485560" y="1219320"/>
            <a:ext cx="1458000" cy="718920"/>
            <a:chOff x="8485560" y="1219320"/>
            <a:chExt cx="1458000" cy="718920"/>
          </a:xfrm>
        </p:grpSpPr>
        <p:sp>
          <p:nvSpPr>
            <p:cNvPr id="512" name=""/>
            <p:cNvSpPr/>
            <p:nvPr/>
          </p:nvSpPr>
          <p:spPr>
            <a:xfrm>
              <a:off x="8485560" y="1219320"/>
              <a:ext cx="145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3366"/>
                  </a:solidFill>
                  <a:latin typeface="Monotype Corsiva"/>
                </a:rPr>
                <a:t>Current statu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8816400" y="1440000"/>
              <a:ext cx="310680" cy="498240"/>
              <a:chOff x="8816400" y="1440000"/>
              <a:chExt cx="310680" cy="498240"/>
            </a:xfrm>
          </p:grpSpPr>
          <p:sp>
            <p:nvSpPr>
              <p:cNvPr id="514" name=""/>
              <p:cNvSpPr/>
              <p:nvPr/>
            </p:nvSpPr>
            <p:spPr>
              <a:xfrm>
                <a:off x="8878680" y="1856160"/>
                <a:ext cx="61920" cy="727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09640" y="1783440"/>
                <a:ext cx="61920" cy="7236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71920" y="1783440"/>
                <a:ext cx="61920" cy="7236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816400" y="1856160"/>
                <a:ext cx="61920" cy="727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940600" y="1856160"/>
                <a:ext cx="62280" cy="72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9002880" y="1856160"/>
                <a:ext cx="61920" cy="727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9065160" y="1856160"/>
                <a:ext cx="61920" cy="727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25120" y="1563480"/>
                <a:ext cx="93600" cy="73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03240" y="1710720"/>
                <a:ext cx="61920" cy="727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878680" y="1710720"/>
                <a:ext cx="61920" cy="727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940960" y="1710720"/>
                <a:ext cx="61920" cy="72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847720" y="1783440"/>
                <a:ext cx="61920" cy="7236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71920" y="1637640"/>
                <a:ext cx="61920" cy="730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909640" y="1637640"/>
                <a:ext cx="61920" cy="730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8923320" y="1636200"/>
                <a:ext cx="96480" cy="302040"/>
                <a:chOff x="8923320" y="1636200"/>
                <a:chExt cx="96480" cy="30204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8940600" y="1636200"/>
                  <a:ext cx="62280" cy="25200"/>
                </a:xfrm>
                <a:prstGeom prst="rect">
                  <a:avLst/>
                </a:prstGeom>
                <a:solidFill>
                  <a:srgbClr val="cc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938800" y="1661400"/>
                  <a:ext cx="65520" cy="25200"/>
                </a:xfrm>
                <a:prstGeom prst="rect">
                  <a:avLst/>
                </a:prstGeom>
                <a:solidFill>
                  <a:srgbClr val="cc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8937360" y="1685520"/>
                  <a:ext cx="68400" cy="25200"/>
                </a:xfrm>
                <a:prstGeom prst="rect">
                  <a:avLst/>
                </a:prstGeom>
                <a:solidFill>
                  <a:srgbClr val="cc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8935560" y="1710360"/>
                  <a:ext cx="71640" cy="25200"/>
                </a:xfrm>
                <a:prstGeom prst="rect">
                  <a:avLst/>
                </a:prstGeom>
                <a:solidFill>
                  <a:srgbClr val="cc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934120" y="1735200"/>
                  <a:ext cx="74880" cy="25200"/>
                </a:xfrm>
                <a:prstGeom prst="rect">
                  <a:avLst/>
                </a:prstGeom>
                <a:solidFill>
                  <a:srgbClr val="cc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8932680" y="1760760"/>
                  <a:ext cx="77760" cy="25200"/>
                </a:xfrm>
                <a:prstGeom prst="rect">
                  <a:avLst/>
                </a:prstGeom>
                <a:solidFill>
                  <a:srgbClr val="cc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930880" y="1785960"/>
                  <a:ext cx="81000" cy="25200"/>
                </a:xfrm>
                <a:prstGeom prst="rect">
                  <a:avLst/>
                </a:prstGeom>
                <a:solidFill>
                  <a:srgbClr val="cc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8929440" y="1810800"/>
                  <a:ext cx="84240" cy="25200"/>
                </a:xfrm>
                <a:prstGeom prst="rect">
                  <a:avLst/>
                </a:prstGeom>
                <a:solidFill>
                  <a:srgbClr val="cc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8928000" y="1836360"/>
                  <a:ext cx="87120" cy="25200"/>
                </a:xfrm>
                <a:prstGeom prst="rect">
                  <a:avLst/>
                </a:prstGeom>
                <a:solidFill>
                  <a:srgbClr val="cc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926200" y="1863000"/>
                  <a:ext cx="90360" cy="25200"/>
                </a:xfrm>
                <a:prstGeom prst="rect">
                  <a:avLst/>
                </a:prstGeom>
                <a:solidFill>
                  <a:srgbClr val="cc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8924760" y="1887840"/>
                  <a:ext cx="93600" cy="25200"/>
                </a:xfrm>
                <a:prstGeom prst="rect">
                  <a:avLst/>
                </a:prstGeom>
                <a:solidFill>
                  <a:srgbClr val="cc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923320" y="1913040"/>
                  <a:ext cx="96480" cy="25200"/>
                </a:xfrm>
                <a:prstGeom prst="rect">
                  <a:avLst/>
                </a:prstGeom>
                <a:solidFill>
                  <a:srgbClr val="ccff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1" name=""/>
              <p:cNvSpPr/>
              <p:nvPr/>
            </p:nvSpPr>
            <p:spPr>
              <a:xfrm rot="16200000">
                <a:off x="8909640" y="1469520"/>
                <a:ext cx="123840" cy="64800"/>
              </a:xfrm>
              <a:prstGeom prst="rect">
                <a:avLst/>
              </a:prstGeom>
              <a:solidFill>
                <a:srgbClr val="ccff66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542" name=""/>
              <p:cNvGrpSpPr/>
              <p:nvPr/>
            </p:nvGrpSpPr>
            <p:grpSpPr>
              <a:xfrm>
                <a:off x="8961840" y="1589400"/>
                <a:ext cx="19440" cy="46800"/>
                <a:chOff x="8961840" y="1589400"/>
                <a:chExt cx="19440" cy="46800"/>
              </a:xfrm>
            </p:grpSpPr>
            <p:grpSp>
              <p:nvGrpSpPr>
                <p:cNvPr id="543" name=""/>
                <p:cNvGrpSpPr/>
                <p:nvPr/>
              </p:nvGrpSpPr>
              <p:grpSpPr>
                <a:xfrm>
                  <a:off x="8961840" y="1589400"/>
                  <a:ext cx="19440" cy="46800"/>
                  <a:chOff x="8961840" y="1589400"/>
                  <a:chExt cx="19440" cy="4680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8961840" y="15894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8981280" y="15894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8961840" y="1589400"/>
                    <a:ext cx="194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7" name=""/>
                <p:cNvSpPr/>
                <p:nvPr/>
              </p:nvSpPr>
              <p:spPr>
                <a:xfrm>
                  <a:off x="8963280" y="1591920"/>
                  <a:ext cx="16560" cy="442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8" name=""/>
              <p:cNvSpPr/>
              <p:nvPr/>
            </p:nvSpPr>
            <p:spPr>
              <a:xfrm>
                <a:off x="9033840" y="1783440"/>
                <a:ext cx="61920" cy="7236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366"/>
                </a:solidFill>
                <a:latin typeface="Arial"/>
              </a:rPr>
              <a:t>ICM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7834680" y="1143000"/>
            <a:ext cx="1458000" cy="719280"/>
            <a:chOff x="7834680" y="1143000"/>
            <a:chExt cx="1458000" cy="719280"/>
          </a:xfrm>
        </p:grpSpPr>
        <p:sp>
          <p:nvSpPr>
            <p:cNvPr id="551" name=""/>
            <p:cNvSpPr/>
            <p:nvPr/>
          </p:nvSpPr>
          <p:spPr>
            <a:xfrm>
              <a:off x="7834680" y="1143000"/>
              <a:ext cx="145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3366"/>
                  </a:solidFill>
                  <a:latin typeface="Monotype Corsiva"/>
                </a:rPr>
                <a:t>Current statu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8095320" y="1317600"/>
              <a:ext cx="281520" cy="544680"/>
              <a:chOff x="8095320" y="1317600"/>
              <a:chExt cx="281520" cy="544680"/>
            </a:xfrm>
          </p:grpSpPr>
          <p:sp>
            <p:nvSpPr>
              <p:cNvPr id="553" name=""/>
              <p:cNvSpPr/>
              <p:nvPr/>
            </p:nvSpPr>
            <p:spPr>
              <a:xfrm>
                <a:off x="8151480" y="1773000"/>
                <a:ext cx="56160" cy="78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179560" y="1693440"/>
                <a:ext cx="56160" cy="792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236440" y="1693440"/>
                <a:ext cx="56160" cy="792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095320" y="1773000"/>
                <a:ext cx="56160" cy="78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208000" y="1773000"/>
                <a:ext cx="56160" cy="78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264160" y="1773000"/>
                <a:ext cx="56160" cy="78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320680" y="1773000"/>
                <a:ext cx="56160" cy="78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193600" y="1452960"/>
                <a:ext cx="84960" cy="79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264520" y="1613160"/>
                <a:ext cx="55800" cy="7992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151480" y="1613160"/>
                <a:ext cx="56160" cy="7992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208000" y="1613160"/>
                <a:ext cx="56160" cy="79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123400" y="1693440"/>
                <a:ext cx="55800" cy="792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236080" y="1533600"/>
                <a:ext cx="56160" cy="79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179560" y="1533600"/>
                <a:ext cx="56160" cy="79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8192160" y="1532520"/>
                <a:ext cx="87120" cy="329760"/>
                <a:chOff x="8192160" y="1532520"/>
                <a:chExt cx="87120" cy="32976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8207640" y="1532520"/>
                  <a:ext cx="5616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8206200" y="1559880"/>
                  <a:ext cx="5904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204760" y="1586160"/>
                  <a:ext cx="6192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203320" y="1613520"/>
                  <a:ext cx="6480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8201880" y="1640880"/>
                  <a:ext cx="6768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8200440" y="1668600"/>
                  <a:ext cx="7020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199000" y="1695960"/>
                  <a:ext cx="7308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8197560" y="1723320"/>
                  <a:ext cx="7596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8196120" y="1751040"/>
                  <a:ext cx="7884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8194680" y="1780200"/>
                  <a:ext cx="8172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8193600" y="1807560"/>
                  <a:ext cx="8460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8192160" y="1834920"/>
                  <a:ext cx="8712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0" name=""/>
              <p:cNvSpPr/>
              <p:nvPr/>
            </p:nvSpPr>
            <p:spPr>
              <a:xfrm rot="16200000">
                <a:off x="8167680" y="1356120"/>
                <a:ext cx="136080" cy="58680"/>
              </a:xfrm>
              <a:prstGeom prst="rect">
                <a:avLst/>
              </a:prstGeom>
              <a:solidFill>
                <a:srgbClr val="009999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581" name=""/>
              <p:cNvGrpSpPr/>
              <p:nvPr/>
            </p:nvGrpSpPr>
            <p:grpSpPr>
              <a:xfrm>
                <a:off x="8227080" y="1480680"/>
                <a:ext cx="17640" cy="51480"/>
                <a:chOff x="8227080" y="1480680"/>
                <a:chExt cx="17640" cy="51480"/>
              </a:xfrm>
            </p:grpSpPr>
            <p:grpSp>
              <p:nvGrpSpPr>
                <p:cNvPr id="582" name=""/>
                <p:cNvGrpSpPr/>
                <p:nvPr/>
              </p:nvGrpSpPr>
              <p:grpSpPr>
                <a:xfrm>
                  <a:off x="8227080" y="1480680"/>
                  <a:ext cx="17640" cy="51480"/>
                  <a:chOff x="8227080" y="1480680"/>
                  <a:chExt cx="17640" cy="5148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8227080" y="1480680"/>
                    <a:ext cx="0" cy="514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8244720" y="1480680"/>
                    <a:ext cx="0" cy="514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8227080" y="14806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6" name=""/>
                <p:cNvSpPr/>
                <p:nvPr/>
              </p:nvSpPr>
              <p:spPr>
                <a:xfrm>
                  <a:off x="8228520" y="1483560"/>
                  <a:ext cx="15120" cy="486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7" name=""/>
              <p:cNvSpPr/>
              <p:nvPr/>
            </p:nvSpPr>
            <p:spPr>
              <a:xfrm>
                <a:off x="8292240" y="1693440"/>
                <a:ext cx="56160" cy="792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8" name=""/>
          <p:cNvGrpSpPr/>
          <p:nvPr/>
        </p:nvGrpSpPr>
        <p:grpSpPr>
          <a:xfrm>
            <a:off x="239760" y="4933800"/>
            <a:ext cx="7483320" cy="459720"/>
            <a:chOff x="239760" y="4933800"/>
            <a:chExt cx="7483320" cy="459720"/>
          </a:xfrm>
        </p:grpSpPr>
        <p:sp>
          <p:nvSpPr>
            <p:cNvPr id="589" name=""/>
            <p:cNvSpPr/>
            <p:nvPr/>
          </p:nvSpPr>
          <p:spPr>
            <a:xfrm>
              <a:off x="1856160" y="4933800"/>
              <a:ext cx="58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Not frequency dependent,  -&gt; next versio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239760" y="5090760"/>
              <a:ext cx="1066680" cy="281160"/>
              <a:chOff x="239760" y="5090760"/>
              <a:chExt cx="1066680" cy="281160"/>
            </a:xfrm>
          </p:grpSpPr>
          <p:sp>
            <p:nvSpPr>
              <p:cNvPr id="591" name=""/>
              <p:cNvSpPr/>
              <p:nvPr/>
            </p:nvSpPr>
            <p:spPr>
              <a:xfrm flipV="1">
                <a:off x="453240" y="50958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560160" y="51368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773640" y="513684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239760" y="50958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666360" y="509580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879480" y="509580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1093680" y="50958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612720" y="526068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880920" y="51782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453240" y="517824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667080" y="51782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347400" y="51368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773640" y="521892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560160" y="521892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605" name=""/>
              <p:cNvGrpSpPr/>
              <p:nvPr/>
            </p:nvGrpSpPr>
            <p:grpSpPr>
              <a:xfrm>
                <a:off x="607320" y="5090760"/>
                <a:ext cx="330480" cy="170280"/>
                <a:chOff x="607320" y="5090760"/>
                <a:chExt cx="330480" cy="170280"/>
              </a:xfrm>
            </p:grpSpPr>
            <p:sp>
              <p:nvSpPr>
                <p:cNvPr id="606" name=""/>
                <p:cNvSpPr/>
                <p:nvPr/>
              </p:nvSpPr>
              <p:spPr>
                <a:xfrm flipV="1">
                  <a:off x="666720" y="524664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660600" y="52326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655200" y="521892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V="1">
                  <a:off x="649800" y="520488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V="1">
                  <a:off x="644760" y="519084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V="1">
                  <a:off x="639360" y="517644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633960" y="51624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V="1">
                  <a:off x="628560" y="51480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V="1">
                  <a:off x="623160" y="51336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V="1">
                  <a:off x="618120" y="511884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V="1">
                  <a:off x="612720" y="51048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V="1">
                  <a:off x="607320" y="50904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 flipV="1" rot="5400000">
                <a:off x="738000" y="52250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619" name=""/>
              <p:cNvGrpSpPr/>
              <p:nvPr/>
            </p:nvGrpSpPr>
            <p:grpSpPr>
              <a:xfrm>
                <a:off x="738720" y="5261400"/>
                <a:ext cx="68040" cy="26280"/>
                <a:chOff x="738720" y="5261400"/>
                <a:chExt cx="68040" cy="26280"/>
              </a:xfrm>
            </p:grpSpPr>
            <p:grpSp>
              <p:nvGrpSpPr>
                <p:cNvPr id="620" name=""/>
                <p:cNvGrpSpPr/>
                <p:nvPr/>
              </p:nvGrpSpPr>
              <p:grpSpPr>
                <a:xfrm>
                  <a:off x="738720" y="5261400"/>
                  <a:ext cx="68040" cy="26280"/>
                  <a:chOff x="738720" y="5261400"/>
                  <a:chExt cx="68040" cy="2628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V="1">
                    <a:off x="738720" y="52614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V="1">
                    <a:off x="806760" y="52614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738720" y="528768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4" name=""/>
                <p:cNvSpPr/>
                <p:nvPr/>
              </p:nvSpPr>
              <p:spPr>
                <a:xfrm flipV="1">
                  <a:off x="744480" y="526104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5" name=""/>
              <p:cNvSpPr/>
              <p:nvPr/>
            </p:nvSpPr>
            <p:spPr>
              <a:xfrm flipV="1">
                <a:off x="986400" y="51368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6" name=""/>
          <p:cNvSpPr/>
          <p:nvPr/>
        </p:nvSpPr>
        <p:spPr>
          <a:xfrm>
            <a:off x="799560" y="1398600"/>
            <a:ext cx="71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ICM v1.0  IBIS 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nter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onnect 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odeling Specificatio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257040" y="2933640"/>
            <a:ext cx="6661440" cy="459720"/>
            <a:chOff x="257040" y="2933640"/>
            <a:chExt cx="6661440" cy="459720"/>
          </a:xfrm>
        </p:grpSpPr>
        <p:sp>
          <p:nvSpPr>
            <p:cNvPr id="628" name=""/>
            <p:cNvSpPr/>
            <p:nvPr/>
          </p:nvSpPr>
          <p:spPr>
            <a:xfrm>
              <a:off x="1876320" y="2933640"/>
              <a:ext cx="504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Conductance added as a paramete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257040" y="3090960"/>
              <a:ext cx="1066680" cy="280800"/>
              <a:chOff x="257040" y="3090960"/>
              <a:chExt cx="1066680" cy="280800"/>
            </a:xfrm>
          </p:grpSpPr>
          <p:sp>
            <p:nvSpPr>
              <p:cNvPr id="630" name=""/>
              <p:cNvSpPr/>
              <p:nvPr/>
            </p:nvSpPr>
            <p:spPr>
              <a:xfrm>
                <a:off x="470520" y="33256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7440" y="328464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91280" y="3284640"/>
                <a:ext cx="21312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57040" y="33256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84000" y="33256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96760" y="332568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10960" y="33256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30000" y="316044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8200" y="32436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70520" y="324360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84720" y="324360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64680" y="328464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91280" y="320184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77440" y="320184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644" name=""/>
              <p:cNvGrpSpPr/>
              <p:nvPr/>
            </p:nvGrpSpPr>
            <p:grpSpPr>
              <a:xfrm>
                <a:off x="624600" y="3201480"/>
                <a:ext cx="330840" cy="170280"/>
                <a:chOff x="624600" y="3201480"/>
                <a:chExt cx="330840" cy="17028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684000" y="3201480"/>
                  <a:ext cx="213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677880" y="3215520"/>
                  <a:ext cx="2242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672480" y="3229200"/>
                  <a:ext cx="2347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667080" y="324324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662040" y="3257280"/>
                  <a:ext cx="2563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56640" y="3271680"/>
                  <a:ext cx="2667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651240" y="3285720"/>
                  <a:ext cx="2775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45840" y="330012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640440" y="3314520"/>
                  <a:ext cx="2988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35400" y="3329280"/>
                  <a:ext cx="3096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0000" y="3343320"/>
                  <a:ext cx="3200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24600" y="3357720"/>
                  <a:ext cx="3308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" name=""/>
              <p:cNvSpPr/>
              <p:nvPr/>
            </p:nvSpPr>
            <p:spPr>
              <a:xfrm rot="16200000">
                <a:off x="755280" y="301392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658" name=""/>
              <p:cNvGrpSpPr/>
              <p:nvPr/>
            </p:nvGrpSpPr>
            <p:grpSpPr>
              <a:xfrm>
                <a:off x="756000" y="3174840"/>
                <a:ext cx="68040" cy="26280"/>
                <a:chOff x="756000" y="3174840"/>
                <a:chExt cx="68040" cy="26280"/>
              </a:xfrm>
            </p:grpSpPr>
            <p:grpSp>
              <p:nvGrpSpPr>
                <p:cNvPr id="659" name=""/>
                <p:cNvGrpSpPr/>
                <p:nvPr/>
              </p:nvGrpSpPr>
              <p:grpSpPr>
                <a:xfrm>
                  <a:off x="756000" y="3174840"/>
                  <a:ext cx="68040" cy="26280"/>
                  <a:chOff x="756000" y="3174840"/>
                  <a:chExt cx="68040" cy="26280"/>
                </a:xfrm>
              </p:grpSpPr>
              <p:sp>
                <p:nvSpPr>
                  <p:cNvPr id="660" name=""/>
                  <p:cNvSpPr/>
                  <p:nvPr/>
                </p:nvSpPr>
                <p:spPr>
                  <a:xfrm>
                    <a:off x="756000" y="31748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824040" y="31748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756000" y="31748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3" name=""/>
                <p:cNvSpPr/>
                <p:nvPr/>
              </p:nvSpPr>
              <p:spPr>
                <a:xfrm>
                  <a:off x="761760" y="317628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>
                <a:off x="1004040" y="328464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5" name=""/>
          <p:cNvGrpSpPr/>
          <p:nvPr/>
        </p:nvGrpSpPr>
        <p:grpSpPr>
          <a:xfrm>
            <a:off x="247680" y="3584520"/>
            <a:ext cx="3677760" cy="459720"/>
            <a:chOff x="247680" y="3584520"/>
            <a:chExt cx="3677760" cy="459720"/>
          </a:xfrm>
        </p:grpSpPr>
        <p:sp>
          <p:nvSpPr>
            <p:cNvPr id="666" name=""/>
            <p:cNvSpPr/>
            <p:nvPr/>
          </p:nvSpPr>
          <p:spPr>
            <a:xfrm>
              <a:off x="1864080" y="358452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S-Parameter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247680" y="3741840"/>
              <a:ext cx="1066680" cy="280800"/>
              <a:chOff x="247680" y="3741840"/>
              <a:chExt cx="1066680" cy="280800"/>
            </a:xfrm>
          </p:grpSpPr>
          <p:sp>
            <p:nvSpPr>
              <p:cNvPr id="668" name=""/>
              <p:cNvSpPr/>
              <p:nvPr/>
            </p:nvSpPr>
            <p:spPr>
              <a:xfrm>
                <a:off x="461160" y="39765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68080" y="393552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81920" y="3935520"/>
                <a:ext cx="21312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47680" y="39765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74640" y="39765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7400" y="397656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101600" y="39765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20640" y="381132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88840" y="389448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61160" y="389448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75360" y="38944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55320" y="393552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81920" y="385272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68080" y="385272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682" name=""/>
              <p:cNvGrpSpPr/>
              <p:nvPr/>
            </p:nvGrpSpPr>
            <p:grpSpPr>
              <a:xfrm>
                <a:off x="615240" y="3852360"/>
                <a:ext cx="330840" cy="170280"/>
                <a:chOff x="615240" y="3852360"/>
                <a:chExt cx="330840" cy="17028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74640" y="3852360"/>
                  <a:ext cx="213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68520" y="3866400"/>
                  <a:ext cx="2242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63120" y="3880080"/>
                  <a:ext cx="2347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57720" y="38941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52680" y="3908160"/>
                  <a:ext cx="2563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647280" y="3922560"/>
                  <a:ext cx="2667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41880" y="3936600"/>
                  <a:ext cx="2775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36480" y="39510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31080" y="3965400"/>
                  <a:ext cx="2988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626040" y="3980160"/>
                  <a:ext cx="3096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20640" y="3994200"/>
                  <a:ext cx="3200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15240" y="4008600"/>
                  <a:ext cx="3308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5" name=""/>
              <p:cNvSpPr/>
              <p:nvPr/>
            </p:nvSpPr>
            <p:spPr>
              <a:xfrm rot="16200000">
                <a:off x="745920" y="366480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696" name=""/>
              <p:cNvGrpSpPr/>
              <p:nvPr/>
            </p:nvGrpSpPr>
            <p:grpSpPr>
              <a:xfrm>
                <a:off x="746640" y="3825720"/>
                <a:ext cx="68040" cy="26280"/>
                <a:chOff x="746640" y="3825720"/>
                <a:chExt cx="68040" cy="26280"/>
              </a:xfrm>
            </p:grpSpPr>
            <p:grpSp>
              <p:nvGrpSpPr>
                <p:cNvPr id="697" name=""/>
                <p:cNvGrpSpPr/>
                <p:nvPr/>
              </p:nvGrpSpPr>
              <p:grpSpPr>
                <a:xfrm>
                  <a:off x="746640" y="3825720"/>
                  <a:ext cx="68040" cy="26280"/>
                  <a:chOff x="746640" y="3825720"/>
                  <a:chExt cx="68040" cy="26280"/>
                </a:xfrm>
              </p:grpSpPr>
              <p:sp>
                <p:nvSpPr>
                  <p:cNvPr id="698" name=""/>
                  <p:cNvSpPr/>
                  <p:nvPr/>
                </p:nvSpPr>
                <p:spPr>
                  <a:xfrm>
                    <a:off x="746640" y="38257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814680" y="38257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746640" y="38257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1" name=""/>
                <p:cNvSpPr/>
                <p:nvPr/>
              </p:nvSpPr>
              <p:spPr>
                <a:xfrm>
                  <a:off x="752400" y="382716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>
                <a:off x="994680" y="393552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3" name=""/>
          <p:cNvGrpSpPr/>
          <p:nvPr/>
        </p:nvGrpSpPr>
        <p:grpSpPr>
          <a:xfrm>
            <a:off x="246240" y="4233960"/>
            <a:ext cx="4439520" cy="459720"/>
            <a:chOff x="246240" y="4233960"/>
            <a:chExt cx="4439520" cy="459720"/>
          </a:xfrm>
        </p:grpSpPr>
        <p:sp>
          <p:nvSpPr>
            <p:cNvPr id="704" name=""/>
            <p:cNvSpPr/>
            <p:nvPr/>
          </p:nvSpPr>
          <p:spPr>
            <a:xfrm>
              <a:off x="1862280" y="4233960"/>
              <a:ext cx="282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Touchstone Forma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246240" y="4391280"/>
              <a:ext cx="1066680" cy="280800"/>
              <a:chOff x="246240" y="4391280"/>
              <a:chExt cx="1066680" cy="280800"/>
            </a:xfrm>
          </p:grpSpPr>
          <p:sp>
            <p:nvSpPr>
              <p:cNvPr id="706" name=""/>
              <p:cNvSpPr/>
              <p:nvPr/>
            </p:nvSpPr>
            <p:spPr>
              <a:xfrm>
                <a:off x="459720" y="46260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66640" y="458496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80120" y="4584960"/>
                <a:ext cx="21312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46240" y="46260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72840" y="462600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85960" y="462600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100160" y="46260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9200" y="446076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7400" y="45439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59720" y="454392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73560" y="454392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53880" y="458496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80120" y="450216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66640" y="450216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720" name=""/>
              <p:cNvGrpSpPr/>
              <p:nvPr/>
            </p:nvGrpSpPr>
            <p:grpSpPr>
              <a:xfrm>
                <a:off x="613800" y="4501800"/>
                <a:ext cx="330480" cy="170280"/>
                <a:chOff x="613800" y="4501800"/>
                <a:chExt cx="330480" cy="17028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673200" y="450180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67080" y="451584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61680" y="452952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56280" y="454356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51240" y="455760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45840" y="457200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40440" y="458604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35040" y="460044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29640" y="461484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24600" y="462960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19200" y="464364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13800" y="465804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3" name=""/>
              <p:cNvSpPr/>
              <p:nvPr/>
            </p:nvSpPr>
            <p:spPr>
              <a:xfrm rot="16200000">
                <a:off x="744480" y="43142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734" name=""/>
              <p:cNvGrpSpPr/>
              <p:nvPr/>
            </p:nvGrpSpPr>
            <p:grpSpPr>
              <a:xfrm>
                <a:off x="745200" y="4475160"/>
                <a:ext cx="68040" cy="26280"/>
                <a:chOff x="745200" y="4475160"/>
                <a:chExt cx="68040" cy="26280"/>
              </a:xfrm>
            </p:grpSpPr>
            <p:grpSp>
              <p:nvGrpSpPr>
                <p:cNvPr id="735" name=""/>
                <p:cNvGrpSpPr/>
                <p:nvPr/>
              </p:nvGrpSpPr>
              <p:grpSpPr>
                <a:xfrm>
                  <a:off x="745200" y="4475160"/>
                  <a:ext cx="68040" cy="26280"/>
                  <a:chOff x="745200" y="4475160"/>
                  <a:chExt cx="68040" cy="2628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>
                    <a:off x="745200" y="44751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813240" y="44751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745200" y="44751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9" name=""/>
                <p:cNvSpPr/>
                <p:nvPr/>
              </p:nvSpPr>
              <p:spPr>
                <a:xfrm>
                  <a:off x="750960" y="447660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0" name=""/>
              <p:cNvSpPr/>
              <p:nvPr/>
            </p:nvSpPr>
            <p:spPr>
              <a:xfrm>
                <a:off x="992880" y="458496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1" name=""/>
          <p:cNvGrpSpPr/>
          <p:nvPr/>
        </p:nvGrpSpPr>
        <p:grpSpPr>
          <a:xfrm>
            <a:off x="317520" y="2190600"/>
            <a:ext cx="5778360" cy="459720"/>
            <a:chOff x="317520" y="2190600"/>
            <a:chExt cx="5778360" cy="459720"/>
          </a:xfrm>
        </p:grpSpPr>
        <p:sp>
          <p:nvSpPr>
            <p:cNvPr id="742" name=""/>
            <p:cNvSpPr/>
            <p:nvPr/>
          </p:nvSpPr>
          <p:spPr>
            <a:xfrm>
              <a:off x="1938960" y="2190600"/>
              <a:ext cx="41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Arial"/>
                </a:rPr>
                <a:t>Coupling per section possibl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317520" y="2347920"/>
              <a:ext cx="1066680" cy="280800"/>
              <a:chOff x="317520" y="2347920"/>
              <a:chExt cx="1066680" cy="280800"/>
            </a:xfrm>
          </p:grpSpPr>
          <p:sp>
            <p:nvSpPr>
              <p:cNvPr id="744" name=""/>
              <p:cNvSpPr/>
              <p:nvPr/>
            </p:nvSpPr>
            <p:spPr>
              <a:xfrm>
                <a:off x="531000" y="25826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37920" y="254160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51400" y="2541600"/>
                <a:ext cx="21312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17520" y="25826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44120" y="25826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957240" y="258264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171440" y="258264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90480" y="241740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958680" y="25005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31000" y="250056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44840" y="25005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25160" y="254160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51400" y="245880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37920" y="245880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758" name=""/>
              <p:cNvGrpSpPr/>
              <p:nvPr/>
            </p:nvGrpSpPr>
            <p:grpSpPr>
              <a:xfrm>
                <a:off x="685080" y="2458440"/>
                <a:ext cx="330480" cy="170280"/>
                <a:chOff x="685080" y="2458440"/>
                <a:chExt cx="330480" cy="17028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744480" y="245844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738360" y="247248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732960" y="248616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27560" y="250020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722520" y="251424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717120" y="252864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711720" y="254268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706320" y="255708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700920" y="257148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95880" y="258624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690480" y="260028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685080" y="261468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1" name=""/>
              <p:cNvSpPr/>
              <p:nvPr/>
            </p:nvSpPr>
            <p:spPr>
              <a:xfrm rot="16200000">
                <a:off x="815760" y="227088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772" name=""/>
              <p:cNvGrpSpPr/>
              <p:nvPr/>
            </p:nvGrpSpPr>
            <p:grpSpPr>
              <a:xfrm>
                <a:off x="816480" y="2431800"/>
                <a:ext cx="68040" cy="26280"/>
                <a:chOff x="816480" y="2431800"/>
                <a:chExt cx="68040" cy="26280"/>
              </a:xfrm>
            </p:grpSpPr>
            <p:grpSp>
              <p:nvGrpSpPr>
                <p:cNvPr id="773" name=""/>
                <p:cNvGrpSpPr/>
                <p:nvPr/>
              </p:nvGrpSpPr>
              <p:grpSpPr>
                <a:xfrm>
                  <a:off x="816480" y="2431800"/>
                  <a:ext cx="68040" cy="26280"/>
                  <a:chOff x="816480" y="2431800"/>
                  <a:chExt cx="68040" cy="2628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>
                    <a:off x="816480" y="24318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884520" y="24318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816480" y="24318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7" name=""/>
                <p:cNvSpPr/>
                <p:nvPr/>
              </p:nvSpPr>
              <p:spPr>
                <a:xfrm>
                  <a:off x="822240" y="243324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8" name=""/>
              <p:cNvSpPr/>
              <p:nvPr/>
            </p:nvSpPr>
            <p:spPr>
              <a:xfrm>
                <a:off x="1064160" y="254160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366"/>
                </a:solidFill>
                <a:latin typeface="Arial"/>
              </a:rPr>
              <a:t>New free tools on the IBIS homepage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7886160" y="1197000"/>
            <a:ext cx="1058400" cy="719280"/>
            <a:chOff x="7886160" y="1197000"/>
            <a:chExt cx="1058400" cy="719280"/>
          </a:xfrm>
        </p:grpSpPr>
        <p:sp>
          <p:nvSpPr>
            <p:cNvPr id="781" name=""/>
            <p:cNvSpPr/>
            <p:nvPr/>
          </p:nvSpPr>
          <p:spPr>
            <a:xfrm>
              <a:off x="7886160" y="1197000"/>
              <a:ext cx="105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3366"/>
                  </a:solidFill>
                  <a:latin typeface="Monotype Corsiva"/>
                </a:rPr>
                <a:t>New tool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8095320" y="1371600"/>
              <a:ext cx="281520" cy="544680"/>
              <a:chOff x="8095320" y="1371600"/>
              <a:chExt cx="281520" cy="544680"/>
            </a:xfrm>
          </p:grpSpPr>
          <p:sp>
            <p:nvSpPr>
              <p:cNvPr id="783" name=""/>
              <p:cNvSpPr/>
              <p:nvPr/>
            </p:nvSpPr>
            <p:spPr>
              <a:xfrm>
                <a:off x="8151480" y="1827000"/>
                <a:ext cx="56160" cy="78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179920" y="1747440"/>
                <a:ext cx="56160" cy="792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236440" y="1747440"/>
                <a:ext cx="56160" cy="792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095320" y="1827000"/>
                <a:ext cx="56160" cy="78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208000" y="1827000"/>
                <a:ext cx="56160" cy="78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264520" y="1827000"/>
                <a:ext cx="56160" cy="78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320680" y="1827000"/>
                <a:ext cx="56160" cy="7884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193960" y="1506960"/>
                <a:ext cx="84960" cy="79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264880" y="1667160"/>
                <a:ext cx="55800" cy="7992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151480" y="1667160"/>
                <a:ext cx="56160" cy="7992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208360" y="1667160"/>
                <a:ext cx="56160" cy="79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123760" y="1747440"/>
                <a:ext cx="56160" cy="792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236080" y="1587600"/>
                <a:ext cx="56160" cy="79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179920" y="1587600"/>
                <a:ext cx="56160" cy="795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797" name=""/>
              <p:cNvGrpSpPr/>
              <p:nvPr/>
            </p:nvGrpSpPr>
            <p:grpSpPr>
              <a:xfrm>
                <a:off x="8192520" y="1586520"/>
                <a:ext cx="87120" cy="329760"/>
                <a:chOff x="8192520" y="1586520"/>
                <a:chExt cx="87120" cy="32976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8208000" y="1586520"/>
                  <a:ext cx="5616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8206560" y="1613880"/>
                  <a:ext cx="5904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8205120" y="1640160"/>
                  <a:ext cx="6192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8203680" y="1667520"/>
                  <a:ext cx="6480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8202240" y="1694880"/>
                  <a:ext cx="6768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8200800" y="1722600"/>
                  <a:ext cx="7020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8199360" y="1749960"/>
                  <a:ext cx="7308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8197920" y="1777320"/>
                  <a:ext cx="7596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8196480" y="1805040"/>
                  <a:ext cx="7884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8195040" y="1834200"/>
                  <a:ext cx="8172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8193960" y="1861560"/>
                  <a:ext cx="8460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8192520" y="1888920"/>
                  <a:ext cx="87120" cy="27360"/>
                </a:xfrm>
                <a:prstGeom prst="rect">
                  <a:avLst/>
                </a:prstGeom>
                <a:solidFill>
                  <a:srgbClr val="0099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0" name=""/>
              <p:cNvSpPr/>
              <p:nvPr/>
            </p:nvSpPr>
            <p:spPr>
              <a:xfrm rot="16200000">
                <a:off x="8168040" y="1410120"/>
                <a:ext cx="136080" cy="59040"/>
              </a:xfrm>
              <a:prstGeom prst="rect">
                <a:avLst/>
              </a:prstGeom>
              <a:solidFill>
                <a:srgbClr val="009999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811" name=""/>
              <p:cNvGrpSpPr/>
              <p:nvPr/>
            </p:nvGrpSpPr>
            <p:grpSpPr>
              <a:xfrm>
                <a:off x="8227080" y="1534680"/>
                <a:ext cx="17640" cy="51480"/>
                <a:chOff x="8227080" y="1534680"/>
                <a:chExt cx="17640" cy="51480"/>
              </a:xfrm>
            </p:grpSpPr>
            <p:grpSp>
              <p:nvGrpSpPr>
                <p:cNvPr id="812" name=""/>
                <p:cNvGrpSpPr/>
                <p:nvPr/>
              </p:nvGrpSpPr>
              <p:grpSpPr>
                <a:xfrm>
                  <a:off x="8227080" y="1534680"/>
                  <a:ext cx="17640" cy="51480"/>
                  <a:chOff x="8227080" y="1534680"/>
                  <a:chExt cx="17640" cy="5148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>
                    <a:off x="8227080" y="1534680"/>
                    <a:ext cx="0" cy="514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8244720" y="1534680"/>
                    <a:ext cx="0" cy="514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8227080" y="153468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6" name=""/>
                <p:cNvSpPr/>
                <p:nvPr/>
              </p:nvSpPr>
              <p:spPr>
                <a:xfrm>
                  <a:off x="8228520" y="1537560"/>
                  <a:ext cx="15120" cy="486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7" name=""/>
              <p:cNvSpPr/>
              <p:nvPr/>
            </p:nvSpPr>
            <p:spPr>
              <a:xfrm>
                <a:off x="8292600" y="1747440"/>
                <a:ext cx="56160" cy="792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8" name=""/>
          <p:cNvGrpSpPr/>
          <p:nvPr/>
        </p:nvGrpSpPr>
        <p:grpSpPr>
          <a:xfrm>
            <a:off x="285840" y="1187280"/>
            <a:ext cx="3093480" cy="520560"/>
            <a:chOff x="285840" y="1187280"/>
            <a:chExt cx="3093480" cy="520560"/>
          </a:xfrm>
        </p:grpSpPr>
        <p:sp>
          <p:nvSpPr>
            <p:cNvPr id="819" name=""/>
            <p:cNvSpPr/>
            <p:nvPr/>
          </p:nvSpPr>
          <p:spPr>
            <a:xfrm>
              <a:off x="1991520" y="1187280"/>
              <a:ext cx="138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3366"/>
                  </a:solidFill>
                  <a:latin typeface="Arial"/>
                </a:rPr>
                <a:t>s2ibis3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285840" y="1347480"/>
              <a:ext cx="1066680" cy="280800"/>
              <a:chOff x="285840" y="1347480"/>
              <a:chExt cx="1066680" cy="280800"/>
            </a:xfrm>
          </p:grpSpPr>
          <p:sp>
            <p:nvSpPr>
              <p:cNvPr id="821" name=""/>
              <p:cNvSpPr/>
              <p:nvPr/>
            </p:nvSpPr>
            <p:spPr>
              <a:xfrm>
                <a:off x="499320" y="15822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06240" y="154116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19720" y="1541160"/>
                <a:ext cx="21312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85840" y="15822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12440" y="158220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925560" y="158220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139760" y="158220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58800" y="141696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927000" y="15001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99320" y="150012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13160" y="150012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93480" y="154116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19720" y="145836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06240" y="145836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653400" y="1458000"/>
                <a:ext cx="330480" cy="170280"/>
                <a:chOff x="653400" y="1458000"/>
                <a:chExt cx="330480" cy="17028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712800" y="145800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06680" y="147204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01280" y="148572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695880" y="149976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90840" y="151380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85440" y="152820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680040" y="154224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74640" y="155664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669240" y="157104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64200" y="158580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658800" y="159984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653400" y="161424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8" name=""/>
              <p:cNvSpPr/>
              <p:nvPr/>
            </p:nvSpPr>
            <p:spPr>
              <a:xfrm rot="16200000">
                <a:off x="784080" y="12704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849" name=""/>
              <p:cNvGrpSpPr/>
              <p:nvPr/>
            </p:nvGrpSpPr>
            <p:grpSpPr>
              <a:xfrm>
                <a:off x="784800" y="1431360"/>
                <a:ext cx="68040" cy="26280"/>
                <a:chOff x="784800" y="1431360"/>
                <a:chExt cx="68040" cy="26280"/>
              </a:xfrm>
            </p:grpSpPr>
            <p:grpSp>
              <p:nvGrpSpPr>
                <p:cNvPr id="850" name=""/>
                <p:cNvGrpSpPr/>
                <p:nvPr/>
              </p:nvGrpSpPr>
              <p:grpSpPr>
                <a:xfrm>
                  <a:off x="784800" y="1431360"/>
                  <a:ext cx="68040" cy="26280"/>
                  <a:chOff x="784800" y="1431360"/>
                  <a:chExt cx="68040" cy="2628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>
                    <a:off x="784800" y="14313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852840" y="14313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784800" y="14313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4" name=""/>
                <p:cNvSpPr/>
                <p:nvPr/>
              </p:nvSpPr>
              <p:spPr>
                <a:xfrm>
                  <a:off x="790560" y="143280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5" name=""/>
              <p:cNvSpPr/>
              <p:nvPr/>
            </p:nvSpPr>
            <p:spPr>
              <a:xfrm>
                <a:off x="1032480" y="1541160"/>
                <a:ext cx="212760" cy="40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6" name=""/>
          <p:cNvGrpSpPr/>
          <p:nvPr/>
        </p:nvGrpSpPr>
        <p:grpSpPr>
          <a:xfrm>
            <a:off x="285840" y="3152880"/>
            <a:ext cx="4084920" cy="520560"/>
            <a:chOff x="285840" y="3152880"/>
            <a:chExt cx="4084920" cy="520560"/>
          </a:xfrm>
        </p:grpSpPr>
        <p:sp>
          <p:nvSpPr>
            <p:cNvPr id="857" name=""/>
            <p:cNvSpPr/>
            <p:nvPr/>
          </p:nvSpPr>
          <p:spPr>
            <a:xfrm>
              <a:off x="1974240" y="3152880"/>
              <a:ext cx="239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3366"/>
                  </a:solidFill>
                  <a:latin typeface="Arial"/>
                </a:rPr>
                <a:t>Ibischeck 4.0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285840" y="3286080"/>
              <a:ext cx="1066680" cy="281160"/>
              <a:chOff x="285840" y="3286080"/>
              <a:chExt cx="1066680" cy="281160"/>
            </a:xfrm>
          </p:grpSpPr>
          <p:sp>
            <p:nvSpPr>
              <p:cNvPr id="859" name=""/>
              <p:cNvSpPr/>
              <p:nvPr/>
            </p:nvSpPr>
            <p:spPr>
              <a:xfrm>
                <a:off x="499320" y="35211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06240" y="34801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19720" y="348012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85840" y="35211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12440" y="35211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925560" y="3521160"/>
                <a:ext cx="21348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139760" y="352116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58800" y="3355560"/>
                <a:ext cx="3225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927000" y="34387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99320" y="3438720"/>
                <a:ext cx="21312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13160" y="343872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93480" y="34801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19720" y="339732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06240" y="3397320"/>
                <a:ext cx="212760" cy="41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873" name=""/>
              <p:cNvGrpSpPr/>
              <p:nvPr/>
            </p:nvGrpSpPr>
            <p:grpSpPr>
              <a:xfrm>
                <a:off x="653400" y="3396960"/>
                <a:ext cx="330480" cy="170280"/>
                <a:chOff x="653400" y="3396960"/>
                <a:chExt cx="330480" cy="17028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712800" y="33969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706680" y="34110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701280" y="34246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695880" y="34387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690840" y="34527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85440" y="34671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80040" y="34812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674640" y="34956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69240" y="35100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664200" y="35247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658800" y="35388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653400" y="35532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6" name=""/>
              <p:cNvSpPr/>
              <p:nvPr/>
            </p:nvSpPr>
            <p:spPr>
              <a:xfrm rot="16200000">
                <a:off x="784080" y="32090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887" name=""/>
              <p:cNvGrpSpPr/>
              <p:nvPr/>
            </p:nvGrpSpPr>
            <p:grpSpPr>
              <a:xfrm>
                <a:off x="784800" y="3370320"/>
                <a:ext cx="68040" cy="26280"/>
                <a:chOff x="784800" y="3370320"/>
                <a:chExt cx="68040" cy="26280"/>
              </a:xfrm>
            </p:grpSpPr>
            <p:grpSp>
              <p:nvGrpSpPr>
                <p:cNvPr id="888" name=""/>
                <p:cNvGrpSpPr/>
                <p:nvPr/>
              </p:nvGrpSpPr>
              <p:grpSpPr>
                <a:xfrm>
                  <a:off x="784800" y="3370320"/>
                  <a:ext cx="68040" cy="26280"/>
                  <a:chOff x="784800" y="3370320"/>
                  <a:chExt cx="68040" cy="26280"/>
                </a:xfrm>
              </p:grpSpPr>
              <p:sp>
                <p:nvSpPr>
                  <p:cNvPr id="889" name=""/>
                  <p:cNvSpPr/>
                  <p:nvPr/>
                </p:nvSpPr>
                <p:spPr>
                  <a:xfrm>
                    <a:off x="784800" y="33703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852840" y="33703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784800" y="33703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2" name=""/>
                <p:cNvSpPr/>
                <p:nvPr/>
              </p:nvSpPr>
              <p:spPr>
                <a:xfrm>
                  <a:off x="790560" y="3371760"/>
                  <a:ext cx="57600" cy="24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3" name=""/>
              <p:cNvSpPr/>
              <p:nvPr/>
            </p:nvSpPr>
            <p:spPr>
              <a:xfrm>
                <a:off x="1032480" y="3480120"/>
                <a:ext cx="212760" cy="41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4" name=""/>
          <p:cNvSpPr/>
          <p:nvPr/>
        </p:nvSpPr>
        <p:spPr>
          <a:xfrm>
            <a:off x="1890720" y="1743120"/>
            <a:ext cx="482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series MOSFE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better convergence with HSP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905480" y="3819600"/>
            <a:ext cx="785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Check the  file depending on the version in the keywor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[IBIS Ver]      4.0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Monotonicity of V-I-ta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ver 4.0 : with summation of V-I-ta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ver 3.2 : without summation (each table alone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739520" y="202680"/>
            <a:ext cx="799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366"/>
                </a:solidFill>
                <a:latin typeface="Arial"/>
              </a:rPr>
              <a:t>IBIS4.0 parameters explained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8196480" y="1155600"/>
            <a:ext cx="1223280" cy="718920"/>
            <a:chOff x="8196480" y="1155600"/>
            <a:chExt cx="1223280" cy="718920"/>
          </a:xfrm>
        </p:grpSpPr>
        <p:sp>
          <p:nvSpPr>
            <p:cNvPr id="898" name=""/>
            <p:cNvSpPr/>
            <p:nvPr/>
          </p:nvSpPr>
          <p:spPr>
            <a:xfrm>
              <a:off x="8196480" y="1155600"/>
              <a:ext cx="122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3366"/>
                  </a:solidFill>
                  <a:latin typeface="Monotype Corsiva"/>
                </a:rPr>
                <a:t>parameter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899" name=""/>
            <p:cNvGrpSpPr/>
            <p:nvPr/>
          </p:nvGrpSpPr>
          <p:grpSpPr>
            <a:xfrm>
              <a:off x="8298000" y="1356120"/>
              <a:ext cx="514440" cy="518400"/>
              <a:chOff x="8298000" y="1356120"/>
              <a:chExt cx="514440" cy="518400"/>
            </a:xfrm>
          </p:grpSpPr>
          <p:sp>
            <p:nvSpPr>
              <p:cNvPr id="900" name=""/>
              <p:cNvSpPr/>
              <p:nvPr/>
            </p:nvSpPr>
            <p:spPr>
              <a:xfrm>
                <a:off x="8400960" y="17895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452440" y="17139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555400" y="1713960"/>
                <a:ext cx="10296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298000" y="17895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503920" y="1789560"/>
                <a:ext cx="102960" cy="75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606520" y="17895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709840" y="17895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478000" y="1485000"/>
                <a:ext cx="155520" cy="75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607240" y="1637640"/>
                <a:ext cx="102600" cy="759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400960" y="1637640"/>
                <a:ext cx="102960" cy="7596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504280" y="1637640"/>
                <a:ext cx="102600" cy="75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349840" y="17139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555400" y="156168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452440" y="156168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914" name=""/>
              <p:cNvGrpSpPr/>
              <p:nvPr/>
            </p:nvGrpSpPr>
            <p:grpSpPr>
              <a:xfrm>
                <a:off x="8475120" y="1560600"/>
                <a:ext cx="159480" cy="313920"/>
                <a:chOff x="8475120" y="1560600"/>
                <a:chExt cx="159480" cy="31392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8503560" y="1560600"/>
                  <a:ext cx="10296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8500680" y="1586520"/>
                  <a:ext cx="1080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8498160" y="1611720"/>
                  <a:ext cx="1130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8495640" y="1637640"/>
                  <a:ext cx="1184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8493120" y="1663560"/>
                  <a:ext cx="12348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8490600" y="1689840"/>
                  <a:ext cx="12852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8487720" y="1716120"/>
                  <a:ext cx="13392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8485200" y="1742040"/>
                  <a:ext cx="13896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8482680" y="1768680"/>
                  <a:ext cx="1440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8480160" y="1796400"/>
                  <a:ext cx="14940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8477640" y="1822320"/>
                  <a:ext cx="15444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8475120" y="1848240"/>
                  <a:ext cx="159480" cy="26280"/>
                </a:xfrm>
                <a:prstGeom prst="rect">
                  <a:avLst/>
                </a:prstGeom>
                <a:solidFill>
                  <a:srgbClr val="00ff99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 rot="16200000">
                <a:off x="8490600" y="1366560"/>
                <a:ext cx="128880" cy="107640"/>
              </a:xfrm>
              <a:prstGeom prst="rect">
                <a:avLst/>
              </a:prstGeom>
              <a:solidFill>
                <a:srgbClr val="00ff99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928" name=""/>
              <p:cNvGrpSpPr/>
              <p:nvPr/>
            </p:nvGrpSpPr>
            <p:grpSpPr>
              <a:xfrm>
                <a:off x="8538480" y="1511640"/>
                <a:ext cx="32760" cy="48960"/>
                <a:chOff x="8538480" y="1511640"/>
                <a:chExt cx="32760" cy="48960"/>
              </a:xfrm>
            </p:grpSpPr>
            <p:grpSp>
              <p:nvGrpSpPr>
                <p:cNvPr id="929" name=""/>
                <p:cNvGrpSpPr/>
                <p:nvPr/>
              </p:nvGrpSpPr>
              <p:grpSpPr>
                <a:xfrm>
                  <a:off x="8538480" y="1511640"/>
                  <a:ext cx="32760" cy="48960"/>
                  <a:chOff x="8538480" y="1511640"/>
                  <a:chExt cx="32760" cy="48960"/>
                </a:xfrm>
              </p:grpSpPr>
              <p:sp>
                <p:nvSpPr>
                  <p:cNvPr id="930" name=""/>
                  <p:cNvSpPr/>
                  <p:nvPr/>
                </p:nvSpPr>
                <p:spPr>
                  <a:xfrm>
                    <a:off x="8538480" y="1511640"/>
                    <a:ext cx="0" cy="489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8571240" y="1511640"/>
                    <a:ext cx="0" cy="489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8538480" y="1511640"/>
                    <a:ext cx="327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3" name=""/>
                <p:cNvSpPr/>
                <p:nvPr/>
              </p:nvSpPr>
              <p:spPr>
                <a:xfrm>
                  <a:off x="8541360" y="1514520"/>
                  <a:ext cx="27720" cy="4608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4" name=""/>
              <p:cNvSpPr/>
              <p:nvPr/>
            </p:nvSpPr>
            <p:spPr>
              <a:xfrm>
                <a:off x="8658360" y="1713960"/>
                <a:ext cx="102600" cy="75600"/>
              </a:xfrm>
              <a:prstGeom prst="rect">
                <a:avLst/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5" name=""/>
          <p:cNvGrpSpPr/>
          <p:nvPr/>
        </p:nvGrpSpPr>
        <p:grpSpPr>
          <a:xfrm>
            <a:off x="272880" y="1800360"/>
            <a:ext cx="9088560" cy="4117320"/>
            <a:chOff x="272880" y="1800360"/>
            <a:chExt cx="9088560" cy="4117320"/>
          </a:xfrm>
        </p:grpSpPr>
        <p:grpSp>
          <p:nvGrpSpPr>
            <p:cNvPr id="936" name=""/>
            <p:cNvGrpSpPr/>
            <p:nvPr/>
          </p:nvGrpSpPr>
          <p:grpSpPr>
            <a:xfrm>
              <a:off x="272880" y="5457960"/>
              <a:ext cx="4501080" cy="459720"/>
              <a:chOff x="272880" y="5457960"/>
              <a:chExt cx="4501080" cy="459720"/>
            </a:xfrm>
          </p:grpSpPr>
          <p:grpSp>
            <p:nvGrpSpPr>
              <p:cNvPr id="937" name=""/>
              <p:cNvGrpSpPr/>
              <p:nvPr/>
            </p:nvGrpSpPr>
            <p:grpSpPr>
              <a:xfrm>
                <a:off x="272880" y="5548680"/>
                <a:ext cx="1066680" cy="280800"/>
                <a:chOff x="272880" y="5548680"/>
                <a:chExt cx="1066680" cy="28080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486360" y="5783400"/>
                  <a:ext cx="21276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93280" y="5742360"/>
                  <a:ext cx="212760" cy="40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807120" y="5742360"/>
                  <a:ext cx="213120" cy="40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272880" y="5783400"/>
                  <a:ext cx="21276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699840" y="5783400"/>
                  <a:ext cx="21348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912600" y="5783400"/>
                  <a:ext cx="21348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1126800" y="5783400"/>
                  <a:ext cx="21276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645840" y="5618160"/>
                  <a:ext cx="322560" cy="41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914040" y="5701320"/>
                  <a:ext cx="21276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86360" y="5701320"/>
                  <a:ext cx="21312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00560" y="5701320"/>
                  <a:ext cx="21348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380520" y="5742360"/>
                  <a:ext cx="212760" cy="40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807120" y="5659560"/>
                  <a:ext cx="212760" cy="4140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593280" y="5659560"/>
                  <a:ext cx="212760" cy="4140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2" name=""/>
                <p:cNvGrpSpPr/>
                <p:nvPr/>
              </p:nvGrpSpPr>
              <p:grpSpPr>
                <a:xfrm>
                  <a:off x="640440" y="5659200"/>
                  <a:ext cx="330840" cy="170280"/>
                  <a:chOff x="640440" y="5659200"/>
                  <a:chExt cx="330840" cy="17028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>
                    <a:off x="699840" y="5659200"/>
                    <a:ext cx="21348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93720" y="5673240"/>
                    <a:ext cx="22428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688320" y="5686920"/>
                    <a:ext cx="23472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82920" y="5700960"/>
                    <a:ext cx="2451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677880" y="5715000"/>
                    <a:ext cx="25632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672480" y="5729400"/>
                    <a:ext cx="2667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667080" y="5743440"/>
                    <a:ext cx="2775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661680" y="5757840"/>
                    <a:ext cx="2880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656280" y="5772240"/>
                    <a:ext cx="2988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651240" y="5787000"/>
                    <a:ext cx="3096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645840" y="5801040"/>
                    <a:ext cx="32004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640440" y="5815440"/>
                    <a:ext cx="33084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5" name=""/>
                <p:cNvSpPr/>
                <p:nvPr/>
              </p:nvSpPr>
              <p:spPr>
                <a:xfrm rot="16200000">
                  <a:off x="771120" y="5471640"/>
                  <a:ext cx="69840" cy="2235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6" name=""/>
                <p:cNvGrpSpPr/>
                <p:nvPr/>
              </p:nvGrpSpPr>
              <p:grpSpPr>
                <a:xfrm>
                  <a:off x="771840" y="5632560"/>
                  <a:ext cx="68040" cy="26280"/>
                  <a:chOff x="771840" y="5632560"/>
                  <a:chExt cx="68040" cy="26280"/>
                </a:xfrm>
              </p:grpSpPr>
              <p:grpSp>
                <p:nvGrpSpPr>
                  <p:cNvPr id="967" name=""/>
                  <p:cNvGrpSpPr/>
                  <p:nvPr/>
                </p:nvGrpSpPr>
                <p:grpSpPr>
                  <a:xfrm>
                    <a:off x="771840" y="5632560"/>
                    <a:ext cx="68040" cy="26280"/>
                    <a:chOff x="771840" y="5632560"/>
                    <a:chExt cx="68040" cy="26280"/>
                  </a:xfrm>
                </p:grpSpPr>
                <p:sp>
                  <p:nvSpPr>
                    <p:cNvPr id="968" name=""/>
                    <p:cNvSpPr/>
                    <p:nvPr/>
                  </p:nvSpPr>
                  <p:spPr>
                    <a:xfrm>
                      <a:off x="771840" y="563256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839880" y="563256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>
                      <a:off x="771840" y="5632560"/>
                      <a:ext cx="6804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71" name=""/>
                  <p:cNvSpPr/>
                  <p:nvPr/>
                </p:nvSpPr>
                <p:spPr>
                  <a:xfrm>
                    <a:off x="777600" y="5634000"/>
                    <a:ext cx="57600" cy="248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2" name=""/>
                <p:cNvSpPr/>
                <p:nvPr/>
              </p:nvSpPr>
              <p:spPr>
                <a:xfrm>
                  <a:off x="1019880" y="5742360"/>
                  <a:ext cx="212760" cy="40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3" name=""/>
              <p:cNvSpPr/>
              <p:nvPr/>
            </p:nvSpPr>
            <p:spPr>
              <a:xfrm>
                <a:off x="1609200" y="5457960"/>
                <a:ext cx="316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Arial"/>
                  </a:rPr>
                  <a:t>Vth, Vth-min, Vth-max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74" name=""/>
            <p:cNvSpPr/>
            <p:nvPr/>
          </p:nvSpPr>
          <p:spPr>
            <a:xfrm>
              <a:off x="272880" y="1800360"/>
              <a:ext cx="90885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  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Sub-Params:  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	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Vth, Vth_min, Vth_max,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272880" y="1298520"/>
            <a:ext cx="908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Courier New"/>
              </a:rPr>
              <a:t>Keyword: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Courier New"/>
              </a:rPr>
              <a:t>[Receiver Thresholds]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272880" y="3013200"/>
            <a:ext cx="9088560" cy="2113920"/>
            <a:chOff x="272880" y="3013200"/>
            <a:chExt cx="9088560" cy="2113920"/>
          </a:xfrm>
        </p:grpSpPr>
        <p:grpSp>
          <p:nvGrpSpPr>
            <p:cNvPr id="977" name=""/>
            <p:cNvGrpSpPr/>
            <p:nvPr/>
          </p:nvGrpSpPr>
          <p:grpSpPr>
            <a:xfrm>
              <a:off x="272880" y="4667400"/>
              <a:ext cx="5704560" cy="459720"/>
              <a:chOff x="272880" y="4667400"/>
              <a:chExt cx="5704560" cy="459720"/>
            </a:xfrm>
          </p:grpSpPr>
          <p:sp>
            <p:nvSpPr>
              <p:cNvPr id="978" name=""/>
              <p:cNvSpPr/>
              <p:nvPr/>
            </p:nvSpPr>
            <p:spPr>
              <a:xfrm>
                <a:off x="1614960" y="4667400"/>
                <a:ext cx="43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Arial"/>
                  </a:rPr>
                  <a:t>Receiver thresholds differential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979" name=""/>
              <p:cNvGrpSpPr/>
              <p:nvPr/>
            </p:nvGrpSpPr>
            <p:grpSpPr>
              <a:xfrm>
                <a:off x="272880" y="4794120"/>
                <a:ext cx="1066680" cy="281160"/>
                <a:chOff x="272880" y="4794120"/>
                <a:chExt cx="1066680" cy="28116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486360" y="5029200"/>
                  <a:ext cx="21276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593280" y="4988160"/>
                  <a:ext cx="21276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807120" y="4988160"/>
                  <a:ext cx="21312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72880" y="5029200"/>
                  <a:ext cx="21276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699840" y="5029200"/>
                  <a:ext cx="21348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912600" y="5029200"/>
                  <a:ext cx="21348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1126800" y="5029200"/>
                  <a:ext cx="21276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45840" y="4863600"/>
                  <a:ext cx="322560" cy="41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914040" y="4946760"/>
                  <a:ext cx="21276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486360" y="4946760"/>
                  <a:ext cx="21312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00560" y="4946760"/>
                  <a:ext cx="21348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380520" y="4988160"/>
                  <a:ext cx="21276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807120" y="4905360"/>
                  <a:ext cx="212760" cy="4140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93280" y="4905360"/>
                  <a:ext cx="212760" cy="4140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4" name=""/>
                <p:cNvGrpSpPr/>
                <p:nvPr/>
              </p:nvGrpSpPr>
              <p:grpSpPr>
                <a:xfrm>
                  <a:off x="640440" y="4905000"/>
                  <a:ext cx="330840" cy="170280"/>
                  <a:chOff x="640440" y="4905000"/>
                  <a:chExt cx="330840" cy="17028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699840" y="4905000"/>
                    <a:ext cx="21348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693720" y="4919040"/>
                    <a:ext cx="22428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688320" y="4932720"/>
                    <a:ext cx="23472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82920" y="4946760"/>
                    <a:ext cx="2451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677880" y="4960800"/>
                    <a:ext cx="25632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72480" y="4975200"/>
                    <a:ext cx="2667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667080" y="4989240"/>
                    <a:ext cx="2775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661680" y="5003640"/>
                    <a:ext cx="2880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656280" y="5018040"/>
                    <a:ext cx="2988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651240" y="5032800"/>
                    <a:ext cx="3096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645840" y="5046840"/>
                    <a:ext cx="32004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640440" y="5061240"/>
                    <a:ext cx="33084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07" name=""/>
                <p:cNvSpPr/>
                <p:nvPr/>
              </p:nvSpPr>
              <p:spPr>
                <a:xfrm rot="16200000">
                  <a:off x="771120" y="4717080"/>
                  <a:ext cx="69840" cy="2235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8" name=""/>
                <p:cNvGrpSpPr/>
                <p:nvPr/>
              </p:nvGrpSpPr>
              <p:grpSpPr>
                <a:xfrm>
                  <a:off x="771840" y="4878360"/>
                  <a:ext cx="68040" cy="26280"/>
                  <a:chOff x="771840" y="4878360"/>
                  <a:chExt cx="68040" cy="26280"/>
                </a:xfrm>
              </p:grpSpPr>
              <p:grpSp>
                <p:nvGrpSpPr>
                  <p:cNvPr id="1009" name=""/>
                  <p:cNvGrpSpPr/>
                  <p:nvPr/>
                </p:nvGrpSpPr>
                <p:grpSpPr>
                  <a:xfrm>
                    <a:off x="771840" y="4878360"/>
                    <a:ext cx="68040" cy="26280"/>
                    <a:chOff x="771840" y="4878360"/>
                    <a:chExt cx="68040" cy="26280"/>
                  </a:xfrm>
                </p:grpSpPr>
                <p:sp>
                  <p:nvSpPr>
                    <p:cNvPr id="1010" name=""/>
                    <p:cNvSpPr/>
                    <p:nvPr/>
                  </p:nvSpPr>
                  <p:spPr>
                    <a:xfrm>
                      <a:off x="771840" y="487836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>
                      <a:off x="839880" y="487836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2" name=""/>
                    <p:cNvSpPr/>
                    <p:nvPr/>
                  </p:nvSpPr>
                  <p:spPr>
                    <a:xfrm>
                      <a:off x="771840" y="4878360"/>
                      <a:ext cx="6804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13" name=""/>
                  <p:cNvSpPr/>
                  <p:nvPr/>
                </p:nvSpPr>
                <p:spPr>
                  <a:xfrm>
                    <a:off x="777600" y="4879800"/>
                    <a:ext cx="57600" cy="248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4" name=""/>
                <p:cNvSpPr/>
                <p:nvPr/>
              </p:nvSpPr>
              <p:spPr>
                <a:xfrm>
                  <a:off x="1019880" y="4988160"/>
                  <a:ext cx="21276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5" name=""/>
            <p:cNvSpPr/>
            <p:nvPr/>
          </p:nvSpPr>
          <p:spPr>
            <a:xfrm>
              <a:off x="272880" y="3013200"/>
              <a:ext cx="90885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	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	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	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Vcross_low, Vcross_high, Vdiff_ac, Vdiff_dc,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72880" y="3421080"/>
            <a:ext cx="90885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Tslew_ac, Tdiffslew_a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272880" y="2205000"/>
            <a:ext cx="9088560" cy="2231280"/>
            <a:chOff x="272880" y="2205000"/>
            <a:chExt cx="9088560" cy="2231280"/>
          </a:xfrm>
        </p:grpSpPr>
        <p:grpSp>
          <p:nvGrpSpPr>
            <p:cNvPr id="1018" name=""/>
            <p:cNvGrpSpPr/>
            <p:nvPr/>
          </p:nvGrpSpPr>
          <p:grpSpPr>
            <a:xfrm>
              <a:off x="272880" y="3976560"/>
              <a:ext cx="6026760" cy="459720"/>
              <a:chOff x="272880" y="3976560"/>
              <a:chExt cx="6026760" cy="459720"/>
            </a:xfrm>
          </p:grpSpPr>
          <p:sp>
            <p:nvSpPr>
              <p:cNvPr id="1019" name=""/>
              <p:cNvSpPr/>
              <p:nvPr/>
            </p:nvSpPr>
            <p:spPr>
              <a:xfrm>
                <a:off x="1617120" y="3976560"/>
                <a:ext cx="4682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Arial"/>
                  </a:rPr>
                  <a:t>Receiver thresholds single ended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020" name=""/>
              <p:cNvGrpSpPr/>
              <p:nvPr/>
            </p:nvGrpSpPr>
            <p:grpSpPr>
              <a:xfrm>
                <a:off x="272880" y="4103280"/>
                <a:ext cx="1066680" cy="281160"/>
                <a:chOff x="272880" y="4103280"/>
                <a:chExt cx="1066680" cy="28116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86360" y="4338360"/>
                  <a:ext cx="21276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593280" y="4297320"/>
                  <a:ext cx="21276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807120" y="4297320"/>
                  <a:ext cx="21312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272880" y="4338360"/>
                  <a:ext cx="21276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699840" y="4338360"/>
                  <a:ext cx="21348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912600" y="4338360"/>
                  <a:ext cx="21348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1126800" y="4338360"/>
                  <a:ext cx="21276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645840" y="4172760"/>
                  <a:ext cx="322560" cy="41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914040" y="4255920"/>
                  <a:ext cx="21276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86360" y="4255920"/>
                  <a:ext cx="21312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00560" y="4255920"/>
                  <a:ext cx="21348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380520" y="4297320"/>
                  <a:ext cx="21276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807120" y="4214520"/>
                  <a:ext cx="212760" cy="4140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593280" y="4214520"/>
                  <a:ext cx="212760" cy="4140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5" name=""/>
                <p:cNvGrpSpPr/>
                <p:nvPr/>
              </p:nvGrpSpPr>
              <p:grpSpPr>
                <a:xfrm>
                  <a:off x="640440" y="4214160"/>
                  <a:ext cx="330840" cy="170280"/>
                  <a:chOff x="640440" y="4214160"/>
                  <a:chExt cx="330840" cy="170280"/>
                </a:xfrm>
              </p:grpSpPr>
              <p:sp>
                <p:nvSpPr>
                  <p:cNvPr id="1036" name=""/>
                  <p:cNvSpPr/>
                  <p:nvPr/>
                </p:nvSpPr>
                <p:spPr>
                  <a:xfrm>
                    <a:off x="699840" y="4214160"/>
                    <a:ext cx="21348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693720" y="4228200"/>
                    <a:ext cx="22428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688320" y="4241880"/>
                    <a:ext cx="23472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682920" y="4255920"/>
                    <a:ext cx="2451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677880" y="4269960"/>
                    <a:ext cx="25632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672480" y="4284360"/>
                    <a:ext cx="2667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67080" y="4298400"/>
                    <a:ext cx="2775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661680" y="4312800"/>
                    <a:ext cx="2880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56280" y="4327200"/>
                    <a:ext cx="2988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651240" y="4341960"/>
                    <a:ext cx="3096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645840" y="4356000"/>
                    <a:ext cx="32004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640440" y="4370400"/>
                    <a:ext cx="33084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8" name=""/>
                <p:cNvSpPr/>
                <p:nvPr/>
              </p:nvSpPr>
              <p:spPr>
                <a:xfrm rot="16200000">
                  <a:off x="771120" y="4026240"/>
                  <a:ext cx="69840" cy="2235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9" name=""/>
                <p:cNvGrpSpPr/>
                <p:nvPr/>
              </p:nvGrpSpPr>
              <p:grpSpPr>
                <a:xfrm>
                  <a:off x="771840" y="4187520"/>
                  <a:ext cx="68040" cy="26280"/>
                  <a:chOff x="771840" y="4187520"/>
                  <a:chExt cx="68040" cy="26280"/>
                </a:xfrm>
              </p:grpSpPr>
              <p:grpSp>
                <p:nvGrpSpPr>
                  <p:cNvPr id="1050" name=""/>
                  <p:cNvGrpSpPr/>
                  <p:nvPr/>
                </p:nvGrpSpPr>
                <p:grpSpPr>
                  <a:xfrm>
                    <a:off x="771840" y="4187520"/>
                    <a:ext cx="68040" cy="26280"/>
                    <a:chOff x="771840" y="4187520"/>
                    <a:chExt cx="68040" cy="26280"/>
                  </a:xfrm>
                </p:grpSpPr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771840" y="418752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839880" y="418752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771840" y="4187520"/>
                      <a:ext cx="6804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4" name=""/>
                  <p:cNvSpPr/>
                  <p:nvPr/>
                </p:nvSpPr>
                <p:spPr>
                  <a:xfrm>
                    <a:off x="777600" y="4188960"/>
                    <a:ext cx="57600" cy="248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5" name=""/>
                <p:cNvSpPr/>
                <p:nvPr/>
              </p:nvSpPr>
              <p:spPr>
                <a:xfrm>
                  <a:off x="1019880" y="4297320"/>
                  <a:ext cx="212760" cy="41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56" name=""/>
            <p:cNvSpPr/>
            <p:nvPr/>
          </p:nvSpPr>
          <p:spPr>
            <a:xfrm>
              <a:off x="272880" y="2612880"/>
              <a:ext cx="90885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               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	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	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Threshold_sensitivity, Reference_supply,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72880" y="2205000"/>
              <a:ext cx="90885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	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	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	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Courier New"/>
                </a:rPr>
                <a:t>Vinh_ac, Vinh_dc, Vinl_ac, Vinl_dc,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2:24:51Z</dcterms:created>
  <dc:creator>Eckhard Lenski</dc:creator>
  <dc:description/>
  <dc:language>en-US</dc:language>
  <cp:lastModifiedBy>Bob Ross</cp:lastModifiedBy>
  <cp:lastPrinted>2002-05-07T09:08:55Z</cp:lastPrinted>
  <dcterms:modified xsi:type="dcterms:W3CDTF">2004-02-17T16:05:08Z</dcterms:modified>
  <cp:revision>302</cp:revision>
  <dc:subject>IBIS version 4.0 und 4.1</dc:subject>
  <dc:title>IBIS current status(4.1) and some notes on IBIS4.0 parameters</dc:title>
</cp:coreProperties>
</file>