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0F66-5490-4C74-873F-3E865DEB5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70F-5AD0-435F-B964-D224B1CF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7D9-20C0-435D-9AC0-5B9AF76D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B46-B0D6-4D59-830A-491B51D9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C2A-8D99-459C-AA31-12E0C62E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00AC-0EDD-4769-AF03-F632CA5B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FCFF-D812-45AE-9715-88B347B4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8005-669E-4736-A66B-30D5D27D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6CB5-1EDE-4C66-8908-8A8F61AA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769D-14F6-4164-9558-CBFD5111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68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189F-0800-4229-8887-B4B96938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C237-EEA5-41F2-9690-ADBEFE45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E9B-03DB-404A-B894-C1434CF9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2331-B49D-413C-9F94-7C7B4479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6427-713D-4AA4-AFDD-924824FB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7079-3283-426C-A743-A5B8693F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B038-29DE-4C3D-95DB-103606FE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5737-4EBC-4B2C-BBC5-931E37F6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E2A-E317-4212-A434-2DB1DEF7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DAF-368C-41AA-AED4-60A27087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632-05FC-4224-ADFE-3031FE96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C05-A6AB-4CE0-AD2F-83C0530C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92A-E268-44A9-B72B-42DB5D3A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ED2-B3B6-410C-B16F-C88A34C0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37E-3B35-4206-9D6D-76D28E1E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6CF8-994C-4B0D-B8B0-64FC585FB220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91520" y="6172200"/>
            <a:ext cx="1447560" cy="411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1305-1CFD-4F5F-9188-168B523A4B30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36699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isoft.com/ibis-quality/doc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3200040"/>
            <a:ext cx="76201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Century Gothic"/>
              </a:rPr>
              <a:t>IBIS QUALITY</a:t>
            </a:r>
            <a:endParaRPr b="0" lang="en-US" sz="28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Century Gothic"/>
              </a:rPr>
              <a:t>DESIGNCON IBIS SUMMIT Feb 2, 2004</a:t>
            </a:r>
            <a:endParaRPr b="0" lang="en-US" sz="28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Century Gothic"/>
              </a:rPr>
              <a:t>Robert Haller 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Century Gothic"/>
              </a:rPr>
              <a:t>rhaller@sisoft.com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Signal Integrity Software, Inc.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6 Clock Tower Place – Suite 250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Maynard MA. 01754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978-461-0449 X 15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944" t="20834" r="6944" b="19446"/>
          <a:stretch/>
        </p:blipFill>
        <p:spPr>
          <a:xfrm>
            <a:off x="2971800" y="0"/>
            <a:ext cx="3809880" cy="108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352680" y="99072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2406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BIS Quality (IQ) Subcommittee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Goa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Rating system that is easy to understand and adop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ommunicate to vendors/users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over overall file, component, and model section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heck for completeness, correctness, accurac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rage of prior work Meet every 2 weeks (Tuesdays 9:00 EDT for 1 hour)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Mailing 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bis-quality@freelists.org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freelists.org/archives/ibis-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Web Site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sisoft.com/ibis-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39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Document Available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http://www.sisoft.com/ibis-quality/doc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Q_Document.txt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39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Document Index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3" marL="151992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1.0 IBIS Quality Summar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1.1 IBIS Quality level definition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1.2 IBIS Quality summary as comments in fil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2.0 General Header Section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3.0 Component Sec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3.1 Component Package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3.2 Component Pin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3.3 Component Diff Pin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-32400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3.4 Component Model Selector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2400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39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Document Index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7080" indent="0">
              <a:lnSpc>
                <a:spcPct val="98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4.0 Model Sec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4.1 Model General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4.2 Model Waveform Processing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4.3 Model I-V Table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4.4 Model V-T Table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4.5 Model Ramp Data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3" marL="1440000" indent="0">
              <a:lnSpc>
                <a:spcPct val="9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5.0 Possible Errors that should be checked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6.0 Correla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6.1     SPICE correla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6.2     Lab correla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-3070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7.0 Model Limitation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0708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239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Document Sampl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98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3.1 Component Package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 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Requirements for the [Package] and [Package Model] sections: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3.1.1  {LEVEL 0}   [Package] must have typical valu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Typical values must be defined on a component. Min/Max optional but must be defined as NA if not available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3.1.2  {LEVEL 0}   [Package] Parasitics must be reasonabl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Reasonable values are: L &lt; 10nH, C &lt; 20pF, R &lt; 1 ohm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Min must be less than typ and typ less than max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39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Document Level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6120" indent="0">
              <a:lnSpc>
                <a:spcPct val="98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-3344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0 requirements 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0 requirements can be checked by ibischk3 version 3.2.9 or later  software.  Use of ibischk3 is highly recommended, to avoid performing level 0 checks manually…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-3344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1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1 includes all items in level 0, plus checks for correctness and completeness, and basic simulation tests…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-3344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2a requiremen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2a includes all items in level 1, plus simulation correlation: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- Spice Correlation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- Cross reference IBIS Accuracy figure of merit (FOM)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444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…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Summary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15699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BIS Quality Subcommittee Goa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BIS Quality Documentation Available !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sisoft.com/ibis-quality/doc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Q Index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Q Sample Documentation presented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Q Leve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6944" t="20834" r="6944" b="19446"/>
          <a:stretch/>
        </p:blipFill>
        <p:spPr>
          <a:xfrm>
            <a:off x="2895480" y="2743200"/>
            <a:ext cx="4038840" cy="114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46:44Z</dcterms:created>
  <dc:creator>Bob Haller</dc:creator>
  <dc:description/>
  <dc:language>en-US</dc:language>
  <cp:lastModifiedBy>rhaller</cp:lastModifiedBy>
  <dcterms:modified xsi:type="dcterms:W3CDTF">2004-01-27T20:16:09Z</dcterms:modified>
  <cp:revision>21</cp:revision>
  <dc:subject/>
  <dc:title>IBIS QUALITY COMMITTEE REPORT</dc:title>
</cp:coreProperties>
</file>