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C1164-151F-46A1-8A63-2DE916EC27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C4ED-531A-42C4-A93C-7D50EB2C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FA5B0-7EC6-4AE1-BC07-2299C79E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62BD6-4DDD-4B36-952C-BC0CE4F34D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CA39C-D8CD-4F57-85AE-30B7D1FC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B8319-4CF3-41A0-A4C2-182A057C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828E5-6DDE-4F2D-B2B2-6388243A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42D6E-0688-49C2-8349-F9F28AB1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D36CA-E341-4ABE-A2F6-5F6FEA2A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D91D-3FED-4EA0-9BAC-EC3AB3F7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9FA33-18E2-4353-BFE5-56D96F3F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C33DC-2B7C-49F9-BE0C-57F200BC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e8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74e8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81916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BD0A-9596-4FB7-B5AE-D398EABF2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62120" y="1014480"/>
            <a:ext cx="7089480" cy="777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52560" y="4800600"/>
            <a:ext cx="328320" cy="2000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086600" y="6583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uken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760" y="4568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705360" y="3733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5714640" y="4114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098960"/>
            <a:ext cx="381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customized engineering 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3419640"/>
            <a:ext cx="3353040" cy="714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4114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4e8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74e8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ATe European IBIS Summit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ebruary the 20th, 200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92560" y="3713040"/>
            <a:ext cx="3848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ATe 200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NIT Conference Center, La Defense, Fra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954680"/>
            <a:ext cx="5987880" cy="1903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84520" y="1803240"/>
            <a:ext cx="2133360" cy="508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01680" y="801720"/>
            <a:ext cx="1782720" cy="149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01680" y="954000"/>
            <a:ext cx="1782720" cy="37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63640" y="1168200"/>
            <a:ext cx="8191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00  WELCOME AND INTRODUCTIONS (Ralf Brü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10   IBIS QUALITY (R. Haller, SiSoft,  Eckhard Lenski,  Siemens AG, German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35   VERIFICATION OF IBIS MODELS (Hans Klos, Sintecs BV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00  IBIS MODEL DEVELOPMENT AND VALIDATION (not confirmed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hripad Annigeri, WiPro, Indi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25  SENSITIVITY ANALYSIS OF IBIS-PARAMETERS WITH HSPICE (M. Maurer,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50  BREAK (1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05  IBIS MODELS, CURRENT STATUS AND SOME NOTES ON IBIS4.0 Parameters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(Eckhard Lenski, 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30  IBIS AND EMI SCREENING TOOLS (Ralf Brue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50  A FREEWARE ENVIRONMENT FOR IC EMISSION SIMULA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ED ON ICEM AND IBIS (Etienne Sicard, INSA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2:15  LUNCH/DISCUSSION (4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52560" y="123192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00  THE BENEFITS OF MULTI-LINGUAL EXTENSIONS TO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Stephane Rousseau, Mentor Graphic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25  PARAMETRIC MODELS IN IBIS MULTILINGUAL FRAME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.G. Canavero, I.A. Maio, B. Ross*, I.S. Stievano Politecnoico di Torino, Italy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*Teraspeed Consulting Group, 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Presented by I.S. Steivano, Politecnico di Torin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50   LUMPED SKIN EFFECT MODEL FOR PACKAGE LEA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Ege Engin, Fraunhofer IZM/University of Paderbor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4:15    BREAK &amp; END OF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1:19:46Z</dcterms:created>
  <dc:creator>Ralf Bruening</dc:creator>
  <dc:description/>
  <dc:language>en-US</dc:language>
  <cp:lastModifiedBy>Bob Ross</cp:lastModifiedBy>
  <dcterms:modified xsi:type="dcterms:W3CDTF">2004-02-20T15:04:33Z</dcterms:modified>
  <cp:revision>48</cp:revision>
  <dc:subject>Lossy Transmission Line Analysis</dc:subject>
  <dc:title>DATe2004 PCB Symposium</dc:title>
</cp:coreProperties>
</file>