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4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23021E3-DDDB-4213-B5F1-D0E352CB057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Driver Schedule]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odel Initializ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76760"/>
            <a:ext cx="64008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bruary 2, 200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y (stated/unstated) Driver Schedule Assumptions (in BIRD35.3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 [Model], the model assumptions must preva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orks for single transition and one cycle (Rising and Falling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ULL CYCLE for [Driver Schedule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Rise_on_dly   Rise_off_dly    Fall_on_dly    Fall_off_dly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x1 or NA        x2 or NA        x3 or NA       x4 or NA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Full cycle =&gt; down-up (d-u),  (u-d),   (d-u-d-u),   (u-d-u-d) sequencing for “slow” clock (no over-clocking considered or allowed)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16 possibilities, but 5 [x || NA] table variations with 8 total variations considering numerical ordering, finite duration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llows top-level [Model] “Polarity” Non-Inverting and Inverting modes (“phasing”) in transparent manner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verything is relative to Rise or Fall edges of “Master Clock”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fore known initial state (High or Low) allowing single switch and one cycle sim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itial States (should b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mplemented for full capability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_on R_off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_on F_of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n-Inver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ver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296960" y="1390680"/>
            <a:ext cx="19080" cy="44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95160" y="2021040"/>
            <a:ext cx="6967800" cy="1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llegal Cas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_on R_off  F_on F_of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known initial st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-u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-d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-d-d-u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-u-u-d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just 1 or 3 numerical entries (sequenc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323960" y="1517760"/>
            <a:ext cx="9720" cy="324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057400"/>
            <a:ext cx="711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4-02-01T00:46:00Z</dcterms:modified>
  <cp:revision>421</cp:revision>
  <dc:subject/>
  <dc:title>IBIS</dc:title>
</cp:coreProperties>
</file>