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2-2004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47E31A02-236C-42CF-861C-B7B63045336E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Die V-T Tables from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art or Board Measuremen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776760"/>
            <a:ext cx="64008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Con IBIS Summi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nta Clara, Californ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bruary 2, 200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Example 2 - Package/Board Extraction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in D2 V-T data of mounted device measured at test fixture interfa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C_comp=2.0 pF in model (about 1.8 pF TDA Systems extraction)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ckage/Test Board model from TDA Systems IConnect®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R_pin=0.023 Ohms, L_pin=2.05 nH, C_pin=0.57 pF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Z0=79.5 Ohms TD=70 ps (board)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Z0=86.5 Ohms TD=34 ps (board)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Z0=49.8 Ohms TD=55.8 ps (50 Ohm extension)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</p:txBody>
      </p:sp>
      <p:pic>
        <p:nvPicPr>
          <p:cNvPr id="114" name="" descr="The image “file:///C:/Documents%20and%20Settings/bob/My%20Documents/bob/designcon04/upload/AMD_Pix2.pn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770360" y="1433520"/>
            <a:ext cx="3895920" cy="2670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827600" y="4199040"/>
            <a:ext cx="400536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bckt Single_Line_2 port1 port2 gnd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1  port1  gnd_  1  gnd_ Z0=49.8 TD=55.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2  1  gnd_  2  gnd_ Z0=86.5 TD=3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3  2  gnd_  3  gnd_ Z0=79.5 TD=70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4  3  gnd_  4  gnd_ Z0=57.3 TD=32.9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5  4  gnd_  5  gnd_ Z0=20.2 TD=36.1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6  5  gnd_  port2  gnd_ Z0=114 TD=19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24400" y="1987560"/>
            <a:ext cx="182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Board       Pack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34240" y="3686040"/>
            <a:ext cx="23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C_comp         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384600" y="2286000"/>
            <a:ext cx="250920" cy="63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477120" y="3444480"/>
            <a:ext cx="759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2408400"/>
            <a:ext cx="15840" cy="58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43880" y="2933640"/>
            <a:ext cx="0" cy="65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38760" y="5173560"/>
            <a:ext cx="37256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38760" y="5524560"/>
            <a:ext cx="37256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BI-2.6V – B, D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Overlaying</a:t>
            </a: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 V-T Model Simulations (min/typ/max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1343160"/>
          <a:ext cx="914400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3160"/>
                    <a:ext cx="914400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yp Column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Overlaying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B, D Falling Waveform Match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495440"/>
          <a:ext cx="9144000" cy="462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95440"/>
                    <a:ext cx="914400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738600" y="1311120"/>
            <a:ext cx="4572000" cy="580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Delta V at 2.5 ns: 0.0137 V or 0.8% of s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Delta T at 0.893 V: 6.9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31960" y="3413160"/>
            <a:ext cx="284400" cy="376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895120" y="1951200"/>
            <a:ext cx="1290600" cy="1482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Min Column B, D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Falling Waveform Mismatch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495440"/>
          <a:ext cx="9144000" cy="462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95440"/>
                    <a:ext cx="914400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728880" y="1332000"/>
            <a:ext cx="4572000" cy="580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Delta V at 4 ns: 0.113 V or 7.2% of s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Delta T at 0.745 V: 73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28880" y="3565440"/>
            <a:ext cx="325440" cy="600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012920" y="1940040"/>
            <a:ext cx="974520" cy="1657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Column Mismatch Refinement Idea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bine the time ax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With 1000 points, just put the min column with same time points shifted by 73 ps (NA’s every other point for each column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r interpolate new corner data to typ time axi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r interleave independently derived typ/min/max axi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 just improve the approxi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Use three column data point averages for overall average inverse linear transform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r do three column linear regression for closer overall transform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Additional Observation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ta should work with any EDA tool with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BIS waveform algorithm that reproduces test fixture respons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Time step control for simulation and output (resolution, interpolation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bility to process complex packag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possible “formal” appro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Optimization, feedback methods, FFT/Inverse-FFT methods, de-convolution, …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otential numerical artifacts and other error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EXACT, but an EXCELLENT APPROXIM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ight not capture some detail (e.g., overshoot, glitches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reserves waveform shap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djusts for slew &amp; delay effects (not just scaling or delay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elf checking proces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Summary and Conclusion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lta package simulation and time axis inverse linear transform (scale &amp; delay) of typ column measurement data produces accurate die V-T tab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ach V-T table handled independently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Used for complex packages (device package plus measurement board test fixture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asy to program directly or with spread shee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yp data based time axis change gives “good” results for min and max column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in/max column time axis matching can be improv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s show good correl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Content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easurement based IBIS models get V-T data at hardware test fixture interfa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Includes pin package (model) and test fixture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eed accurate estimate the IBIS Die V-T data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lta” process illustra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ransforms TIME axis of measured V-T data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ssumes the package/test fixture can be modeled (e.g., from TDR measurements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servations and Conclu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Steps for “Delta” Process IBIS Die V-T Tables from Pin/Board V-T Table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27240" y="1523880"/>
            <a:ext cx="4653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e IBIS model using MEASURED V-T tables at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ulat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then add package/ board and simulate “delta”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 inverse of linear transform of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e axis to derive new IBIS model DIE V-T tabl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 package/board to simulate V-T response at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ar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87480" y="1533600"/>
            <a:ext cx="282744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70360" y="1251000"/>
            <a:ext cx="4724280" cy="4611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85880" y="3424320"/>
            <a:ext cx="295200" cy="52848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849320" y="3992400"/>
            <a:ext cx="30240" cy="3859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4459320"/>
            <a:ext cx="1087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IBIS Package Model for Die/Pin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479840"/>
            <a:ext cx="85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IBIS Buffer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44920" y="4456080"/>
            <a:ext cx="113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Package and Board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22160" y="2193480"/>
            <a:ext cx="293760" cy="21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01640" y="3678120"/>
            <a:ext cx="324000" cy="750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133360" y="3973320"/>
            <a:ext cx="479160" cy="48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224080" y="2387520"/>
            <a:ext cx="966960" cy="1930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149640" y="2406600"/>
            <a:ext cx="30240" cy="1881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19440" y="1146240"/>
            <a:ext cx="191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Board Measured IBI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52240" y="1360440"/>
            <a:ext cx="447480" cy="417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llustrated Steps Using Real Measurement (50 Ohms to Gnd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82720" y="1309680"/>
            <a:ext cx="2616120" cy="363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4676760" y="1327320"/>
          <a:ext cx="3645000" cy="2209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76760" y="1327320"/>
                    <a:ext cx="36450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925560" y="3608280"/>
          <a:ext cx="3657600" cy="2217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5560" y="3608280"/>
                    <a:ext cx="3657600" cy="22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694400" y="3602160"/>
          <a:ext cx="3639960" cy="22208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94400" y="3602160"/>
                    <a:ext cx="363996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324400" y="1981080"/>
            <a:ext cx="73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5840" y="1981080"/>
            <a:ext cx="8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69960" y="426420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12840" y="4262400"/>
            <a:ext cx="5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95960" y="425592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35600" y="42559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3480" y="210348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27240" y="43750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64200" y="435924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Step 3: Inverse Linear Transform 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 Find V-T table A from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523880"/>
            <a:ext cx="4476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nd times for 80% and 20% points of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B8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B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C8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interpolate for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lve transform for p and q: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p *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q                       (&amp; assum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p *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verse transform time axis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time axis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sing:            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(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q) /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B8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                               (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-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C8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*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B8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B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/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C8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19160" y="5076720"/>
            <a:ext cx="4043520" cy="922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02080" y="1677960"/>
          <a:ext cx="3384720" cy="340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080" y="1677960"/>
                    <a:ext cx="338472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964200" y="36734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10440" y="367020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09880" y="367668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82360" y="1380960"/>
            <a:ext cx="699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Gill Sans MT"/>
              </a:rPr>
              <a:t>B8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 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Gill Sans MT"/>
              </a:rPr>
              <a:t>C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31640" y="5040360"/>
            <a:ext cx="699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Gill Sans MT"/>
              </a:rPr>
              <a:t>B2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 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Gill Sans MT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905520" y="4109760"/>
            <a:ext cx="15840" cy="927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7140600" y="4098600"/>
            <a:ext cx="77760" cy="957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7640" y="1727280"/>
            <a:ext cx="92160" cy="110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42080" y="1725480"/>
            <a:ext cx="46080" cy="11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Example 1 – Delayed Rounded Ramp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Package Only, No Board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umed measurement based IBIS mode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5 Volt Buffer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50 Ohm pullup, pulldow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4 V-T ideal rounded ramps extracted at the pin (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o clamp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_comp = 5 pF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umped package mod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L_pkg = 5 nH, C_pkg = 2 pF  (50 Ohms, 100 ps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-T tables derived for new IBIS mod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ested at pin interface (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D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Example 1 - 50 Ohms to Gnd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Lumped Package) with Overshoot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101600"/>
          <a:ext cx="9144000" cy="254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1600"/>
                    <a:ext cx="914400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0" y="3693960"/>
          <a:ext cx="9144000" cy="226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693960"/>
                    <a:ext cx="9144000" cy="22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352680" y="26416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88200" y="263700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43480" y="262080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73560" y="4968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,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75480" y="1341360"/>
            <a:ext cx="1625400" cy="638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00880" y="3890880"/>
            <a:ext cx="1555560" cy="55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Example 1 – Overlay of B, D for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50 Ohms to Gnd/Vcc Waveform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1338120"/>
          <a:ext cx="9144000" cy="494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8120"/>
                    <a:ext cx="914400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Example 2 – Real Device with Test Fixture Board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n D2 V-T data of mounted device measured at test fixture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_comp=2.0 pF in model (about 1.8 pF TDA Systems extraction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age/Test Board model from TDA Systems IConnect®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_pin=0.023 Ohms, L_pin=2.05 nH, C_pin=0.57 p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Z0=79.5 Ohms TD=70 ps (board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Z0=86.5 Ohms TD=34 ps (board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Z0=49.8 Ohms TD=55.8 ps (50 Ohm extension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Spice B-element used to simulate BI-2.6V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aphs later show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OVERLAYING 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imulations of all corners and V-T tables (50 ohms to ground/Vcc for rising and falling edge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4-01-23T21:27:57Z</dcterms:modified>
  <cp:revision>394</cp:revision>
  <dc:subject/>
  <dc:title>IBIS</dc:title>
</cp:coreProperties>
</file>