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467480" y="0"/>
            <a:ext cx="1676520" cy="1668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038480" y="15228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cc"/>
                </a:solidFill>
                <a:latin typeface="Times New Roman"/>
              </a:rPr>
              <a:t>WIRELESS COMPUTING AND COMMUNICATIONS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7816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651D-4DA0-4545-9CC5-A971C4B1E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54040" y="6400800"/>
            <a:ext cx="664920" cy="293760"/>
            <a:chOff x="554040" y="6400800"/>
            <a:chExt cx="664920" cy="293760"/>
          </a:xfrm>
        </p:grpSpPr>
        <p:sp>
          <p:nvSpPr>
            <p:cNvPr id="6" name=""/>
            <p:cNvSpPr/>
            <p:nvPr/>
          </p:nvSpPr>
          <p:spPr>
            <a:xfrm>
              <a:off x="554040" y="6470640"/>
              <a:ext cx="41040" cy="154080"/>
            </a:xfrm>
            <a:custGeom>
              <a:avLst/>
              <a:gdLst/>
              <a:ahLst/>
              <a:rect l="l" t="t" r="r" b="b"/>
              <a:pathLst>
                <a:path w="26" h="97">
                  <a:moveTo>
                    <a:pt x="25" y="96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25" y="96"/>
                  </a:lnTo>
                </a:path>
              </a:pathLst>
            </a:cu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3560" y="6416640"/>
              <a:ext cx="280800" cy="277920"/>
            </a:xfrm>
            <a:custGeom>
              <a:avLst/>
              <a:gdLst/>
              <a:ahLst/>
              <a:rect l="l" t="t" r="r" b="b"/>
              <a:pathLst>
                <a:path w="177" h="175">
                  <a:moveTo>
                    <a:pt x="80" y="111"/>
                  </a:moveTo>
                  <a:lnTo>
                    <a:pt x="124" y="111"/>
                  </a:lnTo>
                  <a:lnTo>
                    <a:pt x="124" y="107"/>
                  </a:lnTo>
                  <a:lnTo>
                    <a:pt x="122" y="102"/>
                  </a:lnTo>
                  <a:lnTo>
                    <a:pt x="118" y="96"/>
                  </a:lnTo>
                  <a:lnTo>
                    <a:pt x="111" y="92"/>
                  </a:lnTo>
                  <a:lnTo>
                    <a:pt x="103" y="91"/>
                  </a:lnTo>
                  <a:lnTo>
                    <a:pt x="94" y="92"/>
                  </a:lnTo>
                  <a:lnTo>
                    <a:pt x="87" y="97"/>
                  </a:lnTo>
                  <a:lnTo>
                    <a:pt x="82" y="103"/>
                  </a:lnTo>
                  <a:lnTo>
                    <a:pt x="80" y="111"/>
                  </a:lnTo>
                  <a:lnTo>
                    <a:pt x="80" y="130"/>
                  </a:lnTo>
                  <a:lnTo>
                    <a:pt x="82" y="138"/>
                  </a:lnTo>
                  <a:lnTo>
                    <a:pt x="86" y="146"/>
                  </a:lnTo>
                  <a:lnTo>
                    <a:pt x="93" y="151"/>
                  </a:lnTo>
                  <a:lnTo>
                    <a:pt x="97" y="153"/>
                  </a:lnTo>
                  <a:lnTo>
                    <a:pt x="103" y="153"/>
                  </a:lnTo>
                  <a:lnTo>
                    <a:pt x="109" y="152"/>
                  </a:lnTo>
                  <a:lnTo>
                    <a:pt x="115" y="150"/>
                  </a:lnTo>
                  <a:lnTo>
                    <a:pt x="119" y="146"/>
                  </a:lnTo>
                  <a:lnTo>
                    <a:pt x="122" y="141"/>
                  </a:lnTo>
                  <a:lnTo>
                    <a:pt x="147" y="141"/>
                  </a:lnTo>
                  <a:lnTo>
                    <a:pt x="145" y="148"/>
                  </a:lnTo>
                  <a:lnTo>
                    <a:pt x="142" y="154"/>
                  </a:lnTo>
                  <a:lnTo>
                    <a:pt x="137" y="160"/>
                  </a:lnTo>
                  <a:lnTo>
                    <a:pt x="131" y="165"/>
                  </a:lnTo>
                  <a:lnTo>
                    <a:pt x="125" y="169"/>
                  </a:lnTo>
                  <a:lnTo>
                    <a:pt x="118" y="172"/>
                  </a:lnTo>
                  <a:lnTo>
                    <a:pt x="110" y="173"/>
                  </a:lnTo>
                  <a:lnTo>
                    <a:pt x="103" y="174"/>
                  </a:lnTo>
                  <a:lnTo>
                    <a:pt x="95" y="173"/>
                  </a:lnTo>
                  <a:lnTo>
                    <a:pt x="86" y="171"/>
                  </a:lnTo>
                  <a:lnTo>
                    <a:pt x="79" y="167"/>
                  </a:lnTo>
                  <a:lnTo>
                    <a:pt x="72" y="163"/>
                  </a:lnTo>
                  <a:lnTo>
                    <a:pt x="65" y="156"/>
                  </a:lnTo>
                  <a:lnTo>
                    <a:pt x="60" y="149"/>
                  </a:lnTo>
                  <a:lnTo>
                    <a:pt x="56" y="141"/>
                  </a:lnTo>
                  <a:lnTo>
                    <a:pt x="54" y="131"/>
                  </a:lnTo>
                  <a:lnTo>
                    <a:pt x="40" y="132"/>
                  </a:lnTo>
                  <a:lnTo>
                    <a:pt x="30" y="130"/>
                  </a:lnTo>
                  <a:lnTo>
                    <a:pt x="26" y="129"/>
                  </a:lnTo>
                  <a:lnTo>
                    <a:pt x="22" y="127"/>
                  </a:lnTo>
                  <a:lnTo>
                    <a:pt x="20" y="123"/>
                  </a:lnTo>
                  <a:lnTo>
                    <a:pt x="18" y="119"/>
                  </a:lnTo>
                  <a:lnTo>
                    <a:pt x="16" y="113"/>
                  </a:lnTo>
                  <a:lnTo>
                    <a:pt x="16" y="107"/>
                  </a:lnTo>
                  <a:lnTo>
                    <a:pt x="16" y="53"/>
                  </a:lnTo>
                  <a:lnTo>
                    <a:pt x="0" y="53"/>
                  </a:lnTo>
                  <a:lnTo>
                    <a:pt x="0" y="34"/>
                  </a:lnTo>
                  <a:lnTo>
                    <a:pt x="17" y="34"/>
                  </a:lnTo>
                  <a:lnTo>
                    <a:pt x="17" y="0"/>
                  </a:lnTo>
                  <a:lnTo>
                    <a:pt x="40" y="0"/>
                  </a:lnTo>
                  <a:lnTo>
                    <a:pt x="40" y="34"/>
                  </a:lnTo>
                  <a:lnTo>
                    <a:pt x="59" y="34"/>
                  </a:lnTo>
                  <a:lnTo>
                    <a:pt x="59" y="53"/>
                  </a:lnTo>
                  <a:lnTo>
                    <a:pt x="41" y="53"/>
                  </a:lnTo>
                  <a:lnTo>
                    <a:pt x="41" y="99"/>
                  </a:lnTo>
                  <a:lnTo>
                    <a:pt x="42" y="105"/>
                  </a:lnTo>
                  <a:lnTo>
                    <a:pt x="43" y="109"/>
                  </a:lnTo>
                  <a:lnTo>
                    <a:pt x="47" y="111"/>
                  </a:lnTo>
                  <a:lnTo>
                    <a:pt x="53" y="112"/>
                  </a:lnTo>
                  <a:lnTo>
                    <a:pt x="54" y="112"/>
                  </a:lnTo>
                  <a:lnTo>
                    <a:pt x="56" y="103"/>
                  </a:lnTo>
                  <a:lnTo>
                    <a:pt x="60" y="96"/>
                  </a:lnTo>
                  <a:lnTo>
                    <a:pt x="65" y="89"/>
                  </a:lnTo>
                  <a:lnTo>
                    <a:pt x="70" y="83"/>
                  </a:lnTo>
                  <a:lnTo>
                    <a:pt x="77" y="78"/>
                  </a:lnTo>
                  <a:lnTo>
                    <a:pt x="85" y="74"/>
                  </a:lnTo>
                  <a:lnTo>
                    <a:pt x="93" y="72"/>
                  </a:lnTo>
                  <a:lnTo>
                    <a:pt x="103" y="71"/>
                  </a:lnTo>
                  <a:lnTo>
                    <a:pt x="112" y="72"/>
                  </a:lnTo>
                  <a:lnTo>
                    <a:pt x="120" y="74"/>
                  </a:lnTo>
                  <a:lnTo>
                    <a:pt x="128" y="78"/>
                  </a:lnTo>
                  <a:lnTo>
                    <a:pt x="134" y="84"/>
                  </a:lnTo>
                  <a:lnTo>
                    <a:pt x="140" y="90"/>
                  </a:lnTo>
                  <a:lnTo>
                    <a:pt x="145" y="98"/>
                  </a:lnTo>
                  <a:lnTo>
                    <a:pt x="148" y="107"/>
                  </a:lnTo>
                  <a:lnTo>
                    <a:pt x="150" y="116"/>
                  </a:lnTo>
                  <a:lnTo>
                    <a:pt x="152" y="116"/>
                  </a:lnTo>
                  <a:lnTo>
                    <a:pt x="152" y="0"/>
                  </a:lnTo>
                  <a:lnTo>
                    <a:pt x="176" y="0"/>
                  </a:lnTo>
                  <a:lnTo>
                    <a:pt x="176" y="130"/>
                  </a:lnTo>
                  <a:lnTo>
                    <a:pt x="80" y="130"/>
                  </a:lnTo>
                  <a:lnTo>
                    <a:pt x="80" y="111"/>
                  </a:lnTo>
                </a:path>
              </a:pathLst>
            </a:cu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0640" y="6467400"/>
              <a:ext cx="138240" cy="157320"/>
            </a:xfrm>
            <a:custGeom>
              <a:avLst/>
              <a:gdLst/>
              <a:ahLst/>
              <a:rect l="l" t="t" r="r" b="b"/>
              <a:pathLst>
                <a:path w="87" h="99">
                  <a:moveTo>
                    <a:pt x="27" y="32"/>
                  </a:moveTo>
                  <a:lnTo>
                    <a:pt x="30" y="28"/>
                  </a:lnTo>
                  <a:lnTo>
                    <a:pt x="34" y="25"/>
                  </a:lnTo>
                  <a:lnTo>
                    <a:pt x="38" y="23"/>
                  </a:lnTo>
                  <a:lnTo>
                    <a:pt x="44" y="23"/>
                  </a:lnTo>
                  <a:lnTo>
                    <a:pt x="51" y="24"/>
                  </a:lnTo>
                  <a:lnTo>
                    <a:pt x="57" y="28"/>
                  </a:lnTo>
                  <a:lnTo>
                    <a:pt x="60" y="35"/>
                  </a:lnTo>
                  <a:lnTo>
                    <a:pt x="61" y="39"/>
                  </a:lnTo>
                  <a:lnTo>
                    <a:pt x="61" y="44"/>
                  </a:lnTo>
                  <a:lnTo>
                    <a:pt x="61" y="98"/>
                  </a:lnTo>
                  <a:lnTo>
                    <a:pt x="86" y="98"/>
                  </a:lnTo>
                  <a:lnTo>
                    <a:pt x="86" y="39"/>
                  </a:lnTo>
                  <a:lnTo>
                    <a:pt x="86" y="30"/>
                  </a:lnTo>
                  <a:lnTo>
                    <a:pt x="84" y="22"/>
                  </a:lnTo>
                  <a:lnTo>
                    <a:pt x="80" y="14"/>
                  </a:lnTo>
                  <a:lnTo>
                    <a:pt x="77" y="10"/>
                  </a:lnTo>
                  <a:lnTo>
                    <a:pt x="74" y="7"/>
                  </a:lnTo>
                  <a:lnTo>
                    <a:pt x="69" y="4"/>
                  </a:lnTo>
                  <a:lnTo>
                    <a:pt x="64" y="2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4" y="5"/>
                  </a:lnTo>
                  <a:lnTo>
                    <a:pt x="29" y="10"/>
                  </a:lnTo>
                  <a:lnTo>
                    <a:pt x="25" y="16"/>
                  </a:lnTo>
                  <a:lnTo>
                    <a:pt x="25" y="2"/>
                  </a:lnTo>
                  <a:lnTo>
                    <a:pt x="0" y="2"/>
                  </a:lnTo>
                  <a:lnTo>
                    <a:pt x="0" y="98"/>
                  </a:lnTo>
                  <a:lnTo>
                    <a:pt x="25" y="98"/>
                  </a:lnTo>
                  <a:lnTo>
                    <a:pt x="25" y="46"/>
                  </a:lnTo>
                  <a:lnTo>
                    <a:pt x="25" y="38"/>
                  </a:lnTo>
                  <a:lnTo>
                    <a:pt x="27" y="32"/>
                  </a:lnTo>
                </a:path>
              </a:pathLst>
            </a:cu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69840" y="6400800"/>
              <a:ext cx="249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114ffb"/>
                  </a:solidFill>
                  <a:latin typeface="Arial"/>
                </a:rPr>
                <a:t>®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54040" y="6416640"/>
              <a:ext cx="39600" cy="363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22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4" y="22"/>
                  </a:lnTo>
                </a:path>
              </a:pathLst>
            </a:cu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IBIS Models for Stacked-Die Pack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ve Pet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ve.peterson@inte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2-Feb-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l sells memory with several devices stacked inside a singl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receive bare die from several vend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receive IBIS models but no schema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ers require IBIS models for new stacked-di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057400" y="5334120"/>
            <a:ext cx="5146200" cy="1032840"/>
            <a:chOff x="2057400" y="5334120"/>
            <a:chExt cx="5146200" cy="1032840"/>
          </a:xfrm>
        </p:grpSpPr>
        <p:sp>
          <p:nvSpPr>
            <p:cNvPr id="53" name=""/>
            <p:cNvSpPr/>
            <p:nvPr/>
          </p:nvSpPr>
          <p:spPr>
            <a:xfrm flipV="1">
              <a:off x="2286360" y="5334120"/>
              <a:ext cx="4688640" cy="688320"/>
            </a:xfrm>
            <a:custGeom>
              <a:avLst/>
              <a:gdLst>
                <a:gd name="textAreaLeft" fmla="*/ 447120 w 4688640"/>
                <a:gd name="textAreaRight" fmla="*/ 4241520 w 4688640"/>
                <a:gd name="textAreaTop" fmla="*/ 65520 h 688320"/>
                <a:gd name="textAreaBottom" fmla="*/ 622800 h 68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041" y="21600"/>
                  </a:lnTo>
                  <a:lnTo>
                    <a:pt x="559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057400" y="6022440"/>
              <a:ext cx="5146200" cy="11484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29440" y="6137640"/>
              <a:ext cx="228240" cy="229320"/>
            </a:xfrm>
            <a:prstGeom prst="ellipse">
              <a:avLst/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15600" y="6137640"/>
              <a:ext cx="228240" cy="229320"/>
            </a:xfrm>
            <a:prstGeom prst="ellipse">
              <a:avLst/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658680" y="6137640"/>
              <a:ext cx="228240" cy="229320"/>
            </a:xfrm>
            <a:prstGeom prst="ellipse">
              <a:avLst/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001760" y="6137640"/>
              <a:ext cx="228240" cy="229320"/>
            </a:xfrm>
            <a:prstGeom prst="ellipse">
              <a:avLst/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972520" y="6137640"/>
              <a:ext cx="228240" cy="229320"/>
            </a:xfrm>
            <a:prstGeom prst="ellipse">
              <a:avLst/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44840" y="6137640"/>
              <a:ext cx="228240" cy="229320"/>
            </a:xfrm>
            <a:prstGeom prst="ellipse">
              <a:avLst/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31000" y="6137640"/>
              <a:ext cx="228240" cy="229320"/>
            </a:xfrm>
            <a:prstGeom prst="ellipse">
              <a:avLst/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74080" y="6137640"/>
              <a:ext cx="228240" cy="229320"/>
            </a:xfrm>
            <a:prstGeom prst="ellipse">
              <a:avLst/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717160" y="6137640"/>
              <a:ext cx="228240" cy="229320"/>
            </a:xfrm>
            <a:prstGeom prst="ellipse">
              <a:avLst/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87920" y="6137640"/>
              <a:ext cx="228240" cy="229320"/>
            </a:xfrm>
            <a:prstGeom prst="ellipse">
              <a:avLst/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60240" y="6137640"/>
              <a:ext cx="228240" cy="229320"/>
            </a:xfrm>
            <a:prstGeom prst="ellipse">
              <a:avLst/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403320" y="6137640"/>
              <a:ext cx="228240" cy="229320"/>
            </a:xfrm>
            <a:prstGeom prst="ellipse">
              <a:avLst/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01120" y="5908320"/>
              <a:ext cx="2859120" cy="11412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29720" y="5793120"/>
              <a:ext cx="2401560" cy="11484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58680" y="5678280"/>
              <a:ext cx="1944000" cy="11484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14960" y="5754600"/>
              <a:ext cx="800640" cy="267840"/>
            </a:xfrm>
            <a:custGeom>
              <a:avLst/>
              <a:gdLst/>
              <a:ahLst/>
              <a:rect l="l" t="t" r="r" b="b"/>
              <a:pathLst>
                <a:path w="336" h="112">
                  <a:moveTo>
                    <a:pt x="336" y="64"/>
                  </a:moveTo>
                  <a:cubicBezTo>
                    <a:pt x="324" y="44"/>
                    <a:pt x="312" y="24"/>
                    <a:pt x="288" y="16"/>
                  </a:cubicBezTo>
                  <a:cubicBezTo>
                    <a:pt x="264" y="8"/>
                    <a:pt x="240" y="0"/>
                    <a:pt x="192" y="16"/>
                  </a:cubicBezTo>
                  <a:cubicBezTo>
                    <a:pt x="144" y="32"/>
                    <a:pt x="72" y="72"/>
                    <a:pt x="0" y="1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4960" y="5621400"/>
              <a:ext cx="1029240" cy="401040"/>
            </a:xfrm>
            <a:custGeom>
              <a:avLst/>
              <a:gdLst/>
              <a:ahLst/>
              <a:rect l="l" t="t" r="r" b="b"/>
              <a:pathLst>
                <a:path w="432" h="168">
                  <a:moveTo>
                    <a:pt x="432" y="72"/>
                  </a:moveTo>
                  <a:cubicBezTo>
                    <a:pt x="424" y="52"/>
                    <a:pt x="416" y="32"/>
                    <a:pt x="384" y="24"/>
                  </a:cubicBezTo>
                  <a:cubicBezTo>
                    <a:pt x="352" y="16"/>
                    <a:pt x="304" y="0"/>
                    <a:pt x="240" y="24"/>
                  </a:cubicBezTo>
                  <a:cubicBezTo>
                    <a:pt x="176" y="48"/>
                    <a:pt x="88" y="108"/>
                    <a:pt x="0" y="1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14960" y="5487480"/>
              <a:ext cx="1257480" cy="53496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528" y="80"/>
                  </a:moveTo>
                  <a:cubicBezTo>
                    <a:pt x="524" y="60"/>
                    <a:pt x="520" y="40"/>
                    <a:pt x="480" y="32"/>
                  </a:cubicBezTo>
                  <a:cubicBezTo>
                    <a:pt x="440" y="24"/>
                    <a:pt x="368" y="0"/>
                    <a:pt x="288" y="32"/>
                  </a:cubicBezTo>
                  <a:cubicBezTo>
                    <a:pt x="208" y="64"/>
                    <a:pt x="104" y="144"/>
                    <a:pt x="0" y="22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45760" y="5754600"/>
              <a:ext cx="800640" cy="267840"/>
            </a:xfrm>
            <a:custGeom>
              <a:avLst/>
              <a:gdLst/>
              <a:ahLst/>
              <a:rect l="l" t="t" r="r" b="b"/>
              <a:pathLst>
                <a:path w="336" h="112">
                  <a:moveTo>
                    <a:pt x="0" y="64"/>
                  </a:moveTo>
                  <a:cubicBezTo>
                    <a:pt x="12" y="44"/>
                    <a:pt x="24" y="24"/>
                    <a:pt x="48" y="16"/>
                  </a:cubicBezTo>
                  <a:cubicBezTo>
                    <a:pt x="72" y="8"/>
                    <a:pt x="96" y="0"/>
                    <a:pt x="144" y="16"/>
                  </a:cubicBezTo>
                  <a:cubicBezTo>
                    <a:pt x="192" y="32"/>
                    <a:pt x="264" y="72"/>
                    <a:pt x="336" y="1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17160" y="5621400"/>
              <a:ext cx="1029240" cy="401040"/>
            </a:xfrm>
            <a:custGeom>
              <a:avLst/>
              <a:gdLst/>
              <a:ahLst/>
              <a:rect l="l" t="t" r="r" b="b"/>
              <a:pathLst>
                <a:path w="432" h="168">
                  <a:moveTo>
                    <a:pt x="0" y="72"/>
                  </a:moveTo>
                  <a:cubicBezTo>
                    <a:pt x="8" y="52"/>
                    <a:pt x="16" y="32"/>
                    <a:pt x="48" y="24"/>
                  </a:cubicBezTo>
                  <a:cubicBezTo>
                    <a:pt x="80" y="16"/>
                    <a:pt x="128" y="0"/>
                    <a:pt x="192" y="24"/>
                  </a:cubicBezTo>
                  <a:cubicBezTo>
                    <a:pt x="256" y="48"/>
                    <a:pt x="344" y="108"/>
                    <a:pt x="432" y="1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88200" y="5487480"/>
              <a:ext cx="1258200" cy="53496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80"/>
                  </a:moveTo>
                  <a:cubicBezTo>
                    <a:pt x="4" y="60"/>
                    <a:pt x="8" y="40"/>
                    <a:pt x="48" y="32"/>
                  </a:cubicBezTo>
                  <a:cubicBezTo>
                    <a:pt x="88" y="24"/>
                    <a:pt x="160" y="0"/>
                    <a:pt x="240" y="32"/>
                  </a:cubicBezTo>
                  <a:cubicBezTo>
                    <a:pt x="320" y="64"/>
                    <a:pt x="424" y="144"/>
                    <a:pt x="528" y="22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581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internal schematics plus vendor IBIS models to creat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ew net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ate to generate IV and VT curves for new IBI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420080" y="2286000"/>
            <a:ext cx="4308120" cy="3251160"/>
            <a:chOff x="4420080" y="2286000"/>
            <a:chExt cx="4308120" cy="3251160"/>
          </a:xfrm>
        </p:grpSpPr>
        <p:sp>
          <p:nvSpPr>
            <p:cNvPr id="79" name=""/>
            <p:cNvSpPr/>
            <p:nvPr/>
          </p:nvSpPr>
          <p:spPr>
            <a:xfrm flipH="1">
              <a:off x="6040080" y="3306960"/>
              <a:ext cx="13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54920" y="3249720"/>
              <a:ext cx="57240" cy="457200"/>
            </a:xfrm>
            <a:custGeom>
              <a:avLst/>
              <a:gdLst/>
              <a:ahLst/>
              <a:rect l="l" t="t" r="r" b="b"/>
              <a:pathLst>
                <a:path w="48" h="384">
                  <a:moveTo>
                    <a:pt x="0" y="384"/>
                  </a:moveTo>
                  <a:cubicBezTo>
                    <a:pt x="24" y="320"/>
                    <a:pt x="48" y="256"/>
                    <a:pt x="48" y="192"/>
                  </a:cubicBezTo>
                  <a:cubicBezTo>
                    <a:pt x="48" y="128"/>
                    <a:pt x="24" y="64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154920" y="3210120"/>
              <a:ext cx="571320" cy="268200"/>
            </a:xfrm>
            <a:custGeom>
              <a:avLst/>
              <a:gdLst/>
              <a:ahLst/>
              <a:rect l="l" t="t" r="r" b="b"/>
              <a:pathLst>
                <a:path w="480" h="224">
                  <a:moveTo>
                    <a:pt x="0" y="32"/>
                  </a:moveTo>
                  <a:cubicBezTo>
                    <a:pt x="80" y="16"/>
                    <a:pt x="160" y="0"/>
                    <a:pt x="240" y="32"/>
                  </a:cubicBezTo>
                  <a:cubicBezTo>
                    <a:pt x="320" y="64"/>
                    <a:pt x="400" y="144"/>
                    <a:pt x="480" y="22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154920" y="3478320"/>
              <a:ext cx="571320" cy="266760"/>
            </a:xfrm>
            <a:custGeom>
              <a:avLst/>
              <a:gdLst/>
              <a:ahLst/>
              <a:rect l="l" t="t" r="r" b="b"/>
              <a:pathLst>
                <a:path w="480" h="224">
                  <a:moveTo>
                    <a:pt x="0" y="192"/>
                  </a:moveTo>
                  <a:cubicBezTo>
                    <a:pt x="80" y="208"/>
                    <a:pt x="160" y="224"/>
                    <a:pt x="240" y="192"/>
                  </a:cubicBezTo>
                  <a:cubicBezTo>
                    <a:pt x="320" y="160"/>
                    <a:pt x="400" y="80"/>
                    <a:pt x="48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6040080" y="3649680"/>
              <a:ext cx="13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26240" y="3421080"/>
              <a:ext cx="114480" cy="114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54920" y="2562480"/>
              <a:ext cx="571320" cy="457200"/>
            </a:xfrm>
            <a:prstGeom prst="flowChartDelay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6040440" y="2962440"/>
              <a:ext cx="11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6040440" y="2619360"/>
              <a:ext cx="11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26240" y="2733840"/>
              <a:ext cx="114480" cy="1141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811840" y="3592440"/>
              <a:ext cx="114480" cy="114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5466960" y="3478320"/>
              <a:ext cx="34452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466960" y="3649680"/>
              <a:ext cx="34452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67320" y="3478320"/>
              <a:ext cx="0" cy="34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83760" y="2847960"/>
              <a:ext cx="230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83760" y="2676600"/>
              <a:ext cx="230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583760" y="2676600"/>
              <a:ext cx="11556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699320" y="2676600"/>
              <a:ext cx="11448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126560" y="2619360"/>
              <a:ext cx="0" cy="34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012080" y="2733840"/>
              <a:ext cx="114480" cy="1141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183440" y="2619360"/>
              <a:ext cx="0" cy="34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183440" y="2619360"/>
              <a:ext cx="171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183440" y="2962440"/>
              <a:ext cx="171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26560" y="3306960"/>
              <a:ext cx="0" cy="34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183440" y="3306960"/>
              <a:ext cx="0" cy="34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83440" y="3306960"/>
              <a:ext cx="171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83440" y="3649680"/>
              <a:ext cx="171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40720" y="3478320"/>
              <a:ext cx="285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40720" y="2791080"/>
              <a:ext cx="17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55160" y="2962440"/>
              <a:ext cx="0" cy="34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26360" y="3105360"/>
              <a:ext cx="57240" cy="5688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56560" y="359244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56560" y="342108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7756560" y="3421080"/>
              <a:ext cx="11448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871040" y="3421080"/>
              <a:ext cx="11412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7355160" y="244800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40680" y="24480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583760" y="2448000"/>
              <a:ext cx="230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99320" y="24480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5160" y="3133800"/>
              <a:ext cx="1029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99320" y="2847960"/>
              <a:ext cx="0" cy="28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871040" y="3133800"/>
              <a:ext cx="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128080" y="3105360"/>
              <a:ext cx="57240" cy="5688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42240" y="3105360"/>
              <a:ext cx="57240" cy="5688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55160" y="364968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40680" y="382104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240680" y="3821040"/>
              <a:ext cx="114480" cy="171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7354800" y="3821040"/>
              <a:ext cx="114120" cy="171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56560" y="382104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56560" y="3821040"/>
              <a:ext cx="114480" cy="171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7870680" y="3821040"/>
              <a:ext cx="114120" cy="171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871040" y="35924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54920" y="4392720"/>
              <a:ext cx="1257120" cy="80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6040440" y="4564080"/>
              <a:ext cx="1144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4496040" y="5023080"/>
              <a:ext cx="1658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7412040" y="4794480"/>
              <a:ext cx="74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26280" y="5365800"/>
              <a:ext cx="249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26280" y="5365800"/>
              <a:ext cx="12528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6451560" y="5365800"/>
              <a:ext cx="12384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40760" y="5194440"/>
              <a:ext cx="144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12080" y="5365800"/>
              <a:ext cx="249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12080" y="5365800"/>
              <a:ext cx="12528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7137360" y="5365800"/>
              <a:ext cx="12384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26560" y="5194440"/>
              <a:ext cx="144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440760" y="4221360"/>
              <a:ext cx="144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26280" y="4221360"/>
              <a:ext cx="249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7126560" y="4221360"/>
              <a:ext cx="144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12080" y="4221360"/>
              <a:ext cx="249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156520" y="3133800"/>
              <a:ext cx="0" cy="166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70880" y="3105360"/>
              <a:ext cx="57240" cy="5688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385120" y="2962440"/>
              <a:ext cx="343080" cy="344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8385120" y="2962080"/>
              <a:ext cx="343080" cy="34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385120" y="2962440"/>
              <a:ext cx="343080" cy="34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6040" y="2619360"/>
              <a:ext cx="154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40440" y="2619360"/>
              <a:ext cx="0" cy="194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496040" y="2962440"/>
              <a:ext cx="154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5925960" y="3649680"/>
              <a:ext cx="114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5352840" y="3649680"/>
              <a:ext cx="114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353200" y="2962080"/>
              <a:ext cx="0" cy="68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24760" y="2933640"/>
              <a:ext cx="56880" cy="572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12000" y="3278160"/>
              <a:ext cx="57240" cy="572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12000" y="2590920"/>
              <a:ext cx="57240" cy="572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48520" y="4429080"/>
              <a:ext cx="1068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BIS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0800" y="2286000"/>
              <a:ext cx="66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20080" y="264960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abl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20440" y="470700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abl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two sets of IV and VT cur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ice A is active while device B is tri-st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 with device B active and A tri-st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new IBIS model using both cur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D[0] to A active (with B tri-sta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D[7:1] to B active (with A tri-sta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t IBIS model to add model_se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D[7:0] to use model_selec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IBIS version 3.2 or hig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B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038840" cy="31240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IBIS Ver]   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Pin] signal_name model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1   DQ0    Ab_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2   DQ1    Ba_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3   DQ2    Ba_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4   DQ3    Ba_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23920" y="1600200"/>
            <a:ext cx="4038840" cy="45720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IBIS Ver]   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Pin] signal_name model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1   DQ0      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2   DQ1      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3   DQ2      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4   DQ3      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Model Selector] 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b_output Device A 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a_output Device B 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520" y="4876920"/>
            <a:ext cx="16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 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29000" y="228600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905120" y="3428640"/>
            <a:ext cx="761760" cy="160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905120" y="3809520"/>
            <a:ext cx="76176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4920" y="5410080"/>
            <a:ext cx="205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ally 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e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114800" y="5181480"/>
            <a:ext cx="762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4572000"/>
            <a:ext cx="3049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14800" y="4419720"/>
            <a:ext cx="3200400" cy="1218960"/>
          </a:xfrm>
          <a:custGeom>
            <a:avLst/>
            <a:gdLst/>
            <a:ahLst/>
            <a:rect l="l" t="t" r="r" b="b"/>
            <a:pathLst>
              <a:path w="1968" h="768">
                <a:moveTo>
                  <a:pt x="0" y="768"/>
                </a:moveTo>
                <a:cubicBezTo>
                  <a:pt x="172" y="568"/>
                  <a:pt x="344" y="368"/>
                  <a:pt x="672" y="240"/>
                </a:cubicBezTo>
                <a:cubicBezTo>
                  <a:pt x="1000" y="112"/>
                  <a:pt x="1484" y="56"/>
                  <a:pt x="196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nd Clamp Compar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581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IBIS model reflects behavi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both 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ice A ground clamp (-130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ice B ground clamp (-195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ed ground clamp (-325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495680" y="1736640"/>
            <a:ext cx="4095720" cy="4256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581280" y="3276720"/>
            <a:ext cx="14479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81280" y="4191120"/>
            <a:ext cx="1440000" cy="18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3920" y="5105520"/>
            <a:ext cx="1284120" cy="561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 Timing Compar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3886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l (single-die) pullup_on for devic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ed curve showing additional loading from device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l device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ed device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497480" y="1736640"/>
            <a:ext cx="4095720" cy="42562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809880" y="2133720"/>
            <a:ext cx="198144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3048120"/>
            <a:ext cx="2514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429000" y="4038120"/>
            <a:ext cx="259092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733920" y="4266720"/>
            <a:ext cx="236196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document describes a methodology of generating a multi-die IBIS model from transistor netlists plus IBIS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s of multiple loads are accounted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clamps for all devices are comb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t behavior accounts for additional 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 parasitics can be handled using worst case loading or EBD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4T00:11:04Z</dcterms:created>
  <dc:creator>chip</dc:creator>
  <dc:description/>
  <dc:language>en-US</dc:language>
  <cp:lastModifiedBy>speters</cp:lastModifiedBy>
  <dcterms:modified xsi:type="dcterms:W3CDTF">2004-01-27T01:07:34Z</dcterms:modified>
  <cp:revision>13</cp:revision>
  <dc:subject/>
  <dc:title>Creating IBIS Models for Multiple Die Stacked Packa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5610203</vt:r8>
  </property>
  <property fmtid="{D5CDD505-2E9C-101B-9397-08002B2CF9AE}" pid="3" name="_AuthorEmail">
    <vt:lpwstr>steve.peterson@intel.com</vt:lpwstr>
  </property>
  <property fmtid="{D5CDD505-2E9C-101B-9397-08002B2CF9AE}" pid="4" name="_AuthorEmailDisplayName">
    <vt:lpwstr>Peterson, Steve</vt:lpwstr>
  </property>
  <property fmtid="{D5CDD505-2E9C-101B-9397-08002B2CF9AE}" pid="5" name="_EmailSubject">
    <vt:lpwstr>IBIS Presentations for Handout at Summit</vt:lpwstr>
  </property>
</Properties>
</file>