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2539-879A-4E10-A6AC-B1329C253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AABC-16D9-44F2-81D1-4DB865970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413A-6941-49D6-9781-329A740E1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3F91-C827-4C82-B993-A02DBAA23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91D2-49AF-42E8-8D05-79582E22C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C721-95AE-46EB-999A-6A37B647C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7911-D729-4932-84CB-C17A587C4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17CD-ED98-4830-97E0-1739BEBF0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8A69-4210-4858-9EAB-B7AD4185E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0E9F-1911-47F2-B615-988268313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EEF9-38E9-4472-B791-E5B72CDB0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F0C5-043F-4A8E-BD44-74FC7E459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3760" y="6248520"/>
            <a:ext cx="32990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1/30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Other brands and names are the property of their respective ow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26672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FBF4BB-4E32-4F61-AFDB-5F0AABF0F6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953400" y="0"/>
          <a:ext cx="2190600" cy="187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3400" y="0"/>
                    <a:ext cx="2190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3920" y="2305080"/>
          <a:ext cx="3276360" cy="281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920" y="2305080"/>
                    <a:ext cx="327636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BIS Futures Roadma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ir, EIA/IBIS Open For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Con 2004 IBIS Sum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3,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6280" y="1109160"/>
            <a:ext cx="8439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BIS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ation Rev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ser Rev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 for the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ll to Ac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Development Guide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Two-year Road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s Sub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kbook &amp;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lunteer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5B19-5A7A-40B7-9D5C-88F6390DEB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BIS Hist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10916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pecification Revi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1.0 – April 199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1.1 – June 199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2.0 – June 199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2.1 – Dec. 19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3.0 – June 199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3.1 – July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3.2 – Sept. 19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4.0 – July 20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4.1 – January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verage Delivery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nths for a major specification re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nths for a minor specification re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nths for a parser from final specification re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57640" y="2033640"/>
            <a:ext cx="37530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ser Re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. 1.0 – July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. 2.0 – April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. 2.0+ – Aug.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. 3.0 – July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. 4.0 – Dec.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4600" y="1638360"/>
            <a:ext cx="279360" cy="571320"/>
          </a:xfrm>
          <a:custGeom>
            <a:avLst/>
            <a:gdLst>
              <a:gd name="textAreaLeft" fmla="*/ 178560 w 279360"/>
              <a:gd name="textAreaRight" fmla="*/ 279720 w 27936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880" y="4191120"/>
            <a:ext cx="279360" cy="571320"/>
          </a:xfrm>
          <a:custGeom>
            <a:avLst/>
            <a:gdLst>
              <a:gd name="textAreaLeft" fmla="*/ 178560 w 279360"/>
              <a:gd name="textAreaRight" fmla="*/ 279720 w 27936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3960" y="2362320"/>
            <a:ext cx="279360" cy="571320"/>
          </a:xfrm>
          <a:custGeom>
            <a:avLst/>
            <a:gdLst>
              <a:gd name="textAreaLeft" fmla="*/ 178560 w 279360"/>
              <a:gd name="textAreaRight" fmla="*/ 279720 w 27936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3960" y="3133800"/>
            <a:ext cx="279360" cy="933480"/>
          </a:xfrm>
          <a:custGeom>
            <a:avLst/>
            <a:gdLst>
              <a:gd name="textAreaLeft" fmla="*/ 178560 w 279360"/>
              <a:gd name="textAreaRight" fmla="*/ 279720 w 279360"/>
              <a:gd name="textAreaTop" fmla="*/ 24120 h 933480"/>
              <a:gd name="textAreaBottom" fmla="*/ 9093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A5A1-6341-457B-B595-CD3DB6D279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0600" y="975960"/>
            <a:ext cx="852480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e need to “close the gaps” to keep IBIS              relevant and useful to the indus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 products on an 18 month cycle (“Moore’s Law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synergy between transportation, PC and home electronics mar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Example: DVD, Bluetooth* in automob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Cellular telephones, cameras and PCs now integra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66"/>
                </a:solidFill>
                <a:latin typeface="Arial"/>
              </a:rPr>
              <a:t>Traditional PC makers now entering home electron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technologies in almost every product gen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is not the only choice for mode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IS universality is a “plus” B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rception that IBIS is “behind” is a major neg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can we keep IBIS valuabl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the latest design trend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st and proactiv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barriers to acceptance of new IBIS rev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barriers for users of IBIS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8BF9-6423-4A49-9E45-82A1569BDD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ll To Action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9320" y="1109160"/>
            <a:ext cx="8505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increase acceptance and support new                        design technologi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aster release of new specification revi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ddress new technologies with new IBIS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Be proactive with features, rather than reac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aster release of par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void delaying EDA tools or driving custom pars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lower barriers for users of IBIS featur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gular Cookbook upd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actical training through web and “E-Roadshow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Proposed Development Guide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pecification-to-parser delay of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6-8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dd in 4-6 months for EDA product integ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Parser-to-cookbook delay of 6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Cookbook can be available with updated EDA tool releas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pecification revision cycle of 18 months or l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Major vs. minor to be clarifie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00E7-168A-4770-8F35-5A2CFC7808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00240" y="3773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8560" y="4073400"/>
            <a:ext cx="3603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8920" y="4073400"/>
            <a:ext cx="363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62160" y="4073400"/>
            <a:ext cx="3589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5760" y="4073400"/>
            <a:ext cx="3621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87920" y="4073400"/>
            <a:ext cx="3603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8280" y="4073400"/>
            <a:ext cx="3618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10080" y="4073400"/>
            <a:ext cx="3589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69000" y="4073400"/>
            <a:ext cx="363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2240" y="4073400"/>
            <a:ext cx="3603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2600" y="4073400"/>
            <a:ext cx="3603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2960" y="4073400"/>
            <a:ext cx="3621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15120" y="4073400"/>
            <a:ext cx="363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8560" y="422604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5760" y="4226040"/>
            <a:ext cx="1084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0080" y="422604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2600" y="4226040"/>
            <a:ext cx="1086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38560" y="3921120"/>
            <a:ext cx="1082520" cy="152280"/>
            <a:chOff x="2338560" y="3921120"/>
            <a:chExt cx="1082520" cy="152280"/>
          </a:xfrm>
        </p:grpSpPr>
        <p:sp>
          <p:nvSpPr>
            <p:cNvPr id="115" name=""/>
            <p:cNvSpPr/>
            <p:nvPr/>
          </p:nvSpPr>
          <p:spPr>
            <a:xfrm>
              <a:off x="2338560" y="392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338560" y="3978000"/>
              <a:ext cx="1082520" cy="90360"/>
              <a:chOff x="2338560" y="3978000"/>
              <a:chExt cx="1082520" cy="90360"/>
            </a:xfrm>
          </p:grpSpPr>
          <p:sp>
            <p:nvSpPr>
              <p:cNvPr id="117" name=""/>
              <p:cNvSpPr/>
              <p:nvPr/>
            </p:nvSpPr>
            <p:spPr>
              <a:xfrm>
                <a:off x="2338560" y="3978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217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048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884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712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547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382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210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045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877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712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540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375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210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3425760" y="3921120"/>
            <a:ext cx="1084320" cy="152280"/>
            <a:chOff x="3425760" y="3921120"/>
            <a:chExt cx="1084320" cy="152280"/>
          </a:xfrm>
        </p:grpSpPr>
        <p:sp>
          <p:nvSpPr>
            <p:cNvPr id="132" name=""/>
            <p:cNvSpPr/>
            <p:nvPr/>
          </p:nvSpPr>
          <p:spPr>
            <a:xfrm>
              <a:off x="3425760" y="392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425760" y="3978000"/>
              <a:ext cx="1084320" cy="90360"/>
              <a:chOff x="3425760" y="3978000"/>
              <a:chExt cx="1084320" cy="90360"/>
            </a:xfrm>
          </p:grpSpPr>
          <p:sp>
            <p:nvSpPr>
              <p:cNvPr id="134" name=""/>
              <p:cNvSpPr/>
              <p:nvPr/>
            </p:nvSpPr>
            <p:spPr>
              <a:xfrm>
                <a:off x="3425760" y="3978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092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924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759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591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426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261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0093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0928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760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595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430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265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100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4510080" y="3921120"/>
            <a:ext cx="1082520" cy="152280"/>
            <a:chOff x="4510080" y="3921120"/>
            <a:chExt cx="1082520" cy="152280"/>
          </a:xfrm>
        </p:grpSpPr>
        <p:sp>
          <p:nvSpPr>
            <p:cNvPr id="149" name=""/>
            <p:cNvSpPr/>
            <p:nvPr/>
          </p:nvSpPr>
          <p:spPr>
            <a:xfrm>
              <a:off x="4510080" y="392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510080" y="3978000"/>
              <a:ext cx="1082520" cy="90360"/>
              <a:chOff x="4510080" y="3978000"/>
              <a:chExt cx="1082520" cy="90360"/>
            </a:xfrm>
          </p:grpSpPr>
          <p:sp>
            <p:nvSpPr>
              <p:cNvPr id="151" name=""/>
              <p:cNvSpPr/>
              <p:nvPr/>
            </p:nvSpPr>
            <p:spPr>
              <a:xfrm>
                <a:off x="4510080" y="3978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932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764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427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262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097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925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760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592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3427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255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090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926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5592600" y="3921120"/>
            <a:ext cx="1086120" cy="152280"/>
            <a:chOff x="5592600" y="3921120"/>
            <a:chExt cx="1086120" cy="152280"/>
          </a:xfrm>
        </p:grpSpPr>
        <p:sp>
          <p:nvSpPr>
            <p:cNvPr id="166" name=""/>
            <p:cNvSpPr/>
            <p:nvPr/>
          </p:nvSpPr>
          <p:spPr>
            <a:xfrm>
              <a:off x="5592600" y="392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592600" y="3978000"/>
              <a:ext cx="1086120" cy="90360"/>
              <a:chOff x="5592600" y="3978000"/>
              <a:chExt cx="1086120" cy="90360"/>
            </a:xfrm>
          </p:grpSpPr>
          <p:sp>
            <p:nvSpPr>
              <p:cNvPr id="168" name=""/>
              <p:cNvSpPr/>
              <p:nvPr/>
            </p:nvSpPr>
            <p:spPr>
              <a:xfrm>
                <a:off x="5592600" y="3978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6761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592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431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263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02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937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772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607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442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278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113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5948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787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3204000" y="3768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92280" y="3768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71920" y="3768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57680" y="3768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78720" y="4073400"/>
            <a:ext cx="3603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080" y="4073400"/>
            <a:ext cx="3603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99440" y="4073400"/>
            <a:ext cx="3618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61240" y="4073400"/>
            <a:ext cx="363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24840" y="4073400"/>
            <a:ext cx="3589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483760" y="4073400"/>
            <a:ext cx="363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78720" y="422604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61240" y="4226040"/>
            <a:ext cx="10857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78720" y="392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678720" y="3921120"/>
            <a:ext cx="1082520" cy="152280"/>
            <a:chOff x="6678720" y="3921120"/>
            <a:chExt cx="1082520" cy="152280"/>
          </a:xfrm>
        </p:grpSpPr>
        <p:sp>
          <p:nvSpPr>
            <p:cNvPr id="196" name=""/>
            <p:cNvSpPr/>
            <p:nvPr/>
          </p:nvSpPr>
          <p:spPr>
            <a:xfrm>
              <a:off x="6678720" y="392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6678720" y="3978000"/>
              <a:ext cx="1082520" cy="90360"/>
              <a:chOff x="6678720" y="3978000"/>
              <a:chExt cx="1082520" cy="9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6678720" y="3978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618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8450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285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0113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0948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1784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2612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3447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4278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5114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942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777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76124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7761240" y="3921120"/>
            <a:ext cx="1085760" cy="152280"/>
            <a:chOff x="7761240" y="3921120"/>
            <a:chExt cx="1085760" cy="152280"/>
          </a:xfrm>
        </p:grpSpPr>
        <p:sp>
          <p:nvSpPr>
            <p:cNvPr id="213" name=""/>
            <p:cNvSpPr/>
            <p:nvPr/>
          </p:nvSpPr>
          <p:spPr>
            <a:xfrm>
              <a:off x="7761240" y="392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7761240" y="3978000"/>
              <a:ext cx="1085760" cy="90360"/>
              <a:chOff x="7761240" y="3978000"/>
              <a:chExt cx="1085760" cy="90360"/>
            </a:xfrm>
          </p:grpSpPr>
          <p:sp>
            <p:nvSpPr>
              <p:cNvPr id="215" name=""/>
              <p:cNvSpPr/>
              <p:nvPr/>
            </p:nvSpPr>
            <p:spPr>
              <a:xfrm>
                <a:off x="7761240" y="3978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447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9279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0118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0949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1784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2623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3455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4294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51256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9608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6796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47000" y="3983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" name=""/>
          <p:cNvSpPr/>
          <p:nvPr/>
        </p:nvSpPr>
        <p:spPr>
          <a:xfrm>
            <a:off x="7546680" y="3768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31720" y="3768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89000" y="5769000"/>
            <a:ext cx="14940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8480" y="604512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00160" y="5486400"/>
            <a:ext cx="130320" cy="15228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1193760"/>
            <a:ext cx="4013280" cy="83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uly, 2002: IBIS 4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pt., 2003: ICM 1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59240" y="1832040"/>
            <a:ext cx="15264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054800" y="3773520"/>
            <a:ext cx="1280160" cy="604800"/>
            <a:chOff x="1054800" y="3773520"/>
            <a:chExt cx="1280160" cy="604800"/>
          </a:xfrm>
        </p:grpSpPr>
        <p:sp>
          <p:nvSpPr>
            <p:cNvPr id="238" name=""/>
            <p:cNvSpPr/>
            <p:nvPr/>
          </p:nvSpPr>
          <p:spPr>
            <a:xfrm>
              <a:off x="1054800" y="37735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57840" y="4073400"/>
              <a:ext cx="3582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16400" y="4073400"/>
              <a:ext cx="3614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78200" y="4073400"/>
              <a:ext cx="3567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7840" y="4226040"/>
              <a:ext cx="10771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1’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257840" y="3921120"/>
              <a:ext cx="1077120" cy="152280"/>
              <a:chOff x="1257840" y="3921120"/>
              <a:chExt cx="1077120" cy="152280"/>
            </a:xfrm>
          </p:grpSpPr>
          <p:sp>
            <p:nvSpPr>
              <p:cNvPr id="244" name=""/>
              <p:cNvSpPr/>
              <p:nvPr/>
            </p:nvSpPr>
            <p:spPr>
              <a:xfrm>
                <a:off x="1257840" y="392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1257840" y="3978000"/>
                <a:ext cx="1077120" cy="90360"/>
                <a:chOff x="1257840" y="3978000"/>
                <a:chExt cx="1077120" cy="903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257840" y="397800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4064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42344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0624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8904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67184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5500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83744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92060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00340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08620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6900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25180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334960" y="39830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0" name=""/>
          <p:cNvSpPr/>
          <p:nvPr/>
        </p:nvSpPr>
        <p:spPr>
          <a:xfrm>
            <a:off x="1217520" y="282888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571760" y="32763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27320" y="2797200"/>
            <a:ext cx="61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314960" y="3209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01120" y="57070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 Su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9200" y="54370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53600" y="600876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CB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3680" y="442764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59040" y="4413240"/>
            <a:ext cx="129960" cy="15228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13120" y="280368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048280" y="32126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7080" y="3203640"/>
            <a:ext cx="6573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5120" y="362268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38360" y="441324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18440" y="4429080"/>
            <a:ext cx="129960" cy="15228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440" y="3241800"/>
            <a:ext cx="733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458040" y="3666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5160" y="3251160"/>
            <a:ext cx="7459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473960" y="36702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54240" y="3241800"/>
            <a:ext cx="7462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543040" y="366084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32920" y="280980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8658360" y="3228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829720" y="445788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29480" y="51436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52640" y="5132520"/>
            <a:ext cx="223560" cy="2016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46400" y="4408560"/>
            <a:ext cx="223920" cy="2016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7600" y="4216320"/>
            <a:ext cx="80060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92600" y="3925800"/>
            <a:ext cx="3240" cy="493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05440" y="4422600"/>
            <a:ext cx="14940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80440" y="4408560"/>
            <a:ext cx="223560" cy="2016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67400" y="5889600"/>
            <a:ext cx="101736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m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95680" y="4476600"/>
            <a:ext cx="0" cy="42876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38720" y="4486320"/>
            <a:ext cx="0" cy="42876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48440" y="4486320"/>
            <a:ext cx="0" cy="42876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14640" y="4486320"/>
            <a:ext cx="0" cy="42876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63000" y="4495680"/>
            <a:ext cx="0" cy="42876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30560" y="492768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30440" y="4927680"/>
            <a:ext cx="94644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73600" y="492768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93040" y="492768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26320" y="492768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4355-EA7A-41DD-9472-4777E8A233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s Subcommitte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1800" y="1109160"/>
            <a:ext cx="8553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posed “New” Futures Subcommitt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reate, discuss and draft IBIS/ICM up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asks for IBIS 4.2 and Follow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an up” of language and resolve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[Series Pin Mapping] &amp; [Model Selector] (BIRD8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External Model] integratio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Acceptable digital states for input 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External Circuit] usage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-definable measurement parameters and delay fix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ation “hooks” between ICM and IB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I ballot approval as 656-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asks for IC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frequency-dependent RLGC matrix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lve known parser assumptions and keyword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581E-377C-4FB6-8505-FD5F2B2409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okbook &amp; Trai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8680" y="1109160"/>
            <a:ext cx="84963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posed Cookbook Sub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t action with Quality Subcommitt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s, edits and distributes Cookboo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actical examples of new keywo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nts for data extraction and correlation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e S. Peters’ 1997 IBIS 2.1 Cookbook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gest following model of HTML specification gui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cribe all keywo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se “deprecated” for those no longer encourag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, [TTpower]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ICM and IBIS pub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-Roadsh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it-level teleconference presentations for global aud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ster worldwide interaction, rather than separate IBIS commun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presentations (60-90 minutes, plus Q&amp;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 to be tailored for specific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GMT+1 for Europe (ex. 6 AM US Pacifi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GMT+6/9 for Asia (ex. 10 PM US Pacifi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9FC4-A8E6-488F-BDB8-DB6228C6A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0600" y="1109160"/>
            <a:ext cx="8524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66"/>
                </a:solidFill>
                <a:latin typeface="Arial"/>
              </a:rPr>
              <a:t>A Motto to Remem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ow can we keep IBIS valuable to the industr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the latest design tren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st and proactiv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 barriers to acceptance of new IBIS revi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 barriers for users of IBIS 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66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opt a regular, aggressive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e to make changes quick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new subcommittees being 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66"/>
                </a:solidFill>
                <a:latin typeface="Arial"/>
              </a:rPr>
              <a:t>Volunteers are welcom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47880" y="5334120"/>
            <a:ext cx="6172200" cy="7239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Your participation and contributions are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IBI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01E6-402A-48A4-97A5-E7D32A3B4E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02:00:46Z</dcterms:created>
  <dc:creator>Michael Mirmak</dc:creator>
  <dc:description/>
  <dc:language>en-US</dc:language>
  <cp:lastModifiedBy>Michael Mirmak</cp:lastModifiedBy>
  <cp:lastPrinted>1998-11-04T21:31:56Z</cp:lastPrinted>
  <dcterms:modified xsi:type="dcterms:W3CDTF">2007-12-01T20:20:19Z</dcterms:modified>
  <cp:revision>676</cp:revision>
  <dc:subject>IBIS Interconnect Modeling Specification</dc:subject>
  <dc:title>An ICM Example of a Semiconductor Device Package</dc:title>
</cp:coreProperties>
</file>