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40E-E63A-4E3B-A31C-F45D1F3A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44D-7656-4002-B574-0C082B44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418-528E-44FA-919E-4E4F6141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CC58-6C52-460A-8808-AB58A829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A1C5-8AF5-40D6-850D-9A2DE320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2693-4233-4909-B91B-F68ACF42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AD6A-D3E7-4323-A5A3-40428E6E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C650-713D-44ED-80ED-198AC66B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5CB3-F2F3-4F6E-888C-0ADEE664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7D5A-9D34-4F91-BE53-0E7DF8CE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FDF0-07A7-4D71-8042-38221FF0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008-CE4D-4363-8539-CD88C671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E7D5-9780-44BD-B8DD-02E9DBA9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1B01-B5EA-4F42-AEFE-1AF0FF03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E5E0-F3AB-47B3-85CD-6DE98578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BD6F-C2AF-4E78-A28A-41AEA8C1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406F-64BD-4914-948B-9E6AE43B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64D-C5E9-4F2E-9056-11B4DEC0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304-95FF-4EA5-B7BB-9B03A60B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5D3-6F85-470B-A43C-AB31A286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FEE-16A4-4E37-8464-177A2375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B68-C323-45A6-90F0-D6E123C5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746-7FEE-4D45-8BD9-DCC45E8F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D85-DB44-4B1F-AC49-24A43AA4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Con 2004 IBIS Summi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2F53-E9D7-416B-A941-707BDFF71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889280" cy="226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flipH="1">
            <a:off x="228240" y="2590920"/>
            <a:ext cx="2730600" cy="3276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920" y="13690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Chair’s Repor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352320" y="3047760"/>
            <a:ext cx="5410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Con West 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2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014D-33BC-4286-B197-4F6C2DA47D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Today's 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s &amp; Welcoming Rema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Chair'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hael Mirmak, Intel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Quality Committee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bert Haller, Signal Integrity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Die V-t Tables from Part or Board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b Ross, Teraspeed Consult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IBIS Models for Stacked-Die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eve Peterson, Intel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Futures Road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hael Mirmak, Intel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D9C-816B-4BC2-B777-06C18797C4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Today's 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On-Chip Capacitance in IBIS Format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O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ymond Chen, Si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Differential Buffer Models (Case Stu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pad Muranyi, Intel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HDL-AMS True Differential Buffer Model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v3.2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pad Muranyi, Intel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ing the [Driver Schedule] Key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114-DFB4-4467-8C4A-8663B98EAC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4.1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log-AMS and VHDL-AMS are now linked to IBI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4.0 parser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 4.0.1 covers all BUGs except BUG80 and BUG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nks to the parser licensees for their suppor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of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aw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M 1.0 approved and a golden parser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nks to developer Kelly Green for his considerable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hip remains strong despite economic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 ended with 28 paid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 membership invoices are already being fi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Quality Committee continues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uracy guide in its final s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Stunning Progress…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255096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SI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tor 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ops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u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79640" y="5605560"/>
            <a:ext cx="6865920" cy="4744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is an active and growing force in th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B20-9DFE-4728-8DB4-E05E5AA8CA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74520"/>
            <a:ext cx="6705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…</a:t>
            </a: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And Upcoming Challeng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62120"/>
            <a:ext cx="830592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our development 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he IBIS Futures Roadmap for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IBIS enhancements in the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sh Quality Committee documents and an updated Cookb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actively with other behavioral modeling standards groups (IEEE, Accele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e 4.1 language extensions in trade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widespread ICM ad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the ICM with a cookbook, example models and tool enab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e for ICM 1.5/2.0 (frequency-dependent RLGCs, fixes to known iss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international support and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 active participation in European IBIS Sum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“Electronic Roadshow” to support Asia, Europe and the US with summit-quality teleconference 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the Open Forum’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 our membership as we help drive behavioral mo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our public image through web and publication improv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5808600"/>
            <a:ext cx="7239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As always, thank you for your suppor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DBE-1686-46F0-AA6C-48988FB1FD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4-01-31T22:50:50Z</dcterms:modified>
  <cp:revision>62</cp:revision>
  <dc:subject>Update at 2004 DesignCon West Summit</dc:subject>
  <dc:title>IBIS Chair's Report</dc:title>
</cp:coreProperties>
</file>