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F3F5-723D-44B7-830E-5A1F229DD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B41-501A-49B1-8B5B-EBC4C644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C8D-0E07-4ECD-B83D-EAF48D20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768-F3AB-4ABF-B08D-1519B4CE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D8B-DAB0-464C-A3FF-6BF6B1C1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31EC-0C5E-4B67-BD52-6571C1EE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2B22-ED73-418D-8BDC-DD71C419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8D2B-DD1E-4BB3-ADC7-CF65B69D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3BC2-665D-4ABE-8C36-D1754535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EF38-C058-424E-B59B-CF7A742C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ADBB-DD60-49F6-BB7E-3B938526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B772-AE17-4D81-A4CC-93D9D0B4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995-8C79-4147-890D-A702EF58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6EF7-314B-411A-BDB8-FDEFB264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F6CA-5467-4F4D-B8CD-EA04B024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BE7A-DCE0-45C7-9D8E-A5135320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56AE-267C-4139-92BF-B5F21CE6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FF73-0530-4004-B2B2-361CEC86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9E5-546E-4575-9407-1B3081FC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039-7DB7-4B7C-8FDB-6630B133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9A1-C575-4809-96F2-6BAC4EFD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B4F-E5D9-4D36-AAA4-8C3C75B8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ADF-0E54-4A38-B7DC-BD326F1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70B-D356-4B18-BBF8-D1874C4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CF8-1F23-4244-AD1F-26467BE7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917B-5415-4073-896C-4BEAB0305BE5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17CF-29C4-42FF-ADE4-BF51F6D101AD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isoft.com/ibis-quality/doc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320004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IBIS QUALITY</a:t>
            </a:r>
            <a:endParaRPr b="0" lang="en-US" sz="28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DESIGNCON IBIS SUMMIT Feb 2, 2004</a:t>
            </a:r>
            <a:endParaRPr b="0" lang="en-US" sz="28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Century Gothic"/>
              </a:rPr>
              <a:t>Robert Haller 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Century Gothic"/>
              </a:rPr>
              <a:t>rhaller@sisoft.com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6 Clock Tower Place – Suite 250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Maynard MA. 01754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978-461-0449 X 15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2971800" y="0"/>
            <a:ext cx="3809880" cy="108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352680" y="9907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(IQ) Subcommittee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Goa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ating system that is easy to understand and adop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mmunicate to vendors/users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ver overall file, component, and model sec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heck for completeness, correctness, accurac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rage of prior work Meet every 2 weeks (Tuesdays 9:00 EDT for 1 hour)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ailing 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-quality@freelists.org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freelists.org/archives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Web Site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sisoft.com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 Available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http://www.sisoft.com/ibis-quality/doc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_Document.txt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 Index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3" marL="151992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1.0 IBIS Quality Summar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1.1 IBIS Quality level defini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1.2 IBIS Quality summary as comments in fil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2.0 General Header Section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0 Component Sec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1 Component Package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2 Component Pin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3 Component Diff Pin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4 Component Model Selector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 Index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7080" indent="0">
              <a:lnSpc>
                <a:spcPct val="98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0 Model Sec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1 Model General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2 Model Waveform Processing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3 Model I-V Table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4 Model V-T Table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5 Model Ramp Data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3" marL="14400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5.0 Possible Errors that should be checked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6.0 Correl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6.1     SPICE correl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6.2     Lab correl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7.0 Model Limita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 Sampl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8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1 Component Package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equirements for the [Package] and [Package Model] sections: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1.1  {LEVEL 0}   [Package] must have typical valu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Typical values must be defined on a component. Min/Max optional but must be defined as NA if not available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1.2  {LEVEL 0}   [Package] Parasitics must be reasonabl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easonable values are: L &lt; 10nH, C &lt; 20pF, R &lt; 1 ohm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Min must be less than typ and typ less than max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 Level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6120" indent="0">
              <a:lnSpc>
                <a:spcPct val="98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-3344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0 requirements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0 requirements can be checked by ibischk3 version 3.2.9 or later  software.  Use of ibischk3 is highly recommended, to avoid performing level 0 checks manually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-3344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1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1 includes all items in level 0, plus checks for correctness and completeness, and basic simulation tests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-3344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2a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2a includes all items in level 1, plus simulation correlation: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- Spice Correlation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- Cross reference IBIS Accuracy figure of merit (FOM)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Summary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15699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 Quality Subcommittee Goa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 Quality Documentation Available !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sisoft.com/ibis-quality/doc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 Index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 Sample Documentation present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 Lev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2895480" y="2743200"/>
            <a:ext cx="4038840" cy="114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46:44Z</dcterms:created>
  <dc:creator>Bob Haller</dc:creator>
  <dc:description/>
  <dc:language>en-US</dc:language>
  <cp:lastModifiedBy>rhaller</cp:lastModifiedBy>
  <dcterms:modified xsi:type="dcterms:W3CDTF">2004-01-27T20:16:09Z</dcterms:modified>
  <cp:revision>21</cp:revision>
  <dc:subject/>
  <dc:title>IBIS QUALITY COMMITTEE REPORT</dc:title>
</cp:coreProperties>
</file>