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780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724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36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780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724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8280" y="37800"/>
            <a:ext cx="5000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ick to edit the title text forma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" name=""/>
          <p:cNvSpPr/>
          <p:nvPr/>
        </p:nvSpPr>
        <p:spPr>
          <a:xfrm>
            <a:off x="4124160" y="6600960"/>
            <a:ext cx="132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40760" y="6600960"/>
            <a:ext cx="66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93760" y="1066680"/>
            <a:ext cx="862632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6364440"/>
            <a:ext cx="862632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700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3" marL="187164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4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5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6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985160" y="463680"/>
            <a:ext cx="657360" cy="539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744720" y="6450120"/>
            <a:ext cx="85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1C6E979-E986-4F25-9055-DA7888BF2473}" type="slidenum">
              <a:rPr b="0" lang="zh-CN" sz="12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zh-CN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5" name=""/>
          <p:cNvSpPr/>
          <p:nvPr/>
        </p:nvSpPr>
        <p:spPr>
          <a:xfrm>
            <a:off x="544680" y="1623960"/>
            <a:ext cx="777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Fiberhome Telecommunications Technology Experiences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12800" y="4449600"/>
            <a:ext cx="59565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Zheng 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zheng@fiberhome.com.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2680" y="203040"/>
            <a:ext cx="500076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Humnst777 BT"/>
                <a:ea typeface="宋体"/>
              </a:rPr>
              <a:t>Behind these stories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9320" y="1158840"/>
            <a:ext cx="777708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24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Timing Analysi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-24084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Different Driver strength results in great different Delay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-24084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Under low speed situation Timing analysis was proven and the  IBIS model works well 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-24084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 can’t describe the internal delay of the buffer . when doing timing analysis we always  puzzle about the “Zero” reference point . especially when timing  budgets  is tight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-24084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Closing the Timing loop requires Core-to-core timing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4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7840" y="177480"/>
            <a:ext cx="5000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Humnst777 Lt BT"/>
                <a:ea typeface="宋体"/>
              </a:rPr>
              <a:t>Problems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4120" y="1324080"/>
            <a:ext cx="8043840" cy="35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High Speed Serial Interconnect have widely used . But effective analysis was lagged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Find Bugs of Serial Interconnect is more difficult than old designs . Maybe it is  an impossible  task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601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4520" y="228240"/>
            <a:ext cx="5000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Humnst777 BT"/>
                <a:ea typeface="宋体"/>
              </a:rPr>
              <a:t>We are expecting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2" name=""/>
          <p:cNvSpPr/>
          <p:nvPr/>
        </p:nvSpPr>
        <p:spPr>
          <a:xfrm>
            <a:off x="2425680" y="2298600"/>
            <a:ext cx="1498680" cy="1409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23600" y="2914920"/>
            <a:ext cx="1925640" cy="1046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0" rIns="0" tIns="44280" bIns="44280" anchor="t">
            <a:normAutofit/>
          </a:bodyPr>
          <a:p>
            <a:pPr marL="401760" indent="-401760"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Model Maker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84" name=""/>
          <p:cNvSpPr/>
          <p:nvPr/>
        </p:nvSpPr>
        <p:spPr>
          <a:xfrm>
            <a:off x="2924280" y="4549680"/>
            <a:ext cx="2481120" cy="14414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End Us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54120" y="1400040"/>
            <a:ext cx="3268800" cy="106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ools Ven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46240" y="2374920"/>
            <a:ext cx="2426040" cy="2247840"/>
          </a:xfrm>
          <a:custGeom>
            <a:avLst/>
            <a:gdLst>
              <a:gd name="textAreaLeft" fmla="*/ 0 w 2426040"/>
              <a:gd name="textAreaRight" fmla="*/ 2426400 w 242604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829" y="6500"/>
                </a:lnTo>
                <a:lnTo>
                  <a:pt x="3829" y="9316"/>
                </a:lnTo>
                <a:lnTo>
                  <a:pt x="9316" y="9316"/>
                </a:lnTo>
                <a:lnTo>
                  <a:pt x="9316" y="3829"/>
                </a:lnTo>
                <a:lnTo>
                  <a:pt x="6500" y="3829"/>
                </a:lnTo>
                <a:lnTo>
                  <a:pt x="10800" y="0"/>
                </a:lnTo>
                <a:lnTo>
                  <a:pt x="15100" y="3829"/>
                </a:lnTo>
                <a:lnTo>
                  <a:pt x="12284" y="3829"/>
                </a:lnTo>
                <a:lnTo>
                  <a:pt x="12284" y="9316"/>
                </a:lnTo>
                <a:lnTo>
                  <a:pt x="17771" y="9316"/>
                </a:lnTo>
                <a:lnTo>
                  <a:pt x="17771" y="6500"/>
                </a:lnTo>
                <a:lnTo>
                  <a:pt x="21600" y="10800"/>
                </a:lnTo>
                <a:lnTo>
                  <a:pt x="17771" y="15100"/>
                </a:lnTo>
                <a:lnTo>
                  <a:pt x="17771" y="12284"/>
                </a:lnTo>
                <a:lnTo>
                  <a:pt x="12284" y="12284"/>
                </a:lnTo>
                <a:lnTo>
                  <a:pt x="12284" y="17771"/>
                </a:lnTo>
                <a:lnTo>
                  <a:pt x="15100" y="17771"/>
                </a:lnTo>
                <a:lnTo>
                  <a:pt x="10800" y="21600"/>
                </a:lnTo>
                <a:lnTo>
                  <a:pt x="6500" y="17771"/>
                </a:lnTo>
                <a:lnTo>
                  <a:pt x="9316" y="17771"/>
                </a:lnTo>
                <a:lnTo>
                  <a:pt x="9316" y="12284"/>
                </a:lnTo>
                <a:lnTo>
                  <a:pt x="3829" y="12284"/>
                </a:lnTo>
                <a:lnTo>
                  <a:pt x="3829" y="15100"/>
                </a:lnTo>
                <a:close/>
              </a:path>
            </a:pathLst>
          </a:custGeom>
          <a:solidFill>
            <a:srgbClr val="81a4f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84880" y="2720880"/>
            <a:ext cx="2849400" cy="147960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 algn="ct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  <a:ea typeface="宋体"/>
              </a:rPr>
              <a:t>Third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7160" y="228600"/>
            <a:ext cx="470844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9" name=""/>
          <p:cNvSpPr/>
          <p:nvPr/>
        </p:nvSpPr>
        <p:spPr>
          <a:xfrm>
            <a:off x="419040" y="1244520"/>
            <a:ext cx="763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IBIS Models have played an important role in signal integrity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1040" y="3086280"/>
            <a:ext cx="7777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ccess  Buffer Characterist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Waveform  Quality 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iming 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85360" y="230040"/>
            <a:ext cx="500076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Humnst777 BT"/>
                <a:ea typeface="宋体"/>
              </a:rPr>
              <a:t>Buffer Characteristics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53" name=""/>
          <p:cNvSpPr/>
          <p:nvPr/>
        </p:nvSpPr>
        <p:spPr>
          <a:xfrm>
            <a:off x="571680" y="1257480"/>
            <a:ext cx="539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What Information can we ge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298600"/>
            <a:ext cx="7777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0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Use V-I Curves to calculate the driver output impe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V-t Curve  provides the Buffer’s transition 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C_comp provides intuitional info of the load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7440" y="228240"/>
            <a:ext cx="5000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Humnst777 BT"/>
                <a:ea typeface="宋体"/>
              </a:rPr>
              <a:t>Waveform  Quality  Check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9320" y="1171080"/>
            <a:ext cx="7777080" cy="51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Critical Net check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57" name=""/>
          <p:cNvSpPr/>
          <p:nvPr/>
        </p:nvSpPr>
        <p:spPr>
          <a:xfrm>
            <a:off x="625320" y="1730520"/>
            <a:ext cx="67611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lnSpc>
                <a:spcPct val="10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Edge Trigged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Clocks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2962440"/>
            <a:ext cx="6456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Check Cont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0120" y="3533760"/>
            <a:ext cx="782784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lnSpc>
                <a:spcPct val="10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Incident 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Edge Mono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High /Low  noise marg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Source/sink  cur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4520" y="533160"/>
            <a:ext cx="3133800" cy="35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Humnst777 BT"/>
                <a:ea typeface="宋体"/>
              </a:rPr>
              <a:t>Timing  Analysis</a:t>
            </a:r>
            <a:br>
              <a:rPr sz="2800"/>
            </a:b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4880" y="1212480"/>
            <a:ext cx="5554800" cy="5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Flight Time Calculating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2" name=""/>
          <p:cNvSpPr/>
          <p:nvPr/>
        </p:nvSpPr>
        <p:spPr>
          <a:xfrm>
            <a:off x="371520" y="2025720"/>
            <a:ext cx="8209080" cy="24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Flight Time  provides  more reasonable descriptions  than T.L Propagation Delay in Timing Budgets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T.L Delay ,loads and topology effects are taken into conside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9680" y="152280"/>
            <a:ext cx="595296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Humnst777 BT"/>
                <a:ea typeface="宋体"/>
              </a:rPr>
              <a:t>Mostly used model parameters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9000" y="1527120"/>
            <a:ext cx="777708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1.0  V-I Curves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1.0  C_comp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2.1  rise/fall waveforms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2.1  Pin mapping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3.2  </a:t>
            </a:r>
            <a:r>
              <a:rPr b="0" lang="en-US" sz="2400" spc="-1" strike="noStrike">
                <a:solidFill>
                  <a:srgbClr val="000ab0"/>
                </a:solidFill>
                <a:latin typeface="Humnst777 Lt BT"/>
                <a:ea typeface="宋体"/>
              </a:rPr>
              <a:t>seldom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4.0  </a:t>
            </a:r>
            <a:r>
              <a:rPr b="0" lang="en-US" sz="2400" spc="-1" strike="noStrike">
                <a:solidFill>
                  <a:srgbClr val="000ab0"/>
                </a:solidFill>
                <a:latin typeface="Humnst777 Lt BT"/>
                <a:ea typeface="宋体"/>
              </a:rPr>
              <a:t>seldom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2680" y="177480"/>
            <a:ext cx="5000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Humnst777 BT"/>
                <a:ea typeface="宋体"/>
              </a:rPr>
              <a:t>Model check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8680" y="1234800"/>
            <a:ext cx="777708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7" name=""/>
          <p:cNvSpPr/>
          <p:nvPr/>
        </p:nvSpPr>
        <p:spPr>
          <a:xfrm>
            <a:off x="841320" y="1841400"/>
            <a:ext cx="50007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buClr>
                <a:srgbClr val="000ab0"/>
              </a:buClr>
              <a:buFont typeface="Humnst777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880" y="1212840"/>
            <a:ext cx="55548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ypical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0120" y="1924200"/>
            <a:ext cx="5719680" cy="15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lnSpc>
                <a:spcPct val="100000"/>
              </a:lnSpc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nst777 Lt BT"/>
                <a:ea typeface="宋体"/>
              </a:rPr>
              <a:t>Non-monotonic data in PU/PD 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nst777 Lt BT"/>
                <a:ea typeface="宋体"/>
              </a:rPr>
              <a:t>DC point does not match I-V load l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umnst777 Lt BT"/>
                <a:ea typeface="宋体"/>
              </a:rPr>
              <a:t>V-t tables End slope not fl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buClr>
                <a:srgbClr val="00000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6120" y="3790800"/>
            <a:ext cx="777708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lways tools will filter these points,but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Understanding of these warning is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5600" y="190440"/>
            <a:ext cx="500076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Humnst777 Lt BT"/>
                <a:ea typeface="宋体"/>
              </a:rPr>
              <a:t>Successful stories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1840" y="1247400"/>
            <a:ext cx="8462880" cy="22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25080" indent="-32508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Multi-Drop bus  Analysi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32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When debugging we found data was improperly strobed .Post analysis shows there is non-Monotonic Clock Edge. Using high bandwidth probe check again and got it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32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325080" indent="-325080">
              <a:lnSpc>
                <a:spcPct val="90000"/>
              </a:lnSpc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Timing Analysi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32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Strong Driver results in Hold time conflict   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73" name=""/>
          <p:cNvSpPr/>
          <p:nvPr/>
        </p:nvSpPr>
        <p:spPr>
          <a:xfrm>
            <a:off x="622440" y="476244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7640" y="4305240"/>
            <a:ext cx="7477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Occurs at  “Low Speed” 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7440" y="190440"/>
            <a:ext cx="500076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Humnst777 BT"/>
                <a:ea typeface="宋体"/>
              </a:rPr>
              <a:t>Behind these stories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1520" y="1336680"/>
            <a:ext cx="8069040" cy="44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s provides some clues in Waveform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Quality check. But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601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How Simulator processes the model is a black  box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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Simulated result sometimes are tools relevant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0:01:32Z</dcterms:created>
  <dc:creator>EvG</dc:creator>
  <dc:description>This presentation is meant to be sent to all FOP and resellers together with the 1st beta shipment, so active promotion can be started.</dc:description>
  <dc:language>en-US</dc:language>
  <cp:lastModifiedBy>qzheng</cp:lastModifiedBy>
  <cp:lastPrinted>1999-03-03T12:32:42Z</cp:lastPrinted>
  <dcterms:modified xsi:type="dcterms:W3CDTF">2005-11-01T11:11:57Z</dcterms:modified>
  <cp:revision>480</cp:revision>
  <dc:subject/>
  <dc:title> EMC-Engineer presentation</dc:title>
</cp:coreProperties>
</file>