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ECF-7D46-4D27-A43B-273B3615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591-A21A-49C8-8EF3-5776536C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3C4-5363-4848-9C30-CFCBB568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8C5-A447-4F53-AAED-5877FB9E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99D5-C43E-4BD1-A162-E46C9DD3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B221-5691-41BF-A120-E4E3EEC2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5FA5-5AB9-4962-B7F4-2C3ADC6F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4E53-EBB0-4DB1-B76B-4FA918F8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4FD4-E1E9-4E33-BC47-DCE2B2E4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7CEE-2A65-4F68-959F-CC944051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F520-C576-46C1-B229-FDA615BF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8C9-A2DF-4B3C-930F-0EE24597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96AB-1DA1-48E9-AB98-29C7091B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7318-DBE8-4687-871B-0A1030E8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C3C7-9DAC-4375-9FDA-F316F1D8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F546-1284-4A73-9AEC-D9B707FE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42BC-CFDF-41DC-8BF4-9013BA6A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8C4-19DF-4DCB-B2D7-E61832AA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EC1-574C-4587-83CC-2AB49EE4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AEF-5AC4-489F-9743-5B8A119D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F21-2C91-4BA6-8632-F2C69122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DB3-1745-4016-B92A-A7C4833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F64-B7B8-4777-88F3-FF74D6C9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74C-1C1C-4044-A128-18810862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E4D9-B66B-411E-9623-2415706EC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F8D3-4879-49D7-BF1F-DBA9368D1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1600" y="1055520"/>
            <a:ext cx="799920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6666"/>
                </a:solidFill>
                <a:latin typeface="Arial Black"/>
                <a:ea typeface="宋体"/>
              </a:rPr>
              <a:t>Splitting C_comp for Power Integrity Simulations</a:t>
            </a:r>
            <a:endParaRPr b="0" i="1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999440" y="3451320"/>
            <a:ext cx="531468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hiping Yang, Ph.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sco Systems, In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Now with Apple Computer, In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ian IBIS Summit in ShenZhen, Ch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/6/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xtraction of Yup, Ydown and Ydecap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16080" y="1685520"/>
            <a:ext cx="8224560" cy="2009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Yvddq_0=Ydecap+Yup  (2-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Yvddq_1=Ydecap+Ydown  (3-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Yio=Yup+Ydown  (4-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4137120"/>
            <a:ext cx="87822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Yup=(Yvddq_0+Yvddq_1+Yio)/2-Yvddq_1       (5-1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Ydown=(Yvddq_0+Yvddq_1+Yio)/2-Yvddq_0  (5-2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Ydecap=(Yvddq_0+Yvddq_1+Yio)/2-Yio           (5-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/O pin impedan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52280" y="1797120"/>
            <a:ext cx="4445280" cy="40003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546440" y="1822320"/>
            <a:ext cx="444528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360" y="786960"/>
            <a:ext cx="7953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Power/ground impedance when I/O pin is open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943280" y="219060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/O pin capacitan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298600" y="1809720"/>
            <a:ext cx="422928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Vccq parasitic resistan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124080" y="1873080"/>
            <a:ext cx="2970360" cy="31244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072120" y="1886040"/>
            <a:ext cx="3071880" cy="31366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0" y="1873080"/>
            <a:ext cx="3220920" cy="31118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856800" y="5113440"/>
            <a:ext cx="164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rything inclu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43560" y="51516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_comp effect exclu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80280" y="5100480"/>
            <a:ext cx="276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_comp and lumped decap cell effect exclu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Vccq parasitic capacitan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1949400"/>
            <a:ext cx="3137040" cy="31240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3137040" y="1962000"/>
            <a:ext cx="3106440" cy="31244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6172200" y="1943280"/>
            <a:ext cx="2971800" cy="31208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856800" y="5113440"/>
            <a:ext cx="164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rything inclu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43560" y="51516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_comp effect exclu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0280" y="5100480"/>
            <a:ext cx="276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_comp and lumped decap cell effect exclu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ull_up and Pull_down resistan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52280" y="1924200"/>
            <a:ext cx="4521240" cy="36954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546440" y="1898640"/>
            <a:ext cx="426744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ull_up and Pull_down capacitan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228600" y="2050920"/>
            <a:ext cx="4229280" cy="35942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470480" y="2063880"/>
            <a:ext cx="414000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clus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_comp is frequency and state 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_comp split ratio is also frequency and state 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_comp and its split ratio are very important factors for correct power integrity simul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xisting C_comp and I/V table may not completely model the frequency dependent property of I/O buffer, even at steady sta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Q&amp;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3085920"/>
            <a:ext cx="769608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cknowledgme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thor would like to thank Cisco Systems,  Inc. for the support and approval of this presentation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thor would like to thank Apple Computer, Inc. for providing travel arrangements to make this presentation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thor would like to thank Randy Wolf from Micron for his support and help on HSPICE buffer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582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ent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587600"/>
            <a:ext cx="8224560" cy="457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y C_comp and its split ratio are important for power integrity simulation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ocedures to extract the C_comp and C_decap values from HSPICE simul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ulation results for Micron U27_a_dq buff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Why C_comp and its split ratio are important for power integrity simulations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_comp could impact the power integrity simulations in following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_comp at non-switching I/O could act as effective local decoupling caps.  The ratio has a big imp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_comp split ratio heavily impacts the noise level coupled from power supply to quite I/O pins, especially at high frequen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_comp split ratio will have direct impact on dynamic current distribution for switching I/O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0280" y="5786280"/>
            <a:ext cx="86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: C_comp split ratio has no impact on SI simulations when voltage supply is ide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8040" y="5457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implified I/O model for IBIS specifica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 flipH="1" rot="5400000">
            <a:off x="2533320" y="2215800"/>
            <a:ext cx="4953240" cy="3784320"/>
          </a:xfrm>
          <a:prstGeom prst="triangle">
            <a:avLst>
              <a:gd name="adj" fmla="val 500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7960" y="2844720"/>
            <a:ext cx="240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2000" y="5359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7800" y="4330800"/>
            <a:ext cx="190440" cy="6094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89240" y="3162240"/>
            <a:ext cx="190800" cy="6606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76640" y="4330800"/>
            <a:ext cx="20340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0720" y="36320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377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3378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3517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6160" y="46101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26160" y="47498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01920" y="2857680"/>
            <a:ext cx="1800" cy="77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89320" y="3784680"/>
            <a:ext cx="144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89320" y="4952880"/>
            <a:ext cx="144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78160" y="5016600"/>
            <a:ext cx="1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8160" y="3822840"/>
            <a:ext cx="180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2857680"/>
            <a:ext cx="144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78440" y="2844720"/>
            <a:ext cx="144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3543480"/>
            <a:ext cx="1800" cy="10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16600" y="4762440"/>
            <a:ext cx="1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03720" y="4064040"/>
            <a:ext cx="308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025880"/>
            <a:ext cx="114480" cy="1144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5321160"/>
            <a:ext cx="114480" cy="1144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2806560"/>
            <a:ext cx="114480" cy="1144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26280" y="4013280"/>
            <a:ext cx="114480" cy="11412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40280" y="4000680"/>
            <a:ext cx="114480" cy="11412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88920" y="267480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8160" y="52023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74360" y="41608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66560" y="42750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_comp_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66560" y="35384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_comp_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3640" y="297972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_pull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89240" y="498636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_pull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1800" y="332280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_de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51160" y="496080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_de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4317840"/>
            <a:ext cx="190440" cy="60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63840" y="361944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63840" y="375912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5040" y="2844720"/>
            <a:ext cx="0" cy="77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2440" y="3772080"/>
            <a:ext cx="0" cy="545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2440" y="494028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8560" y="329724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_decap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82720" y="489744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_decap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4720" y="520200"/>
            <a:ext cx="7696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Zvddq_op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498760" y="1720800"/>
            <a:ext cx="4529880" cy="3543120"/>
            <a:chOff x="2498760" y="1720800"/>
            <a:chExt cx="4529880" cy="3543120"/>
          </a:xfrm>
        </p:grpSpPr>
        <p:sp>
          <p:nvSpPr>
            <p:cNvPr id="144" name=""/>
            <p:cNvSpPr/>
            <p:nvPr/>
          </p:nvSpPr>
          <p:spPr>
            <a:xfrm flipH="1" rot="5400000">
              <a:off x="3252600" y="1997280"/>
              <a:ext cx="3543120" cy="2989800"/>
            </a:xfrm>
            <a:prstGeom prst="triangle">
              <a:avLst>
                <a:gd name="adj" fmla="val 50000"/>
              </a:avLst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3440" y="2649600"/>
              <a:ext cx="189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72240" y="4326480"/>
              <a:ext cx="198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4400" y="3640680"/>
              <a:ext cx="150840" cy="406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26840" y="2861640"/>
              <a:ext cx="150840" cy="439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16400" y="3640680"/>
              <a:ext cx="161280" cy="45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13600" y="317520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13600" y="326808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79080" y="3004920"/>
              <a:ext cx="34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9080" y="3097800"/>
              <a:ext cx="34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08600" y="382680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08600" y="391968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04760" y="265824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94320" y="3276720"/>
              <a:ext cx="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94320" y="4056120"/>
              <a:ext cx="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98480" y="409896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8480" y="3301200"/>
              <a:ext cx="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06400" y="265824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30640" y="264960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9720" y="3115080"/>
              <a:ext cx="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60160" y="3928320"/>
              <a:ext cx="0" cy="40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6840" y="3463200"/>
              <a:ext cx="243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47720" y="3437280"/>
              <a:ext cx="90000" cy="75600"/>
            </a:xfrm>
            <a:prstGeom prst="ellipse">
              <a:avLst/>
            </a:prstGeom>
            <a:solidFill>
              <a:srgbClr val="33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21840" y="4302360"/>
              <a:ext cx="90360" cy="75600"/>
            </a:xfrm>
            <a:prstGeom prst="ellipse">
              <a:avLst/>
            </a:prstGeom>
            <a:solidFill>
              <a:srgbClr val="33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2680" y="2623680"/>
              <a:ext cx="90360" cy="75600"/>
            </a:xfrm>
            <a:prstGeom prst="ellipse">
              <a:avLst/>
            </a:prstGeom>
            <a:solidFill>
              <a:srgbClr val="33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05800" y="3428280"/>
              <a:ext cx="90360" cy="75600"/>
            </a:xfrm>
            <a:prstGeom prst="ellipse">
              <a:avLst/>
            </a:prstGeom>
            <a:solidFill>
              <a:srgbClr val="33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9320" y="3420000"/>
              <a:ext cx="90000" cy="75600"/>
            </a:xfrm>
            <a:prstGeom prst="ellipse">
              <a:avLst/>
            </a:prstGeom>
            <a:solidFill>
              <a:srgbClr val="33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25400" y="253764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DD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8760" y="422280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43800" y="3526920"/>
              <a:ext cx="3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071800" y="3379680"/>
            <a:ext cx="415800" cy="34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79520" y="3710160"/>
            <a:ext cx="180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6920" y="4324320"/>
            <a:ext cx="80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92480" y="2811600"/>
            <a:ext cx="144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49640" y="2751120"/>
            <a:ext cx="83880" cy="9540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7600" y="2158920"/>
            <a:ext cx="20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vddq_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13080" y="2409840"/>
            <a:ext cx="217440" cy="320760"/>
          </a:xfrm>
          <a:prstGeom prst="downArrow">
            <a:avLst>
              <a:gd name="adj1" fmla="val 50000"/>
              <a:gd name="adj2" fmla="val 36879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" y="5137200"/>
            <a:ext cx="817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vddq_open=Zdecap//(Zup+Zdown)  (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vddq_open=Ydecap+(Yup*Ydown)/(Yup+Ydown) (1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7280" y="5965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Z_vddq_short_to_gn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 flipH="1" rot="5400000">
            <a:off x="1963080" y="2275560"/>
            <a:ext cx="2095200" cy="1570320"/>
          </a:xfrm>
          <a:prstGeom prst="triangle">
            <a:avLst>
              <a:gd name="adj" fmla="val 500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7800" y="2562120"/>
            <a:ext cx="995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86120" y="3554280"/>
            <a:ext cx="1982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70160" y="3147840"/>
            <a:ext cx="79200" cy="241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44920" y="2687760"/>
            <a:ext cx="79200" cy="2602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8440" y="3147840"/>
            <a:ext cx="85680" cy="271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17600" y="2873520"/>
            <a:ext cx="179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7600" y="2928960"/>
            <a:ext cx="179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33640" y="2771640"/>
            <a:ext cx="17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33640" y="2827440"/>
            <a:ext cx="17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9480" y="3259080"/>
            <a:ext cx="1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9480" y="3313080"/>
            <a:ext cx="1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17680" y="2567160"/>
            <a:ext cx="180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13000" y="293364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13000" y="339408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81280" y="3419640"/>
            <a:ext cx="144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81280" y="2948040"/>
            <a:ext cx="14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85960" y="2567160"/>
            <a:ext cx="180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13200" y="256212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4360" y="2836800"/>
            <a:ext cx="14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29040" y="3317760"/>
            <a:ext cx="144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92440" y="3043080"/>
            <a:ext cx="127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55720" y="3027240"/>
            <a:ext cx="47880" cy="460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59120" y="3540240"/>
            <a:ext cx="47520" cy="442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92240" y="2546280"/>
            <a:ext cx="46080" cy="460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44880" y="3022560"/>
            <a:ext cx="47520" cy="4464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97360" y="3017880"/>
            <a:ext cx="47520" cy="442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50880" y="249552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62040" y="34923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69200" y="308124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0160" y="2914560"/>
            <a:ext cx="318960" cy="34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360" y="3232080"/>
            <a:ext cx="144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3562200"/>
            <a:ext cx="470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30360" y="2558880"/>
            <a:ext cx="144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04800" y="2552760"/>
            <a:ext cx="44640" cy="5724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04640" y="20718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vddq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82640" y="2368440"/>
            <a:ext cx="114480" cy="190440"/>
          </a:xfrm>
          <a:prstGeom prst="downArrow">
            <a:avLst>
              <a:gd name="adj1" fmla="val 50000"/>
              <a:gd name="adj2" fmla="val 4158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75120" y="3048120"/>
            <a:ext cx="14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52600" y="5024520"/>
            <a:ext cx="45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vddq_0=Zdecap//Zup   (2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vddq_0=Ydecap+Yup  (2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34040" y="1913040"/>
            <a:ext cx="114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 is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rot="5400000">
            <a:off x="5378400" y="2122920"/>
            <a:ext cx="2095560" cy="1569960"/>
          </a:xfrm>
          <a:prstGeom prst="triangle">
            <a:avLst>
              <a:gd name="adj" fmla="val 500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33840" y="240984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02160" y="3402000"/>
            <a:ext cx="198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86560" y="2995560"/>
            <a:ext cx="79200" cy="241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60960" y="2535120"/>
            <a:ext cx="79560" cy="2606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995560"/>
            <a:ext cx="85680" cy="2714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4000" y="27208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34000" y="27766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50040" y="261936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50040" y="26748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65880" y="31068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65880" y="31608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34080" y="241452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29400" y="278136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29400" y="324180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7680" y="326700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7680" y="2795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02360" y="241452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29240" y="24098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0400" y="268452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5080" y="316548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08840" y="2890800"/>
            <a:ext cx="12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72120" y="2874960"/>
            <a:ext cx="47520" cy="460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75160" y="3387600"/>
            <a:ext cx="47880" cy="4464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08640" y="2394000"/>
            <a:ext cx="46080" cy="460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61280" y="2870280"/>
            <a:ext cx="47520" cy="442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13400" y="2865600"/>
            <a:ext cx="47880" cy="442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67280" y="2343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78080" y="3340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39400" y="259884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86200" y="2762280"/>
            <a:ext cx="319320" cy="34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46760" y="3079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40280" y="340992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46760" y="24066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21200" y="2400480"/>
            <a:ext cx="44640" cy="568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20680" y="191916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vddq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99040" y="2216160"/>
            <a:ext cx="114480" cy="190440"/>
          </a:xfrm>
          <a:prstGeom prst="downArrow">
            <a:avLst>
              <a:gd name="adj1" fmla="val 50000"/>
              <a:gd name="adj2" fmla="val 4158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09560" y="187488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 is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37440" y="2952720"/>
            <a:ext cx="318960" cy="34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97640" y="287640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85040" y="329580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Z_vddq_short_to_pw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 flipH="1" rot="5400000">
            <a:off x="1619280" y="2262600"/>
            <a:ext cx="2095560" cy="1569960"/>
          </a:xfrm>
          <a:prstGeom prst="triangle">
            <a:avLst>
              <a:gd name="adj" fmla="val 500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4720" y="2549520"/>
            <a:ext cx="19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3040" y="3541680"/>
            <a:ext cx="10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27080" y="3135240"/>
            <a:ext cx="79560" cy="241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01840" y="2674800"/>
            <a:ext cx="79560" cy="2606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95360" y="3135240"/>
            <a:ext cx="86040" cy="2714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74880" y="286056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74880" y="291636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0920" y="275904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8144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06760" y="32464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06760" y="33004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74960" y="255420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69920" y="292104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69920" y="33814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38560" y="340668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38560" y="293544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43240" y="255420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70120" y="254952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81280" y="282420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85960" y="330516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49360" y="3030480"/>
            <a:ext cx="127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13000" y="3014640"/>
            <a:ext cx="47520" cy="460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16040" y="3527280"/>
            <a:ext cx="47520" cy="4464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49520" y="2533680"/>
            <a:ext cx="46080" cy="460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02160" y="3009960"/>
            <a:ext cx="47520" cy="442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54280" y="3005280"/>
            <a:ext cx="47520" cy="442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7800" y="248292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8960" y="34797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6120" y="306864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27080" y="2901960"/>
            <a:ext cx="318960" cy="34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321948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81160" y="354960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254628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62080" y="2540160"/>
            <a:ext cx="44280" cy="568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1560" y="205884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vddq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39920" y="2355840"/>
            <a:ext cx="114120" cy="190440"/>
          </a:xfrm>
          <a:prstGeom prst="downArrow">
            <a:avLst>
              <a:gd name="adj1" fmla="val 50000"/>
              <a:gd name="adj2" fmla="val 41719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32040" y="292104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65360" y="2621880"/>
            <a:ext cx="319320" cy="34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19440" y="254016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rot="5400000">
            <a:off x="5924520" y="2211840"/>
            <a:ext cx="2095560" cy="1569960"/>
          </a:xfrm>
          <a:prstGeom prst="triangle">
            <a:avLst>
              <a:gd name="adj" fmla="val 500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79960" y="2498760"/>
            <a:ext cx="19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48280" y="3490920"/>
            <a:ext cx="10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32680" y="3084480"/>
            <a:ext cx="79200" cy="241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07080" y="2624040"/>
            <a:ext cx="79560" cy="2602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00960" y="3084480"/>
            <a:ext cx="85680" cy="2714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80120" y="28098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80120" y="28656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96160" y="27082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96160" y="27637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12000" y="31957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12000" y="32497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80200" y="25034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75520" y="287028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75520" y="33307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43800" y="335592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3800" y="2884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648480" y="250344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75360" y="249876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86520" y="277344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91200" y="325440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54960" y="2979720"/>
            <a:ext cx="12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618240" y="2963880"/>
            <a:ext cx="47520" cy="460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21280" y="3476520"/>
            <a:ext cx="47880" cy="4464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4760" y="2482920"/>
            <a:ext cx="46080" cy="460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07400" y="2959200"/>
            <a:ext cx="47520" cy="442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59520" y="2954160"/>
            <a:ext cx="47880" cy="4464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13400" y="243216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24200" y="34290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731360" y="30178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2320" y="2850480"/>
            <a:ext cx="319320" cy="34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92880" y="316872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86400" y="349884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92880" y="249552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67320" y="2489040"/>
            <a:ext cx="44640" cy="5724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66800" y="200808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vddq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45160" y="2305080"/>
            <a:ext cx="114120" cy="190440"/>
          </a:xfrm>
          <a:prstGeom prst="downArrow">
            <a:avLst>
              <a:gd name="adj1" fmla="val 50000"/>
              <a:gd name="adj2" fmla="val 41719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24680" y="2489040"/>
            <a:ext cx="0" cy="4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31000" y="1798560"/>
            <a:ext cx="114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 is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60600" y="182412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 is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71720" y="5024520"/>
            <a:ext cx="48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vddq_1=Zdecap//Zdown   (3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vddq_1=Ydecap+Ydown  (3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Z_i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7" name=""/>
          <p:cNvSpPr/>
          <p:nvPr/>
        </p:nvSpPr>
        <p:spPr>
          <a:xfrm flipH="1" rot="5400000">
            <a:off x="1606680" y="2618280"/>
            <a:ext cx="2095560" cy="1569960"/>
          </a:xfrm>
          <a:prstGeom prst="triangle">
            <a:avLst>
              <a:gd name="adj" fmla="val 500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79360" y="2905200"/>
            <a:ext cx="147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30440" y="3897360"/>
            <a:ext cx="198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3490920"/>
            <a:ext cx="79560" cy="241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9240" y="3030480"/>
            <a:ext cx="79200" cy="2602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2760" y="3490920"/>
            <a:ext cx="85680" cy="2714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62280" y="321624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62280" y="32716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77960" y="311472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77960" y="317016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3800" y="360216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3800" y="365616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62000" y="29098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57320" y="32767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57320" y="3736800"/>
            <a:ext cx="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25600" y="37623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25600" y="329076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30280" y="290988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57520" y="290520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8680" y="317988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73360" y="366084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36760" y="3386160"/>
            <a:ext cx="12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00400" y="3370320"/>
            <a:ext cx="47520" cy="460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3440" y="3882960"/>
            <a:ext cx="47520" cy="4464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23960" y="2876400"/>
            <a:ext cx="46080" cy="460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9200" y="3365640"/>
            <a:ext cx="47880" cy="442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41680" y="3360600"/>
            <a:ext cx="47520" cy="4464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95200" y="283860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6360" y="38354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2440" y="3030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14480" y="3257280"/>
            <a:ext cx="318960" cy="34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74680" y="357516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68560" y="390528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74680" y="290196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87760" y="3873600"/>
            <a:ext cx="44280" cy="568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42520" y="35449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5400000">
            <a:off x="3981240" y="3575160"/>
            <a:ext cx="114120" cy="190440"/>
          </a:xfrm>
          <a:prstGeom prst="downArrow">
            <a:avLst>
              <a:gd name="adj1" fmla="val 50000"/>
              <a:gd name="adj2" fmla="val 41719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rot="5400000">
            <a:off x="5798160" y="2567160"/>
            <a:ext cx="2095560" cy="1570320"/>
          </a:xfrm>
          <a:prstGeom prst="triangle">
            <a:avLst>
              <a:gd name="adj" fmla="val 500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70480" y="2854440"/>
            <a:ext cx="147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21200" y="3846600"/>
            <a:ext cx="198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05600" y="3440160"/>
            <a:ext cx="79200" cy="241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80000" y="2979720"/>
            <a:ext cx="79560" cy="2602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73880" y="3440160"/>
            <a:ext cx="85680" cy="2714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53040" y="31654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53040" y="322092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69080" y="306396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69080" y="31194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84920" y="35514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84920" y="360504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53120" y="285912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48440" y="322596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48440" y="3686040"/>
            <a:ext cx="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16720" y="371160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16720" y="324000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21400" y="285912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48640" y="285444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9440" y="312912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64480" y="361008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27880" y="3335400"/>
            <a:ext cx="12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91160" y="3319560"/>
            <a:ext cx="47880" cy="460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94200" y="3832200"/>
            <a:ext cx="47880" cy="4464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15080" y="2825640"/>
            <a:ext cx="46080" cy="460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780320" y="3314880"/>
            <a:ext cx="47520" cy="442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32440" y="3309840"/>
            <a:ext cx="47880" cy="4464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86320" y="278748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97480" y="37846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53520" y="29034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05240" y="3206520"/>
            <a:ext cx="319320" cy="34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65800" y="35244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59320" y="385452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65800" y="285120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8880" y="3822840"/>
            <a:ext cx="44280" cy="56880"/>
          </a:xfrm>
          <a:prstGeom prst="ellipse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97360" y="32907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5400000">
            <a:off x="8057880" y="3321000"/>
            <a:ext cx="114120" cy="190440"/>
          </a:xfrm>
          <a:prstGeom prst="downArrow">
            <a:avLst>
              <a:gd name="adj1" fmla="val 50000"/>
              <a:gd name="adj2" fmla="val 41719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46640" y="2179800"/>
            <a:ext cx="114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 is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23960" y="235728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 is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56480" y="3448080"/>
            <a:ext cx="318960" cy="34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804080" y="376560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14440" y="5138640"/>
            <a:ext cx="45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io=Zdown//Zup   (4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o=Ydown+Yup  (4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3:42:24Z</dcterms:created>
  <dc:creator>zhiping yang</dc:creator>
  <dc:description/>
  <dc:language>en-US</dc:language>
  <cp:lastModifiedBy>Bob Ross</cp:lastModifiedBy>
  <dcterms:modified xsi:type="dcterms:W3CDTF">2005-11-08T05:03:04Z</dcterms:modified>
  <cp:revision>677</cp:revision>
  <dc:subject/>
  <dc:title>Myth about the ground</dc:title>
</cp:coreProperties>
</file>