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F944CE16-2C8B-4120-8E22-C49AB7118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50800" y="5195880"/>
            <a:ext cx="52974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My name is Takeshi Watanab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I am Leader of JEITA EDA Working Gro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JEITA is Japan Electronics and Information Industries Associ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I am working in NECEL Jap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And I am in charge of IBIS Model and EM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Specifically (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ｽﾍﾟｼﾌｨｶﾘ）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, We generate IBIS model of our company’s LSI and other way we develop EMC measurement and Simulation technology for LS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Well, please let me introduce JEITA-IBIS Joint Meeting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in JAPAN and propose next Asian IBIS Summ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First, Micheal-san, Syed-san, Lance-san, We appreciate  your support and excellent presentation last meeting. We had a fruitful meeting in Jap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Surveys about the mee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% people said the meeting was very usefu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100% people want to continue JEITA-IBIS Joint mee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5424901A-7009-42B5-A36C-8CA46F4A3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B4290BE5-EFAC-455E-B73E-B50F3CF9E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C80AF910-A364-43AA-9938-98B84CFEA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D7580FB3-C210-41C4-A756-94EDBBF57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12A63092-A9D8-44F7-8508-BCDCD205C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F8ACA8E0-5FE4-4576-A735-B247AC28B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3366367D-50BD-42BD-9E8E-F0E2BA23E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ank you for all the help EIA/IBIS Committee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メインテイン  ﾅｰﾁ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nd We would like to maintain and nurture friendly relations with EIA/IBIS Committe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einte'i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、【＠】メインテイ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э':(r)t∫э(r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動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】 育て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68320" y="5040360"/>
            <a:ext cx="529596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This is Outline of the 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1. JEITA EDA-WG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2. JEITA-IBIS Joint Meeting Report last Mar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3. We propose JEITA-IBIS Joint Meeting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1060200" y="488124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, start by explaining JEITA EDA-WG Activ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s of the WG is standardization of EDA Model for Digital Consumer Electron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Consumer Electronics mean mai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lular  Phone, LCD TV , PDP and Display, Digital Camera and Video, DVD Recor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re consisted mainly of Digital and RF and ,analog circui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ｴｸﾞｻﾞﾐﾝ　　　　　　　　　　　　　　　　　　　　ｴﾌｨｶ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examine the possibility of  IBIS V4.1 efficacy or need for New EDA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ＥＤＡモデルの標準化を検討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ＩＢＩＳモデルを第一候補としてＩＢＩＳモデルが有効か検証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～の有効性の判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icacy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＠】エフィカシ、【【名】 有効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1060200" y="488124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, start by explaining JEITA EDA-WG Activ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s of the WG is standardization of EDA Model for Digital Consumer Electron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Consumer Electronics mean mai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lular  Phone, LCD TV , PDP and Display, Digital Camera and Video, DVD Recor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re consisted mainly of Digital and RF and ,analog circui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ｴｸﾞｻﾞﾐﾝ　　　　　　　　　　　　　　　　　　　　ｴﾌｨｶ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examine the possibility of  IBIS V4.1 efficacy or need for New EDA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ＥＤＡモデルの標準化を検討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ＩＢＩＳモデルを第一候補としてＩＢＩＳモデルが有効か検証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～の有効性の判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icacy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＠】エフィカシ、【【名】 有効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gital Consumer Electron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ave many problem about SI, PI, EMI for the last year or two 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t's important for simulation each component level, for example LSI or PC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ﾌｧｰｻ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nd further,  It‘s important for simulation PCB board level in the near future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　　　　　　　　　ｽﾀﾝﾀﾞｰｼﾞｽ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at's the reason , it is necessary to standardize EDA Model for each component such as LSI and Passive component and display device and PCB bo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ジタル家電ではＳＩＰＩＥＭＩ問題が起きてい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ボードレベルＬＳＩなど部品レベ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れらの最適化が重要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各パーツ、　　　、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ＥＤＡモデルを標準化して、シミュレーション環境を構築することは、重要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68320" y="4960800"/>
            <a:ext cx="529596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Necessary EDA Model on PCB board Simulation are 10 compon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LSI ;Sem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Discrete Sem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Passiv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P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Crystal Oscil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and all that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ボードシミュレーションに必要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各ＥＤＡモデルは、次のよう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ﾊﾟｰﾃｲｼﾍﾟｲ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6 companies participate JEITA-EDA-W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ember of  committee are consisted 8 indus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gital consumer Electronics Suppliers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anasonic and Sony, sharp, canon, tosh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micon areNECEL, tosh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ybe Cadence Japan will new jo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condly, let me describe “JEITA-IBIS Joint Meeting Repor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EITA-IBIS Joint Meeting was held on March 2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in Jap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icheal-san, Syed-san, Lance-san and JEITA 40 person member attended the mee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was agen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discussed IBIS scope and application technolog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4B28F-247C-433C-A7EB-327B26EE6F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052B8-962E-4D22-B68A-C27ABB0F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4FC6-FAFA-4338-9886-356F8380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D8035-FAFC-49EC-BFF6-62343C5563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F8EB-51C4-45E2-9960-9B1D723D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8C34-3987-4FA3-9EB8-DC8777F9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6C8C-C5F0-4511-8321-305C548F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3E65D-452A-4CA8-80E2-195E7E1F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36BB3-0A7D-45B6-87F2-9B4BD67D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90274-7B11-4A2A-A626-6F590C25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D6E1-F8D7-4433-9171-DB89EF31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E009-DFC2-4863-B739-A6A58CC4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6123-955A-4835-8029-E96F6D15D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1143000"/>
            <a:ext cx="784836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EITA EDA -WG Activity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y of  Interconnect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86728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JEITA ; Japan Electronics and Information Technology Industries Assoc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3886200"/>
            <a:ext cx="75200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c 6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sian IBIS SUMMIT in Shenzhen,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EITA EDA-W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keshi Watanabe (NEC Electronic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657D-CFB9-41F9-A7EC-0C6E1CD5DC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0840" y="1828800"/>
            <a:ext cx="76464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Application; DDR, PCI-Expres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; Connecto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 Components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CB (Via, Pattern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Tool; Cadence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304920"/>
            <a:ext cx="6705360" cy="12189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connect Mod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ignal Integ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F5380-EB6B-4441-9994-3DE5803E68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20" y="266688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form measurement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5520" y="4113360"/>
            <a:ext cx="1511280" cy="122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1520" y="4329000"/>
            <a:ext cx="64764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49520" y="4257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49520" y="4473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49520" y="468936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49520" y="490536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49520" y="512136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92440" y="43290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92440" y="45450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92440" y="47610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92440" y="497664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92440" y="519264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451320" y="1736280"/>
            <a:ext cx="3600000" cy="3152880"/>
            <a:chOff x="3451320" y="1736280"/>
            <a:chExt cx="3600000" cy="3152880"/>
          </a:xfrm>
        </p:grpSpPr>
        <p:sp>
          <p:nvSpPr>
            <p:cNvPr id="228" name=""/>
            <p:cNvSpPr/>
            <p:nvPr/>
          </p:nvSpPr>
          <p:spPr>
            <a:xfrm>
              <a:off x="5025960" y="296388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25960" y="2963880"/>
              <a:ext cx="1040040" cy="6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66360" y="359964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25960" y="3311640"/>
              <a:ext cx="1040040" cy="6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066360" y="3425040"/>
              <a:ext cx="28872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066360" y="3772800"/>
              <a:ext cx="28872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55080" y="342504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084640" y="3634920"/>
              <a:ext cx="196308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16920" y="2643120"/>
              <a:ext cx="1616400" cy="9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456360" y="2639520"/>
              <a:ext cx="196308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53840" y="3819960"/>
              <a:ext cx="1616760" cy="9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25960" y="26179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25960" y="2617920"/>
              <a:ext cx="1040040" cy="6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66360" y="325296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25960" y="2965320"/>
              <a:ext cx="1040040" cy="6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066360" y="3078360"/>
              <a:ext cx="2887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066360" y="3425760"/>
              <a:ext cx="2887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55080" y="30787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025960" y="2442960"/>
              <a:ext cx="2887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15040" y="2443320"/>
              <a:ext cx="1040040" cy="6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084640" y="2732400"/>
              <a:ext cx="196308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76880" y="2920680"/>
              <a:ext cx="1616400" cy="9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4920" y="1748160"/>
              <a:ext cx="1616400" cy="9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464280" y="1736280"/>
              <a:ext cx="1962720" cy="11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084640" y="3714120"/>
              <a:ext cx="196308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84640" y="4811760"/>
              <a:ext cx="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45200" y="364788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52760" y="3836160"/>
              <a:ext cx="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51320" y="3893400"/>
              <a:ext cx="1616760" cy="9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89680" y="390888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45200" y="273996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084640" y="2795760"/>
              <a:ext cx="196308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71480" y="2986920"/>
              <a:ext cx="1616400" cy="9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65360" y="292068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881520" y="382428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37120" y="40021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08560" y="41641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1840" y="4311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90960" y="447192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162240" y="3897000"/>
            <a:ext cx="72072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162240" y="4113000"/>
            <a:ext cx="100800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162240" y="4272120"/>
            <a:ext cx="126216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162240" y="4406400"/>
            <a:ext cx="1487520" cy="56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162240" y="4594320"/>
            <a:ext cx="1744560" cy="59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433520" y="6171840"/>
            <a:ext cx="191916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930240" y="5336640"/>
            <a:ext cx="50184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37160" y="5479920"/>
            <a:ext cx="18543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033880" y="4615920"/>
            <a:ext cx="50184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75360" y="4630680"/>
            <a:ext cx="1406520" cy="1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186240" y="3897000"/>
            <a:ext cx="787320" cy="733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304812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032360" y="3376440"/>
            <a:ext cx="1096920" cy="47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284720" y="3476160"/>
            <a:ext cx="1012680" cy="55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530600" y="3586320"/>
            <a:ext cx="935280" cy="59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746600" y="3700440"/>
            <a:ext cx="897120" cy="62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014800" y="3776400"/>
            <a:ext cx="774720" cy="71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01880" y="3032280"/>
            <a:ext cx="1297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7080" y="1143000"/>
            <a:ext cx="208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CI-Ex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Hyper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product figure"/>
          <p:cNvPicPr/>
          <p:nvPr/>
        </p:nvPicPr>
        <p:blipFill>
          <a:blip r:embed="rId1"/>
          <a:stretch/>
        </p:blipFill>
        <p:spPr>
          <a:xfrm>
            <a:off x="6227640" y="260280"/>
            <a:ext cx="2676600" cy="20289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772400" y="228600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B3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5760" y="42670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9000" y="586728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87840" y="51814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1522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I Model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nnector- Type B; stacked module, PCB, Cable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19BBB-983F-4BB7-8660-5DCD858656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258560" y="1844640"/>
            <a:ext cx="3308760" cy="3744720"/>
            <a:chOff x="1258560" y="1844640"/>
            <a:chExt cx="3308760" cy="3744720"/>
          </a:xfrm>
        </p:grpSpPr>
        <p:sp>
          <p:nvSpPr>
            <p:cNvPr id="294" name=""/>
            <p:cNvSpPr/>
            <p:nvPr/>
          </p:nvSpPr>
          <p:spPr>
            <a:xfrm>
              <a:off x="2346840" y="1888560"/>
              <a:ext cx="2089440" cy="17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258560" y="2498040"/>
              <a:ext cx="16974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58920" y="3107160"/>
              <a:ext cx="0" cy="14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99160" y="2541240"/>
              <a:ext cx="0" cy="69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1302120" y="2541240"/>
              <a:ext cx="169704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302120" y="4398840"/>
              <a:ext cx="52272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02120" y="3150360"/>
              <a:ext cx="0" cy="14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58920" y="3107160"/>
              <a:ext cx="4320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956320" y="2498040"/>
              <a:ext cx="4284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58920" y="4543920"/>
              <a:ext cx="4320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04440" y="4639680"/>
              <a:ext cx="113184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36640" y="3630240"/>
              <a:ext cx="0" cy="19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824480" y="3064320"/>
              <a:ext cx="1915560" cy="2088720"/>
              <a:chOff x="1824480" y="3064320"/>
              <a:chExt cx="1915560" cy="2088720"/>
            </a:xfrm>
          </p:grpSpPr>
          <p:sp>
            <p:nvSpPr>
              <p:cNvPr id="307" name=""/>
              <p:cNvSpPr/>
              <p:nvPr/>
            </p:nvSpPr>
            <p:spPr>
              <a:xfrm flipH="1">
                <a:off x="1824480" y="3064320"/>
                <a:ext cx="169740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24840" y="3673440"/>
                <a:ext cx="0" cy="14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565440" y="3107160"/>
                <a:ext cx="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1867320" y="3107160"/>
                <a:ext cx="169740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1867320" y="4543920"/>
                <a:ext cx="169740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867680" y="3716640"/>
                <a:ext cx="0" cy="143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24840" y="3673440"/>
                <a:ext cx="4284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2240" y="3064320"/>
                <a:ext cx="4284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824840" y="5109840"/>
                <a:ext cx="4284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348360" y="3455640"/>
                <a:ext cx="216720" cy="8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348360" y="3542040"/>
                <a:ext cx="173520" cy="21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65440" y="3455640"/>
                <a:ext cx="173520" cy="21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3522960" y="3673440"/>
                <a:ext cx="216720" cy="8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348360" y="4107960"/>
                <a:ext cx="173520" cy="21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3522960" y="4239720"/>
                <a:ext cx="216720" cy="8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348360" y="3542760"/>
                <a:ext cx="0" cy="56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22240" y="3759840"/>
                <a:ext cx="0" cy="56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40040" y="3673440"/>
                <a:ext cx="0" cy="56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65440" y="4305600"/>
                <a:ext cx="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2346840" y="1905840"/>
              <a:ext cx="0" cy="8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77160" y="1845360"/>
              <a:ext cx="2089800" cy="17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67320" y="3586320"/>
              <a:ext cx="0" cy="19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4436640" y="3586320"/>
              <a:ext cx="13032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436640" y="5545440"/>
              <a:ext cx="13032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346840" y="1844640"/>
              <a:ext cx="13032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3789360"/>
            <a:ext cx="1511280" cy="122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84720" y="4005360"/>
            <a:ext cx="64800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53080" y="393372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53080" y="4149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53080" y="4365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53080" y="458136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53080" y="479736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84720" y="400536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84720" y="42210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84720" y="44370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46530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84720" y="48690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875640" y="5866920"/>
            <a:ext cx="18874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6372000" y="5013000"/>
            <a:ext cx="50148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43400" y="29718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706920" y="3011400"/>
            <a:ext cx="644400" cy="561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38560" y="393372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38560" y="4149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38560" y="4365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38560" y="458136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38560" y="479736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3733560" y="3795840"/>
            <a:ext cx="406440" cy="20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727080" y="3898440"/>
            <a:ext cx="412920" cy="32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3733560" y="4025880"/>
            <a:ext cx="406440" cy="41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3733560" y="4222440"/>
            <a:ext cx="406440" cy="64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3733560" y="4127400"/>
            <a:ext cx="406440" cy="52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3860640"/>
            <a:ext cx="1447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0920" y="4149720"/>
            <a:ext cx="1447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50920" y="4437000"/>
            <a:ext cx="1447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195640" y="364464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195640" y="393192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195640" y="414792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714920" y="5790960"/>
            <a:ext cx="1838160" cy="1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4211280" y="4941360"/>
            <a:ext cx="50148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280" y="5791320"/>
            <a:ext cx="2403720" cy="1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532240" y="4365360"/>
            <a:ext cx="1247760" cy="143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2195280" y="4652640"/>
            <a:ext cx="360360" cy="115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1800" y="1066680"/>
            <a:ext cx="189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CI-Ex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yper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product figure"/>
          <p:cNvPicPr/>
          <p:nvPr/>
        </p:nvPicPr>
        <p:blipFill>
          <a:blip r:embed="rId1"/>
          <a:stretch/>
        </p:blipFill>
        <p:spPr>
          <a:xfrm>
            <a:off x="5724360" y="981000"/>
            <a:ext cx="2676600" cy="2028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5717520" y="29718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J04 S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0400" y="518148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fo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ment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92560" y="26668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82760" y="54864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49760" y="548640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304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I Model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nnector- Type C, PCB, Cable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008E2-36CE-4723-8A14-D14402E46C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957400" y="2944800"/>
            <a:ext cx="1081080" cy="144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10120" y="2944800"/>
            <a:ext cx="1081080" cy="144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94120" y="3376440"/>
            <a:ext cx="289080" cy="57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65760" y="3376440"/>
            <a:ext cx="289080" cy="57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83200" y="3448080"/>
            <a:ext cx="158256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462480" y="3448080"/>
            <a:ext cx="21564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70480" y="3448080"/>
            <a:ext cx="21600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30480" y="316080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30480" y="337644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30480" y="359244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30480" y="380844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30480" y="402444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24640" y="5032440"/>
            <a:ext cx="151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974840" y="3879720"/>
            <a:ext cx="647640" cy="115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4419720" y="2513160"/>
            <a:ext cx="1130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183200" y="2513160"/>
            <a:ext cx="574560" cy="86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57760" y="2513160"/>
            <a:ext cx="1008000" cy="86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12080" y="2286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V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988320" y="2584440"/>
            <a:ext cx="79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411960" y="2584440"/>
            <a:ext cx="57456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35520" y="2286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V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95560" y="2584440"/>
            <a:ext cx="79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86120" y="2584440"/>
            <a:ext cx="64440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606840" y="5029200"/>
            <a:ext cx="1879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3103200" y="4175280"/>
            <a:ext cx="501480" cy="86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5200" y="3022560"/>
            <a:ext cx="1511280" cy="122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1200" y="3238560"/>
            <a:ext cx="64764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19200" y="316692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19200" y="33829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19200" y="35989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19200" y="38149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19200" y="403056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62120" y="323856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62120" y="345456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62120" y="36702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62120" y="38862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62120" y="41022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1014480" y="5105160"/>
            <a:ext cx="18810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510840" y="4246200"/>
            <a:ext cx="50148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2680" y="2057400"/>
            <a:ext cx="312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3750840" y="2085840"/>
            <a:ext cx="358920" cy="144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65760" y="2085840"/>
            <a:ext cx="433440" cy="144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78120" y="3525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78120" y="3598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78120" y="36702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78120" y="3741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78120" y="3814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53040" y="3525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53040" y="3598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53040" y="36702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53040" y="3741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53040" y="3814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03920" y="3309840"/>
            <a:ext cx="14292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03920" y="3454560"/>
            <a:ext cx="14292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03920" y="3598920"/>
            <a:ext cx="14292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3920" y="3741840"/>
            <a:ext cx="14292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3920" y="3886200"/>
            <a:ext cx="14292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03920" y="4030560"/>
            <a:ext cx="14292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33526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848280" y="3352680"/>
            <a:ext cx="695160" cy="38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45200" y="22096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6600" y="175248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form measurement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468920" y="30481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91800" y="48006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39760" y="46483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le, FP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82720" y="47242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685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I Model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nnector, PCB, Cable, LVDS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E811-CDCA-403A-B2E2-22C67DB266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400800" y="4800600"/>
            <a:ext cx="1676520" cy="128268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1752480" y="1980720"/>
            <a:ext cx="3441960" cy="1153080"/>
            <a:chOff x="1752480" y="1980720"/>
            <a:chExt cx="3441960" cy="1153080"/>
          </a:xfrm>
        </p:grpSpPr>
        <p:grpSp>
          <p:nvGrpSpPr>
            <p:cNvPr id="448" name=""/>
            <p:cNvGrpSpPr/>
            <p:nvPr/>
          </p:nvGrpSpPr>
          <p:grpSpPr>
            <a:xfrm>
              <a:off x="1806840" y="1980720"/>
              <a:ext cx="3331800" cy="1153080"/>
              <a:chOff x="1806840" y="1980720"/>
              <a:chExt cx="3331800" cy="1153080"/>
            </a:xfrm>
          </p:grpSpPr>
          <p:sp>
            <p:nvSpPr>
              <p:cNvPr id="449" name=""/>
              <p:cNvSpPr/>
              <p:nvPr/>
            </p:nvSpPr>
            <p:spPr>
              <a:xfrm>
                <a:off x="5055480" y="27288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7" h="136">
                    <a:moveTo>
                      <a:pt x="137" y="72"/>
                    </a:moveTo>
                    <a:lnTo>
                      <a:pt x="137" y="93"/>
                    </a:lnTo>
                    <a:lnTo>
                      <a:pt x="123" y="108"/>
                    </a:lnTo>
                    <a:lnTo>
                      <a:pt x="108" y="122"/>
                    </a:lnTo>
                    <a:lnTo>
                      <a:pt x="94" y="136"/>
                    </a:lnTo>
                    <a:lnTo>
                      <a:pt x="72" y="136"/>
                    </a:lnTo>
                    <a:lnTo>
                      <a:pt x="51" y="136"/>
                    </a:lnTo>
                    <a:lnTo>
                      <a:pt x="29" y="122"/>
                    </a:lnTo>
                    <a:lnTo>
                      <a:pt x="15" y="108"/>
                    </a:lnTo>
                    <a:lnTo>
                      <a:pt x="7" y="93"/>
                    </a:lnTo>
                    <a:lnTo>
                      <a:pt x="0" y="72"/>
                    </a:lnTo>
                    <a:lnTo>
                      <a:pt x="7" y="50"/>
                    </a:lnTo>
                    <a:lnTo>
                      <a:pt x="15" y="28"/>
                    </a:lnTo>
                    <a:lnTo>
                      <a:pt x="29" y="14"/>
                    </a:lnTo>
                    <a:lnTo>
                      <a:pt x="51" y="7"/>
                    </a:lnTo>
                    <a:lnTo>
                      <a:pt x="72" y="0"/>
                    </a:lnTo>
                    <a:lnTo>
                      <a:pt x="94" y="7"/>
                    </a:lnTo>
                    <a:lnTo>
                      <a:pt x="108" y="14"/>
                    </a:lnTo>
                    <a:lnTo>
                      <a:pt x="123" y="28"/>
                    </a:lnTo>
                    <a:lnTo>
                      <a:pt x="137" y="50"/>
                    </a:lnTo>
                    <a:lnTo>
                      <a:pt x="137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79800" y="27288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136" y="72"/>
                    </a:moveTo>
                    <a:lnTo>
                      <a:pt x="129" y="93"/>
                    </a:lnTo>
                    <a:lnTo>
                      <a:pt x="122" y="108"/>
                    </a:lnTo>
                    <a:lnTo>
                      <a:pt x="108" y="122"/>
                    </a:lnTo>
                    <a:lnTo>
                      <a:pt x="86" y="136"/>
                    </a:lnTo>
                    <a:lnTo>
                      <a:pt x="64" y="136"/>
                    </a:lnTo>
                    <a:lnTo>
                      <a:pt x="43" y="136"/>
                    </a:lnTo>
                    <a:lnTo>
                      <a:pt x="28" y="122"/>
                    </a:lnTo>
                    <a:lnTo>
                      <a:pt x="7" y="108"/>
                    </a:lnTo>
                    <a:lnTo>
                      <a:pt x="0" y="93"/>
                    </a:lnTo>
                    <a:lnTo>
                      <a:pt x="0" y="72"/>
                    </a:lnTo>
                    <a:lnTo>
                      <a:pt x="0" y="50"/>
                    </a:lnTo>
                    <a:lnTo>
                      <a:pt x="7" y="28"/>
                    </a:lnTo>
                    <a:lnTo>
                      <a:pt x="28" y="14"/>
                    </a:lnTo>
                    <a:lnTo>
                      <a:pt x="43" y="7"/>
                    </a:lnTo>
                    <a:lnTo>
                      <a:pt x="64" y="0"/>
                    </a:lnTo>
                    <a:lnTo>
                      <a:pt x="86" y="7"/>
                    </a:lnTo>
                    <a:lnTo>
                      <a:pt x="108" y="14"/>
                    </a:lnTo>
                    <a:lnTo>
                      <a:pt x="122" y="28"/>
                    </a:lnTo>
                    <a:lnTo>
                      <a:pt x="129" y="50"/>
                    </a:lnTo>
                    <a:lnTo>
                      <a:pt x="136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79800" y="23623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6" h="137">
                    <a:moveTo>
                      <a:pt x="136" y="72"/>
                    </a:moveTo>
                    <a:lnTo>
                      <a:pt x="129" y="94"/>
                    </a:lnTo>
                    <a:lnTo>
                      <a:pt x="122" y="108"/>
                    </a:lnTo>
                    <a:lnTo>
                      <a:pt x="108" y="130"/>
                    </a:lnTo>
                    <a:lnTo>
                      <a:pt x="86" y="137"/>
                    </a:lnTo>
                    <a:lnTo>
                      <a:pt x="64" y="137"/>
                    </a:lnTo>
                    <a:lnTo>
                      <a:pt x="43" y="137"/>
                    </a:lnTo>
                    <a:lnTo>
                      <a:pt x="28" y="130"/>
                    </a:lnTo>
                    <a:lnTo>
                      <a:pt x="7" y="108"/>
                    </a:lnTo>
                    <a:lnTo>
                      <a:pt x="0" y="94"/>
                    </a:lnTo>
                    <a:lnTo>
                      <a:pt x="0" y="72"/>
                    </a:lnTo>
                    <a:lnTo>
                      <a:pt x="0" y="50"/>
                    </a:lnTo>
                    <a:lnTo>
                      <a:pt x="7" y="29"/>
                    </a:lnTo>
                    <a:lnTo>
                      <a:pt x="28" y="14"/>
                    </a:lnTo>
                    <a:lnTo>
                      <a:pt x="43" y="7"/>
                    </a:lnTo>
                    <a:lnTo>
                      <a:pt x="64" y="0"/>
                    </a:lnTo>
                    <a:lnTo>
                      <a:pt x="86" y="7"/>
                    </a:lnTo>
                    <a:lnTo>
                      <a:pt x="108" y="14"/>
                    </a:lnTo>
                    <a:lnTo>
                      <a:pt x="122" y="29"/>
                    </a:lnTo>
                    <a:lnTo>
                      <a:pt x="129" y="50"/>
                    </a:lnTo>
                    <a:lnTo>
                      <a:pt x="136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055480" y="23623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7" h="137">
                    <a:moveTo>
                      <a:pt x="137" y="72"/>
                    </a:moveTo>
                    <a:lnTo>
                      <a:pt x="137" y="94"/>
                    </a:lnTo>
                    <a:lnTo>
                      <a:pt x="123" y="108"/>
                    </a:lnTo>
                    <a:lnTo>
                      <a:pt x="108" y="130"/>
                    </a:lnTo>
                    <a:lnTo>
                      <a:pt x="94" y="137"/>
                    </a:lnTo>
                    <a:lnTo>
                      <a:pt x="72" y="137"/>
                    </a:lnTo>
                    <a:lnTo>
                      <a:pt x="51" y="137"/>
                    </a:lnTo>
                    <a:lnTo>
                      <a:pt x="29" y="130"/>
                    </a:lnTo>
                    <a:lnTo>
                      <a:pt x="15" y="108"/>
                    </a:lnTo>
                    <a:lnTo>
                      <a:pt x="7" y="94"/>
                    </a:lnTo>
                    <a:lnTo>
                      <a:pt x="0" y="72"/>
                    </a:lnTo>
                    <a:lnTo>
                      <a:pt x="7" y="50"/>
                    </a:lnTo>
                    <a:lnTo>
                      <a:pt x="15" y="29"/>
                    </a:lnTo>
                    <a:lnTo>
                      <a:pt x="29" y="14"/>
                    </a:lnTo>
                    <a:lnTo>
                      <a:pt x="51" y="7"/>
                    </a:lnTo>
                    <a:lnTo>
                      <a:pt x="72" y="0"/>
                    </a:lnTo>
                    <a:lnTo>
                      <a:pt x="94" y="7"/>
                    </a:lnTo>
                    <a:lnTo>
                      <a:pt x="108" y="14"/>
                    </a:lnTo>
                    <a:lnTo>
                      <a:pt x="123" y="29"/>
                    </a:lnTo>
                    <a:lnTo>
                      <a:pt x="137" y="50"/>
                    </a:lnTo>
                    <a:lnTo>
                      <a:pt x="137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07640" y="23623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7" h="137">
                    <a:moveTo>
                      <a:pt x="137" y="72"/>
                    </a:moveTo>
                    <a:lnTo>
                      <a:pt x="137" y="94"/>
                    </a:lnTo>
                    <a:lnTo>
                      <a:pt x="130" y="108"/>
                    </a:lnTo>
                    <a:lnTo>
                      <a:pt x="108" y="130"/>
                    </a:lnTo>
                    <a:lnTo>
                      <a:pt x="94" y="137"/>
                    </a:lnTo>
                    <a:lnTo>
                      <a:pt x="72" y="137"/>
                    </a:lnTo>
                    <a:lnTo>
                      <a:pt x="51" y="137"/>
                    </a:lnTo>
                    <a:lnTo>
                      <a:pt x="29" y="130"/>
                    </a:lnTo>
                    <a:lnTo>
                      <a:pt x="15" y="108"/>
                    </a:lnTo>
                    <a:lnTo>
                      <a:pt x="8" y="94"/>
                    </a:lnTo>
                    <a:lnTo>
                      <a:pt x="0" y="72"/>
                    </a:lnTo>
                    <a:lnTo>
                      <a:pt x="8" y="50"/>
                    </a:lnTo>
                    <a:lnTo>
                      <a:pt x="15" y="29"/>
                    </a:lnTo>
                    <a:lnTo>
                      <a:pt x="29" y="14"/>
                    </a:lnTo>
                    <a:lnTo>
                      <a:pt x="51" y="7"/>
                    </a:lnTo>
                    <a:lnTo>
                      <a:pt x="72" y="0"/>
                    </a:lnTo>
                    <a:lnTo>
                      <a:pt x="94" y="7"/>
                    </a:lnTo>
                    <a:lnTo>
                      <a:pt x="108" y="14"/>
                    </a:lnTo>
                    <a:lnTo>
                      <a:pt x="130" y="29"/>
                    </a:lnTo>
                    <a:lnTo>
                      <a:pt x="137" y="50"/>
                    </a:lnTo>
                    <a:lnTo>
                      <a:pt x="137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07640" y="27288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7" h="136">
                    <a:moveTo>
                      <a:pt x="137" y="72"/>
                    </a:moveTo>
                    <a:lnTo>
                      <a:pt x="137" y="93"/>
                    </a:lnTo>
                    <a:lnTo>
                      <a:pt x="130" y="108"/>
                    </a:lnTo>
                    <a:lnTo>
                      <a:pt x="108" y="122"/>
                    </a:lnTo>
                    <a:lnTo>
                      <a:pt x="94" y="136"/>
                    </a:lnTo>
                    <a:lnTo>
                      <a:pt x="72" y="136"/>
                    </a:lnTo>
                    <a:lnTo>
                      <a:pt x="51" y="136"/>
                    </a:lnTo>
                    <a:lnTo>
                      <a:pt x="29" y="122"/>
                    </a:lnTo>
                    <a:lnTo>
                      <a:pt x="15" y="108"/>
                    </a:lnTo>
                    <a:lnTo>
                      <a:pt x="8" y="93"/>
                    </a:lnTo>
                    <a:lnTo>
                      <a:pt x="0" y="72"/>
                    </a:lnTo>
                    <a:lnTo>
                      <a:pt x="8" y="50"/>
                    </a:lnTo>
                    <a:lnTo>
                      <a:pt x="15" y="28"/>
                    </a:lnTo>
                    <a:lnTo>
                      <a:pt x="29" y="14"/>
                    </a:lnTo>
                    <a:lnTo>
                      <a:pt x="51" y="7"/>
                    </a:lnTo>
                    <a:lnTo>
                      <a:pt x="72" y="0"/>
                    </a:lnTo>
                    <a:lnTo>
                      <a:pt x="94" y="7"/>
                    </a:lnTo>
                    <a:lnTo>
                      <a:pt x="108" y="14"/>
                    </a:lnTo>
                    <a:lnTo>
                      <a:pt x="130" y="28"/>
                    </a:lnTo>
                    <a:lnTo>
                      <a:pt x="137" y="50"/>
                    </a:lnTo>
                    <a:lnTo>
                      <a:pt x="137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884760" y="23623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7" h="137">
                    <a:moveTo>
                      <a:pt x="137" y="72"/>
                    </a:moveTo>
                    <a:lnTo>
                      <a:pt x="130" y="94"/>
                    </a:lnTo>
                    <a:lnTo>
                      <a:pt x="123" y="108"/>
                    </a:lnTo>
                    <a:lnTo>
                      <a:pt x="108" y="130"/>
                    </a:lnTo>
                    <a:lnTo>
                      <a:pt x="87" y="137"/>
                    </a:lnTo>
                    <a:lnTo>
                      <a:pt x="65" y="137"/>
                    </a:lnTo>
                    <a:lnTo>
                      <a:pt x="43" y="137"/>
                    </a:lnTo>
                    <a:lnTo>
                      <a:pt x="29" y="130"/>
                    </a:lnTo>
                    <a:lnTo>
                      <a:pt x="15" y="108"/>
                    </a:lnTo>
                    <a:lnTo>
                      <a:pt x="0" y="94"/>
                    </a:lnTo>
                    <a:lnTo>
                      <a:pt x="0" y="72"/>
                    </a:lnTo>
                    <a:lnTo>
                      <a:pt x="0" y="50"/>
                    </a:lnTo>
                    <a:lnTo>
                      <a:pt x="15" y="29"/>
                    </a:lnTo>
                    <a:lnTo>
                      <a:pt x="29" y="14"/>
                    </a:lnTo>
                    <a:lnTo>
                      <a:pt x="43" y="7"/>
                    </a:lnTo>
                    <a:lnTo>
                      <a:pt x="65" y="0"/>
                    </a:lnTo>
                    <a:lnTo>
                      <a:pt x="87" y="7"/>
                    </a:lnTo>
                    <a:lnTo>
                      <a:pt x="108" y="14"/>
                    </a:lnTo>
                    <a:lnTo>
                      <a:pt x="123" y="29"/>
                    </a:lnTo>
                    <a:lnTo>
                      <a:pt x="130" y="50"/>
                    </a:lnTo>
                    <a:lnTo>
                      <a:pt x="137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884760" y="27288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7" h="136">
                    <a:moveTo>
                      <a:pt x="137" y="72"/>
                    </a:moveTo>
                    <a:lnTo>
                      <a:pt x="130" y="93"/>
                    </a:lnTo>
                    <a:lnTo>
                      <a:pt x="123" y="108"/>
                    </a:lnTo>
                    <a:lnTo>
                      <a:pt x="108" y="122"/>
                    </a:lnTo>
                    <a:lnTo>
                      <a:pt x="87" y="136"/>
                    </a:lnTo>
                    <a:lnTo>
                      <a:pt x="65" y="136"/>
                    </a:lnTo>
                    <a:lnTo>
                      <a:pt x="43" y="136"/>
                    </a:lnTo>
                    <a:lnTo>
                      <a:pt x="29" y="122"/>
                    </a:lnTo>
                    <a:lnTo>
                      <a:pt x="15" y="108"/>
                    </a:lnTo>
                    <a:lnTo>
                      <a:pt x="0" y="93"/>
                    </a:lnTo>
                    <a:lnTo>
                      <a:pt x="0" y="72"/>
                    </a:lnTo>
                    <a:lnTo>
                      <a:pt x="0" y="50"/>
                    </a:lnTo>
                    <a:lnTo>
                      <a:pt x="15" y="28"/>
                    </a:lnTo>
                    <a:lnTo>
                      <a:pt x="29" y="14"/>
                    </a:lnTo>
                    <a:lnTo>
                      <a:pt x="43" y="7"/>
                    </a:lnTo>
                    <a:lnTo>
                      <a:pt x="65" y="0"/>
                    </a:lnTo>
                    <a:lnTo>
                      <a:pt x="87" y="7"/>
                    </a:lnTo>
                    <a:lnTo>
                      <a:pt x="108" y="14"/>
                    </a:lnTo>
                    <a:lnTo>
                      <a:pt x="123" y="28"/>
                    </a:lnTo>
                    <a:lnTo>
                      <a:pt x="130" y="50"/>
                    </a:lnTo>
                    <a:lnTo>
                      <a:pt x="137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804040" y="27288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7" h="136">
                    <a:moveTo>
                      <a:pt x="137" y="72"/>
                    </a:moveTo>
                    <a:lnTo>
                      <a:pt x="130" y="93"/>
                    </a:lnTo>
                    <a:lnTo>
                      <a:pt x="123" y="108"/>
                    </a:lnTo>
                    <a:lnTo>
                      <a:pt x="108" y="122"/>
                    </a:lnTo>
                    <a:lnTo>
                      <a:pt x="87" y="136"/>
                    </a:lnTo>
                    <a:lnTo>
                      <a:pt x="65" y="136"/>
                    </a:lnTo>
                    <a:lnTo>
                      <a:pt x="44" y="136"/>
                    </a:lnTo>
                    <a:lnTo>
                      <a:pt x="29" y="122"/>
                    </a:lnTo>
                    <a:lnTo>
                      <a:pt x="15" y="108"/>
                    </a:lnTo>
                    <a:lnTo>
                      <a:pt x="0" y="93"/>
                    </a:lnTo>
                    <a:lnTo>
                      <a:pt x="0" y="72"/>
                    </a:lnTo>
                    <a:lnTo>
                      <a:pt x="0" y="50"/>
                    </a:lnTo>
                    <a:lnTo>
                      <a:pt x="15" y="28"/>
                    </a:lnTo>
                    <a:lnTo>
                      <a:pt x="29" y="14"/>
                    </a:lnTo>
                    <a:lnTo>
                      <a:pt x="44" y="7"/>
                    </a:lnTo>
                    <a:lnTo>
                      <a:pt x="65" y="0"/>
                    </a:lnTo>
                    <a:lnTo>
                      <a:pt x="87" y="7"/>
                    </a:lnTo>
                    <a:lnTo>
                      <a:pt x="108" y="14"/>
                    </a:lnTo>
                    <a:lnTo>
                      <a:pt x="123" y="28"/>
                    </a:lnTo>
                    <a:lnTo>
                      <a:pt x="130" y="50"/>
                    </a:lnTo>
                    <a:lnTo>
                      <a:pt x="137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04040" y="23623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7" h="137">
                    <a:moveTo>
                      <a:pt x="137" y="72"/>
                    </a:moveTo>
                    <a:lnTo>
                      <a:pt x="130" y="94"/>
                    </a:lnTo>
                    <a:lnTo>
                      <a:pt x="123" y="108"/>
                    </a:lnTo>
                    <a:lnTo>
                      <a:pt x="108" y="130"/>
                    </a:lnTo>
                    <a:lnTo>
                      <a:pt x="87" y="137"/>
                    </a:lnTo>
                    <a:lnTo>
                      <a:pt x="65" y="137"/>
                    </a:lnTo>
                    <a:lnTo>
                      <a:pt x="44" y="137"/>
                    </a:lnTo>
                    <a:lnTo>
                      <a:pt x="29" y="130"/>
                    </a:lnTo>
                    <a:lnTo>
                      <a:pt x="15" y="108"/>
                    </a:lnTo>
                    <a:lnTo>
                      <a:pt x="0" y="94"/>
                    </a:lnTo>
                    <a:lnTo>
                      <a:pt x="0" y="72"/>
                    </a:lnTo>
                    <a:lnTo>
                      <a:pt x="0" y="50"/>
                    </a:lnTo>
                    <a:lnTo>
                      <a:pt x="15" y="29"/>
                    </a:lnTo>
                    <a:lnTo>
                      <a:pt x="29" y="14"/>
                    </a:lnTo>
                    <a:lnTo>
                      <a:pt x="44" y="7"/>
                    </a:lnTo>
                    <a:lnTo>
                      <a:pt x="65" y="0"/>
                    </a:lnTo>
                    <a:lnTo>
                      <a:pt x="87" y="7"/>
                    </a:lnTo>
                    <a:lnTo>
                      <a:pt x="108" y="14"/>
                    </a:lnTo>
                    <a:lnTo>
                      <a:pt x="123" y="29"/>
                    </a:lnTo>
                    <a:lnTo>
                      <a:pt x="130" y="50"/>
                    </a:lnTo>
                    <a:lnTo>
                      <a:pt x="137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627280" y="27288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4" h="136">
                    <a:moveTo>
                      <a:pt x="144" y="72"/>
                    </a:moveTo>
                    <a:lnTo>
                      <a:pt x="136" y="93"/>
                    </a:lnTo>
                    <a:lnTo>
                      <a:pt x="129" y="108"/>
                    </a:lnTo>
                    <a:lnTo>
                      <a:pt x="115" y="122"/>
                    </a:lnTo>
                    <a:lnTo>
                      <a:pt x="93" y="136"/>
                    </a:lnTo>
                    <a:lnTo>
                      <a:pt x="72" y="136"/>
                    </a:lnTo>
                    <a:lnTo>
                      <a:pt x="50" y="136"/>
                    </a:lnTo>
                    <a:lnTo>
                      <a:pt x="28" y="122"/>
                    </a:lnTo>
                    <a:lnTo>
                      <a:pt x="14" y="108"/>
                    </a:lnTo>
                    <a:lnTo>
                      <a:pt x="7" y="93"/>
                    </a:lnTo>
                    <a:lnTo>
                      <a:pt x="0" y="72"/>
                    </a:lnTo>
                    <a:lnTo>
                      <a:pt x="7" y="50"/>
                    </a:lnTo>
                    <a:lnTo>
                      <a:pt x="14" y="28"/>
                    </a:lnTo>
                    <a:lnTo>
                      <a:pt x="28" y="14"/>
                    </a:lnTo>
                    <a:lnTo>
                      <a:pt x="50" y="7"/>
                    </a:lnTo>
                    <a:lnTo>
                      <a:pt x="72" y="0"/>
                    </a:lnTo>
                    <a:lnTo>
                      <a:pt x="93" y="7"/>
                    </a:lnTo>
                    <a:lnTo>
                      <a:pt x="115" y="14"/>
                    </a:lnTo>
                    <a:lnTo>
                      <a:pt x="129" y="28"/>
                    </a:lnTo>
                    <a:lnTo>
                      <a:pt x="136" y="50"/>
                    </a:lnTo>
                    <a:lnTo>
                      <a:pt x="144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27280" y="2362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4" h="137">
                    <a:moveTo>
                      <a:pt x="144" y="72"/>
                    </a:moveTo>
                    <a:lnTo>
                      <a:pt x="136" y="94"/>
                    </a:lnTo>
                    <a:lnTo>
                      <a:pt x="129" y="108"/>
                    </a:lnTo>
                    <a:lnTo>
                      <a:pt x="115" y="130"/>
                    </a:lnTo>
                    <a:lnTo>
                      <a:pt x="93" y="137"/>
                    </a:lnTo>
                    <a:lnTo>
                      <a:pt x="72" y="137"/>
                    </a:lnTo>
                    <a:lnTo>
                      <a:pt x="50" y="137"/>
                    </a:lnTo>
                    <a:lnTo>
                      <a:pt x="28" y="130"/>
                    </a:lnTo>
                    <a:lnTo>
                      <a:pt x="14" y="108"/>
                    </a:lnTo>
                    <a:lnTo>
                      <a:pt x="7" y="94"/>
                    </a:lnTo>
                    <a:lnTo>
                      <a:pt x="0" y="72"/>
                    </a:lnTo>
                    <a:lnTo>
                      <a:pt x="7" y="50"/>
                    </a:lnTo>
                    <a:lnTo>
                      <a:pt x="14" y="29"/>
                    </a:lnTo>
                    <a:lnTo>
                      <a:pt x="28" y="14"/>
                    </a:lnTo>
                    <a:lnTo>
                      <a:pt x="50" y="7"/>
                    </a:lnTo>
                    <a:lnTo>
                      <a:pt x="72" y="0"/>
                    </a:lnTo>
                    <a:lnTo>
                      <a:pt x="93" y="7"/>
                    </a:lnTo>
                    <a:lnTo>
                      <a:pt x="115" y="14"/>
                    </a:lnTo>
                    <a:lnTo>
                      <a:pt x="129" y="29"/>
                    </a:lnTo>
                    <a:lnTo>
                      <a:pt x="136" y="50"/>
                    </a:lnTo>
                    <a:lnTo>
                      <a:pt x="144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097520" y="2740320"/>
                <a:ext cx="698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2651040" y="2374200"/>
                <a:ext cx="236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890240" y="2374200"/>
                <a:ext cx="0" cy="175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90240" y="256932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890240" y="255024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4890240" y="256932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4861800" y="2550240"/>
                <a:ext cx="28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61800" y="2569320"/>
                <a:ext cx="28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flipV="1">
                <a:off x="5032800" y="198072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46120" y="1981080"/>
                <a:ext cx="1620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 flipV="1">
                <a:off x="5060160" y="198072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74560" y="198108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5038560" y="2008080"/>
                <a:ext cx="558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67360" y="2294640"/>
                <a:ext cx="0" cy="79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5067360" y="2008080"/>
                <a:ext cx="0" cy="95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5067360" y="2278080"/>
                <a:ext cx="27360" cy="16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5038920" y="2102400"/>
                <a:ext cx="55800" cy="174600"/>
              </a:xfrm>
              <a:custGeom>
                <a:avLst/>
                <a:gdLst/>
                <a:ahLst/>
                <a:rect l="l" t="t" r="r" b="b"/>
                <a:pathLst>
                  <a:path w="47" h="147">
                    <a:moveTo>
                      <a:pt x="47" y="0"/>
                    </a:moveTo>
                    <a:lnTo>
                      <a:pt x="0" y="26"/>
                    </a:lnTo>
                    <a:lnTo>
                      <a:pt x="47" y="53"/>
                    </a:lnTo>
                    <a:lnTo>
                      <a:pt x="0" y="80"/>
                    </a:lnTo>
                    <a:lnTo>
                      <a:pt x="47" y="107"/>
                    </a:lnTo>
                    <a:lnTo>
                      <a:pt x="0" y="133"/>
                    </a:lnTo>
                    <a:lnTo>
                      <a:pt x="24" y="14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4855680" y="1980720"/>
                <a:ext cx="1620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870080" y="198108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4884120" y="198072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897440" y="1981080"/>
                <a:ext cx="1620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4862880" y="2008080"/>
                <a:ext cx="54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90240" y="220320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890240" y="218520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4890240" y="2008080"/>
                <a:ext cx="0" cy="17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890240" y="220320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4861800" y="2185200"/>
                <a:ext cx="28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61800" y="2203200"/>
                <a:ext cx="28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725360" y="2374200"/>
                <a:ext cx="413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4419720" y="2374200"/>
                <a:ext cx="113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08440" y="2346840"/>
                <a:ext cx="1656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4533840" y="2346840"/>
                <a:ext cx="174600" cy="54720"/>
              </a:xfrm>
              <a:custGeom>
                <a:avLst/>
                <a:gdLst/>
                <a:ahLst/>
                <a:rect l="l" t="t" r="r" b="b"/>
                <a:pathLst>
                  <a:path w="147" h="46">
                    <a:moveTo>
                      <a:pt x="147" y="46"/>
                    </a:moveTo>
                    <a:lnTo>
                      <a:pt x="121" y="0"/>
                    </a:lnTo>
                    <a:lnTo>
                      <a:pt x="94" y="46"/>
                    </a:lnTo>
                    <a:lnTo>
                      <a:pt x="67" y="0"/>
                    </a:lnTo>
                    <a:lnTo>
                      <a:pt x="40" y="46"/>
                    </a:lnTo>
                    <a:lnTo>
                      <a:pt x="14" y="0"/>
                    </a:lnTo>
                    <a:lnTo>
                      <a:pt x="0" y="2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4019040" y="2374200"/>
                <a:ext cx="148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503280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5046120" y="3106440"/>
                <a:ext cx="1620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506016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507456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5038560" y="3106440"/>
                <a:ext cx="558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5067360" y="2739960"/>
                <a:ext cx="0" cy="79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067360" y="3010320"/>
                <a:ext cx="0" cy="96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 flipV="1">
                <a:off x="5067360" y="2819880"/>
                <a:ext cx="27360" cy="15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5038920" y="2835000"/>
                <a:ext cx="55800" cy="174600"/>
              </a:xfrm>
              <a:custGeom>
                <a:avLst/>
                <a:gdLst/>
                <a:ahLst/>
                <a:rect l="l" t="t" r="r" b="b"/>
                <a:pathLst>
                  <a:path w="47" h="147">
                    <a:moveTo>
                      <a:pt x="47" y="147"/>
                    </a:moveTo>
                    <a:lnTo>
                      <a:pt x="0" y="120"/>
                    </a:lnTo>
                    <a:lnTo>
                      <a:pt x="47" y="93"/>
                    </a:lnTo>
                    <a:lnTo>
                      <a:pt x="0" y="67"/>
                    </a:lnTo>
                    <a:lnTo>
                      <a:pt x="47" y="40"/>
                    </a:lnTo>
                    <a:lnTo>
                      <a:pt x="0" y="13"/>
                    </a:lnTo>
                    <a:lnTo>
                      <a:pt x="2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4855680" y="3106440"/>
                <a:ext cx="1620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487008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488412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4897440" y="3106440"/>
                <a:ext cx="1620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4862880" y="3106440"/>
                <a:ext cx="54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4890240" y="273996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90240" y="292932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90240" y="2929320"/>
                <a:ext cx="0" cy="17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90240" y="291168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4861800" y="2929320"/>
                <a:ext cx="28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861800" y="2911680"/>
                <a:ext cx="28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25360" y="2740320"/>
                <a:ext cx="413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4419720" y="2740320"/>
                <a:ext cx="113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4708440" y="2739960"/>
                <a:ext cx="165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4533840" y="2711160"/>
                <a:ext cx="174600" cy="5580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47" y="0"/>
                    </a:moveTo>
                    <a:lnTo>
                      <a:pt x="121" y="47"/>
                    </a:lnTo>
                    <a:lnTo>
                      <a:pt x="94" y="0"/>
                    </a:lnTo>
                    <a:lnTo>
                      <a:pt x="67" y="47"/>
                    </a:lnTo>
                    <a:lnTo>
                      <a:pt x="40" y="0"/>
                    </a:lnTo>
                    <a:lnTo>
                      <a:pt x="14" y="47"/>
                    </a:lnTo>
                    <a:lnTo>
                      <a:pt x="0" y="2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719520" y="2374200"/>
                <a:ext cx="0" cy="175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719520" y="256932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719520" y="2550240"/>
                <a:ext cx="28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3719160" y="2569320"/>
                <a:ext cx="28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3689640" y="255024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689640" y="256932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 flipV="1">
                <a:off x="3861720" y="198072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875400" y="1981080"/>
                <a:ext cx="1512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 flipV="1">
                <a:off x="3889080" y="198072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902400" y="1981080"/>
                <a:ext cx="165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3868200" y="2008080"/>
                <a:ext cx="547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895560" y="2294640"/>
                <a:ext cx="0" cy="79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3895560" y="2008080"/>
                <a:ext cx="0" cy="95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3895560" y="2278080"/>
                <a:ext cx="27360" cy="16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3868200" y="2102400"/>
                <a:ext cx="54720" cy="174600"/>
              </a:xfrm>
              <a:custGeom>
                <a:avLst/>
                <a:gdLst/>
                <a:ahLst/>
                <a:rect l="l" t="t" r="r" b="b"/>
                <a:pathLst>
                  <a:path w="46" h="147">
                    <a:moveTo>
                      <a:pt x="46" y="0"/>
                    </a:moveTo>
                    <a:lnTo>
                      <a:pt x="0" y="26"/>
                    </a:lnTo>
                    <a:lnTo>
                      <a:pt x="46" y="53"/>
                    </a:lnTo>
                    <a:lnTo>
                      <a:pt x="0" y="80"/>
                    </a:lnTo>
                    <a:lnTo>
                      <a:pt x="46" y="107"/>
                    </a:lnTo>
                    <a:lnTo>
                      <a:pt x="0" y="133"/>
                    </a:lnTo>
                    <a:lnTo>
                      <a:pt x="23" y="14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>
                <a:off x="3685320" y="1980720"/>
                <a:ext cx="1512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699360" y="198108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>
                <a:off x="3712320" y="1980720"/>
                <a:ext cx="165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726720" y="1981080"/>
                <a:ext cx="1512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691800" y="2008080"/>
                <a:ext cx="54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719520" y="220320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19520" y="2185200"/>
                <a:ext cx="28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3719520" y="2008080"/>
                <a:ext cx="0" cy="17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719520" y="2203200"/>
                <a:ext cx="28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3689640" y="218520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689640" y="220320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553200" y="2374200"/>
                <a:ext cx="4147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3248640" y="2374200"/>
                <a:ext cx="113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537720" y="2346840"/>
                <a:ext cx="1512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3362760" y="2346840"/>
                <a:ext cx="174600" cy="54720"/>
              </a:xfrm>
              <a:custGeom>
                <a:avLst/>
                <a:gdLst/>
                <a:ahLst/>
                <a:rect l="l" t="t" r="r" b="b"/>
                <a:pathLst>
                  <a:path w="147" h="46">
                    <a:moveTo>
                      <a:pt x="147" y="46"/>
                    </a:moveTo>
                    <a:lnTo>
                      <a:pt x="120" y="0"/>
                    </a:lnTo>
                    <a:lnTo>
                      <a:pt x="94" y="46"/>
                    </a:lnTo>
                    <a:lnTo>
                      <a:pt x="67" y="0"/>
                    </a:lnTo>
                    <a:lnTo>
                      <a:pt x="40" y="46"/>
                    </a:lnTo>
                    <a:lnTo>
                      <a:pt x="13" y="0"/>
                    </a:lnTo>
                    <a:lnTo>
                      <a:pt x="0" y="2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2887560" y="2374200"/>
                <a:ext cx="109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386172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3875400" y="3106440"/>
                <a:ext cx="1512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388908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902400" y="3106440"/>
                <a:ext cx="1656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3868200" y="3106440"/>
                <a:ext cx="547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3895560" y="2739960"/>
                <a:ext cx="0" cy="79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895560" y="3010320"/>
                <a:ext cx="0" cy="96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 flipV="1">
                <a:off x="3895560" y="2819880"/>
                <a:ext cx="27360" cy="15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3868200" y="2835000"/>
                <a:ext cx="54720" cy="174600"/>
              </a:xfrm>
              <a:custGeom>
                <a:avLst/>
                <a:gdLst/>
                <a:ahLst/>
                <a:rect l="l" t="t" r="r" b="b"/>
                <a:pathLst>
                  <a:path w="46" h="147">
                    <a:moveTo>
                      <a:pt x="46" y="147"/>
                    </a:moveTo>
                    <a:lnTo>
                      <a:pt x="0" y="120"/>
                    </a:lnTo>
                    <a:lnTo>
                      <a:pt x="46" y="93"/>
                    </a:lnTo>
                    <a:lnTo>
                      <a:pt x="0" y="67"/>
                    </a:lnTo>
                    <a:lnTo>
                      <a:pt x="46" y="40"/>
                    </a:lnTo>
                    <a:lnTo>
                      <a:pt x="0" y="13"/>
                    </a:lnTo>
                    <a:lnTo>
                      <a:pt x="2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3685320" y="3106440"/>
                <a:ext cx="1512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369936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3712320" y="3106440"/>
                <a:ext cx="1656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3726720" y="3106440"/>
                <a:ext cx="1512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3691800" y="3106440"/>
                <a:ext cx="54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3719520" y="273996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719520" y="2929320"/>
                <a:ext cx="28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719520" y="2929320"/>
                <a:ext cx="0" cy="17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19520" y="2911680"/>
                <a:ext cx="28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3689640" y="292932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89640" y="291168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553200" y="274032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3248640" y="2740320"/>
                <a:ext cx="113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3537720" y="2739960"/>
                <a:ext cx="1512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3362760" y="2711160"/>
                <a:ext cx="174600" cy="5580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47" y="0"/>
                    </a:moveTo>
                    <a:lnTo>
                      <a:pt x="120" y="47"/>
                    </a:lnTo>
                    <a:lnTo>
                      <a:pt x="94" y="0"/>
                    </a:lnTo>
                    <a:lnTo>
                      <a:pt x="67" y="47"/>
                    </a:lnTo>
                    <a:lnTo>
                      <a:pt x="40" y="0"/>
                    </a:lnTo>
                    <a:lnTo>
                      <a:pt x="13" y="47"/>
                    </a:lnTo>
                    <a:lnTo>
                      <a:pt x="0" y="2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2887560" y="2740320"/>
                <a:ext cx="109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2639160" y="2374200"/>
                <a:ext cx="0" cy="175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639160" y="256932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639160" y="255024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639160" y="256932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2609280" y="255024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609280" y="256932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>
                <a:off x="2781720" y="1980720"/>
                <a:ext cx="1512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794680" y="1981080"/>
                <a:ext cx="165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 flipV="1">
                <a:off x="2808720" y="198072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822040" y="1981080"/>
                <a:ext cx="165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787840" y="2008080"/>
                <a:ext cx="55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814840" y="2294640"/>
                <a:ext cx="0" cy="79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814840" y="2008080"/>
                <a:ext cx="0" cy="95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814480" y="2278080"/>
                <a:ext cx="28440" cy="16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2787840" y="2102400"/>
                <a:ext cx="55440" cy="174600"/>
              </a:xfrm>
              <a:custGeom>
                <a:avLst/>
                <a:gdLst/>
                <a:ahLst/>
                <a:rect l="l" t="t" r="r" b="b"/>
                <a:pathLst>
                  <a:path w="47" h="147">
                    <a:moveTo>
                      <a:pt x="47" y="0"/>
                    </a:moveTo>
                    <a:lnTo>
                      <a:pt x="0" y="26"/>
                    </a:lnTo>
                    <a:lnTo>
                      <a:pt x="47" y="53"/>
                    </a:lnTo>
                    <a:lnTo>
                      <a:pt x="0" y="80"/>
                    </a:lnTo>
                    <a:lnTo>
                      <a:pt x="47" y="107"/>
                    </a:lnTo>
                    <a:lnTo>
                      <a:pt x="0" y="133"/>
                    </a:lnTo>
                    <a:lnTo>
                      <a:pt x="23" y="14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flipV="1">
                <a:off x="2604600" y="1980720"/>
                <a:ext cx="165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98108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 flipV="1">
                <a:off x="2631960" y="1980720"/>
                <a:ext cx="165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646000" y="1981080"/>
                <a:ext cx="1512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2611440" y="2008080"/>
                <a:ext cx="54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639160" y="220320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639160" y="218520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2639160" y="2008080"/>
                <a:ext cx="0" cy="17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639160" y="220320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2609280" y="218520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609280" y="220320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2473920" y="2374200"/>
                <a:ext cx="177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2167920" y="2374200"/>
                <a:ext cx="114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457000" y="2346840"/>
                <a:ext cx="1656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2282400" y="2346840"/>
                <a:ext cx="174600" cy="54720"/>
              </a:xfrm>
              <a:custGeom>
                <a:avLst/>
                <a:gdLst/>
                <a:ahLst/>
                <a:rect l="l" t="t" r="r" b="b"/>
                <a:pathLst>
                  <a:path w="147" h="46">
                    <a:moveTo>
                      <a:pt x="147" y="46"/>
                    </a:moveTo>
                    <a:lnTo>
                      <a:pt x="120" y="0"/>
                    </a:lnTo>
                    <a:lnTo>
                      <a:pt x="94" y="46"/>
                    </a:lnTo>
                    <a:lnTo>
                      <a:pt x="67" y="0"/>
                    </a:lnTo>
                    <a:lnTo>
                      <a:pt x="40" y="46"/>
                    </a:lnTo>
                    <a:lnTo>
                      <a:pt x="13" y="0"/>
                    </a:lnTo>
                    <a:lnTo>
                      <a:pt x="0" y="2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1806840" y="2374200"/>
                <a:ext cx="109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2781720" y="3106440"/>
                <a:ext cx="1512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2794680" y="3106440"/>
                <a:ext cx="1656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80872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822040" y="3106440"/>
                <a:ext cx="1656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2787840" y="3106440"/>
                <a:ext cx="55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2814840" y="2739960"/>
                <a:ext cx="0" cy="79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14840" y="3010320"/>
                <a:ext cx="0" cy="96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2814480" y="2819880"/>
                <a:ext cx="28440" cy="15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2787840" y="2835000"/>
                <a:ext cx="55440" cy="174600"/>
              </a:xfrm>
              <a:custGeom>
                <a:avLst/>
                <a:gdLst/>
                <a:ahLst/>
                <a:rect l="l" t="t" r="r" b="b"/>
                <a:pathLst>
                  <a:path w="47" h="147">
                    <a:moveTo>
                      <a:pt x="47" y="147"/>
                    </a:moveTo>
                    <a:lnTo>
                      <a:pt x="0" y="120"/>
                    </a:lnTo>
                    <a:lnTo>
                      <a:pt x="47" y="93"/>
                    </a:lnTo>
                    <a:lnTo>
                      <a:pt x="0" y="67"/>
                    </a:lnTo>
                    <a:lnTo>
                      <a:pt x="47" y="40"/>
                    </a:lnTo>
                    <a:lnTo>
                      <a:pt x="0" y="13"/>
                    </a:lnTo>
                    <a:lnTo>
                      <a:pt x="2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2604600" y="3106440"/>
                <a:ext cx="1656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261864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2631960" y="3106440"/>
                <a:ext cx="1656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2646000" y="3106440"/>
                <a:ext cx="1512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2611440" y="3106440"/>
                <a:ext cx="54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639160" y="273996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639160" y="292932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639160" y="2929320"/>
                <a:ext cx="0" cy="17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639160" y="291168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2609280" y="292932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609280" y="291168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73920" y="2740320"/>
                <a:ext cx="413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2167920" y="2740320"/>
                <a:ext cx="114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2457000" y="2739960"/>
                <a:ext cx="165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2282400" y="2711160"/>
                <a:ext cx="174600" cy="5580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47" y="0"/>
                    </a:moveTo>
                    <a:lnTo>
                      <a:pt x="120" y="47"/>
                    </a:lnTo>
                    <a:lnTo>
                      <a:pt x="94" y="0"/>
                    </a:lnTo>
                    <a:lnTo>
                      <a:pt x="67" y="47"/>
                    </a:lnTo>
                    <a:lnTo>
                      <a:pt x="40" y="0"/>
                    </a:lnTo>
                    <a:lnTo>
                      <a:pt x="13" y="47"/>
                    </a:lnTo>
                    <a:lnTo>
                      <a:pt x="0" y="2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1806840" y="2740320"/>
                <a:ext cx="109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167720" y="2338560"/>
                <a:ext cx="90000" cy="79200"/>
              </a:xfrm>
              <a:custGeom>
                <a:avLst/>
                <a:gdLst/>
                <a:ahLst/>
                <a:rect l="l" t="t" r="r" b="b"/>
                <a:pathLst>
                  <a:path w="547" h="482">
                    <a:moveTo>
                      <a:pt x="0" y="216"/>
                    </a:moveTo>
                    <a:lnTo>
                      <a:pt x="14" y="302"/>
                    </a:lnTo>
                    <a:lnTo>
                      <a:pt x="65" y="389"/>
                    </a:lnTo>
                    <a:lnTo>
                      <a:pt x="144" y="454"/>
                    </a:lnTo>
                    <a:lnTo>
                      <a:pt x="230" y="482"/>
                    </a:lnTo>
                    <a:lnTo>
                      <a:pt x="317" y="482"/>
                    </a:lnTo>
                    <a:lnTo>
                      <a:pt x="403" y="454"/>
                    </a:lnTo>
                    <a:lnTo>
                      <a:pt x="482" y="389"/>
                    </a:lnTo>
                    <a:lnTo>
                      <a:pt x="533" y="302"/>
                    </a:lnTo>
                    <a:lnTo>
                      <a:pt x="547" y="216"/>
                    </a:lnTo>
                    <a:lnTo>
                      <a:pt x="533" y="130"/>
                    </a:lnTo>
                    <a:lnTo>
                      <a:pt x="482" y="43"/>
                    </a:lnTo>
                    <a:lnTo>
                      <a:pt x="43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221360" y="2338560"/>
                <a:ext cx="17640" cy="35640"/>
              </a:xfrm>
              <a:custGeom>
                <a:avLst/>
                <a:gdLst/>
                <a:ahLst/>
                <a:rect l="l" t="t" r="r" b="b"/>
                <a:pathLst>
                  <a:path w="108" h="216">
                    <a:moveTo>
                      <a:pt x="108" y="0"/>
                    </a:moveTo>
                    <a:lnTo>
                      <a:pt x="36" y="79"/>
                    </a:lnTo>
                    <a:lnTo>
                      <a:pt x="7" y="166"/>
                    </a:lnTo>
                    <a:lnTo>
                      <a:pt x="0" y="21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221360" y="2338560"/>
                <a:ext cx="90000" cy="79200"/>
              </a:xfrm>
              <a:custGeom>
                <a:avLst/>
                <a:gdLst/>
                <a:ahLst/>
                <a:rect l="l" t="t" r="r" b="b"/>
                <a:pathLst>
                  <a:path w="547" h="482">
                    <a:moveTo>
                      <a:pt x="0" y="216"/>
                    </a:moveTo>
                    <a:lnTo>
                      <a:pt x="14" y="302"/>
                    </a:lnTo>
                    <a:lnTo>
                      <a:pt x="65" y="389"/>
                    </a:lnTo>
                    <a:lnTo>
                      <a:pt x="144" y="454"/>
                    </a:lnTo>
                    <a:lnTo>
                      <a:pt x="230" y="482"/>
                    </a:lnTo>
                    <a:lnTo>
                      <a:pt x="317" y="482"/>
                    </a:lnTo>
                    <a:lnTo>
                      <a:pt x="403" y="454"/>
                    </a:lnTo>
                    <a:lnTo>
                      <a:pt x="482" y="389"/>
                    </a:lnTo>
                    <a:lnTo>
                      <a:pt x="533" y="302"/>
                    </a:lnTo>
                    <a:lnTo>
                      <a:pt x="547" y="216"/>
                    </a:lnTo>
                    <a:lnTo>
                      <a:pt x="533" y="130"/>
                    </a:lnTo>
                    <a:lnTo>
                      <a:pt x="482" y="43"/>
                    </a:lnTo>
                    <a:lnTo>
                      <a:pt x="43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275720" y="2338560"/>
                <a:ext cx="17640" cy="35640"/>
              </a:xfrm>
              <a:custGeom>
                <a:avLst/>
                <a:gdLst/>
                <a:ahLst/>
                <a:rect l="l" t="t" r="r" b="b"/>
                <a:pathLst>
                  <a:path w="108" h="216">
                    <a:moveTo>
                      <a:pt x="108" y="0"/>
                    </a:moveTo>
                    <a:lnTo>
                      <a:pt x="36" y="79"/>
                    </a:lnTo>
                    <a:lnTo>
                      <a:pt x="7" y="166"/>
                    </a:lnTo>
                    <a:lnTo>
                      <a:pt x="0" y="21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275720" y="2338560"/>
                <a:ext cx="90000" cy="79200"/>
              </a:xfrm>
              <a:custGeom>
                <a:avLst/>
                <a:gdLst/>
                <a:ahLst/>
                <a:rect l="l" t="t" r="r" b="b"/>
                <a:pathLst>
                  <a:path w="547" h="482">
                    <a:moveTo>
                      <a:pt x="0" y="216"/>
                    </a:moveTo>
                    <a:lnTo>
                      <a:pt x="14" y="302"/>
                    </a:lnTo>
                    <a:lnTo>
                      <a:pt x="65" y="389"/>
                    </a:lnTo>
                    <a:lnTo>
                      <a:pt x="144" y="454"/>
                    </a:lnTo>
                    <a:lnTo>
                      <a:pt x="230" y="482"/>
                    </a:lnTo>
                    <a:lnTo>
                      <a:pt x="317" y="482"/>
                    </a:lnTo>
                    <a:lnTo>
                      <a:pt x="403" y="454"/>
                    </a:lnTo>
                    <a:lnTo>
                      <a:pt x="482" y="389"/>
                    </a:lnTo>
                    <a:lnTo>
                      <a:pt x="533" y="302"/>
                    </a:lnTo>
                    <a:lnTo>
                      <a:pt x="547" y="216"/>
                    </a:lnTo>
                    <a:lnTo>
                      <a:pt x="533" y="130"/>
                    </a:lnTo>
                    <a:lnTo>
                      <a:pt x="482" y="43"/>
                    </a:lnTo>
                    <a:lnTo>
                      <a:pt x="43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329360" y="2338560"/>
                <a:ext cx="17640" cy="35640"/>
              </a:xfrm>
              <a:custGeom>
                <a:avLst/>
                <a:gdLst/>
                <a:ahLst/>
                <a:rect l="l" t="t" r="r" b="b"/>
                <a:pathLst>
                  <a:path w="108" h="216">
                    <a:moveTo>
                      <a:pt x="108" y="0"/>
                    </a:moveTo>
                    <a:lnTo>
                      <a:pt x="36" y="79"/>
                    </a:lnTo>
                    <a:lnTo>
                      <a:pt x="7" y="166"/>
                    </a:lnTo>
                    <a:lnTo>
                      <a:pt x="0" y="21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329360" y="2374200"/>
                <a:ext cx="90000" cy="43560"/>
              </a:xfrm>
              <a:custGeom>
                <a:avLst/>
                <a:gdLst/>
                <a:ahLst/>
                <a:rect l="l" t="t" r="r" b="b"/>
                <a:pathLst>
                  <a:path w="547" h="266">
                    <a:moveTo>
                      <a:pt x="0" y="0"/>
                    </a:moveTo>
                    <a:lnTo>
                      <a:pt x="14" y="86"/>
                    </a:lnTo>
                    <a:lnTo>
                      <a:pt x="65" y="173"/>
                    </a:lnTo>
                    <a:lnTo>
                      <a:pt x="144" y="238"/>
                    </a:lnTo>
                    <a:lnTo>
                      <a:pt x="230" y="266"/>
                    </a:lnTo>
                    <a:lnTo>
                      <a:pt x="317" y="266"/>
                    </a:lnTo>
                    <a:lnTo>
                      <a:pt x="403" y="238"/>
                    </a:lnTo>
                    <a:lnTo>
                      <a:pt x="482" y="173"/>
                    </a:lnTo>
                    <a:lnTo>
                      <a:pt x="533" y="86"/>
                    </a:lnTo>
                    <a:lnTo>
                      <a:pt x="547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67720" y="2695320"/>
                <a:ext cx="90000" cy="80640"/>
              </a:xfrm>
              <a:custGeom>
                <a:avLst/>
                <a:gdLst/>
                <a:ahLst/>
                <a:rect l="l" t="t" r="r" b="b"/>
                <a:pathLst>
                  <a:path w="547" h="490">
                    <a:moveTo>
                      <a:pt x="439" y="490"/>
                    </a:moveTo>
                    <a:lnTo>
                      <a:pt x="511" y="410"/>
                    </a:lnTo>
                    <a:lnTo>
                      <a:pt x="540" y="324"/>
                    </a:lnTo>
                    <a:lnTo>
                      <a:pt x="547" y="238"/>
                    </a:lnTo>
                    <a:lnTo>
                      <a:pt x="518" y="151"/>
                    </a:lnTo>
                    <a:lnTo>
                      <a:pt x="453" y="72"/>
                    </a:lnTo>
                    <a:lnTo>
                      <a:pt x="367" y="14"/>
                    </a:lnTo>
                    <a:lnTo>
                      <a:pt x="281" y="0"/>
                    </a:lnTo>
                    <a:lnTo>
                      <a:pt x="194" y="14"/>
                    </a:lnTo>
                    <a:lnTo>
                      <a:pt x="108" y="58"/>
                    </a:lnTo>
                    <a:lnTo>
                      <a:pt x="36" y="137"/>
                    </a:lnTo>
                    <a:lnTo>
                      <a:pt x="7" y="223"/>
                    </a:lnTo>
                    <a:lnTo>
                      <a:pt x="0" y="27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21360" y="2740320"/>
                <a:ext cx="17640" cy="35640"/>
              </a:xfrm>
              <a:custGeom>
                <a:avLst/>
                <a:gdLst/>
                <a:ahLst/>
                <a:rect l="l" t="t" r="r" b="b"/>
                <a:pathLst>
                  <a:path w="108" h="216">
                    <a:moveTo>
                      <a:pt x="0" y="0"/>
                    </a:moveTo>
                    <a:lnTo>
                      <a:pt x="14" y="86"/>
                    </a:lnTo>
                    <a:lnTo>
                      <a:pt x="65" y="172"/>
                    </a:lnTo>
                    <a:lnTo>
                      <a:pt x="108" y="21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221360" y="2695320"/>
                <a:ext cx="90000" cy="80640"/>
              </a:xfrm>
              <a:custGeom>
                <a:avLst/>
                <a:gdLst/>
                <a:ahLst/>
                <a:rect l="l" t="t" r="r" b="b"/>
                <a:pathLst>
                  <a:path w="547" h="490">
                    <a:moveTo>
                      <a:pt x="439" y="490"/>
                    </a:moveTo>
                    <a:lnTo>
                      <a:pt x="511" y="410"/>
                    </a:lnTo>
                    <a:lnTo>
                      <a:pt x="540" y="324"/>
                    </a:lnTo>
                    <a:lnTo>
                      <a:pt x="547" y="238"/>
                    </a:lnTo>
                    <a:lnTo>
                      <a:pt x="518" y="151"/>
                    </a:lnTo>
                    <a:lnTo>
                      <a:pt x="453" y="72"/>
                    </a:lnTo>
                    <a:lnTo>
                      <a:pt x="367" y="14"/>
                    </a:lnTo>
                    <a:lnTo>
                      <a:pt x="281" y="0"/>
                    </a:lnTo>
                    <a:lnTo>
                      <a:pt x="194" y="14"/>
                    </a:lnTo>
                    <a:lnTo>
                      <a:pt x="108" y="58"/>
                    </a:lnTo>
                    <a:lnTo>
                      <a:pt x="36" y="137"/>
                    </a:lnTo>
                    <a:lnTo>
                      <a:pt x="7" y="223"/>
                    </a:lnTo>
                    <a:lnTo>
                      <a:pt x="0" y="27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275720" y="2740320"/>
                <a:ext cx="17640" cy="35640"/>
              </a:xfrm>
              <a:custGeom>
                <a:avLst/>
                <a:gdLst/>
                <a:ahLst/>
                <a:rect l="l" t="t" r="r" b="b"/>
                <a:pathLst>
                  <a:path w="108" h="216">
                    <a:moveTo>
                      <a:pt x="0" y="0"/>
                    </a:moveTo>
                    <a:lnTo>
                      <a:pt x="14" y="86"/>
                    </a:lnTo>
                    <a:lnTo>
                      <a:pt x="65" y="172"/>
                    </a:lnTo>
                    <a:lnTo>
                      <a:pt x="108" y="21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275720" y="2695320"/>
                <a:ext cx="90000" cy="80640"/>
              </a:xfrm>
              <a:custGeom>
                <a:avLst/>
                <a:gdLst/>
                <a:ahLst/>
                <a:rect l="l" t="t" r="r" b="b"/>
                <a:pathLst>
                  <a:path w="547" h="490">
                    <a:moveTo>
                      <a:pt x="439" y="490"/>
                    </a:moveTo>
                    <a:lnTo>
                      <a:pt x="511" y="410"/>
                    </a:lnTo>
                    <a:lnTo>
                      <a:pt x="540" y="324"/>
                    </a:lnTo>
                    <a:lnTo>
                      <a:pt x="547" y="238"/>
                    </a:lnTo>
                    <a:lnTo>
                      <a:pt x="518" y="151"/>
                    </a:lnTo>
                    <a:lnTo>
                      <a:pt x="454" y="72"/>
                    </a:lnTo>
                    <a:lnTo>
                      <a:pt x="367" y="14"/>
                    </a:lnTo>
                    <a:lnTo>
                      <a:pt x="281" y="0"/>
                    </a:lnTo>
                    <a:lnTo>
                      <a:pt x="194" y="14"/>
                    </a:lnTo>
                    <a:lnTo>
                      <a:pt x="108" y="58"/>
                    </a:lnTo>
                    <a:lnTo>
                      <a:pt x="36" y="137"/>
                    </a:lnTo>
                    <a:lnTo>
                      <a:pt x="7" y="223"/>
                    </a:lnTo>
                    <a:lnTo>
                      <a:pt x="0" y="27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329360" y="2740320"/>
                <a:ext cx="17640" cy="35640"/>
              </a:xfrm>
              <a:custGeom>
                <a:avLst/>
                <a:gdLst/>
                <a:ahLst/>
                <a:rect l="l" t="t" r="r" b="b"/>
                <a:pathLst>
                  <a:path w="108" h="216">
                    <a:moveTo>
                      <a:pt x="0" y="0"/>
                    </a:moveTo>
                    <a:lnTo>
                      <a:pt x="14" y="86"/>
                    </a:lnTo>
                    <a:lnTo>
                      <a:pt x="65" y="172"/>
                    </a:lnTo>
                    <a:lnTo>
                      <a:pt x="108" y="21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329360" y="2696400"/>
                <a:ext cx="90000" cy="43920"/>
              </a:xfrm>
              <a:custGeom>
                <a:avLst/>
                <a:gdLst/>
                <a:ahLst/>
                <a:rect l="l" t="t" r="r" b="b"/>
                <a:pathLst>
                  <a:path w="547" h="267">
                    <a:moveTo>
                      <a:pt x="547" y="267"/>
                    </a:moveTo>
                    <a:lnTo>
                      <a:pt x="533" y="180"/>
                    </a:lnTo>
                    <a:lnTo>
                      <a:pt x="482" y="94"/>
                    </a:lnTo>
                    <a:lnTo>
                      <a:pt x="403" y="29"/>
                    </a:lnTo>
                    <a:lnTo>
                      <a:pt x="317" y="0"/>
                    </a:lnTo>
                    <a:lnTo>
                      <a:pt x="230" y="0"/>
                    </a:lnTo>
                    <a:lnTo>
                      <a:pt x="144" y="29"/>
                    </a:lnTo>
                    <a:lnTo>
                      <a:pt x="65" y="94"/>
                    </a:lnTo>
                    <a:lnTo>
                      <a:pt x="14" y="180"/>
                    </a:lnTo>
                    <a:lnTo>
                      <a:pt x="0" y="26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95560" y="2338560"/>
                <a:ext cx="90000" cy="79200"/>
              </a:xfrm>
              <a:custGeom>
                <a:avLst/>
                <a:gdLst/>
                <a:ahLst/>
                <a:rect l="l" t="t" r="r" b="b"/>
                <a:pathLst>
                  <a:path w="547" h="482">
                    <a:moveTo>
                      <a:pt x="0" y="216"/>
                    </a:moveTo>
                    <a:lnTo>
                      <a:pt x="14" y="302"/>
                    </a:lnTo>
                    <a:lnTo>
                      <a:pt x="64" y="389"/>
                    </a:lnTo>
                    <a:lnTo>
                      <a:pt x="144" y="454"/>
                    </a:lnTo>
                    <a:lnTo>
                      <a:pt x="230" y="482"/>
                    </a:lnTo>
                    <a:lnTo>
                      <a:pt x="316" y="482"/>
                    </a:lnTo>
                    <a:lnTo>
                      <a:pt x="403" y="454"/>
                    </a:lnTo>
                    <a:lnTo>
                      <a:pt x="482" y="389"/>
                    </a:lnTo>
                    <a:lnTo>
                      <a:pt x="532" y="302"/>
                    </a:lnTo>
                    <a:lnTo>
                      <a:pt x="547" y="216"/>
                    </a:lnTo>
                    <a:lnTo>
                      <a:pt x="532" y="130"/>
                    </a:lnTo>
                    <a:lnTo>
                      <a:pt x="482" y="43"/>
                    </a:lnTo>
                    <a:lnTo>
                      <a:pt x="43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050280" y="2338560"/>
                <a:ext cx="17640" cy="35640"/>
              </a:xfrm>
              <a:custGeom>
                <a:avLst/>
                <a:gdLst/>
                <a:ahLst/>
                <a:rect l="l" t="t" r="r" b="b"/>
                <a:pathLst>
                  <a:path w="108" h="216">
                    <a:moveTo>
                      <a:pt x="108" y="0"/>
                    </a:moveTo>
                    <a:lnTo>
                      <a:pt x="36" y="79"/>
                    </a:lnTo>
                    <a:lnTo>
                      <a:pt x="7" y="166"/>
                    </a:lnTo>
                    <a:lnTo>
                      <a:pt x="0" y="21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050280" y="2338560"/>
                <a:ext cx="90000" cy="79200"/>
              </a:xfrm>
              <a:custGeom>
                <a:avLst/>
                <a:gdLst/>
                <a:ahLst/>
                <a:rect l="l" t="t" r="r" b="b"/>
                <a:pathLst>
                  <a:path w="547" h="482">
                    <a:moveTo>
                      <a:pt x="0" y="216"/>
                    </a:moveTo>
                    <a:lnTo>
                      <a:pt x="14" y="302"/>
                    </a:lnTo>
                    <a:lnTo>
                      <a:pt x="65" y="389"/>
                    </a:lnTo>
                    <a:lnTo>
                      <a:pt x="144" y="454"/>
                    </a:lnTo>
                    <a:lnTo>
                      <a:pt x="230" y="482"/>
                    </a:lnTo>
                    <a:lnTo>
                      <a:pt x="317" y="482"/>
                    </a:lnTo>
                    <a:lnTo>
                      <a:pt x="403" y="454"/>
                    </a:lnTo>
                    <a:lnTo>
                      <a:pt x="482" y="389"/>
                    </a:lnTo>
                    <a:lnTo>
                      <a:pt x="533" y="302"/>
                    </a:lnTo>
                    <a:lnTo>
                      <a:pt x="547" y="216"/>
                    </a:lnTo>
                    <a:lnTo>
                      <a:pt x="533" y="130"/>
                    </a:lnTo>
                    <a:lnTo>
                      <a:pt x="482" y="43"/>
                    </a:lnTo>
                    <a:lnTo>
                      <a:pt x="43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103920" y="2338560"/>
                <a:ext cx="17640" cy="35640"/>
              </a:xfrm>
              <a:custGeom>
                <a:avLst/>
                <a:gdLst/>
                <a:ahLst/>
                <a:rect l="l" t="t" r="r" b="b"/>
                <a:pathLst>
                  <a:path w="108" h="216">
                    <a:moveTo>
                      <a:pt x="108" y="0"/>
                    </a:moveTo>
                    <a:lnTo>
                      <a:pt x="36" y="79"/>
                    </a:lnTo>
                    <a:lnTo>
                      <a:pt x="7" y="166"/>
                    </a:lnTo>
                    <a:lnTo>
                      <a:pt x="0" y="21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103920" y="2338560"/>
                <a:ext cx="90000" cy="79200"/>
              </a:xfrm>
              <a:custGeom>
                <a:avLst/>
                <a:gdLst/>
                <a:ahLst/>
                <a:rect l="l" t="t" r="r" b="b"/>
                <a:pathLst>
                  <a:path w="547" h="482">
                    <a:moveTo>
                      <a:pt x="0" y="216"/>
                    </a:moveTo>
                    <a:lnTo>
                      <a:pt x="14" y="302"/>
                    </a:lnTo>
                    <a:lnTo>
                      <a:pt x="65" y="389"/>
                    </a:lnTo>
                    <a:lnTo>
                      <a:pt x="144" y="454"/>
                    </a:lnTo>
                    <a:lnTo>
                      <a:pt x="230" y="482"/>
                    </a:lnTo>
                    <a:lnTo>
                      <a:pt x="317" y="482"/>
                    </a:lnTo>
                    <a:lnTo>
                      <a:pt x="403" y="454"/>
                    </a:lnTo>
                    <a:lnTo>
                      <a:pt x="482" y="389"/>
                    </a:lnTo>
                    <a:lnTo>
                      <a:pt x="533" y="302"/>
                    </a:lnTo>
                    <a:lnTo>
                      <a:pt x="547" y="216"/>
                    </a:lnTo>
                    <a:lnTo>
                      <a:pt x="533" y="130"/>
                    </a:lnTo>
                    <a:lnTo>
                      <a:pt x="482" y="43"/>
                    </a:lnTo>
                    <a:lnTo>
                      <a:pt x="43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>
              <a:off x="3158640" y="233856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108" y="0"/>
                  </a:moveTo>
                  <a:lnTo>
                    <a:pt x="36" y="79"/>
                  </a:lnTo>
                  <a:lnTo>
                    <a:pt x="7" y="166"/>
                  </a:lnTo>
                  <a:lnTo>
                    <a:pt x="0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158640" y="2374200"/>
              <a:ext cx="90000" cy="43560"/>
            </a:xfrm>
            <a:custGeom>
              <a:avLst/>
              <a:gdLst/>
              <a:ahLst/>
              <a:rect l="l" t="t" r="r" b="b"/>
              <a:pathLst>
                <a:path w="547" h="266">
                  <a:moveTo>
                    <a:pt x="0" y="0"/>
                  </a:moveTo>
                  <a:lnTo>
                    <a:pt x="14" y="86"/>
                  </a:lnTo>
                  <a:lnTo>
                    <a:pt x="65" y="173"/>
                  </a:lnTo>
                  <a:lnTo>
                    <a:pt x="144" y="238"/>
                  </a:lnTo>
                  <a:lnTo>
                    <a:pt x="230" y="266"/>
                  </a:lnTo>
                  <a:lnTo>
                    <a:pt x="317" y="266"/>
                  </a:lnTo>
                  <a:lnTo>
                    <a:pt x="403" y="238"/>
                  </a:lnTo>
                  <a:lnTo>
                    <a:pt x="482" y="173"/>
                  </a:lnTo>
                  <a:lnTo>
                    <a:pt x="533" y="86"/>
                  </a:lnTo>
                  <a:lnTo>
                    <a:pt x="547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95560" y="2695320"/>
              <a:ext cx="90000" cy="80640"/>
            </a:xfrm>
            <a:custGeom>
              <a:avLst/>
              <a:gdLst/>
              <a:ahLst/>
              <a:rect l="l" t="t" r="r" b="b"/>
              <a:pathLst>
                <a:path w="547" h="490">
                  <a:moveTo>
                    <a:pt x="439" y="490"/>
                  </a:moveTo>
                  <a:lnTo>
                    <a:pt x="511" y="410"/>
                  </a:lnTo>
                  <a:lnTo>
                    <a:pt x="540" y="324"/>
                  </a:lnTo>
                  <a:lnTo>
                    <a:pt x="547" y="238"/>
                  </a:lnTo>
                  <a:lnTo>
                    <a:pt x="518" y="151"/>
                  </a:lnTo>
                  <a:lnTo>
                    <a:pt x="453" y="72"/>
                  </a:lnTo>
                  <a:lnTo>
                    <a:pt x="367" y="14"/>
                  </a:lnTo>
                  <a:lnTo>
                    <a:pt x="280" y="0"/>
                  </a:lnTo>
                  <a:lnTo>
                    <a:pt x="194" y="14"/>
                  </a:lnTo>
                  <a:lnTo>
                    <a:pt x="108" y="58"/>
                  </a:lnTo>
                  <a:lnTo>
                    <a:pt x="36" y="137"/>
                  </a:lnTo>
                  <a:lnTo>
                    <a:pt x="7" y="223"/>
                  </a:lnTo>
                  <a:lnTo>
                    <a:pt x="0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50280" y="274032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0" y="0"/>
                  </a:moveTo>
                  <a:lnTo>
                    <a:pt x="14" y="86"/>
                  </a:lnTo>
                  <a:lnTo>
                    <a:pt x="65" y="172"/>
                  </a:lnTo>
                  <a:lnTo>
                    <a:pt x="108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50280" y="2695320"/>
              <a:ext cx="90000" cy="80640"/>
            </a:xfrm>
            <a:custGeom>
              <a:avLst/>
              <a:gdLst/>
              <a:ahLst/>
              <a:rect l="l" t="t" r="r" b="b"/>
              <a:pathLst>
                <a:path w="547" h="490">
                  <a:moveTo>
                    <a:pt x="439" y="490"/>
                  </a:moveTo>
                  <a:lnTo>
                    <a:pt x="511" y="410"/>
                  </a:lnTo>
                  <a:lnTo>
                    <a:pt x="540" y="324"/>
                  </a:lnTo>
                  <a:lnTo>
                    <a:pt x="547" y="238"/>
                  </a:lnTo>
                  <a:lnTo>
                    <a:pt x="518" y="151"/>
                  </a:lnTo>
                  <a:lnTo>
                    <a:pt x="453" y="72"/>
                  </a:lnTo>
                  <a:lnTo>
                    <a:pt x="367" y="14"/>
                  </a:lnTo>
                  <a:lnTo>
                    <a:pt x="281" y="0"/>
                  </a:lnTo>
                  <a:lnTo>
                    <a:pt x="194" y="14"/>
                  </a:lnTo>
                  <a:lnTo>
                    <a:pt x="108" y="58"/>
                  </a:lnTo>
                  <a:lnTo>
                    <a:pt x="36" y="137"/>
                  </a:lnTo>
                  <a:lnTo>
                    <a:pt x="7" y="223"/>
                  </a:lnTo>
                  <a:lnTo>
                    <a:pt x="0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103920" y="274032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0" y="0"/>
                  </a:moveTo>
                  <a:lnTo>
                    <a:pt x="14" y="86"/>
                  </a:lnTo>
                  <a:lnTo>
                    <a:pt x="65" y="172"/>
                  </a:lnTo>
                  <a:lnTo>
                    <a:pt x="108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03920" y="2695320"/>
              <a:ext cx="90000" cy="80640"/>
            </a:xfrm>
            <a:custGeom>
              <a:avLst/>
              <a:gdLst/>
              <a:ahLst/>
              <a:rect l="l" t="t" r="r" b="b"/>
              <a:pathLst>
                <a:path w="547" h="490">
                  <a:moveTo>
                    <a:pt x="439" y="490"/>
                  </a:moveTo>
                  <a:lnTo>
                    <a:pt x="511" y="410"/>
                  </a:lnTo>
                  <a:lnTo>
                    <a:pt x="540" y="324"/>
                  </a:lnTo>
                  <a:lnTo>
                    <a:pt x="547" y="238"/>
                  </a:lnTo>
                  <a:lnTo>
                    <a:pt x="518" y="151"/>
                  </a:lnTo>
                  <a:lnTo>
                    <a:pt x="453" y="72"/>
                  </a:lnTo>
                  <a:lnTo>
                    <a:pt x="367" y="14"/>
                  </a:lnTo>
                  <a:lnTo>
                    <a:pt x="281" y="0"/>
                  </a:lnTo>
                  <a:lnTo>
                    <a:pt x="194" y="14"/>
                  </a:lnTo>
                  <a:lnTo>
                    <a:pt x="108" y="58"/>
                  </a:lnTo>
                  <a:lnTo>
                    <a:pt x="36" y="137"/>
                  </a:lnTo>
                  <a:lnTo>
                    <a:pt x="7" y="223"/>
                  </a:lnTo>
                  <a:lnTo>
                    <a:pt x="0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58640" y="274032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0" y="0"/>
                  </a:moveTo>
                  <a:lnTo>
                    <a:pt x="14" y="86"/>
                  </a:lnTo>
                  <a:lnTo>
                    <a:pt x="65" y="172"/>
                  </a:lnTo>
                  <a:lnTo>
                    <a:pt x="108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58640" y="2696400"/>
              <a:ext cx="90000" cy="43920"/>
            </a:xfrm>
            <a:custGeom>
              <a:avLst/>
              <a:gdLst/>
              <a:ahLst/>
              <a:rect l="l" t="t" r="r" b="b"/>
              <a:pathLst>
                <a:path w="547" h="267">
                  <a:moveTo>
                    <a:pt x="547" y="267"/>
                  </a:moveTo>
                  <a:lnTo>
                    <a:pt x="533" y="180"/>
                  </a:lnTo>
                  <a:lnTo>
                    <a:pt x="482" y="94"/>
                  </a:lnTo>
                  <a:lnTo>
                    <a:pt x="403" y="29"/>
                  </a:lnTo>
                  <a:lnTo>
                    <a:pt x="317" y="0"/>
                  </a:lnTo>
                  <a:lnTo>
                    <a:pt x="230" y="0"/>
                  </a:lnTo>
                  <a:lnTo>
                    <a:pt x="144" y="29"/>
                  </a:lnTo>
                  <a:lnTo>
                    <a:pt x="65" y="94"/>
                  </a:lnTo>
                  <a:lnTo>
                    <a:pt x="14" y="180"/>
                  </a:lnTo>
                  <a:lnTo>
                    <a:pt x="0" y="26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915200" y="2338560"/>
              <a:ext cx="90000" cy="79200"/>
            </a:xfrm>
            <a:custGeom>
              <a:avLst/>
              <a:gdLst/>
              <a:ahLst/>
              <a:rect l="l" t="t" r="r" b="b"/>
              <a:pathLst>
                <a:path w="547" h="482">
                  <a:moveTo>
                    <a:pt x="0" y="216"/>
                  </a:moveTo>
                  <a:lnTo>
                    <a:pt x="14" y="302"/>
                  </a:lnTo>
                  <a:lnTo>
                    <a:pt x="65" y="389"/>
                  </a:lnTo>
                  <a:lnTo>
                    <a:pt x="144" y="454"/>
                  </a:lnTo>
                  <a:lnTo>
                    <a:pt x="230" y="482"/>
                  </a:lnTo>
                  <a:lnTo>
                    <a:pt x="317" y="482"/>
                  </a:lnTo>
                  <a:lnTo>
                    <a:pt x="403" y="454"/>
                  </a:lnTo>
                  <a:lnTo>
                    <a:pt x="482" y="389"/>
                  </a:lnTo>
                  <a:lnTo>
                    <a:pt x="533" y="302"/>
                  </a:lnTo>
                  <a:lnTo>
                    <a:pt x="547" y="216"/>
                  </a:lnTo>
                  <a:lnTo>
                    <a:pt x="533" y="130"/>
                  </a:lnTo>
                  <a:lnTo>
                    <a:pt x="482" y="43"/>
                  </a:lnTo>
                  <a:lnTo>
                    <a:pt x="43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69920" y="233856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108" y="0"/>
                  </a:moveTo>
                  <a:lnTo>
                    <a:pt x="36" y="79"/>
                  </a:lnTo>
                  <a:lnTo>
                    <a:pt x="7" y="166"/>
                  </a:lnTo>
                  <a:lnTo>
                    <a:pt x="0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69920" y="2338560"/>
              <a:ext cx="90000" cy="79200"/>
            </a:xfrm>
            <a:custGeom>
              <a:avLst/>
              <a:gdLst/>
              <a:ahLst/>
              <a:rect l="l" t="t" r="r" b="b"/>
              <a:pathLst>
                <a:path w="547" h="482">
                  <a:moveTo>
                    <a:pt x="0" y="216"/>
                  </a:moveTo>
                  <a:lnTo>
                    <a:pt x="14" y="302"/>
                  </a:lnTo>
                  <a:lnTo>
                    <a:pt x="65" y="389"/>
                  </a:lnTo>
                  <a:lnTo>
                    <a:pt x="144" y="454"/>
                  </a:lnTo>
                  <a:lnTo>
                    <a:pt x="230" y="482"/>
                  </a:lnTo>
                  <a:lnTo>
                    <a:pt x="317" y="482"/>
                  </a:lnTo>
                  <a:lnTo>
                    <a:pt x="403" y="454"/>
                  </a:lnTo>
                  <a:lnTo>
                    <a:pt x="482" y="389"/>
                  </a:lnTo>
                  <a:lnTo>
                    <a:pt x="533" y="302"/>
                  </a:lnTo>
                  <a:lnTo>
                    <a:pt x="547" y="216"/>
                  </a:lnTo>
                  <a:lnTo>
                    <a:pt x="533" y="130"/>
                  </a:lnTo>
                  <a:lnTo>
                    <a:pt x="482" y="43"/>
                  </a:lnTo>
                  <a:lnTo>
                    <a:pt x="43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023200" y="233856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108" y="0"/>
                  </a:moveTo>
                  <a:lnTo>
                    <a:pt x="36" y="79"/>
                  </a:lnTo>
                  <a:lnTo>
                    <a:pt x="7" y="166"/>
                  </a:lnTo>
                  <a:lnTo>
                    <a:pt x="0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023200" y="2338560"/>
              <a:ext cx="90000" cy="79200"/>
            </a:xfrm>
            <a:custGeom>
              <a:avLst/>
              <a:gdLst/>
              <a:ahLst/>
              <a:rect l="l" t="t" r="r" b="b"/>
              <a:pathLst>
                <a:path w="547" h="482">
                  <a:moveTo>
                    <a:pt x="0" y="216"/>
                  </a:moveTo>
                  <a:lnTo>
                    <a:pt x="14" y="302"/>
                  </a:lnTo>
                  <a:lnTo>
                    <a:pt x="65" y="389"/>
                  </a:lnTo>
                  <a:lnTo>
                    <a:pt x="144" y="454"/>
                  </a:lnTo>
                  <a:lnTo>
                    <a:pt x="230" y="482"/>
                  </a:lnTo>
                  <a:lnTo>
                    <a:pt x="317" y="482"/>
                  </a:lnTo>
                  <a:lnTo>
                    <a:pt x="403" y="454"/>
                  </a:lnTo>
                  <a:lnTo>
                    <a:pt x="482" y="389"/>
                  </a:lnTo>
                  <a:lnTo>
                    <a:pt x="533" y="302"/>
                  </a:lnTo>
                  <a:lnTo>
                    <a:pt x="547" y="216"/>
                  </a:lnTo>
                  <a:lnTo>
                    <a:pt x="533" y="130"/>
                  </a:lnTo>
                  <a:lnTo>
                    <a:pt x="482" y="43"/>
                  </a:lnTo>
                  <a:lnTo>
                    <a:pt x="43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076840" y="233856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108" y="0"/>
                  </a:moveTo>
                  <a:lnTo>
                    <a:pt x="36" y="79"/>
                  </a:lnTo>
                  <a:lnTo>
                    <a:pt x="7" y="166"/>
                  </a:lnTo>
                  <a:lnTo>
                    <a:pt x="0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76840" y="2374200"/>
              <a:ext cx="90000" cy="43560"/>
            </a:xfrm>
            <a:custGeom>
              <a:avLst/>
              <a:gdLst/>
              <a:ahLst/>
              <a:rect l="l" t="t" r="r" b="b"/>
              <a:pathLst>
                <a:path w="547" h="266">
                  <a:moveTo>
                    <a:pt x="0" y="0"/>
                  </a:moveTo>
                  <a:lnTo>
                    <a:pt x="14" y="86"/>
                  </a:lnTo>
                  <a:lnTo>
                    <a:pt x="65" y="173"/>
                  </a:lnTo>
                  <a:lnTo>
                    <a:pt x="144" y="238"/>
                  </a:lnTo>
                  <a:lnTo>
                    <a:pt x="230" y="266"/>
                  </a:lnTo>
                  <a:lnTo>
                    <a:pt x="317" y="266"/>
                  </a:lnTo>
                  <a:lnTo>
                    <a:pt x="403" y="238"/>
                  </a:lnTo>
                  <a:lnTo>
                    <a:pt x="482" y="173"/>
                  </a:lnTo>
                  <a:lnTo>
                    <a:pt x="533" y="86"/>
                  </a:lnTo>
                  <a:lnTo>
                    <a:pt x="547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915200" y="2695320"/>
              <a:ext cx="90000" cy="80640"/>
            </a:xfrm>
            <a:custGeom>
              <a:avLst/>
              <a:gdLst/>
              <a:ahLst/>
              <a:rect l="l" t="t" r="r" b="b"/>
              <a:pathLst>
                <a:path w="547" h="490">
                  <a:moveTo>
                    <a:pt x="439" y="490"/>
                  </a:moveTo>
                  <a:lnTo>
                    <a:pt x="511" y="410"/>
                  </a:lnTo>
                  <a:lnTo>
                    <a:pt x="540" y="324"/>
                  </a:lnTo>
                  <a:lnTo>
                    <a:pt x="547" y="238"/>
                  </a:lnTo>
                  <a:lnTo>
                    <a:pt x="518" y="151"/>
                  </a:lnTo>
                  <a:lnTo>
                    <a:pt x="453" y="72"/>
                  </a:lnTo>
                  <a:lnTo>
                    <a:pt x="367" y="14"/>
                  </a:lnTo>
                  <a:lnTo>
                    <a:pt x="281" y="0"/>
                  </a:lnTo>
                  <a:lnTo>
                    <a:pt x="194" y="14"/>
                  </a:lnTo>
                  <a:lnTo>
                    <a:pt x="108" y="58"/>
                  </a:lnTo>
                  <a:lnTo>
                    <a:pt x="36" y="137"/>
                  </a:lnTo>
                  <a:lnTo>
                    <a:pt x="7" y="223"/>
                  </a:lnTo>
                  <a:lnTo>
                    <a:pt x="0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969920" y="274032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0" y="0"/>
                  </a:moveTo>
                  <a:lnTo>
                    <a:pt x="14" y="86"/>
                  </a:lnTo>
                  <a:lnTo>
                    <a:pt x="65" y="172"/>
                  </a:lnTo>
                  <a:lnTo>
                    <a:pt x="108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69920" y="2695320"/>
              <a:ext cx="90000" cy="80640"/>
            </a:xfrm>
            <a:custGeom>
              <a:avLst/>
              <a:gdLst/>
              <a:ahLst/>
              <a:rect l="l" t="t" r="r" b="b"/>
              <a:pathLst>
                <a:path w="547" h="490">
                  <a:moveTo>
                    <a:pt x="439" y="490"/>
                  </a:moveTo>
                  <a:lnTo>
                    <a:pt x="511" y="410"/>
                  </a:lnTo>
                  <a:lnTo>
                    <a:pt x="540" y="324"/>
                  </a:lnTo>
                  <a:lnTo>
                    <a:pt x="547" y="238"/>
                  </a:lnTo>
                  <a:lnTo>
                    <a:pt x="518" y="151"/>
                  </a:lnTo>
                  <a:lnTo>
                    <a:pt x="454" y="72"/>
                  </a:lnTo>
                  <a:lnTo>
                    <a:pt x="367" y="14"/>
                  </a:lnTo>
                  <a:lnTo>
                    <a:pt x="281" y="0"/>
                  </a:lnTo>
                  <a:lnTo>
                    <a:pt x="194" y="14"/>
                  </a:lnTo>
                  <a:lnTo>
                    <a:pt x="108" y="58"/>
                  </a:lnTo>
                  <a:lnTo>
                    <a:pt x="36" y="137"/>
                  </a:lnTo>
                  <a:lnTo>
                    <a:pt x="7" y="223"/>
                  </a:lnTo>
                  <a:lnTo>
                    <a:pt x="0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23200" y="274032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0" y="0"/>
                  </a:moveTo>
                  <a:lnTo>
                    <a:pt x="14" y="86"/>
                  </a:lnTo>
                  <a:lnTo>
                    <a:pt x="65" y="172"/>
                  </a:lnTo>
                  <a:lnTo>
                    <a:pt x="108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023200" y="2695320"/>
              <a:ext cx="90000" cy="80640"/>
            </a:xfrm>
            <a:custGeom>
              <a:avLst/>
              <a:gdLst/>
              <a:ahLst/>
              <a:rect l="l" t="t" r="r" b="b"/>
              <a:pathLst>
                <a:path w="547" h="490">
                  <a:moveTo>
                    <a:pt x="439" y="490"/>
                  </a:moveTo>
                  <a:lnTo>
                    <a:pt x="511" y="410"/>
                  </a:lnTo>
                  <a:lnTo>
                    <a:pt x="540" y="324"/>
                  </a:lnTo>
                  <a:lnTo>
                    <a:pt x="547" y="238"/>
                  </a:lnTo>
                  <a:lnTo>
                    <a:pt x="518" y="151"/>
                  </a:lnTo>
                  <a:lnTo>
                    <a:pt x="454" y="72"/>
                  </a:lnTo>
                  <a:lnTo>
                    <a:pt x="367" y="14"/>
                  </a:lnTo>
                  <a:lnTo>
                    <a:pt x="281" y="0"/>
                  </a:lnTo>
                  <a:lnTo>
                    <a:pt x="194" y="14"/>
                  </a:lnTo>
                  <a:lnTo>
                    <a:pt x="108" y="58"/>
                  </a:lnTo>
                  <a:lnTo>
                    <a:pt x="36" y="137"/>
                  </a:lnTo>
                  <a:lnTo>
                    <a:pt x="7" y="223"/>
                  </a:lnTo>
                  <a:lnTo>
                    <a:pt x="0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076840" y="274032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0" y="0"/>
                  </a:moveTo>
                  <a:lnTo>
                    <a:pt x="14" y="86"/>
                  </a:lnTo>
                  <a:lnTo>
                    <a:pt x="65" y="172"/>
                  </a:lnTo>
                  <a:lnTo>
                    <a:pt x="108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076840" y="2696400"/>
              <a:ext cx="90000" cy="43920"/>
            </a:xfrm>
            <a:custGeom>
              <a:avLst/>
              <a:gdLst/>
              <a:ahLst/>
              <a:rect l="l" t="t" r="r" b="b"/>
              <a:pathLst>
                <a:path w="547" h="267">
                  <a:moveTo>
                    <a:pt x="547" y="267"/>
                  </a:moveTo>
                  <a:lnTo>
                    <a:pt x="533" y="180"/>
                  </a:lnTo>
                  <a:lnTo>
                    <a:pt x="482" y="94"/>
                  </a:lnTo>
                  <a:lnTo>
                    <a:pt x="403" y="29"/>
                  </a:lnTo>
                  <a:lnTo>
                    <a:pt x="317" y="0"/>
                  </a:lnTo>
                  <a:lnTo>
                    <a:pt x="230" y="0"/>
                  </a:lnTo>
                  <a:lnTo>
                    <a:pt x="144" y="29"/>
                  </a:lnTo>
                  <a:lnTo>
                    <a:pt x="65" y="94"/>
                  </a:lnTo>
                  <a:lnTo>
                    <a:pt x="14" y="180"/>
                  </a:lnTo>
                  <a:lnTo>
                    <a:pt x="0" y="26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56560" y="2729880"/>
              <a:ext cx="22320" cy="22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137" y="65"/>
                  </a:moveTo>
                  <a:lnTo>
                    <a:pt x="116" y="21"/>
                  </a:lnTo>
                  <a:lnTo>
                    <a:pt x="80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2" y="115"/>
                  </a:lnTo>
                  <a:lnTo>
                    <a:pt x="65" y="137"/>
                  </a:lnTo>
                  <a:lnTo>
                    <a:pt x="108" y="115"/>
                  </a:lnTo>
                  <a:lnTo>
                    <a:pt x="130" y="79"/>
                  </a:lnTo>
                  <a:lnTo>
                    <a:pt x="137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879800" y="2729880"/>
              <a:ext cx="22320" cy="2232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65"/>
                  </a:moveTo>
                  <a:lnTo>
                    <a:pt x="115" y="21"/>
                  </a:lnTo>
                  <a:lnTo>
                    <a:pt x="79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1" y="115"/>
                  </a:lnTo>
                  <a:lnTo>
                    <a:pt x="64" y="137"/>
                  </a:lnTo>
                  <a:lnTo>
                    <a:pt x="108" y="115"/>
                  </a:lnTo>
                  <a:lnTo>
                    <a:pt x="129" y="79"/>
                  </a:lnTo>
                  <a:lnTo>
                    <a:pt x="136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879800" y="2363760"/>
              <a:ext cx="22320" cy="2232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65"/>
                  </a:moveTo>
                  <a:lnTo>
                    <a:pt x="115" y="22"/>
                  </a:lnTo>
                  <a:lnTo>
                    <a:pt x="79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1" y="115"/>
                  </a:lnTo>
                  <a:lnTo>
                    <a:pt x="64" y="137"/>
                  </a:lnTo>
                  <a:lnTo>
                    <a:pt x="108" y="115"/>
                  </a:lnTo>
                  <a:lnTo>
                    <a:pt x="129" y="79"/>
                  </a:lnTo>
                  <a:lnTo>
                    <a:pt x="136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56560" y="2363760"/>
              <a:ext cx="22320" cy="22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137" y="65"/>
                  </a:moveTo>
                  <a:lnTo>
                    <a:pt x="116" y="22"/>
                  </a:lnTo>
                  <a:lnTo>
                    <a:pt x="80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2" y="115"/>
                  </a:lnTo>
                  <a:lnTo>
                    <a:pt x="65" y="137"/>
                  </a:lnTo>
                  <a:lnTo>
                    <a:pt x="108" y="115"/>
                  </a:lnTo>
                  <a:lnTo>
                    <a:pt x="130" y="79"/>
                  </a:lnTo>
                  <a:lnTo>
                    <a:pt x="137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08720" y="2363760"/>
              <a:ext cx="22320" cy="2232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65"/>
                  </a:moveTo>
                  <a:lnTo>
                    <a:pt x="115" y="22"/>
                  </a:lnTo>
                  <a:lnTo>
                    <a:pt x="79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1" y="115"/>
                  </a:lnTo>
                  <a:lnTo>
                    <a:pt x="64" y="137"/>
                  </a:lnTo>
                  <a:lnTo>
                    <a:pt x="108" y="115"/>
                  </a:lnTo>
                  <a:lnTo>
                    <a:pt x="129" y="79"/>
                  </a:lnTo>
                  <a:lnTo>
                    <a:pt x="136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708720" y="2729880"/>
              <a:ext cx="22320" cy="2232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65"/>
                  </a:moveTo>
                  <a:lnTo>
                    <a:pt x="115" y="21"/>
                  </a:lnTo>
                  <a:lnTo>
                    <a:pt x="79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1" y="115"/>
                  </a:lnTo>
                  <a:lnTo>
                    <a:pt x="64" y="137"/>
                  </a:lnTo>
                  <a:lnTo>
                    <a:pt x="108" y="115"/>
                  </a:lnTo>
                  <a:lnTo>
                    <a:pt x="129" y="79"/>
                  </a:lnTo>
                  <a:lnTo>
                    <a:pt x="136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84760" y="2729880"/>
              <a:ext cx="22320" cy="22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137" y="65"/>
                  </a:moveTo>
                  <a:lnTo>
                    <a:pt x="115" y="21"/>
                  </a:lnTo>
                  <a:lnTo>
                    <a:pt x="79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2" y="115"/>
                  </a:lnTo>
                  <a:lnTo>
                    <a:pt x="65" y="137"/>
                  </a:lnTo>
                  <a:lnTo>
                    <a:pt x="108" y="115"/>
                  </a:lnTo>
                  <a:lnTo>
                    <a:pt x="130" y="79"/>
                  </a:lnTo>
                  <a:lnTo>
                    <a:pt x="137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84760" y="2363760"/>
              <a:ext cx="22320" cy="22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137" y="65"/>
                  </a:moveTo>
                  <a:lnTo>
                    <a:pt x="115" y="22"/>
                  </a:lnTo>
                  <a:lnTo>
                    <a:pt x="79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2" y="115"/>
                  </a:lnTo>
                  <a:lnTo>
                    <a:pt x="65" y="137"/>
                  </a:lnTo>
                  <a:lnTo>
                    <a:pt x="108" y="115"/>
                  </a:lnTo>
                  <a:lnTo>
                    <a:pt x="130" y="79"/>
                  </a:lnTo>
                  <a:lnTo>
                    <a:pt x="137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04040" y="2729880"/>
              <a:ext cx="22320" cy="22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137" y="65"/>
                  </a:moveTo>
                  <a:lnTo>
                    <a:pt x="116" y="21"/>
                  </a:lnTo>
                  <a:lnTo>
                    <a:pt x="80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2" y="115"/>
                  </a:lnTo>
                  <a:lnTo>
                    <a:pt x="65" y="137"/>
                  </a:lnTo>
                  <a:lnTo>
                    <a:pt x="108" y="115"/>
                  </a:lnTo>
                  <a:lnTo>
                    <a:pt x="130" y="79"/>
                  </a:lnTo>
                  <a:lnTo>
                    <a:pt x="137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04040" y="2363760"/>
              <a:ext cx="22320" cy="22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137" y="65"/>
                  </a:moveTo>
                  <a:lnTo>
                    <a:pt x="116" y="22"/>
                  </a:lnTo>
                  <a:lnTo>
                    <a:pt x="80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2" y="115"/>
                  </a:lnTo>
                  <a:lnTo>
                    <a:pt x="65" y="137"/>
                  </a:lnTo>
                  <a:lnTo>
                    <a:pt x="108" y="115"/>
                  </a:lnTo>
                  <a:lnTo>
                    <a:pt x="130" y="79"/>
                  </a:lnTo>
                  <a:lnTo>
                    <a:pt x="137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28360" y="2729880"/>
              <a:ext cx="22320" cy="22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137" y="65"/>
                  </a:moveTo>
                  <a:lnTo>
                    <a:pt x="115" y="21"/>
                  </a:lnTo>
                  <a:lnTo>
                    <a:pt x="79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1" y="115"/>
                  </a:lnTo>
                  <a:lnTo>
                    <a:pt x="65" y="137"/>
                  </a:lnTo>
                  <a:lnTo>
                    <a:pt x="108" y="115"/>
                  </a:lnTo>
                  <a:lnTo>
                    <a:pt x="129" y="79"/>
                  </a:lnTo>
                  <a:lnTo>
                    <a:pt x="137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28360" y="2363760"/>
              <a:ext cx="22320" cy="22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137" y="65"/>
                  </a:moveTo>
                  <a:lnTo>
                    <a:pt x="115" y="22"/>
                  </a:lnTo>
                  <a:lnTo>
                    <a:pt x="79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1" y="115"/>
                  </a:lnTo>
                  <a:lnTo>
                    <a:pt x="65" y="137"/>
                  </a:lnTo>
                  <a:lnTo>
                    <a:pt x="108" y="115"/>
                  </a:lnTo>
                  <a:lnTo>
                    <a:pt x="129" y="79"/>
                  </a:lnTo>
                  <a:lnTo>
                    <a:pt x="137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139720" y="2712960"/>
              <a:ext cx="54720" cy="54360"/>
            </a:xfrm>
            <a:custGeom>
              <a:avLst/>
              <a:gdLst/>
              <a:ahLst/>
              <a:rect l="l" t="t" r="r" b="b"/>
              <a:pathLst>
                <a:path w="332" h="331">
                  <a:moveTo>
                    <a:pt x="0" y="166"/>
                  </a:moveTo>
                  <a:lnTo>
                    <a:pt x="15" y="230"/>
                  </a:lnTo>
                  <a:lnTo>
                    <a:pt x="58" y="295"/>
                  </a:lnTo>
                  <a:lnTo>
                    <a:pt x="123" y="324"/>
                  </a:lnTo>
                  <a:lnTo>
                    <a:pt x="188" y="331"/>
                  </a:lnTo>
                  <a:lnTo>
                    <a:pt x="252" y="310"/>
                  </a:lnTo>
                  <a:lnTo>
                    <a:pt x="310" y="252"/>
                  </a:lnTo>
                  <a:lnTo>
                    <a:pt x="332" y="187"/>
                  </a:lnTo>
                  <a:lnTo>
                    <a:pt x="324" y="122"/>
                  </a:lnTo>
                  <a:lnTo>
                    <a:pt x="296" y="58"/>
                  </a:lnTo>
                  <a:lnTo>
                    <a:pt x="231" y="14"/>
                  </a:lnTo>
                  <a:lnTo>
                    <a:pt x="166" y="0"/>
                  </a:lnTo>
                  <a:lnTo>
                    <a:pt x="101" y="14"/>
                  </a:lnTo>
                  <a:lnTo>
                    <a:pt x="36" y="58"/>
                  </a:lnTo>
                  <a:lnTo>
                    <a:pt x="8" y="122"/>
                  </a:lnTo>
                  <a:lnTo>
                    <a:pt x="0" y="16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39720" y="2346840"/>
              <a:ext cx="54720" cy="54720"/>
            </a:xfrm>
            <a:custGeom>
              <a:avLst/>
              <a:gdLst/>
              <a:ahLst/>
              <a:rect l="l" t="t" r="r" b="b"/>
              <a:pathLst>
                <a:path w="332" h="332">
                  <a:moveTo>
                    <a:pt x="0" y="166"/>
                  </a:moveTo>
                  <a:lnTo>
                    <a:pt x="15" y="231"/>
                  </a:lnTo>
                  <a:lnTo>
                    <a:pt x="58" y="296"/>
                  </a:lnTo>
                  <a:lnTo>
                    <a:pt x="123" y="324"/>
                  </a:lnTo>
                  <a:lnTo>
                    <a:pt x="188" y="332"/>
                  </a:lnTo>
                  <a:lnTo>
                    <a:pt x="252" y="310"/>
                  </a:lnTo>
                  <a:lnTo>
                    <a:pt x="310" y="252"/>
                  </a:lnTo>
                  <a:lnTo>
                    <a:pt x="332" y="188"/>
                  </a:lnTo>
                  <a:lnTo>
                    <a:pt x="324" y="123"/>
                  </a:lnTo>
                  <a:lnTo>
                    <a:pt x="296" y="58"/>
                  </a:lnTo>
                  <a:lnTo>
                    <a:pt x="231" y="15"/>
                  </a:lnTo>
                  <a:lnTo>
                    <a:pt x="166" y="0"/>
                  </a:lnTo>
                  <a:lnTo>
                    <a:pt x="101" y="15"/>
                  </a:lnTo>
                  <a:lnTo>
                    <a:pt x="36" y="58"/>
                  </a:lnTo>
                  <a:lnTo>
                    <a:pt x="8" y="123"/>
                  </a:lnTo>
                  <a:lnTo>
                    <a:pt x="0" y="16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52480" y="2346840"/>
              <a:ext cx="54720" cy="54720"/>
            </a:xfrm>
            <a:custGeom>
              <a:avLst/>
              <a:gdLst/>
              <a:ahLst/>
              <a:rect l="l" t="t" r="r" b="b"/>
              <a:pathLst>
                <a:path w="332" h="332">
                  <a:moveTo>
                    <a:pt x="0" y="166"/>
                  </a:moveTo>
                  <a:lnTo>
                    <a:pt x="15" y="231"/>
                  </a:lnTo>
                  <a:lnTo>
                    <a:pt x="58" y="296"/>
                  </a:lnTo>
                  <a:lnTo>
                    <a:pt x="123" y="324"/>
                  </a:lnTo>
                  <a:lnTo>
                    <a:pt x="188" y="332"/>
                  </a:lnTo>
                  <a:lnTo>
                    <a:pt x="252" y="310"/>
                  </a:lnTo>
                  <a:lnTo>
                    <a:pt x="310" y="252"/>
                  </a:lnTo>
                  <a:lnTo>
                    <a:pt x="332" y="188"/>
                  </a:lnTo>
                  <a:lnTo>
                    <a:pt x="324" y="123"/>
                  </a:lnTo>
                  <a:lnTo>
                    <a:pt x="296" y="58"/>
                  </a:lnTo>
                  <a:lnTo>
                    <a:pt x="231" y="15"/>
                  </a:lnTo>
                  <a:lnTo>
                    <a:pt x="166" y="0"/>
                  </a:lnTo>
                  <a:lnTo>
                    <a:pt x="101" y="15"/>
                  </a:lnTo>
                  <a:lnTo>
                    <a:pt x="36" y="58"/>
                  </a:lnTo>
                  <a:lnTo>
                    <a:pt x="8" y="123"/>
                  </a:lnTo>
                  <a:lnTo>
                    <a:pt x="0" y="16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52480" y="2712960"/>
              <a:ext cx="54720" cy="54360"/>
            </a:xfrm>
            <a:custGeom>
              <a:avLst/>
              <a:gdLst/>
              <a:ahLst/>
              <a:rect l="l" t="t" r="r" b="b"/>
              <a:pathLst>
                <a:path w="332" h="331">
                  <a:moveTo>
                    <a:pt x="0" y="166"/>
                  </a:moveTo>
                  <a:lnTo>
                    <a:pt x="15" y="230"/>
                  </a:lnTo>
                  <a:lnTo>
                    <a:pt x="58" y="295"/>
                  </a:lnTo>
                  <a:lnTo>
                    <a:pt x="123" y="324"/>
                  </a:lnTo>
                  <a:lnTo>
                    <a:pt x="188" y="331"/>
                  </a:lnTo>
                  <a:lnTo>
                    <a:pt x="252" y="310"/>
                  </a:lnTo>
                  <a:lnTo>
                    <a:pt x="310" y="252"/>
                  </a:lnTo>
                  <a:lnTo>
                    <a:pt x="332" y="187"/>
                  </a:lnTo>
                  <a:lnTo>
                    <a:pt x="324" y="122"/>
                  </a:lnTo>
                  <a:lnTo>
                    <a:pt x="296" y="58"/>
                  </a:lnTo>
                  <a:lnTo>
                    <a:pt x="231" y="14"/>
                  </a:lnTo>
                  <a:lnTo>
                    <a:pt x="166" y="0"/>
                  </a:lnTo>
                  <a:lnTo>
                    <a:pt x="101" y="14"/>
                  </a:lnTo>
                  <a:lnTo>
                    <a:pt x="36" y="58"/>
                  </a:lnTo>
                  <a:lnTo>
                    <a:pt x="8" y="122"/>
                  </a:lnTo>
                  <a:lnTo>
                    <a:pt x="0" y="16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006080" y="2286360"/>
              <a:ext cx="95040" cy="527760"/>
            </a:xfrm>
            <a:custGeom>
              <a:avLst/>
              <a:gdLst/>
              <a:ahLst/>
              <a:rect l="l" t="t" r="r" b="b"/>
              <a:pathLst>
                <a:path w="576" h="3197">
                  <a:moveTo>
                    <a:pt x="360" y="0"/>
                  </a:moveTo>
                  <a:lnTo>
                    <a:pt x="223" y="195"/>
                  </a:lnTo>
                  <a:lnTo>
                    <a:pt x="115" y="411"/>
                  </a:lnTo>
                  <a:lnTo>
                    <a:pt x="43" y="641"/>
                  </a:lnTo>
                  <a:lnTo>
                    <a:pt x="0" y="886"/>
                  </a:lnTo>
                  <a:lnTo>
                    <a:pt x="0" y="1123"/>
                  </a:lnTo>
                  <a:lnTo>
                    <a:pt x="36" y="1368"/>
                  </a:lnTo>
                  <a:lnTo>
                    <a:pt x="108" y="1591"/>
                  </a:lnTo>
                  <a:lnTo>
                    <a:pt x="172" y="1721"/>
                  </a:lnTo>
                  <a:lnTo>
                    <a:pt x="252" y="1843"/>
                  </a:lnTo>
                  <a:lnTo>
                    <a:pt x="331" y="1966"/>
                  </a:lnTo>
                  <a:lnTo>
                    <a:pt x="403" y="2088"/>
                  </a:lnTo>
                  <a:lnTo>
                    <a:pt x="475" y="2203"/>
                  </a:lnTo>
                  <a:lnTo>
                    <a:pt x="525" y="2326"/>
                  </a:lnTo>
                  <a:lnTo>
                    <a:pt x="568" y="2455"/>
                  </a:lnTo>
                  <a:lnTo>
                    <a:pt x="576" y="2585"/>
                  </a:lnTo>
                  <a:lnTo>
                    <a:pt x="561" y="2722"/>
                  </a:lnTo>
                  <a:lnTo>
                    <a:pt x="504" y="2873"/>
                  </a:lnTo>
                  <a:lnTo>
                    <a:pt x="410" y="3031"/>
                  </a:lnTo>
                  <a:lnTo>
                    <a:pt x="266" y="319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60720" y="2286360"/>
              <a:ext cx="95040" cy="527760"/>
            </a:xfrm>
            <a:custGeom>
              <a:avLst/>
              <a:gdLst/>
              <a:ahLst/>
              <a:rect l="l" t="t" r="r" b="b"/>
              <a:pathLst>
                <a:path w="576" h="3197">
                  <a:moveTo>
                    <a:pt x="360" y="0"/>
                  </a:moveTo>
                  <a:lnTo>
                    <a:pt x="223" y="195"/>
                  </a:lnTo>
                  <a:lnTo>
                    <a:pt x="115" y="411"/>
                  </a:lnTo>
                  <a:lnTo>
                    <a:pt x="43" y="641"/>
                  </a:lnTo>
                  <a:lnTo>
                    <a:pt x="0" y="886"/>
                  </a:lnTo>
                  <a:lnTo>
                    <a:pt x="0" y="1123"/>
                  </a:lnTo>
                  <a:lnTo>
                    <a:pt x="36" y="1368"/>
                  </a:lnTo>
                  <a:lnTo>
                    <a:pt x="108" y="1591"/>
                  </a:lnTo>
                  <a:lnTo>
                    <a:pt x="173" y="1721"/>
                  </a:lnTo>
                  <a:lnTo>
                    <a:pt x="245" y="1843"/>
                  </a:lnTo>
                  <a:lnTo>
                    <a:pt x="324" y="1966"/>
                  </a:lnTo>
                  <a:lnTo>
                    <a:pt x="403" y="2088"/>
                  </a:lnTo>
                  <a:lnTo>
                    <a:pt x="468" y="2203"/>
                  </a:lnTo>
                  <a:lnTo>
                    <a:pt x="526" y="2326"/>
                  </a:lnTo>
                  <a:lnTo>
                    <a:pt x="562" y="2455"/>
                  </a:lnTo>
                  <a:lnTo>
                    <a:pt x="576" y="2585"/>
                  </a:lnTo>
                  <a:lnTo>
                    <a:pt x="554" y="2722"/>
                  </a:lnTo>
                  <a:lnTo>
                    <a:pt x="504" y="2873"/>
                  </a:lnTo>
                  <a:lnTo>
                    <a:pt x="410" y="3031"/>
                  </a:lnTo>
                  <a:lnTo>
                    <a:pt x="266" y="319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1676520" y="4419720"/>
            <a:ext cx="3657240" cy="1295280"/>
            <a:chOff x="1676520" y="4419720"/>
            <a:chExt cx="3657240" cy="1295280"/>
          </a:xfrm>
        </p:grpSpPr>
        <p:grpSp>
          <p:nvGrpSpPr>
            <p:cNvPr id="691" name=""/>
            <p:cNvGrpSpPr/>
            <p:nvPr/>
          </p:nvGrpSpPr>
          <p:grpSpPr>
            <a:xfrm>
              <a:off x="1676520" y="4419720"/>
              <a:ext cx="2456280" cy="1295280"/>
              <a:chOff x="1676520" y="4419720"/>
              <a:chExt cx="2456280" cy="1295280"/>
            </a:xfrm>
          </p:grpSpPr>
          <p:grpSp>
            <p:nvGrpSpPr>
              <p:cNvPr id="692" name=""/>
              <p:cNvGrpSpPr/>
              <p:nvPr/>
            </p:nvGrpSpPr>
            <p:grpSpPr>
              <a:xfrm>
                <a:off x="1990080" y="4419720"/>
                <a:ext cx="575280" cy="165240"/>
                <a:chOff x="1990080" y="4419720"/>
                <a:chExt cx="575280" cy="16524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1990080" y="4419720"/>
                  <a:ext cx="104400" cy="165240"/>
                </a:xfrm>
                <a:prstGeom prst="ellipse">
                  <a:avLst/>
                </a:prstGeom>
                <a:noFill/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041920" y="4419720"/>
                  <a:ext cx="47052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041920" y="4584960"/>
                  <a:ext cx="47052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2460960" y="4424400"/>
                  <a:ext cx="104400" cy="16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21616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2161613"/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1990080" y="4584960"/>
                <a:ext cx="575280" cy="165240"/>
                <a:chOff x="1990080" y="4584960"/>
                <a:chExt cx="575280" cy="16524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1990080" y="4584960"/>
                  <a:ext cx="104400" cy="165240"/>
                </a:xfrm>
                <a:prstGeom prst="ellipse">
                  <a:avLst/>
                </a:prstGeom>
                <a:noFill/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041920" y="4584960"/>
                  <a:ext cx="47052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041920" y="4750200"/>
                  <a:ext cx="47052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460960" y="4589640"/>
                  <a:ext cx="104400" cy="16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21616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2161613"/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1990080" y="5330880"/>
                <a:ext cx="575280" cy="165240"/>
                <a:chOff x="1990080" y="5330880"/>
                <a:chExt cx="575280" cy="1652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1990080" y="5330880"/>
                  <a:ext cx="104400" cy="165240"/>
                </a:xfrm>
                <a:prstGeom prst="ellipse">
                  <a:avLst/>
                </a:prstGeom>
                <a:noFill/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041920" y="5330880"/>
                  <a:ext cx="470520" cy="0"/>
                </a:xfrm>
                <a:prstGeom prst="line">
                  <a:avLst/>
                </a:prstGeom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041920" y="5496120"/>
                  <a:ext cx="470520" cy="0"/>
                </a:xfrm>
                <a:prstGeom prst="line">
                  <a:avLst/>
                </a:prstGeom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460960" y="5335560"/>
                  <a:ext cx="104400" cy="16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21616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2161613"/>
                    </a:path>
                  </a:pathLst>
                </a:custGeom>
                <a:noFill/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990080" y="5496480"/>
                <a:ext cx="575280" cy="165240"/>
                <a:chOff x="1990080" y="5496480"/>
                <a:chExt cx="575280" cy="16524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990080" y="5496480"/>
                  <a:ext cx="104400" cy="165240"/>
                </a:xfrm>
                <a:prstGeom prst="ellipse">
                  <a:avLst/>
                </a:prstGeom>
                <a:noFill/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2041920" y="5496480"/>
                  <a:ext cx="470520" cy="0"/>
                </a:xfrm>
                <a:prstGeom prst="line">
                  <a:avLst/>
                </a:prstGeom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2041920" y="5661720"/>
                  <a:ext cx="470520" cy="0"/>
                </a:xfrm>
                <a:prstGeom prst="line">
                  <a:avLst/>
                </a:prstGeom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460960" y="5501160"/>
                  <a:ext cx="104400" cy="16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21616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2161613"/>
                    </a:path>
                  </a:pathLst>
                </a:custGeom>
                <a:noFill/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2862720" y="4671360"/>
                <a:ext cx="627120" cy="607680"/>
                <a:chOff x="2862720" y="4671360"/>
                <a:chExt cx="627120" cy="607680"/>
              </a:xfrm>
            </p:grpSpPr>
            <p:grpSp>
              <p:nvGrpSpPr>
                <p:cNvPr id="713" name=""/>
                <p:cNvGrpSpPr/>
                <p:nvPr/>
              </p:nvGrpSpPr>
              <p:grpSpPr>
                <a:xfrm>
                  <a:off x="3333240" y="4671360"/>
                  <a:ext cx="156600" cy="606600"/>
                  <a:chOff x="3333240" y="4671360"/>
                  <a:chExt cx="156600" cy="606600"/>
                </a:xfrm>
              </p:grpSpPr>
              <p:sp>
                <p:nvSpPr>
                  <p:cNvPr id="714" name=""/>
                  <p:cNvSpPr/>
                  <p:nvPr/>
                </p:nvSpPr>
                <p:spPr>
                  <a:xfrm rot="5400000">
                    <a:off x="3356280" y="4647960"/>
                    <a:ext cx="110160" cy="156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3489840" y="472608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3333240" y="472608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rot="5400000">
                    <a:off x="3354480" y="5146920"/>
                    <a:ext cx="110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1616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161613"/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3176640" y="4671360"/>
                  <a:ext cx="156600" cy="606600"/>
                  <a:chOff x="3176640" y="4671360"/>
                  <a:chExt cx="156600" cy="60660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rot="5400000">
                    <a:off x="3199680" y="4647960"/>
                    <a:ext cx="110160" cy="156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3333240" y="472608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3176640" y="472608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rot="5400000">
                    <a:off x="3197880" y="5146920"/>
                    <a:ext cx="110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1616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161613"/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3019680" y="4672440"/>
                  <a:ext cx="156600" cy="606600"/>
                  <a:chOff x="3019680" y="4672440"/>
                  <a:chExt cx="156600" cy="60660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 rot="5400000">
                    <a:off x="3042720" y="4649040"/>
                    <a:ext cx="110160" cy="156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3176280" y="472716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3019680" y="472716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rot="5400000">
                    <a:off x="3040920" y="5148000"/>
                    <a:ext cx="110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1616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161613"/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8" name=""/>
                <p:cNvGrpSpPr/>
                <p:nvPr/>
              </p:nvGrpSpPr>
              <p:grpSpPr>
                <a:xfrm>
                  <a:off x="2862720" y="4672440"/>
                  <a:ext cx="156600" cy="606600"/>
                  <a:chOff x="2862720" y="4672440"/>
                  <a:chExt cx="156600" cy="60660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 rot="5400000">
                    <a:off x="2885760" y="4649040"/>
                    <a:ext cx="110160" cy="156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3019320" y="472716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2862720" y="472716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rot="5400000">
                    <a:off x="2883960" y="5148000"/>
                    <a:ext cx="110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1616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161613"/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33" name=""/>
              <p:cNvSpPr/>
              <p:nvPr/>
            </p:nvSpPr>
            <p:spPr>
              <a:xfrm>
                <a:off x="1676520" y="5441400"/>
                <a:ext cx="36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76520" y="5607000"/>
                <a:ext cx="36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76520" y="4514760"/>
                <a:ext cx="36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676520" y="4680360"/>
                <a:ext cx="36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566440" y="5607000"/>
                <a:ext cx="54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566440" y="469548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566440" y="4474800"/>
                <a:ext cx="19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"/>
              <p:cNvGrpSpPr/>
              <p:nvPr/>
            </p:nvGrpSpPr>
            <p:grpSpPr>
              <a:xfrm>
                <a:off x="3505680" y="4671360"/>
                <a:ext cx="627120" cy="607680"/>
                <a:chOff x="3505680" y="4671360"/>
                <a:chExt cx="627120" cy="607680"/>
              </a:xfrm>
            </p:grpSpPr>
            <p:grpSp>
              <p:nvGrpSpPr>
                <p:cNvPr id="741" name=""/>
                <p:cNvGrpSpPr/>
                <p:nvPr/>
              </p:nvGrpSpPr>
              <p:grpSpPr>
                <a:xfrm>
                  <a:off x="3976200" y="4671360"/>
                  <a:ext cx="156600" cy="606600"/>
                  <a:chOff x="3976200" y="4671360"/>
                  <a:chExt cx="156600" cy="60660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 rot="5400000">
                    <a:off x="3999240" y="4647960"/>
                    <a:ext cx="110160" cy="156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4132800" y="472608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3976200" y="472608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rot="5400000">
                    <a:off x="3997440" y="5146920"/>
                    <a:ext cx="110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1616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161613"/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6" name=""/>
                <p:cNvGrpSpPr/>
                <p:nvPr/>
              </p:nvGrpSpPr>
              <p:grpSpPr>
                <a:xfrm>
                  <a:off x="3819600" y="4671360"/>
                  <a:ext cx="156600" cy="606600"/>
                  <a:chOff x="3819600" y="4671360"/>
                  <a:chExt cx="156600" cy="60660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 rot="5400000">
                    <a:off x="3842640" y="4647960"/>
                    <a:ext cx="110160" cy="156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976200" y="472608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3819600" y="472608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rot="5400000">
                    <a:off x="3840840" y="5146920"/>
                    <a:ext cx="110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1616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161613"/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3662640" y="4672440"/>
                  <a:ext cx="156600" cy="606600"/>
                  <a:chOff x="3662640" y="4672440"/>
                  <a:chExt cx="156600" cy="60660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 rot="5400000">
                    <a:off x="3685680" y="4649040"/>
                    <a:ext cx="110160" cy="156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3819240" y="472716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3662640" y="472716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rot="5400000">
                    <a:off x="3683880" y="5148000"/>
                    <a:ext cx="110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1616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161613"/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6" name=""/>
                <p:cNvGrpSpPr/>
                <p:nvPr/>
              </p:nvGrpSpPr>
              <p:grpSpPr>
                <a:xfrm>
                  <a:off x="3505680" y="4672440"/>
                  <a:ext cx="156600" cy="606600"/>
                  <a:chOff x="3505680" y="4672440"/>
                  <a:chExt cx="156600" cy="606600"/>
                </a:xfrm>
              </p:grpSpPr>
              <p:sp>
                <p:nvSpPr>
                  <p:cNvPr id="757" name=""/>
                  <p:cNvSpPr/>
                  <p:nvPr/>
                </p:nvSpPr>
                <p:spPr>
                  <a:xfrm rot="5400000">
                    <a:off x="3528720" y="4649040"/>
                    <a:ext cx="110160" cy="156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3662280" y="472716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3505680" y="472716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rot="5400000">
                    <a:off x="3526920" y="5148000"/>
                    <a:ext cx="110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1616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161613"/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61" name=""/>
              <p:cNvSpPr/>
              <p:nvPr/>
            </p:nvSpPr>
            <p:spPr>
              <a:xfrm>
                <a:off x="2911680" y="5296680"/>
                <a:ext cx="0" cy="10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566440" y="5401080"/>
                <a:ext cx="345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110400" y="5297760"/>
                <a:ext cx="0" cy="31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3110400" y="4619880"/>
                <a:ext cx="0" cy="10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110400" y="4619880"/>
                <a:ext cx="147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3258360" y="529632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2962080" y="451440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962080" y="4514760"/>
                <a:ext cx="444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3406320" y="5297400"/>
                <a:ext cx="0" cy="41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3258360" y="4619880"/>
                <a:ext cx="0" cy="10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3406320" y="451440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664360" y="4691880"/>
                <a:ext cx="0" cy="813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763720" y="4463280"/>
                <a:ext cx="0" cy="1251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664360" y="5505840"/>
                <a:ext cx="59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763720" y="5715000"/>
                <a:ext cx="642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4444200" y="4419720"/>
              <a:ext cx="575640" cy="165240"/>
              <a:chOff x="4444200" y="4419720"/>
              <a:chExt cx="575640" cy="165240"/>
            </a:xfrm>
          </p:grpSpPr>
          <p:sp>
            <p:nvSpPr>
              <p:cNvPr id="777" name=""/>
              <p:cNvSpPr/>
              <p:nvPr/>
            </p:nvSpPr>
            <p:spPr>
              <a:xfrm flipH="1">
                <a:off x="4915440" y="4419720"/>
                <a:ext cx="104400" cy="165240"/>
              </a:xfrm>
              <a:prstGeom prst="ellipse">
                <a:avLst/>
              </a:pr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4497120" y="4419720"/>
                <a:ext cx="4708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4497120" y="4584960"/>
                <a:ext cx="4708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4444200" y="4424400"/>
                <a:ext cx="104400" cy="16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21616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2161613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4444200" y="4584960"/>
              <a:ext cx="575640" cy="165240"/>
              <a:chOff x="4444200" y="4584960"/>
              <a:chExt cx="575640" cy="165240"/>
            </a:xfrm>
          </p:grpSpPr>
          <p:sp>
            <p:nvSpPr>
              <p:cNvPr id="782" name=""/>
              <p:cNvSpPr/>
              <p:nvPr/>
            </p:nvSpPr>
            <p:spPr>
              <a:xfrm flipH="1">
                <a:off x="4915440" y="4584960"/>
                <a:ext cx="104400" cy="165240"/>
              </a:xfrm>
              <a:prstGeom prst="ellipse">
                <a:avLst/>
              </a:pr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4497120" y="4584960"/>
                <a:ext cx="4708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497120" y="4750200"/>
                <a:ext cx="4708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4444200" y="4589640"/>
                <a:ext cx="104400" cy="16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21616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2161613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4444200" y="5330880"/>
              <a:ext cx="575640" cy="165240"/>
              <a:chOff x="4444200" y="5330880"/>
              <a:chExt cx="575640" cy="165240"/>
            </a:xfrm>
          </p:grpSpPr>
          <p:sp>
            <p:nvSpPr>
              <p:cNvPr id="787" name=""/>
              <p:cNvSpPr/>
              <p:nvPr/>
            </p:nvSpPr>
            <p:spPr>
              <a:xfrm flipH="1">
                <a:off x="4915440" y="5330880"/>
                <a:ext cx="104400" cy="165240"/>
              </a:xfrm>
              <a:prstGeom prst="ellipse">
                <a:avLst/>
              </a:prstGeom>
              <a:noFill/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4497120" y="5330880"/>
                <a:ext cx="47088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4497120" y="5496120"/>
                <a:ext cx="47088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4444200" y="5335560"/>
                <a:ext cx="104400" cy="16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21616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2161613"/>
                  </a:path>
                </a:pathLst>
              </a:custGeom>
              <a:noFill/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4444200" y="5496480"/>
              <a:ext cx="575640" cy="165240"/>
              <a:chOff x="4444200" y="5496480"/>
              <a:chExt cx="575640" cy="165240"/>
            </a:xfrm>
          </p:grpSpPr>
          <p:sp>
            <p:nvSpPr>
              <p:cNvPr id="792" name=""/>
              <p:cNvSpPr/>
              <p:nvPr/>
            </p:nvSpPr>
            <p:spPr>
              <a:xfrm flipH="1">
                <a:off x="4915440" y="5496480"/>
                <a:ext cx="104400" cy="165240"/>
              </a:xfrm>
              <a:prstGeom prst="ellipse">
                <a:avLst/>
              </a:prstGeom>
              <a:noFill/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4497120" y="5496480"/>
                <a:ext cx="47088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4497120" y="5661720"/>
                <a:ext cx="47088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4444200" y="5501160"/>
                <a:ext cx="104400" cy="16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21616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2161613"/>
                  </a:path>
                </a:pathLst>
              </a:custGeom>
              <a:noFill/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 flipH="1">
              <a:off x="4967640" y="5441400"/>
              <a:ext cx="36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967640" y="5607000"/>
              <a:ext cx="36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4967640" y="4514760"/>
              <a:ext cx="36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4967640" y="4680360"/>
              <a:ext cx="36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900240" y="5607000"/>
              <a:ext cx="543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4339080" y="4695480"/>
              <a:ext cx="10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246200" y="4474800"/>
              <a:ext cx="19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098600" y="5296680"/>
              <a:ext cx="0" cy="10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4098600" y="5401080"/>
              <a:ext cx="34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900240" y="5297760"/>
              <a:ext cx="0" cy="31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900240" y="4619880"/>
              <a:ext cx="0" cy="10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751560" y="4619880"/>
              <a:ext cx="14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3751920" y="5296320"/>
              <a:ext cx="0" cy="2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4048560" y="4514400"/>
              <a:ext cx="0" cy="2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603960" y="451476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603960" y="5297400"/>
              <a:ext cx="0" cy="41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3751920" y="4619880"/>
              <a:ext cx="0" cy="10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603960" y="4514400"/>
              <a:ext cx="0" cy="2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345920" y="4691880"/>
              <a:ext cx="0" cy="81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246560" y="4463280"/>
              <a:ext cx="0" cy="125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751920" y="5505840"/>
              <a:ext cx="59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603600" y="5715000"/>
              <a:ext cx="642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2130480" cy="151128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251040" y="43434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405120" y="12193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10040" y="38498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89960" y="129528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905120" y="304920"/>
            <a:ext cx="5333760" cy="609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FE28-9B96-4D03-9859-1C2994ED2D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93280" cy="6330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</p:pic>
      <p:sp>
        <p:nvSpPr>
          <p:cNvPr id="826" name=""/>
          <p:cNvSpPr/>
          <p:nvPr/>
        </p:nvSpPr>
        <p:spPr>
          <a:xfrm>
            <a:off x="5867280" y="2743200"/>
            <a:ext cx="106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IS COOK      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324480" y="4648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410080" y="6248520"/>
            <a:ext cx="2895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I and SI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362320"/>
            <a:ext cx="243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ification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990720"/>
            <a:ext cx="1371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752480" y="6019920"/>
            <a:ext cx="1981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BI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rot="19800000">
            <a:off x="1600200" y="3885840"/>
            <a:ext cx="1828800" cy="533520"/>
          </a:xfrm>
          <a:prstGeom prst="leftArrow">
            <a:avLst>
              <a:gd name="adj1" fmla="val 50000"/>
              <a:gd name="adj2" fmla="val 8569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G I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391520" y="1143000"/>
            <a:ext cx="99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543800" y="1752480"/>
            <a:ext cx="1447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man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476360" cy="172692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7315200" y="396252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-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676520" y="655308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295280" y="76320"/>
            <a:ext cx="71629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JEITA IBIS Model Portal site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99BE-CF67-440E-8FD2-40491DA426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914400" y="56386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upport for IBIS Us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621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 Documenta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K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 Library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IS Model Storage r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 Training / IBIS E-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 Free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85800" y="533520"/>
            <a:ext cx="8077320" cy="609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ITA IBIS  Model Portal Site Cont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C09D-C096-49CC-8204-29CD177984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0" y="2971800"/>
            <a:ext cx="9144000" cy="1219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3581280" cy="268452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362320" cy="1306800"/>
          </a:xfrm>
          <a:prstGeom prst="rect">
            <a:avLst/>
          </a:prstGeom>
          <a:ln cap="sq" w="12600">
            <a:solidFill>
              <a:srgbClr val="3333cc"/>
            </a:solidFill>
            <a:miter/>
          </a:ln>
        </p:spPr>
      </p:pic>
      <p:sp>
        <p:nvSpPr>
          <p:cNvPr id="846" name=""/>
          <p:cNvSpPr/>
          <p:nvPr/>
        </p:nvSpPr>
        <p:spPr>
          <a:xfrm>
            <a:off x="1066680" y="2209680"/>
            <a:ext cx="1371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666880" y="228600"/>
            <a:ext cx="1447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819520" y="2362320"/>
            <a:ext cx="1371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e/Fall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80880" y="1219320"/>
            <a:ext cx="1905120" cy="94716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dicate IB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3"/>
          <a:stretch/>
        </p:blipFill>
        <p:spPr>
          <a:xfrm>
            <a:off x="304920" y="4267080"/>
            <a:ext cx="2590560" cy="242748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4"/>
          <a:stretch/>
        </p:blipFill>
        <p:spPr>
          <a:xfrm>
            <a:off x="4572000" y="4267080"/>
            <a:ext cx="2523960" cy="236556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1905120" y="4290840"/>
            <a:ext cx="99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029280" y="4324320"/>
            <a:ext cx="914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446200" y="5784840"/>
            <a:ext cx="276696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orrection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IB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5"/>
          <a:stretch/>
        </p:blipFill>
        <p:spPr>
          <a:xfrm>
            <a:off x="5638680" y="380880"/>
            <a:ext cx="3276720" cy="183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6" name="" descr=""/>
          <p:cNvPicPr/>
          <p:nvPr/>
        </p:nvPicPr>
        <p:blipFill>
          <a:blip r:embed="rId6"/>
          <a:stretch/>
        </p:blipFill>
        <p:spPr>
          <a:xfrm>
            <a:off x="7253280" y="1447920"/>
            <a:ext cx="1828800" cy="152532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6574320" y="2560680"/>
            <a:ext cx="233424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Validate IB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4367160"/>
            <a:ext cx="1066680" cy="762120"/>
          </a:xfrm>
          <a:prstGeom prst="rightArrow">
            <a:avLst>
              <a:gd name="adj1" fmla="val 50000"/>
              <a:gd name="adj2" fmla="val 34991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895480" y="50292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2280" y="3124080"/>
            <a:ext cx="8839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IBISIndicato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IBIS Quality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KAW/JAPAN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ww.kaw.co.j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786800" y="16002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562720" y="1676520"/>
            <a:ext cx="11430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96080" y="685800"/>
            <a:ext cx="11430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362320" y="1980720"/>
            <a:ext cx="53316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352680" y="91440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657600" y="2057400"/>
            <a:ext cx="6094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7"/>
          <a:stretch/>
        </p:blipFill>
        <p:spPr>
          <a:xfrm>
            <a:off x="7315200" y="4267080"/>
            <a:ext cx="1523880" cy="9144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868" name=""/>
          <p:cNvSpPr/>
          <p:nvPr/>
        </p:nvSpPr>
        <p:spPr>
          <a:xfrm>
            <a:off x="7391520" y="5181480"/>
            <a:ext cx="1447560" cy="1008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dicate Signal Wa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91120" y="297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5D12-9917-42E6-A1B4-07821E3475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838080" y="1676520"/>
            <a:ext cx="7696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hank you for all the hel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EIA/IBIS Committee!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D5B74-E2DF-48CD-8B9A-72976AFA26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440" y="609480"/>
            <a:ext cx="9137160" cy="46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Out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EITA EDA-WG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Short Term Direction of JEITA EDA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Study of  Interconnect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. JEITA IBIS Model Portal s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1CA0B-FC0A-472E-88FB-2CC21D4F00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66680" y="1419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01004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Auto Mobile Electronic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5640" y="317016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gital , RF, and Analog circu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5240" y="46180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(Motor Drive, EM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2920" y="2484360"/>
            <a:ext cx="41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 Phone, LCD /PDP TV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Camera/Video, DVD Rec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1952640"/>
            <a:ext cx="601956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933720"/>
            <a:ext cx="601956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6840" y="2027160"/>
            <a:ext cx="51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8840" y="5762520"/>
            <a:ext cx="45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Applicability of IBIS V4.1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762120"/>
            <a:ext cx="7696440" cy="5331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 of JEITA 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2000" y="-157320"/>
            <a:ext cx="617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JEITA EDA-W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46D37-3B4A-4BF9-932F-53FDB3D2321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880"/>
            <a:ext cx="8534160" cy="1067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I, SI and P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Digital Consumer Electroni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3240" y="1752480"/>
            <a:ext cx="7238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&lt;Backgrou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I      High-speed Clock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        DDR, PCI, PCI-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         High density and Large scale 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iP and Module, PCB lev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MI, SI and PI Simulation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D25F4-2BFC-4691-B1D9-4AE14C7C33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3554280"/>
            <a:ext cx="1763640" cy="142920"/>
          </a:xfrm>
          <a:custGeom>
            <a:avLst/>
            <a:gdLst>
              <a:gd name="textAreaLeft" fmla="*/ 0 w 1763640"/>
              <a:gd name="textAreaRight" fmla="*/ 1764000 w 1763640"/>
              <a:gd name="textAreaTop" fmla="*/ 18360 h 142920"/>
              <a:gd name="textAreaBottom" fmla="*/ 12456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523880"/>
            <a:ext cx="5970600" cy="4248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99000" y="2919240"/>
            <a:ext cx="2089080" cy="1440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96200" y="4621320"/>
            <a:ext cx="14500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573200"/>
            <a:ext cx="1506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7120" y="3097080"/>
            <a:ext cx="1872360" cy="11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LCR, Fil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04880" y="1687680"/>
            <a:ext cx="1907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78440" y="4711680"/>
            <a:ext cx="12643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8160" y="3859200"/>
            <a:ext cx="1872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6040" y="3021120"/>
            <a:ext cx="1179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72760" y="2046240"/>
            <a:ext cx="7887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4764240"/>
            <a:ext cx="17337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stal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05200" y="3855960"/>
            <a:ext cx="1805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72080" y="2990880"/>
            <a:ext cx="1657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8240" y="24876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SI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80880"/>
            <a:ext cx="853416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 for EMI, SI and PI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42DA8-BE5D-4C84-8FDF-D00594B420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3880" y="160020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438280"/>
            <a:ext cx="1828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962520"/>
            <a:ext cx="220968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micondu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1600200"/>
            <a:ext cx="19051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LCR, Filte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5029200"/>
            <a:ext cx="23623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5562720"/>
            <a:ext cx="17528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5562720"/>
            <a:ext cx="12193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3962520"/>
            <a:ext cx="838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4648320"/>
            <a:ext cx="1143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167652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2057400"/>
            <a:ext cx="1295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289548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514600" y="40381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209680" y="4266720"/>
            <a:ext cx="12193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95680" y="4495680"/>
            <a:ext cx="763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62360" y="441936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400440" y="4191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7086240" y="3580920"/>
            <a:ext cx="685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715000" y="22860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876920" y="2133360"/>
            <a:ext cx="75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743200"/>
            <a:ext cx="4496040" cy="175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A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28600"/>
            <a:ext cx="85345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f EDA Model for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320" y="838080"/>
            <a:ext cx="31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0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89360" y="518148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lexible Printed Circuit Board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23A9-9808-4C00-A168-974746FFB3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27720" y="2049480"/>
            <a:ext cx="154296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58840" y="4084560"/>
            <a:ext cx="1824120" cy="63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in D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83280" y="2471760"/>
            <a:ext cx="119232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D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u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5240" y="4716360"/>
            <a:ext cx="1065240" cy="69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eih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63760" y="2681280"/>
            <a:ext cx="1194120" cy="70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982960" y="4295880"/>
            <a:ext cx="42228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334120" y="4952880"/>
            <a:ext cx="71280" cy="98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982920" y="4576320"/>
            <a:ext cx="561960" cy="35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913440" y="3173040"/>
            <a:ext cx="560520" cy="49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99200" y="2750760"/>
            <a:ext cx="0" cy="5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0" y="3313080"/>
            <a:ext cx="4000680" cy="161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DA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913120" y="4646520"/>
            <a:ext cx="912600" cy="98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9000" y="1936800"/>
            <a:ext cx="14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8160" y="4786200"/>
            <a:ext cx="23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EDA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(internal/vend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4320" y="54864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Conn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06280" y="43909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P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7200" y="17240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Semi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5040" y="18637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Pass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8560" y="3759120"/>
            <a:ext cx="17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Discrete</a:t>
            </a:r>
            <a:r>
              <a:rPr b="1" i="1" lang="zh-CN" sz="1800" spc="-1" strike="noStrike">
                <a:solidFill>
                  <a:srgbClr val="cc3300"/>
                </a:solidFill>
                <a:latin typeface="Arial"/>
              </a:rPr>
              <a:t>　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46440" y="5811840"/>
            <a:ext cx="1614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380880"/>
            <a:ext cx="746748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ITA EDA-WG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101772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6 Major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5137200"/>
            <a:ext cx="2286000" cy="126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itsubi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dence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30320" y="1909800"/>
            <a:ext cx="1403280" cy="175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nas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a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863AE-8C9D-405F-8B65-D035742009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28600"/>
            <a:ext cx="86868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Short Term Direction of JEITA EDA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7400" y="990720"/>
            <a:ext cx="8417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of  Interconnect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IS Models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assive Component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nector and other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ITA IBIS Model 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about Case study of Simulation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Consumer Electron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EITA-IBIS Joint mee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od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8F9A8-785F-4542-B401-A97DF78041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0"/>
            <a:ext cx="74674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Study of Interconnect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685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I Model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nnector, PCB, Cable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6560" y="2343240"/>
            <a:ext cx="1081080" cy="1439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99280" y="2343240"/>
            <a:ext cx="1081080" cy="1439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82920" y="2774880"/>
            <a:ext cx="289080" cy="57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4560" y="2774880"/>
            <a:ext cx="289080" cy="57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2846520"/>
            <a:ext cx="158256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255888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277488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99088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320688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342252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6960" y="4572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le, FP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4952880"/>
            <a:ext cx="151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364000" y="3278160"/>
            <a:ext cx="655920" cy="167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6960" y="16002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48360" y="1904760"/>
            <a:ext cx="11761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572000" y="1911240"/>
            <a:ext cx="57456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46560" y="1911240"/>
            <a:ext cx="100800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9040" y="40384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733920" y="4419720"/>
            <a:ext cx="1795320" cy="1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492000" y="3573360"/>
            <a:ext cx="241560" cy="92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2421000"/>
            <a:ext cx="1511280" cy="122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2637000"/>
            <a:ext cx="647640" cy="50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8000" y="2565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2781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2997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3213000"/>
            <a:ext cx="14472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342900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0920" y="263700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285264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306864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328464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350028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33080" y="414828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403280" y="4495680"/>
            <a:ext cx="1949400" cy="1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900000" y="3644640"/>
            <a:ext cx="50184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30160" y="113832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form measurement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144792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40360" y="1484280"/>
            <a:ext cx="358560" cy="144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1447920"/>
            <a:ext cx="547560" cy="14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2924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2997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3068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67280" y="3139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67280" y="3213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42200" y="2852640"/>
            <a:ext cx="50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42200" y="2924280"/>
            <a:ext cx="50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6948360" y="2852280"/>
            <a:ext cx="7164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48560" y="270828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000560" y="2708280"/>
            <a:ext cx="64764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68920" y="23623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263700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564000" y="2852640"/>
            <a:ext cx="503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564000" y="306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564000" y="3139920"/>
            <a:ext cx="503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564000" y="321300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299736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30686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6950160" y="2997360"/>
            <a:ext cx="7128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43640" y="313992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43640" y="321156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6949800" y="3139560"/>
            <a:ext cx="7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6520" y="1066680"/>
            <a:ext cx="158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api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CI-Ex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product figure"/>
          <p:cNvPicPr/>
          <p:nvPr/>
        </p:nvPicPr>
        <p:blipFill>
          <a:blip r:embed="rId1"/>
          <a:stretch/>
        </p:blipFill>
        <p:spPr>
          <a:xfrm>
            <a:off x="380880" y="4648320"/>
            <a:ext cx="2676600" cy="2028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043800" y="4876920"/>
            <a:ext cx="195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E (Japan Avi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onics Indus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-X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3200400"/>
            <a:ext cx="152640" cy="152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3124080"/>
            <a:ext cx="152280" cy="1526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8920" y="388620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477120" y="3200400"/>
            <a:ext cx="7596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114800" y="3352320"/>
            <a:ext cx="236232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419112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0249-482A-4275-9DEA-146441B707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13:22:28Z</dcterms:created>
  <dc:creator>A.Ito</dc:creator>
  <dc:description/>
  <dc:language>en-US</dc:language>
  <cp:lastModifiedBy>渡辺　毅</cp:lastModifiedBy>
  <dcterms:modified xsi:type="dcterms:W3CDTF">2005-11-07T01:39:42Z</dcterms:modified>
  <cp:revision>326</cp:revision>
  <dc:subject/>
  <dc:title>JEI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4875680</vt:r8>
  </property>
  <property fmtid="{D5CDD505-2E9C-101B-9397-08002B2CF9AE}" pid="3" name="_AuthorEmail">
    <vt:lpwstr>takeshi.watanabe@necel.com</vt:lpwstr>
  </property>
  <property fmtid="{D5CDD505-2E9C-101B-9397-08002B2CF9AE}" pid="4" name="_AuthorEmailDisplayName">
    <vt:lpwstr>Takeshi Watanabe</vt:lpwstr>
  </property>
  <property fmtid="{D5CDD505-2E9C-101B-9397-08002B2CF9AE}" pid="5" name="_EmailSubject">
    <vt:lpwstr>Asian IBIS Summit Presentions - Second Reminder</vt:lpwstr>
  </property>
</Properties>
</file>