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1FDD-354F-4EC1-A887-641019037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5FAA-AFFF-4BF2-83EC-F4D650CDB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A86F-9429-4F5D-A8A6-7003D7DB8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FF58-96E6-4E69-B88B-35A3A66A3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1EAF-2D38-4CB0-A6B5-24C6112B7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B269-21A2-4F82-9547-789E428FF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B213-D8CA-492D-9D13-D59B43521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ADB1-6235-4551-88DA-CD952AB0D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62B8-B4F1-40CA-85A3-93B9C6B6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332B-4AEC-4BB0-9AEA-539674B85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Data of QDR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y reuse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gnificance or Picture to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margin is achie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n complex source source synch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as much of environment as possible (data,models, environment, DV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99E7-0013-4F2F-ACC8-569ECF05D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E034-21E3-472E-93EE-68FA06075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2B96-EFE5-4C2D-98B6-556E896A8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6672-D4CF-4A5D-8F1C-71A81864F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C11-D7CC-4392-A767-ECE7CB9B31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F7D-B6A4-421A-94B5-3F27235979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B06-D685-4829-B7A3-23A39676DA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AA2-4CDD-43A9-B3FB-79A962B80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6AF-6088-4EAC-9F9B-E66B0A0ED8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F30-BA79-4CC0-8CE1-62B40AC512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CE9-23AF-447E-9394-A931E03AE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298C-B4CB-4FDD-82B4-9AE282DD8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85E-A386-4C51-91CE-21E8734C27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05F-6197-497D-9E9F-0FF835B5E5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4B2-15A7-4D1A-8DCD-F83405A211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935-A85F-4D25-B668-9EB0B03AE4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584-072E-4D52-88C6-36434BEAE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4D76-C621-4B41-9E31-3ABC1BDCB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CFA0-91A1-4891-8089-9A974A453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5048-F916-49C7-B58A-FB6A3A273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0757-CD3B-41DA-9F4F-0A81DB765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41BF-7CBF-4EDE-9F78-1F39F69C8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6829-ADDD-4F57-B182-6D2FBC2DA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8622-A1BE-4C8D-993A-AF93AE7CE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096920" indent="-181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5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6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2672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BF09-5665-4348-843B-C4F738C6210F}" type="slidenum">
              <a:rPr b="0" lang="en-US" sz="10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20600" y="6297480"/>
            <a:ext cx="103356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744880" y="6202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sian IBIS Summ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516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3"/>
          </p:nvPr>
        </p:nvSpPr>
        <p:spPr>
          <a:xfrm>
            <a:off x="3514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6F60-6B64-42F8-8D5C-CA55F2E20CC6}" type="slidenum">
              <a:rPr b="0" lang="en-US" sz="10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3200" y="318960"/>
            <a:ext cx="1811520" cy="69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45240" y="620244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ian IBIS Sum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63324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91584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4" marL="121140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5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6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516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 Narrow"/>
              </a:rPr>
              <a:t>IBIS Models for DDR2 Analysis</a:t>
            </a:r>
            <a:br>
              <a:rPr sz="3600"/>
            </a:b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Asian IBIS Summit 2005 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80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arry Katz, President and CTO, SiSof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3B0-3CAD-42FB-8866-E7868D44F7C5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ODT Modeling in IBIS</a:t>
            </a:r>
            <a:br>
              <a:rPr sz="1600"/>
            </a:b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ree options for ODT mode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3720" indent="-174240">
              <a:spcBef>
                <a:spcPts val="601"/>
              </a:spcBef>
              <a:buClr>
                <a:srgbClr val="ffffff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6 separate I-V curv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rmal [Pullup], [Pulldown], [POWER Clamp] and [GND Clamp] tabl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DT I-V curves included as [Submodel] tabl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[Submodel] usage creates portability issu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3720" indent="-174240">
              <a:spcBef>
                <a:spcPts val="601"/>
              </a:spcBef>
              <a:buClr>
                <a:srgbClr val="ffffff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parate receive ODT-enabled mod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quires switching in of separate mod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reases complexity of simul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parate simulations for every ca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3720" indent="-174240">
              <a:spcBef>
                <a:spcPts val="601"/>
              </a:spcBef>
              <a:buClr>
                <a:srgbClr val="ffffff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4 I-V curve model with ODT enabled in receive mod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440" indent="-1666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orks well, but makes IBIS [Pullup] and [Pulldown] non-monotonic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085760" indent="-17892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s is OK because sum of [Pullup] and [Pulldown] with Clamp curves is monotoni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0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527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718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71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9BD6-63CA-4D4D-8357-A53D2E3FA6CB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ODT Modeling in IBIS – Thevenin ODT approach</a:t>
            </a:r>
            <a:br>
              <a:rPr sz="1600"/>
            </a:b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9400" y="1644120"/>
            <a:ext cx="3368520" cy="4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50 Ω ODT model [GND Clamp]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41640" y="1628640"/>
            <a:ext cx="3749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50 Ω ODT model [POWER Clamp]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0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527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718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63680" y="2112840"/>
            <a:ext cx="3881160" cy="39909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4797360" y="2114640"/>
            <a:ext cx="3954600" cy="3909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F3CA-AAD4-4F4C-87AF-2C02C90E3439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98520" y="217440"/>
            <a:ext cx="874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</a:rPr>
              <a:t>ODT modeling in IB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0680" y="1571760"/>
            <a:ext cx="422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[Pulldown] with 50 Ω ODT characteristics sub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20680" y="2222640"/>
            <a:ext cx="4208400" cy="36954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4538520" y="2209680"/>
            <a:ext cx="4365720" cy="3699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689360" y="1542960"/>
            <a:ext cx="42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[Pullup] with 50 Ω ODT characteristics sub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1F30-22CD-4AC9-9150-E7EC5519079D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98560" y="282600"/>
            <a:ext cx="82454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</a:rPr>
              <a:t>ODT modeling in IB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7840" y="1546200"/>
            <a:ext cx="421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[Pulldown] combined with [* Clamp] characteristics</a:t>
            </a:r>
            <a:r>
              <a:rPr b="1" lang="en-US" sz="1800" spc="-1" strike="noStrike">
                <a:solidFill>
                  <a:srgbClr val="0c2577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03120" y="2303640"/>
            <a:ext cx="4170600" cy="3728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4605480" y="2289240"/>
            <a:ext cx="4363920" cy="3774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4937040" y="1538280"/>
            <a:ext cx="3965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[Pullup] combined with [* Clamp] characteristics</a:t>
            </a:r>
            <a:r>
              <a:rPr b="1" lang="en-US" sz="1800" spc="-1" strike="noStrike">
                <a:solidFill>
                  <a:srgbClr val="0c2577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C220-3CDC-49F6-8404-88D59CD60082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Future Considerations for IBIS</a:t>
            </a:r>
            <a:br>
              <a:rPr sz="3200"/>
            </a:br>
            <a:r>
              <a:rPr b="0" lang="en-US" sz="28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Slew-Rate De-Rating Tables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Arial Narrow"/>
            </a:endParaRPr>
          </a:p>
        </p:txBody>
      </p:sp>
      <p:pic>
        <p:nvPicPr>
          <p:cNvPr id="424" name="Tangent_line" descr=""/>
          <p:cNvPicPr/>
          <p:nvPr/>
        </p:nvPicPr>
        <p:blipFill>
          <a:blip r:embed="rId2"/>
          <a:stretch/>
        </p:blipFill>
        <p:spPr>
          <a:xfrm>
            <a:off x="423720" y="3889440"/>
            <a:ext cx="2741760" cy="2224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0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527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718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Linear_line" descr=""/>
          <p:cNvPicPr/>
          <p:nvPr/>
        </p:nvPicPr>
        <p:blipFill>
          <a:blip r:embed="rId3"/>
          <a:stretch/>
        </p:blipFill>
        <p:spPr>
          <a:xfrm>
            <a:off x="423720" y="1239840"/>
            <a:ext cx="2741760" cy="22734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3251160" y="1700280"/>
            <a:ext cx="7772400" cy="38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A26D-90D1-45EB-900D-DAA8CD22F981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88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Arial Narrow"/>
              </a:rPr>
              <a:t>Thank You!</a:t>
            </a:r>
            <a:endParaRPr b="0" lang="en-US" sz="7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91CE-113D-43A6-9160-B4BC550FA346}" type="slidenum">
              <a:t>15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 Overview: </a:t>
            </a:r>
            <a:r>
              <a:rPr b="0" i="1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Theory of Operation</a:t>
            </a: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ata captured on both clock ed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ata (DQ) driven source synchronously with strobe (DQ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roper source sync operation requires two condition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QS positioned to meet data Setup/Hold requir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ixed relationship between CK and DQS must be maintain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1 Clock (CK) range from 100MHz to 200MH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Q 200Mbs to 400Mb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2 Clock (CK) range from 200MHz to 400MH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Q 400Mbs to 800Mb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BAD1-389A-45B3-9919-7D52FB519617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 Overview: </a:t>
            </a:r>
            <a:r>
              <a:rPr b="0" i="1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Theory of Operation</a:t>
            </a: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98720" y="1375920"/>
            <a:ext cx="75880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1: 2.5V SST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2: 1.8V SST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STL introduces concept of AC and DC level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36760" y="2747880"/>
            <a:ext cx="5154480" cy="3470400"/>
            <a:chOff x="2336760" y="2747880"/>
            <a:chExt cx="5154480" cy="3470400"/>
          </a:xfrm>
        </p:grpSpPr>
        <p:pic>
          <p:nvPicPr>
            <p:cNvPr id="101" name="sstl" descr=""/>
            <p:cNvPicPr/>
            <p:nvPr/>
          </p:nvPicPr>
          <p:blipFill>
            <a:blip r:embed="rId2"/>
            <a:srcRect l="0" t="10509" r="0" b="0"/>
            <a:stretch/>
          </p:blipFill>
          <p:spPr>
            <a:xfrm>
              <a:off x="2336760" y="2747880"/>
              <a:ext cx="5154480" cy="34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sstl" descr=""/>
            <p:cNvPicPr/>
            <p:nvPr/>
          </p:nvPicPr>
          <p:blipFill>
            <a:blip r:embed="rId3"/>
            <a:srcRect l="0" t="25207" r="87805" b="24157"/>
            <a:stretch/>
          </p:blipFill>
          <p:spPr>
            <a:xfrm>
              <a:off x="2336760" y="4254480"/>
              <a:ext cx="628560" cy="19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FD2E-55E9-48B9-9F99-9EB50428F0FE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06920" y="2538360"/>
            <a:ext cx="4203720" cy="373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 System Configurations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0240" y="1376280"/>
            <a:ext cx="802656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1: One to four memory modu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DR2: One or Two memory modu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mory Modu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gistered and Unbuffere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 to 18 memory devic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37240" y="2556000"/>
            <a:ext cx="3938400" cy="364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6582-3881-4EC2-B9B4-F082B54F5392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2 Enhancements</a:t>
            </a:r>
            <a:br>
              <a:rPr sz="3200"/>
            </a:br>
            <a:r>
              <a:rPr b="0" lang="en-US" sz="24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Moving beyond DDR1</a:t>
            </a:r>
            <a:endParaRPr b="0" lang="en-US" sz="24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spcBef>
                <a:spcPts val="7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BGA Pack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duced Supply Voltage (1.8V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ptional Differential DQ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mproved DIMM routing Topolog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mproved Load Balanc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On-Die Termination (OD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745560" indent="-156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Increases number of combinations to simula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82760" indent="-1634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Slew-Rate Derat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745560" indent="-156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Modifies Setup/Hold requir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BE4D-D172-40C9-9B25-2C792B239E1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On-Die Termination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Q, DM, DQS signals on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mory controller defin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ransfer by transfer ba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pendent on loading configur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ultiple values: 50, 75,150, and “off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duces PCB component cou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implifies system implemen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creases analysis complex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9DD4-2951-425A-9FD7-E109F637382A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Data Write ODT Configurations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485360" y="2952720"/>
            <a:ext cx="574920" cy="4604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71760" y="3125880"/>
            <a:ext cx="357120" cy="125280"/>
            <a:chOff x="1571760" y="3125880"/>
            <a:chExt cx="357120" cy="125280"/>
          </a:xfrm>
        </p:grpSpPr>
        <p:sp>
          <p:nvSpPr>
            <p:cNvPr id="138" name=""/>
            <p:cNvSpPr/>
            <p:nvPr/>
          </p:nvSpPr>
          <p:spPr>
            <a:xfrm flipV="1">
              <a:off x="1571760" y="3132000"/>
              <a:ext cx="453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1616760" y="3125880"/>
              <a:ext cx="680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682280" y="3125880"/>
              <a:ext cx="680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749960" y="3125880"/>
              <a:ext cx="680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815120" y="3125880"/>
              <a:ext cx="680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83520" y="3132000"/>
              <a:ext cx="453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28880" y="3181320"/>
            <a:ext cx="25398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973760" y="2057400"/>
            <a:ext cx="126720" cy="357120"/>
            <a:chOff x="4973760" y="2057400"/>
            <a:chExt cx="126720" cy="357120"/>
          </a:xfrm>
        </p:grpSpPr>
        <p:sp>
          <p:nvSpPr>
            <p:cNvPr id="146" name=""/>
            <p:cNvSpPr/>
            <p:nvPr/>
          </p:nvSpPr>
          <p:spPr>
            <a:xfrm flipH="1" flipV="1">
              <a:off x="4979880" y="2369160"/>
              <a:ext cx="6264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73760" y="230148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4973760" y="223596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73760" y="216828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4973760" y="210312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979880" y="2057400"/>
              <a:ext cx="6264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973760" y="1596600"/>
            <a:ext cx="126720" cy="358920"/>
            <a:chOff x="4973760" y="1596600"/>
            <a:chExt cx="126720" cy="358920"/>
          </a:xfrm>
        </p:grpSpPr>
        <p:sp>
          <p:nvSpPr>
            <p:cNvPr id="153" name=""/>
            <p:cNvSpPr/>
            <p:nvPr/>
          </p:nvSpPr>
          <p:spPr>
            <a:xfrm flipH="1" flipV="1">
              <a:off x="4979880" y="1909800"/>
              <a:ext cx="6264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973760" y="1841400"/>
              <a:ext cx="12672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973760" y="1776240"/>
              <a:ext cx="12672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973760" y="1707840"/>
              <a:ext cx="12672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4973760" y="1642320"/>
              <a:ext cx="12672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979880" y="1596600"/>
              <a:ext cx="6264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406400" y="2241720"/>
            <a:ext cx="127080" cy="357120"/>
            <a:chOff x="4406400" y="2241720"/>
            <a:chExt cx="127080" cy="357120"/>
          </a:xfrm>
        </p:grpSpPr>
        <p:sp>
          <p:nvSpPr>
            <p:cNvPr id="160" name=""/>
            <p:cNvSpPr/>
            <p:nvPr/>
          </p:nvSpPr>
          <p:spPr>
            <a:xfrm flipH="1" flipV="1">
              <a:off x="4412520" y="255348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406400" y="248580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406400" y="242028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06400" y="235260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406400" y="228744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12880" y="224172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467240" y="2598840"/>
            <a:ext cx="0" cy="58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76600" y="2006640"/>
            <a:ext cx="0" cy="231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5680" y="1943280"/>
            <a:ext cx="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43600" y="147960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43600" y="240840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76600" y="2000160"/>
            <a:ext cx="80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74000" y="1861200"/>
            <a:ext cx="5785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RCV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46600" y="249156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V</a:t>
            </a:r>
            <a:r>
              <a:rPr b="1" lang="en-US" sz="900" spc="-1" strike="noStrike">
                <a:solidFill>
                  <a:srgbClr val="ffffff"/>
                </a:solidFill>
                <a:latin typeface="Lucida Sans Unicode"/>
              </a:rPr>
              <a:t>SS</a:t>
            </a: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240" y="124560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V</a:t>
            </a:r>
            <a:r>
              <a:rPr b="1" lang="en-US" sz="900" spc="-1" strike="noStrike">
                <a:solidFill>
                  <a:srgbClr val="ffffff"/>
                </a:solidFill>
                <a:latin typeface="Lucida Sans Unicode"/>
              </a:rPr>
              <a:t>DD</a:t>
            </a: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5640" y="208044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300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40960" y="162180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300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32360" y="1257480"/>
            <a:ext cx="1860480" cy="1546200"/>
          </a:xfrm>
          <a:prstGeom prst="rect">
            <a:avLst/>
          </a:prstGeom>
          <a:noFill/>
          <a:ln w="22320">
            <a:solidFill>
              <a:srgbClr val="0a1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11200" y="2847960"/>
            <a:ext cx="698760" cy="700200"/>
          </a:xfrm>
          <a:prstGeom prst="rect">
            <a:avLst/>
          </a:prstGeom>
          <a:noFill/>
          <a:ln w="22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13640" y="261468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5ffff"/>
                </a:solidFill>
                <a:latin typeface="Lucida Sans Unicode"/>
              </a:rPr>
              <a:t>System Contro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6560" y="1271520"/>
            <a:ext cx="75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1471680" y="5511960"/>
            <a:ext cx="574560" cy="4600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44760" y="5673240"/>
            <a:ext cx="357120" cy="125640"/>
            <a:chOff x="1544760" y="5673240"/>
            <a:chExt cx="357120" cy="125640"/>
          </a:xfrm>
        </p:grpSpPr>
        <p:sp>
          <p:nvSpPr>
            <p:cNvPr id="183" name=""/>
            <p:cNvSpPr/>
            <p:nvPr/>
          </p:nvSpPr>
          <p:spPr>
            <a:xfrm flipV="1">
              <a:off x="1544760" y="5679360"/>
              <a:ext cx="45360" cy="6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1589760" y="5673240"/>
              <a:ext cx="680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655280" y="5673240"/>
              <a:ext cx="680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722960" y="5673240"/>
              <a:ext cx="680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88120" y="5673240"/>
              <a:ext cx="680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56520" y="5679720"/>
              <a:ext cx="45360" cy="6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901880" y="5729400"/>
            <a:ext cx="446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392720" y="4991040"/>
            <a:ext cx="126720" cy="357120"/>
            <a:chOff x="4392720" y="4991040"/>
            <a:chExt cx="126720" cy="357120"/>
          </a:xfrm>
        </p:grpSpPr>
        <p:sp>
          <p:nvSpPr>
            <p:cNvPr id="191" name=""/>
            <p:cNvSpPr/>
            <p:nvPr/>
          </p:nvSpPr>
          <p:spPr>
            <a:xfrm flipH="1" flipV="1">
              <a:off x="4398840" y="5302800"/>
              <a:ext cx="6264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392720" y="523512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4392720" y="516960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392720" y="510192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4392720" y="5036760"/>
              <a:ext cx="12672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398840" y="4991040"/>
              <a:ext cx="6264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460760" y="534816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49600" y="474984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49600" y="4749840"/>
            <a:ext cx="389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51000" y="4610880"/>
            <a:ext cx="5785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RCV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17960" y="4006800"/>
            <a:ext cx="1552680" cy="1546200"/>
          </a:xfrm>
          <a:prstGeom prst="rect">
            <a:avLst/>
          </a:prstGeom>
          <a:noFill/>
          <a:ln w="22320">
            <a:solidFill>
              <a:srgbClr val="0a1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97160" y="5369040"/>
            <a:ext cx="712800" cy="699840"/>
          </a:xfrm>
          <a:prstGeom prst="rect">
            <a:avLst/>
          </a:prstGeom>
          <a:noFill/>
          <a:ln w="22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95840" y="1430280"/>
            <a:ext cx="12582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One Mod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Popul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19560" y="4021200"/>
            <a:ext cx="75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57640" y="4807080"/>
            <a:ext cx="127080" cy="357120"/>
            <a:chOff x="6857640" y="4807080"/>
            <a:chExt cx="127080" cy="357120"/>
          </a:xfrm>
        </p:grpSpPr>
        <p:sp>
          <p:nvSpPr>
            <p:cNvPr id="206" name=""/>
            <p:cNvSpPr/>
            <p:nvPr/>
          </p:nvSpPr>
          <p:spPr>
            <a:xfrm flipH="1" flipV="1">
              <a:off x="6863760" y="511884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7640" y="505116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857640" y="498564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57640" y="491796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857640" y="485280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864120" y="480708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7640" y="4347000"/>
            <a:ext cx="127080" cy="358200"/>
            <a:chOff x="6857640" y="4347000"/>
            <a:chExt cx="127080" cy="358200"/>
          </a:xfrm>
        </p:grpSpPr>
        <p:sp>
          <p:nvSpPr>
            <p:cNvPr id="213" name=""/>
            <p:cNvSpPr/>
            <p:nvPr/>
          </p:nvSpPr>
          <p:spPr>
            <a:xfrm flipH="1" flipV="1">
              <a:off x="6863760" y="465984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857640" y="4591440"/>
              <a:ext cx="12708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857640" y="4525920"/>
              <a:ext cx="12708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857640" y="4457520"/>
              <a:ext cx="12708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6857640" y="4392360"/>
              <a:ext cx="12708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864120" y="434700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291000" y="4991040"/>
            <a:ext cx="127080" cy="357120"/>
            <a:chOff x="6291000" y="4991040"/>
            <a:chExt cx="127080" cy="357120"/>
          </a:xfrm>
        </p:grpSpPr>
        <p:sp>
          <p:nvSpPr>
            <p:cNvPr id="220" name=""/>
            <p:cNvSpPr/>
            <p:nvPr/>
          </p:nvSpPr>
          <p:spPr>
            <a:xfrm flipH="1" flipV="1">
              <a:off x="6297120" y="530280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291000" y="523512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291000" y="516960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291000" y="510192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6291000" y="5036760"/>
              <a:ext cx="12708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297480" y="4991040"/>
              <a:ext cx="6300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361200" y="534816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46800" y="4756320"/>
            <a:ext cx="0" cy="231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918480" y="4697280"/>
            <a:ext cx="1440" cy="10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23160" y="423864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27840" y="5157720"/>
            <a:ext cx="0" cy="9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45360" y="4749840"/>
            <a:ext cx="57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30840" y="524124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V</a:t>
            </a:r>
            <a:r>
              <a:rPr b="1" lang="en-US" sz="900" spc="-1" strike="noStrike">
                <a:solidFill>
                  <a:srgbClr val="ffffff"/>
                </a:solidFill>
                <a:latin typeface="Lucida Sans Unicode"/>
              </a:rPr>
              <a:t>SS</a:t>
            </a: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84480" y="399492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V</a:t>
            </a:r>
            <a:r>
              <a:rPr b="1" lang="en-US" sz="900" spc="-1" strike="noStrike">
                <a:solidFill>
                  <a:srgbClr val="ffffff"/>
                </a:solidFill>
                <a:latin typeface="Lucida Sans Unicode"/>
              </a:rPr>
              <a:t>DD</a:t>
            </a: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31680" y="483012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150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7000" y="437112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Sans Unicode"/>
              </a:rPr>
              <a:t>150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16600" y="4006800"/>
            <a:ext cx="1281240" cy="1546200"/>
          </a:xfrm>
          <a:prstGeom prst="rect">
            <a:avLst/>
          </a:prstGeom>
          <a:noFill/>
          <a:ln w="22320">
            <a:solidFill>
              <a:srgbClr val="edb2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7960" y="4021200"/>
            <a:ext cx="801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Lucida Sans Unicode"/>
              </a:rPr>
              <a:t>Standb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Lucida Sans Unicode"/>
              </a:rPr>
              <a:t>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76400" y="4316400"/>
            <a:ext cx="13482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Two Mod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Popul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01040" y="513252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5ffff"/>
                </a:solidFill>
                <a:latin typeface="Lucida Sans Unicode"/>
              </a:rPr>
              <a:t>System Contro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902A-0A66-435E-9C26-9B063EEA4FF1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Data Read Configurations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49240" y="1128600"/>
            <a:ext cx="6219720" cy="5179680"/>
            <a:chOff x="1749240" y="1128600"/>
            <a:chExt cx="6219720" cy="5179680"/>
          </a:xfrm>
        </p:grpSpPr>
        <p:sp>
          <p:nvSpPr>
            <p:cNvPr id="242" name=""/>
            <p:cNvSpPr/>
            <p:nvPr/>
          </p:nvSpPr>
          <p:spPr>
            <a:xfrm flipH="1" rot="16200000">
              <a:off x="5361480" y="1616040"/>
              <a:ext cx="574920" cy="4604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494320" y="1793880"/>
              <a:ext cx="357120" cy="125280"/>
              <a:chOff x="5494320" y="1793880"/>
              <a:chExt cx="357120" cy="125280"/>
            </a:xfrm>
          </p:grpSpPr>
          <p:sp>
            <p:nvSpPr>
              <p:cNvPr id="244" name=""/>
              <p:cNvSpPr/>
              <p:nvPr/>
            </p:nvSpPr>
            <p:spPr>
              <a:xfrm flipH="1" flipV="1">
                <a:off x="5806080" y="1800000"/>
                <a:ext cx="4536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738400" y="1793880"/>
                <a:ext cx="68040" cy="12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5672880" y="1793880"/>
                <a:ext cx="68040" cy="12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605200" y="1793880"/>
                <a:ext cx="68040" cy="12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5540040" y="1793880"/>
                <a:ext cx="68040" cy="12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5494320" y="1800000"/>
                <a:ext cx="4536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638440" y="3040200"/>
              <a:ext cx="2523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092200" y="2098800"/>
              <a:ext cx="127080" cy="357120"/>
              <a:chOff x="5092200" y="2098800"/>
              <a:chExt cx="127080" cy="35712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5098320" y="241056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092200" y="23428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5092200" y="227736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092200" y="22096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5092200" y="214452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098680" y="209880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162400" y="2455920"/>
              <a:ext cx="0" cy="58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62400" y="1863720"/>
              <a:ext cx="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4480" y="1857240"/>
              <a:ext cx="33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18160" y="1438200"/>
              <a:ext cx="1218960" cy="1265400"/>
            </a:xfrm>
            <a:prstGeom prst="rect">
              <a:avLst/>
            </a:prstGeom>
            <a:noFill/>
            <a:ln w="2232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97920" y="19796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a186d"/>
                  </a:solidFill>
                  <a:latin typeface="Lucida Sans Unicode"/>
                </a:rPr>
                <a:t>System Control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6800" y="1128600"/>
              <a:ext cx="7524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5ffff"/>
                  </a:solidFill>
                  <a:latin typeface="Lucida Sans Unicode"/>
                </a:rPr>
                <a:t>Act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5ffff"/>
                  </a:solidFill>
                  <a:latin typeface="Lucida Sans Unicode"/>
                </a:rPr>
                <a:t>Mo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6960" y="5583240"/>
              <a:ext cx="3872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392720" y="4848120"/>
              <a:ext cx="126720" cy="357120"/>
              <a:chOff x="4392720" y="4848120"/>
              <a:chExt cx="126720" cy="357120"/>
            </a:xfrm>
          </p:grpSpPr>
          <p:sp>
            <p:nvSpPr>
              <p:cNvPr id="266" name=""/>
              <p:cNvSpPr/>
              <p:nvPr/>
            </p:nvSpPr>
            <p:spPr>
              <a:xfrm flipH="1" flipV="1">
                <a:off x="4398840" y="515988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392720" y="509220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4392720" y="502668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392720" y="495900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4392720" y="489384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4398840" y="484812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>
              <a:off x="4460400" y="5211720"/>
              <a:ext cx="180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2560" y="4613400"/>
              <a:ext cx="0" cy="23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46720" y="4606920"/>
              <a:ext cx="334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4160" y="2885040"/>
              <a:ext cx="57852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RCV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17960" y="3863880"/>
              <a:ext cx="1254240" cy="1546200"/>
            </a:xfrm>
            <a:prstGeom prst="rect">
              <a:avLst/>
            </a:prstGeom>
            <a:noFill/>
            <a:ln w="2232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1640" y="1287360"/>
              <a:ext cx="12582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Sans Unicode"/>
                </a:rPr>
                <a:t>One Mod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Sans Unicode"/>
                </a:rPr>
                <a:t>Popula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19560" y="3878280"/>
              <a:ext cx="7524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5ffff"/>
                  </a:solidFill>
                  <a:latin typeface="Lucida Sans Unicode"/>
                </a:rPr>
                <a:t>Act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5ffff"/>
                  </a:solidFill>
                  <a:latin typeface="Lucida Sans Unicode"/>
                </a:rPr>
                <a:t>Mo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291000" y="4848120"/>
              <a:ext cx="127080" cy="357120"/>
              <a:chOff x="6291000" y="4848120"/>
              <a:chExt cx="127080" cy="357120"/>
            </a:xfrm>
          </p:grpSpPr>
          <p:sp>
            <p:nvSpPr>
              <p:cNvPr id="280" name=""/>
              <p:cNvSpPr/>
              <p:nvPr/>
            </p:nvSpPr>
            <p:spPr>
              <a:xfrm flipH="1" flipV="1">
                <a:off x="6297120" y="515988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291000" y="509220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6291000" y="50266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291000" y="495900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6291000" y="48938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6297480" y="484812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361200" y="5207040"/>
              <a:ext cx="0" cy="38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6800" y="4606920"/>
              <a:ext cx="0" cy="2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45360" y="4606920"/>
              <a:ext cx="57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6857640" y="4664160"/>
              <a:ext cx="127080" cy="357120"/>
              <a:chOff x="6857640" y="4664160"/>
              <a:chExt cx="127080" cy="357120"/>
            </a:xfrm>
          </p:grpSpPr>
          <p:sp>
            <p:nvSpPr>
              <p:cNvPr id="290" name=""/>
              <p:cNvSpPr/>
              <p:nvPr/>
            </p:nvSpPr>
            <p:spPr>
              <a:xfrm flipH="1" flipV="1">
                <a:off x="6863760" y="497592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857640" y="49082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6857640" y="484272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857640" y="47750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6857640" y="47098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864120" y="466416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857640" y="4203360"/>
              <a:ext cx="127080" cy="358920"/>
              <a:chOff x="6857640" y="4203360"/>
              <a:chExt cx="127080" cy="358920"/>
            </a:xfrm>
          </p:grpSpPr>
          <p:sp>
            <p:nvSpPr>
              <p:cNvPr id="297" name=""/>
              <p:cNvSpPr/>
              <p:nvPr/>
            </p:nvSpPr>
            <p:spPr>
              <a:xfrm flipH="1" flipV="1">
                <a:off x="6863760" y="4516560"/>
                <a:ext cx="6300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857640" y="4448160"/>
                <a:ext cx="12708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6857640" y="4383000"/>
                <a:ext cx="12708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6857640" y="4314600"/>
                <a:ext cx="12708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6857640" y="4249080"/>
                <a:ext cx="12708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6864120" y="4203360"/>
                <a:ext cx="6300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919920" y="4559400"/>
              <a:ext cx="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27840" y="410040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27840" y="501480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18960" y="509832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ss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480" y="385200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</a:t>
              </a:r>
              <a:r>
                <a:rPr b="1" lang="en-US" sz="900" spc="-1" strike="noStrike">
                  <a:solidFill>
                    <a:srgbClr val="ffffff"/>
                  </a:solidFill>
                  <a:latin typeface="Lucida Sans Unicode"/>
                </a:rPr>
                <a:t>DD</a:t>
              </a: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06120" y="468720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15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14040" y="422820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15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16600" y="3863880"/>
              <a:ext cx="1281240" cy="1546200"/>
            </a:xfrm>
            <a:prstGeom prst="rect">
              <a:avLst/>
            </a:prstGeom>
            <a:noFill/>
            <a:ln w="22320">
              <a:solidFill>
                <a:srgbClr val="edb2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67960" y="3827520"/>
              <a:ext cx="8010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9900"/>
                  </a:solidFill>
                  <a:latin typeface="Lucida Sans Unicode"/>
                </a:rPr>
                <a:t>Standb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9900"/>
                  </a:solidFill>
                  <a:latin typeface="Lucida Sans Unicode"/>
                </a:rPr>
                <a:t>Modu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9240" y="3906720"/>
              <a:ext cx="13482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Sans Unicode"/>
                </a:rPr>
                <a:t>Two Modu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Sans Unicode"/>
                </a:rPr>
                <a:t>Popula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16200000">
              <a:off x="4675680" y="4376520"/>
              <a:ext cx="574560" cy="4604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4762440" y="4549320"/>
              <a:ext cx="357120" cy="125640"/>
              <a:chOff x="4762440" y="4549320"/>
              <a:chExt cx="357120" cy="125640"/>
            </a:xfrm>
          </p:grpSpPr>
          <p:sp>
            <p:nvSpPr>
              <p:cNvPr id="315" name=""/>
              <p:cNvSpPr/>
              <p:nvPr/>
            </p:nvSpPr>
            <p:spPr>
              <a:xfrm flipH="1" flipV="1">
                <a:off x="5074200" y="4555440"/>
                <a:ext cx="45360" cy="6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006520" y="4549320"/>
                <a:ext cx="68040" cy="12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4941000" y="4549320"/>
                <a:ext cx="68040" cy="12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873320" y="4549320"/>
                <a:ext cx="68040" cy="12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4808160" y="4549320"/>
                <a:ext cx="68040" cy="12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762440" y="4555800"/>
                <a:ext cx="45360" cy="6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922040" y="5468040"/>
              <a:ext cx="57852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RCV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830680" y="3088800"/>
              <a:ext cx="126720" cy="357480"/>
              <a:chOff x="2830680" y="3088800"/>
              <a:chExt cx="126720" cy="357480"/>
            </a:xfrm>
          </p:grpSpPr>
          <p:sp>
            <p:nvSpPr>
              <p:cNvPr id="323" name=""/>
              <p:cNvSpPr/>
              <p:nvPr/>
            </p:nvSpPr>
            <p:spPr>
              <a:xfrm flipH="1" flipV="1">
                <a:off x="2836800" y="340092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830680" y="333324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2830680" y="326772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2830680" y="320004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2830680" y="3134520"/>
                <a:ext cx="12672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2836800" y="308880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830680" y="2629440"/>
              <a:ext cx="126720" cy="358200"/>
              <a:chOff x="2830680" y="2629440"/>
              <a:chExt cx="126720" cy="358200"/>
            </a:xfrm>
          </p:grpSpPr>
          <p:sp>
            <p:nvSpPr>
              <p:cNvPr id="330" name=""/>
              <p:cNvSpPr/>
              <p:nvPr/>
            </p:nvSpPr>
            <p:spPr>
              <a:xfrm flipH="1" flipV="1">
                <a:off x="2836800" y="294228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830680" y="287388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2830680" y="280836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2830680" y="273996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2830680" y="267480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2836800" y="2629440"/>
                <a:ext cx="6264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892600" y="2979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0520" y="25113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00520" y="3440160"/>
              <a:ext cx="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03520" y="352332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</a:t>
              </a:r>
              <a:r>
                <a:rPr b="1" lang="en-US" sz="900" spc="-1" strike="noStrike">
                  <a:solidFill>
                    <a:srgbClr val="ffffff"/>
                  </a:solidFill>
                  <a:latin typeface="Lucida Sans Unicode"/>
                </a:rPr>
                <a:t>SS</a:t>
              </a: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56800" y="227736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</a:t>
              </a:r>
              <a:r>
                <a:rPr b="1" lang="en-US" sz="900" spc="-1" strike="noStrike">
                  <a:solidFill>
                    <a:srgbClr val="ffffff"/>
                  </a:solidFill>
                  <a:latin typeface="Lucida Sans Unicode"/>
                </a:rPr>
                <a:t>DD</a:t>
              </a: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83680" y="311220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15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91600" y="265356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15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549160" y="5618160"/>
              <a:ext cx="127080" cy="357120"/>
              <a:chOff x="2549160" y="5618160"/>
              <a:chExt cx="127080" cy="357120"/>
            </a:xfrm>
          </p:grpSpPr>
          <p:sp>
            <p:nvSpPr>
              <p:cNvPr id="344" name=""/>
              <p:cNvSpPr/>
              <p:nvPr/>
            </p:nvSpPr>
            <p:spPr>
              <a:xfrm flipH="1" flipV="1">
                <a:off x="2555280" y="592992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2549160" y="58622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2549160" y="579672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2549160" y="572904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2549160" y="5663880"/>
                <a:ext cx="127080" cy="6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555640" y="5618160"/>
                <a:ext cx="63000" cy="4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540160" y="5157360"/>
              <a:ext cx="126720" cy="358920"/>
              <a:chOff x="2540160" y="5157360"/>
              <a:chExt cx="126720" cy="35892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546280" y="5470560"/>
                <a:ext cx="6264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540160" y="540216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2540160" y="533700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2540160" y="526860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2540160" y="5203080"/>
                <a:ext cx="1267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546280" y="5157360"/>
                <a:ext cx="62640" cy="45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606760" y="5516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11440" y="5070600"/>
              <a:ext cx="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04960" y="597204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29560" y="603180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ss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23440" y="478404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V</a:t>
              </a:r>
              <a:r>
                <a:rPr b="1" lang="en-US" sz="900" spc="-1" strike="noStrike">
                  <a:solidFill>
                    <a:srgbClr val="ffffff"/>
                  </a:solidFill>
                  <a:latin typeface="Lucida Sans Unicode"/>
                </a:rPr>
                <a:t>DD</a:t>
              </a: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97840" y="570960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30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31320" y="5195160"/>
              <a:ext cx="55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Lucida Sans Unicode"/>
                </a:rPr>
                <a:t>300</a:t>
              </a:r>
              <a:r>
                <a:rPr b="1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83440" y="44672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a186d"/>
                  </a:solidFill>
                  <a:latin typeface="Lucida Sans Unicode"/>
                </a:rPr>
                <a:t>System Control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89000" y="2206800"/>
              <a:ext cx="1570320" cy="1546200"/>
            </a:xfrm>
            <a:prstGeom prst="rect">
              <a:avLst/>
            </a:prstGeom>
            <a:noFill/>
            <a:ln w="22320">
              <a:solidFill>
                <a:srgbClr val="0a1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90720" y="4695840"/>
              <a:ext cx="1569960" cy="1546200"/>
            </a:xfrm>
            <a:prstGeom prst="rect">
              <a:avLst/>
            </a:prstGeom>
            <a:noFill/>
            <a:ln w="22320">
              <a:solidFill>
                <a:srgbClr val="0a1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E6D9-2C10-4154-8631-128E7CF0E8ED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4160" y="402840"/>
            <a:ext cx="74422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DDR2 I/O Buffer Modeling Challenges</a:t>
            </a:r>
            <a:br>
              <a:rPr sz="3200"/>
            </a:br>
            <a:r>
              <a:rPr b="0" lang="en-US" sz="2000" spc="-1" strike="noStrike">
                <a:solidFill>
                  <a:srgbClr val="e5ffff"/>
                </a:solidFill>
                <a:latin typeface="Arial Narrow"/>
                <a:ea typeface="Times New Roman"/>
              </a:rPr>
              <a:t>Spice vs. IBIS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47520" y="1332000"/>
            <a:ext cx="7924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PICE mode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ccurate, allow for PVT variation, over-clock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low simulation ti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BIS mode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closely match SPICE models for accurac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igher simulation 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ultiple simulator support, readily avai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"/>
          <p:cNvSpPr/>
          <p:nvPr/>
        </p:nvSpPr>
        <p:spPr>
          <a:xfrm>
            <a:off x="1376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762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76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096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19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02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476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38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76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00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527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718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1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B02F-385D-45CF-90DF-851177904DF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20:55:19Z</dcterms:created>
  <dc:creator>Warren Hayden</dc:creator>
  <dc:description/>
  <dc:language>en-US</dc:language>
  <cp:lastModifiedBy> </cp:lastModifiedBy>
  <dcterms:modified xsi:type="dcterms:W3CDTF">2005-11-10T15:58:03Z</dcterms:modified>
  <cp:revision>15</cp:revision>
  <dc:subject/>
  <dc:title>Demonstrate Value of DDR2 Design Analysis Kits</dc:title>
</cp:coreProperties>
</file>