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F5B8-D86D-4386-BBA3-35F28E66A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3FAD-5FF9-4F3C-9CC9-70CC5ED58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56DE-87D3-4384-A8A1-A451EDC0B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0B28-6DB5-44AF-B289-E6EE9E870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5C51-4630-4042-811D-18B5276E8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0FB1-8E86-4ED2-A072-7E01521E6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9C74-D6A7-449E-A5EC-016632FF7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5EBA-3EA4-4440-9200-CD7D4D361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B5F3-43D6-49E4-81A7-168365EB1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E2E4-76DE-4C4D-8DD4-1D52B7CB8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F60F-EBA0-4051-962D-1922FC434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C9CD-F09A-4E89-91B1-72C2D3197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440" y="6629040"/>
            <a:ext cx="6705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6A28-216B-4C01-A1DA-DACE189C69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38880" y="664380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entor Graphics 200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ff"/>
                </a:solidFill>
                <a:latin typeface="Arial Black"/>
              </a:rPr>
              <a:t>Three Facets of IBIS: Interface, Behavior and Measurement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2400" spc="-1" strike="noStrike">
                <a:solidFill>
                  <a:srgbClr val="66ffff"/>
                </a:solidFill>
                <a:latin typeface="Arial Black"/>
              </a:rPr>
              <a:t>December 2005</a:t>
            </a:r>
            <a:br>
              <a:rPr sz="38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495320"/>
            <a:ext cx="3733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an C Dod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rchitect, High Speed Tools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DD Division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enry Li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echnical Marketing Enginee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entor Graphics (Shanghai)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lectronic Technology Co Ltd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Highlights of IBIS 3.2 Measurement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vershoot limi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 exceeded device may malfunction or be destroy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ic and dynamic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put switching threshold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gic low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nl (or with hysteresis Vinl+ and Vinl-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gic high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inh (or with hysteresis Vinl+ and Vinl-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iming Reference Voltage (Vmeas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ition voltage on driver pin used when measuring static timing delays e.g. “clock edge to data out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ociated with a reference load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ref, Rref and Cref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1E2F-7DD4-44AF-AF94-A90500052E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814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876920"/>
            <a:ext cx="914400" cy="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038480"/>
            <a:ext cx="9144000" cy="19814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4495680"/>
            <a:ext cx="4953240" cy="1067040"/>
          </a:xfrm>
          <a:custGeom>
            <a:avLst/>
            <a:gdLst/>
            <a:ahLst/>
            <a:rect l="l" t="t" r="r" b="b"/>
            <a:pathLst>
              <a:path w="3120" h="672">
                <a:moveTo>
                  <a:pt x="3120" y="528"/>
                </a:moveTo>
                <a:lnTo>
                  <a:pt x="3024" y="672"/>
                </a:lnTo>
                <a:lnTo>
                  <a:pt x="336" y="672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441972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2578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441972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3434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267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267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267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Basic timing analysis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876920"/>
            <a:ext cx="236196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2514600"/>
            <a:ext cx="83844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41911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43434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41911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51460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2743200"/>
            <a:ext cx="2590920" cy="1905120"/>
          </a:xfrm>
          <a:prstGeom prst="parallelogram">
            <a:avLst>
              <a:gd name="adj" fmla="val 35076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940840" y="40694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38280" y="4267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11480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09960" y="430992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945360" y="41457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267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510552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5715000"/>
            <a:ext cx="236232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3352680"/>
            <a:ext cx="83808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58200" y="502920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534520" y="51814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50292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35268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3581280"/>
            <a:ext cx="2590560" cy="1905120"/>
          </a:xfrm>
          <a:prstGeom prst="parallelogram">
            <a:avLst>
              <a:gd name="adj" fmla="val 35071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7893720" y="490788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391160" y="51055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5181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5898240" y="49838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52578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51055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6203160" y="41457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857640" y="434340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495288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62840" y="514836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043040" y="5185440"/>
            <a:ext cx="4896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257800" y="4495680"/>
            <a:ext cx="152280" cy="15264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441972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144" y="0"/>
                </a:lnTo>
                <a:lnTo>
                  <a:pt x="240" y="144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171880" y="247644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6591240" y="346680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2590920"/>
            <a:ext cx="175284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tim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setup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286000"/>
            <a:ext cx="167652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tim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 edg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out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4914720" y="2018880"/>
            <a:ext cx="228600" cy="259056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1040" y="3619440"/>
            <a:ext cx="704880" cy="533520"/>
          </a:xfrm>
          <a:custGeom>
            <a:avLst/>
            <a:gdLst/>
            <a:ahLst/>
            <a:rect l="l" t="t" r="r" b="b"/>
            <a:pathLst>
              <a:path w="444" h="336">
                <a:moveTo>
                  <a:pt x="0" y="0"/>
                </a:moveTo>
                <a:cubicBezTo>
                  <a:pt x="22" y="4"/>
                  <a:pt x="103" y="8"/>
                  <a:pt x="132" y="24"/>
                </a:cubicBezTo>
                <a:cubicBezTo>
                  <a:pt x="161" y="40"/>
                  <a:pt x="162" y="73"/>
                  <a:pt x="172" y="98"/>
                </a:cubicBezTo>
                <a:cubicBezTo>
                  <a:pt x="182" y="123"/>
                  <a:pt x="182" y="148"/>
                  <a:pt x="189" y="176"/>
                </a:cubicBezTo>
                <a:cubicBezTo>
                  <a:pt x="196" y="204"/>
                  <a:pt x="202" y="239"/>
                  <a:pt x="217" y="264"/>
                </a:cubicBezTo>
                <a:cubicBezTo>
                  <a:pt x="232" y="289"/>
                  <a:pt x="239" y="312"/>
                  <a:pt x="277" y="324"/>
                </a:cubicBezTo>
                <a:cubicBezTo>
                  <a:pt x="315" y="336"/>
                  <a:pt x="409" y="334"/>
                  <a:pt x="444" y="336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3352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578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914400"/>
            <a:ext cx="1904760" cy="1219320"/>
          </a:xfrm>
          <a:prstGeom prst="rect">
            <a:avLst/>
          </a:prstGeom>
          <a:solidFill>
            <a:srgbClr val="b3191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eadshee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io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133720" y="1295280"/>
            <a:ext cx="5333760" cy="1295640"/>
            <a:chOff x="2133720" y="1295280"/>
            <a:chExt cx="5333760" cy="1295640"/>
          </a:xfrm>
        </p:grpSpPr>
        <p:sp>
          <p:nvSpPr>
            <p:cNvPr id="248" name=""/>
            <p:cNvSpPr/>
            <p:nvPr/>
          </p:nvSpPr>
          <p:spPr>
            <a:xfrm>
              <a:off x="2133720" y="129528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133720" y="12952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05520" y="16002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105520" y="15998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467480" y="21337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886200" y="3352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8862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86200" y="1905120"/>
            <a:ext cx="2592360" cy="2401920"/>
            <a:chOff x="3886200" y="1905120"/>
            <a:chExt cx="2592360" cy="2401920"/>
          </a:xfrm>
        </p:grpSpPr>
        <p:sp>
          <p:nvSpPr>
            <p:cNvPr id="256" name=""/>
            <p:cNvSpPr/>
            <p:nvPr/>
          </p:nvSpPr>
          <p:spPr>
            <a:xfrm>
              <a:off x="4191120" y="1905120"/>
              <a:ext cx="1904760" cy="12189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 analysi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iver, receiver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ckage, tr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57800" y="3614760"/>
              <a:ext cx="1220760" cy="692280"/>
            </a:xfrm>
            <a:custGeom>
              <a:avLst/>
              <a:gdLst/>
              <a:ahLst/>
              <a:rect l="l" t="t" r="r" b="b"/>
              <a:pathLst>
                <a:path w="769" h="436">
                  <a:moveTo>
                    <a:pt x="0" y="3"/>
                  </a:moveTo>
                  <a:cubicBezTo>
                    <a:pt x="26" y="7"/>
                    <a:pt x="114" y="0"/>
                    <a:pt x="156" y="29"/>
                  </a:cubicBezTo>
                  <a:cubicBezTo>
                    <a:pt x="198" y="58"/>
                    <a:pt x="227" y="128"/>
                    <a:pt x="251" y="176"/>
                  </a:cubicBezTo>
                  <a:cubicBezTo>
                    <a:pt x="275" y="224"/>
                    <a:pt x="283" y="278"/>
                    <a:pt x="297" y="317"/>
                  </a:cubicBezTo>
                  <a:cubicBezTo>
                    <a:pt x="311" y="356"/>
                    <a:pt x="322" y="395"/>
                    <a:pt x="336" y="411"/>
                  </a:cubicBezTo>
                  <a:cubicBezTo>
                    <a:pt x="350" y="427"/>
                    <a:pt x="372" y="436"/>
                    <a:pt x="384" y="411"/>
                  </a:cubicBezTo>
                  <a:cubicBezTo>
                    <a:pt x="396" y="386"/>
                    <a:pt x="402" y="306"/>
                    <a:pt x="411" y="260"/>
                  </a:cubicBezTo>
                  <a:cubicBezTo>
                    <a:pt x="420" y="214"/>
                    <a:pt x="430" y="140"/>
                    <a:pt x="440" y="132"/>
                  </a:cubicBezTo>
                  <a:cubicBezTo>
                    <a:pt x="450" y="124"/>
                    <a:pt x="461" y="186"/>
                    <a:pt x="468" y="210"/>
                  </a:cubicBezTo>
                  <a:cubicBezTo>
                    <a:pt x="475" y="234"/>
                    <a:pt x="475" y="245"/>
                    <a:pt x="485" y="278"/>
                  </a:cubicBezTo>
                  <a:cubicBezTo>
                    <a:pt x="495" y="311"/>
                    <a:pt x="514" y="411"/>
                    <a:pt x="528" y="411"/>
                  </a:cubicBezTo>
                  <a:cubicBezTo>
                    <a:pt x="542" y="411"/>
                    <a:pt x="557" y="311"/>
                    <a:pt x="569" y="278"/>
                  </a:cubicBezTo>
                  <a:cubicBezTo>
                    <a:pt x="581" y="245"/>
                    <a:pt x="586" y="210"/>
                    <a:pt x="601" y="214"/>
                  </a:cubicBezTo>
                  <a:cubicBezTo>
                    <a:pt x="616" y="218"/>
                    <a:pt x="631" y="286"/>
                    <a:pt x="659" y="304"/>
                  </a:cubicBezTo>
                  <a:cubicBezTo>
                    <a:pt x="687" y="322"/>
                    <a:pt x="746" y="318"/>
                    <a:pt x="769" y="321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3581280"/>
              <a:ext cx="704880" cy="533520"/>
            </a:xfrm>
            <a:custGeom>
              <a:avLst/>
              <a:gdLst/>
              <a:ahLst/>
              <a:rect l="l" t="t" r="r" b="b"/>
              <a:pathLst>
                <a:path w="444" h="336">
                  <a:moveTo>
                    <a:pt x="0" y="0"/>
                  </a:moveTo>
                  <a:cubicBezTo>
                    <a:pt x="22" y="4"/>
                    <a:pt x="103" y="8"/>
                    <a:pt x="132" y="24"/>
                  </a:cubicBezTo>
                  <a:cubicBezTo>
                    <a:pt x="161" y="40"/>
                    <a:pt x="162" y="73"/>
                    <a:pt x="172" y="98"/>
                  </a:cubicBezTo>
                  <a:cubicBezTo>
                    <a:pt x="182" y="123"/>
                    <a:pt x="182" y="148"/>
                    <a:pt x="189" y="176"/>
                  </a:cubicBezTo>
                  <a:cubicBezTo>
                    <a:pt x="196" y="204"/>
                    <a:pt x="202" y="239"/>
                    <a:pt x="217" y="264"/>
                  </a:cubicBezTo>
                  <a:cubicBezTo>
                    <a:pt x="232" y="289"/>
                    <a:pt x="239" y="312"/>
                    <a:pt x="277" y="324"/>
                  </a:cubicBezTo>
                  <a:cubicBezTo>
                    <a:pt x="315" y="336"/>
                    <a:pt x="409" y="334"/>
                    <a:pt x="444" y="336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088360" y="4309920"/>
            <a:ext cx="50040" cy="63000"/>
            <a:chOff x="2088360" y="4309920"/>
            <a:chExt cx="50040" cy="63000"/>
          </a:xfrm>
        </p:grpSpPr>
        <p:sp>
          <p:nvSpPr>
            <p:cNvPr id="260" name=""/>
            <p:cNvSpPr/>
            <p:nvPr/>
          </p:nvSpPr>
          <p:spPr>
            <a:xfrm flipV="1">
              <a:off x="2088360" y="4350600"/>
              <a:ext cx="48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9960" y="4309920"/>
              <a:ext cx="28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038360" y="5149800"/>
            <a:ext cx="50040" cy="63000"/>
            <a:chOff x="7038360" y="5149800"/>
            <a:chExt cx="50040" cy="63000"/>
          </a:xfrm>
        </p:grpSpPr>
        <p:sp>
          <p:nvSpPr>
            <p:cNvPr id="263" name=""/>
            <p:cNvSpPr/>
            <p:nvPr/>
          </p:nvSpPr>
          <p:spPr>
            <a:xfrm flipV="1">
              <a:off x="7038360" y="5190480"/>
              <a:ext cx="48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59960" y="5149800"/>
              <a:ext cx="28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676520" y="4876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5715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10F5-5915-41F9-9370-5844707CF0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Putting it all together with IBIS 3.2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mple synchronous exampl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rst consider the data pa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mulate the data path for the rising and the falling edg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d the time at which the input pin on U2 leaves the initial logic state (raw minimum delay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d the time at which the input pin on U2 becomes stable at the final logic state (raw maximum delay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mulate the driver connected to the timing reference loa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d the time to Vmea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rmalize the raw delays by subtracting the time to Vmea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moves any initial delay in VT table and partial edge time already included in the “clock edge to data out” delay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7F2C-B77A-42B0-9088-FFF9890E20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Including Clock Skew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etermine Clock Perio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mulate Data Path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d Normalized Data Path Delay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a_m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T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a_max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 rising and falling edg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imulate Clock Path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 Driver to Clock Input on IC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ock1_m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T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ock1_max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 active edg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 Driver to Clock Input on IC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ock2_m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T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ock2_max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 active edg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et Internal Path Delay and Minimum Setup and Hold constraints from Databoo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tup_m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old_min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950F-8BDA-449F-8661-B7277F86E8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Including Clock Skew (continued)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orst Case Analysi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culate the actual setup and hold times for the rising ed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are  the results to the timing constraints from the databoo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peat for the falling ed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tu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ock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- T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_max +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ock2_min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ock2_max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l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ock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- T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_min +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ock2_max 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ock2_mi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DA tools that have integration between timing and SI analysis commonly have spreadsheets that automate these calculations and highlight timing violatio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1609-3AC6-42A7-8CED-9C688C083EB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2590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Part Two:</a:t>
            </a:r>
            <a:br>
              <a:rPr sz="3000"/>
            </a:b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Beyond IBIS Version 3.2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44B2-35FD-4F58-960D-10D2C21DC43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Technology Changes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ata rates on PCB have dramatically increased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CB trace lengths have not shrunk in propor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 periods are often shorter than the interconnect dela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urce synchronous design must be used either with a separate clock signal or with an embedded cloc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ower budgets have decreas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gnaling voltages have been accordingly decreas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CB materials have not dramatically improv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electric losses become the predominant circuit effec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fferential signaling is required to overcome attenu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-compensation or equalization is becoming common to compensate for wavefront distor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79F4-41B1-49C7-96A2-D8C8AAF96A3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Highlights of Post IBIS 3.2 Behavior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CM provides multi-stage coupled lossy transmission line or S-parameter modeling for connecto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ently considering allowing ICM package descriptions so we can have consistent S-parameter supp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ulti-lingual extensions support behavior modeled in SPICE, VHDL-AMS and Verilog-AM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most no limit to the complexity of behavior that can be model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pending on the simulator, model types can be mixed across the PCB and even on individual n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ower Integrity extensio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33D4-C1B0-416C-BA1D-5BC5F83C81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Highlights of Post IBIS 3.2 Interconnect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ulti-lingual extensions provide flexible connectivity between SPICE, VHDL-AMS or Verilog-AMS models and the external component pin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ows EDA tools to automatically build complete simulation models for nets on your PCB including the multi-lingual mode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4F66-AAB1-4FFB-BB46-7334BCAC91A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Existing Post IBIS 3.2 Measurement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 enhancements to IBIS built in measurements since version 3.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ulti-lingual input models can determine when a transition has occurr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ternal models and circuits for inputs have a standard terminal which can be monitored by EDA too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ulti-lingual models can do extensive analysis and use (external circuit) terminals to present the results of analysi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 conventions as to how an EDA tool should interpret signals on these termina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nnot presently be used for automated analysis or to populate constraint spreadshee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A126-321A-42AF-BEB0-83EDDEED388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What are the Objectives of the SI Engineer? 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ximize performanc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est possible clock spe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sure reliable opera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et timing constrai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eep overshoot below levels that will cause device malfunction or destruction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intain adequate switching margi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inimize per unit cos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nimize the number of component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including terminator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 lowest cost PCB materia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C0DA-723E-4E25-8649-B5827BA4FB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Recommendation for New IBIS Measurements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e want to validate a high percentage of nets on PCB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ires automated measurement and constraint valid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BIS is needed to provide the interface and measurement functions even when SPICE or AMS descriptions are used for behavio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asurement enhancemen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 measurements specified for any IBIS external pin or internal terminal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voltage or current threshold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logic and equations that the EDA tool should use to determine values to be repor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vide limits for reported valu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1274-8985-4EFD-B8B3-FBFE7E3B06B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2590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Part Three:</a:t>
            </a:r>
            <a:br>
              <a:rPr sz="3000"/>
            </a:b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IBIS 4.1 Multilingual Example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DE7F-7132-44B4-85E4-2BAEDC97DCD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ff"/>
                </a:solidFill>
                <a:latin typeface="Arial"/>
                <a:ea typeface="新細明體"/>
              </a:rPr>
              <a:t>Typical IBIS 4.1Model</a:t>
            </a:r>
            <a:endParaRPr b="1" lang="en-US" sz="2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6781680" cy="38498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600200" y="2394000"/>
            <a:ext cx="203040" cy="1235160"/>
          </a:xfrm>
          <a:custGeom>
            <a:avLst/>
            <a:gdLst>
              <a:gd name="textAreaLeft" fmla="*/ 129600 w 203040"/>
              <a:gd name="textAreaRight" fmla="*/ 203400 w 203040"/>
              <a:gd name="textAreaTop" fmla="*/ 32040 h 1235160"/>
              <a:gd name="textAreaBottom" fmla="*/ 1203120 h 123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75"/>
                </a:lnTo>
                <a:cubicBezTo>
                  <a:pt x="10800" y="9675"/>
                  <a:pt x="5400" y="10575"/>
                  <a:pt x="0" y="10575"/>
                </a:cubicBezTo>
                <a:cubicBezTo>
                  <a:pt x="5400" y="10575"/>
                  <a:pt x="10800" y="11475"/>
                  <a:pt x="10800" y="123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819520"/>
            <a:ext cx="12970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0000"/>
                </a:solidFill>
                <a:latin typeface="Times New Roman"/>
                <a:ea typeface="新細明體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0000"/>
                </a:solidFill>
                <a:latin typeface="Times New Roman"/>
                <a:ea typeface="新細明體"/>
              </a:rPr>
              <a:t>IB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373392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90"/>
                </a:lnTo>
                <a:cubicBezTo>
                  <a:pt x="10800" y="8490"/>
                  <a:pt x="5400" y="9390"/>
                  <a:pt x="0" y="9390"/>
                </a:cubicBezTo>
                <a:cubicBezTo>
                  <a:pt x="5400" y="9390"/>
                  <a:pt x="10800" y="10290"/>
                  <a:pt x="10800" y="1119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4222800"/>
            <a:ext cx="842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0000"/>
                </a:solidFill>
                <a:latin typeface="Times New Roman"/>
                <a:ea typeface="新細明體"/>
              </a:rPr>
              <a:t>IBIS 4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0000"/>
                </a:solidFill>
                <a:latin typeface="Times New Roman"/>
                <a:ea typeface="新細明體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533520"/>
            <a:ext cx="6721560" cy="18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  <a:ea typeface="新細明體"/>
              </a:rPr>
              <a:t>IBIS 4.1 adds four new key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[External Model] (new part of [Model]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[External Circuit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[Circuit Call], [Node Declarations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新細明體"/>
              </a:rPr>
              <a:t>Spice/Behavioral model is in externa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F4A8-49F9-4985-B50B-21AF005B47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ffff"/>
                </a:solidFill>
                <a:latin typeface="Arial"/>
                <a:ea typeface="新細明體"/>
              </a:rPr>
              <a:t>IBIS 4.1 Traditional and Multi-Lingual</a:t>
            </a:r>
            <a:endParaRPr b="1" lang="en-US" sz="2100" spc="-1" strike="noStrike">
              <a:solidFill>
                <a:srgbClr val="66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71640" y="3733560"/>
            <a:ext cx="4273560" cy="2438640"/>
            <a:chOff x="4571640" y="3733560"/>
            <a:chExt cx="4273560" cy="2438640"/>
          </a:xfrm>
        </p:grpSpPr>
        <p:grpSp>
          <p:nvGrpSpPr>
            <p:cNvPr id="296" name=""/>
            <p:cNvGrpSpPr/>
            <p:nvPr/>
          </p:nvGrpSpPr>
          <p:grpSpPr>
            <a:xfrm>
              <a:off x="4571640" y="4496040"/>
              <a:ext cx="1832040" cy="914400"/>
              <a:chOff x="4571640" y="4496040"/>
              <a:chExt cx="1832040" cy="914400"/>
            </a:xfrm>
          </p:grpSpPr>
          <p:sp>
            <p:nvSpPr>
              <p:cNvPr id="297" name=""/>
              <p:cNvSpPr/>
              <p:nvPr/>
            </p:nvSpPr>
            <p:spPr>
              <a:xfrm flipH="1">
                <a:off x="4571640" y="4496040"/>
                <a:ext cx="1371600" cy="914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SPICE or Behavioral Mode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5946480" y="475956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102000" y="3733920"/>
              <a:ext cx="1752480" cy="2438280"/>
              <a:chOff x="6102000" y="3733920"/>
              <a:chExt cx="1752480" cy="2438280"/>
            </a:xfrm>
          </p:grpSpPr>
          <p:sp>
            <p:nvSpPr>
              <p:cNvPr id="300" name=""/>
              <p:cNvSpPr/>
              <p:nvPr/>
            </p:nvSpPr>
            <p:spPr>
              <a:xfrm flipH="1">
                <a:off x="6102000" y="3733920"/>
                <a:ext cx="175248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IBIS 4.1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6102000" y="5715000"/>
                <a:ext cx="175248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5400000">
                <a:off x="6863760" y="4723920"/>
                <a:ext cx="152388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Times New Roman"/>
                    <a:ea typeface="新細明體"/>
                  </a:rPr>
                  <a:t>Simulator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260680" y="4191120"/>
              <a:ext cx="2060280" cy="1523880"/>
              <a:chOff x="5260680" y="4191120"/>
              <a:chExt cx="2060280" cy="152388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260680" y="4191120"/>
                <a:ext cx="1600200" cy="1523880"/>
                <a:chOff x="5260680" y="4191120"/>
                <a:chExt cx="1600200" cy="1523880"/>
              </a:xfrm>
            </p:grpSpPr>
            <p:sp>
              <p:nvSpPr>
                <p:cNvPr id="305" name=""/>
                <p:cNvSpPr/>
                <p:nvPr/>
              </p:nvSpPr>
              <p:spPr>
                <a:xfrm flipH="1">
                  <a:off x="5260320" y="4191120"/>
                  <a:ext cx="1600200" cy="30492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新細明體"/>
                    </a:rPr>
                    <a:t>Multi-Lingua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rot="5400000">
                  <a:off x="6212520" y="4762440"/>
                  <a:ext cx="914400" cy="3812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  <a:ea typeface="新細明體"/>
                    </a:rPr>
                    <a:t>IBI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260320" y="5410440"/>
                  <a:ext cx="1600200" cy="304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新細明體"/>
                    </a:rPr>
                    <a:t>Wrapp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6863760" y="4762800"/>
                <a:ext cx="457200" cy="380880"/>
              </a:xfrm>
              <a:prstGeom prst="leftArrow">
                <a:avLst>
                  <a:gd name="adj1" fmla="val 50000"/>
                  <a:gd name="adj2" fmla="val 30009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H="1" rot="5400000">
              <a:off x="7130520" y="4457160"/>
              <a:ext cx="2438280" cy="99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05880" y="762120"/>
            <a:ext cx="2818440" cy="2438280"/>
            <a:chOff x="5105880" y="762120"/>
            <a:chExt cx="2818440" cy="2438280"/>
          </a:xfrm>
        </p:grpSpPr>
        <p:grpSp>
          <p:nvGrpSpPr>
            <p:cNvPr id="311" name=""/>
            <p:cNvGrpSpPr/>
            <p:nvPr/>
          </p:nvGrpSpPr>
          <p:grpSpPr>
            <a:xfrm>
              <a:off x="6171840" y="762120"/>
              <a:ext cx="1752480" cy="2438280"/>
              <a:chOff x="6171840" y="762120"/>
              <a:chExt cx="1752480" cy="2438280"/>
            </a:xfrm>
          </p:grpSpPr>
          <p:sp>
            <p:nvSpPr>
              <p:cNvPr id="312" name=""/>
              <p:cNvSpPr/>
              <p:nvPr/>
            </p:nvSpPr>
            <p:spPr>
              <a:xfrm flipH="1">
                <a:off x="6171840" y="762120"/>
                <a:ext cx="175248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171840" y="2743200"/>
                <a:ext cx="175248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5400000">
                <a:off x="6933600" y="1752120"/>
                <a:ext cx="1523880" cy="457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105880" y="1219320"/>
              <a:ext cx="2282040" cy="1523880"/>
              <a:chOff x="5105880" y="1219320"/>
              <a:chExt cx="2282040" cy="1523880"/>
            </a:xfrm>
          </p:grpSpPr>
          <p:sp>
            <p:nvSpPr>
              <p:cNvPr id="316" name=""/>
              <p:cNvSpPr/>
              <p:nvPr/>
            </p:nvSpPr>
            <p:spPr>
              <a:xfrm flipH="1">
                <a:off x="5105520" y="1219320"/>
                <a:ext cx="1828440" cy="1523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新細明體"/>
                  </a:rPr>
                  <a:t>Traditional IBIS Model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930720" y="1793880"/>
                <a:ext cx="456840" cy="381240"/>
              </a:xfrm>
              <a:prstGeom prst="leftArrow">
                <a:avLst>
                  <a:gd name="adj1" fmla="val 50000"/>
                  <a:gd name="adj2" fmla="val 29958"/>
                </a:avLst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" name=""/>
          <p:cNvSpPr/>
          <p:nvPr/>
        </p:nvSpPr>
        <p:spPr>
          <a:xfrm>
            <a:off x="152280" y="923760"/>
            <a:ext cx="2286000" cy="520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[Pin]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      dcp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IRCUITC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      dcm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IRCUITC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3      bpn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IRCUITC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      bpp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IRCUITC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|*********************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[Diff Pin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      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      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[Series Pin Mapping]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 3 R_1G_oh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|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[Circuit Call] compon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ort_map inp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ort_map inm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ort_map outp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ort_map outm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[end circuit call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[External Circuit] compon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anguage Sp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rner typ comp.sp co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orts inp inm outp ou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[End External Circuit]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438280" y="990720"/>
            <a:ext cx="457200" cy="4876560"/>
          </a:xfrm>
          <a:custGeom>
            <a:avLst/>
            <a:gdLst>
              <a:gd name="textAreaLeft" fmla="*/ 292680 w 457200"/>
              <a:gd name="textAreaRight" fmla="*/ 457920 w 45720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940"/>
                </a:lnTo>
                <a:cubicBezTo>
                  <a:pt x="10800" y="16840"/>
                  <a:pt x="5400" y="17740"/>
                  <a:pt x="0" y="17740"/>
                </a:cubicBezTo>
                <a:cubicBezTo>
                  <a:pt x="5400" y="17740"/>
                  <a:pt x="10800" y="18640"/>
                  <a:pt x="10800" y="195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1295280"/>
            <a:ext cx="1752840" cy="240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.subckt com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+ inp inm outp ou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*S-parameter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*RLC SPICE model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*Transistor mode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*VHDL-AMS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.end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3619440" y="28573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>
            <a:off x="2971800" y="5028840"/>
            <a:ext cx="2210400" cy="61020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1" idx="1"/>
            <a:endCxn id="297" idx="3"/>
          </p:cNvCxnSpPr>
          <p:nvPr/>
        </p:nvCxnSpPr>
        <p:spPr>
          <a:xfrm flipH="1" rot="16200000">
            <a:off x="3674880" y="4055040"/>
            <a:ext cx="991440" cy="80244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2669040" y="99072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mp.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67800" y="3886200"/>
            <a:ext cx="850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pice/Behavioral model simula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4400" y="914400"/>
            <a:ext cx="546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im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1389-4DF6-4B30-94E5-BA339684FB7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ffff"/>
                </a:solidFill>
                <a:latin typeface="Arial"/>
                <a:ea typeface="新細明體"/>
              </a:rPr>
              <a:t>Import like any other IBIS model</a:t>
            </a:r>
            <a:endParaRPr b="1" lang="en-US" sz="2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5773680" cy="4533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5133960" cy="38574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4495680" cy="3762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514600" y="2209680"/>
            <a:ext cx="133200" cy="235080"/>
          </a:xfrm>
          <a:custGeom>
            <a:avLst/>
            <a:gdLst/>
            <a:ahLst/>
            <a:rect l="l" t="t" r="r" b="b"/>
            <a:pathLst>
              <a:path w="84" h="148">
                <a:moveTo>
                  <a:pt x="0" y="0"/>
                </a:moveTo>
                <a:lnTo>
                  <a:pt x="0" y="118"/>
                </a:lnTo>
                <a:lnTo>
                  <a:pt x="24" y="91"/>
                </a:lnTo>
                <a:lnTo>
                  <a:pt x="51" y="148"/>
                </a:lnTo>
                <a:lnTo>
                  <a:pt x="74" y="145"/>
                </a:lnTo>
                <a:lnTo>
                  <a:pt x="47" y="84"/>
                </a:lnTo>
                <a:lnTo>
                  <a:pt x="8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2590920"/>
            <a:ext cx="133560" cy="234720"/>
          </a:xfrm>
          <a:custGeom>
            <a:avLst/>
            <a:gdLst/>
            <a:ahLst/>
            <a:rect l="l" t="t" r="r" b="b"/>
            <a:pathLst>
              <a:path w="84" h="148">
                <a:moveTo>
                  <a:pt x="0" y="0"/>
                </a:moveTo>
                <a:lnTo>
                  <a:pt x="0" y="118"/>
                </a:lnTo>
                <a:lnTo>
                  <a:pt x="24" y="91"/>
                </a:lnTo>
                <a:lnTo>
                  <a:pt x="51" y="148"/>
                </a:lnTo>
                <a:lnTo>
                  <a:pt x="74" y="145"/>
                </a:lnTo>
                <a:lnTo>
                  <a:pt x="47" y="84"/>
                </a:lnTo>
                <a:lnTo>
                  <a:pt x="8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2720" y="4572000"/>
            <a:ext cx="133200" cy="235080"/>
          </a:xfrm>
          <a:custGeom>
            <a:avLst/>
            <a:gdLst/>
            <a:ahLst/>
            <a:rect l="l" t="t" r="r" b="b"/>
            <a:pathLst>
              <a:path w="84" h="148">
                <a:moveTo>
                  <a:pt x="0" y="0"/>
                </a:moveTo>
                <a:lnTo>
                  <a:pt x="0" y="118"/>
                </a:lnTo>
                <a:lnTo>
                  <a:pt x="24" y="91"/>
                </a:lnTo>
                <a:lnTo>
                  <a:pt x="51" y="148"/>
                </a:lnTo>
                <a:lnTo>
                  <a:pt x="74" y="145"/>
                </a:lnTo>
                <a:lnTo>
                  <a:pt x="47" y="84"/>
                </a:lnTo>
                <a:lnTo>
                  <a:pt x="8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reenshot from ICX 3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03A1-B13B-4310-96E8-B5015434F7D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ffff"/>
                </a:solidFill>
                <a:latin typeface="Arial"/>
                <a:ea typeface="新細明體"/>
              </a:rPr>
              <a:t>And PROBE</a:t>
            </a:r>
            <a:r>
              <a:rPr b="1" lang="en-US" sz="2600" spc="-1" strike="noStrike">
                <a:solidFill>
                  <a:srgbClr val="66ffff"/>
                </a:solidFill>
                <a:latin typeface="Arial"/>
                <a:ea typeface="新細明體"/>
              </a:rPr>
              <a:t>, just like any IBIS model</a:t>
            </a:r>
            <a:endParaRPr b="1" lang="en-US" sz="26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01000" cy="5156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2028600" cy="1086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438280" y="1093680"/>
            <a:ext cx="447840" cy="1810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352680" y="2209680"/>
            <a:ext cx="133560" cy="235080"/>
          </a:xfrm>
          <a:custGeom>
            <a:avLst/>
            <a:gdLst/>
            <a:ahLst/>
            <a:rect l="l" t="t" r="r" b="b"/>
            <a:pathLst>
              <a:path w="84" h="148">
                <a:moveTo>
                  <a:pt x="0" y="0"/>
                </a:moveTo>
                <a:lnTo>
                  <a:pt x="0" y="118"/>
                </a:lnTo>
                <a:lnTo>
                  <a:pt x="24" y="91"/>
                </a:lnTo>
                <a:lnTo>
                  <a:pt x="51" y="148"/>
                </a:lnTo>
                <a:lnTo>
                  <a:pt x="74" y="145"/>
                </a:lnTo>
                <a:lnTo>
                  <a:pt x="47" y="84"/>
                </a:lnTo>
                <a:lnTo>
                  <a:pt x="84" y="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4572000"/>
            <a:ext cx="2666880" cy="91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ser is completely insulated from SPICE complex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85800" y="5867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reenshot from ICX 3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907A-1EAE-42B2-8805-B6A3F2C4E23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ff"/>
                </a:solidFill>
                <a:latin typeface="Arial"/>
                <a:ea typeface="新細明體"/>
              </a:rPr>
              <a:t>IBIS 4.1 Supports BOTH Transistor-level</a:t>
            </a:r>
            <a:br>
              <a:rPr sz="1900"/>
            </a:br>
            <a:r>
              <a:rPr b="1" lang="en-US" sz="1900" spc="-1" strike="noStrike">
                <a:solidFill>
                  <a:srgbClr val="66ffff"/>
                </a:solidFill>
                <a:latin typeface="Arial"/>
                <a:ea typeface="新細明體"/>
              </a:rPr>
              <a:t> and AMS Models</a:t>
            </a:r>
            <a:endParaRPr b="1" lang="en-US" sz="1900" spc="-1" strike="noStrike">
              <a:solidFill>
                <a:srgbClr val="66ffff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99880" y="1224000"/>
            <a:ext cx="8544240" cy="441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5181480" y="1523880"/>
          <a:ext cx="177192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523880"/>
                    <a:ext cx="17719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181480" y="2438280"/>
          <a:ext cx="3286080" cy="42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438280"/>
                    <a:ext cx="32860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6172200" y="2514600"/>
            <a:ext cx="133200" cy="235080"/>
          </a:xfrm>
          <a:custGeom>
            <a:avLst/>
            <a:gdLst/>
            <a:ahLst/>
            <a:rect l="l" t="t" r="r" b="b"/>
            <a:pathLst>
              <a:path w="84" h="148">
                <a:moveTo>
                  <a:pt x="0" y="0"/>
                </a:moveTo>
                <a:lnTo>
                  <a:pt x="0" y="118"/>
                </a:lnTo>
                <a:lnTo>
                  <a:pt x="24" y="91"/>
                </a:lnTo>
                <a:lnTo>
                  <a:pt x="51" y="148"/>
                </a:lnTo>
                <a:lnTo>
                  <a:pt x="74" y="145"/>
                </a:lnTo>
                <a:lnTo>
                  <a:pt x="47" y="84"/>
                </a:lnTo>
                <a:lnTo>
                  <a:pt x="8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3733920"/>
            <a:ext cx="2666880" cy="91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llows easy switch between transistor-level and AMS mod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5791320"/>
            <a:ext cx="2209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reenshot from ICX 3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0D6D-4803-4C32-B14F-BE63A749D94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ffff"/>
                </a:solidFill>
                <a:latin typeface="Arial"/>
                <a:ea typeface="新細明體"/>
              </a:rPr>
              <a:t>IBIS 4.1 “Parameters” Provide for Automation</a:t>
            </a:r>
            <a:endParaRPr b="1" lang="en-US" sz="2100" spc="-1" strike="noStrike">
              <a:solidFill>
                <a:srgbClr val="66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52280" y="838080"/>
            <a:ext cx="8543880" cy="4410000"/>
            <a:chOff x="152280" y="838080"/>
            <a:chExt cx="8543880" cy="441000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152280" y="838080"/>
              <a:ext cx="8543880" cy="4410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54" name=""/>
            <p:cNvGraphicFramePr/>
            <p:nvPr/>
          </p:nvGraphicFramePr>
          <p:xfrm>
            <a:off x="5038560" y="1142640"/>
            <a:ext cx="1771560" cy="1123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38560" y="1142640"/>
                      <a:ext cx="1771560" cy="11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4114800" y="12193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-762120" y="457200"/>
            <a:ext cx="133560" cy="235080"/>
          </a:xfrm>
          <a:custGeom>
            <a:avLst/>
            <a:gdLst/>
            <a:ahLst/>
            <a:rect l="l" t="t" r="r" b="b"/>
            <a:pathLst>
              <a:path w="84" h="148">
                <a:moveTo>
                  <a:pt x="0" y="0"/>
                </a:moveTo>
                <a:lnTo>
                  <a:pt x="0" y="118"/>
                </a:lnTo>
                <a:lnTo>
                  <a:pt x="24" y="91"/>
                </a:lnTo>
                <a:lnTo>
                  <a:pt x="51" y="148"/>
                </a:lnTo>
                <a:lnTo>
                  <a:pt x="74" y="145"/>
                </a:lnTo>
                <a:lnTo>
                  <a:pt x="47" y="84"/>
                </a:lnTo>
                <a:lnTo>
                  <a:pt x="8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533520" y="2819520"/>
            <a:ext cx="2547720" cy="2971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62120" y="579132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reenshot from ICX 3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98FB-9B9C-4730-8C99-C9E033435BC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94D3-450F-4DBD-A657-46EFB1215B95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How can these objectives be met?</a:t>
            </a:r>
            <a:r>
              <a:rPr b="1" lang="en-US" sz="3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y investing in accurate timing and SI analysis so that safety margins can be controlle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urate static or dynamic timing models for the internal paths of active de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urate SI models for drivers, loads and  passive devic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urate models for the interconnect including the associated dielectric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ing fully automated analysis tools so all vulnerable nets can be analyz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B84C-5E94-473C-9334-FCB153174C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1814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4800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876920"/>
            <a:ext cx="914400" cy="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648320"/>
            <a:ext cx="0" cy="22860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9144000" cy="19814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495680"/>
            <a:ext cx="4953240" cy="1067040"/>
          </a:xfrm>
          <a:custGeom>
            <a:avLst/>
            <a:gdLst/>
            <a:ahLst/>
            <a:rect l="l" t="t" r="r" b="b"/>
            <a:pathLst>
              <a:path w="3120" h="672">
                <a:moveTo>
                  <a:pt x="3120" y="528"/>
                </a:moveTo>
                <a:lnTo>
                  <a:pt x="3024" y="672"/>
                </a:lnTo>
                <a:lnTo>
                  <a:pt x="336" y="672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441972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52578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441972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457200" cy="15228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4267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267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2670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Basic timing analysis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876920"/>
            <a:ext cx="236196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514600"/>
            <a:ext cx="83844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1911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3434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41911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51460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743200"/>
            <a:ext cx="2590920" cy="1905120"/>
          </a:xfrm>
          <a:prstGeom prst="parallelogram">
            <a:avLst>
              <a:gd name="adj" fmla="val 35076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940840" y="40694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38280" y="4267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11480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09960" y="430992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945360" y="41457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419720"/>
            <a:ext cx="38088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26708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510552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5715000"/>
            <a:ext cx="236232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3352680"/>
            <a:ext cx="838080" cy="2590920"/>
          </a:xfrm>
          <a:custGeom>
            <a:avLst/>
            <a:gdLst/>
            <a:ahLst/>
            <a:rect l="l" t="t" r="r" b="b"/>
            <a:pathLst>
              <a:path w="528" h="1632">
                <a:moveTo>
                  <a:pt x="0" y="1488"/>
                </a:moveTo>
                <a:lnTo>
                  <a:pt x="528" y="0"/>
                </a:lnTo>
                <a:lnTo>
                  <a:pt x="528" y="144"/>
                </a:lnTo>
                <a:lnTo>
                  <a:pt x="0" y="1632"/>
                </a:lnTo>
                <a:lnTo>
                  <a:pt x="0" y="1488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58200" y="502920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96"/>
                </a:moveTo>
                <a:lnTo>
                  <a:pt x="48" y="0"/>
                </a:lnTo>
                <a:lnTo>
                  <a:pt x="96" y="96"/>
                </a:lnTo>
                <a:lnTo>
                  <a:pt x="48" y="192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5181480"/>
            <a:ext cx="380880" cy="15264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50292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352680"/>
            <a:ext cx="3200400" cy="2362320"/>
          </a:xfrm>
          <a:prstGeom prst="parallelogram">
            <a:avLst>
              <a:gd name="adj" fmla="val 35751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581280"/>
            <a:ext cx="2590560" cy="1905120"/>
          </a:xfrm>
          <a:prstGeom prst="parallelogram">
            <a:avLst>
              <a:gd name="adj" fmla="val 35071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7893720" y="490788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391160" y="51055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181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5898240" y="49838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52578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lnTo>
                  <a:pt x="48" y="0"/>
                </a:lnTo>
                <a:lnTo>
                  <a:pt x="240" y="0"/>
                </a:lnTo>
                <a:lnTo>
                  <a:pt x="192" y="96"/>
                </a:lnTo>
                <a:lnTo>
                  <a:pt x="0" y="9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1055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96" y="96"/>
                </a:lnTo>
                <a:lnTo>
                  <a:pt x="144" y="0"/>
                </a:lnTo>
                <a:lnTo>
                  <a:pt x="48" y="96"/>
                </a:lnTo>
                <a:lnTo>
                  <a:pt x="0" y="19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03160" y="41457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857640" y="434340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952880"/>
            <a:ext cx="457200" cy="336600"/>
          </a:xfrm>
          <a:prstGeom prst="parallelogram">
            <a:avLst>
              <a:gd name="adj" fmla="val 350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62840" y="5148360"/>
            <a:ext cx="284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043040" y="5185440"/>
            <a:ext cx="48960" cy="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4572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57800" y="4495680"/>
            <a:ext cx="152280" cy="15264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41972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0"/>
                </a:moveTo>
                <a:lnTo>
                  <a:pt x="144" y="0"/>
                </a:lnTo>
                <a:lnTo>
                  <a:pt x="240" y="144"/>
                </a:lnTo>
              </a:path>
            </a:pathLst>
          </a:custGeom>
          <a:noFill/>
          <a:ln w="63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720" y="2514600"/>
            <a:ext cx="304560" cy="2286000"/>
          </a:xfrm>
          <a:custGeom>
            <a:avLst/>
            <a:gdLst>
              <a:gd name="textAreaLeft" fmla="*/ 0 w 304560"/>
              <a:gd name="textAreaRight" fmla="*/ 10980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591240" y="346680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2590920"/>
            <a:ext cx="175284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tim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setup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2286000"/>
            <a:ext cx="167652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tim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 edg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out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4914720" y="2018880"/>
            <a:ext cx="228600" cy="259056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61040" y="3619440"/>
            <a:ext cx="704880" cy="533520"/>
          </a:xfrm>
          <a:custGeom>
            <a:avLst/>
            <a:gdLst/>
            <a:ahLst/>
            <a:rect l="l" t="t" r="r" b="b"/>
            <a:pathLst>
              <a:path w="444" h="336">
                <a:moveTo>
                  <a:pt x="0" y="0"/>
                </a:moveTo>
                <a:cubicBezTo>
                  <a:pt x="22" y="4"/>
                  <a:pt x="103" y="8"/>
                  <a:pt x="132" y="24"/>
                </a:cubicBezTo>
                <a:cubicBezTo>
                  <a:pt x="161" y="40"/>
                  <a:pt x="162" y="73"/>
                  <a:pt x="172" y="98"/>
                </a:cubicBezTo>
                <a:cubicBezTo>
                  <a:pt x="182" y="123"/>
                  <a:pt x="182" y="148"/>
                  <a:pt x="189" y="176"/>
                </a:cubicBezTo>
                <a:cubicBezTo>
                  <a:pt x="196" y="204"/>
                  <a:pt x="202" y="239"/>
                  <a:pt x="217" y="264"/>
                </a:cubicBezTo>
                <a:cubicBezTo>
                  <a:pt x="232" y="289"/>
                  <a:pt x="239" y="312"/>
                  <a:pt x="277" y="324"/>
                </a:cubicBezTo>
                <a:cubicBezTo>
                  <a:pt x="315" y="336"/>
                  <a:pt x="409" y="334"/>
                  <a:pt x="444" y="336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352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578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914400"/>
            <a:ext cx="1904760" cy="1219320"/>
          </a:xfrm>
          <a:prstGeom prst="rect">
            <a:avLst/>
          </a:prstGeom>
          <a:solidFill>
            <a:srgbClr val="b3191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eadshee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io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33720" y="1295280"/>
            <a:ext cx="5333760" cy="1295640"/>
            <a:chOff x="2133720" y="1295280"/>
            <a:chExt cx="5333760" cy="1295640"/>
          </a:xfrm>
        </p:grpSpPr>
        <p:sp>
          <p:nvSpPr>
            <p:cNvPr id="153" name=""/>
            <p:cNvSpPr/>
            <p:nvPr/>
          </p:nvSpPr>
          <p:spPr>
            <a:xfrm>
              <a:off x="2133720" y="129528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133720" y="12952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05520" y="16002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05520" y="159984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467480" y="21337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886200" y="33526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862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86200" y="1905120"/>
            <a:ext cx="2592360" cy="2401920"/>
            <a:chOff x="3886200" y="1905120"/>
            <a:chExt cx="2592360" cy="2401920"/>
          </a:xfrm>
        </p:grpSpPr>
        <p:sp>
          <p:nvSpPr>
            <p:cNvPr id="161" name=""/>
            <p:cNvSpPr/>
            <p:nvPr/>
          </p:nvSpPr>
          <p:spPr>
            <a:xfrm>
              <a:off x="4191120" y="1905120"/>
              <a:ext cx="1904760" cy="12189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 analysi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iver, receiver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ckage, tr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lay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7800" y="3614760"/>
              <a:ext cx="1220760" cy="692280"/>
            </a:xfrm>
            <a:custGeom>
              <a:avLst/>
              <a:gdLst/>
              <a:ahLst/>
              <a:rect l="l" t="t" r="r" b="b"/>
              <a:pathLst>
                <a:path w="769" h="436">
                  <a:moveTo>
                    <a:pt x="0" y="3"/>
                  </a:moveTo>
                  <a:cubicBezTo>
                    <a:pt x="26" y="7"/>
                    <a:pt x="114" y="0"/>
                    <a:pt x="156" y="29"/>
                  </a:cubicBezTo>
                  <a:cubicBezTo>
                    <a:pt x="198" y="58"/>
                    <a:pt x="227" y="128"/>
                    <a:pt x="251" y="176"/>
                  </a:cubicBezTo>
                  <a:cubicBezTo>
                    <a:pt x="275" y="224"/>
                    <a:pt x="283" y="278"/>
                    <a:pt x="297" y="317"/>
                  </a:cubicBezTo>
                  <a:cubicBezTo>
                    <a:pt x="311" y="356"/>
                    <a:pt x="322" y="395"/>
                    <a:pt x="336" y="411"/>
                  </a:cubicBezTo>
                  <a:cubicBezTo>
                    <a:pt x="350" y="427"/>
                    <a:pt x="372" y="436"/>
                    <a:pt x="384" y="411"/>
                  </a:cubicBezTo>
                  <a:cubicBezTo>
                    <a:pt x="396" y="386"/>
                    <a:pt x="402" y="306"/>
                    <a:pt x="411" y="260"/>
                  </a:cubicBezTo>
                  <a:cubicBezTo>
                    <a:pt x="420" y="214"/>
                    <a:pt x="430" y="140"/>
                    <a:pt x="440" y="132"/>
                  </a:cubicBezTo>
                  <a:cubicBezTo>
                    <a:pt x="450" y="124"/>
                    <a:pt x="461" y="186"/>
                    <a:pt x="468" y="210"/>
                  </a:cubicBezTo>
                  <a:cubicBezTo>
                    <a:pt x="475" y="234"/>
                    <a:pt x="475" y="245"/>
                    <a:pt x="485" y="278"/>
                  </a:cubicBezTo>
                  <a:cubicBezTo>
                    <a:pt x="495" y="311"/>
                    <a:pt x="514" y="411"/>
                    <a:pt x="528" y="411"/>
                  </a:cubicBezTo>
                  <a:cubicBezTo>
                    <a:pt x="542" y="411"/>
                    <a:pt x="557" y="311"/>
                    <a:pt x="569" y="278"/>
                  </a:cubicBezTo>
                  <a:cubicBezTo>
                    <a:pt x="581" y="245"/>
                    <a:pt x="586" y="210"/>
                    <a:pt x="601" y="214"/>
                  </a:cubicBezTo>
                  <a:cubicBezTo>
                    <a:pt x="616" y="218"/>
                    <a:pt x="631" y="286"/>
                    <a:pt x="659" y="304"/>
                  </a:cubicBezTo>
                  <a:cubicBezTo>
                    <a:pt x="687" y="322"/>
                    <a:pt x="746" y="318"/>
                    <a:pt x="769" y="321"/>
                  </a:cubicBezTo>
                </a:path>
              </a:pathLst>
            </a:custGeom>
            <a:noFill/>
            <a:ln w="255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3581280"/>
              <a:ext cx="704880" cy="533520"/>
            </a:xfrm>
            <a:custGeom>
              <a:avLst/>
              <a:gdLst/>
              <a:ahLst/>
              <a:rect l="l" t="t" r="r" b="b"/>
              <a:pathLst>
                <a:path w="444" h="336">
                  <a:moveTo>
                    <a:pt x="0" y="0"/>
                  </a:moveTo>
                  <a:cubicBezTo>
                    <a:pt x="22" y="4"/>
                    <a:pt x="103" y="8"/>
                    <a:pt x="132" y="24"/>
                  </a:cubicBezTo>
                  <a:cubicBezTo>
                    <a:pt x="161" y="40"/>
                    <a:pt x="162" y="73"/>
                    <a:pt x="172" y="98"/>
                  </a:cubicBezTo>
                  <a:cubicBezTo>
                    <a:pt x="182" y="123"/>
                    <a:pt x="182" y="148"/>
                    <a:pt x="189" y="176"/>
                  </a:cubicBezTo>
                  <a:cubicBezTo>
                    <a:pt x="196" y="204"/>
                    <a:pt x="202" y="239"/>
                    <a:pt x="217" y="264"/>
                  </a:cubicBezTo>
                  <a:cubicBezTo>
                    <a:pt x="232" y="289"/>
                    <a:pt x="239" y="312"/>
                    <a:pt x="277" y="324"/>
                  </a:cubicBezTo>
                  <a:cubicBezTo>
                    <a:pt x="315" y="336"/>
                    <a:pt x="409" y="334"/>
                    <a:pt x="444" y="336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88360" y="4309920"/>
            <a:ext cx="50040" cy="63000"/>
            <a:chOff x="2088360" y="4309920"/>
            <a:chExt cx="50040" cy="63000"/>
          </a:xfrm>
        </p:grpSpPr>
        <p:sp>
          <p:nvSpPr>
            <p:cNvPr id="165" name=""/>
            <p:cNvSpPr/>
            <p:nvPr/>
          </p:nvSpPr>
          <p:spPr>
            <a:xfrm flipV="1">
              <a:off x="2088360" y="4350600"/>
              <a:ext cx="48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09960" y="4309920"/>
              <a:ext cx="28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038360" y="5149800"/>
            <a:ext cx="50040" cy="63000"/>
            <a:chOff x="7038360" y="5149800"/>
            <a:chExt cx="50040" cy="63000"/>
          </a:xfrm>
        </p:grpSpPr>
        <p:sp>
          <p:nvSpPr>
            <p:cNvPr id="168" name=""/>
            <p:cNvSpPr/>
            <p:nvPr/>
          </p:nvSpPr>
          <p:spPr>
            <a:xfrm flipV="1">
              <a:off x="7038360" y="5190480"/>
              <a:ext cx="489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9960" y="5149800"/>
              <a:ext cx="28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6D57-8EF7-483A-A5F3-22C347FB64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590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Part One:</a:t>
            </a:r>
            <a:br>
              <a:rPr sz="3000"/>
            </a:b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Summary of IBIS to version 3.2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BBE6-21CA-4AFE-BA0A-6E4E6F5A03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Highlights of IBIS 3.2 Behavior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BIS 3.2 assumes fixed topologies for drivers, inputs and terminato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upport process range: Typ, Min &amp; Max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rivers and Inpu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wo steady state Current versus Voltage (IV) tables representing power and/or ground clamp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pacitanc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rive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minal edge ra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wo additional steady state Current versus Voltage (IV) tables representing pull-up and pull-down transistors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onal Dynamic Voltage versus Time (VT) table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ad conditions must be specified for each tabl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7132-F85C-4A9F-A36E-A3B9145A37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Highlights of IBIS 3.2 Behavior (continued)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ies and Parallel Terminator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istance, Capacitance and Inductanc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ackage Descrip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umes each external pin connects to one internal (die) pi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fault Packa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sumes no coupling: simple resistance, capacitance and inductanc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ckage Mod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f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lows multiple sections, each with coupled or uncoupled: resistance, capacitance and inductanc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F250-4973-4389-AD4F-CF63FC2351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IBIS 3.2 Interconnect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vides mapping of the pins on a physical part to the models providing electrical behavior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llows EDA tools to automatically build complete simulation models for nets on your PCB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ss error prone than creating simulation netlists manuall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ows for simulation coverage of the majority of nets on your PCB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BCFE-C9F8-4E95-AEC0-B56976A8DF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ff"/>
                </a:solidFill>
                <a:latin typeface="Arial"/>
              </a:rPr>
              <a:t>Highlights of IBIS 3.2 Interconnect</a:t>
            </a:r>
            <a:endParaRPr b="1" lang="en-US" sz="30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BIS Pin Sec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igns driver, load and parallel terminator models to pi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ies Pin Mapping Sec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igns series terminators (and switches) to pin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Diff Pin Sec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dentifies differential pin pairs &amp; adds differential delay 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ectrical Board Description (EBD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mited description of a PCB containing IBIS componen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es not support modeling of trace to trace coupling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hree Facets of IBIS: Interface, Behavior and Measurement,  IBIS Open Forum, December  2005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A0D1-47F8-43BD-998B-E432A092CA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Ian C Dodd</dc:creator>
  <dc:description/>
  <dc:language>en-US</dc:language>
  <cp:lastModifiedBy>idodd</cp:lastModifiedBy>
  <cp:lastPrinted>2001-01-30T21:17:30Z</cp:lastPrinted>
  <dcterms:modified xsi:type="dcterms:W3CDTF">2005-11-08T23:21:35Z</dcterms:modified>
  <cp:revision>749</cp:revision>
  <dc:subject/>
  <dc:title>No Slide Title</dc:title>
</cp:coreProperties>
</file>