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07920" y="4695480"/>
            <a:ext cx="4981680" cy="44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096920" y="856800"/>
            <a:ext cx="460368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4" name="PlaceHolder 1"/>
          <p:cNvSpPr>
            <a:spLocks noGrp="1"/>
          </p:cNvSpPr>
          <p:nvPr>
            <p:ph type="sldImg"/>
          </p:nvPr>
        </p:nvSpPr>
        <p:spPr>
          <a:xfrm>
            <a:off x="9367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75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84560" cy="4435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6" name="PlaceHolder 1"/>
          <p:cNvSpPr>
            <a:spLocks noGrp="1"/>
          </p:cNvSpPr>
          <p:nvPr>
            <p:ph type="sldImg"/>
          </p:nvPr>
        </p:nvSpPr>
        <p:spPr>
          <a:xfrm>
            <a:off x="9367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77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84560" cy="4435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8" name="PlaceHolder 1"/>
          <p:cNvSpPr>
            <a:spLocks noGrp="1"/>
          </p:cNvSpPr>
          <p:nvPr>
            <p:ph type="sldImg"/>
          </p:nvPr>
        </p:nvSpPr>
        <p:spPr>
          <a:xfrm>
            <a:off x="9367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79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84560" cy="4435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0" name="PlaceHolder 1"/>
          <p:cNvSpPr>
            <a:spLocks noGrp="1"/>
          </p:cNvSpPr>
          <p:nvPr>
            <p:ph type="sldImg"/>
          </p:nvPr>
        </p:nvSpPr>
        <p:spPr>
          <a:xfrm>
            <a:off x="9367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71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84560" cy="4435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0" name="PlaceHolder 1"/>
          <p:cNvSpPr>
            <a:spLocks noGrp="1"/>
          </p:cNvSpPr>
          <p:nvPr>
            <p:ph type="sldImg"/>
          </p:nvPr>
        </p:nvSpPr>
        <p:spPr>
          <a:xfrm>
            <a:off x="9367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81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84560" cy="4435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2" name="PlaceHolder 1"/>
          <p:cNvSpPr>
            <a:spLocks noGrp="1"/>
          </p:cNvSpPr>
          <p:nvPr>
            <p:ph type="sldImg"/>
          </p:nvPr>
        </p:nvSpPr>
        <p:spPr>
          <a:xfrm>
            <a:off x="9367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73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84560" cy="4435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484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08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560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484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08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5600" y="2120760"/>
            <a:ext cx="8634240" cy="56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484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08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560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484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08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5600" y="2120760"/>
            <a:ext cx="8634240" cy="56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00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75D3-4A4F-454F-9B0D-29FF0968B7F8}" type="slidenum">
              <a:rPr b="0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Nokia Siemens Networks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oding of ibischk    static vs dynamic        Lenski  / 23rd  April 2009   IBIS summit DATE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400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16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6742-50DF-44C3-B8BC-C997B87F66E6}" type="slidenum">
              <a:rPr b="0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Nokia Siemens Networks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ecoding ibischk    static vs dynamic        Lenski  / 23rd April 2009      IBIS summit DATE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9280" algn="ctr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7160" algn="ctr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6540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265400">
              <a:spcBef>
                <a:spcPts val="4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265400">
              <a:spcBef>
                <a:spcPts val="4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59520" y="1192320"/>
            <a:ext cx="360036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Calculations for warning message ( 3 digits)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7965000" y="-19440"/>
            <a:ext cx="999000" cy="1206720"/>
            <a:chOff x="7965000" y="-19440"/>
            <a:chExt cx="999000" cy="1206720"/>
          </a:xfrm>
        </p:grpSpPr>
        <p:grpSp>
          <p:nvGrpSpPr>
            <p:cNvPr id="1886" name=""/>
            <p:cNvGrpSpPr/>
            <p:nvPr/>
          </p:nvGrpSpPr>
          <p:grpSpPr>
            <a:xfrm>
              <a:off x="8148600" y="552240"/>
              <a:ext cx="633240" cy="635040"/>
              <a:chOff x="8148600" y="552240"/>
              <a:chExt cx="633240" cy="635040"/>
            </a:xfrm>
          </p:grpSpPr>
          <p:grpSp>
            <p:nvGrpSpPr>
              <p:cNvPr id="1887" name=""/>
              <p:cNvGrpSpPr/>
              <p:nvPr/>
            </p:nvGrpSpPr>
            <p:grpSpPr>
              <a:xfrm>
                <a:off x="8148600" y="768240"/>
                <a:ext cx="633240" cy="419040"/>
                <a:chOff x="8148600" y="768240"/>
                <a:chExt cx="633240" cy="419040"/>
              </a:xfrm>
            </p:grpSpPr>
            <p:grpSp>
              <p:nvGrpSpPr>
                <p:cNvPr id="1888" name=""/>
                <p:cNvGrpSpPr/>
                <p:nvPr/>
              </p:nvGrpSpPr>
              <p:grpSpPr>
                <a:xfrm>
                  <a:off x="8148600" y="1104480"/>
                  <a:ext cx="633240" cy="82800"/>
                  <a:chOff x="8148600" y="1104480"/>
                  <a:chExt cx="633240" cy="82800"/>
                </a:xfrm>
              </p:grpSpPr>
              <p:sp>
                <p:nvSpPr>
                  <p:cNvPr id="1889" name=""/>
                  <p:cNvSpPr/>
                  <p:nvPr/>
                </p:nvSpPr>
                <p:spPr>
                  <a:xfrm>
                    <a:off x="8254080" y="1104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846540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8571240" y="1104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867672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835992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814860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5" name=""/>
                <p:cNvGrpSpPr/>
                <p:nvPr/>
              </p:nvGrpSpPr>
              <p:grpSpPr>
                <a:xfrm>
                  <a:off x="8201520" y="1020600"/>
                  <a:ext cx="527760" cy="82800"/>
                  <a:chOff x="8201520" y="1020600"/>
                  <a:chExt cx="527760" cy="82800"/>
                </a:xfrm>
              </p:grpSpPr>
              <p:sp>
                <p:nvSpPr>
                  <p:cNvPr id="1896" name=""/>
                  <p:cNvSpPr/>
                  <p:nvPr/>
                </p:nvSpPr>
                <p:spPr>
                  <a:xfrm>
                    <a:off x="820152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841284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851868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>
                    <a:off x="862416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830700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1" name=""/>
                <p:cNvSpPr/>
                <p:nvPr/>
              </p:nvSpPr>
              <p:spPr>
                <a:xfrm>
                  <a:off x="8359920" y="93672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8571600" y="9367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8465760" y="93672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8254080" y="9367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8307360" y="85320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8518680" y="8532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8413200" y="8532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8" name=""/>
                <p:cNvGrpSpPr/>
                <p:nvPr/>
              </p:nvGrpSpPr>
              <p:grpSpPr>
                <a:xfrm>
                  <a:off x="8361000" y="768240"/>
                  <a:ext cx="210600" cy="82800"/>
                  <a:chOff x="8361000" y="768240"/>
                  <a:chExt cx="210600" cy="82800"/>
                </a:xfrm>
              </p:grpSpPr>
              <p:sp>
                <p:nvSpPr>
                  <p:cNvPr id="1909" name=""/>
                  <p:cNvSpPr/>
                  <p:nvPr/>
                </p:nvSpPr>
                <p:spPr>
                  <a:xfrm>
                    <a:off x="8361000" y="7682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8466840" y="7682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1" name=""/>
              <p:cNvGrpSpPr/>
              <p:nvPr/>
            </p:nvGrpSpPr>
            <p:grpSpPr>
              <a:xfrm>
                <a:off x="8422920" y="768240"/>
                <a:ext cx="83880" cy="414720"/>
                <a:chOff x="8422920" y="768240"/>
                <a:chExt cx="83880" cy="414720"/>
              </a:xfrm>
            </p:grpSpPr>
            <p:grpSp>
              <p:nvGrpSpPr>
                <p:cNvPr id="1912" name=""/>
                <p:cNvGrpSpPr/>
                <p:nvPr/>
              </p:nvGrpSpPr>
              <p:grpSpPr>
                <a:xfrm>
                  <a:off x="8422920" y="768240"/>
                  <a:ext cx="83880" cy="208080"/>
                  <a:chOff x="8422920" y="768240"/>
                  <a:chExt cx="83880" cy="208080"/>
                </a:xfrm>
              </p:grpSpPr>
              <p:grpSp>
                <p:nvGrpSpPr>
                  <p:cNvPr id="1913" name=""/>
                  <p:cNvGrpSpPr/>
                  <p:nvPr/>
                </p:nvGrpSpPr>
                <p:grpSpPr>
                  <a:xfrm>
                    <a:off x="8422920" y="768240"/>
                    <a:ext cx="83880" cy="41400"/>
                    <a:chOff x="8422920" y="768240"/>
                    <a:chExt cx="83880" cy="41400"/>
                  </a:xfrm>
                </p:grpSpPr>
                <p:sp>
                  <p:nvSpPr>
                    <p:cNvPr id="1914" name=""/>
                    <p:cNvSpPr/>
                    <p:nvPr/>
                  </p:nvSpPr>
                  <p:spPr>
                    <a:xfrm>
                      <a:off x="8422920" y="768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5" name=""/>
                    <p:cNvSpPr/>
                    <p:nvPr/>
                  </p:nvSpPr>
                  <p:spPr>
                    <a:xfrm>
                      <a:off x="8422920" y="781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"/>
                    <p:cNvSpPr/>
                    <p:nvPr/>
                  </p:nvSpPr>
                  <p:spPr>
                    <a:xfrm>
                      <a:off x="8422920" y="795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7" name=""/>
                  <p:cNvGrpSpPr/>
                  <p:nvPr/>
                </p:nvGrpSpPr>
                <p:grpSpPr>
                  <a:xfrm>
                    <a:off x="8422920" y="810000"/>
                    <a:ext cx="83880" cy="41400"/>
                    <a:chOff x="8422920" y="810000"/>
                    <a:chExt cx="83880" cy="41400"/>
                  </a:xfrm>
                </p:grpSpPr>
                <p:sp>
                  <p:nvSpPr>
                    <p:cNvPr id="1918" name=""/>
                    <p:cNvSpPr/>
                    <p:nvPr/>
                  </p:nvSpPr>
                  <p:spPr>
                    <a:xfrm>
                      <a:off x="8422920" y="810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"/>
                    <p:cNvSpPr/>
                    <p:nvPr/>
                  </p:nvSpPr>
                  <p:spPr>
                    <a:xfrm>
                      <a:off x="8422920" y="823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>
                      <a:off x="8422920" y="837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1" name=""/>
                  <p:cNvGrpSpPr/>
                  <p:nvPr/>
                </p:nvGrpSpPr>
                <p:grpSpPr>
                  <a:xfrm>
                    <a:off x="8422920" y="851760"/>
                    <a:ext cx="83880" cy="41400"/>
                    <a:chOff x="8422920" y="851760"/>
                    <a:chExt cx="83880" cy="41400"/>
                  </a:xfrm>
                </p:grpSpPr>
                <p:sp>
                  <p:nvSpPr>
                    <p:cNvPr id="1922" name=""/>
                    <p:cNvSpPr/>
                    <p:nvPr/>
                  </p:nvSpPr>
                  <p:spPr>
                    <a:xfrm>
                      <a:off x="8422920" y="851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>
                      <a:off x="8422920" y="865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"/>
                    <p:cNvSpPr/>
                    <p:nvPr/>
                  </p:nvSpPr>
                  <p:spPr>
                    <a:xfrm>
                      <a:off x="8422920" y="87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5" name=""/>
                  <p:cNvGrpSpPr/>
                  <p:nvPr/>
                </p:nvGrpSpPr>
                <p:grpSpPr>
                  <a:xfrm>
                    <a:off x="8422920" y="893880"/>
                    <a:ext cx="83880" cy="41400"/>
                    <a:chOff x="8422920" y="893880"/>
                    <a:chExt cx="83880" cy="41400"/>
                  </a:xfrm>
                </p:grpSpPr>
                <p:sp>
                  <p:nvSpPr>
                    <p:cNvPr id="1926" name=""/>
                    <p:cNvSpPr/>
                    <p:nvPr/>
                  </p:nvSpPr>
                  <p:spPr>
                    <a:xfrm>
                      <a:off x="8422920" y="893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"/>
                    <p:cNvSpPr/>
                    <p:nvPr/>
                  </p:nvSpPr>
                  <p:spPr>
                    <a:xfrm>
                      <a:off x="8422920" y="907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"/>
                    <p:cNvSpPr/>
                    <p:nvPr/>
                  </p:nvSpPr>
                  <p:spPr>
                    <a:xfrm>
                      <a:off x="8422920" y="921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9" name=""/>
                  <p:cNvGrpSpPr/>
                  <p:nvPr/>
                </p:nvGrpSpPr>
                <p:grpSpPr>
                  <a:xfrm>
                    <a:off x="8422920" y="934920"/>
                    <a:ext cx="83880" cy="41400"/>
                    <a:chOff x="8422920" y="934920"/>
                    <a:chExt cx="83880" cy="41400"/>
                  </a:xfrm>
                </p:grpSpPr>
                <p:sp>
                  <p:nvSpPr>
                    <p:cNvPr id="1930" name=""/>
                    <p:cNvSpPr/>
                    <p:nvPr/>
                  </p:nvSpPr>
                  <p:spPr>
                    <a:xfrm>
                      <a:off x="8422920" y="934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"/>
                    <p:cNvSpPr/>
                    <p:nvPr/>
                  </p:nvSpPr>
                  <p:spPr>
                    <a:xfrm>
                      <a:off x="8422920" y="948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"/>
                    <p:cNvSpPr/>
                    <p:nvPr/>
                  </p:nvSpPr>
                  <p:spPr>
                    <a:xfrm>
                      <a:off x="8422920" y="962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33" name=""/>
                <p:cNvGrpSpPr/>
                <p:nvPr/>
              </p:nvGrpSpPr>
              <p:grpSpPr>
                <a:xfrm>
                  <a:off x="8422920" y="974880"/>
                  <a:ext cx="83880" cy="208080"/>
                  <a:chOff x="8422920" y="974880"/>
                  <a:chExt cx="83880" cy="208080"/>
                </a:xfrm>
              </p:grpSpPr>
              <p:grpSp>
                <p:nvGrpSpPr>
                  <p:cNvPr id="1934" name=""/>
                  <p:cNvGrpSpPr/>
                  <p:nvPr/>
                </p:nvGrpSpPr>
                <p:grpSpPr>
                  <a:xfrm>
                    <a:off x="8422920" y="974880"/>
                    <a:ext cx="83880" cy="41400"/>
                    <a:chOff x="8422920" y="974880"/>
                    <a:chExt cx="83880" cy="41400"/>
                  </a:xfrm>
                </p:grpSpPr>
                <p:sp>
                  <p:nvSpPr>
                    <p:cNvPr id="1935" name=""/>
                    <p:cNvSpPr/>
                    <p:nvPr/>
                  </p:nvSpPr>
                  <p:spPr>
                    <a:xfrm>
                      <a:off x="8422920" y="974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"/>
                    <p:cNvSpPr/>
                    <p:nvPr/>
                  </p:nvSpPr>
                  <p:spPr>
                    <a:xfrm>
                      <a:off x="8422920" y="988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"/>
                    <p:cNvSpPr/>
                    <p:nvPr/>
                  </p:nvSpPr>
                  <p:spPr>
                    <a:xfrm>
                      <a:off x="8422920" y="1002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8" name=""/>
                  <p:cNvGrpSpPr/>
                  <p:nvPr/>
                </p:nvGrpSpPr>
                <p:grpSpPr>
                  <a:xfrm>
                    <a:off x="8422920" y="1016640"/>
                    <a:ext cx="83880" cy="41400"/>
                    <a:chOff x="8422920" y="1016640"/>
                    <a:chExt cx="83880" cy="41400"/>
                  </a:xfrm>
                </p:grpSpPr>
                <p:sp>
                  <p:nvSpPr>
                    <p:cNvPr id="1939" name=""/>
                    <p:cNvSpPr/>
                    <p:nvPr/>
                  </p:nvSpPr>
                  <p:spPr>
                    <a:xfrm>
                      <a:off x="8422920" y="1016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"/>
                    <p:cNvSpPr/>
                    <p:nvPr/>
                  </p:nvSpPr>
                  <p:spPr>
                    <a:xfrm>
                      <a:off x="8422920" y="1029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"/>
                    <p:cNvSpPr/>
                    <p:nvPr/>
                  </p:nvSpPr>
                  <p:spPr>
                    <a:xfrm>
                      <a:off x="8422920" y="1044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2" name=""/>
                  <p:cNvGrpSpPr/>
                  <p:nvPr/>
                </p:nvGrpSpPr>
                <p:grpSpPr>
                  <a:xfrm>
                    <a:off x="8422920" y="1058400"/>
                    <a:ext cx="83880" cy="41400"/>
                    <a:chOff x="8422920" y="1058400"/>
                    <a:chExt cx="83880" cy="41400"/>
                  </a:xfrm>
                </p:grpSpPr>
                <p:sp>
                  <p:nvSpPr>
                    <p:cNvPr id="1943" name=""/>
                    <p:cNvSpPr/>
                    <p:nvPr/>
                  </p:nvSpPr>
                  <p:spPr>
                    <a:xfrm>
                      <a:off x="8422920" y="1058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"/>
                    <p:cNvSpPr/>
                    <p:nvPr/>
                  </p:nvSpPr>
                  <p:spPr>
                    <a:xfrm>
                      <a:off x="8422920" y="1071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"/>
                    <p:cNvSpPr/>
                    <p:nvPr/>
                  </p:nvSpPr>
                  <p:spPr>
                    <a:xfrm>
                      <a:off x="8422920" y="108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6" name=""/>
                  <p:cNvGrpSpPr/>
                  <p:nvPr/>
                </p:nvGrpSpPr>
                <p:grpSpPr>
                  <a:xfrm>
                    <a:off x="8422920" y="1100520"/>
                    <a:ext cx="83880" cy="41400"/>
                    <a:chOff x="8422920" y="1100520"/>
                    <a:chExt cx="83880" cy="41400"/>
                  </a:xfrm>
                </p:grpSpPr>
                <p:sp>
                  <p:nvSpPr>
                    <p:cNvPr id="1947" name=""/>
                    <p:cNvSpPr/>
                    <p:nvPr/>
                  </p:nvSpPr>
                  <p:spPr>
                    <a:xfrm>
                      <a:off x="8422920" y="1100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"/>
                    <p:cNvSpPr/>
                    <p:nvPr/>
                  </p:nvSpPr>
                  <p:spPr>
                    <a:xfrm>
                      <a:off x="8422920" y="1113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>
                      <a:off x="8422920" y="1127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0" name=""/>
                  <p:cNvGrpSpPr/>
                  <p:nvPr/>
                </p:nvGrpSpPr>
                <p:grpSpPr>
                  <a:xfrm>
                    <a:off x="8422920" y="1141560"/>
                    <a:ext cx="83880" cy="41400"/>
                    <a:chOff x="8422920" y="1141560"/>
                    <a:chExt cx="83880" cy="41400"/>
                  </a:xfrm>
                </p:grpSpPr>
                <p:sp>
                  <p:nvSpPr>
                    <p:cNvPr id="1951" name=""/>
                    <p:cNvSpPr/>
                    <p:nvPr/>
                  </p:nvSpPr>
                  <p:spPr>
                    <a:xfrm>
                      <a:off x="8422920" y="1141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"/>
                    <p:cNvSpPr/>
                    <p:nvPr/>
                  </p:nvSpPr>
                  <p:spPr>
                    <a:xfrm>
                      <a:off x="8422920" y="1154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"/>
                    <p:cNvSpPr/>
                    <p:nvPr/>
                  </p:nvSpPr>
                  <p:spPr>
                    <a:xfrm>
                      <a:off x="8422920" y="1168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54" name=""/>
              <p:cNvGrpSpPr/>
              <p:nvPr/>
            </p:nvGrpSpPr>
            <p:grpSpPr>
              <a:xfrm>
                <a:off x="8396280" y="552240"/>
                <a:ext cx="137880" cy="216000"/>
                <a:chOff x="8396280" y="552240"/>
                <a:chExt cx="137880" cy="216000"/>
              </a:xfrm>
            </p:grpSpPr>
            <p:grpSp>
              <p:nvGrpSpPr>
                <p:cNvPr id="1955" name=""/>
                <p:cNvGrpSpPr/>
                <p:nvPr/>
              </p:nvGrpSpPr>
              <p:grpSpPr>
                <a:xfrm>
                  <a:off x="8396280" y="624960"/>
                  <a:ext cx="137880" cy="143280"/>
                  <a:chOff x="8396280" y="624960"/>
                  <a:chExt cx="137880" cy="14328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8396280" y="68760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57" name=""/>
                  <p:cNvGrpSpPr/>
                  <p:nvPr/>
                </p:nvGrpSpPr>
                <p:grpSpPr>
                  <a:xfrm>
                    <a:off x="8398800" y="624960"/>
                    <a:ext cx="132480" cy="143280"/>
                    <a:chOff x="8398800" y="624960"/>
                    <a:chExt cx="132480" cy="143280"/>
                  </a:xfrm>
                </p:grpSpPr>
                <p:sp>
                  <p:nvSpPr>
                    <p:cNvPr id="1958" name=""/>
                    <p:cNvSpPr/>
                    <p:nvPr/>
                  </p:nvSpPr>
                  <p:spPr>
                    <a:xfrm>
                      <a:off x="8399520" y="69444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"/>
                    <p:cNvSpPr/>
                    <p:nvPr/>
                  </p:nvSpPr>
                  <p:spPr>
                    <a:xfrm flipV="1">
                      <a:off x="8398800" y="63648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"/>
                    <p:cNvSpPr/>
                    <p:nvPr/>
                  </p:nvSpPr>
                  <p:spPr>
                    <a:xfrm>
                      <a:off x="8402760" y="62496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61" name=""/>
                <p:cNvGrpSpPr/>
                <p:nvPr/>
              </p:nvGrpSpPr>
              <p:grpSpPr>
                <a:xfrm>
                  <a:off x="8421480" y="552240"/>
                  <a:ext cx="86400" cy="72360"/>
                  <a:chOff x="8421480" y="552240"/>
                  <a:chExt cx="86400" cy="7236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842184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844020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845856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847836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849708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8421480" y="58320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8422200" y="6058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8422200" y="62460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0" name=""/>
                <p:cNvSpPr/>
                <p:nvPr/>
              </p:nvSpPr>
              <p:spPr>
                <a:xfrm>
                  <a:off x="8412480" y="69408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496000" y="6933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447040" y="70776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3" name=""/>
            <p:cNvSpPr/>
            <p:nvPr/>
          </p:nvSpPr>
          <p:spPr>
            <a:xfrm>
              <a:off x="7965000" y="-19440"/>
              <a:ext cx="99900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ibisch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194400" y="3121200"/>
            <a:ext cx="212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 calculation 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77v : 2.968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5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145240" y="3130560"/>
            <a:ext cx="1916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 calcul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67v : 2.968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5884920" y="1046160"/>
            <a:ext cx="2319120" cy="1555920"/>
            <a:chOff x="5884920" y="1046160"/>
            <a:chExt cx="2319120" cy="1555920"/>
          </a:xfrm>
        </p:grpSpPr>
        <p:sp>
          <p:nvSpPr>
            <p:cNvPr id="1977" name=""/>
            <p:cNvSpPr/>
            <p:nvPr/>
          </p:nvSpPr>
          <p:spPr>
            <a:xfrm>
              <a:off x="5884920" y="1046160"/>
              <a:ext cx="2319120" cy="15559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fference   ‚High-level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H_stat  5.000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H_dyn  4.933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.067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851520" y="2228760"/>
              <a:ext cx="85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3691080" y="1046160"/>
            <a:ext cx="2233440" cy="1555920"/>
            <a:chOff x="3691080" y="1046160"/>
            <a:chExt cx="2233440" cy="1555920"/>
          </a:xfrm>
        </p:grpSpPr>
        <p:sp>
          <p:nvSpPr>
            <p:cNvPr id="1980" name=""/>
            <p:cNvSpPr/>
            <p:nvPr/>
          </p:nvSpPr>
          <p:spPr>
            <a:xfrm>
              <a:off x="3691080" y="1046160"/>
              <a:ext cx="2233440" cy="15559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fference   ‚Low-level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L_dyn  2.109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L_stat  2.03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.077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678200" y="2241720"/>
              <a:ext cx="85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230040" y="1046160"/>
            <a:ext cx="1649520" cy="1555920"/>
            <a:chOff x="230040" y="1046160"/>
            <a:chExt cx="1649520" cy="1555920"/>
          </a:xfrm>
        </p:grpSpPr>
        <p:sp>
          <p:nvSpPr>
            <p:cNvPr id="1983" name=""/>
            <p:cNvSpPr/>
            <p:nvPr/>
          </p:nvSpPr>
          <p:spPr>
            <a:xfrm>
              <a:off x="230040" y="1046160"/>
              <a:ext cx="1649520" cy="1555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ynamic sw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4.933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.109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.824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36520" y="2241720"/>
              <a:ext cx="85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1909800" y="1046160"/>
            <a:ext cx="1560600" cy="1555920"/>
            <a:chOff x="1909800" y="1046160"/>
            <a:chExt cx="1560600" cy="1555920"/>
          </a:xfrm>
        </p:grpSpPr>
        <p:sp>
          <p:nvSpPr>
            <p:cNvPr id="1986" name=""/>
            <p:cNvSpPr/>
            <p:nvPr/>
          </p:nvSpPr>
          <p:spPr>
            <a:xfrm>
              <a:off x="1909800" y="1046160"/>
              <a:ext cx="1560600" cy="1555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atic sw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5.000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.03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.968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63800" y="2241720"/>
              <a:ext cx="85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86040" y="4280040"/>
            <a:ext cx="4341240" cy="12452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NING - Model LVCMOS_3P3V_DR310_TRI: The [Falling Waveform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[R_fixture]=50 Ohms and [V_fixture_min]=5.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YP column DC endpoints of  2.11V and  4.93v, 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equivalent load applied to the model's I-V tables yie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voltages (2.03V and  5.00V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difference of  2.59% and  2.26%, respective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165240" y="5600880"/>
            <a:ext cx="3822480" cy="721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Difference to ibischk-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59%                 2.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4009680" y="3087720"/>
            <a:ext cx="2172600" cy="2957400"/>
            <a:chOff x="4009680" y="3087720"/>
            <a:chExt cx="2172600" cy="2957400"/>
          </a:xfrm>
        </p:grpSpPr>
        <p:grpSp>
          <p:nvGrpSpPr>
            <p:cNvPr id="1991" name=""/>
            <p:cNvGrpSpPr/>
            <p:nvPr/>
          </p:nvGrpSpPr>
          <p:grpSpPr>
            <a:xfrm>
              <a:off x="4009680" y="3087720"/>
              <a:ext cx="2168640" cy="2957400"/>
              <a:chOff x="4009680" y="3087720"/>
              <a:chExt cx="2168640" cy="2957400"/>
            </a:xfrm>
          </p:grpSpPr>
          <p:grpSp>
            <p:nvGrpSpPr>
              <p:cNvPr id="1992" name=""/>
              <p:cNvGrpSpPr/>
              <p:nvPr/>
            </p:nvGrpSpPr>
            <p:grpSpPr>
              <a:xfrm>
                <a:off x="4400640" y="3427560"/>
                <a:ext cx="1128600" cy="2266920"/>
                <a:chOff x="4400640" y="3427560"/>
                <a:chExt cx="1128600" cy="226692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461840" y="3427560"/>
                  <a:ext cx="0" cy="2266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400640" y="5597640"/>
                  <a:ext cx="11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5" name=""/>
              <p:cNvGrpSpPr/>
              <p:nvPr/>
            </p:nvGrpSpPr>
            <p:grpSpPr>
              <a:xfrm>
                <a:off x="4448160" y="4070520"/>
                <a:ext cx="955440" cy="1585080"/>
                <a:chOff x="4448160" y="4070520"/>
                <a:chExt cx="955440" cy="1585080"/>
              </a:xfrm>
            </p:grpSpPr>
            <p:sp>
              <p:nvSpPr>
                <p:cNvPr id="1996" name=""/>
                <p:cNvSpPr/>
                <p:nvPr/>
              </p:nvSpPr>
              <p:spPr>
                <a:xfrm flipV="1">
                  <a:off x="4448160" y="5098680"/>
                  <a:ext cx="123840" cy="556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V="1">
                  <a:off x="4574520" y="4599000"/>
                  <a:ext cx="171360" cy="499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V="1">
                  <a:off x="4743720" y="4208400"/>
                  <a:ext cx="285840" cy="390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flipV="1">
                  <a:off x="5029560" y="4070520"/>
                  <a:ext cx="37404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0" name=""/>
              <p:cNvSpPr/>
              <p:nvPr/>
            </p:nvSpPr>
            <p:spPr>
              <a:xfrm>
                <a:off x="4651200" y="3835440"/>
                <a:ext cx="814680" cy="1933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808880" y="3552840"/>
                <a:ext cx="1369440" cy="299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50Ohm to Vc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289480" y="5006880"/>
                <a:ext cx="74628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5.000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626000" y="5745240"/>
                <a:ext cx="74628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2.032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883040" y="4292640"/>
                <a:ext cx="0" cy="14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386320" y="5365800"/>
                <a:ext cx="0" cy="32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009680" y="3087720"/>
                <a:ext cx="19044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Low &amp; High I-V tab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7" name=""/>
              <p:cNvGrpSpPr/>
              <p:nvPr/>
            </p:nvGrpSpPr>
            <p:grpSpPr>
              <a:xfrm>
                <a:off x="5240160" y="5467320"/>
                <a:ext cx="179280" cy="439920"/>
                <a:chOff x="5240160" y="5467320"/>
                <a:chExt cx="179280" cy="439920"/>
              </a:xfrm>
            </p:grpSpPr>
            <p:sp>
              <p:nvSpPr>
                <p:cNvPr id="2008" name=""/>
                <p:cNvSpPr/>
                <p:nvPr/>
              </p:nvSpPr>
              <p:spPr>
                <a:xfrm flipH="1">
                  <a:off x="5362560" y="5467320"/>
                  <a:ext cx="56880" cy="219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H="1">
                  <a:off x="5240160" y="5688000"/>
                  <a:ext cx="123840" cy="219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0" name=""/>
            <p:cNvSpPr/>
            <p:nvPr/>
          </p:nvSpPr>
          <p:spPr>
            <a:xfrm>
              <a:off x="5579640" y="5516640"/>
              <a:ext cx="60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 rot="16200000">
              <a:off x="3924720" y="3748680"/>
              <a:ext cx="62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6340680" y="3127320"/>
            <a:ext cx="2133360" cy="2836080"/>
            <a:chOff x="6340680" y="3127320"/>
            <a:chExt cx="2133360" cy="2836080"/>
          </a:xfrm>
        </p:grpSpPr>
        <p:grpSp>
          <p:nvGrpSpPr>
            <p:cNvPr id="2013" name=""/>
            <p:cNvGrpSpPr/>
            <p:nvPr/>
          </p:nvGrpSpPr>
          <p:grpSpPr>
            <a:xfrm>
              <a:off x="6340680" y="3127320"/>
              <a:ext cx="2133360" cy="2567160"/>
              <a:chOff x="6340680" y="3127320"/>
              <a:chExt cx="2133360" cy="2567160"/>
            </a:xfrm>
          </p:grpSpPr>
          <p:sp>
            <p:nvSpPr>
              <p:cNvPr id="2014" name=""/>
              <p:cNvSpPr/>
              <p:nvPr/>
            </p:nvSpPr>
            <p:spPr>
              <a:xfrm>
                <a:off x="6353280" y="5013360"/>
                <a:ext cx="74628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2.109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688440" y="3127320"/>
                <a:ext cx="17856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[Falling Waveform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340680" y="3613320"/>
                <a:ext cx="74628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4.933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"/>
              <p:cNvGrpSpPr/>
              <p:nvPr/>
            </p:nvGrpSpPr>
            <p:grpSpPr>
              <a:xfrm>
                <a:off x="6905520" y="3427560"/>
                <a:ext cx="1127160" cy="2266920"/>
                <a:chOff x="6905520" y="3427560"/>
                <a:chExt cx="1127160" cy="2266920"/>
              </a:xfrm>
            </p:grpSpPr>
            <p:sp>
              <p:nvSpPr>
                <p:cNvPr id="2018" name=""/>
                <p:cNvSpPr/>
                <p:nvPr/>
              </p:nvSpPr>
              <p:spPr>
                <a:xfrm>
                  <a:off x="6966360" y="3427560"/>
                  <a:ext cx="0" cy="2266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905520" y="5597640"/>
                  <a:ext cx="112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0" name=""/>
              <p:cNvGrpSpPr/>
              <p:nvPr/>
            </p:nvGrpSpPr>
            <p:grpSpPr>
              <a:xfrm>
                <a:off x="6989760" y="3706920"/>
                <a:ext cx="745920" cy="1466640"/>
                <a:chOff x="6989760" y="3706920"/>
                <a:chExt cx="745920" cy="146664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6989760" y="3706920"/>
                  <a:ext cx="172440" cy="12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61480" y="3714480"/>
                  <a:ext cx="16452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326000" y="3863880"/>
                  <a:ext cx="85680" cy="4136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4200" y="4282920"/>
                  <a:ext cx="45360" cy="36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461720" y="4654440"/>
                  <a:ext cx="71280" cy="36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535880" y="5020920"/>
                  <a:ext cx="10008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635960" y="5173560"/>
                  <a:ext cx="99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8" name=""/>
              <p:cNvSpPr/>
              <p:nvPr/>
            </p:nvSpPr>
            <p:spPr>
              <a:xfrm flipH="1">
                <a:off x="6934320" y="5213520"/>
                <a:ext cx="85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7673760" y="5719680"/>
              <a:ext cx="54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/ns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6383520" y="4257000"/>
              <a:ext cx="7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3430440"/>
          </a:xfrm>
          <a:prstGeom prst="rect">
            <a:avLst/>
          </a:prstGeom>
          <a:ln w="0">
            <a:noFill/>
          </a:ln>
        </p:spPr>
      </p:pic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3" name="" descr=""/>
          <p:cNvPicPr/>
          <p:nvPr/>
        </p:nvPicPr>
        <p:blipFill>
          <a:blip r:embed="rId2"/>
          <a:stretch/>
        </p:blipFill>
        <p:spPr>
          <a:xfrm>
            <a:off x="4041720" y="6635880"/>
            <a:ext cx="528840" cy="222120"/>
          </a:xfrm>
          <a:prstGeom prst="rect">
            <a:avLst/>
          </a:prstGeom>
          <a:ln w="0">
            <a:noFill/>
          </a:ln>
        </p:spPr>
      </p:pic>
      <p:grpSp>
        <p:nvGrpSpPr>
          <p:cNvPr id="2034" name=""/>
          <p:cNvGrpSpPr/>
          <p:nvPr/>
        </p:nvGrpSpPr>
        <p:grpSpPr>
          <a:xfrm>
            <a:off x="5748120" y="1719000"/>
            <a:ext cx="3103920" cy="4102200"/>
            <a:chOff x="5748120" y="1719000"/>
            <a:chExt cx="3103920" cy="4102200"/>
          </a:xfrm>
        </p:grpSpPr>
        <p:grpSp>
          <p:nvGrpSpPr>
            <p:cNvPr id="2035" name=""/>
            <p:cNvGrpSpPr/>
            <p:nvPr/>
          </p:nvGrpSpPr>
          <p:grpSpPr>
            <a:xfrm>
              <a:off x="6039000" y="3292560"/>
              <a:ext cx="2522160" cy="2528640"/>
              <a:chOff x="6039000" y="3292560"/>
              <a:chExt cx="2522160" cy="2528640"/>
            </a:xfrm>
          </p:grpSpPr>
          <p:grpSp>
            <p:nvGrpSpPr>
              <p:cNvPr id="2036" name=""/>
              <p:cNvGrpSpPr/>
              <p:nvPr/>
            </p:nvGrpSpPr>
            <p:grpSpPr>
              <a:xfrm>
                <a:off x="6039000" y="4152960"/>
                <a:ext cx="2522160" cy="1668240"/>
                <a:chOff x="6039000" y="4152960"/>
                <a:chExt cx="2522160" cy="1668240"/>
              </a:xfrm>
            </p:grpSpPr>
            <p:grpSp>
              <p:nvGrpSpPr>
                <p:cNvPr id="2037" name=""/>
                <p:cNvGrpSpPr/>
                <p:nvPr/>
              </p:nvGrpSpPr>
              <p:grpSpPr>
                <a:xfrm>
                  <a:off x="6039000" y="5491080"/>
                  <a:ext cx="2522160" cy="330120"/>
                  <a:chOff x="6039000" y="5491080"/>
                  <a:chExt cx="2522160" cy="33012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645984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730152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772236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814284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688032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603900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4" name=""/>
                <p:cNvGrpSpPr/>
                <p:nvPr/>
              </p:nvGrpSpPr>
              <p:grpSpPr>
                <a:xfrm>
                  <a:off x="6249960" y="5157720"/>
                  <a:ext cx="2101320" cy="330120"/>
                  <a:chOff x="6249960" y="5157720"/>
                  <a:chExt cx="2101320" cy="330120"/>
                </a:xfrm>
              </p:grpSpPr>
              <p:sp>
                <p:nvSpPr>
                  <p:cNvPr id="2045" name=""/>
                  <p:cNvSpPr/>
                  <p:nvPr/>
                </p:nvSpPr>
                <p:spPr>
                  <a:xfrm>
                    <a:off x="624996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709128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751248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793296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667044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0" name=""/>
                <p:cNvSpPr/>
                <p:nvPr/>
              </p:nvSpPr>
              <p:spPr>
                <a:xfrm>
                  <a:off x="6881040" y="482436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7723080" y="482436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7301880" y="482436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6460200" y="482436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6671520" y="449100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7513560" y="449100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7093080" y="449100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57" name=""/>
                <p:cNvGrpSpPr/>
                <p:nvPr/>
              </p:nvGrpSpPr>
              <p:grpSpPr>
                <a:xfrm>
                  <a:off x="6885720" y="4152960"/>
                  <a:ext cx="839880" cy="330120"/>
                  <a:chOff x="6885720" y="4152960"/>
                  <a:chExt cx="839880" cy="330120"/>
                </a:xfrm>
              </p:grpSpPr>
              <p:sp>
                <p:nvSpPr>
                  <p:cNvPr id="2058" name=""/>
                  <p:cNvSpPr/>
                  <p:nvPr/>
                </p:nvSpPr>
                <p:spPr>
                  <a:xfrm>
                    <a:off x="6885720" y="4152960"/>
                    <a:ext cx="4190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7307280" y="415296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60" name=""/>
              <p:cNvGrpSpPr/>
              <p:nvPr/>
            </p:nvGrpSpPr>
            <p:grpSpPr>
              <a:xfrm>
                <a:off x="7132680" y="4152960"/>
                <a:ext cx="334800" cy="1652040"/>
                <a:chOff x="7132680" y="4152960"/>
                <a:chExt cx="334800" cy="1652040"/>
              </a:xfrm>
            </p:grpSpPr>
            <p:grpSp>
              <p:nvGrpSpPr>
                <p:cNvPr id="2061" name=""/>
                <p:cNvGrpSpPr/>
                <p:nvPr/>
              </p:nvGrpSpPr>
              <p:grpSpPr>
                <a:xfrm>
                  <a:off x="7132680" y="4152960"/>
                  <a:ext cx="334800" cy="829440"/>
                  <a:chOff x="7132680" y="4152960"/>
                  <a:chExt cx="334800" cy="829440"/>
                </a:xfrm>
              </p:grpSpPr>
              <p:grpSp>
                <p:nvGrpSpPr>
                  <p:cNvPr id="2062" name=""/>
                  <p:cNvGrpSpPr/>
                  <p:nvPr/>
                </p:nvGrpSpPr>
                <p:grpSpPr>
                  <a:xfrm>
                    <a:off x="7132680" y="4152960"/>
                    <a:ext cx="334800" cy="165600"/>
                    <a:chOff x="7132680" y="4152960"/>
                    <a:chExt cx="334800" cy="165600"/>
                  </a:xfrm>
                </p:grpSpPr>
                <p:sp>
                  <p:nvSpPr>
                    <p:cNvPr id="2063" name=""/>
                    <p:cNvSpPr/>
                    <p:nvPr/>
                  </p:nvSpPr>
                  <p:spPr>
                    <a:xfrm>
                      <a:off x="7132680" y="41529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"/>
                    <p:cNvSpPr/>
                    <p:nvPr/>
                  </p:nvSpPr>
                  <p:spPr>
                    <a:xfrm>
                      <a:off x="7132680" y="42062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"/>
                    <p:cNvSpPr/>
                    <p:nvPr/>
                  </p:nvSpPr>
                  <p:spPr>
                    <a:xfrm>
                      <a:off x="7132680" y="42624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6" name=""/>
                  <p:cNvGrpSpPr/>
                  <p:nvPr/>
                </p:nvGrpSpPr>
                <p:grpSpPr>
                  <a:xfrm>
                    <a:off x="7132680" y="4319640"/>
                    <a:ext cx="334800" cy="165600"/>
                    <a:chOff x="7132680" y="4319640"/>
                    <a:chExt cx="334800" cy="165600"/>
                  </a:xfrm>
                </p:grpSpPr>
                <p:sp>
                  <p:nvSpPr>
                    <p:cNvPr id="2067" name=""/>
                    <p:cNvSpPr/>
                    <p:nvPr/>
                  </p:nvSpPr>
                  <p:spPr>
                    <a:xfrm>
                      <a:off x="7132680" y="43196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"/>
                    <p:cNvSpPr/>
                    <p:nvPr/>
                  </p:nvSpPr>
                  <p:spPr>
                    <a:xfrm>
                      <a:off x="7132680" y="43729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"/>
                    <p:cNvSpPr/>
                    <p:nvPr/>
                  </p:nvSpPr>
                  <p:spPr>
                    <a:xfrm>
                      <a:off x="7132680" y="44290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0" name=""/>
                  <p:cNvGrpSpPr/>
                  <p:nvPr/>
                </p:nvGrpSpPr>
                <p:grpSpPr>
                  <a:xfrm>
                    <a:off x="7132680" y="4486320"/>
                    <a:ext cx="334800" cy="165600"/>
                    <a:chOff x="7132680" y="4486320"/>
                    <a:chExt cx="334800" cy="165600"/>
                  </a:xfrm>
                </p:grpSpPr>
                <p:sp>
                  <p:nvSpPr>
                    <p:cNvPr id="2071" name=""/>
                    <p:cNvSpPr/>
                    <p:nvPr/>
                  </p:nvSpPr>
                  <p:spPr>
                    <a:xfrm>
                      <a:off x="7132680" y="44863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"/>
                    <p:cNvSpPr/>
                    <p:nvPr/>
                  </p:nvSpPr>
                  <p:spPr>
                    <a:xfrm>
                      <a:off x="7132680" y="4539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"/>
                    <p:cNvSpPr/>
                    <p:nvPr/>
                  </p:nvSpPr>
                  <p:spPr>
                    <a:xfrm>
                      <a:off x="7132680" y="45957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4" name=""/>
                  <p:cNvGrpSpPr/>
                  <p:nvPr/>
                </p:nvGrpSpPr>
                <p:grpSpPr>
                  <a:xfrm>
                    <a:off x="7132680" y="4653000"/>
                    <a:ext cx="334800" cy="165600"/>
                    <a:chOff x="7132680" y="4653000"/>
                    <a:chExt cx="334800" cy="165600"/>
                  </a:xfrm>
                </p:grpSpPr>
                <p:sp>
                  <p:nvSpPr>
                    <p:cNvPr id="2075" name=""/>
                    <p:cNvSpPr/>
                    <p:nvPr/>
                  </p:nvSpPr>
                  <p:spPr>
                    <a:xfrm>
                      <a:off x="7132680" y="46530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"/>
                    <p:cNvSpPr/>
                    <p:nvPr/>
                  </p:nvSpPr>
                  <p:spPr>
                    <a:xfrm>
                      <a:off x="7132680" y="47062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"/>
                    <p:cNvSpPr/>
                    <p:nvPr/>
                  </p:nvSpPr>
                  <p:spPr>
                    <a:xfrm>
                      <a:off x="7132680" y="47624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8" name=""/>
                  <p:cNvGrpSpPr/>
                  <p:nvPr/>
                </p:nvGrpSpPr>
                <p:grpSpPr>
                  <a:xfrm>
                    <a:off x="7132680" y="4816800"/>
                    <a:ext cx="334800" cy="165600"/>
                    <a:chOff x="7132680" y="4816800"/>
                    <a:chExt cx="334800" cy="165600"/>
                  </a:xfrm>
                </p:grpSpPr>
                <p:sp>
                  <p:nvSpPr>
                    <p:cNvPr id="2079" name=""/>
                    <p:cNvSpPr/>
                    <p:nvPr/>
                  </p:nvSpPr>
                  <p:spPr>
                    <a:xfrm>
                      <a:off x="7132680" y="48168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"/>
                    <p:cNvSpPr/>
                    <p:nvPr/>
                  </p:nvSpPr>
                  <p:spPr>
                    <a:xfrm>
                      <a:off x="7132680" y="48700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"/>
                    <p:cNvSpPr/>
                    <p:nvPr/>
                  </p:nvSpPr>
                  <p:spPr>
                    <a:xfrm>
                      <a:off x="7132680" y="49262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7132680" y="4975560"/>
                  <a:ext cx="334800" cy="829440"/>
                  <a:chOff x="7132680" y="4975560"/>
                  <a:chExt cx="334800" cy="829440"/>
                </a:xfrm>
              </p:grpSpPr>
              <p:grpSp>
                <p:nvGrpSpPr>
                  <p:cNvPr id="2083" name=""/>
                  <p:cNvGrpSpPr/>
                  <p:nvPr/>
                </p:nvGrpSpPr>
                <p:grpSpPr>
                  <a:xfrm>
                    <a:off x="7132680" y="4975560"/>
                    <a:ext cx="334800" cy="165600"/>
                    <a:chOff x="7132680" y="4975560"/>
                    <a:chExt cx="334800" cy="165600"/>
                  </a:xfrm>
                </p:grpSpPr>
                <p:sp>
                  <p:nvSpPr>
                    <p:cNvPr id="2084" name=""/>
                    <p:cNvSpPr/>
                    <p:nvPr/>
                  </p:nvSpPr>
                  <p:spPr>
                    <a:xfrm>
                      <a:off x="7132680" y="49755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"/>
                    <p:cNvSpPr/>
                    <p:nvPr/>
                  </p:nvSpPr>
                  <p:spPr>
                    <a:xfrm>
                      <a:off x="7132680" y="50288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"/>
                    <p:cNvSpPr/>
                    <p:nvPr/>
                  </p:nvSpPr>
                  <p:spPr>
                    <a:xfrm>
                      <a:off x="7132680" y="50850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7" name=""/>
                  <p:cNvGrpSpPr/>
                  <p:nvPr/>
                </p:nvGrpSpPr>
                <p:grpSpPr>
                  <a:xfrm>
                    <a:off x="7132680" y="5142240"/>
                    <a:ext cx="334800" cy="165600"/>
                    <a:chOff x="7132680" y="5142240"/>
                    <a:chExt cx="334800" cy="165600"/>
                  </a:xfrm>
                </p:grpSpPr>
                <p:sp>
                  <p:nvSpPr>
                    <p:cNvPr id="2088" name=""/>
                    <p:cNvSpPr/>
                    <p:nvPr/>
                  </p:nvSpPr>
                  <p:spPr>
                    <a:xfrm>
                      <a:off x="7132680" y="51422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"/>
                    <p:cNvSpPr/>
                    <p:nvPr/>
                  </p:nvSpPr>
                  <p:spPr>
                    <a:xfrm>
                      <a:off x="7132680" y="51955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"/>
                    <p:cNvSpPr/>
                    <p:nvPr/>
                  </p:nvSpPr>
                  <p:spPr>
                    <a:xfrm>
                      <a:off x="7132680" y="52516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1" name=""/>
                  <p:cNvGrpSpPr/>
                  <p:nvPr/>
                </p:nvGrpSpPr>
                <p:grpSpPr>
                  <a:xfrm>
                    <a:off x="7132680" y="5308920"/>
                    <a:ext cx="334800" cy="165600"/>
                    <a:chOff x="7132680" y="5308920"/>
                    <a:chExt cx="334800" cy="165600"/>
                  </a:xfrm>
                </p:grpSpPr>
                <p:sp>
                  <p:nvSpPr>
                    <p:cNvPr id="2092" name=""/>
                    <p:cNvSpPr/>
                    <p:nvPr/>
                  </p:nvSpPr>
                  <p:spPr>
                    <a:xfrm>
                      <a:off x="7132680" y="53089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"/>
                    <p:cNvSpPr/>
                    <p:nvPr/>
                  </p:nvSpPr>
                  <p:spPr>
                    <a:xfrm>
                      <a:off x="7132680" y="53622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"/>
                    <p:cNvSpPr/>
                    <p:nvPr/>
                  </p:nvSpPr>
                  <p:spPr>
                    <a:xfrm>
                      <a:off x="7132680" y="54183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5" name=""/>
                  <p:cNvGrpSpPr/>
                  <p:nvPr/>
                </p:nvGrpSpPr>
                <p:grpSpPr>
                  <a:xfrm>
                    <a:off x="7132680" y="5475600"/>
                    <a:ext cx="334800" cy="165600"/>
                    <a:chOff x="7132680" y="5475600"/>
                    <a:chExt cx="334800" cy="165600"/>
                  </a:xfrm>
                </p:grpSpPr>
                <p:sp>
                  <p:nvSpPr>
                    <p:cNvPr id="2096" name=""/>
                    <p:cNvSpPr/>
                    <p:nvPr/>
                  </p:nvSpPr>
                  <p:spPr>
                    <a:xfrm>
                      <a:off x="7132680" y="5475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"/>
                    <p:cNvSpPr/>
                    <p:nvPr/>
                  </p:nvSpPr>
                  <p:spPr>
                    <a:xfrm>
                      <a:off x="7132680" y="55288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"/>
                    <p:cNvSpPr/>
                    <p:nvPr/>
                  </p:nvSpPr>
                  <p:spPr>
                    <a:xfrm>
                      <a:off x="7132680" y="55850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9" name=""/>
                  <p:cNvGrpSpPr/>
                  <p:nvPr/>
                </p:nvGrpSpPr>
                <p:grpSpPr>
                  <a:xfrm>
                    <a:off x="7132680" y="5639400"/>
                    <a:ext cx="334800" cy="165600"/>
                    <a:chOff x="7132680" y="5639400"/>
                    <a:chExt cx="334800" cy="165600"/>
                  </a:xfrm>
                </p:grpSpPr>
                <p:sp>
                  <p:nvSpPr>
                    <p:cNvPr id="2100" name=""/>
                    <p:cNvSpPr/>
                    <p:nvPr/>
                  </p:nvSpPr>
                  <p:spPr>
                    <a:xfrm>
                      <a:off x="7132680" y="56394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"/>
                    <p:cNvSpPr/>
                    <p:nvPr/>
                  </p:nvSpPr>
                  <p:spPr>
                    <a:xfrm>
                      <a:off x="7132680" y="56926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"/>
                    <p:cNvSpPr/>
                    <p:nvPr/>
                  </p:nvSpPr>
                  <p:spPr>
                    <a:xfrm>
                      <a:off x="7132680" y="57488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03" name=""/>
              <p:cNvGrpSpPr/>
              <p:nvPr/>
            </p:nvGrpSpPr>
            <p:grpSpPr>
              <a:xfrm>
                <a:off x="7026480" y="3292560"/>
                <a:ext cx="549360" cy="861480"/>
                <a:chOff x="7026480" y="3292560"/>
                <a:chExt cx="549360" cy="861480"/>
              </a:xfrm>
            </p:grpSpPr>
            <p:grpSp>
              <p:nvGrpSpPr>
                <p:cNvPr id="2104" name=""/>
                <p:cNvGrpSpPr/>
                <p:nvPr/>
              </p:nvGrpSpPr>
              <p:grpSpPr>
                <a:xfrm>
                  <a:off x="7026480" y="3583080"/>
                  <a:ext cx="549360" cy="570960"/>
                  <a:chOff x="7026480" y="3583080"/>
                  <a:chExt cx="549360" cy="570960"/>
                </a:xfrm>
              </p:grpSpPr>
              <p:sp>
                <p:nvSpPr>
                  <p:cNvPr id="2105" name=""/>
                  <p:cNvSpPr/>
                  <p:nvPr/>
                </p:nvSpPr>
                <p:spPr>
                  <a:xfrm>
                    <a:off x="7026480" y="3832200"/>
                    <a:ext cx="549360" cy="522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06" name=""/>
                  <p:cNvGrpSpPr/>
                  <p:nvPr/>
                </p:nvGrpSpPr>
                <p:grpSpPr>
                  <a:xfrm>
                    <a:off x="7036920" y="3583080"/>
                    <a:ext cx="527400" cy="570960"/>
                    <a:chOff x="7036920" y="3583080"/>
                    <a:chExt cx="527400" cy="570960"/>
                  </a:xfrm>
                </p:grpSpPr>
                <p:sp>
                  <p:nvSpPr>
                    <p:cNvPr id="2107" name=""/>
                    <p:cNvSpPr/>
                    <p:nvPr/>
                  </p:nvSpPr>
                  <p:spPr>
                    <a:xfrm>
                      <a:off x="7040520" y="3859560"/>
                      <a:ext cx="519480" cy="2944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"/>
                    <p:cNvSpPr/>
                    <p:nvPr/>
                  </p:nvSpPr>
                  <p:spPr>
                    <a:xfrm flipV="1">
                      <a:off x="7036920" y="3632040"/>
                      <a:ext cx="527400" cy="200160"/>
                    </a:xfrm>
                    <a:custGeom>
                      <a:avLst/>
                      <a:gdLst>
                        <a:gd name="textAreaLeft" fmla="*/ 54720 w 527400"/>
                        <a:gd name="textAreaRight" fmla="*/ 472680 w 527400"/>
                        <a:gd name="textAreaTop" fmla="*/ 20880 h 200160"/>
                        <a:gd name="textAreaBottom" fmla="*/ 179280 h 200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"/>
                    <p:cNvSpPr/>
                    <p:nvPr/>
                  </p:nvSpPr>
                  <p:spPr>
                    <a:xfrm>
                      <a:off x="7052760" y="3583080"/>
                      <a:ext cx="492480" cy="489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10" name=""/>
                <p:cNvGrpSpPr/>
                <p:nvPr/>
              </p:nvGrpSpPr>
              <p:grpSpPr>
                <a:xfrm>
                  <a:off x="7128000" y="3292560"/>
                  <a:ext cx="344520" cy="288720"/>
                  <a:chOff x="7128000" y="3292560"/>
                  <a:chExt cx="344520" cy="288720"/>
                </a:xfrm>
              </p:grpSpPr>
              <p:sp>
                <p:nvSpPr>
                  <p:cNvPr id="2111" name=""/>
                  <p:cNvSpPr/>
                  <p:nvPr/>
                </p:nvSpPr>
                <p:spPr>
                  <a:xfrm>
                    <a:off x="712980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720252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727560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735516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742968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7128000" y="341640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7131240" y="350676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>
                    <a:off x="7131240" y="358128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9" name=""/>
                <p:cNvSpPr/>
                <p:nvPr/>
              </p:nvSpPr>
              <p:spPr>
                <a:xfrm>
                  <a:off x="7091640" y="3857400"/>
                  <a:ext cx="82440" cy="2937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7423200" y="3854520"/>
                  <a:ext cx="82800" cy="2934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7229520" y="3911400"/>
                  <a:ext cx="142920" cy="23652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2" name=""/>
            <p:cNvSpPr/>
            <p:nvPr/>
          </p:nvSpPr>
          <p:spPr>
            <a:xfrm>
              <a:off x="5748120" y="1719000"/>
              <a:ext cx="3103920" cy="158832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Example 1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with internal pullu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1663560" y="3159720"/>
            <a:ext cx="2248200" cy="1695960"/>
            <a:chOff x="1663560" y="3159720"/>
            <a:chExt cx="2248200" cy="1695960"/>
          </a:xfrm>
        </p:grpSpPr>
        <p:grpSp>
          <p:nvGrpSpPr>
            <p:cNvPr id="2124" name=""/>
            <p:cNvGrpSpPr/>
            <p:nvPr/>
          </p:nvGrpSpPr>
          <p:grpSpPr>
            <a:xfrm>
              <a:off x="2465640" y="4050720"/>
              <a:ext cx="630360" cy="804960"/>
              <a:chOff x="2465640" y="4050720"/>
              <a:chExt cx="630360" cy="804960"/>
            </a:xfrm>
          </p:grpSpPr>
          <p:grpSp>
            <p:nvGrpSpPr>
              <p:cNvPr id="2125" name=""/>
              <p:cNvGrpSpPr/>
              <p:nvPr/>
            </p:nvGrpSpPr>
            <p:grpSpPr>
              <a:xfrm>
                <a:off x="2465640" y="4324680"/>
                <a:ext cx="630360" cy="531000"/>
                <a:chOff x="2465640" y="4324680"/>
                <a:chExt cx="630360" cy="531000"/>
              </a:xfrm>
            </p:grpSpPr>
            <p:grpSp>
              <p:nvGrpSpPr>
                <p:cNvPr id="2126" name=""/>
                <p:cNvGrpSpPr/>
                <p:nvPr/>
              </p:nvGrpSpPr>
              <p:grpSpPr>
                <a:xfrm>
                  <a:off x="2465640" y="4750560"/>
                  <a:ext cx="630360" cy="105120"/>
                  <a:chOff x="2465640" y="4750560"/>
                  <a:chExt cx="630360" cy="105120"/>
                </a:xfrm>
              </p:grpSpPr>
              <p:sp>
                <p:nvSpPr>
                  <p:cNvPr id="2127" name=""/>
                  <p:cNvSpPr/>
                  <p:nvPr/>
                </p:nvSpPr>
                <p:spPr>
                  <a:xfrm>
                    <a:off x="257076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27810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28864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29916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26758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246564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3" name=""/>
                <p:cNvGrpSpPr/>
                <p:nvPr/>
              </p:nvGrpSpPr>
              <p:grpSpPr>
                <a:xfrm>
                  <a:off x="2518200" y="4644360"/>
                  <a:ext cx="525240" cy="105120"/>
                  <a:chOff x="2518200" y="4644360"/>
                  <a:chExt cx="525240" cy="105120"/>
                </a:xfrm>
              </p:grpSpPr>
              <p:sp>
                <p:nvSpPr>
                  <p:cNvPr id="2134" name=""/>
                  <p:cNvSpPr/>
                  <p:nvPr/>
                </p:nvSpPr>
                <p:spPr>
                  <a:xfrm>
                    <a:off x="251820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27284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283356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29390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262332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"/>
                <p:cNvSpPr/>
                <p:nvPr/>
              </p:nvSpPr>
              <p:spPr>
                <a:xfrm>
                  <a:off x="267588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88648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78136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57076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623680" y="443232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3428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72916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46" name=""/>
                <p:cNvGrpSpPr/>
                <p:nvPr/>
              </p:nvGrpSpPr>
              <p:grpSpPr>
                <a:xfrm>
                  <a:off x="2677320" y="4324680"/>
                  <a:ext cx="209880" cy="105120"/>
                  <a:chOff x="2677320" y="4324680"/>
                  <a:chExt cx="209880" cy="105120"/>
                </a:xfrm>
              </p:grpSpPr>
              <p:sp>
                <p:nvSpPr>
                  <p:cNvPr id="2147" name=""/>
                  <p:cNvSpPr/>
                  <p:nvPr/>
                </p:nvSpPr>
                <p:spPr>
                  <a:xfrm>
                    <a:off x="2677320" y="4324680"/>
                    <a:ext cx="10476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2782800" y="432468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9" name=""/>
              <p:cNvGrpSpPr/>
              <p:nvPr/>
            </p:nvGrpSpPr>
            <p:grpSpPr>
              <a:xfrm>
                <a:off x="2738880" y="4324680"/>
                <a:ext cx="83520" cy="525600"/>
                <a:chOff x="2738880" y="4324680"/>
                <a:chExt cx="83520" cy="525600"/>
              </a:xfrm>
            </p:grpSpPr>
            <p:grpSp>
              <p:nvGrpSpPr>
                <p:cNvPr id="2150" name=""/>
                <p:cNvGrpSpPr/>
                <p:nvPr/>
              </p:nvGrpSpPr>
              <p:grpSpPr>
                <a:xfrm>
                  <a:off x="2738880" y="4324680"/>
                  <a:ext cx="83520" cy="263880"/>
                  <a:chOff x="2738880" y="4324680"/>
                  <a:chExt cx="83520" cy="263880"/>
                </a:xfrm>
              </p:grpSpPr>
              <p:grpSp>
                <p:nvGrpSpPr>
                  <p:cNvPr id="2151" name=""/>
                  <p:cNvGrpSpPr/>
                  <p:nvPr/>
                </p:nvGrpSpPr>
                <p:grpSpPr>
                  <a:xfrm>
                    <a:off x="2738880" y="4324680"/>
                    <a:ext cx="83520" cy="52560"/>
                    <a:chOff x="2738880" y="4324680"/>
                    <a:chExt cx="83520" cy="52560"/>
                  </a:xfrm>
                </p:grpSpPr>
                <p:sp>
                  <p:nvSpPr>
                    <p:cNvPr id="2152" name=""/>
                    <p:cNvSpPr/>
                    <p:nvPr/>
                  </p:nvSpPr>
                  <p:spPr>
                    <a:xfrm>
                      <a:off x="2738880" y="43246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3" name=""/>
                    <p:cNvSpPr/>
                    <p:nvPr/>
                  </p:nvSpPr>
                  <p:spPr>
                    <a:xfrm>
                      <a:off x="2738880" y="4341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4" name=""/>
                    <p:cNvSpPr/>
                    <p:nvPr/>
                  </p:nvSpPr>
                  <p:spPr>
                    <a:xfrm>
                      <a:off x="2738880" y="4359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5" name=""/>
                  <p:cNvGrpSpPr/>
                  <p:nvPr/>
                </p:nvGrpSpPr>
                <p:grpSpPr>
                  <a:xfrm>
                    <a:off x="2738880" y="4377600"/>
                    <a:ext cx="83520" cy="52560"/>
                    <a:chOff x="2738880" y="4377600"/>
                    <a:chExt cx="83520" cy="52560"/>
                  </a:xfrm>
                </p:grpSpPr>
                <p:sp>
                  <p:nvSpPr>
                    <p:cNvPr id="2156" name=""/>
                    <p:cNvSpPr/>
                    <p:nvPr/>
                  </p:nvSpPr>
                  <p:spPr>
                    <a:xfrm>
                      <a:off x="2738880" y="4377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7" name=""/>
                    <p:cNvSpPr/>
                    <p:nvPr/>
                  </p:nvSpPr>
                  <p:spPr>
                    <a:xfrm>
                      <a:off x="2738880" y="4394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8" name=""/>
                    <p:cNvSpPr/>
                    <p:nvPr/>
                  </p:nvSpPr>
                  <p:spPr>
                    <a:xfrm>
                      <a:off x="2738880" y="4412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9" name=""/>
                  <p:cNvGrpSpPr/>
                  <p:nvPr/>
                </p:nvGrpSpPr>
                <p:grpSpPr>
                  <a:xfrm>
                    <a:off x="2738880" y="4430880"/>
                    <a:ext cx="83520" cy="52560"/>
                    <a:chOff x="2738880" y="4430880"/>
                    <a:chExt cx="83520" cy="52560"/>
                  </a:xfrm>
                </p:grpSpPr>
                <p:sp>
                  <p:nvSpPr>
                    <p:cNvPr id="2160" name=""/>
                    <p:cNvSpPr/>
                    <p:nvPr/>
                  </p:nvSpPr>
                  <p:spPr>
                    <a:xfrm>
                      <a:off x="2738880" y="44308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1" name=""/>
                    <p:cNvSpPr/>
                    <p:nvPr/>
                  </p:nvSpPr>
                  <p:spPr>
                    <a:xfrm>
                      <a:off x="2738880" y="4447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2" name=""/>
                    <p:cNvSpPr/>
                    <p:nvPr/>
                  </p:nvSpPr>
                  <p:spPr>
                    <a:xfrm>
                      <a:off x="2738880" y="4465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3" name=""/>
                  <p:cNvGrpSpPr/>
                  <p:nvPr/>
                </p:nvGrpSpPr>
                <p:grpSpPr>
                  <a:xfrm>
                    <a:off x="2738880" y="4483800"/>
                    <a:ext cx="83520" cy="52560"/>
                    <a:chOff x="2738880" y="4483800"/>
                    <a:chExt cx="83520" cy="52560"/>
                  </a:xfrm>
                </p:grpSpPr>
                <p:sp>
                  <p:nvSpPr>
                    <p:cNvPr id="2164" name=""/>
                    <p:cNvSpPr/>
                    <p:nvPr/>
                  </p:nvSpPr>
                  <p:spPr>
                    <a:xfrm>
                      <a:off x="2738880" y="4483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5" name=""/>
                    <p:cNvSpPr/>
                    <p:nvPr/>
                  </p:nvSpPr>
                  <p:spPr>
                    <a:xfrm>
                      <a:off x="2738880" y="4500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6" name=""/>
                    <p:cNvSpPr/>
                    <p:nvPr/>
                  </p:nvSpPr>
                  <p:spPr>
                    <a:xfrm>
                      <a:off x="2738880" y="4518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7" name=""/>
                  <p:cNvGrpSpPr/>
                  <p:nvPr/>
                </p:nvGrpSpPr>
                <p:grpSpPr>
                  <a:xfrm>
                    <a:off x="2738880" y="4536000"/>
                    <a:ext cx="83520" cy="52560"/>
                    <a:chOff x="2738880" y="4536000"/>
                    <a:chExt cx="83520" cy="52560"/>
                  </a:xfrm>
                </p:grpSpPr>
                <p:sp>
                  <p:nvSpPr>
                    <p:cNvPr id="2168" name=""/>
                    <p:cNvSpPr/>
                    <p:nvPr/>
                  </p:nvSpPr>
                  <p:spPr>
                    <a:xfrm>
                      <a:off x="2738880" y="45360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9" name=""/>
                    <p:cNvSpPr/>
                    <p:nvPr/>
                  </p:nvSpPr>
                  <p:spPr>
                    <a:xfrm>
                      <a:off x="2738880" y="4552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0" name=""/>
                    <p:cNvSpPr/>
                    <p:nvPr/>
                  </p:nvSpPr>
                  <p:spPr>
                    <a:xfrm>
                      <a:off x="2738880" y="4570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71" name=""/>
                <p:cNvGrpSpPr/>
                <p:nvPr/>
              </p:nvGrpSpPr>
              <p:grpSpPr>
                <a:xfrm>
                  <a:off x="2738880" y="4586400"/>
                  <a:ext cx="83520" cy="263880"/>
                  <a:chOff x="2738880" y="4586400"/>
                  <a:chExt cx="83520" cy="263880"/>
                </a:xfrm>
              </p:grpSpPr>
              <p:grpSp>
                <p:nvGrpSpPr>
                  <p:cNvPr id="2172" name=""/>
                  <p:cNvGrpSpPr/>
                  <p:nvPr/>
                </p:nvGrpSpPr>
                <p:grpSpPr>
                  <a:xfrm>
                    <a:off x="2738880" y="4586400"/>
                    <a:ext cx="83520" cy="52560"/>
                    <a:chOff x="2738880" y="4586400"/>
                    <a:chExt cx="83520" cy="52560"/>
                  </a:xfrm>
                </p:grpSpPr>
                <p:sp>
                  <p:nvSpPr>
                    <p:cNvPr id="2173" name=""/>
                    <p:cNvSpPr/>
                    <p:nvPr/>
                  </p:nvSpPr>
                  <p:spPr>
                    <a:xfrm>
                      <a:off x="2738880" y="45864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4" name=""/>
                    <p:cNvSpPr/>
                    <p:nvPr/>
                  </p:nvSpPr>
                  <p:spPr>
                    <a:xfrm>
                      <a:off x="2738880" y="4603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5" name=""/>
                    <p:cNvSpPr/>
                    <p:nvPr/>
                  </p:nvSpPr>
                  <p:spPr>
                    <a:xfrm>
                      <a:off x="2738880" y="4621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6" name=""/>
                  <p:cNvGrpSpPr/>
                  <p:nvPr/>
                </p:nvGrpSpPr>
                <p:grpSpPr>
                  <a:xfrm>
                    <a:off x="2738880" y="4639320"/>
                    <a:ext cx="83520" cy="52560"/>
                    <a:chOff x="2738880" y="4639320"/>
                    <a:chExt cx="83520" cy="52560"/>
                  </a:xfrm>
                </p:grpSpPr>
                <p:sp>
                  <p:nvSpPr>
                    <p:cNvPr id="2177" name=""/>
                    <p:cNvSpPr/>
                    <p:nvPr/>
                  </p:nvSpPr>
                  <p:spPr>
                    <a:xfrm>
                      <a:off x="2738880" y="4639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8" name=""/>
                    <p:cNvSpPr/>
                    <p:nvPr/>
                  </p:nvSpPr>
                  <p:spPr>
                    <a:xfrm>
                      <a:off x="2738880" y="4656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9" name=""/>
                    <p:cNvSpPr/>
                    <p:nvPr/>
                  </p:nvSpPr>
                  <p:spPr>
                    <a:xfrm>
                      <a:off x="2738880" y="4674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0" name=""/>
                  <p:cNvGrpSpPr/>
                  <p:nvPr/>
                </p:nvGrpSpPr>
                <p:grpSpPr>
                  <a:xfrm>
                    <a:off x="2738880" y="4692600"/>
                    <a:ext cx="83520" cy="52560"/>
                    <a:chOff x="2738880" y="4692600"/>
                    <a:chExt cx="83520" cy="52560"/>
                  </a:xfrm>
                </p:grpSpPr>
                <p:sp>
                  <p:nvSpPr>
                    <p:cNvPr id="2181" name=""/>
                    <p:cNvSpPr/>
                    <p:nvPr/>
                  </p:nvSpPr>
                  <p:spPr>
                    <a:xfrm>
                      <a:off x="2738880" y="4692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2" name=""/>
                    <p:cNvSpPr/>
                    <p:nvPr/>
                  </p:nvSpPr>
                  <p:spPr>
                    <a:xfrm>
                      <a:off x="2738880" y="4709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3" name=""/>
                    <p:cNvSpPr/>
                    <p:nvPr/>
                  </p:nvSpPr>
                  <p:spPr>
                    <a:xfrm>
                      <a:off x="2738880" y="4727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4" name=""/>
                  <p:cNvGrpSpPr/>
                  <p:nvPr/>
                </p:nvGrpSpPr>
                <p:grpSpPr>
                  <a:xfrm>
                    <a:off x="2738880" y="4745520"/>
                    <a:ext cx="83520" cy="52560"/>
                    <a:chOff x="2738880" y="4745520"/>
                    <a:chExt cx="83520" cy="52560"/>
                  </a:xfrm>
                </p:grpSpPr>
                <p:sp>
                  <p:nvSpPr>
                    <p:cNvPr id="2185" name=""/>
                    <p:cNvSpPr/>
                    <p:nvPr/>
                  </p:nvSpPr>
                  <p:spPr>
                    <a:xfrm>
                      <a:off x="2738880" y="4745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6" name=""/>
                    <p:cNvSpPr/>
                    <p:nvPr/>
                  </p:nvSpPr>
                  <p:spPr>
                    <a:xfrm>
                      <a:off x="2738880" y="4762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7" name=""/>
                    <p:cNvSpPr/>
                    <p:nvPr/>
                  </p:nvSpPr>
                  <p:spPr>
                    <a:xfrm>
                      <a:off x="2738880" y="4780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8" name=""/>
                  <p:cNvGrpSpPr/>
                  <p:nvPr/>
                </p:nvGrpSpPr>
                <p:grpSpPr>
                  <a:xfrm>
                    <a:off x="2738880" y="4797720"/>
                    <a:ext cx="83520" cy="52560"/>
                    <a:chOff x="2738880" y="4797720"/>
                    <a:chExt cx="83520" cy="52560"/>
                  </a:xfrm>
                </p:grpSpPr>
                <p:sp>
                  <p:nvSpPr>
                    <p:cNvPr id="2189" name=""/>
                    <p:cNvSpPr/>
                    <p:nvPr/>
                  </p:nvSpPr>
                  <p:spPr>
                    <a:xfrm>
                      <a:off x="2738880" y="4797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0" name=""/>
                    <p:cNvSpPr/>
                    <p:nvPr/>
                  </p:nvSpPr>
                  <p:spPr>
                    <a:xfrm>
                      <a:off x="2738880" y="4814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1" name=""/>
                    <p:cNvSpPr/>
                    <p:nvPr/>
                  </p:nvSpPr>
                  <p:spPr>
                    <a:xfrm>
                      <a:off x="2738880" y="4832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92" name=""/>
              <p:cNvGrpSpPr/>
              <p:nvPr/>
            </p:nvGrpSpPr>
            <p:grpSpPr>
              <a:xfrm>
                <a:off x="2712240" y="4050720"/>
                <a:ext cx="137160" cy="273960"/>
                <a:chOff x="2712240" y="4050720"/>
                <a:chExt cx="137160" cy="273960"/>
              </a:xfrm>
            </p:grpSpPr>
            <p:grpSp>
              <p:nvGrpSpPr>
                <p:cNvPr id="2193" name=""/>
                <p:cNvGrpSpPr/>
                <p:nvPr/>
              </p:nvGrpSpPr>
              <p:grpSpPr>
                <a:xfrm>
                  <a:off x="2712240" y="4143240"/>
                  <a:ext cx="137160" cy="181440"/>
                  <a:chOff x="2712240" y="4143240"/>
                  <a:chExt cx="137160" cy="181440"/>
                </a:xfrm>
              </p:grpSpPr>
              <p:sp>
                <p:nvSpPr>
                  <p:cNvPr id="2194" name=""/>
                  <p:cNvSpPr/>
                  <p:nvPr/>
                </p:nvSpPr>
                <p:spPr>
                  <a:xfrm>
                    <a:off x="2712240" y="4222440"/>
                    <a:ext cx="137160" cy="165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95" name=""/>
                  <p:cNvGrpSpPr/>
                  <p:nvPr/>
                </p:nvGrpSpPr>
                <p:grpSpPr>
                  <a:xfrm>
                    <a:off x="2714760" y="4143240"/>
                    <a:ext cx="131760" cy="181440"/>
                    <a:chOff x="2714760" y="4143240"/>
                    <a:chExt cx="131760" cy="181440"/>
                  </a:xfrm>
                </p:grpSpPr>
                <p:sp>
                  <p:nvSpPr>
                    <p:cNvPr id="2196" name=""/>
                    <p:cNvSpPr/>
                    <p:nvPr/>
                  </p:nvSpPr>
                  <p:spPr>
                    <a:xfrm>
                      <a:off x="2715480" y="4231080"/>
                      <a:ext cx="129960" cy="936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7" name=""/>
                    <p:cNvSpPr/>
                    <p:nvPr/>
                  </p:nvSpPr>
                  <p:spPr>
                    <a:xfrm flipV="1">
                      <a:off x="2714760" y="4158000"/>
                      <a:ext cx="131760" cy="6372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6480 h 63720"/>
                        <a:gd name="textAreaBottom" fmla="*/ 57240 h 637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8" name=""/>
                    <p:cNvSpPr/>
                    <p:nvPr/>
                  </p:nvSpPr>
                  <p:spPr>
                    <a:xfrm>
                      <a:off x="2718720" y="4143240"/>
                      <a:ext cx="123120" cy="154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99" name=""/>
                <p:cNvGrpSpPr/>
                <p:nvPr/>
              </p:nvGrpSpPr>
              <p:grpSpPr>
                <a:xfrm>
                  <a:off x="2737440" y="4050720"/>
                  <a:ext cx="86040" cy="91800"/>
                  <a:chOff x="2737440" y="4050720"/>
                  <a:chExt cx="86040" cy="91800"/>
                </a:xfrm>
              </p:grpSpPr>
              <p:sp>
                <p:nvSpPr>
                  <p:cNvPr id="2200" name=""/>
                  <p:cNvSpPr/>
                  <p:nvPr/>
                </p:nvSpPr>
                <p:spPr>
                  <a:xfrm>
                    <a:off x="2737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2755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277416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279432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281268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2737440" y="40899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2738160" y="41187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2738160" y="41425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8" name=""/>
                <p:cNvSpPr/>
                <p:nvPr/>
              </p:nvSpPr>
              <p:spPr>
                <a:xfrm>
                  <a:off x="2728440" y="423036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2811240" y="422964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2763000" y="4247640"/>
                  <a:ext cx="35640" cy="752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1" name=""/>
            <p:cNvSpPr/>
            <p:nvPr/>
          </p:nvSpPr>
          <p:spPr>
            <a:xfrm>
              <a:off x="1663560" y="3159720"/>
              <a:ext cx="2248200" cy="1240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for static and dynamic wavefo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2" name=""/>
          <p:cNvGrpSpPr/>
          <p:nvPr/>
        </p:nvGrpSpPr>
        <p:grpSpPr>
          <a:xfrm>
            <a:off x="332640" y="3481920"/>
            <a:ext cx="959040" cy="1002600"/>
            <a:chOff x="332640" y="3481920"/>
            <a:chExt cx="959040" cy="1002600"/>
          </a:xfrm>
        </p:grpSpPr>
        <p:grpSp>
          <p:nvGrpSpPr>
            <p:cNvPr id="2213" name=""/>
            <p:cNvGrpSpPr/>
            <p:nvPr/>
          </p:nvGrpSpPr>
          <p:grpSpPr>
            <a:xfrm>
              <a:off x="495000" y="3853080"/>
              <a:ext cx="630360" cy="631440"/>
              <a:chOff x="495000" y="3853080"/>
              <a:chExt cx="630360" cy="63144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495000" y="4068000"/>
                <a:ext cx="630360" cy="416520"/>
                <a:chOff x="495000" y="4068000"/>
                <a:chExt cx="630360" cy="416520"/>
              </a:xfrm>
            </p:grpSpPr>
            <p:grpSp>
              <p:nvGrpSpPr>
                <p:cNvPr id="2215" name=""/>
                <p:cNvGrpSpPr/>
                <p:nvPr/>
              </p:nvGrpSpPr>
              <p:grpSpPr>
                <a:xfrm>
                  <a:off x="495000" y="4402080"/>
                  <a:ext cx="630360" cy="82440"/>
                  <a:chOff x="495000" y="4402080"/>
                  <a:chExt cx="630360" cy="82440"/>
                </a:xfrm>
              </p:grpSpPr>
              <p:sp>
                <p:nvSpPr>
                  <p:cNvPr id="2216" name=""/>
                  <p:cNvSpPr/>
                  <p:nvPr/>
                </p:nvSpPr>
                <p:spPr>
                  <a:xfrm>
                    <a:off x="60012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8103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9158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10209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7052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49500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2" name=""/>
                <p:cNvGrpSpPr/>
                <p:nvPr/>
              </p:nvGrpSpPr>
              <p:grpSpPr>
                <a:xfrm>
                  <a:off x="547560" y="4318920"/>
                  <a:ext cx="525240" cy="82440"/>
                  <a:chOff x="547560" y="4318920"/>
                  <a:chExt cx="525240" cy="82440"/>
                </a:xfrm>
              </p:grpSpPr>
              <p:sp>
                <p:nvSpPr>
                  <p:cNvPr id="2223" name=""/>
                  <p:cNvSpPr/>
                  <p:nvPr/>
                </p:nvSpPr>
                <p:spPr>
                  <a:xfrm>
                    <a:off x="54756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7578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86292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9684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65268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8" name=""/>
                <p:cNvSpPr/>
                <p:nvPr/>
              </p:nvSpPr>
              <p:spPr>
                <a:xfrm>
                  <a:off x="70524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91584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81072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60012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653040" y="4152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86364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75852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5" name=""/>
                <p:cNvGrpSpPr/>
                <p:nvPr/>
              </p:nvGrpSpPr>
              <p:grpSpPr>
                <a:xfrm>
                  <a:off x="706680" y="4068000"/>
                  <a:ext cx="209880" cy="82440"/>
                  <a:chOff x="706680" y="4068000"/>
                  <a:chExt cx="209880" cy="82440"/>
                </a:xfrm>
              </p:grpSpPr>
              <p:sp>
                <p:nvSpPr>
                  <p:cNvPr id="2236" name=""/>
                  <p:cNvSpPr/>
                  <p:nvPr/>
                </p:nvSpPr>
                <p:spPr>
                  <a:xfrm>
                    <a:off x="706680" y="406800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812160" y="406800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8" name=""/>
              <p:cNvGrpSpPr/>
              <p:nvPr/>
            </p:nvGrpSpPr>
            <p:grpSpPr>
              <a:xfrm>
                <a:off x="768240" y="4068000"/>
                <a:ext cx="83520" cy="412200"/>
                <a:chOff x="768240" y="4068000"/>
                <a:chExt cx="83520" cy="412200"/>
              </a:xfrm>
            </p:grpSpPr>
            <p:grpSp>
              <p:nvGrpSpPr>
                <p:cNvPr id="2239" name=""/>
                <p:cNvGrpSpPr/>
                <p:nvPr/>
              </p:nvGrpSpPr>
              <p:grpSpPr>
                <a:xfrm>
                  <a:off x="768240" y="4068000"/>
                  <a:ext cx="83520" cy="207000"/>
                  <a:chOff x="768240" y="4068000"/>
                  <a:chExt cx="83520" cy="207000"/>
                </a:xfrm>
              </p:grpSpPr>
              <p:grpSp>
                <p:nvGrpSpPr>
                  <p:cNvPr id="2240" name=""/>
                  <p:cNvGrpSpPr/>
                  <p:nvPr/>
                </p:nvGrpSpPr>
                <p:grpSpPr>
                  <a:xfrm>
                    <a:off x="768240" y="4068000"/>
                    <a:ext cx="83520" cy="41400"/>
                    <a:chOff x="768240" y="4068000"/>
                    <a:chExt cx="83520" cy="41400"/>
                  </a:xfrm>
                </p:grpSpPr>
                <p:sp>
                  <p:nvSpPr>
                    <p:cNvPr id="2241" name=""/>
                    <p:cNvSpPr/>
                    <p:nvPr/>
                  </p:nvSpPr>
                  <p:spPr>
                    <a:xfrm>
                      <a:off x="768240" y="4068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2" name=""/>
                    <p:cNvSpPr/>
                    <p:nvPr/>
                  </p:nvSpPr>
                  <p:spPr>
                    <a:xfrm>
                      <a:off x="768240" y="4081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3" name=""/>
                    <p:cNvSpPr/>
                    <p:nvPr/>
                  </p:nvSpPr>
                  <p:spPr>
                    <a:xfrm>
                      <a:off x="768240" y="4095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4" name=""/>
                  <p:cNvGrpSpPr/>
                  <p:nvPr/>
                </p:nvGrpSpPr>
                <p:grpSpPr>
                  <a:xfrm>
                    <a:off x="768240" y="4109400"/>
                    <a:ext cx="83520" cy="41400"/>
                    <a:chOff x="768240" y="4109400"/>
                    <a:chExt cx="83520" cy="41400"/>
                  </a:xfrm>
                </p:grpSpPr>
                <p:sp>
                  <p:nvSpPr>
                    <p:cNvPr id="2245" name=""/>
                    <p:cNvSpPr/>
                    <p:nvPr/>
                  </p:nvSpPr>
                  <p:spPr>
                    <a:xfrm>
                      <a:off x="768240" y="410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6" name=""/>
                    <p:cNvSpPr/>
                    <p:nvPr/>
                  </p:nvSpPr>
                  <p:spPr>
                    <a:xfrm>
                      <a:off x="768240" y="412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7" name=""/>
                    <p:cNvSpPr/>
                    <p:nvPr/>
                  </p:nvSpPr>
                  <p:spPr>
                    <a:xfrm>
                      <a:off x="768240" y="413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8" name=""/>
                  <p:cNvGrpSpPr/>
                  <p:nvPr/>
                </p:nvGrpSpPr>
                <p:grpSpPr>
                  <a:xfrm>
                    <a:off x="768240" y="4151160"/>
                    <a:ext cx="83520" cy="40680"/>
                    <a:chOff x="768240" y="4151160"/>
                    <a:chExt cx="83520" cy="40680"/>
                  </a:xfrm>
                </p:grpSpPr>
                <p:sp>
                  <p:nvSpPr>
                    <p:cNvPr id="2249" name=""/>
                    <p:cNvSpPr/>
                    <p:nvPr/>
                  </p:nvSpPr>
                  <p:spPr>
                    <a:xfrm>
                      <a:off x="768240" y="4151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0" name=""/>
                    <p:cNvSpPr/>
                    <p:nvPr/>
                  </p:nvSpPr>
                  <p:spPr>
                    <a:xfrm>
                      <a:off x="768240" y="41644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1" name=""/>
                    <p:cNvSpPr/>
                    <p:nvPr/>
                  </p:nvSpPr>
                  <p:spPr>
                    <a:xfrm>
                      <a:off x="768240" y="4178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2" name=""/>
                  <p:cNvGrpSpPr/>
                  <p:nvPr/>
                </p:nvGrpSpPr>
                <p:grpSpPr>
                  <a:xfrm>
                    <a:off x="768240" y="4192920"/>
                    <a:ext cx="83520" cy="40680"/>
                    <a:chOff x="768240" y="4192920"/>
                    <a:chExt cx="83520" cy="40680"/>
                  </a:xfrm>
                </p:grpSpPr>
                <p:sp>
                  <p:nvSpPr>
                    <p:cNvPr id="2253" name=""/>
                    <p:cNvSpPr/>
                    <p:nvPr/>
                  </p:nvSpPr>
                  <p:spPr>
                    <a:xfrm>
                      <a:off x="768240" y="4192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4" name=""/>
                    <p:cNvSpPr/>
                    <p:nvPr/>
                  </p:nvSpPr>
                  <p:spPr>
                    <a:xfrm>
                      <a:off x="768240" y="42062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5" name=""/>
                    <p:cNvSpPr/>
                    <p:nvPr/>
                  </p:nvSpPr>
                  <p:spPr>
                    <a:xfrm>
                      <a:off x="768240" y="4219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6" name=""/>
                  <p:cNvGrpSpPr/>
                  <p:nvPr/>
                </p:nvGrpSpPr>
                <p:grpSpPr>
                  <a:xfrm>
                    <a:off x="768240" y="4233600"/>
                    <a:ext cx="83520" cy="41400"/>
                    <a:chOff x="768240" y="4233600"/>
                    <a:chExt cx="83520" cy="41400"/>
                  </a:xfrm>
                </p:grpSpPr>
                <p:sp>
                  <p:nvSpPr>
                    <p:cNvPr id="2257" name=""/>
                    <p:cNvSpPr/>
                    <p:nvPr/>
                  </p:nvSpPr>
                  <p:spPr>
                    <a:xfrm>
                      <a:off x="768240" y="4233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8" name=""/>
                    <p:cNvSpPr/>
                    <p:nvPr/>
                  </p:nvSpPr>
                  <p:spPr>
                    <a:xfrm>
                      <a:off x="768240" y="4246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9" name=""/>
                    <p:cNvSpPr/>
                    <p:nvPr/>
                  </p:nvSpPr>
                  <p:spPr>
                    <a:xfrm>
                      <a:off x="768240" y="426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60" name=""/>
                <p:cNvGrpSpPr/>
                <p:nvPr/>
              </p:nvGrpSpPr>
              <p:grpSpPr>
                <a:xfrm>
                  <a:off x="768240" y="4273200"/>
                  <a:ext cx="83520" cy="207000"/>
                  <a:chOff x="768240" y="4273200"/>
                  <a:chExt cx="83520" cy="207000"/>
                </a:xfrm>
              </p:grpSpPr>
              <p:grpSp>
                <p:nvGrpSpPr>
                  <p:cNvPr id="2261" name=""/>
                  <p:cNvGrpSpPr/>
                  <p:nvPr/>
                </p:nvGrpSpPr>
                <p:grpSpPr>
                  <a:xfrm>
                    <a:off x="768240" y="4273200"/>
                    <a:ext cx="83520" cy="41400"/>
                    <a:chOff x="768240" y="4273200"/>
                    <a:chExt cx="83520" cy="41400"/>
                  </a:xfrm>
                </p:grpSpPr>
                <p:sp>
                  <p:nvSpPr>
                    <p:cNvPr id="2262" name=""/>
                    <p:cNvSpPr/>
                    <p:nvPr/>
                  </p:nvSpPr>
                  <p:spPr>
                    <a:xfrm>
                      <a:off x="768240" y="4273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3" name=""/>
                    <p:cNvSpPr/>
                    <p:nvPr/>
                  </p:nvSpPr>
                  <p:spPr>
                    <a:xfrm>
                      <a:off x="768240" y="4286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4" name=""/>
                    <p:cNvSpPr/>
                    <p:nvPr/>
                  </p:nvSpPr>
                  <p:spPr>
                    <a:xfrm>
                      <a:off x="768240" y="4300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65" name=""/>
                  <p:cNvGrpSpPr/>
                  <p:nvPr/>
                </p:nvGrpSpPr>
                <p:grpSpPr>
                  <a:xfrm>
                    <a:off x="768240" y="4314600"/>
                    <a:ext cx="83520" cy="41400"/>
                    <a:chOff x="768240" y="4314600"/>
                    <a:chExt cx="83520" cy="41400"/>
                  </a:xfrm>
                </p:grpSpPr>
                <p:sp>
                  <p:nvSpPr>
                    <p:cNvPr id="2266" name=""/>
                    <p:cNvSpPr/>
                    <p:nvPr/>
                  </p:nvSpPr>
                  <p:spPr>
                    <a:xfrm>
                      <a:off x="768240" y="4314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7" name=""/>
                    <p:cNvSpPr/>
                    <p:nvPr/>
                  </p:nvSpPr>
                  <p:spPr>
                    <a:xfrm>
                      <a:off x="768240" y="4327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8" name=""/>
                    <p:cNvSpPr/>
                    <p:nvPr/>
                  </p:nvSpPr>
                  <p:spPr>
                    <a:xfrm>
                      <a:off x="768240" y="434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69" name=""/>
                  <p:cNvGrpSpPr/>
                  <p:nvPr/>
                </p:nvGrpSpPr>
                <p:grpSpPr>
                  <a:xfrm>
                    <a:off x="768240" y="4356360"/>
                    <a:ext cx="83520" cy="40680"/>
                    <a:chOff x="768240" y="4356360"/>
                    <a:chExt cx="83520" cy="40680"/>
                  </a:xfrm>
                </p:grpSpPr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768240" y="4356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768240" y="43696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2" name=""/>
                    <p:cNvSpPr/>
                    <p:nvPr/>
                  </p:nvSpPr>
                  <p:spPr>
                    <a:xfrm>
                      <a:off x="768240" y="4383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3" name=""/>
                  <p:cNvGrpSpPr/>
                  <p:nvPr/>
                </p:nvGrpSpPr>
                <p:grpSpPr>
                  <a:xfrm>
                    <a:off x="768240" y="4398120"/>
                    <a:ext cx="83520" cy="40680"/>
                    <a:chOff x="768240" y="4398120"/>
                    <a:chExt cx="83520" cy="40680"/>
                  </a:xfrm>
                </p:grpSpPr>
                <p:sp>
                  <p:nvSpPr>
                    <p:cNvPr id="2274" name=""/>
                    <p:cNvSpPr/>
                    <p:nvPr/>
                  </p:nvSpPr>
                  <p:spPr>
                    <a:xfrm>
                      <a:off x="768240" y="4398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5" name=""/>
                    <p:cNvSpPr/>
                    <p:nvPr/>
                  </p:nvSpPr>
                  <p:spPr>
                    <a:xfrm>
                      <a:off x="768240" y="44114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6" name=""/>
                    <p:cNvSpPr/>
                    <p:nvPr/>
                  </p:nvSpPr>
                  <p:spPr>
                    <a:xfrm>
                      <a:off x="768240" y="4425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7" name=""/>
                  <p:cNvGrpSpPr/>
                  <p:nvPr/>
                </p:nvGrpSpPr>
                <p:grpSpPr>
                  <a:xfrm>
                    <a:off x="768240" y="4438800"/>
                    <a:ext cx="83520" cy="41400"/>
                    <a:chOff x="768240" y="4438800"/>
                    <a:chExt cx="83520" cy="41400"/>
                  </a:xfrm>
                </p:grpSpPr>
                <p:sp>
                  <p:nvSpPr>
                    <p:cNvPr id="2278" name=""/>
                    <p:cNvSpPr/>
                    <p:nvPr/>
                  </p:nvSpPr>
                  <p:spPr>
                    <a:xfrm>
                      <a:off x="768240" y="443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9" name=""/>
                    <p:cNvSpPr/>
                    <p:nvPr/>
                  </p:nvSpPr>
                  <p:spPr>
                    <a:xfrm>
                      <a:off x="768240" y="4452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0" name=""/>
                    <p:cNvSpPr/>
                    <p:nvPr/>
                  </p:nvSpPr>
                  <p:spPr>
                    <a:xfrm>
                      <a:off x="768240" y="4466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81" name=""/>
              <p:cNvGrpSpPr/>
              <p:nvPr/>
            </p:nvGrpSpPr>
            <p:grpSpPr>
              <a:xfrm>
                <a:off x="741600" y="3853080"/>
                <a:ext cx="137160" cy="214920"/>
                <a:chOff x="741600" y="3853080"/>
                <a:chExt cx="137160" cy="214920"/>
              </a:xfrm>
            </p:grpSpPr>
            <p:grpSp>
              <p:nvGrpSpPr>
                <p:cNvPr id="2282" name=""/>
                <p:cNvGrpSpPr/>
                <p:nvPr/>
              </p:nvGrpSpPr>
              <p:grpSpPr>
                <a:xfrm>
                  <a:off x="741600" y="3925440"/>
                  <a:ext cx="137160" cy="142560"/>
                  <a:chOff x="741600" y="3925440"/>
                  <a:chExt cx="137160" cy="142560"/>
                </a:xfrm>
              </p:grpSpPr>
              <p:sp>
                <p:nvSpPr>
                  <p:cNvPr id="2283" name=""/>
                  <p:cNvSpPr/>
                  <p:nvPr/>
                </p:nvSpPr>
                <p:spPr>
                  <a:xfrm>
                    <a:off x="741600" y="398772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84" name=""/>
                  <p:cNvGrpSpPr/>
                  <p:nvPr/>
                </p:nvGrpSpPr>
                <p:grpSpPr>
                  <a:xfrm>
                    <a:off x="744120" y="3925440"/>
                    <a:ext cx="131760" cy="142560"/>
                    <a:chOff x="744120" y="3925440"/>
                    <a:chExt cx="131760" cy="142560"/>
                  </a:xfrm>
                </p:grpSpPr>
                <p:sp>
                  <p:nvSpPr>
                    <p:cNvPr id="2285" name=""/>
                    <p:cNvSpPr/>
                    <p:nvPr/>
                  </p:nvSpPr>
                  <p:spPr>
                    <a:xfrm>
                      <a:off x="744840" y="3994560"/>
                      <a:ext cx="129960" cy="7344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6640" bIns="266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6" name=""/>
                    <p:cNvSpPr/>
                    <p:nvPr/>
                  </p:nvSpPr>
                  <p:spPr>
                    <a:xfrm flipV="1">
                      <a:off x="744120" y="393696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7" name=""/>
                    <p:cNvSpPr/>
                    <p:nvPr/>
                  </p:nvSpPr>
                  <p:spPr>
                    <a:xfrm>
                      <a:off x="748080" y="392544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88" name=""/>
                <p:cNvGrpSpPr/>
                <p:nvPr/>
              </p:nvGrpSpPr>
              <p:grpSpPr>
                <a:xfrm>
                  <a:off x="766800" y="3853080"/>
                  <a:ext cx="86040" cy="72000"/>
                  <a:chOff x="766800" y="3853080"/>
                  <a:chExt cx="86040" cy="72000"/>
                </a:xfrm>
              </p:grpSpPr>
              <p:sp>
                <p:nvSpPr>
                  <p:cNvPr id="2289" name=""/>
                  <p:cNvSpPr/>
                  <p:nvPr/>
                </p:nvSpPr>
                <p:spPr>
                  <a:xfrm>
                    <a:off x="767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785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80352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82368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84204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766800" y="38840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767520" y="39063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767520" y="3925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97" name=""/>
                <p:cNvSpPr/>
                <p:nvPr/>
              </p:nvSpPr>
              <p:spPr>
                <a:xfrm>
                  <a:off x="757800" y="39942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840600" y="3993480"/>
                  <a:ext cx="20520" cy="7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792360" y="400752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0" name=""/>
            <p:cNvSpPr/>
            <p:nvPr/>
          </p:nvSpPr>
          <p:spPr>
            <a:xfrm>
              <a:off x="332640" y="3481920"/>
              <a:ext cx="959040" cy="358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508320" y="4848480"/>
            <a:ext cx="1503000" cy="1344240"/>
            <a:chOff x="508320" y="4848480"/>
            <a:chExt cx="1503000" cy="1344240"/>
          </a:xfrm>
        </p:grpSpPr>
        <p:grpSp>
          <p:nvGrpSpPr>
            <p:cNvPr id="2302" name=""/>
            <p:cNvGrpSpPr/>
            <p:nvPr/>
          </p:nvGrpSpPr>
          <p:grpSpPr>
            <a:xfrm>
              <a:off x="944280" y="5559840"/>
              <a:ext cx="630360" cy="632880"/>
              <a:chOff x="944280" y="5559840"/>
              <a:chExt cx="630360" cy="632880"/>
            </a:xfrm>
          </p:grpSpPr>
          <p:grpSp>
            <p:nvGrpSpPr>
              <p:cNvPr id="2303" name=""/>
              <p:cNvGrpSpPr/>
              <p:nvPr/>
            </p:nvGrpSpPr>
            <p:grpSpPr>
              <a:xfrm>
                <a:off x="944280" y="5775120"/>
                <a:ext cx="630360" cy="417600"/>
                <a:chOff x="944280" y="5775120"/>
                <a:chExt cx="630360" cy="417600"/>
              </a:xfrm>
            </p:grpSpPr>
            <p:grpSp>
              <p:nvGrpSpPr>
                <p:cNvPr id="2304" name=""/>
                <p:cNvGrpSpPr/>
                <p:nvPr/>
              </p:nvGrpSpPr>
              <p:grpSpPr>
                <a:xfrm>
                  <a:off x="944280" y="6110280"/>
                  <a:ext cx="630360" cy="82440"/>
                  <a:chOff x="944280" y="6110280"/>
                  <a:chExt cx="630360" cy="82440"/>
                </a:xfrm>
              </p:grpSpPr>
              <p:sp>
                <p:nvSpPr>
                  <p:cNvPr id="2305" name=""/>
                  <p:cNvSpPr/>
                  <p:nvPr/>
                </p:nvSpPr>
                <p:spPr>
                  <a:xfrm>
                    <a:off x="104940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12596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13651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14702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11545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94428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1" name=""/>
                <p:cNvGrpSpPr/>
                <p:nvPr/>
              </p:nvGrpSpPr>
              <p:grpSpPr>
                <a:xfrm>
                  <a:off x="996840" y="6026760"/>
                  <a:ext cx="525240" cy="82440"/>
                  <a:chOff x="996840" y="6026760"/>
                  <a:chExt cx="525240" cy="82440"/>
                </a:xfrm>
              </p:grpSpPr>
              <p:sp>
                <p:nvSpPr>
                  <p:cNvPr id="2312" name=""/>
                  <p:cNvSpPr/>
                  <p:nvPr/>
                </p:nvSpPr>
                <p:spPr>
                  <a:xfrm>
                    <a:off x="99684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12070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131220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14176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110196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7" name=""/>
                <p:cNvSpPr/>
                <p:nvPr/>
              </p:nvSpPr>
              <p:spPr>
                <a:xfrm>
                  <a:off x="115452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136512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126000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104940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1102320" y="585972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131292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120780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4" name=""/>
                <p:cNvGrpSpPr/>
                <p:nvPr/>
              </p:nvGrpSpPr>
              <p:grpSpPr>
                <a:xfrm>
                  <a:off x="1155960" y="5775120"/>
                  <a:ext cx="209880" cy="82440"/>
                  <a:chOff x="1155960" y="5775120"/>
                  <a:chExt cx="209880" cy="82440"/>
                </a:xfrm>
              </p:grpSpPr>
              <p:sp>
                <p:nvSpPr>
                  <p:cNvPr id="2325" name=""/>
                  <p:cNvSpPr/>
                  <p:nvPr/>
                </p:nvSpPr>
                <p:spPr>
                  <a:xfrm>
                    <a:off x="1155960" y="577512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1261440" y="57751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7" name=""/>
              <p:cNvGrpSpPr/>
              <p:nvPr/>
            </p:nvGrpSpPr>
            <p:grpSpPr>
              <a:xfrm>
                <a:off x="1217520" y="5775120"/>
                <a:ext cx="83520" cy="413640"/>
                <a:chOff x="1217520" y="5775120"/>
                <a:chExt cx="83520" cy="413640"/>
              </a:xfrm>
            </p:grpSpPr>
            <p:grpSp>
              <p:nvGrpSpPr>
                <p:cNvPr id="2328" name=""/>
                <p:cNvGrpSpPr/>
                <p:nvPr/>
              </p:nvGrpSpPr>
              <p:grpSpPr>
                <a:xfrm>
                  <a:off x="1217520" y="5775120"/>
                  <a:ext cx="83520" cy="207720"/>
                  <a:chOff x="1217520" y="5775120"/>
                  <a:chExt cx="83520" cy="207720"/>
                </a:xfrm>
              </p:grpSpPr>
              <p:grpSp>
                <p:nvGrpSpPr>
                  <p:cNvPr id="2329" name=""/>
                  <p:cNvGrpSpPr/>
                  <p:nvPr/>
                </p:nvGrpSpPr>
                <p:grpSpPr>
                  <a:xfrm>
                    <a:off x="1217520" y="5775120"/>
                    <a:ext cx="83520" cy="41400"/>
                    <a:chOff x="1217520" y="5775120"/>
                    <a:chExt cx="83520" cy="41400"/>
                  </a:xfrm>
                </p:grpSpPr>
                <p:sp>
                  <p:nvSpPr>
                    <p:cNvPr id="2330" name=""/>
                    <p:cNvSpPr/>
                    <p:nvPr/>
                  </p:nvSpPr>
                  <p:spPr>
                    <a:xfrm>
                      <a:off x="1217520" y="577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1" name=""/>
                    <p:cNvSpPr/>
                    <p:nvPr/>
                  </p:nvSpPr>
                  <p:spPr>
                    <a:xfrm>
                      <a:off x="1217520" y="5788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2" name=""/>
                    <p:cNvSpPr/>
                    <p:nvPr/>
                  </p:nvSpPr>
                  <p:spPr>
                    <a:xfrm>
                      <a:off x="1217520" y="5802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3" name=""/>
                  <p:cNvGrpSpPr/>
                  <p:nvPr/>
                </p:nvGrpSpPr>
                <p:grpSpPr>
                  <a:xfrm>
                    <a:off x="1217520" y="5816880"/>
                    <a:ext cx="83520" cy="41400"/>
                    <a:chOff x="1217520" y="5816880"/>
                    <a:chExt cx="83520" cy="41400"/>
                  </a:xfrm>
                </p:grpSpPr>
                <p:sp>
                  <p:nvSpPr>
                    <p:cNvPr id="2334" name=""/>
                    <p:cNvSpPr/>
                    <p:nvPr/>
                  </p:nvSpPr>
                  <p:spPr>
                    <a:xfrm>
                      <a:off x="1217520" y="581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5" name=""/>
                    <p:cNvSpPr/>
                    <p:nvPr/>
                  </p:nvSpPr>
                  <p:spPr>
                    <a:xfrm>
                      <a:off x="1217520" y="5830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6" name=""/>
                    <p:cNvSpPr/>
                    <p:nvPr/>
                  </p:nvSpPr>
                  <p:spPr>
                    <a:xfrm>
                      <a:off x="1217520" y="5844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7" name=""/>
                  <p:cNvGrpSpPr/>
                  <p:nvPr/>
                </p:nvGrpSpPr>
                <p:grpSpPr>
                  <a:xfrm>
                    <a:off x="1217520" y="5858640"/>
                    <a:ext cx="83520" cy="41400"/>
                    <a:chOff x="1217520" y="5858640"/>
                    <a:chExt cx="83520" cy="41400"/>
                  </a:xfrm>
                </p:grpSpPr>
                <p:sp>
                  <p:nvSpPr>
                    <p:cNvPr id="2338" name=""/>
                    <p:cNvSpPr/>
                    <p:nvPr/>
                  </p:nvSpPr>
                  <p:spPr>
                    <a:xfrm>
                      <a:off x="1217520" y="585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9" name=""/>
                    <p:cNvSpPr/>
                    <p:nvPr/>
                  </p:nvSpPr>
                  <p:spPr>
                    <a:xfrm>
                      <a:off x="1217520" y="587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0" name=""/>
                    <p:cNvSpPr/>
                    <p:nvPr/>
                  </p:nvSpPr>
                  <p:spPr>
                    <a:xfrm>
                      <a:off x="1217520" y="5886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1" name=""/>
                  <p:cNvGrpSpPr/>
                  <p:nvPr/>
                </p:nvGrpSpPr>
                <p:grpSpPr>
                  <a:xfrm>
                    <a:off x="1217520" y="5900400"/>
                    <a:ext cx="83520" cy="41400"/>
                    <a:chOff x="1217520" y="5900400"/>
                    <a:chExt cx="83520" cy="41400"/>
                  </a:xfrm>
                </p:grpSpPr>
                <p:sp>
                  <p:nvSpPr>
                    <p:cNvPr id="2342" name=""/>
                    <p:cNvSpPr/>
                    <p:nvPr/>
                  </p:nvSpPr>
                  <p:spPr>
                    <a:xfrm>
                      <a:off x="1217520" y="590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3" name=""/>
                    <p:cNvSpPr/>
                    <p:nvPr/>
                  </p:nvSpPr>
                  <p:spPr>
                    <a:xfrm>
                      <a:off x="1217520" y="5913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4" name=""/>
                    <p:cNvSpPr/>
                    <p:nvPr/>
                  </p:nvSpPr>
                  <p:spPr>
                    <a:xfrm>
                      <a:off x="1217520" y="5927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5" name=""/>
                  <p:cNvGrpSpPr/>
                  <p:nvPr/>
                </p:nvGrpSpPr>
                <p:grpSpPr>
                  <a:xfrm>
                    <a:off x="1217520" y="5941440"/>
                    <a:ext cx="83520" cy="41400"/>
                    <a:chOff x="1217520" y="5941440"/>
                    <a:chExt cx="83520" cy="41400"/>
                  </a:xfrm>
                </p:grpSpPr>
                <p:sp>
                  <p:nvSpPr>
                    <p:cNvPr id="2346" name=""/>
                    <p:cNvSpPr/>
                    <p:nvPr/>
                  </p:nvSpPr>
                  <p:spPr>
                    <a:xfrm>
                      <a:off x="1217520" y="594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7" name=""/>
                    <p:cNvSpPr/>
                    <p:nvPr/>
                  </p:nvSpPr>
                  <p:spPr>
                    <a:xfrm>
                      <a:off x="1217520" y="5954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8" name=""/>
                    <p:cNvSpPr/>
                    <p:nvPr/>
                  </p:nvSpPr>
                  <p:spPr>
                    <a:xfrm>
                      <a:off x="1217520" y="596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49" name=""/>
                <p:cNvGrpSpPr/>
                <p:nvPr/>
              </p:nvGrpSpPr>
              <p:grpSpPr>
                <a:xfrm>
                  <a:off x="1217520" y="5981040"/>
                  <a:ext cx="83520" cy="207720"/>
                  <a:chOff x="1217520" y="5981040"/>
                  <a:chExt cx="83520" cy="207720"/>
                </a:xfrm>
              </p:grpSpPr>
              <p:grpSp>
                <p:nvGrpSpPr>
                  <p:cNvPr id="2350" name=""/>
                  <p:cNvGrpSpPr/>
                  <p:nvPr/>
                </p:nvGrpSpPr>
                <p:grpSpPr>
                  <a:xfrm>
                    <a:off x="1217520" y="5981040"/>
                    <a:ext cx="83520" cy="41400"/>
                    <a:chOff x="1217520" y="5981040"/>
                    <a:chExt cx="83520" cy="41400"/>
                  </a:xfrm>
                </p:grpSpPr>
                <p:sp>
                  <p:nvSpPr>
                    <p:cNvPr id="2351" name=""/>
                    <p:cNvSpPr/>
                    <p:nvPr/>
                  </p:nvSpPr>
                  <p:spPr>
                    <a:xfrm>
                      <a:off x="1217520" y="59810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2" name=""/>
                    <p:cNvSpPr/>
                    <p:nvPr/>
                  </p:nvSpPr>
                  <p:spPr>
                    <a:xfrm>
                      <a:off x="1217520" y="5994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3" name=""/>
                    <p:cNvSpPr/>
                    <p:nvPr/>
                  </p:nvSpPr>
                  <p:spPr>
                    <a:xfrm>
                      <a:off x="1217520" y="6008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4" name=""/>
                  <p:cNvGrpSpPr/>
                  <p:nvPr/>
                </p:nvGrpSpPr>
                <p:grpSpPr>
                  <a:xfrm>
                    <a:off x="1217520" y="6022800"/>
                    <a:ext cx="83520" cy="41400"/>
                    <a:chOff x="1217520" y="6022800"/>
                    <a:chExt cx="83520" cy="41400"/>
                  </a:xfrm>
                </p:grpSpPr>
                <p:sp>
                  <p:nvSpPr>
                    <p:cNvPr id="2355" name=""/>
                    <p:cNvSpPr/>
                    <p:nvPr/>
                  </p:nvSpPr>
                  <p:spPr>
                    <a:xfrm>
                      <a:off x="1217520" y="6022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6" name=""/>
                    <p:cNvSpPr/>
                    <p:nvPr/>
                  </p:nvSpPr>
                  <p:spPr>
                    <a:xfrm>
                      <a:off x="1217520" y="6036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7" name=""/>
                    <p:cNvSpPr/>
                    <p:nvPr/>
                  </p:nvSpPr>
                  <p:spPr>
                    <a:xfrm>
                      <a:off x="1217520" y="6050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8" name=""/>
                  <p:cNvGrpSpPr/>
                  <p:nvPr/>
                </p:nvGrpSpPr>
                <p:grpSpPr>
                  <a:xfrm>
                    <a:off x="1217520" y="6064560"/>
                    <a:ext cx="83520" cy="41400"/>
                    <a:chOff x="1217520" y="6064560"/>
                    <a:chExt cx="83520" cy="41400"/>
                  </a:xfrm>
                </p:grpSpPr>
                <p:sp>
                  <p:nvSpPr>
                    <p:cNvPr id="2359" name=""/>
                    <p:cNvSpPr/>
                    <p:nvPr/>
                  </p:nvSpPr>
                  <p:spPr>
                    <a:xfrm>
                      <a:off x="1217520" y="6064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0" name=""/>
                    <p:cNvSpPr/>
                    <p:nvPr/>
                  </p:nvSpPr>
                  <p:spPr>
                    <a:xfrm>
                      <a:off x="1217520" y="6077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1" name=""/>
                    <p:cNvSpPr/>
                    <p:nvPr/>
                  </p:nvSpPr>
                  <p:spPr>
                    <a:xfrm>
                      <a:off x="1217520" y="6091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2" name=""/>
                  <p:cNvGrpSpPr/>
                  <p:nvPr/>
                </p:nvGrpSpPr>
                <p:grpSpPr>
                  <a:xfrm>
                    <a:off x="1217520" y="6106320"/>
                    <a:ext cx="83520" cy="41400"/>
                    <a:chOff x="1217520" y="6106320"/>
                    <a:chExt cx="83520" cy="41400"/>
                  </a:xfrm>
                </p:grpSpPr>
                <p:sp>
                  <p:nvSpPr>
                    <p:cNvPr id="2363" name=""/>
                    <p:cNvSpPr/>
                    <p:nvPr/>
                  </p:nvSpPr>
                  <p:spPr>
                    <a:xfrm>
                      <a:off x="1217520" y="6106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4" name=""/>
                    <p:cNvSpPr/>
                    <p:nvPr/>
                  </p:nvSpPr>
                  <p:spPr>
                    <a:xfrm>
                      <a:off x="1217520" y="6119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5" name=""/>
                    <p:cNvSpPr/>
                    <p:nvPr/>
                  </p:nvSpPr>
                  <p:spPr>
                    <a:xfrm>
                      <a:off x="1217520" y="6133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6" name=""/>
                  <p:cNvGrpSpPr/>
                  <p:nvPr/>
                </p:nvGrpSpPr>
                <p:grpSpPr>
                  <a:xfrm>
                    <a:off x="1217520" y="6147360"/>
                    <a:ext cx="83520" cy="41400"/>
                    <a:chOff x="1217520" y="6147360"/>
                    <a:chExt cx="83520" cy="41400"/>
                  </a:xfrm>
                </p:grpSpPr>
                <p:sp>
                  <p:nvSpPr>
                    <p:cNvPr id="2367" name=""/>
                    <p:cNvSpPr/>
                    <p:nvPr/>
                  </p:nvSpPr>
                  <p:spPr>
                    <a:xfrm>
                      <a:off x="1217520" y="6147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8" name=""/>
                    <p:cNvSpPr/>
                    <p:nvPr/>
                  </p:nvSpPr>
                  <p:spPr>
                    <a:xfrm>
                      <a:off x="1217520" y="6160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9" name=""/>
                    <p:cNvSpPr/>
                    <p:nvPr/>
                  </p:nvSpPr>
                  <p:spPr>
                    <a:xfrm>
                      <a:off x="1217520" y="6174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70" name=""/>
              <p:cNvGrpSpPr/>
              <p:nvPr/>
            </p:nvGrpSpPr>
            <p:grpSpPr>
              <a:xfrm>
                <a:off x="1190880" y="5559840"/>
                <a:ext cx="137160" cy="215640"/>
                <a:chOff x="1190880" y="5559840"/>
                <a:chExt cx="137160" cy="215640"/>
              </a:xfrm>
            </p:grpSpPr>
            <p:grpSp>
              <p:nvGrpSpPr>
                <p:cNvPr id="2371" name=""/>
                <p:cNvGrpSpPr/>
                <p:nvPr/>
              </p:nvGrpSpPr>
              <p:grpSpPr>
                <a:xfrm>
                  <a:off x="1190880" y="5632560"/>
                  <a:ext cx="137160" cy="142920"/>
                  <a:chOff x="1190880" y="5632560"/>
                  <a:chExt cx="137160" cy="142920"/>
                </a:xfrm>
              </p:grpSpPr>
              <p:sp>
                <p:nvSpPr>
                  <p:cNvPr id="2372" name=""/>
                  <p:cNvSpPr/>
                  <p:nvPr/>
                </p:nvSpPr>
                <p:spPr>
                  <a:xfrm>
                    <a:off x="1190880" y="569484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73" name=""/>
                  <p:cNvGrpSpPr/>
                  <p:nvPr/>
                </p:nvGrpSpPr>
                <p:grpSpPr>
                  <a:xfrm>
                    <a:off x="1193400" y="5632560"/>
                    <a:ext cx="131760" cy="142920"/>
                    <a:chOff x="1193400" y="5632560"/>
                    <a:chExt cx="131760" cy="142920"/>
                  </a:xfrm>
                </p:grpSpPr>
                <p:sp>
                  <p:nvSpPr>
                    <p:cNvPr id="2374" name=""/>
                    <p:cNvSpPr/>
                    <p:nvPr/>
                  </p:nvSpPr>
                  <p:spPr>
                    <a:xfrm>
                      <a:off x="1194120" y="570168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5" name=""/>
                    <p:cNvSpPr/>
                    <p:nvPr/>
                  </p:nvSpPr>
                  <p:spPr>
                    <a:xfrm flipV="1">
                      <a:off x="1193400" y="56440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6" name=""/>
                    <p:cNvSpPr/>
                    <p:nvPr/>
                  </p:nvSpPr>
                  <p:spPr>
                    <a:xfrm>
                      <a:off x="1197360" y="56325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77" name=""/>
                <p:cNvGrpSpPr/>
                <p:nvPr/>
              </p:nvGrpSpPr>
              <p:grpSpPr>
                <a:xfrm>
                  <a:off x="1216080" y="5559840"/>
                  <a:ext cx="86040" cy="72000"/>
                  <a:chOff x="1216080" y="5559840"/>
                  <a:chExt cx="86040" cy="72000"/>
                </a:xfrm>
              </p:grpSpPr>
              <p:sp>
                <p:nvSpPr>
                  <p:cNvPr id="2378" name=""/>
                  <p:cNvSpPr/>
                  <p:nvPr/>
                </p:nvSpPr>
                <p:spPr>
                  <a:xfrm>
                    <a:off x="1216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1234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125280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127296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129132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>
                    <a:off x="1216080" y="55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1216800" y="56131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1216800" y="56318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6" name=""/>
                <p:cNvSpPr/>
                <p:nvPr/>
              </p:nvSpPr>
              <p:spPr>
                <a:xfrm>
                  <a:off x="1207080" y="570132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1289880" y="5700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1241640" y="571464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89" name=""/>
            <p:cNvSpPr/>
            <p:nvPr/>
          </p:nvSpPr>
          <p:spPr>
            <a:xfrm>
              <a:off x="508320" y="4848480"/>
              <a:ext cx="1503000" cy="997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3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output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ramp on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2592000" y="5298120"/>
            <a:ext cx="1231200" cy="1225080"/>
            <a:chOff x="2592000" y="5298120"/>
            <a:chExt cx="1231200" cy="1225080"/>
          </a:xfrm>
        </p:grpSpPr>
        <p:grpSp>
          <p:nvGrpSpPr>
            <p:cNvPr id="2391" name=""/>
            <p:cNvGrpSpPr/>
            <p:nvPr/>
          </p:nvGrpSpPr>
          <p:grpSpPr>
            <a:xfrm>
              <a:off x="2890800" y="5888520"/>
              <a:ext cx="631800" cy="634680"/>
              <a:chOff x="2890800" y="5888520"/>
              <a:chExt cx="631800" cy="634680"/>
            </a:xfrm>
          </p:grpSpPr>
          <p:grpSp>
            <p:nvGrpSpPr>
              <p:cNvPr id="2392" name=""/>
              <p:cNvGrpSpPr/>
              <p:nvPr/>
            </p:nvGrpSpPr>
            <p:grpSpPr>
              <a:xfrm>
                <a:off x="2890800" y="6104520"/>
                <a:ext cx="631800" cy="418680"/>
                <a:chOff x="2890800" y="6104520"/>
                <a:chExt cx="631800" cy="418680"/>
              </a:xfrm>
            </p:grpSpPr>
            <p:grpSp>
              <p:nvGrpSpPr>
                <p:cNvPr id="2393" name=""/>
                <p:cNvGrpSpPr/>
                <p:nvPr/>
              </p:nvGrpSpPr>
              <p:grpSpPr>
                <a:xfrm>
                  <a:off x="2890800" y="6440400"/>
                  <a:ext cx="631800" cy="82800"/>
                  <a:chOff x="2890800" y="6440400"/>
                  <a:chExt cx="631800" cy="8280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>
                    <a:off x="299592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320688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331236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341784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31014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>
                    <a:off x="28908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0" name=""/>
                <p:cNvGrpSpPr/>
                <p:nvPr/>
              </p:nvGrpSpPr>
              <p:grpSpPr>
                <a:xfrm>
                  <a:off x="2943360" y="6356520"/>
                  <a:ext cx="526680" cy="82800"/>
                  <a:chOff x="2943360" y="6356520"/>
                  <a:chExt cx="526680" cy="82800"/>
                </a:xfrm>
              </p:grpSpPr>
              <p:sp>
                <p:nvSpPr>
                  <p:cNvPr id="2401" name=""/>
                  <p:cNvSpPr/>
                  <p:nvPr/>
                </p:nvSpPr>
                <p:spPr>
                  <a:xfrm>
                    <a:off x="294336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315432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325980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336528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304884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6" name=""/>
                <p:cNvSpPr/>
                <p:nvPr/>
              </p:nvSpPr>
              <p:spPr>
                <a:xfrm>
                  <a:off x="310176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331272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320724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299628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304920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326016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315468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13" name=""/>
                <p:cNvGrpSpPr/>
                <p:nvPr/>
              </p:nvGrpSpPr>
              <p:grpSpPr>
                <a:xfrm>
                  <a:off x="3102840" y="6104520"/>
                  <a:ext cx="210240" cy="82800"/>
                  <a:chOff x="3102840" y="6104520"/>
                  <a:chExt cx="210240" cy="82800"/>
                </a:xfrm>
              </p:grpSpPr>
              <p:sp>
                <p:nvSpPr>
                  <p:cNvPr id="2414" name=""/>
                  <p:cNvSpPr/>
                  <p:nvPr/>
                </p:nvSpPr>
                <p:spPr>
                  <a:xfrm>
                    <a:off x="310284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320832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6" name=""/>
              <p:cNvGrpSpPr/>
              <p:nvPr/>
            </p:nvGrpSpPr>
            <p:grpSpPr>
              <a:xfrm>
                <a:off x="3164760" y="6104520"/>
                <a:ext cx="83880" cy="414360"/>
                <a:chOff x="3164760" y="6104520"/>
                <a:chExt cx="83880" cy="414360"/>
              </a:xfrm>
            </p:grpSpPr>
            <p:grpSp>
              <p:nvGrpSpPr>
                <p:cNvPr id="2417" name=""/>
                <p:cNvGrpSpPr/>
                <p:nvPr/>
              </p:nvGrpSpPr>
              <p:grpSpPr>
                <a:xfrm>
                  <a:off x="3164760" y="6104520"/>
                  <a:ext cx="83880" cy="208080"/>
                  <a:chOff x="3164760" y="6104520"/>
                  <a:chExt cx="83880" cy="208080"/>
                </a:xfrm>
              </p:grpSpPr>
              <p:grpSp>
                <p:nvGrpSpPr>
                  <p:cNvPr id="2418" name=""/>
                  <p:cNvGrpSpPr/>
                  <p:nvPr/>
                </p:nvGrpSpPr>
                <p:grpSpPr>
                  <a:xfrm>
                    <a:off x="3164760" y="6104520"/>
                    <a:ext cx="83880" cy="41400"/>
                    <a:chOff x="3164760" y="6104520"/>
                    <a:chExt cx="83880" cy="41400"/>
                  </a:xfrm>
                </p:grpSpPr>
                <p:sp>
                  <p:nvSpPr>
                    <p:cNvPr id="2419" name=""/>
                    <p:cNvSpPr/>
                    <p:nvPr/>
                  </p:nvSpPr>
                  <p:spPr>
                    <a:xfrm>
                      <a:off x="3164760" y="610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0" name=""/>
                    <p:cNvSpPr/>
                    <p:nvPr/>
                  </p:nvSpPr>
                  <p:spPr>
                    <a:xfrm>
                      <a:off x="3164760" y="6117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1" name=""/>
                    <p:cNvSpPr/>
                    <p:nvPr/>
                  </p:nvSpPr>
                  <p:spPr>
                    <a:xfrm>
                      <a:off x="3164760" y="613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2" name=""/>
                  <p:cNvGrpSpPr/>
                  <p:nvPr/>
                </p:nvGrpSpPr>
                <p:grpSpPr>
                  <a:xfrm>
                    <a:off x="3164760" y="6146280"/>
                    <a:ext cx="83880" cy="41400"/>
                    <a:chOff x="3164760" y="6146280"/>
                    <a:chExt cx="83880" cy="41400"/>
                  </a:xfrm>
                </p:grpSpPr>
                <p:sp>
                  <p:nvSpPr>
                    <p:cNvPr id="2423" name=""/>
                    <p:cNvSpPr/>
                    <p:nvPr/>
                  </p:nvSpPr>
                  <p:spPr>
                    <a:xfrm>
                      <a:off x="3164760" y="6146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4" name=""/>
                    <p:cNvSpPr/>
                    <p:nvPr/>
                  </p:nvSpPr>
                  <p:spPr>
                    <a:xfrm>
                      <a:off x="3164760" y="6159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5" name=""/>
                    <p:cNvSpPr/>
                    <p:nvPr/>
                  </p:nvSpPr>
                  <p:spPr>
                    <a:xfrm>
                      <a:off x="3164760" y="617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6" name=""/>
                  <p:cNvGrpSpPr/>
                  <p:nvPr/>
                </p:nvGrpSpPr>
                <p:grpSpPr>
                  <a:xfrm>
                    <a:off x="3164760" y="6188040"/>
                    <a:ext cx="83880" cy="41400"/>
                    <a:chOff x="3164760" y="6188040"/>
                    <a:chExt cx="83880" cy="41400"/>
                  </a:xfrm>
                </p:grpSpPr>
                <p:sp>
                  <p:nvSpPr>
                    <p:cNvPr id="2427" name=""/>
                    <p:cNvSpPr/>
                    <p:nvPr/>
                  </p:nvSpPr>
                  <p:spPr>
                    <a:xfrm>
                      <a:off x="3164760" y="6188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8" name=""/>
                    <p:cNvSpPr/>
                    <p:nvPr/>
                  </p:nvSpPr>
                  <p:spPr>
                    <a:xfrm>
                      <a:off x="3164760" y="6201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9" name=""/>
                    <p:cNvSpPr/>
                    <p:nvPr/>
                  </p:nvSpPr>
                  <p:spPr>
                    <a:xfrm>
                      <a:off x="3164760" y="6215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0" name=""/>
                  <p:cNvGrpSpPr/>
                  <p:nvPr/>
                </p:nvGrpSpPr>
                <p:grpSpPr>
                  <a:xfrm>
                    <a:off x="3164760" y="6229800"/>
                    <a:ext cx="83880" cy="41400"/>
                    <a:chOff x="3164760" y="6229800"/>
                    <a:chExt cx="83880" cy="41400"/>
                  </a:xfrm>
                </p:grpSpPr>
                <p:sp>
                  <p:nvSpPr>
                    <p:cNvPr id="2431" name=""/>
                    <p:cNvSpPr/>
                    <p:nvPr/>
                  </p:nvSpPr>
                  <p:spPr>
                    <a:xfrm>
                      <a:off x="3164760" y="6229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2" name=""/>
                    <p:cNvSpPr/>
                    <p:nvPr/>
                  </p:nvSpPr>
                  <p:spPr>
                    <a:xfrm>
                      <a:off x="3164760" y="624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3" name=""/>
                    <p:cNvSpPr/>
                    <p:nvPr/>
                  </p:nvSpPr>
                  <p:spPr>
                    <a:xfrm>
                      <a:off x="3164760" y="6257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4" name=""/>
                  <p:cNvGrpSpPr/>
                  <p:nvPr/>
                </p:nvGrpSpPr>
                <p:grpSpPr>
                  <a:xfrm>
                    <a:off x="3164760" y="6271200"/>
                    <a:ext cx="83880" cy="41400"/>
                    <a:chOff x="3164760" y="6271200"/>
                    <a:chExt cx="83880" cy="41400"/>
                  </a:xfrm>
                </p:grpSpPr>
                <p:sp>
                  <p:nvSpPr>
                    <p:cNvPr id="2435" name=""/>
                    <p:cNvSpPr/>
                    <p:nvPr/>
                  </p:nvSpPr>
                  <p:spPr>
                    <a:xfrm>
                      <a:off x="3164760" y="6271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6" name=""/>
                    <p:cNvSpPr/>
                    <p:nvPr/>
                  </p:nvSpPr>
                  <p:spPr>
                    <a:xfrm>
                      <a:off x="3164760" y="628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7" name=""/>
                    <p:cNvSpPr/>
                    <p:nvPr/>
                  </p:nvSpPr>
                  <p:spPr>
                    <a:xfrm>
                      <a:off x="3164760" y="629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38" name=""/>
                <p:cNvGrpSpPr/>
                <p:nvPr/>
              </p:nvGrpSpPr>
              <p:grpSpPr>
                <a:xfrm>
                  <a:off x="3164760" y="6310800"/>
                  <a:ext cx="83880" cy="208080"/>
                  <a:chOff x="3164760" y="6310800"/>
                  <a:chExt cx="83880" cy="208080"/>
                </a:xfrm>
              </p:grpSpPr>
              <p:grpSp>
                <p:nvGrpSpPr>
                  <p:cNvPr id="2439" name=""/>
                  <p:cNvGrpSpPr/>
                  <p:nvPr/>
                </p:nvGrpSpPr>
                <p:grpSpPr>
                  <a:xfrm>
                    <a:off x="3164760" y="6310800"/>
                    <a:ext cx="83880" cy="41400"/>
                    <a:chOff x="3164760" y="6310800"/>
                    <a:chExt cx="83880" cy="41400"/>
                  </a:xfrm>
                </p:grpSpPr>
                <p:sp>
                  <p:nvSpPr>
                    <p:cNvPr id="2440" name=""/>
                    <p:cNvSpPr/>
                    <p:nvPr/>
                  </p:nvSpPr>
                  <p:spPr>
                    <a:xfrm>
                      <a:off x="3164760" y="631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1" name=""/>
                    <p:cNvSpPr/>
                    <p:nvPr/>
                  </p:nvSpPr>
                  <p:spPr>
                    <a:xfrm>
                      <a:off x="3164760" y="6324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2" name=""/>
                    <p:cNvSpPr/>
                    <p:nvPr/>
                  </p:nvSpPr>
                  <p:spPr>
                    <a:xfrm>
                      <a:off x="3164760" y="6338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3" name=""/>
                  <p:cNvGrpSpPr/>
                  <p:nvPr/>
                </p:nvGrpSpPr>
                <p:grpSpPr>
                  <a:xfrm>
                    <a:off x="3164760" y="6352560"/>
                    <a:ext cx="83880" cy="41400"/>
                    <a:chOff x="3164760" y="6352560"/>
                    <a:chExt cx="83880" cy="41400"/>
                  </a:xfrm>
                </p:grpSpPr>
                <p:sp>
                  <p:nvSpPr>
                    <p:cNvPr id="2444" name=""/>
                    <p:cNvSpPr/>
                    <p:nvPr/>
                  </p:nvSpPr>
                  <p:spPr>
                    <a:xfrm>
                      <a:off x="3164760" y="6352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5" name=""/>
                    <p:cNvSpPr/>
                    <p:nvPr/>
                  </p:nvSpPr>
                  <p:spPr>
                    <a:xfrm>
                      <a:off x="3164760" y="6365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6" name=""/>
                    <p:cNvSpPr/>
                    <p:nvPr/>
                  </p:nvSpPr>
                  <p:spPr>
                    <a:xfrm>
                      <a:off x="3164760" y="6379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7" name=""/>
                  <p:cNvGrpSpPr/>
                  <p:nvPr/>
                </p:nvGrpSpPr>
                <p:grpSpPr>
                  <a:xfrm>
                    <a:off x="3164760" y="6394320"/>
                    <a:ext cx="83880" cy="41400"/>
                    <a:chOff x="3164760" y="6394320"/>
                    <a:chExt cx="83880" cy="41400"/>
                  </a:xfrm>
                </p:grpSpPr>
                <p:sp>
                  <p:nvSpPr>
                    <p:cNvPr id="2448" name=""/>
                    <p:cNvSpPr/>
                    <p:nvPr/>
                  </p:nvSpPr>
                  <p:spPr>
                    <a:xfrm>
                      <a:off x="3164760" y="6394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9" name=""/>
                    <p:cNvSpPr/>
                    <p:nvPr/>
                  </p:nvSpPr>
                  <p:spPr>
                    <a:xfrm>
                      <a:off x="3164760" y="6407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0" name=""/>
                    <p:cNvSpPr/>
                    <p:nvPr/>
                  </p:nvSpPr>
                  <p:spPr>
                    <a:xfrm>
                      <a:off x="3164760" y="6421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1" name=""/>
                  <p:cNvGrpSpPr/>
                  <p:nvPr/>
                </p:nvGrpSpPr>
                <p:grpSpPr>
                  <a:xfrm>
                    <a:off x="3164760" y="6436080"/>
                    <a:ext cx="83880" cy="41400"/>
                    <a:chOff x="3164760" y="6436080"/>
                    <a:chExt cx="83880" cy="41400"/>
                  </a:xfrm>
                </p:grpSpPr>
                <p:sp>
                  <p:nvSpPr>
                    <p:cNvPr id="2452" name=""/>
                    <p:cNvSpPr/>
                    <p:nvPr/>
                  </p:nvSpPr>
                  <p:spPr>
                    <a:xfrm>
                      <a:off x="3164760" y="6436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3" name=""/>
                    <p:cNvSpPr/>
                    <p:nvPr/>
                  </p:nvSpPr>
                  <p:spPr>
                    <a:xfrm>
                      <a:off x="3164760" y="6449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4" name=""/>
                    <p:cNvSpPr/>
                    <p:nvPr/>
                  </p:nvSpPr>
                  <p:spPr>
                    <a:xfrm>
                      <a:off x="3164760" y="646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5" name=""/>
                  <p:cNvGrpSpPr/>
                  <p:nvPr/>
                </p:nvGrpSpPr>
                <p:grpSpPr>
                  <a:xfrm>
                    <a:off x="3164760" y="6477480"/>
                    <a:ext cx="83880" cy="41400"/>
                    <a:chOff x="3164760" y="6477480"/>
                    <a:chExt cx="83880" cy="41400"/>
                  </a:xfrm>
                </p:grpSpPr>
                <p:sp>
                  <p:nvSpPr>
                    <p:cNvPr id="2456" name=""/>
                    <p:cNvSpPr/>
                    <p:nvPr/>
                  </p:nvSpPr>
                  <p:spPr>
                    <a:xfrm>
                      <a:off x="3164760" y="647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7" name=""/>
                    <p:cNvSpPr/>
                    <p:nvPr/>
                  </p:nvSpPr>
                  <p:spPr>
                    <a:xfrm>
                      <a:off x="3164760" y="649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8" name=""/>
                    <p:cNvSpPr/>
                    <p:nvPr/>
                  </p:nvSpPr>
                  <p:spPr>
                    <a:xfrm>
                      <a:off x="3164760" y="6504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59" name=""/>
              <p:cNvGrpSpPr/>
              <p:nvPr/>
            </p:nvGrpSpPr>
            <p:grpSpPr>
              <a:xfrm>
                <a:off x="3138120" y="5888520"/>
                <a:ext cx="137520" cy="216000"/>
                <a:chOff x="3138120" y="5888520"/>
                <a:chExt cx="137520" cy="216000"/>
              </a:xfrm>
            </p:grpSpPr>
            <p:grpSp>
              <p:nvGrpSpPr>
                <p:cNvPr id="2460" name=""/>
                <p:cNvGrpSpPr/>
                <p:nvPr/>
              </p:nvGrpSpPr>
              <p:grpSpPr>
                <a:xfrm>
                  <a:off x="3138120" y="5961240"/>
                  <a:ext cx="137520" cy="143280"/>
                  <a:chOff x="3138120" y="5961240"/>
                  <a:chExt cx="137520" cy="143280"/>
                </a:xfrm>
              </p:grpSpPr>
              <p:sp>
                <p:nvSpPr>
                  <p:cNvPr id="2461" name=""/>
                  <p:cNvSpPr/>
                  <p:nvPr/>
                </p:nvSpPr>
                <p:spPr>
                  <a:xfrm>
                    <a:off x="3138120" y="6023880"/>
                    <a:ext cx="13752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62" name=""/>
                  <p:cNvGrpSpPr/>
                  <p:nvPr/>
                </p:nvGrpSpPr>
                <p:grpSpPr>
                  <a:xfrm>
                    <a:off x="3140640" y="5961240"/>
                    <a:ext cx="132120" cy="143280"/>
                    <a:chOff x="3140640" y="5961240"/>
                    <a:chExt cx="132120" cy="143280"/>
                  </a:xfrm>
                </p:grpSpPr>
                <p:sp>
                  <p:nvSpPr>
                    <p:cNvPr id="2463" name=""/>
                    <p:cNvSpPr/>
                    <p:nvPr/>
                  </p:nvSpPr>
                  <p:spPr>
                    <a:xfrm>
                      <a:off x="3141360" y="6030720"/>
                      <a:ext cx="13032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4" name=""/>
                    <p:cNvSpPr/>
                    <p:nvPr/>
                  </p:nvSpPr>
                  <p:spPr>
                    <a:xfrm flipV="1">
                      <a:off x="3140640" y="5972760"/>
                      <a:ext cx="132120" cy="50040"/>
                    </a:xfrm>
                    <a:custGeom>
                      <a:avLst/>
                      <a:gdLst>
                        <a:gd name="textAreaLeft" fmla="*/ 13680 w 132120"/>
                        <a:gd name="textAreaRight" fmla="*/ 118440 w 13212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5" name=""/>
                    <p:cNvSpPr/>
                    <p:nvPr/>
                  </p:nvSpPr>
                  <p:spPr>
                    <a:xfrm>
                      <a:off x="3144600" y="5961240"/>
                      <a:ext cx="12348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66" name=""/>
                <p:cNvGrpSpPr/>
                <p:nvPr/>
              </p:nvGrpSpPr>
              <p:grpSpPr>
                <a:xfrm>
                  <a:off x="3163320" y="5888520"/>
                  <a:ext cx="86400" cy="72360"/>
                  <a:chOff x="3163320" y="5888520"/>
                  <a:chExt cx="86400" cy="72360"/>
                </a:xfrm>
              </p:grpSpPr>
              <p:sp>
                <p:nvSpPr>
                  <p:cNvPr id="2467" name=""/>
                  <p:cNvSpPr/>
                  <p:nvPr/>
                </p:nvSpPr>
                <p:spPr>
                  <a:xfrm>
                    <a:off x="316368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318204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32004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32202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323892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3163320" y="59194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3164040" y="594216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3164040" y="59608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5" name=""/>
                <p:cNvSpPr/>
                <p:nvPr/>
              </p:nvSpPr>
              <p:spPr>
                <a:xfrm>
                  <a:off x="3154320" y="603036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3237480" y="602964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3188880" y="604404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8" name=""/>
            <p:cNvSpPr/>
            <p:nvPr/>
          </p:nvSpPr>
          <p:spPr>
            <a:xfrm>
              <a:off x="2592000" y="5298120"/>
              <a:ext cx="1231200" cy="7714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2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lvds driver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3810600" y="2459160"/>
            <a:ext cx="1381680" cy="1174320"/>
            <a:chOff x="3810600" y="2459160"/>
            <a:chExt cx="1381680" cy="1174320"/>
          </a:xfrm>
        </p:grpSpPr>
        <p:grpSp>
          <p:nvGrpSpPr>
            <p:cNvPr id="2480" name=""/>
            <p:cNvGrpSpPr/>
            <p:nvPr/>
          </p:nvGrpSpPr>
          <p:grpSpPr>
            <a:xfrm>
              <a:off x="4185360" y="3000600"/>
              <a:ext cx="630720" cy="632880"/>
              <a:chOff x="4185360" y="3000600"/>
              <a:chExt cx="630720" cy="632880"/>
            </a:xfrm>
          </p:grpSpPr>
          <p:grpSp>
            <p:nvGrpSpPr>
              <p:cNvPr id="2481" name=""/>
              <p:cNvGrpSpPr/>
              <p:nvPr/>
            </p:nvGrpSpPr>
            <p:grpSpPr>
              <a:xfrm>
                <a:off x="4185360" y="3215880"/>
                <a:ext cx="630720" cy="417600"/>
                <a:chOff x="4185360" y="3215880"/>
                <a:chExt cx="630720" cy="417600"/>
              </a:xfrm>
            </p:grpSpPr>
            <p:grpSp>
              <p:nvGrpSpPr>
                <p:cNvPr id="2482" name=""/>
                <p:cNvGrpSpPr/>
                <p:nvPr/>
              </p:nvGrpSpPr>
              <p:grpSpPr>
                <a:xfrm>
                  <a:off x="4185360" y="3551040"/>
                  <a:ext cx="630720" cy="82440"/>
                  <a:chOff x="4185360" y="3551040"/>
                  <a:chExt cx="630720" cy="82440"/>
                </a:xfrm>
              </p:grpSpPr>
              <p:sp>
                <p:nvSpPr>
                  <p:cNvPr id="2483" name=""/>
                  <p:cNvSpPr/>
                  <p:nvPr/>
                </p:nvSpPr>
                <p:spPr>
                  <a:xfrm>
                    <a:off x="42904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45010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46062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47116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43956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418536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9" name=""/>
                <p:cNvGrpSpPr/>
                <p:nvPr/>
              </p:nvGrpSpPr>
              <p:grpSpPr>
                <a:xfrm>
                  <a:off x="4237920" y="3467520"/>
                  <a:ext cx="525240" cy="82440"/>
                  <a:chOff x="4237920" y="3467520"/>
                  <a:chExt cx="525240" cy="82440"/>
                </a:xfrm>
              </p:grpSpPr>
              <p:sp>
                <p:nvSpPr>
                  <p:cNvPr id="2490" name=""/>
                  <p:cNvSpPr/>
                  <p:nvPr/>
                </p:nvSpPr>
                <p:spPr>
                  <a:xfrm>
                    <a:off x="423792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44481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45536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46587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43430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5" name=""/>
                <p:cNvSpPr/>
                <p:nvPr/>
              </p:nvSpPr>
              <p:spPr>
                <a:xfrm>
                  <a:off x="439596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60656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450108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429048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343400" y="330048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455400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444888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2" name=""/>
                <p:cNvGrpSpPr/>
                <p:nvPr/>
              </p:nvGrpSpPr>
              <p:grpSpPr>
                <a:xfrm>
                  <a:off x="4397040" y="3215880"/>
                  <a:ext cx="209880" cy="82440"/>
                  <a:chOff x="4397040" y="3215880"/>
                  <a:chExt cx="209880" cy="82440"/>
                </a:xfrm>
              </p:grpSpPr>
              <p:sp>
                <p:nvSpPr>
                  <p:cNvPr id="2503" name=""/>
                  <p:cNvSpPr/>
                  <p:nvPr/>
                </p:nvSpPr>
                <p:spPr>
                  <a:xfrm>
                    <a:off x="4397040" y="321588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4502520" y="32158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5" name=""/>
              <p:cNvGrpSpPr/>
              <p:nvPr/>
            </p:nvGrpSpPr>
            <p:grpSpPr>
              <a:xfrm>
                <a:off x="4458600" y="3215880"/>
                <a:ext cx="83520" cy="413640"/>
                <a:chOff x="4458600" y="3215880"/>
                <a:chExt cx="83520" cy="413640"/>
              </a:xfrm>
            </p:grpSpPr>
            <p:grpSp>
              <p:nvGrpSpPr>
                <p:cNvPr id="2506" name=""/>
                <p:cNvGrpSpPr/>
                <p:nvPr/>
              </p:nvGrpSpPr>
              <p:grpSpPr>
                <a:xfrm>
                  <a:off x="4458600" y="3215880"/>
                  <a:ext cx="83520" cy="207720"/>
                  <a:chOff x="4458600" y="3215880"/>
                  <a:chExt cx="83520" cy="207720"/>
                </a:xfrm>
              </p:grpSpPr>
              <p:grpSp>
                <p:nvGrpSpPr>
                  <p:cNvPr id="2507" name=""/>
                  <p:cNvGrpSpPr/>
                  <p:nvPr/>
                </p:nvGrpSpPr>
                <p:grpSpPr>
                  <a:xfrm>
                    <a:off x="4458600" y="3215880"/>
                    <a:ext cx="83520" cy="41400"/>
                    <a:chOff x="4458600" y="3215880"/>
                    <a:chExt cx="83520" cy="41400"/>
                  </a:xfrm>
                </p:grpSpPr>
                <p:sp>
                  <p:nvSpPr>
                    <p:cNvPr id="2508" name=""/>
                    <p:cNvSpPr/>
                    <p:nvPr/>
                  </p:nvSpPr>
                  <p:spPr>
                    <a:xfrm>
                      <a:off x="4458600" y="3215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9" name=""/>
                    <p:cNvSpPr/>
                    <p:nvPr/>
                  </p:nvSpPr>
                  <p:spPr>
                    <a:xfrm>
                      <a:off x="4458600" y="3229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0" name=""/>
                    <p:cNvSpPr/>
                    <p:nvPr/>
                  </p:nvSpPr>
                  <p:spPr>
                    <a:xfrm>
                      <a:off x="4458600" y="3243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1" name=""/>
                  <p:cNvGrpSpPr/>
                  <p:nvPr/>
                </p:nvGrpSpPr>
                <p:grpSpPr>
                  <a:xfrm>
                    <a:off x="4458600" y="3257640"/>
                    <a:ext cx="83520" cy="41400"/>
                    <a:chOff x="4458600" y="3257640"/>
                    <a:chExt cx="83520" cy="41400"/>
                  </a:xfrm>
                </p:grpSpPr>
                <p:sp>
                  <p:nvSpPr>
                    <p:cNvPr id="2512" name=""/>
                    <p:cNvSpPr/>
                    <p:nvPr/>
                  </p:nvSpPr>
                  <p:spPr>
                    <a:xfrm>
                      <a:off x="4458600" y="3257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3" name=""/>
                    <p:cNvSpPr/>
                    <p:nvPr/>
                  </p:nvSpPr>
                  <p:spPr>
                    <a:xfrm>
                      <a:off x="4458600" y="327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4" name=""/>
                    <p:cNvSpPr/>
                    <p:nvPr/>
                  </p:nvSpPr>
                  <p:spPr>
                    <a:xfrm>
                      <a:off x="4458600" y="3285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5" name=""/>
                  <p:cNvGrpSpPr/>
                  <p:nvPr/>
                </p:nvGrpSpPr>
                <p:grpSpPr>
                  <a:xfrm>
                    <a:off x="4458600" y="3299400"/>
                    <a:ext cx="83520" cy="41400"/>
                    <a:chOff x="4458600" y="3299400"/>
                    <a:chExt cx="83520" cy="41400"/>
                  </a:xfrm>
                </p:grpSpPr>
                <p:sp>
                  <p:nvSpPr>
                    <p:cNvPr id="2516" name=""/>
                    <p:cNvSpPr/>
                    <p:nvPr/>
                  </p:nvSpPr>
                  <p:spPr>
                    <a:xfrm>
                      <a:off x="4458600" y="329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7" name=""/>
                    <p:cNvSpPr/>
                    <p:nvPr/>
                  </p:nvSpPr>
                  <p:spPr>
                    <a:xfrm>
                      <a:off x="4458600" y="331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8" name=""/>
                    <p:cNvSpPr/>
                    <p:nvPr/>
                  </p:nvSpPr>
                  <p:spPr>
                    <a:xfrm>
                      <a:off x="4458600" y="332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9" name=""/>
                  <p:cNvGrpSpPr/>
                  <p:nvPr/>
                </p:nvGrpSpPr>
                <p:grpSpPr>
                  <a:xfrm>
                    <a:off x="4458600" y="3341160"/>
                    <a:ext cx="83520" cy="41400"/>
                    <a:chOff x="4458600" y="3341160"/>
                    <a:chExt cx="83520" cy="41400"/>
                  </a:xfrm>
                </p:grpSpPr>
                <p:sp>
                  <p:nvSpPr>
                    <p:cNvPr id="2520" name=""/>
                    <p:cNvSpPr/>
                    <p:nvPr/>
                  </p:nvSpPr>
                  <p:spPr>
                    <a:xfrm>
                      <a:off x="4458600" y="3341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1" name=""/>
                    <p:cNvSpPr/>
                    <p:nvPr/>
                  </p:nvSpPr>
                  <p:spPr>
                    <a:xfrm>
                      <a:off x="4458600" y="3354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2" name=""/>
                    <p:cNvSpPr/>
                    <p:nvPr/>
                  </p:nvSpPr>
                  <p:spPr>
                    <a:xfrm>
                      <a:off x="4458600" y="3368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3" name=""/>
                  <p:cNvGrpSpPr/>
                  <p:nvPr/>
                </p:nvGrpSpPr>
                <p:grpSpPr>
                  <a:xfrm>
                    <a:off x="4458600" y="3382200"/>
                    <a:ext cx="83520" cy="41400"/>
                    <a:chOff x="4458600" y="3382200"/>
                    <a:chExt cx="83520" cy="41400"/>
                  </a:xfrm>
                </p:grpSpPr>
                <p:sp>
                  <p:nvSpPr>
                    <p:cNvPr id="2524" name=""/>
                    <p:cNvSpPr/>
                    <p:nvPr/>
                  </p:nvSpPr>
                  <p:spPr>
                    <a:xfrm>
                      <a:off x="4458600" y="3382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5" name=""/>
                    <p:cNvSpPr/>
                    <p:nvPr/>
                  </p:nvSpPr>
                  <p:spPr>
                    <a:xfrm>
                      <a:off x="4458600" y="3395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6" name=""/>
                    <p:cNvSpPr/>
                    <p:nvPr/>
                  </p:nvSpPr>
                  <p:spPr>
                    <a:xfrm>
                      <a:off x="4458600" y="3409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27" name=""/>
                <p:cNvGrpSpPr/>
                <p:nvPr/>
              </p:nvGrpSpPr>
              <p:grpSpPr>
                <a:xfrm>
                  <a:off x="4458600" y="3421800"/>
                  <a:ext cx="83520" cy="207720"/>
                  <a:chOff x="4458600" y="3421800"/>
                  <a:chExt cx="83520" cy="207720"/>
                </a:xfrm>
              </p:grpSpPr>
              <p:grpSp>
                <p:nvGrpSpPr>
                  <p:cNvPr id="2528" name=""/>
                  <p:cNvGrpSpPr/>
                  <p:nvPr/>
                </p:nvGrpSpPr>
                <p:grpSpPr>
                  <a:xfrm>
                    <a:off x="4458600" y="3421800"/>
                    <a:ext cx="83520" cy="41400"/>
                    <a:chOff x="4458600" y="3421800"/>
                    <a:chExt cx="83520" cy="41400"/>
                  </a:xfrm>
                </p:grpSpPr>
                <p:sp>
                  <p:nvSpPr>
                    <p:cNvPr id="2529" name=""/>
                    <p:cNvSpPr/>
                    <p:nvPr/>
                  </p:nvSpPr>
                  <p:spPr>
                    <a:xfrm>
                      <a:off x="4458600" y="3421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0" name=""/>
                    <p:cNvSpPr/>
                    <p:nvPr/>
                  </p:nvSpPr>
                  <p:spPr>
                    <a:xfrm>
                      <a:off x="4458600" y="343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1" name=""/>
                    <p:cNvSpPr/>
                    <p:nvPr/>
                  </p:nvSpPr>
                  <p:spPr>
                    <a:xfrm>
                      <a:off x="4458600" y="3449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2" name=""/>
                  <p:cNvGrpSpPr/>
                  <p:nvPr/>
                </p:nvGrpSpPr>
                <p:grpSpPr>
                  <a:xfrm>
                    <a:off x="4458600" y="3463560"/>
                    <a:ext cx="83520" cy="41400"/>
                    <a:chOff x="4458600" y="3463560"/>
                    <a:chExt cx="83520" cy="41400"/>
                  </a:xfrm>
                </p:grpSpPr>
                <p:sp>
                  <p:nvSpPr>
                    <p:cNvPr id="2533" name=""/>
                    <p:cNvSpPr/>
                    <p:nvPr/>
                  </p:nvSpPr>
                  <p:spPr>
                    <a:xfrm>
                      <a:off x="4458600" y="3463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4" name=""/>
                    <p:cNvSpPr/>
                    <p:nvPr/>
                  </p:nvSpPr>
                  <p:spPr>
                    <a:xfrm>
                      <a:off x="4458600" y="347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5" name=""/>
                    <p:cNvSpPr/>
                    <p:nvPr/>
                  </p:nvSpPr>
                  <p:spPr>
                    <a:xfrm>
                      <a:off x="4458600" y="3490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6" name=""/>
                  <p:cNvGrpSpPr/>
                  <p:nvPr/>
                </p:nvGrpSpPr>
                <p:grpSpPr>
                  <a:xfrm>
                    <a:off x="4458600" y="3505320"/>
                    <a:ext cx="83520" cy="41400"/>
                    <a:chOff x="4458600" y="3505320"/>
                    <a:chExt cx="83520" cy="41400"/>
                  </a:xfrm>
                </p:grpSpPr>
                <p:sp>
                  <p:nvSpPr>
                    <p:cNvPr id="2537" name=""/>
                    <p:cNvSpPr/>
                    <p:nvPr/>
                  </p:nvSpPr>
                  <p:spPr>
                    <a:xfrm>
                      <a:off x="4458600" y="3505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8" name=""/>
                    <p:cNvSpPr/>
                    <p:nvPr/>
                  </p:nvSpPr>
                  <p:spPr>
                    <a:xfrm>
                      <a:off x="4458600" y="351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9" name=""/>
                    <p:cNvSpPr/>
                    <p:nvPr/>
                  </p:nvSpPr>
                  <p:spPr>
                    <a:xfrm>
                      <a:off x="4458600" y="3532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0" name=""/>
                  <p:cNvGrpSpPr/>
                  <p:nvPr/>
                </p:nvGrpSpPr>
                <p:grpSpPr>
                  <a:xfrm>
                    <a:off x="4458600" y="3547080"/>
                    <a:ext cx="83520" cy="41400"/>
                    <a:chOff x="4458600" y="3547080"/>
                    <a:chExt cx="83520" cy="41400"/>
                  </a:xfrm>
                </p:grpSpPr>
                <p:sp>
                  <p:nvSpPr>
                    <p:cNvPr id="2541" name=""/>
                    <p:cNvSpPr/>
                    <p:nvPr/>
                  </p:nvSpPr>
                  <p:spPr>
                    <a:xfrm>
                      <a:off x="4458600" y="35470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2" name=""/>
                    <p:cNvSpPr/>
                    <p:nvPr/>
                  </p:nvSpPr>
                  <p:spPr>
                    <a:xfrm>
                      <a:off x="4458600" y="356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3" name=""/>
                    <p:cNvSpPr/>
                    <p:nvPr/>
                  </p:nvSpPr>
                  <p:spPr>
                    <a:xfrm>
                      <a:off x="4458600" y="3574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4" name=""/>
                  <p:cNvGrpSpPr/>
                  <p:nvPr/>
                </p:nvGrpSpPr>
                <p:grpSpPr>
                  <a:xfrm>
                    <a:off x="4458600" y="3588120"/>
                    <a:ext cx="83520" cy="41400"/>
                    <a:chOff x="4458600" y="3588120"/>
                    <a:chExt cx="83520" cy="41400"/>
                  </a:xfrm>
                </p:grpSpPr>
                <p:sp>
                  <p:nvSpPr>
                    <p:cNvPr id="2545" name=""/>
                    <p:cNvSpPr/>
                    <p:nvPr/>
                  </p:nvSpPr>
                  <p:spPr>
                    <a:xfrm>
                      <a:off x="4458600" y="3588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6" name=""/>
                    <p:cNvSpPr/>
                    <p:nvPr/>
                  </p:nvSpPr>
                  <p:spPr>
                    <a:xfrm>
                      <a:off x="4458600" y="360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7" name=""/>
                    <p:cNvSpPr/>
                    <p:nvPr/>
                  </p:nvSpPr>
                  <p:spPr>
                    <a:xfrm>
                      <a:off x="4458600" y="3615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548" name=""/>
              <p:cNvGrpSpPr/>
              <p:nvPr/>
            </p:nvGrpSpPr>
            <p:grpSpPr>
              <a:xfrm>
                <a:off x="4432320" y="3000600"/>
                <a:ext cx="137160" cy="215640"/>
                <a:chOff x="4432320" y="3000600"/>
                <a:chExt cx="137160" cy="215640"/>
              </a:xfrm>
            </p:grpSpPr>
            <p:grpSp>
              <p:nvGrpSpPr>
                <p:cNvPr id="2549" name=""/>
                <p:cNvGrpSpPr/>
                <p:nvPr/>
              </p:nvGrpSpPr>
              <p:grpSpPr>
                <a:xfrm>
                  <a:off x="4432320" y="3073320"/>
                  <a:ext cx="137160" cy="142920"/>
                  <a:chOff x="4432320" y="3073320"/>
                  <a:chExt cx="137160" cy="142920"/>
                </a:xfrm>
              </p:grpSpPr>
              <p:sp>
                <p:nvSpPr>
                  <p:cNvPr id="2550" name=""/>
                  <p:cNvSpPr/>
                  <p:nvPr/>
                </p:nvSpPr>
                <p:spPr>
                  <a:xfrm>
                    <a:off x="4432320" y="31356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51" name=""/>
                  <p:cNvGrpSpPr/>
                  <p:nvPr/>
                </p:nvGrpSpPr>
                <p:grpSpPr>
                  <a:xfrm>
                    <a:off x="4434840" y="3073320"/>
                    <a:ext cx="131760" cy="142920"/>
                    <a:chOff x="4434840" y="3073320"/>
                    <a:chExt cx="131760" cy="142920"/>
                  </a:xfrm>
                </p:grpSpPr>
                <p:sp>
                  <p:nvSpPr>
                    <p:cNvPr id="2552" name=""/>
                    <p:cNvSpPr/>
                    <p:nvPr/>
                  </p:nvSpPr>
                  <p:spPr>
                    <a:xfrm>
                      <a:off x="4435560" y="31424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3" name=""/>
                    <p:cNvSpPr/>
                    <p:nvPr/>
                  </p:nvSpPr>
                  <p:spPr>
                    <a:xfrm flipV="1">
                      <a:off x="4434840" y="308484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4" name=""/>
                    <p:cNvSpPr/>
                    <p:nvPr/>
                  </p:nvSpPr>
                  <p:spPr>
                    <a:xfrm>
                      <a:off x="4438800" y="307332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55" name=""/>
                <p:cNvGrpSpPr/>
                <p:nvPr/>
              </p:nvGrpSpPr>
              <p:grpSpPr>
                <a:xfrm>
                  <a:off x="4457520" y="3000600"/>
                  <a:ext cx="86040" cy="72000"/>
                  <a:chOff x="4457520" y="3000600"/>
                  <a:chExt cx="86040" cy="72000"/>
                </a:xfrm>
              </p:grpSpPr>
              <p:sp>
                <p:nvSpPr>
                  <p:cNvPr id="2556" name=""/>
                  <p:cNvSpPr/>
                  <p:nvPr/>
                </p:nvSpPr>
                <p:spPr>
                  <a:xfrm>
                    <a:off x="4457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4475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449424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451440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453276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4457520" y="30315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4458240" y="30538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4458240" y="30726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4" name=""/>
                <p:cNvSpPr/>
                <p:nvPr/>
              </p:nvSpPr>
              <p:spPr>
                <a:xfrm>
                  <a:off x="4448520" y="314208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4531320" y="31413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4483080" y="315540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7" name=""/>
            <p:cNvSpPr/>
            <p:nvPr/>
          </p:nvSpPr>
          <p:spPr>
            <a:xfrm>
              <a:off x="3810600" y="2459160"/>
              <a:ext cx="1381680" cy="6778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arning/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8" name=""/>
          <p:cNvSpPr/>
          <p:nvPr/>
        </p:nvSpPr>
        <p:spPr>
          <a:xfrm>
            <a:off x="4994280" y="5253120"/>
            <a:ext cx="1247760" cy="19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9" name=""/>
          <p:cNvGrpSpPr/>
          <p:nvPr/>
        </p:nvGrpSpPr>
        <p:grpSpPr>
          <a:xfrm>
            <a:off x="3748320" y="3860280"/>
            <a:ext cx="1903320" cy="1392840"/>
            <a:chOff x="3748320" y="3860280"/>
            <a:chExt cx="1903320" cy="1392840"/>
          </a:xfrm>
        </p:grpSpPr>
        <p:grpSp>
          <p:nvGrpSpPr>
            <p:cNvPr id="2570" name=""/>
            <p:cNvGrpSpPr/>
            <p:nvPr/>
          </p:nvGrpSpPr>
          <p:grpSpPr>
            <a:xfrm>
              <a:off x="4365720" y="4618440"/>
              <a:ext cx="631080" cy="634680"/>
              <a:chOff x="4365720" y="4618440"/>
              <a:chExt cx="631080" cy="634680"/>
            </a:xfrm>
          </p:grpSpPr>
          <p:grpSp>
            <p:nvGrpSpPr>
              <p:cNvPr id="2571" name=""/>
              <p:cNvGrpSpPr/>
              <p:nvPr/>
            </p:nvGrpSpPr>
            <p:grpSpPr>
              <a:xfrm>
                <a:off x="4365720" y="4834440"/>
                <a:ext cx="631080" cy="418680"/>
                <a:chOff x="4365720" y="4834440"/>
                <a:chExt cx="631080" cy="418680"/>
              </a:xfrm>
            </p:grpSpPr>
            <p:grpSp>
              <p:nvGrpSpPr>
                <p:cNvPr id="2572" name=""/>
                <p:cNvGrpSpPr/>
                <p:nvPr/>
              </p:nvGrpSpPr>
              <p:grpSpPr>
                <a:xfrm>
                  <a:off x="4365720" y="5170320"/>
                  <a:ext cx="631080" cy="82800"/>
                  <a:chOff x="4365720" y="5170320"/>
                  <a:chExt cx="631080" cy="82800"/>
                </a:xfrm>
              </p:grpSpPr>
              <p:sp>
                <p:nvSpPr>
                  <p:cNvPr id="2573" name=""/>
                  <p:cNvSpPr/>
                  <p:nvPr/>
                </p:nvSpPr>
                <p:spPr>
                  <a:xfrm>
                    <a:off x="447084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46814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478692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48920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45763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43657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9" name=""/>
                <p:cNvGrpSpPr/>
                <p:nvPr/>
              </p:nvGrpSpPr>
              <p:grpSpPr>
                <a:xfrm>
                  <a:off x="4418280" y="5086440"/>
                  <a:ext cx="525960" cy="82800"/>
                  <a:chOff x="4418280" y="5086440"/>
                  <a:chExt cx="525960" cy="82800"/>
                </a:xfrm>
              </p:grpSpPr>
              <p:sp>
                <p:nvSpPr>
                  <p:cNvPr id="2580" name=""/>
                  <p:cNvSpPr/>
                  <p:nvPr/>
                </p:nvSpPr>
                <p:spPr>
                  <a:xfrm>
                    <a:off x="44182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46288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473436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48394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452340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5" name=""/>
                <p:cNvSpPr/>
                <p:nvPr/>
              </p:nvSpPr>
              <p:spPr>
                <a:xfrm>
                  <a:off x="457632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478728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468180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447084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4523760" y="49190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473472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462924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2" name=""/>
                <p:cNvGrpSpPr/>
                <p:nvPr/>
              </p:nvGrpSpPr>
              <p:grpSpPr>
                <a:xfrm>
                  <a:off x="4577400" y="4834440"/>
                  <a:ext cx="209880" cy="82800"/>
                  <a:chOff x="4577400" y="4834440"/>
                  <a:chExt cx="209880" cy="82800"/>
                </a:xfrm>
              </p:grpSpPr>
              <p:sp>
                <p:nvSpPr>
                  <p:cNvPr id="2593" name=""/>
                  <p:cNvSpPr/>
                  <p:nvPr/>
                </p:nvSpPr>
                <p:spPr>
                  <a:xfrm>
                    <a:off x="4577400" y="4834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4682880" y="483444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5" name=""/>
              <p:cNvGrpSpPr/>
              <p:nvPr/>
            </p:nvGrpSpPr>
            <p:grpSpPr>
              <a:xfrm>
                <a:off x="4639320" y="4834440"/>
                <a:ext cx="83880" cy="414360"/>
                <a:chOff x="4639320" y="4834440"/>
                <a:chExt cx="83880" cy="414360"/>
              </a:xfrm>
            </p:grpSpPr>
            <p:grpSp>
              <p:nvGrpSpPr>
                <p:cNvPr id="2596" name=""/>
                <p:cNvGrpSpPr/>
                <p:nvPr/>
              </p:nvGrpSpPr>
              <p:grpSpPr>
                <a:xfrm>
                  <a:off x="4639320" y="4834440"/>
                  <a:ext cx="83880" cy="208080"/>
                  <a:chOff x="4639320" y="4834440"/>
                  <a:chExt cx="83880" cy="208080"/>
                </a:xfrm>
              </p:grpSpPr>
              <p:grpSp>
                <p:nvGrpSpPr>
                  <p:cNvPr id="2597" name=""/>
                  <p:cNvGrpSpPr/>
                  <p:nvPr/>
                </p:nvGrpSpPr>
                <p:grpSpPr>
                  <a:xfrm>
                    <a:off x="4639320" y="4834440"/>
                    <a:ext cx="83880" cy="41400"/>
                    <a:chOff x="4639320" y="4834440"/>
                    <a:chExt cx="83880" cy="41400"/>
                  </a:xfrm>
                </p:grpSpPr>
                <p:sp>
                  <p:nvSpPr>
                    <p:cNvPr id="2598" name=""/>
                    <p:cNvSpPr/>
                    <p:nvPr/>
                  </p:nvSpPr>
                  <p:spPr>
                    <a:xfrm>
                      <a:off x="4639320" y="483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9" name=""/>
                    <p:cNvSpPr/>
                    <p:nvPr/>
                  </p:nvSpPr>
                  <p:spPr>
                    <a:xfrm>
                      <a:off x="4639320" y="4847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0" name=""/>
                    <p:cNvSpPr/>
                    <p:nvPr/>
                  </p:nvSpPr>
                  <p:spPr>
                    <a:xfrm>
                      <a:off x="4639320" y="4861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4639320" y="4876200"/>
                    <a:ext cx="83880" cy="41400"/>
                    <a:chOff x="4639320" y="4876200"/>
                    <a:chExt cx="83880" cy="41400"/>
                  </a:xfrm>
                </p:grpSpPr>
                <p:sp>
                  <p:nvSpPr>
                    <p:cNvPr id="2602" name=""/>
                    <p:cNvSpPr/>
                    <p:nvPr/>
                  </p:nvSpPr>
                  <p:spPr>
                    <a:xfrm>
                      <a:off x="4639320" y="4876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>
                      <a:off x="4639320" y="4889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4" name=""/>
                    <p:cNvSpPr/>
                    <p:nvPr/>
                  </p:nvSpPr>
                  <p:spPr>
                    <a:xfrm>
                      <a:off x="4639320" y="4903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5" name=""/>
                  <p:cNvGrpSpPr/>
                  <p:nvPr/>
                </p:nvGrpSpPr>
                <p:grpSpPr>
                  <a:xfrm>
                    <a:off x="4639320" y="4917960"/>
                    <a:ext cx="83880" cy="41400"/>
                    <a:chOff x="4639320" y="4917960"/>
                    <a:chExt cx="83880" cy="41400"/>
                  </a:xfrm>
                </p:grpSpPr>
                <p:sp>
                  <p:nvSpPr>
                    <p:cNvPr id="2606" name=""/>
                    <p:cNvSpPr/>
                    <p:nvPr/>
                  </p:nvSpPr>
                  <p:spPr>
                    <a:xfrm>
                      <a:off x="4639320" y="4917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7" name=""/>
                    <p:cNvSpPr/>
                    <p:nvPr/>
                  </p:nvSpPr>
                  <p:spPr>
                    <a:xfrm>
                      <a:off x="4639320" y="4931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8" name=""/>
                    <p:cNvSpPr/>
                    <p:nvPr/>
                  </p:nvSpPr>
                  <p:spPr>
                    <a:xfrm>
                      <a:off x="4639320" y="494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9" name=""/>
                  <p:cNvGrpSpPr/>
                  <p:nvPr/>
                </p:nvGrpSpPr>
                <p:grpSpPr>
                  <a:xfrm>
                    <a:off x="4639320" y="4959720"/>
                    <a:ext cx="83880" cy="41400"/>
                    <a:chOff x="4639320" y="4959720"/>
                    <a:chExt cx="83880" cy="41400"/>
                  </a:xfrm>
                </p:grpSpPr>
                <p:sp>
                  <p:nvSpPr>
                    <p:cNvPr id="2610" name=""/>
                    <p:cNvSpPr/>
                    <p:nvPr/>
                  </p:nvSpPr>
                  <p:spPr>
                    <a:xfrm>
                      <a:off x="4639320" y="4959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1" name=""/>
                    <p:cNvSpPr/>
                    <p:nvPr/>
                  </p:nvSpPr>
                  <p:spPr>
                    <a:xfrm>
                      <a:off x="4639320" y="4973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>
                      <a:off x="4639320" y="4987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3" name=""/>
                  <p:cNvGrpSpPr/>
                  <p:nvPr/>
                </p:nvGrpSpPr>
                <p:grpSpPr>
                  <a:xfrm>
                    <a:off x="4639320" y="5001120"/>
                    <a:ext cx="83880" cy="41400"/>
                    <a:chOff x="4639320" y="5001120"/>
                    <a:chExt cx="83880" cy="41400"/>
                  </a:xfrm>
                </p:grpSpPr>
                <p:sp>
                  <p:nvSpPr>
                    <p:cNvPr id="2614" name=""/>
                    <p:cNvSpPr/>
                    <p:nvPr/>
                  </p:nvSpPr>
                  <p:spPr>
                    <a:xfrm>
                      <a:off x="4639320" y="5001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>
                      <a:off x="4639320" y="501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6" name=""/>
                    <p:cNvSpPr/>
                    <p:nvPr/>
                  </p:nvSpPr>
                  <p:spPr>
                    <a:xfrm>
                      <a:off x="4639320" y="5028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17" name=""/>
                <p:cNvGrpSpPr/>
                <p:nvPr/>
              </p:nvGrpSpPr>
              <p:grpSpPr>
                <a:xfrm>
                  <a:off x="4639320" y="5040720"/>
                  <a:ext cx="83880" cy="208080"/>
                  <a:chOff x="4639320" y="5040720"/>
                  <a:chExt cx="83880" cy="208080"/>
                </a:xfrm>
              </p:grpSpPr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4639320" y="5040720"/>
                    <a:ext cx="83880" cy="41400"/>
                    <a:chOff x="4639320" y="5040720"/>
                    <a:chExt cx="83880" cy="4140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>
                      <a:off x="4639320" y="504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>
                      <a:off x="4639320" y="5054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1" name=""/>
                    <p:cNvSpPr/>
                    <p:nvPr/>
                  </p:nvSpPr>
                  <p:spPr>
                    <a:xfrm>
                      <a:off x="4639320" y="5068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2" name=""/>
                  <p:cNvGrpSpPr/>
                  <p:nvPr/>
                </p:nvGrpSpPr>
                <p:grpSpPr>
                  <a:xfrm>
                    <a:off x="4639320" y="5082480"/>
                    <a:ext cx="83880" cy="41400"/>
                    <a:chOff x="4639320" y="5082480"/>
                    <a:chExt cx="83880" cy="41400"/>
                  </a:xfrm>
                </p:grpSpPr>
                <p:sp>
                  <p:nvSpPr>
                    <p:cNvPr id="2623" name=""/>
                    <p:cNvSpPr/>
                    <p:nvPr/>
                  </p:nvSpPr>
                  <p:spPr>
                    <a:xfrm>
                      <a:off x="4639320" y="5082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"/>
                    <p:cNvSpPr/>
                    <p:nvPr/>
                  </p:nvSpPr>
                  <p:spPr>
                    <a:xfrm>
                      <a:off x="4639320" y="5095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5" name=""/>
                    <p:cNvSpPr/>
                    <p:nvPr/>
                  </p:nvSpPr>
                  <p:spPr>
                    <a:xfrm>
                      <a:off x="4639320" y="5109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6" name=""/>
                  <p:cNvGrpSpPr/>
                  <p:nvPr/>
                </p:nvGrpSpPr>
                <p:grpSpPr>
                  <a:xfrm>
                    <a:off x="4639320" y="5124240"/>
                    <a:ext cx="83880" cy="41400"/>
                    <a:chOff x="4639320" y="5124240"/>
                    <a:chExt cx="83880" cy="41400"/>
                  </a:xfrm>
                </p:grpSpPr>
                <p:sp>
                  <p:nvSpPr>
                    <p:cNvPr id="2627" name=""/>
                    <p:cNvSpPr/>
                    <p:nvPr/>
                  </p:nvSpPr>
                  <p:spPr>
                    <a:xfrm>
                      <a:off x="4639320" y="5124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"/>
                    <p:cNvSpPr/>
                    <p:nvPr/>
                  </p:nvSpPr>
                  <p:spPr>
                    <a:xfrm>
                      <a:off x="4639320" y="5137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>
                      <a:off x="4639320" y="5151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4639320" y="5166000"/>
                    <a:ext cx="83880" cy="41400"/>
                    <a:chOff x="4639320" y="5166000"/>
                    <a:chExt cx="83880" cy="4140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>
                      <a:off x="4639320" y="5166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>
                      <a:off x="4639320" y="5179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"/>
                    <p:cNvSpPr/>
                    <p:nvPr/>
                  </p:nvSpPr>
                  <p:spPr>
                    <a:xfrm>
                      <a:off x="4639320" y="5193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4" name=""/>
                  <p:cNvGrpSpPr/>
                  <p:nvPr/>
                </p:nvGrpSpPr>
                <p:grpSpPr>
                  <a:xfrm>
                    <a:off x="4639320" y="5207400"/>
                    <a:ext cx="83880" cy="41400"/>
                    <a:chOff x="4639320" y="5207400"/>
                    <a:chExt cx="83880" cy="41400"/>
                  </a:xfrm>
                </p:grpSpPr>
                <p:sp>
                  <p:nvSpPr>
                    <p:cNvPr id="2635" name=""/>
                    <p:cNvSpPr/>
                    <p:nvPr/>
                  </p:nvSpPr>
                  <p:spPr>
                    <a:xfrm>
                      <a:off x="4639320" y="5207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6" name=""/>
                    <p:cNvSpPr/>
                    <p:nvPr/>
                  </p:nvSpPr>
                  <p:spPr>
                    <a:xfrm>
                      <a:off x="4639320" y="522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"/>
                    <p:cNvSpPr/>
                    <p:nvPr/>
                  </p:nvSpPr>
                  <p:spPr>
                    <a:xfrm>
                      <a:off x="4639320" y="5234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38" name=""/>
              <p:cNvGrpSpPr/>
              <p:nvPr/>
            </p:nvGrpSpPr>
            <p:grpSpPr>
              <a:xfrm>
                <a:off x="4612680" y="4618440"/>
                <a:ext cx="137160" cy="216000"/>
                <a:chOff x="4612680" y="4618440"/>
                <a:chExt cx="137160" cy="216000"/>
              </a:xfrm>
            </p:grpSpPr>
            <p:grpSp>
              <p:nvGrpSpPr>
                <p:cNvPr id="2639" name=""/>
                <p:cNvGrpSpPr/>
                <p:nvPr/>
              </p:nvGrpSpPr>
              <p:grpSpPr>
                <a:xfrm>
                  <a:off x="4612680" y="4691160"/>
                  <a:ext cx="137160" cy="143280"/>
                  <a:chOff x="4612680" y="4691160"/>
                  <a:chExt cx="137160" cy="143280"/>
                </a:xfrm>
              </p:grpSpPr>
              <p:sp>
                <p:nvSpPr>
                  <p:cNvPr id="2640" name=""/>
                  <p:cNvSpPr/>
                  <p:nvPr/>
                </p:nvSpPr>
                <p:spPr>
                  <a:xfrm>
                    <a:off x="4612680" y="47538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41" name=""/>
                  <p:cNvGrpSpPr/>
                  <p:nvPr/>
                </p:nvGrpSpPr>
                <p:grpSpPr>
                  <a:xfrm>
                    <a:off x="4615200" y="4691160"/>
                    <a:ext cx="131760" cy="143280"/>
                    <a:chOff x="4615200" y="4691160"/>
                    <a:chExt cx="131760" cy="143280"/>
                  </a:xfrm>
                </p:grpSpPr>
                <p:sp>
                  <p:nvSpPr>
                    <p:cNvPr id="2642" name=""/>
                    <p:cNvSpPr/>
                    <p:nvPr/>
                  </p:nvSpPr>
                  <p:spPr>
                    <a:xfrm>
                      <a:off x="4615920" y="47606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"/>
                    <p:cNvSpPr/>
                    <p:nvPr/>
                  </p:nvSpPr>
                  <p:spPr>
                    <a:xfrm flipV="1">
                      <a:off x="4615200" y="47026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>
                      <a:off x="4619160" y="46911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45" name=""/>
                <p:cNvGrpSpPr/>
                <p:nvPr/>
              </p:nvGrpSpPr>
              <p:grpSpPr>
                <a:xfrm>
                  <a:off x="4637880" y="4618440"/>
                  <a:ext cx="86040" cy="72360"/>
                  <a:chOff x="4637880" y="4618440"/>
                  <a:chExt cx="86040" cy="72360"/>
                </a:xfrm>
              </p:grpSpPr>
              <p:sp>
                <p:nvSpPr>
                  <p:cNvPr id="2646" name=""/>
                  <p:cNvSpPr/>
                  <p:nvPr/>
                </p:nvSpPr>
                <p:spPr>
                  <a:xfrm>
                    <a:off x="4638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4656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>
                    <a:off x="467460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469476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471312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4637880" y="46494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4638600" y="4672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4638600" y="46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4" name=""/>
                <p:cNvSpPr/>
                <p:nvPr/>
              </p:nvSpPr>
              <p:spPr>
                <a:xfrm>
                  <a:off x="4628880" y="476028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4711680" y="47595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4663440" y="477396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7" name=""/>
            <p:cNvSpPr/>
            <p:nvPr/>
          </p:nvSpPr>
          <p:spPr>
            <a:xfrm>
              <a:off x="3748320" y="3860280"/>
              <a:ext cx="1903320" cy="10908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1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internal pullup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8" name=""/>
          <p:cNvSpPr/>
          <p:nvPr/>
        </p:nvSpPr>
        <p:spPr>
          <a:xfrm>
            <a:off x="4346640" y="5249880"/>
            <a:ext cx="1709640" cy="58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4637160" y="3292200"/>
            <a:ext cx="2473200" cy="131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452840" y="2255760"/>
            <a:ext cx="98640" cy="1000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1" name=""/>
          <p:cNvGrpSpPr/>
          <p:nvPr/>
        </p:nvGrpSpPr>
        <p:grpSpPr>
          <a:xfrm>
            <a:off x="4530600" y="3754440"/>
            <a:ext cx="244080" cy="102960"/>
            <a:chOff x="4530600" y="3754440"/>
            <a:chExt cx="244080" cy="102960"/>
          </a:xfrm>
        </p:grpSpPr>
        <p:sp>
          <p:nvSpPr>
            <p:cNvPr id="2662" name=""/>
            <p:cNvSpPr/>
            <p:nvPr/>
          </p:nvSpPr>
          <p:spPr>
            <a:xfrm>
              <a:off x="4530600" y="375444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675680" y="375696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4" name=""/>
          <p:cNvGrpSpPr/>
          <p:nvPr/>
        </p:nvGrpSpPr>
        <p:grpSpPr>
          <a:xfrm>
            <a:off x="3006720" y="5167440"/>
            <a:ext cx="378000" cy="99720"/>
            <a:chOff x="3006720" y="5167440"/>
            <a:chExt cx="378000" cy="99720"/>
          </a:xfrm>
        </p:grpSpPr>
        <p:sp>
          <p:nvSpPr>
            <p:cNvPr id="2665" name=""/>
            <p:cNvSpPr/>
            <p:nvPr/>
          </p:nvSpPr>
          <p:spPr>
            <a:xfrm>
              <a:off x="300672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147120" y="516816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28536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"/>
          <p:cNvGrpSpPr/>
          <p:nvPr/>
        </p:nvGrpSpPr>
        <p:grpSpPr>
          <a:xfrm>
            <a:off x="977760" y="4718160"/>
            <a:ext cx="520560" cy="101520"/>
            <a:chOff x="977760" y="4718160"/>
            <a:chExt cx="520560" cy="101520"/>
          </a:xfrm>
        </p:grpSpPr>
        <p:sp>
          <p:nvSpPr>
            <p:cNvPr id="2669" name=""/>
            <p:cNvSpPr/>
            <p:nvPr/>
          </p:nvSpPr>
          <p:spPr>
            <a:xfrm>
              <a:off x="977760" y="47181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39932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257120" y="47199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11744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3" name=""/>
          <p:cNvSpPr/>
          <p:nvPr/>
        </p:nvSpPr>
        <p:spPr>
          <a:xfrm>
            <a:off x="547560" y="3311640"/>
            <a:ext cx="565200" cy="1047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4" name=""/>
          <p:cNvGrpSpPr/>
          <p:nvPr/>
        </p:nvGrpSpPr>
        <p:grpSpPr>
          <a:xfrm>
            <a:off x="6778800" y="1309680"/>
            <a:ext cx="977760" cy="398520"/>
            <a:chOff x="6778800" y="1309680"/>
            <a:chExt cx="977760" cy="398520"/>
          </a:xfrm>
        </p:grpSpPr>
        <p:sp>
          <p:nvSpPr>
            <p:cNvPr id="2675" name=""/>
            <p:cNvSpPr/>
            <p:nvPr/>
          </p:nvSpPr>
          <p:spPr>
            <a:xfrm>
              <a:off x="6778800" y="1309680"/>
              <a:ext cx="396720" cy="3985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359480" y="1309680"/>
              <a:ext cx="397080" cy="3985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tatic curves for high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7525800" y="145800"/>
            <a:ext cx="1612440" cy="1206720"/>
            <a:chOff x="7525800" y="145800"/>
            <a:chExt cx="1612440" cy="1206720"/>
          </a:xfrm>
        </p:grpSpPr>
        <p:grpSp>
          <p:nvGrpSpPr>
            <p:cNvPr id="2679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2680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2681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2682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8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2689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4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01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2702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04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2705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2706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2707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8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9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0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2711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2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3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4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2715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6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2719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0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1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2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2723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4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5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26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2727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2728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9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0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1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2732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3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4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5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2736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7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8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9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2740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1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2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3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2744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5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6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47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2748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0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2751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2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3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54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2755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63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66" name=""/>
            <p:cNvSpPr/>
            <p:nvPr/>
          </p:nvSpPr>
          <p:spPr>
            <a:xfrm>
              <a:off x="7525800" y="145800"/>
              <a:ext cx="161244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600120" y="838080"/>
            <a:ext cx="4323240" cy="2611440"/>
            <a:chOff x="600120" y="838080"/>
            <a:chExt cx="4323240" cy="2611440"/>
          </a:xfrm>
        </p:grpSpPr>
        <p:grpSp>
          <p:nvGrpSpPr>
            <p:cNvPr id="2768" name=""/>
            <p:cNvGrpSpPr/>
            <p:nvPr/>
          </p:nvGrpSpPr>
          <p:grpSpPr>
            <a:xfrm>
              <a:off x="600120" y="838080"/>
              <a:ext cx="4323240" cy="2540880"/>
              <a:chOff x="600120" y="838080"/>
              <a:chExt cx="4323240" cy="2540880"/>
            </a:xfrm>
          </p:grpSpPr>
          <p:grpSp>
            <p:nvGrpSpPr>
              <p:cNvPr id="2769" name=""/>
              <p:cNvGrpSpPr/>
              <p:nvPr/>
            </p:nvGrpSpPr>
            <p:grpSpPr>
              <a:xfrm>
                <a:off x="1254240" y="1658520"/>
                <a:ext cx="2465280" cy="1720440"/>
                <a:chOff x="1254240" y="1658520"/>
                <a:chExt cx="2465280" cy="1720440"/>
              </a:xfrm>
            </p:grpSpPr>
            <p:sp>
              <p:nvSpPr>
                <p:cNvPr id="2770" name=""/>
                <p:cNvSpPr/>
                <p:nvPr/>
              </p:nvSpPr>
              <p:spPr>
                <a:xfrm>
                  <a:off x="1254240" y="3378960"/>
                  <a:ext cx="1330200" cy="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V="1">
                  <a:off x="2584440" y="3138840"/>
                  <a:ext cx="530280" cy="23976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V="1">
                  <a:off x="3114720" y="2625120"/>
                  <a:ext cx="320760" cy="48276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V="1">
                  <a:off x="3435480" y="1658520"/>
                  <a:ext cx="284040" cy="96660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4" name=""/>
              <p:cNvGrpSpPr/>
              <p:nvPr/>
            </p:nvGrpSpPr>
            <p:grpSpPr>
              <a:xfrm>
                <a:off x="909720" y="1017360"/>
                <a:ext cx="3560760" cy="1427400"/>
                <a:chOff x="909720" y="1017360"/>
                <a:chExt cx="3560760" cy="142740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909720" y="1841040"/>
                  <a:ext cx="356076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1441440" y="1017360"/>
                  <a:ext cx="5040" cy="142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7" name=""/>
              <p:cNvSpPr/>
              <p:nvPr/>
            </p:nvSpPr>
            <p:spPr>
              <a:xfrm>
                <a:off x="1585800" y="1912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017240" y="1912680"/>
                <a:ext cx="906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/V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195360" y="1920600"/>
                <a:ext cx="491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c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rot="16200000">
                <a:off x="312480" y="1125360"/>
                <a:ext cx="941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 / 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1" name=""/>
            <p:cNvSpPr/>
            <p:nvPr/>
          </p:nvSpPr>
          <p:spPr>
            <a:xfrm>
              <a:off x="1438200" y="1852560"/>
              <a:ext cx="1487520" cy="152388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292400" y="1695600"/>
              <a:ext cx="1719000" cy="1753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133720" y="909720"/>
              <a:ext cx="2122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[pullup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4" name=""/>
          <p:cNvGrpSpPr/>
          <p:nvPr/>
        </p:nvGrpSpPr>
        <p:grpSpPr>
          <a:xfrm>
            <a:off x="4530600" y="2325600"/>
            <a:ext cx="4323600" cy="1652760"/>
            <a:chOff x="4530600" y="2325600"/>
            <a:chExt cx="4323600" cy="1652760"/>
          </a:xfrm>
        </p:grpSpPr>
        <p:grpSp>
          <p:nvGrpSpPr>
            <p:cNvPr id="2785" name=""/>
            <p:cNvGrpSpPr/>
            <p:nvPr/>
          </p:nvGrpSpPr>
          <p:grpSpPr>
            <a:xfrm>
              <a:off x="4530600" y="2372040"/>
              <a:ext cx="4323600" cy="1606320"/>
              <a:chOff x="4530600" y="2372040"/>
              <a:chExt cx="4323600" cy="1606320"/>
            </a:xfrm>
          </p:grpSpPr>
          <p:grpSp>
            <p:nvGrpSpPr>
              <p:cNvPr id="2786" name=""/>
              <p:cNvGrpSpPr/>
              <p:nvPr/>
            </p:nvGrpSpPr>
            <p:grpSpPr>
              <a:xfrm>
                <a:off x="4840200" y="2550960"/>
                <a:ext cx="3560760" cy="1427400"/>
                <a:chOff x="4840200" y="2550960"/>
                <a:chExt cx="3560760" cy="1427400"/>
              </a:xfrm>
            </p:grpSpPr>
            <p:grpSp>
              <p:nvGrpSpPr>
                <p:cNvPr id="2787" name=""/>
                <p:cNvGrpSpPr/>
                <p:nvPr/>
              </p:nvGrpSpPr>
              <p:grpSpPr>
                <a:xfrm>
                  <a:off x="5172120" y="3192120"/>
                  <a:ext cx="2477880" cy="471600"/>
                  <a:chOff x="5172120" y="3192120"/>
                  <a:chExt cx="2477880" cy="471600"/>
                </a:xfrm>
              </p:grpSpPr>
              <p:sp>
                <p:nvSpPr>
                  <p:cNvPr id="2788" name=""/>
                  <p:cNvSpPr/>
                  <p:nvPr/>
                </p:nvSpPr>
                <p:spPr>
                  <a:xfrm flipV="1">
                    <a:off x="5172120" y="3614400"/>
                    <a:ext cx="1336680" cy="4932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 flipV="1">
                    <a:off x="6508800" y="3555720"/>
                    <a:ext cx="533520" cy="5868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 flipV="1">
                    <a:off x="7042320" y="3428640"/>
                    <a:ext cx="322200" cy="11916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 flipV="1">
                    <a:off x="7364520" y="3192120"/>
                    <a:ext cx="285480" cy="23652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2" name=""/>
                <p:cNvGrpSpPr/>
                <p:nvPr/>
              </p:nvGrpSpPr>
              <p:grpSpPr>
                <a:xfrm>
                  <a:off x="4840200" y="2550960"/>
                  <a:ext cx="3560760" cy="1427400"/>
                  <a:chOff x="4840200" y="2550960"/>
                  <a:chExt cx="3560760" cy="1427400"/>
                </a:xfrm>
              </p:grpSpPr>
              <p:sp>
                <p:nvSpPr>
                  <p:cNvPr id="2793" name=""/>
                  <p:cNvSpPr/>
                  <p:nvPr/>
                </p:nvSpPr>
                <p:spPr>
                  <a:xfrm>
                    <a:off x="4840200" y="3374640"/>
                    <a:ext cx="356076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5371920" y="2550960"/>
                    <a:ext cx="5040" cy="1427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95" name=""/>
              <p:cNvSpPr/>
              <p:nvPr/>
            </p:nvSpPr>
            <p:spPr>
              <a:xfrm>
                <a:off x="5516280" y="3446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948080" y="3446640"/>
                <a:ext cx="906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/V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125840" y="3454560"/>
                <a:ext cx="491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c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rot="16200000">
                <a:off x="4242960" y="2659320"/>
                <a:ext cx="941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 / 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9" name=""/>
            <p:cNvSpPr/>
            <p:nvPr/>
          </p:nvSpPr>
          <p:spPr>
            <a:xfrm>
              <a:off x="6004080" y="2325600"/>
              <a:ext cx="2122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[.. clamp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0" name=""/>
          <p:cNvGrpSpPr/>
          <p:nvPr/>
        </p:nvGrpSpPr>
        <p:grpSpPr>
          <a:xfrm>
            <a:off x="600120" y="3675240"/>
            <a:ext cx="6462720" cy="2626560"/>
            <a:chOff x="600120" y="3675240"/>
            <a:chExt cx="6462720" cy="2626560"/>
          </a:xfrm>
        </p:grpSpPr>
        <p:grpSp>
          <p:nvGrpSpPr>
            <p:cNvPr id="2801" name=""/>
            <p:cNvGrpSpPr/>
            <p:nvPr/>
          </p:nvGrpSpPr>
          <p:grpSpPr>
            <a:xfrm>
              <a:off x="600120" y="3675240"/>
              <a:ext cx="4323240" cy="2626560"/>
              <a:chOff x="600120" y="3675240"/>
              <a:chExt cx="4323240" cy="2626560"/>
            </a:xfrm>
          </p:grpSpPr>
          <p:grpSp>
            <p:nvGrpSpPr>
              <p:cNvPr id="2802" name=""/>
              <p:cNvGrpSpPr/>
              <p:nvPr/>
            </p:nvGrpSpPr>
            <p:grpSpPr>
              <a:xfrm>
                <a:off x="1254240" y="4495320"/>
                <a:ext cx="2465280" cy="1806480"/>
                <a:chOff x="1254240" y="4495320"/>
                <a:chExt cx="2465280" cy="1806480"/>
              </a:xfrm>
            </p:grpSpPr>
            <p:sp>
              <p:nvSpPr>
                <p:cNvPr id="2803" name=""/>
                <p:cNvSpPr/>
                <p:nvPr/>
              </p:nvSpPr>
              <p:spPr>
                <a:xfrm>
                  <a:off x="1254240" y="6301800"/>
                  <a:ext cx="1330200" cy="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V="1">
                  <a:off x="2584440" y="6049440"/>
                  <a:ext cx="530280" cy="25164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V="1">
                  <a:off x="3114720" y="5510520"/>
                  <a:ext cx="320760" cy="50688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V="1">
                  <a:off x="3435480" y="4495320"/>
                  <a:ext cx="284040" cy="101484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7" name=""/>
              <p:cNvGrpSpPr/>
              <p:nvPr/>
            </p:nvGrpSpPr>
            <p:grpSpPr>
              <a:xfrm>
                <a:off x="909720" y="3854520"/>
                <a:ext cx="3560760" cy="1427040"/>
                <a:chOff x="909720" y="3854520"/>
                <a:chExt cx="3560760" cy="142704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909720" y="4677840"/>
                  <a:ext cx="356076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1441440" y="3854520"/>
                  <a:ext cx="5040" cy="142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0" name=""/>
              <p:cNvSpPr/>
              <p:nvPr/>
            </p:nvSpPr>
            <p:spPr>
              <a:xfrm>
                <a:off x="1585800" y="47498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017240" y="4749840"/>
                <a:ext cx="906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/V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195360" y="4757760"/>
                <a:ext cx="491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c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rot="16200000">
                <a:off x="312480" y="3962520"/>
                <a:ext cx="941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 / 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4" name=""/>
            <p:cNvSpPr/>
            <p:nvPr/>
          </p:nvSpPr>
          <p:spPr>
            <a:xfrm>
              <a:off x="1446120" y="4692600"/>
              <a:ext cx="1487520" cy="152388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287360" y="4524480"/>
              <a:ext cx="1719360" cy="17539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648240" y="5595840"/>
              <a:ext cx="34146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[pullup] + [..  clamp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tatic curves for low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2818" name=""/>
          <p:cNvGrpSpPr/>
          <p:nvPr/>
        </p:nvGrpSpPr>
        <p:grpSpPr>
          <a:xfrm>
            <a:off x="7525800" y="145800"/>
            <a:ext cx="1612440" cy="1206720"/>
            <a:chOff x="7525800" y="145800"/>
            <a:chExt cx="1612440" cy="1206720"/>
          </a:xfrm>
        </p:grpSpPr>
        <p:grpSp>
          <p:nvGrpSpPr>
            <p:cNvPr id="2819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2820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2821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2822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8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2829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4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1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2842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4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2845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2846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2847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8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9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0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2851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3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4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2855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6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8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2859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0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2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66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2867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9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0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1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2872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3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4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5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2876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7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8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9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2880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1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2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3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2884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5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6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87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2888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2889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90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2891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2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3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94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2895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3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06" name=""/>
            <p:cNvSpPr/>
            <p:nvPr/>
          </p:nvSpPr>
          <p:spPr>
            <a:xfrm>
              <a:off x="7525800" y="145800"/>
              <a:ext cx="161244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"/>
          <p:cNvGrpSpPr/>
          <p:nvPr/>
        </p:nvGrpSpPr>
        <p:grpSpPr>
          <a:xfrm>
            <a:off x="507960" y="950760"/>
            <a:ext cx="4323240" cy="2844720"/>
            <a:chOff x="507960" y="950760"/>
            <a:chExt cx="4323240" cy="2844720"/>
          </a:xfrm>
        </p:grpSpPr>
        <p:grpSp>
          <p:nvGrpSpPr>
            <p:cNvPr id="2908" name=""/>
            <p:cNvGrpSpPr/>
            <p:nvPr/>
          </p:nvGrpSpPr>
          <p:grpSpPr>
            <a:xfrm>
              <a:off x="817560" y="1834200"/>
              <a:ext cx="3560760" cy="1961280"/>
              <a:chOff x="817560" y="1834200"/>
              <a:chExt cx="3560760" cy="1961280"/>
            </a:xfrm>
          </p:grpSpPr>
          <p:grpSp>
            <p:nvGrpSpPr>
              <p:cNvPr id="2909" name=""/>
              <p:cNvGrpSpPr/>
              <p:nvPr/>
            </p:nvGrpSpPr>
            <p:grpSpPr>
              <a:xfrm>
                <a:off x="1244520" y="1834200"/>
                <a:ext cx="2465280" cy="1720440"/>
                <a:chOff x="1244520" y="1834200"/>
                <a:chExt cx="2465280" cy="1720440"/>
              </a:xfrm>
            </p:grpSpPr>
            <p:sp>
              <p:nvSpPr>
                <p:cNvPr id="2910" name=""/>
                <p:cNvSpPr/>
                <p:nvPr/>
              </p:nvSpPr>
              <p:spPr>
                <a:xfrm flipH="1">
                  <a:off x="2379600" y="1834200"/>
                  <a:ext cx="1330200" cy="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flipH="1">
                  <a:off x="1849320" y="1834560"/>
                  <a:ext cx="530280" cy="23976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528560" y="2105280"/>
                  <a:ext cx="320760" cy="48276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flipH="1">
                  <a:off x="1244520" y="2588040"/>
                  <a:ext cx="284040" cy="96660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4" name=""/>
              <p:cNvGrpSpPr/>
              <p:nvPr/>
            </p:nvGrpSpPr>
            <p:grpSpPr>
              <a:xfrm>
                <a:off x="817560" y="2368440"/>
                <a:ext cx="3560760" cy="1427040"/>
                <a:chOff x="817560" y="2368440"/>
                <a:chExt cx="3560760" cy="1427040"/>
              </a:xfrm>
            </p:grpSpPr>
            <p:sp>
              <p:nvSpPr>
                <p:cNvPr id="2915" name=""/>
                <p:cNvSpPr/>
                <p:nvPr/>
              </p:nvSpPr>
              <p:spPr>
                <a:xfrm>
                  <a:off x="817560" y="3191760"/>
                  <a:ext cx="356076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1349280" y="2368440"/>
                  <a:ext cx="5040" cy="142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17" name=""/>
            <p:cNvSpPr/>
            <p:nvPr/>
          </p:nvSpPr>
          <p:spPr>
            <a:xfrm>
              <a:off x="1493280" y="32637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925080" y="3263760"/>
              <a:ext cx="90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103200" y="3271680"/>
              <a:ext cx="49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 rot="16200000">
              <a:off x="220320" y="2476440"/>
              <a:ext cx="94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1" name=""/>
            <p:cNvGrpSpPr/>
            <p:nvPr/>
          </p:nvGrpSpPr>
          <p:grpSpPr>
            <a:xfrm>
              <a:off x="1230120" y="1523880"/>
              <a:ext cx="1719360" cy="1754280"/>
              <a:chOff x="1230120" y="1523880"/>
              <a:chExt cx="1719360" cy="1754280"/>
            </a:xfrm>
          </p:grpSpPr>
          <p:sp>
            <p:nvSpPr>
              <p:cNvPr id="2922" name=""/>
              <p:cNvSpPr/>
              <p:nvPr/>
            </p:nvSpPr>
            <p:spPr>
              <a:xfrm>
                <a:off x="1376280" y="1681200"/>
                <a:ext cx="1487520" cy="1523880"/>
              </a:xfrm>
              <a:prstGeom prst="rect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1230120" y="1523880"/>
                <a:ext cx="1719360" cy="175428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4" name=""/>
            <p:cNvSpPr/>
            <p:nvPr/>
          </p:nvSpPr>
          <p:spPr>
            <a:xfrm>
              <a:off x="1406520" y="950760"/>
              <a:ext cx="2122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[pulldown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4809960" y="2374920"/>
            <a:ext cx="4323600" cy="1720800"/>
            <a:chOff x="4809960" y="2374920"/>
            <a:chExt cx="4323600" cy="1720800"/>
          </a:xfrm>
        </p:grpSpPr>
        <p:sp>
          <p:nvSpPr>
            <p:cNvPr id="2926" name=""/>
            <p:cNvSpPr/>
            <p:nvPr/>
          </p:nvSpPr>
          <p:spPr>
            <a:xfrm>
              <a:off x="5626080" y="2374920"/>
              <a:ext cx="2122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[.. clamp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7" name=""/>
            <p:cNvGrpSpPr/>
            <p:nvPr/>
          </p:nvGrpSpPr>
          <p:grpSpPr>
            <a:xfrm>
              <a:off x="4809960" y="2489400"/>
              <a:ext cx="4323600" cy="1606320"/>
              <a:chOff x="4809960" y="2489400"/>
              <a:chExt cx="4323600" cy="1606320"/>
            </a:xfrm>
          </p:grpSpPr>
          <p:grpSp>
            <p:nvGrpSpPr>
              <p:cNvPr id="2928" name=""/>
              <p:cNvGrpSpPr/>
              <p:nvPr/>
            </p:nvGrpSpPr>
            <p:grpSpPr>
              <a:xfrm>
                <a:off x="5119560" y="2668680"/>
                <a:ext cx="3560760" cy="1427040"/>
                <a:chOff x="5119560" y="2668680"/>
                <a:chExt cx="3560760" cy="1427040"/>
              </a:xfrm>
            </p:grpSpPr>
            <p:grpSp>
              <p:nvGrpSpPr>
                <p:cNvPr id="2929" name=""/>
                <p:cNvGrpSpPr/>
                <p:nvPr/>
              </p:nvGrpSpPr>
              <p:grpSpPr>
                <a:xfrm>
                  <a:off x="5451480" y="3309840"/>
                  <a:ext cx="2477880" cy="470880"/>
                  <a:chOff x="5451480" y="3309840"/>
                  <a:chExt cx="2477880" cy="470880"/>
                </a:xfrm>
              </p:grpSpPr>
              <p:sp>
                <p:nvSpPr>
                  <p:cNvPr id="2930" name=""/>
                  <p:cNvSpPr/>
                  <p:nvPr/>
                </p:nvSpPr>
                <p:spPr>
                  <a:xfrm flipV="1">
                    <a:off x="5451480" y="3731760"/>
                    <a:ext cx="1336680" cy="4896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 flipV="1">
                    <a:off x="6788160" y="3673080"/>
                    <a:ext cx="533520" cy="5832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 flipV="1">
                    <a:off x="7321680" y="3546000"/>
                    <a:ext cx="322200" cy="11880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 flipV="1">
                    <a:off x="7643880" y="3309840"/>
                    <a:ext cx="285480" cy="23616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4" name=""/>
                <p:cNvGrpSpPr/>
                <p:nvPr/>
              </p:nvGrpSpPr>
              <p:grpSpPr>
                <a:xfrm>
                  <a:off x="5119560" y="2668680"/>
                  <a:ext cx="3560760" cy="1427040"/>
                  <a:chOff x="5119560" y="2668680"/>
                  <a:chExt cx="3560760" cy="1427040"/>
                </a:xfrm>
              </p:grpSpPr>
              <p:sp>
                <p:nvSpPr>
                  <p:cNvPr id="2935" name=""/>
                  <p:cNvSpPr/>
                  <p:nvPr/>
                </p:nvSpPr>
                <p:spPr>
                  <a:xfrm>
                    <a:off x="5119560" y="3492000"/>
                    <a:ext cx="356076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>
                    <a:off x="5651280" y="2668680"/>
                    <a:ext cx="5040" cy="1427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7" name=""/>
              <p:cNvSpPr/>
              <p:nvPr/>
            </p:nvSpPr>
            <p:spPr>
              <a:xfrm>
                <a:off x="5795640" y="35640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8227440" y="3564000"/>
                <a:ext cx="906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/V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405200" y="3571920"/>
                <a:ext cx="491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c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16200000">
                <a:off x="4522320" y="2776680"/>
                <a:ext cx="941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 / 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1" name=""/>
          <p:cNvGrpSpPr/>
          <p:nvPr/>
        </p:nvGrpSpPr>
        <p:grpSpPr>
          <a:xfrm>
            <a:off x="712800" y="3946680"/>
            <a:ext cx="6078600" cy="2293920"/>
            <a:chOff x="712800" y="3946680"/>
            <a:chExt cx="6078600" cy="2293920"/>
          </a:xfrm>
        </p:grpSpPr>
        <p:grpSp>
          <p:nvGrpSpPr>
            <p:cNvPr id="2942" name=""/>
            <p:cNvGrpSpPr/>
            <p:nvPr/>
          </p:nvGrpSpPr>
          <p:grpSpPr>
            <a:xfrm>
              <a:off x="850680" y="3946680"/>
              <a:ext cx="5940720" cy="2293920"/>
              <a:chOff x="850680" y="3946680"/>
              <a:chExt cx="5940720" cy="2293920"/>
            </a:xfrm>
          </p:grpSpPr>
          <p:grpSp>
            <p:nvGrpSpPr>
              <p:cNvPr id="2943" name=""/>
              <p:cNvGrpSpPr/>
              <p:nvPr/>
            </p:nvGrpSpPr>
            <p:grpSpPr>
              <a:xfrm>
                <a:off x="1404720" y="4250160"/>
                <a:ext cx="2374560" cy="1715400"/>
                <a:chOff x="1404720" y="4250160"/>
                <a:chExt cx="2374560" cy="1715400"/>
              </a:xfrm>
            </p:grpSpPr>
            <p:sp>
              <p:nvSpPr>
                <p:cNvPr id="2944" name=""/>
                <p:cNvSpPr/>
                <p:nvPr/>
              </p:nvSpPr>
              <p:spPr>
                <a:xfrm flipH="1">
                  <a:off x="2498040" y="4250160"/>
                  <a:ext cx="1281240" cy="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987200" y="4250520"/>
                  <a:ext cx="510840" cy="23904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 flipH="1">
                  <a:off x="1678320" y="4520520"/>
                  <a:ext cx="308880" cy="48132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H="1">
                  <a:off x="1404720" y="5001480"/>
                  <a:ext cx="273600" cy="96408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8" name=""/>
              <p:cNvGrpSpPr/>
              <p:nvPr/>
            </p:nvGrpSpPr>
            <p:grpSpPr>
              <a:xfrm>
                <a:off x="850680" y="4813200"/>
                <a:ext cx="3560760" cy="1427400"/>
                <a:chOff x="850680" y="4813200"/>
                <a:chExt cx="3560760" cy="1427400"/>
              </a:xfrm>
            </p:grpSpPr>
            <p:sp>
              <p:nvSpPr>
                <p:cNvPr id="2949" name=""/>
                <p:cNvSpPr/>
                <p:nvPr/>
              </p:nvSpPr>
              <p:spPr>
                <a:xfrm>
                  <a:off x="850680" y="5636880"/>
                  <a:ext cx="356076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1382400" y="4813200"/>
                  <a:ext cx="5040" cy="142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1" name=""/>
              <p:cNvGrpSpPr/>
              <p:nvPr/>
            </p:nvGrpSpPr>
            <p:grpSpPr>
              <a:xfrm>
                <a:off x="1228680" y="3946680"/>
                <a:ext cx="1719360" cy="1753920"/>
                <a:chOff x="1228680" y="3946680"/>
                <a:chExt cx="1719360" cy="1753920"/>
              </a:xfrm>
            </p:grpSpPr>
            <p:sp>
              <p:nvSpPr>
                <p:cNvPr id="2952" name=""/>
                <p:cNvSpPr/>
                <p:nvPr/>
              </p:nvSpPr>
              <p:spPr>
                <a:xfrm>
                  <a:off x="1374840" y="4103640"/>
                  <a:ext cx="1487520" cy="1523520"/>
                </a:xfrm>
                <a:prstGeom prst="rect">
                  <a:avLst/>
                </a:prstGeom>
                <a:noFill/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1228680" y="3946680"/>
                  <a:ext cx="1719360" cy="175392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4" name=""/>
              <p:cNvSpPr/>
              <p:nvPr/>
            </p:nvSpPr>
            <p:spPr>
              <a:xfrm>
                <a:off x="3144600" y="4676760"/>
                <a:ext cx="364680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spAutoFit/>
              </a:bodyPr>
              <a:p>
                <a:pPr>
                  <a:spcBef>
                    <a:spcPts val="1500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[pulldown]  + [.. clamps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5" name=""/>
            <p:cNvSpPr/>
            <p:nvPr/>
          </p:nvSpPr>
          <p:spPr>
            <a:xfrm>
              <a:off x="3563280" y="5721480"/>
              <a:ext cx="90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741040" y="5729400"/>
              <a:ext cx="49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 rot="16200000">
              <a:off x="425160" y="4611960"/>
              <a:ext cx="94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2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tatic curves  high &amp; low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2959" name=""/>
          <p:cNvGrpSpPr/>
          <p:nvPr/>
        </p:nvGrpSpPr>
        <p:grpSpPr>
          <a:xfrm>
            <a:off x="7525800" y="145800"/>
            <a:ext cx="1612440" cy="1206720"/>
            <a:chOff x="7525800" y="145800"/>
            <a:chExt cx="1612440" cy="1206720"/>
          </a:xfrm>
        </p:grpSpPr>
        <p:grpSp>
          <p:nvGrpSpPr>
            <p:cNvPr id="2960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2961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2962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2963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9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2970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5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2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2983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85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2986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2987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2988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9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0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1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2992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3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2996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8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9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3000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1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2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3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3004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5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07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3008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3009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0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1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2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3013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4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3017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9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0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3021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2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3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4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3025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6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28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3029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3030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31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3032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4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35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3036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4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7" name=""/>
            <p:cNvSpPr/>
            <p:nvPr/>
          </p:nvSpPr>
          <p:spPr>
            <a:xfrm>
              <a:off x="7525800" y="145800"/>
              <a:ext cx="161244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388800" y="635040"/>
            <a:ext cx="8246520" cy="5706000"/>
            <a:chOff x="388800" y="635040"/>
            <a:chExt cx="8246520" cy="5706000"/>
          </a:xfrm>
        </p:grpSpPr>
        <p:sp>
          <p:nvSpPr>
            <p:cNvPr id="3049" name=""/>
            <p:cNvSpPr/>
            <p:nvPr/>
          </p:nvSpPr>
          <p:spPr>
            <a:xfrm>
              <a:off x="388800" y="3927960"/>
              <a:ext cx="824652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1620000" y="635040"/>
              <a:ext cx="11520" cy="570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6968880" y="4714920"/>
            <a:ext cx="1728000" cy="374040"/>
            <a:chOff x="6968880" y="4714920"/>
            <a:chExt cx="1728000" cy="374040"/>
          </a:xfrm>
        </p:grpSpPr>
        <p:sp>
          <p:nvSpPr>
            <p:cNvPr id="3052" name=""/>
            <p:cNvSpPr/>
            <p:nvPr/>
          </p:nvSpPr>
          <p:spPr>
            <a:xfrm>
              <a:off x="7790760" y="4714920"/>
              <a:ext cx="90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968880" y="4722840"/>
              <a:ext cx="49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 rot="16200000">
            <a:off x="598320" y="2463840"/>
            <a:ext cx="94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/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5" name=""/>
          <p:cNvGrpSpPr/>
          <p:nvPr/>
        </p:nvGrpSpPr>
        <p:grpSpPr>
          <a:xfrm>
            <a:off x="461880" y="3621240"/>
            <a:ext cx="4048200" cy="3236760"/>
            <a:chOff x="461880" y="3621240"/>
            <a:chExt cx="4048200" cy="3236760"/>
          </a:xfrm>
        </p:grpSpPr>
        <p:sp>
          <p:nvSpPr>
            <p:cNvPr id="3056" name=""/>
            <p:cNvSpPr/>
            <p:nvPr/>
          </p:nvSpPr>
          <p:spPr>
            <a:xfrm>
              <a:off x="1328760" y="3621240"/>
              <a:ext cx="3181320" cy="32367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61880" y="5367240"/>
              <a:ext cx="2133720" cy="4525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50 Ohm g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"/>
          <p:cNvGrpSpPr/>
          <p:nvPr/>
        </p:nvGrpSpPr>
        <p:grpSpPr>
          <a:xfrm>
            <a:off x="3017880" y="3386160"/>
            <a:ext cx="2482920" cy="3471840"/>
            <a:chOff x="3017880" y="3386160"/>
            <a:chExt cx="2482920" cy="3471840"/>
          </a:xfrm>
        </p:grpSpPr>
        <p:sp>
          <p:nvSpPr>
            <p:cNvPr id="3059" name=""/>
            <p:cNvSpPr/>
            <p:nvPr/>
          </p:nvSpPr>
          <p:spPr>
            <a:xfrm>
              <a:off x="3017880" y="3386160"/>
              <a:ext cx="12812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0.518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219560" y="3405240"/>
              <a:ext cx="12812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0.524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011480" y="3540240"/>
              <a:ext cx="0" cy="3317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178160" y="3540240"/>
              <a:ext cx="0" cy="3317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683160" y="5919840"/>
              <a:ext cx="890280" cy="93816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4" name=""/>
          <p:cNvGrpSpPr/>
          <p:nvPr/>
        </p:nvGrpSpPr>
        <p:grpSpPr>
          <a:xfrm>
            <a:off x="160200" y="3514680"/>
            <a:ext cx="3035520" cy="938160"/>
            <a:chOff x="160200" y="3514680"/>
            <a:chExt cx="3035520" cy="938160"/>
          </a:xfrm>
        </p:grpSpPr>
        <p:sp>
          <p:nvSpPr>
            <p:cNvPr id="3065" name=""/>
            <p:cNvSpPr/>
            <p:nvPr/>
          </p:nvSpPr>
          <p:spPr>
            <a:xfrm>
              <a:off x="1792440" y="3778200"/>
              <a:ext cx="0" cy="647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6" name=""/>
            <p:cNvGrpSpPr/>
            <p:nvPr/>
          </p:nvGrpSpPr>
          <p:grpSpPr>
            <a:xfrm>
              <a:off x="160200" y="3514680"/>
              <a:ext cx="3035520" cy="938160"/>
              <a:chOff x="160200" y="3514680"/>
              <a:chExt cx="3035520" cy="938160"/>
            </a:xfrm>
          </p:grpSpPr>
          <p:sp>
            <p:nvSpPr>
              <p:cNvPr id="3067" name=""/>
              <p:cNvSpPr/>
              <p:nvPr/>
            </p:nvSpPr>
            <p:spPr>
              <a:xfrm>
                <a:off x="160200" y="3989520"/>
                <a:ext cx="128124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spAutoFit/>
              </a:bodyPr>
              <a:p>
                <a:pPr>
                  <a:spcBef>
                    <a:spcPts val="1500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0.000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1914480" y="3973680"/>
                <a:ext cx="128124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spAutoFit/>
              </a:bodyPr>
              <a:p>
                <a:pPr>
                  <a:spcBef>
                    <a:spcPts val="1500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0.013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1168560" y="3514680"/>
                <a:ext cx="890280" cy="938160"/>
              </a:xfrm>
              <a:prstGeom prst="ellipse">
                <a:avLst/>
              </a:prstGeom>
              <a:noFill/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0" name=""/>
          <p:cNvGrpSpPr/>
          <p:nvPr/>
        </p:nvGrpSpPr>
        <p:grpSpPr>
          <a:xfrm>
            <a:off x="1510920" y="669960"/>
            <a:ext cx="4930920" cy="3672000"/>
            <a:chOff x="1510920" y="669960"/>
            <a:chExt cx="4930920" cy="3672000"/>
          </a:xfrm>
        </p:grpSpPr>
        <p:grpSp>
          <p:nvGrpSpPr>
            <p:cNvPr id="3071" name=""/>
            <p:cNvGrpSpPr/>
            <p:nvPr/>
          </p:nvGrpSpPr>
          <p:grpSpPr>
            <a:xfrm>
              <a:off x="1510920" y="901800"/>
              <a:ext cx="4930920" cy="3440160"/>
              <a:chOff x="1510920" y="901800"/>
              <a:chExt cx="4930920" cy="3440160"/>
            </a:xfrm>
          </p:grpSpPr>
          <p:sp>
            <p:nvSpPr>
              <p:cNvPr id="3072" name=""/>
              <p:cNvSpPr/>
              <p:nvPr/>
            </p:nvSpPr>
            <p:spPr>
              <a:xfrm flipH="1">
                <a:off x="3781080" y="901800"/>
                <a:ext cx="2660760" cy="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>
                <a:off x="2711520" y="901800"/>
                <a:ext cx="1069920" cy="54108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>
                <a:off x="2079360" y="1441440"/>
                <a:ext cx="641160" cy="96696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1510920" y="2408400"/>
                <a:ext cx="568440" cy="193356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"/>
            <p:cNvSpPr/>
            <p:nvPr/>
          </p:nvSpPr>
          <p:spPr>
            <a:xfrm>
              <a:off x="1711440" y="669960"/>
              <a:ext cx="1671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[pulldown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097000" y="1305000"/>
              <a:ext cx="158760" cy="657000"/>
            </a:xfrm>
            <a:prstGeom prst="downArrow">
              <a:avLst>
                <a:gd name="adj1" fmla="val 50000"/>
                <a:gd name="adj2" fmla="val 103458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"/>
          <p:cNvGrpSpPr/>
          <p:nvPr/>
        </p:nvGrpSpPr>
        <p:grpSpPr>
          <a:xfrm>
            <a:off x="1638360" y="2939760"/>
            <a:ext cx="4929120" cy="3440520"/>
            <a:chOff x="1638360" y="2939760"/>
            <a:chExt cx="4929120" cy="3440520"/>
          </a:xfrm>
        </p:grpSpPr>
        <p:grpSp>
          <p:nvGrpSpPr>
            <p:cNvPr id="3079" name=""/>
            <p:cNvGrpSpPr/>
            <p:nvPr/>
          </p:nvGrpSpPr>
          <p:grpSpPr>
            <a:xfrm>
              <a:off x="4295880" y="2939760"/>
              <a:ext cx="2271600" cy="3425760"/>
              <a:chOff x="4295880" y="2939760"/>
              <a:chExt cx="2271600" cy="3425760"/>
            </a:xfrm>
          </p:grpSpPr>
          <p:sp>
            <p:nvSpPr>
              <p:cNvPr id="3080" name=""/>
              <p:cNvSpPr/>
              <p:nvPr/>
            </p:nvSpPr>
            <p:spPr>
              <a:xfrm flipV="1">
                <a:off x="4295880" y="5871960"/>
                <a:ext cx="1041120" cy="49356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5326200" y="4873680"/>
                <a:ext cx="672840" cy="101592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V="1">
                <a:off x="5999040" y="2939760"/>
                <a:ext cx="568440" cy="193356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1638360" y="5119560"/>
              <a:ext cx="3762360" cy="1260720"/>
              <a:chOff x="1638360" y="5119560"/>
              <a:chExt cx="3762360" cy="1260720"/>
            </a:xfrm>
          </p:grpSpPr>
          <p:sp>
            <p:nvSpPr>
              <p:cNvPr id="3084" name=""/>
              <p:cNvSpPr/>
              <p:nvPr/>
            </p:nvSpPr>
            <p:spPr>
              <a:xfrm>
                <a:off x="4203720" y="5119560"/>
                <a:ext cx="119700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spAutoFit/>
              </a:bodyPr>
              <a:p>
                <a:pPr>
                  <a:spcBef>
                    <a:spcPts val="1500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[pullup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1638360" y="6380280"/>
                <a:ext cx="2658960" cy="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641840" y="5470560"/>
                <a:ext cx="158760" cy="657360"/>
              </a:xfrm>
              <a:prstGeom prst="downArrow">
                <a:avLst>
                  <a:gd name="adj1" fmla="val 50000"/>
                  <a:gd name="adj2" fmla="val 103515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7" name=""/>
          <p:cNvGrpSpPr/>
          <p:nvPr/>
        </p:nvGrpSpPr>
        <p:grpSpPr>
          <a:xfrm>
            <a:off x="1603080" y="901800"/>
            <a:ext cx="4894560" cy="3871080"/>
            <a:chOff x="1603080" y="901800"/>
            <a:chExt cx="4894560" cy="3871080"/>
          </a:xfrm>
        </p:grpSpPr>
        <p:grpSp>
          <p:nvGrpSpPr>
            <p:cNvPr id="3088" name=""/>
            <p:cNvGrpSpPr/>
            <p:nvPr/>
          </p:nvGrpSpPr>
          <p:grpSpPr>
            <a:xfrm>
              <a:off x="1603080" y="901800"/>
              <a:ext cx="4894560" cy="3871080"/>
              <a:chOff x="1603080" y="901800"/>
              <a:chExt cx="4894560" cy="3871080"/>
            </a:xfrm>
          </p:grpSpPr>
          <p:sp>
            <p:nvSpPr>
              <p:cNvPr id="3089" name=""/>
              <p:cNvSpPr/>
              <p:nvPr/>
            </p:nvSpPr>
            <p:spPr>
              <a:xfrm flipH="1">
                <a:off x="3855960" y="901800"/>
                <a:ext cx="2641680" cy="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2793960" y="901800"/>
                <a:ext cx="1062000" cy="60948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H="1">
                <a:off x="2166480" y="1509480"/>
                <a:ext cx="636840" cy="108720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H="1">
                <a:off x="1603080" y="2596680"/>
                <a:ext cx="563400" cy="217620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3" name=""/>
            <p:cNvSpPr/>
            <p:nvPr/>
          </p:nvSpPr>
          <p:spPr>
            <a:xfrm>
              <a:off x="2293920" y="2784600"/>
              <a:ext cx="3854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[pulldown] + [.. clamp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2468520" y="2260440"/>
              <a:ext cx="158760" cy="657360"/>
            </a:xfrm>
            <a:prstGeom prst="downArrow">
              <a:avLst>
                <a:gd name="adj1" fmla="val 50000"/>
                <a:gd name="adj2" fmla="val 103515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5" name=""/>
          <p:cNvGrpSpPr/>
          <p:nvPr/>
        </p:nvGrpSpPr>
        <p:grpSpPr>
          <a:xfrm>
            <a:off x="1612800" y="2933640"/>
            <a:ext cx="7101000" cy="3613320"/>
            <a:chOff x="1612800" y="2933640"/>
            <a:chExt cx="7101000" cy="3613320"/>
          </a:xfrm>
        </p:grpSpPr>
        <p:grpSp>
          <p:nvGrpSpPr>
            <p:cNvPr id="3096" name=""/>
            <p:cNvGrpSpPr/>
            <p:nvPr/>
          </p:nvGrpSpPr>
          <p:grpSpPr>
            <a:xfrm>
              <a:off x="1612800" y="2933640"/>
              <a:ext cx="4930920" cy="3613320"/>
              <a:chOff x="1612800" y="2933640"/>
              <a:chExt cx="4930920" cy="3613320"/>
            </a:xfrm>
          </p:grpSpPr>
          <p:sp>
            <p:nvSpPr>
              <p:cNvPr id="3097" name=""/>
              <p:cNvSpPr/>
              <p:nvPr/>
            </p:nvSpPr>
            <p:spPr>
              <a:xfrm>
                <a:off x="1612800" y="6546960"/>
                <a:ext cx="2660760" cy="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4273560" y="6041520"/>
                <a:ext cx="1065240" cy="50508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V="1">
                <a:off x="5324400" y="4971600"/>
                <a:ext cx="676440" cy="107172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V="1">
                <a:off x="5975280" y="2933640"/>
                <a:ext cx="568440" cy="203040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5614920" y="5715000"/>
              <a:ext cx="3098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[pullup] + [.. clamp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 rot="16200000">
              <a:off x="5403600" y="5914080"/>
              <a:ext cx="158760" cy="657360"/>
            </a:xfrm>
            <a:prstGeom prst="downArrow">
              <a:avLst>
                <a:gd name="adj1" fmla="val 50000"/>
                <a:gd name="adj2" fmla="val 103515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3" name=""/>
          <p:cNvGrpSpPr/>
          <p:nvPr/>
        </p:nvGrpSpPr>
        <p:grpSpPr>
          <a:xfrm>
            <a:off x="6028560" y="466560"/>
            <a:ext cx="3115440" cy="2863440"/>
            <a:chOff x="6028560" y="466560"/>
            <a:chExt cx="3115440" cy="2863440"/>
          </a:xfrm>
        </p:grpSpPr>
        <p:sp>
          <p:nvSpPr>
            <p:cNvPr id="3104" name=""/>
            <p:cNvSpPr/>
            <p:nvPr/>
          </p:nvSpPr>
          <p:spPr>
            <a:xfrm>
              <a:off x="6028560" y="2670120"/>
              <a:ext cx="979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0.004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093720" y="1378080"/>
              <a:ext cx="9032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.518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"/>
            <p:cNvGrpSpPr/>
            <p:nvPr/>
          </p:nvGrpSpPr>
          <p:grpSpPr>
            <a:xfrm>
              <a:off x="6888240" y="841320"/>
              <a:ext cx="2255760" cy="2266920"/>
              <a:chOff x="6888240" y="841320"/>
              <a:chExt cx="2255760" cy="2266920"/>
            </a:xfrm>
          </p:grpSpPr>
          <p:sp>
            <p:nvSpPr>
              <p:cNvPr id="3107" name=""/>
              <p:cNvSpPr/>
              <p:nvPr/>
            </p:nvSpPr>
            <p:spPr>
              <a:xfrm>
                <a:off x="7010280" y="841320"/>
                <a:ext cx="0" cy="22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888240" y="3011400"/>
                <a:ext cx="22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"/>
            <p:cNvGrpSpPr/>
            <p:nvPr/>
          </p:nvGrpSpPr>
          <p:grpSpPr>
            <a:xfrm>
              <a:off x="7058160" y="1559160"/>
              <a:ext cx="1490040" cy="1563480"/>
              <a:chOff x="7058160" y="1559160"/>
              <a:chExt cx="1490040" cy="1563480"/>
            </a:xfrm>
          </p:grpSpPr>
          <p:sp>
            <p:nvSpPr>
              <p:cNvPr id="3110" name=""/>
              <p:cNvSpPr/>
              <p:nvPr/>
            </p:nvSpPr>
            <p:spPr>
              <a:xfrm flipV="1">
                <a:off x="7058160" y="3109320"/>
                <a:ext cx="344160" cy="13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7400880" y="2958840"/>
                <a:ext cx="32832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V="1">
                <a:off x="7729560" y="2514240"/>
                <a:ext cx="171000" cy="44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V="1">
                <a:off x="7905600" y="2122920"/>
                <a:ext cx="9036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V="1">
                <a:off x="8001000" y="1726920"/>
                <a:ext cx="14256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8148600" y="1569600"/>
                <a:ext cx="19980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8348760" y="1559160"/>
                <a:ext cx="199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7" name=""/>
            <p:cNvSpPr/>
            <p:nvPr/>
          </p:nvSpPr>
          <p:spPr>
            <a:xfrm flipH="1">
              <a:off x="6873480" y="1576440"/>
              <a:ext cx="170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H="1">
              <a:off x="6918480" y="31082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221320" y="3086280"/>
              <a:ext cx="54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/ns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6370920" y="696240"/>
              <a:ext cx="7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2000"/>
                                        <p:tgtEl>
                                          <p:spTgt spid="3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20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20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tatic curves  high &amp; low warning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122" name=""/>
          <p:cNvGrpSpPr/>
          <p:nvPr/>
        </p:nvGrpSpPr>
        <p:grpSpPr>
          <a:xfrm>
            <a:off x="7525800" y="145800"/>
            <a:ext cx="1612440" cy="1206720"/>
            <a:chOff x="7525800" y="145800"/>
            <a:chExt cx="1612440" cy="1206720"/>
          </a:xfrm>
        </p:grpSpPr>
        <p:grpSp>
          <p:nvGrpSpPr>
            <p:cNvPr id="3123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3124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3125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3126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2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3133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5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8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5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3146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8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3149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3150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3151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2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3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4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3155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6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7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8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3159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0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1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2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3163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4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5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6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3167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8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9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70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3171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3172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3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4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5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3176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7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8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9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3180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1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2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3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3184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5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6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7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3188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9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0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91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3192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3193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94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3195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6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7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98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3199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7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10" name=""/>
            <p:cNvSpPr/>
            <p:nvPr/>
          </p:nvSpPr>
          <p:spPr>
            <a:xfrm>
              <a:off x="7525800" y="145800"/>
              <a:ext cx="161244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1" name=""/>
          <p:cNvSpPr/>
          <p:nvPr/>
        </p:nvSpPr>
        <p:spPr>
          <a:xfrm>
            <a:off x="585720" y="3889440"/>
            <a:ext cx="7668000" cy="2168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- Model LVCMOS_3P3V_DR310_TRI: The [Rising Waveform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[R_fixture]=50 Ohms and [V_fixture]=0.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YP column DC endpoints of  0.00V and  0.52v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quivalent load applied to the model's I-V tables y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voltages (0.01V and  0.52V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fference of  3.53% and  1.18%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5365800" y="666720"/>
            <a:ext cx="134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vefor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518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0.004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5280840" y="2179800"/>
            <a:ext cx="185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el I-V-tab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524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14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4" name=""/>
          <p:cNvGrpSpPr/>
          <p:nvPr/>
        </p:nvGrpSpPr>
        <p:grpSpPr>
          <a:xfrm>
            <a:off x="160200" y="618840"/>
            <a:ext cx="4984200" cy="3129120"/>
            <a:chOff x="160200" y="618840"/>
            <a:chExt cx="4984200" cy="3129120"/>
          </a:xfrm>
        </p:grpSpPr>
        <p:sp>
          <p:nvSpPr>
            <p:cNvPr id="3215" name=""/>
            <p:cNvSpPr/>
            <p:nvPr/>
          </p:nvSpPr>
          <p:spPr>
            <a:xfrm>
              <a:off x="2182680" y="2878200"/>
              <a:ext cx="7812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pullup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6" name=""/>
            <p:cNvGrpSpPr/>
            <p:nvPr/>
          </p:nvGrpSpPr>
          <p:grpSpPr>
            <a:xfrm>
              <a:off x="836640" y="768240"/>
              <a:ext cx="2467080" cy="1720440"/>
              <a:chOff x="836640" y="768240"/>
              <a:chExt cx="2467080" cy="1720440"/>
            </a:xfrm>
          </p:grpSpPr>
          <p:sp>
            <p:nvSpPr>
              <p:cNvPr id="3217" name=""/>
              <p:cNvSpPr/>
              <p:nvPr/>
            </p:nvSpPr>
            <p:spPr>
              <a:xfrm flipH="1">
                <a:off x="1972440" y="768240"/>
                <a:ext cx="1331280" cy="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flipH="1">
                <a:off x="1436760" y="768240"/>
                <a:ext cx="535320" cy="27036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1120680" y="1037880"/>
                <a:ext cx="320760" cy="48348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flipH="1">
                <a:off x="836640" y="1521720"/>
                <a:ext cx="284400" cy="96696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1" name=""/>
            <p:cNvGrpSpPr/>
            <p:nvPr/>
          </p:nvGrpSpPr>
          <p:grpSpPr>
            <a:xfrm>
              <a:off x="274680" y="635040"/>
              <a:ext cx="4125600" cy="2854080"/>
              <a:chOff x="274680" y="635040"/>
              <a:chExt cx="4125600" cy="2854080"/>
            </a:xfrm>
          </p:grpSpPr>
          <p:sp>
            <p:nvSpPr>
              <p:cNvPr id="3222" name=""/>
              <p:cNvSpPr/>
              <p:nvPr/>
            </p:nvSpPr>
            <p:spPr>
              <a:xfrm>
                <a:off x="274680" y="2282040"/>
                <a:ext cx="412560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890640" y="635040"/>
                <a:ext cx="5760" cy="285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3567960" y="2676600"/>
              <a:ext cx="861480" cy="186120"/>
              <a:chOff x="3567960" y="2676600"/>
              <a:chExt cx="861480" cy="186120"/>
            </a:xfrm>
          </p:grpSpPr>
          <p:sp>
            <p:nvSpPr>
              <p:cNvPr id="3225" name=""/>
              <p:cNvSpPr/>
              <p:nvPr/>
            </p:nvSpPr>
            <p:spPr>
              <a:xfrm>
                <a:off x="3976200" y="2676600"/>
                <a:ext cx="45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/V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3567960" y="2679840"/>
                <a:ext cx="244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c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7" name=""/>
            <p:cNvSpPr/>
            <p:nvPr/>
          </p:nvSpPr>
          <p:spPr>
            <a:xfrm rot="16200000">
              <a:off x="380160" y="155016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8" name=""/>
            <p:cNvGrpSpPr/>
            <p:nvPr/>
          </p:nvGrpSpPr>
          <p:grpSpPr>
            <a:xfrm>
              <a:off x="882720" y="768240"/>
              <a:ext cx="2447640" cy="1820520"/>
              <a:chOff x="882720" y="768240"/>
              <a:chExt cx="2447640" cy="1820520"/>
            </a:xfrm>
          </p:grpSpPr>
          <p:sp>
            <p:nvSpPr>
              <p:cNvPr id="3229" name=""/>
              <p:cNvSpPr/>
              <p:nvPr/>
            </p:nvSpPr>
            <p:spPr>
              <a:xfrm flipH="1">
                <a:off x="2009160" y="768240"/>
                <a:ext cx="1321200" cy="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H="1">
                <a:off x="1477800" y="768240"/>
                <a:ext cx="531000" cy="28656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H="1">
                <a:off x="1164240" y="1053720"/>
                <a:ext cx="318240" cy="51120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>
                <a:off x="882720" y="1565280"/>
                <a:ext cx="281520" cy="1023480"/>
              </a:xfrm>
              <a:prstGeom prst="line">
                <a:avLst/>
              </a:prstGeom>
              <a:ln cap="rnd" w="57240">
                <a:solidFill>
                  <a:srgbClr val="00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3" name=""/>
            <p:cNvSpPr/>
            <p:nvPr/>
          </p:nvSpPr>
          <p:spPr>
            <a:xfrm>
              <a:off x="744480" y="2128680"/>
              <a:ext cx="1592280" cy="1619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900000" y="3508200"/>
              <a:ext cx="1330560" cy="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2228760" y="3254400"/>
              <a:ext cx="520920" cy="24768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V="1">
              <a:off x="2744640" y="2755440"/>
              <a:ext cx="336600" cy="50796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3081240" y="1787400"/>
              <a:ext cx="284400" cy="96840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87400" y="3592440"/>
              <a:ext cx="1330200" cy="0"/>
            </a:xfrm>
            <a:prstGeom prst="line">
              <a:avLst/>
            </a:prstGeom>
            <a:ln cap="rnd" w="57240">
              <a:solidFill>
                <a:srgbClr val="00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V="1">
              <a:off x="2217600" y="3339720"/>
              <a:ext cx="533520" cy="252360"/>
            </a:xfrm>
            <a:prstGeom prst="line">
              <a:avLst/>
            </a:prstGeom>
            <a:ln cap="rnd" w="57240">
              <a:solidFill>
                <a:srgbClr val="00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2743200" y="2805120"/>
              <a:ext cx="338040" cy="534960"/>
            </a:xfrm>
            <a:prstGeom prst="line">
              <a:avLst/>
            </a:prstGeom>
            <a:ln cap="rnd" w="57240">
              <a:solidFill>
                <a:srgbClr val="00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3068640" y="1784520"/>
              <a:ext cx="285840" cy="1015920"/>
            </a:xfrm>
            <a:prstGeom prst="line">
              <a:avLst/>
            </a:prstGeom>
            <a:ln w="572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752480" y="768240"/>
              <a:ext cx="1592280" cy="1619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889360" y="3176640"/>
              <a:ext cx="15494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pullup] + [.. clamp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936720" y="652320"/>
              <a:ext cx="8967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pulldown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227240" y="1709640"/>
              <a:ext cx="19288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[pulldown] + [.. clamp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81080" y="2930400"/>
              <a:ext cx="1066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50 Ohm g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60200" y="2313000"/>
              <a:ext cx="7257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00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038240" y="2305080"/>
              <a:ext cx="7984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014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67000" y="2011320"/>
              <a:ext cx="7635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518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349360" y="2021040"/>
              <a:ext cx="7016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524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075040" y="2087640"/>
              <a:ext cx="0" cy="16603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189160" y="2087640"/>
              <a:ext cx="0" cy="16603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952560" y="2208240"/>
              <a:ext cx="0" cy="324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922400" y="3278160"/>
              <a:ext cx="446040" cy="46980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665280" y="2075040"/>
              <a:ext cx="444240" cy="46980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411080" y="1495440"/>
              <a:ext cx="71712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-0.004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477680" y="992160"/>
              <a:ext cx="66672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518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3525840" y="738360"/>
              <a:ext cx="1128600" cy="1133280"/>
              <a:chOff x="3525840" y="738360"/>
              <a:chExt cx="1128600" cy="1133280"/>
            </a:xfrm>
          </p:grpSpPr>
          <p:sp>
            <p:nvSpPr>
              <p:cNvPr id="3259" name=""/>
              <p:cNvSpPr/>
              <p:nvPr/>
            </p:nvSpPr>
            <p:spPr>
              <a:xfrm>
                <a:off x="3587040" y="738360"/>
                <a:ext cx="0" cy="113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3525840" y="1823400"/>
                <a:ext cx="11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1" name=""/>
            <p:cNvGrpSpPr/>
            <p:nvPr/>
          </p:nvGrpSpPr>
          <p:grpSpPr>
            <a:xfrm>
              <a:off x="3611520" y="1096560"/>
              <a:ext cx="744480" cy="733320"/>
              <a:chOff x="3611520" y="1096560"/>
              <a:chExt cx="744480" cy="733320"/>
            </a:xfrm>
          </p:grpSpPr>
          <p:sp>
            <p:nvSpPr>
              <p:cNvPr id="3262" name=""/>
              <p:cNvSpPr/>
              <p:nvPr/>
            </p:nvSpPr>
            <p:spPr>
              <a:xfrm flipV="1">
                <a:off x="3611520" y="1823760"/>
                <a:ext cx="172080" cy="6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V="1">
                <a:off x="3782880" y="1752840"/>
                <a:ext cx="164160" cy="7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3947040" y="1544400"/>
                <a:ext cx="85320" cy="20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V="1">
                <a:off x="4034880" y="1361160"/>
                <a:ext cx="4500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V="1">
                <a:off x="4082400" y="1175400"/>
                <a:ext cx="7128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V="1">
                <a:off x="4156200" y="1101600"/>
                <a:ext cx="9972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256280" y="1096560"/>
                <a:ext cx="99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9" name=""/>
            <p:cNvSpPr/>
            <p:nvPr/>
          </p:nvSpPr>
          <p:spPr>
            <a:xfrm flipH="1">
              <a:off x="3519360" y="1106640"/>
              <a:ext cx="8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146120" y="1927080"/>
              <a:ext cx="4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/ns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 rot="16200000">
              <a:off x="3147480" y="792000"/>
              <a:ext cx="52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Ibischk warning origin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925560" y="1046160"/>
            <a:ext cx="6351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ere does the difference come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4" name=""/>
          <p:cNvGrpSpPr/>
          <p:nvPr/>
        </p:nvGrpSpPr>
        <p:grpSpPr>
          <a:xfrm>
            <a:off x="7525800" y="145800"/>
            <a:ext cx="1612440" cy="1206720"/>
            <a:chOff x="7525800" y="145800"/>
            <a:chExt cx="1612440" cy="1206720"/>
          </a:xfrm>
        </p:grpSpPr>
        <p:grpSp>
          <p:nvGrpSpPr>
            <p:cNvPr id="3275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3276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3277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3278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4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3285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0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97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3298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00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3301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3302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3303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4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5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6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3307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8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9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0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3311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2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3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4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3315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6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7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8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3319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0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1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2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3323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3324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5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6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7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3328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9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0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1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3332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4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5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8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9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3340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1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343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3344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3345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46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3347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8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9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50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3351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59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2" name=""/>
            <p:cNvSpPr/>
            <p:nvPr/>
          </p:nvSpPr>
          <p:spPr>
            <a:xfrm>
              <a:off x="7525800" y="145800"/>
              <a:ext cx="161244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3" name=""/>
          <p:cNvSpPr/>
          <p:nvPr/>
        </p:nvSpPr>
        <p:spPr>
          <a:xfrm>
            <a:off x="920160" y="1697040"/>
            <a:ext cx="51728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l pulldown only active in tri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ynamic switching  of the output : “ high to low 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From [pullup] to [pulldown]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BIS static calcul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 = [pullup] + [.. clamp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  = [pulldown] + [.. clamp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state  =  [.. clamp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800280" y="5481720"/>
            <a:ext cx="6351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to do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3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3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Usage of submodel  ( splitting of clamps )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19080" y="820800"/>
            <a:ext cx="2230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 we di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7" name=""/>
          <p:cNvGrpSpPr/>
          <p:nvPr/>
        </p:nvGrpSpPr>
        <p:grpSpPr>
          <a:xfrm>
            <a:off x="7698600" y="-19440"/>
            <a:ext cx="1612440" cy="1206720"/>
            <a:chOff x="7698600" y="-19440"/>
            <a:chExt cx="1612440" cy="1206720"/>
          </a:xfrm>
        </p:grpSpPr>
        <p:grpSp>
          <p:nvGrpSpPr>
            <p:cNvPr id="3368" name=""/>
            <p:cNvGrpSpPr/>
            <p:nvPr/>
          </p:nvGrpSpPr>
          <p:grpSpPr>
            <a:xfrm>
              <a:off x="8188200" y="552240"/>
              <a:ext cx="633240" cy="635040"/>
              <a:chOff x="8188200" y="552240"/>
              <a:chExt cx="633240" cy="635040"/>
            </a:xfrm>
          </p:grpSpPr>
          <p:grpSp>
            <p:nvGrpSpPr>
              <p:cNvPr id="3369" name=""/>
              <p:cNvGrpSpPr/>
              <p:nvPr/>
            </p:nvGrpSpPr>
            <p:grpSpPr>
              <a:xfrm>
                <a:off x="8188200" y="768240"/>
                <a:ext cx="633240" cy="419040"/>
                <a:chOff x="8188200" y="768240"/>
                <a:chExt cx="633240" cy="419040"/>
              </a:xfrm>
            </p:grpSpPr>
            <p:grpSp>
              <p:nvGrpSpPr>
                <p:cNvPr id="3370" name=""/>
                <p:cNvGrpSpPr/>
                <p:nvPr/>
              </p:nvGrpSpPr>
              <p:grpSpPr>
                <a:xfrm>
                  <a:off x="8188200" y="1104480"/>
                  <a:ext cx="633240" cy="82800"/>
                  <a:chOff x="8188200" y="1104480"/>
                  <a:chExt cx="633240" cy="82800"/>
                </a:xfrm>
              </p:grpSpPr>
              <p:sp>
                <p:nvSpPr>
                  <p:cNvPr id="3371" name=""/>
                  <p:cNvSpPr/>
                  <p:nvPr/>
                </p:nvSpPr>
                <p:spPr>
                  <a:xfrm>
                    <a:off x="8293680" y="1104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>
                    <a:off x="850500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8610840" y="1104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871632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>
                    <a:off x="839952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>
                    <a:off x="818820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7" name=""/>
                <p:cNvGrpSpPr/>
                <p:nvPr/>
              </p:nvGrpSpPr>
              <p:grpSpPr>
                <a:xfrm>
                  <a:off x="8241120" y="1020600"/>
                  <a:ext cx="527760" cy="82800"/>
                  <a:chOff x="8241120" y="1020600"/>
                  <a:chExt cx="527760" cy="82800"/>
                </a:xfrm>
              </p:grpSpPr>
              <p:sp>
                <p:nvSpPr>
                  <p:cNvPr id="3378" name=""/>
                  <p:cNvSpPr/>
                  <p:nvPr/>
                </p:nvSpPr>
                <p:spPr>
                  <a:xfrm>
                    <a:off x="824112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>
                    <a:off x="845244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>
                    <a:off x="855828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866376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>
                    <a:off x="834660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3" name=""/>
                <p:cNvSpPr/>
                <p:nvPr/>
              </p:nvSpPr>
              <p:spPr>
                <a:xfrm>
                  <a:off x="8399520" y="93672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8611200" y="9367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8505360" y="93672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8293680" y="9367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8346960" y="85320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8558280" y="8532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8452800" y="8532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0" name=""/>
                <p:cNvGrpSpPr/>
                <p:nvPr/>
              </p:nvGrpSpPr>
              <p:grpSpPr>
                <a:xfrm>
                  <a:off x="8400600" y="768240"/>
                  <a:ext cx="210600" cy="82800"/>
                  <a:chOff x="8400600" y="768240"/>
                  <a:chExt cx="210600" cy="82800"/>
                </a:xfrm>
              </p:grpSpPr>
              <p:sp>
                <p:nvSpPr>
                  <p:cNvPr id="3391" name=""/>
                  <p:cNvSpPr/>
                  <p:nvPr/>
                </p:nvSpPr>
                <p:spPr>
                  <a:xfrm>
                    <a:off x="8400600" y="7682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>
                    <a:off x="8506440" y="7682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3" name=""/>
              <p:cNvGrpSpPr/>
              <p:nvPr/>
            </p:nvGrpSpPr>
            <p:grpSpPr>
              <a:xfrm>
                <a:off x="8462520" y="768240"/>
                <a:ext cx="83880" cy="414720"/>
                <a:chOff x="8462520" y="768240"/>
                <a:chExt cx="83880" cy="414720"/>
              </a:xfrm>
            </p:grpSpPr>
            <p:grpSp>
              <p:nvGrpSpPr>
                <p:cNvPr id="3394" name=""/>
                <p:cNvGrpSpPr/>
                <p:nvPr/>
              </p:nvGrpSpPr>
              <p:grpSpPr>
                <a:xfrm>
                  <a:off x="8462520" y="768240"/>
                  <a:ext cx="83880" cy="208080"/>
                  <a:chOff x="8462520" y="768240"/>
                  <a:chExt cx="83880" cy="208080"/>
                </a:xfrm>
              </p:grpSpPr>
              <p:grpSp>
                <p:nvGrpSpPr>
                  <p:cNvPr id="3395" name=""/>
                  <p:cNvGrpSpPr/>
                  <p:nvPr/>
                </p:nvGrpSpPr>
                <p:grpSpPr>
                  <a:xfrm>
                    <a:off x="8462520" y="768240"/>
                    <a:ext cx="83880" cy="41400"/>
                    <a:chOff x="8462520" y="768240"/>
                    <a:chExt cx="83880" cy="41400"/>
                  </a:xfrm>
                </p:grpSpPr>
                <p:sp>
                  <p:nvSpPr>
                    <p:cNvPr id="3396" name=""/>
                    <p:cNvSpPr/>
                    <p:nvPr/>
                  </p:nvSpPr>
                  <p:spPr>
                    <a:xfrm>
                      <a:off x="8462520" y="768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7" name=""/>
                    <p:cNvSpPr/>
                    <p:nvPr/>
                  </p:nvSpPr>
                  <p:spPr>
                    <a:xfrm>
                      <a:off x="8462520" y="781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8" name=""/>
                    <p:cNvSpPr/>
                    <p:nvPr/>
                  </p:nvSpPr>
                  <p:spPr>
                    <a:xfrm>
                      <a:off x="8462520" y="795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9" name=""/>
                  <p:cNvGrpSpPr/>
                  <p:nvPr/>
                </p:nvGrpSpPr>
                <p:grpSpPr>
                  <a:xfrm>
                    <a:off x="8462520" y="810000"/>
                    <a:ext cx="83880" cy="41400"/>
                    <a:chOff x="8462520" y="810000"/>
                    <a:chExt cx="83880" cy="41400"/>
                  </a:xfrm>
                </p:grpSpPr>
                <p:sp>
                  <p:nvSpPr>
                    <p:cNvPr id="3400" name=""/>
                    <p:cNvSpPr/>
                    <p:nvPr/>
                  </p:nvSpPr>
                  <p:spPr>
                    <a:xfrm>
                      <a:off x="8462520" y="810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1" name=""/>
                    <p:cNvSpPr/>
                    <p:nvPr/>
                  </p:nvSpPr>
                  <p:spPr>
                    <a:xfrm>
                      <a:off x="8462520" y="823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2" name=""/>
                    <p:cNvSpPr/>
                    <p:nvPr/>
                  </p:nvSpPr>
                  <p:spPr>
                    <a:xfrm>
                      <a:off x="8462520" y="837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3" name=""/>
                  <p:cNvGrpSpPr/>
                  <p:nvPr/>
                </p:nvGrpSpPr>
                <p:grpSpPr>
                  <a:xfrm>
                    <a:off x="8462520" y="851760"/>
                    <a:ext cx="83880" cy="41400"/>
                    <a:chOff x="8462520" y="851760"/>
                    <a:chExt cx="83880" cy="41400"/>
                  </a:xfrm>
                </p:grpSpPr>
                <p:sp>
                  <p:nvSpPr>
                    <p:cNvPr id="3404" name=""/>
                    <p:cNvSpPr/>
                    <p:nvPr/>
                  </p:nvSpPr>
                  <p:spPr>
                    <a:xfrm>
                      <a:off x="8462520" y="851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5" name=""/>
                    <p:cNvSpPr/>
                    <p:nvPr/>
                  </p:nvSpPr>
                  <p:spPr>
                    <a:xfrm>
                      <a:off x="8462520" y="865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6" name=""/>
                    <p:cNvSpPr/>
                    <p:nvPr/>
                  </p:nvSpPr>
                  <p:spPr>
                    <a:xfrm>
                      <a:off x="8462520" y="87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7" name=""/>
                  <p:cNvGrpSpPr/>
                  <p:nvPr/>
                </p:nvGrpSpPr>
                <p:grpSpPr>
                  <a:xfrm>
                    <a:off x="8462520" y="893880"/>
                    <a:ext cx="83880" cy="41400"/>
                    <a:chOff x="8462520" y="893880"/>
                    <a:chExt cx="83880" cy="41400"/>
                  </a:xfrm>
                </p:grpSpPr>
                <p:sp>
                  <p:nvSpPr>
                    <p:cNvPr id="3408" name=""/>
                    <p:cNvSpPr/>
                    <p:nvPr/>
                  </p:nvSpPr>
                  <p:spPr>
                    <a:xfrm>
                      <a:off x="8462520" y="893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9" name=""/>
                    <p:cNvSpPr/>
                    <p:nvPr/>
                  </p:nvSpPr>
                  <p:spPr>
                    <a:xfrm>
                      <a:off x="8462520" y="907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0" name=""/>
                    <p:cNvSpPr/>
                    <p:nvPr/>
                  </p:nvSpPr>
                  <p:spPr>
                    <a:xfrm>
                      <a:off x="8462520" y="921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1" name=""/>
                  <p:cNvGrpSpPr/>
                  <p:nvPr/>
                </p:nvGrpSpPr>
                <p:grpSpPr>
                  <a:xfrm>
                    <a:off x="8462520" y="934920"/>
                    <a:ext cx="83880" cy="41400"/>
                    <a:chOff x="8462520" y="934920"/>
                    <a:chExt cx="83880" cy="41400"/>
                  </a:xfrm>
                </p:grpSpPr>
                <p:sp>
                  <p:nvSpPr>
                    <p:cNvPr id="3412" name=""/>
                    <p:cNvSpPr/>
                    <p:nvPr/>
                  </p:nvSpPr>
                  <p:spPr>
                    <a:xfrm>
                      <a:off x="8462520" y="934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3" name=""/>
                    <p:cNvSpPr/>
                    <p:nvPr/>
                  </p:nvSpPr>
                  <p:spPr>
                    <a:xfrm>
                      <a:off x="8462520" y="948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4" name=""/>
                    <p:cNvSpPr/>
                    <p:nvPr/>
                  </p:nvSpPr>
                  <p:spPr>
                    <a:xfrm>
                      <a:off x="8462520" y="962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15" name=""/>
                <p:cNvGrpSpPr/>
                <p:nvPr/>
              </p:nvGrpSpPr>
              <p:grpSpPr>
                <a:xfrm>
                  <a:off x="8462520" y="974880"/>
                  <a:ext cx="83880" cy="208080"/>
                  <a:chOff x="8462520" y="974880"/>
                  <a:chExt cx="83880" cy="208080"/>
                </a:xfrm>
              </p:grpSpPr>
              <p:grpSp>
                <p:nvGrpSpPr>
                  <p:cNvPr id="3416" name=""/>
                  <p:cNvGrpSpPr/>
                  <p:nvPr/>
                </p:nvGrpSpPr>
                <p:grpSpPr>
                  <a:xfrm>
                    <a:off x="8462520" y="974880"/>
                    <a:ext cx="83880" cy="41400"/>
                    <a:chOff x="8462520" y="974880"/>
                    <a:chExt cx="83880" cy="41400"/>
                  </a:xfrm>
                </p:grpSpPr>
                <p:sp>
                  <p:nvSpPr>
                    <p:cNvPr id="3417" name=""/>
                    <p:cNvSpPr/>
                    <p:nvPr/>
                  </p:nvSpPr>
                  <p:spPr>
                    <a:xfrm>
                      <a:off x="8462520" y="974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8" name=""/>
                    <p:cNvSpPr/>
                    <p:nvPr/>
                  </p:nvSpPr>
                  <p:spPr>
                    <a:xfrm>
                      <a:off x="8462520" y="988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9" name=""/>
                    <p:cNvSpPr/>
                    <p:nvPr/>
                  </p:nvSpPr>
                  <p:spPr>
                    <a:xfrm>
                      <a:off x="8462520" y="1002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0" name=""/>
                  <p:cNvGrpSpPr/>
                  <p:nvPr/>
                </p:nvGrpSpPr>
                <p:grpSpPr>
                  <a:xfrm>
                    <a:off x="8462520" y="1016640"/>
                    <a:ext cx="83880" cy="41400"/>
                    <a:chOff x="8462520" y="1016640"/>
                    <a:chExt cx="83880" cy="41400"/>
                  </a:xfrm>
                </p:grpSpPr>
                <p:sp>
                  <p:nvSpPr>
                    <p:cNvPr id="3421" name=""/>
                    <p:cNvSpPr/>
                    <p:nvPr/>
                  </p:nvSpPr>
                  <p:spPr>
                    <a:xfrm>
                      <a:off x="8462520" y="1016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2" name=""/>
                    <p:cNvSpPr/>
                    <p:nvPr/>
                  </p:nvSpPr>
                  <p:spPr>
                    <a:xfrm>
                      <a:off x="8462520" y="1029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3" name=""/>
                    <p:cNvSpPr/>
                    <p:nvPr/>
                  </p:nvSpPr>
                  <p:spPr>
                    <a:xfrm>
                      <a:off x="8462520" y="1044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4" name=""/>
                  <p:cNvGrpSpPr/>
                  <p:nvPr/>
                </p:nvGrpSpPr>
                <p:grpSpPr>
                  <a:xfrm>
                    <a:off x="8462520" y="1058400"/>
                    <a:ext cx="83880" cy="41400"/>
                    <a:chOff x="8462520" y="1058400"/>
                    <a:chExt cx="83880" cy="41400"/>
                  </a:xfrm>
                </p:grpSpPr>
                <p:sp>
                  <p:nvSpPr>
                    <p:cNvPr id="3425" name=""/>
                    <p:cNvSpPr/>
                    <p:nvPr/>
                  </p:nvSpPr>
                  <p:spPr>
                    <a:xfrm>
                      <a:off x="8462520" y="1058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6" name=""/>
                    <p:cNvSpPr/>
                    <p:nvPr/>
                  </p:nvSpPr>
                  <p:spPr>
                    <a:xfrm>
                      <a:off x="8462520" y="1071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7" name=""/>
                    <p:cNvSpPr/>
                    <p:nvPr/>
                  </p:nvSpPr>
                  <p:spPr>
                    <a:xfrm>
                      <a:off x="8462520" y="108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8" name=""/>
                  <p:cNvGrpSpPr/>
                  <p:nvPr/>
                </p:nvGrpSpPr>
                <p:grpSpPr>
                  <a:xfrm>
                    <a:off x="8462520" y="1100520"/>
                    <a:ext cx="83880" cy="41400"/>
                    <a:chOff x="8462520" y="1100520"/>
                    <a:chExt cx="83880" cy="41400"/>
                  </a:xfrm>
                </p:grpSpPr>
                <p:sp>
                  <p:nvSpPr>
                    <p:cNvPr id="3429" name=""/>
                    <p:cNvSpPr/>
                    <p:nvPr/>
                  </p:nvSpPr>
                  <p:spPr>
                    <a:xfrm>
                      <a:off x="8462520" y="1100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0" name=""/>
                    <p:cNvSpPr/>
                    <p:nvPr/>
                  </p:nvSpPr>
                  <p:spPr>
                    <a:xfrm>
                      <a:off x="8462520" y="1113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1" name=""/>
                    <p:cNvSpPr/>
                    <p:nvPr/>
                  </p:nvSpPr>
                  <p:spPr>
                    <a:xfrm>
                      <a:off x="8462520" y="1127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2" name=""/>
                  <p:cNvGrpSpPr/>
                  <p:nvPr/>
                </p:nvGrpSpPr>
                <p:grpSpPr>
                  <a:xfrm>
                    <a:off x="8462520" y="1141560"/>
                    <a:ext cx="83880" cy="41400"/>
                    <a:chOff x="8462520" y="1141560"/>
                    <a:chExt cx="83880" cy="41400"/>
                  </a:xfrm>
                </p:grpSpPr>
                <p:sp>
                  <p:nvSpPr>
                    <p:cNvPr id="3433" name=""/>
                    <p:cNvSpPr/>
                    <p:nvPr/>
                  </p:nvSpPr>
                  <p:spPr>
                    <a:xfrm>
                      <a:off x="8462520" y="1141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4" name=""/>
                    <p:cNvSpPr/>
                    <p:nvPr/>
                  </p:nvSpPr>
                  <p:spPr>
                    <a:xfrm>
                      <a:off x="8462520" y="1154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5" name=""/>
                    <p:cNvSpPr/>
                    <p:nvPr/>
                  </p:nvSpPr>
                  <p:spPr>
                    <a:xfrm>
                      <a:off x="8462520" y="1168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36" name=""/>
              <p:cNvGrpSpPr/>
              <p:nvPr/>
            </p:nvGrpSpPr>
            <p:grpSpPr>
              <a:xfrm>
                <a:off x="8435880" y="552240"/>
                <a:ext cx="137880" cy="216000"/>
                <a:chOff x="8435880" y="552240"/>
                <a:chExt cx="137880" cy="216000"/>
              </a:xfrm>
            </p:grpSpPr>
            <p:grpSp>
              <p:nvGrpSpPr>
                <p:cNvPr id="3437" name=""/>
                <p:cNvGrpSpPr/>
                <p:nvPr/>
              </p:nvGrpSpPr>
              <p:grpSpPr>
                <a:xfrm>
                  <a:off x="8435880" y="624960"/>
                  <a:ext cx="137880" cy="143280"/>
                  <a:chOff x="8435880" y="624960"/>
                  <a:chExt cx="137880" cy="143280"/>
                </a:xfrm>
              </p:grpSpPr>
              <p:sp>
                <p:nvSpPr>
                  <p:cNvPr id="3438" name=""/>
                  <p:cNvSpPr/>
                  <p:nvPr/>
                </p:nvSpPr>
                <p:spPr>
                  <a:xfrm>
                    <a:off x="8435880" y="68760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39" name=""/>
                  <p:cNvGrpSpPr/>
                  <p:nvPr/>
                </p:nvGrpSpPr>
                <p:grpSpPr>
                  <a:xfrm>
                    <a:off x="8438400" y="624960"/>
                    <a:ext cx="132480" cy="143280"/>
                    <a:chOff x="8438400" y="624960"/>
                    <a:chExt cx="132480" cy="143280"/>
                  </a:xfrm>
                </p:grpSpPr>
                <p:sp>
                  <p:nvSpPr>
                    <p:cNvPr id="3440" name=""/>
                    <p:cNvSpPr/>
                    <p:nvPr/>
                  </p:nvSpPr>
                  <p:spPr>
                    <a:xfrm>
                      <a:off x="8439120" y="69444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1" name=""/>
                    <p:cNvSpPr/>
                    <p:nvPr/>
                  </p:nvSpPr>
                  <p:spPr>
                    <a:xfrm flipV="1">
                      <a:off x="8438400" y="63648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2" name=""/>
                    <p:cNvSpPr/>
                    <p:nvPr/>
                  </p:nvSpPr>
                  <p:spPr>
                    <a:xfrm>
                      <a:off x="8442360" y="62496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43" name=""/>
                <p:cNvGrpSpPr/>
                <p:nvPr/>
              </p:nvGrpSpPr>
              <p:grpSpPr>
                <a:xfrm>
                  <a:off x="8461080" y="552240"/>
                  <a:ext cx="86400" cy="72360"/>
                  <a:chOff x="8461080" y="552240"/>
                  <a:chExt cx="86400" cy="72360"/>
                </a:xfrm>
              </p:grpSpPr>
              <p:sp>
                <p:nvSpPr>
                  <p:cNvPr id="3444" name=""/>
                  <p:cNvSpPr/>
                  <p:nvPr/>
                </p:nvSpPr>
                <p:spPr>
                  <a:xfrm>
                    <a:off x="846144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>
                    <a:off x="847980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>
                    <a:off x="849816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>
                    <a:off x="851796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>
                    <a:off x="853668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>
                    <a:off x="8461080" y="58320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>
                    <a:off x="8461800" y="6058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>
                    <a:off x="8461800" y="62460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52" name=""/>
                <p:cNvSpPr/>
                <p:nvPr/>
              </p:nvSpPr>
              <p:spPr>
                <a:xfrm>
                  <a:off x="8452080" y="69408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8535600" y="6933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8486640" y="70776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5" name=""/>
            <p:cNvSpPr/>
            <p:nvPr/>
          </p:nvSpPr>
          <p:spPr>
            <a:xfrm>
              <a:off x="7698600" y="-19440"/>
              <a:ext cx="161244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6" name=""/>
          <p:cNvSpPr/>
          <p:nvPr/>
        </p:nvSpPr>
        <p:spPr>
          <a:xfrm>
            <a:off x="2036880" y="865080"/>
            <a:ext cx="605628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age  of   [submode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[…clamps]  only  in  mode  ‚non-driving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kes sure that internal pulldown only active in tri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ynamic switching  high to l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[pullup] to [pulldow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BIS static calcul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 = [pullup] + (model) [.. clamps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  = [pulldown] + (model) [.. clamp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state = (model) [.. clamps] + (submodel) [.. clamp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eparation of original clamp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58" name=""/>
          <p:cNvGrpSpPr/>
          <p:nvPr/>
        </p:nvGrpSpPr>
        <p:grpSpPr>
          <a:xfrm>
            <a:off x="7525800" y="145800"/>
            <a:ext cx="1612440" cy="1206720"/>
            <a:chOff x="7525800" y="145800"/>
            <a:chExt cx="1612440" cy="1206720"/>
          </a:xfrm>
        </p:grpSpPr>
        <p:grpSp>
          <p:nvGrpSpPr>
            <p:cNvPr id="3459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3460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3461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3462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8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3469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0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4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1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3482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3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4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3485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3486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3487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8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9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0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3491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2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3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4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3495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6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7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8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3499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0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1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2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3503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4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5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06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3507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3508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9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0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1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3512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3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4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5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3516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7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8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9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3520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1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2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3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3524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5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6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27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3528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3529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30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3531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2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3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34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3535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3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46" name=""/>
            <p:cNvSpPr/>
            <p:nvPr/>
          </p:nvSpPr>
          <p:spPr>
            <a:xfrm>
              <a:off x="7525800" y="145800"/>
              <a:ext cx="161244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0" y="920880"/>
            <a:ext cx="7244280" cy="2004840"/>
            <a:chOff x="0" y="920880"/>
            <a:chExt cx="7244280" cy="2004840"/>
          </a:xfrm>
        </p:grpSpPr>
        <p:grpSp>
          <p:nvGrpSpPr>
            <p:cNvPr id="3548" name=""/>
            <p:cNvGrpSpPr/>
            <p:nvPr/>
          </p:nvGrpSpPr>
          <p:grpSpPr>
            <a:xfrm>
              <a:off x="2921040" y="920880"/>
              <a:ext cx="4323240" cy="2004840"/>
              <a:chOff x="2921040" y="920880"/>
              <a:chExt cx="4323240" cy="2004840"/>
            </a:xfrm>
          </p:grpSpPr>
          <p:grpSp>
            <p:nvGrpSpPr>
              <p:cNvPr id="3549" name=""/>
              <p:cNvGrpSpPr/>
              <p:nvPr/>
            </p:nvGrpSpPr>
            <p:grpSpPr>
              <a:xfrm>
                <a:off x="2921040" y="920880"/>
                <a:ext cx="4323240" cy="1440720"/>
                <a:chOff x="2921040" y="920880"/>
                <a:chExt cx="4323240" cy="1440720"/>
              </a:xfrm>
            </p:grpSpPr>
            <p:sp>
              <p:nvSpPr>
                <p:cNvPr id="3550" name=""/>
                <p:cNvSpPr/>
                <p:nvPr/>
              </p:nvSpPr>
              <p:spPr>
                <a:xfrm>
                  <a:off x="6338160" y="1995480"/>
                  <a:ext cx="906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U/V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 rot="16200000">
                  <a:off x="2633400" y="1208160"/>
                  <a:ext cx="941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 / A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2" name=""/>
              <p:cNvGrpSpPr/>
              <p:nvPr/>
            </p:nvGrpSpPr>
            <p:grpSpPr>
              <a:xfrm>
                <a:off x="3062160" y="1100160"/>
                <a:ext cx="3729240" cy="1825560"/>
                <a:chOff x="3062160" y="1100160"/>
                <a:chExt cx="3729240" cy="1825560"/>
              </a:xfrm>
            </p:grpSpPr>
            <p:grpSp>
              <p:nvGrpSpPr>
                <p:cNvPr id="3553" name=""/>
                <p:cNvGrpSpPr/>
                <p:nvPr/>
              </p:nvGrpSpPr>
              <p:grpSpPr>
                <a:xfrm>
                  <a:off x="3230640" y="1100160"/>
                  <a:ext cx="3560760" cy="1427040"/>
                  <a:chOff x="3230640" y="1100160"/>
                  <a:chExt cx="3560760" cy="1427040"/>
                </a:xfrm>
              </p:grpSpPr>
              <p:sp>
                <p:nvSpPr>
                  <p:cNvPr id="3554" name=""/>
                  <p:cNvSpPr/>
                  <p:nvPr/>
                </p:nvSpPr>
                <p:spPr>
                  <a:xfrm>
                    <a:off x="3230640" y="1923480"/>
                    <a:ext cx="356076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3762360" y="1100160"/>
                    <a:ext cx="5040" cy="1427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56" name=""/>
                <p:cNvSpPr/>
                <p:nvPr/>
              </p:nvSpPr>
              <p:spPr>
                <a:xfrm>
                  <a:off x="3906720" y="199548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>
                  <a:off x="5516280" y="2003400"/>
                  <a:ext cx="491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8" name=""/>
                <p:cNvGrpSpPr/>
                <p:nvPr/>
              </p:nvGrpSpPr>
              <p:grpSpPr>
                <a:xfrm>
                  <a:off x="3062160" y="1163160"/>
                  <a:ext cx="3245040" cy="1762560"/>
                  <a:chOff x="3062160" y="1163160"/>
                  <a:chExt cx="3245040" cy="1762560"/>
                </a:xfrm>
              </p:grpSpPr>
              <p:sp>
                <p:nvSpPr>
                  <p:cNvPr id="3559" name=""/>
                  <p:cNvSpPr/>
                  <p:nvPr/>
                </p:nvSpPr>
                <p:spPr>
                  <a:xfrm flipV="1">
                    <a:off x="3317760" y="2211480"/>
                    <a:ext cx="284400" cy="16200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 flipV="1">
                    <a:off x="3062160" y="2359080"/>
                    <a:ext cx="271440" cy="56664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61" name=""/>
                  <p:cNvGrpSpPr/>
                  <p:nvPr/>
                </p:nvGrpSpPr>
                <p:grpSpPr>
                  <a:xfrm>
                    <a:off x="3556080" y="1915920"/>
                    <a:ext cx="2197080" cy="312120"/>
                    <a:chOff x="3556080" y="1915920"/>
                    <a:chExt cx="2197080" cy="312120"/>
                  </a:xfrm>
                </p:grpSpPr>
                <p:sp>
                  <p:nvSpPr>
                    <p:cNvPr id="3562" name=""/>
                    <p:cNvSpPr/>
                    <p:nvPr/>
                  </p:nvSpPr>
                  <p:spPr>
                    <a:xfrm>
                      <a:off x="3556080" y="2228040"/>
                      <a:ext cx="1339920" cy="0"/>
                    </a:xfrm>
                    <a:prstGeom prst="line">
                      <a:avLst/>
                    </a:prstGeom>
                    <a:ln w="57240">
                      <a:solidFill>
                        <a:srgbClr val="00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3" name=""/>
                    <p:cNvSpPr/>
                    <p:nvPr/>
                  </p:nvSpPr>
                  <p:spPr>
                    <a:xfrm flipV="1">
                      <a:off x="4896000" y="2130480"/>
                      <a:ext cx="533160" cy="97200"/>
                    </a:xfrm>
                    <a:prstGeom prst="line">
                      <a:avLst/>
                    </a:prstGeom>
                    <a:ln w="57240">
                      <a:solidFill>
                        <a:srgbClr val="00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4" name=""/>
                    <p:cNvSpPr/>
                    <p:nvPr/>
                  </p:nvSpPr>
                  <p:spPr>
                    <a:xfrm flipV="1">
                      <a:off x="5429160" y="1915920"/>
                      <a:ext cx="324000" cy="202680"/>
                    </a:xfrm>
                    <a:prstGeom prst="line">
                      <a:avLst/>
                    </a:prstGeom>
                    <a:ln w="57240">
                      <a:solidFill>
                        <a:srgbClr val="00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5" name=""/>
                  <p:cNvSpPr/>
                  <p:nvPr/>
                </p:nvSpPr>
                <p:spPr>
                  <a:xfrm flipV="1">
                    <a:off x="5753160" y="1746360"/>
                    <a:ext cx="271440" cy="16992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 flipV="1">
                    <a:off x="6033960" y="1163160"/>
                    <a:ext cx="273240" cy="576360"/>
                  </a:xfrm>
                  <a:prstGeom prst="line">
                    <a:avLst/>
                  </a:prstGeom>
                  <a:ln w="57240">
                    <a:solidFill>
                      <a:srgbClr val="00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67" name=""/>
            <p:cNvSpPr/>
            <p:nvPr/>
          </p:nvSpPr>
          <p:spPr>
            <a:xfrm>
              <a:off x="0" y="1862280"/>
              <a:ext cx="3098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riginal  [.. clamp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0" y="3556080"/>
            <a:ext cx="4766400" cy="2958120"/>
            <a:chOff x="0" y="3556080"/>
            <a:chExt cx="4766400" cy="2958120"/>
          </a:xfrm>
        </p:grpSpPr>
        <p:grpSp>
          <p:nvGrpSpPr>
            <p:cNvPr id="3569" name=""/>
            <p:cNvGrpSpPr/>
            <p:nvPr/>
          </p:nvGrpSpPr>
          <p:grpSpPr>
            <a:xfrm>
              <a:off x="442800" y="3556080"/>
              <a:ext cx="4323600" cy="1794960"/>
              <a:chOff x="442800" y="3556080"/>
              <a:chExt cx="4323600" cy="1794960"/>
            </a:xfrm>
          </p:grpSpPr>
          <p:sp>
            <p:nvSpPr>
              <p:cNvPr id="3570" name=""/>
              <p:cNvSpPr/>
              <p:nvPr/>
            </p:nvSpPr>
            <p:spPr>
              <a:xfrm>
                <a:off x="1033560" y="4538520"/>
                <a:ext cx="2244600" cy="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 flipV="1">
                <a:off x="3278160" y="4376520"/>
                <a:ext cx="284040" cy="16200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2" name=""/>
              <p:cNvGrpSpPr/>
              <p:nvPr/>
            </p:nvGrpSpPr>
            <p:grpSpPr>
              <a:xfrm>
                <a:off x="752400" y="3735000"/>
                <a:ext cx="3560760" cy="1427400"/>
                <a:chOff x="752400" y="3735000"/>
                <a:chExt cx="3560760" cy="1427400"/>
              </a:xfrm>
            </p:grpSpPr>
            <p:sp>
              <p:nvSpPr>
                <p:cNvPr id="3573" name=""/>
                <p:cNvSpPr/>
                <p:nvPr/>
              </p:nvSpPr>
              <p:spPr>
                <a:xfrm>
                  <a:off x="752400" y="4558680"/>
                  <a:ext cx="356076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>
                  <a:off x="1284120" y="3735000"/>
                  <a:ext cx="5040" cy="142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5" name=""/>
              <p:cNvSpPr/>
              <p:nvPr/>
            </p:nvSpPr>
            <p:spPr>
              <a:xfrm>
                <a:off x="1428480" y="4630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3860280" y="4630680"/>
                <a:ext cx="906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/V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3038040" y="4638600"/>
                <a:ext cx="491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c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rot="16200000">
                <a:off x="155160" y="3843360"/>
                <a:ext cx="941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 / 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 flipV="1">
                <a:off x="853920" y="4531680"/>
                <a:ext cx="203400" cy="26676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flipV="1">
                <a:off x="588960" y="4784040"/>
                <a:ext cx="271440" cy="56700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flipV="1">
                <a:off x="3557520" y="3798720"/>
                <a:ext cx="271440" cy="566640"/>
              </a:xfrm>
              <a:prstGeom prst="line">
                <a:avLst/>
              </a:prstGeom>
              <a:ln w="572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>
              <a:off x="0" y="5448240"/>
              <a:ext cx="4219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orrected (model)  [.. clamp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ith diode behavi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4809960" y="3556080"/>
            <a:ext cx="4334040" cy="3043800"/>
            <a:chOff x="4809960" y="3556080"/>
            <a:chExt cx="4334040" cy="3043800"/>
          </a:xfrm>
        </p:grpSpPr>
        <p:grpSp>
          <p:nvGrpSpPr>
            <p:cNvPr id="3584" name=""/>
            <p:cNvGrpSpPr/>
            <p:nvPr/>
          </p:nvGrpSpPr>
          <p:grpSpPr>
            <a:xfrm>
              <a:off x="4809960" y="3556080"/>
              <a:ext cx="4323600" cy="1606320"/>
              <a:chOff x="4809960" y="3556080"/>
              <a:chExt cx="4323600" cy="1606320"/>
            </a:xfrm>
          </p:grpSpPr>
          <p:grpSp>
            <p:nvGrpSpPr>
              <p:cNvPr id="3585" name=""/>
              <p:cNvGrpSpPr/>
              <p:nvPr/>
            </p:nvGrpSpPr>
            <p:grpSpPr>
              <a:xfrm>
                <a:off x="5464080" y="4548240"/>
                <a:ext cx="2522520" cy="429840"/>
                <a:chOff x="5464080" y="4548240"/>
                <a:chExt cx="2522520" cy="429840"/>
              </a:xfrm>
            </p:grpSpPr>
            <p:sp>
              <p:nvSpPr>
                <p:cNvPr id="3586" name=""/>
                <p:cNvSpPr/>
                <p:nvPr/>
              </p:nvSpPr>
              <p:spPr>
                <a:xfrm flipV="1">
                  <a:off x="5464080" y="4906440"/>
                  <a:ext cx="1330560" cy="7164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 flipV="1">
                  <a:off x="6794640" y="4795920"/>
                  <a:ext cx="529920" cy="11088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 flipV="1">
                  <a:off x="7324560" y="4556160"/>
                  <a:ext cx="320760" cy="22680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 flipV="1">
                  <a:off x="7645320" y="4548240"/>
                  <a:ext cx="341280" cy="7920"/>
                </a:xfrm>
                <a:prstGeom prst="line">
                  <a:avLst/>
                </a:prstGeom>
                <a:ln w="5724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0" name=""/>
              <p:cNvGrpSpPr/>
              <p:nvPr/>
            </p:nvGrpSpPr>
            <p:grpSpPr>
              <a:xfrm>
                <a:off x="4809960" y="3556080"/>
                <a:ext cx="4323600" cy="1606320"/>
                <a:chOff x="4809960" y="3556080"/>
                <a:chExt cx="4323600" cy="1606320"/>
              </a:xfrm>
            </p:grpSpPr>
            <p:grpSp>
              <p:nvGrpSpPr>
                <p:cNvPr id="3591" name=""/>
                <p:cNvGrpSpPr/>
                <p:nvPr/>
              </p:nvGrpSpPr>
              <p:grpSpPr>
                <a:xfrm>
                  <a:off x="5119560" y="3735360"/>
                  <a:ext cx="3560760" cy="1427040"/>
                  <a:chOff x="5119560" y="3735360"/>
                  <a:chExt cx="3560760" cy="1427040"/>
                </a:xfrm>
              </p:grpSpPr>
              <p:sp>
                <p:nvSpPr>
                  <p:cNvPr id="3592" name=""/>
                  <p:cNvSpPr/>
                  <p:nvPr/>
                </p:nvSpPr>
                <p:spPr>
                  <a:xfrm>
                    <a:off x="5119560" y="4558680"/>
                    <a:ext cx="356076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3" name=""/>
                  <p:cNvSpPr/>
                  <p:nvPr/>
                </p:nvSpPr>
                <p:spPr>
                  <a:xfrm>
                    <a:off x="5651280" y="3735360"/>
                    <a:ext cx="5040" cy="1427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94" name=""/>
                <p:cNvSpPr/>
                <p:nvPr/>
              </p:nvSpPr>
              <p:spPr>
                <a:xfrm>
                  <a:off x="5795640" y="463068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8227440" y="4630680"/>
                  <a:ext cx="906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U/V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>
                  <a:off x="7405200" y="4638600"/>
                  <a:ext cx="491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 rot="16200000">
                  <a:off x="4522320" y="3843360"/>
                  <a:ext cx="941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 / A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98" name=""/>
            <p:cNvSpPr/>
            <p:nvPr/>
          </p:nvSpPr>
          <p:spPr>
            <a:xfrm>
              <a:off x="4924440" y="5533920"/>
              <a:ext cx="4219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New (submodel)  [.. clamp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ith internal pullup behavi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9" name=""/>
          <p:cNvSpPr/>
          <p:nvPr/>
        </p:nvSpPr>
        <p:spPr>
          <a:xfrm rot="2700000">
            <a:off x="1951200" y="2351880"/>
            <a:ext cx="635040" cy="1353960"/>
          </a:xfrm>
          <a:prstGeom prst="downArrow">
            <a:avLst>
              <a:gd name="adj1" fmla="val 50000"/>
              <a:gd name="adj2" fmla="val 53302"/>
            </a:avLst>
          </a:prstGeom>
          <a:solidFill>
            <a:srgbClr val="ff33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 rot="18900000">
            <a:off x="5365800" y="2361960"/>
            <a:ext cx="635040" cy="1353960"/>
          </a:xfrm>
          <a:prstGeom prst="downArrow">
            <a:avLst>
              <a:gd name="adj1" fmla="val 50000"/>
              <a:gd name="adj2" fmla="val 53302"/>
            </a:avLst>
          </a:prstGeom>
          <a:solidFill>
            <a:srgbClr val="ff33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10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3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3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1000"/>
                                        <p:tgtEl>
                                          <p:spTgt spid="3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3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3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tatic curves  high &amp; low  ( model with submodel )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602" name=""/>
          <p:cNvGrpSpPr/>
          <p:nvPr/>
        </p:nvGrpSpPr>
        <p:grpSpPr>
          <a:xfrm>
            <a:off x="7525800" y="145800"/>
            <a:ext cx="1612440" cy="1206720"/>
            <a:chOff x="7525800" y="145800"/>
            <a:chExt cx="1612440" cy="1206720"/>
          </a:xfrm>
        </p:grpSpPr>
        <p:grpSp>
          <p:nvGrpSpPr>
            <p:cNvPr id="3603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3604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3605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3606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7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2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3613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18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5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3626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7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28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3629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3630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3631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2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3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4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3635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6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7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8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3639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0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1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2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3643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4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5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6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3647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8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9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0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3651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3652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3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4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5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3656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7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8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9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3660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1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2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3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3664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5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6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7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3668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9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0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71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3672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3673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74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3675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6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7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78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3679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0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5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87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90" name=""/>
            <p:cNvSpPr/>
            <p:nvPr/>
          </p:nvSpPr>
          <p:spPr>
            <a:xfrm>
              <a:off x="7525800" y="145800"/>
              <a:ext cx="161244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1" name=""/>
          <p:cNvGrpSpPr/>
          <p:nvPr/>
        </p:nvGrpSpPr>
        <p:grpSpPr>
          <a:xfrm>
            <a:off x="284040" y="839880"/>
            <a:ext cx="4539960" cy="3425760"/>
            <a:chOff x="284040" y="839880"/>
            <a:chExt cx="4539960" cy="3425760"/>
          </a:xfrm>
        </p:grpSpPr>
        <p:grpSp>
          <p:nvGrpSpPr>
            <p:cNvPr id="3692" name=""/>
            <p:cNvGrpSpPr/>
            <p:nvPr/>
          </p:nvGrpSpPr>
          <p:grpSpPr>
            <a:xfrm>
              <a:off x="284040" y="839880"/>
              <a:ext cx="4539960" cy="3141000"/>
              <a:chOff x="284040" y="839880"/>
              <a:chExt cx="4539960" cy="3141000"/>
            </a:xfrm>
          </p:grpSpPr>
          <p:grpSp>
            <p:nvGrpSpPr>
              <p:cNvPr id="3693" name=""/>
              <p:cNvGrpSpPr/>
              <p:nvPr/>
            </p:nvGrpSpPr>
            <p:grpSpPr>
              <a:xfrm>
                <a:off x="284040" y="839880"/>
                <a:ext cx="4539960" cy="3141000"/>
                <a:chOff x="284040" y="839880"/>
                <a:chExt cx="4539960" cy="3141000"/>
              </a:xfrm>
            </p:grpSpPr>
            <p:sp>
              <p:nvSpPr>
                <p:cNvPr id="3694" name=""/>
                <p:cNvSpPr/>
                <p:nvPr/>
              </p:nvSpPr>
              <p:spPr>
                <a:xfrm>
                  <a:off x="284040" y="2652480"/>
                  <a:ext cx="4539960" cy="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961920" y="839880"/>
                  <a:ext cx="6120" cy="3141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6" name=""/>
              <p:cNvGrpSpPr/>
              <p:nvPr/>
            </p:nvGrpSpPr>
            <p:grpSpPr>
              <a:xfrm>
                <a:off x="3907440" y="2843280"/>
                <a:ext cx="903240" cy="186120"/>
                <a:chOff x="3907440" y="2843280"/>
                <a:chExt cx="903240" cy="186120"/>
              </a:xfrm>
            </p:grpSpPr>
            <p:sp>
              <p:nvSpPr>
                <p:cNvPr id="3697" name=""/>
                <p:cNvSpPr/>
                <p:nvPr/>
              </p:nvSpPr>
              <p:spPr>
                <a:xfrm>
                  <a:off x="4357440" y="2843280"/>
                  <a:ext cx="453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/V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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>
                  <a:off x="3907440" y="2846520"/>
                  <a:ext cx="244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Vc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9" name=""/>
              <p:cNvSpPr/>
              <p:nvPr/>
            </p:nvSpPr>
            <p:spPr>
              <a:xfrm rot="16200000">
                <a:off x="415080" y="1879560"/>
                <a:ext cx="47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 / A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0" name=""/>
            <p:cNvSpPr/>
            <p:nvPr/>
          </p:nvSpPr>
          <p:spPr>
            <a:xfrm>
              <a:off x="801720" y="2484360"/>
              <a:ext cx="1752480" cy="1781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1911240" y="987480"/>
              <a:ext cx="1751040" cy="17812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61880" y="3365640"/>
              <a:ext cx="1174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50 Ohm g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3" name=""/>
          <p:cNvGrpSpPr/>
          <p:nvPr/>
        </p:nvGrpSpPr>
        <p:grpSpPr>
          <a:xfrm>
            <a:off x="109440" y="2284560"/>
            <a:ext cx="3241800" cy="1981080"/>
            <a:chOff x="109440" y="2284560"/>
            <a:chExt cx="3241800" cy="1981080"/>
          </a:xfrm>
        </p:grpSpPr>
        <p:sp>
          <p:nvSpPr>
            <p:cNvPr id="3704" name=""/>
            <p:cNvSpPr/>
            <p:nvPr/>
          </p:nvSpPr>
          <p:spPr>
            <a:xfrm>
              <a:off x="109440" y="2806560"/>
              <a:ext cx="703440" cy="2692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00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125360" y="2678040"/>
              <a:ext cx="7732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013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1535040" y="2284560"/>
              <a:ext cx="784440" cy="2692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518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567160" y="2365200"/>
              <a:ext cx="7840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524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265480" y="2438280"/>
              <a:ext cx="0" cy="1827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390760" y="2438280"/>
              <a:ext cx="0" cy="1827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030320" y="2571840"/>
              <a:ext cx="0" cy="355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2097000" y="3747960"/>
              <a:ext cx="492120" cy="51768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14240" y="2424240"/>
              <a:ext cx="489240" cy="5173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3" name=""/>
          <p:cNvGrpSpPr/>
          <p:nvPr/>
        </p:nvGrpSpPr>
        <p:grpSpPr>
          <a:xfrm>
            <a:off x="6127920" y="966960"/>
            <a:ext cx="1856160" cy="2293920"/>
            <a:chOff x="6127920" y="966960"/>
            <a:chExt cx="1856160" cy="2293920"/>
          </a:xfrm>
        </p:grpSpPr>
        <p:sp>
          <p:nvSpPr>
            <p:cNvPr id="3714" name=""/>
            <p:cNvSpPr/>
            <p:nvPr/>
          </p:nvSpPr>
          <p:spPr>
            <a:xfrm>
              <a:off x="6127920" y="966960"/>
              <a:ext cx="1349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aveform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.518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0.004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128640" y="2179800"/>
              <a:ext cx="18554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odel I-V-table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.518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.00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6" name=""/>
          <p:cNvGrpSpPr/>
          <p:nvPr/>
        </p:nvGrpSpPr>
        <p:grpSpPr>
          <a:xfrm>
            <a:off x="471240" y="4210200"/>
            <a:ext cx="7668000" cy="2214000"/>
            <a:chOff x="471240" y="4210200"/>
            <a:chExt cx="7668000" cy="2214000"/>
          </a:xfrm>
        </p:grpSpPr>
        <p:sp>
          <p:nvSpPr>
            <p:cNvPr id="3717" name=""/>
            <p:cNvSpPr/>
            <p:nvPr/>
          </p:nvSpPr>
          <p:spPr>
            <a:xfrm>
              <a:off x="471240" y="4255920"/>
              <a:ext cx="7668000" cy="216828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RNING - Model LVCMOS_3P3V_DR310_TRI: The [Rising Waveform]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[R_fixture]=50 Ohms and [V_fixture]=0.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s TYP column DC endpoints of  0.00V and  0.52v,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 equivalent load applied to the model's I-V tables yiel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fferent voltages (0.00V and  0.52V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difference of  0.77% and  0.58%, respectivel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8" name=""/>
            <p:cNvGrpSpPr/>
            <p:nvPr/>
          </p:nvGrpSpPr>
          <p:grpSpPr>
            <a:xfrm>
              <a:off x="812880" y="4210200"/>
              <a:ext cx="772560" cy="419760"/>
              <a:chOff x="812880" y="4210200"/>
              <a:chExt cx="772560" cy="419760"/>
            </a:xfrm>
          </p:grpSpPr>
          <p:sp>
            <p:nvSpPr>
              <p:cNvPr id="3719" name=""/>
              <p:cNvSpPr/>
              <p:nvPr/>
            </p:nvSpPr>
            <p:spPr>
              <a:xfrm>
                <a:off x="814320" y="4210200"/>
                <a:ext cx="771120" cy="41256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812880" y="4217760"/>
                <a:ext cx="771480" cy="41220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1" name=""/>
          <p:cNvGrpSpPr/>
          <p:nvPr/>
        </p:nvGrpSpPr>
        <p:grpSpPr>
          <a:xfrm>
            <a:off x="461880" y="639720"/>
            <a:ext cx="3155760" cy="2239920"/>
            <a:chOff x="461880" y="639720"/>
            <a:chExt cx="3155760" cy="2239920"/>
          </a:xfrm>
        </p:grpSpPr>
        <p:sp>
          <p:nvSpPr>
            <p:cNvPr id="3722" name=""/>
            <p:cNvSpPr/>
            <p:nvPr/>
          </p:nvSpPr>
          <p:spPr>
            <a:xfrm>
              <a:off x="461880" y="639720"/>
              <a:ext cx="3086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[pulldown] + [..clamps]  n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3" name=""/>
            <p:cNvGrpSpPr/>
            <p:nvPr/>
          </p:nvGrpSpPr>
          <p:grpSpPr>
            <a:xfrm>
              <a:off x="902880" y="987480"/>
              <a:ext cx="2714760" cy="1892160"/>
              <a:chOff x="902880" y="987480"/>
              <a:chExt cx="2714760" cy="1892160"/>
            </a:xfrm>
          </p:grpSpPr>
          <p:sp>
            <p:nvSpPr>
              <p:cNvPr id="3724" name=""/>
              <p:cNvSpPr/>
              <p:nvPr/>
            </p:nvSpPr>
            <p:spPr>
              <a:xfrm flipH="1">
                <a:off x="2152800" y="987480"/>
                <a:ext cx="146484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H="1">
                <a:off x="1563840" y="987480"/>
                <a:ext cx="588960" cy="29736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1216080" y="1284120"/>
                <a:ext cx="352800" cy="53172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H="1">
                <a:off x="902880" y="1816200"/>
                <a:ext cx="312840" cy="106344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8" name=""/>
            <p:cNvSpPr/>
            <p:nvPr/>
          </p:nvSpPr>
          <p:spPr>
            <a:xfrm>
              <a:off x="1171440" y="974880"/>
              <a:ext cx="158760" cy="657000"/>
            </a:xfrm>
            <a:prstGeom prst="downArrow">
              <a:avLst>
                <a:gd name="adj1" fmla="val 50000"/>
                <a:gd name="adj2" fmla="val 103458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9" name=""/>
          <p:cNvGrpSpPr/>
          <p:nvPr/>
        </p:nvGrpSpPr>
        <p:grpSpPr>
          <a:xfrm>
            <a:off x="958680" y="2104560"/>
            <a:ext cx="4756320" cy="1989720"/>
            <a:chOff x="958680" y="2104560"/>
            <a:chExt cx="4756320" cy="1989720"/>
          </a:xfrm>
        </p:grpSpPr>
        <p:sp>
          <p:nvSpPr>
            <p:cNvPr id="3730" name=""/>
            <p:cNvSpPr/>
            <p:nvPr/>
          </p:nvSpPr>
          <p:spPr>
            <a:xfrm>
              <a:off x="3562200" y="3735360"/>
              <a:ext cx="21528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de-DE" sz="1200" spc="-1" strike="noStrike">
                  <a:solidFill>
                    <a:srgbClr val="000000"/>
                  </a:solidFill>
                  <a:latin typeface="Arial"/>
                </a:rPr>
                <a:t>[pullup] + [.. clamps] ori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958680" y="4094280"/>
              <a:ext cx="1463760" cy="0"/>
            </a:xfrm>
            <a:prstGeom prst="line">
              <a:avLst/>
            </a:prstGeom>
            <a:ln w="57240">
              <a:solidFill>
                <a:srgbClr val="00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2422440" y="3816360"/>
              <a:ext cx="587520" cy="277920"/>
            </a:xfrm>
            <a:prstGeom prst="line">
              <a:avLst/>
            </a:prstGeom>
            <a:ln w="57240">
              <a:solidFill>
                <a:srgbClr val="00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V="1">
              <a:off x="3000240" y="3227400"/>
              <a:ext cx="373320" cy="588960"/>
            </a:xfrm>
            <a:prstGeom prst="line">
              <a:avLst/>
            </a:prstGeom>
            <a:ln w="57240">
              <a:solidFill>
                <a:srgbClr val="00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 flipV="1">
              <a:off x="3365640" y="2104560"/>
              <a:ext cx="314280" cy="1117800"/>
            </a:xfrm>
            <a:prstGeom prst="line">
              <a:avLst/>
            </a:prstGeom>
            <a:ln w="5724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 rot="5400000">
              <a:off x="3254400" y="3746520"/>
              <a:ext cx="79200" cy="326880"/>
            </a:xfrm>
            <a:prstGeom prst="downArrow">
              <a:avLst>
                <a:gd name="adj1" fmla="val 50000"/>
                <a:gd name="adj2" fmla="val 103182"/>
              </a:avLst>
            </a:prstGeom>
            <a:solidFill>
              <a:srgbClr val="ff9900"/>
            </a:solidFill>
            <a:ln w="93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6" name=""/>
          <p:cNvGrpSpPr/>
          <p:nvPr/>
        </p:nvGrpSpPr>
        <p:grpSpPr>
          <a:xfrm>
            <a:off x="973080" y="2107800"/>
            <a:ext cx="5175360" cy="1894320"/>
            <a:chOff x="973080" y="2107800"/>
            <a:chExt cx="5175360" cy="1894320"/>
          </a:xfrm>
        </p:grpSpPr>
        <p:sp>
          <p:nvSpPr>
            <p:cNvPr id="3737" name=""/>
            <p:cNvSpPr/>
            <p:nvPr/>
          </p:nvSpPr>
          <p:spPr>
            <a:xfrm flipV="1">
              <a:off x="2435400" y="3722760"/>
              <a:ext cx="572760" cy="271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V="1">
              <a:off x="3002040" y="3173400"/>
              <a:ext cx="371520" cy="5587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3373560" y="2107800"/>
              <a:ext cx="312480" cy="1065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0" name=""/>
            <p:cNvGrpSpPr/>
            <p:nvPr/>
          </p:nvGrpSpPr>
          <p:grpSpPr>
            <a:xfrm>
              <a:off x="973080" y="2914560"/>
              <a:ext cx="5175360" cy="1087560"/>
              <a:chOff x="973080" y="2914560"/>
              <a:chExt cx="5175360" cy="1087560"/>
            </a:xfrm>
          </p:grpSpPr>
          <p:sp>
            <p:nvSpPr>
              <p:cNvPr id="3741" name=""/>
              <p:cNvSpPr/>
              <p:nvPr/>
            </p:nvSpPr>
            <p:spPr>
              <a:xfrm>
                <a:off x="3494160" y="3241800"/>
                <a:ext cx="265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spAutoFit/>
              </a:bodyPr>
              <a:p>
                <a:pPr>
                  <a:spcBef>
                    <a:spcPts val="1001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[pullup] + [..clamps] ne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973080" y="4002120"/>
                <a:ext cx="146376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2938320" y="2914560"/>
                <a:ext cx="158760" cy="657360"/>
              </a:xfrm>
              <a:prstGeom prst="downArrow">
                <a:avLst>
                  <a:gd name="adj1" fmla="val 50000"/>
                  <a:gd name="adj2" fmla="val 103515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4" name=""/>
          <p:cNvGrpSpPr/>
          <p:nvPr/>
        </p:nvGrpSpPr>
        <p:grpSpPr>
          <a:xfrm>
            <a:off x="953640" y="987480"/>
            <a:ext cx="3094560" cy="2003040"/>
            <a:chOff x="953640" y="987480"/>
            <a:chExt cx="3094560" cy="2003040"/>
          </a:xfrm>
        </p:grpSpPr>
        <p:sp>
          <p:nvSpPr>
            <p:cNvPr id="3745" name=""/>
            <p:cNvSpPr/>
            <p:nvPr/>
          </p:nvSpPr>
          <p:spPr>
            <a:xfrm>
              <a:off x="1736640" y="1393920"/>
              <a:ext cx="23115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751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de-DE" sz="1200" spc="-1" strike="noStrike">
                  <a:solidFill>
                    <a:srgbClr val="000000"/>
                  </a:solidFill>
                  <a:latin typeface="Arial"/>
                </a:rPr>
                <a:t>[pulldown] + [.. clamps] ori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6" name=""/>
            <p:cNvGrpSpPr/>
            <p:nvPr/>
          </p:nvGrpSpPr>
          <p:grpSpPr>
            <a:xfrm>
              <a:off x="953640" y="987480"/>
              <a:ext cx="2692440" cy="2003040"/>
              <a:chOff x="953640" y="987480"/>
              <a:chExt cx="2692440" cy="2003040"/>
            </a:xfrm>
          </p:grpSpPr>
          <p:sp>
            <p:nvSpPr>
              <p:cNvPr id="3747" name=""/>
              <p:cNvSpPr/>
              <p:nvPr/>
            </p:nvSpPr>
            <p:spPr>
              <a:xfrm flipH="1">
                <a:off x="2192760" y="987480"/>
                <a:ext cx="1453320" cy="0"/>
              </a:xfrm>
              <a:prstGeom prst="line">
                <a:avLst/>
              </a:prstGeom>
              <a:ln w="57240">
                <a:solidFill>
                  <a:srgbClr val="00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flipH="1">
                <a:off x="1608840" y="987480"/>
                <a:ext cx="583920" cy="315360"/>
              </a:xfrm>
              <a:prstGeom prst="line">
                <a:avLst/>
              </a:prstGeom>
              <a:ln w="57240">
                <a:solidFill>
                  <a:srgbClr val="00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1263600" y="1301760"/>
                <a:ext cx="350280" cy="562680"/>
              </a:xfrm>
              <a:prstGeom prst="line">
                <a:avLst/>
              </a:prstGeom>
              <a:ln w="57240">
                <a:solidFill>
                  <a:srgbClr val="00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flipH="1">
                <a:off x="953640" y="1864440"/>
                <a:ext cx="309960" cy="1126080"/>
              </a:xfrm>
              <a:prstGeom prst="line">
                <a:avLst/>
              </a:prstGeom>
              <a:ln w="57240">
                <a:solidFill>
                  <a:srgbClr val="00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1" name=""/>
            <p:cNvSpPr/>
            <p:nvPr/>
          </p:nvSpPr>
          <p:spPr>
            <a:xfrm rot="5400000">
              <a:off x="1641240" y="1511280"/>
              <a:ext cx="79560" cy="326880"/>
            </a:xfrm>
            <a:prstGeom prst="downArrow">
              <a:avLst>
                <a:gd name="adj1" fmla="val 50000"/>
                <a:gd name="adj2" fmla="val 102715"/>
              </a:avLst>
            </a:prstGeom>
            <a:solidFill>
              <a:srgbClr val="ff9900"/>
            </a:solidFill>
            <a:ln w="93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3673440" y="764280"/>
            <a:ext cx="1756800" cy="1638000"/>
            <a:chOff x="3673440" y="764280"/>
            <a:chExt cx="1756800" cy="1638000"/>
          </a:xfrm>
        </p:grpSpPr>
        <p:sp>
          <p:nvSpPr>
            <p:cNvPr id="3753" name=""/>
            <p:cNvSpPr/>
            <p:nvPr/>
          </p:nvSpPr>
          <p:spPr>
            <a:xfrm>
              <a:off x="4698360" y="1801800"/>
              <a:ext cx="71712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-0.004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763520" y="1243080"/>
              <a:ext cx="66672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0.518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5" name=""/>
            <p:cNvGrpSpPr/>
            <p:nvPr/>
          </p:nvGrpSpPr>
          <p:grpSpPr>
            <a:xfrm>
              <a:off x="3862440" y="954000"/>
              <a:ext cx="1241280" cy="1246320"/>
              <a:chOff x="3862440" y="954000"/>
              <a:chExt cx="1241280" cy="1246320"/>
            </a:xfrm>
          </p:grpSpPr>
          <p:sp>
            <p:nvSpPr>
              <p:cNvPr id="3756" name=""/>
              <p:cNvSpPr/>
              <p:nvPr/>
            </p:nvSpPr>
            <p:spPr>
              <a:xfrm>
                <a:off x="3929760" y="954000"/>
                <a:ext cx="0" cy="124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2440" y="2147040"/>
                <a:ext cx="124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8" name=""/>
            <p:cNvGrpSpPr/>
            <p:nvPr/>
          </p:nvGrpSpPr>
          <p:grpSpPr>
            <a:xfrm>
              <a:off x="3956040" y="1347840"/>
              <a:ext cx="818640" cy="807840"/>
              <a:chOff x="3956040" y="1347840"/>
              <a:chExt cx="818640" cy="807840"/>
            </a:xfrm>
          </p:grpSpPr>
          <p:sp>
            <p:nvSpPr>
              <p:cNvPr id="3759" name=""/>
              <p:cNvSpPr/>
              <p:nvPr/>
            </p:nvSpPr>
            <p:spPr>
              <a:xfrm flipV="1">
                <a:off x="3956040" y="2148840"/>
                <a:ext cx="189000" cy="6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 flipV="1">
                <a:off x="4144320" y="2071080"/>
                <a:ext cx="180360" cy="80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V="1">
                <a:off x="4325040" y="1841400"/>
                <a:ext cx="93960" cy="227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 flipV="1">
                <a:off x="4421880" y="1639440"/>
                <a:ext cx="49680" cy="199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 flipV="1">
                <a:off x="4474080" y="1434600"/>
                <a:ext cx="78480" cy="199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 flipV="1">
                <a:off x="4555080" y="1353600"/>
                <a:ext cx="109800" cy="78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665240" y="1347840"/>
                <a:ext cx="109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6" name=""/>
            <p:cNvSpPr/>
            <p:nvPr/>
          </p:nvSpPr>
          <p:spPr>
            <a:xfrm flipH="1">
              <a:off x="3854520" y="135900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877640" y="2219400"/>
              <a:ext cx="4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/ns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 rot="16200000">
              <a:off x="3499920" y="937440"/>
              <a:ext cx="52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2000"/>
                                        <p:tgtEl>
                                          <p:spTgt spid="3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2000"/>
                                        <p:tgtEl>
                                          <p:spTgt spid="3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3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2000"/>
                                        <p:tgtEl>
                                          <p:spTgt spid="3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2000"/>
                                        <p:tgtEl>
                                          <p:spTgt spid="3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3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3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3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3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5600" y="1028520"/>
            <a:ext cx="863424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666666"/>
                </a:solidFill>
                <a:latin typeface="Arial"/>
              </a:rPr>
              <a:t>Decoding IBISCHK </a:t>
            </a:r>
            <a:br>
              <a:rPr sz="3200"/>
            </a:br>
            <a:r>
              <a:rPr b="1" lang="fi-FI" sz="3200" spc="-1" strike="noStrike">
                <a:solidFill>
                  <a:srgbClr val="666666"/>
                </a:solidFill>
                <a:latin typeface="Arial"/>
              </a:rPr>
              <a:t>static vs dynamic waveforms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ckhard Lensk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DATE , Nice , F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23rd April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"/>
          <p:cNvSpPr/>
          <p:nvPr/>
        </p:nvSpPr>
        <p:spPr>
          <a:xfrm flipV="1">
            <a:off x="3195720" y="3292560"/>
            <a:ext cx="3914640" cy="262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3430440"/>
          </a:xfrm>
          <a:prstGeom prst="rect">
            <a:avLst/>
          </a:prstGeom>
          <a:ln w="0">
            <a:noFill/>
          </a:ln>
        </p:spPr>
      </p:pic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772" name="" descr=""/>
          <p:cNvPicPr/>
          <p:nvPr/>
        </p:nvPicPr>
        <p:blipFill>
          <a:blip r:embed="rId2"/>
          <a:stretch/>
        </p:blipFill>
        <p:spPr>
          <a:xfrm>
            <a:off x="4041720" y="6635880"/>
            <a:ext cx="528840" cy="222120"/>
          </a:xfrm>
          <a:prstGeom prst="rect">
            <a:avLst/>
          </a:prstGeom>
          <a:ln w="0">
            <a:noFill/>
          </a:ln>
        </p:spPr>
      </p:pic>
      <p:grpSp>
        <p:nvGrpSpPr>
          <p:cNvPr id="3773" name=""/>
          <p:cNvGrpSpPr/>
          <p:nvPr/>
        </p:nvGrpSpPr>
        <p:grpSpPr>
          <a:xfrm>
            <a:off x="6039000" y="2001600"/>
            <a:ext cx="2522160" cy="3818520"/>
            <a:chOff x="6039000" y="2001600"/>
            <a:chExt cx="2522160" cy="3818520"/>
          </a:xfrm>
        </p:grpSpPr>
        <p:grpSp>
          <p:nvGrpSpPr>
            <p:cNvPr id="3774" name=""/>
            <p:cNvGrpSpPr/>
            <p:nvPr/>
          </p:nvGrpSpPr>
          <p:grpSpPr>
            <a:xfrm>
              <a:off x="6039000" y="3292560"/>
              <a:ext cx="2522160" cy="2527560"/>
              <a:chOff x="6039000" y="3292560"/>
              <a:chExt cx="2522160" cy="2527560"/>
            </a:xfrm>
          </p:grpSpPr>
          <p:grpSp>
            <p:nvGrpSpPr>
              <p:cNvPr id="3775" name=""/>
              <p:cNvGrpSpPr/>
              <p:nvPr/>
            </p:nvGrpSpPr>
            <p:grpSpPr>
              <a:xfrm>
                <a:off x="6039000" y="4152600"/>
                <a:ext cx="2522160" cy="1667520"/>
                <a:chOff x="6039000" y="4152600"/>
                <a:chExt cx="2522160" cy="1667520"/>
              </a:xfrm>
            </p:grpSpPr>
            <p:grpSp>
              <p:nvGrpSpPr>
                <p:cNvPr id="3776" name=""/>
                <p:cNvGrpSpPr/>
                <p:nvPr/>
              </p:nvGrpSpPr>
              <p:grpSpPr>
                <a:xfrm>
                  <a:off x="6039000" y="5490360"/>
                  <a:ext cx="2522160" cy="329760"/>
                  <a:chOff x="6039000" y="5490360"/>
                  <a:chExt cx="2522160" cy="329760"/>
                </a:xfrm>
              </p:grpSpPr>
              <p:sp>
                <p:nvSpPr>
                  <p:cNvPr id="3777" name=""/>
                  <p:cNvSpPr/>
                  <p:nvPr/>
                </p:nvSpPr>
                <p:spPr>
                  <a:xfrm>
                    <a:off x="645984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8" name=""/>
                  <p:cNvSpPr/>
                  <p:nvPr/>
                </p:nvSpPr>
                <p:spPr>
                  <a:xfrm>
                    <a:off x="730152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9" name=""/>
                  <p:cNvSpPr/>
                  <p:nvPr/>
                </p:nvSpPr>
                <p:spPr>
                  <a:xfrm>
                    <a:off x="772236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0" name=""/>
                  <p:cNvSpPr/>
                  <p:nvPr/>
                </p:nvSpPr>
                <p:spPr>
                  <a:xfrm>
                    <a:off x="814284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1" name=""/>
                  <p:cNvSpPr/>
                  <p:nvPr/>
                </p:nvSpPr>
                <p:spPr>
                  <a:xfrm>
                    <a:off x="688032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2" name=""/>
                  <p:cNvSpPr/>
                  <p:nvPr/>
                </p:nvSpPr>
                <p:spPr>
                  <a:xfrm>
                    <a:off x="603900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3" name=""/>
                <p:cNvGrpSpPr/>
                <p:nvPr/>
              </p:nvGrpSpPr>
              <p:grpSpPr>
                <a:xfrm>
                  <a:off x="6249960" y="5157000"/>
                  <a:ext cx="2101320" cy="329760"/>
                  <a:chOff x="6249960" y="5157000"/>
                  <a:chExt cx="2101320" cy="329760"/>
                </a:xfrm>
              </p:grpSpPr>
              <p:sp>
                <p:nvSpPr>
                  <p:cNvPr id="3784" name=""/>
                  <p:cNvSpPr/>
                  <p:nvPr/>
                </p:nvSpPr>
                <p:spPr>
                  <a:xfrm>
                    <a:off x="624996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5" name=""/>
                  <p:cNvSpPr/>
                  <p:nvPr/>
                </p:nvSpPr>
                <p:spPr>
                  <a:xfrm>
                    <a:off x="709128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6" name=""/>
                  <p:cNvSpPr/>
                  <p:nvPr/>
                </p:nvSpPr>
                <p:spPr>
                  <a:xfrm>
                    <a:off x="751248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7" name=""/>
                  <p:cNvSpPr/>
                  <p:nvPr/>
                </p:nvSpPr>
                <p:spPr>
                  <a:xfrm>
                    <a:off x="793296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"/>
                  <p:cNvSpPr/>
                  <p:nvPr/>
                </p:nvSpPr>
                <p:spPr>
                  <a:xfrm>
                    <a:off x="667044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89" name=""/>
                <p:cNvSpPr/>
                <p:nvPr/>
              </p:nvSpPr>
              <p:spPr>
                <a:xfrm>
                  <a:off x="6881040" y="4823640"/>
                  <a:ext cx="4190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7723080" y="4823640"/>
                  <a:ext cx="41832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7301880" y="4823640"/>
                  <a:ext cx="4190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6460200" y="4823640"/>
                  <a:ext cx="41832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6671520" y="4490280"/>
                  <a:ext cx="4190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7513560" y="4490280"/>
                  <a:ext cx="41832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7093080" y="4490280"/>
                  <a:ext cx="41832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6" name=""/>
                <p:cNvGrpSpPr/>
                <p:nvPr/>
              </p:nvGrpSpPr>
              <p:grpSpPr>
                <a:xfrm>
                  <a:off x="6885720" y="4152600"/>
                  <a:ext cx="839880" cy="329760"/>
                  <a:chOff x="6885720" y="4152600"/>
                  <a:chExt cx="839880" cy="329760"/>
                </a:xfrm>
              </p:grpSpPr>
              <p:sp>
                <p:nvSpPr>
                  <p:cNvPr id="3797" name=""/>
                  <p:cNvSpPr/>
                  <p:nvPr/>
                </p:nvSpPr>
                <p:spPr>
                  <a:xfrm>
                    <a:off x="6885720" y="4152600"/>
                    <a:ext cx="41904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"/>
                  <p:cNvSpPr/>
                  <p:nvPr/>
                </p:nvSpPr>
                <p:spPr>
                  <a:xfrm>
                    <a:off x="7307280" y="41526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9" name=""/>
              <p:cNvGrpSpPr/>
              <p:nvPr/>
            </p:nvGrpSpPr>
            <p:grpSpPr>
              <a:xfrm>
                <a:off x="7132680" y="4152600"/>
                <a:ext cx="334800" cy="1651320"/>
                <a:chOff x="7132680" y="4152600"/>
                <a:chExt cx="334800" cy="1651320"/>
              </a:xfrm>
            </p:grpSpPr>
            <p:grpSp>
              <p:nvGrpSpPr>
                <p:cNvPr id="3800" name=""/>
                <p:cNvGrpSpPr/>
                <p:nvPr/>
              </p:nvGrpSpPr>
              <p:grpSpPr>
                <a:xfrm>
                  <a:off x="7132680" y="4152600"/>
                  <a:ext cx="334800" cy="829080"/>
                  <a:chOff x="7132680" y="4152600"/>
                  <a:chExt cx="334800" cy="829080"/>
                </a:xfrm>
              </p:grpSpPr>
              <p:grpSp>
                <p:nvGrpSpPr>
                  <p:cNvPr id="3801" name=""/>
                  <p:cNvGrpSpPr/>
                  <p:nvPr/>
                </p:nvGrpSpPr>
                <p:grpSpPr>
                  <a:xfrm>
                    <a:off x="7132680" y="4152600"/>
                    <a:ext cx="334800" cy="165600"/>
                    <a:chOff x="7132680" y="4152600"/>
                    <a:chExt cx="334800" cy="165600"/>
                  </a:xfrm>
                </p:grpSpPr>
                <p:sp>
                  <p:nvSpPr>
                    <p:cNvPr id="3802" name=""/>
                    <p:cNvSpPr/>
                    <p:nvPr/>
                  </p:nvSpPr>
                  <p:spPr>
                    <a:xfrm>
                      <a:off x="7132680" y="4152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3" name=""/>
                    <p:cNvSpPr/>
                    <p:nvPr/>
                  </p:nvSpPr>
                  <p:spPr>
                    <a:xfrm>
                      <a:off x="7132680" y="42058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4" name=""/>
                    <p:cNvSpPr/>
                    <p:nvPr/>
                  </p:nvSpPr>
                  <p:spPr>
                    <a:xfrm>
                      <a:off x="7132680" y="42620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5" name=""/>
                  <p:cNvGrpSpPr/>
                  <p:nvPr/>
                </p:nvGrpSpPr>
                <p:grpSpPr>
                  <a:xfrm>
                    <a:off x="7132680" y="4318920"/>
                    <a:ext cx="334800" cy="165600"/>
                    <a:chOff x="7132680" y="4318920"/>
                    <a:chExt cx="334800" cy="165600"/>
                  </a:xfrm>
                </p:grpSpPr>
                <p:sp>
                  <p:nvSpPr>
                    <p:cNvPr id="3806" name=""/>
                    <p:cNvSpPr/>
                    <p:nvPr/>
                  </p:nvSpPr>
                  <p:spPr>
                    <a:xfrm>
                      <a:off x="7132680" y="43189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7" name=""/>
                    <p:cNvSpPr/>
                    <p:nvPr/>
                  </p:nvSpPr>
                  <p:spPr>
                    <a:xfrm>
                      <a:off x="7132680" y="43722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8" name=""/>
                    <p:cNvSpPr/>
                    <p:nvPr/>
                  </p:nvSpPr>
                  <p:spPr>
                    <a:xfrm>
                      <a:off x="7132680" y="44283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9" name=""/>
                  <p:cNvGrpSpPr/>
                  <p:nvPr/>
                </p:nvGrpSpPr>
                <p:grpSpPr>
                  <a:xfrm>
                    <a:off x="7132680" y="4485600"/>
                    <a:ext cx="334800" cy="165600"/>
                    <a:chOff x="7132680" y="4485600"/>
                    <a:chExt cx="334800" cy="165600"/>
                  </a:xfrm>
                </p:grpSpPr>
                <p:sp>
                  <p:nvSpPr>
                    <p:cNvPr id="3810" name=""/>
                    <p:cNvSpPr/>
                    <p:nvPr/>
                  </p:nvSpPr>
                  <p:spPr>
                    <a:xfrm>
                      <a:off x="7132680" y="4485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1" name=""/>
                    <p:cNvSpPr/>
                    <p:nvPr/>
                  </p:nvSpPr>
                  <p:spPr>
                    <a:xfrm>
                      <a:off x="7132680" y="45388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2" name=""/>
                    <p:cNvSpPr/>
                    <p:nvPr/>
                  </p:nvSpPr>
                  <p:spPr>
                    <a:xfrm>
                      <a:off x="7132680" y="45950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3" name=""/>
                  <p:cNvGrpSpPr/>
                  <p:nvPr/>
                </p:nvGrpSpPr>
                <p:grpSpPr>
                  <a:xfrm>
                    <a:off x="7132680" y="4652280"/>
                    <a:ext cx="334800" cy="165600"/>
                    <a:chOff x="7132680" y="4652280"/>
                    <a:chExt cx="334800" cy="165600"/>
                  </a:xfrm>
                </p:grpSpPr>
                <p:sp>
                  <p:nvSpPr>
                    <p:cNvPr id="3814" name=""/>
                    <p:cNvSpPr/>
                    <p:nvPr/>
                  </p:nvSpPr>
                  <p:spPr>
                    <a:xfrm>
                      <a:off x="7132680" y="46522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5" name=""/>
                    <p:cNvSpPr/>
                    <p:nvPr/>
                  </p:nvSpPr>
                  <p:spPr>
                    <a:xfrm>
                      <a:off x="7132680" y="47055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6" name=""/>
                    <p:cNvSpPr/>
                    <p:nvPr/>
                  </p:nvSpPr>
                  <p:spPr>
                    <a:xfrm>
                      <a:off x="7132680" y="476172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7" name=""/>
                  <p:cNvGrpSpPr/>
                  <p:nvPr/>
                </p:nvGrpSpPr>
                <p:grpSpPr>
                  <a:xfrm>
                    <a:off x="7132680" y="4816080"/>
                    <a:ext cx="334800" cy="165600"/>
                    <a:chOff x="7132680" y="4816080"/>
                    <a:chExt cx="334800" cy="165600"/>
                  </a:xfrm>
                </p:grpSpPr>
                <p:sp>
                  <p:nvSpPr>
                    <p:cNvPr id="3818" name=""/>
                    <p:cNvSpPr/>
                    <p:nvPr/>
                  </p:nvSpPr>
                  <p:spPr>
                    <a:xfrm>
                      <a:off x="7132680" y="48160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9" name=""/>
                    <p:cNvSpPr/>
                    <p:nvPr/>
                  </p:nvSpPr>
                  <p:spPr>
                    <a:xfrm>
                      <a:off x="7132680" y="48693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0" name=""/>
                    <p:cNvSpPr/>
                    <p:nvPr/>
                  </p:nvSpPr>
                  <p:spPr>
                    <a:xfrm>
                      <a:off x="7132680" y="492552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21" name=""/>
                <p:cNvGrpSpPr/>
                <p:nvPr/>
              </p:nvGrpSpPr>
              <p:grpSpPr>
                <a:xfrm>
                  <a:off x="7132680" y="4974840"/>
                  <a:ext cx="334800" cy="829080"/>
                  <a:chOff x="7132680" y="4974840"/>
                  <a:chExt cx="334800" cy="829080"/>
                </a:xfrm>
              </p:grpSpPr>
              <p:grpSp>
                <p:nvGrpSpPr>
                  <p:cNvPr id="3822" name=""/>
                  <p:cNvGrpSpPr/>
                  <p:nvPr/>
                </p:nvGrpSpPr>
                <p:grpSpPr>
                  <a:xfrm>
                    <a:off x="7132680" y="4974840"/>
                    <a:ext cx="334800" cy="165600"/>
                    <a:chOff x="7132680" y="4974840"/>
                    <a:chExt cx="334800" cy="165600"/>
                  </a:xfrm>
                </p:grpSpPr>
                <p:sp>
                  <p:nvSpPr>
                    <p:cNvPr id="3823" name=""/>
                    <p:cNvSpPr/>
                    <p:nvPr/>
                  </p:nvSpPr>
                  <p:spPr>
                    <a:xfrm>
                      <a:off x="7132680" y="49748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4" name=""/>
                    <p:cNvSpPr/>
                    <p:nvPr/>
                  </p:nvSpPr>
                  <p:spPr>
                    <a:xfrm>
                      <a:off x="7132680" y="50281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5" name=""/>
                    <p:cNvSpPr/>
                    <p:nvPr/>
                  </p:nvSpPr>
                  <p:spPr>
                    <a:xfrm>
                      <a:off x="7132680" y="50842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6" name=""/>
                  <p:cNvGrpSpPr/>
                  <p:nvPr/>
                </p:nvGrpSpPr>
                <p:grpSpPr>
                  <a:xfrm>
                    <a:off x="7132680" y="5141160"/>
                    <a:ext cx="334800" cy="165600"/>
                    <a:chOff x="7132680" y="5141160"/>
                    <a:chExt cx="334800" cy="165600"/>
                  </a:xfrm>
                </p:grpSpPr>
                <p:sp>
                  <p:nvSpPr>
                    <p:cNvPr id="3827" name=""/>
                    <p:cNvSpPr/>
                    <p:nvPr/>
                  </p:nvSpPr>
                  <p:spPr>
                    <a:xfrm>
                      <a:off x="7132680" y="51411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8" name=""/>
                    <p:cNvSpPr/>
                    <p:nvPr/>
                  </p:nvSpPr>
                  <p:spPr>
                    <a:xfrm>
                      <a:off x="7132680" y="51944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9" name=""/>
                    <p:cNvSpPr/>
                    <p:nvPr/>
                  </p:nvSpPr>
                  <p:spPr>
                    <a:xfrm>
                      <a:off x="7132680" y="52506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0" name=""/>
                  <p:cNvGrpSpPr/>
                  <p:nvPr/>
                </p:nvGrpSpPr>
                <p:grpSpPr>
                  <a:xfrm>
                    <a:off x="7132680" y="5307840"/>
                    <a:ext cx="334800" cy="165600"/>
                    <a:chOff x="7132680" y="5307840"/>
                    <a:chExt cx="334800" cy="165600"/>
                  </a:xfrm>
                </p:grpSpPr>
                <p:sp>
                  <p:nvSpPr>
                    <p:cNvPr id="3831" name=""/>
                    <p:cNvSpPr/>
                    <p:nvPr/>
                  </p:nvSpPr>
                  <p:spPr>
                    <a:xfrm>
                      <a:off x="7132680" y="53078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2" name=""/>
                    <p:cNvSpPr/>
                    <p:nvPr/>
                  </p:nvSpPr>
                  <p:spPr>
                    <a:xfrm>
                      <a:off x="7132680" y="53611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3" name=""/>
                    <p:cNvSpPr/>
                    <p:nvPr/>
                  </p:nvSpPr>
                  <p:spPr>
                    <a:xfrm>
                      <a:off x="7132680" y="54172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4" name=""/>
                  <p:cNvGrpSpPr/>
                  <p:nvPr/>
                </p:nvGrpSpPr>
                <p:grpSpPr>
                  <a:xfrm>
                    <a:off x="7132680" y="5474520"/>
                    <a:ext cx="334800" cy="165600"/>
                    <a:chOff x="7132680" y="5474520"/>
                    <a:chExt cx="334800" cy="165600"/>
                  </a:xfrm>
                </p:grpSpPr>
                <p:sp>
                  <p:nvSpPr>
                    <p:cNvPr id="3835" name=""/>
                    <p:cNvSpPr/>
                    <p:nvPr/>
                  </p:nvSpPr>
                  <p:spPr>
                    <a:xfrm>
                      <a:off x="7132680" y="54745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6" name=""/>
                    <p:cNvSpPr/>
                    <p:nvPr/>
                  </p:nvSpPr>
                  <p:spPr>
                    <a:xfrm>
                      <a:off x="7132680" y="55278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7" name=""/>
                    <p:cNvSpPr/>
                    <p:nvPr/>
                  </p:nvSpPr>
                  <p:spPr>
                    <a:xfrm>
                      <a:off x="7132680" y="55839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8" name=""/>
                  <p:cNvGrpSpPr/>
                  <p:nvPr/>
                </p:nvGrpSpPr>
                <p:grpSpPr>
                  <a:xfrm>
                    <a:off x="7132680" y="5638320"/>
                    <a:ext cx="334800" cy="165600"/>
                    <a:chOff x="7132680" y="5638320"/>
                    <a:chExt cx="334800" cy="165600"/>
                  </a:xfrm>
                </p:grpSpPr>
                <p:sp>
                  <p:nvSpPr>
                    <p:cNvPr id="3839" name=""/>
                    <p:cNvSpPr/>
                    <p:nvPr/>
                  </p:nvSpPr>
                  <p:spPr>
                    <a:xfrm>
                      <a:off x="7132680" y="56383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0" name=""/>
                    <p:cNvSpPr/>
                    <p:nvPr/>
                  </p:nvSpPr>
                  <p:spPr>
                    <a:xfrm>
                      <a:off x="7132680" y="5691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1" name=""/>
                    <p:cNvSpPr/>
                    <p:nvPr/>
                  </p:nvSpPr>
                  <p:spPr>
                    <a:xfrm>
                      <a:off x="7132680" y="57477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2" name=""/>
              <p:cNvGrpSpPr/>
              <p:nvPr/>
            </p:nvGrpSpPr>
            <p:grpSpPr>
              <a:xfrm>
                <a:off x="7026480" y="3292560"/>
                <a:ext cx="549360" cy="860760"/>
                <a:chOff x="7026480" y="3292560"/>
                <a:chExt cx="549360" cy="860760"/>
              </a:xfrm>
            </p:grpSpPr>
            <p:grpSp>
              <p:nvGrpSpPr>
                <p:cNvPr id="3843" name=""/>
                <p:cNvGrpSpPr/>
                <p:nvPr/>
              </p:nvGrpSpPr>
              <p:grpSpPr>
                <a:xfrm>
                  <a:off x="7026480" y="3582720"/>
                  <a:ext cx="549360" cy="570600"/>
                  <a:chOff x="7026480" y="3582720"/>
                  <a:chExt cx="549360" cy="570600"/>
                </a:xfrm>
              </p:grpSpPr>
              <p:sp>
                <p:nvSpPr>
                  <p:cNvPr id="3844" name=""/>
                  <p:cNvSpPr/>
                  <p:nvPr/>
                </p:nvSpPr>
                <p:spPr>
                  <a:xfrm>
                    <a:off x="7026480" y="3831840"/>
                    <a:ext cx="549360" cy="522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45" name=""/>
                  <p:cNvGrpSpPr/>
                  <p:nvPr/>
                </p:nvGrpSpPr>
                <p:grpSpPr>
                  <a:xfrm>
                    <a:off x="7036920" y="3582720"/>
                    <a:ext cx="527400" cy="570600"/>
                    <a:chOff x="7036920" y="3582720"/>
                    <a:chExt cx="527400" cy="570600"/>
                  </a:xfrm>
                </p:grpSpPr>
                <p:sp>
                  <p:nvSpPr>
                    <p:cNvPr id="3846" name=""/>
                    <p:cNvSpPr/>
                    <p:nvPr/>
                  </p:nvSpPr>
                  <p:spPr>
                    <a:xfrm>
                      <a:off x="7040520" y="3859200"/>
                      <a:ext cx="519480" cy="294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7" name=""/>
                    <p:cNvSpPr/>
                    <p:nvPr/>
                  </p:nvSpPr>
                  <p:spPr>
                    <a:xfrm flipV="1">
                      <a:off x="7036920" y="3631320"/>
                      <a:ext cx="527400" cy="200160"/>
                    </a:xfrm>
                    <a:custGeom>
                      <a:avLst/>
                      <a:gdLst>
                        <a:gd name="textAreaLeft" fmla="*/ 54720 w 527400"/>
                        <a:gd name="textAreaRight" fmla="*/ 472680 w 527400"/>
                        <a:gd name="textAreaTop" fmla="*/ 20880 h 200160"/>
                        <a:gd name="textAreaBottom" fmla="*/ 179280 h 200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8" name=""/>
                    <p:cNvSpPr/>
                    <p:nvPr/>
                  </p:nvSpPr>
                  <p:spPr>
                    <a:xfrm>
                      <a:off x="7052760" y="3582720"/>
                      <a:ext cx="492480" cy="4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49" name=""/>
                <p:cNvGrpSpPr/>
                <p:nvPr/>
              </p:nvGrpSpPr>
              <p:grpSpPr>
                <a:xfrm>
                  <a:off x="7128000" y="3292560"/>
                  <a:ext cx="344520" cy="288360"/>
                  <a:chOff x="7128000" y="3292560"/>
                  <a:chExt cx="344520" cy="288360"/>
                </a:xfrm>
              </p:grpSpPr>
              <p:sp>
                <p:nvSpPr>
                  <p:cNvPr id="3850" name=""/>
                  <p:cNvSpPr/>
                  <p:nvPr/>
                </p:nvSpPr>
                <p:spPr>
                  <a:xfrm>
                    <a:off x="712980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"/>
                  <p:cNvSpPr/>
                  <p:nvPr/>
                </p:nvSpPr>
                <p:spPr>
                  <a:xfrm>
                    <a:off x="720252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"/>
                  <p:cNvSpPr/>
                  <p:nvPr/>
                </p:nvSpPr>
                <p:spPr>
                  <a:xfrm>
                    <a:off x="727560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"/>
                  <p:cNvSpPr/>
                  <p:nvPr/>
                </p:nvSpPr>
                <p:spPr>
                  <a:xfrm>
                    <a:off x="735516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"/>
                  <p:cNvSpPr/>
                  <p:nvPr/>
                </p:nvSpPr>
                <p:spPr>
                  <a:xfrm>
                    <a:off x="742968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"/>
                  <p:cNvSpPr/>
                  <p:nvPr/>
                </p:nvSpPr>
                <p:spPr>
                  <a:xfrm>
                    <a:off x="7128000" y="341604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"/>
                  <p:cNvSpPr/>
                  <p:nvPr/>
                </p:nvSpPr>
                <p:spPr>
                  <a:xfrm>
                    <a:off x="7131240" y="350640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"/>
                  <p:cNvSpPr/>
                  <p:nvPr/>
                </p:nvSpPr>
                <p:spPr>
                  <a:xfrm>
                    <a:off x="7131240" y="358092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58" name=""/>
                <p:cNvSpPr/>
                <p:nvPr/>
              </p:nvSpPr>
              <p:spPr>
                <a:xfrm>
                  <a:off x="7091640" y="3857040"/>
                  <a:ext cx="82440" cy="2934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7423200" y="3854160"/>
                  <a:ext cx="82800" cy="2930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>
                  <a:off x="7229520" y="3911040"/>
                  <a:ext cx="142920" cy="23616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61" name=""/>
            <p:cNvSpPr/>
            <p:nvPr/>
          </p:nvSpPr>
          <p:spPr>
            <a:xfrm>
              <a:off x="6328440" y="2001600"/>
              <a:ext cx="1938960" cy="10551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Example 2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lvds d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2" name=""/>
          <p:cNvGrpSpPr/>
          <p:nvPr/>
        </p:nvGrpSpPr>
        <p:grpSpPr>
          <a:xfrm>
            <a:off x="1663560" y="3159720"/>
            <a:ext cx="2248200" cy="1695960"/>
            <a:chOff x="1663560" y="3159720"/>
            <a:chExt cx="2248200" cy="1695960"/>
          </a:xfrm>
        </p:grpSpPr>
        <p:grpSp>
          <p:nvGrpSpPr>
            <p:cNvPr id="3863" name=""/>
            <p:cNvGrpSpPr/>
            <p:nvPr/>
          </p:nvGrpSpPr>
          <p:grpSpPr>
            <a:xfrm>
              <a:off x="2465640" y="4050720"/>
              <a:ext cx="630360" cy="804960"/>
              <a:chOff x="2465640" y="4050720"/>
              <a:chExt cx="630360" cy="804960"/>
            </a:xfrm>
          </p:grpSpPr>
          <p:grpSp>
            <p:nvGrpSpPr>
              <p:cNvPr id="3864" name=""/>
              <p:cNvGrpSpPr/>
              <p:nvPr/>
            </p:nvGrpSpPr>
            <p:grpSpPr>
              <a:xfrm>
                <a:off x="2465640" y="4324680"/>
                <a:ext cx="630360" cy="531000"/>
                <a:chOff x="2465640" y="4324680"/>
                <a:chExt cx="630360" cy="531000"/>
              </a:xfrm>
            </p:grpSpPr>
            <p:grpSp>
              <p:nvGrpSpPr>
                <p:cNvPr id="3865" name=""/>
                <p:cNvGrpSpPr/>
                <p:nvPr/>
              </p:nvGrpSpPr>
              <p:grpSpPr>
                <a:xfrm>
                  <a:off x="2465640" y="4750560"/>
                  <a:ext cx="630360" cy="105120"/>
                  <a:chOff x="2465640" y="4750560"/>
                  <a:chExt cx="630360" cy="105120"/>
                </a:xfrm>
              </p:grpSpPr>
              <p:sp>
                <p:nvSpPr>
                  <p:cNvPr id="3866" name=""/>
                  <p:cNvSpPr/>
                  <p:nvPr/>
                </p:nvSpPr>
                <p:spPr>
                  <a:xfrm>
                    <a:off x="257076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"/>
                  <p:cNvSpPr/>
                  <p:nvPr/>
                </p:nvSpPr>
                <p:spPr>
                  <a:xfrm>
                    <a:off x="27810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"/>
                  <p:cNvSpPr/>
                  <p:nvPr/>
                </p:nvSpPr>
                <p:spPr>
                  <a:xfrm>
                    <a:off x="28864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"/>
                  <p:cNvSpPr/>
                  <p:nvPr/>
                </p:nvSpPr>
                <p:spPr>
                  <a:xfrm>
                    <a:off x="29916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"/>
                  <p:cNvSpPr/>
                  <p:nvPr/>
                </p:nvSpPr>
                <p:spPr>
                  <a:xfrm>
                    <a:off x="26758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"/>
                  <p:cNvSpPr/>
                  <p:nvPr/>
                </p:nvSpPr>
                <p:spPr>
                  <a:xfrm>
                    <a:off x="246564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2" name=""/>
                <p:cNvGrpSpPr/>
                <p:nvPr/>
              </p:nvGrpSpPr>
              <p:grpSpPr>
                <a:xfrm>
                  <a:off x="2518200" y="4644360"/>
                  <a:ext cx="525240" cy="105120"/>
                  <a:chOff x="2518200" y="4644360"/>
                  <a:chExt cx="525240" cy="105120"/>
                </a:xfrm>
              </p:grpSpPr>
              <p:sp>
                <p:nvSpPr>
                  <p:cNvPr id="3873" name=""/>
                  <p:cNvSpPr/>
                  <p:nvPr/>
                </p:nvSpPr>
                <p:spPr>
                  <a:xfrm>
                    <a:off x="251820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>
                    <a:off x="27284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283356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29390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>
                    <a:off x="262332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8" name=""/>
                <p:cNvSpPr/>
                <p:nvPr/>
              </p:nvSpPr>
              <p:spPr>
                <a:xfrm>
                  <a:off x="267588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288648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278136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257076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2623680" y="443232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283428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272916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5" name=""/>
                <p:cNvGrpSpPr/>
                <p:nvPr/>
              </p:nvGrpSpPr>
              <p:grpSpPr>
                <a:xfrm>
                  <a:off x="2677320" y="4324680"/>
                  <a:ext cx="209880" cy="105120"/>
                  <a:chOff x="2677320" y="4324680"/>
                  <a:chExt cx="209880" cy="105120"/>
                </a:xfrm>
              </p:grpSpPr>
              <p:sp>
                <p:nvSpPr>
                  <p:cNvPr id="3886" name=""/>
                  <p:cNvSpPr/>
                  <p:nvPr/>
                </p:nvSpPr>
                <p:spPr>
                  <a:xfrm>
                    <a:off x="2677320" y="4324680"/>
                    <a:ext cx="10476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2782800" y="432468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8" name=""/>
              <p:cNvGrpSpPr/>
              <p:nvPr/>
            </p:nvGrpSpPr>
            <p:grpSpPr>
              <a:xfrm>
                <a:off x="2738880" y="4324680"/>
                <a:ext cx="83520" cy="525600"/>
                <a:chOff x="2738880" y="4324680"/>
                <a:chExt cx="83520" cy="525600"/>
              </a:xfrm>
            </p:grpSpPr>
            <p:grpSp>
              <p:nvGrpSpPr>
                <p:cNvPr id="3889" name=""/>
                <p:cNvGrpSpPr/>
                <p:nvPr/>
              </p:nvGrpSpPr>
              <p:grpSpPr>
                <a:xfrm>
                  <a:off x="2738880" y="4324680"/>
                  <a:ext cx="83520" cy="263880"/>
                  <a:chOff x="2738880" y="4324680"/>
                  <a:chExt cx="83520" cy="263880"/>
                </a:xfrm>
              </p:grpSpPr>
              <p:grpSp>
                <p:nvGrpSpPr>
                  <p:cNvPr id="3890" name=""/>
                  <p:cNvGrpSpPr/>
                  <p:nvPr/>
                </p:nvGrpSpPr>
                <p:grpSpPr>
                  <a:xfrm>
                    <a:off x="2738880" y="4324680"/>
                    <a:ext cx="83520" cy="52560"/>
                    <a:chOff x="2738880" y="4324680"/>
                    <a:chExt cx="83520" cy="52560"/>
                  </a:xfrm>
                </p:grpSpPr>
                <p:sp>
                  <p:nvSpPr>
                    <p:cNvPr id="3891" name=""/>
                    <p:cNvSpPr/>
                    <p:nvPr/>
                  </p:nvSpPr>
                  <p:spPr>
                    <a:xfrm>
                      <a:off x="2738880" y="43246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2" name=""/>
                    <p:cNvSpPr/>
                    <p:nvPr/>
                  </p:nvSpPr>
                  <p:spPr>
                    <a:xfrm>
                      <a:off x="2738880" y="4341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3" name=""/>
                    <p:cNvSpPr/>
                    <p:nvPr/>
                  </p:nvSpPr>
                  <p:spPr>
                    <a:xfrm>
                      <a:off x="2738880" y="4359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4" name=""/>
                  <p:cNvGrpSpPr/>
                  <p:nvPr/>
                </p:nvGrpSpPr>
                <p:grpSpPr>
                  <a:xfrm>
                    <a:off x="2738880" y="4377600"/>
                    <a:ext cx="83520" cy="52560"/>
                    <a:chOff x="2738880" y="4377600"/>
                    <a:chExt cx="83520" cy="52560"/>
                  </a:xfrm>
                </p:grpSpPr>
                <p:sp>
                  <p:nvSpPr>
                    <p:cNvPr id="3895" name=""/>
                    <p:cNvSpPr/>
                    <p:nvPr/>
                  </p:nvSpPr>
                  <p:spPr>
                    <a:xfrm>
                      <a:off x="2738880" y="4377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6" name=""/>
                    <p:cNvSpPr/>
                    <p:nvPr/>
                  </p:nvSpPr>
                  <p:spPr>
                    <a:xfrm>
                      <a:off x="2738880" y="4394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7" name=""/>
                    <p:cNvSpPr/>
                    <p:nvPr/>
                  </p:nvSpPr>
                  <p:spPr>
                    <a:xfrm>
                      <a:off x="2738880" y="4412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8" name=""/>
                  <p:cNvGrpSpPr/>
                  <p:nvPr/>
                </p:nvGrpSpPr>
                <p:grpSpPr>
                  <a:xfrm>
                    <a:off x="2738880" y="4430880"/>
                    <a:ext cx="83520" cy="52560"/>
                    <a:chOff x="2738880" y="4430880"/>
                    <a:chExt cx="83520" cy="52560"/>
                  </a:xfrm>
                </p:grpSpPr>
                <p:sp>
                  <p:nvSpPr>
                    <p:cNvPr id="3899" name=""/>
                    <p:cNvSpPr/>
                    <p:nvPr/>
                  </p:nvSpPr>
                  <p:spPr>
                    <a:xfrm>
                      <a:off x="2738880" y="44308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0" name=""/>
                    <p:cNvSpPr/>
                    <p:nvPr/>
                  </p:nvSpPr>
                  <p:spPr>
                    <a:xfrm>
                      <a:off x="2738880" y="4447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1" name=""/>
                    <p:cNvSpPr/>
                    <p:nvPr/>
                  </p:nvSpPr>
                  <p:spPr>
                    <a:xfrm>
                      <a:off x="2738880" y="4465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2" name=""/>
                  <p:cNvGrpSpPr/>
                  <p:nvPr/>
                </p:nvGrpSpPr>
                <p:grpSpPr>
                  <a:xfrm>
                    <a:off x="2738880" y="4483800"/>
                    <a:ext cx="83520" cy="52560"/>
                    <a:chOff x="2738880" y="4483800"/>
                    <a:chExt cx="83520" cy="52560"/>
                  </a:xfrm>
                </p:grpSpPr>
                <p:sp>
                  <p:nvSpPr>
                    <p:cNvPr id="3903" name=""/>
                    <p:cNvSpPr/>
                    <p:nvPr/>
                  </p:nvSpPr>
                  <p:spPr>
                    <a:xfrm>
                      <a:off x="2738880" y="4483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4" name=""/>
                    <p:cNvSpPr/>
                    <p:nvPr/>
                  </p:nvSpPr>
                  <p:spPr>
                    <a:xfrm>
                      <a:off x="2738880" y="4500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5" name=""/>
                    <p:cNvSpPr/>
                    <p:nvPr/>
                  </p:nvSpPr>
                  <p:spPr>
                    <a:xfrm>
                      <a:off x="2738880" y="4518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6" name=""/>
                  <p:cNvGrpSpPr/>
                  <p:nvPr/>
                </p:nvGrpSpPr>
                <p:grpSpPr>
                  <a:xfrm>
                    <a:off x="2738880" y="4536000"/>
                    <a:ext cx="83520" cy="52560"/>
                    <a:chOff x="2738880" y="4536000"/>
                    <a:chExt cx="83520" cy="52560"/>
                  </a:xfrm>
                </p:grpSpPr>
                <p:sp>
                  <p:nvSpPr>
                    <p:cNvPr id="3907" name=""/>
                    <p:cNvSpPr/>
                    <p:nvPr/>
                  </p:nvSpPr>
                  <p:spPr>
                    <a:xfrm>
                      <a:off x="2738880" y="45360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8" name=""/>
                    <p:cNvSpPr/>
                    <p:nvPr/>
                  </p:nvSpPr>
                  <p:spPr>
                    <a:xfrm>
                      <a:off x="2738880" y="4552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9" name=""/>
                    <p:cNvSpPr/>
                    <p:nvPr/>
                  </p:nvSpPr>
                  <p:spPr>
                    <a:xfrm>
                      <a:off x="2738880" y="4570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10" name=""/>
                <p:cNvGrpSpPr/>
                <p:nvPr/>
              </p:nvGrpSpPr>
              <p:grpSpPr>
                <a:xfrm>
                  <a:off x="2738880" y="4586400"/>
                  <a:ext cx="83520" cy="263880"/>
                  <a:chOff x="2738880" y="4586400"/>
                  <a:chExt cx="83520" cy="263880"/>
                </a:xfrm>
              </p:grpSpPr>
              <p:grpSp>
                <p:nvGrpSpPr>
                  <p:cNvPr id="3911" name=""/>
                  <p:cNvGrpSpPr/>
                  <p:nvPr/>
                </p:nvGrpSpPr>
                <p:grpSpPr>
                  <a:xfrm>
                    <a:off x="2738880" y="4586400"/>
                    <a:ext cx="83520" cy="52560"/>
                    <a:chOff x="2738880" y="4586400"/>
                    <a:chExt cx="83520" cy="52560"/>
                  </a:xfrm>
                </p:grpSpPr>
                <p:sp>
                  <p:nvSpPr>
                    <p:cNvPr id="3912" name=""/>
                    <p:cNvSpPr/>
                    <p:nvPr/>
                  </p:nvSpPr>
                  <p:spPr>
                    <a:xfrm>
                      <a:off x="2738880" y="45864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3" name=""/>
                    <p:cNvSpPr/>
                    <p:nvPr/>
                  </p:nvSpPr>
                  <p:spPr>
                    <a:xfrm>
                      <a:off x="2738880" y="4603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4" name=""/>
                    <p:cNvSpPr/>
                    <p:nvPr/>
                  </p:nvSpPr>
                  <p:spPr>
                    <a:xfrm>
                      <a:off x="2738880" y="4621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5" name=""/>
                  <p:cNvGrpSpPr/>
                  <p:nvPr/>
                </p:nvGrpSpPr>
                <p:grpSpPr>
                  <a:xfrm>
                    <a:off x="2738880" y="4639320"/>
                    <a:ext cx="83520" cy="52560"/>
                    <a:chOff x="2738880" y="4639320"/>
                    <a:chExt cx="83520" cy="52560"/>
                  </a:xfrm>
                </p:grpSpPr>
                <p:sp>
                  <p:nvSpPr>
                    <p:cNvPr id="3916" name=""/>
                    <p:cNvSpPr/>
                    <p:nvPr/>
                  </p:nvSpPr>
                  <p:spPr>
                    <a:xfrm>
                      <a:off x="2738880" y="4639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7" name=""/>
                    <p:cNvSpPr/>
                    <p:nvPr/>
                  </p:nvSpPr>
                  <p:spPr>
                    <a:xfrm>
                      <a:off x="2738880" y="4656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8" name=""/>
                    <p:cNvSpPr/>
                    <p:nvPr/>
                  </p:nvSpPr>
                  <p:spPr>
                    <a:xfrm>
                      <a:off x="2738880" y="4674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9" name=""/>
                  <p:cNvGrpSpPr/>
                  <p:nvPr/>
                </p:nvGrpSpPr>
                <p:grpSpPr>
                  <a:xfrm>
                    <a:off x="2738880" y="4692600"/>
                    <a:ext cx="83520" cy="52560"/>
                    <a:chOff x="2738880" y="4692600"/>
                    <a:chExt cx="83520" cy="52560"/>
                  </a:xfrm>
                </p:grpSpPr>
                <p:sp>
                  <p:nvSpPr>
                    <p:cNvPr id="3920" name=""/>
                    <p:cNvSpPr/>
                    <p:nvPr/>
                  </p:nvSpPr>
                  <p:spPr>
                    <a:xfrm>
                      <a:off x="2738880" y="4692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1" name=""/>
                    <p:cNvSpPr/>
                    <p:nvPr/>
                  </p:nvSpPr>
                  <p:spPr>
                    <a:xfrm>
                      <a:off x="2738880" y="4709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2" name=""/>
                    <p:cNvSpPr/>
                    <p:nvPr/>
                  </p:nvSpPr>
                  <p:spPr>
                    <a:xfrm>
                      <a:off x="2738880" y="4727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3" name=""/>
                  <p:cNvGrpSpPr/>
                  <p:nvPr/>
                </p:nvGrpSpPr>
                <p:grpSpPr>
                  <a:xfrm>
                    <a:off x="2738880" y="4745520"/>
                    <a:ext cx="83520" cy="52560"/>
                    <a:chOff x="2738880" y="4745520"/>
                    <a:chExt cx="83520" cy="52560"/>
                  </a:xfrm>
                </p:grpSpPr>
                <p:sp>
                  <p:nvSpPr>
                    <p:cNvPr id="3924" name=""/>
                    <p:cNvSpPr/>
                    <p:nvPr/>
                  </p:nvSpPr>
                  <p:spPr>
                    <a:xfrm>
                      <a:off x="2738880" y="4745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5" name=""/>
                    <p:cNvSpPr/>
                    <p:nvPr/>
                  </p:nvSpPr>
                  <p:spPr>
                    <a:xfrm>
                      <a:off x="2738880" y="4762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6" name=""/>
                    <p:cNvSpPr/>
                    <p:nvPr/>
                  </p:nvSpPr>
                  <p:spPr>
                    <a:xfrm>
                      <a:off x="2738880" y="4780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7" name=""/>
                  <p:cNvGrpSpPr/>
                  <p:nvPr/>
                </p:nvGrpSpPr>
                <p:grpSpPr>
                  <a:xfrm>
                    <a:off x="2738880" y="4797720"/>
                    <a:ext cx="83520" cy="52560"/>
                    <a:chOff x="2738880" y="4797720"/>
                    <a:chExt cx="83520" cy="52560"/>
                  </a:xfrm>
                </p:grpSpPr>
                <p:sp>
                  <p:nvSpPr>
                    <p:cNvPr id="3928" name=""/>
                    <p:cNvSpPr/>
                    <p:nvPr/>
                  </p:nvSpPr>
                  <p:spPr>
                    <a:xfrm>
                      <a:off x="2738880" y="4797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9" name=""/>
                    <p:cNvSpPr/>
                    <p:nvPr/>
                  </p:nvSpPr>
                  <p:spPr>
                    <a:xfrm>
                      <a:off x="2738880" y="4814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0" name=""/>
                    <p:cNvSpPr/>
                    <p:nvPr/>
                  </p:nvSpPr>
                  <p:spPr>
                    <a:xfrm>
                      <a:off x="2738880" y="4832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31" name=""/>
              <p:cNvGrpSpPr/>
              <p:nvPr/>
            </p:nvGrpSpPr>
            <p:grpSpPr>
              <a:xfrm>
                <a:off x="2712240" y="4050720"/>
                <a:ext cx="137160" cy="273960"/>
                <a:chOff x="2712240" y="4050720"/>
                <a:chExt cx="137160" cy="273960"/>
              </a:xfrm>
            </p:grpSpPr>
            <p:grpSp>
              <p:nvGrpSpPr>
                <p:cNvPr id="3932" name=""/>
                <p:cNvGrpSpPr/>
                <p:nvPr/>
              </p:nvGrpSpPr>
              <p:grpSpPr>
                <a:xfrm>
                  <a:off x="2712240" y="4143240"/>
                  <a:ext cx="137160" cy="181440"/>
                  <a:chOff x="2712240" y="4143240"/>
                  <a:chExt cx="137160" cy="181440"/>
                </a:xfrm>
              </p:grpSpPr>
              <p:sp>
                <p:nvSpPr>
                  <p:cNvPr id="3933" name=""/>
                  <p:cNvSpPr/>
                  <p:nvPr/>
                </p:nvSpPr>
                <p:spPr>
                  <a:xfrm>
                    <a:off x="2712240" y="4222440"/>
                    <a:ext cx="137160" cy="165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34" name=""/>
                  <p:cNvGrpSpPr/>
                  <p:nvPr/>
                </p:nvGrpSpPr>
                <p:grpSpPr>
                  <a:xfrm>
                    <a:off x="2714760" y="4143240"/>
                    <a:ext cx="131760" cy="181440"/>
                    <a:chOff x="2714760" y="4143240"/>
                    <a:chExt cx="131760" cy="181440"/>
                  </a:xfrm>
                </p:grpSpPr>
                <p:sp>
                  <p:nvSpPr>
                    <p:cNvPr id="3935" name=""/>
                    <p:cNvSpPr/>
                    <p:nvPr/>
                  </p:nvSpPr>
                  <p:spPr>
                    <a:xfrm>
                      <a:off x="2715480" y="4231080"/>
                      <a:ext cx="129960" cy="936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6" name=""/>
                    <p:cNvSpPr/>
                    <p:nvPr/>
                  </p:nvSpPr>
                  <p:spPr>
                    <a:xfrm flipV="1">
                      <a:off x="2714760" y="4158000"/>
                      <a:ext cx="131760" cy="6372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6480 h 63720"/>
                        <a:gd name="textAreaBottom" fmla="*/ 57240 h 637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7" name=""/>
                    <p:cNvSpPr/>
                    <p:nvPr/>
                  </p:nvSpPr>
                  <p:spPr>
                    <a:xfrm>
                      <a:off x="2718720" y="4143240"/>
                      <a:ext cx="123120" cy="154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38" name=""/>
                <p:cNvGrpSpPr/>
                <p:nvPr/>
              </p:nvGrpSpPr>
              <p:grpSpPr>
                <a:xfrm>
                  <a:off x="2737440" y="4050720"/>
                  <a:ext cx="86040" cy="91800"/>
                  <a:chOff x="2737440" y="4050720"/>
                  <a:chExt cx="86040" cy="91800"/>
                </a:xfrm>
              </p:grpSpPr>
              <p:sp>
                <p:nvSpPr>
                  <p:cNvPr id="3939" name=""/>
                  <p:cNvSpPr/>
                  <p:nvPr/>
                </p:nvSpPr>
                <p:spPr>
                  <a:xfrm>
                    <a:off x="2737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"/>
                  <p:cNvSpPr/>
                  <p:nvPr/>
                </p:nvSpPr>
                <p:spPr>
                  <a:xfrm>
                    <a:off x="2755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277416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>
                    <a:off x="279432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>
                    <a:off x="281268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>
                    <a:off x="2737440" y="40899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"/>
                  <p:cNvSpPr/>
                  <p:nvPr/>
                </p:nvSpPr>
                <p:spPr>
                  <a:xfrm>
                    <a:off x="2738160" y="41187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>
                    <a:off x="2738160" y="41425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7" name=""/>
                <p:cNvSpPr/>
                <p:nvPr/>
              </p:nvSpPr>
              <p:spPr>
                <a:xfrm>
                  <a:off x="2728440" y="423036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2811240" y="422964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2763000" y="4247640"/>
                  <a:ext cx="35640" cy="752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50" name=""/>
            <p:cNvSpPr/>
            <p:nvPr/>
          </p:nvSpPr>
          <p:spPr>
            <a:xfrm>
              <a:off x="1663560" y="3159720"/>
              <a:ext cx="2248200" cy="1240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for static and dynamic wavefo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332640" y="3481920"/>
            <a:ext cx="959040" cy="1002600"/>
            <a:chOff x="332640" y="3481920"/>
            <a:chExt cx="959040" cy="1002600"/>
          </a:xfrm>
        </p:grpSpPr>
        <p:grpSp>
          <p:nvGrpSpPr>
            <p:cNvPr id="3952" name=""/>
            <p:cNvGrpSpPr/>
            <p:nvPr/>
          </p:nvGrpSpPr>
          <p:grpSpPr>
            <a:xfrm>
              <a:off x="495000" y="3853080"/>
              <a:ext cx="630360" cy="631440"/>
              <a:chOff x="495000" y="3853080"/>
              <a:chExt cx="630360" cy="631440"/>
            </a:xfrm>
          </p:grpSpPr>
          <p:grpSp>
            <p:nvGrpSpPr>
              <p:cNvPr id="3953" name=""/>
              <p:cNvGrpSpPr/>
              <p:nvPr/>
            </p:nvGrpSpPr>
            <p:grpSpPr>
              <a:xfrm>
                <a:off x="495000" y="4068000"/>
                <a:ext cx="630360" cy="416520"/>
                <a:chOff x="495000" y="4068000"/>
                <a:chExt cx="630360" cy="416520"/>
              </a:xfrm>
            </p:grpSpPr>
            <p:grpSp>
              <p:nvGrpSpPr>
                <p:cNvPr id="3954" name=""/>
                <p:cNvGrpSpPr/>
                <p:nvPr/>
              </p:nvGrpSpPr>
              <p:grpSpPr>
                <a:xfrm>
                  <a:off x="495000" y="4402080"/>
                  <a:ext cx="630360" cy="82440"/>
                  <a:chOff x="495000" y="4402080"/>
                  <a:chExt cx="630360" cy="82440"/>
                </a:xfrm>
              </p:grpSpPr>
              <p:sp>
                <p:nvSpPr>
                  <p:cNvPr id="3955" name=""/>
                  <p:cNvSpPr/>
                  <p:nvPr/>
                </p:nvSpPr>
                <p:spPr>
                  <a:xfrm>
                    <a:off x="60012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>
                    <a:off x="8103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>
                    <a:off x="9158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>
                    <a:off x="10209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>
                    <a:off x="7052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"/>
                  <p:cNvSpPr/>
                  <p:nvPr/>
                </p:nvSpPr>
                <p:spPr>
                  <a:xfrm>
                    <a:off x="49500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1" name=""/>
                <p:cNvGrpSpPr/>
                <p:nvPr/>
              </p:nvGrpSpPr>
              <p:grpSpPr>
                <a:xfrm>
                  <a:off x="547560" y="4318920"/>
                  <a:ext cx="525240" cy="82440"/>
                  <a:chOff x="547560" y="4318920"/>
                  <a:chExt cx="525240" cy="82440"/>
                </a:xfrm>
              </p:grpSpPr>
              <p:sp>
                <p:nvSpPr>
                  <p:cNvPr id="3962" name=""/>
                  <p:cNvSpPr/>
                  <p:nvPr/>
                </p:nvSpPr>
                <p:spPr>
                  <a:xfrm>
                    <a:off x="54756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>
                    <a:off x="7578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"/>
                  <p:cNvSpPr/>
                  <p:nvPr/>
                </p:nvSpPr>
                <p:spPr>
                  <a:xfrm>
                    <a:off x="86292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"/>
                  <p:cNvSpPr/>
                  <p:nvPr/>
                </p:nvSpPr>
                <p:spPr>
                  <a:xfrm>
                    <a:off x="9684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"/>
                  <p:cNvSpPr/>
                  <p:nvPr/>
                </p:nvSpPr>
                <p:spPr>
                  <a:xfrm>
                    <a:off x="65268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67" name=""/>
                <p:cNvSpPr/>
                <p:nvPr/>
              </p:nvSpPr>
              <p:spPr>
                <a:xfrm>
                  <a:off x="70524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>
                  <a:off x="91584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81072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60012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653040" y="4152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>
                  <a:off x="86364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75852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74" name=""/>
                <p:cNvGrpSpPr/>
                <p:nvPr/>
              </p:nvGrpSpPr>
              <p:grpSpPr>
                <a:xfrm>
                  <a:off x="706680" y="4068000"/>
                  <a:ext cx="209880" cy="82440"/>
                  <a:chOff x="706680" y="4068000"/>
                  <a:chExt cx="209880" cy="82440"/>
                </a:xfrm>
              </p:grpSpPr>
              <p:sp>
                <p:nvSpPr>
                  <p:cNvPr id="3975" name=""/>
                  <p:cNvSpPr/>
                  <p:nvPr/>
                </p:nvSpPr>
                <p:spPr>
                  <a:xfrm>
                    <a:off x="706680" y="406800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>
                    <a:off x="812160" y="406800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77" name=""/>
              <p:cNvGrpSpPr/>
              <p:nvPr/>
            </p:nvGrpSpPr>
            <p:grpSpPr>
              <a:xfrm>
                <a:off x="768240" y="4068000"/>
                <a:ext cx="83520" cy="412200"/>
                <a:chOff x="768240" y="4068000"/>
                <a:chExt cx="83520" cy="412200"/>
              </a:xfrm>
            </p:grpSpPr>
            <p:grpSp>
              <p:nvGrpSpPr>
                <p:cNvPr id="3978" name=""/>
                <p:cNvGrpSpPr/>
                <p:nvPr/>
              </p:nvGrpSpPr>
              <p:grpSpPr>
                <a:xfrm>
                  <a:off x="768240" y="4068000"/>
                  <a:ext cx="83520" cy="207000"/>
                  <a:chOff x="768240" y="4068000"/>
                  <a:chExt cx="83520" cy="207000"/>
                </a:xfrm>
              </p:grpSpPr>
              <p:grpSp>
                <p:nvGrpSpPr>
                  <p:cNvPr id="3979" name=""/>
                  <p:cNvGrpSpPr/>
                  <p:nvPr/>
                </p:nvGrpSpPr>
                <p:grpSpPr>
                  <a:xfrm>
                    <a:off x="768240" y="4068000"/>
                    <a:ext cx="83520" cy="41400"/>
                    <a:chOff x="768240" y="4068000"/>
                    <a:chExt cx="83520" cy="41400"/>
                  </a:xfrm>
                </p:grpSpPr>
                <p:sp>
                  <p:nvSpPr>
                    <p:cNvPr id="3980" name=""/>
                    <p:cNvSpPr/>
                    <p:nvPr/>
                  </p:nvSpPr>
                  <p:spPr>
                    <a:xfrm>
                      <a:off x="768240" y="4068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1" name=""/>
                    <p:cNvSpPr/>
                    <p:nvPr/>
                  </p:nvSpPr>
                  <p:spPr>
                    <a:xfrm>
                      <a:off x="768240" y="4081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2" name=""/>
                    <p:cNvSpPr/>
                    <p:nvPr/>
                  </p:nvSpPr>
                  <p:spPr>
                    <a:xfrm>
                      <a:off x="768240" y="4095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3" name=""/>
                  <p:cNvGrpSpPr/>
                  <p:nvPr/>
                </p:nvGrpSpPr>
                <p:grpSpPr>
                  <a:xfrm>
                    <a:off x="768240" y="4109400"/>
                    <a:ext cx="83520" cy="41400"/>
                    <a:chOff x="768240" y="4109400"/>
                    <a:chExt cx="83520" cy="41400"/>
                  </a:xfrm>
                </p:grpSpPr>
                <p:sp>
                  <p:nvSpPr>
                    <p:cNvPr id="3984" name=""/>
                    <p:cNvSpPr/>
                    <p:nvPr/>
                  </p:nvSpPr>
                  <p:spPr>
                    <a:xfrm>
                      <a:off x="768240" y="410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5" name=""/>
                    <p:cNvSpPr/>
                    <p:nvPr/>
                  </p:nvSpPr>
                  <p:spPr>
                    <a:xfrm>
                      <a:off x="768240" y="412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6" name=""/>
                    <p:cNvSpPr/>
                    <p:nvPr/>
                  </p:nvSpPr>
                  <p:spPr>
                    <a:xfrm>
                      <a:off x="768240" y="413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7" name=""/>
                  <p:cNvGrpSpPr/>
                  <p:nvPr/>
                </p:nvGrpSpPr>
                <p:grpSpPr>
                  <a:xfrm>
                    <a:off x="768240" y="4151160"/>
                    <a:ext cx="83520" cy="40680"/>
                    <a:chOff x="768240" y="4151160"/>
                    <a:chExt cx="83520" cy="40680"/>
                  </a:xfrm>
                </p:grpSpPr>
                <p:sp>
                  <p:nvSpPr>
                    <p:cNvPr id="3988" name=""/>
                    <p:cNvSpPr/>
                    <p:nvPr/>
                  </p:nvSpPr>
                  <p:spPr>
                    <a:xfrm>
                      <a:off x="768240" y="4151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9" name=""/>
                    <p:cNvSpPr/>
                    <p:nvPr/>
                  </p:nvSpPr>
                  <p:spPr>
                    <a:xfrm>
                      <a:off x="768240" y="41644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0" name=""/>
                    <p:cNvSpPr/>
                    <p:nvPr/>
                  </p:nvSpPr>
                  <p:spPr>
                    <a:xfrm>
                      <a:off x="768240" y="4178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1" name=""/>
                  <p:cNvGrpSpPr/>
                  <p:nvPr/>
                </p:nvGrpSpPr>
                <p:grpSpPr>
                  <a:xfrm>
                    <a:off x="768240" y="4192920"/>
                    <a:ext cx="83520" cy="40680"/>
                    <a:chOff x="768240" y="4192920"/>
                    <a:chExt cx="83520" cy="40680"/>
                  </a:xfrm>
                </p:grpSpPr>
                <p:sp>
                  <p:nvSpPr>
                    <p:cNvPr id="3992" name=""/>
                    <p:cNvSpPr/>
                    <p:nvPr/>
                  </p:nvSpPr>
                  <p:spPr>
                    <a:xfrm>
                      <a:off x="768240" y="4192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3" name=""/>
                    <p:cNvSpPr/>
                    <p:nvPr/>
                  </p:nvSpPr>
                  <p:spPr>
                    <a:xfrm>
                      <a:off x="768240" y="42062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4" name=""/>
                    <p:cNvSpPr/>
                    <p:nvPr/>
                  </p:nvSpPr>
                  <p:spPr>
                    <a:xfrm>
                      <a:off x="768240" y="4219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5" name=""/>
                  <p:cNvGrpSpPr/>
                  <p:nvPr/>
                </p:nvGrpSpPr>
                <p:grpSpPr>
                  <a:xfrm>
                    <a:off x="768240" y="4233600"/>
                    <a:ext cx="83520" cy="41400"/>
                    <a:chOff x="768240" y="4233600"/>
                    <a:chExt cx="83520" cy="41400"/>
                  </a:xfrm>
                </p:grpSpPr>
                <p:sp>
                  <p:nvSpPr>
                    <p:cNvPr id="3996" name=""/>
                    <p:cNvSpPr/>
                    <p:nvPr/>
                  </p:nvSpPr>
                  <p:spPr>
                    <a:xfrm>
                      <a:off x="768240" y="4233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7" name=""/>
                    <p:cNvSpPr/>
                    <p:nvPr/>
                  </p:nvSpPr>
                  <p:spPr>
                    <a:xfrm>
                      <a:off x="768240" y="4246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8" name=""/>
                    <p:cNvSpPr/>
                    <p:nvPr/>
                  </p:nvSpPr>
                  <p:spPr>
                    <a:xfrm>
                      <a:off x="768240" y="426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99" name=""/>
                <p:cNvGrpSpPr/>
                <p:nvPr/>
              </p:nvGrpSpPr>
              <p:grpSpPr>
                <a:xfrm>
                  <a:off x="768240" y="4273200"/>
                  <a:ext cx="83520" cy="207000"/>
                  <a:chOff x="768240" y="4273200"/>
                  <a:chExt cx="83520" cy="207000"/>
                </a:xfrm>
              </p:grpSpPr>
              <p:grpSp>
                <p:nvGrpSpPr>
                  <p:cNvPr id="4000" name=""/>
                  <p:cNvGrpSpPr/>
                  <p:nvPr/>
                </p:nvGrpSpPr>
                <p:grpSpPr>
                  <a:xfrm>
                    <a:off x="768240" y="4273200"/>
                    <a:ext cx="83520" cy="41400"/>
                    <a:chOff x="768240" y="4273200"/>
                    <a:chExt cx="83520" cy="41400"/>
                  </a:xfrm>
                </p:grpSpPr>
                <p:sp>
                  <p:nvSpPr>
                    <p:cNvPr id="4001" name=""/>
                    <p:cNvSpPr/>
                    <p:nvPr/>
                  </p:nvSpPr>
                  <p:spPr>
                    <a:xfrm>
                      <a:off x="768240" y="4273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2" name=""/>
                    <p:cNvSpPr/>
                    <p:nvPr/>
                  </p:nvSpPr>
                  <p:spPr>
                    <a:xfrm>
                      <a:off x="768240" y="4286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3" name=""/>
                    <p:cNvSpPr/>
                    <p:nvPr/>
                  </p:nvSpPr>
                  <p:spPr>
                    <a:xfrm>
                      <a:off x="768240" y="4300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4" name=""/>
                  <p:cNvGrpSpPr/>
                  <p:nvPr/>
                </p:nvGrpSpPr>
                <p:grpSpPr>
                  <a:xfrm>
                    <a:off x="768240" y="4314600"/>
                    <a:ext cx="83520" cy="41400"/>
                    <a:chOff x="768240" y="4314600"/>
                    <a:chExt cx="83520" cy="41400"/>
                  </a:xfrm>
                </p:grpSpPr>
                <p:sp>
                  <p:nvSpPr>
                    <p:cNvPr id="4005" name=""/>
                    <p:cNvSpPr/>
                    <p:nvPr/>
                  </p:nvSpPr>
                  <p:spPr>
                    <a:xfrm>
                      <a:off x="768240" y="4314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6" name=""/>
                    <p:cNvSpPr/>
                    <p:nvPr/>
                  </p:nvSpPr>
                  <p:spPr>
                    <a:xfrm>
                      <a:off x="768240" y="4327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7" name=""/>
                    <p:cNvSpPr/>
                    <p:nvPr/>
                  </p:nvSpPr>
                  <p:spPr>
                    <a:xfrm>
                      <a:off x="768240" y="434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8" name=""/>
                  <p:cNvGrpSpPr/>
                  <p:nvPr/>
                </p:nvGrpSpPr>
                <p:grpSpPr>
                  <a:xfrm>
                    <a:off x="768240" y="4356360"/>
                    <a:ext cx="83520" cy="40680"/>
                    <a:chOff x="768240" y="4356360"/>
                    <a:chExt cx="83520" cy="40680"/>
                  </a:xfrm>
                </p:grpSpPr>
                <p:sp>
                  <p:nvSpPr>
                    <p:cNvPr id="4009" name=""/>
                    <p:cNvSpPr/>
                    <p:nvPr/>
                  </p:nvSpPr>
                  <p:spPr>
                    <a:xfrm>
                      <a:off x="768240" y="4356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0" name=""/>
                    <p:cNvSpPr/>
                    <p:nvPr/>
                  </p:nvSpPr>
                  <p:spPr>
                    <a:xfrm>
                      <a:off x="768240" y="43696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1" name=""/>
                    <p:cNvSpPr/>
                    <p:nvPr/>
                  </p:nvSpPr>
                  <p:spPr>
                    <a:xfrm>
                      <a:off x="768240" y="4383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2" name=""/>
                  <p:cNvGrpSpPr/>
                  <p:nvPr/>
                </p:nvGrpSpPr>
                <p:grpSpPr>
                  <a:xfrm>
                    <a:off x="768240" y="4398120"/>
                    <a:ext cx="83520" cy="40680"/>
                    <a:chOff x="768240" y="4398120"/>
                    <a:chExt cx="83520" cy="40680"/>
                  </a:xfrm>
                </p:grpSpPr>
                <p:sp>
                  <p:nvSpPr>
                    <p:cNvPr id="4013" name=""/>
                    <p:cNvSpPr/>
                    <p:nvPr/>
                  </p:nvSpPr>
                  <p:spPr>
                    <a:xfrm>
                      <a:off x="768240" y="4398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4" name=""/>
                    <p:cNvSpPr/>
                    <p:nvPr/>
                  </p:nvSpPr>
                  <p:spPr>
                    <a:xfrm>
                      <a:off x="768240" y="44114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5" name=""/>
                    <p:cNvSpPr/>
                    <p:nvPr/>
                  </p:nvSpPr>
                  <p:spPr>
                    <a:xfrm>
                      <a:off x="768240" y="4425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6" name=""/>
                  <p:cNvGrpSpPr/>
                  <p:nvPr/>
                </p:nvGrpSpPr>
                <p:grpSpPr>
                  <a:xfrm>
                    <a:off x="768240" y="4438800"/>
                    <a:ext cx="83520" cy="41400"/>
                    <a:chOff x="768240" y="4438800"/>
                    <a:chExt cx="83520" cy="41400"/>
                  </a:xfrm>
                </p:grpSpPr>
                <p:sp>
                  <p:nvSpPr>
                    <p:cNvPr id="4017" name=""/>
                    <p:cNvSpPr/>
                    <p:nvPr/>
                  </p:nvSpPr>
                  <p:spPr>
                    <a:xfrm>
                      <a:off x="768240" y="443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8" name=""/>
                    <p:cNvSpPr/>
                    <p:nvPr/>
                  </p:nvSpPr>
                  <p:spPr>
                    <a:xfrm>
                      <a:off x="768240" y="4452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9" name=""/>
                    <p:cNvSpPr/>
                    <p:nvPr/>
                  </p:nvSpPr>
                  <p:spPr>
                    <a:xfrm>
                      <a:off x="768240" y="4466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20" name=""/>
              <p:cNvGrpSpPr/>
              <p:nvPr/>
            </p:nvGrpSpPr>
            <p:grpSpPr>
              <a:xfrm>
                <a:off x="741600" y="3853080"/>
                <a:ext cx="137160" cy="214920"/>
                <a:chOff x="741600" y="3853080"/>
                <a:chExt cx="137160" cy="214920"/>
              </a:xfrm>
            </p:grpSpPr>
            <p:grpSp>
              <p:nvGrpSpPr>
                <p:cNvPr id="4021" name=""/>
                <p:cNvGrpSpPr/>
                <p:nvPr/>
              </p:nvGrpSpPr>
              <p:grpSpPr>
                <a:xfrm>
                  <a:off x="741600" y="3925440"/>
                  <a:ext cx="137160" cy="142560"/>
                  <a:chOff x="741600" y="3925440"/>
                  <a:chExt cx="137160" cy="142560"/>
                </a:xfrm>
              </p:grpSpPr>
              <p:sp>
                <p:nvSpPr>
                  <p:cNvPr id="4022" name=""/>
                  <p:cNvSpPr/>
                  <p:nvPr/>
                </p:nvSpPr>
                <p:spPr>
                  <a:xfrm>
                    <a:off x="741600" y="398772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23" name=""/>
                  <p:cNvGrpSpPr/>
                  <p:nvPr/>
                </p:nvGrpSpPr>
                <p:grpSpPr>
                  <a:xfrm>
                    <a:off x="744120" y="3925440"/>
                    <a:ext cx="131760" cy="142560"/>
                    <a:chOff x="744120" y="3925440"/>
                    <a:chExt cx="131760" cy="142560"/>
                  </a:xfrm>
                </p:grpSpPr>
                <p:sp>
                  <p:nvSpPr>
                    <p:cNvPr id="4024" name=""/>
                    <p:cNvSpPr/>
                    <p:nvPr/>
                  </p:nvSpPr>
                  <p:spPr>
                    <a:xfrm>
                      <a:off x="744840" y="3994560"/>
                      <a:ext cx="129960" cy="7344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6640" bIns="266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5" name=""/>
                    <p:cNvSpPr/>
                    <p:nvPr/>
                  </p:nvSpPr>
                  <p:spPr>
                    <a:xfrm flipV="1">
                      <a:off x="744120" y="393696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6" name=""/>
                    <p:cNvSpPr/>
                    <p:nvPr/>
                  </p:nvSpPr>
                  <p:spPr>
                    <a:xfrm>
                      <a:off x="748080" y="392544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27" name=""/>
                <p:cNvGrpSpPr/>
                <p:nvPr/>
              </p:nvGrpSpPr>
              <p:grpSpPr>
                <a:xfrm>
                  <a:off x="766800" y="3853080"/>
                  <a:ext cx="86040" cy="72000"/>
                  <a:chOff x="766800" y="3853080"/>
                  <a:chExt cx="86040" cy="72000"/>
                </a:xfrm>
              </p:grpSpPr>
              <p:sp>
                <p:nvSpPr>
                  <p:cNvPr id="4028" name=""/>
                  <p:cNvSpPr/>
                  <p:nvPr/>
                </p:nvSpPr>
                <p:spPr>
                  <a:xfrm>
                    <a:off x="767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"/>
                  <p:cNvSpPr/>
                  <p:nvPr/>
                </p:nvSpPr>
                <p:spPr>
                  <a:xfrm>
                    <a:off x="785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"/>
                  <p:cNvSpPr/>
                  <p:nvPr/>
                </p:nvSpPr>
                <p:spPr>
                  <a:xfrm>
                    <a:off x="80352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"/>
                  <p:cNvSpPr/>
                  <p:nvPr/>
                </p:nvSpPr>
                <p:spPr>
                  <a:xfrm>
                    <a:off x="82368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"/>
                  <p:cNvSpPr/>
                  <p:nvPr/>
                </p:nvSpPr>
                <p:spPr>
                  <a:xfrm>
                    <a:off x="84204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766800" y="38840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>
                    <a:off x="767520" y="39063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"/>
                  <p:cNvSpPr/>
                  <p:nvPr/>
                </p:nvSpPr>
                <p:spPr>
                  <a:xfrm>
                    <a:off x="767520" y="3925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36" name=""/>
                <p:cNvSpPr/>
                <p:nvPr/>
              </p:nvSpPr>
              <p:spPr>
                <a:xfrm>
                  <a:off x="757800" y="39942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840600" y="3993480"/>
                  <a:ext cx="20520" cy="7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792360" y="400752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39" name=""/>
            <p:cNvSpPr/>
            <p:nvPr/>
          </p:nvSpPr>
          <p:spPr>
            <a:xfrm>
              <a:off x="332640" y="3481920"/>
              <a:ext cx="959040" cy="358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0" name=""/>
          <p:cNvGrpSpPr/>
          <p:nvPr/>
        </p:nvGrpSpPr>
        <p:grpSpPr>
          <a:xfrm>
            <a:off x="508320" y="4848480"/>
            <a:ext cx="1503000" cy="1344240"/>
            <a:chOff x="508320" y="4848480"/>
            <a:chExt cx="1503000" cy="1344240"/>
          </a:xfrm>
        </p:grpSpPr>
        <p:grpSp>
          <p:nvGrpSpPr>
            <p:cNvPr id="4041" name=""/>
            <p:cNvGrpSpPr/>
            <p:nvPr/>
          </p:nvGrpSpPr>
          <p:grpSpPr>
            <a:xfrm>
              <a:off x="944280" y="5559840"/>
              <a:ext cx="630360" cy="632880"/>
              <a:chOff x="944280" y="5559840"/>
              <a:chExt cx="630360" cy="632880"/>
            </a:xfrm>
          </p:grpSpPr>
          <p:grpSp>
            <p:nvGrpSpPr>
              <p:cNvPr id="4042" name=""/>
              <p:cNvGrpSpPr/>
              <p:nvPr/>
            </p:nvGrpSpPr>
            <p:grpSpPr>
              <a:xfrm>
                <a:off x="944280" y="5775120"/>
                <a:ext cx="630360" cy="417600"/>
                <a:chOff x="944280" y="5775120"/>
                <a:chExt cx="630360" cy="417600"/>
              </a:xfrm>
            </p:grpSpPr>
            <p:grpSp>
              <p:nvGrpSpPr>
                <p:cNvPr id="4043" name=""/>
                <p:cNvGrpSpPr/>
                <p:nvPr/>
              </p:nvGrpSpPr>
              <p:grpSpPr>
                <a:xfrm>
                  <a:off x="944280" y="6110280"/>
                  <a:ext cx="630360" cy="82440"/>
                  <a:chOff x="944280" y="6110280"/>
                  <a:chExt cx="630360" cy="82440"/>
                </a:xfrm>
              </p:grpSpPr>
              <p:sp>
                <p:nvSpPr>
                  <p:cNvPr id="4044" name=""/>
                  <p:cNvSpPr/>
                  <p:nvPr/>
                </p:nvSpPr>
                <p:spPr>
                  <a:xfrm>
                    <a:off x="104940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"/>
                  <p:cNvSpPr/>
                  <p:nvPr/>
                </p:nvSpPr>
                <p:spPr>
                  <a:xfrm>
                    <a:off x="12596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"/>
                  <p:cNvSpPr/>
                  <p:nvPr/>
                </p:nvSpPr>
                <p:spPr>
                  <a:xfrm>
                    <a:off x="13651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"/>
                  <p:cNvSpPr/>
                  <p:nvPr/>
                </p:nvSpPr>
                <p:spPr>
                  <a:xfrm>
                    <a:off x="14702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"/>
                  <p:cNvSpPr/>
                  <p:nvPr/>
                </p:nvSpPr>
                <p:spPr>
                  <a:xfrm>
                    <a:off x="11545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"/>
                  <p:cNvSpPr/>
                  <p:nvPr/>
                </p:nvSpPr>
                <p:spPr>
                  <a:xfrm>
                    <a:off x="94428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0" name=""/>
                <p:cNvGrpSpPr/>
                <p:nvPr/>
              </p:nvGrpSpPr>
              <p:grpSpPr>
                <a:xfrm>
                  <a:off x="996840" y="6026760"/>
                  <a:ext cx="525240" cy="82440"/>
                  <a:chOff x="996840" y="6026760"/>
                  <a:chExt cx="525240" cy="82440"/>
                </a:xfrm>
              </p:grpSpPr>
              <p:sp>
                <p:nvSpPr>
                  <p:cNvPr id="4051" name=""/>
                  <p:cNvSpPr/>
                  <p:nvPr/>
                </p:nvSpPr>
                <p:spPr>
                  <a:xfrm>
                    <a:off x="99684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"/>
                  <p:cNvSpPr/>
                  <p:nvPr/>
                </p:nvSpPr>
                <p:spPr>
                  <a:xfrm>
                    <a:off x="12070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>
                    <a:off x="131220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"/>
                  <p:cNvSpPr/>
                  <p:nvPr/>
                </p:nvSpPr>
                <p:spPr>
                  <a:xfrm>
                    <a:off x="14176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"/>
                  <p:cNvSpPr/>
                  <p:nvPr/>
                </p:nvSpPr>
                <p:spPr>
                  <a:xfrm>
                    <a:off x="110196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56" name=""/>
                <p:cNvSpPr/>
                <p:nvPr/>
              </p:nvSpPr>
              <p:spPr>
                <a:xfrm>
                  <a:off x="115452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136512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126000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>
                  <a:off x="104940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>
                  <a:off x="1102320" y="585972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>
                  <a:off x="131292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120780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63" name=""/>
                <p:cNvGrpSpPr/>
                <p:nvPr/>
              </p:nvGrpSpPr>
              <p:grpSpPr>
                <a:xfrm>
                  <a:off x="1155960" y="5775120"/>
                  <a:ext cx="209880" cy="82440"/>
                  <a:chOff x="1155960" y="5775120"/>
                  <a:chExt cx="209880" cy="82440"/>
                </a:xfrm>
              </p:grpSpPr>
              <p:sp>
                <p:nvSpPr>
                  <p:cNvPr id="4064" name=""/>
                  <p:cNvSpPr/>
                  <p:nvPr/>
                </p:nvSpPr>
                <p:spPr>
                  <a:xfrm>
                    <a:off x="1155960" y="577512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>
                    <a:off x="1261440" y="57751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66" name=""/>
              <p:cNvGrpSpPr/>
              <p:nvPr/>
            </p:nvGrpSpPr>
            <p:grpSpPr>
              <a:xfrm>
                <a:off x="1217520" y="5775120"/>
                <a:ext cx="83520" cy="413640"/>
                <a:chOff x="1217520" y="5775120"/>
                <a:chExt cx="83520" cy="413640"/>
              </a:xfrm>
            </p:grpSpPr>
            <p:grpSp>
              <p:nvGrpSpPr>
                <p:cNvPr id="4067" name=""/>
                <p:cNvGrpSpPr/>
                <p:nvPr/>
              </p:nvGrpSpPr>
              <p:grpSpPr>
                <a:xfrm>
                  <a:off x="1217520" y="5775120"/>
                  <a:ext cx="83520" cy="207720"/>
                  <a:chOff x="1217520" y="5775120"/>
                  <a:chExt cx="83520" cy="207720"/>
                </a:xfrm>
              </p:grpSpPr>
              <p:grpSp>
                <p:nvGrpSpPr>
                  <p:cNvPr id="4068" name=""/>
                  <p:cNvGrpSpPr/>
                  <p:nvPr/>
                </p:nvGrpSpPr>
                <p:grpSpPr>
                  <a:xfrm>
                    <a:off x="1217520" y="5775120"/>
                    <a:ext cx="83520" cy="41400"/>
                    <a:chOff x="1217520" y="5775120"/>
                    <a:chExt cx="83520" cy="41400"/>
                  </a:xfrm>
                </p:grpSpPr>
                <p:sp>
                  <p:nvSpPr>
                    <p:cNvPr id="4069" name=""/>
                    <p:cNvSpPr/>
                    <p:nvPr/>
                  </p:nvSpPr>
                  <p:spPr>
                    <a:xfrm>
                      <a:off x="1217520" y="577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0" name=""/>
                    <p:cNvSpPr/>
                    <p:nvPr/>
                  </p:nvSpPr>
                  <p:spPr>
                    <a:xfrm>
                      <a:off x="1217520" y="5788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1" name=""/>
                    <p:cNvSpPr/>
                    <p:nvPr/>
                  </p:nvSpPr>
                  <p:spPr>
                    <a:xfrm>
                      <a:off x="1217520" y="5802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2" name=""/>
                  <p:cNvGrpSpPr/>
                  <p:nvPr/>
                </p:nvGrpSpPr>
                <p:grpSpPr>
                  <a:xfrm>
                    <a:off x="1217520" y="5816880"/>
                    <a:ext cx="83520" cy="41400"/>
                    <a:chOff x="1217520" y="5816880"/>
                    <a:chExt cx="83520" cy="41400"/>
                  </a:xfrm>
                </p:grpSpPr>
                <p:sp>
                  <p:nvSpPr>
                    <p:cNvPr id="4073" name=""/>
                    <p:cNvSpPr/>
                    <p:nvPr/>
                  </p:nvSpPr>
                  <p:spPr>
                    <a:xfrm>
                      <a:off x="1217520" y="581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4" name=""/>
                    <p:cNvSpPr/>
                    <p:nvPr/>
                  </p:nvSpPr>
                  <p:spPr>
                    <a:xfrm>
                      <a:off x="1217520" y="5830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5" name=""/>
                    <p:cNvSpPr/>
                    <p:nvPr/>
                  </p:nvSpPr>
                  <p:spPr>
                    <a:xfrm>
                      <a:off x="1217520" y="5844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6" name=""/>
                  <p:cNvGrpSpPr/>
                  <p:nvPr/>
                </p:nvGrpSpPr>
                <p:grpSpPr>
                  <a:xfrm>
                    <a:off x="1217520" y="5858640"/>
                    <a:ext cx="83520" cy="41400"/>
                    <a:chOff x="1217520" y="5858640"/>
                    <a:chExt cx="83520" cy="41400"/>
                  </a:xfrm>
                </p:grpSpPr>
                <p:sp>
                  <p:nvSpPr>
                    <p:cNvPr id="4077" name=""/>
                    <p:cNvSpPr/>
                    <p:nvPr/>
                  </p:nvSpPr>
                  <p:spPr>
                    <a:xfrm>
                      <a:off x="1217520" y="585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8" name=""/>
                    <p:cNvSpPr/>
                    <p:nvPr/>
                  </p:nvSpPr>
                  <p:spPr>
                    <a:xfrm>
                      <a:off x="1217520" y="587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9" name=""/>
                    <p:cNvSpPr/>
                    <p:nvPr/>
                  </p:nvSpPr>
                  <p:spPr>
                    <a:xfrm>
                      <a:off x="1217520" y="5886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0" name=""/>
                  <p:cNvGrpSpPr/>
                  <p:nvPr/>
                </p:nvGrpSpPr>
                <p:grpSpPr>
                  <a:xfrm>
                    <a:off x="1217520" y="5900400"/>
                    <a:ext cx="83520" cy="41400"/>
                    <a:chOff x="1217520" y="5900400"/>
                    <a:chExt cx="83520" cy="41400"/>
                  </a:xfrm>
                </p:grpSpPr>
                <p:sp>
                  <p:nvSpPr>
                    <p:cNvPr id="4081" name=""/>
                    <p:cNvSpPr/>
                    <p:nvPr/>
                  </p:nvSpPr>
                  <p:spPr>
                    <a:xfrm>
                      <a:off x="1217520" y="590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2" name=""/>
                    <p:cNvSpPr/>
                    <p:nvPr/>
                  </p:nvSpPr>
                  <p:spPr>
                    <a:xfrm>
                      <a:off x="1217520" y="5913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3" name=""/>
                    <p:cNvSpPr/>
                    <p:nvPr/>
                  </p:nvSpPr>
                  <p:spPr>
                    <a:xfrm>
                      <a:off x="1217520" y="5927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4" name=""/>
                  <p:cNvGrpSpPr/>
                  <p:nvPr/>
                </p:nvGrpSpPr>
                <p:grpSpPr>
                  <a:xfrm>
                    <a:off x="1217520" y="5941440"/>
                    <a:ext cx="83520" cy="41400"/>
                    <a:chOff x="1217520" y="5941440"/>
                    <a:chExt cx="83520" cy="41400"/>
                  </a:xfrm>
                </p:grpSpPr>
                <p:sp>
                  <p:nvSpPr>
                    <p:cNvPr id="4085" name=""/>
                    <p:cNvSpPr/>
                    <p:nvPr/>
                  </p:nvSpPr>
                  <p:spPr>
                    <a:xfrm>
                      <a:off x="1217520" y="594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6" name=""/>
                    <p:cNvSpPr/>
                    <p:nvPr/>
                  </p:nvSpPr>
                  <p:spPr>
                    <a:xfrm>
                      <a:off x="1217520" y="5954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7" name=""/>
                    <p:cNvSpPr/>
                    <p:nvPr/>
                  </p:nvSpPr>
                  <p:spPr>
                    <a:xfrm>
                      <a:off x="1217520" y="596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88" name=""/>
                <p:cNvGrpSpPr/>
                <p:nvPr/>
              </p:nvGrpSpPr>
              <p:grpSpPr>
                <a:xfrm>
                  <a:off x="1217520" y="5981040"/>
                  <a:ext cx="83520" cy="207720"/>
                  <a:chOff x="1217520" y="5981040"/>
                  <a:chExt cx="83520" cy="207720"/>
                </a:xfrm>
              </p:grpSpPr>
              <p:grpSp>
                <p:nvGrpSpPr>
                  <p:cNvPr id="4089" name=""/>
                  <p:cNvGrpSpPr/>
                  <p:nvPr/>
                </p:nvGrpSpPr>
                <p:grpSpPr>
                  <a:xfrm>
                    <a:off x="1217520" y="5981040"/>
                    <a:ext cx="83520" cy="41400"/>
                    <a:chOff x="1217520" y="5981040"/>
                    <a:chExt cx="83520" cy="41400"/>
                  </a:xfrm>
                </p:grpSpPr>
                <p:sp>
                  <p:nvSpPr>
                    <p:cNvPr id="4090" name=""/>
                    <p:cNvSpPr/>
                    <p:nvPr/>
                  </p:nvSpPr>
                  <p:spPr>
                    <a:xfrm>
                      <a:off x="1217520" y="59810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1" name=""/>
                    <p:cNvSpPr/>
                    <p:nvPr/>
                  </p:nvSpPr>
                  <p:spPr>
                    <a:xfrm>
                      <a:off x="1217520" y="5994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2" name=""/>
                    <p:cNvSpPr/>
                    <p:nvPr/>
                  </p:nvSpPr>
                  <p:spPr>
                    <a:xfrm>
                      <a:off x="1217520" y="6008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3" name=""/>
                  <p:cNvGrpSpPr/>
                  <p:nvPr/>
                </p:nvGrpSpPr>
                <p:grpSpPr>
                  <a:xfrm>
                    <a:off x="1217520" y="6022800"/>
                    <a:ext cx="83520" cy="41400"/>
                    <a:chOff x="1217520" y="6022800"/>
                    <a:chExt cx="83520" cy="41400"/>
                  </a:xfrm>
                </p:grpSpPr>
                <p:sp>
                  <p:nvSpPr>
                    <p:cNvPr id="4094" name=""/>
                    <p:cNvSpPr/>
                    <p:nvPr/>
                  </p:nvSpPr>
                  <p:spPr>
                    <a:xfrm>
                      <a:off x="1217520" y="6022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5" name=""/>
                    <p:cNvSpPr/>
                    <p:nvPr/>
                  </p:nvSpPr>
                  <p:spPr>
                    <a:xfrm>
                      <a:off x="1217520" y="6036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6" name=""/>
                    <p:cNvSpPr/>
                    <p:nvPr/>
                  </p:nvSpPr>
                  <p:spPr>
                    <a:xfrm>
                      <a:off x="1217520" y="6050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7" name=""/>
                  <p:cNvGrpSpPr/>
                  <p:nvPr/>
                </p:nvGrpSpPr>
                <p:grpSpPr>
                  <a:xfrm>
                    <a:off x="1217520" y="6064560"/>
                    <a:ext cx="83520" cy="41400"/>
                    <a:chOff x="1217520" y="6064560"/>
                    <a:chExt cx="83520" cy="41400"/>
                  </a:xfrm>
                </p:grpSpPr>
                <p:sp>
                  <p:nvSpPr>
                    <p:cNvPr id="4098" name=""/>
                    <p:cNvSpPr/>
                    <p:nvPr/>
                  </p:nvSpPr>
                  <p:spPr>
                    <a:xfrm>
                      <a:off x="1217520" y="6064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9" name=""/>
                    <p:cNvSpPr/>
                    <p:nvPr/>
                  </p:nvSpPr>
                  <p:spPr>
                    <a:xfrm>
                      <a:off x="1217520" y="6077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0" name=""/>
                    <p:cNvSpPr/>
                    <p:nvPr/>
                  </p:nvSpPr>
                  <p:spPr>
                    <a:xfrm>
                      <a:off x="1217520" y="6091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1" name=""/>
                  <p:cNvGrpSpPr/>
                  <p:nvPr/>
                </p:nvGrpSpPr>
                <p:grpSpPr>
                  <a:xfrm>
                    <a:off x="1217520" y="6106320"/>
                    <a:ext cx="83520" cy="41400"/>
                    <a:chOff x="1217520" y="6106320"/>
                    <a:chExt cx="83520" cy="41400"/>
                  </a:xfrm>
                </p:grpSpPr>
                <p:sp>
                  <p:nvSpPr>
                    <p:cNvPr id="4102" name=""/>
                    <p:cNvSpPr/>
                    <p:nvPr/>
                  </p:nvSpPr>
                  <p:spPr>
                    <a:xfrm>
                      <a:off x="1217520" y="6106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3" name=""/>
                    <p:cNvSpPr/>
                    <p:nvPr/>
                  </p:nvSpPr>
                  <p:spPr>
                    <a:xfrm>
                      <a:off x="1217520" y="6119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4" name=""/>
                    <p:cNvSpPr/>
                    <p:nvPr/>
                  </p:nvSpPr>
                  <p:spPr>
                    <a:xfrm>
                      <a:off x="1217520" y="6133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5" name=""/>
                  <p:cNvGrpSpPr/>
                  <p:nvPr/>
                </p:nvGrpSpPr>
                <p:grpSpPr>
                  <a:xfrm>
                    <a:off x="1217520" y="6147360"/>
                    <a:ext cx="83520" cy="41400"/>
                    <a:chOff x="1217520" y="6147360"/>
                    <a:chExt cx="83520" cy="41400"/>
                  </a:xfrm>
                </p:grpSpPr>
                <p:sp>
                  <p:nvSpPr>
                    <p:cNvPr id="4106" name=""/>
                    <p:cNvSpPr/>
                    <p:nvPr/>
                  </p:nvSpPr>
                  <p:spPr>
                    <a:xfrm>
                      <a:off x="1217520" y="6147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7" name=""/>
                    <p:cNvSpPr/>
                    <p:nvPr/>
                  </p:nvSpPr>
                  <p:spPr>
                    <a:xfrm>
                      <a:off x="1217520" y="6160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8" name=""/>
                    <p:cNvSpPr/>
                    <p:nvPr/>
                  </p:nvSpPr>
                  <p:spPr>
                    <a:xfrm>
                      <a:off x="1217520" y="6174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09" name=""/>
              <p:cNvGrpSpPr/>
              <p:nvPr/>
            </p:nvGrpSpPr>
            <p:grpSpPr>
              <a:xfrm>
                <a:off x="1190880" y="5559840"/>
                <a:ext cx="137160" cy="215640"/>
                <a:chOff x="1190880" y="5559840"/>
                <a:chExt cx="137160" cy="215640"/>
              </a:xfrm>
            </p:grpSpPr>
            <p:grpSp>
              <p:nvGrpSpPr>
                <p:cNvPr id="4110" name=""/>
                <p:cNvGrpSpPr/>
                <p:nvPr/>
              </p:nvGrpSpPr>
              <p:grpSpPr>
                <a:xfrm>
                  <a:off x="1190880" y="5632560"/>
                  <a:ext cx="137160" cy="142920"/>
                  <a:chOff x="1190880" y="5632560"/>
                  <a:chExt cx="137160" cy="142920"/>
                </a:xfrm>
              </p:grpSpPr>
              <p:sp>
                <p:nvSpPr>
                  <p:cNvPr id="4111" name=""/>
                  <p:cNvSpPr/>
                  <p:nvPr/>
                </p:nvSpPr>
                <p:spPr>
                  <a:xfrm>
                    <a:off x="1190880" y="569484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2" name=""/>
                  <p:cNvGrpSpPr/>
                  <p:nvPr/>
                </p:nvGrpSpPr>
                <p:grpSpPr>
                  <a:xfrm>
                    <a:off x="1193400" y="5632560"/>
                    <a:ext cx="131760" cy="142920"/>
                    <a:chOff x="1193400" y="5632560"/>
                    <a:chExt cx="131760" cy="142920"/>
                  </a:xfrm>
                </p:grpSpPr>
                <p:sp>
                  <p:nvSpPr>
                    <p:cNvPr id="4113" name=""/>
                    <p:cNvSpPr/>
                    <p:nvPr/>
                  </p:nvSpPr>
                  <p:spPr>
                    <a:xfrm>
                      <a:off x="1194120" y="570168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4" name=""/>
                    <p:cNvSpPr/>
                    <p:nvPr/>
                  </p:nvSpPr>
                  <p:spPr>
                    <a:xfrm flipV="1">
                      <a:off x="1193400" y="56440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5" name=""/>
                    <p:cNvSpPr/>
                    <p:nvPr/>
                  </p:nvSpPr>
                  <p:spPr>
                    <a:xfrm>
                      <a:off x="1197360" y="56325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16" name=""/>
                <p:cNvGrpSpPr/>
                <p:nvPr/>
              </p:nvGrpSpPr>
              <p:grpSpPr>
                <a:xfrm>
                  <a:off x="1216080" y="5559840"/>
                  <a:ext cx="86040" cy="72000"/>
                  <a:chOff x="1216080" y="5559840"/>
                  <a:chExt cx="86040" cy="72000"/>
                </a:xfrm>
              </p:grpSpPr>
              <p:sp>
                <p:nvSpPr>
                  <p:cNvPr id="4117" name=""/>
                  <p:cNvSpPr/>
                  <p:nvPr/>
                </p:nvSpPr>
                <p:spPr>
                  <a:xfrm>
                    <a:off x="1216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1234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>
                    <a:off x="125280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0" name=""/>
                  <p:cNvSpPr/>
                  <p:nvPr/>
                </p:nvSpPr>
                <p:spPr>
                  <a:xfrm>
                    <a:off x="127296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129132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1216080" y="55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"/>
                  <p:cNvSpPr/>
                  <p:nvPr/>
                </p:nvSpPr>
                <p:spPr>
                  <a:xfrm>
                    <a:off x="1216800" y="56131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"/>
                  <p:cNvSpPr/>
                  <p:nvPr/>
                </p:nvSpPr>
                <p:spPr>
                  <a:xfrm>
                    <a:off x="1216800" y="56318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25" name=""/>
                <p:cNvSpPr/>
                <p:nvPr/>
              </p:nvSpPr>
              <p:spPr>
                <a:xfrm>
                  <a:off x="1207080" y="570132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6" name=""/>
                <p:cNvSpPr/>
                <p:nvPr/>
              </p:nvSpPr>
              <p:spPr>
                <a:xfrm>
                  <a:off x="1289880" y="5700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7" name=""/>
                <p:cNvSpPr/>
                <p:nvPr/>
              </p:nvSpPr>
              <p:spPr>
                <a:xfrm>
                  <a:off x="1241640" y="571464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8" name=""/>
            <p:cNvSpPr/>
            <p:nvPr/>
          </p:nvSpPr>
          <p:spPr>
            <a:xfrm>
              <a:off x="508320" y="4848480"/>
              <a:ext cx="1503000" cy="997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3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ramp on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9" name=""/>
          <p:cNvGrpSpPr/>
          <p:nvPr/>
        </p:nvGrpSpPr>
        <p:grpSpPr>
          <a:xfrm>
            <a:off x="2592000" y="5298120"/>
            <a:ext cx="1231200" cy="1225080"/>
            <a:chOff x="2592000" y="5298120"/>
            <a:chExt cx="1231200" cy="1225080"/>
          </a:xfrm>
        </p:grpSpPr>
        <p:grpSp>
          <p:nvGrpSpPr>
            <p:cNvPr id="4130" name=""/>
            <p:cNvGrpSpPr/>
            <p:nvPr/>
          </p:nvGrpSpPr>
          <p:grpSpPr>
            <a:xfrm>
              <a:off x="2890800" y="5888520"/>
              <a:ext cx="631800" cy="634680"/>
              <a:chOff x="2890800" y="5888520"/>
              <a:chExt cx="631800" cy="634680"/>
            </a:xfrm>
          </p:grpSpPr>
          <p:grpSp>
            <p:nvGrpSpPr>
              <p:cNvPr id="4131" name=""/>
              <p:cNvGrpSpPr/>
              <p:nvPr/>
            </p:nvGrpSpPr>
            <p:grpSpPr>
              <a:xfrm>
                <a:off x="2890800" y="6104520"/>
                <a:ext cx="631800" cy="418680"/>
                <a:chOff x="2890800" y="6104520"/>
                <a:chExt cx="631800" cy="418680"/>
              </a:xfrm>
            </p:grpSpPr>
            <p:grpSp>
              <p:nvGrpSpPr>
                <p:cNvPr id="4132" name=""/>
                <p:cNvGrpSpPr/>
                <p:nvPr/>
              </p:nvGrpSpPr>
              <p:grpSpPr>
                <a:xfrm>
                  <a:off x="2890800" y="6440400"/>
                  <a:ext cx="631800" cy="82800"/>
                  <a:chOff x="2890800" y="6440400"/>
                  <a:chExt cx="631800" cy="82800"/>
                </a:xfrm>
              </p:grpSpPr>
              <p:sp>
                <p:nvSpPr>
                  <p:cNvPr id="4133" name=""/>
                  <p:cNvSpPr/>
                  <p:nvPr/>
                </p:nvSpPr>
                <p:spPr>
                  <a:xfrm>
                    <a:off x="299592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"/>
                  <p:cNvSpPr/>
                  <p:nvPr/>
                </p:nvSpPr>
                <p:spPr>
                  <a:xfrm>
                    <a:off x="320688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"/>
                  <p:cNvSpPr/>
                  <p:nvPr/>
                </p:nvSpPr>
                <p:spPr>
                  <a:xfrm>
                    <a:off x="331236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"/>
                  <p:cNvSpPr/>
                  <p:nvPr/>
                </p:nvSpPr>
                <p:spPr>
                  <a:xfrm>
                    <a:off x="341784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>
                    <a:off x="31014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"/>
                  <p:cNvSpPr/>
                  <p:nvPr/>
                </p:nvSpPr>
                <p:spPr>
                  <a:xfrm>
                    <a:off x="28908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9" name=""/>
                <p:cNvGrpSpPr/>
                <p:nvPr/>
              </p:nvGrpSpPr>
              <p:grpSpPr>
                <a:xfrm>
                  <a:off x="2943360" y="6356520"/>
                  <a:ext cx="526680" cy="82800"/>
                  <a:chOff x="2943360" y="6356520"/>
                  <a:chExt cx="526680" cy="82800"/>
                </a:xfrm>
              </p:grpSpPr>
              <p:sp>
                <p:nvSpPr>
                  <p:cNvPr id="4140" name=""/>
                  <p:cNvSpPr/>
                  <p:nvPr/>
                </p:nvSpPr>
                <p:spPr>
                  <a:xfrm>
                    <a:off x="294336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>
                    <a:off x="315432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>
                    <a:off x="325980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"/>
                  <p:cNvSpPr/>
                  <p:nvPr/>
                </p:nvSpPr>
                <p:spPr>
                  <a:xfrm>
                    <a:off x="336528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"/>
                  <p:cNvSpPr/>
                  <p:nvPr/>
                </p:nvSpPr>
                <p:spPr>
                  <a:xfrm>
                    <a:off x="304884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5" name=""/>
                <p:cNvSpPr/>
                <p:nvPr/>
              </p:nvSpPr>
              <p:spPr>
                <a:xfrm>
                  <a:off x="310176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331272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320724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8" name=""/>
                <p:cNvSpPr/>
                <p:nvPr/>
              </p:nvSpPr>
              <p:spPr>
                <a:xfrm>
                  <a:off x="299628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9" name=""/>
                <p:cNvSpPr/>
                <p:nvPr/>
              </p:nvSpPr>
              <p:spPr>
                <a:xfrm>
                  <a:off x="304920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0" name=""/>
                <p:cNvSpPr/>
                <p:nvPr/>
              </p:nvSpPr>
              <p:spPr>
                <a:xfrm>
                  <a:off x="326016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1" name=""/>
                <p:cNvSpPr/>
                <p:nvPr/>
              </p:nvSpPr>
              <p:spPr>
                <a:xfrm>
                  <a:off x="315468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52" name=""/>
                <p:cNvGrpSpPr/>
                <p:nvPr/>
              </p:nvGrpSpPr>
              <p:grpSpPr>
                <a:xfrm>
                  <a:off x="3102840" y="6104520"/>
                  <a:ext cx="210240" cy="82800"/>
                  <a:chOff x="3102840" y="6104520"/>
                  <a:chExt cx="210240" cy="82800"/>
                </a:xfrm>
              </p:grpSpPr>
              <p:sp>
                <p:nvSpPr>
                  <p:cNvPr id="4153" name=""/>
                  <p:cNvSpPr/>
                  <p:nvPr/>
                </p:nvSpPr>
                <p:spPr>
                  <a:xfrm>
                    <a:off x="310284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320832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5" name=""/>
              <p:cNvGrpSpPr/>
              <p:nvPr/>
            </p:nvGrpSpPr>
            <p:grpSpPr>
              <a:xfrm>
                <a:off x="3164760" y="6104520"/>
                <a:ext cx="83880" cy="414360"/>
                <a:chOff x="3164760" y="6104520"/>
                <a:chExt cx="83880" cy="414360"/>
              </a:xfrm>
            </p:grpSpPr>
            <p:grpSp>
              <p:nvGrpSpPr>
                <p:cNvPr id="4156" name=""/>
                <p:cNvGrpSpPr/>
                <p:nvPr/>
              </p:nvGrpSpPr>
              <p:grpSpPr>
                <a:xfrm>
                  <a:off x="3164760" y="6104520"/>
                  <a:ext cx="83880" cy="208080"/>
                  <a:chOff x="3164760" y="6104520"/>
                  <a:chExt cx="83880" cy="208080"/>
                </a:xfrm>
              </p:grpSpPr>
              <p:grpSp>
                <p:nvGrpSpPr>
                  <p:cNvPr id="4157" name=""/>
                  <p:cNvGrpSpPr/>
                  <p:nvPr/>
                </p:nvGrpSpPr>
                <p:grpSpPr>
                  <a:xfrm>
                    <a:off x="3164760" y="6104520"/>
                    <a:ext cx="83880" cy="41400"/>
                    <a:chOff x="3164760" y="6104520"/>
                    <a:chExt cx="83880" cy="41400"/>
                  </a:xfrm>
                </p:grpSpPr>
                <p:sp>
                  <p:nvSpPr>
                    <p:cNvPr id="4158" name=""/>
                    <p:cNvSpPr/>
                    <p:nvPr/>
                  </p:nvSpPr>
                  <p:spPr>
                    <a:xfrm>
                      <a:off x="3164760" y="610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9" name=""/>
                    <p:cNvSpPr/>
                    <p:nvPr/>
                  </p:nvSpPr>
                  <p:spPr>
                    <a:xfrm>
                      <a:off x="3164760" y="6117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0" name=""/>
                    <p:cNvSpPr/>
                    <p:nvPr/>
                  </p:nvSpPr>
                  <p:spPr>
                    <a:xfrm>
                      <a:off x="3164760" y="613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1" name=""/>
                  <p:cNvGrpSpPr/>
                  <p:nvPr/>
                </p:nvGrpSpPr>
                <p:grpSpPr>
                  <a:xfrm>
                    <a:off x="3164760" y="6146280"/>
                    <a:ext cx="83880" cy="41400"/>
                    <a:chOff x="3164760" y="6146280"/>
                    <a:chExt cx="83880" cy="41400"/>
                  </a:xfrm>
                </p:grpSpPr>
                <p:sp>
                  <p:nvSpPr>
                    <p:cNvPr id="4162" name=""/>
                    <p:cNvSpPr/>
                    <p:nvPr/>
                  </p:nvSpPr>
                  <p:spPr>
                    <a:xfrm>
                      <a:off x="3164760" y="6146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3" name=""/>
                    <p:cNvSpPr/>
                    <p:nvPr/>
                  </p:nvSpPr>
                  <p:spPr>
                    <a:xfrm>
                      <a:off x="3164760" y="6159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4" name=""/>
                    <p:cNvSpPr/>
                    <p:nvPr/>
                  </p:nvSpPr>
                  <p:spPr>
                    <a:xfrm>
                      <a:off x="3164760" y="617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5" name=""/>
                  <p:cNvGrpSpPr/>
                  <p:nvPr/>
                </p:nvGrpSpPr>
                <p:grpSpPr>
                  <a:xfrm>
                    <a:off x="3164760" y="6188040"/>
                    <a:ext cx="83880" cy="41400"/>
                    <a:chOff x="3164760" y="6188040"/>
                    <a:chExt cx="83880" cy="41400"/>
                  </a:xfrm>
                </p:grpSpPr>
                <p:sp>
                  <p:nvSpPr>
                    <p:cNvPr id="4166" name=""/>
                    <p:cNvSpPr/>
                    <p:nvPr/>
                  </p:nvSpPr>
                  <p:spPr>
                    <a:xfrm>
                      <a:off x="3164760" y="6188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7" name=""/>
                    <p:cNvSpPr/>
                    <p:nvPr/>
                  </p:nvSpPr>
                  <p:spPr>
                    <a:xfrm>
                      <a:off x="3164760" y="6201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8" name=""/>
                    <p:cNvSpPr/>
                    <p:nvPr/>
                  </p:nvSpPr>
                  <p:spPr>
                    <a:xfrm>
                      <a:off x="3164760" y="6215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9" name=""/>
                  <p:cNvGrpSpPr/>
                  <p:nvPr/>
                </p:nvGrpSpPr>
                <p:grpSpPr>
                  <a:xfrm>
                    <a:off x="3164760" y="6229800"/>
                    <a:ext cx="83880" cy="41400"/>
                    <a:chOff x="3164760" y="6229800"/>
                    <a:chExt cx="83880" cy="41400"/>
                  </a:xfrm>
                </p:grpSpPr>
                <p:sp>
                  <p:nvSpPr>
                    <p:cNvPr id="4170" name=""/>
                    <p:cNvSpPr/>
                    <p:nvPr/>
                  </p:nvSpPr>
                  <p:spPr>
                    <a:xfrm>
                      <a:off x="3164760" y="6229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1" name=""/>
                    <p:cNvSpPr/>
                    <p:nvPr/>
                  </p:nvSpPr>
                  <p:spPr>
                    <a:xfrm>
                      <a:off x="3164760" y="624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2" name=""/>
                    <p:cNvSpPr/>
                    <p:nvPr/>
                  </p:nvSpPr>
                  <p:spPr>
                    <a:xfrm>
                      <a:off x="3164760" y="6257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3" name=""/>
                  <p:cNvGrpSpPr/>
                  <p:nvPr/>
                </p:nvGrpSpPr>
                <p:grpSpPr>
                  <a:xfrm>
                    <a:off x="3164760" y="6271200"/>
                    <a:ext cx="83880" cy="41400"/>
                    <a:chOff x="3164760" y="6271200"/>
                    <a:chExt cx="83880" cy="41400"/>
                  </a:xfrm>
                </p:grpSpPr>
                <p:sp>
                  <p:nvSpPr>
                    <p:cNvPr id="4174" name=""/>
                    <p:cNvSpPr/>
                    <p:nvPr/>
                  </p:nvSpPr>
                  <p:spPr>
                    <a:xfrm>
                      <a:off x="3164760" y="6271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5" name=""/>
                    <p:cNvSpPr/>
                    <p:nvPr/>
                  </p:nvSpPr>
                  <p:spPr>
                    <a:xfrm>
                      <a:off x="3164760" y="628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6" name=""/>
                    <p:cNvSpPr/>
                    <p:nvPr/>
                  </p:nvSpPr>
                  <p:spPr>
                    <a:xfrm>
                      <a:off x="3164760" y="629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77" name=""/>
                <p:cNvGrpSpPr/>
                <p:nvPr/>
              </p:nvGrpSpPr>
              <p:grpSpPr>
                <a:xfrm>
                  <a:off x="3164760" y="6310800"/>
                  <a:ext cx="83880" cy="208080"/>
                  <a:chOff x="3164760" y="6310800"/>
                  <a:chExt cx="83880" cy="208080"/>
                </a:xfrm>
              </p:grpSpPr>
              <p:grpSp>
                <p:nvGrpSpPr>
                  <p:cNvPr id="4178" name=""/>
                  <p:cNvGrpSpPr/>
                  <p:nvPr/>
                </p:nvGrpSpPr>
                <p:grpSpPr>
                  <a:xfrm>
                    <a:off x="3164760" y="6310800"/>
                    <a:ext cx="83880" cy="41400"/>
                    <a:chOff x="3164760" y="6310800"/>
                    <a:chExt cx="83880" cy="41400"/>
                  </a:xfrm>
                </p:grpSpPr>
                <p:sp>
                  <p:nvSpPr>
                    <p:cNvPr id="4179" name=""/>
                    <p:cNvSpPr/>
                    <p:nvPr/>
                  </p:nvSpPr>
                  <p:spPr>
                    <a:xfrm>
                      <a:off x="3164760" y="631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0" name=""/>
                    <p:cNvSpPr/>
                    <p:nvPr/>
                  </p:nvSpPr>
                  <p:spPr>
                    <a:xfrm>
                      <a:off x="3164760" y="6324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1" name=""/>
                    <p:cNvSpPr/>
                    <p:nvPr/>
                  </p:nvSpPr>
                  <p:spPr>
                    <a:xfrm>
                      <a:off x="3164760" y="6338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2" name=""/>
                  <p:cNvGrpSpPr/>
                  <p:nvPr/>
                </p:nvGrpSpPr>
                <p:grpSpPr>
                  <a:xfrm>
                    <a:off x="3164760" y="6352560"/>
                    <a:ext cx="83880" cy="41400"/>
                    <a:chOff x="3164760" y="6352560"/>
                    <a:chExt cx="83880" cy="41400"/>
                  </a:xfrm>
                </p:grpSpPr>
                <p:sp>
                  <p:nvSpPr>
                    <p:cNvPr id="4183" name=""/>
                    <p:cNvSpPr/>
                    <p:nvPr/>
                  </p:nvSpPr>
                  <p:spPr>
                    <a:xfrm>
                      <a:off x="3164760" y="6352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4" name=""/>
                    <p:cNvSpPr/>
                    <p:nvPr/>
                  </p:nvSpPr>
                  <p:spPr>
                    <a:xfrm>
                      <a:off x="3164760" y="6365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5" name=""/>
                    <p:cNvSpPr/>
                    <p:nvPr/>
                  </p:nvSpPr>
                  <p:spPr>
                    <a:xfrm>
                      <a:off x="3164760" y="6379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6" name=""/>
                  <p:cNvGrpSpPr/>
                  <p:nvPr/>
                </p:nvGrpSpPr>
                <p:grpSpPr>
                  <a:xfrm>
                    <a:off x="3164760" y="6394320"/>
                    <a:ext cx="83880" cy="41400"/>
                    <a:chOff x="3164760" y="6394320"/>
                    <a:chExt cx="83880" cy="41400"/>
                  </a:xfrm>
                </p:grpSpPr>
                <p:sp>
                  <p:nvSpPr>
                    <p:cNvPr id="4187" name=""/>
                    <p:cNvSpPr/>
                    <p:nvPr/>
                  </p:nvSpPr>
                  <p:spPr>
                    <a:xfrm>
                      <a:off x="3164760" y="6394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8" name=""/>
                    <p:cNvSpPr/>
                    <p:nvPr/>
                  </p:nvSpPr>
                  <p:spPr>
                    <a:xfrm>
                      <a:off x="3164760" y="6407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9" name=""/>
                    <p:cNvSpPr/>
                    <p:nvPr/>
                  </p:nvSpPr>
                  <p:spPr>
                    <a:xfrm>
                      <a:off x="3164760" y="6421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0" name=""/>
                  <p:cNvGrpSpPr/>
                  <p:nvPr/>
                </p:nvGrpSpPr>
                <p:grpSpPr>
                  <a:xfrm>
                    <a:off x="3164760" y="6436080"/>
                    <a:ext cx="83880" cy="41400"/>
                    <a:chOff x="3164760" y="6436080"/>
                    <a:chExt cx="83880" cy="41400"/>
                  </a:xfrm>
                </p:grpSpPr>
                <p:sp>
                  <p:nvSpPr>
                    <p:cNvPr id="4191" name=""/>
                    <p:cNvSpPr/>
                    <p:nvPr/>
                  </p:nvSpPr>
                  <p:spPr>
                    <a:xfrm>
                      <a:off x="3164760" y="6436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2" name=""/>
                    <p:cNvSpPr/>
                    <p:nvPr/>
                  </p:nvSpPr>
                  <p:spPr>
                    <a:xfrm>
                      <a:off x="3164760" y="6449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3" name=""/>
                    <p:cNvSpPr/>
                    <p:nvPr/>
                  </p:nvSpPr>
                  <p:spPr>
                    <a:xfrm>
                      <a:off x="3164760" y="646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4" name=""/>
                  <p:cNvGrpSpPr/>
                  <p:nvPr/>
                </p:nvGrpSpPr>
                <p:grpSpPr>
                  <a:xfrm>
                    <a:off x="3164760" y="6477480"/>
                    <a:ext cx="83880" cy="41400"/>
                    <a:chOff x="3164760" y="6477480"/>
                    <a:chExt cx="83880" cy="41400"/>
                  </a:xfrm>
                </p:grpSpPr>
                <p:sp>
                  <p:nvSpPr>
                    <p:cNvPr id="4195" name=""/>
                    <p:cNvSpPr/>
                    <p:nvPr/>
                  </p:nvSpPr>
                  <p:spPr>
                    <a:xfrm>
                      <a:off x="3164760" y="647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6" name=""/>
                    <p:cNvSpPr/>
                    <p:nvPr/>
                  </p:nvSpPr>
                  <p:spPr>
                    <a:xfrm>
                      <a:off x="3164760" y="649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7" name=""/>
                    <p:cNvSpPr/>
                    <p:nvPr/>
                  </p:nvSpPr>
                  <p:spPr>
                    <a:xfrm>
                      <a:off x="3164760" y="6504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98" name=""/>
              <p:cNvGrpSpPr/>
              <p:nvPr/>
            </p:nvGrpSpPr>
            <p:grpSpPr>
              <a:xfrm>
                <a:off x="3138120" y="5888520"/>
                <a:ext cx="137520" cy="216000"/>
                <a:chOff x="3138120" y="5888520"/>
                <a:chExt cx="137520" cy="216000"/>
              </a:xfrm>
            </p:grpSpPr>
            <p:grpSp>
              <p:nvGrpSpPr>
                <p:cNvPr id="4199" name=""/>
                <p:cNvGrpSpPr/>
                <p:nvPr/>
              </p:nvGrpSpPr>
              <p:grpSpPr>
                <a:xfrm>
                  <a:off x="3138120" y="5961240"/>
                  <a:ext cx="137520" cy="143280"/>
                  <a:chOff x="3138120" y="5961240"/>
                  <a:chExt cx="137520" cy="143280"/>
                </a:xfrm>
              </p:grpSpPr>
              <p:sp>
                <p:nvSpPr>
                  <p:cNvPr id="4200" name=""/>
                  <p:cNvSpPr/>
                  <p:nvPr/>
                </p:nvSpPr>
                <p:spPr>
                  <a:xfrm>
                    <a:off x="3138120" y="6023880"/>
                    <a:ext cx="13752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01" name=""/>
                  <p:cNvGrpSpPr/>
                  <p:nvPr/>
                </p:nvGrpSpPr>
                <p:grpSpPr>
                  <a:xfrm>
                    <a:off x="3140640" y="5961240"/>
                    <a:ext cx="132120" cy="143280"/>
                    <a:chOff x="3140640" y="5961240"/>
                    <a:chExt cx="132120" cy="143280"/>
                  </a:xfrm>
                </p:grpSpPr>
                <p:sp>
                  <p:nvSpPr>
                    <p:cNvPr id="4202" name=""/>
                    <p:cNvSpPr/>
                    <p:nvPr/>
                  </p:nvSpPr>
                  <p:spPr>
                    <a:xfrm>
                      <a:off x="3141360" y="6030720"/>
                      <a:ext cx="13032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3" name=""/>
                    <p:cNvSpPr/>
                    <p:nvPr/>
                  </p:nvSpPr>
                  <p:spPr>
                    <a:xfrm flipV="1">
                      <a:off x="3140640" y="5972760"/>
                      <a:ext cx="132120" cy="50040"/>
                    </a:xfrm>
                    <a:custGeom>
                      <a:avLst/>
                      <a:gdLst>
                        <a:gd name="textAreaLeft" fmla="*/ 13680 w 132120"/>
                        <a:gd name="textAreaRight" fmla="*/ 118440 w 13212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4" name=""/>
                    <p:cNvSpPr/>
                    <p:nvPr/>
                  </p:nvSpPr>
                  <p:spPr>
                    <a:xfrm>
                      <a:off x="3144600" y="5961240"/>
                      <a:ext cx="12348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05" name=""/>
                <p:cNvGrpSpPr/>
                <p:nvPr/>
              </p:nvGrpSpPr>
              <p:grpSpPr>
                <a:xfrm>
                  <a:off x="3163320" y="5888520"/>
                  <a:ext cx="86400" cy="72360"/>
                  <a:chOff x="3163320" y="5888520"/>
                  <a:chExt cx="86400" cy="72360"/>
                </a:xfrm>
              </p:grpSpPr>
              <p:sp>
                <p:nvSpPr>
                  <p:cNvPr id="4206" name=""/>
                  <p:cNvSpPr/>
                  <p:nvPr/>
                </p:nvSpPr>
                <p:spPr>
                  <a:xfrm>
                    <a:off x="316368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7" name=""/>
                  <p:cNvSpPr/>
                  <p:nvPr/>
                </p:nvSpPr>
                <p:spPr>
                  <a:xfrm>
                    <a:off x="318204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8" name=""/>
                  <p:cNvSpPr/>
                  <p:nvPr/>
                </p:nvSpPr>
                <p:spPr>
                  <a:xfrm>
                    <a:off x="32004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9" name=""/>
                  <p:cNvSpPr/>
                  <p:nvPr/>
                </p:nvSpPr>
                <p:spPr>
                  <a:xfrm>
                    <a:off x="32202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0" name=""/>
                  <p:cNvSpPr/>
                  <p:nvPr/>
                </p:nvSpPr>
                <p:spPr>
                  <a:xfrm>
                    <a:off x="323892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1" name=""/>
                  <p:cNvSpPr/>
                  <p:nvPr/>
                </p:nvSpPr>
                <p:spPr>
                  <a:xfrm>
                    <a:off x="3163320" y="59194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2" name=""/>
                  <p:cNvSpPr/>
                  <p:nvPr/>
                </p:nvSpPr>
                <p:spPr>
                  <a:xfrm>
                    <a:off x="3164040" y="594216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3" name=""/>
                  <p:cNvSpPr/>
                  <p:nvPr/>
                </p:nvSpPr>
                <p:spPr>
                  <a:xfrm>
                    <a:off x="3164040" y="59608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14" name=""/>
                <p:cNvSpPr/>
                <p:nvPr/>
              </p:nvSpPr>
              <p:spPr>
                <a:xfrm>
                  <a:off x="3154320" y="603036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3237480" y="602964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>
                  <a:off x="3188880" y="604404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17" name=""/>
            <p:cNvSpPr/>
            <p:nvPr/>
          </p:nvSpPr>
          <p:spPr>
            <a:xfrm>
              <a:off x="2592000" y="5298120"/>
              <a:ext cx="1231200" cy="7714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2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lvds driver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8" name=""/>
          <p:cNvGrpSpPr/>
          <p:nvPr/>
        </p:nvGrpSpPr>
        <p:grpSpPr>
          <a:xfrm>
            <a:off x="3810600" y="2459160"/>
            <a:ext cx="1381680" cy="1174320"/>
            <a:chOff x="3810600" y="2459160"/>
            <a:chExt cx="1381680" cy="1174320"/>
          </a:xfrm>
        </p:grpSpPr>
        <p:grpSp>
          <p:nvGrpSpPr>
            <p:cNvPr id="4219" name=""/>
            <p:cNvGrpSpPr/>
            <p:nvPr/>
          </p:nvGrpSpPr>
          <p:grpSpPr>
            <a:xfrm>
              <a:off x="4185360" y="3000600"/>
              <a:ext cx="630720" cy="632880"/>
              <a:chOff x="4185360" y="3000600"/>
              <a:chExt cx="630720" cy="632880"/>
            </a:xfrm>
          </p:grpSpPr>
          <p:grpSp>
            <p:nvGrpSpPr>
              <p:cNvPr id="4220" name=""/>
              <p:cNvGrpSpPr/>
              <p:nvPr/>
            </p:nvGrpSpPr>
            <p:grpSpPr>
              <a:xfrm>
                <a:off x="4185360" y="3215880"/>
                <a:ext cx="630720" cy="417600"/>
                <a:chOff x="4185360" y="3215880"/>
                <a:chExt cx="630720" cy="417600"/>
              </a:xfrm>
            </p:grpSpPr>
            <p:grpSp>
              <p:nvGrpSpPr>
                <p:cNvPr id="4221" name=""/>
                <p:cNvGrpSpPr/>
                <p:nvPr/>
              </p:nvGrpSpPr>
              <p:grpSpPr>
                <a:xfrm>
                  <a:off x="4185360" y="3551040"/>
                  <a:ext cx="630720" cy="82440"/>
                  <a:chOff x="4185360" y="3551040"/>
                  <a:chExt cx="630720" cy="82440"/>
                </a:xfrm>
              </p:grpSpPr>
              <p:sp>
                <p:nvSpPr>
                  <p:cNvPr id="4222" name=""/>
                  <p:cNvSpPr/>
                  <p:nvPr/>
                </p:nvSpPr>
                <p:spPr>
                  <a:xfrm>
                    <a:off x="42904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3" name=""/>
                  <p:cNvSpPr/>
                  <p:nvPr/>
                </p:nvSpPr>
                <p:spPr>
                  <a:xfrm>
                    <a:off x="45010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4" name=""/>
                  <p:cNvSpPr/>
                  <p:nvPr/>
                </p:nvSpPr>
                <p:spPr>
                  <a:xfrm>
                    <a:off x="46062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5" name=""/>
                  <p:cNvSpPr/>
                  <p:nvPr/>
                </p:nvSpPr>
                <p:spPr>
                  <a:xfrm>
                    <a:off x="47116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6" name=""/>
                  <p:cNvSpPr/>
                  <p:nvPr/>
                </p:nvSpPr>
                <p:spPr>
                  <a:xfrm>
                    <a:off x="43956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7" name=""/>
                  <p:cNvSpPr/>
                  <p:nvPr/>
                </p:nvSpPr>
                <p:spPr>
                  <a:xfrm>
                    <a:off x="418536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8" name=""/>
                <p:cNvGrpSpPr/>
                <p:nvPr/>
              </p:nvGrpSpPr>
              <p:grpSpPr>
                <a:xfrm>
                  <a:off x="4237920" y="3467520"/>
                  <a:ext cx="525240" cy="82440"/>
                  <a:chOff x="4237920" y="3467520"/>
                  <a:chExt cx="525240" cy="82440"/>
                </a:xfrm>
              </p:grpSpPr>
              <p:sp>
                <p:nvSpPr>
                  <p:cNvPr id="4229" name=""/>
                  <p:cNvSpPr/>
                  <p:nvPr/>
                </p:nvSpPr>
                <p:spPr>
                  <a:xfrm>
                    <a:off x="423792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44481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>
                    <a:off x="45536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>
                    <a:off x="46587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3" name=""/>
                  <p:cNvSpPr/>
                  <p:nvPr/>
                </p:nvSpPr>
                <p:spPr>
                  <a:xfrm>
                    <a:off x="43430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34" name=""/>
                <p:cNvSpPr/>
                <p:nvPr/>
              </p:nvSpPr>
              <p:spPr>
                <a:xfrm>
                  <a:off x="439596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460656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450108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7" name=""/>
                <p:cNvSpPr/>
                <p:nvPr/>
              </p:nvSpPr>
              <p:spPr>
                <a:xfrm>
                  <a:off x="429048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8" name=""/>
                <p:cNvSpPr/>
                <p:nvPr/>
              </p:nvSpPr>
              <p:spPr>
                <a:xfrm>
                  <a:off x="4343400" y="330048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9" name=""/>
                <p:cNvSpPr/>
                <p:nvPr/>
              </p:nvSpPr>
              <p:spPr>
                <a:xfrm>
                  <a:off x="455400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0" name=""/>
                <p:cNvSpPr/>
                <p:nvPr/>
              </p:nvSpPr>
              <p:spPr>
                <a:xfrm>
                  <a:off x="444888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41" name=""/>
                <p:cNvGrpSpPr/>
                <p:nvPr/>
              </p:nvGrpSpPr>
              <p:grpSpPr>
                <a:xfrm>
                  <a:off x="4397040" y="3215880"/>
                  <a:ext cx="209880" cy="82440"/>
                  <a:chOff x="4397040" y="3215880"/>
                  <a:chExt cx="209880" cy="82440"/>
                </a:xfrm>
              </p:grpSpPr>
              <p:sp>
                <p:nvSpPr>
                  <p:cNvPr id="4242" name=""/>
                  <p:cNvSpPr/>
                  <p:nvPr/>
                </p:nvSpPr>
                <p:spPr>
                  <a:xfrm>
                    <a:off x="4397040" y="321588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3" name=""/>
                  <p:cNvSpPr/>
                  <p:nvPr/>
                </p:nvSpPr>
                <p:spPr>
                  <a:xfrm>
                    <a:off x="4502520" y="32158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4" name=""/>
              <p:cNvGrpSpPr/>
              <p:nvPr/>
            </p:nvGrpSpPr>
            <p:grpSpPr>
              <a:xfrm>
                <a:off x="4458600" y="3215880"/>
                <a:ext cx="83520" cy="413640"/>
                <a:chOff x="4458600" y="3215880"/>
                <a:chExt cx="83520" cy="413640"/>
              </a:xfrm>
            </p:grpSpPr>
            <p:grpSp>
              <p:nvGrpSpPr>
                <p:cNvPr id="4245" name=""/>
                <p:cNvGrpSpPr/>
                <p:nvPr/>
              </p:nvGrpSpPr>
              <p:grpSpPr>
                <a:xfrm>
                  <a:off x="4458600" y="3215880"/>
                  <a:ext cx="83520" cy="207720"/>
                  <a:chOff x="4458600" y="3215880"/>
                  <a:chExt cx="83520" cy="207720"/>
                </a:xfrm>
              </p:grpSpPr>
              <p:grpSp>
                <p:nvGrpSpPr>
                  <p:cNvPr id="4246" name=""/>
                  <p:cNvGrpSpPr/>
                  <p:nvPr/>
                </p:nvGrpSpPr>
                <p:grpSpPr>
                  <a:xfrm>
                    <a:off x="4458600" y="3215880"/>
                    <a:ext cx="83520" cy="41400"/>
                    <a:chOff x="4458600" y="3215880"/>
                    <a:chExt cx="83520" cy="41400"/>
                  </a:xfrm>
                </p:grpSpPr>
                <p:sp>
                  <p:nvSpPr>
                    <p:cNvPr id="4247" name=""/>
                    <p:cNvSpPr/>
                    <p:nvPr/>
                  </p:nvSpPr>
                  <p:spPr>
                    <a:xfrm>
                      <a:off x="4458600" y="3215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8" name=""/>
                    <p:cNvSpPr/>
                    <p:nvPr/>
                  </p:nvSpPr>
                  <p:spPr>
                    <a:xfrm>
                      <a:off x="4458600" y="3229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9" name=""/>
                    <p:cNvSpPr/>
                    <p:nvPr/>
                  </p:nvSpPr>
                  <p:spPr>
                    <a:xfrm>
                      <a:off x="4458600" y="3243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0" name=""/>
                  <p:cNvGrpSpPr/>
                  <p:nvPr/>
                </p:nvGrpSpPr>
                <p:grpSpPr>
                  <a:xfrm>
                    <a:off x="4458600" y="3257640"/>
                    <a:ext cx="83520" cy="41400"/>
                    <a:chOff x="4458600" y="3257640"/>
                    <a:chExt cx="83520" cy="41400"/>
                  </a:xfrm>
                </p:grpSpPr>
                <p:sp>
                  <p:nvSpPr>
                    <p:cNvPr id="4251" name=""/>
                    <p:cNvSpPr/>
                    <p:nvPr/>
                  </p:nvSpPr>
                  <p:spPr>
                    <a:xfrm>
                      <a:off x="4458600" y="3257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2" name=""/>
                    <p:cNvSpPr/>
                    <p:nvPr/>
                  </p:nvSpPr>
                  <p:spPr>
                    <a:xfrm>
                      <a:off x="4458600" y="327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3" name=""/>
                    <p:cNvSpPr/>
                    <p:nvPr/>
                  </p:nvSpPr>
                  <p:spPr>
                    <a:xfrm>
                      <a:off x="4458600" y="3285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4" name=""/>
                  <p:cNvGrpSpPr/>
                  <p:nvPr/>
                </p:nvGrpSpPr>
                <p:grpSpPr>
                  <a:xfrm>
                    <a:off x="4458600" y="3299400"/>
                    <a:ext cx="83520" cy="41400"/>
                    <a:chOff x="4458600" y="3299400"/>
                    <a:chExt cx="83520" cy="41400"/>
                  </a:xfrm>
                </p:grpSpPr>
                <p:sp>
                  <p:nvSpPr>
                    <p:cNvPr id="4255" name=""/>
                    <p:cNvSpPr/>
                    <p:nvPr/>
                  </p:nvSpPr>
                  <p:spPr>
                    <a:xfrm>
                      <a:off x="4458600" y="329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6" name=""/>
                    <p:cNvSpPr/>
                    <p:nvPr/>
                  </p:nvSpPr>
                  <p:spPr>
                    <a:xfrm>
                      <a:off x="4458600" y="331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7" name=""/>
                    <p:cNvSpPr/>
                    <p:nvPr/>
                  </p:nvSpPr>
                  <p:spPr>
                    <a:xfrm>
                      <a:off x="4458600" y="332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8" name=""/>
                  <p:cNvGrpSpPr/>
                  <p:nvPr/>
                </p:nvGrpSpPr>
                <p:grpSpPr>
                  <a:xfrm>
                    <a:off x="4458600" y="3341160"/>
                    <a:ext cx="83520" cy="41400"/>
                    <a:chOff x="4458600" y="3341160"/>
                    <a:chExt cx="83520" cy="41400"/>
                  </a:xfrm>
                </p:grpSpPr>
                <p:sp>
                  <p:nvSpPr>
                    <p:cNvPr id="4259" name=""/>
                    <p:cNvSpPr/>
                    <p:nvPr/>
                  </p:nvSpPr>
                  <p:spPr>
                    <a:xfrm>
                      <a:off x="4458600" y="3341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0" name=""/>
                    <p:cNvSpPr/>
                    <p:nvPr/>
                  </p:nvSpPr>
                  <p:spPr>
                    <a:xfrm>
                      <a:off x="4458600" y="3354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1" name=""/>
                    <p:cNvSpPr/>
                    <p:nvPr/>
                  </p:nvSpPr>
                  <p:spPr>
                    <a:xfrm>
                      <a:off x="4458600" y="3368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2" name=""/>
                  <p:cNvGrpSpPr/>
                  <p:nvPr/>
                </p:nvGrpSpPr>
                <p:grpSpPr>
                  <a:xfrm>
                    <a:off x="4458600" y="3382200"/>
                    <a:ext cx="83520" cy="41400"/>
                    <a:chOff x="4458600" y="3382200"/>
                    <a:chExt cx="83520" cy="41400"/>
                  </a:xfrm>
                </p:grpSpPr>
                <p:sp>
                  <p:nvSpPr>
                    <p:cNvPr id="4263" name=""/>
                    <p:cNvSpPr/>
                    <p:nvPr/>
                  </p:nvSpPr>
                  <p:spPr>
                    <a:xfrm>
                      <a:off x="4458600" y="3382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4" name=""/>
                    <p:cNvSpPr/>
                    <p:nvPr/>
                  </p:nvSpPr>
                  <p:spPr>
                    <a:xfrm>
                      <a:off x="4458600" y="3395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5" name=""/>
                    <p:cNvSpPr/>
                    <p:nvPr/>
                  </p:nvSpPr>
                  <p:spPr>
                    <a:xfrm>
                      <a:off x="4458600" y="3409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66" name=""/>
                <p:cNvGrpSpPr/>
                <p:nvPr/>
              </p:nvGrpSpPr>
              <p:grpSpPr>
                <a:xfrm>
                  <a:off x="4458600" y="3421800"/>
                  <a:ext cx="83520" cy="207720"/>
                  <a:chOff x="4458600" y="3421800"/>
                  <a:chExt cx="83520" cy="207720"/>
                </a:xfrm>
              </p:grpSpPr>
              <p:grpSp>
                <p:nvGrpSpPr>
                  <p:cNvPr id="4267" name=""/>
                  <p:cNvGrpSpPr/>
                  <p:nvPr/>
                </p:nvGrpSpPr>
                <p:grpSpPr>
                  <a:xfrm>
                    <a:off x="4458600" y="3421800"/>
                    <a:ext cx="83520" cy="41400"/>
                    <a:chOff x="4458600" y="3421800"/>
                    <a:chExt cx="83520" cy="41400"/>
                  </a:xfrm>
                </p:grpSpPr>
                <p:sp>
                  <p:nvSpPr>
                    <p:cNvPr id="4268" name=""/>
                    <p:cNvSpPr/>
                    <p:nvPr/>
                  </p:nvSpPr>
                  <p:spPr>
                    <a:xfrm>
                      <a:off x="4458600" y="3421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9" name=""/>
                    <p:cNvSpPr/>
                    <p:nvPr/>
                  </p:nvSpPr>
                  <p:spPr>
                    <a:xfrm>
                      <a:off x="4458600" y="343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0" name=""/>
                    <p:cNvSpPr/>
                    <p:nvPr/>
                  </p:nvSpPr>
                  <p:spPr>
                    <a:xfrm>
                      <a:off x="4458600" y="3449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1" name=""/>
                  <p:cNvGrpSpPr/>
                  <p:nvPr/>
                </p:nvGrpSpPr>
                <p:grpSpPr>
                  <a:xfrm>
                    <a:off x="4458600" y="3463560"/>
                    <a:ext cx="83520" cy="41400"/>
                    <a:chOff x="4458600" y="3463560"/>
                    <a:chExt cx="83520" cy="41400"/>
                  </a:xfrm>
                </p:grpSpPr>
                <p:sp>
                  <p:nvSpPr>
                    <p:cNvPr id="4272" name=""/>
                    <p:cNvSpPr/>
                    <p:nvPr/>
                  </p:nvSpPr>
                  <p:spPr>
                    <a:xfrm>
                      <a:off x="4458600" y="3463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3" name=""/>
                    <p:cNvSpPr/>
                    <p:nvPr/>
                  </p:nvSpPr>
                  <p:spPr>
                    <a:xfrm>
                      <a:off x="4458600" y="347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4" name=""/>
                    <p:cNvSpPr/>
                    <p:nvPr/>
                  </p:nvSpPr>
                  <p:spPr>
                    <a:xfrm>
                      <a:off x="4458600" y="3490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5" name=""/>
                  <p:cNvGrpSpPr/>
                  <p:nvPr/>
                </p:nvGrpSpPr>
                <p:grpSpPr>
                  <a:xfrm>
                    <a:off x="4458600" y="3505320"/>
                    <a:ext cx="83520" cy="41400"/>
                    <a:chOff x="4458600" y="3505320"/>
                    <a:chExt cx="83520" cy="41400"/>
                  </a:xfrm>
                </p:grpSpPr>
                <p:sp>
                  <p:nvSpPr>
                    <p:cNvPr id="4276" name=""/>
                    <p:cNvSpPr/>
                    <p:nvPr/>
                  </p:nvSpPr>
                  <p:spPr>
                    <a:xfrm>
                      <a:off x="4458600" y="3505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7" name=""/>
                    <p:cNvSpPr/>
                    <p:nvPr/>
                  </p:nvSpPr>
                  <p:spPr>
                    <a:xfrm>
                      <a:off x="4458600" y="351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8" name=""/>
                    <p:cNvSpPr/>
                    <p:nvPr/>
                  </p:nvSpPr>
                  <p:spPr>
                    <a:xfrm>
                      <a:off x="4458600" y="3532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9" name=""/>
                  <p:cNvGrpSpPr/>
                  <p:nvPr/>
                </p:nvGrpSpPr>
                <p:grpSpPr>
                  <a:xfrm>
                    <a:off x="4458600" y="3547080"/>
                    <a:ext cx="83520" cy="41400"/>
                    <a:chOff x="4458600" y="3547080"/>
                    <a:chExt cx="83520" cy="41400"/>
                  </a:xfrm>
                </p:grpSpPr>
                <p:sp>
                  <p:nvSpPr>
                    <p:cNvPr id="4280" name=""/>
                    <p:cNvSpPr/>
                    <p:nvPr/>
                  </p:nvSpPr>
                  <p:spPr>
                    <a:xfrm>
                      <a:off x="4458600" y="35470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1" name=""/>
                    <p:cNvSpPr/>
                    <p:nvPr/>
                  </p:nvSpPr>
                  <p:spPr>
                    <a:xfrm>
                      <a:off x="4458600" y="356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2" name=""/>
                    <p:cNvSpPr/>
                    <p:nvPr/>
                  </p:nvSpPr>
                  <p:spPr>
                    <a:xfrm>
                      <a:off x="4458600" y="3574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3" name=""/>
                  <p:cNvGrpSpPr/>
                  <p:nvPr/>
                </p:nvGrpSpPr>
                <p:grpSpPr>
                  <a:xfrm>
                    <a:off x="4458600" y="3588120"/>
                    <a:ext cx="83520" cy="41400"/>
                    <a:chOff x="4458600" y="3588120"/>
                    <a:chExt cx="83520" cy="41400"/>
                  </a:xfrm>
                </p:grpSpPr>
                <p:sp>
                  <p:nvSpPr>
                    <p:cNvPr id="4284" name=""/>
                    <p:cNvSpPr/>
                    <p:nvPr/>
                  </p:nvSpPr>
                  <p:spPr>
                    <a:xfrm>
                      <a:off x="4458600" y="3588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5" name=""/>
                    <p:cNvSpPr/>
                    <p:nvPr/>
                  </p:nvSpPr>
                  <p:spPr>
                    <a:xfrm>
                      <a:off x="4458600" y="360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6" name=""/>
                    <p:cNvSpPr/>
                    <p:nvPr/>
                  </p:nvSpPr>
                  <p:spPr>
                    <a:xfrm>
                      <a:off x="4458600" y="3615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87" name=""/>
              <p:cNvGrpSpPr/>
              <p:nvPr/>
            </p:nvGrpSpPr>
            <p:grpSpPr>
              <a:xfrm>
                <a:off x="4432320" y="3000600"/>
                <a:ext cx="137160" cy="215640"/>
                <a:chOff x="4432320" y="3000600"/>
                <a:chExt cx="137160" cy="215640"/>
              </a:xfrm>
            </p:grpSpPr>
            <p:grpSp>
              <p:nvGrpSpPr>
                <p:cNvPr id="4288" name=""/>
                <p:cNvGrpSpPr/>
                <p:nvPr/>
              </p:nvGrpSpPr>
              <p:grpSpPr>
                <a:xfrm>
                  <a:off x="4432320" y="3073320"/>
                  <a:ext cx="137160" cy="142920"/>
                  <a:chOff x="4432320" y="3073320"/>
                  <a:chExt cx="137160" cy="142920"/>
                </a:xfrm>
              </p:grpSpPr>
              <p:sp>
                <p:nvSpPr>
                  <p:cNvPr id="4289" name=""/>
                  <p:cNvSpPr/>
                  <p:nvPr/>
                </p:nvSpPr>
                <p:spPr>
                  <a:xfrm>
                    <a:off x="4432320" y="31356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90" name=""/>
                  <p:cNvGrpSpPr/>
                  <p:nvPr/>
                </p:nvGrpSpPr>
                <p:grpSpPr>
                  <a:xfrm>
                    <a:off x="4434840" y="3073320"/>
                    <a:ext cx="131760" cy="142920"/>
                    <a:chOff x="4434840" y="3073320"/>
                    <a:chExt cx="131760" cy="142920"/>
                  </a:xfrm>
                </p:grpSpPr>
                <p:sp>
                  <p:nvSpPr>
                    <p:cNvPr id="4291" name=""/>
                    <p:cNvSpPr/>
                    <p:nvPr/>
                  </p:nvSpPr>
                  <p:spPr>
                    <a:xfrm>
                      <a:off x="4435560" y="31424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2" name=""/>
                    <p:cNvSpPr/>
                    <p:nvPr/>
                  </p:nvSpPr>
                  <p:spPr>
                    <a:xfrm flipV="1">
                      <a:off x="4434840" y="308484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3" name=""/>
                    <p:cNvSpPr/>
                    <p:nvPr/>
                  </p:nvSpPr>
                  <p:spPr>
                    <a:xfrm>
                      <a:off x="4438800" y="307332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94" name=""/>
                <p:cNvGrpSpPr/>
                <p:nvPr/>
              </p:nvGrpSpPr>
              <p:grpSpPr>
                <a:xfrm>
                  <a:off x="4457520" y="3000600"/>
                  <a:ext cx="86040" cy="72000"/>
                  <a:chOff x="4457520" y="3000600"/>
                  <a:chExt cx="86040" cy="72000"/>
                </a:xfrm>
              </p:grpSpPr>
              <p:sp>
                <p:nvSpPr>
                  <p:cNvPr id="4295" name=""/>
                  <p:cNvSpPr/>
                  <p:nvPr/>
                </p:nvSpPr>
                <p:spPr>
                  <a:xfrm>
                    <a:off x="4457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>
                    <a:off x="4475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>
                    <a:off x="449424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>
                    <a:off x="451440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9" name=""/>
                  <p:cNvSpPr/>
                  <p:nvPr/>
                </p:nvSpPr>
                <p:spPr>
                  <a:xfrm>
                    <a:off x="453276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>
                    <a:off x="4457520" y="30315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>
                    <a:off x="4458240" y="30538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4458240" y="30726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03" name=""/>
                <p:cNvSpPr/>
                <p:nvPr/>
              </p:nvSpPr>
              <p:spPr>
                <a:xfrm>
                  <a:off x="4448520" y="314208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>
                  <a:off x="4531320" y="31413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>
                  <a:off x="4483080" y="315540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6" name=""/>
            <p:cNvSpPr/>
            <p:nvPr/>
          </p:nvSpPr>
          <p:spPr>
            <a:xfrm>
              <a:off x="3810600" y="2459160"/>
              <a:ext cx="1381680" cy="6778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arning/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7" name=""/>
          <p:cNvSpPr/>
          <p:nvPr/>
        </p:nvSpPr>
        <p:spPr>
          <a:xfrm flipV="1">
            <a:off x="3508200" y="5816160"/>
            <a:ext cx="5038920" cy="6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8" name=""/>
          <p:cNvGrpSpPr/>
          <p:nvPr/>
        </p:nvGrpSpPr>
        <p:grpSpPr>
          <a:xfrm>
            <a:off x="3748320" y="3860280"/>
            <a:ext cx="1903320" cy="1392840"/>
            <a:chOff x="3748320" y="3860280"/>
            <a:chExt cx="1903320" cy="1392840"/>
          </a:xfrm>
        </p:grpSpPr>
        <p:grpSp>
          <p:nvGrpSpPr>
            <p:cNvPr id="4309" name=""/>
            <p:cNvGrpSpPr/>
            <p:nvPr/>
          </p:nvGrpSpPr>
          <p:grpSpPr>
            <a:xfrm>
              <a:off x="4365720" y="4618440"/>
              <a:ext cx="631080" cy="634680"/>
              <a:chOff x="4365720" y="4618440"/>
              <a:chExt cx="631080" cy="634680"/>
            </a:xfrm>
          </p:grpSpPr>
          <p:grpSp>
            <p:nvGrpSpPr>
              <p:cNvPr id="4310" name=""/>
              <p:cNvGrpSpPr/>
              <p:nvPr/>
            </p:nvGrpSpPr>
            <p:grpSpPr>
              <a:xfrm>
                <a:off x="4365720" y="4834440"/>
                <a:ext cx="631080" cy="418680"/>
                <a:chOff x="4365720" y="4834440"/>
                <a:chExt cx="631080" cy="418680"/>
              </a:xfrm>
            </p:grpSpPr>
            <p:grpSp>
              <p:nvGrpSpPr>
                <p:cNvPr id="4311" name=""/>
                <p:cNvGrpSpPr/>
                <p:nvPr/>
              </p:nvGrpSpPr>
              <p:grpSpPr>
                <a:xfrm>
                  <a:off x="4365720" y="5170320"/>
                  <a:ext cx="631080" cy="82800"/>
                  <a:chOff x="4365720" y="5170320"/>
                  <a:chExt cx="631080" cy="82800"/>
                </a:xfrm>
              </p:grpSpPr>
              <p:sp>
                <p:nvSpPr>
                  <p:cNvPr id="4312" name=""/>
                  <p:cNvSpPr/>
                  <p:nvPr/>
                </p:nvSpPr>
                <p:spPr>
                  <a:xfrm>
                    <a:off x="447084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3" name=""/>
                  <p:cNvSpPr/>
                  <p:nvPr/>
                </p:nvSpPr>
                <p:spPr>
                  <a:xfrm>
                    <a:off x="46814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4" name=""/>
                  <p:cNvSpPr/>
                  <p:nvPr/>
                </p:nvSpPr>
                <p:spPr>
                  <a:xfrm>
                    <a:off x="478692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5" name=""/>
                  <p:cNvSpPr/>
                  <p:nvPr/>
                </p:nvSpPr>
                <p:spPr>
                  <a:xfrm>
                    <a:off x="48920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6" name=""/>
                  <p:cNvSpPr/>
                  <p:nvPr/>
                </p:nvSpPr>
                <p:spPr>
                  <a:xfrm>
                    <a:off x="45763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7" name=""/>
                  <p:cNvSpPr/>
                  <p:nvPr/>
                </p:nvSpPr>
                <p:spPr>
                  <a:xfrm>
                    <a:off x="43657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8" name=""/>
                <p:cNvGrpSpPr/>
                <p:nvPr/>
              </p:nvGrpSpPr>
              <p:grpSpPr>
                <a:xfrm>
                  <a:off x="4418280" y="5086440"/>
                  <a:ext cx="525960" cy="82800"/>
                  <a:chOff x="4418280" y="5086440"/>
                  <a:chExt cx="525960" cy="82800"/>
                </a:xfrm>
              </p:grpSpPr>
              <p:sp>
                <p:nvSpPr>
                  <p:cNvPr id="4319" name=""/>
                  <p:cNvSpPr/>
                  <p:nvPr/>
                </p:nvSpPr>
                <p:spPr>
                  <a:xfrm>
                    <a:off x="44182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0" name=""/>
                  <p:cNvSpPr/>
                  <p:nvPr/>
                </p:nvSpPr>
                <p:spPr>
                  <a:xfrm>
                    <a:off x="46288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473436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2" name=""/>
                  <p:cNvSpPr/>
                  <p:nvPr/>
                </p:nvSpPr>
                <p:spPr>
                  <a:xfrm>
                    <a:off x="48394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3" name=""/>
                  <p:cNvSpPr/>
                  <p:nvPr/>
                </p:nvSpPr>
                <p:spPr>
                  <a:xfrm>
                    <a:off x="452340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4" name=""/>
                <p:cNvSpPr/>
                <p:nvPr/>
              </p:nvSpPr>
              <p:spPr>
                <a:xfrm>
                  <a:off x="457632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478728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468180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447084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4523760" y="49190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473472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62924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31" name=""/>
                <p:cNvGrpSpPr/>
                <p:nvPr/>
              </p:nvGrpSpPr>
              <p:grpSpPr>
                <a:xfrm>
                  <a:off x="4577400" y="4834440"/>
                  <a:ext cx="209880" cy="82800"/>
                  <a:chOff x="4577400" y="4834440"/>
                  <a:chExt cx="209880" cy="82800"/>
                </a:xfrm>
              </p:grpSpPr>
              <p:sp>
                <p:nvSpPr>
                  <p:cNvPr id="4332" name=""/>
                  <p:cNvSpPr/>
                  <p:nvPr/>
                </p:nvSpPr>
                <p:spPr>
                  <a:xfrm>
                    <a:off x="4577400" y="4834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3" name=""/>
                  <p:cNvSpPr/>
                  <p:nvPr/>
                </p:nvSpPr>
                <p:spPr>
                  <a:xfrm>
                    <a:off x="4682880" y="483444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4" name=""/>
              <p:cNvGrpSpPr/>
              <p:nvPr/>
            </p:nvGrpSpPr>
            <p:grpSpPr>
              <a:xfrm>
                <a:off x="4639320" y="4834440"/>
                <a:ext cx="83880" cy="414360"/>
                <a:chOff x="4639320" y="4834440"/>
                <a:chExt cx="83880" cy="414360"/>
              </a:xfrm>
            </p:grpSpPr>
            <p:grpSp>
              <p:nvGrpSpPr>
                <p:cNvPr id="4335" name=""/>
                <p:cNvGrpSpPr/>
                <p:nvPr/>
              </p:nvGrpSpPr>
              <p:grpSpPr>
                <a:xfrm>
                  <a:off x="4639320" y="4834440"/>
                  <a:ext cx="83880" cy="208080"/>
                  <a:chOff x="4639320" y="4834440"/>
                  <a:chExt cx="83880" cy="208080"/>
                </a:xfrm>
              </p:grpSpPr>
              <p:grpSp>
                <p:nvGrpSpPr>
                  <p:cNvPr id="4336" name=""/>
                  <p:cNvGrpSpPr/>
                  <p:nvPr/>
                </p:nvGrpSpPr>
                <p:grpSpPr>
                  <a:xfrm>
                    <a:off x="4639320" y="4834440"/>
                    <a:ext cx="83880" cy="41400"/>
                    <a:chOff x="4639320" y="4834440"/>
                    <a:chExt cx="83880" cy="41400"/>
                  </a:xfrm>
                </p:grpSpPr>
                <p:sp>
                  <p:nvSpPr>
                    <p:cNvPr id="4337" name=""/>
                    <p:cNvSpPr/>
                    <p:nvPr/>
                  </p:nvSpPr>
                  <p:spPr>
                    <a:xfrm>
                      <a:off x="4639320" y="483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8" name=""/>
                    <p:cNvSpPr/>
                    <p:nvPr/>
                  </p:nvSpPr>
                  <p:spPr>
                    <a:xfrm>
                      <a:off x="4639320" y="4847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9" name=""/>
                    <p:cNvSpPr/>
                    <p:nvPr/>
                  </p:nvSpPr>
                  <p:spPr>
                    <a:xfrm>
                      <a:off x="4639320" y="4861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0" name=""/>
                  <p:cNvGrpSpPr/>
                  <p:nvPr/>
                </p:nvGrpSpPr>
                <p:grpSpPr>
                  <a:xfrm>
                    <a:off x="4639320" y="4876200"/>
                    <a:ext cx="83880" cy="41400"/>
                    <a:chOff x="4639320" y="4876200"/>
                    <a:chExt cx="83880" cy="41400"/>
                  </a:xfrm>
                </p:grpSpPr>
                <p:sp>
                  <p:nvSpPr>
                    <p:cNvPr id="4341" name=""/>
                    <p:cNvSpPr/>
                    <p:nvPr/>
                  </p:nvSpPr>
                  <p:spPr>
                    <a:xfrm>
                      <a:off x="4639320" y="4876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2" name=""/>
                    <p:cNvSpPr/>
                    <p:nvPr/>
                  </p:nvSpPr>
                  <p:spPr>
                    <a:xfrm>
                      <a:off x="4639320" y="4889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3" name=""/>
                    <p:cNvSpPr/>
                    <p:nvPr/>
                  </p:nvSpPr>
                  <p:spPr>
                    <a:xfrm>
                      <a:off x="4639320" y="4903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4" name=""/>
                  <p:cNvGrpSpPr/>
                  <p:nvPr/>
                </p:nvGrpSpPr>
                <p:grpSpPr>
                  <a:xfrm>
                    <a:off x="4639320" y="4917960"/>
                    <a:ext cx="83880" cy="41400"/>
                    <a:chOff x="4639320" y="4917960"/>
                    <a:chExt cx="83880" cy="41400"/>
                  </a:xfrm>
                </p:grpSpPr>
                <p:sp>
                  <p:nvSpPr>
                    <p:cNvPr id="4345" name=""/>
                    <p:cNvSpPr/>
                    <p:nvPr/>
                  </p:nvSpPr>
                  <p:spPr>
                    <a:xfrm>
                      <a:off x="4639320" y="4917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6" name=""/>
                    <p:cNvSpPr/>
                    <p:nvPr/>
                  </p:nvSpPr>
                  <p:spPr>
                    <a:xfrm>
                      <a:off x="4639320" y="4931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7" name=""/>
                    <p:cNvSpPr/>
                    <p:nvPr/>
                  </p:nvSpPr>
                  <p:spPr>
                    <a:xfrm>
                      <a:off x="4639320" y="494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8" name=""/>
                  <p:cNvGrpSpPr/>
                  <p:nvPr/>
                </p:nvGrpSpPr>
                <p:grpSpPr>
                  <a:xfrm>
                    <a:off x="4639320" y="4959720"/>
                    <a:ext cx="83880" cy="41400"/>
                    <a:chOff x="4639320" y="4959720"/>
                    <a:chExt cx="83880" cy="41400"/>
                  </a:xfrm>
                </p:grpSpPr>
                <p:sp>
                  <p:nvSpPr>
                    <p:cNvPr id="4349" name=""/>
                    <p:cNvSpPr/>
                    <p:nvPr/>
                  </p:nvSpPr>
                  <p:spPr>
                    <a:xfrm>
                      <a:off x="4639320" y="4959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0" name=""/>
                    <p:cNvSpPr/>
                    <p:nvPr/>
                  </p:nvSpPr>
                  <p:spPr>
                    <a:xfrm>
                      <a:off x="4639320" y="4973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1" name=""/>
                    <p:cNvSpPr/>
                    <p:nvPr/>
                  </p:nvSpPr>
                  <p:spPr>
                    <a:xfrm>
                      <a:off x="4639320" y="4987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2" name=""/>
                  <p:cNvGrpSpPr/>
                  <p:nvPr/>
                </p:nvGrpSpPr>
                <p:grpSpPr>
                  <a:xfrm>
                    <a:off x="4639320" y="5001120"/>
                    <a:ext cx="83880" cy="41400"/>
                    <a:chOff x="4639320" y="5001120"/>
                    <a:chExt cx="83880" cy="41400"/>
                  </a:xfrm>
                </p:grpSpPr>
                <p:sp>
                  <p:nvSpPr>
                    <p:cNvPr id="4353" name=""/>
                    <p:cNvSpPr/>
                    <p:nvPr/>
                  </p:nvSpPr>
                  <p:spPr>
                    <a:xfrm>
                      <a:off x="4639320" y="5001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4" name=""/>
                    <p:cNvSpPr/>
                    <p:nvPr/>
                  </p:nvSpPr>
                  <p:spPr>
                    <a:xfrm>
                      <a:off x="4639320" y="501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5" name=""/>
                    <p:cNvSpPr/>
                    <p:nvPr/>
                  </p:nvSpPr>
                  <p:spPr>
                    <a:xfrm>
                      <a:off x="4639320" y="5028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6" name=""/>
                <p:cNvGrpSpPr/>
                <p:nvPr/>
              </p:nvGrpSpPr>
              <p:grpSpPr>
                <a:xfrm>
                  <a:off x="4639320" y="5040720"/>
                  <a:ext cx="83880" cy="208080"/>
                  <a:chOff x="4639320" y="5040720"/>
                  <a:chExt cx="83880" cy="208080"/>
                </a:xfrm>
              </p:grpSpPr>
              <p:grpSp>
                <p:nvGrpSpPr>
                  <p:cNvPr id="4357" name=""/>
                  <p:cNvGrpSpPr/>
                  <p:nvPr/>
                </p:nvGrpSpPr>
                <p:grpSpPr>
                  <a:xfrm>
                    <a:off x="4639320" y="5040720"/>
                    <a:ext cx="83880" cy="41400"/>
                    <a:chOff x="4639320" y="5040720"/>
                    <a:chExt cx="83880" cy="41400"/>
                  </a:xfrm>
                </p:grpSpPr>
                <p:sp>
                  <p:nvSpPr>
                    <p:cNvPr id="4358" name=""/>
                    <p:cNvSpPr/>
                    <p:nvPr/>
                  </p:nvSpPr>
                  <p:spPr>
                    <a:xfrm>
                      <a:off x="4639320" y="504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9" name=""/>
                    <p:cNvSpPr/>
                    <p:nvPr/>
                  </p:nvSpPr>
                  <p:spPr>
                    <a:xfrm>
                      <a:off x="4639320" y="5054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0" name=""/>
                    <p:cNvSpPr/>
                    <p:nvPr/>
                  </p:nvSpPr>
                  <p:spPr>
                    <a:xfrm>
                      <a:off x="4639320" y="5068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1" name=""/>
                  <p:cNvGrpSpPr/>
                  <p:nvPr/>
                </p:nvGrpSpPr>
                <p:grpSpPr>
                  <a:xfrm>
                    <a:off x="4639320" y="5082480"/>
                    <a:ext cx="83880" cy="41400"/>
                    <a:chOff x="4639320" y="5082480"/>
                    <a:chExt cx="83880" cy="41400"/>
                  </a:xfrm>
                </p:grpSpPr>
                <p:sp>
                  <p:nvSpPr>
                    <p:cNvPr id="4362" name=""/>
                    <p:cNvSpPr/>
                    <p:nvPr/>
                  </p:nvSpPr>
                  <p:spPr>
                    <a:xfrm>
                      <a:off x="4639320" y="5082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3" name=""/>
                    <p:cNvSpPr/>
                    <p:nvPr/>
                  </p:nvSpPr>
                  <p:spPr>
                    <a:xfrm>
                      <a:off x="4639320" y="5095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4" name=""/>
                    <p:cNvSpPr/>
                    <p:nvPr/>
                  </p:nvSpPr>
                  <p:spPr>
                    <a:xfrm>
                      <a:off x="4639320" y="5109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5" name=""/>
                  <p:cNvGrpSpPr/>
                  <p:nvPr/>
                </p:nvGrpSpPr>
                <p:grpSpPr>
                  <a:xfrm>
                    <a:off x="4639320" y="5124240"/>
                    <a:ext cx="83880" cy="41400"/>
                    <a:chOff x="4639320" y="5124240"/>
                    <a:chExt cx="83880" cy="41400"/>
                  </a:xfrm>
                </p:grpSpPr>
                <p:sp>
                  <p:nvSpPr>
                    <p:cNvPr id="4366" name=""/>
                    <p:cNvSpPr/>
                    <p:nvPr/>
                  </p:nvSpPr>
                  <p:spPr>
                    <a:xfrm>
                      <a:off x="4639320" y="5124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7" name=""/>
                    <p:cNvSpPr/>
                    <p:nvPr/>
                  </p:nvSpPr>
                  <p:spPr>
                    <a:xfrm>
                      <a:off x="4639320" y="5137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8" name=""/>
                    <p:cNvSpPr/>
                    <p:nvPr/>
                  </p:nvSpPr>
                  <p:spPr>
                    <a:xfrm>
                      <a:off x="4639320" y="5151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9" name=""/>
                  <p:cNvGrpSpPr/>
                  <p:nvPr/>
                </p:nvGrpSpPr>
                <p:grpSpPr>
                  <a:xfrm>
                    <a:off x="4639320" y="5166000"/>
                    <a:ext cx="83880" cy="41400"/>
                    <a:chOff x="4639320" y="5166000"/>
                    <a:chExt cx="83880" cy="41400"/>
                  </a:xfrm>
                </p:grpSpPr>
                <p:sp>
                  <p:nvSpPr>
                    <p:cNvPr id="4370" name=""/>
                    <p:cNvSpPr/>
                    <p:nvPr/>
                  </p:nvSpPr>
                  <p:spPr>
                    <a:xfrm>
                      <a:off x="4639320" y="5166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1" name=""/>
                    <p:cNvSpPr/>
                    <p:nvPr/>
                  </p:nvSpPr>
                  <p:spPr>
                    <a:xfrm>
                      <a:off x="4639320" y="5179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2" name=""/>
                    <p:cNvSpPr/>
                    <p:nvPr/>
                  </p:nvSpPr>
                  <p:spPr>
                    <a:xfrm>
                      <a:off x="4639320" y="5193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3" name=""/>
                  <p:cNvGrpSpPr/>
                  <p:nvPr/>
                </p:nvGrpSpPr>
                <p:grpSpPr>
                  <a:xfrm>
                    <a:off x="4639320" y="5207400"/>
                    <a:ext cx="83880" cy="41400"/>
                    <a:chOff x="4639320" y="5207400"/>
                    <a:chExt cx="83880" cy="41400"/>
                  </a:xfrm>
                </p:grpSpPr>
                <p:sp>
                  <p:nvSpPr>
                    <p:cNvPr id="4374" name=""/>
                    <p:cNvSpPr/>
                    <p:nvPr/>
                  </p:nvSpPr>
                  <p:spPr>
                    <a:xfrm>
                      <a:off x="4639320" y="5207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5" name=""/>
                    <p:cNvSpPr/>
                    <p:nvPr/>
                  </p:nvSpPr>
                  <p:spPr>
                    <a:xfrm>
                      <a:off x="4639320" y="522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6" name=""/>
                    <p:cNvSpPr/>
                    <p:nvPr/>
                  </p:nvSpPr>
                  <p:spPr>
                    <a:xfrm>
                      <a:off x="4639320" y="5234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77" name=""/>
              <p:cNvGrpSpPr/>
              <p:nvPr/>
            </p:nvGrpSpPr>
            <p:grpSpPr>
              <a:xfrm>
                <a:off x="4612680" y="4618440"/>
                <a:ext cx="137160" cy="216000"/>
                <a:chOff x="4612680" y="4618440"/>
                <a:chExt cx="137160" cy="216000"/>
              </a:xfrm>
            </p:grpSpPr>
            <p:grpSp>
              <p:nvGrpSpPr>
                <p:cNvPr id="4378" name=""/>
                <p:cNvGrpSpPr/>
                <p:nvPr/>
              </p:nvGrpSpPr>
              <p:grpSpPr>
                <a:xfrm>
                  <a:off x="4612680" y="4691160"/>
                  <a:ext cx="137160" cy="143280"/>
                  <a:chOff x="4612680" y="4691160"/>
                  <a:chExt cx="137160" cy="143280"/>
                </a:xfrm>
              </p:grpSpPr>
              <p:sp>
                <p:nvSpPr>
                  <p:cNvPr id="4379" name=""/>
                  <p:cNvSpPr/>
                  <p:nvPr/>
                </p:nvSpPr>
                <p:spPr>
                  <a:xfrm>
                    <a:off x="4612680" y="47538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80" name=""/>
                  <p:cNvGrpSpPr/>
                  <p:nvPr/>
                </p:nvGrpSpPr>
                <p:grpSpPr>
                  <a:xfrm>
                    <a:off x="4615200" y="4691160"/>
                    <a:ext cx="131760" cy="143280"/>
                    <a:chOff x="4615200" y="4691160"/>
                    <a:chExt cx="131760" cy="143280"/>
                  </a:xfrm>
                </p:grpSpPr>
                <p:sp>
                  <p:nvSpPr>
                    <p:cNvPr id="4381" name=""/>
                    <p:cNvSpPr/>
                    <p:nvPr/>
                  </p:nvSpPr>
                  <p:spPr>
                    <a:xfrm>
                      <a:off x="4615920" y="47606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2" name=""/>
                    <p:cNvSpPr/>
                    <p:nvPr/>
                  </p:nvSpPr>
                  <p:spPr>
                    <a:xfrm flipV="1">
                      <a:off x="4615200" y="47026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3" name=""/>
                    <p:cNvSpPr/>
                    <p:nvPr/>
                  </p:nvSpPr>
                  <p:spPr>
                    <a:xfrm>
                      <a:off x="4619160" y="46911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84" name=""/>
                <p:cNvGrpSpPr/>
                <p:nvPr/>
              </p:nvGrpSpPr>
              <p:grpSpPr>
                <a:xfrm>
                  <a:off x="4637880" y="4618440"/>
                  <a:ext cx="86040" cy="72360"/>
                  <a:chOff x="4637880" y="4618440"/>
                  <a:chExt cx="86040" cy="72360"/>
                </a:xfrm>
              </p:grpSpPr>
              <p:sp>
                <p:nvSpPr>
                  <p:cNvPr id="4385" name=""/>
                  <p:cNvSpPr/>
                  <p:nvPr/>
                </p:nvSpPr>
                <p:spPr>
                  <a:xfrm>
                    <a:off x="4638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4656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>
                    <a:off x="467460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8" name=""/>
                  <p:cNvSpPr/>
                  <p:nvPr/>
                </p:nvSpPr>
                <p:spPr>
                  <a:xfrm>
                    <a:off x="469476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9" name=""/>
                  <p:cNvSpPr/>
                  <p:nvPr/>
                </p:nvSpPr>
                <p:spPr>
                  <a:xfrm>
                    <a:off x="471312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>
                    <a:off x="4637880" y="46494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1" name=""/>
                  <p:cNvSpPr/>
                  <p:nvPr/>
                </p:nvSpPr>
                <p:spPr>
                  <a:xfrm>
                    <a:off x="4638600" y="4672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2" name=""/>
                  <p:cNvSpPr/>
                  <p:nvPr/>
                </p:nvSpPr>
                <p:spPr>
                  <a:xfrm>
                    <a:off x="4638600" y="46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3" name=""/>
                <p:cNvSpPr/>
                <p:nvPr/>
              </p:nvSpPr>
              <p:spPr>
                <a:xfrm>
                  <a:off x="4628880" y="476028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4" name=""/>
                <p:cNvSpPr/>
                <p:nvPr/>
              </p:nvSpPr>
              <p:spPr>
                <a:xfrm>
                  <a:off x="4711680" y="47595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5" name=""/>
                <p:cNvSpPr/>
                <p:nvPr/>
              </p:nvSpPr>
              <p:spPr>
                <a:xfrm>
                  <a:off x="4663440" y="477396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96" name=""/>
            <p:cNvSpPr/>
            <p:nvPr/>
          </p:nvSpPr>
          <p:spPr>
            <a:xfrm>
              <a:off x="3748320" y="3860280"/>
              <a:ext cx="1903320" cy="10908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1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internal pullup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7" name=""/>
          <p:cNvSpPr/>
          <p:nvPr/>
        </p:nvSpPr>
        <p:spPr>
          <a:xfrm flipV="1">
            <a:off x="2889360" y="5830920"/>
            <a:ext cx="3166920" cy="67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4452840" y="2255760"/>
            <a:ext cx="98640" cy="1000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9" name=""/>
          <p:cNvGrpSpPr/>
          <p:nvPr/>
        </p:nvGrpSpPr>
        <p:grpSpPr>
          <a:xfrm>
            <a:off x="4530600" y="3754440"/>
            <a:ext cx="244080" cy="102960"/>
            <a:chOff x="4530600" y="3754440"/>
            <a:chExt cx="244080" cy="102960"/>
          </a:xfrm>
        </p:grpSpPr>
        <p:sp>
          <p:nvSpPr>
            <p:cNvPr id="4400" name=""/>
            <p:cNvSpPr/>
            <p:nvPr/>
          </p:nvSpPr>
          <p:spPr>
            <a:xfrm>
              <a:off x="4530600" y="375444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4675680" y="375696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2" name=""/>
          <p:cNvGrpSpPr/>
          <p:nvPr/>
        </p:nvGrpSpPr>
        <p:grpSpPr>
          <a:xfrm>
            <a:off x="3006720" y="5167440"/>
            <a:ext cx="378000" cy="99720"/>
            <a:chOff x="3006720" y="5167440"/>
            <a:chExt cx="378000" cy="99720"/>
          </a:xfrm>
        </p:grpSpPr>
        <p:sp>
          <p:nvSpPr>
            <p:cNvPr id="4403" name=""/>
            <p:cNvSpPr/>
            <p:nvPr/>
          </p:nvSpPr>
          <p:spPr>
            <a:xfrm>
              <a:off x="300672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147120" y="516816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28536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6" name=""/>
          <p:cNvGrpSpPr/>
          <p:nvPr/>
        </p:nvGrpSpPr>
        <p:grpSpPr>
          <a:xfrm>
            <a:off x="977760" y="4718160"/>
            <a:ext cx="520560" cy="101520"/>
            <a:chOff x="977760" y="4718160"/>
            <a:chExt cx="520560" cy="101520"/>
          </a:xfrm>
        </p:grpSpPr>
        <p:sp>
          <p:nvSpPr>
            <p:cNvPr id="4407" name=""/>
            <p:cNvSpPr/>
            <p:nvPr/>
          </p:nvSpPr>
          <p:spPr>
            <a:xfrm>
              <a:off x="977760" y="47181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39932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257120" y="47199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11744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1" name=""/>
          <p:cNvSpPr/>
          <p:nvPr/>
        </p:nvSpPr>
        <p:spPr>
          <a:xfrm>
            <a:off x="547560" y="3311640"/>
            <a:ext cx="565200" cy="1047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2" name=""/>
          <p:cNvGrpSpPr/>
          <p:nvPr/>
        </p:nvGrpSpPr>
        <p:grpSpPr>
          <a:xfrm>
            <a:off x="6512040" y="1309680"/>
            <a:ext cx="1586880" cy="398520"/>
            <a:chOff x="6512040" y="1309680"/>
            <a:chExt cx="1586880" cy="398520"/>
          </a:xfrm>
        </p:grpSpPr>
        <p:sp>
          <p:nvSpPr>
            <p:cNvPr id="4413" name=""/>
            <p:cNvSpPr/>
            <p:nvPr/>
          </p:nvSpPr>
          <p:spPr>
            <a:xfrm>
              <a:off x="7121520" y="1309680"/>
              <a:ext cx="396360" cy="3985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7702200" y="1309680"/>
              <a:ext cx="396720" cy="3985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512040" y="1309680"/>
              <a:ext cx="396720" cy="3985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error/warning percentag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434880" y="1698480"/>
            <a:ext cx="54864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749"/>
              </a:spcBef>
              <a:spcAft>
                <a:spcPts val="5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-t tables  matching to I-V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5mV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 this a big err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8" name=""/>
          <p:cNvGrpSpPr/>
          <p:nvPr/>
        </p:nvGrpSpPr>
        <p:grpSpPr>
          <a:xfrm>
            <a:off x="7636680" y="145800"/>
            <a:ext cx="1391400" cy="1206720"/>
            <a:chOff x="7636680" y="145800"/>
            <a:chExt cx="1391400" cy="1206720"/>
          </a:xfrm>
        </p:grpSpPr>
        <p:grpSp>
          <p:nvGrpSpPr>
            <p:cNvPr id="4419" name=""/>
            <p:cNvGrpSpPr/>
            <p:nvPr/>
          </p:nvGrpSpPr>
          <p:grpSpPr>
            <a:xfrm>
              <a:off x="8015400" y="717480"/>
              <a:ext cx="633240" cy="635040"/>
              <a:chOff x="8015400" y="717480"/>
              <a:chExt cx="633240" cy="635040"/>
            </a:xfrm>
          </p:grpSpPr>
          <p:grpSp>
            <p:nvGrpSpPr>
              <p:cNvPr id="4420" name=""/>
              <p:cNvGrpSpPr/>
              <p:nvPr/>
            </p:nvGrpSpPr>
            <p:grpSpPr>
              <a:xfrm>
                <a:off x="8015400" y="933480"/>
                <a:ext cx="633240" cy="419040"/>
                <a:chOff x="8015400" y="933480"/>
                <a:chExt cx="633240" cy="419040"/>
              </a:xfrm>
            </p:grpSpPr>
            <p:grpSp>
              <p:nvGrpSpPr>
                <p:cNvPr id="4421" name=""/>
                <p:cNvGrpSpPr/>
                <p:nvPr/>
              </p:nvGrpSpPr>
              <p:grpSpPr>
                <a:xfrm>
                  <a:off x="8015400" y="1269720"/>
                  <a:ext cx="633240" cy="82800"/>
                  <a:chOff x="8015400" y="1269720"/>
                  <a:chExt cx="633240" cy="82800"/>
                </a:xfrm>
              </p:grpSpPr>
              <p:sp>
                <p:nvSpPr>
                  <p:cNvPr id="4422" name=""/>
                  <p:cNvSpPr/>
                  <p:nvPr/>
                </p:nvSpPr>
                <p:spPr>
                  <a:xfrm>
                    <a:off x="812088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3" name=""/>
                  <p:cNvSpPr/>
                  <p:nvPr/>
                </p:nvSpPr>
                <p:spPr>
                  <a:xfrm>
                    <a:off x="83322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>
                    <a:off x="8438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>
                    <a:off x="85435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6" name=""/>
                  <p:cNvSpPr/>
                  <p:nvPr/>
                </p:nvSpPr>
                <p:spPr>
                  <a:xfrm>
                    <a:off x="82267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7" name=""/>
                  <p:cNvSpPr/>
                  <p:nvPr/>
                </p:nvSpPr>
                <p:spPr>
                  <a:xfrm>
                    <a:off x="80154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8" name=""/>
                <p:cNvGrpSpPr/>
                <p:nvPr/>
              </p:nvGrpSpPr>
              <p:grpSpPr>
                <a:xfrm>
                  <a:off x="8068320" y="1185840"/>
                  <a:ext cx="527760" cy="82800"/>
                  <a:chOff x="8068320" y="1185840"/>
                  <a:chExt cx="527760" cy="82800"/>
                </a:xfrm>
              </p:grpSpPr>
              <p:sp>
                <p:nvSpPr>
                  <p:cNvPr id="4429" name=""/>
                  <p:cNvSpPr/>
                  <p:nvPr/>
                </p:nvSpPr>
                <p:spPr>
                  <a:xfrm>
                    <a:off x="806832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>
                    <a:off x="827964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>
                    <a:off x="838548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>
                    <a:off x="849096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3" name=""/>
                  <p:cNvSpPr/>
                  <p:nvPr/>
                </p:nvSpPr>
                <p:spPr>
                  <a:xfrm>
                    <a:off x="817380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34" name=""/>
                <p:cNvSpPr/>
                <p:nvPr/>
              </p:nvSpPr>
              <p:spPr>
                <a:xfrm>
                  <a:off x="822672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5" name=""/>
                <p:cNvSpPr/>
                <p:nvPr/>
              </p:nvSpPr>
              <p:spPr>
                <a:xfrm>
                  <a:off x="843840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>
                  <a:off x="83325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7" name=""/>
                <p:cNvSpPr/>
                <p:nvPr/>
              </p:nvSpPr>
              <p:spPr>
                <a:xfrm>
                  <a:off x="81208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8" name=""/>
                <p:cNvSpPr/>
                <p:nvPr/>
              </p:nvSpPr>
              <p:spPr>
                <a:xfrm>
                  <a:off x="817416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>
                  <a:off x="83854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0" name=""/>
                <p:cNvSpPr/>
                <p:nvPr/>
              </p:nvSpPr>
              <p:spPr>
                <a:xfrm>
                  <a:off x="828000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41" name=""/>
                <p:cNvGrpSpPr/>
                <p:nvPr/>
              </p:nvGrpSpPr>
              <p:grpSpPr>
                <a:xfrm>
                  <a:off x="8227800" y="933480"/>
                  <a:ext cx="210600" cy="82800"/>
                  <a:chOff x="8227800" y="933480"/>
                  <a:chExt cx="210600" cy="82800"/>
                </a:xfrm>
              </p:grpSpPr>
              <p:sp>
                <p:nvSpPr>
                  <p:cNvPr id="4442" name=""/>
                  <p:cNvSpPr/>
                  <p:nvPr/>
                </p:nvSpPr>
                <p:spPr>
                  <a:xfrm>
                    <a:off x="822780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>
                    <a:off x="833364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44" name=""/>
              <p:cNvGrpSpPr/>
              <p:nvPr/>
            </p:nvGrpSpPr>
            <p:grpSpPr>
              <a:xfrm>
                <a:off x="8289720" y="933480"/>
                <a:ext cx="83880" cy="414720"/>
                <a:chOff x="8289720" y="933480"/>
                <a:chExt cx="83880" cy="414720"/>
              </a:xfrm>
            </p:grpSpPr>
            <p:grpSp>
              <p:nvGrpSpPr>
                <p:cNvPr id="4445" name=""/>
                <p:cNvGrpSpPr/>
                <p:nvPr/>
              </p:nvGrpSpPr>
              <p:grpSpPr>
                <a:xfrm>
                  <a:off x="8289720" y="933480"/>
                  <a:ext cx="83880" cy="208080"/>
                  <a:chOff x="8289720" y="933480"/>
                  <a:chExt cx="83880" cy="208080"/>
                </a:xfrm>
              </p:grpSpPr>
              <p:grpSp>
                <p:nvGrpSpPr>
                  <p:cNvPr id="4446" name=""/>
                  <p:cNvGrpSpPr/>
                  <p:nvPr/>
                </p:nvGrpSpPr>
                <p:grpSpPr>
                  <a:xfrm>
                    <a:off x="8289720" y="933480"/>
                    <a:ext cx="83880" cy="41400"/>
                    <a:chOff x="8289720" y="933480"/>
                    <a:chExt cx="83880" cy="41400"/>
                  </a:xfrm>
                </p:grpSpPr>
                <p:sp>
                  <p:nvSpPr>
                    <p:cNvPr id="4447" name=""/>
                    <p:cNvSpPr/>
                    <p:nvPr/>
                  </p:nvSpPr>
                  <p:spPr>
                    <a:xfrm>
                      <a:off x="828972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8" name=""/>
                    <p:cNvSpPr/>
                    <p:nvPr/>
                  </p:nvSpPr>
                  <p:spPr>
                    <a:xfrm>
                      <a:off x="828972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9" name=""/>
                    <p:cNvSpPr/>
                    <p:nvPr/>
                  </p:nvSpPr>
                  <p:spPr>
                    <a:xfrm>
                      <a:off x="828972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0" name=""/>
                  <p:cNvGrpSpPr/>
                  <p:nvPr/>
                </p:nvGrpSpPr>
                <p:grpSpPr>
                  <a:xfrm>
                    <a:off x="8289720" y="975240"/>
                    <a:ext cx="83880" cy="41400"/>
                    <a:chOff x="8289720" y="975240"/>
                    <a:chExt cx="83880" cy="41400"/>
                  </a:xfrm>
                </p:grpSpPr>
                <p:sp>
                  <p:nvSpPr>
                    <p:cNvPr id="4451" name=""/>
                    <p:cNvSpPr/>
                    <p:nvPr/>
                  </p:nvSpPr>
                  <p:spPr>
                    <a:xfrm>
                      <a:off x="828972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2" name=""/>
                    <p:cNvSpPr/>
                    <p:nvPr/>
                  </p:nvSpPr>
                  <p:spPr>
                    <a:xfrm>
                      <a:off x="828972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3" name=""/>
                    <p:cNvSpPr/>
                    <p:nvPr/>
                  </p:nvSpPr>
                  <p:spPr>
                    <a:xfrm>
                      <a:off x="828972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4" name=""/>
                  <p:cNvGrpSpPr/>
                  <p:nvPr/>
                </p:nvGrpSpPr>
                <p:grpSpPr>
                  <a:xfrm>
                    <a:off x="8289720" y="1017000"/>
                    <a:ext cx="83880" cy="41400"/>
                    <a:chOff x="8289720" y="1017000"/>
                    <a:chExt cx="83880" cy="41400"/>
                  </a:xfrm>
                </p:grpSpPr>
                <p:sp>
                  <p:nvSpPr>
                    <p:cNvPr id="4455" name=""/>
                    <p:cNvSpPr/>
                    <p:nvPr/>
                  </p:nvSpPr>
                  <p:spPr>
                    <a:xfrm>
                      <a:off x="828972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6" name=""/>
                    <p:cNvSpPr/>
                    <p:nvPr/>
                  </p:nvSpPr>
                  <p:spPr>
                    <a:xfrm>
                      <a:off x="828972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7" name=""/>
                    <p:cNvSpPr/>
                    <p:nvPr/>
                  </p:nvSpPr>
                  <p:spPr>
                    <a:xfrm>
                      <a:off x="828972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8" name=""/>
                  <p:cNvGrpSpPr/>
                  <p:nvPr/>
                </p:nvGrpSpPr>
                <p:grpSpPr>
                  <a:xfrm>
                    <a:off x="8289720" y="1059120"/>
                    <a:ext cx="83880" cy="41400"/>
                    <a:chOff x="8289720" y="1059120"/>
                    <a:chExt cx="83880" cy="41400"/>
                  </a:xfrm>
                </p:grpSpPr>
                <p:sp>
                  <p:nvSpPr>
                    <p:cNvPr id="4459" name=""/>
                    <p:cNvSpPr/>
                    <p:nvPr/>
                  </p:nvSpPr>
                  <p:spPr>
                    <a:xfrm>
                      <a:off x="828972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0" name=""/>
                    <p:cNvSpPr/>
                    <p:nvPr/>
                  </p:nvSpPr>
                  <p:spPr>
                    <a:xfrm>
                      <a:off x="828972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1" name=""/>
                    <p:cNvSpPr/>
                    <p:nvPr/>
                  </p:nvSpPr>
                  <p:spPr>
                    <a:xfrm>
                      <a:off x="828972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2" name=""/>
                  <p:cNvGrpSpPr/>
                  <p:nvPr/>
                </p:nvGrpSpPr>
                <p:grpSpPr>
                  <a:xfrm>
                    <a:off x="8289720" y="1100160"/>
                    <a:ext cx="83880" cy="41400"/>
                    <a:chOff x="8289720" y="1100160"/>
                    <a:chExt cx="83880" cy="41400"/>
                  </a:xfrm>
                </p:grpSpPr>
                <p:sp>
                  <p:nvSpPr>
                    <p:cNvPr id="4463" name=""/>
                    <p:cNvSpPr/>
                    <p:nvPr/>
                  </p:nvSpPr>
                  <p:spPr>
                    <a:xfrm>
                      <a:off x="828972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4" name=""/>
                    <p:cNvSpPr/>
                    <p:nvPr/>
                  </p:nvSpPr>
                  <p:spPr>
                    <a:xfrm>
                      <a:off x="828972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5" name=""/>
                    <p:cNvSpPr/>
                    <p:nvPr/>
                  </p:nvSpPr>
                  <p:spPr>
                    <a:xfrm>
                      <a:off x="828972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66" name=""/>
                <p:cNvGrpSpPr/>
                <p:nvPr/>
              </p:nvGrpSpPr>
              <p:grpSpPr>
                <a:xfrm>
                  <a:off x="8289720" y="1140120"/>
                  <a:ext cx="83880" cy="208080"/>
                  <a:chOff x="8289720" y="1140120"/>
                  <a:chExt cx="83880" cy="208080"/>
                </a:xfrm>
              </p:grpSpPr>
              <p:grpSp>
                <p:nvGrpSpPr>
                  <p:cNvPr id="4467" name=""/>
                  <p:cNvGrpSpPr/>
                  <p:nvPr/>
                </p:nvGrpSpPr>
                <p:grpSpPr>
                  <a:xfrm>
                    <a:off x="8289720" y="1140120"/>
                    <a:ext cx="83880" cy="41400"/>
                    <a:chOff x="8289720" y="1140120"/>
                    <a:chExt cx="83880" cy="41400"/>
                  </a:xfrm>
                </p:grpSpPr>
                <p:sp>
                  <p:nvSpPr>
                    <p:cNvPr id="4468" name=""/>
                    <p:cNvSpPr/>
                    <p:nvPr/>
                  </p:nvSpPr>
                  <p:spPr>
                    <a:xfrm>
                      <a:off x="828972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9" name=""/>
                    <p:cNvSpPr/>
                    <p:nvPr/>
                  </p:nvSpPr>
                  <p:spPr>
                    <a:xfrm>
                      <a:off x="828972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0" name=""/>
                    <p:cNvSpPr/>
                    <p:nvPr/>
                  </p:nvSpPr>
                  <p:spPr>
                    <a:xfrm>
                      <a:off x="828972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1" name=""/>
                  <p:cNvGrpSpPr/>
                  <p:nvPr/>
                </p:nvGrpSpPr>
                <p:grpSpPr>
                  <a:xfrm>
                    <a:off x="8289720" y="1181880"/>
                    <a:ext cx="83880" cy="41400"/>
                    <a:chOff x="8289720" y="1181880"/>
                    <a:chExt cx="83880" cy="41400"/>
                  </a:xfrm>
                </p:grpSpPr>
                <p:sp>
                  <p:nvSpPr>
                    <p:cNvPr id="4472" name=""/>
                    <p:cNvSpPr/>
                    <p:nvPr/>
                  </p:nvSpPr>
                  <p:spPr>
                    <a:xfrm>
                      <a:off x="828972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3" name=""/>
                    <p:cNvSpPr/>
                    <p:nvPr/>
                  </p:nvSpPr>
                  <p:spPr>
                    <a:xfrm>
                      <a:off x="828972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4" name=""/>
                    <p:cNvSpPr/>
                    <p:nvPr/>
                  </p:nvSpPr>
                  <p:spPr>
                    <a:xfrm>
                      <a:off x="828972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5" name=""/>
                  <p:cNvGrpSpPr/>
                  <p:nvPr/>
                </p:nvGrpSpPr>
                <p:grpSpPr>
                  <a:xfrm>
                    <a:off x="8289720" y="1223640"/>
                    <a:ext cx="83880" cy="41400"/>
                    <a:chOff x="8289720" y="1223640"/>
                    <a:chExt cx="83880" cy="41400"/>
                  </a:xfrm>
                </p:grpSpPr>
                <p:sp>
                  <p:nvSpPr>
                    <p:cNvPr id="4476" name=""/>
                    <p:cNvSpPr/>
                    <p:nvPr/>
                  </p:nvSpPr>
                  <p:spPr>
                    <a:xfrm>
                      <a:off x="828972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7" name=""/>
                    <p:cNvSpPr/>
                    <p:nvPr/>
                  </p:nvSpPr>
                  <p:spPr>
                    <a:xfrm>
                      <a:off x="828972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8" name=""/>
                    <p:cNvSpPr/>
                    <p:nvPr/>
                  </p:nvSpPr>
                  <p:spPr>
                    <a:xfrm>
                      <a:off x="828972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9" name=""/>
                  <p:cNvGrpSpPr/>
                  <p:nvPr/>
                </p:nvGrpSpPr>
                <p:grpSpPr>
                  <a:xfrm>
                    <a:off x="8289720" y="1265760"/>
                    <a:ext cx="83880" cy="41400"/>
                    <a:chOff x="8289720" y="1265760"/>
                    <a:chExt cx="83880" cy="41400"/>
                  </a:xfrm>
                </p:grpSpPr>
                <p:sp>
                  <p:nvSpPr>
                    <p:cNvPr id="4480" name=""/>
                    <p:cNvSpPr/>
                    <p:nvPr/>
                  </p:nvSpPr>
                  <p:spPr>
                    <a:xfrm>
                      <a:off x="828972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1" name=""/>
                    <p:cNvSpPr/>
                    <p:nvPr/>
                  </p:nvSpPr>
                  <p:spPr>
                    <a:xfrm>
                      <a:off x="828972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2" name=""/>
                    <p:cNvSpPr/>
                    <p:nvPr/>
                  </p:nvSpPr>
                  <p:spPr>
                    <a:xfrm>
                      <a:off x="828972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3" name=""/>
                  <p:cNvGrpSpPr/>
                  <p:nvPr/>
                </p:nvGrpSpPr>
                <p:grpSpPr>
                  <a:xfrm>
                    <a:off x="8289720" y="1306800"/>
                    <a:ext cx="83880" cy="41400"/>
                    <a:chOff x="8289720" y="1306800"/>
                    <a:chExt cx="83880" cy="41400"/>
                  </a:xfrm>
                </p:grpSpPr>
                <p:sp>
                  <p:nvSpPr>
                    <p:cNvPr id="4484" name=""/>
                    <p:cNvSpPr/>
                    <p:nvPr/>
                  </p:nvSpPr>
                  <p:spPr>
                    <a:xfrm>
                      <a:off x="828972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5" name=""/>
                    <p:cNvSpPr/>
                    <p:nvPr/>
                  </p:nvSpPr>
                  <p:spPr>
                    <a:xfrm>
                      <a:off x="828972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6" name=""/>
                    <p:cNvSpPr/>
                    <p:nvPr/>
                  </p:nvSpPr>
                  <p:spPr>
                    <a:xfrm>
                      <a:off x="828972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87" name=""/>
              <p:cNvGrpSpPr/>
              <p:nvPr/>
            </p:nvGrpSpPr>
            <p:grpSpPr>
              <a:xfrm>
                <a:off x="8263080" y="717480"/>
                <a:ext cx="137880" cy="216000"/>
                <a:chOff x="8263080" y="717480"/>
                <a:chExt cx="137880" cy="216000"/>
              </a:xfrm>
            </p:grpSpPr>
            <p:grpSp>
              <p:nvGrpSpPr>
                <p:cNvPr id="4488" name=""/>
                <p:cNvGrpSpPr/>
                <p:nvPr/>
              </p:nvGrpSpPr>
              <p:grpSpPr>
                <a:xfrm>
                  <a:off x="8263080" y="790200"/>
                  <a:ext cx="137880" cy="143280"/>
                  <a:chOff x="8263080" y="790200"/>
                  <a:chExt cx="137880" cy="143280"/>
                </a:xfrm>
              </p:grpSpPr>
              <p:sp>
                <p:nvSpPr>
                  <p:cNvPr id="4489" name=""/>
                  <p:cNvSpPr/>
                  <p:nvPr/>
                </p:nvSpPr>
                <p:spPr>
                  <a:xfrm>
                    <a:off x="826308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90" name=""/>
                  <p:cNvGrpSpPr/>
                  <p:nvPr/>
                </p:nvGrpSpPr>
                <p:grpSpPr>
                  <a:xfrm>
                    <a:off x="8265600" y="790200"/>
                    <a:ext cx="132480" cy="143280"/>
                    <a:chOff x="8265600" y="790200"/>
                    <a:chExt cx="132480" cy="143280"/>
                  </a:xfrm>
                </p:grpSpPr>
                <p:sp>
                  <p:nvSpPr>
                    <p:cNvPr id="4491" name=""/>
                    <p:cNvSpPr/>
                    <p:nvPr/>
                  </p:nvSpPr>
                  <p:spPr>
                    <a:xfrm>
                      <a:off x="826632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2" name=""/>
                    <p:cNvSpPr/>
                    <p:nvPr/>
                  </p:nvSpPr>
                  <p:spPr>
                    <a:xfrm flipV="1">
                      <a:off x="826560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3" name=""/>
                    <p:cNvSpPr/>
                    <p:nvPr/>
                  </p:nvSpPr>
                  <p:spPr>
                    <a:xfrm>
                      <a:off x="826956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94" name=""/>
                <p:cNvGrpSpPr/>
                <p:nvPr/>
              </p:nvGrpSpPr>
              <p:grpSpPr>
                <a:xfrm>
                  <a:off x="8288280" y="717480"/>
                  <a:ext cx="86400" cy="72360"/>
                  <a:chOff x="8288280" y="717480"/>
                  <a:chExt cx="86400" cy="72360"/>
                </a:xfrm>
              </p:grpSpPr>
              <p:sp>
                <p:nvSpPr>
                  <p:cNvPr id="4495" name=""/>
                  <p:cNvSpPr/>
                  <p:nvPr/>
                </p:nvSpPr>
                <p:spPr>
                  <a:xfrm>
                    <a:off x="8288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6" name=""/>
                  <p:cNvSpPr/>
                  <p:nvPr/>
                </p:nvSpPr>
                <p:spPr>
                  <a:xfrm>
                    <a:off x="8307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>
                    <a:off x="83253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>
                    <a:off x="83451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9" name=""/>
                  <p:cNvSpPr/>
                  <p:nvPr/>
                </p:nvSpPr>
                <p:spPr>
                  <a:xfrm>
                    <a:off x="83638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0" name=""/>
                  <p:cNvSpPr/>
                  <p:nvPr/>
                </p:nvSpPr>
                <p:spPr>
                  <a:xfrm>
                    <a:off x="828828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1" name=""/>
                  <p:cNvSpPr/>
                  <p:nvPr/>
                </p:nvSpPr>
                <p:spPr>
                  <a:xfrm>
                    <a:off x="828900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828900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03" name=""/>
                <p:cNvSpPr/>
                <p:nvPr/>
              </p:nvSpPr>
              <p:spPr>
                <a:xfrm>
                  <a:off x="827928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4" name=""/>
                <p:cNvSpPr/>
                <p:nvPr/>
              </p:nvSpPr>
              <p:spPr>
                <a:xfrm>
                  <a:off x="836280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5" name=""/>
                <p:cNvSpPr/>
                <p:nvPr/>
              </p:nvSpPr>
              <p:spPr>
                <a:xfrm>
                  <a:off x="831384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06" name=""/>
            <p:cNvSpPr/>
            <p:nvPr/>
          </p:nvSpPr>
          <p:spPr>
            <a:xfrm>
              <a:off x="7636680" y="145800"/>
              <a:ext cx="139140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Lvds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Waveform check: Error  messag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378360" y="1085760"/>
            <a:ext cx="6980760" cy="2168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- Model LVDS_3P3V_D5510_TRI: The [Rising Waveform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[R_fixture]=50 Ohms and [V_fixture]=1.2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YP column DC endpoints of  1.10v and  1.32v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quivalent load applied to the model's I-V tables y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voltages (1.08V and  1.33V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fference of  10.00% and  1.20%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9" name=""/>
          <p:cNvGrpSpPr/>
          <p:nvPr/>
        </p:nvGrpSpPr>
        <p:grpSpPr>
          <a:xfrm>
            <a:off x="7689600" y="145800"/>
            <a:ext cx="1282320" cy="1206720"/>
            <a:chOff x="7689600" y="145800"/>
            <a:chExt cx="1282320" cy="1206720"/>
          </a:xfrm>
        </p:grpSpPr>
        <p:grpSp>
          <p:nvGrpSpPr>
            <p:cNvPr id="4510" name=""/>
            <p:cNvGrpSpPr/>
            <p:nvPr/>
          </p:nvGrpSpPr>
          <p:grpSpPr>
            <a:xfrm>
              <a:off x="8015040" y="717480"/>
              <a:ext cx="633240" cy="635040"/>
              <a:chOff x="8015040" y="717480"/>
              <a:chExt cx="633240" cy="635040"/>
            </a:xfrm>
          </p:grpSpPr>
          <p:grpSp>
            <p:nvGrpSpPr>
              <p:cNvPr id="4511" name=""/>
              <p:cNvGrpSpPr/>
              <p:nvPr/>
            </p:nvGrpSpPr>
            <p:grpSpPr>
              <a:xfrm>
                <a:off x="8015040" y="933480"/>
                <a:ext cx="633240" cy="419040"/>
                <a:chOff x="8015040" y="933480"/>
                <a:chExt cx="633240" cy="419040"/>
              </a:xfrm>
            </p:grpSpPr>
            <p:grpSp>
              <p:nvGrpSpPr>
                <p:cNvPr id="4512" name=""/>
                <p:cNvGrpSpPr/>
                <p:nvPr/>
              </p:nvGrpSpPr>
              <p:grpSpPr>
                <a:xfrm>
                  <a:off x="8015040" y="1269720"/>
                  <a:ext cx="633240" cy="82800"/>
                  <a:chOff x="8015040" y="1269720"/>
                  <a:chExt cx="633240" cy="82800"/>
                </a:xfrm>
              </p:grpSpPr>
              <p:sp>
                <p:nvSpPr>
                  <p:cNvPr id="4513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4" name=""/>
                  <p:cNvSpPr/>
                  <p:nvPr/>
                </p:nvSpPr>
                <p:spPr>
                  <a:xfrm>
                    <a:off x="833184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5" name=""/>
                  <p:cNvSpPr/>
                  <p:nvPr/>
                </p:nvSpPr>
                <p:spPr>
                  <a:xfrm>
                    <a:off x="843768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6" name=""/>
                  <p:cNvSpPr/>
                  <p:nvPr/>
                </p:nvSpPr>
                <p:spPr>
                  <a:xfrm>
                    <a:off x="854316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7" name=""/>
                  <p:cNvSpPr/>
                  <p:nvPr/>
                </p:nvSpPr>
                <p:spPr>
                  <a:xfrm>
                    <a:off x="822636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>
                    <a:off x="801504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9" name=""/>
                <p:cNvGrpSpPr/>
                <p:nvPr/>
              </p:nvGrpSpPr>
              <p:grpSpPr>
                <a:xfrm>
                  <a:off x="8067960" y="1185840"/>
                  <a:ext cx="527760" cy="82800"/>
                  <a:chOff x="8067960" y="1185840"/>
                  <a:chExt cx="527760" cy="82800"/>
                </a:xfrm>
              </p:grpSpPr>
              <p:sp>
                <p:nvSpPr>
                  <p:cNvPr id="4520" name=""/>
                  <p:cNvSpPr/>
                  <p:nvPr/>
                </p:nvSpPr>
                <p:spPr>
                  <a:xfrm>
                    <a:off x="806796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1" name=""/>
                  <p:cNvSpPr/>
                  <p:nvPr/>
                </p:nvSpPr>
                <p:spPr>
                  <a:xfrm>
                    <a:off x="827928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2" name=""/>
                  <p:cNvSpPr/>
                  <p:nvPr/>
                </p:nvSpPr>
                <p:spPr>
                  <a:xfrm>
                    <a:off x="838512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>
                    <a:off x="849060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4" name=""/>
                  <p:cNvSpPr/>
                  <p:nvPr/>
                </p:nvSpPr>
                <p:spPr>
                  <a:xfrm>
                    <a:off x="817344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5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6" name=""/>
                <p:cNvSpPr/>
                <p:nvPr/>
              </p:nvSpPr>
              <p:spPr>
                <a:xfrm>
                  <a:off x="843804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7" name=""/>
                <p:cNvSpPr/>
                <p:nvPr/>
              </p:nvSpPr>
              <p:spPr>
                <a:xfrm>
                  <a:off x="833220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9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0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827964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32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4533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4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35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4536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4537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4538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9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0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1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4542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3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4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5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4546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7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8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9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4550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1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2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3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4554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5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6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57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4558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4559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0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1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2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4563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4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5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6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4567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8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9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0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4571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2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3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4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4575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6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7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78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4579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4580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81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4582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3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4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85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4586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7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8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0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1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2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4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5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6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97" name=""/>
            <p:cNvSpPr/>
            <p:nvPr/>
          </p:nvSpPr>
          <p:spPr>
            <a:xfrm>
              <a:off x="7689600" y="145800"/>
              <a:ext cx="128232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lvds dr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"/>
          <p:cNvGrpSpPr/>
          <p:nvPr/>
        </p:nvGrpSpPr>
        <p:grpSpPr>
          <a:xfrm>
            <a:off x="461880" y="3402000"/>
            <a:ext cx="3245400" cy="2948760"/>
            <a:chOff x="461880" y="3402000"/>
            <a:chExt cx="3245400" cy="2948760"/>
          </a:xfrm>
        </p:grpSpPr>
        <p:grpSp>
          <p:nvGrpSpPr>
            <p:cNvPr id="4599" name=""/>
            <p:cNvGrpSpPr/>
            <p:nvPr/>
          </p:nvGrpSpPr>
          <p:grpSpPr>
            <a:xfrm>
              <a:off x="828720" y="3792600"/>
              <a:ext cx="2255760" cy="2266920"/>
              <a:chOff x="828720" y="3792600"/>
              <a:chExt cx="2255760" cy="2266920"/>
            </a:xfrm>
          </p:grpSpPr>
          <p:sp>
            <p:nvSpPr>
              <p:cNvPr id="4600" name=""/>
              <p:cNvSpPr/>
              <p:nvPr/>
            </p:nvSpPr>
            <p:spPr>
              <a:xfrm>
                <a:off x="950760" y="3792600"/>
                <a:ext cx="0" cy="22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828720" y="5442120"/>
                <a:ext cx="22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2" name=""/>
            <p:cNvSpPr/>
            <p:nvPr/>
          </p:nvSpPr>
          <p:spPr>
            <a:xfrm>
              <a:off x="1328760" y="4200480"/>
              <a:ext cx="1628640" cy="1933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646640" y="3867120"/>
              <a:ext cx="1843560" cy="3610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50Ohm to 1.2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504080" y="5989680"/>
              <a:ext cx="18176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.075V   1.325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 flipH="1">
              <a:off x="2095560" y="4657680"/>
              <a:ext cx="1440" cy="8683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2654280" y="5362560"/>
              <a:ext cx="0" cy="576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275840" y="3402000"/>
              <a:ext cx="22611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gh &amp; Low I-V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581120" y="5111640"/>
              <a:ext cx="128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797120" y="5772240"/>
              <a:ext cx="128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3104640" y="5356080"/>
              <a:ext cx="60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 rot="16200000">
              <a:off x="271800" y="4068720"/>
              <a:ext cx="62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2" name=""/>
          <p:cNvGrpSpPr/>
          <p:nvPr/>
        </p:nvGrpSpPr>
        <p:grpSpPr>
          <a:xfrm>
            <a:off x="3956760" y="3441600"/>
            <a:ext cx="3063240" cy="2888640"/>
            <a:chOff x="3956760" y="3441600"/>
            <a:chExt cx="3063240" cy="2888640"/>
          </a:xfrm>
        </p:grpSpPr>
        <p:sp>
          <p:nvSpPr>
            <p:cNvPr id="4613" name=""/>
            <p:cNvSpPr/>
            <p:nvPr/>
          </p:nvSpPr>
          <p:spPr>
            <a:xfrm>
              <a:off x="4004280" y="5340240"/>
              <a:ext cx="9032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.10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339440" y="3441600"/>
              <a:ext cx="20462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Rising Waveform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3956760" y="3927600"/>
              <a:ext cx="9032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.322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6" name=""/>
            <p:cNvGrpSpPr/>
            <p:nvPr/>
          </p:nvGrpSpPr>
          <p:grpSpPr>
            <a:xfrm>
              <a:off x="4764240" y="3792600"/>
              <a:ext cx="2255760" cy="2266920"/>
              <a:chOff x="4764240" y="3792600"/>
              <a:chExt cx="2255760" cy="2266920"/>
            </a:xfrm>
          </p:grpSpPr>
          <p:sp>
            <p:nvSpPr>
              <p:cNvPr id="4617" name=""/>
              <p:cNvSpPr/>
              <p:nvPr/>
            </p:nvSpPr>
            <p:spPr>
              <a:xfrm>
                <a:off x="4886280" y="3792600"/>
                <a:ext cx="0" cy="22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764240" y="5962680"/>
                <a:ext cx="22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9" name=""/>
            <p:cNvGrpSpPr/>
            <p:nvPr/>
          </p:nvGrpSpPr>
          <p:grpSpPr>
            <a:xfrm>
              <a:off x="4933800" y="4071600"/>
              <a:ext cx="1490760" cy="1467000"/>
              <a:chOff x="4933800" y="4071600"/>
              <a:chExt cx="1490760" cy="1467000"/>
            </a:xfrm>
          </p:grpSpPr>
          <p:sp>
            <p:nvSpPr>
              <p:cNvPr id="4620" name=""/>
              <p:cNvSpPr/>
              <p:nvPr/>
            </p:nvSpPr>
            <p:spPr>
              <a:xfrm flipV="1">
                <a:off x="4933800" y="5526000"/>
                <a:ext cx="344520" cy="12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5276880" y="5384520"/>
                <a:ext cx="328680" cy="146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5605560" y="4967280"/>
                <a:ext cx="171360" cy="41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 flipV="1">
                <a:off x="5781600" y="4600440"/>
                <a:ext cx="90720" cy="36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 flipV="1">
                <a:off x="5877000" y="4228920"/>
                <a:ext cx="142920" cy="36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 flipV="1">
                <a:off x="6024600" y="4081320"/>
                <a:ext cx="200160" cy="14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6224760" y="4071600"/>
                <a:ext cx="199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7" name=""/>
            <p:cNvSpPr/>
            <p:nvPr/>
          </p:nvSpPr>
          <p:spPr>
            <a:xfrm flipH="1">
              <a:off x="4743000" y="4067280"/>
              <a:ext cx="170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 flipH="1">
              <a:off x="4800600" y="554040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6343560" y="6086520"/>
              <a:ext cx="54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/ns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 rot="16200000">
              <a:off x="4286520" y="4500000"/>
              <a:ext cx="7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Calculation of error/warning percentag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632" name=""/>
          <p:cNvGrpSpPr/>
          <p:nvPr/>
        </p:nvGrpSpPr>
        <p:grpSpPr>
          <a:xfrm>
            <a:off x="7662960" y="145800"/>
            <a:ext cx="1335960" cy="1206720"/>
            <a:chOff x="7662960" y="145800"/>
            <a:chExt cx="1335960" cy="1206720"/>
          </a:xfrm>
        </p:grpSpPr>
        <p:grpSp>
          <p:nvGrpSpPr>
            <p:cNvPr id="4633" name=""/>
            <p:cNvGrpSpPr/>
            <p:nvPr/>
          </p:nvGrpSpPr>
          <p:grpSpPr>
            <a:xfrm>
              <a:off x="8015400" y="717480"/>
              <a:ext cx="633240" cy="635040"/>
              <a:chOff x="8015400" y="717480"/>
              <a:chExt cx="633240" cy="635040"/>
            </a:xfrm>
          </p:grpSpPr>
          <p:grpSp>
            <p:nvGrpSpPr>
              <p:cNvPr id="4634" name=""/>
              <p:cNvGrpSpPr/>
              <p:nvPr/>
            </p:nvGrpSpPr>
            <p:grpSpPr>
              <a:xfrm>
                <a:off x="8015400" y="933480"/>
                <a:ext cx="633240" cy="419040"/>
                <a:chOff x="8015400" y="933480"/>
                <a:chExt cx="633240" cy="419040"/>
              </a:xfrm>
            </p:grpSpPr>
            <p:grpSp>
              <p:nvGrpSpPr>
                <p:cNvPr id="4635" name=""/>
                <p:cNvGrpSpPr/>
                <p:nvPr/>
              </p:nvGrpSpPr>
              <p:grpSpPr>
                <a:xfrm>
                  <a:off x="8015400" y="1269720"/>
                  <a:ext cx="633240" cy="82800"/>
                  <a:chOff x="8015400" y="1269720"/>
                  <a:chExt cx="633240" cy="82800"/>
                </a:xfrm>
              </p:grpSpPr>
              <p:sp>
                <p:nvSpPr>
                  <p:cNvPr id="4636" name=""/>
                  <p:cNvSpPr/>
                  <p:nvPr/>
                </p:nvSpPr>
                <p:spPr>
                  <a:xfrm>
                    <a:off x="812088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>
                    <a:off x="83322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8" name=""/>
                  <p:cNvSpPr/>
                  <p:nvPr/>
                </p:nvSpPr>
                <p:spPr>
                  <a:xfrm>
                    <a:off x="8438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9" name=""/>
                  <p:cNvSpPr/>
                  <p:nvPr/>
                </p:nvSpPr>
                <p:spPr>
                  <a:xfrm>
                    <a:off x="85435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0" name=""/>
                  <p:cNvSpPr/>
                  <p:nvPr/>
                </p:nvSpPr>
                <p:spPr>
                  <a:xfrm>
                    <a:off x="82267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>
                    <a:off x="80154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2" name=""/>
                <p:cNvGrpSpPr/>
                <p:nvPr/>
              </p:nvGrpSpPr>
              <p:grpSpPr>
                <a:xfrm>
                  <a:off x="8068320" y="1185840"/>
                  <a:ext cx="527760" cy="82800"/>
                  <a:chOff x="8068320" y="1185840"/>
                  <a:chExt cx="527760" cy="82800"/>
                </a:xfrm>
              </p:grpSpPr>
              <p:sp>
                <p:nvSpPr>
                  <p:cNvPr id="4643" name=""/>
                  <p:cNvSpPr/>
                  <p:nvPr/>
                </p:nvSpPr>
                <p:spPr>
                  <a:xfrm>
                    <a:off x="806832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4" name=""/>
                  <p:cNvSpPr/>
                  <p:nvPr/>
                </p:nvSpPr>
                <p:spPr>
                  <a:xfrm>
                    <a:off x="827964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5" name=""/>
                  <p:cNvSpPr/>
                  <p:nvPr/>
                </p:nvSpPr>
                <p:spPr>
                  <a:xfrm>
                    <a:off x="838548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>
                    <a:off x="849096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7" name=""/>
                  <p:cNvSpPr/>
                  <p:nvPr/>
                </p:nvSpPr>
                <p:spPr>
                  <a:xfrm>
                    <a:off x="817380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48" name=""/>
                <p:cNvSpPr/>
                <p:nvPr/>
              </p:nvSpPr>
              <p:spPr>
                <a:xfrm>
                  <a:off x="822672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843840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0" name=""/>
                <p:cNvSpPr/>
                <p:nvPr/>
              </p:nvSpPr>
              <p:spPr>
                <a:xfrm>
                  <a:off x="83325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>
                  <a:off x="81208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817416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3" name=""/>
                <p:cNvSpPr/>
                <p:nvPr/>
              </p:nvSpPr>
              <p:spPr>
                <a:xfrm>
                  <a:off x="83854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828000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5" name=""/>
                <p:cNvGrpSpPr/>
                <p:nvPr/>
              </p:nvGrpSpPr>
              <p:grpSpPr>
                <a:xfrm>
                  <a:off x="8227800" y="933480"/>
                  <a:ext cx="210600" cy="82800"/>
                  <a:chOff x="8227800" y="933480"/>
                  <a:chExt cx="210600" cy="82800"/>
                </a:xfrm>
              </p:grpSpPr>
              <p:sp>
                <p:nvSpPr>
                  <p:cNvPr id="4656" name=""/>
                  <p:cNvSpPr/>
                  <p:nvPr/>
                </p:nvSpPr>
                <p:spPr>
                  <a:xfrm>
                    <a:off x="822780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>
                    <a:off x="833364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58" name=""/>
              <p:cNvGrpSpPr/>
              <p:nvPr/>
            </p:nvGrpSpPr>
            <p:grpSpPr>
              <a:xfrm>
                <a:off x="8289720" y="933480"/>
                <a:ext cx="83880" cy="414720"/>
                <a:chOff x="8289720" y="933480"/>
                <a:chExt cx="83880" cy="414720"/>
              </a:xfrm>
            </p:grpSpPr>
            <p:grpSp>
              <p:nvGrpSpPr>
                <p:cNvPr id="4659" name=""/>
                <p:cNvGrpSpPr/>
                <p:nvPr/>
              </p:nvGrpSpPr>
              <p:grpSpPr>
                <a:xfrm>
                  <a:off x="8289720" y="933480"/>
                  <a:ext cx="83880" cy="208080"/>
                  <a:chOff x="8289720" y="933480"/>
                  <a:chExt cx="83880" cy="208080"/>
                </a:xfrm>
              </p:grpSpPr>
              <p:grpSp>
                <p:nvGrpSpPr>
                  <p:cNvPr id="4660" name=""/>
                  <p:cNvGrpSpPr/>
                  <p:nvPr/>
                </p:nvGrpSpPr>
                <p:grpSpPr>
                  <a:xfrm>
                    <a:off x="8289720" y="933480"/>
                    <a:ext cx="83880" cy="41400"/>
                    <a:chOff x="8289720" y="933480"/>
                    <a:chExt cx="83880" cy="41400"/>
                  </a:xfrm>
                </p:grpSpPr>
                <p:sp>
                  <p:nvSpPr>
                    <p:cNvPr id="4661" name=""/>
                    <p:cNvSpPr/>
                    <p:nvPr/>
                  </p:nvSpPr>
                  <p:spPr>
                    <a:xfrm>
                      <a:off x="828972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2" name=""/>
                    <p:cNvSpPr/>
                    <p:nvPr/>
                  </p:nvSpPr>
                  <p:spPr>
                    <a:xfrm>
                      <a:off x="828972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3" name=""/>
                    <p:cNvSpPr/>
                    <p:nvPr/>
                  </p:nvSpPr>
                  <p:spPr>
                    <a:xfrm>
                      <a:off x="828972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4" name=""/>
                  <p:cNvGrpSpPr/>
                  <p:nvPr/>
                </p:nvGrpSpPr>
                <p:grpSpPr>
                  <a:xfrm>
                    <a:off x="8289720" y="975240"/>
                    <a:ext cx="83880" cy="41400"/>
                    <a:chOff x="8289720" y="975240"/>
                    <a:chExt cx="83880" cy="41400"/>
                  </a:xfrm>
                </p:grpSpPr>
                <p:sp>
                  <p:nvSpPr>
                    <p:cNvPr id="4665" name=""/>
                    <p:cNvSpPr/>
                    <p:nvPr/>
                  </p:nvSpPr>
                  <p:spPr>
                    <a:xfrm>
                      <a:off x="828972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6" name=""/>
                    <p:cNvSpPr/>
                    <p:nvPr/>
                  </p:nvSpPr>
                  <p:spPr>
                    <a:xfrm>
                      <a:off x="828972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7" name=""/>
                    <p:cNvSpPr/>
                    <p:nvPr/>
                  </p:nvSpPr>
                  <p:spPr>
                    <a:xfrm>
                      <a:off x="828972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8" name=""/>
                  <p:cNvGrpSpPr/>
                  <p:nvPr/>
                </p:nvGrpSpPr>
                <p:grpSpPr>
                  <a:xfrm>
                    <a:off x="8289720" y="1017000"/>
                    <a:ext cx="83880" cy="41400"/>
                    <a:chOff x="8289720" y="1017000"/>
                    <a:chExt cx="83880" cy="41400"/>
                  </a:xfrm>
                </p:grpSpPr>
                <p:sp>
                  <p:nvSpPr>
                    <p:cNvPr id="4669" name=""/>
                    <p:cNvSpPr/>
                    <p:nvPr/>
                  </p:nvSpPr>
                  <p:spPr>
                    <a:xfrm>
                      <a:off x="828972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0" name=""/>
                    <p:cNvSpPr/>
                    <p:nvPr/>
                  </p:nvSpPr>
                  <p:spPr>
                    <a:xfrm>
                      <a:off x="828972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1" name=""/>
                    <p:cNvSpPr/>
                    <p:nvPr/>
                  </p:nvSpPr>
                  <p:spPr>
                    <a:xfrm>
                      <a:off x="828972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2" name=""/>
                  <p:cNvGrpSpPr/>
                  <p:nvPr/>
                </p:nvGrpSpPr>
                <p:grpSpPr>
                  <a:xfrm>
                    <a:off x="8289720" y="1059120"/>
                    <a:ext cx="83880" cy="41400"/>
                    <a:chOff x="8289720" y="1059120"/>
                    <a:chExt cx="83880" cy="41400"/>
                  </a:xfrm>
                </p:grpSpPr>
                <p:sp>
                  <p:nvSpPr>
                    <p:cNvPr id="4673" name=""/>
                    <p:cNvSpPr/>
                    <p:nvPr/>
                  </p:nvSpPr>
                  <p:spPr>
                    <a:xfrm>
                      <a:off x="828972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4" name=""/>
                    <p:cNvSpPr/>
                    <p:nvPr/>
                  </p:nvSpPr>
                  <p:spPr>
                    <a:xfrm>
                      <a:off x="828972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5" name=""/>
                    <p:cNvSpPr/>
                    <p:nvPr/>
                  </p:nvSpPr>
                  <p:spPr>
                    <a:xfrm>
                      <a:off x="828972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6" name=""/>
                  <p:cNvGrpSpPr/>
                  <p:nvPr/>
                </p:nvGrpSpPr>
                <p:grpSpPr>
                  <a:xfrm>
                    <a:off x="8289720" y="1100160"/>
                    <a:ext cx="83880" cy="41400"/>
                    <a:chOff x="8289720" y="1100160"/>
                    <a:chExt cx="83880" cy="41400"/>
                  </a:xfrm>
                </p:grpSpPr>
                <p:sp>
                  <p:nvSpPr>
                    <p:cNvPr id="4677" name=""/>
                    <p:cNvSpPr/>
                    <p:nvPr/>
                  </p:nvSpPr>
                  <p:spPr>
                    <a:xfrm>
                      <a:off x="828972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8" name=""/>
                    <p:cNvSpPr/>
                    <p:nvPr/>
                  </p:nvSpPr>
                  <p:spPr>
                    <a:xfrm>
                      <a:off x="828972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9" name=""/>
                    <p:cNvSpPr/>
                    <p:nvPr/>
                  </p:nvSpPr>
                  <p:spPr>
                    <a:xfrm>
                      <a:off x="828972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80" name=""/>
                <p:cNvGrpSpPr/>
                <p:nvPr/>
              </p:nvGrpSpPr>
              <p:grpSpPr>
                <a:xfrm>
                  <a:off x="8289720" y="1140120"/>
                  <a:ext cx="83880" cy="208080"/>
                  <a:chOff x="8289720" y="1140120"/>
                  <a:chExt cx="83880" cy="208080"/>
                </a:xfrm>
              </p:grpSpPr>
              <p:grpSp>
                <p:nvGrpSpPr>
                  <p:cNvPr id="4681" name=""/>
                  <p:cNvGrpSpPr/>
                  <p:nvPr/>
                </p:nvGrpSpPr>
                <p:grpSpPr>
                  <a:xfrm>
                    <a:off x="8289720" y="1140120"/>
                    <a:ext cx="83880" cy="41400"/>
                    <a:chOff x="8289720" y="1140120"/>
                    <a:chExt cx="83880" cy="41400"/>
                  </a:xfrm>
                </p:grpSpPr>
                <p:sp>
                  <p:nvSpPr>
                    <p:cNvPr id="4682" name=""/>
                    <p:cNvSpPr/>
                    <p:nvPr/>
                  </p:nvSpPr>
                  <p:spPr>
                    <a:xfrm>
                      <a:off x="828972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3" name=""/>
                    <p:cNvSpPr/>
                    <p:nvPr/>
                  </p:nvSpPr>
                  <p:spPr>
                    <a:xfrm>
                      <a:off x="828972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4" name=""/>
                    <p:cNvSpPr/>
                    <p:nvPr/>
                  </p:nvSpPr>
                  <p:spPr>
                    <a:xfrm>
                      <a:off x="828972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5" name=""/>
                  <p:cNvGrpSpPr/>
                  <p:nvPr/>
                </p:nvGrpSpPr>
                <p:grpSpPr>
                  <a:xfrm>
                    <a:off x="8289720" y="1181880"/>
                    <a:ext cx="83880" cy="41400"/>
                    <a:chOff x="8289720" y="1181880"/>
                    <a:chExt cx="83880" cy="41400"/>
                  </a:xfrm>
                </p:grpSpPr>
                <p:sp>
                  <p:nvSpPr>
                    <p:cNvPr id="4686" name=""/>
                    <p:cNvSpPr/>
                    <p:nvPr/>
                  </p:nvSpPr>
                  <p:spPr>
                    <a:xfrm>
                      <a:off x="828972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7" name=""/>
                    <p:cNvSpPr/>
                    <p:nvPr/>
                  </p:nvSpPr>
                  <p:spPr>
                    <a:xfrm>
                      <a:off x="828972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8" name=""/>
                    <p:cNvSpPr/>
                    <p:nvPr/>
                  </p:nvSpPr>
                  <p:spPr>
                    <a:xfrm>
                      <a:off x="828972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9" name=""/>
                  <p:cNvGrpSpPr/>
                  <p:nvPr/>
                </p:nvGrpSpPr>
                <p:grpSpPr>
                  <a:xfrm>
                    <a:off x="8289720" y="1223640"/>
                    <a:ext cx="83880" cy="41400"/>
                    <a:chOff x="8289720" y="1223640"/>
                    <a:chExt cx="83880" cy="41400"/>
                  </a:xfrm>
                </p:grpSpPr>
                <p:sp>
                  <p:nvSpPr>
                    <p:cNvPr id="4690" name=""/>
                    <p:cNvSpPr/>
                    <p:nvPr/>
                  </p:nvSpPr>
                  <p:spPr>
                    <a:xfrm>
                      <a:off x="828972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1" name=""/>
                    <p:cNvSpPr/>
                    <p:nvPr/>
                  </p:nvSpPr>
                  <p:spPr>
                    <a:xfrm>
                      <a:off x="828972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2" name=""/>
                    <p:cNvSpPr/>
                    <p:nvPr/>
                  </p:nvSpPr>
                  <p:spPr>
                    <a:xfrm>
                      <a:off x="828972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3" name=""/>
                  <p:cNvGrpSpPr/>
                  <p:nvPr/>
                </p:nvGrpSpPr>
                <p:grpSpPr>
                  <a:xfrm>
                    <a:off x="8289720" y="1265760"/>
                    <a:ext cx="83880" cy="41400"/>
                    <a:chOff x="8289720" y="1265760"/>
                    <a:chExt cx="83880" cy="41400"/>
                  </a:xfrm>
                </p:grpSpPr>
                <p:sp>
                  <p:nvSpPr>
                    <p:cNvPr id="4694" name=""/>
                    <p:cNvSpPr/>
                    <p:nvPr/>
                  </p:nvSpPr>
                  <p:spPr>
                    <a:xfrm>
                      <a:off x="828972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5" name=""/>
                    <p:cNvSpPr/>
                    <p:nvPr/>
                  </p:nvSpPr>
                  <p:spPr>
                    <a:xfrm>
                      <a:off x="828972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6" name=""/>
                    <p:cNvSpPr/>
                    <p:nvPr/>
                  </p:nvSpPr>
                  <p:spPr>
                    <a:xfrm>
                      <a:off x="828972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7" name=""/>
                  <p:cNvGrpSpPr/>
                  <p:nvPr/>
                </p:nvGrpSpPr>
                <p:grpSpPr>
                  <a:xfrm>
                    <a:off x="8289720" y="1306800"/>
                    <a:ext cx="83880" cy="41400"/>
                    <a:chOff x="8289720" y="1306800"/>
                    <a:chExt cx="83880" cy="41400"/>
                  </a:xfrm>
                </p:grpSpPr>
                <p:sp>
                  <p:nvSpPr>
                    <p:cNvPr id="4698" name=""/>
                    <p:cNvSpPr/>
                    <p:nvPr/>
                  </p:nvSpPr>
                  <p:spPr>
                    <a:xfrm>
                      <a:off x="828972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9" name=""/>
                    <p:cNvSpPr/>
                    <p:nvPr/>
                  </p:nvSpPr>
                  <p:spPr>
                    <a:xfrm>
                      <a:off x="828972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0" name=""/>
                    <p:cNvSpPr/>
                    <p:nvPr/>
                  </p:nvSpPr>
                  <p:spPr>
                    <a:xfrm>
                      <a:off x="828972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701" name=""/>
              <p:cNvGrpSpPr/>
              <p:nvPr/>
            </p:nvGrpSpPr>
            <p:grpSpPr>
              <a:xfrm>
                <a:off x="8263080" y="717480"/>
                <a:ext cx="137880" cy="216000"/>
                <a:chOff x="8263080" y="717480"/>
                <a:chExt cx="137880" cy="216000"/>
              </a:xfrm>
            </p:grpSpPr>
            <p:grpSp>
              <p:nvGrpSpPr>
                <p:cNvPr id="4702" name=""/>
                <p:cNvGrpSpPr/>
                <p:nvPr/>
              </p:nvGrpSpPr>
              <p:grpSpPr>
                <a:xfrm>
                  <a:off x="8263080" y="790200"/>
                  <a:ext cx="137880" cy="143280"/>
                  <a:chOff x="8263080" y="790200"/>
                  <a:chExt cx="137880" cy="143280"/>
                </a:xfrm>
              </p:grpSpPr>
              <p:sp>
                <p:nvSpPr>
                  <p:cNvPr id="4703" name=""/>
                  <p:cNvSpPr/>
                  <p:nvPr/>
                </p:nvSpPr>
                <p:spPr>
                  <a:xfrm>
                    <a:off x="826308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04" name=""/>
                  <p:cNvGrpSpPr/>
                  <p:nvPr/>
                </p:nvGrpSpPr>
                <p:grpSpPr>
                  <a:xfrm>
                    <a:off x="8265600" y="790200"/>
                    <a:ext cx="132480" cy="143280"/>
                    <a:chOff x="8265600" y="790200"/>
                    <a:chExt cx="132480" cy="143280"/>
                  </a:xfrm>
                </p:grpSpPr>
                <p:sp>
                  <p:nvSpPr>
                    <p:cNvPr id="4705" name=""/>
                    <p:cNvSpPr/>
                    <p:nvPr/>
                  </p:nvSpPr>
                  <p:spPr>
                    <a:xfrm>
                      <a:off x="826632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6" name=""/>
                    <p:cNvSpPr/>
                    <p:nvPr/>
                  </p:nvSpPr>
                  <p:spPr>
                    <a:xfrm flipV="1">
                      <a:off x="826560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7" name=""/>
                    <p:cNvSpPr/>
                    <p:nvPr/>
                  </p:nvSpPr>
                  <p:spPr>
                    <a:xfrm>
                      <a:off x="826956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08" name=""/>
                <p:cNvGrpSpPr/>
                <p:nvPr/>
              </p:nvGrpSpPr>
              <p:grpSpPr>
                <a:xfrm>
                  <a:off x="8288280" y="717480"/>
                  <a:ext cx="86400" cy="72360"/>
                  <a:chOff x="8288280" y="717480"/>
                  <a:chExt cx="86400" cy="72360"/>
                </a:xfrm>
              </p:grpSpPr>
              <p:sp>
                <p:nvSpPr>
                  <p:cNvPr id="4709" name=""/>
                  <p:cNvSpPr/>
                  <p:nvPr/>
                </p:nvSpPr>
                <p:spPr>
                  <a:xfrm>
                    <a:off x="8288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0" name=""/>
                  <p:cNvSpPr/>
                  <p:nvPr/>
                </p:nvSpPr>
                <p:spPr>
                  <a:xfrm>
                    <a:off x="8307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1" name=""/>
                  <p:cNvSpPr/>
                  <p:nvPr/>
                </p:nvSpPr>
                <p:spPr>
                  <a:xfrm>
                    <a:off x="83253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2" name=""/>
                  <p:cNvSpPr/>
                  <p:nvPr/>
                </p:nvSpPr>
                <p:spPr>
                  <a:xfrm>
                    <a:off x="83451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3" name=""/>
                  <p:cNvSpPr/>
                  <p:nvPr/>
                </p:nvSpPr>
                <p:spPr>
                  <a:xfrm>
                    <a:off x="83638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4" name=""/>
                  <p:cNvSpPr/>
                  <p:nvPr/>
                </p:nvSpPr>
                <p:spPr>
                  <a:xfrm>
                    <a:off x="828828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5" name=""/>
                  <p:cNvSpPr/>
                  <p:nvPr/>
                </p:nvSpPr>
                <p:spPr>
                  <a:xfrm>
                    <a:off x="828900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6" name=""/>
                  <p:cNvSpPr/>
                  <p:nvPr/>
                </p:nvSpPr>
                <p:spPr>
                  <a:xfrm>
                    <a:off x="828900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17" name=""/>
                <p:cNvSpPr/>
                <p:nvPr/>
              </p:nvSpPr>
              <p:spPr>
                <a:xfrm>
                  <a:off x="827928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>
                  <a:off x="836280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>
                  <a:off x="831384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20" name=""/>
            <p:cNvSpPr/>
            <p:nvPr/>
          </p:nvSpPr>
          <p:spPr>
            <a:xfrm>
              <a:off x="7662960" y="145800"/>
              <a:ext cx="133596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lvds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5884920" y="1046160"/>
            <a:ext cx="2319120" cy="1555920"/>
            <a:chOff x="5884920" y="1046160"/>
            <a:chExt cx="2319120" cy="1555920"/>
          </a:xfrm>
        </p:grpSpPr>
        <p:sp>
          <p:nvSpPr>
            <p:cNvPr id="4722" name=""/>
            <p:cNvSpPr/>
            <p:nvPr/>
          </p:nvSpPr>
          <p:spPr>
            <a:xfrm>
              <a:off x="5884920" y="1046160"/>
              <a:ext cx="2319120" cy="15559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fference   ‚High-level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H_dyn  1.325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H_stat  1.32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.003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851520" y="2228760"/>
              <a:ext cx="85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3614760" y="1046160"/>
            <a:ext cx="2233440" cy="1555920"/>
            <a:chOff x="3614760" y="1046160"/>
            <a:chExt cx="2233440" cy="1555920"/>
          </a:xfrm>
        </p:grpSpPr>
        <p:sp>
          <p:nvSpPr>
            <p:cNvPr id="4725" name=""/>
            <p:cNvSpPr/>
            <p:nvPr/>
          </p:nvSpPr>
          <p:spPr>
            <a:xfrm>
              <a:off x="3614760" y="1046160"/>
              <a:ext cx="2233440" cy="15559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fference   ‚Low-level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L_dyn  1.100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L_stat  1.075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.025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601880" y="2241720"/>
              <a:ext cx="85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230040" y="1046160"/>
            <a:ext cx="1649520" cy="1555920"/>
            <a:chOff x="230040" y="1046160"/>
            <a:chExt cx="1649520" cy="1555920"/>
          </a:xfrm>
        </p:grpSpPr>
        <p:sp>
          <p:nvSpPr>
            <p:cNvPr id="4728" name=""/>
            <p:cNvSpPr/>
            <p:nvPr/>
          </p:nvSpPr>
          <p:spPr>
            <a:xfrm>
              <a:off x="230040" y="1046160"/>
              <a:ext cx="1649520" cy="1555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ynamic sw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.32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.100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.22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236520" y="2241720"/>
              <a:ext cx="85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0" name=""/>
          <p:cNvGrpSpPr/>
          <p:nvPr/>
        </p:nvGrpSpPr>
        <p:grpSpPr>
          <a:xfrm>
            <a:off x="1909800" y="1046160"/>
            <a:ext cx="1560600" cy="1555920"/>
            <a:chOff x="1909800" y="1046160"/>
            <a:chExt cx="1560600" cy="1555920"/>
          </a:xfrm>
        </p:grpSpPr>
        <p:sp>
          <p:nvSpPr>
            <p:cNvPr id="4731" name=""/>
            <p:cNvSpPr/>
            <p:nvPr/>
          </p:nvSpPr>
          <p:spPr>
            <a:xfrm>
              <a:off x="1909800" y="1046160"/>
              <a:ext cx="1560600" cy="1555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atic sw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.325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.075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.250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1963800" y="2241720"/>
              <a:ext cx="85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1316880" y="2998800"/>
            <a:ext cx="4648320" cy="1090440"/>
            <a:chOff x="1316880" y="2998800"/>
            <a:chExt cx="4648320" cy="1090440"/>
          </a:xfrm>
        </p:grpSpPr>
        <p:sp>
          <p:nvSpPr>
            <p:cNvPr id="4734" name=""/>
            <p:cNvSpPr/>
            <p:nvPr/>
          </p:nvSpPr>
          <p:spPr>
            <a:xfrm>
              <a:off x="1316880" y="2998800"/>
              <a:ext cx="21222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w calculation :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.025v : 0.25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.0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048560" y="3008160"/>
              <a:ext cx="1916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gh calculation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.003v : 0.250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.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6" name=""/>
          <p:cNvSpPr/>
          <p:nvPr/>
        </p:nvSpPr>
        <p:spPr>
          <a:xfrm>
            <a:off x="1003320" y="4491000"/>
            <a:ext cx="63514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 accurate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difference of just 25m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n give an error of 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4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4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4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4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4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4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4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4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"/>
          <p:cNvSpPr/>
          <p:nvPr/>
        </p:nvSpPr>
        <p:spPr>
          <a:xfrm flipV="1">
            <a:off x="1327320" y="3292200"/>
            <a:ext cx="5783040" cy="225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3430440"/>
          </a:xfrm>
          <a:prstGeom prst="rect">
            <a:avLst/>
          </a:prstGeom>
          <a:ln w="0">
            <a:noFill/>
          </a:ln>
        </p:spPr>
      </p:pic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740" name="" descr=""/>
          <p:cNvPicPr/>
          <p:nvPr/>
        </p:nvPicPr>
        <p:blipFill>
          <a:blip r:embed="rId2"/>
          <a:stretch/>
        </p:blipFill>
        <p:spPr>
          <a:xfrm>
            <a:off x="4041720" y="6635880"/>
            <a:ext cx="528840" cy="222120"/>
          </a:xfrm>
          <a:prstGeom prst="rect">
            <a:avLst/>
          </a:prstGeom>
          <a:ln w="0">
            <a:noFill/>
          </a:ln>
        </p:spPr>
      </p:pic>
      <p:grpSp>
        <p:nvGrpSpPr>
          <p:cNvPr id="4741" name=""/>
          <p:cNvGrpSpPr/>
          <p:nvPr/>
        </p:nvGrpSpPr>
        <p:grpSpPr>
          <a:xfrm>
            <a:off x="6039000" y="1719000"/>
            <a:ext cx="2522160" cy="4102200"/>
            <a:chOff x="6039000" y="1719000"/>
            <a:chExt cx="2522160" cy="4102200"/>
          </a:xfrm>
        </p:grpSpPr>
        <p:grpSp>
          <p:nvGrpSpPr>
            <p:cNvPr id="4742" name=""/>
            <p:cNvGrpSpPr/>
            <p:nvPr/>
          </p:nvGrpSpPr>
          <p:grpSpPr>
            <a:xfrm>
              <a:off x="6039000" y="3292560"/>
              <a:ext cx="2522160" cy="2528640"/>
              <a:chOff x="6039000" y="3292560"/>
              <a:chExt cx="2522160" cy="2528640"/>
            </a:xfrm>
          </p:grpSpPr>
          <p:grpSp>
            <p:nvGrpSpPr>
              <p:cNvPr id="4743" name=""/>
              <p:cNvGrpSpPr/>
              <p:nvPr/>
            </p:nvGrpSpPr>
            <p:grpSpPr>
              <a:xfrm>
                <a:off x="6039000" y="4152960"/>
                <a:ext cx="2522160" cy="1668240"/>
                <a:chOff x="6039000" y="4152960"/>
                <a:chExt cx="2522160" cy="1668240"/>
              </a:xfrm>
            </p:grpSpPr>
            <p:grpSp>
              <p:nvGrpSpPr>
                <p:cNvPr id="4744" name=""/>
                <p:cNvGrpSpPr/>
                <p:nvPr/>
              </p:nvGrpSpPr>
              <p:grpSpPr>
                <a:xfrm>
                  <a:off x="6039000" y="5491080"/>
                  <a:ext cx="2522160" cy="330120"/>
                  <a:chOff x="6039000" y="5491080"/>
                  <a:chExt cx="2522160" cy="330120"/>
                </a:xfrm>
              </p:grpSpPr>
              <p:sp>
                <p:nvSpPr>
                  <p:cNvPr id="4745" name=""/>
                  <p:cNvSpPr/>
                  <p:nvPr/>
                </p:nvSpPr>
                <p:spPr>
                  <a:xfrm>
                    <a:off x="645984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6" name=""/>
                  <p:cNvSpPr/>
                  <p:nvPr/>
                </p:nvSpPr>
                <p:spPr>
                  <a:xfrm>
                    <a:off x="730152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7" name=""/>
                  <p:cNvSpPr/>
                  <p:nvPr/>
                </p:nvSpPr>
                <p:spPr>
                  <a:xfrm>
                    <a:off x="772236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>
                    <a:off x="814284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9" name=""/>
                  <p:cNvSpPr/>
                  <p:nvPr/>
                </p:nvSpPr>
                <p:spPr>
                  <a:xfrm>
                    <a:off x="688032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0" name=""/>
                  <p:cNvSpPr/>
                  <p:nvPr/>
                </p:nvSpPr>
                <p:spPr>
                  <a:xfrm>
                    <a:off x="603900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1" name=""/>
                <p:cNvGrpSpPr/>
                <p:nvPr/>
              </p:nvGrpSpPr>
              <p:grpSpPr>
                <a:xfrm>
                  <a:off x="6249960" y="5157720"/>
                  <a:ext cx="2101320" cy="330120"/>
                  <a:chOff x="6249960" y="5157720"/>
                  <a:chExt cx="2101320" cy="330120"/>
                </a:xfrm>
              </p:grpSpPr>
              <p:sp>
                <p:nvSpPr>
                  <p:cNvPr id="4752" name=""/>
                  <p:cNvSpPr/>
                  <p:nvPr/>
                </p:nvSpPr>
                <p:spPr>
                  <a:xfrm>
                    <a:off x="624996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>
                    <a:off x="709128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>
                    <a:off x="751248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793296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>
                    <a:off x="667044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7" name=""/>
                <p:cNvSpPr/>
                <p:nvPr/>
              </p:nvSpPr>
              <p:spPr>
                <a:xfrm>
                  <a:off x="6881040" y="482436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>
                  <a:off x="7723080" y="482436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9" name=""/>
                <p:cNvSpPr/>
                <p:nvPr/>
              </p:nvSpPr>
              <p:spPr>
                <a:xfrm>
                  <a:off x="7301880" y="482436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0" name=""/>
                <p:cNvSpPr/>
                <p:nvPr/>
              </p:nvSpPr>
              <p:spPr>
                <a:xfrm>
                  <a:off x="6460200" y="482436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1" name=""/>
                <p:cNvSpPr/>
                <p:nvPr/>
              </p:nvSpPr>
              <p:spPr>
                <a:xfrm>
                  <a:off x="6671520" y="449100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2" name=""/>
                <p:cNvSpPr/>
                <p:nvPr/>
              </p:nvSpPr>
              <p:spPr>
                <a:xfrm>
                  <a:off x="7513560" y="449100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7093080" y="449100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4" name=""/>
                <p:cNvGrpSpPr/>
                <p:nvPr/>
              </p:nvGrpSpPr>
              <p:grpSpPr>
                <a:xfrm>
                  <a:off x="6885720" y="4152960"/>
                  <a:ext cx="839880" cy="330120"/>
                  <a:chOff x="6885720" y="4152960"/>
                  <a:chExt cx="839880" cy="330120"/>
                </a:xfrm>
              </p:grpSpPr>
              <p:sp>
                <p:nvSpPr>
                  <p:cNvPr id="4765" name=""/>
                  <p:cNvSpPr/>
                  <p:nvPr/>
                </p:nvSpPr>
                <p:spPr>
                  <a:xfrm>
                    <a:off x="6885720" y="4152960"/>
                    <a:ext cx="4190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7307280" y="415296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7" name=""/>
              <p:cNvGrpSpPr/>
              <p:nvPr/>
            </p:nvGrpSpPr>
            <p:grpSpPr>
              <a:xfrm>
                <a:off x="7132680" y="4152960"/>
                <a:ext cx="334800" cy="1652040"/>
                <a:chOff x="7132680" y="4152960"/>
                <a:chExt cx="334800" cy="1652040"/>
              </a:xfrm>
            </p:grpSpPr>
            <p:grpSp>
              <p:nvGrpSpPr>
                <p:cNvPr id="4768" name=""/>
                <p:cNvGrpSpPr/>
                <p:nvPr/>
              </p:nvGrpSpPr>
              <p:grpSpPr>
                <a:xfrm>
                  <a:off x="7132680" y="4152960"/>
                  <a:ext cx="334800" cy="829440"/>
                  <a:chOff x="7132680" y="4152960"/>
                  <a:chExt cx="334800" cy="829440"/>
                </a:xfrm>
              </p:grpSpPr>
              <p:grpSp>
                <p:nvGrpSpPr>
                  <p:cNvPr id="4769" name=""/>
                  <p:cNvGrpSpPr/>
                  <p:nvPr/>
                </p:nvGrpSpPr>
                <p:grpSpPr>
                  <a:xfrm>
                    <a:off x="7132680" y="4152960"/>
                    <a:ext cx="334800" cy="165600"/>
                    <a:chOff x="7132680" y="4152960"/>
                    <a:chExt cx="334800" cy="165600"/>
                  </a:xfrm>
                </p:grpSpPr>
                <p:sp>
                  <p:nvSpPr>
                    <p:cNvPr id="4770" name=""/>
                    <p:cNvSpPr/>
                    <p:nvPr/>
                  </p:nvSpPr>
                  <p:spPr>
                    <a:xfrm>
                      <a:off x="7132680" y="41529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1" name=""/>
                    <p:cNvSpPr/>
                    <p:nvPr/>
                  </p:nvSpPr>
                  <p:spPr>
                    <a:xfrm>
                      <a:off x="7132680" y="42062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2" name=""/>
                    <p:cNvSpPr/>
                    <p:nvPr/>
                  </p:nvSpPr>
                  <p:spPr>
                    <a:xfrm>
                      <a:off x="7132680" y="42624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3" name=""/>
                  <p:cNvGrpSpPr/>
                  <p:nvPr/>
                </p:nvGrpSpPr>
                <p:grpSpPr>
                  <a:xfrm>
                    <a:off x="7132680" y="4319640"/>
                    <a:ext cx="334800" cy="165600"/>
                    <a:chOff x="7132680" y="4319640"/>
                    <a:chExt cx="334800" cy="165600"/>
                  </a:xfrm>
                </p:grpSpPr>
                <p:sp>
                  <p:nvSpPr>
                    <p:cNvPr id="4774" name=""/>
                    <p:cNvSpPr/>
                    <p:nvPr/>
                  </p:nvSpPr>
                  <p:spPr>
                    <a:xfrm>
                      <a:off x="7132680" y="43196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5" name=""/>
                    <p:cNvSpPr/>
                    <p:nvPr/>
                  </p:nvSpPr>
                  <p:spPr>
                    <a:xfrm>
                      <a:off x="7132680" y="43729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6" name=""/>
                    <p:cNvSpPr/>
                    <p:nvPr/>
                  </p:nvSpPr>
                  <p:spPr>
                    <a:xfrm>
                      <a:off x="7132680" y="44290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7" name=""/>
                  <p:cNvGrpSpPr/>
                  <p:nvPr/>
                </p:nvGrpSpPr>
                <p:grpSpPr>
                  <a:xfrm>
                    <a:off x="7132680" y="4486320"/>
                    <a:ext cx="334800" cy="165600"/>
                    <a:chOff x="7132680" y="4486320"/>
                    <a:chExt cx="334800" cy="165600"/>
                  </a:xfrm>
                </p:grpSpPr>
                <p:sp>
                  <p:nvSpPr>
                    <p:cNvPr id="4778" name=""/>
                    <p:cNvSpPr/>
                    <p:nvPr/>
                  </p:nvSpPr>
                  <p:spPr>
                    <a:xfrm>
                      <a:off x="7132680" y="44863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9" name=""/>
                    <p:cNvSpPr/>
                    <p:nvPr/>
                  </p:nvSpPr>
                  <p:spPr>
                    <a:xfrm>
                      <a:off x="7132680" y="4539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0" name=""/>
                    <p:cNvSpPr/>
                    <p:nvPr/>
                  </p:nvSpPr>
                  <p:spPr>
                    <a:xfrm>
                      <a:off x="7132680" y="45957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1" name=""/>
                  <p:cNvGrpSpPr/>
                  <p:nvPr/>
                </p:nvGrpSpPr>
                <p:grpSpPr>
                  <a:xfrm>
                    <a:off x="7132680" y="4653000"/>
                    <a:ext cx="334800" cy="165600"/>
                    <a:chOff x="7132680" y="4653000"/>
                    <a:chExt cx="334800" cy="165600"/>
                  </a:xfrm>
                </p:grpSpPr>
                <p:sp>
                  <p:nvSpPr>
                    <p:cNvPr id="4782" name=""/>
                    <p:cNvSpPr/>
                    <p:nvPr/>
                  </p:nvSpPr>
                  <p:spPr>
                    <a:xfrm>
                      <a:off x="7132680" y="46530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3" name=""/>
                    <p:cNvSpPr/>
                    <p:nvPr/>
                  </p:nvSpPr>
                  <p:spPr>
                    <a:xfrm>
                      <a:off x="7132680" y="47062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4" name=""/>
                    <p:cNvSpPr/>
                    <p:nvPr/>
                  </p:nvSpPr>
                  <p:spPr>
                    <a:xfrm>
                      <a:off x="7132680" y="47624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5" name=""/>
                  <p:cNvGrpSpPr/>
                  <p:nvPr/>
                </p:nvGrpSpPr>
                <p:grpSpPr>
                  <a:xfrm>
                    <a:off x="7132680" y="4816800"/>
                    <a:ext cx="334800" cy="165600"/>
                    <a:chOff x="7132680" y="4816800"/>
                    <a:chExt cx="334800" cy="165600"/>
                  </a:xfrm>
                </p:grpSpPr>
                <p:sp>
                  <p:nvSpPr>
                    <p:cNvPr id="4786" name=""/>
                    <p:cNvSpPr/>
                    <p:nvPr/>
                  </p:nvSpPr>
                  <p:spPr>
                    <a:xfrm>
                      <a:off x="7132680" y="48168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7" name=""/>
                    <p:cNvSpPr/>
                    <p:nvPr/>
                  </p:nvSpPr>
                  <p:spPr>
                    <a:xfrm>
                      <a:off x="7132680" y="48700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8" name=""/>
                    <p:cNvSpPr/>
                    <p:nvPr/>
                  </p:nvSpPr>
                  <p:spPr>
                    <a:xfrm>
                      <a:off x="7132680" y="49262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89" name=""/>
                <p:cNvGrpSpPr/>
                <p:nvPr/>
              </p:nvGrpSpPr>
              <p:grpSpPr>
                <a:xfrm>
                  <a:off x="7132680" y="4975560"/>
                  <a:ext cx="334800" cy="829440"/>
                  <a:chOff x="7132680" y="4975560"/>
                  <a:chExt cx="334800" cy="829440"/>
                </a:xfrm>
              </p:grpSpPr>
              <p:grpSp>
                <p:nvGrpSpPr>
                  <p:cNvPr id="4790" name=""/>
                  <p:cNvGrpSpPr/>
                  <p:nvPr/>
                </p:nvGrpSpPr>
                <p:grpSpPr>
                  <a:xfrm>
                    <a:off x="7132680" y="4975560"/>
                    <a:ext cx="334800" cy="165600"/>
                    <a:chOff x="7132680" y="4975560"/>
                    <a:chExt cx="334800" cy="165600"/>
                  </a:xfrm>
                </p:grpSpPr>
                <p:sp>
                  <p:nvSpPr>
                    <p:cNvPr id="4791" name=""/>
                    <p:cNvSpPr/>
                    <p:nvPr/>
                  </p:nvSpPr>
                  <p:spPr>
                    <a:xfrm>
                      <a:off x="7132680" y="49755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2" name=""/>
                    <p:cNvSpPr/>
                    <p:nvPr/>
                  </p:nvSpPr>
                  <p:spPr>
                    <a:xfrm>
                      <a:off x="7132680" y="50288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3" name=""/>
                    <p:cNvSpPr/>
                    <p:nvPr/>
                  </p:nvSpPr>
                  <p:spPr>
                    <a:xfrm>
                      <a:off x="7132680" y="50850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4" name=""/>
                  <p:cNvGrpSpPr/>
                  <p:nvPr/>
                </p:nvGrpSpPr>
                <p:grpSpPr>
                  <a:xfrm>
                    <a:off x="7132680" y="5142240"/>
                    <a:ext cx="334800" cy="165600"/>
                    <a:chOff x="7132680" y="5142240"/>
                    <a:chExt cx="334800" cy="165600"/>
                  </a:xfrm>
                </p:grpSpPr>
                <p:sp>
                  <p:nvSpPr>
                    <p:cNvPr id="4795" name=""/>
                    <p:cNvSpPr/>
                    <p:nvPr/>
                  </p:nvSpPr>
                  <p:spPr>
                    <a:xfrm>
                      <a:off x="7132680" y="51422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6" name=""/>
                    <p:cNvSpPr/>
                    <p:nvPr/>
                  </p:nvSpPr>
                  <p:spPr>
                    <a:xfrm>
                      <a:off x="7132680" y="51955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7" name=""/>
                    <p:cNvSpPr/>
                    <p:nvPr/>
                  </p:nvSpPr>
                  <p:spPr>
                    <a:xfrm>
                      <a:off x="7132680" y="52516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8" name=""/>
                  <p:cNvGrpSpPr/>
                  <p:nvPr/>
                </p:nvGrpSpPr>
                <p:grpSpPr>
                  <a:xfrm>
                    <a:off x="7132680" y="5308920"/>
                    <a:ext cx="334800" cy="165600"/>
                    <a:chOff x="7132680" y="5308920"/>
                    <a:chExt cx="334800" cy="165600"/>
                  </a:xfrm>
                </p:grpSpPr>
                <p:sp>
                  <p:nvSpPr>
                    <p:cNvPr id="4799" name=""/>
                    <p:cNvSpPr/>
                    <p:nvPr/>
                  </p:nvSpPr>
                  <p:spPr>
                    <a:xfrm>
                      <a:off x="7132680" y="53089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0" name=""/>
                    <p:cNvSpPr/>
                    <p:nvPr/>
                  </p:nvSpPr>
                  <p:spPr>
                    <a:xfrm>
                      <a:off x="7132680" y="53622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1" name=""/>
                    <p:cNvSpPr/>
                    <p:nvPr/>
                  </p:nvSpPr>
                  <p:spPr>
                    <a:xfrm>
                      <a:off x="7132680" y="54183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2" name=""/>
                  <p:cNvGrpSpPr/>
                  <p:nvPr/>
                </p:nvGrpSpPr>
                <p:grpSpPr>
                  <a:xfrm>
                    <a:off x="7132680" y="5475600"/>
                    <a:ext cx="334800" cy="165600"/>
                    <a:chOff x="7132680" y="5475600"/>
                    <a:chExt cx="334800" cy="165600"/>
                  </a:xfrm>
                </p:grpSpPr>
                <p:sp>
                  <p:nvSpPr>
                    <p:cNvPr id="4803" name=""/>
                    <p:cNvSpPr/>
                    <p:nvPr/>
                  </p:nvSpPr>
                  <p:spPr>
                    <a:xfrm>
                      <a:off x="7132680" y="5475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4" name=""/>
                    <p:cNvSpPr/>
                    <p:nvPr/>
                  </p:nvSpPr>
                  <p:spPr>
                    <a:xfrm>
                      <a:off x="7132680" y="55288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5" name=""/>
                    <p:cNvSpPr/>
                    <p:nvPr/>
                  </p:nvSpPr>
                  <p:spPr>
                    <a:xfrm>
                      <a:off x="7132680" y="55850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6" name=""/>
                  <p:cNvGrpSpPr/>
                  <p:nvPr/>
                </p:nvGrpSpPr>
                <p:grpSpPr>
                  <a:xfrm>
                    <a:off x="7132680" y="5639400"/>
                    <a:ext cx="334800" cy="165600"/>
                    <a:chOff x="7132680" y="5639400"/>
                    <a:chExt cx="334800" cy="165600"/>
                  </a:xfrm>
                </p:grpSpPr>
                <p:sp>
                  <p:nvSpPr>
                    <p:cNvPr id="4807" name=""/>
                    <p:cNvSpPr/>
                    <p:nvPr/>
                  </p:nvSpPr>
                  <p:spPr>
                    <a:xfrm>
                      <a:off x="7132680" y="56394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8" name=""/>
                    <p:cNvSpPr/>
                    <p:nvPr/>
                  </p:nvSpPr>
                  <p:spPr>
                    <a:xfrm>
                      <a:off x="7132680" y="56926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9" name=""/>
                    <p:cNvSpPr/>
                    <p:nvPr/>
                  </p:nvSpPr>
                  <p:spPr>
                    <a:xfrm>
                      <a:off x="7132680" y="57488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10" name=""/>
              <p:cNvGrpSpPr/>
              <p:nvPr/>
            </p:nvGrpSpPr>
            <p:grpSpPr>
              <a:xfrm>
                <a:off x="7026480" y="3292560"/>
                <a:ext cx="549360" cy="861480"/>
                <a:chOff x="7026480" y="3292560"/>
                <a:chExt cx="549360" cy="861480"/>
              </a:xfrm>
            </p:grpSpPr>
            <p:grpSp>
              <p:nvGrpSpPr>
                <p:cNvPr id="4811" name=""/>
                <p:cNvGrpSpPr/>
                <p:nvPr/>
              </p:nvGrpSpPr>
              <p:grpSpPr>
                <a:xfrm>
                  <a:off x="7026480" y="3583080"/>
                  <a:ext cx="549360" cy="570960"/>
                  <a:chOff x="7026480" y="3583080"/>
                  <a:chExt cx="549360" cy="570960"/>
                </a:xfrm>
              </p:grpSpPr>
              <p:sp>
                <p:nvSpPr>
                  <p:cNvPr id="4812" name=""/>
                  <p:cNvSpPr/>
                  <p:nvPr/>
                </p:nvSpPr>
                <p:spPr>
                  <a:xfrm>
                    <a:off x="7026480" y="3832200"/>
                    <a:ext cx="549360" cy="522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3" name=""/>
                  <p:cNvGrpSpPr/>
                  <p:nvPr/>
                </p:nvGrpSpPr>
                <p:grpSpPr>
                  <a:xfrm>
                    <a:off x="7036920" y="3583080"/>
                    <a:ext cx="527400" cy="570960"/>
                    <a:chOff x="7036920" y="3583080"/>
                    <a:chExt cx="527400" cy="570960"/>
                  </a:xfrm>
                </p:grpSpPr>
                <p:sp>
                  <p:nvSpPr>
                    <p:cNvPr id="4814" name=""/>
                    <p:cNvSpPr/>
                    <p:nvPr/>
                  </p:nvSpPr>
                  <p:spPr>
                    <a:xfrm>
                      <a:off x="7040520" y="3859560"/>
                      <a:ext cx="519480" cy="2944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5" name=""/>
                    <p:cNvSpPr/>
                    <p:nvPr/>
                  </p:nvSpPr>
                  <p:spPr>
                    <a:xfrm flipV="1">
                      <a:off x="7036920" y="3632040"/>
                      <a:ext cx="527400" cy="200160"/>
                    </a:xfrm>
                    <a:custGeom>
                      <a:avLst/>
                      <a:gdLst>
                        <a:gd name="textAreaLeft" fmla="*/ 54720 w 527400"/>
                        <a:gd name="textAreaRight" fmla="*/ 472680 w 527400"/>
                        <a:gd name="textAreaTop" fmla="*/ 20880 h 200160"/>
                        <a:gd name="textAreaBottom" fmla="*/ 179280 h 200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6" name=""/>
                    <p:cNvSpPr/>
                    <p:nvPr/>
                  </p:nvSpPr>
                  <p:spPr>
                    <a:xfrm>
                      <a:off x="7052760" y="3583080"/>
                      <a:ext cx="492480" cy="489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17" name=""/>
                <p:cNvGrpSpPr/>
                <p:nvPr/>
              </p:nvGrpSpPr>
              <p:grpSpPr>
                <a:xfrm>
                  <a:off x="7128000" y="3292560"/>
                  <a:ext cx="344520" cy="288720"/>
                  <a:chOff x="7128000" y="3292560"/>
                  <a:chExt cx="344520" cy="288720"/>
                </a:xfrm>
              </p:grpSpPr>
              <p:sp>
                <p:nvSpPr>
                  <p:cNvPr id="4818" name=""/>
                  <p:cNvSpPr/>
                  <p:nvPr/>
                </p:nvSpPr>
                <p:spPr>
                  <a:xfrm>
                    <a:off x="712980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9" name=""/>
                  <p:cNvSpPr/>
                  <p:nvPr/>
                </p:nvSpPr>
                <p:spPr>
                  <a:xfrm>
                    <a:off x="720252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0" name=""/>
                  <p:cNvSpPr/>
                  <p:nvPr/>
                </p:nvSpPr>
                <p:spPr>
                  <a:xfrm>
                    <a:off x="727560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1" name=""/>
                  <p:cNvSpPr/>
                  <p:nvPr/>
                </p:nvSpPr>
                <p:spPr>
                  <a:xfrm>
                    <a:off x="735516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2" name=""/>
                  <p:cNvSpPr/>
                  <p:nvPr/>
                </p:nvSpPr>
                <p:spPr>
                  <a:xfrm>
                    <a:off x="742968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3" name=""/>
                  <p:cNvSpPr/>
                  <p:nvPr/>
                </p:nvSpPr>
                <p:spPr>
                  <a:xfrm>
                    <a:off x="7128000" y="341640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4" name=""/>
                  <p:cNvSpPr/>
                  <p:nvPr/>
                </p:nvSpPr>
                <p:spPr>
                  <a:xfrm>
                    <a:off x="7131240" y="350676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5" name=""/>
                  <p:cNvSpPr/>
                  <p:nvPr/>
                </p:nvSpPr>
                <p:spPr>
                  <a:xfrm>
                    <a:off x="7131240" y="358128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26" name=""/>
                <p:cNvSpPr/>
                <p:nvPr/>
              </p:nvSpPr>
              <p:spPr>
                <a:xfrm>
                  <a:off x="7091640" y="3857400"/>
                  <a:ext cx="82440" cy="2937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7423200" y="3854520"/>
                  <a:ext cx="82800" cy="2934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7229520" y="3911400"/>
                  <a:ext cx="142920" cy="23652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9" name=""/>
            <p:cNvSpPr/>
            <p:nvPr/>
          </p:nvSpPr>
          <p:spPr>
            <a:xfrm>
              <a:off x="6053400" y="1719000"/>
              <a:ext cx="2493720" cy="158832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Example 3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output driv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with ramp on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0" name=""/>
          <p:cNvGrpSpPr/>
          <p:nvPr/>
        </p:nvGrpSpPr>
        <p:grpSpPr>
          <a:xfrm>
            <a:off x="1663560" y="3159720"/>
            <a:ext cx="2248200" cy="1695960"/>
            <a:chOff x="1663560" y="3159720"/>
            <a:chExt cx="2248200" cy="1695960"/>
          </a:xfrm>
        </p:grpSpPr>
        <p:grpSp>
          <p:nvGrpSpPr>
            <p:cNvPr id="4831" name=""/>
            <p:cNvGrpSpPr/>
            <p:nvPr/>
          </p:nvGrpSpPr>
          <p:grpSpPr>
            <a:xfrm>
              <a:off x="2465640" y="4050720"/>
              <a:ext cx="630360" cy="804960"/>
              <a:chOff x="2465640" y="4050720"/>
              <a:chExt cx="630360" cy="804960"/>
            </a:xfrm>
          </p:grpSpPr>
          <p:grpSp>
            <p:nvGrpSpPr>
              <p:cNvPr id="4832" name=""/>
              <p:cNvGrpSpPr/>
              <p:nvPr/>
            </p:nvGrpSpPr>
            <p:grpSpPr>
              <a:xfrm>
                <a:off x="2465640" y="4324680"/>
                <a:ext cx="630360" cy="531000"/>
                <a:chOff x="2465640" y="4324680"/>
                <a:chExt cx="630360" cy="531000"/>
              </a:xfrm>
            </p:grpSpPr>
            <p:grpSp>
              <p:nvGrpSpPr>
                <p:cNvPr id="4833" name=""/>
                <p:cNvGrpSpPr/>
                <p:nvPr/>
              </p:nvGrpSpPr>
              <p:grpSpPr>
                <a:xfrm>
                  <a:off x="2465640" y="4750560"/>
                  <a:ext cx="630360" cy="105120"/>
                  <a:chOff x="2465640" y="4750560"/>
                  <a:chExt cx="630360" cy="105120"/>
                </a:xfrm>
              </p:grpSpPr>
              <p:sp>
                <p:nvSpPr>
                  <p:cNvPr id="4834" name=""/>
                  <p:cNvSpPr/>
                  <p:nvPr/>
                </p:nvSpPr>
                <p:spPr>
                  <a:xfrm>
                    <a:off x="257076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5" name=""/>
                  <p:cNvSpPr/>
                  <p:nvPr/>
                </p:nvSpPr>
                <p:spPr>
                  <a:xfrm>
                    <a:off x="27810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6" name=""/>
                  <p:cNvSpPr/>
                  <p:nvPr/>
                </p:nvSpPr>
                <p:spPr>
                  <a:xfrm>
                    <a:off x="28864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7" name=""/>
                  <p:cNvSpPr/>
                  <p:nvPr/>
                </p:nvSpPr>
                <p:spPr>
                  <a:xfrm>
                    <a:off x="29916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>
                    <a:off x="26758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9" name=""/>
                  <p:cNvSpPr/>
                  <p:nvPr/>
                </p:nvSpPr>
                <p:spPr>
                  <a:xfrm>
                    <a:off x="246564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0" name=""/>
                <p:cNvGrpSpPr/>
                <p:nvPr/>
              </p:nvGrpSpPr>
              <p:grpSpPr>
                <a:xfrm>
                  <a:off x="2518200" y="4644360"/>
                  <a:ext cx="525240" cy="105120"/>
                  <a:chOff x="2518200" y="4644360"/>
                  <a:chExt cx="525240" cy="105120"/>
                </a:xfrm>
              </p:grpSpPr>
              <p:sp>
                <p:nvSpPr>
                  <p:cNvPr id="4841" name=""/>
                  <p:cNvSpPr/>
                  <p:nvPr/>
                </p:nvSpPr>
                <p:spPr>
                  <a:xfrm>
                    <a:off x="251820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2" name=""/>
                  <p:cNvSpPr/>
                  <p:nvPr/>
                </p:nvSpPr>
                <p:spPr>
                  <a:xfrm>
                    <a:off x="27284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3" name=""/>
                  <p:cNvSpPr/>
                  <p:nvPr/>
                </p:nvSpPr>
                <p:spPr>
                  <a:xfrm>
                    <a:off x="283356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>
                    <a:off x="29390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5" name=""/>
                  <p:cNvSpPr/>
                  <p:nvPr/>
                </p:nvSpPr>
                <p:spPr>
                  <a:xfrm>
                    <a:off x="262332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6" name=""/>
                <p:cNvSpPr/>
                <p:nvPr/>
              </p:nvSpPr>
              <p:spPr>
                <a:xfrm>
                  <a:off x="267588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288648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8" name=""/>
                <p:cNvSpPr/>
                <p:nvPr/>
              </p:nvSpPr>
              <p:spPr>
                <a:xfrm>
                  <a:off x="278136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9" name=""/>
                <p:cNvSpPr/>
                <p:nvPr/>
              </p:nvSpPr>
              <p:spPr>
                <a:xfrm>
                  <a:off x="257076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0" name=""/>
                <p:cNvSpPr/>
                <p:nvPr/>
              </p:nvSpPr>
              <p:spPr>
                <a:xfrm>
                  <a:off x="2623680" y="443232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1" name=""/>
                <p:cNvSpPr/>
                <p:nvPr/>
              </p:nvSpPr>
              <p:spPr>
                <a:xfrm>
                  <a:off x="283428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>
                  <a:off x="272916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53" name=""/>
                <p:cNvGrpSpPr/>
                <p:nvPr/>
              </p:nvGrpSpPr>
              <p:grpSpPr>
                <a:xfrm>
                  <a:off x="2677320" y="4324680"/>
                  <a:ext cx="209880" cy="105120"/>
                  <a:chOff x="2677320" y="4324680"/>
                  <a:chExt cx="209880" cy="105120"/>
                </a:xfrm>
              </p:grpSpPr>
              <p:sp>
                <p:nvSpPr>
                  <p:cNvPr id="4854" name=""/>
                  <p:cNvSpPr/>
                  <p:nvPr/>
                </p:nvSpPr>
                <p:spPr>
                  <a:xfrm>
                    <a:off x="2677320" y="4324680"/>
                    <a:ext cx="10476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5" name=""/>
                  <p:cNvSpPr/>
                  <p:nvPr/>
                </p:nvSpPr>
                <p:spPr>
                  <a:xfrm>
                    <a:off x="2782800" y="432468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6" name=""/>
              <p:cNvGrpSpPr/>
              <p:nvPr/>
            </p:nvGrpSpPr>
            <p:grpSpPr>
              <a:xfrm>
                <a:off x="2738880" y="4324680"/>
                <a:ext cx="83520" cy="525600"/>
                <a:chOff x="2738880" y="4324680"/>
                <a:chExt cx="83520" cy="525600"/>
              </a:xfrm>
            </p:grpSpPr>
            <p:grpSp>
              <p:nvGrpSpPr>
                <p:cNvPr id="4857" name=""/>
                <p:cNvGrpSpPr/>
                <p:nvPr/>
              </p:nvGrpSpPr>
              <p:grpSpPr>
                <a:xfrm>
                  <a:off x="2738880" y="4324680"/>
                  <a:ext cx="83520" cy="263880"/>
                  <a:chOff x="2738880" y="4324680"/>
                  <a:chExt cx="83520" cy="263880"/>
                </a:xfrm>
              </p:grpSpPr>
              <p:grpSp>
                <p:nvGrpSpPr>
                  <p:cNvPr id="4858" name=""/>
                  <p:cNvGrpSpPr/>
                  <p:nvPr/>
                </p:nvGrpSpPr>
                <p:grpSpPr>
                  <a:xfrm>
                    <a:off x="2738880" y="4324680"/>
                    <a:ext cx="83520" cy="52560"/>
                    <a:chOff x="2738880" y="4324680"/>
                    <a:chExt cx="83520" cy="52560"/>
                  </a:xfrm>
                </p:grpSpPr>
                <p:sp>
                  <p:nvSpPr>
                    <p:cNvPr id="4859" name=""/>
                    <p:cNvSpPr/>
                    <p:nvPr/>
                  </p:nvSpPr>
                  <p:spPr>
                    <a:xfrm>
                      <a:off x="2738880" y="43246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0" name=""/>
                    <p:cNvSpPr/>
                    <p:nvPr/>
                  </p:nvSpPr>
                  <p:spPr>
                    <a:xfrm>
                      <a:off x="2738880" y="4341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1" name=""/>
                    <p:cNvSpPr/>
                    <p:nvPr/>
                  </p:nvSpPr>
                  <p:spPr>
                    <a:xfrm>
                      <a:off x="2738880" y="4359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2" name=""/>
                  <p:cNvGrpSpPr/>
                  <p:nvPr/>
                </p:nvGrpSpPr>
                <p:grpSpPr>
                  <a:xfrm>
                    <a:off x="2738880" y="4377600"/>
                    <a:ext cx="83520" cy="52560"/>
                    <a:chOff x="2738880" y="4377600"/>
                    <a:chExt cx="83520" cy="52560"/>
                  </a:xfrm>
                </p:grpSpPr>
                <p:sp>
                  <p:nvSpPr>
                    <p:cNvPr id="4863" name=""/>
                    <p:cNvSpPr/>
                    <p:nvPr/>
                  </p:nvSpPr>
                  <p:spPr>
                    <a:xfrm>
                      <a:off x="2738880" y="4377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4" name=""/>
                    <p:cNvSpPr/>
                    <p:nvPr/>
                  </p:nvSpPr>
                  <p:spPr>
                    <a:xfrm>
                      <a:off x="2738880" y="4394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5" name=""/>
                    <p:cNvSpPr/>
                    <p:nvPr/>
                  </p:nvSpPr>
                  <p:spPr>
                    <a:xfrm>
                      <a:off x="2738880" y="4412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6" name=""/>
                  <p:cNvGrpSpPr/>
                  <p:nvPr/>
                </p:nvGrpSpPr>
                <p:grpSpPr>
                  <a:xfrm>
                    <a:off x="2738880" y="4430880"/>
                    <a:ext cx="83520" cy="52560"/>
                    <a:chOff x="2738880" y="4430880"/>
                    <a:chExt cx="83520" cy="52560"/>
                  </a:xfrm>
                </p:grpSpPr>
                <p:sp>
                  <p:nvSpPr>
                    <p:cNvPr id="4867" name=""/>
                    <p:cNvSpPr/>
                    <p:nvPr/>
                  </p:nvSpPr>
                  <p:spPr>
                    <a:xfrm>
                      <a:off x="2738880" y="44308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8" name=""/>
                    <p:cNvSpPr/>
                    <p:nvPr/>
                  </p:nvSpPr>
                  <p:spPr>
                    <a:xfrm>
                      <a:off x="2738880" y="4447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9" name=""/>
                    <p:cNvSpPr/>
                    <p:nvPr/>
                  </p:nvSpPr>
                  <p:spPr>
                    <a:xfrm>
                      <a:off x="2738880" y="4465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0" name=""/>
                  <p:cNvGrpSpPr/>
                  <p:nvPr/>
                </p:nvGrpSpPr>
                <p:grpSpPr>
                  <a:xfrm>
                    <a:off x="2738880" y="4483800"/>
                    <a:ext cx="83520" cy="52560"/>
                    <a:chOff x="2738880" y="4483800"/>
                    <a:chExt cx="83520" cy="52560"/>
                  </a:xfrm>
                </p:grpSpPr>
                <p:sp>
                  <p:nvSpPr>
                    <p:cNvPr id="4871" name=""/>
                    <p:cNvSpPr/>
                    <p:nvPr/>
                  </p:nvSpPr>
                  <p:spPr>
                    <a:xfrm>
                      <a:off x="2738880" y="4483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2" name=""/>
                    <p:cNvSpPr/>
                    <p:nvPr/>
                  </p:nvSpPr>
                  <p:spPr>
                    <a:xfrm>
                      <a:off x="2738880" y="4500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3" name=""/>
                    <p:cNvSpPr/>
                    <p:nvPr/>
                  </p:nvSpPr>
                  <p:spPr>
                    <a:xfrm>
                      <a:off x="2738880" y="4518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4" name=""/>
                  <p:cNvGrpSpPr/>
                  <p:nvPr/>
                </p:nvGrpSpPr>
                <p:grpSpPr>
                  <a:xfrm>
                    <a:off x="2738880" y="4536000"/>
                    <a:ext cx="83520" cy="52560"/>
                    <a:chOff x="2738880" y="4536000"/>
                    <a:chExt cx="83520" cy="52560"/>
                  </a:xfrm>
                </p:grpSpPr>
                <p:sp>
                  <p:nvSpPr>
                    <p:cNvPr id="4875" name=""/>
                    <p:cNvSpPr/>
                    <p:nvPr/>
                  </p:nvSpPr>
                  <p:spPr>
                    <a:xfrm>
                      <a:off x="2738880" y="45360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6" name=""/>
                    <p:cNvSpPr/>
                    <p:nvPr/>
                  </p:nvSpPr>
                  <p:spPr>
                    <a:xfrm>
                      <a:off x="2738880" y="4552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7" name=""/>
                    <p:cNvSpPr/>
                    <p:nvPr/>
                  </p:nvSpPr>
                  <p:spPr>
                    <a:xfrm>
                      <a:off x="2738880" y="4570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78" name=""/>
                <p:cNvGrpSpPr/>
                <p:nvPr/>
              </p:nvGrpSpPr>
              <p:grpSpPr>
                <a:xfrm>
                  <a:off x="2738880" y="4586400"/>
                  <a:ext cx="83520" cy="263880"/>
                  <a:chOff x="2738880" y="4586400"/>
                  <a:chExt cx="83520" cy="263880"/>
                </a:xfrm>
              </p:grpSpPr>
              <p:grpSp>
                <p:nvGrpSpPr>
                  <p:cNvPr id="4879" name=""/>
                  <p:cNvGrpSpPr/>
                  <p:nvPr/>
                </p:nvGrpSpPr>
                <p:grpSpPr>
                  <a:xfrm>
                    <a:off x="2738880" y="4586400"/>
                    <a:ext cx="83520" cy="52560"/>
                    <a:chOff x="2738880" y="4586400"/>
                    <a:chExt cx="83520" cy="52560"/>
                  </a:xfrm>
                </p:grpSpPr>
                <p:sp>
                  <p:nvSpPr>
                    <p:cNvPr id="4880" name=""/>
                    <p:cNvSpPr/>
                    <p:nvPr/>
                  </p:nvSpPr>
                  <p:spPr>
                    <a:xfrm>
                      <a:off x="2738880" y="45864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1" name=""/>
                    <p:cNvSpPr/>
                    <p:nvPr/>
                  </p:nvSpPr>
                  <p:spPr>
                    <a:xfrm>
                      <a:off x="2738880" y="4603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2" name=""/>
                    <p:cNvSpPr/>
                    <p:nvPr/>
                  </p:nvSpPr>
                  <p:spPr>
                    <a:xfrm>
                      <a:off x="2738880" y="4621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3" name=""/>
                  <p:cNvGrpSpPr/>
                  <p:nvPr/>
                </p:nvGrpSpPr>
                <p:grpSpPr>
                  <a:xfrm>
                    <a:off x="2738880" y="4639320"/>
                    <a:ext cx="83520" cy="52560"/>
                    <a:chOff x="2738880" y="4639320"/>
                    <a:chExt cx="83520" cy="52560"/>
                  </a:xfrm>
                </p:grpSpPr>
                <p:sp>
                  <p:nvSpPr>
                    <p:cNvPr id="4884" name=""/>
                    <p:cNvSpPr/>
                    <p:nvPr/>
                  </p:nvSpPr>
                  <p:spPr>
                    <a:xfrm>
                      <a:off x="2738880" y="4639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5" name=""/>
                    <p:cNvSpPr/>
                    <p:nvPr/>
                  </p:nvSpPr>
                  <p:spPr>
                    <a:xfrm>
                      <a:off x="2738880" y="4656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6" name=""/>
                    <p:cNvSpPr/>
                    <p:nvPr/>
                  </p:nvSpPr>
                  <p:spPr>
                    <a:xfrm>
                      <a:off x="2738880" y="4674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7" name=""/>
                  <p:cNvGrpSpPr/>
                  <p:nvPr/>
                </p:nvGrpSpPr>
                <p:grpSpPr>
                  <a:xfrm>
                    <a:off x="2738880" y="4692600"/>
                    <a:ext cx="83520" cy="52560"/>
                    <a:chOff x="2738880" y="4692600"/>
                    <a:chExt cx="83520" cy="52560"/>
                  </a:xfrm>
                </p:grpSpPr>
                <p:sp>
                  <p:nvSpPr>
                    <p:cNvPr id="4888" name=""/>
                    <p:cNvSpPr/>
                    <p:nvPr/>
                  </p:nvSpPr>
                  <p:spPr>
                    <a:xfrm>
                      <a:off x="2738880" y="4692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9" name=""/>
                    <p:cNvSpPr/>
                    <p:nvPr/>
                  </p:nvSpPr>
                  <p:spPr>
                    <a:xfrm>
                      <a:off x="2738880" y="4709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0" name=""/>
                    <p:cNvSpPr/>
                    <p:nvPr/>
                  </p:nvSpPr>
                  <p:spPr>
                    <a:xfrm>
                      <a:off x="2738880" y="4727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1" name=""/>
                  <p:cNvGrpSpPr/>
                  <p:nvPr/>
                </p:nvGrpSpPr>
                <p:grpSpPr>
                  <a:xfrm>
                    <a:off x="2738880" y="4745520"/>
                    <a:ext cx="83520" cy="52560"/>
                    <a:chOff x="2738880" y="4745520"/>
                    <a:chExt cx="83520" cy="52560"/>
                  </a:xfrm>
                </p:grpSpPr>
                <p:sp>
                  <p:nvSpPr>
                    <p:cNvPr id="4892" name=""/>
                    <p:cNvSpPr/>
                    <p:nvPr/>
                  </p:nvSpPr>
                  <p:spPr>
                    <a:xfrm>
                      <a:off x="2738880" y="4745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3" name=""/>
                    <p:cNvSpPr/>
                    <p:nvPr/>
                  </p:nvSpPr>
                  <p:spPr>
                    <a:xfrm>
                      <a:off x="2738880" y="4762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4" name=""/>
                    <p:cNvSpPr/>
                    <p:nvPr/>
                  </p:nvSpPr>
                  <p:spPr>
                    <a:xfrm>
                      <a:off x="2738880" y="4780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5" name=""/>
                  <p:cNvGrpSpPr/>
                  <p:nvPr/>
                </p:nvGrpSpPr>
                <p:grpSpPr>
                  <a:xfrm>
                    <a:off x="2738880" y="4797720"/>
                    <a:ext cx="83520" cy="52560"/>
                    <a:chOff x="2738880" y="4797720"/>
                    <a:chExt cx="83520" cy="52560"/>
                  </a:xfrm>
                </p:grpSpPr>
                <p:sp>
                  <p:nvSpPr>
                    <p:cNvPr id="4896" name=""/>
                    <p:cNvSpPr/>
                    <p:nvPr/>
                  </p:nvSpPr>
                  <p:spPr>
                    <a:xfrm>
                      <a:off x="2738880" y="4797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7" name=""/>
                    <p:cNvSpPr/>
                    <p:nvPr/>
                  </p:nvSpPr>
                  <p:spPr>
                    <a:xfrm>
                      <a:off x="2738880" y="4814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8" name=""/>
                    <p:cNvSpPr/>
                    <p:nvPr/>
                  </p:nvSpPr>
                  <p:spPr>
                    <a:xfrm>
                      <a:off x="2738880" y="4832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99" name=""/>
              <p:cNvGrpSpPr/>
              <p:nvPr/>
            </p:nvGrpSpPr>
            <p:grpSpPr>
              <a:xfrm>
                <a:off x="2712240" y="4050720"/>
                <a:ext cx="137160" cy="273960"/>
                <a:chOff x="2712240" y="4050720"/>
                <a:chExt cx="137160" cy="273960"/>
              </a:xfrm>
            </p:grpSpPr>
            <p:grpSp>
              <p:nvGrpSpPr>
                <p:cNvPr id="4900" name=""/>
                <p:cNvGrpSpPr/>
                <p:nvPr/>
              </p:nvGrpSpPr>
              <p:grpSpPr>
                <a:xfrm>
                  <a:off x="2712240" y="4143240"/>
                  <a:ext cx="137160" cy="181440"/>
                  <a:chOff x="2712240" y="4143240"/>
                  <a:chExt cx="137160" cy="181440"/>
                </a:xfrm>
              </p:grpSpPr>
              <p:sp>
                <p:nvSpPr>
                  <p:cNvPr id="4901" name=""/>
                  <p:cNvSpPr/>
                  <p:nvPr/>
                </p:nvSpPr>
                <p:spPr>
                  <a:xfrm>
                    <a:off x="2712240" y="4222440"/>
                    <a:ext cx="137160" cy="165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02" name=""/>
                  <p:cNvGrpSpPr/>
                  <p:nvPr/>
                </p:nvGrpSpPr>
                <p:grpSpPr>
                  <a:xfrm>
                    <a:off x="2714760" y="4143240"/>
                    <a:ext cx="131760" cy="181440"/>
                    <a:chOff x="2714760" y="4143240"/>
                    <a:chExt cx="131760" cy="181440"/>
                  </a:xfrm>
                </p:grpSpPr>
                <p:sp>
                  <p:nvSpPr>
                    <p:cNvPr id="4903" name=""/>
                    <p:cNvSpPr/>
                    <p:nvPr/>
                  </p:nvSpPr>
                  <p:spPr>
                    <a:xfrm>
                      <a:off x="2715480" y="4231080"/>
                      <a:ext cx="129960" cy="936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4" name=""/>
                    <p:cNvSpPr/>
                    <p:nvPr/>
                  </p:nvSpPr>
                  <p:spPr>
                    <a:xfrm flipV="1">
                      <a:off x="2714760" y="4158000"/>
                      <a:ext cx="131760" cy="6372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6480 h 63720"/>
                        <a:gd name="textAreaBottom" fmla="*/ 57240 h 637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5" name=""/>
                    <p:cNvSpPr/>
                    <p:nvPr/>
                  </p:nvSpPr>
                  <p:spPr>
                    <a:xfrm>
                      <a:off x="2718720" y="4143240"/>
                      <a:ext cx="123120" cy="154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06" name=""/>
                <p:cNvGrpSpPr/>
                <p:nvPr/>
              </p:nvGrpSpPr>
              <p:grpSpPr>
                <a:xfrm>
                  <a:off x="2737440" y="4050720"/>
                  <a:ext cx="86040" cy="91800"/>
                  <a:chOff x="2737440" y="4050720"/>
                  <a:chExt cx="86040" cy="91800"/>
                </a:xfrm>
              </p:grpSpPr>
              <p:sp>
                <p:nvSpPr>
                  <p:cNvPr id="4907" name=""/>
                  <p:cNvSpPr/>
                  <p:nvPr/>
                </p:nvSpPr>
                <p:spPr>
                  <a:xfrm>
                    <a:off x="2737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8" name=""/>
                  <p:cNvSpPr/>
                  <p:nvPr/>
                </p:nvSpPr>
                <p:spPr>
                  <a:xfrm>
                    <a:off x="2755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9" name=""/>
                  <p:cNvSpPr/>
                  <p:nvPr/>
                </p:nvSpPr>
                <p:spPr>
                  <a:xfrm>
                    <a:off x="277416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"/>
                  <p:cNvSpPr/>
                  <p:nvPr/>
                </p:nvSpPr>
                <p:spPr>
                  <a:xfrm>
                    <a:off x="279432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1" name=""/>
                  <p:cNvSpPr/>
                  <p:nvPr/>
                </p:nvSpPr>
                <p:spPr>
                  <a:xfrm>
                    <a:off x="281268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2" name=""/>
                  <p:cNvSpPr/>
                  <p:nvPr/>
                </p:nvSpPr>
                <p:spPr>
                  <a:xfrm>
                    <a:off x="2737440" y="40899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3" name=""/>
                  <p:cNvSpPr/>
                  <p:nvPr/>
                </p:nvSpPr>
                <p:spPr>
                  <a:xfrm>
                    <a:off x="2738160" y="41187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4" name=""/>
                  <p:cNvSpPr/>
                  <p:nvPr/>
                </p:nvSpPr>
                <p:spPr>
                  <a:xfrm>
                    <a:off x="2738160" y="41425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5" name=""/>
                <p:cNvSpPr/>
                <p:nvPr/>
              </p:nvSpPr>
              <p:spPr>
                <a:xfrm>
                  <a:off x="2728440" y="423036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>
                  <a:off x="2811240" y="422964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7" name=""/>
                <p:cNvSpPr/>
                <p:nvPr/>
              </p:nvSpPr>
              <p:spPr>
                <a:xfrm>
                  <a:off x="2763000" y="4247640"/>
                  <a:ext cx="35640" cy="752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8" name=""/>
            <p:cNvSpPr/>
            <p:nvPr/>
          </p:nvSpPr>
          <p:spPr>
            <a:xfrm>
              <a:off x="1663560" y="3159720"/>
              <a:ext cx="2248200" cy="1240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for static and dynamic wavefo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9" name=""/>
          <p:cNvGrpSpPr/>
          <p:nvPr/>
        </p:nvGrpSpPr>
        <p:grpSpPr>
          <a:xfrm>
            <a:off x="332640" y="3481920"/>
            <a:ext cx="959040" cy="1002600"/>
            <a:chOff x="332640" y="3481920"/>
            <a:chExt cx="959040" cy="1002600"/>
          </a:xfrm>
        </p:grpSpPr>
        <p:grpSp>
          <p:nvGrpSpPr>
            <p:cNvPr id="4920" name=""/>
            <p:cNvGrpSpPr/>
            <p:nvPr/>
          </p:nvGrpSpPr>
          <p:grpSpPr>
            <a:xfrm>
              <a:off x="495000" y="3853080"/>
              <a:ext cx="630360" cy="631440"/>
              <a:chOff x="495000" y="3853080"/>
              <a:chExt cx="630360" cy="631440"/>
            </a:xfrm>
          </p:grpSpPr>
          <p:grpSp>
            <p:nvGrpSpPr>
              <p:cNvPr id="4921" name=""/>
              <p:cNvGrpSpPr/>
              <p:nvPr/>
            </p:nvGrpSpPr>
            <p:grpSpPr>
              <a:xfrm>
                <a:off x="495000" y="4068000"/>
                <a:ext cx="630360" cy="416520"/>
                <a:chOff x="495000" y="4068000"/>
                <a:chExt cx="630360" cy="416520"/>
              </a:xfrm>
            </p:grpSpPr>
            <p:grpSp>
              <p:nvGrpSpPr>
                <p:cNvPr id="4922" name=""/>
                <p:cNvGrpSpPr/>
                <p:nvPr/>
              </p:nvGrpSpPr>
              <p:grpSpPr>
                <a:xfrm>
                  <a:off x="495000" y="4402080"/>
                  <a:ext cx="630360" cy="82440"/>
                  <a:chOff x="495000" y="4402080"/>
                  <a:chExt cx="630360" cy="82440"/>
                </a:xfrm>
              </p:grpSpPr>
              <p:sp>
                <p:nvSpPr>
                  <p:cNvPr id="4923" name=""/>
                  <p:cNvSpPr/>
                  <p:nvPr/>
                </p:nvSpPr>
                <p:spPr>
                  <a:xfrm>
                    <a:off x="60012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4" name=""/>
                  <p:cNvSpPr/>
                  <p:nvPr/>
                </p:nvSpPr>
                <p:spPr>
                  <a:xfrm>
                    <a:off x="8103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5" name=""/>
                  <p:cNvSpPr/>
                  <p:nvPr/>
                </p:nvSpPr>
                <p:spPr>
                  <a:xfrm>
                    <a:off x="9158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6" name=""/>
                  <p:cNvSpPr/>
                  <p:nvPr/>
                </p:nvSpPr>
                <p:spPr>
                  <a:xfrm>
                    <a:off x="10209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7" name=""/>
                  <p:cNvSpPr/>
                  <p:nvPr/>
                </p:nvSpPr>
                <p:spPr>
                  <a:xfrm>
                    <a:off x="7052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8" name=""/>
                  <p:cNvSpPr/>
                  <p:nvPr/>
                </p:nvSpPr>
                <p:spPr>
                  <a:xfrm>
                    <a:off x="49500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9" name=""/>
                <p:cNvGrpSpPr/>
                <p:nvPr/>
              </p:nvGrpSpPr>
              <p:grpSpPr>
                <a:xfrm>
                  <a:off x="547560" y="4318920"/>
                  <a:ext cx="525240" cy="82440"/>
                  <a:chOff x="547560" y="4318920"/>
                  <a:chExt cx="525240" cy="82440"/>
                </a:xfrm>
              </p:grpSpPr>
              <p:sp>
                <p:nvSpPr>
                  <p:cNvPr id="4930" name=""/>
                  <p:cNvSpPr/>
                  <p:nvPr/>
                </p:nvSpPr>
                <p:spPr>
                  <a:xfrm>
                    <a:off x="54756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1" name=""/>
                  <p:cNvSpPr/>
                  <p:nvPr/>
                </p:nvSpPr>
                <p:spPr>
                  <a:xfrm>
                    <a:off x="7578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2" name=""/>
                  <p:cNvSpPr/>
                  <p:nvPr/>
                </p:nvSpPr>
                <p:spPr>
                  <a:xfrm>
                    <a:off x="86292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"/>
                  <p:cNvSpPr/>
                  <p:nvPr/>
                </p:nvSpPr>
                <p:spPr>
                  <a:xfrm>
                    <a:off x="9684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4" name=""/>
                  <p:cNvSpPr/>
                  <p:nvPr/>
                </p:nvSpPr>
                <p:spPr>
                  <a:xfrm>
                    <a:off x="65268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5" name=""/>
                <p:cNvSpPr/>
                <p:nvPr/>
              </p:nvSpPr>
              <p:spPr>
                <a:xfrm>
                  <a:off x="70524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"/>
                <p:cNvSpPr/>
                <p:nvPr/>
              </p:nvSpPr>
              <p:spPr>
                <a:xfrm>
                  <a:off x="91584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7" name=""/>
                <p:cNvSpPr/>
                <p:nvPr/>
              </p:nvSpPr>
              <p:spPr>
                <a:xfrm>
                  <a:off x="81072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8" name=""/>
                <p:cNvSpPr/>
                <p:nvPr/>
              </p:nvSpPr>
              <p:spPr>
                <a:xfrm>
                  <a:off x="60012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9" name=""/>
                <p:cNvSpPr/>
                <p:nvPr/>
              </p:nvSpPr>
              <p:spPr>
                <a:xfrm>
                  <a:off x="653040" y="4152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>
                  <a:off x="86364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1" name=""/>
                <p:cNvSpPr/>
                <p:nvPr/>
              </p:nvSpPr>
              <p:spPr>
                <a:xfrm>
                  <a:off x="75852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42" name=""/>
                <p:cNvGrpSpPr/>
                <p:nvPr/>
              </p:nvGrpSpPr>
              <p:grpSpPr>
                <a:xfrm>
                  <a:off x="706680" y="4068000"/>
                  <a:ext cx="209880" cy="82440"/>
                  <a:chOff x="706680" y="4068000"/>
                  <a:chExt cx="209880" cy="82440"/>
                </a:xfrm>
              </p:grpSpPr>
              <p:sp>
                <p:nvSpPr>
                  <p:cNvPr id="4943" name=""/>
                  <p:cNvSpPr/>
                  <p:nvPr/>
                </p:nvSpPr>
                <p:spPr>
                  <a:xfrm>
                    <a:off x="706680" y="406800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4" name=""/>
                  <p:cNvSpPr/>
                  <p:nvPr/>
                </p:nvSpPr>
                <p:spPr>
                  <a:xfrm>
                    <a:off x="812160" y="406800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5" name=""/>
              <p:cNvGrpSpPr/>
              <p:nvPr/>
            </p:nvGrpSpPr>
            <p:grpSpPr>
              <a:xfrm>
                <a:off x="768240" y="4068000"/>
                <a:ext cx="83520" cy="412200"/>
                <a:chOff x="768240" y="4068000"/>
                <a:chExt cx="83520" cy="412200"/>
              </a:xfrm>
            </p:grpSpPr>
            <p:grpSp>
              <p:nvGrpSpPr>
                <p:cNvPr id="4946" name=""/>
                <p:cNvGrpSpPr/>
                <p:nvPr/>
              </p:nvGrpSpPr>
              <p:grpSpPr>
                <a:xfrm>
                  <a:off x="768240" y="4068000"/>
                  <a:ext cx="83520" cy="207000"/>
                  <a:chOff x="768240" y="4068000"/>
                  <a:chExt cx="83520" cy="207000"/>
                </a:xfrm>
              </p:grpSpPr>
              <p:grpSp>
                <p:nvGrpSpPr>
                  <p:cNvPr id="4947" name=""/>
                  <p:cNvGrpSpPr/>
                  <p:nvPr/>
                </p:nvGrpSpPr>
                <p:grpSpPr>
                  <a:xfrm>
                    <a:off x="768240" y="4068000"/>
                    <a:ext cx="83520" cy="41400"/>
                    <a:chOff x="768240" y="4068000"/>
                    <a:chExt cx="83520" cy="41400"/>
                  </a:xfrm>
                </p:grpSpPr>
                <p:sp>
                  <p:nvSpPr>
                    <p:cNvPr id="4948" name=""/>
                    <p:cNvSpPr/>
                    <p:nvPr/>
                  </p:nvSpPr>
                  <p:spPr>
                    <a:xfrm>
                      <a:off x="768240" y="4068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9" name=""/>
                    <p:cNvSpPr/>
                    <p:nvPr/>
                  </p:nvSpPr>
                  <p:spPr>
                    <a:xfrm>
                      <a:off x="768240" y="4081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0" name=""/>
                    <p:cNvSpPr/>
                    <p:nvPr/>
                  </p:nvSpPr>
                  <p:spPr>
                    <a:xfrm>
                      <a:off x="768240" y="4095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1" name=""/>
                  <p:cNvGrpSpPr/>
                  <p:nvPr/>
                </p:nvGrpSpPr>
                <p:grpSpPr>
                  <a:xfrm>
                    <a:off x="768240" y="4109400"/>
                    <a:ext cx="83520" cy="41400"/>
                    <a:chOff x="768240" y="4109400"/>
                    <a:chExt cx="83520" cy="41400"/>
                  </a:xfrm>
                </p:grpSpPr>
                <p:sp>
                  <p:nvSpPr>
                    <p:cNvPr id="4952" name=""/>
                    <p:cNvSpPr/>
                    <p:nvPr/>
                  </p:nvSpPr>
                  <p:spPr>
                    <a:xfrm>
                      <a:off x="768240" y="410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3" name=""/>
                    <p:cNvSpPr/>
                    <p:nvPr/>
                  </p:nvSpPr>
                  <p:spPr>
                    <a:xfrm>
                      <a:off x="768240" y="412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4" name=""/>
                    <p:cNvSpPr/>
                    <p:nvPr/>
                  </p:nvSpPr>
                  <p:spPr>
                    <a:xfrm>
                      <a:off x="768240" y="413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5" name=""/>
                  <p:cNvGrpSpPr/>
                  <p:nvPr/>
                </p:nvGrpSpPr>
                <p:grpSpPr>
                  <a:xfrm>
                    <a:off x="768240" y="4151160"/>
                    <a:ext cx="83520" cy="40680"/>
                    <a:chOff x="768240" y="4151160"/>
                    <a:chExt cx="83520" cy="40680"/>
                  </a:xfrm>
                </p:grpSpPr>
                <p:sp>
                  <p:nvSpPr>
                    <p:cNvPr id="4956" name=""/>
                    <p:cNvSpPr/>
                    <p:nvPr/>
                  </p:nvSpPr>
                  <p:spPr>
                    <a:xfrm>
                      <a:off x="768240" y="4151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7" name=""/>
                    <p:cNvSpPr/>
                    <p:nvPr/>
                  </p:nvSpPr>
                  <p:spPr>
                    <a:xfrm>
                      <a:off x="768240" y="41644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8" name=""/>
                    <p:cNvSpPr/>
                    <p:nvPr/>
                  </p:nvSpPr>
                  <p:spPr>
                    <a:xfrm>
                      <a:off x="768240" y="4178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9" name=""/>
                  <p:cNvGrpSpPr/>
                  <p:nvPr/>
                </p:nvGrpSpPr>
                <p:grpSpPr>
                  <a:xfrm>
                    <a:off x="768240" y="4192920"/>
                    <a:ext cx="83520" cy="40680"/>
                    <a:chOff x="768240" y="4192920"/>
                    <a:chExt cx="83520" cy="40680"/>
                  </a:xfrm>
                </p:grpSpPr>
                <p:sp>
                  <p:nvSpPr>
                    <p:cNvPr id="4960" name=""/>
                    <p:cNvSpPr/>
                    <p:nvPr/>
                  </p:nvSpPr>
                  <p:spPr>
                    <a:xfrm>
                      <a:off x="768240" y="4192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1" name=""/>
                    <p:cNvSpPr/>
                    <p:nvPr/>
                  </p:nvSpPr>
                  <p:spPr>
                    <a:xfrm>
                      <a:off x="768240" y="42062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2" name=""/>
                    <p:cNvSpPr/>
                    <p:nvPr/>
                  </p:nvSpPr>
                  <p:spPr>
                    <a:xfrm>
                      <a:off x="768240" y="4219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3" name=""/>
                  <p:cNvGrpSpPr/>
                  <p:nvPr/>
                </p:nvGrpSpPr>
                <p:grpSpPr>
                  <a:xfrm>
                    <a:off x="768240" y="4233600"/>
                    <a:ext cx="83520" cy="41400"/>
                    <a:chOff x="768240" y="4233600"/>
                    <a:chExt cx="83520" cy="41400"/>
                  </a:xfrm>
                </p:grpSpPr>
                <p:sp>
                  <p:nvSpPr>
                    <p:cNvPr id="4964" name=""/>
                    <p:cNvSpPr/>
                    <p:nvPr/>
                  </p:nvSpPr>
                  <p:spPr>
                    <a:xfrm>
                      <a:off x="768240" y="4233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5" name=""/>
                    <p:cNvSpPr/>
                    <p:nvPr/>
                  </p:nvSpPr>
                  <p:spPr>
                    <a:xfrm>
                      <a:off x="768240" y="4246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6" name=""/>
                    <p:cNvSpPr/>
                    <p:nvPr/>
                  </p:nvSpPr>
                  <p:spPr>
                    <a:xfrm>
                      <a:off x="768240" y="426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67" name=""/>
                <p:cNvGrpSpPr/>
                <p:nvPr/>
              </p:nvGrpSpPr>
              <p:grpSpPr>
                <a:xfrm>
                  <a:off x="768240" y="4273200"/>
                  <a:ext cx="83520" cy="207000"/>
                  <a:chOff x="768240" y="4273200"/>
                  <a:chExt cx="83520" cy="207000"/>
                </a:xfrm>
              </p:grpSpPr>
              <p:grpSp>
                <p:nvGrpSpPr>
                  <p:cNvPr id="4968" name=""/>
                  <p:cNvGrpSpPr/>
                  <p:nvPr/>
                </p:nvGrpSpPr>
                <p:grpSpPr>
                  <a:xfrm>
                    <a:off x="768240" y="4273200"/>
                    <a:ext cx="83520" cy="41400"/>
                    <a:chOff x="768240" y="4273200"/>
                    <a:chExt cx="83520" cy="41400"/>
                  </a:xfrm>
                </p:grpSpPr>
                <p:sp>
                  <p:nvSpPr>
                    <p:cNvPr id="4969" name=""/>
                    <p:cNvSpPr/>
                    <p:nvPr/>
                  </p:nvSpPr>
                  <p:spPr>
                    <a:xfrm>
                      <a:off x="768240" y="4273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0" name=""/>
                    <p:cNvSpPr/>
                    <p:nvPr/>
                  </p:nvSpPr>
                  <p:spPr>
                    <a:xfrm>
                      <a:off x="768240" y="4286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1" name=""/>
                    <p:cNvSpPr/>
                    <p:nvPr/>
                  </p:nvSpPr>
                  <p:spPr>
                    <a:xfrm>
                      <a:off x="768240" y="4300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2" name=""/>
                  <p:cNvGrpSpPr/>
                  <p:nvPr/>
                </p:nvGrpSpPr>
                <p:grpSpPr>
                  <a:xfrm>
                    <a:off x="768240" y="4314600"/>
                    <a:ext cx="83520" cy="41400"/>
                    <a:chOff x="768240" y="4314600"/>
                    <a:chExt cx="83520" cy="41400"/>
                  </a:xfrm>
                </p:grpSpPr>
                <p:sp>
                  <p:nvSpPr>
                    <p:cNvPr id="4973" name=""/>
                    <p:cNvSpPr/>
                    <p:nvPr/>
                  </p:nvSpPr>
                  <p:spPr>
                    <a:xfrm>
                      <a:off x="768240" y="4314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4" name=""/>
                    <p:cNvSpPr/>
                    <p:nvPr/>
                  </p:nvSpPr>
                  <p:spPr>
                    <a:xfrm>
                      <a:off x="768240" y="4327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5" name=""/>
                    <p:cNvSpPr/>
                    <p:nvPr/>
                  </p:nvSpPr>
                  <p:spPr>
                    <a:xfrm>
                      <a:off x="768240" y="434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6" name=""/>
                  <p:cNvGrpSpPr/>
                  <p:nvPr/>
                </p:nvGrpSpPr>
                <p:grpSpPr>
                  <a:xfrm>
                    <a:off x="768240" y="4356360"/>
                    <a:ext cx="83520" cy="40680"/>
                    <a:chOff x="768240" y="4356360"/>
                    <a:chExt cx="83520" cy="40680"/>
                  </a:xfrm>
                </p:grpSpPr>
                <p:sp>
                  <p:nvSpPr>
                    <p:cNvPr id="4977" name=""/>
                    <p:cNvSpPr/>
                    <p:nvPr/>
                  </p:nvSpPr>
                  <p:spPr>
                    <a:xfrm>
                      <a:off x="768240" y="4356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8" name=""/>
                    <p:cNvSpPr/>
                    <p:nvPr/>
                  </p:nvSpPr>
                  <p:spPr>
                    <a:xfrm>
                      <a:off x="768240" y="43696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9" name=""/>
                    <p:cNvSpPr/>
                    <p:nvPr/>
                  </p:nvSpPr>
                  <p:spPr>
                    <a:xfrm>
                      <a:off x="768240" y="4383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0" name=""/>
                  <p:cNvGrpSpPr/>
                  <p:nvPr/>
                </p:nvGrpSpPr>
                <p:grpSpPr>
                  <a:xfrm>
                    <a:off x="768240" y="4398120"/>
                    <a:ext cx="83520" cy="40680"/>
                    <a:chOff x="768240" y="4398120"/>
                    <a:chExt cx="83520" cy="40680"/>
                  </a:xfrm>
                </p:grpSpPr>
                <p:sp>
                  <p:nvSpPr>
                    <p:cNvPr id="4981" name=""/>
                    <p:cNvSpPr/>
                    <p:nvPr/>
                  </p:nvSpPr>
                  <p:spPr>
                    <a:xfrm>
                      <a:off x="768240" y="4398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2" name=""/>
                    <p:cNvSpPr/>
                    <p:nvPr/>
                  </p:nvSpPr>
                  <p:spPr>
                    <a:xfrm>
                      <a:off x="768240" y="44114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3" name=""/>
                    <p:cNvSpPr/>
                    <p:nvPr/>
                  </p:nvSpPr>
                  <p:spPr>
                    <a:xfrm>
                      <a:off x="768240" y="4425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4" name=""/>
                  <p:cNvGrpSpPr/>
                  <p:nvPr/>
                </p:nvGrpSpPr>
                <p:grpSpPr>
                  <a:xfrm>
                    <a:off x="768240" y="4438800"/>
                    <a:ext cx="83520" cy="41400"/>
                    <a:chOff x="768240" y="4438800"/>
                    <a:chExt cx="83520" cy="41400"/>
                  </a:xfrm>
                </p:grpSpPr>
                <p:sp>
                  <p:nvSpPr>
                    <p:cNvPr id="4985" name=""/>
                    <p:cNvSpPr/>
                    <p:nvPr/>
                  </p:nvSpPr>
                  <p:spPr>
                    <a:xfrm>
                      <a:off x="768240" y="443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6" name=""/>
                    <p:cNvSpPr/>
                    <p:nvPr/>
                  </p:nvSpPr>
                  <p:spPr>
                    <a:xfrm>
                      <a:off x="768240" y="4452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7" name=""/>
                    <p:cNvSpPr/>
                    <p:nvPr/>
                  </p:nvSpPr>
                  <p:spPr>
                    <a:xfrm>
                      <a:off x="768240" y="4466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88" name=""/>
              <p:cNvGrpSpPr/>
              <p:nvPr/>
            </p:nvGrpSpPr>
            <p:grpSpPr>
              <a:xfrm>
                <a:off x="741600" y="3853080"/>
                <a:ext cx="137160" cy="214920"/>
                <a:chOff x="741600" y="3853080"/>
                <a:chExt cx="137160" cy="214920"/>
              </a:xfrm>
            </p:grpSpPr>
            <p:grpSp>
              <p:nvGrpSpPr>
                <p:cNvPr id="4989" name=""/>
                <p:cNvGrpSpPr/>
                <p:nvPr/>
              </p:nvGrpSpPr>
              <p:grpSpPr>
                <a:xfrm>
                  <a:off x="741600" y="3925440"/>
                  <a:ext cx="137160" cy="142560"/>
                  <a:chOff x="741600" y="3925440"/>
                  <a:chExt cx="137160" cy="142560"/>
                </a:xfrm>
              </p:grpSpPr>
              <p:sp>
                <p:nvSpPr>
                  <p:cNvPr id="4990" name=""/>
                  <p:cNvSpPr/>
                  <p:nvPr/>
                </p:nvSpPr>
                <p:spPr>
                  <a:xfrm>
                    <a:off x="741600" y="398772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91" name=""/>
                  <p:cNvGrpSpPr/>
                  <p:nvPr/>
                </p:nvGrpSpPr>
                <p:grpSpPr>
                  <a:xfrm>
                    <a:off x="744120" y="3925440"/>
                    <a:ext cx="131760" cy="142560"/>
                    <a:chOff x="744120" y="3925440"/>
                    <a:chExt cx="131760" cy="142560"/>
                  </a:xfrm>
                </p:grpSpPr>
                <p:sp>
                  <p:nvSpPr>
                    <p:cNvPr id="4992" name=""/>
                    <p:cNvSpPr/>
                    <p:nvPr/>
                  </p:nvSpPr>
                  <p:spPr>
                    <a:xfrm>
                      <a:off x="744840" y="3994560"/>
                      <a:ext cx="129960" cy="7344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6640" bIns="266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3" name=""/>
                    <p:cNvSpPr/>
                    <p:nvPr/>
                  </p:nvSpPr>
                  <p:spPr>
                    <a:xfrm flipV="1">
                      <a:off x="744120" y="393696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4" name=""/>
                    <p:cNvSpPr/>
                    <p:nvPr/>
                  </p:nvSpPr>
                  <p:spPr>
                    <a:xfrm>
                      <a:off x="748080" y="392544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95" name=""/>
                <p:cNvGrpSpPr/>
                <p:nvPr/>
              </p:nvGrpSpPr>
              <p:grpSpPr>
                <a:xfrm>
                  <a:off x="766800" y="3853080"/>
                  <a:ext cx="86040" cy="72000"/>
                  <a:chOff x="766800" y="3853080"/>
                  <a:chExt cx="86040" cy="72000"/>
                </a:xfrm>
              </p:grpSpPr>
              <p:sp>
                <p:nvSpPr>
                  <p:cNvPr id="4996" name=""/>
                  <p:cNvSpPr/>
                  <p:nvPr/>
                </p:nvSpPr>
                <p:spPr>
                  <a:xfrm>
                    <a:off x="767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7" name=""/>
                  <p:cNvSpPr/>
                  <p:nvPr/>
                </p:nvSpPr>
                <p:spPr>
                  <a:xfrm>
                    <a:off x="785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8" name=""/>
                  <p:cNvSpPr/>
                  <p:nvPr/>
                </p:nvSpPr>
                <p:spPr>
                  <a:xfrm>
                    <a:off x="80352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9" name=""/>
                  <p:cNvSpPr/>
                  <p:nvPr/>
                </p:nvSpPr>
                <p:spPr>
                  <a:xfrm>
                    <a:off x="82368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0" name=""/>
                  <p:cNvSpPr/>
                  <p:nvPr/>
                </p:nvSpPr>
                <p:spPr>
                  <a:xfrm>
                    <a:off x="84204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"/>
                  <p:cNvSpPr/>
                  <p:nvPr/>
                </p:nvSpPr>
                <p:spPr>
                  <a:xfrm>
                    <a:off x="766800" y="38840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2" name=""/>
                  <p:cNvSpPr/>
                  <p:nvPr/>
                </p:nvSpPr>
                <p:spPr>
                  <a:xfrm>
                    <a:off x="767520" y="39063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3" name=""/>
                  <p:cNvSpPr/>
                  <p:nvPr/>
                </p:nvSpPr>
                <p:spPr>
                  <a:xfrm>
                    <a:off x="767520" y="3925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4" name=""/>
                <p:cNvSpPr/>
                <p:nvPr/>
              </p:nvSpPr>
              <p:spPr>
                <a:xfrm>
                  <a:off x="757800" y="39942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5" name=""/>
                <p:cNvSpPr/>
                <p:nvPr/>
              </p:nvSpPr>
              <p:spPr>
                <a:xfrm>
                  <a:off x="840600" y="3993480"/>
                  <a:ext cx="20520" cy="7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>
                  <a:off x="792360" y="400752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7" name=""/>
            <p:cNvSpPr/>
            <p:nvPr/>
          </p:nvSpPr>
          <p:spPr>
            <a:xfrm>
              <a:off x="332640" y="3481920"/>
              <a:ext cx="959040" cy="358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8" name=""/>
          <p:cNvGrpSpPr/>
          <p:nvPr/>
        </p:nvGrpSpPr>
        <p:grpSpPr>
          <a:xfrm>
            <a:off x="508320" y="4848480"/>
            <a:ext cx="1503000" cy="1344240"/>
            <a:chOff x="508320" y="4848480"/>
            <a:chExt cx="1503000" cy="1344240"/>
          </a:xfrm>
        </p:grpSpPr>
        <p:grpSp>
          <p:nvGrpSpPr>
            <p:cNvPr id="5009" name=""/>
            <p:cNvGrpSpPr/>
            <p:nvPr/>
          </p:nvGrpSpPr>
          <p:grpSpPr>
            <a:xfrm>
              <a:off x="944280" y="5559840"/>
              <a:ext cx="630360" cy="632880"/>
              <a:chOff x="944280" y="5559840"/>
              <a:chExt cx="630360" cy="632880"/>
            </a:xfrm>
          </p:grpSpPr>
          <p:grpSp>
            <p:nvGrpSpPr>
              <p:cNvPr id="5010" name=""/>
              <p:cNvGrpSpPr/>
              <p:nvPr/>
            </p:nvGrpSpPr>
            <p:grpSpPr>
              <a:xfrm>
                <a:off x="944280" y="5775120"/>
                <a:ext cx="630360" cy="417600"/>
                <a:chOff x="944280" y="5775120"/>
                <a:chExt cx="630360" cy="417600"/>
              </a:xfrm>
            </p:grpSpPr>
            <p:grpSp>
              <p:nvGrpSpPr>
                <p:cNvPr id="5011" name=""/>
                <p:cNvGrpSpPr/>
                <p:nvPr/>
              </p:nvGrpSpPr>
              <p:grpSpPr>
                <a:xfrm>
                  <a:off x="944280" y="6110280"/>
                  <a:ext cx="630360" cy="82440"/>
                  <a:chOff x="944280" y="6110280"/>
                  <a:chExt cx="630360" cy="82440"/>
                </a:xfrm>
              </p:grpSpPr>
              <p:sp>
                <p:nvSpPr>
                  <p:cNvPr id="5012" name=""/>
                  <p:cNvSpPr/>
                  <p:nvPr/>
                </p:nvSpPr>
                <p:spPr>
                  <a:xfrm>
                    <a:off x="104940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3" name=""/>
                  <p:cNvSpPr/>
                  <p:nvPr/>
                </p:nvSpPr>
                <p:spPr>
                  <a:xfrm>
                    <a:off x="12596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4" name=""/>
                  <p:cNvSpPr/>
                  <p:nvPr/>
                </p:nvSpPr>
                <p:spPr>
                  <a:xfrm>
                    <a:off x="13651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>
                    <a:off x="14702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>
                    <a:off x="11545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7" name=""/>
                  <p:cNvSpPr/>
                  <p:nvPr/>
                </p:nvSpPr>
                <p:spPr>
                  <a:xfrm>
                    <a:off x="94428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8" name=""/>
                <p:cNvGrpSpPr/>
                <p:nvPr/>
              </p:nvGrpSpPr>
              <p:grpSpPr>
                <a:xfrm>
                  <a:off x="996840" y="6026760"/>
                  <a:ext cx="525240" cy="82440"/>
                  <a:chOff x="996840" y="6026760"/>
                  <a:chExt cx="525240" cy="82440"/>
                </a:xfrm>
              </p:grpSpPr>
              <p:sp>
                <p:nvSpPr>
                  <p:cNvPr id="5019" name=""/>
                  <p:cNvSpPr/>
                  <p:nvPr/>
                </p:nvSpPr>
                <p:spPr>
                  <a:xfrm>
                    <a:off x="99684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0" name=""/>
                  <p:cNvSpPr/>
                  <p:nvPr/>
                </p:nvSpPr>
                <p:spPr>
                  <a:xfrm>
                    <a:off x="12070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1" name=""/>
                  <p:cNvSpPr/>
                  <p:nvPr/>
                </p:nvSpPr>
                <p:spPr>
                  <a:xfrm>
                    <a:off x="131220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>
                    <a:off x="14176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3" name=""/>
                  <p:cNvSpPr/>
                  <p:nvPr/>
                </p:nvSpPr>
                <p:spPr>
                  <a:xfrm>
                    <a:off x="110196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4" name=""/>
                <p:cNvSpPr/>
                <p:nvPr/>
              </p:nvSpPr>
              <p:spPr>
                <a:xfrm>
                  <a:off x="115452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5" name=""/>
                <p:cNvSpPr/>
                <p:nvPr/>
              </p:nvSpPr>
              <p:spPr>
                <a:xfrm>
                  <a:off x="136512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6" name=""/>
                <p:cNvSpPr/>
                <p:nvPr/>
              </p:nvSpPr>
              <p:spPr>
                <a:xfrm>
                  <a:off x="126000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>
                  <a:off x="104940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>
                  <a:off x="1102320" y="585972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131292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120780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1" name=""/>
                <p:cNvGrpSpPr/>
                <p:nvPr/>
              </p:nvGrpSpPr>
              <p:grpSpPr>
                <a:xfrm>
                  <a:off x="1155960" y="5775120"/>
                  <a:ext cx="209880" cy="82440"/>
                  <a:chOff x="1155960" y="5775120"/>
                  <a:chExt cx="209880" cy="82440"/>
                </a:xfrm>
              </p:grpSpPr>
              <p:sp>
                <p:nvSpPr>
                  <p:cNvPr id="5032" name=""/>
                  <p:cNvSpPr/>
                  <p:nvPr/>
                </p:nvSpPr>
                <p:spPr>
                  <a:xfrm>
                    <a:off x="1155960" y="577512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3" name=""/>
                  <p:cNvSpPr/>
                  <p:nvPr/>
                </p:nvSpPr>
                <p:spPr>
                  <a:xfrm>
                    <a:off x="1261440" y="57751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34" name=""/>
              <p:cNvGrpSpPr/>
              <p:nvPr/>
            </p:nvGrpSpPr>
            <p:grpSpPr>
              <a:xfrm>
                <a:off x="1217520" y="5775120"/>
                <a:ext cx="83520" cy="413640"/>
                <a:chOff x="1217520" y="5775120"/>
                <a:chExt cx="83520" cy="413640"/>
              </a:xfrm>
            </p:grpSpPr>
            <p:grpSp>
              <p:nvGrpSpPr>
                <p:cNvPr id="5035" name=""/>
                <p:cNvGrpSpPr/>
                <p:nvPr/>
              </p:nvGrpSpPr>
              <p:grpSpPr>
                <a:xfrm>
                  <a:off x="1217520" y="5775120"/>
                  <a:ext cx="83520" cy="207720"/>
                  <a:chOff x="1217520" y="5775120"/>
                  <a:chExt cx="83520" cy="207720"/>
                </a:xfrm>
              </p:grpSpPr>
              <p:grpSp>
                <p:nvGrpSpPr>
                  <p:cNvPr id="5036" name=""/>
                  <p:cNvGrpSpPr/>
                  <p:nvPr/>
                </p:nvGrpSpPr>
                <p:grpSpPr>
                  <a:xfrm>
                    <a:off x="1217520" y="5775120"/>
                    <a:ext cx="83520" cy="41400"/>
                    <a:chOff x="1217520" y="5775120"/>
                    <a:chExt cx="83520" cy="41400"/>
                  </a:xfrm>
                </p:grpSpPr>
                <p:sp>
                  <p:nvSpPr>
                    <p:cNvPr id="5037" name=""/>
                    <p:cNvSpPr/>
                    <p:nvPr/>
                  </p:nvSpPr>
                  <p:spPr>
                    <a:xfrm>
                      <a:off x="1217520" y="577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8" name=""/>
                    <p:cNvSpPr/>
                    <p:nvPr/>
                  </p:nvSpPr>
                  <p:spPr>
                    <a:xfrm>
                      <a:off x="1217520" y="5788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9" name=""/>
                    <p:cNvSpPr/>
                    <p:nvPr/>
                  </p:nvSpPr>
                  <p:spPr>
                    <a:xfrm>
                      <a:off x="1217520" y="5802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0" name=""/>
                  <p:cNvGrpSpPr/>
                  <p:nvPr/>
                </p:nvGrpSpPr>
                <p:grpSpPr>
                  <a:xfrm>
                    <a:off x="1217520" y="5816880"/>
                    <a:ext cx="83520" cy="41400"/>
                    <a:chOff x="1217520" y="5816880"/>
                    <a:chExt cx="83520" cy="41400"/>
                  </a:xfrm>
                </p:grpSpPr>
                <p:sp>
                  <p:nvSpPr>
                    <p:cNvPr id="5041" name=""/>
                    <p:cNvSpPr/>
                    <p:nvPr/>
                  </p:nvSpPr>
                  <p:spPr>
                    <a:xfrm>
                      <a:off x="1217520" y="581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2" name=""/>
                    <p:cNvSpPr/>
                    <p:nvPr/>
                  </p:nvSpPr>
                  <p:spPr>
                    <a:xfrm>
                      <a:off x="1217520" y="5830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3" name=""/>
                    <p:cNvSpPr/>
                    <p:nvPr/>
                  </p:nvSpPr>
                  <p:spPr>
                    <a:xfrm>
                      <a:off x="1217520" y="5844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4" name=""/>
                  <p:cNvGrpSpPr/>
                  <p:nvPr/>
                </p:nvGrpSpPr>
                <p:grpSpPr>
                  <a:xfrm>
                    <a:off x="1217520" y="5858640"/>
                    <a:ext cx="83520" cy="41400"/>
                    <a:chOff x="1217520" y="5858640"/>
                    <a:chExt cx="83520" cy="41400"/>
                  </a:xfrm>
                </p:grpSpPr>
                <p:sp>
                  <p:nvSpPr>
                    <p:cNvPr id="5045" name=""/>
                    <p:cNvSpPr/>
                    <p:nvPr/>
                  </p:nvSpPr>
                  <p:spPr>
                    <a:xfrm>
                      <a:off x="1217520" y="585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6" name=""/>
                    <p:cNvSpPr/>
                    <p:nvPr/>
                  </p:nvSpPr>
                  <p:spPr>
                    <a:xfrm>
                      <a:off x="1217520" y="587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7" name=""/>
                    <p:cNvSpPr/>
                    <p:nvPr/>
                  </p:nvSpPr>
                  <p:spPr>
                    <a:xfrm>
                      <a:off x="1217520" y="5886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8" name=""/>
                  <p:cNvGrpSpPr/>
                  <p:nvPr/>
                </p:nvGrpSpPr>
                <p:grpSpPr>
                  <a:xfrm>
                    <a:off x="1217520" y="5900400"/>
                    <a:ext cx="83520" cy="41400"/>
                    <a:chOff x="1217520" y="5900400"/>
                    <a:chExt cx="83520" cy="41400"/>
                  </a:xfrm>
                </p:grpSpPr>
                <p:sp>
                  <p:nvSpPr>
                    <p:cNvPr id="5049" name=""/>
                    <p:cNvSpPr/>
                    <p:nvPr/>
                  </p:nvSpPr>
                  <p:spPr>
                    <a:xfrm>
                      <a:off x="1217520" y="590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0" name=""/>
                    <p:cNvSpPr/>
                    <p:nvPr/>
                  </p:nvSpPr>
                  <p:spPr>
                    <a:xfrm>
                      <a:off x="1217520" y="5913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1" name=""/>
                    <p:cNvSpPr/>
                    <p:nvPr/>
                  </p:nvSpPr>
                  <p:spPr>
                    <a:xfrm>
                      <a:off x="1217520" y="5927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2" name=""/>
                  <p:cNvGrpSpPr/>
                  <p:nvPr/>
                </p:nvGrpSpPr>
                <p:grpSpPr>
                  <a:xfrm>
                    <a:off x="1217520" y="5941440"/>
                    <a:ext cx="83520" cy="41400"/>
                    <a:chOff x="1217520" y="5941440"/>
                    <a:chExt cx="83520" cy="41400"/>
                  </a:xfrm>
                </p:grpSpPr>
                <p:sp>
                  <p:nvSpPr>
                    <p:cNvPr id="5053" name=""/>
                    <p:cNvSpPr/>
                    <p:nvPr/>
                  </p:nvSpPr>
                  <p:spPr>
                    <a:xfrm>
                      <a:off x="1217520" y="594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4" name=""/>
                    <p:cNvSpPr/>
                    <p:nvPr/>
                  </p:nvSpPr>
                  <p:spPr>
                    <a:xfrm>
                      <a:off x="1217520" y="5954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5" name=""/>
                    <p:cNvSpPr/>
                    <p:nvPr/>
                  </p:nvSpPr>
                  <p:spPr>
                    <a:xfrm>
                      <a:off x="1217520" y="596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56" name=""/>
                <p:cNvGrpSpPr/>
                <p:nvPr/>
              </p:nvGrpSpPr>
              <p:grpSpPr>
                <a:xfrm>
                  <a:off x="1217520" y="5981040"/>
                  <a:ext cx="83520" cy="207720"/>
                  <a:chOff x="1217520" y="5981040"/>
                  <a:chExt cx="83520" cy="207720"/>
                </a:xfrm>
              </p:grpSpPr>
              <p:grpSp>
                <p:nvGrpSpPr>
                  <p:cNvPr id="5057" name=""/>
                  <p:cNvGrpSpPr/>
                  <p:nvPr/>
                </p:nvGrpSpPr>
                <p:grpSpPr>
                  <a:xfrm>
                    <a:off x="1217520" y="5981040"/>
                    <a:ext cx="83520" cy="41400"/>
                    <a:chOff x="1217520" y="5981040"/>
                    <a:chExt cx="83520" cy="41400"/>
                  </a:xfrm>
                </p:grpSpPr>
                <p:sp>
                  <p:nvSpPr>
                    <p:cNvPr id="5058" name=""/>
                    <p:cNvSpPr/>
                    <p:nvPr/>
                  </p:nvSpPr>
                  <p:spPr>
                    <a:xfrm>
                      <a:off x="1217520" y="59810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9" name=""/>
                    <p:cNvSpPr/>
                    <p:nvPr/>
                  </p:nvSpPr>
                  <p:spPr>
                    <a:xfrm>
                      <a:off x="1217520" y="5994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0" name=""/>
                    <p:cNvSpPr/>
                    <p:nvPr/>
                  </p:nvSpPr>
                  <p:spPr>
                    <a:xfrm>
                      <a:off x="1217520" y="6008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1" name=""/>
                  <p:cNvGrpSpPr/>
                  <p:nvPr/>
                </p:nvGrpSpPr>
                <p:grpSpPr>
                  <a:xfrm>
                    <a:off x="1217520" y="6022800"/>
                    <a:ext cx="83520" cy="41400"/>
                    <a:chOff x="1217520" y="6022800"/>
                    <a:chExt cx="83520" cy="41400"/>
                  </a:xfrm>
                </p:grpSpPr>
                <p:sp>
                  <p:nvSpPr>
                    <p:cNvPr id="5062" name=""/>
                    <p:cNvSpPr/>
                    <p:nvPr/>
                  </p:nvSpPr>
                  <p:spPr>
                    <a:xfrm>
                      <a:off x="1217520" y="6022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3" name=""/>
                    <p:cNvSpPr/>
                    <p:nvPr/>
                  </p:nvSpPr>
                  <p:spPr>
                    <a:xfrm>
                      <a:off x="1217520" y="6036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4" name=""/>
                    <p:cNvSpPr/>
                    <p:nvPr/>
                  </p:nvSpPr>
                  <p:spPr>
                    <a:xfrm>
                      <a:off x="1217520" y="6050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5" name=""/>
                  <p:cNvGrpSpPr/>
                  <p:nvPr/>
                </p:nvGrpSpPr>
                <p:grpSpPr>
                  <a:xfrm>
                    <a:off x="1217520" y="6064560"/>
                    <a:ext cx="83520" cy="41400"/>
                    <a:chOff x="1217520" y="6064560"/>
                    <a:chExt cx="83520" cy="41400"/>
                  </a:xfrm>
                </p:grpSpPr>
                <p:sp>
                  <p:nvSpPr>
                    <p:cNvPr id="5066" name=""/>
                    <p:cNvSpPr/>
                    <p:nvPr/>
                  </p:nvSpPr>
                  <p:spPr>
                    <a:xfrm>
                      <a:off x="1217520" y="6064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7" name=""/>
                    <p:cNvSpPr/>
                    <p:nvPr/>
                  </p:nvSpPr>
                  <p:spPr>
                    <a:xfrm>
                      <a:off x="1217520" y="6077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8" name=""/>
                    <p:cNvSpPr/>
                    <p:nvPr/>
                  </p:nvSpPr>
                  <p:spPr>
                    <a:xfrm>
                      <a:off x="1217520" y="6091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9" name=""/>
                  <p:cNvGrpSpPr/>
                  <p:nvPr/>
                </p:nvGrpSpPr>
                <p:grpSpPr>
                  <a:xfrm>
                    <a:off x="1217520" y="6106320"/>
                    <a:ext cx="83520" cy="41400"/>
                    <a:chOff x="1217520" y="6106320"/>
                    <a:chExt cx="83520" cy="41400"/>
                  </a:xfrm>
                </p:grpSpPr>
                <p:sp>
                  <p:nvSpPr>
                    <p:cNvPr id="5070" name=""/>
                    <p:cNvSpPr/>
                    <p:nvPr/>
                  </p:nvSpPr>
                  <p:spPr>
                    <a:xfrm>
                      <a:off x="1217520" y="6106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1" name=""/>
                    <p:cNvSpPr/>
                    <p:nvPr/>
                  </p:nvSpPr>
                  <p:spPr>
                    <a:xfrm>
                      <a:off x="1217520" y="6119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2" name=""/>
                    <p:cNvSpPr/>
                    <p:nvPr/>
                  </p:nvSpPr>
                  <p:spPr>
                    <a:xfrm>
                      <a:off x="1217520" y="6133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3" name=""/>
                  <p:cNvGrpSpPr/>
                  <p:nvPr/>
                </p:nvGrpSpPr>
                <p:grpSpPr>
                  <a:xfrm>
                    <a:off x="1217520" y="6147360"/>
                    <a:ext cx="83520" cy="41400"/>
                    <a:chOff x="1217520" y="6147360"/>
                    <a:chExt cx="83520" cy="41400"/>
                  </a:xfrm>
                </p:grpSpPr>
                <p:sp>
                  <p:nvSpPr>
                    <p:cNvPr id="5074" name=""/>
                    <p:cNvSpPr/>
                    <p:nvPr/>
                  </p:nvSpPr>
                  <p:spPr>
                    <a:xfrm>
                      <a:off x="1217520" y="6147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5" name=""/>
                    <p:cNvSpPr/>
                    <p:nvPr/>
                  </p:nvSpPr>
                  <p:spPr>
                    <a:xfrm>
                      <a:off x="1217520" y="6160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6" name=""/>
                    <p:cNvSpPr/>
                    <p:nvPr/>
                  </p:nvSpPr>
                  <p:spPr>
                    <a:xfrm>
                      <a:off x="1217520" y="6174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077" name=""/>
              <p:cNvGrpSpPr/>
              <p:nvPr/>
            </p:nvGrpSpPr>
            <p:grpSpPr>
              <a:xfrm>
                <a:off x="1190880" y="5559840"/>
                <a:ext cx="137160" cy="215640"/>
                <a:chOff x="1190880" y="5559840"/>
                <a:chExt cx="137160" cy="215640"/>
              </a:xfrm>
            </p:grpSpPr>
            <p:grpSp>
              <p:nvGrpSpPr>
                <p:cNvPr id="5078" name=""/>
                <p:cNvGrpSpPr/>
                <p:nvPr/>
              </p:nvGrpSpPr>
              <p:grpSpPr>
                <a:xfrm>
                  <a:off x="1190880" y="5632560"/>
                  <a:ext cx="137160" cy="142920"/>
                  <a:chOff x="1190880" y="5632560"/>
                  <a:chExt cx="137160" cy="142920"/>
                </a:xfrm>
              </p:grpSpPr>
              <p:sp>
                <p:nvSpPr>
                  <p:cNvPr id="5079" name=""/>
                  <p:cNvSpPr/>
                  <p:nvPr/>
                </p:nvSpPr>
                <p:spPr>
                  <a:xfrm>
                    <a:off x="1190880" y="569484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0" name=""/>
                  <p:cNvGrpSpPr/>
                  <p:nvPr/>
                </p:nvGrpSpPr>
                <p:grpSpPr>
                  <a:xfrm>
                    <a:off x="1193400" y="5632560"/>
                    <a:ext cx="131760" cy="142920"/>
                    <a:chOff x="1193400" y="5632560"/>
                    <a:chExt cx="131760" cy="142920"/>
                  </a:xfrm>
                </p:grpSpPr>
                <p:sp>
                  <p:nvSpPr>
                    <p:cNvPr id="5081" name=""/>
                    <p:cNvSpPr/>
                    <p:nvPr/>
                  </p:nvSpPr>
                  <p:spPr>
                    <a:xfrm>
                      <a:off x="1194120" y="570168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2" name=""/>
                    <p:cNvSpPr/>
                    <p:nvPr/>
                  </p:nvSpPr>
                  <p:spPr>
                    <a:xfrm flipV="1">
                      <a:off x="1193400" y="56440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3" name=""/>
                    <p:cNvSpPr/>
                    <p:nvPr/>
                  </p:nvSpPr>
                  <p:spPr>
                    <a:xfrm>
                      <a:off x="1197360" y="56325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84" name=""/>
                <p:cNvGrpSpPr/>
                <p:nvPr/>
              </p:nvGrpSpPr>
              <p:grpSpPr>
                <a:xfrm>
                  <a:off x="1216080" y="5559840"/>
                  <a:ext cx="86040" cy="72000"/>
                  <a:chOff x="1216080" y="5559840"/>
                  <a:chExt cx="86040" cy="72000"/>
                </a:xfrm>
              </p:grpSpPr>
              <p:sp>
                <p:nvSpPr>
                  <p:cNvPr id="5085" name=""/>
                  <p:cNvSpPr/>
                  <p:nvPr/>
                </p:nvSpPr>
                <p:spPr>
                  <a:xfrm>
                    <a:off x="1216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6" name=""/>
                  <p:cNvSpPr/>
                  <p:nvPr/>
                </p:nvSpPr>
                <p:spPr>
                  <a:xfrm>
                    <a:off x="1234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7" name=""/>
                  <p:cNvSpPr/>
                  <p:nvPr/>
                </p:nvSpPr>
                <p:spPr>
                  <a:xfrm>
                    <a:off x="125280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8" name=""/>
                  <p:cNvSpPr/>
                  <p:nvPr/>
                </p:nvSpPr>
                <p:spPr>
                  <a:xfrm>
                    <a:off x="127296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9" name=""/>
                  <p:cNvSpPr/>
                  <p:nvPr/>
                </p:nvSpPr>
                <p:spPr>
                  <a:xfrm>
                    <a:off x="129132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0" name=""/>
                  <p:cNvSpPr/>
                  <p:nvPr/>
                </p:nvSpPr>
                <p:spPr>
                  <a:xfrm>
                    <a:off x="1216080" y="55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1" name=""/>
                  <p:cNvSpPr/>
                  <p:nvPr/>
                </p:nvSpPr>
                <p:spPr>
                  <a:xfrm>
                    <a:off x="1216800" y="56131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2" name=""/>
                  <p:cNvSpPr/>
                  <p:nvPr/>
                </p:nvSpPr>
                <p:spPr>
                  <a:xfrm>
                    <a:off x="1216800" y="56318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93" name=""/>
                <p:cNvSpPr/>
                <p:nvPr/>
              </p:nvSpPr>
              <p:spPr>
                <a:xfrm>
                  <a:off x="1207080" y="570132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1289880" y="5700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>
                  <a:off x="1241640" y="571464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96" name=""/>
            <p:cNvSpPr/>
            <p:nvPr/>
          </p:nvSpPr>
          <p:spPr>
            <a:xfrm>
              <a:off x="508320" y="4848480"/>
              <a:ext cx="1503000" cy="997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3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output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ramp on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2592000" y="5298120"/>
            <a:ext cx="1231200" cy="1225080"/>
            <a:chOff x="2592000" y="5298120"/>
            <a:chExt cx="1231200" cy="1225080"/>
          </a:xfrm>
        </p:grpSpPr>
        <p:grpSp>
          <p:nvGrpSpPr>
            <p:cNvPr id="5098" name=""/>
            <p:cNvGrpSpPr/>
            <p:nvPr/>
          </p:nvGrpSpPr>
          <p:grpSpPr>
            <a:xfrm>
              <a:off x="2890800" y="5888520"/>
              <a:ext cx="631800" cy="634680"/>
              <a:chOff x="2890800" y="5888520"/>
              <a:chExt cx="631800" cy="634680"/>
            </a:xfrm>
          </p:grpSpPr>
          <p:grpSp>
            <p:nvGrpSpPr>
              <p:cNvPr id="5099" name=""/>
              <p:cNvGrpSpPr/>
              <p:nvPr/>
            </p:nvGrpSpPr>
            <p:grpSpPr>
              <a:xfrm>
                <a:off x="2890800" y="6104520"/>
                <a:ext cx="631800" cy="418680"/>
                <a:chOff x="2890800" y="6104520"/>
                <a:chExt cx="631800" cy="418680"/>
              </a:xfrm>
            </p:grpSpPr>
            <p:grpSp>
              <p:nvGrpSpPr>
                <p:cNvPr id="5100" name=""/>
                <p:cNvGrpSpPr/>
                <p:nvPr/>
              </p:nvGrpSpPr>
              <p:grpSpPr>
                <a:xfrm>
                  <a:off x="2890800" y="6440400"/>
                  <a:ext cx="631800" cy="82800"/>
                  <a:chOff x="2890800" y="6440400"/>
                  <a:chExt cx="631800" cy="82800"/>
                </a:xfrm>
              </p:grpSpPr>
              <p:sp>
                <p:nvSpPr>
                  <p:cNvPr id="5101" name=""/>
                  <p:cNvSpPr/>
                  <p:nvPr/>
                </p:nvSpPr>
                <p:spPr>
                  <a:xfrm>
                    <a:off x="299592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2" name=""/>
                  <p:cNvSpPr/>
                  <p:nvPr/>
                </p:nvSpPr>
                <p:spPr>
                  <a:xfrm>
                    <a:off x="320688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3" name=""/>
                  <p:cNvSpPr/>
                  <p:nvPr/>
                </p:nvSpPr>
                <p:spPr>
                  <a:xfrm>
                    <a:off x="331236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4" name=""/>
                  <p:cNvSpPr/>
                  <p:nvPr/>
                </p:nvSpPr>
                <p:spPr>
                  <a:xfrm>
                    <a:off x="341784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5" name=""/>
                  <p:cNvSpPr/>
                  <p:nvPr/>
                </p:nvSpPr>
                <p:spPr>
                  <a:xfrm>
                    <a:off x="31014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6" name=""/>
                  <p:cNvSpPr/>
                  <p:nvPr/>
                </p:nvSpPr>
                <p:spPr>
                  <a:xfrm>
                    <a:off x="28908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7" name=""/>
                <p:cNvGrpSpPr/>
                <p:nvPr/>
              </p:nvGrpSpPr>
              <p:grpSpPr>
                <a:xfrm>
                  <a:off x="2943360" y="6356520"/>
                  <a:ext cx="526680" cy="82800"/>
                  <a:chOff x="2943360" y="6356520"/>
                  <a:chExt cx="526680" cy="82800"/>
                </a:xfrm>
              </p:grpSpPr>
              <p:sp>
                <p:nvSpPr>
                  <p:cNvPr id="5108" name=""/>
                  <p:cNvSpPr/>
                  <p:nvPr/>
                </p:nvSpPr>
                <p:spPr>
                  <a:xfrm>
                    <a:off x="294336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9" name=""/>
                  <p:cNvSpPr/>
                  <p:nvPr/>
                </p:nvSpPr>
                <p:spPr>
                  <a:xfrm>
                    <a:off x="315432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0" name=""/>
                  <p:cNvSpPr/>
                  <p:nvPr/>
                </p:nvSpPr>
                <p:spPr>
                  <a:xfrm>
                    <a:off x="325980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1" name=""/>
                  <p:cNvSpPr/>
                  <p:nvPr/>
                </p:nvSpPr>
                <p:spPr>
                  <a:xfrm>
                    <a:off x="336528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2" name=""/>
                  <p:cNvSpPr/>
                  <p:nvPr/>
                </p:nvSpPr>
                <p:spPr>
                  <a:xfrm>
                    <a:off x="304884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13" name=""/>
                <p:cNvSpPr/>
                <p:nvPr/>
              </p:nvSpPr>
              <p:spPr>
                <a:xfrm>
                  <a:off x="310176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4" name=""/>
                <p:cNvSpPr/>
                <p:nvPr/>
              </p:nvSpPr>
              <p:spPr>
                <a:xfrm>
                  <a:off x="331272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5" name=""/>
                <p:cNvSpPr/>
                <p:nvPr/>
              </p:nvSpPr>
              <p:spPr>
                <a:xfrm>
                  <a:off x="320724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6" name=""/>
                <p:cNvSpPr/>
                <p:nvPr/>
              </p:nvSpPr>
              <p:spPr>
                <a:xfrm>
                  <a:off x="299628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7" name=""/>
                <p:cNvSpPr/>
                <p:nvPr/>
              </p:nvSpPr>
              <p:spPr>
                <a:xfrm>
                  <a:off x="304920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8" name=""/>
                <p:cNvSpPr/>
                <p:nvPr/>
              </p:nvSpPr>
              <p:spPr>
                <a:xfrm>
                  <a:off x="326016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9" name=""/>
                <p:cNvSpPr/>
                <p:nvPr/>
              </p:nvSpPr>
              <p:spPr>
                <a:xfrm>
                  <a:off x="315468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20" name=""/>
                <p:cNvGrpSpPr/>
                <p:nvPr/>
              </p:nvGrpSpPr>
              <p:grpSpPr>
                <a:xfrm>
                  <a:off x="3102840" y="6104520"/>
                  <a:ext cx="210240" cy="82800"/>
                  <a:chOff x="3102840" y="6104520"/>
                  <a:chExt cx="210240" cy="82800"/>
                </a:xfrm>
              </p:grpSpPr>
              <p:sp>
                <p:nvSpPr>
                  <p:cNvPr id="5121" name=""/>
                  <p:cNvSpPr/>
                  <p:nvPr/>
                </p:nvSpPr>
                <p:spPr>
                  <a:xfrm>
                    <a:off x="310284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2" name=""/>
                  <p:cNvSpPr/>
                  <p:nvPr/>
                </p:nvSpPr>
                <p:spPr>
                  <a:xfrm>
                    <a:off x="320832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23" name=""/>
              <p:cNvGrpSpPr/>
              <p:nvPr/>
            </p:nvGrpSpPr>
            <p:grpSpPr>
              <a:xfrm>
                <a:off x="3164760" y="6104520"/>
                <a:ext cx="83880" cy="414360"/>
                <a:chOff x="3164760" y="6104520"/>
                <a:chExt cx="83880" cy="414360"/>
              </a:xfrm>
            </p:grpSpPr>
            <p:grpSp>
              <p:nvGrpSpPr>
                <p:cNvPr id="5124" name=""/>
                <p:cNvGrpSpPr/>
                <p:nvPr/>
              </p:nvGrpSpPr>
              <p:grpSpPr>
                <a:xfrm>
                  <a:off x="3164760" y="6104520"/>
                  <a:ext cx="83880" cy="208080"/>
                  <a:chOff x="3164760" y="6104520"/>
                  <a:chExt cx="83880" cy="208080"/>
                </a:xfrm>
              </p:grpSpPr>
              <p:grpSp>
                <p:nvGrpSpPr>
                  <p:cNvPr id="5125" name=""/>
                  <p:cNvGrpSpPr/>
                  <p:nvPr/>
                </p:nvGrpSpPr>
                <p:grpSpPr>
                  <a:xfrm>
                    <a:off x="3164760" y="6104520"/>
                    <a:ext cx="83880" cy="41400"/>
                    <a:chOff x="3164760" y="6104520"/>
                    <a:chExt cx="83880" cy="41400"/>
                  </a:xfrm>
                </p:grpSpPr>
                <p:sp>
                  <p:nvSpPr>
                    <p:cNvPr id="5126" name=""/>
                    <p:cNvSpPr/>
                    <p:nvPr/>
                  </p:nvSpPr>
                  <p:spPr>
                    <a:xfrm>
                      <a:off x="3164760" y="610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7" name=""/>
                    <p:cNvSpPr/>
                    <p:nvPr/>
                  </p:nvSpPr>
                  <p:spPr>
                    <a:xfrm>
                      <a:off x="3164760" y="6117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8" name=""/>
                    <p:cNvSpPr/>
                    <p:nvPr/>
                  </p:nvSpPr>
                  <p:spPr>
                    <a:xfrm>
                      <a:off x="3164760" y="613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9" name=""/>
                  <p:cNvGrpSpPr/>
                  <p:nvPr/>
                </p:nvGrpSpPr>
                <p:grpSpPr>
                  <a:xfrm>
                    <a:off x="3164760" y="6146280"/>
                    <a:ext cx="83880" cy="41400"/>
                    <a:chOff x="3164760" y="6146280"/>
                    <a:chExt cx="83880" cy="41400"/>
                  </a:xfrm>
                </p:grpSpPr>
                <p:sp>
                  <p:nvSpPr>
                    <p:cNvPr id="5130" name=""/>
                    <p:cNvSpPr/>
                    <p:nvPr/>
                  </p:nvSpPr>
                  <p:spPr>
                    <a:xfrm>
                      <a:off x="3164760" y="6146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1" name=""/>
                    <p:cNvSpPr/>
                    <p:nvPr/>
                  </p:nvSpPr>
                  <p:spPr>
                    <a:xfrm>
                      <a:off x="3164760" y="6159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2" name=""/>
                    <p:cNvSpPr/>
                    <p:nvPr/>
                  </p:nvSpPr>
                  <p:spPr>
                    <a:xfrm>
                      <a:off x="3164760" y="617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3" name=""/>
                  <p:cNvGrpSpPr/>
                  <p:nvPr/>
                </p:nvGrpSpPr>
                <p:grpSpPr>
                  <a:xfrm>
                    <a:off x="3164760" y="6188040"/>
                    <a:ext cx="83880" cy="41400"/>
                    <a:chOff x="3164760" y="6188040"/>
                    <a:chExt cx="83880" cy="41400"/>
                  </a:xfrm>
                </p:grpSpPr>
                <p:sp>
                  <p:nvSpPr>
                    <p:cNvPr id="5134" name=""/>
                    <p:cNvSpPr/>
                    <p:nvPr/>
                  </p:nvSpPr>
                  <p:spPr>
                    <a:xfrm>
                      <a:off x="3164760" y="6188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5" name=""/>
                    <p:cNvSpPr/>
                    <p:nvPr/>
                  </p:nvSpPr>
                  <p:spPr>
                    <a:xfrm>
                      <a:off x="3164760" y="6201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6" name=""/>
                    <p:cNvSpPr/>
                    <p:nvPr/>
                  </p:nvSpPr>
                  <p:spPr>
                    <a:xfrm>
                      <a:off x="3164760" y="6215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7" name=""/>
                  <p:cNvGrpSpPr/>
                  <p:nvPr/>
                </p:nvGrpSpPr>
                <p:grpSpPr>
                  <a:xfrm>
                    <a:off x="3164760" y="6229800"/>
                    <a:ext cx="83880" cy="41400"/>
                    <a:chOff x="3164760" y="6229800"/>
                    <a:chExt cx="83880" cy="41400"/>
                  </a:xfrm>
                </p:grpSpPr>
                <p:sp>
                  <p:nvSpPr>
                    <p:cNvPr id="5138" name=""/>
                    <p:cNvSpPr/>
                    <p:nvPr/>
                  </p:nvSpPr>
                  <p:spPr>
                    <a:xfrm>
                      <a:off x="3164760" y="6229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9" name=""/>
                    <p:cNvSpPr/>
                    <p:nvPr/>
                  </p:nvSpPr>
                  <p:spPr>
                    <a:xfrm>
                      <a:off x="3164760" y="624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0" name=""/>
                    <p:cNvSpPr/>
                    <p:nvPr/>
                  </p:nvSpPr>
                  <p:spPr>
                    <a:xfrm>
                      <a:off x="3164760" y="6257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1" name=""/>
                  <p:cNvGrpSpPr/>
                  <p:nvPr/>
                </p:nvGrpSpPr>
                <p:grpSpPr>
                  <a:xfrm>
                    <a:off x="3164760" y="6271200"/>
                    <a:ext cx="83880" cy="41400"/>
                    <a:chOff x="3164760" y="6271200"/>
                    <a:chExt cx="83880" cy="41400"/>
                  </a:xfrm>
                </p:grpSpPr>
                <p:sp>
                  <p:nvSpPr>
                    <p:cNvPr id="5142" name=""/>
                    <p:cNvSpPr/>
                    <p:nvPr/>
                  </p:nvSpPr>
                  <p:spPr>
                    <a:xfrm>
                      <a:off x="3164760" y="6271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3" name=""/>
                    <p:cNvSpPr/>
                    <p:nvPr/>
                  </p:nvSpPr>
                  <p:spPr>
                    <a:xfrm>
                      <a:off x="3164760" y="628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4" name=""/>
                    <p:cNvSpPr/>
                    <p:nvPr/>
                  </p:nvSpPr>
                  <p:spPr>
                    <a:xfrm>
                      <a:off x="3164760" y="629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45" name=""/>
                <p:cNvGrpSpPr/>
                <p:nvPr/>
              </p:nvGrpSpPr>
              <p:grpSpPr>
                <a:xfrm>
                  <a:off x="3164760" y="6310800"/>
                  <a:ext cx="83880" cy="208080"/>
                  <a:chOff x="3164760" y="6310800"/>
                  <a:chExt cx="83880" cy="208080"/>
                </a:xfrm>
              </p:grpSpPr>
              <p:grpSp>
                <p:nvGrpSpPr>
                  <p:cNvPr id="5146" name=""/>
                  <p:cNvGrpSpPr/>
                  <p:nvPr/>
                </p:nvGrpSpPr>
                <p:grpSpPr>
                  <a:xfrm>
                    <a:off x="3164760" y="6310800"/>
                    <a:ext cx="83880" cy="41400"/>
                    <a:chOff x="3164760" y="6310800"/>
                    <a:chExt cx="83880" cy="41400"/>
                  </a:xfrm>
                </p:grpSpPr>
                <p:sp>
                  <p:nvSpPr>
                    <p:cNvPr id="5147" name=""/>
                    <p:cNvSpPr/>
                    <p:nvPr/>
                  </p:nvSpPr>
                  <p:spPr>
                    <a:xfrm>
                      <a:off x="3164760" y="631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8" name=""/>
                    <p:cNvSpPr/>
                    <p:nvPr/>
                  </p:nvSpPr>
                  <p:spPr>
                    <a:xfrm>
                      <a:off x="3164760" y="6324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9" name=""/>
                    <p:cNvSpPr/>
                    <p:nvPr/>
                  </p:nvSpPr>
                  <p:spPr>
                    <a:xfrm>
                      <a:off x="3164760" y="6338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0" name=""/>
                  <p:cNvGrpSpPr/>
                  <p:nvPr/>
                </p:nvGrpSpPr>
                <p:grpSpPr>
                  <a:xfrm>
                    <a:off x="3164760" y="6352560"/>
                    <a:ext cx="83880" cy="41400"/>
                    <a:chOff x="3164760" y="6352560"/>
                    <a:chExt cx="83880" cy="41400"/>
                  </a:xfrm>
                </p:grpSpPr>
                <p:sp>
                  <p:nvSpPr>
                    <p:cNvPr id="5151" name=""/>
                    <p:cNvSpPr/>
                    <p:nvPr/>
                  </p:nvSpPr>
                  <p:spPr>
                    <a:xfrm>
                      <a:off x="3164760" y="6352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2" name=""/>
                    <p:cNvSpPr/>
                    <p:nvPr/>
                  </p:nvSpPr>
                  <p:spPr>
                    <a:xfrm>
                      <a:off x="3164760" y="6365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3" name=""/>
                    <p:cNvSpPr/>
                    <p:nvPr/>
                  </p:nvSpPr>
                  <p:spPr>
                    <a:xfrm>
                      <a:off x="3164760" y="6379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4" name=""/>
                  <p:cNvGrpSpPr/>
                  <p:nvPr/>
                </p:nvGrpSpPr>
                <p:grpSpPr>
                  <a:xfrm>
                    <a:off x="3164760" y="6394320"/>
                    <a:ext cx="83880" cy="41400"/>
                    <a:chOff x="3164760" y="6394320"/>
                    <a:chExt cx="83880" cy="41400"/>
                  </a:xfrm>
                </p:grpSpPr>
                <p:sp>
                  <p:nvSpPr>
                    <p:cNvPr id="5155" name=""/>
                    <p:cNvSpPr/>
                    <p:nvPr/>
                  </p:nvSpPr>
                  <p:spPr>
                    <a:xfrm>
                      <a:off x="3164760" y="6394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6" name=""/>
                    <p:cNvSpPr/>
                    <p:nvPr/>
                  </p:nvSpPr>
                  <p:spPr>
                    <a:xfrm>
                      <a:off x="3164760" y="6407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7" name=""/>
                    <p:cNvSpPr/>
                    <p:nvPr/>
                  </p:nvSpPr>
                  <p:spPr>
                    <a:xfrm>
                      <a:off x="3164760" y="6421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8" name=""/>
                  <p:cNvGrpSpPr/>
                  <p:nvPr/>
                </p:nvGrpSpPr>
                <p:grpSpPr>
                  <a:xfrm>
                    <a:off x="3164760" y="6436080"/>
                    <a:ext cx="83880" cy="41400"/>
                    <a:chOff x="3164760" y="6436080"/>
                    <a:chExt cx="83880" cy="41400"/>
                  </a:xfrm>
                </p:grpSpPr>
                <p:sp>
                  <p:nvSpPr>
                    <p:cNvPr id="5159" name=""/>
                    <p:cNvSpPr/>
                    <p:nvPr/>
                  </p:nvSpPr>
                  <p:spPr>
                    <a:xfrm>
                      <a:off x="3164760" y="6436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0" name=""/>
                    <p:cNvSpPr/>
                    <p:nvPr/>
                  </p:nvSpPr>
                  <p:spPr>
                    <a:xfrm>
                      <a:off x="3164760" y="6449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1" name=""/>
                    <p:cNvSpPr/>
                    <p:nvPr/>
                  </p:nvSpPr>
                  <p:spPr>
                    <a:xfrm>
                      <a:off x="3164760" y="646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2" name=""/>
                  <p:cNvGrpSpPr/>
                  <p:nvPr/>
                </p:nvGrpSpPr>
                <p:grpSpPr>
                  <a:xfrm>
                    <a:off x="3164760" y="6477480"/>
                    <a:ext cx="83880" cy="41400"/>
                    <a:chOff x="3164760" y="6477480"/>
                    <a:chExt cx="83880" cy="41400"/>
                  </a:xfrm>
                </p:grpSpPr>
                <p:sp>
                  <p:nvSpPr>
                    <p:cNvPr id="5163" name=""/>
                    <p:cNvSpPr/>
                    <p:nvPr/>
                  </p:nvSpPr>
                  <p:spPr>
                    <a:xfrm>
                      <a:off x="3164760" y="647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4" name=""/>
                    <p:cNvSpPr/>
                    <p:nvPr/>
                  </p:nvSpPr>
                  <p:spPr>
                    <a:xfrm>
                      <a:off x="3164760" y="649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5" name=""/>
                    <p:cNvSpPr/>
                    <p:nvPr/>
                  </p:nvSpPr>
                  <p:spPr>
                    <a:xfrm>
                      <a:off x="3164760" y="6504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166" name=""/>
              <p:cNvGrpSpPr/>
              <p:nvPr/>
            </p:nvGrpSpPr>
            <p:grpSpPr>
              <a:xfrm>
                <a:off x="3138120" y="5888520"/>
                <a:ext cx="137520" cy="216000"/>
                <a:chOff x="3138120" y="5888520"/>
                <a:chExt cx="137520" cy="216000"/>
              </a:xfrm>
            </p:grpSpPr>
            <p:grpSp>
              <p:nvGrpSpPr>
                <p:cNvPr id="5167" name=""/>
                <p:cNvGrpSpPr/>
                <p:nvPr/>
              </p:nvGrpSpPr>
              <p:grpSpPr>
                <a:xfrm>
                  <a:off x="3138120" y="5961240"/>
                  <a:ext cx="137520" cy="143280"/>
                  <a:chOff x="3138120" y="5961240"/>
                  <a:chExt cx="137520" cy="143280"/>
                </a:xfrm>
              </p:grpSpPr>
              <p:sp>
                <p:nvSpPr>
                  <p:cNvPr id="5168" name=""/>
                  <p:cNvSpPr/>
                  <p:nvPr/>
                </p:nvSpPr>
                <p:spPr>
                  <a:xfrm>
                    <a:off x="3138120" y="6023880"/>
                    <a:ext cx="13752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69" name=""/>
                  <p:cNvGrpSpPr/>
                  <p:nvPr/>
                </p:nvGrpSpPr>
                <p:grpSpPr>
                  <a:xfrm>
                    <a:off x="3140640" y="5961240"/>
                    <a:ext cx="132120" cy="143280"/>
                    <a:chOff x="3140640" y="5961240"/>
                    <a:chExt cx="132120" cy="143280"/>
                  </a:xfrm>
                </p:grpSpPr>
                <p:sp>
                  <p:nvSpPr>
                    <p:cNvPr id="5170" name=""/>
                    <p:cNvSpPr/>
                    <p:nvPr/>
                  </p:nvSpPr>
                  <p:spPr>
                    <a:xfrm>
                      <a:off x="3141360" y="6030720"/>
                      <a:ext cx="13032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1" name=""/>
                    <p:cNvSpPr/>
                    <p:nvPr/>
                  </p:nvSpPr>
                  <p:spPr>
                    <a:xfrm flipV="1">
                      <a:off x="3140640" y="5972760"/>
                      <a:ext cx="132120" cy="50040"/>
                    </a:xfrm>
                    <a:custGeom>
                      <a:avLst/>
                      <a:gdLst>
                        <a:gd name="textAreaLeft" fmla="*/ 13680 w 132120"/>
                        <a:gd name="textAreaRight" fmla="*/ 118440 w 13212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2" name=""/>
                    <p:cNvSpPr/>
                    <p:nvPr/>
                  </p:nvSpPr>
                  <p:spPr>
                    <a:xfrm>
                      <a:off x="3144600" y="5961240"/>
                      <a:ext cx="12348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73" name=""/>
                <p:cNvGrpSpPr/>
                <p:nvPr/>
              </p:nvGrpSpPr>
              <p:grpSpPr>
                <a:xfrm>
                  <a:off x="3163320" y="5888520"/>
                  <a:ext cx="86400" cy="72360"/>
                  <a:chOff x="3163320" y="5888520"/>
                  <a:chExt cx="86400" cy="72360"/>
                </a:xfrm>
              </p:grpSpPr>
              <p:sp>
                <p:nvSpPr>
                  <p:cNvPr id="5174" name=""/>
                  <p:cNvSpPr/>
                  <p:nvPr/>
                </p:nvSpPr>
                <p:spPr>
                  <a:xfrm>
                    <a:off x="316368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5" name=""/>
                  <p:cNvSpPr/>
                  <p:nvPr/>
                </p:nvSpPr>
                <p:spPr>
                  <a:xfrm>
                    <a:off x="318204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6" name=""/>
                  <p:cNvSpPr/>
                  <p:nvPr/>
                </p:nvSpPr>
                <p:spPr>
                  <a:xfrm>
                    <a:off x="32004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7" name=""/>
                  <p:cNvSpPr/>
                  <p:nvPr/>
                </p:nvSpPr>
                <p:spPr>
                  <a:xfrm>
                    <a:off x="32202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8" name=""/>
                  <p:cNvSpPr/>
                  <p:nvPr/>
                </p:nvSpPr>
                <p:spPr>
                  <a:xfrm>
                    <a:off x="323892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9" name=""/>
                  <p:cNvSpPr/>
                  <p:nvPr/>
                </p:nvSpPr>
                <p:spPr>
                  <a:xfrm>
                    <a:off x="3163320" y="59194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0" name=""/>
                  <p:cNvSpPr/>
                  <p:nvPr/>
                </p:nvSpPr>
                <p:spPr>
                  <a:xfrm>
                    <a:off x="3164040" y="594216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1" name=""/>
                  <p:cNvSpPr/>
                  <p:nvPr/>
                </p:nvSpPr>
                <p:spPr>
                  <a:xfrm>
                    <a:off x="3164040" y="59608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82" name=""/>
                <p:cNvSpPr/>
                <p:nvPr/>
              </p:nvSpPr>
              <p:spPr>
                <a:xfrm>
                  <a:off x="3154320" y="603036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3" name=""/>
                <p:cNvSpPr/>
                <p:nvPr/>
              </p:nvSpPr>
              <p:spPr>
                <a:xfrm>
                  <a:off x="3237480" y="602964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4" name=""/>
                <p:cNvSpPr/>
                <p:nvPr/>
              </p:nvSpPr>
              <p:spPr>
                <a:xfrm>
                  <a:off x="3188880" y="604404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5" name=""/>
            <p:cNvSpPr/>
            <p:nvPr/>
          </p:nvSpPr>
          <p:spPr>
            <a:xfrm>
              <a:off x="2592000" y="5298120"/>
              <a:ext cx="1231200" cy="7714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2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lvds driver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6" name=""/>
          <p:cNvGrpSpPr/>
          <p:nvPr/>
        </p:nvGrpSpPr>
        <p:grpSpPr>
          <a:xfrm>
            <a:off x="3810600" y="2459160"/>
            <a:ext cx="1381680" cy="1174320"/>
            <a:chOff x="3810600" y="2459160"/>
            <a:chExt cx="1381680" cy="1174320"/>
          </a:xfrm>
        </p:grpSpPr>
        <p:grpSp>
          <p:nvGrpSpPr>
            <p:cNvPr id="5187" name=""/>
            <p:cNvGrpSpPr/>
            <p:nvPr/>
          </p:nvGrpSpPr>
          <p:grpSpPr>
            <a:xfrm>
              <a:off x="4185360" y="3000600"/>
              <a:ext cx="630720" cy="632880"/>
              <a:chOff x="4185360" y="3000600"/>
              <a:chExt cx="630720" cy="632880"/>
            </a:xfrm>
          </p:grpSpPr>
          <p:grpSp>
            <p:nvGrpSpPr>
              <p:cNvPr id="5188" name=""/>
              <p:cNvGrpSpPr/>
              <p:nvPr/>
            </p:nvGrpSpPr>
            <p:grpSpPr>
              <a:xfrm>
                <a:off x="4185360" y="3215880"/>
                <a:ext cx="630720" cy="417600"/>
                <a:chOff x="4185360" y="3215880"/>
                <a:chExt cx="630720" cy="417600"/>
              </a:xfrm>
            </p:grpSpPr>
            <p:grpSp>
              <p:nvGrpSpPr>
                <p:cNvPr id="5189" name=""/>
                <p:cNvGrpSpPr/>
                <p:nvPr/>
              </p:nvGrpSpPr>
              <p:grpSpPr>
                <a:xfrm>
                  <a:off x="4185360" y="3551040"/>
                  <a:ext cx="630720" cy="82440"/>
                  <a:chOff x="4185360" y="3551040"/>
                  <a:chExt cx="630720" cy="82440"/>
                </a:xfrm>
              </p:grpSpPr>
              <p:sp>
                <p:nvSpPr>
                  <p:cNvPr id="5190" name=""/>
                  <p:cNvSpPr/>
                  <p:nvPr/>
                </p:nvSpPr>
                <p:spPr>
                  <a:xfrm>
                    <a:off x="42904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1" name=""/>
                  <p:cNvSpPr/>
                  <p:nvPr/>
                </p:nvSpPr>
                <p:spPr>
                  <a:xfrm>
                    <a:off x="45010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2" name=""/>
                  <p:cNvSpPr/>
                  <p:nvPr/>
                </p:nvSpPr>
                <p:spPr>
                  <a:xfrm>
                    <a:off x="46062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3" name=""/>
                  <p:cNvSpPr/>
                  <p:nvPr/>
                </p:nvSpPr>
                <p:spPr>
                  <a:xfrm>
                    <a:off x="47116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4" name=""/>
                  <p:cNvSpPr/>
                  <p:nvPr/>
                </p:nvSpPr>
                <p:spPr>
                  <a:xfrm>
                    <a:off x="43956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5" name=""/>
                  <p:cNvSpPr/>
                  <p:nvPr/>
                </p:nvSpPr>
                <p:spPr>
                  <a:xfrm>
                    <a:off x="418536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6" name=""/>
                <p:cNvGrpSpPr/>
                <p:nvPr/>
              </p:nvGrpSpPr>
              <p:grpSpPr>
                <a:xfrm>
                  <a:off x="4237920" y="3467520"/>
                  <a:ext cx="525240" cy="82440"/>
                  <a:chOff x="4237920" y="3467520"/>
                  <a:chExt cx="525240" cy="82440"/>
                </a:xfrm>
              </p:grpSpPr>
              <p:sp>
                <p:nvSpPr>
                  <p:cNvPr id="5197" name=""/>
                  <p:cNvSpPr/>
                  <p:nvPr/>
                </p:nvSpPr>
                <p:spPr>
                  <a:xfrm>
                    <a:off x="423792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8" name=""/>
                  <p:cNvSpPr/>
                  <p:nvPr/>
                </p:nvSpPr>
                <p:spPr>
                  <a:xfrm>
                    <a:off x="44481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9" name=""/>
                  <p:cNvSpPr/>
                  <p:nvPr/>
                </p:nvSpPr>
                <p:spPr>
                  <a:xfrm>
                    <a:off x="45536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0" name=""/>
                  <p:cNvSpPr/>
                  <p:nvPr/>
                </p:nvSpPr>
                <p:spPr>
                  <a:xfrm>
                    <a:off x="46587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1" name=""/>
                  <p:cNvSpPr/>
                  <p:nvPr/>
                </p:nvSpPr>
                <p:spPr>
                  <a:xfrm>
                    <a:off x="43430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02" name=""/>
                <p:cNvSpPr/>
                <p:nvPr/>
              </p:nvSpPr>
              <p:spPr>
                <a:xfrm>
                  <a:off x="439596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3" name=""/>
                <p:cNvSpPr/>
                <p:nvPr/>
              </p:nvSpPr>
              <p:spPr>
                <a:xfrm>
                  <a:off x="460656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4" name=""/>
                <p:cNvSpPr/>
                <p:nvPr/>
              </p:nvSpPr>
              <p:spPr>
                <a:xfrm>
                  <a:off x="450108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5" name=""/>
                <p:cNvSpPr/>
                <p:nvPr/>
              </p:nvSpPr>
              <p:spPr>
                <a:xfrm>
                  <a:off x="429048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>
                  <a:off x="4343400" y="330048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>
                  <a:off x="455400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8" name=""/>
                <p:cNvSpPr/>
                <p:nvPr/>
              </p:nvSpPr>
              <p:spPr>
                <a:xfrm>
                  <a:off x="444888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9" name=""/>
                <p:cNvGrpSpPr/>
                <p:nvPr/>
              </p:nvGrpSpPr>
              <p:grpSpPr>
                <a:xfrm>
                  <a:off x="4397040" y="3215880"/>
                  <a:ext cx="209880" cy="82440"/>
                  <a:chOff x="4397040" y="3215880"/>
                  <a:chExt cx="209880" cy="82440"/>
                </a:xfrm>
              </p:grpSpPr>
              <p:sp>
                <p:nvSpPr>
                  <p:cNvPr id="5210" name=""/>
                  <p:cNvSpPr/>
                  <p:nvPr/>
                </p:nvSpPr>
                <p:spPr>
                  <a:xfrm>
                    <a:off x="4397040" y="321588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1" name=""/>
                  <p:cNvSpPr/>
                  <p:nvPr/>
                </p:nvSpPr>
                <p:spPr>
                  <a:xfrm>
                    <a:off x="4502520" y="32158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12" name=""/>
              <p:cNvGrpSpPr/>
              <p:nvPr/>
            </p:nvGrpSpPr>
            <p:grpSpPr>
              <a:xfrm>
                <a:off x="4458600" y="3215880"/>
                <a:ext cx="83520" cy="413640"/>
                <a:chOff x="4458600" y="3215880"/>
                <a:chExt cx="83520" cy="413640"/>
              </a:xfrm>
            </p:grpSpPr>
            <p:grpSp>
              <p:nvGrpSpPr>
                <p:cNvPr id="5213" name=""/>
                <p:cNvGrpSpPr/>
                <p:nvPr/>
              </p:nvGrpSpPr>
              <p:grpSpPr>
                <a:xfrm>
                  <a:off x="4458600" y="3215880"/>
                  <a:ext cx="83520" cy="207720"/>
                  <a:chOff x="4458600" y="3215880"/>
                  <a:chExt cx="83520" cy="207720"/>
                </a:xfrm>
              </p:grpSpPr>
              <p:grpSp>
                <p:nvGrpSpPr>
                  <p:cNvPr id="5214" name=""/>
                  <p:cNvGrpSpPr/>
                  <p:nvPr/>
                </p:nvGrpSpPr>
                <p:grpSpPr>
                  <a:xfrm>
                    <a:off x="4458600" y="3215880"/>
                    <a:ext cx="83520" cy="41400"/>
                    <a:chOff x="4458600" y="3215880"/>
                    <a:chExt cx="83520" cy="41400"/>
                  </a:xfrm>
                </p:grpSpPr>
                <p:sp>
                  <p:nvSpPr>
                    <p:cNvPr id="5215" name=""/>
                    <p:cNvSpPr/>
                    <p:nvPr/>
                  </p:nvSpPr>
                  <p:spPr>
                    <a:xfrm>
                      <a:off x="4458600" y="3215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6" name=""/>
                    <p:cNvSpPr/>
                    <p:nvPr/>
                  </p:nvSpPr>
                  <p:spPr>
                    <a:xfrm>
                      <a:off x="4458600" y="3229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7" name=""/>
                    <p:cNvSpPr/>
                    <p:nvPr/>
                  </p:nvSpPr>
                  <p:spPr>
                    <a:xfrm>
                      <a:off x="4458600" y="3243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8" name=""/>
                  <p:cNvGrpSpPr/>
                  <p:nvPr/>
                </p:nvGrpSpPr>
                <p:grpSpPr>
                  <a:xfrm>
                    <a:off x="4458600" y="3257640"/>
                    <a:ext cx="83520" cy="41400"/>
                    <a:chOff x="4458600" y="3257640"/>
                    <a:chExt cx="83520" cy="41400"/>
                  </a:xfrm>
                </p:grpSpPr>
                <p:sp>
                  <p:nvSpPr>
                    <p:cNvPr id="5219" name=""/>
                    <p:cNvSpPr/>
                    <p:nvPr/>
                  </p:nvSpPr>
                  <p:spPr>
                    <a:xfrm>
                      <a:off x="4458600" y="3257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0" name=""/>
                    <p:cNvSpPr/>
                    <p:nvPr/>
                  </p:nvSpPr>
                  <p:spPr>
                    <a:xfrm>
                      <a:off x="4458600" y="327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1" name=""/>
                    <p:cNvSpPr/>
                    <p:nvPr/>
                  </p:nvSpPr>
                  <p:spPr>
                    <a:xfrm>
                      <a:off x="4458600" y="3285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2" name=""/>
                  <p:cNvGrpSpPr/>
                  <p:nvPr/>
                </p:nvGrpSpPr>
                <p:grpSpPr>
                  <a:xfrm>
                    <a:off x="4458600" y="3299400"/>
                    <a:ext cx="83520" cy="41400"/>
                    <a:chOff x="4458600" y="3299400"/>
                    <a:chExt cx="83520" cy="41400"/>
                  </a:xfrm>
                </p:grpSpPr>
                <p:sp>
                  <p:nvSpPr>
                    <p:cNvPr id="5223" name=""/>
                    <p:cNvSpPr/>
                    <p:nvPr/>
                  </p:nvSpPr>
                  <p:spPr>
                    <a:xfrm>
                      <a:off x="4458600" y="329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4" name=""/>
                    <p:cNvSpPr/>
                    <p:nvPr/>
                  </p:nvSpPr>
                  <p:spPr>
                    <a:xfrm>
                      <a:off x="4458600" y="331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5" name=""/>
                    <p:cNvSpPr/>
                    <p:nvPr/>
                  </p:nvSpPr>
                  <p:spPr>
                    <a:xfrm>
                      <a:off x="4458600" y="332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6" name=""/>
                  <p:cNvGrpSpPr/>
                  <p:nvPr/>
                </p:nvGrpSpPr>
                <p:grpSpPr>
                  <a:xfrm>
                    <a:off x="4458600" y="3341160"/>
                    <a:ext cx="83520" cy="41400"/>
                    <a:chOff x="4458600" y="3341160"/>
                    <a:chExt cx="83520" cy="41400"/>
                  </a:xfrm>
                </p:grpSpPr>
                <p:sp>
                  <p:nvSpPr>
                    <p:cNvPr id="5227" name=""/>
                    <p:cNvSpPr/>
                    <p:nvPr/>
                  </p:nvSpPr>
                  <p:spPr>
                    <a:xfrm>
                      <a:off x="4458600" y="3341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8" name=""/>
                    <p:cNvSpPr/>
                    <p:nvPr/>
                  </p:nvSpPr>
                  <p:spPr>
                    <a:xfrm>
                      <a:off x="4458600" y="3354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9" name=""/>
                    <p:cNvSpPr/>
                    <p:nvPr/>
                  </p:nvSpPr>
                  <p:spPr>
                    <a:xfrm>
                      <a:off x="4458600" y="3368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0" name=""/>
                  <p:cNvGrpSpPr/>
                  <p:nvPr/>
                </p:nvGrpSpPr>
                <p:grpSpPr>
                  <a:xfrm>
                    <a:off x="4458600" y="3382200"/>
                    <a:ext cx="83520" cy="41400"/>
                    <a:chOff x="4458600" y="3382200"/>
                    <a:chExt cx="83520" cy="41400"/>
                  </a:xfrm>
                </p:grpSpPr>
                <p:sp>
                  <p:nvSpPr>
                    <p:cNvPr id="5231" name=""/>
                    <p:cNvSpPr/>
                    <p:nvPr/>
                  </p:nvSpPr>
                  <p:spPr>
                    <a:xfrm>
                      <a:off x="4458600" y="3382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2" name=""/>
                    <p:cNvSpPr/>
                    <p:nvPr/>
                  </p:nvSpPr>
                  <p:spPr>
                    <a:xfrm>
                      <a:off x="4458600" y="3395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3" name=""/>
                    <p:cNvSpPr/>
                    <p:nvPr/>
                  </p:nvSpPr>
                  <p:spPr>
                    <a:xfrm>
                      <a:off x="4458600" y="3409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34" name=""/>
                <p:cNvGrpSpPr/>
                <p:nvPr/>
              </p:nvGrpSpPr>
              <p:grpSpPr>
                <a:xfrm>
                  <a:off x="4458600" y="3421800"/>
                  <a:ext cx="83520" cy="207720"/>
                  <a:chOff x="4458600" y="3421800"/>
                  <a:chExt cx="83520" cy="207720"/>
                </a:xfrm>
              </p:grpSpPr>
              <p:grpSp>
                <p:nvGrpSpPr>
                  <p:cNvPr id="5235" name=""/>
                  <p:cNvGrpSpPr/>
                  <p:nvPr/>
                </p:nvGrpSpPr>
                <p:grpSpPr>
                  <a:xfrm>
                    <a:off x="4458600" y="3421800"/>
                    <a:ext cx="83520" cy="41400"/>
                    <a:chOff x="4458600" y="3421800"/>
                    <a:chExt cx="83520" cy="41400"/>
                  </a:xfrm>
                </p:grpSpPr>
                <p:sp>
                  <p:nvSpPr>
                    <p:cNvPr id="5236" name=""/>
                    <p:cNvSpPr/>
                    <p:nvPr/>
                  </p:nvSpPr>
                  <p:spPr>
                    <a:xfrm>
                      <a:off x="4458600" y="3421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7" name=""/>
                    <p:cNvSpPr/>
                    <p:nvPr/>
                  </p:nvSpPr>
                  <p:spPr>
                    <a:xfrm>
                      <a:off x="4458600" y="343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8" name=""/>
                    <p:cNvSpPr/>
                    <p:nvPr/>
                  </p:nvSpPr>
                  <p:spPr>
                    <a:xfrm>
                      <a:off x="4458600" y="3449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9" name=""/>
                  <p:cNvGrpSpPr/>
                  <p:nvPr/>
                </p:nvGrpSpPr>
                <p:grpSpPr>
                  <a:xfrm>
                    <a:off x="4458600" y="3463560"/>
                    <a:ext cx="83520" cy="41400"/>
                    <a:chOff x="4458600" y="3463560"/>
                    <a:chExt cx="83520" cy="41400"/>
                  </a:xfrm>
                </p:grpSpPr>
                <p:sp>
                  <p:nvSpPr>
                    <p:cNvPr id="5240" name=""/>
                    <p:cNvSpPr/>
                    <p:nvPr/>
                  </p:nvSpPr>
                  <p:spPr>
                    <a:xfrm>
                      <a:off x="4458600" y="3463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1" name=""/>
                    <p:cNvSpPr/>
                    <p:nvPr/>
                  </p:nvSpPr>
                  <p:spPr>
                    <a:xfrm>
                      <a:off x="4458600" y="347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2" name=""/>
                    <p:cNvSpPr/>
                    <p:nvPr/>
                  </p:nvSpPr>
                  <p:spPr>
                    <a:xfrm>
                      <a:off x="4458600" y="3490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3" name=""/>
                  <p:cNvGrpSpPr/>
                  <p:nvPr/>
                </p:nvGrpSpPr>
                <p:grpSpPr>
                  <a:xfrm>
                    <a:off x="4458600" y="3505320"/>
                    <a:ext cx="83520" cy="41400"/>
                    <a:chOff x="4458600" y="3505320"/>
                    <a:chExt cx="83520" cy="41400"/>
                  </a:xfrm>
                </p:grpSpPr>
                <p:sp>
                  <p:nvSpPr>
                    <p:cNvPr id="5244" name=""/>
                    <p:cNvSpPr/>
                    <p:nvPr/>
                  </p:nvSpPr>
                  <p:spPr>
                    <a:xfrm>
                      <a:off x="4458600" y="3505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5" name=""/>
                    <p:cNvSpPr/>
                    <p:nvPr/>
                  </p:nvSpPr>
                  <p:spPr>
                    <a:xfrm>
                      <a:off x="4458600" y="351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6" name=""/>
                    <p:cNvSpPr/>
                    <p:nvPr/>
                  </p:nvSpPr>
                  <p:spPr>
                    <a:xfrm>
                      <a:off x="4458600" y="3532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7" name=""/>
                  <p:cNvGrpSpPr/>
                  <p:nvPr/>
                </p:nvGrpSpPr>
                <p:grpSpPr>
                  <a:xfrm>
                    <a:off x="4458600" y="3547080"/>
                    <a:ext cx="83520" cy="41400"/>
                    <a:chOff x="4458600" y="3547080"/>
                    <a:chExt cx="83520" cy="41400"/>
                  </a:xfrm>
                </p:grpSpPr>
                <p:sp>
                  <p:nvSpPr>
                    <p:cNvPr id="5248" name=""/>
                    <p:cNvSpPr/>
                    <p:nvPr/>
                  </p:nvSpPr>
                  <p:spPr>
                    <a:xfrm>
                      <a:off x="4458600" y="35470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9" name=""/>
                    <p:cNvSpPr/>
                    <p:nvPr/>
                  </p:nvSpPr>
                  <p:spPr>
                    <a:xfrm>
                      <a:off x="4458600" y="356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0" name=""/>
                    <p:cNvSpPr/>
                    <p:nvPr/>
                  </p:nvSpPr>
                  <p:spPr>
                    <a:xfrm>
                      <a:off x="4458600" y="3574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1" name=""/>
                  <p:cNvGrpSpPr/>
                  <p:nvPr/>
                </p:nvGrpSpPr>
                <p:grpSpPr>
                  <a:xfrm>
                    <a:off x="4458600" y="3588120"/>
                    <a:ext cx="83520" cy="41400"/>
                    <a:chOff x="4458600" y="3588120"/>
                    <a:chExt cx="83520" cy="41400"/>
                  </a:xfrm>
                </p:grpSpPr>
                <p:sp>
                  <p:nvSpPr>
                    <p:cNvPr id="5252" name=""/>
                    <p:cNvSpPr/>
                    <p:nvPr/>
                  </p:nvSpPr>
                  <p:spPr>
                    <a:xfrm>
                      <a:off x="4458600" y="3588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3" name=""/>
                    <p:cNvSpPr/>
                    <p:nvPr/>
                  </p:nvSpPr>
                  <p:spPr>
                    <a:xfrm>
                      <a:off x="4458600" y="360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4" name=""/>
                    <p:cNvSpPr/>
                    <p:nvPr/>
                  </p:nvSpPr>
                  <p:spPr>
                    <a:xfrm>
                      <a:off x="4458600" y="3615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55" name=""/>
              <p:cNvGrpSpPr/>
              <p:nvPr/>
            </p:nvGrpSpPr>
            <p:grpSpPr>
              <a:xfrm>
                <a:off x="4432320" y="3000600"/>
                <a:ext cx="137160" cy="215640"/>
                <a:chOff x="4432320" y="3000600"/>
                <a:chExt cx="137160" cy="215640"/>
              </a:xfrm>
            </p:grpSpPr>
            <p:grpSp>
              <p:nvGrpSpPr>
                <p:cNvPr id="5256" name=""/>
                <p:cNvGrpSpPr/>
                <p:nvPr/>
              </p:nvGrpSpPr>
              <p:grpSpPr>
                <a:xfrm>
                  <a:off x="4432320" y="3073320"/>
                  <a:ext cx="137160" cy="142920"/>
                  <a:chOff x="4432320" y="3073320"/>
                  <a:chExt cx="137160" cy="142920"/>
                </a:xfrm>
              </p:grpSpPr>
              <p:sp>
                <p:nvSpPr>
                  <p:cNvPr id="5257" name=""/>
                  <p:cNvSpPr/>
                  <p:nvPr/>
                </p:nvSpPr>
                <p:spPr>
                  <a:xfrm>
                    <a:off x="4432320" y="31356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58" name=""/>
                  <p:cNvGrpSpPr/>
                  <p:nvPr/>
                </p:nvGrpSpPr>
                <p:grpSpPr>
                  <a:xfrm>
                    <a:off x="4434840" y="3073320"/>
                    <a:ext cx="131760" cy="142920"/>
                    <a:chOff x="4434840" y="3073320"/>
                    <a:chExt cx="131760" cy="142920"/>
                  </a:xfrm>
                </p:grpSpPr>
                <p:sp>
                  <p:nvSpPr>
                    <p:cNvPr id="5259" name=""/>
                    <p:cNvSpPr/>
                    <p:nvPr/>
                  </p:nvSpPr>
                  <p:spPr>
                    <a:xfrm>
                      <a:off x="4435560" y="31424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0" name=""/>
                    <p:cNvSpPr/>
                    <p:nvPr/>
                  </p:nvSpPr>
                  <p:spPr>
                    <a:xfrm flipV="1">
                      <a:off x="4434840" y="308484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1" name=""/>
                    <p:cNvSpPr/>
                    <p:nvPr/>
                  </p:nvSpPr>
                  <p:spPr>
                    <a:xfrm>
                      <a:off x="4438800" y="307332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62" name=""/>
                <p:cNvGrpSpPr/>
                <p:nvPr/>
              </p:nvGrpSpPr>
              <p:grpSpPr>
                <a:xfrm>
                  <a:off x="4457520" y="3000600"/>
                  <a:ext cx="86040" cy="72000"/>
                  <a:chOff x="4457520" y="3000600"/>
                  <a:chExt cx="86040" cy="72000"/>
                </a:xfrm>
              </p:grpSpPr>
              <p:sp>
                <p:nvSpPr>
                  <p:cNvPr id="5263" name=""/>
                  <p:cNvSpPr/>
                  <p:nvPr/>
                </p:nvSpPr>
                <p:spPr>
                  <a:xfrm>
                    <a:off x="4457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4" name=""/>
                  <p:cNvSpPr/>
                  <p:nvPr/>
                </p:nvSpPr>
                <p:spPr>
                  <a:xfrm>
                    <a:off x="4475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5" name=""/>
                  <p:cNvSpPr/>
                  <p:nvPr/>
                </p:nvSpPr>
                <p:spPr>
                  <a:xfrm>
                    <a:off x="449424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6" name=""/>
                  <p:cNvSpPr/>
                  <p:nvPr/>
                </p:nvSpPr>
                <p:spPr>
                  <a:xfrm>
                    <a:off x="451440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7" name=""/>
                  <p:cNvSpPr/>
                  <p:nvPr/>
                </p:nvSpPr>
                <p:spPr>
                  <a:xfrm>
                    <a:off x="453276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8" name=""/>
                  <p:cNvSpPr/>
                  <p:nvPr/>
                </p:nvSpPr>
                <p:spPr>
                  <a:xfrm>
                    <a:off x="4457520" y="30315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9" name=""/>
                  <p:cNvSpPr/>
                  <p:nvPr/>
                </p:nvSpPr>
                <p:spPr>
                  <a:xfrm>
                    <a:off x="4458240" y="30538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0" name=""/>
                  <p:cNvSpPr/>
                  <p:nvPr/>
                </p:nvSpPr>
                <p:spPr>
                  <a:xfrm>
                    <a:off x="4458240" y="30726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1" name=""/>
                <p:cNvSpPr/>
                <p:nvPr/>
              </p:nvSpPr>
              <p:spPr>
                <a:xfrm>
                  <a:off x="4448520" y="314208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2" name=""/>
                <p:cNvSpPr/>
                <p:nvPr/>
              </p:nvSpPr>
              <p:spPr>
                <a:xfrm>
                  <a:off x="4531320" y="31413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>
                  <a:off x="4483080" y="315540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4" name=""/>
            <p:cNvSpPr/>
            <p:nvPr/>
          </p:nvSpPr>
          <p:spPr>
            <a:xfrm>
              <a:off x="3810600" y="2459160"/>
              <a:ext cx="1381680" cy="6778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arning/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5" name=""/>
          <p:cNvSpPr/>
          <p:nvPr/>
        </p:nvSpPr>
        <p:spPr>
          <a:xfrm flipV="1">
            <a:off x="1581120" y="5792760"/>
            <a:ext cx="6953400" cy="393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6" name=""/>
          <p:cNvGrpSpPr/>
          <p:nvPr/>
        </p:nvGrpSpPr>
        <p:grpSpPr>
          <a:xfrm>
            <a:off x="3748320" y="3860280"/>
            <a:ext cx="1903320" cy="1392840"/>
            <a:chOff x="3748320" y="3860280"/>
            <a:chExt cx="1903320" cy="1392840"/>
          </a:xfrm>
        </p:grpSpPr>
        <p:grpSp>
          <p:nvGrpSpPr>
            <p:cNvPr id="5277" name=""/>
            <p:cNvGrpSpPr/>
            <p:nvPr/>
          </p:nvGrpSpPr>
          <p:grpSpPr>
            <a:xfrm>
              <a:off x="4365720" y="4618440"/>
              <a:ext cx="631080" cy="634680"/>
              <a:chOff x="4365720" y="4618440"/>
              <a:chExt cx="631080" cy="634680"/>
            </a:xfrm>
          </p:grpSpPr>
          <p:grpSp>
            <p:nvGrpSpPr>
              <p:cNvPr id="5278" name=""/>
              <p:cNvGrpSpPr/>
              <p:nvPr/>
            </p:nvGrpSpPr>
            <p:grpSpPr>
              <a:xfrm>
                <a:off x="4365720" y="4834440"/>
                <a:ext cx="631080" cy="418680"/>
                <a:chOff x="4365720" y="4834440"/>
                <a:chExt cx="631080" cy="418680"/>
              </a:xfrm>
            </p:grpSpPr>
            <p:grpSp>
              <p:nvGrpSpPr>
                <p:cNvPr id="5279" name=""/>
                <p:cNvGrpSpPr/>
                <p:nvPr/>
              </p:nvGrpSpPr>
              <p:grpSpPr>
                <a:xfrm>
                  <a:off x="4365720" y="5170320"/>
                  <a:ext cx="631080" cy="82800"/>
                  <a:chOff x="4365720" y="5170320"/>
                  <a:chExt cx="631080" cy="82800"/>
                </a:xfrm>
              </p:grpSpPr>
              <p:sp>
                <p:nvSpPr>
                  <p:cNvPr id="5280" name=""/>
                  <p:cNvSpPr/>
                  <p:nvPr/>
                </p:nvSpPr>
                <p:spPr>
                  <a:xfrm>
                    <a:off x="447084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1" name=""/>
                  <p:cNvSpPr/>
                  <p:nvPr/>
                </p:nvSpPr>
                <p:spPr>
                  <a:xfrm>
                    <a:off x="46814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2" name=""/>
                  <p:cNvSpPr/>
                  <p:nvPr/>
                </p:nvSpPr>
                <p:spPr>
                  <a:xfrm>
                    <a:off x="478692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3" name=""/>
                  <p:cNvSpPr/>
                  <p:nvPr/>
                </p:nvSpPr>
                <p:spPr>
                  <a:xfrm>
                    <a:off x="48920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4" name=""/>
                  <p:cNvSpPr/>
                  <p:nvPr/>
                </p:nvSpPr>
                <p:spPr>
                  <a:xfrm>
                    <a:off x="45763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5" name=""/>
                  <p:cNvSpPr/>
                  <p:nvPr/>
                </p:nvSpPr>
                <p:spPr>
                  <a:xfrm>
                    <a:off x="43657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6" name=""/>
                <p:cNvGrpSpPr/>
                <p:nvPr/>
              </p:nvGrpSpPr>
              <p:grpSpPr>
                <a:xfrm>
                  <a:off x="4418280" y="5086440"/>
                  <a:ext cx="525960" cy="82800"/>
                  <a:chOff x="4418280" y="5086440"/>
                  <a:chExt cx="525960" cy="82800"/>
                </a:xfrm>
              </p:grpSpPr>
              <p:sp>
                <p:nvSpPr>
                  <p:cNvPr id="5287" name=""/>
                  <p:cNvSpPr/>
                  <p:nvPr/>
                </p:nvSpPr>
                <p:spPr>
                  <a:xfrm>
                    <a:off x="44182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8" name=""/>
                  <p:cNvSpPr/>
                  <p:nvPr/>
                </p:nvSpPr>
                <p:spPr>
                  <a:xfrm>
                    <a:off x="46288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9" name=""/>
                  <p:cNvSpPr/>
                  <p:nvPr/>
                </p:nvSpPr>
                <p:spPr>
                  <a:xfrm>
                    <a:off x="473436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0" name=""/>
                  <p:cNvSpPr/>
                  <p:nvPr/>
                </p:nvSpPr>
                <p:spPr>
                  <a:xfrm>
                    <a:off x="48394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1" name=""/>
                  <p:cNvSpPr/>
                  <p:nvPr/>
                </p:nvSpPr>
                <p:spPr>
                  <a:xfrm>
                    <a:off x="452340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92" name=""/>
                <p:cNvSpPr/>
                <p:nvPr/>
              </p:nvSpPr>
              <p:spPr>
                <a:xfrm>
                  <a:off x="457632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>
                  <a:off x="478728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>
                  <a:off x="468180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5" name=""/>
                <p:cNvSpPr/>
                <p:nvPr/>
              </p:nvSpPr>
              <p:spPr>
                <a:xfrm>
                  <a:off x="447084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>
                  <a:off x="4523760" y="49190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>
                  <a:off x="473472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>
                  <a:off x="462924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99" name=""/>
                <p:cNvGrpSpPr/>
                <p:nvPr/>
              </p:nvGrpSpPr>
              <p:grpSpPr>
                <a:xfrm>
                  <a:off x="4577400" y="4834440"/>
                  <a:ext cx="209880" cy="82800"/>
                  <a:chOff x="4577400" y="4834440"/>
                  <a:chExt cx="209880" cy="82800"/>
                </a:xfrm>
              </p:grpSpPr>
              <p:sp>
                <p:nvSpPr>
                  <p:cNvPr id="5300" name=""/>
                  <p:cNvSpPr/>
                  <p:nvPr/>
                </p:nvSpPr>
                <p:spPr>
                  <a:xfrm>
                    <a:off x="4577400" y="4834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1" name=""/>
                  <p:cNvSpPr/>
                  <p:nvPr/>
                </p:nvSpPr>
                <p:spPr>
                  <a:xfrm>
                    <a:off x="4682880" y="483444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02" name=""/>
              <p:cNvGrpSpPr/>
              <p:nvPr/>
            </p:nvGrpSpPr>
            <p:grpSpPr>
              <a:xfrm>
                <a:off x="4639320" y="4834440"/>
                <a:ext cx="83880" cy="414360"/>
                <a:chOff x="4639320" y="4834440"/>
                <a:chExt cx="83880" cy="414360"/>
              </a:xfrm>
            </p:grpSpPr>
            <p:grpSp>
              <p:nvGrpSpPr>
                <p:cNvPr id="5303" name=""/>
                <p:cNvGrpSpPr/>
                <p:nvPr/>
              </p:nvGrpSpPr>
              <p:grpSpPr>
                <a:xfrm>
                  <a:off x="4639320" y="4834440"/>
                  <a:ext cx="83880" cy="208080"/>
                  <a:chOff x="4639320" y="4834440"/>
                  <a:chExt cx="83880" cy="208080"/>
                </a:xfrm>
              </p:grpSpPr>
              <p:grpSp>
                <p:nvGrpSpPr>
                  <p:cNvPr id="5304" name=""/>
                  <p:cNvGrpSpPr/>
                  <p:nvPr/>
                </p:nvGrpSpPr>
                <p:grpSpPr>
                  <a:xfrm>
                    <a:off x="4639320" y="4834440"/>
                    <a:ext cx="83880" cy="41400"/>
                    <a:chOff x="4639320" y="4834440"/>
                    <a:chExt cx="83880" cy="41400"/>
                  </a:xfrm>
                </p:grpSpPr>
                <p:sp>
                  <p:nvSpPr>
                    <p:cNvPr id="5305" name=""/>
                    <p:cNvSpPr/>
                    <p:nvPr/>
                  </p:nvSpPr>
                  <p:spPr>
                    <a:xfrm>
                      <a:off x="4639320" y="483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6" name=""/>
                    <p:cNvSpPr/>
                    <p:nvPr/>
                  </p:nvSpPr>
                  <p:spPr>
                    <a:xfrm>
                      <a:off x="4639320" y="4847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7" name=""/>
                    <p:cNvSpPr/>
                    <p:nvPr/>
                  </p:nvSpPr>
                  <p:spPr>
                    <a:xfrm>
                      <a:off x="4639320" y="4861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8" name=""/>
                  <p:cNvGrpSpPr/>
                  <p:nvPr/>
                </p:nvGrpSpPr>
                <p:grpSpPr>
                  <a:xfrm>
                    <a:off x="4639320" y="4876200"/>
                    <a:ext cx="83880" cy="41400"/>
                    <a:chOff x="4639320" y="4876200"/>
                    <a:chExt cx="83880" cy="41400"/>
                  </a:xfrm>
                </p:grpSpPr>
                <p:sp>
                  <p:nvSpPr>
                    <p:cNvPr id="5309" name=""/>
                    <p:cNvSpPr/>
                    <p:nvPr/>
                  </p:nvSpPr>
                  <p:spPr>
                    <a:xfrm>
                      <a:off x="4639320" y="4876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0" name=""/>
                    <p:cNvSpPr/>
                    <p:nvPr/>
                  </p:nvSpPr>
                  <p:spPr>
                    <a:xfrm>
                      <a:off x="4639320" y="4889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1" name=""/>
                    <p:cNvSpPr/>
                    <p:nvPr/>
                  </p:nvSpPr>
                  <p:spPr>
                    <a:xfrm>
                      <a:off x="4639320" y="4903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2" name=""/>
                  <p:cNvGrpSpPr/>
                  <p:nvPr/>
                </p:nvGrpSpPr>
                <p:grpSpPr>
                  <a:xfrm>
                    <a:off x="4639320" y="4917960"/>
                    <a:ext cx="83880" cy="41400"/>
                    <a:chOff x="4639320" y="4917960"/>
                    <a:chExt cx="83880" cy="41400"/>
                  </a:xfrm>
                </p:grpSpPr>
                <p:sp>
                  <p:nvSpPr>
                    <p:cNvPr id="5313" name=""/>
                    <p:cNvSpPr/>
                    <p:nvPr/>
                  </p:nvSpPr>
                  <p:spPr>
                    <a:xfrm>
                      <a:off x="4639320" y="4917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4" name=""/>
                    <p:cNvSpPr/>
                    <p:nvPr/>
                  </p:nvSpPr>
                  <p:spPr>
                    <a:xfrm>
                      <a:off x="4639320" y="4931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5" name=""/>
                    <p:cNvSpPr/>
                    <p:nvPr/>
                  </p:nvSpPr>
                  <p:spPr>
                    <a:xfrm>
                      <a:off x="4639320" y="494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6" name=""/>
                  <p:cNvGrpSpPr/>
                  <p:nvPr/>
                </p:nvGrpSpPr>
                <p:grpSpPr>
                  <a:xfrm>
                    <a:off x="4639320" y="4959720"/>
                    <a:ext cx="83880" cy="41400"/>
                    <a:chOff x="4639320" y="4959720"/>
                    <a:chExt cx="83880" cy="41400"/>
                  </a:xfrm>
                </p:grpSpPr>
                <p:sp>
                  <p:nvSpPr>
                    <p:cNvPr id="5317" name=""/>
                    <p:cNvSpPr/>
                    <p:nvPr/>
                  </p:nvSpPr>
                  <p:spPr>
                    <a:xfrm>
                      <a:off x="4639320" y="4959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8" name=""/>
                    <p:cNvSpPr/>
                    <p:nvPr/>
                  </p:nvSpPr>
                  <p:spPr>
                    <a:xfrm>
                      <a:off x="4639320" y="4973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9" name=""/>
                    <p:cNvSpPr/>
                    <p:nvPr/>
                  </p:nvSpPr>
                  <p:spPr>
                    <a:xfrm>
                      <a:off x="4639320" y="4987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0" name=""/>
                  <p:cNvGrpSpPr/>
                  <p:nvPr/>
                </p:nvGrpSpPr>
                <p:grpSpPr>
                  <a:xfrm>
                    <a:off x="4639320" y="5001120"/>
                    <a:ext cx="83880" cy="41400"/>
                    <a:chOff x="4639320" y="5001120"/>
                    <a:chExt cx="83880" cy="41400"/>
                  </a:xfrm>
                </p:grpSpPr>
                <p:sp>
                  <p:nvSpPr>
                    <p:cNvPr id="5321" name=""/>
                    <p:cNvSpPr/>
                    <p:nvPr/>
                  </p:nvSpPr>
                  <p:spPr>
                    <a:xfrm>
                      <a:off x="4639320" y="5001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2" name=""/>
                    <p:cNvSpPr/>
                    <p:nvPr/>
                  </p:nvSpPr>
                  <p:spPr>
                    <a:xfrm>
                      <a:off x="4639320" y="501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3" name=""/>
                    <p:cNvSpPr/>
                    <p:nvPr/>
                  </p:nvSpPr>
                  <p:spPr>
                    <a:xfrm>
                      <a:off x="4639320" y="5028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24" name=""/>
                <p:cNvGrpSpPr/>
                <p:nvPr/>
              </p:nvGrpSpPr>
              <p:grpSpPr>
                <a:xfrm>
                  <a:off x="4639320" y="5040720"/>
                  <a:ext cx="83880" cy="208080"/>
                  <a:chOff x="4639320" y="5040720"/>
                  <a:chExt cx="83880" cy="208080"/>
                </a:xfrm>
              </p:grpSpPr>
              <p:grpSp>
                <p:nvGrpSpPr>
                  <p:cNvPr id="5325" name=""/>
                  <p:cNvGrpSpPr/>
                  <p:nvPr/>
                </p:nvGrpSpPr>
                <p:grpSpPr>
                  <a:xfrm>
                    <a:off x="4639320" y="5040720"/>
                    <a:ext cx="83880" cy="41400"/>
                    <a:chOff x="4639320" y="5040720"/>
                    <a:chExt cx="83880" cy="41400"/>
                  </a:xfrm>
                </p:grpSpPr>
                <p:sp>
                  <p:nvSpPr>
                    <p:cNvPr id="5326" name=""/>
                    <p:cNvSpPr/>
                    <p:nvPr/>
                  </p:nvSpPr>
                  <p:spPr>
                    <a:xfrm>
                      <a:off x="4639320" y="504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7" name=""/>
                    <p:cNvSpPr/>
                    <p:nvPr/>
                  </p:nvSpPr>
                  <p:spPr>
                    <a:xfrm>
                      <a:off x="4639320" y="5054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8" name=""/>
                    <p:cNvSpPr/>
                    <p:nvPr/>
                  </p:nvSpPr>
                  <p:spPr>
                    <a:xfrm>
                      <a:off x="4639320" y="5068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9" name=""/>
                  <p:cNvGrpSpPr/>
                  <p:nvPr/>
                </p:nvGrpSpPr>
                <p:grpSpPr>
                  <a:xfrm>
                    <a:off x="4639320" y="5082480"/>
                    <a:ext cx="83880" cy="41400"/>
                    <a:chOff x="4639320" y="5082480"/>
                    <a:chExt cx="83880" cy="41400"/>
                  </a:xfrm>
                </p:grpSpPr>
                <p:sp>
                  <p:nvSpPr>
                    <p:cNvPr id="5330" name=""/>
                    <p:cNvSpPr/>
                    <p:nvPr/>
                  </p:nvSpPr>
                  <p:spPr>
                    <a:xfrm>
                      <a:off x="4639320" y="5082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1" name=""/>
                    <p:cNvSpPr/>
                    <p:nvPr/>
                  </p:nvSpPr>
                  <p:spPr>
                    <a:xfrm>
                      <a:off x="4639320" y="5095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2" name=""/>
                    <p:cNvSpPr/>
                    <p:nvPr/>
                  </p:nvSpPr>
                  <p:spPr>
                    <a:xfrm>
                      <a:off x="4639320" y="5109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3" name=""/>
                  <p:cNvGrpSpPr/>
                  <p:nvPr/>
                </p:nvGrpSpPr>
                <p:grpSpPr>
                  <a:xfrm>
                    <a:off x="4639320" y="5124240"/>
                    <a:ext cx="83880" cy="41400"/>
                    <a:chOff x="4639320" y="5124240"/>
                    <a:chExt cx="83880" cy="41400"/>
                  </a:xfrm>
                </p:grpSpPr>
                <p:sp>
                  <p:nvSpPr>
                    <p:cNvPr id="5334" name=""/>
                    <p:cNvSpPr/>
                    <p:nvPr/>
                  </p:nvSpPr>
                  <p:spPr>
                    <a:xfrm>
                      <a:off x="4639320" y="5124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5" name=""/>
                    <p:cNvSpPr/>
                    <p:nvPr/>
                  </p:nvSpPr>
                  <p:spPr>
                    <a:xfrm>
                      <a:off x="4639320" y="5137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6" name=""/>
                    <p:cNvSpPr/>
                    <p:nvPr/>
                  </p:nvSpPr>
                  <p:spPr>
                    <a:xfrm>
                      <a:off x="4639320" y="5151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7" name=""/>
                  <p:cNvGrpSpPr/>
                  <p:nvPr/>
                </p:nvGrpSpPr>
                <p:grpSpPr>
                  <a:xfrm>
                    <a:off x="4639320" y="5166000"/>
                    <a:ext cx="83880" cy="41400"/>
                    <a:chOff x="4639320" y="5166000"/>
                    <a:chExt cx="83880" cy="41400"/>
                  </a:xfrm>
                </p:grpSpPr>
                <p:sp>
                  <p:nvSpPr>
                    <p:cNvPr id="5338" name=""/>
                    <p:cNvSpPr/>
                    <p:nvPr/>
                  </p:nvSpPr>
                  <p:spPr>
                    <a:xfrm>
                      <a:off x="4639320" y="5166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9" name=""/>
                    <p:cNvSpPr/>
                    <p:nvPr/>
                  </p:nvSpPr>
                  <p:spPr>
                    <a:xfrm>
                      <a:off x="4639320" y="5179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0" name=""/>
                    <p:cNvSpPr/>
                    <p:nvPr/>
                  </p:nvSpPr>
                  <p:spPr>
                    <a:xfrm>
                      <a:off x="4639320" y="5193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1" name=""/>
                  <p:cNvGrpSpPr/>
                  <p:nvPr/>
                </p:nvGrpSpPr>
                <p:grpSpPr>
                  <a:xfrm>
                    <a:off x="4639320" y="5207400"/>
                    <a:ext cx="83880" cy="41400"/>
                    <a:chOff x="4639320" y="5207400"/>
                    <a:chExt cx="83880" cy="41400"/>
                  </a:xfrm>
                </p:grpSpPr>
                <p:sp>
                  <p:nvSpPr>
                    <p:cNvPr id="5342" name=""/>
                    <p:cNvSpPr/>
                    <p:nvPr/>
                  </p:nvSpPr>
                  <p:spPr>
                    <a:xfrm>
                      <a:off x="4639320" y="5207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3" name=""/>
                    <p:cNvSpPr/>
                    <p:nvPr/>
                  </p:nvSpPr>
                  <p:spPr>
                    <a:xfrm>
                      <a:off x="4639320" y="522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4" name=""/>
                    <p:cNvSpPr/>
                    <p:nvPr/>
                  </p:nvSpPr>
                  <p:spPr>
                    <a:xfrm>
                      <a:off x="4639320" y="5234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45" name=""/>
              <p:cNvGrpSpPr/>
              <p:nvPr/>
            </p:nvGrpSpPr>
            <p:grpSpPr>
              <a:xfrm>
                <a:off x="4612680" y="4618440"/>
                <a:ext cx="137160" cy="216000"/>
                <a:chOff x="4612680" y="4618440"/>
                <a:chExt cx="137160" cy="216000"/>
              </a:xfrm>
            </p:grpSpPr>
            <p:grpSp>
              <p:nvGrpSpPr>
                <p:cNvPr id="5346" name=""/>
                <p:cNvGrpSpPr/>
                <p:nvPr/>
              </p:nvGrpSpPr>
              <p:grpSpPr>
                <a:xfrm>
                  <a:off x="4612680" y="4691160"/>
                  <a:ext cx="137160" cy="143280"/>
                  <a:chOff x="4612680" y="4691160"/>
                  <a:chExt cx="137160" cy="143280"/>
                </a:xfrm>
              </p:grpSpPr>
              <p:sp>
                <p:nvSpPr>
                  <p:cNvPr id="5347" name=""/>
                  <p:cNvSpPr/>
                  <p:nvPr/>
                </p:nvSpPr>
                <p:spPr>
                  <a:xfrm>
                    <a:off x="4612680" y="47538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48" name=""/>
                  <p:cNvGrpSpPr/>
                  <p:nvPr/>
                </p:nvGrpSpPr>
                <p:grpSpPr>
                  <a:xfrm>
                    <a:off x="4615200" y="4691160"/>
                    <a:ext cx="131760" cy="143280"/>
                    <a:chOff x="4615200" y="4691160"/>
                    <a:chExt cx="131760" cy="143280"/>
                  </a:xfrm>
                </p:grpSpPr>
                <p:sp>
                  <p:nvSpPr>
                    <p:cNvPr id="5349" name=""/>
                    <p:cNvSpPr/>
                    <p:nvPr/>
                  </p:nvSpPr>
                  <p:spPr>
                    <a:xfrm>
                      <a:off x="4615920" y="47606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0" name=""/>
                    <p:cNvSpPr/>
                    <p:nvPr/>
                  </p:nvSpPr>
                  <p:spPr>
                    <a:xfrm flipV="1">
                      <a:off x="4615200" y="47026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1" name=""/>
                    <p:cNvSpPr/>
                    <p:nvPr/>
                  </p:nvSpPr>
                  <p:spPr>
                    <a:xfrm>
                      <a:off x="4619160" y="46911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52" name=""/>
                <p:cNvGrpSpPr/>
                <p:nvPr/>
              </p:nvGrpSpPr>
              <p:grpSpPr>
                <a:xfrm>
                  <a:off x="4637880" y="4618440"/>
                  <a:ext cx="86040" cy="72360"/>
                  <a:chOff x="4637880" y="4618440"/>
                  <a:chExt cx="86040" cy="72360"/>
                </a:xfrm>
              </p:grpSpPr>
              <p:sp>
                <p:nvSpPr>
                  <p:cNvPr id="5353" name=""/>
                  <p:cNvSpPr/>
                  <p:nvPr/>
                </p:nvSpPr>
                <p:spPr>
                  <a:xfrm>
                    <a:off x="4638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4" name=""/>
                  <p:cNvSpPr/>
                  <p:nvPr/>
                </p:nvSpPr>
                <p:spPr>
                  <a:xfrm>
                    <a:off x="4656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5" name=""/>
                  <p:cNvSpPr/>
                  <p:nvPr/>
                </p:nvSpPr>
                <p:spPr>
                  <a:xfrm>
                    <a:off x="467460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6" name=""/>
                  <p:cNvSpPr/>
                  <p:nvPr/>
                </p:nvSpPr>
                <p:spPr>
                  <a:xfrm>
                    <a:off x="469476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7" name=""/>
                  <p:cNvSpPr/>
                  <p:nvPr/>
                </p:nvSpPr>
                <p:spPr>
                  <a:xfrm>
                    <a:off x="471312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8" name=""/>
                  <p:cNvSpPr/>
                  <p:nvPr/>
                </p:nvSpPr>
                <p:spPr>
                  <a:xfrm>
                    <a:off x="4637880" y="46494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9" name=""/>
                  <p:cNvSpPr/>
                  <p:nvPr/>
                </p:nvSpPr>
                <p:spPr>
                  <a:xfrm>
                    <a:off x="4638600" y="4672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0" name=""/>
                  <p:cNvSpPr/>
                  <p:nvPr/>
                </p:nvSpPr>
                <p:spPr>
                  <a:xfrm>
                    <a:off x="4638600" y="46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1" name=""/>
                <p:cNvSpPr/>
                <p:nvPr/>
              </p:nvSpPr>
              <p:spPr>
                <a:xfrm>
                  <a:off x="4628880" y="476028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2" name=""/>
                <p:cNvSpPr/>
                <p:nvPr/>
              </p:nvSpPr>
              <p:spPr>
                <a:xfrm>
                  <a:off x="4711680" y="47595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3" name=""/>
                <p:cNvSpPr/>
                <p:nvPr/>
              </p:nvSpPr>
              <p:spPr>
                <a:xfrm>
                  <a:off x="4663440" y="477396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4" name=""/>
            <p:cNvSpPr/>
            <p:nvPr/>
          </p:nvSpPr>
          <p:spPr>
            <a:xfrm>
              <a:off x="3748320" y="3860280"/>
              <a:ext cx="1903320" cy="10908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1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internal pullup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5" name=""/>
          <p:cNvSpPr/>
          <p:nvPr/>
        </p:nvSpPr>
        <p:spPr>
          <a:xfrm flipV="1">
            <a:off x="946080" y="5830560"/>
            <a:ext cx="511020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"/>
          <p:cNvSpPr/>
          <p:nvPr/>
        </p:nvSpPr>
        <p:spPr>
          <a:xfrm>
            <a:off x="4452840" y="2255760"/>
            <a:ext cx="98640" cy="1000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7" name=""/>
          <p:cNvGrpSpPr/>
          <p:nvPr/>
        </p:nvGrpSpPr>
        <p:grpSpPr>
          <a:xfrm>
            <a:off x="4530600" y="3754440"/>
            <a:ext cx="244080" cy="102960"/>
            <a:chOff x="4530600" y="3754440"/>
            <a:chExt cx="244080" cy="102960"/>
          </a:xfrm>
        </p:grpSpPr>
        <p:sp>
          <p:nvSpPr>
            <p:cNvPr id="5368" name=""/>
            <p:cNvSpPr/>
            <p:nvPr/>
          </p:nvSpPr>
          <p:spPr>
            <a:xfrm>
              <a:off x="4530600" y="375444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4675680" y="375696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0" name=""/>
          <p:cNvGrpSpPr/>
          <p:nvPr/>
        </p:nvGrpSpPr>
        <p:grpSpPr>
          <a:xfrm>
            <a:off x="3006720" y="5167440"/>
            <a:ext cx="378000" cy="99720"/>
            <a:chOff x="3006720" y="5167440"/>
            <a:chExt cx="378000" cy="99720"/>
          </a:xfrm>
        </p:grpSpPr>
        <p:sp>
          <p:nvSpPr>
            <p:cNvPr id="5371" name=""/>
            <p:cNvSpPr/>
            <p:nvPr/>
          </p:nvSpPr>
          <p:spPr>
            <a:xfrm>
              <a:off x="300672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3147120" y="516816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328536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4" name=""/>
          <p:cNvGrpSpPr/>
          <p:nvPr/>
        </p:nvGrpSpPr>
        <p:grpSpPr>
          <a:xfrm>
            <a:off x="977760" y="4718160"/>
            <a:ext cx="520560" cy="101520"/>
            <a:chOff x="977760" y="4718160"/>
            <a:chExt cx="520560" cy="101520"/>
          </a:xfrm>
        </p:grpSpPr>
        <p:sp>
          <p:nvSpPr>
            <p:cNvPr id="5375" name=""/>
            <p:cNvSpPr/>
            <p:nvPr/>
          </p:nvSpPr>
          <p:spPr>
            <a:xfrm>
              <a:off x="977760" y="47181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139932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1257120" y="47199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111744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9" name=""/>
          <p:cNvSpPr/>
          <p:nvPr/>
        </p:nvSpPr>
        <p:spPr>
          <a:xfrm>
            <a:off x="547560" y="3311640"/>
            <a:ext cx="565200" cy="1047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0" name=""/>
          <p:cNvGrpSpPr/>
          <p:nvPr/>
        </p:nvGrpSpPr>
        <p:grpSpPr>
          <a:xfrm>
            <a:off x="6175440" y="1309680"/>
            <a:ext cx="2151720" cy="403200"/>
            <a:chOff x="6175440" y="1309680"/>
            <a:chExt cx="2151720" cy="403200"/>
          </a:xfrm>
        </p:grpSpPr>
        <p:grpSp>
          <p:nvGrpSpPr>
            <p:cNvPr id="5381" name=""/>
            <p:cNvGrpSpPr/>
            <p:nvPr/>
          </p:nvGrpSpPr>
          <p:grpSpPr>
            <a:xfrm>
              <a:off x="7350120" y="1309680"/>
              <a:ext cx="977040" cy="398520"/>
              <a:chOff x="7350120" y="1309680"/>
              <a:chExt cx="977040" cy="398520"/>
            </a:xfrm>
          </p:grpSpPr>
          <p:sp>
            <p:nvSpPr>
              <p:cNvPr id="5382" name=""/>
              <p:cNvSpPr/>
              <p:nvPr/>
            </p:nvSpPr>
            <p:spPr>
              <a:xfrm>
                <a:off x="7350120" y="1309680"/>
                <a:ext cx="396360" cy="39852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7930440" y="1309680"/>
                <a:ext cx="396720" cy="39852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4" name=""/>
            <p:cNvGrpSpPr/>
            <p:nvPr/>
          </p:nvGrpSpPr>
          <p:grpSpPr>
            <a:xfrm>
              <a:off x="6175440" y="1314360"/>
              <a:ext cx="977760" cy="398520"/>
              <a:chOff x="6175440" y="1314360"/>
              <a:chExt cx="977760" cy="398520"/>
            </a:xfrm>
          </p:grpSpPr>
          <p:sp>
            <p:nvSpPr>
              <p:cNvPr id="5385" name=""/>
              <p:cNvSpPr/>
              <p:nvPr/>
            </p:nvSpPr>
            <p:spPr>
              <a:xfrm>
                <a:off x="6175440" y="1314360"/>
                <a:ext cx="396720" cy="39852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6756120" y="1314360"/>
                <a:ext cx="397080" cy="39852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[Driver schedule]  boost driver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5388" name=""/>
          <p:cNvGrpSpPr/>
          <p:nvPr/>
        </p:nvGrpSpPr>
        <p:grpSpPr>
          <a:xfrm>
            <a:off x="7595280" y="145800"/>
            <a:ext cx="1469880" cy="1206720"/>
            <a:chOff x="7595280" y="145800"/>
            <a:chExt cx="1469880" cy="1206720"/>
          </a:xfrm>
        </p:grpSpPr>
        <p:grpSp>
          <p:nvGrpSpPr>
            <p:cNvPr id="5389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5390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5391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5392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3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4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5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6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7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8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5399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0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1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2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3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4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5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6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7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8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9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0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11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5412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3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4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5415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5416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5417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8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9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0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5421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2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3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4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5425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6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7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8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5429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0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1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2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5433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4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5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36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5437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5438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9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0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1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5442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3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4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5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5446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7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8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9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5450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1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2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3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5454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5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6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57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5458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5459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60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5461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2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3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64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5465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6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7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8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9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0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1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2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3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4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5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6" name=""/>
            <p:cNvSpPr/>
            <p:nvPr/>
          </p:nvSpPr>
          <p:spPr>
            <a:xfrm>
              <a:off x="7595280" y="145800"/>
              <a:ext cx="146988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ramp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7" name=""/>
          <p:cNvSpPr/>
          <p:nvPr/>
        </p:nvSpPr>
        <p:spPr>
          <a:xfrm>
            <a:off x="434880" y="1698480"/>
            <a:ext cx="84153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749"/>
              </a:spcBef>
              <a:spcAft>
                <a:spcPts val="5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 V-t tables  for  matching to I-V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to do with ramp only drivers (model_type outpu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itching  from  ….   to    …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[ramp]  and static curv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5479" name=""/>
          <p:cNvGrpSpPr/>
          <p:nvPr/>
        </p:nvGrpSpPr>
        <p:grpSpPr>
          <a:xfrm>
            <a:off x="7595280" y="145800"/>
            <a:ext cx="1469880" cy="1206720"/>
            <a:chOff x="7595280" y="145800"/>
            <a:chExt cx="1469880" cy="1206720"/>
          </a:xfrm>
        </p:grpSpPr>
        <p:grpSp>
          <p:nvGrpSpPr>
            <p:cNvPr id="5480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5481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5482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5483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4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6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7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8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9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5490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1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2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3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7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8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9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0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1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2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5503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05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5506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5507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5508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9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0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1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5512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3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4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5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5516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7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8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9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5520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1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2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3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5524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5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6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27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5528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5529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0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1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2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5533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4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5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6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5537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8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9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0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5541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2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3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4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5545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6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7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548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5549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5550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51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5552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3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4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55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5556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7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8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9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0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2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3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64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5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7" name=""/>
            <p:cNvSpPr/>
            <p:nvPr/>
          </p:nvSpPr>
          <p:spPr>
            <a:xfrm>
              <a:off x="7595280" y="145800"/>
              <a:ext cx="146988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ramp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8" name=""/>
          <p:cNvGrpSpPr/>
          <p:nvPr/>
        </p:nvGrpSpPr>
        <p:grpSpPr>
          <a:xfrm>
            <a:off x="905040" y="1197000"/>
            <a:ext cx="6609240" cy="1046880"/>
            <a:chOff x="905040" y="1197000"/>
            <a:chExt cx="6609240" cy="1046880"/>
          </a:xfrm>
        </p:grpSpPr>
        <p:sp>
          <p:nvSpPr>
            <p:cNvPr id="5569" name=""/>
            <p:cNvSpPr/>
            <p:nvPr/>
          </p:nvSpPr>
          <p:spPr>
            <a:xfrm>
              <a:off x="905040" y="1235160"/>
              <a:ext cx="4073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v/dt_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.0775V / 85.2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v/dt_f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.0808V / 81.9ps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5891760" y="119700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rig. ra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1" name=""/>
          <p:cNvGrpSpPr/>
          <p:nvPr/>
        </p:nvGrpSpPr>
        <p:grpSpPr>
          <a:xfrm>
            <a:off x="736560" y="2736720"/>
            <a:ext cx="7345080" cy="2558160"/>
            <a:chOff x="736560" y="2736720"/>
            <a:chExt cx="7345080" cy="2558160"/>
          </a:xfrm>
        </p:grpSpPr>
        <p:grpSp>
          <p:nvGrpSpPr>
            <p:cNvPr id="5572" name=""/>
            <p:cNvGrpSpPr/>
            <p:nvPr/>
          </p:nvGrpSpPr>
          <p:grpSpPr>
            <a:xfrm>
              <a:off x="736560" y="2736720"/>
              <a:ext cx="3434040" cy="2558160"/>
              <a:chOff x="736560" y="2736720"/>
              <a:chExt cx="3434040" cy="2558160"/>
            </a:xfrm>
          </p:grpSpPr>
          <p:grpSp>
            <p:nvGrpSpPr>
              <p:cNvPr id="5573" name=""/>
              <p:cNvGrpSpPr/>
              <p:nvPr/>
            </p:nvGrpSpPr>
            <p:grpSpPr>
              <a:xfrm>
                <a:off x="1190520" y="2736720"/>
                <a:ext cx="2255760" cy="2266920"/>
                <a:chOff x="1190520" y="2736720"/>
                <a:chExt cx="2255760" cy="2266920"/>
              </a:xfrm>
            </p:grpSpPr>
            <p:sp>
              <p:nvSpPr>
                <p:cNvPr id="5574" name=""/>
                <p:cNvSpPr/>
                <p:nvPr/>
              </p:nvSpPr>
              <p:spPr>
                <a:xfrm>
                  <a:off x="1312560" y="2736720"/>
                  <a:ext cx="0" cy="2266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>
                  <a:off x="1190520" y="4386240"/>
                  <a:ext cx="2255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6" name=""/>
              <p:cNvSpPr/>
              <p:nvPr/>
            </p:nvSpPr>
            <p:spPr>
              <a:xfrm>
                <a:off x="1866240" y="4933800"/>
                <a:ext cx="13982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[pulldown] !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736560" y="4056120"/>
                <a:ext cx="336060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781200" y="4716360"/>
                <a:ext cx="338616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1960920" y="3284640"/>
                <a:ext cx="11073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[pullup] !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567960" y="4282920"/>
                <a:ext cx="602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/V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 rot="16200000">
                <a:off x="732240" y="2948040"/>
                <a:ext cx="623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 / A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2" name=""/>
            <p:cNvSpPr/>
            <p:nvPr/>
          </p:nvSpPr>
          <p:spPr>
            <a:xfrm>
              <a:off x="5459400" y="28018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rig. static cur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5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5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5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[ramp]  and static curves  and loadlin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84" name=""/>
          <p:cNvSpPr/>
          <p:nvPr/>
        </p:nvSpPr>
        <p:spPr>
          <a:xfrm>
            <a:off x="460800" y="1027080"/>
            <a:ext cx="407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v/dt_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775V / 85.2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v/dt_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808V / 81.9p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5" name=""/>
          <p:cNvGrpSpPr/>
          <p:nvPr/>
        </p:nvGrpSpPr>
        <p:grpSpPr>
          <a:xfrm>
            <a:off x="7595280" y="145800"/>
            <a:ext cx="1469880" cy="1206720"/>
            <a:chOff x="7595280" y="145800"/>
            <a:chExt cx="1469880" cy="1206720"/>
          </a:xfrm>
        </p:grpSpPr>
        <p:grpSp>
          <p:nvGrpSpPr>
            <p:cNvPr id="5586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5587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5588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5589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0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1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2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3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4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5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5596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7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8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9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0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01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08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5609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0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11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5612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5613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5614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5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6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7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5618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9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0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1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5622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3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4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5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5626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7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8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9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5630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1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2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633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5634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5635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6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7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8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5639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0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1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2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5643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4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5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6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5647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8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9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0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5651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2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3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654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5655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5656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57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5658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9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0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661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5662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3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4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5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6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7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9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0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73" name=""/>
            <p:cNvSpPr/>
            <p:nvPr/>
          </p:nvSpPr>
          <p:spPr>
            <a:xfrm>
              <a:off x="7595280" y="145800"/>
              <a:ext cx="146988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ramp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4" name=""/>
          <p:cNvSpPr/>
          <p:nvPr/>
        </p:nvSpPr>
        <p:spPr>
          <a:xfrm>
            <a:off x="4731840" y="1000080"/>
            <a:ext cx="327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v_r 0-100 % 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0.129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v_f 0-100 % 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0.135V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5" name=""/>
          <p:cNvGrpSpPr/>
          <p:nvPr/>
        </p:nvGrpSpPr>
        <p:grpSpPr>
          <a:xfrm>
            <a:off x="461880" y="1866960"/>
            <a:ext cx="7614360" cy="4425120"/>
            <a:chOff x="461880" y="1866960"/>
            <a:chExt cx="7614360" cy="4425120"/>
          </a:xfrm>
        </p:grpSpPr>
        <p:sp>
          <p:nvSpPr>
            <p:cNvPr id="5676" name=""/>
            <p:cNvSpPr/>
            <p:nvPr/>
          </p:nvSpPr>
          <p:spPr>
            <a:xfrm>
              <a:off x="6678000" y="4651200"/>
              <a:ext cx="13982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pulldown]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779400" y="3844800"/>
              <a:ext cx="504036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846000" y="4835520"/>
              <a:ext cx="507852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772680" y="3665520"/>
              <a:ext cx="11073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pullup]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0" name=""/>
            <p:cNvGrpSpPr/>
            <p:nvPr/>
          </p:nvGrpSpPr>
          <p:grpSpPr>
            <a:xfrm>
              <a:off x="461880" y="1866960"/>
              <a:ext cx="5603400" cy="4425120"/>
              <a:chOff x="461880" y="1866960"/>
              <a:chExt cx="5603400" cy="4425120"/>
            </a:xfrm>
          </p:grpSpPr>
          <p:sp>
            <p:nvSpPr>
              <p:cNvPr id="5681" name=""/>
              <p:cNvSpPr/>
              <p:nvPr/>
            </p:nvSpPr>
            <p:spPr>
              <a:xfrm>
                <a:off x="4348440" y="5910120"/>
                <a:ext cx="1716840" cy="36108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50Ohm to 1.0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2" name=""/>
              <p:cNvGrpSpPr/>
              <p:nvPr/>
            </p:nvGrpSpPr>
            <p:grpSpPr>
              <a:xfrm>
                <a:off x="1460520" y="1866960"/>
                <a:ext cx="3382560" cy="3399840"/>
                <a:chOff x="1460520" y="1866960"/>
                <a:chExt cx="3382560" cy="3399840"/>
              </a:xfrm>
            </p:grpSpPr>
            <p:sp>
              <p:nvSpPr>
                <p:cNvPr id="5683" name=""/>
                <p:cNvSpPr/>
                <p:nvPr/>
              </p:nvSpPr>
              <p:spPr>
                <a:xfrm>
                  <a:off x="1643400" y="1866960"/>
                  <a:ext cx="0" cy="33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1460520" y="4340880"/>
                  <a:ext cx="338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5" name=""/>
              <p:cNvSpPr/>
              <p:nvPr/>
            </p:nvSpPr>
            <p:spPr>
              <a:xfrm>
                <a:off x="461880" y="2925720"/>
                <a:ext cx="2443320" cy="2900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5023080" y="4186080"/>
                <a:ext cx="602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/V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 rot="16200000">
                <a:off x="870480" y="2405160"/>
                <a:ext cx="623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 / A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2670120" y="2925720"/>
                <a:ext cx="2443320" cy="2900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1846440" y="5931000"/>
                <a:ext cx="1716840" cy="36108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50Ohm to 0.0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90" name=""/>
          <p:cNvGrpSpPr/>
          <p:nvPr/>
        </p:nvGrpSpPr>
        <p:grpSpPr>
          <a:xfrm>
            <a:off x="657360" y="2984400"/>
            <a:ext cx="1282680" cy="1575000"/>
            <a:chOff x="657360" y="2984400"/>
            <a:chExt cx="1282680" cy="1575000"/>
          </a:xfrm>
        </p:grpSpPr>
        <p:sp>
          <p:nvSpPr>
            <p:cNvPr id="5691" name=""/>
            <p:cNvSpPr/>
            <p:nvPr/>
          </p:nvSpPr>
          <p:spPr>
            <a:xfrm>
              <a:off x="1228680" y="3486240"/>
              <a:ext cx="0" cy="107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1060560" y="3670200"/>
              <a:ext cx="331560" cy="35100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657360" y="298440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0.133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4" name=""/>
          <p:cNvGrpSpPr/>
          <p:nvPr/>
        </p:nvGrpSpPr>
        <p:grpSpPr>
          <a:xfrm>
            <a:off x="1398960" y="4071960"/>
            <a:ext cx="1197360" cy="1681560"/>
            <a:chOff x="1398960" y="4071960"/>
            <a:chExt cx="1197360" cy="1681560"/>
          </a:xfrm>
        </p:grpSpPr>
        <p:sp>
          <p:nvSpPr>
            <p:cNvPr id="5695" name=""/>
            <p:cNvSpPr/>
            <p:nvPr/>
          </p:nvSpPr>
          <p:spPr>
            <a:xfrm>
              <a:off x="2065320" y="4071960"/>
              <a:ext cx="0" cy="1287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1895400" y="4662360"/>
              <a:ext cx="331920" cy="35100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398960" y="535464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.132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8" name=""/>
          <p:cNvGrpSpPr/>
          <p:nvPr/>
        </p:nvGrpSpPr>
        <p:grpSpPr>
          <a:xfrm>
            <a:off x="3287880" y="3133800"/>
            <a:ext cx="1199160" cy="1469880"/>
            <a:chOff x="3287880" y="3133800"/>
            <a:chExt cx="1199160" cy="1469880"/>
          </a:xfrm>
        </p:grpSpPr>
        <p:sp>
          <p:nvSpPr>
            <p:cNvPr id="5699" name=""/>
            <p:cNvSpPr/>
            <p:nvPr/>
          </p:nvSpPr>
          <p:spPr>
            <a:xfrm>
              <a:off x="3467160" y="3530520"/>
              <a:ext cx="0" cy="107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287880" y="3670200"/>
              <a:ext cx="331560" cy="35100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3289680" y="313380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.868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2" name=""/>
          <p:cNvGrpSpPr/>
          <p:nvPr/>
        </p:nvGrpSpPr>
        <p:grpSpPr>
          <a:xfrm>
            <a:off x="3491280" y="4043520"/>
            <a:ext cx="1197360" cy="1717920"/>
            <a:chOff x="3491280" y="4043520"/>
            <a:chExt cx="1197360" cy="1717920"/>
          </a:xfrm>
        </p:grpSpPr>
        <p:sp>
          <p:nvSpPr>
            <p:cNvPr id="5703" name=""/>
            <p:cNvSpPr/>
            <p:nvPr/>
          </p:nvSpPr>
          <p:spPr>
            <a:xfrm>
              <a:off x="4267080" y="4043520"/>
              <a:ext cx="0" cy="1315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4105440" y="4654440"/>
              <a:ext cx="331560" cy="35100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3491280" y="536256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.133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5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5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5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5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5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Calculation of error/warning percentag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258840" y="1281240"/>
            <a:ext cx="7051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w getting ibischk to work with ramp model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8" name=""/>
          <p:cNvGrpSpPr/>
          <p:nvPr/>
        </p:nvGrpSpPr>
        <p:grpSpPr>
          <a:xfrm>
            <a:off x="7595280" y="145800"/>
            <a:ext cx="1469880" cy="1206720"/>
            <a:chOff x="7595280" y="145800"/>
            <a:chExt cx="1469880" cy="1206720"/>
          </a:xfrm>
        </p:grpSpPr>
        <p:grpSp>
          <p:nvGrpSpPr>
            <p:cNvPr id="5709" name=""/>
            <p:cNvGrpSpPr/>
            <p:nvPr/>
          </p:nvGrpSpPr>
          <p:grpSpPr>
            <a:xfrm>
              <a:off x="8015040" y="717480"/>
              <a:ext cx="632880" cy="635040"/>
              <a:chOff x="8015040" y="717480"/>
              <a:chExt cx="632880" cy="635040"/>
            </a:xfrm>
          </p:grpSpPr>
          <p:grpSp>
            <p:nvGrpSpPr>
              <p:cNvPr id="5710" name=""/>
              <p:cNvGrpSpPr/>
              <p:nvPr/>
            </p:nvGrpSpPr>
            <p:grpSpPr>
              <a:xfrm>
                <a:off x="8015040" y="933480"/>
                <a:ext cx="632880" cy="419040"/>
                <a:chOff x="8015040" y="933480"/>
                <a:chExt cx="632880" cy="419040"/>
              </a:xfrm>
            </p:grpSpPr>
            <p:grpSp>
              <p:nvGrpSpPr>
                <p:cNvPr id="5711" name=""/>
                <p:cNvGrpSpPr/>
                <p:nvPr/>
              </p:nvGrpSpPr>
              <p:grpSpPr>
                <a:xfrm>
                  <a:off x="8015040" y="1269720"/>
                  <a:ext cx="632880" cy="82800"/>
                  <a:chOff x="8015040" y="1269720"/>
                  <a:chExt cx="632880" cy="82800"/>
                </a:xfrm>
              </p:grpSpPr>
              <p:sp>
                <p:nvSpPr>
                  <p:cNvPr id="5712" name=""/>
                  <p:cNvSpPr/>
                  <p:nvPr/>
                </p:nvSpPr>
                <p:spPr>
                  <a:xfrm>
                    <a:off x="81205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3" name=""/>
                  <p:cNvSpPr/>
                  <p:nvPr/>
                </p:nvSpPr>
                <p:spPr>
                  <a:xfrm>
                    <a:off x="83318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4" name=""/>
                  <p:cNvSpPr/>
                  <p:nvPr/>
                </p:nvSpPr>
                <p:spPr>
                  <a:xfrm>
                    <a:off x="843732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5" name=""/>
                  <p:cNvSpPr/>
                  <p:nvPr/>
                </p:nvSpPr>
                <p:spPr>
                  <a:xfrm>
                    <a:off x="854316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6" name=""/>
                  <p:cNvSpPr/>
                  <p:nvPr/>
                </p:nvSpPr>
                <p:spPr>
                  <a:xfrm>
                    <a:off x="822600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7" name=""/>
                  <p:cNvSpPr/>
                  <p:nvPr/>
                </p:nvSpPr>
                <p:spPr>
                  <a:xfrm>
                    <a:off x="8015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8" name=""/>
                <p:cNvGrpSpPr/>
                <p:nvPr/>
              </p:nvGrpSpPr>
              <p:grpSpPr>
                <a:xfrm>
                  <a:off x="8067960" y="1185840"/>
                  <a:ext cx="527040" cy="82800"/>
                  <a:chOff x="8067960" y="1185840"/>
                  <a:chExt cx="527040" cy="82800"/>
                </a:xfrm>
              </p:grpSpPr>
              <p:sp>
                <p:nvSpPr>
                  <p:cNvPr id="5719" name=""/>
                  <p:cNvSpPr/>
                  <p:nvPr/>
                </p:nvSpPr>
                <p:spPr>
                  <a:xfrm>
                    <a:off x="80679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0" name=""/>
                  <p:cNvSpPr/>
                  <p:nvPr/>
                </p:nvSpPr>
                <p:spPr>
                  <a:xfrm>
                    <a:off x="827892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1" name=""/>
                  <p:cNvSpPr/>
                  <p:nvPr/>
                </p:nvSpPr>
                <p:spPr>
                  <a:xfrm>
                    <a:off x="838476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2" name=""/>
                  <p:cNvSpPr/>
                  <p:nvPr/>
                </p:nvSpPr>
                <p:spPr>
                  <a:xfrm>
                    <a:off x="84902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3" name=""/>
                  <p:cNvSpPr/>
                  <p:nvPr/>
                </p:nvSpPr>
                <p:spPr>
                  <a:xfrm>
                    <a:off x="8173440" y="11858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24" name=""/>
                <p:cNvSpPr/>
                <p:nvPr/>
              </p:nvSpPr>
              <p:spPr>
                <a:xfrm>
                  <a:off x="82263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5" name=""/>
                <p:cNvSpPr/>
                <p:nvPr/>
              </p:nvSpPr>
              <p:spPr>
                <a:xfrm>
                  <a:off x="84376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6" name=""/>
                <p:cNvSpPr/>
                <p:nvPr/>
              </p:nvSpPr>
              <p:spPr>
                <a:xfrm>
                  <a:off x="833184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7" name=""/>
                <p:cNvSpPr/>
                <p:nvPr/>
              </p:nvSpPr>
              <p:spPr>
                <a:xfrm>
                  <a:off x="812052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>
                  <a:off x="817380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9" name=""/>
                <p:cNvSpPr/>
                <p:nvPr/>
              </p:nvSpPr>
              <p:spPr>
                <a:xfrm>
                  <a:off x="838512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0" name=""/>
                <p:cNvSpPr/>
                <p:nvPr/>
              </p:nvSpPr>
              <p:spPr>
                <a:xfrm>
                  <a:off x="82792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31" name=""/>
                <p:cNvGrpSpPr/>
                <p:nvPr/>
              </p:nvGrpSpPr>
              <p:grpSpPr>
                <a:xfrm>
                  <a:off x="8227440" y="933480"/>
                  <a:ext cx="210600" cy="82800"/>
                  <a:chOff x="8227440" y="933480"/>
                  <a:chExt cx="210600" cy="82800"/>
                </a:xfrm>
              </p:grpSpPr>
              <p:sp>
                <p:nvSpPr>
                  <p:cNvPr id="5732" name=""/>
                  <p:cNvSpPr/>
                  <p:nvPr/>
                </p:nvSpPr>
                <p:spPr>
                  <a:xfrm>
                    <a:off x="822744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3" name=""/>
                  <p:cNvSpPr/>
                  <p:nvPr/>
                </p:nvSpPr>
                <p:spPr>
                  <a:xfrm>
                    <a:off x="833328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4" name=""/>
              <p:cNvGrpSpPr/>
              <p:nvPr/>
            </p:nvGrpSpPr>
            <p:grpSpPr>
              <a:xfrm>
                <a:off x="8289360" y="933480"/>
                <a:ext cx="83880" cy="414720"/>
                <a:chOff x="8289360" y="933480"/>
                <a:chExt cx="83880" cy="414720"/>
              </a:xfrm>
            </p:grpSpPr>
            <p:grpSp>
              <p:nvGrpSpPr>
                <p:cNvPr id="5735" name=""/>
                <p:cNvGrpSpPr/>
                <p:nvPr/>
              </p:nvGrpSpPr>
              <p:grpSpPr>
                <a:xfrm>
                  <a:off x="8289360" y="933480"/>
                  <a:ext cx="83880" cy="208080"/>
                  <a:chOff x="8289360" y="933480"/>
                  <a:chExt cx="83880" cy="208080"/>
                </a:xfrm>
              </p:grpSpPr>
              <p:grpSp>
                <p:nvGrpSpPr>
                  <p:cNvPr id="5736" name=""/>
                  <p:cNvGrpSpPr/>
                  <p:nvPr/>
                </p:nvGrpSpPr>
                <p:grpSpPr>
                  <a:xfrm>
                    <a:off x="8289360" y="933480"/>
                    <a:ext cx="83880" cy="41400"/>
                    <a:chOff x="8289360" y="933480"/>
                    <a:chExt cx="83880" cy="41400"/>
                  </a:xfrm>
                </p:grpSpPr>
                <p:sp>
                  <p:nvSpPr>
                    <p:cNvPr id="5737" name=""/>
                    <p:cNvSpPr/>
                    <p:nvPr/>
                  </p:nvSpPr>
                  <p:spPr>
                    <a:xfrm>
                      <a:off x="828936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8" name=""/>
                    <p:cNvSpPr/>
                    <p:nvPr/>
                  </p:nvSpPr>
                  <p:spPr>
                    <a:xfrm>
                      <a:off x="828936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9" name=""/>
                    <p:cNvSpPr/>
                    <p:nvPr/>
                  </p:nvSpPr>
                  <p:spPr>
                    <a:xfrm>
                      <a:off x="828936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0" name=""/>
                  <p:cNvGrpSpPr/>
                  <p:nvPr/>
                </p:nvGrpSpPr>
                <p:grpSpPr>
                  <a:xfrm>
                    <a:off x="8289360" y="975240"/>
                    <a:ext cx="83880" cy="41400"/>
                    <a:chOff x="8289360" y="975240"/>
                    <a:chExt cx="83880" cy="41400"/>
                  </a:xfrm>
                </p:grpSpPr>
                <p:sp>
                  <p:nvSpPr>
                    <p:cNvPr id="5741" name=""/>
                    <p:cNvSpPr/>
                    <p:nvPr/>
                  </p:nvSpPr>
                  <p:spPr>
                    <a:xfrm>
                      <a:off x="828936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2" name=""/>
                    <p:cNvSpPr/>
                    <p:nvPr/>
                  </p:nvSpPr>
                  <p:spPr>
                    <a:xfrm>
                      <a:off x="828936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3" name=""/>
                    <p:cNvSpPr/>
                    <p:nvPr/>
                  </p:nvSpPr>
                  <p:spPr>
                    <a:xfrm>
                      <a:off x="828936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4" name=""/>
                  <p:cNvGrpSpPr/>
                  <p:nvPr/>
                </p:nvGrpSpPr>
                <p:grpSpPr>
                  <a:xfrm>
                    <a:off x="8289360" y="1017000"/>
                    <a:ext cx="83880" cy="41400"/>
                    <a:chOff x="8289360" y="1017000"/>
                    <a:chExt cx="83880" cy="41400"/>
                  </a:xfrm>
                </p:grpSpPr>
                <p:sp>
                  <p:nvSpPr>
                    <p:cNvPr id="5745" name=""/>
                    <p:cNvSpPr/>
                    <p:nvPr/>
                  </p:nvSpPr>
                  <p:spPr>
                    <a:xfrm>
                      <a:off x="828936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6" name=""/>
                    <p:cNvSpPr/>
                    <p:nvPr/>
                  </p:nvSpPr>
                  <p:spPr>
                    <a:xfrm>
                      <a:off x="828936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7" name=""/>
                    <p:cNvSpPr/>
                    <p:nvPr/>
                  </p:nvSpPr>
                  <p:spPr>
                    <a:xfrm>
                      <a:off x="828936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8" name=""/>
                  <p:cNvGrpSpPr/>
                  <p:nvPr/>
                </p:nvGrpSpPr>
                <p:grpSpPr>
                  <a:xfrm>
                    <a:off x="8289360" y="1059120"/>
                    <a:ext cx="83880" cy="41400"/>
                    <a:chOff x="8289360" y="1059120"/>
                    <a:chExt cx="83880" cy="41400"/>
                  </a:xfrm>
                </p:grpSpPr>
                <p:sp>
                  <p:nvSpPr>
                    <p:cNvPr id="5749" name=""/>
                    <p:cNvSpPr/>
                    <p:nvPr/>
                  </p:nvSpPr>
                  <p:spPr>
                    <a:xfrm>
                      <a:off x="828936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0" name=""/>
                    <p:cNvSpPr/>
                    <p:nvPr/>
                  </p:nvSpPr>
                  <p:spPr>
                    <a:xfrm>
                      <a:off x="828936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1" name=""/>
                    <p:cNvSpPr/>
                    <p:nvPr/>
                  </p:nvSpPr>
                  <p:spPr>
                    <a:xfrm>
                      <a:off x="828936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2" name=""/>
                  <p:cNvGrpSpPr/>
                  <p:nvPr/>
                </p:nvGrpSpPr>
                <p:grpSpPr>
                  <a:xfrm>
                    <a:off x="8289360" y="1100160"/>
                    <a:ext cx="83880" cy="41400"/>
                    <a:chOff x="8289360" y="1100160"/>
                    <a:chExt cx="83880" cy="41400"/>
                  </a:xfrm>
                </p:grpSpPr>
                <p:sp>
                  <p:nvSpPr>
                    <p:cNvPr id="5753" name=""/>
                    <p:cNvSpPr/>
                    <p:nvPr/>
                  </p:nvSpPr>
                  <p:spPr>
                    <a:xfrm>
                      <a:off x="828936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4" name=""/>
                    <p:cNvSpPr/>
                    <p:nvPr/>
                  </p:nvSpPr>
                  <p:spPr>
                    <a:xfrm>
                      <a:off x="828936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5" name=""/>
                    <p:cNvSpPr/>
                    <p:nvPr/>
                  </p:nvSpPr>
                  <p:spPr>
                    <a:xfrm>
                      <a:off x="828936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56" name=""/>
                <p:cNvGrpSpPr/>
                <p:nvPr/>
              </p:nvGrpSpPr>
              <p:grpSpPr>
                <a:xfrm>
                  <a:off x="8289360" y="1140120"/>
                  <a:ext cx="83880" cy="208080"/>
                  <a:chOff x="8289360" y="1140120"/>
                  <a:chExt cx="83880" cy="208080"/>
                </a:xfrm>
              </p:grpSpPr>
              <p:grpSp>
                <p:nvGrpSpPr>
                  <p:cNvPr id="5757" name=""/>
                  <p:cNvGrpSpPr/>
                  <p:nvPr/>
                </p:nvGrpSpPr>
                <p:grpSpPr>
                  <a:xfrm>
                    <a:off x="8289360" y="1140120"/>
                    <a:ext cx="83880" cy="41400"/>
                    <a:chOff x="8289360" y="1140120"/>
                    <a:chExt cx="83880" cy="41400"/>
                  </a:xfrm>
                </p:grpSpPr>
                <p:sp>
                  <p:nvSpPr>
                    <p:cNvPr id="5758" name=""/>
                    <p:cNvSpPr/>
                    <p:nvPr/>
                  </p:nvSpPr>
                  <p:spPr>
                    <a:xfrm>
                      <a:off x="828936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9" name=""/>
                    <p:cNvSpPr/>
                    <p:nvPr/>
                  </p:nvSpPr>
                  <p:spPr>
                    <a:xfrm>
                      <a:off x="828936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0" name=""/>
                    <p:cNvSpPr/>
                    <p:nvPr/>
                  </p:nvSpPr>
                  <p:spPr>
                    <a:xfrm>
                      <a:off x="828936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1" name=""/>
                  <p:cNvGrpSpPr/>
                  <p:nvPr/>
                </p:nvGrpSpPr>
                <p:grpSpPr>
                  <a:xfrm>
                    <a:off x="8289360" y="1181880"/>
                    <a:ext cx="83880" cy="41400"/>
                    <a:chOff x="8289360" y="1181880"/>
                    <a:chExt cx="83880" cy="41400"/>
                  </a:xfrm>
                </p:grpSpPr>
                <p:sp>
                  <p:nvSpPr>
                    <p:cNvPr id="5762" name=""/>
                    <p:cNvSpPr/>
                    <p:nvPr/>
                  </p:nvSpPr>
                  <p:spPr>
                    <a:xfrm>
                      <a:off x="828936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3" name=""/>
                    <p:cNvSpPr/>
                    <p:nvPr/>
                  </p:nvSpPr>
                  <p:spPr>
                    <a:xfrm>
                      <a:off x="828936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4" name=""/>
                    <p:cNvSpPr/>
                    <p:nvPr/>
                  </p:nvSpPr>
                  <p:spPr>
                    <a:xfrm>
                      <a:off x="828936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5" name=""/>
                  <p:cNvGrpSpPr/>
                  <p:nvPr/>
                </p:nvGrpSpPr>
                <p:grpSpPr>
                  <a:xfrm>
                    <a:off x="8289360" y="1223640"/>
                    <a:ext cx="83880" cy="41400"/>
                    <a:chOff x="8289360" y="1223640"/>
                    <a:chExt cx="83880" cy="41400"/>
                  </a:xfrm>
                </p:grpSpPr>
                <p:sp>
                  <p:nvSpPr>
                    <p:cNvPr id="5766" name=""/>
                    <p:cNvSpPr/>
                    <p:nvPr/>
                  </p:nvSpPr>
                  <p:spPr>
                    <a:xfrm>
                      <a:off x="828936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7" name=""/>
                    <p:cNvSpPr/>
                    <p:nvPr/>
                  </p:nvSpPr>
                  <p:spPr>
                    <a:xfrm>
                      <a:off x="828936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8" name=""/>
                    <p:cNvSpPr/>
                    <p:nvPr/>
                  </p:nvSpPr>
                  <p:spPr>
                    <a:xfrm>
                      <a:off x="828936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9" name=""/>
                  <p:cNvGrpSpPr/>
                  <p:nvPr/>
                </p:nvGrpSpPr>
                <p:grpSpPr>
                  <a:xfrm>
                    <a:off x="8289360" y="1265760"/>
                    <a:ext cx="83880" cy="41400"/>
                    <a:chOff x="8289360" y="1265760"/>
                    <a:chExt cx="83880" cy="41400"/>
                  </a:xfrm>
                </p:grpSpPr>
                <p:sp>
                  <p:nvSpPr>
                    <p:cNvPr id="5770" name=""/>
                    <p:cNvSpPr/>
                    <p:nvPr/>
                  </p:nvSpPr>
                  <p:spPr>
                    <a:xfrm>
                      <a:off x="828936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1" name=""/>
                    <p:cNvSpPr/>
                    <p:nvPr/>
                  </p:nvSpPr>
                  <p:spPr>
                    <a:xfrm>
                      <a:off x="828936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2" name=""/>
                    <p:cNvSpPr/>
                    <p:nvPr/>
                  </p:nvSpPr>
                  <p:spPr>
                    <a:xfrm>
                      <a:off x="828936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3" name=""/>
                  <p:cNvGrpSpPr/>
                  <p:nvPr/>
                </p:nvGrpSpPr>
                <p:grpSpPr>
                  <a:xfrm>
                    <a:off x="8289360" y="1306800"/>
                    <a:ext cx="83880" cy="41400"/>
                    <a:chOff x="8289360" y="1306800"/>
                    <a:chExt cx="83880" cy="41400"/>
                  </a:xfrm>
                </p:grpSpPr>
                <p:sp>
                  <p:nvSpPr>
                    <p:cNvPr id="5774" name=""/>
                    <p:cNvSpPr/>
                    <p:nvPr/>
                  </p:nvSpPr>
                  <p:spPr>
                    <a:xfrm>
                      <a:off x="828936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5" name=""/>
                    <p:cNvSpPr/>
                    <p:nvPr/>
                  </p:nvSpPr>
                  <p:spPr>
                    <a:xfrm>
                      <a:off x="828936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6" name=""/>
                    <p:cNvSpPr/>
                    <p:nvPr/>
                  </p:nvSpPr>
                  <p:spPr>
                    <a:xfrm>
                      <a:off x="828936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777" name=""/>
              <p:cNvGrpSpPr/>
              <p:nvPr/>
            </p:nvGrpSpPr>
            <p:grpSpPr>
              <a:xfrm>
                <a:off x="8262720" y="717480"/>
                <a:ext cx="137880" cy="216000"/>
                <a:chOff x="8262720" y="717480"/>
                <a:chExt cx="137880" cy="216000"/>
              </a:xfrm>
            </p:grpSpPr>
            <p:grpSp>
              <p:nvGrpSpPr>
                <p:cNvPr id="5778" name=""/>
                <p:cNvGrpSpPr/>
                <p:nvPr/>
              </p:nvGrpSpPr>
              <p:grpSpPr>
                <a:xfrm>
                  <a:off x="8262720" y="790200"/>
                  <a:ext cx="137880" cy="143280"/>
                  <a:chOff x="8262720" y="790200"/>
                  <a:chExt cx="137880" cy="143280"/>
                </a:xfrm>
              </p:grpSpPr>
              <p:sp>
                <p:nvSpPr>
                  <p:cNvPr id="5779" name=""/>
                  <p:cNvSpPr/>
                  <p:nvPr/>
                </p:nvSpPr>
                <p:spPr>
                  <a:xfrm>
                    <a:off x="826272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80" name=""/>
                  <p:cNvGrpSpPr/>
                  <p:nvPr/>
                </p:nvGrpSpPr>
                <p:grpSpPr>
                  <a:xfrm>
                    <a:off x="8265240" y="790200"/>
                    <a:ext cx="132480" cy="143280"/>
                    <a:chOff x="8265240" y="790200"/>
                    <a:chExt cx="132480" cy="143280"/>
                  </a:xfrm>
                </p:grpSpPr>
                <p:sp>
                  <p:nvSpPr>
                    <p:cNvPr id="5781" name=""/>
                    <p:cNvSpPr/>
                    <p:nvPr/>
                  </p:nvSpPr>
                  <p:spPr>
                    <a:xfrm>
                      <a:off x="826596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2" name=""/>
                    <p:cNvSpPr/>
                    <p:nvPr/>
                  </p:nvSpPr>
                  <p:spPr>
                    <a:xfrm flipV="1">
                      <a:off x="826524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3" name=""/>
                    <p:cNvSpPr/>
                    <p:nvPr/>
                  </p:nvSpPr>
                  <p:spPr>
                    <a:xfrm>
                      <a:off x="826920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4" name=""/>
                <p:cNvGrpSpPr/>
                <p:nvPr/>
              </p:nvGrpSpPr>
              <p:grpSpPr>
                <a:xfrm>
                  <a:off x="8287920" y="717480"/>
                  <a:ext cx="86400" cy="72360"/>
                  <a:chOff x="8287920" y="717480"/>
                  <a:chExt cx="86400" cy="72360"/>
                </a:xfrm>
              </p:grpSpPr>
              <p:sp>
                <p:nvSpPr>
                  <p:cNvPr id="5785" name=""/>
                  <p:cNvSpPr/>
                  <p:nvPr/>
                </p:nvSpPr>
                <p:spPr>
                  <a:xfrm>
                    <a:off x="82882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6" name=""/>
                  <p:cNvSpPr/>
                  <p:nvPr/>
                </p:nvSpPr>
                <p:spPr>
                  <a:xfrm>
                    <a:off x="8306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7" name=""/>
                  <p:cNvSpPr/>
                  <p:nvPr/>
                </p:nvSpPr>
                <p:spPr>
                  <a:xfrm>
                    <a:off x="8325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8" name=""/>
                  <p:cNvSpPr/>
                  <p:nvPr/>
                </p:nvSpPr>
                <p:spPr>
                  <a:xfrm>
                    <a:off x="83448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9" name=""/>
                  <p:cNvSpPr/>
                  <p:nvPr/>
                </p:nvSpPr>
                <p:spPr>
                  <a:xfrm>
                    <a:off x="836352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0" name=""/>
                  <p:cNvSpPr/>
                  <p:nvPr/>
                </p:nvSpPr>
                <p:spPr>
                  <a:xfrm>
                    <a:off x="828792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1" name=""/>
                  <p:cNvSpPr/>
                  <p:nvPr/>
                </p:nvSpPr>
                <p:spPr>
                  <a:xfrm>
                    <a:off x="828864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2" name=""/>
                  <p:cNvSpPr/>
                  <p:nvPr/>
                </p:nvSpPr>
                <p:spPr>
                  <a:xfrm>
                    <a:off x="828864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93" name=""/>
                <p:cNvSpPr/>
                <p:nvPr/>
              </p:nvSpPr>
              <p:spPr>
                <a:xfrm>
                  <a:off x="827892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"/>
                <p:cNvSpPr/>
                <p:nvPr/>
              </p:nvSpPr>
              <p:spPr>
                <a:xfrm>
                  <a:off x="836244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5" name=""/>
                <p:cNvSpPr/>
                <p:nvPr/>
              </p:nvSpPr>
              <p:spPr>
                <a:xfrm>
                  <a:off x="831348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6" name=""/>
            <p:cNvSpPr/>
            <p:nvPr/>
          </p:nvSpPr>
          <p:spPr>
            <a:xfrm>
              <a:off x="7595280" y="145800"/>
              <a:ext cx="146988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ramp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7" name=""/>
          <p:cNvSpPr/>
          <p:nvPr/>
        </p:nvSpPr>
        <p:spPr>
          <a:xfrm>
            <a:off x="461880" y="2025720"/>
            <a:ext cx="705168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500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eate default 2-points waveform ( from ramp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ns 0.8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ns  1.00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"/>
          <p:cNvSpPr/>
          <p:nvPr/>
        </p:nvSpPr>
        <p:spPr>
          <a:xfrm>
            <a:off x="461880" y="3774960"/>
            <a:ext cx="781380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500"/>
              </a:spcBef>
              <a:spcAft>
                <a:spcPts val="451"/>
              </a:spcAft>
              <a:buClr>
                <a:srgbClr val="ffcc00"/>
              </a:buClr>
              <a:buSzPct val="20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eate  5-points waveform  ( from static valu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00e+00s           0.86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732e-11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0.918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831e-11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0.999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093e-10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1.068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366e-10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1.132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5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5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2000"/>
                                        <p:tgtEl>
                                          <p:spTgt spid="5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5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tatic swing calculation from [pull...]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5800" name=""/>
          <p:cNvGrpSpPr/>
          <p:nvPr/>
        </p:nvGrpSpPr>
        <p:grpSpPr>
          <a:xfrm>
            <a:off x="7838280" y="4851000"/>
            <a:ext cx="1469880" cy="1206720"/>
            <a:chOff x="7838280" y="4851000"/>
            <a:chExt cx="1469880" cy="1206720"/>
          </a:xfrm>
        </p:grpSpPr>
        <p:grpSp>
          <p:nvGrpSpPr>
            <p:cNvPr id="5801" name=""/>
            <p:cNvGrpSpPr/>
            <p:nvPr/>
          </p:nvGrpSpPr>
          <p:grpSpPr>
            <a:xfrm>
              <a:off x="8258040" y="5422680"/>
              <a:ext cx="633240" cy="635040"/>
              <a:chOff x="8258040" y="5422680"/>
              <a:chExt cx="633240" cy="635040"/>
            </a:xfrm>
          </p:grpSpPr>
          <p:grpSp>
            <p:nvGrpSpPr>
              <p:cNvPr id="5802" name=""/>
              <p:cNvGrpSpPr/>
              <p:nvPr/>
            </p:nvGrpSpPr>
            <p:grpSpPr>
              <a:xfrm>
                <a:off x="8258040" y="5638680"/>
                <a:ext cx="633240" cy="419040"/>
                <a:chOff x="8258040" y="5638680"/>
                <a:chExt cx="633240" cy="419040"/>
              </a:xfrm>
            </p:grpSpPr>
            <p:grpSp>
              <p:nvGrpSpPr>
                <p:cNvPr id="5803" name=""/>
                <p:cNvGrpSpPr/>
                <p:nvPr/>
              </p:nvGrpSpPr>
              <p:grpSpPr>
                <a:xfrm>
                  <a:off x="8258040" y="5974920"/>
                  <a:ext cx="633240" cy="82800"/>
                  <a:chOff x="8258040" y="5974920"/>
                  <a:chExt cx="633240" cy="82800"/>
                </a:xfrm>
              </p:grpSpPr>
              <p:sp>
                <p:nvSpPr>
                  <p:cNvPr id="5804" name=""/>
                  <p:cNvSpPr/>
                  <p:nvPr/>
                </p:nvSpPr>
                <p:spPr>
                  <a:xfrm>
                    <a:off x="8363520" y="59749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5" name=""/>
                  <p:cNvSpPr/>
                  <p:nvPr/>
                </p:nvSpPr>
                <p:spPr>
                  <a:xfrm>
                    <a:off x="857484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6" name=""/>
                  <p:cNvSpPr/>
                  <p:nvPr/>
                </p:nvSpPr>
                <p:spPr>
                  <a:xfrm>
                    <a:off x="8680680" y="59749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7" name=""/>
                  <p:cNvSpPr/>
                  <p:nvPr/>
                </p:nvSpPr>
                <p:spPr>
                  <a:xfrm>
                    <a:off x="878616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8" name=""/>
                  <p:cNvSpPr/>
                  <p:nvPr/>
                </p:nvSpPr>
                <p:spPr>
                  <a:xfrm>
                    <a:off x="846936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9" name=""/>
                  <p:cNvSpPr/>
                  <p:nvPr/>
                </p:nvSpPr>
                <p:spPr>
                  <a:xfrm>
                    <a:off x="825804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0" name=""/>
                <p:cNvGrpSpPr/>
                <p:nvPr/>
              </p:nvGrpSpPr>
              <p:grpSpPr>
                <a:xfrm>
                  <a:off x="8310960" y="5891040"/>
                  <a:ext cx="527760" cy="82800"/>
                  <a:chOff x="8310960" y="5891040"/>
                  <a:chExt cx="527760" cy="82800"/>
                </a:xfrm>
              </p:grpSpPr>
              <p:sp>
                <p:nvSpPr>
                  <p:cNvPr id="5811" name=""/>
                  <p:cNvSpPr/>
                  <p:nvPr/>
                </p:nvSpPr>
                <p:spPr>
                  <a:xfrm>
                    <a:off x="831096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2" name=""/>
                  <p:cNvSpPr/>
                  <p:nvPr/>
                </p:nvSpPr>
                <p:spPr>
                  <a:xfrm>
                    <a:off x="852228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3" name=""/>
                  <p:cNvSpPr/>
                  <p:nvPr/>
                </p:nvSpPr>
                <p:spPr>
                  <a:xfrm>
                    <a:off x="862812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4" name=""/>
                  <p:cNvSpPr/>
                  <p:nvPr/>
                </p:nvSpPr>
                <p:spPr>
                  <a:xfrm>
                    <a:off x="873360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5" name=""/>
                  <p:cNvSpPr/>
                  <p:nvPr/>
                </p:nvSpPr>
                <p:spPr>
                  <a:xfrm>
                    <a:off x="841644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16" name=""/>
                <p:cNvSpPr/>
                <p:nvPr/>
              </p:nvSpPr>
              <p:spPr>
                <a:xfrm>
                  <a:off x="8469360" y="58071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>
                  <a:off x="8681040" y="58071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>
                  <a:off x="8575200" y="58071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8363520" y="58071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>
                  <a:off x="8416800" y="57236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>
                  <a:off x="8628120" y="57236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2" name=""/>
                <p:cNvSpPr/>
                <p:nvPr/>
              </p:nvSpPr>
              <p:spPr>
                <a:xfrm>
                  <a:off x="8522640" y="57236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23" name=""/>
                <p:cNvGrpSpPr/>
                <p:nvPr/>
              </p:nvGrpSpPr>
              <p:grpSpPr>
                <a:xfrm>
                  <a:off x="8470440" y="5638680"/>
                  <a:ext cx="210600" cy="82800"/>
                  <a:chOff x="8470440" y="5638680"/>
                  <a:chExt cx="210600" cy="82800"/>
                </a:xfrm>
              </p:grpSpPr>
              <p:sp>
                <p:nvSpPr>
                  <p:cNvPr id="5824" name=""/>
                  <p:cNvSpPr/>
                  <p:nvPr/>
                </p:nvSpPr>
                <p:spPr>
                  <a:xfrm>
                    <a:off x="8470440" y="56386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5" name=""/>
                  <p:cNvSpPr/>
                  <p:nvPr/>
                </p:nvSpPr>
                <p:spPr>
                  <a:xfrm>
                    <a:off x="8576280" y="56386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26" name=""/>
              <p:cNvGrpSpPr/>
              <p:nvPr/>
            </p:nvGrpSpPr>
            <p:grpSpPr>
              <a:xfrm>
                <a:off x="8532360" y="5638680"/>
                <a:ext cx="83880" cy="414720"/>
                <a:chOff x="8532360" y="5638680"/>
                <a:chExt cx="83880" cy="414720"/>
              </a:xfrm>
            </p:grpSpPr>
            <p:grpSp>
              <p:nvGrpSpPr>
                <p:cNvPr id="5827" name=""/>
                <p:cNvGrpSpPr/>
                <p:nvPr/>
              </p:nvGrpSpPr>
              <p:grpSpPr>
                <a:xfrm>
                  <a:off x="8532360" y="5638680"/>
                  <a:ext cx="83880" cy="208080"/>
                  <a:chOff x="8532360" y="5638680"/>
                  <a:chExt cx="83880" cy="208080"/>
                </a:xfrm>
              </p:grpSpPr>
              <p:grpSp>
                <p:nvGrpSpPr>
                  <p:cNvPr id="5828" name=""/>
                  <p:cNvGrpSpPr/>
                  <p:nvPr/>
                </p:nvGrpSpPr>
                <p:grpSpPr>
                  <a:xfrm>
                    <a:off x="8532360" y="5638680"/>
                    <a:ext cx="83880" cy="41400"/>
                    <a:chOff x="8532360" y="5638680"/>
                    <a:chExt cx="83880" cy="41400"/>
                  </a:xfrm>
                </p:grpSpPr>
                <p:sp>
                  <p:nvSpPr>
                    <p:cNvPr id="5829" name=""/>
                    <p:cNvSpPr/>
                    <p:nvPr/>
                  </p:nvSpPr>
                  <p:spPr>
                    <a:xfrm>
                      <a:off x="8532360" y="5638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0" name=""/>
                    <p:cNvSpPr/>
                    <p:nvPr/>
                  </p:nvSpPr>
                  <p:spPr>
                    <a:xfrm>
                      <a:off x="8532360" y="5652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1" name=""/>
                    <p:cNvSpPr/>
                    <p:nvPr/>
                  </p:nvSpPr>
                  <p:spPr>
                    <a:xfrm>
                      <a:off x="8532360" y="5666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2" name=""/>
                  <p:cNvGrpSpPr/>
                  <p:nvPr/>
                </p:nvGrpSpPr>
                <p:grpSpPr>
                  <a:xfrm>
                    <a:off x="8532360" y="5680440"/>
                    <a:ext cx="83880" cy="41400"/>
                    <a:chOff x="8532360" y="5680440"/>
                    <a:chExt cx="83880" cy="41400"/>
                  </a:xfrm>
                </p:grpSpPr>
                <p:sp>
                  <p:nvSpPr>
                    <p:cNvPr id="5833" name=""/>
                    <p:cNvSpPr/>
                    <p:nvPr/>
                  </p:nvSpPr>
                  <p:spPr>
                    <a:xfrm>
                      <a:off x="8532360" y="5680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4" name=""/>
                    <p:cNvSpPr/>
                    <p:nvPr/>
                  </p:nvSpPr>
                  <p:spPr>
                    <a:xfrm>
                      <a:off x="8532360" y="5693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5" name=""/>
                    <p:cNvSpPr/>
                    <p:nvPr/>
                  </p:nvSpPr>
                  <p:spPr>
                    <a:xfrm>
                      <a:off x="8532360" y="5707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6" name=""/>
                  <p:cNvGrpSpPr/>
                  <p:nvPr/>
                </p:nvGrpSpPr>
                <p:grpSpPr>
                  <a:xfrm>
                    <a:off x="8532360" y="5722200"/>
                    <a:ext cx="83880" cy="41400"/>
                    <a:chOff x="8532360" y="5722200"/>
                    <a:chExt cx="83880" cy="41400"/>
                  </a:xfrm>
                </p:grpSpPr>
                <p:sp>
                  <p:nvSpPr>
                    <p:cNvPr id="5837" name=""/>
                    <p:cNvSpPr/>
                    <p:nvPr/>
                  </p:nvSpPr>
                  <p:spPr>
                    <a:xfrm>
                      <a:off x="8532360" y="5722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8" name=""/>
                    <p:cNvSpPr/>
                    <p:nvPr/>
                  </p:nvSpPr>
                  <p:spPr>
                    <a:xfrm>
                      <a:off x="8532360" y="5735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9" name=""/>
                    <p:cNvSpPr/>
                    <p:nvPr/>
                  </p:nvSpPr>
                  <p:spPr>
                    <a:xfrm>
                      <a:off x="8532360" y="5749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0" name=""/>
                  <p:cNvGrpSpPr/>
                  <p:nvPr/>
                </p:nvGrpSpPr>
                <p:grpSpPr>
                  <a:xfrm>
                    <a:off x="8532360" y="5764320"/>
                    <a:ext cx="83880" cy="41400"/>
                    <a:chOff x="8532360" y="5764320"/>
                    <a:chExt cx="83880" cy="41400"/>
                  </a:xfrm>
                </p:grpSpPr>
                <p:sp>
                  <p:nvSpPr>
                    <p:cNvPr id="5841" name=""/>
                    <p:cNvSpPr/>
                    <p:nvPr/>
                  </p:nvSpPr>
                  <p:spPr>
                    <a:xfrm>
                      <a:off x="8532360" y="5764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2" name=""/>
                    <p:cNvSpPr/>
                    <p:nvPr/>
                  </p:nvSpPr>
                  <p:spPr>
                    <a:xfrm>
                      <a:off x="8532360" y="5777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3" name=""/>
                    <p:cNvSpPr/>
                    <p:nvPr/>
                  </p:nvSpPr>
                  <p:spPr>
                    <a:xfrm>
                      <a:off x="8532360" y="5791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4" name=""/>
                  <p:cNvGrpSpPr/>
                  <p:nvPr/>
                </p:nvGrpSpPr>
                <p:grpSpPr>
                  <a:xfrm>
                    <a:off x="8532360" y="5805360"/>
                    <a:ext cx="83880" cy="41400"/>
                    <a:chOff x="8532360" y="5805360"/>
                    <a:chExt cx="83880" cy="41400"/>
                  </a:xfrm>
                </p:grpSpPr>
                <p:sp>
                  <p:nvSpPr>
                    <p:cNvPr id="5845" name=""/>
                    <p:cNvSpPr/>
                    <p:nvPr/>
                  </p:nvSpPr>
                  <p:spPr>
                    <a:xfrm>
                      <a:off x="8532360" y="5805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6" name=""/>
                    <p:cNvSpPr/>
                    <p:nvPr/>
                  </p:nvSpPr>
                  <p:spPr>
                    <a:xfrm>
                      <a:off x="8532360" y="5818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7" name=""/>
                    <p:cNvSpPr/>
                    <p:nvPr/>
                  </p:nvSpPr>
                  <p:spPr>
                    <a:xfrm>
                      <a:off x="8532360" y="5832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48" name=""/>
                <p:cNvGrpSpPr/>
                <p:nvPr/>
              </p:nvGrpSpPr>
              <p:grpSpPr>
                <a:xfrm>
                  <a:off x="8532360" y="5845320"/>
                  <a:ext cx="83880" cy="208080"/>
                  <a:chOff x="8532360" y="5845320"/>
                  <a:chExt cx="83880" cy="208080"/>
                </a:xfrm>
              </p:grpSpPr>
              <p:grpSp>
                <p:nvGrpSpPr>
                  <p:cNvPr id="5849" name=""/>
                  <p:cNvGrpSpPr/>
                  <p:nvPr/>
                </p:nvGrpSpPr>
                <p:grpSpPr>
                  <a:xfrm>
                    <a:off x="8532360" y="5845320"/>
                    <a:ext cx="83880" cy="41400"/>
                    <a:chOff x="8532360" y="5845320"/>
                    <a:chExt cx="83880" cy="41400"/>
                  </a:xfrm>
                </p:grpSpPr>
                <p:sp>
                  <p:nvSpPr>
                    <p:cNvPr id="5850" name=""/>
                    <p:cNvSpPr/>
                    <p:nvPr/>
                  </p:nvSpPr>
                  <p:spPr>
                    <a:xfrm>
                      <a:off x="8532360" y="584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1" name=""/>
                    <p:cNvSpPr/>
                    <p:nvPr/>
                  </p:nvSpPr>
                  <p:spPr>
                    <a:xfrm>
                      <a:off x="8532360" y="5858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2" name=""/>
                    <p:cNvSpPr/>
                    <p:nvPr/>
                  </p:nvSpPr>
                  <p:spPr>
                    <a:xfrm>
                      <a:off x="8532360" y="5872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3" name=""/>
                  <p:cNvGrpSpPr/>
                  <p:nvPr/>
                </p:nvGrpSpPr>
                <p:grpSpPr>
                  <a:xfrm>
                    <a:off x="8532360" y="5887080"/>
                    <a:ext cx="83880" cy="41400"/>
                    <a:chOff x="8532360" y="5887080"/>
                    <a:chExt cx="83880" cy="41400"/>
                  </a:xfrm>
                </p:grpSpPr>
                <p:sp>
                  <p:nvSpPr>
                    <p:cNvPr id="5854" name=""/>
                    <p:cNvSpPr/>
                    <p:nvPr/>
                  </p:nvSpPr>
                  <p:spPr>
                    <a:xfrm>
                      <a:off x="8532360" y="5887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5" name=""/>
                    <p:cNvSpPr/>
                    <p:nvPr/>
                  </p:nvSpPr>
                  <p:spPr>
                    <a:xfrm>
                      <a:off x="8532360" y="5900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6" name=""/>
                    <p:cNvSpPr/>
                    <p:nvPr/>
                  </p:nvSpPr>
                  <p:spPr>
                    <a:xfrm>
                      <a:off x="8532360" y="591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7" name=""/>
                  <p:cNvGrpSpPr/>
                  <p:nvPr/>
                </p:nvGrpSpPr>
                <p:grpSpPr>
                  <a:xfrm>
                    <a:off x="8532360" y="5928840"/>
                    <a:ext cx="83880" cy="41400"/>
                    <a:chOff x="8532360" y="5928840"/>
                    <a:chExt cx="83880" cy="41400"/>
                  </a:xfrm>
                </p:grpSpPr>
                <p:sp>
                  <p:nvSpPr>
                    <p:cNvPr id="5858" name=""/>
                    <p:cNvSpPr/>
                    <p:nvPr/>
                  </p:nvSpPr>
                  <p:spPr>
                    <a:xfrm>
                      <a:off x="8532360" y="5928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9" name=""/>
                    <p:cNvSpPr/>
                    <p:nvPr/>
                  </p:nvSpPr>
                  <p:spPr>
                    <a:xfrm>
                      <a:off x="8532360" y="5942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0" name=""/>
                    <p:cNvSpPr/>
                    <p:nvPr/>
                  </p:nvSpPr>
                  <p:spPr>
                    <a:xfrm>
                      <a:off x="8532360" y="5956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1" name=""/>
                  <p:cNvGrpSpPr/>
                  <p:nvPr/>
                </p:nvGrpSpPr>
                <p:grpSpPr>
                  <a:xfrm>
                    <a:off x="8532360" y="5970960"/>
                    <a:ext cx="83880" cy="41400"/>
                    <a:chOff x="8532360" y="5970960"/>
                    <a:chExt cx="83880" cy="41400"/>
                  </a:xfrm>
                </p:grpSpPr>
                <p:sp>
                  <p:nvSpPr>
                    <p:cNvPr id="5862" name=""/>
                    <p:cNvSpPr/>
                    <p:nvPr/>
                  </p:nvSpPr>
                  <p:spPr>
                    <a:xfrm>
                      <a:off x="8532360" y="5970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3" name=""/>
                    <p:cNvSpPr/>
                    <p:nvPr/>
                  </p:nvSpPr>
                  <p:spPr>
                    <a:xfrm>
                      <a:off x="8532360" y="5984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4" name=""/>
                    <p:cNvSpPr/>
                    <p:nvPr/>
                  </p:nvSpPr>
                  <p:spPr>
                    <a:xfrm>
                      <a:off x="8532360" y="5998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5" name=""/>
                  <p:cNvGrpSpPr/>
                  <p:nvPr/>
                </p:nvGrpSpPr>
                <p:grpSpPr>
                  <a:xfrm>
                    <a:off x="8532360" y="6012000"/>
                    <a:ext cx="83880" cy="41400"/>
                    <a:chOff x="8532360" y="6012000"/>
                    <a:chExt cx="83880" cy="41400"/>
                  </a:xfrm>
                </p:grpSpPr>
                <p:sp>
                  <p:nvSpPr>
                    <p:cNvPr id="5866" name=""/>
                    <p:cNvSpPr/>
                    <p:nvPr/>
                  </p:nvSpPr>
                  <p:spPr>
                    <a:xfrm>
                      <a:off x="8532360" y="6012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7" name=""/>
                    <p:cNvSpPr/>
                    <p:nvPr/>
                  </p:nvSpPr>
                  <p:spPr>
                    <a:xfrm>
                      <a:off x="8532360" y="602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8" name=""/>
                    <p:cNvSpPr/>
                    <p:nvPr/>
                  </p:nvSpPr>
                  <p:spPr>
                    <a:xfrm>
                      <a:off x="8532360" y="6039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69" name=""/>
              <p:cNvGrpSpPr/>
              <p:nvPr/>
            </p:nvGrpSpPr>
            <p:grpSpPr>
              <a:xfrm>
                <a:off x="8505720" y="5422680"/>
                <a:ext cx="137880" cy="216000"/>
                <a:chOff x="8505720" y="5422680"/>
                <a:chExt cx="137880" cy="216000"/>
              </a:xfrm>
            </p:grpSpPr>
            <p:grpSp>
              <p:nvGrpSpPr>
                <p:cNvPr id="5870" name=""/>
                <p:cNvGrpSpPr/>
                <p:nvPr/>
              </p:nvGrpSpPr>
              <p:grpSpPr>
                <a:xfrm>
                  <a:off x="8505720" y="5495400"/>
                  <a:ext cx="137880" cy="143280"/>
                  <a:chOff x="8505720" y="5495400"/>
                  <a:chExt cx="137880" cy="143280"/>
                </a:xfrm>
              </p:grpSpPr>
              <p:sp>
                <p:nvSpPr>
                  <p:cNvPr id="5871" name=""/>
                  <p:cNvSpPr/>
                  <p:nvPr/>
                </p:nvSpPr>
                <p:spPr>
                  <a:xfrm>
                    <a:off x="8505720" y="55580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72" name=""/>
                  <p:cNvGrpSpPr/>
                  <p:nvPr/>
                </p:nvGrpSpPr>
                <p:grpSpPr>
                  <a:xfrm>
                    <a:off x="8508240" y="5495400"/>
                    <a:ext cx="132480" cy="143280"/>
                    <a:chOff x="8508240" y="5495400"/>
                    <a:chExt cx="132480" cy="143280"/>
                  </a:xfrm>
                </p:grpSpPr>
                <p:sp>
                  <p:nvSpPr>
                    <p:cNvPr id="5873" name=""/>
                    <p:cNvSpPr/>
                    <p:nvPr/>
                  </p:nvSpPr>
                  <p:spPr>
                    <a:xfrm>
                      <a:off x="8508960" y="55648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4" name=""/>
                    <p:cNvSpPr/>
                    <p:nvPr/>
                  </p:nvSpPr>
                  <p:spPr>
                    <a:xfrm flipV="1">
                      <a:off x="8508240" y="55069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5" name=""/>
                    <p:cNvSpPr/>
                    <p:nvPr/>
                  </p:nvSpPr>
                  <p:spPr>
                    <a:xfrm>
                      <a:off x="8512200" y="54954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76" name=""/>
                <p:cNvGrpSpPr/>
                <p:nvPr/>
              </p:nvGrpSpPr>
              <p:grpSpPr>
                <a:xfrm>
                  <a:off x="8530920" y="5422680"/>
                  <a:ext cx="86400" cy="72360"/>
                  <a:chOff x="8530920" y="5422680"/>
                  <a:chExt cx="86400" cy="72360"/>
                </a:xfrm>
              </p:grpSpPr>
              <p:sp>
                <p:nvSpPr>
                  <p:cNvPr id="5877" name=""/>
                  <p:cNvSpPr/>
                  <p:nvPr/>
                </p:nvSpPr>
                <p:spPr>
                  <a:xfrm>
                    <a:off x="853128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8" name=""/>
                  <p:cNvSpPr/>
                  <p:nvPr/>
                </p:nvSpPr>
                <p:spPr>
                  <a:xfrm>
                    <a:off x="854964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"/>
                  <p:cNvSpPr/>
                  <p:nvPr/>
                </p:nvSpPr>
                <p:spPr>
                  <a:xfrm>
                    <a:off x="856800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0" name=""/>
                  <p:cNvSpPr/>
                  <p:nvPr/>
                </p:nvSpPr>
                <p:spPr>
                  <a:xfrm>
                    <a:off x="858780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1" name=""/>
                  <p:cNvSpPr/>
                  <p:nvPr/>
                </p:nvSpPr>
                <p:spPr>
                  <a:xfrm>
                    <a:off x="860652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2" name=""/>
                  <p:cNvSpPr/>
                  <p:nvPr/>
                </p:nvSpPr>
                <p:spPr>
                  <a:xfrm>
                    <a:off x="8530920" y="54536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3" name=""/>
                  <p:cNvSpPr/>
                  <p:nvPr/>
                </p:nvSpPr>
                <p:spPr>
                  <a:xfrm>
                    <a:off x="8531640" y="54763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4" name=""/>
                  <p:cNvSpPr/>
                  <p:nvPr/>
                </p:nvSpPr>
                <p:spPr>
                  <a:xfrm>
                    <a:off x="8531640" y="54950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5" name=""/>
                <p:cNvSpPr/>
                <p:nvPr/>
              </p:nvSpPr>
              <p:spPr>
                <a:xfrm>
                  <a:off x="8521920" y="55645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>
                  <a:off x="8605440" y="55638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>
                  <a:off x="8556480" y="55782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8" name=""/>
            <p:cNvSpPr/>
            <p:nvPr/>
          </p:nvSpPr>
          <p:spPr>
            <a:xfrm>
              <a:off x="7838280" y="4851000"/>
              <a:ext cx="146988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ramp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297000" y="2298600"/>
            <a:ext cx="6547320" cy="4159080"/>
            <a:chOff x="297000" y="2298600"/>
            <a:chExt cx="6547320" cy="4159080"/>
          </a:xfrm>
        </p:grpSpPr>
        <p:grpSp>
          <p:nvGrpSpPr>
            <p:cNvPr id="5890" name=""/>
            <p:cNvGrpSpPr/>
            <p:nvPr/>
          </p:nvGrpSpPr>
          <p:grpSpPr>
            <a:xfrm>
              <a:off x="5432760" y="4338720"/>
              <a:ext cx="1411560" cy="1321200"/>
              <a:chOff x="5432760" y="4338720"/>
              <a:chExt cx="1411560" cy="1321200"/>
            </a:xfrm>
          </p:grpSpPr>
          <p:sp>
            <p:nvSpPr>
              <p:cNvPr id="5891" name=""/>
              <p:cNvSpPr/>
              <p:nvPr/>
            </p:nvSpPr>
            <p:spPr>
              <a:xfrm>
                <a:off x="5446080" y="5298840"/>
                <a:ext cx="13982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[pulldown] !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432760" y="4338720"/>
                <a:ext cx="11073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[pullup] !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3" name=""/>
            <p:cNvSpPr/>
            <p:nvPr/>
          </p:nvSpPr>
          <p:spPr>
            <a:xfrm>
              <a:off x="4343760" y="6157800"/>
              <a:ext cx="13816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0Ohm to 1.0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2207160" y="6140520"/>
              <a:ext cx="13816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0Ohm to 0.0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5" name=""/>
            <p:cNvGrpSpPr/>
            <p:nvPr/>
          </p:nvGrpSpPr>
          <p:grpSpPr>
            <a:xfrm>
              <a:off x="1295280" y="2298600"/>
              <a:ext cx="3382560" cy="3400200"/>
              <a:chOff x="1295280" y="2298600"/>
              <a:chExt cx="3382560" cy="3400200"/>
            </a:xfrm>
          </p:grpSpPr>
          <p:sp>
            <p:nvSpPr>
              <p:cNvPr id="5896" name=""/>
              <p:cNvSpPr/>
              <p:nvPr/>
            </p:nvSpPr>
            <p:spPr>
              <a:xfrm>
                <a:off x="1478160" y="2298600"/>
                <a:ext cx="0" cy="340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1295280" y="4772880"/>
                <a:ext cx="338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8" name=""/>
            <p:cNvSpPr/>
            <p:nvPr/>
          </p:nvSpPr>
          <p:spPr>
            <a:xfrm>
              <a:off x="297000" y="3357720"/>
              <a:ext cx="2442960" cy="2900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614520" y="4276800"/>
              <a:ext cx="504000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681120" y="5267160"/>
              <a:ext cx="507816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4857840" y="4618080"/>
              <a:ext cx="60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 rot="16200000">
              <a:off x="705240" y="2836800"/>
              <a:ext cx="62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505240" y="3357720"/>
              <a:ext cx="2442960" cy="2900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1063800" y="3917880"/>
              <a:ext cx="0" cy="107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1900080" y="4503600"/>
              <a:ext cx="0" cy="128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301920" y="3962520"/>
              <a:ext cx="0" cy="107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4102200" y="4475160"/>
              <a:ext cx="0" cy="1316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895320" y="4102200"/>
              <a:ext cx="331920" cy="350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940200" y="5086440"/>
              <a:ext cx="331920" cy="350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3122640" y="4102200"/>
              <a:ext cx="331920" cy="35064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1730520" y="5094360"/>
              <a:ext cx="331560" cy="35064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492120" y="341640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0.133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234080" y="578628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.132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124800" y="356544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.868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326400" y="579420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.133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3024360" y="4863960"/>
              <a:ext cx="63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.0V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697200" y="4708440"/>
              <a:ext cx="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8" name=""/>
          <p:cNvGrpSpPr/>
          <p:nvPr/>
        </p:nvGrpSpPr>
        <p:grpSpPr>
          <a:xfrm>
            <a:off x="5636160" y="550800"/>
            <a:ext cx="3399480" cy="980280"/>
            <a:chOff x="5636160" y="550800"/>
            <a:chExt cx="3399480" cy="980280"/>
          </a:xfrm>
        </p:grpSpPr>
        <p:sp>
          <p:nvSpPr>
            <p:cNvPr id="5919" name=""/>
            <p:cNvSpPr/>
            <p:nvPr/>
          </p:nvSpPr>
          <p:spPr>
            <a:xfrm>
              <a:off x="5663160" y="550800"/>
              <a:ext cx="25383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tic swing calc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5636160" y="1170000"/>
              <a:ext cx="33994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tween [pullup] and [pulldown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1" name=""/>
          <p:cNvGrpSpPr/>
          <p:nvPr/>
        </p:nvGrpSpPr>
        <p:grpSpPr>
          <a:xfrm>
            <a:off x="1066680" y="1754280"/>
            <a:ext cx="6113160" cy="3350160"/>
            <a:chOff x="1066680" y="1754280"/>
            <a:chExt cx="6113160" cy="3350160"/>
          </a:xfrm>
        </p:grpSpPr>
        <p:grpSp>
          <p:nvGrpSpPr>
            <p:cNvPr id="5922" name=""/>
            <p:cNvGrpSpPr/>
            <p:nvPr/>
          </p:nvGrpSpPr>
          <p:grpSpPr>
            <a:xfrm>
              <a:off x="5268240" y="1754280"/>
              <a:ext cx="1911600" cy="2229480"/>
              <a:chOff x="5268240" y="1754280"/>
              <a:chExt cx="1911600" cy="2229480"/>
            </a:xfrm>
          </p:grpSpPr>
          <p:sp>
            <p:nvSpPr>
              <p:cNvPr id="5923" name=""/>
              <p:cNvSpPr/>
              <p:nvPr/>
            </p:nvSpPr>
            <p:spPr>
              <a:xfrm>
                <a:off x="5601600" y="2222640"/>
                <a:ext cx="1578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.132V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  -0.133V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5977440" y="307656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.265V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5619600" y="3076560"/>
                <a:ext cx="142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5268240" y="1754280"/>
                <a:ext cx="179172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v Rise 50 G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6076800" y="3262680"/>
                <a:ext cx="804960" cy="721080"/>
              </a:xfrm>
              <a:prstGeom prst="leftRightArrow">
                <a:avLst>
                  <a:gd name="adj1" fmla="val 50000"/>
                  <a:gd name="adj2" fmla="val 22223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8" name=""/>
            <p:cNvSpPr/>
            <p:nvPr/>
          </p:nvSpPr>
          <p:spPr>
            <a:xfrm>
              <a:off x="1066680" y="4383360"/>
              <a:ext cx="817560" cy="721080"/>
            </a:xfrm>
            <a:prstGeom prst="leftRightArrow">
              <a:avLst>
                <a:gd name="adj1" fmla="val 50000"/>
                <a:gd name="adj2" fmla="val 22571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9" name=""/>
          <p:cNvGrpSpPr/>
          <p:nvPr/>
        </p:nvGrpSpPr>
        <p:grpSpPr>
          <a:xfrm>
            <a:off x="3308400" y="1754280"/>
            <a:ext cx="5433120" cy="3359880"/>
            <a:chOff x="3308400" y="1754280"/>
            <a:chExt cx="5433120" cy="3359880"/>
          </a:xfrm>
        </p:grpSpPr>
        <p:grpSp>
          <p:nvGrpSpPr>
            <p:cNvPr id="5930" name=""/>
            <p:cNvGrpSpPr/>
            <p:nvPr/>
          </p:nvGrpSpPr>
          <p:grpSpPr>
            <a:xfrm>
              <a:off x="7074720" y="1754280"/>
              <a:ext cx="1666800" cy="2231280"/>
              <a:chOff x="7074720" y="1754280"/>
              <a:chExt cx="1666800" cy="2231280"/>
            </a:xfrm>
          </p:grpSpPr>
          <p:sp>
            <p:nvSpPr>
              <p:cNvPr id="5931" name=""/>
              <p:cNvSpPr/>
              <p:nvPr/>
            </p:nvSpPr>
            <p:spPr>
              <a:xfrm>
                <a:off x="7176600" y="2222640"/>
                <a:ext cx="156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.133V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   0.868V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7544160" y="307656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.265V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7213680" y="3067200"/>
                <a:ext cx="142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7074720" y="1754280"/>
                <a:ext cx="16527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v Fall 50 Vc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7626240" y="3264120"/>
                <a:ext cx="804960" cy="721440"/>
              </a:xfrm>
              <a:prstGeom prst="leftRightArrow">
                <a:avLst>
                  <a:gd name="adj1" fmla="val 50000"/>
                  <a:gd name="adj2" fmla="val 22212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6" name=""/>
            <p:cNvSpPr/>
            <p:nvPr/>
          </p:nvSpPr>
          <p:spPr>
            <a:xfrm>
              <a:off x="3308400" y="4393080"/>
              <a:ext cx="804960" cy="721080"/>
            </a:xfrm>
            <a:prstGeom prst="leftRightArrow">
              <a:avLst>
                <a:gd name="adj1" fmla="val 50000"/>
                <a:gd name="adj2" fmla="val 22223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5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5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5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1000"/>
                                        <p:tgtEl>
                                          <p:spTgt spid="5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1000"/>
                                        <p:tgtEl>
                                          <p:spTgt spid="5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41720" y="6635880"/>
            <a:ext cx="528840" cy="2221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275120" y="23400"/>
            <a:ext cx="5823720" cy="4257000"/>
            <a:chOff x="1275120" y="23400"/>
            <a:chExt cx="5823720" cy="4257000"/>
          </a:xfrm>
        </p:grpSpPr>
        <p:grpSp>
          <p:nvGrpSpPr>
            <p:cNvPr id="91" name=""/>
            <p:cNvGrpSpPr/>
            <p:nvPr/>
          </p:nvGrpSpPr>
          <p:grpSpPr>
            <a:xfrm>
              <a:off x="2906640" y="1750680"/>
              <a:ext cx="2522160" cy="2529720"/>
              <a:chOff x="2906640" y="1750680"/>
              <a:chExt cx="2522160" cy="25297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906640" y="2611440"/>
                <a:ext cx="2522160" cy="1668960"/>
                <a:chOff x="2906640" y="2611440"/>
                <a:chExt cx="2522160" cy="166896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2906640" y="3950280"/>
                  <a:ext cx="2522160" cy="330120"/>
                  <a:chOff x="2906640" y="3950280"/>
                  <a:chExt cx="2522160" cy="33012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3327480" y="39502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4169160" y="39502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590000" y="39502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5010480" y="39502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747960" y="39502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906640" y="39502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3117600" y="3616560"/>
                  <a:ext cx="2101320" cy="330120"/>
                  <a:chOff x="3117600" y="3616560"/>
                  <a:chExt cx="2101320" cy="33012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3117600" y="361656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958920" y="361656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380120" y="361656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800600" y="361656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3538080" y="361656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3748680" y="328320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590720" y="328320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169520" y="328320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327840" y="328320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539160" y="294948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381200" y="294948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60720" y="294948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753360" y="2611440"/>
                  <a:ext cx="839880" cy="330120"/>
                  <a:chOff x="3753360" y="2611440"/>
                  <a:chExt cx="839880" cy="3301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753360" y="2611440"/>
                    <a:ext cx="4190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174920" y="261144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4000320" y="2611440"/>
                <a:ext cx="334800" cy="1652760"/>
                <a:chOff x="4000320" y="2611440"/>
                <a:chExt cx="334800" cy="16527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4000320" y="2611440"/>
                  <a:ext cx="334800" cy="829800"/>
                  <a:chOff x="4000320" y="2611440"/>
                  <a:chExt cx="334800" cy="82980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4000320" y="2611440"/>
                    <a:ext cx="334800" cy="165600"/>
                    <a:chOff x="4000320" y="2611440"/>
                    <a:chExt cx="334800" cy="16560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000320" y="26114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4000320" y="266472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4000320" y="27208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4000320" y="2778120"/>
                    <a:ext cx="334800" cy="165600"/>
                    <a:chOff x="4000320" y="2778120"/>
                    <a:chExt cx="334800" cy="16560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4000320" y="277812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4000320" y="28314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000320" y="28875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4000320" y="2944800"/>
                    <a:ext cx="334800" cy="165600"/>
                    <a:chOff x="4000320" y="2944800"/>
                    <a:chExt cx="334800" cy="16560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4000320" y="29448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4000320" y="29980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000320" y="30542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4000320" y="3111480"/>
                    <a:ext cx="334800" cy="165600"/>
                    <a:chOff x="4000320" y="3111480"/>
                    <a:chExt cx="334800" cy="16560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000320" y="31114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000320" y="31647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4000320" y="322092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4000320" y="3275640"/>
                    <a:ext cx="334800" cy="165600"/>
                    <a:chOff x="4000320" y="3275640"/>
                    <a:chExt cx="334800" cy="16560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000320" y="32756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000320" y="332892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000320" y="33850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4000320" y="3434400"/>
                  <a:ext cx="334800" cy="829800"/>
                  <a:chOff x="4000320" y="3434400"/>
                  <a:chExt cx="334800" cy="82980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4000320" y="3434400"/>
                    <a:ext cx="334800" cy="165600"/>
                    <a:chOff x="4000320" y="3434400"/>
                    <a:chExt cx="334800" cy="16560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000320" y="34344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000320" y="34876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000320" y="35438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4000320" y="3601080"/>
                    <a:ext cx="334800" cy="165600"/>
                    <a:chOff x="4000320" y="3601080"/>
                    <a:chExt cx="334800" cy="16560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4000320" y="36010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000320" y="36543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000320" y="371052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4000320" y="3767760"/>
                    <a:ext cx="334800" cy="165600"/>
                    <a:chOff x="4000320" y="3767760"/>
                    <a:chExt cx="334800" cy="16560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000320" y="37677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000320" y="38210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4000320" y="38772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4000320" y="3934440"/>
                    <a:ext cx="334800" cy="165600"/>
                    <a:chOff x="4000320" y="3934440"/>
                    <a:chExt cx="334800" cy="16560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4000320" y="39344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4000320" y="39877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000320" y="40438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4000320" y="4098600"/>
                    <a:ext cx="334800" cy="165600"/>
                    <a:chOff x="4000320" y="4098600"/>
                    <a:chExt cx="334800" cy="16560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000320" y="40986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000320" y="41518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4000320" y="42080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3894120" y="1750680"/>
                <a:ext cx="549360" cy="861480"/>
                <a:chOff x="3894120" y="1750680"/>
                <a:chExt cx="549360" cy="86148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894120" y="2041200"/>
                  <a:ext cx="549360" cy="570960"/>
                  <a:chOff x="3894120" y="2041200"/>
                  <a:chExt cx="549360" cy="57096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3894120" y="2290320"/>
                    <a:ext cx="549360" cy="522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3904560" y="2041200"/>
                    <a:ext cx="527400" cy="570960"/>
                    <a:chOff x="3904560" y="2041200"/>
                    <a:chExt cx="527400" cy="57096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908160" y="2317680"/>
                      <a:ext cx="519480" cy="2944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flipV="1">
                      <a:off x="3904560" y="2090160"/>
                      <a:ext cx="527400" cy="200160"/>
                    </a:xfrm>
                    <a:custGeom>
                      <a:avLst/>
                      <a:gdLst>
                        <a:gd name="textAreaLeft" fmla="*/ 54720 w 527400"/>
                        <a:gd name="textAreaRight" fmla="*/ 472680 w 527400"/>
                        <a:gd name="textAreaTop" fmla="*/ 20880 h 200160"/>
                        <a:gd name="textAreaBottom" fmla="*/ 179280 h 200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3920400" y="2041200"/>
                      <a:ext cx="492480" cy="489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3995640" y="1750680"/>
                  <a:ext cx="344520" cy="288720"/>
                  <a:chOff x="3995640" y="1750680"/>
                  <a:chExt cx="344520" cy="2887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3997440" y="175068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070160" y="175068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143240" y="175068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222800" y="175068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297320" y="175068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995640" y="187452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998880" y="196488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998880" y="203940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>
                  <a:off x="3959280" y="2315520"/>
                  <a:ext cx="82440" cy="2937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90840" y="2312640"/>
                  <a:ext cx="82800" cy="2934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7160" y="2369520"/>
                  <a:ext cx="142920" cy="2365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1275120" y="23400"/>
              <a:ext cx="5823720" cy="188352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Monotype Corsiva"/>
                </a:rPr>
                <a:t>D e c o d i n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Monotype Corsiva"/>
                </a:rPr>
                <a:t>ibischk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Monotype Corsiva"/>
                </a:rPr>
                <a:t>for static and dynamic wavefor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8960" y="1259640"/>
            <a:ext cx="1789920" cy="1948320"/>
            <a:chOff x="48960" y="1259640"/>
            <a:chExt cx="1789920" cy="1948320"/>
          </a:xfrm>
        </p:grpSpPr>
        <p:grpSp>
          <p:nvGrpSpPr>
            <p:cNvPr id="180" name=""/>
            <p:cNvGrpSpPr/>
            <p:nvPr/>
          </p:nvGrpSpPr>
          <p:grpSpPr>
            <a:xfrm>
              <a:off x="312480" y="1944360"/>
              <a:ext cx="1260360" cy="1263600"/>
              <a:chOff x="312480" y="1944360"/>
              <a:chExt cx="1260360" cy="12636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312480" y="2374200"/>
                <a:ext cx="1260360" cy="833760"/>
                <a:chOff x="312480" y="2374200"/>
                <a:chExt cx="1260360" cy="8337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12480" y="3043080"/>
                  <a:ext cx="1260360" cy="164880"/>
                  <a:chOff x="312480" y="3043080"/>
                  <a:chExt cx="1260360" cy="164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522720" y="304308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943200" y="30430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153440" y="304308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363680" y="30430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32960" y="30430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12480" y="30430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417960" y="2876400"/>
                  <a:ext cx="1050120" cy="164880"/>
                  <a:chOff x="417960" y="2876400"/>
                  <a:chExt cx="1050120" cy="1648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417960" y="287640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38440" y="287640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048680" y="287640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258920" y="287640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28200" y="287640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733320" y="2709720"/>
                  <a:ext cx="209160" cy="1648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54160" y="2709720"/>
                  <a:ext cx="208800" cy="1648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943560" y="2709720"/>
                  <a:ext cx="209160" cy="1648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2720" y="2709720"/>
                  <a:ext cx="208800" cy="1648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28560" y="2543040"/>
                  <a:ext cx="209160" cy="1648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049400" y="2543040"/>
                  <a:ext cx="208800" cy="1648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39160" y="2543040"/>
                  <a:ext cx="208800" cy="1648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35480" y="2374200"/>
                  <a:ext cx="419040" cy="164880"/>
                  <a:chOff x="735480" y="2374200"/>
                  <a:chExt cx="419040" cy="1648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35480" y="237420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945720" y="237420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858960" y="2374200"/>
                <a:ext cx="167400" cy="825840"/>
                <a:chOff x="858960" y="2374200"/>
                <a:chExt cx="167400" cy="82584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858960" y="2374200"/>
                  <a:ext cx="167400" cy="414720"/>
                  <a:chOff x="858960" y="2374200"/>
                  <a:chExt cx="167400" cy="414720"/>
                </a:xfrm>
              </p:grpSpPr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858960" y="2374200"/>
                    <a:ext cx="167400" cy="82800"/>
                    <a:chOff x="858960" y="2374200"/>
                    <a:chExt cx="167400" cy="828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858960" y="237420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858960" y="240084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858960" y="242892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858960" y="2457360"/>
                    <a:ext cx="167400" cy="82800"/>
                    <a:chOff x="858960" y="2457360"/>
                    <a:chExt cx="167400" cy="8280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858960" y="245736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858960" y="248400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858960" y="251208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858960" y="2540880"/>
                    <a:ext cx="167400" cy="82800"/>
                    <a:chOff x="858960" y="2540880"/>
                    <a:chExt cx="167400" cy="828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858960" y="254088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858960" y="256752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858960" y="259560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858960" y="2624040"/>
                    <a:ext cx="167400" cy="82800"/>
                    <a:chOff x="858960" y="2624040"/>
                    <a:chExt cx="167400" cy="8280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858960" y="262404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58960" y="265068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858960" y="267876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858960" y="2706120"/>
                    <a:ext cx="167400" cy="82800"/>
                    <a:chOff x="858960" y="2706120"/>
                    <a:chExt cx="167400" cy="8280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58960" y="270612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58960" y="273276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858960" y="276084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858960" y="2785320"/>
                  <a:ext cx="167400" cy="414720"/>
                  <a:chOff x="858960" y="2785320"/>
                  <a:chExt cx="167400" cy="41472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858960" y="2785320"/>
                    <a:ext cx="167400" cy="82800"/>
                    <a:chOff x="858960" y="2785320"/>
                    <a:chExt cx="167400" cy="8280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58960" y="278532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58960" y="281196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858960" y="284004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858960" y="2868480"/>
                    <a:ext cx="167400" cy="82800"/>
                    <a:chOff x="858960" y="2868480"/>
                    <a:chExt cx="167400" cy="8280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858960" y="286848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858960" y="289512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858960" y="292320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858960" y="2952000"/>
                    <a:ext cx="167400" cy="82800"/>
                    <a:chOff x="858960" y="2952000"/>
                    <a:chExt cx="167400" cy="8280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858960" y="295200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858960" y="297864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858960" y="300672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858960" y="3035160"/>
                    <a:ext cx="167400" cy="82800"/>
                    <a:chOff x="858960" y="3035160"/>
                    <a:chExt cx="167400" cy="828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858960" y="303516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858960" y="306180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58960" y="308988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858960" y="3117240"/>
                    <a:ext cx="167400" cy="82800"/>
                    <a:chOff x="858960" y="3117240"/>
                    <a:chExt cx="167400" cy="8280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858960" y="311724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858960" y="314388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858960" y="3171960"/>
                      <a:ext cx="167400" cy="280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805680" y="1944360"/>
                <a:ext cx="274320" cy="430560"/>
                <a:chOff x="805680" y="1944360"/>
                <a:chExt cx="274320" cy="43056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805680" y="2089440"/>
                  <a:ext cx="274320" cy="285480"/>
                  <a:chOff x="805680" y="2089440"/>
                  <a:chExt cx="274320" cy="28548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805680" y="2214000"/>
                    <a:ext cx="274320" cy="25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810720" y="2089440"/>
                    <a:ext cx="263520" cy="285480"/>
                    <a:chOff x="810720" y="2089440"/>
                    <a:chExt cx="263520" cy="28548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812520" y="2227680"/>
                      <a:ext cx="259560" cy="14724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V="1">
                      <a:off x="810720" y="2113920"/>
                      <a:ext cx="263520" cy="100080"/>
                    </a:xfrm>
                    <a:custGeom>
                      <a:avLst/>
                      <a:gdLst>
                        <a:gd name="textAreaLeft" fmla="*/ 27360 w 263520"/>
                        <a:gd name="textAreaRight" fmla="*/ 236160 w 263520"/>
                        <a:gd name="textAreaTop" fmla="*/ 10440 h 100080"/>
                        <a:gd name="textAreaBottom" fmla="*/ 89640 h 1000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400" bIns="324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818640" y="2089440"/>
                      <a:ext cx="246240" cy="244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856080" y="1944360"/>
                  <a:ext cx="172080" cy="144000"/>
                  <a:chOff x="856080" y="1944360"/>
                  <a:chExt cx="172080" cy="1440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856800" y="1944360"/>
                    <a:ext cx="21240" cy="14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893160" y="1944360"/>
                    <a:ext cx="21240" cy="14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929880" y="1944360"/>
                    <a:ext cx="21240" cy="14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969480" y="1944360"/>
                    <a:ext cx="21240" cy="14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006920" y="1944360"/>
                    <a:ext cx="21240" cy="14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856080" y="2005920"/>
                    <a:ext cx="17064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857520" y="2051280"/>
                    <a:ext cx="17064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57520" y="2088360"/>
                    <a:ext cx="17064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4" name=""/>
                <p:cNvSpPr/>
                <p:nvPr/>
              </p:nvSpPr>
              <p:spPr>
                <a:xfrm>
                  <a:off x="838080" y="2226600"/>
                  <a:ext cx="41040" cy="146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003680" y="2225160"/>
                  <a:ext cx="41040" cy="146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906840" y="2253600"/>
                  <a:ext cx="71280" cy="11808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48960" y="1259640"/>
              <a:ext cx="1789920" cy="6030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54400" y="438120"/>
            <a:ext cx="2847600" cy="2604600"/>
            <a:chOff x="5954400" y="438120"/>
            <a:chExt cx="2847600" cy="2604600"/>
          </a:xfrm>
        </p:grpSpPr>
        <p:grpSp>
          <p:nvGrpSpPr>
            <p:cNvPr id="269" name=""/>
            <p:cNvGrpSpPr/>
            <p:nvPr/>
          </p:nvGrpSpPr>
          <p:grpSpPr>
            <a:xfrm>
              <a:off x="5954400" y="756360"/>
              <a:ext cx="2847600" cy="2286360"/>
              <a:chOff x="5954400" y="756360"/>
              <a:chExt cx="2847600" cy="22863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751440" y="1779120"/>
                <a:ext cx="1260720" cy="1263600"/>
                <a:chOff x="6751440" y="1779120"/>
                <a:chExt cx="1260720" cy="1263600"/>
              </a:xfrm>
            </p:grpSpPr>
            <p:grpSp>
              <p:nvGrpSpPr>
                <p:cNvPr id="271" name=""/>
                <p:cNvGrpSpPr/>
                <p:nvPr/>
              </p:nvGrpSpPr>
              <p:grpSpPr>
                <a:xfrm>
                  <a:off x="6751440" y="2208960"/>
                  <a:ext cx="1260720" cy="833760"/>
                  <a:chOff x="6751440" y="2208960"/>
                  <a:chExt cx="1260720" cy="83376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6751440" y="2877840"/>
                    <a:ext cx="1260720" cy="164880"/>
                    <a:chOff x="6751440" y="2877840"/>
                    <a:chExt cx="1260720" cy="1648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961680" y="2877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382520" y="2877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592760" y="2877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803000" y="2877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171920" y="2877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751440" y="2877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6856920" y="2711160"/>
                    <a:ext cx="1050480" cy="164880"/>
                    <a:chOff x="6856920" y="2711160"/>
                    <a:chExt cx="1050480" cy="1648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856920" y="2711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77400" y="2711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7488000" y="2711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698240" y="2711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067160" y="2711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7172280" y="25444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593120" y="254448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382520" y="25444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962040" y="254448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067520" y="2377800"/>
                    <a:ext cx="20952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488360" y="237780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278120" y="237780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7174440" y="2208960"/>
                    <a:ext cx="419760" cy="164880"/>
                    <a:chOff x="7174440" y="2208960"/>
                    <a:chExt cx="419760" cy="16488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174440" y="2208960"/>
                      <a:ext cx="20952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7385040" y="22089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7297920" y="2208960"/>
                  <a:ext cx="167400" cy="825840"/>
                  <a:chOff x="7297920" y="2208960"/>
                  <a:chExt cx="167400" cy="82584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7297920" y="2208960"/>
                    <a:ext cx="167400" cy="414720"/>
                    <a:chOff x="7297920" y="2208960"/>
                    <a:chExt cx="167400" cy="41472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7297920" y="2208960"/>
                      <a:ext cx="167400" cy="82800"/>
                      <a:chOff x="7297920" y="2208960"/>
                      <a:chExt cx="167400" cy="82800"/>
                    </a:xfrm>
                  </p:grpSpPr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7297920" y="22089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7297920" y="22356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7297920" y="22636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1" name=""/>
                    <p:cNvGrpSpPr/>
                    <p:nvPr/>
                  </p:nvGrpSpPr>
                  <p:grpSpPr>
                    <a:xfrm>
                      <a:off x="7297920" y="2292120"/>
                      <a:ext cx="167400" cy="82800"/>
                      <a:chOff x="7297920" y="2292120"/>
                      <a:chExt cx="167400" cy="82800"/>
                    </a:xfrm>
                  </p:grpSpPr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7297920" y="22921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7297920" y="23187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7297920" y="23468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7297920" y="2375640"/>
                      <a:ext cx="167400" cy="82800"/>
                      <a:chOff x="7297920" y="2375640"/>
                      <a:chExt cx="167400" cy="8280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7297920" y="23756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7297920" y="24022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7297920" y="24303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7297920" y="2458800"/>
                      <a:ext cx="167400" cy="82800"/>
                      <a:chOff x="7297920" y="2458800"/>
                      <a:chExt cx="167400" cy="8280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7297920" y="24588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7297920" y="24854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7297920" y="25135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7297920" y="2540880"/>
                      <a:ext cx="167400" cy="82800"/>
                      <a:chOff x="7297920" y="2540880"/>
                      <a:chExt cx="167400" cy="8280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297920" y="25408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7297920" y="25675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7297920" y="25956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7297920" y="2620080"/>
                    <a:ext cx="167400" cy="414720"/>
                    <a:chOff x="7297920" y="2620080"/>
                    <a:chExt cx="167400" cy="414720"/>
                  </a:xfrm>
                </p:grpSpPr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7297920" y="2620080"/>
                      <a:ext cx="167400" cy="82800"/>
                      <a:chOff x="7297920" y="2620080"/>
                      <a:chExt cx="167400" cy="82800"/>
                    </a:xfrm>
                  </p:grpSpPr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7297920" y="26200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7297920" y="26467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7297920" y="26748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7297920" y="2703240"/>
                      <a:ext cx="167400" cy="82800"/>
                      <a:chOff x="7297920" y="2703240"/>
                      <a:chExt cx="167400" cy="8280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7297920" y="27032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7297920" y="27298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7297920" y="27579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6" name=""/>
                    <p:cNvGrpSpPr/>
                    <p:nvPr/>
                  </p:nvGrpSpPr>
                  <p:grpSpPr>
                    <a:xfrm>
                      <a:off x="7297920" y="2786760"/>
                      <a:ext cx="167400" cy="82800"/>
                      <a:chOff x="7297920" y="2786760"/>
                      <a:chExt cx="167400" cy="82800"/>
                    </a:xfrm>
                  </p:grpSpPr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7297920" y="27867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7297920" y="28134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7297920" y="28414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0" name=""/>
                    <p:cNvGrpSpPr/>
                    <p:nvPr/>
                  </p:nvGrpSpPr>
                  <p:grpSpPr>
                    <a:xfrm>
                      <a:off x="7297920" y="2869920"/>
                      <a:ext cx="167400" cy="82800"/>
                      <a:chOff x="7297920" y="2869920"/>
                      <a:chExt cx="167400" cy="82800"/>
                    </a:xfrm>
                  </p:grpSpPr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7297920" y="28699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7297920" y="28965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7297920" y="29246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7297920" y="2952000"/>
                      <a:ext cx="167400" cy="82800"/>
                      <a:chOff x="7297920" y="2952000"/>
                      <a:chExt cx="167400" cy="8280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7297920" y="29520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7297920" y="29786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7297920" y="30067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245000" y="1779120"/>
                  <a:ext cx="274320" cy="430560"/>
                  <a:chOff x="7245000" y="1779120"/>
                  <a:chExt cx="274320" cy="430560"/>
                </a:xfrm>
              </p:grpSpPr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7245000" y="1924200"/>
                    <a:ext cx="274320" cy="285480"/>
                    <a:chOff x="7245000" y="1924200"/>
                    <a:chExt cx="274320" cy="28548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7245000" y="2048760"/>
                      <a:ext cx="274320" cy="259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7250040" y="1924200"/>
                      <a:ext cx="263520" cy="285480"/>
                      <a:chOff x="7250040" y="1924200"/>
                      <a:chExt cx="263520" cy="28548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7251840" y="2062440"/>
                        <a:ext cx="259560" cy="14724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 flipV="1">
                        <a:off x="7250040" y="1948680"/>
                        <a:ext cx="263520" cy="100080"/>
                      </a:xfrm>
                      <a:custGeom>
                        <a:avLst/>
                        <a:gdLst>
                          <a:gd name="textAreaLeft" fmla="*/ 27360 w 263520"/>
                          <a:gd name="textAreaRight" fmla="*/ 236160 w 263520"/>
                          <a:gd name="textAreaTop" fmla="*/ 10440 h 100080"/>
                          <a:gd name="textAreaBottom" fmla="*/ 89640 h 100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0701" y="21600"/>
                            </a:lnTo>
                            <a:lnTo>
                              <a:pt x="899" y="216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7257960" y="1924200"/>
                        <a:ext cx="246240" cy="24480"/>
                      </a:xfrm>
                      <a:prstGeom prst="rect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320" bIns="-223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7295400" y="1779120"/>
                    <a:ext cx="172080" cy="144000"/>
                    <a:chOff x="7295400" y="1779120"/>
                    <a:chExt cx="172080" cy="1440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7296120" y="1779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7332480" y="1779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7369200" y="1779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7408800" y="1779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7446240" y="1779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7295400" y="184068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7296840" y="188604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296840" y="192312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>
                    <a:off x="7277400" y="2061360"/>
                    <a:ext cx="41040" cy="1465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443000" y="2059920"/>
                    <a:ext cx="41040" cy="1465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346160" y="2088360"/>
                    <a:ext cx="71280" cy="118080"/>
                  </a:xfrm>
                  <a:prstGeom prst="rect">
                    <a:avLst/>
                  </a:prstGeom>
                  <a:solidFill>
                    <a:srgbClr val="66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7" name=""/>
              <p:cNvSpPr/>
              <p:nvPr/>
            </p:nvSpPr>
            <p:spPr>
              <a:xfrm>
                <a:off x="5954400" y="756360"/>
                <a:ext cx="2847600" cy="1243080"/>
              </a:xfrm>
              <a:prstGeom prst="verticalScroll">
                <a:avLst>
                  <a:gd name="adj" fmla="val 12500"/>
                </a:avLst>
              </a:prstGeom>
              <a:noFill/>
              <a:ln w="126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Ibisch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Warning/erro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7210440" y="438120"/>
              <a:ext cx="297000" cy="298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350320" y="3251160"/>
            <a:ext cx="3673800" cy="2910960"/>
            <a:chOff x="5350320" y="3251160"/>
            <a:chExt cx="3673800" cy="2910960"/>
          </a:xfrm>
        </p:grpSpPr>
        <p:grpSp>
          <p:nvGrpSpPr>
            <p:cNvPr id="360" name=""/>
            <p:cNvGrpSpPr/>
            <p:nvPr/>
          </p:nvGrpSpPr>
          <p:grpSpPr>
            <a:xfrm>
              <a:off x="5350320" y="3538440"/>
              <a:ext cx="3673800" cy="2623680"/>
              <a:chOff x="5350320" y="3538440"/>
              <a:chExt cx="3673800" cy="262368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6563880" y="4898520"/>
                <a:ext cx="1260720" cy="1263600"/>
                <a:chOff x="6563880" y="4898520"/>
                <a:chExt cx="1260720" cy="12636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6563880" y="5328360"/>
                  <a:ext cx="1260720" cy="833760"/>
                  <a:chOff x="6563880" y="5328360"/>
                  <a:chExt cx="1260720" cy="83376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6563880" y="5997240"/>
                    <a:ext cx="1260720" cy="164880"/>
                    <a:chOff x="6563880" y="5997240"/>
                    <a:chExt cx="1260720" cy="1648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6774120" y="59972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7194960" y="59972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7405200" y="59972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7615440" y="59972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6984360" y="59972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6563880" y="59972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6669360" y="5830560"/>
                    <a:ext cx="1050480" cy="164880"/>
                    <a:chOff x="6669360" y="5830560"/>
                    <a:chExt cx="1050480" cy="16488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6669360" y="58305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7089840" y="58305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7300440" y="58305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7510680" y="58305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6879600" y="58305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6" name=""/>
                  <p:cNvSpPr/>
                  <p:nvPr/>
                </p:nvSpPr>
                <p:spPr>
                  <a:xfrm>
                    <a:off x="6984720" y="56638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405560" y="566388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194960" y="56638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774480" y="566388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879960" y="5497200"/>
                    <a:ext cx="20952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300800" y="549720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090560" y="549720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6986880" y="5328360"/>
                    <a:ext cx="419760" cy="164880"/>
                    <a:chOff x="6986880" y="5328360"/>
                    <a:chExt cx="419760" cy="16488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6986880" y="5328360"/>
                      <a:ext cx="20952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7197480" y="53283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110360" y="5328360"/>
                  <a:ext cx="167400" cy="825840"/>
                  <a:chOff x="7110360" y="5328360"/>
                  <a:chExt cx="167400" cy="82584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7110360" y="5328360"/>
                    <a:ext cx="167400" cy="414720"/>
                    <a:chOff x="7110360" y="5328360"/>
                    <a:chExt cx="167400" cy="414720"/>
                  </a:xfrm>
                </p:grpSpPr>
                <p:grpSp>
                  <p:nvGrpSpPr>
                    <p:cNvPr id="388" name=""/>
                    <p:cNvGrpSpPr/>
                    <p:nvPr/>
                  </p:nvGrpSpPr>
                  <p:grpSpPr>
                    <a:xfrm>
                      <a:off x="7110360" y="5328360"/>
                      <a:ext cx="167400" cy="82800"/>
                      <a:chOff x="7110360" y="5328360"/>
                      <a:chExt cx="167400" cy="82800"/>
                    </a:xfrm>
                  </p:grpSpPr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7110360" y="53283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7110360" y="53550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7110360" y="53830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2" name=""/>
                    <p:cNvGrpSpPr/>
                    <p:nvPr/>
                  </p:nvGrpSpPr>
                  <p:grpSpPr>
                    <a:xfrm>
                      <a:off x="7110360" y="5411520"/>
                      <a:ext cx="167400" cy="82800"/>
                      <a:chOff x="7110360" y="5411520"/>
                      <a:chExt cx="167400" cy="82800"/>
                    </a:xfrm>
                  </p:grpSpPr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7110360" y="54115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7110360" y="54381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7110360" y="54662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6" name=""/>
                    <p:cNvGrpSpPr/>
                    <p:nvPr/>
                  </p:nvGrpSpPr>
                  <p:grpSpPr>
                    <a:xfrm>
                      <a:off x="7110360" y="5495040"/>
                      <a:ext cx="167400" cy="82800"/>
                      <a:chOff x="7110360" y="5495040"/>
                      <a:chExt cx="167400" cy="82800"/>
                    </a:xfrm>
                  </p:grpSpPr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7110360" y="54950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7110360" y="55216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9" name=""/>
                      <p:cNvSpPr/>
                      <p:nvPr/>
                    </p:nvSpPr>
                    <p:spPr>
                      <a:xfrm>
                        <a:off x="7110360" y="55497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0" name=""/>
                    <p:cNvGrpSpPr/>
                    <p:nvPr/>
                  </p:nvGrpSpPr>
                  <p:grpSpPr>
                    <a:xfrm>
                      <a:off x="7110360" y="5578200"/>
                      <a:ext cx="167400" cy="82800"/>
                      <a:chOff x="7110360" y="5578200"/>
                      <a:chExt cx="167400" cy="82800"/>
                    </a:xfrm>
                  </p:grpSpPr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7110360" y="55782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7110360" y="56048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7110360" y="56329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7110360" y="5660280"/>
                      <a:ext cx="167400" cy="82800"/>
                      <a:chOff x="7110360" y="5660280"/>
                      <a:chExt cx="167400" cy="82800"/>
                    </a:xfrm>
                  </p:grpSpPr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7110360" y="56602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7110360" y="56869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7110360" y="57150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7110360" y="5739480"/>
                    <a:ext cx="167400" cy="414720"/>
                    <a:chOff x="7110360" y="5739480"/>
                    <a:chExt cx="167400" cy="414720"/>
                  </a:xfrm>
                </p:grpSpPr>
                <p:grpSp>
                  <p:nvGrpSpPr>
                    <p:cNvPr id="409" name=""/>
                    <p:cNvGrpSpPr/>
                    <p:nvPr/>
                  </p:nvGrpSpPr>
                  <p:grpSpPr>
                    <a:xfrm>
                      <a:off x="7110360" y="5739480"/>
                      <a:ext cx="167400" cy="82800"/>
                      <a:chOff x="7110360" y="5739480"/>
                      <a:chExt cx="167400" cy="82800"/>
                    </a:xfrm>
                  </p:grpSpPr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7110360" y="57394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7110360" y="57661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7110360" y="57942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7110360" y="5822640"/>
                      <a:ext cx="167400" cy="82800"/>
                      <a:chOff x="7110360" y="5822640"/>
                      <a:chExt cx="167400" cy="82800"/>
                    </a:xfrm>
                  </p:grpSpPr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7110360" y="58226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7110360" y="58492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7110360" y="58773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7" name=""/>
                    <p:cNvGrpSpPr/>
                    <p:nvPr/>
                  </p:nvGrpSpPr>
                  <p:grpSpPr>
                    <a:xfrm>
                      <a:off x="7110360" y="5906160"/>
                      <a:ext cx="167400" cy="82800"/>
                      <a:chOff x="7110360" y="5906160"/>
                      <a:chExt cx="167400" cy="82800"/>
                    </a:xfrm>
                  </p:grpSpPr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7110360" y="59061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7110360" y="59328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7110360" y="59608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1" name=""/>
                    <p:cNvGrpSpPr/>
                    <p:nvPr/>
                  </p:nvGrpSpPr>
                  <p:grpSpPr>
                    <a:xfrm>
                      <a:off x="7110360" y="5989320"/>
                      <a:ext cx="167400" cy="82800"/>
                      <a:chOff x="7110360" y="5989320"/>
                      <a:chExt cx="167400" cy="82800"/>
                    </a:xfrm>
                  </p:grpSpPr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7110360" y="59893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7110360" y="60159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7110360" y="60440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7110360" y="6071400"/>
                      <a:ext cx="167400" cy="82800"/>
                      <a:chOff x="7110360" y="6071400"/>
                      <a:chExt cx="167400" cy="82800"/>
                    </a:xfrm>
                  </p:grpSpPr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7110360" y="60714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7110360" y="60980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7110360" y="61261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057440" y="4898520"/>
                  <a:ext cx="274320" cy="430560"/>
                  <a:chOff x="7057440" y="4898520"/>
                  <a:chExt cx="274320" cy="43056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7057440" y="5043600"/>
                    <a:ext cx="274320" cy="285480"/>
                    <a:chOff x="7057440" y="5043600"/>
                    <a:chExt cx="274320" cy="28548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7057440" y="5168160"/>
                      <a:ext cx="274320" cy="259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2" name=""/>
                    <p:cNvGrpSpPr/>
                    <p:nvPr/>
                  </p:nvGrpSpPr>
                  <p:grpSpPr>
                    <a:xfrm>
                      <a:off x="7062480" y="5043600"/>
                      <a:ext cx="263520" cy="285480"/>
                      <a:chOff x="7062480" y="5043600"/>
                      <a:chExt cx="263520" cy="285480"/>
                    </a:xfrm>
                  </p:grpSpPr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7064280" y="5181840"/>
                        <a:ext cx="259560" cy="14724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 flipV="1">
                        <a:off x="7062480" y="5068080"/>
                        <a:ext cx="263520" cy="100080"/>
                      </a:xfrm>
                      <a:custGeom>
                        <a:avLst/>
                        <a:gdLst>
                          <a:gd name="textAreaLeft" fmla="*/ 27360 w 263520"/>
                          <a:gd name="textAreaRight" fmla="*/ 236160 w 263520"/>
                          <a:gd name="textAreaTop" fmla="*/ 10440 h 100080"/>
                          <a:gd name="textAreaBottom" fmla="*/ 89640 h 100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0701" y="21600"/>
                            </a:lnTo>
                            <a:lnTo>
                              <a:pt x="899" y="216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7070400" y="5043600"/>
                        <a:ext cx="246240" cy="24480"/>
                      </a:xfrm>
                      <a:prstGeom prst="rect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320" bIns="-223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7107840" y="4898520"/>
                    <a:ext cx="172080" cy="144000"/>
                    <a:chOff x="7107840" y="4898520"/>
                    <a:chExt cx="172080" cy="1440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108560" y="48985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144920" y="48985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7181640" y="48985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7221240" y="48985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7258680" y="48985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7107840" y="496008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7109280" y="500544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7109280" y="504252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5" name=""/>
                  <p:cNvSpPr/>
                  <p:nvPr/>
                </p:nvSpPr>
                <p:spPr>
                  <a:xfrm>
                    <a:off x="7089840" y="5180760"/>
                    <a:ext cx="41040" cy="1465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255440" y="5179320"/>
                    <a:ext cx="41040" cy="1465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158600" y="5207760"/>
                    <a:ext cx="71280" cy="118080"/>
                  </a:xfrm>
                  <a:prstGeom prst="rect">
                    <a:avLst/>
                  </a:prstGeom>
                  <a:solidFill>
                    <a:srgbClr val="66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>
                <a:off x="5350320" y="3538440"/>
                <a:ext cx="3673800" cy="1883520"/>
              </a:xfrm>
              <a:prstGeom prst="verticalScroll">
                <a:avLst>
                  <a:gd name="adj" fmla="val 12500"/>
                </a:avLst>
              </a:prstGeom>
              <a:noFill/>
              <a:ln w="126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Example 1 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3-state driver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with internal pullu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86720" y="3251160"/>
              <a:ext cx="731520" cy="298440"/>
              <a:chOff x="6786720" y="3251160"/>
              <a:chExt cx="731520" cy="298440"/>
            </a:xfrm>
          </p:grpSpPr>
          <p:sp>
            <p:nvSpPr>
              <p:cNvPr id="450" name=""/>
              <p:cNvSpPr/>
              <p:nvPr/>
            </p:nvSpPr>
            <p:spPr>
              <a:xfrm>
                <a:off x="6786720" y="3251160"/>
                <a:ext cx="297000" cy="2984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21240" y="3251160"/>
                <a:ext cx="297000" cy="2984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382200" y="4381560"/>
            <a:ext cx="2271960" cy="2212920"/>
            <a:chOff x="3382200" y="4381560"/>
            <a:chExt cx="2271960" cy="2212920"/>
          </a:xfrm>
        </p:grpSpPr>
        <p:grpSp>
          <p:nvGrpSpPr>
            <p:cNvPr id="453" name=""/>
            <p:cNvGrpSpPr/>
            <p:nvPr/>
          </p:nvGrpSpPr>
          <p:grpSpPr>
            <a:xfrm>
              <a:off x="3382200" y="4672800"/>
              <a:ext cx="2271960" cy="1921680"/>
              <a:chOff x="3382200" y="4672800"/>
              <a:chExt cx="2271960" cy="192168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3887640" y="5683320"/>
                <a:ext cx="1260720" cy="911160"/>
                <a:chOff x="3887640" y="5683320"/>
                <a:chExt cx="1260720" cy="91116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3887640" y="5993280"/>
                  <a:ext cx="1260720" cy="601200"/>
                  <a:chOff x="3887640" y="5993280"/>
                  <a:chExt cx="1260720" cy="601200"/>
                </a:xfrm>
              </p:grpSpPr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3887640" y="6475680"/>
                    <a:ext cx="1260720" cy="118800"/>
                    <a:chOff x="3887640" y="6475680"/>
                    <a:chExt cx="1260720" cy="11880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097880" y="647568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4518720" y="647568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4728960" y="647568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4939200" y="647568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4308120" y="647568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3887640" y="647568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3993120" y="6355440"/>
                    <a:ext cx="1050480" cy="118800"/>
                    <a:chOff x="3993120" y="6355440"/>
                    <a:chExt cx="1050480" cy="11880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3993120" y="635544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413600" y="635544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4624200" y="635544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4834440" y="635544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4203360" y="635544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"/>
                  <p:cNvSpPr/>
                  <p:nvPr/>
                </p:nvSpPr>
                <p:spPr>
                  <a:xfrm>
                    <a:off x="4308480" y="6235200"/>
                    <a:ext cx="209160" cy="118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729320" y="6235200"/>
                    <a:ext cx="208800" cy="118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518720" y="6235200"/>
                    <a:ext cx="209160" cy="118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098240" y="6235200"/>
                    <a:ext cx="208800" cy="118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203720" y="6114960"/>
                    <a:ext cx="209520" cy="118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624560" y="6114960"/>
                    <a:ext cx="208800" cy="118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414320" y="6114960"/>
                    <a:ext cx="208800" cy="118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4310640" y="5993280"/>
                    <a:ext cx="419760" cy="118800"/>
                    <a:chOff x="4310640" y="5993280"/>
                    <a:chExt cx="419760" cy="11880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4310640" y="5993280"/>
                      <a:ext cx="20952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4521240" y="5993280"/>
                      <a:ext cx="209160" cy="118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4434120" y="5993280"/>
                  <a:ext cx="167400" cy="595440"/>
                  <a:chOff x="4434120" y="5993280"/>
                  <a:chExt cx="167400" cy="595440"/>
                </a:xfrm>
              </p:grpSpPr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4434120" y="5993280"/>
                    <a:ext cx="167400" cy="299160"/>
                    <a:chOff x="4434120" y="5993280"/>
                    <a:chExt cx="167400" cy="299160"/>
                  </a:xfrm>
                </p:grpSpPr>
                <p:grpSp>
                  <p:nvGrpSpPr>
                    <p:cNvPr id="481" name=""/>
                    <p:cNvGrpSpPr/>
                    <p:nvPr/>
                  </p:nvGrpSpPr>
                  <p:grpSpPr>
                    <a:xfrm>
                      <a:off x="4434120" y="5993280"/>
                      <a:ext cx="167400" cy="59760"/>
                      <a:chOff x="4434120" y="5993280"/>
                      <a:chExt cx="167400" cy="59760"/>
                    </a:xfrm>
                  </p:grpSpPr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4434120" y="599328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4434120" y="601236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4434120" y="603288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5" name=""/>
                    <p:cNvGrpSpPr/>
                    <p:nvPr/>
                  </p:nvGrpSpPr>
                  <p:grpSpPr>
                    <a:xfrm>
                      <a:off x="4434120" y="6053400"/>
                      <a:ext cx="167400" cy="59760"/>
                      <a:chOff x="4434120" y="6053400"/>
                      <a:chExt cx="167400" cy="59760"/>
                    </a:xfrm>
                  </p:grpSpPr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4434120" y="605340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4434120" y="607248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4434120" y="609300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4434120" y="6113520"/>
                      <a:ext cx="167400" cy="59760"/>
                      <a:chOff x="4434120" y="6113520"/>
                      <a:chExt cx="167400" cy="5976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4434120" y="611352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4434120" y="613260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4434120" y="615312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"/>
                    <p:cNvGrpSpPr/>
                    <p:nvPr/>
                  </p:nvGrpSpPr>
                  <p:grpSpPr>
                    <a:xfrm>
                      <a:off x="4434120" y="6173640"/>
                      <a:ext cx="167400" cy="59760"/>
                      <a:chOff x="4434120" y="6173640"/>
                      <a:chExt cx="167400" cy="59760"/>
                    </a:xfrm>
                  </p:grpSpPr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4434120" y="617364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4434120" y="619272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4434120" y="621324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4434120" y="6232680"/>
                      <a:ext cx="167400" cy="59760"/>
                      <a:chOff x="4434120" y="6232680"/>
                      <a:chExt cx="167400" cy="59760"/>
                    </a:xfrm>
                  </p:grpSpPr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4434120" y="623268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"/>
                      <p:cNvSpPr/>
                      <p:nvPr/>
                    </p:nvSpPr>
                    <p:spPr>
                      <a:xfrm>
                        <a:off x="4434120" y="625176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4434120" y="627228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4434120" y="6289560"/>
                    <a:ext cx="167400" cy="299160"/>
                    <a:chOff x="4434120" y="6289560"/>
                    <a:chExt cx="167400" cy="299160"/>
                  </a:xfrm>
                </p:grpSpPr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4434120" y="6289560"/>
                      <a:ext cx="167400" cy="59760"/>
                      <a:chOff x="4434120" y="6289560"/>
                      <a:chExt cx="167400" cy="5976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4434120" y="628956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4434120" y="630864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4434120" y="632916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6" name=""/>
                    <p:cNvGrpSpPr/>
                    <p:nvPr/>
                  </p:nvGrpSpPr>
                  <p:grpSpPr>
                    <a:xfrm>
                      <a:off x="4434120" y="6349680"/>
                      <a:ext cx="167400" cy="59760"/>
                      <a:chOff x="4434120" y="6349680"/>
                      <a:chExt cx="167400" cy="59760"/>
                    </a:xfrm>
                  </p:grpSpPr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4434120" y="634968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"/>
                      <p:cNvSpPr/>
                      <p:nvPr/>
                    </p:nvSpPr>
                    <p:spPr>
                      <a:xfrm>
                        <a:off x="4434120" y="636876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"/>
                      <p:cNvSpPr/>
                      <p:nvPr/>
                    </p:nvSpPr>
                    <p:spPr>
                      <a:xfrm>
                        <a:off x="4434120" y="638928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0" name=""/>
                    <p:cNvGrpSpPr/>
                    <p:nvPr/>
                  </p:nvGrpSpPr>
                  <p:grpSpPr>
                    <a:xfrm>
                      <a:off x="4434120" y="6409800"/>
                      <a:ext cx="167400" cy="59760"/>
                      <a:chOff x="4434120" y="6409800"/>
                      <a:chExt cx="167400" cy="59760"/>
                    </a:xfrm>
                  </p:grpSpPr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4434120" y="640980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4434120" y="642888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4434120" y="644940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4434120" y="6469920"/>
                      <a:ext cx="167400" cy="59760"/>
                      <a:chOff x="4434120" y="6469920"/>
                      <a:chExt cx="167400" cy="59760"/>
                    </a:xfrm>
                  </p:grpSpPr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4434120" y="646992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4434120" y="648900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4434120" y="650952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"/>
                    <p:cNvGrpSpPr/>
                    <p:nvPr/>
                  </p:nvGrpSpPr>
                  <p:grpSpPr>
                    <a:xfrm>
                      <a:off x="4434120" y="6528960"/>
                      <a:ext cx="167400" cy="59760"/>
                      <a:chOff x="4434120" y="6528960"/>
                      <a:chExt cx="167400" cy="59760"/>
                    </a:xfrm>
                  </p:grpSpPr>
                  <p:sp>
                    <p:nvSpPr>
                      <p:cNvPr id="519" name=""/>
                      <p:cNvSpPr/>
                      <p:nvPr/>
                    </p:nvSpPr>
                    <p:spPr>
                      <a:xfrm>
                        <a:off x="4434120" y="652896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4434120" y="654804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4434120" y="6568560"/>
                        <a:ext cx="167400" cy="2016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040" bIns="-2304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4381200" y="5683320"/>
                  <a:ext cx="274320" cy="309600"/>
                  <a:chOff x="4381200" y="5683320"/>
                  <a:chExt cx="274320" cy="309600"/>
                </a:xfrm>
              </p:grpSpPr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4381200" y="5787720"/>
                    <a:ext cx="274320" cy="205200"/>
                    <a:chOff x="4381200" y="5787720"/>
                    <a:chExt cx="274320" cy="2052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4381200" y="5877360"/>
                      <a:ext cx="274320" cy="187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25" name=""/>
                    <p:cNvGrpSpPr/>
                    <p:nvPr/>
                  </p:nvGrpSpPr>
                  <p:grpSpPr>
                    <a:xfrm>
                      <a:off x="4386240" y="5787720"/>
                      <a:ext cx="263520" cy="205200"/>
                      <a:chOff x="4386240" y="5787720"/>
                      <a:chExt cx="263520" cy="205200"/>
                    </a:xfrm>
                  </p:grpSpPr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4388040" y="5887080"/>
                        <a:ext cx="259560" cy="10584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 flipV="1">
                        <a:off x="4386240" y="5805000"/>
                        <a:ext cx="263520" cy="72000"/>
                      </a:xfrm>
                      <a:custGeom>
                        <a:avLst/>
                        <a:gdLst>
                          <a:gd name="textAreaLeft" fmla="*/ 27360 w 263520"/>
                          <a:gd name="textAreaRight" fmla="*/ 236160 w 263520"/>
                          <a:gd name="textAreaTop" fmla="*/ 7200 h 72000"/>
                          <a:gd name="textAreaBottom" fmla="*/ 64800 h 72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0701" y="21600"/>
                            </a:lnTo>
                            <a:lnTo>
                              <a:pt x="899" y="216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0800" bIns="10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4394160" y="5787720"/>
                        <a:ext cx="246240" cy="17280"/>
                      </a:xfrm>
                      <a:prstGeom prst="rect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4431600" y="5683320"/>
                    <a:ext cx="172080" cy="103680"/>
                    <a:chOff x="4431600" y="5683320"/>
                    <a:chExt cx="172080" cy="10368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4432320" y="5683320"/>
                      <a:ext cx="21240" cy="1033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4468680" y="5683320"/>
                      <a:ext cx="21240" cy="1033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4505400" y="5683320"/>
                      <a:ext cx="21240" cy="1033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4545000" y="5683320"/>
                      <a:ext cx="21240" cy="1033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4582440" y="5683320"/>
                      <a:ext cx="21240" cy="1033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4431600" y="572760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4433040" y="576036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4433040" y="578700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>
                    <a:off x="4413600" y="5886720"/>
                    <a:ext cx="41040" cy="1058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4579200" y="5885640"/>
                    <a:ext cx="41040" cy="1054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4482360" y="5906160"/>
                    <a:ext cx="71280" cy="84960"/>
                  </a:xfrm>
                  <a:prstGeom prst="rect">
                    <a:avLst/>
                  </a:prstGeom>
                  <a:solidFill>
                    <a:srgbClr val="66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1" name=""/>
              <p:cNvSpPr/>
              <p:nvPr/>
            </p:nvSpPr>
            <p:spPr>
              <a:xfrm>
                <a:off x="3382200" y="4672800"/>
                <a:ext cx="2271960" cy="1217520"/>
              </a:xfrm>
              <a:prstGeom prst="verticalScroll">
                <a:avLst>
                  <a:gd name="adj" fmla="val 12500"/>
                </a:avLst>
              </a:prstGeom>
              <a:noFill/>
              <a:ln w="126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Example 2 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lvds driver</a:t>
                </a:r>
                <a:r>
                  <a:rPr b="0" lang="de-DE" sz="1600" spc="-1" strike="noStrike">
                    <a:solidFill>
                      <a:srgbClr val="000000"/>
                    </a:solidFill>
                    <a:latin typeface="Monotype Corsiva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936960" y="4381560"/>
              <a:ext cx="1133640" cy="301320"/>
              <a:chOff x="3936960" y="4381560"/>
              <a:chExt cx="1133640" cy="301320"/>
            </a:xfrm>
          </p:grpSpPr>
          <p:sp>
            <p:nvSpPr>
              <p:cNvPr id="543" name=""/>
              <p:cNvSpPr/>
              <p:nvPr/>
            </p:nvSpPr>
            <p:spPr>
              <a:xfrm>
                <a:off x="3936960" y="4381560"/>
                <a:ext cx="298440" cy="2991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58160" y="4383720"/>
                <a:ext cx="298080" cy="2991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72160" y="4381560"/>
                <a:ext cx="298440" cy="2991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208080" y="3478320"/>
            <a:ext cx="2946600" cy="2912400"/>
            <a:chOff x="208080" y="3478320"/>
            <a:chExt cx="2946600" cy="2912400"/>
          </a:xfrm>
        </p:grpSpPr>
        <p:grpSp>
          <p:nvGrpSpPr>
            <p:cNvPr id="547" name=""/>
            <p:cNvGrpSpPr/>
            <p:nvPr/>
          </p:nvGrpSpPr>
          <p:grpSpPr>
            <a:xfrm>
              <a:off x="208080" y="3767040"/>
              <a:ext cx="2946600" cy="2623680"/>
              <a:chOff x="208080" y="3767040"/>
              <a:chExt cx="2946600" cy="262368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1050480" y="5127120"/>
                <a:ext cx="1260720" cy="1263600"/>
                <a:chOff x="1050480" y="5127120"/>
                <a:chExt cx="1260720" cy="126360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1050480" y="5556960"/>
                  <a:ext cx="1260720" cy="833760"/>
                  <a:chOff x="1050480" y="5556960"/>
                  <a:chExt cx="1260720" cy="83376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1050480" y="6225840"/>
                    <a:ext cx="1260720" cy="164880"/>
                    <a:chOff x="1050480" y="6225840"/>
                    <a:chExt cx="1260720" cy="16488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1260720" y="6225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1681560" y="6225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1891800" y="6225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2102040" y="6225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1470960" y="6225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1050480" y="622584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1155960" y="6059160"/>
                    <a:ext cx="1050480" cy="164880"/>
                    <a:chOff x="1155960" y="6059160"/>
                    <a:chExt cx="1050480" cy="16488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1155960" y="6059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1576440" y="6059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1787040" y="6059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1997280" y="6059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1366200" y="60591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3" name=""/>
                  <p:cNvSpPr/>
                  <p:nvPr/>
                </p:nvSpPr>
                <p:spPr>
                  <a:xfrm>
                    <a:off x="1471320" y="58924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892160" y="589248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681560" y="5892480"/>
                    <a:ext cx="20916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261080" y="589248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366560" y="5725800"/>
                    <a:ext cx="20952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787400" y="572580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77160" y="5725800"/>
                    <a:ext cx="208800" cy="164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1473480" y="5556960"/>
                    <a:ext cx="419760" cy="164880"/>
                    <a:chOff x="1473480" y="5556960"/>
                    <a:chExt cx="419760" cy="16488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1473480" y="5556960"/>
                      <a:ext cx="20952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1684080" y="5556960"/>
                      <a:ext cx="209160" cy="1648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596960" y="5556960"/>
                  <a:ext cx="167400" cy="825840"/>
                  <a:chOff x="1596960" y="5556960"/>
                  <a:chExt cx="167400" cy="825840"/>
                </a:xfrm>
              </p:grpSpPr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1596960" y="5556960"/>
                    <a:ext cx="167400" cy="414720"/>
                    <a:chOff x="1596960" y="5556960"/>
                    <a:chExt cx="167400" cy="414720"/>
                  </a:xfrm>
                </p:grpSpPr>
                <p:grpSp>
                  <p:nvGrpSpPr>
                    <p:cNvPr id="575" name=""/>
                    <p:cNvGrpSpPr/>
                    <p:nvPr/>
                  </p:nvGrpSpPr>
                  <p:grpSpPr>
                    <a:xfrm>
                      <a:off x="1596960" y="5556960"/>
                      <a:ext cx="167400" cy="82800"/>
                      <a:chOff x="1596960" y="5556960"/>
                      <a:chExt cx="167400" cy="82800"/>
                    </a:xfrm>
                  </p:grpSpPr>
                  <p:sp>
                    <p:nvSpPr>
                      <p:cNvPr id="576" name=""/>
                      <p:cNvSpPr/>
                      <p:nvPr/>
                    </p:nvSpPr>
                    <p:spPr>
                      <a:xfrm>
                        <a:off x="1596960" y="55569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1596960" y="55836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1596960" y="56116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9" name=""/>
                    <p:cNvGrpSpPr/>
                    <p:nvPr/>
                  </p:nvGrpSpPr>
                  <p:grpSpPr>
                    <a:xfrm>
                      <a:off x="1596960" y="5640120"/>
                      <a:ext cx="167400" cy="82800"/>
                      <a:chOff x="1596960" y="5640120"/>
                      <a:chExt cx="167400" cy="82800"/>
                    </a:xfrm>
                  </p:grpSpPr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1596960" y="56401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1596960" y="56667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1596960" y="56948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3" name=""/>
                    <p:cNvGrpSpPr/>
                    <p:nvPr/>
                  </p:nvGrpSpPr>
                  <p:grpSpPr>
                    <a:xfrm>
                      <a:off x="1596960" y="5723640"/>
                      <a:ext cx="167400" cy="82800"/>
                      <a:chOff x="1596960" y="5723640"/>
                      <a:chExt cx="167400" cy="82800"/>
                    </a:xfrm>
                  </p:grpSpPr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1596960" y="57236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"/>
                      <p:cNvSpPr/>
                      <p:nvPr/>
                    </p:nvSpPr>
                    <p:spPr>
                      <a:xfrm>
                        <a:off x="1596960" y="57502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1596960" y="57783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7" name=""/>
                    <p:cNvGrpSpPr/>
                    <p:nvPr/>
                  </p:nvGrpSpPr>
                  <p:grpSpPr>
                    <a:xfrm>
                      <a:off x="1596960" y="5806800"/>
                      <a:ext cx="167400" cy="82800"/>
                      <a:chOff x="1596960" y="5806800"/>
                      <a:chExt cx="167400" cy="82800"/>
                    </a:xfrm>
                  </p:grpSpPr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1596960" y="58068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1596960" y="58334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1596960" y="58615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1596960" y="5888880"/>
                      <a:ext cx="167400" cy="82800"/>
                      <a:chOff x="1596960" y="5888880"/>
                      <a:chExt cx="167400" cy="82800"/>
                    </a:xfrm>
                  </p:grpSpPr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1596960" y="58888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1596960" y="59155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1596960" y="59436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1596960" y="5968080"/>
                    <a:ext cx="167400" cy="414720"/>
                    <a:chOff x="1596960" y="5968080"/>
                    <a:chExt cx="167400" cy="414720"/>
                  </a:xfrm>
                </p:grpSpPr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1596960" y="5968080"/>
                      <a:ext cx="167400" cy="82800"/>
                      <a:chOff x="1596960" y="5968080"/>
                      <a:chExt cx="167400" cy="82800"/>
                    </a:xfrm>
                  </p:grpSpPr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1596960" y="59680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1596960" y="59947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1596960" y="60228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0" name=""/>
                    <p:cNvGrpSpPr/>
                    <p:nvPr/>
                  </p:nvGrpSpPr>
                  <p:grpSpPr>
                    <a:xfrm>
                      <a:off x="1596960" y="6051240"/>
                      <a:ext cx="167400" cy="82800"/>
                      <a:chOff x="1596960" y="6051240"/>
                      <a:chExt cx="167400" cy="82800"/>
                    </a:xfrm>
                  </p:grpSpPr>
                  <p:sp>
                    <p:nvSpPr>
                      <p:cNvPr id="601" name=""/>
                      <p:cNvSpPr/>
                      <p:nvPr/>
                    </p:nvSpPr>
                    <p:spPr>
                      <a:xfrm>
                        <a:off x="1596960" y="60512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"/>
                      <p:cNvSpPr/>
                      <p:nvPr/>
                    </p:nvSpPr>
                    <p:spPr>
                      <a:xfrm>
                        <a:off x="1596960" y="60778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"/>
                      <p:cNvSpPr/>
                      <p:nvPr/>
                    </p:nvSpPr>
                    <p:spPr>
                      <a:xfrm>
                        <a:off x="1596960" y="61059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4" name=""/>
                    <p:cNvGrpSpPr/>
                    <p:nvPr/>
                  </p:nvGrpSpPr>
                  <p:grpSpPr>
                    <a:xfrm>
                      <a:off x="1596960" y="6134760"/>
                      <a:ext cx="167400" cy="82800"/>
                      <a:chOff x="1596960" y="6134760"/>
                      <a:chExt cx="167400" cy="82800"/>
                    </a:xfrm>
                  </p:grpSpPr>
                  <p:sp>
                    <p:nvSpPr>
                      <p:cNvPr id="605" name=""/>
                      <p:cNvSpPr/>
                      <p:nvPr/>
                    </p:nvSpPr>
                    <p:spPr>
                      <a:xfrm>
                        <a:off x="1596960" y="61347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"/>
                      <p:cNvSpPr/>
                      <p:nvPr/>
                    </p:nvSpPr>
                    <p:spPr>
                      <a:xfrm>
                        <a:off x="1596960" y="61614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"/>
                      <p:cNvSpPr/>
                      <p:nvPr/>
                    </p:nvSpPr>
                    <p:spPr>
                      <a:xfrm>
                        <a:off x="1596960" y="618948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8" name=""/>
                    <p:cNvGrpSpPr/>
                    <p:nvPr/>
                  </p:nvGrpSpPr>
                  <p:grpSpPr>
                    <a:xfrm>
                      <a:off x="1596960" y="6217920"/>
                      <a:ext cx="167400" cy="82800"/>
                      <a:chOff x="1596960" y="6217920"/>
                      <a:chExt cx="167400" cy="82800"/>
                    </a:xfrm>
                  </p:grpSpPr>
                  <p:sp>
                    <p:nvSpPr>
                      <p:cNvPr id="609" name=""/>
                      <p:cNvSpPr/>
                      <p:nvPr/>
                    </p:nvSpPr>
                    <p:spPr>
                      <a:xfrm>
                        <a:off x="1596960" y="62179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1596960" y="624456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1596960" y="62726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"/>
                    <p:cNvGrpSpPr/>
                    <p:nvPr/>
                  </p:nvGrpSpPr>
                  <p:grpSpPr>
                    <a:xfrm>
                      <a:off x="1596960" y="6300000"/>
                      <a:ext cx="167400" cy="82800"/>
                      <a:chOff x="1596960" y="6300000"/>
                      <a:chExt cx="167400" cy="82800"/>
                    </a:xfrm>
                  </p:grpSpPr>
                  <p:sp>
                    <p:nvSpPr>
                      <p:cNvPr id="613" name=""/>
                      <p:cNvSpPr/>
                      <p:nvPr/>
                    </p:nvSpPr>
                    <p:spPr>
                      <a:xfrm>
                        <a:off x="1596960" y="630000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"/>
                      <p:cNvSpPr/>
                      <p:nvPr/>
                    </p:nvSpPr>
                    <p:spPr>
                      <a:xfrm>
                        <a:off x="1596960" y="632664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"/>
                      <p:cNvSpPr/>
                      <p:nvPr/>
                    </p:nvSpPr>
                    <p:spPr>
                      <a:xfrm>
                        <a:off x="1596960" y="6354720"/>
                        <a:ext cx="167400" cy="28080"/>
                      </a:xfrm>
                      <a:prstGeom prst="flowChartProcess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5120" bIns="-151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1544040" y="5127120"/>
                  <a:ext cx="274320" cy="430560"/>
                  <a:chOff x="1544040" y="5127120"/>
                  <a:chExt cx="274320" cy="430560"/>
                </a:xfrm>
              </p:grpSpPr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1544040" y="5272200"/>
                    <a:ext cx="274320" cy="285480"/>
                    <a:chOff x="1544040" y="5272200"/>
                    <a:chExt cx="274320" cy="28548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1544040" y="5396760"/>
                      <a:ext cx="274320" cy="259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19" name=""/>
                    <p:cNvGrpSpPr/>
                    <p:nvPr/>
                  </p:nvGrpSpPr>
                  <p:grpSpPr>
                    <a:xfrm>
                      <a:off x="1549080" y="5272200"/>
                      <a:ext cx="263520" cy="285480"/>
                      <a:chOff x="1549080" y="5272200"/>
                      <a:chExt cx="263520" cy="285480"/>
                    </a:xfrm>
                  </p:grpSpPr>
                  <p:sp>
                    <p:nvSpPr>
                      <p:cNvPr id="620" name=""/>
                      <p:cNvSpPr/>
                      <p:nvPr/>
                    </p:nvSpPr>
                    <p:spPr>
                      <a:xfrm>
                        <a:off x="1550880" y="5410440"/>
                        <a:ext cx="259560" cy="14724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"/>
                      <p:cNvSpPr/>
                      <p:nvPr/>
                    </p:nvSpPr>
                    <p:spPr>
                      <a:xfrm flipV="1">
                        <a:off x="1549080" y="5296680"/>
                        <a:ext cx="263520" cy="100080"/>
                      </a:xfrm>
                      <a:custGeom>
                        <a:avLst/>
                        <a:gdLst>
                          <a:gd name="textAreaLeft" fmla="*/ 27360 w 263520"/>
                          <a:gd name="textAreaRight" fmla="*/ 236160 w 263520"/>
                          <a:gd name="textAreaTop" fmla="*/ 10440 h 100080"/>
                          <a:gd name="textAreaBottom" fmla="*/ 89640 h 100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0701" y="21600"/>
                            </a:lnTo>
                            <a:lnTo>
                              <a:pt x="899" y="216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"/>
                      <p:cNvSpPr/>
                      <p:nvPr/>
                    </p:nvSpPr>
                    <p:spPr>
                      <a:xfrm>
                        <a:off x="1557000" y="5272200"/>
                        <a:ext cx="246240" cy="24480"/>
                      </a:xfrm>
                      <a:prstGeom prst="rect">
                        <a:avLst/>
                      </a:pr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320" bIns="-2232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594440" y="5127120"/>
                    <a:ext cx="172080" cy="144000"/>
                    <a:chOff x="1594440" y="5127120"/>
                    <a:chExt cx="172080" cy="14400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595160" y="5127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1631520" y="5127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68240" y="5127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1707840" y="5127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1745280" y="5127120"/>
                      <a:ext cx="21240" cy="143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1594440" y="518868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1595880" y="523404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1595880" y="5271120"/>
                      <a:ext cx="170640" cy="0"/>
                    </a:xfrm>
                    <a:prstGeom prst="line">
                      <a:avLst/>
                    </a:prstGeom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2" name=""/>
                  <p:cNvSpPr/>
                  <p:nvPr/>
                </p:nvSpPr>
                <p:spPr>
                  <a:xfrm>
                    <a:off x="1576440" y="5409360"/>
                    <a:ext cx="41040" cy="1465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1742040" y="5407920"/>
                    <a:ext cx="41040" cy="1465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1645200" y="5436360"/>
                    <a:ext cx="71280" cy="118080"/>
                  </a:xfrm>
                  <a:prstGeom prst="rect">
                    <a:avLst/>
                  </a:prstGeom>
                  <a:solidFill>
                    <a:srgbClr val="66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5" name=""/>
              <p:cNvSpPr/>
              <p:nvPr/>
            </p:nvSpPr>
            <p:spPr>
              <a:xfrm>
                <a:off x="208080" y="3767040"/>
                <a:ext cx="2946600" cy="1883520"/>
              </a:xfrm>
              <a:prstGeom prst="verticalScroll">
                <a:avLst>
                  <a:gd name="adj" fmla="val 12500"/>
                </a:avLst>
              </a:prstGeom>
              <a:noFill/>
              <a:ln w="126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Example 3 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output driver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Monotype Corsiva"/>
                  </a:rPr>
                  <a:t>with ramp onl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858960" y="3478320"/>
              <a:ext cx="1558440" cy="298440"/>
              <a:chOff x="858960" y="3478320"/>
              <a:chExt cx="1558440" cy="298440"/>
            </a:xfrm>
          </p:grpSpPr>
          <p:sp>
            <p:nvSpPr>
              <p:cNvPr id="637" name=""/>
              <p:cNvSpPr/>
              <p:nvPr/>
            </p:nvSpPr>
            <p:spPr>
              <a:xfrm>
                <a:off x="858960" y="3478320"/>
                <a:ext cx="297360" cy="2984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20400" y="3478320"/>
                <a:ext cx="297000" cy="2984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694880" y="3478320"/>
                <a:ext cx="297360" cy="2984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277640" y="3478320"/>
                <a:ext cx="297000" cy="2984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"/>
          <p:cNvSpPr/>
          <p:nvPr/>
        </p:nvSpPr>
        <p:spPr>
          <a:xfrm>
            <a:off x="158760" y="888840"/>
            <a:ext cx="1681200" cy="3128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ynamic  swing calculation from ramp valu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5938" name=""/>
          <p:cNvGrpSpPr/>
          <p:nvPr/>
        </p:nvGrpSpPr>
        <p:grpSpPr>
          <a:xfrm>
            <a:off x="7838280" y="4851000"/>
            <a:ext cx="1469880" cy="1206720"/>
            <a:chOff x="7838280" y="4851000"/>
            <a:chExt cx="1469880" cy="1206720"/>
          </a:xfrm>
        </p:grpSpPr>
        <p:grpSp>
          <p:nvGrpSpPr>
            <p:cNvPr id="5939" name=""/>
            <p:cNvGrpSpPr/>
            <p:nvPr/>
          </p:nvGrpSpPr>
          <p:grpSpPr>
            <a:xfrm>
              <a:off x="8258040" y="5422680"/>
              <a:ext cx="633240" cy="635040"/>
              <a:chOff x="8258040" y="5422680"/>
              <a:chExt cx="633240" cy="635040"/>
            </a:xfrm>
          </p:grpSpPr>
          <p:grpSp>
            <p:nvGrpSpPr>
              <p:cNvPr id="5940" name=""/>
              <p:cNvGrpSpPr/>
              <p:nvPr/>
            </p:nvGrpSpPr>
            <p:grpSpPr>
              <a:xfrm>
                <a:off x="8258040" y="5638680"/>
                <a:ext cx="633240" cy="419040"/>
                <a:chOff x="8258040" y="5638680"/>
                <a:chExt cx="633240" cy="419040"/>
              </a:xfrm>
            </p:grpSpPr>
            <p:grpSp>
              <p:nvGrpSpPr>
                <p:cNvPr id="5941" name=""/>
                <p:cNvGrpSpPr/>
                <p:nvPr/>
              </p:nvGrpSpPr>
              <p:grpSpPr>
                <a:xfrm>
                  <a:off x="8258040" y="5974920"/>
                  <a:ext cx="633240" cy="82800"/>
                  <a:chOff x="8258040" y="5974920"/>
                  <a:chExt cx="633240" cy="82800"/>
                </a:xfrm>
              </p:grpSpPr>
              <p:sp>
                <p:nvSpPr>
                  <p:cNvPr id="5942" name=""/>
                  <p:cNvSpPr/>
                  <p:nvPr/>
                </p:nvSpPr>
                <p:spPr>
                  <a:xfrm>
                    <a:off x="8363520" y="59749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3" name=""/>
                  <p:cNvSpPr/>
                  <p:nvPr/>
                </p:nvSpPr>
                <p:spPr>
                  <a:xfrm>
                    <a:off x="857484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4" name=""/>
                  <p:cNvSpPr/>
                  <p:nvPr/>
                </p:nvSpPr>
                <p:spPr>
                  <a:xfrm>
                    <a:off x="8680680" y="59749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5" name=""/>
                  <p:cNvSpPr/>
                  <p:nvPr/>
                </p:nvSpPr>
                <p:spPr>
                  <a:xfrm>
                    <a:off x="878616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6" name=""/>
                  <p:cNvSpPr/>
                  <p:nvPr/>
                </p:nvSpPr>
                <p:spPr>
                  <a:xfrm>
                    <a:off x="846936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7" name=""/>
                  <p:cNvSpPr/>
                  <p:nvPr/>
                </p:nvSpPr>
                <p:spPr>
                  <a:xfrm>
                    <a:off x="825804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8" name=""/>
                <p:cNvGrpSpPr/>
                <p:nvPr/>
              </p:nvGrpSpPr>
              <p:grpSpPr>
                <a:xfrm>
                  <a:off x="8310960" y="5891040"/>
                  <a:ext cx="527760" cy="82800"/>
                  <a:chOff x="8310960" y="5891040"/>
                  <a:chExt cx="527760" cy="82800"/>
                </a:xfrm>
              </p:grpSpPr>
              <p:sp>
                <p:nvSpPr>
                  <p:cNvPr id="5949" name=""/>
                  <p:cNvSpPr/>
                  <p:nvPr/>
                </p:nvSpPr>
                <p:spPr>
                  <a:xfrm>
                    <a:off x="831096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0" name=""/>
                  <p:cNvSpPr/>
                  <p:nvPr/>
                </p:nvSpPr>
                <p:spPr>
                  <a:xfrm>
                    <a:off x="852228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1" name=""/>
                  <p:cNvSpPr/>
                  <p:nvPr/>
                </p:nvSpPr>
                <p:spPr>
                  <a:xfrm>
                    <a:off x="862812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2" name=""/>
                  <p:cNvSpPr/>
                  <p:nvPr/>
                </p:nvSpPr>
                <p:spPr>
                  <a:xfrm>
                    <a:off x="873360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"/>
                  <p:cNvSpPr/>
                  <p:nvPr/>
                </p:nvSpPr>
                <p:spPr>
                  <a:xfrm>
                    <a:off x="841644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"/>
                <p:cNvSpPr/>
                <p:nvPr/>
              </p:nvSpPr>
              <p:spPr>
                <a:xfrm>
                  <a:off x="8469360" y="58071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8681040" y="58071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8575200" y="58071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8363520" y="58071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8416800" y="57236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8628120" y="57236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8522640" y="57236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1" name=""/>
                <p:cNvGrpSpPr/>
                <p:nvPr/>
              </p:nvGrpSpPr>
              <p:grpSpPr>
                <a:xfrm>
                  <a:off x="8470440" y="5638680"/>
                  <a:ext cx="210600" cy="82800"/>
                  <a:chOff x="8470440" y="5638680"/>
                  <a:chExt cx="210600" cy="82800"/>
                </a:xfrm>
              </p:grpSpPr>
              <p:sp>
                <p:nvSpPr>
                  <p:cNvPr id="5962" name=""/>
                  <p:cNvSpPr/>
                  <p:nvPr/>
                </p:nvSpPr>
                <p:spPr>
                  <a:xfrm>
                    <a:off x="8470440" y="56386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3" name=""/>
                  <p:cNvSpPr/>
                  <p:nvPr/>
                </p:nvSpPr>
                <p:spPr>
                  <a:xfrm>
                    <a:off x="8576280" y="56386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64" name=""/>
              <p:cNvGrpSpPr/>
              <p:nvPr/>
            </p:nvGrpSpPr>
            <p:grpSpPr>
              <a:xfrm>
                <a:off x="8532360" y="5638680"/>
                <a:ext cx="83880" cy="414720"/>
                <a:chOff x="8532360" y="5638680"/>
                <a:chExt cx="83880" cy="414720"/>
              </a:xfrm>
            </p:grpSpPr>
            <p:grpSp>
              <p:nvGrpSpPr>
                <p:cNvPr id="5965" name=""/>
                <p:cNvGrpSpPr/>
                <p:nvPr/>
              </p:nvGrpSpPr>
              <p:grpSpPr>
                <a:xfrm>
                  <a:off x="8532360" y="5638680"/>
                  <a:ext cx="83880" cy="208080"/>
                  <a:chOff x="8532360" y="5638680"/>
                  <a:chExt cx="83880" cy="208080"/>
                </a:xfrm>
              </p:grpSpPr>
              <p:grpSp>
                <p:nvGrpSpPr>
                  <p:cNvPr id="5966" name=""/>
                  <p:cNvGrpSpPr/>
                  <p:nvPr/>
                </p:nvGrpSpPr>
                <p:grpSpPr>
                  <a:xfrm>
                    <a:off x="8532360" y="5638680"/>
                    <a:ext cx="83880" cy="41400"/>
                    <a:chOff x="8532360" y="5638680"/>
                    <a:chExt cx="83880" cy="41400"/>
                  </a:xfrm>
                </p:grpSpPr>
                <p:sp>
                  <p:nvSpPr>
                    <p:cNvPr id="5967" name=""/>
                    <p:cNvSpPr/>
                    <p:nvPr/>
                  </p:nvSpPr>
                  <p:spPr>
                    <a:xfrm>
                      <a:off x="8532360" y="5638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8" name=""/>
                    <p:cNvSpPr/>
                    <p:nvPr/>
                  </p:nvSpPr>
                  <p:spPr>
                    <a:xfrm>
                      <a:off x="8532360" y="5652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9" name=""/>
                    <p:cNvSpPr/>
                    <p:nvPr/>
                  </p:nvSpPr>
                  <p:spPr>
                    <a:xfrm>
                      <a:off x="8532360" y="5666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0" name=""/>
                  <p:cNvGrpSpPr/>
                  <p:nvPr/>
                </p:nvGrpSpPr>
                <p:grpSpPr>
                  <a:xfrm>
                    <a:off x="8532360" y="5680440"/>
                    <a:ext cx="83880" cy="41400"/>
                    <a:chOff x="8532360" y="5680440"/>
                    <a:chExt cx="83880" cy="41400"/>
                  </a:xfrm>
                </p:grpSpPr>
                <p:sp>
                  <p:nvSpPr>
                    <p:cNvPr id="5971" name=""/>
                    <p:cNvSpPr/>
                    <p:nvPr/>
                  </p:nvSpPr>
                  <p:spPr>
                    <a:xfrm>
                      <a:off x="8532360" y="5680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2" name=""/>
                    <p:cNvSpPr/>
                    <p:nvPr/>
                  </p:nvSpPr>
                  <p:spPr>
                    <a:xfrm>
                      <a:off x="8532360" y="5693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3" name=""/>
                    <p:cNvSpPr/>
                    <p:nvPr/>
                  </p:nvSpPr>
                  <p:spPr>
                    <a:xfrm>
                      <a:off x="8532360" y="5707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4" name=""/>
                  <p:cNvGrpSpPr/>
                  <p:nvPr/>
                </p:nvGrpSpPr>
                <p:grpSpPr>
                  <a:xfrm>
                    <a:off x="8532360" y="5722200"/>
                    <a:ext cx="83880" cy="41400"/>
                    <a:chOff x="8532360" y="5722200"/>
                    <a:chExt cx="83880" cy="41400"/>
                  </a:xfrm>
                </p:grpSpPr>
                <p:sp>
                  <p:nvSpPr>
                    <p:cNvPr id="5975" name=""/>
                    <p:cNvSpPr/>
                    <p:nvPr/>
                  </p:nvSpPr>
                  <p:spPr>
                    <a:xfrm>
                      <a:off x="8532360" y="5722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6" name=""/>
                    <p:cNvSpPr/>
                    <p:nvPr/>
                  </p:nvSpPr>
                  <p:spPr>
                    <a:xfrm>
                      <a:off x="8532360" y="5735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7" name=""/>
                    <p:cNvSpPr/>
                    <p:nvPr/>
                  </p:nvSpPr>
                  <p:spPr>
                    <a:xfrm>
                      <a:off x="8532360" y="5749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8" name=""/>
                  <p:cNvGrpSpPr/>
                  <p:nvPr/>
                </p:nvGrpSpPr>
                <p:grpSpPr>
                  <a:xfrm>
                    <a:off x="8532360" y="5764320"/>
                    <a:ext cx="83880" cy="41400"/>
                    <a:chOff x="8532360" y="5764320"/>
                    <a:chExt cx="83880" cy="41400"/>
                  </a:xfrm>
                </p:grpSpPr>
                <p:sp>
                  <p:nvSpPr>
                    <p:cNvPr id="5979" name=""/>
                    <p:cNvSpPr/>
                    <p:nvPr/>
                  </p:nvSpPr>
                  <p:spPr>
                    <a:xfrm>
                      <a:off x="8532360" y="5764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0" name=""/>
                    <p:cNvSpPr/>
                    <p:nvPr/>
                  </p:nvSpPr>
                  <p:spPr>
                    <a:xfrm>
                      <a:off x="8532360" y="5777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1" name=""/>
                    <p:cNvSpPr/>
                    <p:nvPr/>
                  </p:nvSpPr>
                  <p:spPr>
                    <a:xfrm>
                      <a:off x="8532360" y="5791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2" name=""/>
                  <p:cNvGrpSpPr/>
                  <p:nvPr/>
                </p:nvGrpSpPr>
                <p:grpSpPr>
                  <a:xfrm>
                    <a:off x="8532360" y="5805360"/>
                    <a:ext cx="83880" cy="41400"/>
                    <a:chOff x="8532360" y="5805360"/>
                    <a:chExt cx="83880" cy="41400"/>
                  </a:xfrm>
                </p:grpSpPr>
                <p:sp>
                  <p:nvSpPr>
                    <p:cNvPr id="5983" name=""/>
                    <p:cNvSpPr/>
                    <p:nvPr/>
                  </p:nvSpPr>
                  <p:spPr>
                    <a:xfrm>
                      <a:off x="8532360" y="5805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4" name=""/>
                    <p:cNvSpPr/>
                    <p:nvPr/>
                  </p:nvSpPr>
                  <p:spPr>
                    <a:xfrm>
                      <a:off x="8532360" y="5818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5" name=""/>
                    <p:cNvSpPr/>
                    <p:nvPr/>
                  </p:nvSpPr>
                  <p:spPr>
                    <a:xfrm>
                      <a:off x="8532360" y="5832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986" name=""/>
                <p:cNvGrpSpPr/>
                <p:nvPr/>
              </p:nvGrpSpPr>
              <p:grpSpPr>
                <a:xfrm>
                  <a:off x="8532360" y="5845320"/>
                  <a:ext cx="83880" cy="208080"/>
                  <a:chOff x="8532360" y="5845320"/>
                  <a:chExt cx="83880" cy="208080"/>
                </a:xfrm>
              </p:grpSpPr>
              <p:grpSp>
                <p:nvGrpSpPr>
                  <p:cNvPr id="5987" name=""/>
                  <p:cNvGrpSpPr/>
                  <p:nvPr/>
                </p:nvGrpSpPr>
                <p:grpSpPr>
                  <a:xfrm>
                    <a:off x="8532360" y="5845320"/>
                    <a:ext cx="83880" cy="41400"/>
                    <a:chOff x="8532360" y="5845320"/>
                    <a:chExt cx="83880" cy="41400"/>
                  </a:xfrm>
                </p:grpSpPr>
                <p:sp>
                  <p:nvSpPr>
                    <p:cNvPr id="5988" name=""/>
                    <p:cNvSpPr/>
                    <p:nvPr/>
                  </p:nvSpPr>
                  <p:spPr>
                    <a:xfrm>
                      <a:off x="8532360" y="584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9" name=""/>
                    <p:cNvSpPr/>
                    <p:nvPr/>
                  </p:nvSpPr>
                  <p:spPr>
                    <a:xfrm>
                      <a:off x="8532360" y="5858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0" name=""/>
                    <p:cNvSpPr/>
                    <p:nvPr/>
                  </p:nvSpPr>
                  <p:spPr>
                    <a:xfrm>
                      <a:off x="8532360" y="5872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1" name=""/>
                  <p:cNvGrpSpPr/>
                  <p:nvPr/>
                </p:nvGrpSpPr>
                <p:grpSpPr>
                  <a:xfrm>
                    <a:off x="8532360" y="5887080"/>
                    <a:ext cx="83880" cy="41400"/>
                    <a:chOff x="8532360" y="5887080"/>
                    <a:chExt cx="83880" cy="41400"/>
                  </a:xfrm>
                </p:grpSpPr>
                <p:sp>
                  <p:nvSpPr>
                    <p:cNvPr id="5992" name=""/>
                    <p:cNvSpPr/>
                    <p:nvPr/>
                  </p:nvSpPr>
                  <p:spPr>
                    <a:xfrm>
                      <a:off x="8532360" y="5887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3" name=""/>
                    <p:cNvSpPr/>
                    <p:nvPr/>
                  </p:nvSpPr>
                  <p:spPr>
                    <a:xfrm>
                      <a:off x="8532360" y="5900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4" name=""/>
                    <p:cNvSpPr/>
                    <p:nvPr/>
                  </p:nvSpPr>
                  <p:spPr>
                    <a:xfrm>
                      <a:off x="8532360" y="591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5" name=""/>
                  <p:cNvGrpSpPr/>
                  <p:nvPr/>
                </p:nvGrpSpPr>
                <p:grpSpPr>
                  <a:xfrm>
                    <a:off x="8532360" y="5928840"/>
                    <a:ext cx="83880" cy="41400"/>
                    <a:chOff x="8532360" y="5928840"/>
                    <a:chExt cx="83880" cy="41400"/>
                  </a:xfrm>
                </p:grpSpPr>
                <p:sp>
                  <p:nvSpPr>
                    <p:cNvPr id="5996" name=""/>
                    <p:cNvSpPr/>
                    <p:nvPr/>
                  </p:nvSpPr>
                  <p:spPr>
                    <a:xfrm>
                      <a:off x="8532360" y="5928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7" name=""/>
                    <p:cNvSpPr/>
                    <p:nvPr/>
                  </p:nvSpPr>
                  <p:spPr>
                    <a:xfrm>
                      <a:off x="8532360" y="5942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8" name=""/>
                    <p:cNvSpPr/>
                    <p:nvPr/>
                  </p:nvSpPr>
                  <p:spPr>
                    <a:xfrm>
                      <a:off x="8532360" y="5956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9" name=""/>
                  <p:cNvGrpSpPr/>
                  <p:nvPr/>
                </p:nvGrpSpPr>
                <p:grpSpPr>
                  <a:xfrm>
                    <a:off x="8532360" y="5970960"/>
                    <a:ext cx="83880" cy="41400"/>
                    <a:chOff x="8532360" y="5970960"/>
                    <a:chExt cx="83880" cy="41400"/>
                  </a:xfrm>
                </p:grpSpPr>
                <p:sp>
                  <p:nvSpPr>
                    <p:cNvPr id="6000" name=""/>
                    <p:cNvSpPr/>
                    <p:nvPr/>
                  </p:nvSpPr>
                  <p:spPr>
                    <a:xfrm>
                      <a:off x="8532360" y="5970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1" name=""/>
                    <p:cNvSpPr/>
                    <p:nvPr/>
                  </p:nvSpPr>
                  <p:spPr>
                    <a:xfrm>
                      <a:off x="8532360" y="5984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2" name=""/>
                    <p:cNvSpPr/>
                    <p:nvPr/>
                  </p:nvSpPr>
                  <p:spPr>
                    <a:xfrm>
                      <a:off x="8532360" y="5998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3" name=""/>
                  <p:cNvGrpSpPr/>
                  <p:nvPr/>
                </p:nvGrpSpPr>
                <p:grpSpPr>
                  <a:xfrm>
                    <a:off x="8532360" y="6012000"/>
                    <a:ext cx="83880" cy="41400"/>
                    <a:chOff x="8532360" y="6012000"/>
                    <a:chExt cx="83880" cy="41400"/>
                  </a:xfrm>
                </p:grpSpPr>
                <p:sp>
                  <p:nvSpPr>
                    <p:cNvPr id="6004" name=""/>
                    <p:cNvSpPr/>
                    <p:nvPr/>
                  </p:nvSpPr>
                  <p:spPr>
                    <a:xfrm>
                      <a:off x="8532360" y="6012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5" name=""/>
                    <p:cNvSpPr/>
                    <p:nvPr/>
                  </p:nvSpPr>
                  <p:spPr>
                    <a:xfrm>
                      <a:off x="8532360" y="602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6" name=""/>
                    <p:cNvSpPr/>
                    <p:nvPr/>
                  </p:nvSpPr>
                  <p:spPr>
                    <a:xfrm>
                      <a:off x="8532360" y="6039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07" name=""/>
              <p:cNvGrpSpPr/>
              <p:nvPr/>
            </p:nvGrpSpPr>
            <p:grpSpPr>
              <a:xfrm>
                <a:off x="8505720" y="5422680"/>
                <a:ext cx="137880" cy="216000"/>
                <a:chOff x="8505720" y="5422680"/>
                <a:chExt cx="137880" cy="216000"/>
              </a:xfrm>
            </p:grpSpPr>
            <p:grpSp>
              <p:nvGrpSpPr>
                <p:cNvPr id="6008" name=""/>
                <p:cNvGrpSpPr/>
                <p:nvPr/>
              </p:nvGrpSpPr>
              <p:grpSpPr>
                <a:xfrm>
                  <a:off x="8505720" y="5495400"/>
                  <a:ext cx="137880" cy="143280"/>
                  <a:chOff x="8505720" y="5495400"/>
                  <a:chExt cx="137880" cy="143280"/>
                </a:xfrm>
              </p:grpSpPr>
              <p:sp>
                <p:nvSpPr>
                  <p:cNvPr id="6009" name=""/>
                  <p:cNvSpPr/>
                  <p:nvPr/>
                </p:nvSpPr>
                <p:spPr>
                  <a:xfrm>
                    <a:off x="8505720" y="55580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10" name=""/>
                  <p:cNvGrpSpPr/>
                  <p:nvPr/>
                </p:nvGrpSpPr>
                <p:grpSpPr>
                  <a:xfrm>
                    <a:off x="8508240" y="5495400"/>
                    <a:ext cx="132480" cy="143280"/>
                    <a:chOff x="8508240" y="5495400"/>
                    <a:chExt cx="132480" cy="143280"/>
                  </a:xfrm>
                </p:grpSpPr>
                <p:sp>
                  <p:nvSpPr>
                    <p:cNvPr id="6011" name=""/>
                    <p:cNvSpPr/>
                    <p:nvPr/>
                  </p:nvSpPr>
                  <p:spPr>
                    <a:xfrm>
                      <a:off x="8508960" y="55648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2" name=""/>
                    <p:cNvSpPr/>
                    <p:nvPr/>
                  </p:nvSpPr>
                  <p:spPr>
                    <a:xfrm flipV="1">
                      <a:off x="8508240" y="55069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3" name=""/>
                    <p:cNvSpPr/>
                    <p:nvPr/>
                  </p:nvSpPr>
                  <p:spPr>
                    <a:xfrm>
                      <a:off x="8512200" y="54954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14" name=""/>
                <p:cNvGrpSpPr/>
                <p:nvPr/>
              </p:nvGrpSpPr>
              <p:grpSpPr>
                <a:xfrm>
                  <a:off x="8530920" y="5422680"/>
                  <a:ext cx="86400" cy="72360"/>
                  <a:chOff x="8530920" y="5422680"/>
                  <a:chExt cx="86400" cy="72360"/>
                </a:xfrm>
              </p:grpSpPr>
              <p:sp>
                <p:nvSpPr>
                  <p:cNvPr id="6015" name=""/>
                  <p:cNvSpPr/>
                  <p:nvPr/>
                </p:nvSpPr>
                <p:spPr>
                  <a:xfrm>
                    <a:off x="853128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6" name=""/>
                  <p:cNvSpPr/>
                  <p:nvPr/>
                </p:nvSpPr>
                <p:spPr>
                  <a:xfrm>
                    <a:off x="854964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7" name=""/>
                  <p:cNvSpPr/>
                  <p:nvPr/>
                </p:nvSpPr>
                <p:spPr>
                  <a:xfrm>
                    <a:off x="856800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858780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>
                    <a:off x="860652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0" name=""/>
                  <p:cNvSpPr/>
                  <p:nvPr/>
                </p:nvSpPr>
                <p:spPr>
                  <a:xfrm>
                    <a:off x="8530920" y="54536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1" name=""/>
                  <p:cNvSpPr/>
                  <p:nvPr/>
                </p:nvSpPr>
                <p:spPr>
                  <a:xfrm>
                    <a:off x="8531640" y="54763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2" name=""/>
                  <p:cNvSpPr/>
                  <p:nvPr/>
                </p:nvSpPr>
                <p:spPr>
                  <a:xfrm>
                    <a:off x="8531640" y="54950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3" name=""/>
                <p:cNvSpPr/>
                <p:nvPr/>
              </p:nvSpPr>
              <p:spPr>
                <a:xfrm>
                  <a:off x="8521920" y="55645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8605440" y="55638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8556480" y="55782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26" name=""/>
            <p:cNvSpPr/>
            <p:nvPr/>
          </p:nvSpPr>
          <p:spPr>
            <a:xfrm>
              <a:off x="7838280" y="4851000"/>
              <a:ext cx="146988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ramp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7" name=""/>
          <p:cNvGrpSpPr/>
          <p:nvPr/>
        </p:nvGrpSpPr>
        <p:grpSpPr>
          <a:xfrm>
            <a:off x="297000" y="2298600"/>
            <a:ext cx="6547320" cy="4159080"/>
            <a:chOff x="297000" y="2298600"/>
            <a:chExt cx="6547320" cy="4159080"/>
          </a:xfrm>
        </p:grpSpPr>
        <p:grpSp>
          <p:nvGrpSpPr>
            <p:cNvPr id="6028" name=""/>
            <p:cNvGrpSpPr/>
            <p:nvPr/>
          </p:nvGrpSpPr>
          <p:grpSpPr>
            <a:xfrm>
              <a:off x="5432760" y="4338720"/>
              <a:ext cx="1411560" cy="1321200"/>
              <a:chOff x="5432760" y="4338720"/>
              <a:chExt cx="1411560" cy="1321200"/>
            </a:xfrm>
          </p:grpSpPr>
          <p:sp>
            <p:nvSpPr>
              <p:cNvPr id="6029" name=""/>
              <p:cNvSpPr/>
              <p:nvPr/>
            </p:nvSpPr>
            <p:spPr>
              <a:xfrm>
                <a:off x="5446080" y="5298840"/>
                <a:ext cx="13982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[pulldown] !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5432760" y="4338720"/>
                <a:ext cx="11073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[pullup] !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1" name=""/>
            <p:cNvSpPr/>
            <p:nvPr/>
          </p:nvSpPr>
          <p:spPr>
            <a:xfrm>
              <a:off x="4343760" y="6157800"/>
              <a:ext cx="13816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0Ohm to 1.0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207160" y="6140520"/>
              <a:ext cx="13816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0Ohm to 0.0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3" name=""/>
            <p:cNvGrpSpPr/>
            <p:nvPr/>
          </p:nvGrpSpPr>
          <p:grpSpPr>
            <a:xfrm>
              <a:off x="1295280" y="2298600"/>
              <a:ext cx="3382560" cy="3400200"/>
              <a:chOff x="1295280" y="2298600"/>
              <a:chExt cx="3382560" cy="3400200"/>
            </a:xfrm>
          </p:grpSpPr>
          <p:sp>
            <p:nvSpPr>
              <p:cNvPr id="6034" name=""/>
              <p:cNvSpPr/>
              <p:nvPr/>
            </p:nvSpPr>
            <p:spPr>
              <a:xfrm>
                <a:off x="1478160" y="2298600"/>
                <a:ext cx="0" cy="340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1295280" y="4772880"/>
                <a:ext cx="338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6" name=""/>
            <p:cNvSpPr/>
            <p:nvPr/>
          </p:nvSpPr>
          <p:spPr>
            <a:xfrm>
              <a:off x="297000" y="3357720"/>
              <a:ext cx="2442960" cy="2900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614520" y="4276800"/>
              <a:ext cx="504000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681120" y="5267160"/>
              <a:ext cx="507816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4857840" y="4618080"/>
              <a:ext cx="60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 rot="16200000">
              <a:off x="705240" y="2836800"/>
              <a:ext cx="62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505240" y="3357720"/>
              <a:ext cx="2442960" cy="2900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1063800" y="3917880"/>
              <a:ext cx="0" cy="107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1900080" y="4503600"/>
              <a:ext cx="0" cy="128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301920" y="3962520"/>
              <a:ext cx="0" cy="107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4102200" y="4475160"/>
              <a:ext cx="0" cy="1316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895320" y="4102200"/>
              <a:ext cx="331920" cy="350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940200" y="5086440"/>
              <a:ext cx="331920" cy="350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122640" y="4102200"/>
              <a:ext cx="331920" cy="35064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1730520" y="5094360"/>
              <a:ext cx="331560" cy="35064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92120" y="341640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0.133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1234080" y="578628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.132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124800" y="356544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.868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326400" y="579420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.133V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024360" y="4863960"/>
              <a:ext cx="63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.0V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697200" y="4708440"/>
              <a:ext cx="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6" name=""/>
          <p:cNvSpPr/>
          <p:nvPr/>
        </p:nvSpPr>
        <p:spPr>
          <a:xfrm>
            <a:off x="300240" y="682560"/>
            <a:ext cx="60130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mp swing calculation ( extrapolated from model valu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7" name=""/>
          <p:cNvGrpSpPr/>
          <p:nvPr/>
        </p:nvGrpSpPr>
        <p:grpSpPr>
          <a:xfrm>
            <a:off x="282600" y="1494000"/>
            <a:ext cx="5038560" cy="3643920"/>
            <a:chOff x="282600" y="1494000"/>
            <a:chExt cx="5038560" cy="3643920"/>
          </a:xfrm>
        </p:grpSpPr>
        <p:grpSp>
          <p:nvGrpSpPr>
            <p:cNvPr id="6058" name=""/>
            <p:cNvGrpSpPr/>
            <p:nvPr/>
          </p:nvGrpSpPr>
          <p:grpSpPr>
            <a:xfrm>
              <a:off x="282600" y="1494000"/>
              <a:ext cx="5038560" cy="721080"/>
              <a:chOff x="282600" y="1494000"/>
              <a:chExt cx="5038560" cy="721080"/>
            </a:xfrm>
          </p:grpSpPr>
          <p:sp>
            <p:nvSpPr>
              <p:cNvPr id="6059" name=""/>
              <p:cNvSpPr/>
              <p:nvPr/>
            </p:nvSpPr>
            <p:spPr>
              <a:xfrm>
                <a:off x="282600" y="1722240"/>
                <a:ext cx="292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v_f   0-100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0.135V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3200040" y="1494000"/>
                <a:ext cx="426600" cy="721080"/>
              </a:xfrm>
              <a:prstGeom prst="leftRightArrow">
                <a:avLst>
                  <a:gd name="adj1" fmla="val 50000"/>
                  <a:gd name="adj2" fmla="val 19907"/>
                </a:avLst>
              </a:prstGeom>
              <a:solidFill>
                <a:srgbClr val="00cc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3637800" y="1715760"/>
                <a:ext cx="168336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[pulldown] to vc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2" name=""/>
            <p:cNvSpPr/>
            <p:nvPr/>
          </p:nvSpPr>
          <p:spPr>
            <a:xfrm>
              <a:off x="3689280" y="4416840"/>
              <a:ext cx="426960" cy="7210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cc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3" name=""/>
          <p:cNvGrpSpPr/>
          <p:nvPr/>
        </p:nvGrpSpPr>
        <p:grpSpPr>
          <a:xfrm>
            <a:off x="281520" y="821160"/>
            <a:ext cx="4812120" cy="4275360"/>
            <a:chOff x="281520" y="821160"/>
            <a:chExt cx="4812120" cy="4275360"/>
          </a:xfrm>
        </p:grpSpPr>
        <p:grpSp>
          <p:nvGrpSpPr>
            <p:cNvPr id="6064" name=""/>
            <p:cNvGrpSpPr/>
            <p:nvPr/>
          </p:nvGrpSpPr>
          <p:grpSpPr>
            <a:xfrm>
              <a:off x="281520" y="821160"/>
              <a:ext cx="4812120" cy="721080"/>
              <a:chOff x="281520" y="821160"/>
              <a:chExt cx="4812120" cy="721080"/>
            </a:xfrm>
          </p:grpSpPr>
          <p:sp>
            <p:nvSpPr>
              <p:cNvPr id="6065" name=""/>
              <p:cNvSpPr/>
              <p:nvPr/>
            </p:nvSpPr>
            <p:spPr>
              <a:xfrm>
                <a:off x="281520" y="1049400"/>
                <a:ext cx="2795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v_r   0-100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0.129V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3198600" y="821160"/>
                <a:ext cx="427320" cy="721080"/>
              </a:xfrm>
              <a:prstGeom prst="leftRightArrow">
                <a:avLst>
                  <a:gd name="adj1" fmla="val 50000"/>
                  <a:gd name="adj2" fmla="val 19907"/>
                </a:avLst>
              </a:prstGeom>
              <a:solidFill>
                <a:srgbClr val="00cc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3637440" y="1042920"/>
                <a:ext cx="14562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[pullup] to g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8" name=""/>
            <p:cNvSpPr/>
            <p:nvPr/>
          </p:nvSpPr>
          <p:spPr>
            <a:xfrm>
              <a:off x="1047600" y="4375440"/>
              <a:ext cx="463680" cy="7210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cc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2000"/>
                                        <p:tgtEl>
                                          <p:spTgt spid="6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000"/>
                                        <p:tgtEl>
                                          <p:spTgt spid="6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ynamic  and static swing comparison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6070" name=""/>
          <p:cNvGrpSpPr/>
          <p:nvPr/>
        </p:nvGrpSpPr>
        <p:grpSpPr>
          <a:xfrm>
            <a:off x="7838280" y="4851000"/>
            <a:ext cx="1469880" cy="1206720"/>
            <a:chOff x="7838280" y="4851000"/>
            <a:chExt cx="1469880" cy="1206720"/>
          </a:xfrm>
        </p:grpSpPr>
        <p:grpSp>
          <p:nvGrpSpPr>
            <p:cNvPr id="6071" name=""/>
            <p:cNvGrpSpPr/>
            <p:nvPr/>
          </p:nvGrpSpPr>
          <p:grpSpPr>
            <a:xfrm>
              <a:off x="8258040" y="5422680"/>
              <a:ext cx="633240" cy="635040"/>
              <a:chOff x="8258040" y="5422680"/>
              <a:chExt cx="633240" cy="635040"/>
            </a:xfrm>
          </p:grpSpPr>
          <p:grpSp>
            <p:nvGrpSpPr>
              <p:cNvPr id="6072" name=""/>
              <p:cNvGrpSpPr/>
              <p:nvPr/>
            </p:nvGrpSpPr>
            <p:grpSpPr>
              <a:xfrm>
                <a:off x="8258040" y="5638680"/>
                <a:ext cx="633240" cy="419040"/>
                <a:chOff x="8258040" y="5638680"/>
                <a:chExt cx="633240" cy="419040"/>
              </a:xfrm>
            </p:grpSpPr>
            <p:grpSp>
              <p:nvGrpSpPr>
                <p:cNvPr id="6073" name=""/>
                <p:cNvGrpSpPr/>
                <p:nvPr/>
              </p:nvGrpSpPr>
              <p:grpSpPr>
                <a:xfrm>
                  <a:off x="8258040" y="5974920"/>
                  <a:ext cx="633240" cy="82800"/>
                  <a:chOff x="8258040" y="5974920"/>
                  <a:chExt cx="633240" cy="82800"/>
                </a:xfrm>
              </p:grpSpPr>
              <p:sp>
                <p:nvSpPr>
                  <p:cNvPr id="6074" name=""/>
                  <p:cNvSpPr/>
                  <p:nvPr/>
                </p:nvSpPr>
                <p:spPr>
                  <a:xfrm>
                    <a:off x="8363520" y="59749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5" name=""/>
                  <p:cNvSpPr/>
                  <p:nvPr/>
                </p:nvSpPr>
                <p:spPr>
                  <a:xfrm>
                    <a:off x="857484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>
                    <a:off x="8680680" y="59749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7" name=""/>
                  <p:cNvSpPr/>
                  <p:nvPr/>
                </p:nvSpPr>
                <p:spPr>
                  <a:xfrm>
                    <a:off x="878616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8" name=""/>
                  <p:cNvSpPr/>
                  <p:nvPr/>
                </p:nvSpPr>
                <p:spPr>
                  <a:xfrm>
                    <a:off x="846936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9" name=""/>
                  <p:cNvSpPr/>
                  <p:nvPr/>
                </p:nvSpPr>
                <p:spPr>
                  <a:xfrm>
                    <a:off x="8258040" y="59749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0" name=""/>
                <p:cNvGrpSpPr/>
                <p:nvPr/>
              </p:nvGrpSpPr>
              <p:grpSpPr>
                <a:xfrm>
                  <a:off x="8310960" y="5891040"/>
                  <a:ext cx="527760" cy="82800"/>
                  <a:chOff x="8310960" y="5891040"/>
                  <a:chExt cx="527760" cy="82800"/>
                </a:xfrm>
              </p:grpSpPr>
              <p:sp>
                <p:nvSpPr>
                  <p:cNvPr id="6081" name=""/>
                  <p:cNvSpPr/>
                  <p:nvPr/>
                </p:nvSpPr>
                <p:spPr>
                  <a:xfrm>
                    <a:off x="831096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2" name=""/>
                  <p:cNvSpPr/>
                  <p:nvPr/>
                </p:nvSpPr>
                <p:spPr>
                  <a:xfrm>
                    <a:off x="852228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3" name=""/>
                  <p:cNvSpPr/>
                  <p:nvPr/>
                </p:nvSpPr>
                <p:spPr>
                  <a:xfrm>
                    <a:off x="862812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4" name=""/>
                  <p:cNvSpPr/>
                  <p:nvPr/>
                </p:nvSpPr>
                <p:spPr>
                  <a:xfrm>
                    <a:off x="873360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5" name=""/>
                  <p:cNvSpPr/>
                  <p:nvPr/>
                </p:nvSpPr>
                <p:spPr>
                  <a:xfrm>
                    <a:off x="8416440" y="58910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6" name=""/>
                <p:cNvSpPr/>
                <p:nvPr/>
              </p:nvSpPr>
              <p:spPr>
                <a:xfrm>
                  <a:off x="8469360" y="58071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7" name=""/>
                <p:cNvSpPr/>
                <p:nvPr/>
              </p:nvSpPr>
              <p:spPr>
                <a:xfrm>
                  <a:off x="8681040" y="58071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8" name=""/>
                <p:cNvSpPr/>
                <p:nvPr/>
              </p:nvSpPr>
              <p:spPr>
                <a:xfrm>
                  <a:off x="8575200" y="58071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"/>
                <p:cNvSpPr/>
                <p:nvPr/>
              </p:nvSpPr>
              <p:spPr>
                <a:xfrm>
                  <a:off x="8363520" y="58071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0" name=""/>
                <p:cNvSpPr/>
                <p:nvPr/>
              </p:nvSpPr>
              <p:spPr>
                <a:xfrm>
                  <a:off x="8416800" y="57236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1" name=""/>
                <p:cNvSpPr/>
                <p:nvPr/>
              </p:nvSpPr>
              <p:spPr>
                <a:xfrm>
                  <a:off x="8628120" y="57236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2" name=""/>
                <p:cNvSpPr/>
                <p:nvPr/>
              </p:nvSpPr>
              <p:spPr>
                <a:xfrm>
                  <a:off x="8522640" y="57236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93" name=""/>
                <p:cNvGrpSpPr/>
                <p:nvPr/>
              </p:nvGrpSpPr>
              <p:grpSpPr>
                <a:xfrm>
                  <a:off x="8470440" y="5638680"/>
                  <a:ext cx="210600" cy="82800"/>
                  <a:chOff x="8470440" y="5638680"/>
                  <a:chExt cx="210600" cy="82800"/>
                </a:xfrm>
              </p:grpSpPr>
              <p:sp>
                <p:nvSpPr>
                  <p:cNvPr id="6094" name=""/>
                  <p:cNvSpPr/>
                  <p:nvPr/>
                </p:nvSpPr>
                <p:spPr>
                  <a:xfrm>
                    <a:off x="8470440" y="56386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5" name=""/>
                  <p:cNvSpPr/>
                  <p:nvPr/>
                </p:nvSpPr>
                <p:spPr>
                  <a:xfrm>
                    <a:off x="8576280" y="56386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96" name=""/>
              <p:cNvGrpSpPr/>
              <p:nvPr/>
            </p:nvGrpSpPr>
            <p:grpSpPr>
              <a:xfrm>
                <a:off x="8532360" y="5638680"/>
                <a:ext cx="83880" cy="414720"/>
                <a:chOff x="8532360" y="5638680"/>
                <a:chExt cx="83880" cy="414720"/>
              </a:xfrm>
            </p:grpSpPr>
            <p:grpSp>
              <p:nvGrpSpPr>
                <p:cNvPr id="6097" name=""/>
                <p:cNvGrpSpPr/>
                <p:nvPr/>
              </p:nvGrpSpPr>
              <p:grpSpPr>
                <a:xfrm>
                  <a:off x="8532360" y="5638680"/>
                  <a:ext cx="83880" cy="208080"/>
                  <a:chOff x="8532360" y="5638680"/>
                  <a:chExt cx="83880" cy="208080"/>
                </a:xfrm>
              </p:grpSpPr>
              <p:grpSp>
                <p:nvGrpSpPr>
                  <p:cNvPr id="6098" name=""/>
                  <p:cNvGrpSpPr/>
                  <p:nvPr/>
                </p:nvGrpSpPr>
                <p:grpSpPr>
                  <a:xfrm>
                    <a:off x="8532360" y="5638680"/>
                    <a:ext cx="83880" cy="41400"/>
                    <a:chOff x="8532360" y="5638680"/>
                    <a:chExt cx="83880" cy="41400"/>
                  </a:xfrm>
                </p:grpSpPr>
                <p:sp>
                  <p:nvSpPr>
                    <p:cNvPr id="6099" name=""/>
                    <p:cNvSpPr/>
                    <p:nvPr/>
                  </p:nvSpPr>
                  <p:spPr>
                    <a:xfrm>
                      <a:off x="8532360" y="5638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0" name=""/>
                    <p:cNvSpPr/>
                    <p:nvPr/>
                  </p:nvSpPr>
                  <p:spPr>
                    <a:xfrm>
                      <a:off x="8532360" y="5652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1" name=""/>
                    <p:cNvSpPr/>
                    <p:nvPr/>
                  </p:nvSpPr>
                  <p:spPr>
                    <a:xfrm>
                      <a:off x="8532360" y="5666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2" name=""/>
                  <p:cNvGrpSpPr/>
                  <p:nvPr/>
                </p:nvGrpSpPr>
                <p:grpSpPr>
                  <a:xfrm>
                    <a:off x="8532360" y="5680440"/>
                    <a:ext cx="83880" cy="41400"/>
                    <a:chOff x="8532360" y="5680440"/>
                    <a:chExt cx="83880" cy="41400"/>
                  </a:xfrm>
                </p:grpSpPr>
                <p:sp>
                  <p:nvSpPr>
                    <p:cNvPr id="6103" name=""/>
                    <p:cNvSpPr/>
                    <p:nvPr/>
                  </p:nvSpPr>
                  <p:spPr>
                    <a:xfrm>
                      <a:off x="8532360" y="5680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4" name=""/>
                    <p:cNvSpPr/>
                    <p:nvPr/>
                  </p:nvSpPr>
                  <p:spPr>
                    <a:xfrm>
                      <a:off x="8532360" y="5693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5" name=""/>
                    <p:cNvSpPr/>
                    <p:nvPr/>
                  </p:nvSpPr>
                  <p:spPr>
                    <a:xfrm>
                      <a:off x="8532360" y="5707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6" name=""/>
                  <p:cNvGrpSpPr/>
                  <p:nvPr/>
                </p:nvGrpSpPr>
                <p:grpSpPr>
                  <a:xfrm>
                    <a:off x="8532360" y="5722200"/>
                    <a:ext cx="83880" cy="41400"/>
                    <a:chOff x="8532360" y="5722200"/>
                    <a:chExt cx="83880" cy="41400"/>
                  </a:xfrm>
                </p:grpSpPr>
                <p:sp>
                  <p:nvSpPr>
                    <p:cNvPr id="6107" name=""/>
                    <p:cNvSpPr/>
                    <p:nvPr/>
                  </p:nvSpPr>
                  <p:spPr>
                    <a:xfrm>
                      <a:off x="8532360" y="5722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8" name=""/>
                    <p:cNvSpPr/>
                    <p:nvPr/>
                  </p:nvSpPr>
                  <p:spPr>
                    <a:xfrm>
                      <a:off x="8532360" y="5735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9" name=""/>
                    <p:cNvSpPr/>
                    <p:nvPr/>
                  </p:nvSpPr>
                  <p:spPr>
                    <a:xfrm>
                      <a:off x="8532360" y="5749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0" name=""/>
                  <p:cNvGrpSpPr/>
                  <p:nvPr/>
                </p:nvGrpSpPr>
                <p:grpSpPr>
                  <a:xfrm>
                    <a:off x="8532360" y="5764320"/>
                    <a:ext cx="83880" cy="41400"/>
                    <a:chOff x="8532360" y="5764320"/>
                    <a:chExt cx="83880" cy="41400"/>
                  </a:xfrm>
                </p:grpSpPr>
                <p:sp>
                  <p:nvSpPr>
                    <p:cNvPr id="6111" name=""/>
                    <p:cNvSpPr/>
                    <p:nvPr/>
                  </p:nvSpPr>
                  <p:spPr>
                    <a:xfrm>
                      <a:off x="8532360" y="5764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2" name=""/>
                    <p:cNvSpPr/>
                    <p:nvPr/>
                  </p:nvSpPr>
                  <p:spPr>
                    <a:xfrm>
                      <a:off x="8532360" y="5777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3" name=""/>
                    <p:cNvSpPr/>
                    <p:nvPr/>
                  </p:nvSpPr>
                  <p:spPr>
                    <a:xfrm>
                      <a:off x="8532360" y="5791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4" name=""/>
                  <p:cNvGrpSpPr/>
                  <p:nvPr/>
                </p:nvGrpSpPr>
                <p:grpSpPr>
                  <a:xfrm>
                    <a:off x="8532360" y="5805360"/>
                    <a:ext cx="83880" cy="41400"/>
                    <a:chOff x="8532360" y="5805360"/>
                    <a:chExt cx="83880" cy="41400"/>
                  </a:xfrm>
                </p:grpSpPr>
                <p:sp>
                  <p:nvSpPr>
                    <p:cNvPr id="6115" name=""/>
                    <p:cNvSpPr/>
                    <p:nvPr/>
                  </p:nvSpPr>
                  <p:spPr>
                    <a:xfrm>
                      <a:off x="8532360" y="5805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6" name=""/>
                    <p:cNvSpPr/>
                    <p:nvPr/>
                  </p:nvSpPr>
                  <p:spPr>
                    <a:xfrm>
                      <a:off x="8532360" y="5818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7" name=""/>
                    <p:cNvSpPr/>
                    <p:nvPr/>
                  </p:nvSpPr>
                  <p:spPr>
                    <a:xfrm>
                      <a:off x="8532360" y="5832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18" name=""/>
                <p:cNvGrpSpPr/>
                <p:nvPr/>
              </p:nvGrpSpPr>
              <p:grpSpPr>
                <a:xfrm>
                  <a:off x="8532360" y="5845320"/>
                  <a:ext cx="83880" cy="208080"/>
                  <a:chOff x="8532360" y="5845320"/>
                  <a:chExt cx="83880" cy="208080"/>
                </a:xfrm>
              </p:grpSpPr>
              <p:grpSp>
                <p:nvGrpSpPr>
                  <p:cNvPr id="6119" name=""/>
                  <p:cNvGrpSpPr/>
                  <p:nvPr/>
                </p:nvGrpSpPr>
                <p:grpSpPr>
                  <a:xfrm>
                    <a:off x="8532360" y="5845320"/>
                    <a:ext cx="83880" cy="41400"/>
                    <a:chOff x="8532360" y="5845320"/>
                    <a:chExt cx="83880" cy="41400"/>
                  </a:xfrm>
                </p:grpSpPr>
                <p:sp>
                  <p:nvSpPr>
                    <p:cNvPr id="6120" name=""/>
                    <p:cNvSpPr/>
                    <p:nvPr/>
                  </p:nvSpPr>
                  <p:spPr>
                    <a:xfrm>
                      <a:off x="8532360" y="584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1" name=""/>
                    <p:cNvSpPr/>
                    <p:nvPr/>
                  </p:nvSpPr>
                  <p:spPr>
                    <a:xfrm>
                      <a:off x="8532360" y="5858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2" name=""/>
                    <p:cNvSpPr/>
                    <p:nvPr/>
                  </p:nvSpPr>
                  <p:spPr>
                    <a:xfrm>
                      <a:off x="8532360" y="5872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3" name=""/>
                  <p:cNvGrpSpPr/>
                  <p:nvPr/>
                </p:nvGrpSpPr>
                <p:grpSpPr>
                  <a:xfrm>
                    <a:off x="8532360" y="5887080"/>
                    <a:ext cx="83880" cy="41400"/>
                    <a:chOff x="8532360" y="5887080"/>
                    <a:chExt cx="83880" cy="41400"/>
                  </a:xfrm>
                </p:grpSpPr>
                <p:sp>
                  <p:nvSpPr>
                    <p:cNvPr id="6124" name=""/>
                    <p:cNvSpPr/>
                    <p:nvPr/>
                  </p:nvSpPr>
                  <p:spPr>
                    <a:xfrm>
                      <a:off x="8532360" y="5887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5" name=""/>
                    <p:cNvSpPr/>
                    <p:nvPr/>
                  </p:nvSpPr>
                  <p:spPr>
                    <a:xfrm>
                      <a:off x="8532360" y="5900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6" name=""/>
                    <p:cNvSpPr/>
                    <p:nvPr/>
                  </p:nvSpPr>
                  <p:spPr>
                    <a:xfrm>
                      <a:off x="8532360" y="591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7" name=""/>
                  <p:cNvGrpSpPr/>
                  <p:nvPr/>
                </p:nvGrpSpPr>
                <p:grpSpPr>
                  <a:xfrm>
                    <a:off x="8532360" y="5928840"/>
                    <a:ext cx="83880" cy="41400"/>
                    <a:chOff x="8532360" y="5928840"/>
                    <a:chExt cx="83880" cy="41400"/>
                  </a:xfrm>
                </p:grpSpPr>
                <p:sp>
                  <p:nvSpPr>
                    <p:cNvPr id="6128" name=""/>
                    <p:cNvSpPr/>
                    <p:nvPr/>
                  </p:nvSpPr>
                  <p:spPr>
                    <a:xfrm>
                      <a:off x="8532360" y="5928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9" name=""/>
                    <p:cNvSpPr/>
                    <p:nvPr/>
                  </p:nvSpPr>
                  <p:spPr>
                    <a:xfrm>
                      <a:off x="8532360" y="5942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0" name=""/>
                    <p:cNvSpPr/>
                    <p:nvPr/>
                  </p:nvSpPr>
                  <p:spPr>
                    <a:xfrm>
                      <a:off x="8532360" y="5956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1" name=""/>
                  <p:cNvGrpSpPr/>
                  <p:nvPr/>
                </p:nvGrpSpPr>
                <p:grpSpPr>
                  <a:xfrm>
                    <a:off x="8532360" y="5970960"/>
                    <a:ext cx="83880" cy="41400"/>
                    <a:chOff x="8532360" y="5970960"/>
                    <a:chExt cx="83880" cy="41400"/>
                  </a:xfrm>
                </p:grpSpPr>
                <p:sp>
                  <p:nvSpPr>
                    <p:cNvPr id="6132" name=""/>
                    <p:cNvSpPr/>
                    <p:nvPr/>
                  </p:nvSpPr>
                  <p:spPr>
                    <a:xfrm>
                      <a:off x="8532360" y="5970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3" name=""/>
                    <p:cNvSpPr/>
                    <p:nvPr/>
                  </p:nvSpPr>
                  <p:spPr>
                    <a:xfrm>
                      <a:off x="8532360" y="5984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4" name=""/>
                    <p:cNvSpPr/>
                    <p:nvPr/>
                  </p:nvSpPr>
                  <p:spPr>
                    <a:xfrm>
                      <a:off x="8532360" y="5998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5" name=""/>
                  <p:cNvGrpSpPr/>
                  <p:nvPr/>
                </p:nvGrpSpPr>
                <p:grpSpPr>
                  <a:xfrm>
                    <a:off x="8532360" y="6012000"/>
                    <a:ext cx="83880" cy="41400"/>
                    <a:chOff x="8532360" y="6012000"/>
                    <a:chExt cx="83880" cy="41400"/>
                  </a:xfrm>
                </p:grpSpPr>
                <p:sp>
                  <p:nvSpPr>
                    <p:cNvPr id="6136" name=""/>
                    <p:cNvSpPr/>
                    <p:nvPr/>
                  </p:nvSpPr>
                  <p:spPr>
                    <a:xfrm>
                      <a:off x="8532360" y="6012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7" name=""/>
                    <p:cNvSpPr/>
                    <p:nvPr/>
                  </p:nvSpPr>
                  <p:spPr>
                    <a:xfrm>
                      <a:off x="8532360" y="602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8" name=""/>
                    <p:cNvSpPr/>
                    <p:nvPr/>
                  </p:nvSpPr>
                  <p:spPr>
                    <a:xfrm>
                      <a:off x="8532360" y="6039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39" name=""/>
              <p:cNvGrpSpPr/>
              <p:nvPr/>
            </p:nvGrpSpPr>
            <p:grpSpPr>
              <a:xfrm>
                <a:off x="8505720" y="5422680"/>
                <a:ext cx="137880" cy="216000"/>
                <a:chOff x="8505720" y="5422680"/>
                <a:chExt cx="137880" cy="216000"/>
              </a:xfrm>
            </p:grpSpPr>
            <p:grpSp>
              <p:nvGrpSpPr>
                <p:cNvPr id="6140" name=""/>
                <p:cNvGrpSpPr/>
                <p:nvPr/>
              </p:nvGrpSpPr>
              <p:grpSpPr>
                <a:xfrm>
                  <a:off x="8505720" y="5495400"/>
                  <a:ext cx="137880" cy="143280"/>
                  <a:chOff x="8505720" y="5495400"/>
                  <a:chExt cx="137880" cy="143280"/>
                </a:xfrm>
              </p:grpSpPr>
              <p:sp>
                <p:nvSpPr>
                  <p:cNvPr id="6141" name=""/>
                  <p:cNvSpPr/>
                  <p:nvPr/>
                </p:nvSpPr>
                <p:spPr>
                  <a:xfrm>
                    <a:off x="8505720" y="55580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42" name=""/>
                  <p:cNvGrpSpPr/>
                  <p:nvPr/>
                </p:nvGrpSpPr>
                <p:grpSpPr>
                  <a:xfrm>
                    <a:off x="8508240" y="5495400"/>
                    <a:ext cx="132480" cy="143280"/>
                    <a:chOff x="8508240" y="5495400"/>
                    <a:chExt cx="132480" cy="143280"/>
                  </a:xfrm>
                </p:grpSpPr>
                <p:sp>
                  <p:nvSpPr>
                    <p:cNvPr id="6143" name=""/>
                    <p:cNvSpPr/>
                    <p:nvPr/>
                  </p:nvSpPr>
                  <p:spPr>
                    <a:xfrm>
                      <a:off x="8508960" y="55648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4" name=""/>
                    <p:cNvSpPr/>
                    <p:nvPr/>
                  </p:nvSpPr>
                  <p:spPr>
                    <a:xfrm flipV="1">
                      <a:off x="8508240" y="55069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5" name=""/>
                    <p:cNvSpPr/>
                    <p:nvPr/>
                  </p:nvSpPr>
                  <p:spPr>
                    <a:xfrm>
                      <a:off x="8512200" y="54954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46" name=""/>
                <p:cNvGrpSpPr/>
                <p:nvPr/>
              </p:nvGrpSpPr>
              <p:grpSpPr>
                <a:xfrm>
                  <a:off x="8530920" y="5422680"/>
                  <a:ext cx="86400" cy="72360"/>
                  <a:chOff x="8530920" y="5422680"/>
                  <a:chExt cx="86400" cy="72360"/>
                </a:xfrm>
              </p:grpSpPr>
              <p:sp>
                <p:nvSpPr>
                  <p:cNvPr id="6147" name=""/>
                  <p:cNvSpPr/>
                  <p:nvPr/>
                </p:nvSpPr>
                <p:spPr>
                  <a:xfrm>
                    <a:off x="853128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8" name=""/>
                  <p:cNvSpPr/>
                  <p:nvPr/>
                </p:nvSpPr>
                <p:spPr>
                  <a:xfrm>
                    <a:off x="854964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9" name=""/>
                  <p:cNvSpPr/>
                  <p:nvPr/>
                </p:nvSpPr>
                <p:spPr>
                  <a:xfrm>
                    <a:off x="856800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0" name=""/>
                  <p:cNvSpPr/>
                  <p:nvPr/>
                </p:nvSpPr>
                <p:spPr>
                  <a:xfrm>
                    <a:off x="858780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1" name=""/>
                  <p:cNvSpPr/>
                  <p:nvPr/>
                </p:nvSpPr>
                <p:spPr>
                  <a:xfrm>
                    <a:off x="8606520" y="54226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2" name=""/>
                  <p:cNvSpPr/>
                  <p:nvPr/>
                </p:nvSpPr>
                <p:spPr>
                  <a:xfrm>
                    <a:off x="8530920" y="54536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3" name=""/>
                  <p:cNvSpPr/>
                  <p:nvPr/>
                </p:nvSpPr>
                <p:spPr>
                  <a:xfrm>
                    <a:off x="8531640" y="54763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4" name=""/>
                  <p:cNvSpPr/>
                  <p:nvPr/>
                </p:nvSpPr>
                <p:spPr>
                  <a:xfrm>
                    <a:off x="8531640" y="54950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55" name=""/>
                <p:cNvSpPr/>
                <p:nvPr/>
              </p:nvSpPr>
              <p:spPr>
                <a:xfrm>
                  <a:off x="8521920" y="55645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6" name=""/>
                <p:cNvSpPr/>
                <p:nvPr/>
              </p:nvSpPr>
              <p:spPr>
                <a:xfrm>
                  <a:off x="8605440" y="55638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7" name=""/>
                <p:cNvSpPr/>
                <p:nvPr/>
              </p:nvSpPr>
              <p:spPr>
                <a:xfrm>
                  <a:off x="8556480" y="55782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58" name=""/>
            <p:cNvSpPr/>
            <p:nvPr/>
          </p:nvSpPr>
          <p:spPr>
            <a:xfrm>
              <a:off x="7838280" y="4851000"/>
              <a:ext cx="146988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ramp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9" name=""/>
          <p:cNvGrpSpPr/>
          <p:nvPr/>
        </p:nvGrpSpPr>
        <p:grpSpPr>
          <a:xfrm>
            <a:off x="5432760" y="4338720"/>
            <a:ext cx="1411560" cy="1321200"/>
            <a:chOff x="5432760" y="4338720"/>
            <a:chExt cx="1411560" cy="1321200"/>
          </a:xfrm>
        </p:grpSpPr>
        <p:sp>
          <p:nvSpPr>
            <p:cNvPr id="6160" name=""/>
            <p:cNvSpPr/>
            <p:nvPr/>
          </p:nvSpPr>
          <p:spPr>
            <a:xfrm>
              <a:off x="5446080" y="5298840"/>
              <a:ext cx="13982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pulldown]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5432760" y="4338720"/>
              <a:ext cx="11073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pullup]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2" name=""/>
          <p:cNvGrpSpPr/>
          <p:nvPr/>
        </p:nvGrpSpPr>
        <p:grpSpPr>
          <a:xfrm>
            <a:off x="297000" y="2298600"/>
            <a:ext cx="5462280" cy="4159080"/>
            <a:chOff x="297000" y="2298600"/>
            <a:chExt cx="5462280" cy="4159080"/>
          </a:xfrm>
        </p:grpSpPr>
        <p:sp>
          <p:nvSpPr>
            <p:cNvPr id="6163" name=""/>
            <p:cNvSpPr/>
            <p:nvPr/>
          </p:nvSpPr>
          <p:spPr>
            <a:xfrm>
              <a:off x="4343760" y="6157800"/>
              <a:ext cx="13816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0Ohm to 1.0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207160" y="6140520"/>
              <a:ext cx="13816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0Ohm to 0.0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5" name=""/>
            <p:cNvGrpSpPr/>
            <p:nvPr/>
          </p:nvGrpSpPr>
          <p:grpSpPr>
            <a:xfrm>
              <a:off x="297000" y="2298600"/>
              <a:ext cx="5462280" cy="3959280"/>
              <a:chOff x="297000" y="2298600"/>
              <a:chExt cx="5462280" cy="3959280"/>
            </a:xfrm>
          </p:grpSpPr>
          <p:grpSp>
            <p:nvGrpSpPr>
              <p:cNvPr id="6166" name=""/>
              <p:cNvGrpSpPr/>
              <p:nvPr/>
            </p:nvGrpSpPr>
            <p:grpSpPr>
              <a:xfrm>
                <a:off x="1295280" y="2298600"/>
                <a:ext cx="3382560" cy="3400200"/>
                <a:chOff x="1295280" y="2298600"/>
                <a:chExt cx="3382560" cy="3400200"/>
              </a:xfrm>
            </p:grpSpPr>
            <p:sp>
              <p:nvSpPr>
                <p:cNvPr id="6167" name=""/>
                <p:cNvSpPr/>
                <p:nvPr/>
              </p:nvSpPr>
              <p:spPr>
                <a:xfrm>
                  <a:off x="1478160" y="2298600"/>
                  <a:ext cx="0" cy="340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8" name=""/>
                <p:cNvSpPr/>
                <p:nvPr/>
              </p:nvSpPr>
              <p:spPr>
                <a:xfrm>
                  <a:off x="1295280" y="4772880"/>
                  <a:ext cx="338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9" name=""/>
              <p:cNvSpPr/>
              <p:nvPr/>
            </p:nvSpPr>
            <p:spPr>
              <a:xfrm>
                <a:off x="297000" y="3357720"/>
                <a:ext cx="2442960" cy="2900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614520" y="4276800"/>
                <a:ext cx="504000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681120" y="5267160"/>
                <a:ext cx="507816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857840" y="4618080"/>
                <a:ext cx="602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/V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 rot="16200000">
                <a:off x="705240" y="2836800"/>
                <a:ext cx="623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 / A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505240" y="3357720"/>
                <a:ext cx="2442960" cy="2900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1063800" y="3917880"/>
                <a:ext cx="0" cy="10731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1900080" y="4503600"/>
                <a:ext cx="0" cy="12877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301920" y="3962520"/>
                <a:ext cx="0" cy="10731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102200" y="4475160"/>
                <a:ext cx="0" cy="13161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895320" y="4102200"/>
                <a:ext cx="331920" cy="35064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940200" y="5086440"/>
                <a:ext cx="331920" cy="35064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3122640" y="4102200"/>
                <a:ext cx="331920" cy="35064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1730520" y="5094360"/>
                <a:ext cx="331560" cy="35064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92120" y="3416400"/>
                <a:ext cx="128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0.133V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1234080" y="578628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.132V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3124800" y="356544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.868V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3326400" y="579420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.133V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1066680" y="4140360"/>
                <a:ext cx="817560" cy="721440"/>
              </a:xfrm>
              <a:prstGeom prst="leftRightArrow">
                <a:avLst>
                  <a:gd name="adj1" fmla="val 50000"/>
                  <a:gd name="adj2" fmla="val 22559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308400" y="4135680"/>
                <a:ext cx="804960" cy="721440"/>
              </a:xfrm>
              <a:prstGeom prst="leftRightArrow">
                <a:avLst>
                  <a:gd name="adj1" fmla="val 50000"/>
                  <a:gd name="adj2" fmla="val 22212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3024360" y="4863960"/>
                <a:ext cx="634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.0V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1019160" y="4675320"/>
                <a:ext cx="463680" cy="721440"/>
              </a:xfrm>
              <a:prstGeom prst="leftRightArrow">
                <a:avLst>
                  <a:gd name="adj1" fmla="val 50000"/>
                  <a:gd name="adj2" fmla="val 19907"/>
                </a:avLst>
              </a:prstGeom>
              <a:solidFill>
                <a:srgbClr val="00cc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3689280" y="4645440"/>
                <a:ext cx="426960" cy="721080"/>
              </a:xfrm>
              <a:prstGeom prst="leftRightArrow">
                <a:avLst>
                  <a:gd name="adj1" fmla="val 50000"/>
                  <a:gd name="adj2" fmla="val 19907"/>
                </a:avLst>
              </a:prstGeom>
              <a:solidFill>
                <a:srgbClr val="00ccff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3697200" y="4708440"/>
                <a:ext cx="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3" name=""/>
          <p:cNvGrpSpPr/>
          <p:nvPr/>
        </p:nvGrpSpPr>
        <p:grpSpPr>
          <a:xfrm>
            <a:off x="5267520" y="893880"/>
            <a:ext cx="3768120" cy="2929320"/>
            <a:chOff x="5267520" y="893880"/>
            <a:chExt cx="3768120" cy="2929320"/>
          </a:xfrm>
        </p:grpSpPr>
        <p:sp>
          <p:nvSpPr>
            <p:cNvPr id="6194" name=""/>
            <p:cNvSpPr/>
            <p:nvPr/>
          </p:nvSpPr>
          <p:spPr>
            <a:xfrm>
              <a:off x="5267520" y="2097360"/>
              <a:ext cx="17046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ise 50 G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5" name=""/>
            <p:cNvGrpSpPr/>
            <p:nvPr/>
          </p:nvGrpSpPr>
          <p:grpSpPr>
            <a:xfrm>
              <a:off x="5636160" y="893880"/>
              <a:ext cx="3399480" cy="2929320"/>
              <a:chOff x="5636160" y="893880"/>
              <a:chExt cx="3399480" cy="2929320"/>
            </a:xfrm>
          </p:grpSpPr>
          <p:sp>
            <p:nvSpPr>
              <p:cNvPr id="6196" name=""/>
              <p:cNvSpPr/>
              <p:nvPr/>
            </p:nvSpPr>
            <p:spPr>
              <a:xfrm>
                <a:off x="7074000" y="2097360"/>
                <a:ext cx="150192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Fall 50 Vc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5662440" y="893880"/>
                <a:ext cx="24638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tatic swing (0-100%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8" name=""/>
              <p:cNvGrpSpPr/>
              <p:nvPr/>
            </p:nvGrpSpPr>
            <p:grpSpPr>
              <a:xfrm>
                <a:off x="5977440" y="2810160"/>
                <a:ext cx="2764080" cy="1013040"/>
                <a:chOff x="5977440" y="2810160"/>
                <a:chExt cx="2764080" cy="1013040"/>
              </a:xfrm>
            </p:grpSpPr>
            <p:sp>
              <p:nvSpPr>
                <p:cNvPr id="6199" name=""/>
                <p:cNvSpPr/>
                <p:nvPr/>
              </p:nvSpPr>
              <p:spPr>
                <a:xfrm>
                  <a:off x="7544160" y="2819160"/>
                  <a:ext cx="1197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0.265V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0" name=""/>
                <p:cNvSpPr/>
                <p:nvPr/>
              </p:nvSpPr>
              <p:spPr>
                <a:xfrm>
                  <a:off x="5977440" y="2810160"/>
                  <a:ext cx="1197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0.265V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1" name=""/>
                <p:cNvSpPr/>
                <p:nvPr/>
              </p:nvSpPr>
              <p:spPr>
                <a:xfrm>
                  <a:off x="6076800" y="3099960"/>
                  <a:ext cx="804960" cy="721440"/>
                </a:xfrm>
                <a:prstGeom prst="leftRightArrow">
                  <a:avLst>
                    <a:gd name="adj1" fmla="val 50000"/>
                    <a:gd name="adj2" fmla="val 22212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pPr algn="ctr"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2" name=""/>
                <p:cNvSpPr/>
                <p:nvPr/>
              </p:nvSpPr>
              <p:spPr>
                <a:xfrm>
                  <a:off x="7626240" y="3102120"/>
                  <a:ext cx="804960" cy="721080"/>
                </a:xfrm>
                <a:prstGeom prst="leftRightArrow">
                  <a:avLst>
                    <a:gd name="adj1" fmla="val 50000"/>
                    <a:gd name="adj2" fmla="val 22223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pPr algn="ctr"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3" name=""/>
              <p:cNvSpPr/>
              <p:nvPr/>
            </p:nvSpPr>
            <p:spPr>
              <a:xfrm>
                <a:off x="5636160" y="1513080"/>
                <a:ext cx="339948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Between [pullup] and [pulldown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4" name=""/>
          <p:cNvGrpSpPr/>
          <p:nvPr/>
        </p:nvGrpSpPr>
        <p:grpSpPr>
          <a:xfrm>
            <a:off x="185760" y="682560"/>
            <a:ext cx="4275360" cy="1510560"/>
            <a:chOff x="185760" y="682560"/>
            <a:chExt cx="4275360" cy="1510560"/>
          </a:xfrm>
        </p:grpSpPr>
        <p:sp>
          <p:nvSpPr>
            <p:cNvPr id="6205" name=""/>
            <p:cNvSpPr/>
            <p:nvPr/>
          </p:nvSpPr>
          <p:spPr>
            <a:xfrm>
              <a:off x="185760" y="1049400"/>
              <a:ext cx="200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v_r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.129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v_f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.135V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352600" y="1472040"/>
              <a:ext cx="426960" cy="7210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cc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322360" y="821160"/>
              <a:ext cx="427320" cy="7210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cc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2761200" y="1000080"/>
              <a:ext cx="145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pullup] to g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777760" y="1679400"/>
              <a:ext cx="1683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pulldown] to vc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297360" y="682560"/>
              <a:ext cx="24120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amp swing ( 0-10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6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6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6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6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6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Ibischk calculations with new waveform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6212" name=""/>
          <p:cNvGrpSpPr/>
          <p:nvPr/>
        </p:nvGrpSpPr>
        <p:grpSpPr>
          <a:xfrm>
            <a:off x="7838280" y="-19440"/>
            <a:ext cx="1469880" cy="1206720"/>
            <a:chOff x="7838280" y="-19440"/>
            <a:chExt cx="1469880" cy="1206720"/>
          </a:xfrm>
        </p:grpSpPr>
        <p:grpSp>
          <p:nvGrpSpPr>
            <p:cNvPr id="6213" name=""/>
            <p:cNvGrpSpPr/>
            <p:nvPr/>
          </p:nvGrpSpPr>
          <p:grpSpPr>
            <a:xfrm>
              <a:off x="8258040" y="552240"/>
              <a:ext cx="633240" cy="635040"/>
              <a:chOff x="8258040" y="552240"/>
              <a:chExt cx="633240" cy="635040"/>
            </a:xfrm>
          </p:grpSpPr>
          <p:grpSp>
            <p:nvGrpSpPr>
              <p:cNvPr id="6214" name=""/>
              <p:cNvGrpSpPr/>
              <p:nvPr/>
            </p:nvGrpSpPr>
            <p:grpSpPr>
              <a:xfrm>
                <a:off x="8258040" y="768240"/>
                <a:ext cx="633240" cy="419040"/>
                <a:chOff x="8258040" y="768240"/>
                <a:chExt cx="633240" cy="419040"/>
              </a:xfrm>
            </p:grpSpPr>
            <p:grpSp>
              <p:nvGrpSpPr>
                <p:cNvPr id="6215" name=""/>
                <p:cNvGrpSpPr/>
                <p:nvPr/>
              </p:nvGrpSpPr>
              <p:grpSpPr>
                <a:xfrm>
                  <a:off x="8258040" y="1104480"/>
                  <a:ext cx="633240" cy="82800"/>
                  <a:chOff x="8258040" y="1104480"/>
                  <a:chExt cx="633240" cy="82800"/>
                </a:xfrm>
              </p:grpSpPr>
              <p:sp>
                <p:nvSpPr>
                  <p:cNvPr id="6216" name=""/>
                  <p:cNvSpPr/>
                  <p:nvPr/>
                </p:nvSpPr>
                <p:spPr>
                  <a:xfrm>
                    <a:off x="8363520" y="1104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7" name=""/>
                  <p:cNvSpPr/>
                  <p:nvPr/>
                </p:nvSpPr>
                <p:spPr>
                  <a:xfrm>
                    <a:off x="857484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8" name=""/>
                  <p:cNvSpPr/>
                  <p:nvPr/>
                </p:nvSpPr>
                <p:spPr>
                  <a:xfrm>
                    <a:off x="8680680" y="1104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9" name=""/>
                  <p:cNvSpPr/>
                  <p:nvPr/>
                </p:nvSpPr>
                <p:spPr>
                  <a:xfrm>
                    <a:off x="878616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0" name=""/>
                  <p:cNvSpPr/>
                  <p:nvPr/>
                </p:nvSpPr>
                <p:spPr>
                  <a:xfrm>
                    <a:off x="846936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1" name=""/>
                  <p:cNvSpPr/>
                  <p:nvPr/>
                </p:nvSpPr>
                <p:spPr>
                  <a:xfrm>
                    <a:off x="825804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2" name=""/>
                <p:cNvGrpSpPr/>
                <p:nvPr/>
              </p:nvGrpSpPr>
              <p:grpSpPr>
                <a:xfrm>
                  <a:off x="8310960" y="1020600"/>
                  <a:ext cx="527760" cy="82800"/>
                  <a:chOff x="8310960" y="1020600"/>
                  <a:chExt cx="527760" cy="82800"/>
                </a:xfrm>
              </p:grpSpPr>
              <p:sp>
                <p:nvSpPr>
                  <p:cNvPr id="6223" name=""/>
                  <p:cNvSpPr/>
                  <p:nvPr/>
                </p:nvSpPr>
                <p:spPr>
                  <a:xfrm>
                    <a:off x="831096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4" name=""/>
                  <p:cNvSpPr/>
                  <p:nvPr/>
                </p:nvSpPr>
                <p:spPr>
                  <a:xfrm>
                    <a:off x="852228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5" name=""/>
                  <p:cNvSpPr/>
                  <p:nvPr/>
                </p:nvSpPr>
                <p:spPr>
                  <a:xfrm>
                    <a:off x="862812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6" name=""/>
                  <p:cNvSpPr/>
                  <p:nvPr/>
                </p:nvSpPr>
                <p:spPr>
                  <a:xfrm>
                    <a:off x="873360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7" name=""/>
                  <p:cNvSpPr/>
                  <p:nvPr/>
                </p:nvSpPr>
                <p:spPr>
                  <a:xfrm>
                    <a:off x="841644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8" name=""/>
                <p:cNvSpPr/>
                <p:nvPr/>
              </p:nvSpPr>
              <p:spPr>
                <a:xfrm>
                  <a:off x="8469360" y="93672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9" name=""/>
                <p:cNvSpPr/>
                <p:nvPr/>
              </p:nvSpPr>
              <p:spPr>
                <a:xfrm>
                  <a:off x="8681040" y="9367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0" name=""/>
                <p:cNvSpPr/>
                <p:nvPr/>
              </p:nvSpPr>
              <p:spPr>
                <a:xfrm>
                  <a:off x="8575200" y="93672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1" name=""/>
                <p:cNvSpPr/>
                <p:nvPr/>
              </p:nvSpPr>
              <p:spPr>
                <a:xfrm>
                  <a:off x="8363520" y="9367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2" name=""/>
                <p:cNvSpPr/>
                <p:nvPr/>
              </p:nvSpPr>
              <p:spPr>
                <a:xfrm>
                  <a:off x="8416800" y="85320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3" name=""/>
                <p:cNvSpPr/>
                <p:nvPr/>
              </p:nvSpPr>
              <p:spPr>
                <a:xfrm>
                  <a:off x="8628120" y="8532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4" name=""/>
                <p:cNvSpPr/>
                <p:nvPr/>
              </p:nvSpPr>
              <p:spPr>
                <a:xfrm>
                  <a:off x="8522640" y="8532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35" name=""/>
                <p:cNvGrpSpPr/>
                <p:nvPr/>
              </p:nvGrpSpPr>
              <p:grpSpPr>
                <a:xfrm>
                  <a:off x="8470440" y="768240"/>
                  <a:ext cx="210600" cy="82800"/>
                  <a:chOff x="8470440" y="768240"/>
                  <a:chExt cx="210600" cy="82800"/>
                </a:xfrm>
              </p:grpSpPr>
              <p:sp>
                <p:nvSpPr>
                  <p:cNvPr id="6236" name=""/>
                  <p:cNvSpPr/>
                  <p:nvPr/>
                </p:nvSpPr>
                <p:spPr>
                  <a:xfrm>
                    <a:off x="8470440" y="7682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7" name=""/>
                  <p:cNvSpPr/>
                  <p:nvPr/>
                </p:nvSpPr>
                <p:spPr>
                  <a:xfrm>
                    <a:off x="8576280" y="7682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38" name=""/>
              <p:cNvGrpSpPr/>
              <p:nvPr/>
            </p:nvGrpSpPr>
            <p:grpSpPr>
              <a:xfrm>
                <a:off x="8532360" y="768240"/>
                <a:ext cx="83880" cy="414720"/>
                <a:chOff x="8532360" y="768240"/>
                <a:chExt cx="83880" cy="414720"/>
              </a:xfrm>
            </p:grpSpPr>
            <p:grpSp>
              <p:nvGrpSpPr>
                <p:cNvPr id="6239" name=""/>
                <p:cNvGrpSpPr/>
                <p:nvPr/>
              </p:nvGrpSpPr>
              <p:grpSpPr>
                <a:xfrm>
                  <a:off x="8532360" y="768240"/>
                  <a:ext cx="83880" cy="208080"/>
                  <a:chOff x="8532360" y="768240"/>
                  <a:chExt cx="83880" cy="208080"/>
                </a:xfrm>
              </p:grpSpPr>
              <p:grpSp>
                <p:nvGrpSpPr>
                  <p:cNvPr id="6240" name=""/>
                  <p:cNvGrpSpPr/>
                  <p:nvPr/>
                </p:nvGrpSpPr>
                <p:grpSpPr>
                  <a:xfrm>
                    <a:off x="8532360" y="768240"/>
                    <a:ext cx="83880" cy="41400"/>
                    <a:chOff x="8532360" y="768240"/>
                    <a:chExt cx="83880" cy="41400"/>
                  </a:xfrm>
                </p:grpSpPr>
                <p:sp>
                  <p:nvSpPr>
                    <p:cNvPr id="6241" name=""/>
                    <p:cNvSpPr/>
                    <p:nvPr/>
                  </p:nvSpPr>
                  <p:spPr>
                    <a:xfrm>
                      <a:off x="8532360" y="768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2" name=""/>
                    <p:cNvSpPr/>
                    <p:nvPr/>
                  </p:nvSpPr>
                  <p:spPr>
                    <a:xfrm>
                      <a:off x="8532360" y="781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3" name=""/>
                    <p:cNvSpPr/>
                    <p:nvPr/>
                  </p:nvSpPr>
                  <p:spPr>
                    <a:xfrm>
                      <a:off x="8532360" y="795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4" name=""/>
                  <p:cNvGrpSpPr/>
                  <p:nvPr/>
                </p:nvGrpSpPr>
                <p:grpSpPr>
                  <a:xfrm>
                    <a:off x="8532360" y="810000"/>
                    <a:ext cx="83880" cy="41400"/>
                    <a:chOff x="8532360" y="810000"/>
                    <a:chExt cx="83880" cy="41400"/>
                  </a:xfrm>
                </p:grpSpPr>
                <p:sp>
                  <p:nvSpPr>
                    <p:cNvPr id="6245" name=""/>
                    <p:cNvSpPr/>
                    <p:nvPr/>
                  </p:nvSpPr>
                  <p:spPr>
                    <a:xfrm>
                      <a:off x="8532360" y="810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6" name=""/>
                    <p:cNvSpPr/>
                    <p:nvPr/>
                  </p:nvSpPr>
                  <p:spPr>
                    <a:xfrm>
                      <a:off x="8532360" y="823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7" name=""/>
                    <p:cNvSpPr/>
                    <p:nvPr/>
                  </p:nvSpPr>
                  <p:spPr>
                    <a:xfrm>
                      <a:off x="8532360" y="837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8" name=""/>
                  <p:cNvGrpSpPr/>
                  <p:nvPr/>
                </p:nvGrpSpPr>
                <p:grpSpPr>
                  <a:xfrm>
                    <a:off x="8532360" y="851760"/>
                    <a:ext cx="83880" cy="41400"/>
                    <a:chOff x="8532360" y="851760"/>
                    <a:chExt cx="83880" cy="41400"/>
                  </a:xfrm>
                </p:grpSpPr>
                <p:sp>
                  <p:nvSpPr>
                    <p:cNvPr id="6249" name=""/>
                    <p:cNvSpPr/>
                    <p:nvPr/>
                  </p:nvSpPr>
                  <p:spPr>
                    <a:xfrm>
                      <a:off x="8532360" y="851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0" name=""/>
                    <p:cNvSpPr/>
                    <p:nvPr/>
                  </p:nvSpPr>
                  <p:spPr>
                    <a:xfrm>
                      <a:off x="8532360" y="865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1" name=""/>
                    <p:cNvSpPr/>
                    <p:nvPr/>
                  </p:nvSpPr>
                  <p:spPr>
                    <a:xfrm>
                      <a:off x="8532360" y="87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2" name=""/>
                  <p:cNvGrpSpPr/>
                  <p:nvPr/>
                </p:nvGrpSpPr>
                <p:grpSpPr>
                  <a:xfrm>
                    <a:off x="8532360" y="893880"/>
                    <a:ext cx="83880" cy="41400"/>
                    <a:chOff x="8532360" y="893880"/>
                    <a:chExt cx="83880" cy="41400"/>
                  </a:xfrm>
                </p:grpSpPr>
                <p:sp>
                  <p:nvSpPr>
                    <p:cNvPr id="6253" name=""/>
                    <p:cNvSpPr/>
                    <p:nvPr/>
                  </p:nvSpPr>
                  <p:spPr>
                    <a:xfrm>
                      <a:off x="8532360" y="893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4" name=""/>
                    <p:cNvSpPr/>
                    <p:nvPr/>
                  </p:nvSpPr>
                  <p:spPr>
                    <a:xfrm>
                      <a:off x="8532360" y="907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5" name=""/>
                    <p:cNvSpPr/>
                    <p:nvPr/>
                  </p:nvSpPr>
                  <p:spPr>
                    <a:xfrm>
                      <a:off x="8532360" y="921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6" name=""/>
                  <p:cNvGrpSpPr/>
                  <p:nvPr/>
                </p:nvGrpSpPr>
                <p:grpSpPr>
                  <a:xfrm>
                    <a:off x="8532360" y="934920"/>
                    <a:ext cx="83880" cy="41400"/>
                    <a:chOff x="8532360" y="934920"/>
                    <a:chExt cx="83880" cy="41400"/>
                  </a:xfrm>
                </p:grpSpPr>
                <p:sp>
                  <p:nvSpPr>
                    <p:cNvPr id="6257" name=""/>
                    <p:cNvSpPr/>
                    <p:nvPr/>
                  </p:nvSpPr>
                  <p:spPr>
                    <a:xfrm>
                      <a:off x="8532360" y="934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8" name=""/>
                    <p:cNvSpPr/>
                    <p:nvPr/>
                  </p:nvSpPr>
                  <p:spPr>
                    <a:xfrm>
                      <a:off x="8532360" y="948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9" name=""/>
                    <p:cNvSpPr/>
                    <p:nvPr/>
                  </p:nvSpPr>
                  <p:spPr>
                    <a:xfrm>
                      <a:off x="8532360" y="962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60" name=""/>
                <p:cNvGrpSpPr/>
                <p:nvPr/>
              </p:nvGrpSpPr>
              <p:grpSpPr>
                <a:xfrm>
                  <a:off x="8532360" y="974880"/>
                  <a:ext cx="83880" cy="208080"/>
                  <a:chOff x="8532360" y="974880"/>
                  <a:chExt cx="83880" cy="208080"/>
                </a:xfrm>
              </p:grpSpPr>
              <p:grpSp>
                <p:nvGrpSpPr>
                  <p:cNvPr id="6261" name=""/>
                  <p:cNvGrpSpPr/>
                  <p:nvPr/>
                </p:nvGrpSpPr>
                <p:grpSpPr>
                  <a:xfrm>
                    <a:off x="8532360" y="974880"/>
                    <a:ext cx="83880" cy="41400"/>
                    <a:chOff x="8532360" y="974880"/>
                    <a:chExt cx="83880" cy="41400"/>
                  </a:xfrm>
                </p:grpSpPr>
                <p:sp>
                  <p:nvSpPr>
                    <p:cNvPr id="6262" name=""/>
                    <p:cNvSpPr/>
                    <p:nvPr/>
                  </p:nvSpPr>
                  <p:spPr>
                    <a:xfrm>
                      <a:off x="8532360" y="974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3" name=""/>
                    <p:cNvSpPr/>
                    <p:nvPr/>
                  </p:nvSpPr>
                  <p:spPr>
                    <a:xfrm>
                      <a:off x="8532360" y="988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4" name=""/>
                    <p:cNvSpPr/>
                    <p:nvPr/>
                  </p:nvSpPr>
                  <p:spPr>
                    <a:xfrm>
                      <a:off x="8532360" y="1002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5" name=""/>
                  <p:cNvGrpSpPr/>
                  <p:nvPr/>
                </p:nvGrpSpPr>
                <p:grpSpPr>
                  <a:xfrm>
                    <a:off x="8532360" y="1016640"/>
                    <a:ext cx="83880" cy="41400"/>
                    <a:chOff x="8532360" y="1016640"/>
                    <a:chExt cx="83880" cy="41400"/>
                  </a:xfrm>
                </p:grpSpPr>
                <p:sp>
                  <p:nvSpPr>
                    <p:cNvPr id="6266" name=""/>
                    <p:cNvSpPr/>
                    <p:nvPr/>
                  </p:nvSpPr>
                  <p:spPr>
                    <a:xfrm>
                      <a:off x="8532360" y="1016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7" name=""/>
                    <p:cNvSpPr/>
                    <p:nvPr/>
                  </p:nvSpPr>
                  <p:spPr>
                    <a:xfrm>
                      <a:off x="8532360" y="1029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8" name=""/>
                    <p:cNvSpPr/>
                    <p:nvPr/>
                  </p:nvSpPr>
                  <p:spPr>
                    <a:xfrm>
                      <a:off x="8532360" y="1044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9" name=""/>
                  <p:cNvGrpSpPr/>
                  <p:nvPr/>
                </p:nvGrpSpPr>
                <p:grpSpPr>
                  <a:xfrm>
                    <a:off x="8532360" y="1058400"/>
                    <a:ext cx="83880" cy="41400"/>
                    <a:chOff x="8532360" y="1058400"/>
                    <a:chExt cx="83880" cy="41400"/>
                  </a:xfrm>
                </p:grpSpPr>
                <p:sp>
                  <p:nvSpPr>
                    <p:cNvPr id="6270" name=""/>
                    <p:cNvSpPr/>
                    <p:nvPr/>
                  </p:nvSpPr>
                  <p:spPr>
                    <a:xfrm>
                      <a:off x="8532360" y="1058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1" name=""/>
                    <p:cNvSpPr/>
                    <p:nvPr/>
                  </p:nvSpPr>
                  <p:spPr>
                    <a:xfrm>
                      <a:off x="8532360" y="1071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2" name=""/>
                    <p:cNvSpPr/>
                    <p:nvPr/>
                  </p:nvSpPr>
                  <p:spPr>
                    <a:xfrm>
                      <a:off x="8532360" y="108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3" name=""/>
                  <p:cNvGrpSpPr/>
                  <p:nvPr/>
                </p:nvGrpSpPr>
                <p:grpSpPr>
                  <a:xfrm>
                    <a:off x="8532360" y="1100520"/>
                    <a:ext cx="83880" cy="41400"/>
                    <a:chOff x="8532360" y="1100520"/>
                    <a:chExt cx="83880" cy="41400"/>
                  </a:xfrm>
                </p:grpSpPr>
                <p:sp>
                  <p:nvSpPr>
                    <p:cNvPr id="6274" name=""/>
                    <p:cNvSpPr/>
                    <p:nvPr/>
                  </p:nvSpPr>
                  <p:spPr>
                    <a:xfrm>
                      <a:off x="8532360" y="1100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5" name=""/>
                    <p:cNvSpPr/>
                    <p:nvPr/>
                  </p:nvSpPr>
                  <p:spPr>
                    <a:xfrm>
                      <a:off x="8532360" y="1113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6" name=""/>
                    <p:cNvSpPr/>
                    <p:nvPr/>
                  </p:nvSpPr>
                  <p:spPr>
                    <a:xfrm>
                      <a:off x="8532360" y="1127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7" name=""/>
                  <p:cNvGrpSpPr/>
                  <p:nvPr/>
                </p:nvGrpSpPr>
                <p:grpSpPr>
                  <a:xfrm>
                    <a:off x="8532360" y="1141560"/>
                    <a:ext cx="83880" cy="41400"/>
                    <a:chOff x="8532360" y="1141560"/>
                    <a:chExt cx="83880" cy="41400"/>
                  </a:xfrm>
                </p:grpSpPr>
                <p:sp>
                  <p:nvSpPr>
                    <p:cNvPr id="6278" name=""/>
                    <p:cNvSpPr/>
                    <p:nvPr/>
                  </p:nvSpPr>
                  <p:spPr>
                    <a:xfrm>
                      <a:off x="8532360" y="1141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9" name=""/>
                    <p:cNvSpPr/>
                    <p:nvPr/>
                  </p:nvSpPr>
                  <p:spPr>
                    <a:xfrm>
                      <a:off x="8532360" y="1154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0" name=""/>
                    <p:cNvSpPr/>
                    <p:nvPr/>
                  </p:nvSpPr>
                  <p:spPr>
                    <a:xfrm>
                      <a:off x="8532360" y="1168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281" name=""/>
              <p:cNvGrpSpPr/>
              <p:nvPr/>
            </p:nvGrpSpPr>
            <p:grpSpPr>
              <a:xfrm>
                <a:off x="8505720" y="552240"/>
                <a:ext cx="137880" cy="216000"/>
                <a:chOff x="8505720" y="552240"/>
                <a:chExt cx="137880" cy="216000"/>
              </a:xfrm>
            </p:grpSpPr>
            <p:grpSp>
              <p:nvGrpSpPr>
                <p:cNvPr id="6282" name=""/>
                <p:cNvGrpSpPr/>
                <p:nvPr/>
              </p:nvGrpSpPr>
              <p:grpSpPr>
                <a:xfrm>
                  <a:off x="8505720" y="624960"/>
                  <a:ext cx="137880" cy="143280"/>
                  <a:chOff x="8505720" y="624960"/>
                  <a:chExt cx="137880" cy="143280"/>
                </a:xfrm>
              </p:grpSpPr>
              <p:sp>
                <p:nvSpPr>
                  <p:cNvPr id="6283" name=""/>
                  <p:cNvSpPr/>
                  <p:nvPr/>
                </p:nvSpPr>
                <p:spPr>
                  <a:xfrm>
                    <a:off x="8505720" y="68760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84" name=""/>
                  <p:cNvGrpSpPr/>
                  <p:nvPr/>
                </p:nvGrpSpPr>
                <p:grpSpPr>
                  <a:xfrm>
                    <a:off x="8508240" y="624960"/>
                    <a:ext cx="132480" cy="143280"/>
                    <a:chOff x="8508240" y="624960"/>
                    <a:chExt cx="132480" cy="143280"/>
                  </a:xfrm>
                </p:grpSpPr>
                <p:sp>
                  <p:nvSpPr>
                    <p:cNvPr id="6285" name=""/>
                    <p:cNvSpPr/>
                    <p:nvPr/>
                  </p:nvSpPr>
                  <p:spPr>
                    <a:xfrm>
                      <a:off x="8508960" y="69444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6" name=""/>
                    <p:cNvSpPr/>
                    <p:nvPr/>
                  </p:nvSpPr>
                  <p:spPr>
                    <a:xfrm flipV="1">
                      <a:off x="8508240" y="63648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7" name=""/>
                    <p:cNvSpPr/>
                    <p:nvPr/>
                  </p:nvSpPr>
                  <p:spPr>
                    <a:xfrm>
                      <a:off x="8512200" y="62496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88" name=""/>
                <p:cNvGrpSpPr/>
                <p:nvPr/>
              </p:nvGrpSpPr>
              <p:grpSpPr>
                <a:xfrm>
                  <a:off x="8530920" y="552240"/>
                  <a:ext cx="86400" cy="72360"/>
                  <a:chOff x="8530920" y="552240"/>
                  <a:chExt cx="86400" cy="72360"/>
                </a:xfrm>
              </p:grpSpPr>
              <p:sp>
                <p:nvSpPr>
                  <p:cNvPr id="6289" name=""/>
                  <p:cNvSpPr/>
                  <p:nvPr/>
                </p:nvSpPr>
                <p:spPr>
                  <a:xfrm>
                    <a:off x="853128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0" name=""/>
                  <p:cNvSpPr/>
                  <p:nvPr/>
                </p:nvSpPr>
                <p:spPr>
                  <a:xfrm>
                    <a:off x="854964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1" name=""/>
                  <p:cNvSpPr/>
                  <p:nvPr/>
                </p:nvSpPr>
                <p:spPr>
                  <a:xfrm>
                    <a:off x="856800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2" name=""/>
                  <p:cNvSpPr/>
                  <p:nvPr/>
                </p:nvSpPr>
                <p:spPr>
                  <a:xfrm>
                    <a:off x="858780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3" name=""/>
                  <p:cNvSpPr/>
                  <p:nvPr/>
                </p:nvSpPr>
                <p:spPr>
                  <a:xfrm>
                    <a:off x="860652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4" name=""/>
                  <p:cNvSpPr/>
                  <p:nvPr/>
                </p:nvSpPr>
                <p:spPr>
                  <a:xfrm>
                    <a:off x="8530920" y="58320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5" name=""/>
                  <p:cNvSpPr/>
                  <p:nvPr/>
                </p:nvSpPr>
                <p:spPr>
                  <a:xfrm>
                    <a:off x="8531640" y="6058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6" name=""/>
                  <p:cNvSpPr/>
                  <p:nvPr/>
                </p:nvSpPr>
                <p:spPr>
                  <a:xfrm>
                    <a:off x="8531640" y="62460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97" name=""/>
                <p:cNvSpPr/>
                <p:nvPr/>
              </p:nvSpPr>
              <p:spPr>
                <a:xfrm>
                  <a:off x="8521920" y="69408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8" name=""/>
                <p:cNvSpPr/>
                <p:nvPr/>
              </p:nvSpPr>
              <p:spPr>
                <a:xfrm>
                  <a:off x="8605440" y="6933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9" name=""/>
                <p:cNvSpPr/>
                <p:nvPr/>
              </p:nvSpPr>
              <p:spPr>
                <a:xfrm>
                  <a:off x="8556480" y="70776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0" name=""/>
            <p:cNvSpPr/>
            <p:nvPr/>
          </p:nvSpPr>
          <p:spPr>
            <a:xfrm>
              <a:off x="7838280" y="-19440"/>
              <a:ext cx="146988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ramp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1" name=""/>
          <p:cNvSpPr/>
          <p:nvPr/>
        </p:nvSpPr>
        <p:spPr>
          <a:xfrm>
            <a:off x="4481640" y="1181160"/>
            <a:ext cx="4449600" cy="2473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- Model BOOSTwave4_OUT: The [Falling Waveform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[R_fixture]=50 Ohms and [V_fixture]=1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TYP column DC end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 1.13V and  0.85v, b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quivalent load appli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odel's I-V tables y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voltages ( 1.13V and  0.87V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ifference of  0.43% and  4.97%, respective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2" name=""/>
          <p:cNvSpPr/>
          <p:nvPr/>
        </p:nvSpPr>
        <p:spPr>
          <a:xfrm>
            <a:off x="4483080" y="3801960"/>
            <a:ext cx="4498920" cy="24735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- Model Boost-orig_OUT: The [Falling Waveform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[R_fixture]=50 Ohms and [V_fixture]=1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TYP column DC end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 1.00V and  0.87v, b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quivalent load appli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odel's I-V tables y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voltages ( 1.13V and  0.87V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ifference of 50.05% and  1.06%, respective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3" name=""/>
          <p:cNvGrpSpPr/>
          <p:nvPr/>
        </p:nvGrpSpPr>
        <p:grpSpPr>
          <a:xfrm>
            <a:off x="293760" y="1498680"/>
            <a:ext cx="4155840" cy="4254480"/>
            <a:chOff x="293760" y="1498680"/>
            <a:chExt cx="4155840" cy="4254480"/>
          </a:xfrm>
        </p:grpSpPr>
        <p:sp>
          <p:nvSpPr>
            <p:cNvPr id="6304" name=""/>
            <p:cNvSpPr/>
            <p:nvPr/>
          </p:nvSpPr>
          <p:spPr>
            <a:xfrm>
              <a:off x="3911760" y="2711520"/>
              <a:ext cx="203040" cy="2031840"/>
            </a:xfrm>
            <a:prstGeom prst="upDownArrow">
              <a:avLst>
                <a:gd name="adj1" fmla="val 50000"/>
                <a:gd name="adj2" fmla="val 199215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3660840" y="3679920"/>
              <a:ext cx="222120" cy="1046160"/>
            </a:xfrm>
            <a:prstGeom prst="upDownArrow">
              <a:avLst>
                <a:gd name="adj1" fmla="val 50000"/>
                <a:gd name="adj2" fmla="val 93762"/>
              </a:avLst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93760" y="1498680"/>
              <a:ext cx="4155840" cy="4254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844560" y="2306520"/>
              <a:ext cx="331956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844560" y="4362480"/>
              <a:ext cx="3319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844560" y="3675240"/>
              <a:ext cx="3319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844560" y="2994120"/>
              <a:ext cx="3319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844560" y="2306520"/>
              <a:ext cx="3319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844560" y="2306520"/>
              <a:ext cx="3319560" cy="27432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844560" y="2306520"/>
              <a:ext cx="0" cy="27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808200" y="5049720"/>
              <a:ext cx="36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808200" y="4362480"/>
              <a:ext cx="36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808200" y="3675240"/>
              <a:ext cx="36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808200" y="2994120"/>
              <a:ext cx="36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808200" y="2306520"/>
              <a:ext cx="36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844560" y="5049720"/>
              <a:ext cx="3319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 flipV="1">
              <a:off x="844560" y="504972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 flipV="1">
              <a:off x="1260360" y="504972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 flipV="1">
              <a:off x="1676520" y="504972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 flipV="1">
              <a:off x="2092320" y="504972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 flipV="1">
              <a:off x="2508120" y="504972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 flipV="1">
              <a:off x="2916360" y="504972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 flipV="1">
              <a:off x="3332160" y="504972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 flipV="1">
              <a:off x="3747960" y="504972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 flipV="1">
              <a:off x="4164120" y="504972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844560" y="3683160"/>
              <a:ext cx="2819520" cy="958680"/>
            </a:xfrm>
            <a:custGeom>
              <a:avLst/>
              <a:gdLst/>
              <a:ahLst/>
              <a:rect l="l" t="t" r="r" b="b"/>
              <a:pathLst>
                <a:path w="373" h="127">
                  <a:moveTo>
                    <a:pt x="0" y="127"/>
                  </a:moveTo>
                  <a:lnTo>
                    <a:pt x="60" y="99"/>
                  </a:lnTo>
                  <a:lnTo>
                    <a:pt x="187" y="63"/>
                  </a:lnTo>
                  <a:lnTo>
                    <a:pt x="299" y="27"/>
                  </a:lnTo>
                  <a:lnTo>
                    <a:pt x="373" y="0"/>
                  </a:lnTo>
                </a:path>
              </a:pathLst>
            </a:cu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844560" y="2774880"/>
              <a:ext cx="2819520" cy="1830600"/>
            </a:xfrm>
            <a:custGeom>
              <a:avLst/>
              <a:gdLst/>
              <a:ahLst/>
              <a:rect l="l" t="t" r="r" b="b"/>
              <a:pathLst>
                <a:path w="373" h="242">
                  <a:moveTo>
                    <a:pt x="0" y="242"/>
                  </a:moveTo>
                  <a:lnTo>
                    <a:pt x="60" y="201"/>
                  </a:lnTo>
                  <a:lnTo>
                    <a:pt x="187" y="120"/>
                  </a:lnTo>
                  <a:lnTo>
                    <a:pt x="299" y="53"/>
                  </a:lnTo>
                  <a:lnTo>
                    <a:pt x="373" y="0"/>
                  </a:ln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800280" y="459756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0"/>
                  </a:moveTo>
                  <a:lnTo>
                    <a:pt x="57" y="28"/>
                  </a:lnTo>
                  <a:lnTo>
                    <a:pt x="28" y="57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1252440" y="43848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212920" y="411336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0"/>
                  </a:moveTo>
                  <a:lnTo>
                    <a:pt x="57" y="29"/>
                  </a:lnTo>
                  <a:lnTo>
                    <a:pt x="29" y="57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3059280" y="3841920"/>
              <a:ext cx="9180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29" y="0"/>
                  </a:moveTo>
                  <a:lnTo>
                    <a:pt x="58" y="28"/>
                  </a:lnTo>
                  <a:lnTo>
                    <a:pt x="29" y="57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619440" y="363708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0"/>
                  </a:moveTo>
                  <a:lnTo>
                    <a:pt x="57" y="29"/>
                  </a:lnTo>
                  <a:lnTo>
                    <a:pt x="28" y="57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800280" y="4559400"/>
              <a:ext cx="82440" cy="824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1252440" y="4249800"/>
              <a:ext cx="84240" cy="824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212920" y="3637080"/>
              <a:ext cx="84240" cy="83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059280" y="3130560"/>
              <a:ext cx="83880" cy="842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619440" y="2730600"/>
              <a:ext cx="82440" cy="824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1724040" y="161928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-points wavefor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602280" y="49896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02280" y="43020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693000" y="361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02280" y="29336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602280" y="22464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70320" y="5156280"/>
              <a:ext cx="36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00E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791280" y="5300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1100520" y="5156280"/>
              <a:ext cx="33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,00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1207440" y="5300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1516680" y="5156280"/>
              <a:ext cx="33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,00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1623240" y="5300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1932480" y="5156280"/>
              <a:ext cx="33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,00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039040" y="5300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348280" y="5156280"/>
              <a:ext cx="33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,00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453400" y="5300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2756520" y="5156280"/>
              <a:ext cx="33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863080" y="5300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3172320" y="5156280"/>
              <a:ext cx="33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20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3277440" y="5300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3588120" y="5156280"/>
              <a:ext cx="33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40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3693240" y="5300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4004280" y="5156280"/>
              <a:ext cx="33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60E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4109400" y="5300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386800" y="549576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 rot="16200000">
              <a:off x="271800" y="3607920"/>
              <a:ext cx="40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2"/>
                </a:spcBef>
                <a:spcAft>
                  <a:spcPts val="162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7" name=""/>
            <p:cNvGrpSpPr/>
            <p:nvPr/>
          </p:nvGrpSpPr>
          <p:grpSpPr>
            <a:xfrm>
              <a:off x="461880" y="1650960"/>
              <a:ext cx="3880080" cy="374760"/>
              <a:chOff x="461880" y="1650960"/>
              <a:chExt cx="3880080" cy="374760"/>
            </a:xfrm>
          </p:grpSpPr>
          <p:sp>
            <p:nvSpPr>
              <p:cNvPr id="6368" name=""/>
              <p:cNvSpPr/>
              <p:nvPr/>
            </p:nvSpPr>
            <p:spPr>
              <a:xfrm>
                <a:off x="461880" y="1650960"/>
                <a:ext cx="3880080" cy="374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503280" y="1812960"/>
                <a:ext cx="226800" cy="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550800" y="1760400"/>
                <a:ext cx="112680" cy="11592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24" y="0"/>
                    </a:moveTo>
                    <a:lnTo>
                      <a:pt x="47" y="24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757800" y="1695600"/>
                <a:ext cx="921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mp-sw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1816200" y="1812960"/>
                <a:ext cx="226800" cy="0"/>
              </a:xfrm>
              <a:prstGeom prst="line">
                <a:avLst/>
              </a:prstGeom>
              <a:ln w="22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1878120" y="1760400"/>
                <a:ext cx="104760" cy="104760"/>
              </a:xfrm>
              <a:prstGeom prst="rect">
                <a:avLst/>
              </a:prstGeom>
              <a:solidFill>
                <a:srgbClr val="ff00ff"/>
              </a:solidFill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2079360" y="1695600"/>
                <a:ext cx="216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[pullup] --- [pulldown] sw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5" name=""/>
            <p:cNvSpPr/>
            <p:nvPr/>
          </p:nvSpPr>
          <p:spPr>
            <a:xfrm>
              <a:off x="293760" y="1498680"/>
              <a:ext cx="4155840" cy="4254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6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6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6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6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6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What about  time (dt_r/f )  of [ramp] ?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377" name=""/>
          <p:cNvSpPr/>
          <p:nvPr/>
        </p:nvSpPr>
        <p:spPr>
          <a:xfrm>
            <a:off x="479520" y="833400"/>
            <a:ext cx="2742480" cy="82404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v/dt_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0775V / 85.2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v/dt_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0808V / 81.9p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8" name=""/>
          <p:cNvGrpSpPr/>
          <p:nvPr/>
        </p:nvGrpSpPr>
        <p:grpSpPr>
          <a:xfrm>
            <a:off x="7838280" y="-19440"/>
            <a:ext cx="1469880" cy="912960"/>
            <a:chOff x="7838280" y="-19440"/>
            <a:chExt cx="1469880" cy="912960"/>
          </a:xfrm>
        </p:grpSpPr>
        <p:grpSp>
          <p:nvGrpSpPr>
            <p:cNvPr id="6379" name=""/>
            <p:cNvGrpSpPr/>
            <p:nvPr/>
          </p:nvGrpSpPr>
          <p:grpSpPr>
            <a:xfrm>
              <a:off x="8351640" y="448920"/>
              <a:ext cx="443520" cy="444600"/>
              <a:chOff x="8351640" y="448920"/>
              <a:chExt cx="443520" cy="444600"/>
            </a:xfrm>
          </p:grpSpPr>
          <p:grpSp>
            <p:nvGrpSpPr>
              <p:cNvPr id="6380" name=""/>
              <p:cNvGrpSpPr/>
              <p:nvPr/>
            </p:nvGrpSpPr>
            <p:grpSpPr>
              <a:xfrm>
                <a:off x="8351640" y="600120"/>
                <a:ext cx="443520" cy="293400"/>
                <a:chOff x="8351640" y="600120"/>
                <a:chExt cx="443520" cy="293400"/>
              </a:xfrm>
            </p:grpSpPr>
            <p:grpSp>
              <p:nvGrpSpPr>
                <p:cNvPr id="6381" name=""/>
                <p:cNvGrpSpPr/>
                <p:nvPr/>
              </p:nvGrpSpPr>
              <p:grpSpPr>
                <a:xfrm>
                  <a:off x="8351640" y="835560"/>
                  <a:ext cx="443520" cy="57960"/>
                  <a:chOff x="8351640" y="835560"/>
                  <a:chExt cx="443520" cy="57960"/>
                </a:xfrm>
              </p:grpSpPr>
              <p:sp>
                <p:nvSpPr>
                  <p:cNvPr id="6382" name=""/>
                  <p:cNvSpPr/>
                  <p:nvPr/>
                </p:nvSpPr>
                <p:spPr>
                  <a:xfrm>
                    <a:off x="8425440" y="83556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3" name=""/>
                  <p:cNvSpPr/>
                  <p:nvPr/>
                </p:nvSpPr>
                <p:spPr>
                  <a:xfrm>
                    <a:off x="8573760" y="83556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4" name=""/>
                  <p:cNvSpPr/>
                  <p:nvPr/>
                </p:nvSpPr>
                <p:spPr>
                  <a:xfrm>
                    <a:off x="8647560" y="83556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5" name=""/>
                  <p:cNvSpPr/>
                  <p:nvPr/>
                </p:nvSpPr>
                <p:spPr>
                  <a:xfrm>
                    <a:off x="8721720" y="83556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6" name=""/>
                  <p:cNvSpPr/>
                  <p:nvPr/>
                </p:nvSpPr>
                <p:spPr>
                  <a:xfrm>
                    <a:off x="8499600" y="83556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7" name=""/>
                  <p:cNvSpPr/>
                  <p:nvPr/>
                </p:nvSpPr>
                <p:spPr>
                  <a:xfrm>
                    <a:off x="8351640" y="83556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8" name=""/>
                <p:cNvGrpSpPr/>
                <p:nvPr/>
              </p:nvGrpSpPr>
              <p:grpSpPr>
                <a:xfrm>
                  <a:off x="8388720" y="776880"/>
                  <a:ext cx="369720" cy="57960"/>
                  <a:chOff x="8388720" y="776880"/>
                  <a:chExt cx="369720" cy="57960"/>
                </a:xfrm>
              </p:grpSpPr>
              <p:sp>
                <p:nvSpPr>
                  <p:cNvPr id="6389" name=""/>
                  <p:cNvSpPr/>
                  <p:nvPr/>
                </p:nvSpPr>
                <p:spPr>
                  <a:xfrm>
                    <a:off x="8388720" y="77688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0" name=""/>
                  <p:cNvSpPr/>
                  <p:nvPr/>
                </p:nvSpPr>
                <p:spPr>
                  <a:xfrm>
                    <a:off x="8536680" y="77688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1" name=""/>
                  <p:cNvSpPr/>
                  <p:nvPr/>
                </p:nvSpPr>
                <p:spPr>
                  <a:xfrm>
                    <a:off x="8610840" y="77688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2" name=""/>
                  <p:cNvSpPr/>
                  <p:nvPr/>
                </p:nvSpPr>
                <p:spPr>
                  <a:xfrm>
                    <a:off x="8685000" y="77688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3" name=""/>
                  <p:cNvSpPr/>
                  <p:nvPr/>
                </p:nvSpPr>
                <p:spPr>
                  <a:xfrm>
                    <a:off x="8462520" y="77688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94" name=""/>
                <p:cNvSpPr/>
                <p:nvPr/>
              </p:nvSpPr>
              <p:spPr>
                <a:xfrm>
                  <a:off x="8499600" y="718200"/>
                  <a:ext cx="73440" cy="57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5" name=""/>
                <p:cNvSpPr/>
                <p:nvPr/>
              </p:nvSpPr>
              <p:spPr>
                <a:xfrm>
                  <a:off x="8647920" y="718200"/>
                  <a:ext cx="73440" cy="57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6" name=""/>
                <p:cNvSpPr/>
                <p:nvPr/>
              </p:nvSpPr>
              <p:spPr>
                <a:xfrm>
                  <a:off x="8573760" y="718200"/>
                  <a:ext cx="73440" cy="57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7" name=""/>
                <p:cNvSpPr/>
                <p:nvPr/>
              </p:nvSpPr>
              <p:spPr>
                <a:xfrm>
                  <a:off x="8425440" y="718200"/>
                  <a:ext cx="73440" cy="57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8" name=""/>
                <p:cNvSpPr/>
                <p:nvPr/>
              </p:nvSpPr>
              <p:spPr>
                <a:xfrm>
                  <a:off x="8462880" y="659520"/>
                  <a:ext cx="73440" cy="57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9" name=""/>
                <p:cNvSpPr/>
                <p:nvPr/>
              </p:nvSpPr>
              <p:spPr>
                <a:xfrm>
                  <a:off x="8610840" y="659520"/>
                  <a:ext cx="73440" cy="57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0" name=""/>
                <p:cNvSpPr/>
                <p:nvPr/>
              </p:nvSpPr>
              <p:spPr>
                <a:xfrm>
                  <a:off x="8537040" y="659520"/>
                  <a:ext cx="73440" cy="57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1" name=""/>
                <p:cNvGrpSpPr/>
                <p:nvPr/>
              </p:nvGrpSpPr>
              <p:grpSpPr>
                <a:xfrm>
                  <a:off x="8500320" y="600120"/>
                  <a:ext cx="147600" cy="57960"/>
                  <a:chOff x="8500320" y="600120"/>
                  <a:chExt cx="147600" cy="57960"/>
                </a:xfrm>
              </p:grpSpPr>
              <p:sp>
                <p:nvSpPr>
                  <p:cNvPr id="6402" name=""/>
                  <p:cNvSpPr/>
                  <p:nvPr/>
                </p:nvSpPr>
                <p:spPr>
                  <a:xfrm>
                    <a:off x="8500320" y="600120"/>
                    <a:ext cx="7380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3" name=""/>
                  <p:cNvSpPr/>
                  <p:nvPr/>
                </p:nvSpPr>
                <p:spPr>
                  <a:xfrm>
                    <a:off x="8574480" y="600120"/>
                    <a:ext cx="73440" cy="57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04" name=""/>
              <p:cNvGrpSpPr/>
              <p:nvPr/>
            </p:nvGrpSpPr>
            <p:grpSpPr>
              <a:xfrm>
                <a:off x="8543880" y="600120"/>
                <a:ext cx="58680" cy="290520"/>
                <a:chOff x="8543880" y="600120"/>
                <a:chExt cx="58680" cy="290520"/>
              </a:xfrm>
            </p:grpSpPr>
            <p:grpSp>
              <p:nvGrpSpPr>
                <p:cNvPr id="6405" name=""/>
                <p:cNvGrpSpPr/>
                <p:nvPr/>
              </p:nvGrpSpPr>
              <p:grpSpPr>
                <a:xfrm>
                  <a:off x="8543880" y="600120"/>
                  <a:ext cx="58680" cy="145800"/>
                  <a:chOff x="8543880" y="600120"/>
                  <a:chExt cx="58680" cy="145800"/>
                </a:xfrm>
              </p:grpSpPr>
              <p:grpSp>
                <p:nvGrpSpPr>
                  <p:cNvPr id="6406" name=""/>
                  <p:cNvGrpSpPr/>
                  <p:nvPr/>
                </p:nvGrpSpPr>
                <p:grpSpPr>
                  <a:xfrm>
                    <a:off x="8543880" y="600120"/>
                    <a:ext cx="58680" cy="29160"/>
                    <a:chOff x="8543880" y="600120"/>
                    <a:chExt cx="58680" cy="29160"/>
                  </a:xfrm>
                </p:grpSpPr>
                <p:sp>
                  <p:nvSpPr>
                    <p:cNvPr id="6407" name=""/>
                    <p:cNvSpPr/>
                    <p:nvPr/>
                  </p:nvSpPr>
                  <p:spPr>
                    <a:xfrm>
                      <a:off x="8543880" y="60012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8" name=""/>
                    <p:cNvSpPr/>
                    <p:nvPr/>
                  </p:nvSpPr>
                  <p:spPr>
                    <a:xfrm>
                      <a:off x="8543880" y="60948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9" name=""/>
                    <p:cNvSpPr/>
                    <p:nvPr/>
                  </p:nvSpPr>
                  <p:spPr>
                    <a:xfrm>
                      <a:off x="8543880" y="61956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0" name=""/>
                  <p:cNvGrpSpPr/>
                  <p:nvPr/>
                </p:nvGrpSpPr>
                <p:grpSpPr>
                  <a:xfrm>
                    <a:off x="8543880" y="629280"/>
                    <a:ext cx="58680" cy="29160"/>
                    <a:chOff x="8543880" y="629280"/>
                    <a:chExt cx="58680" cy="29160"/>
                  </a:xfrm>
                </p:grpSpPr>
                <p:sp>
                  <p:nvSpPr>
                    <p:cNvPr id="6411" name=""/>
                    <p:cNvSpPr/>
                    <p:nvPr/>
                  </p:nvSpPr>
                  <p:spPr>
                    <a:xfrm>
                      <a:off x="8543880" y="62928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2" name=""/>
                    <p:cNvSpPr/>
                    <p:nvPr/>
                  </p:nvSpPr>
                  <p:spPr>
                    <a:xfrm>
                      <a:off x="8543880" y="63864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3" name=""/>
                    <p:cNvSpPr/>
                    <p:nvPr/>
                  </p:nvSpPr>
                  <p:spPr>
                    <a:xfrm>
                      <a:off x="8543880" y="64872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4" name=""/>
                  <p:cNvGrpSpPr/>
                  <p:nvPr/>
                </p:nvGrpSpPr>
                <p:grpSpPr>
                  <a:xfrm>
                    <a:off x="8543880" y="658800"/>
                    <a:ext cx="58680" cy="29160"/>
                    <a:chOff x="8543880" y="658800"/>
                    <a:chExt cx="58680" cy="29160"/>
                  </a:xfrm>
                </p:grpSpPr>
                <p:sp>
                  <p:nvSpPr>
                    <p:cNvPr id="6415" name=""/>
                    <p:cNvSpPr/>
                    <p:nvPr/>
                  </p:nvSpPr>
                  <p:spPr>
                    <a:xfrm>
                      <a:off x="8543880" y="65880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6" name=""/>
                    <p:cNvSpPr/>
                    <p:nvPr/>
                  </p:nvSpPr>
                  <p:spPr>
                    <a:xfrm>
                      <a:off x="8543880" y="66816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7" name=""/>
                    <p:cNvSpPr/>
                    <p:nvPr/>
                  </p:nvSpPr>
                  <p:spPr>
                    <a:xfrm>
                      <a:off x="8543880" y="67824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8" name=""/>
                  <p:cNvGrpSpPr/>
                  <p:nvPr/>
                </p:nvGrpSpPr>
                <p:grpSpPr>
                  <a:xfrm>
                    <a:off x="8543880" y="687960"/>
                    <a:ext cx="58680" cy="29160"/>
                    <a:chOff x="8543880" y="687960"/>
                    <a:chExt cx="58680" cy="29160"/>
                  </a:xfrm>
                </p:grpSpPr>
                <p:sp>
                  <p:nvSpPr>
                    <p:cNvPr id="6419" name=""/>
                    <p:cNvSpPr/>
                    <p:nvPr/>
                  </p:nvSpPr>
                  <p:spPr>
                    <a:xfrm>
                      <a:off x="8543880" y="68796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0" name=""/>
                    <p:cNvSpPr/>
                    <p:nvPr/>
                  </p:nvSpPr>
                  <p:spPr>
                    <a:xfrm>
                      <a:off x="8543880" y="69732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1" name=""/>
                    <p:cNvSpPr/>
                    <p:nvPr/>
                  </p:nvSpPr>
                  <p:spPr>
                    <a:xfrm>
                      <a:off x="8543880" y="70740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2" name=""/>
                  <p:cNvGrpSpPr/>
                  <p:nvPr/>
                </p:nvGrpSpPr>
                <p:grpSpPr>
                  <a:xfrm>
                    <a:off x="8543880" y="716760"/>
                    <a:ext cx="58680" cy="29160"/>
                    <a:chOff x="8543880" y="716760"/>
                    <a:chExt cx="58680" cy="29160"/>
                  </a:xfrm>
                </p:grpSpPr>
                <p:sp>
                  <p:nvSpPr>
                    <p:cNvPr id="6423" name=""/>
                    <p:cNvSpPr/>
                    <p:nvPr/>
                  </p:nvSpPr>
                  <p:spPr>
                    <a:xfrm>
                      <a:off x="8543880" y="71676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4" name=""/>
                    <p:cNvSpPr/>
                    <p:nvPr/>
                  </p:nvSpPr>
                  <p:spPr>
                    <a:xfrm>
                      <a:off x="8543880" y="72612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5" name=""/>
                    <p:cNvSpPr/>
                    <p:nvPr/>
                  </p:nvSpPr>
                  <p:spPr>
                    <a:xfrm>
                      <a:off x="8543880" y="73620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26" name=""/>
                <p:cNvGrpSpPr/>
                <p:nvPr/>
              </p:nvGrpSpPr>
              <p:grpSpPr>
                <a:xfrm>
                  <a:off x="8543880" y="744840"/>
                  <a:ext cx="58680" cy="145800"/>
                  <a:chOff x="8543880" y="744840"/>
                  <a:chExt cx="58680" cy="145800"/>
                </a:xfrm>
              </p:grpSpPr>
              <p:grpSp>
                <p:nvGrpSpPr>
                  <p:cNvPr id="6427" name=""/>
                  <p:cNvGrpSpPr/>
                  <p:nvPr/>
                </p:nvGrpSpPr>
                <p:grpSpPr>
                  <a:xfrm>
                    <a:off x="8543880" y="744840"/>
                    <a:ext cx="58680" cy="29160"/>
                    <a:chOff x="8543880" y="744840"/>
                    <a:chExt cx="58680" cy="29160"/>
                  </a:xfrm>
                </p:grpSpPr>
                <p:sp>
                  <p:nvSpPr>
                    <p:cNvPr id="6428" name=""/>
                    <p:cNvSpPr/>
                    <p:nvPr/>
                  </p:nvSpPr>
                  <p:spPr>
                    <a:xfrm>
                      <a:off x="8543880" y="74484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9" name=""/>
                    <p:cNvSpPr/>
                    <p:nvPr/>
                  </p:nvSpPr>
                  <p:spPr>
                    <a:xfrm>
                      <a:off x="8543880" y="75420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0" name=""/>
                    <p:cNvSpPr/>
                    <p:nvPr/>
                  </p:nvSpPr>
                  <p:spPr>
                    <a:xfrm>
                      <a:off x="8543880" y="76428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1" name=""/>
                  <p:cNvGrpSpPr/>
                  <p:nvPr/>
                </p:nvGrpSpPr>
                <p:grpSpPr>
                  <a:xfrm>
                    <a:off x="8543880" y="774000"/>
                    <a:ext cx="58680" cy="29160"/>
                    <a:chOff x="8543880" y="774000"/>
                    <a:chExt cx="58680" cy="29160"/>
                  </a:xfrm>
                </p:grpSpPr>
                <p:sp>
                  <p:nvSpPr>
                    <p:cNvPr id="6432" name=""/>
                    <p:cNvSpPr/>
                    <p:nvPr/>
                  </p:nvSpPr>
                  <p:spPr>
                    <a:xfrm>
                      <a:off x="8543880" y="77400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3" name=""/>
                    <p:cNvSpPr/>
                    <p:nvPr/>
                  </p:nvSpPr>
                  <p:spPr>
                    <a:xfrm>
                      <a:off x="8543880" y="78336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4" name=""/>
                    <p:cNvSpPr/>
                    <p:nvPr/>
                  </p:nvSpPr>
                  <p:spPr>
                    <a:xfrm>
                      <a:off x="8543880" y="79344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5" name=""/>
                  <p:cNvGrpSpPr/>
                  <p:nvPr/>
                </p:nvGrpSpPr>
                <p:grpSpPr>
                  <a:xfrm>
                    <a:off x="8543880" y="803520"/>
                    <a:ext cx="58680" cy="29160"/>
                    <a:chOff x="8543880" y="803520"/>
                    <a:chExt cx="58680" cy="29160"/>
                  </a:xfrm>
                </p:grpSpPr>
                <p:sp>
                  <p:nvSpPr>
                    <p:cNvPr id="6436" name=""/>
                    <p:cNvSpPr/>
                    <p:nvPr/>
                  </p:nvSpPr>
                  <p:spPr>
                    <a:xfrm>
                      <a:off x="8543880" y="80352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7" name=""/>
                    <p:cNvSpPr/>
                    <p:nvPr/>
                  </p:nvSpPr>
                  <p:spPr>
                    <a:xfrm>
                      <a:off x="8543880" y="81288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8" name=""/>
                    <p:cNvSpPr/>
                    <p:nvPr/>
                  </p:nvSpPr>
                  <p:spPr>
                    <a:xfrm>
                      <a:off x="8543880" y="82296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9" name=""/>
                  <p:cNvGrpSpPr/>
                  <p:nvPr/>
                </p:nvGrpSpPr>
                <p:grpSpPr>
                  <a:xfrm>
                    <a:off x="8543880" y="832680"/>
                    <a:ext cx="58680" cy="29160"/>
                    <a:chOff x="8543880" y="832680"/>
                    <a:chExt cx="58680" cy="29160"/>
                  </a:xfrm>
                </p:grpSpPr>
                <p:sp>
                  <p:nvSpPr>
                    <p:cNvPr id="6440" name=""/>
                    <p:cNvSpPr/>
                    <p:nvPr/>
                  </p:nvSpPr>
                  <p:spPr>
                    <a:xfrm>
                      <a:off x="8543880" y="83268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1" name=""/>
                    <p:cNvSpPr/>
                    <p:nvPr/>
                  </p:nvSpPr>
                  <p:spPr>
                    <a:xfrm>
                      <a:off x="8543880" y="84204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2" name=""/>
                    <p:cNvSpPr/>
                    <p:nvPr/>
                  </p:nvSpPr>
                  <p:spPr>
                    <a:xfrm>
                      <a:off x="8543880" y="85212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3" name=""/>
                  <p:cNvGrpSpPr/>
                  <p:nvPr/>
                </p:nvGrpSpPr>
                <p:grpSpPr>
                  <a:xfrm>
                    <a:off x="8543880" y="861480"/>
                    <a:ext cx="58680" cy="29160"/>
                    <a:chOff x="8543880" y="861480"/>
                    <a:chExt cx="58680" cy="29160"/>
                  </a:xfrm>
                </p:grpSpPr>
                <p:sp>
                  <p:nvSpPr>
                    <p:cNvPr id="6444" name=""/>
                    <p:cNvSpPr/>
                    <p:nvPr/>
                  </p:nvSpPr>
                  <p:spPr>
                    <a:xfrm>
                      <a:off x="8543880" y="86148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5" name=""/>
                    <p:cNvSpPr/>
                    <p:nvPr/>
                  </p:nvSpPr>
                  <p:spPr>
                    <a:xfrm>
                      <a:off x="8543880" y="87084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6" name=""/>
                    <p:cNvSpPr/>
                    <p:nvPr/>
                  </p:nvSpPr>
                  <p:spPr>
                    <a:xfrm>
                      <a:off x="8543880" y="880920"/>
                      <a:ext cx="58680" cy="972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47" name=""/>
              <p:cNvGrpSpPr/>
              <p:nvPr/>
            </p:nvGrpSpPr>
            <p:grpSpPr>
              <a:xfrm>
                <a:off x="8525160" y="448920"/>
                <a:ext cx="96480" cy="151560"/>
                <a:chOff x="8525160" y="448920"/>
                <a:chExt cx="96480" cy="151560"/>
              </a:xfrm>
            </p:grpSpPr>
            <p:grpSp>
              <p:nvGrpSpPr>
                <p:cNvPr id="6448" name=""/>
                <p:cNvGrpSpPr/>
                <p:nvPr/>
              </p:nvGrpSpPr>
              <p:grpSpPr>
                <a:xfrm>
                  <a:off x="8525160" y="500040"/>
                  <a:ext cx="96480" cy="100440"/>
                  <a:chOff x="8525160" y="500040"/>
                  <a:chExt cx="96480" cy="100440"/>
                </a:xfrm>
              </p:grpSpPr>
              <p:sp>
                <p:nvSpPr>
                  <p:cNvPr id="6449" name=""/>
                  <p:cNvSpPr/>
                  <p:nvPr/>
                </p:nvSpPr>
                <p:spPr>
                  <a:xfrm>
                    <a:off x="8525160" y="543960"/>
                    <a:ext cx="96480" cy="9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50" name=""/>
                  <p:cNvGrpSpPr/>
                  <p:nvPr/>
                </p:nvGrpSpPr>
                <p:grpSpPr>
                  <a:xfrm>
                    <a:off x="8526960" y="500040"/>
                    <a:ext cx="92880" cy="100440"/>
                    <a:chOff x="8526960" y="500040"/>
                    <a:chExt cx="92880" cy="100440"/>
                  </a:xfrm>
                </p:grpSpPr>
                <p:sp>
                  <p:nvSpPr>
                    <p:cNvPr id="6451" name=""/>
                    <p:cNvSpPr/>
                    <p:nvPr/>
                  </p:nvSpPr>
                  <p:spPr>
                    <a:xfrm>
                      <a:off x="8527320" y="548640"/>
                      <a:ext cx="91800" cy="5184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2" name=""/>
                    <p:cNvSpPr/>
                    <p:nvPr/>
                  </p:nvSpPr>
                  <p:spPr>
                    <a:xfrm flipV="1">
                      <a:off x="8526960" y="508320"/>
                      <a:ext cx="92880" cy="35280"/>
                    </a:xfrm>
                    <a:custGeom>
                      <a:avLst/>
                      <a:gdLst>
                        <a:gd name="textAreaLeft" fmla="*/ 9360 w 92880"/>
                        <a:gd name="textAreaRight" fmla="*/ 83520 w 92880"/>
                        <a:gd name="textAreaTop" fmla="*/ 3600 h 35280"/>
                        <a:gd name="textAreaBottom" fmla="*/ 31680 h 35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3" name=""/>
                    <p:cNvSpPr/>
                    <p:nvPr/>
                  </p:nvSpPr>
                  <p:spPr>
                    <a:xfrm>
                      <a:off x="8529480" y="500040"/>
                      <a:ext cx="86760" cy="82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54" name=""/>
                <p:cNvGrpSpPr/>
                <p:nvPr/>
              </p:nvGrpSpPr>
              <p:grpSpPr>
                <a:xfrm>
                  <a:off x="8542800" y="448920"/>
                  <a:ext cx="60480" cy="50760"/>
                  <a:chOff x="8542800" y="448920"/>
                  <a:chExt cx="60480" cy="50760"/>
                </a:xfrm>
              </p:grpSpPr>
              <p:sp>
                <p:nvSpPr>
                  <p:cNvPr id="6455" name=""/>
                  <p:cNvSpPr/>
                  <p:nvPr/>
                </p:nvSpPr>
                <p:spPr>
                  <a:xfrm>
                    <a:off x="8542800" y="448920"/>
                    <a:ext cx="7200" cy="507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6" name=""/>
                  <p:cNvSpPr/>
                  <p:nvPr/>
                </p:nvSpPr>
                <p:spPr>
                  <a:xfrm>
                    <a:off x="8555760" y="448920"/>
                    <a:ext cx="7200" cy="507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7" name=""/>
                  <p:cNvSpPr/>
                  <p:nvPr/>
                </p:nvSpPr>
                <p:spPr>
                  <a:xfrm>
                    <a:off x="8568720" y="448920"/>
                    <a:ext cx="7200" cy="507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8" name=""/>
                  <p:cNvSpPr/>
                  <p:nvPr/>
                </p:nvSpPr>
                <p:spPr>
                  <a:xfrm>
                    <a:off x="8582760" y="448920"/>
                    <a:ext cx="7200" cy="507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9" name=""/>
                  <p:cNvSpPr/>
                  <p:nvPr/>
                </p:nvSpPr>
                <p:spPr>
                  <a:xfrm>
                    <a:off x="8595720" y="448920"/>
                    <a:ext cx="7200" cy="507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0" name=""/>
                  <p:cNvSpPr/>
                  <p:nvPr/>
                </p:nvSpPr>
                <p:spPr>
                  <a:xfrm>
                    <a:off x="8542800" y="470520"/>
                    <a:ext cx="601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1" name=""/>
                  <p:cNvSpPr/>
                  <p:nvPr/>
                </p:nvSpPr>
                <p:spPr>
                  <a:xfrm>
                    <a:off x="8543160" y="486720"/>
                    <a:ext cx="601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2" name=""/>
                  <p:cNvSpPr/>
                  <p:nvPr/>
                </p:nvSpPr>
                <p:spPr>
                  <a:xfrm>
                    <a:off x="8543160" y="499680"/>
                    <a:ext cx="601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63" name=""/>
                <p:cNvSpPr/>
                <p:nvPr/>
              </p:nvSpPr>
              <p:spPr>
                <a:xfrm>
                  <a:off x="8536320" y="548280"/>
                  <a:ext cx="14400" cy="51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4" name=""/>
                <p:cNvSpPr/>
                <p:nvPr/>
              </p:nvSpPr>
              <p:spPr>
                <a:xfrm>
                  <a:off x="8595000" y="547920"/>
                  <a:ext cx="14400" cy="51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5" name=""/>
                <p:cNvSpPr/>
                <p:nvPr/>
              </p:nvSpPr>
              <p:spPr>
                <a:xfrm>
                  <a:off x="8560800" y="557640"/>
                  <a:ext cx="24840" cy="41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6" name=""/>
            <p:cNvSpPr/>
            <p:nvPr/>
          </p:nvSpPr>
          <p:spPr>
            <a:xfrm>
              <a:off x="7838280" y="-19440"/>
              <a:ext cx="146988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ramp dri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7" name=""/>
          <p:cNvGrpSpPr/>
          <p:nvPr/>
        </p:nvGrpSpPr>
        <p:grpSpPr>
          <a:xfrm>
            <a:off x="620640" y="3642120"/>
            <a:ext cx="2726280" cy="2151360"/>
            <a:chOff x="620640" y="3642120"/>
            <a:chExt cx="2726280" cy="2151360"/>
          </a:xfrm>
        </p:grpSpPr>
        <p:grpSp>
          <p:nvGrpSpPr>
            <p:cNvPr id="6468" name=""/>
            <p:cNvGrpSpPr/>
            <p:nvPr/>
          </p:nvGrpSpPr>
          <p:grpSpPr>
            <a:xfrm>
              <a:off x="960480" y="3784680"/>
              <a:ext cx="1692360" cy="1700280"/>
              <a:chOff x="960480" y="3784680"/>
              <a:chExt cx="1692360" cy="1700280"/>
            </a:xfrm>
          </p:grpSpPr>
          <p:sp>
            <p:nvSpPr>
              <p:cNvPr id="6469" name=""/>
              <p:cNvSpPr/>
              <p:nvPr/>
            </p:nvSpPr>
            <p:spPr>
              <a:xfrm>
                <a:off x="1051920" y="3784680"/>
                <a:ext cx="0" cy="170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960480" y="5021640"/>
                <a:ext cx="16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1" name=""/>
            <p:cNvSpPr/>
            <p:nvPr/>
          </p:nvSpPr>
          <p:spPr>
            <a:xfrm>
              <a:off x="758880" y="4667400"/>
              <a:ext cx="595080" cy="706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569240" y="5432400"/>
              <a:ext cx="13982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pulldown]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620640" y="4773600"/>
              <a:ext cx="251928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654120" y="5268960"/>
              <a:ext cx="253836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1538640" y="4195800"/>
              <a:ext cx="11073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pullup]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744280" y="4943520"/>
              <a:ext cx="60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 rot="16200000">
              <a:off x="567000" y="3832200"/>
              <a:ext cx="62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1860480" y="4664160"/>
              <a:ext cx="596880" cy="709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9" name=""/>
          <p:cNvGrpSpPr/>
          <p:nvPr/>
        </p:nvGrpSpPr>
        <p:grpSpPr>
          <a:xfrm>
            <a:off x="3807720" y="866880"/>
            <a:ext cx="5038920" cy="2613600"/>
            <a:chOff x="3807720" y="866880"/>
            <a:chExt cx="5038920" cy="2613600"/>
          </a:xfrm>
        </p:grpSpPr>
        <p:grpSp>
          <p:nvGrpSpPr>
            <p:cNvPr id="6480" name=""/>
            <p:cNvGrpSpPr/>
            <p:nvPr/>
          </p:nvGrpSpPr>
          <p:grpSpPr>
            <a:xfrm>
              <a:off x="3839400" y="1287360"/>
              <a:ext cx="5007240" cy="1369080"/>
              <a:chOff x="3839400" y="1287360"/>
              <a:chExt cx="5007240" cy="1369080"/>
            </a:xfrm>
          </p:grpSpPr>
          <p:sp>
            <p:nvSpPr>
              <p:cNvPr id="6481" name=""/>
              <p:cNvSpPr/>
              <p:nvPr/>
            </p:nvSpPr>
            <p:spPr>
              <a:xfrm>
                <a:off x="3839400" y="1287360"/>
                <a:ext cx="50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Ramp time correct, only ramp swing wro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028120" y="1647720"/>
                <a:ext cx="30168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v/dt_r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.159V / 85.2p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v/dt_f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.159V / 81.9ps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3" name=""/>
            <p:cNvSpPr/>
            <p:nvPr/>
          </p:nvSpPr>
          <p:spPr>
            <a:xfrm>
              <a:off x="4912200" y="3119400"/>
              <a:ext cx="2904120" cy="3610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hange only voltage sw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6058080" y="2520720"/>
              <a:ext cx="804600" cy="721440"/>
            </a:xfrm>
            <a:prstGeom prst="leftRightArrow">
              <a:avLst>
                <a:gd name="adj1" fmla="val 50000"/>
                <a:gd name="adj2" fmla="val 22202"/>
              </a:avLst>
            </a:prstGeom>
            <a:solidFill>
              <a:srgbClr val="ff9900"/>
            </a:solidFill>
            <a:ln w="19080">
              <a:solidFill>
                <a:srgbClr val="66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6004080" y="1569960"/>
              <a:ext cx="842760" cy="5000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6006960" y="2181240"/>
              <a:ext cx="843120" cy="5000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015320" y="2212920"/>
              <a:ext cx="842760" cy="50004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008840" y="1587600"/>
              <a:ext cx="842760" cy="50004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807720" y="866880"/>
              <a:ext cx="1291320" cy="48096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tion 1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0" name=""/>
          <p:cNvGrpSpPr/>
          <p:nvPr/>
        </p:nvGrpSpPr>
        <p:grpSpPr>
          <a:xfrm>
            <a:off x="3875760" y="3576960"/>
            <a:ext cx="4882320" cy="2621520"/>
            <a:chOff x="3875760" y="3576960"/>
            <a:chExt cx="4882320" cy="2621520"/>
          </a:xfrm>
        </p:grpSpPr>
        <p:grpSp>
          <p:nvGrpSpPr>
            <p:cNvPr id="6491" name=""/>
            <p:cNvGrpSpPr/>
            <p:nvPr/>
          </p:nvGrpSpPr>
          <p:grpSpPr>
            <a:xfrm>
              <a:off x="3879000" y="3968640"/>
              <a:ext cx="4879080" cy="1438920"/>
              <a:chOff x="3879000" y="3968640"/>
              <a:chExt cx="4879080" cy="1438920"/>
            </a:xfrm>
          </p:grpSpPr>
          <p:sp>
            <p:nvSpPr>
              <p:cNvPr id="6492" name=""/>
              <p:cNvSpPr/>
              <p:nvPr/>
            </p:nvSpPr>
            <p:spPr>
              <a:xfrm>
                <a:off x="3879000" y="3968640"/>
                <a:ext cx="487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Ramp time wrong, and ramp swing wro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4994640" y="4398840"/>
                <a:ext cx="3158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v/dt_r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.159V / 170.4p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v/dt_f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.159V / 163.8ps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4" name=""/>
            <p:cNvSpPr/>
            <p:nvPr/>
          </p:nvSpPr>
          <p:spPr>
            <a:xfrm>
              <a:off x="4824720" y="5837400"/>
              <a:ext cx="3425400" cy="3610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hange  voltage swing and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6010200" y="5271840"/>
              <a:ext cx="804960" cy="721440"/>
            </a:xfrm>
            <a:prstGeom prst="leftRightArrow">
              <a:avLst>
                <a:gd name="adj1" fmla="val 50000"/>
                <a:gd name="adj2" fmla="val 22212"/>
              </a:avLst>
            </a:prstGeom>
            <a:solidFill>
              <a:srgbClr val="ff9900"/>
            </a:solidFill>
            <a:ln w="19080">
              <a:solidFill>
                <a:srgbClr val="66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5979960" y="4923000"/>
              <a:ext cx="843120" cy="5000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6986520" y="4975200"/>
              <a:ext cx="935280" cy="5000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5994360" y="4317840"/>
              <a:ext cx="843120" cy="500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7020000" y="4357800"/>
              <a:ext cx="934920" cy="5000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7048440" y="5284800"/>
              <a:ext cx="804960" cy="721800"/>
            </a:xfrm>
            <a:prstGeom prst="leftRightArrow">
              <a:avLst>
                <a:gd name="adj1" fmla="val 50000"/>
                <a:gd name="adj2" fmla="val 22201"/>
              </a:avLst>
            </a:prstGeom>
            <a:solidFill>
              <a:srgbClr val="ff9900">
                <a:alpha val="50000"/>
              </a:srgbClr>
            </a:solidFill>
            <a:ln w="19080">
              <a:solidFill>
                <a:srgbClr val="66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‘*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875760" y="3576960"/>
              <a:ext cx="1291320" cy="48096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tion 2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2" name=""/>
          <p:cNvGrpSpPr/>
          <p:nvPr/>
        </p:nvGrpSpPr>
        <p:grpSpPr>
          <a:xfrm>
            <a:off x="335520" y="1893960"/>
            <a:ext cx="3213360" cy="1684080"/>
            <a:chOff x="335520" y="1893960"/>
            <a:chExt cx="3213360" cy="1684080"/>
          </a:xfrm>
        </p:grpSpPr>
        <p:sp>
          <p:nvSpPr>
            <p:cNvPr id="6503" name=""/>
            <p:cNvSpPr/>
            <p:nvPr/>
          </p:nvSpPr>
          <p:spPr>
            <a:xfrm>
              <a:off x="335520" y="1893960"/>
              <a:ext cx="3213360" cy="824040"/>
            </a:xfrm>
            <a:prstGeom prst="rect">
              <a:avLst/>
            </a:prstGeom>
            <a:noFill/>
            <a:ln cap="rnd" w="9360">
              <a:solidFill>
                <a:srgbClr val="66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v_r 0-100 %    0.129V    0.265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v_f 0-100 %    0.135V    0.265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4" name=""/>
            <p:cNvGrpSpPr/>
            <p:nvPr/>
          </p:nvGrpSpPr>
          <p:grpSpPr>
            <a:xfrm>
              <a:off x="1704600" y="2696760"/>
              <a:ext cx="654840" cy="881280"/>
              <a:chOff x="1704600" y="2696760"/>
              <a:chExt cx="654840" cy="881280"/>
            </a:xfrm>
          </p:grpSpPr>
          <p:sp>
            <p:nvSpPr>
              <p:cNvPr id="6505" name=""/>
              <p:cNvSpPr/>
              <p:nvPr/>
            </p:nvSpPr>
            <p:spPr>
              <a:xfrm>
                <a:off x="1861920" y="2696760"/>
                <a:ext cx="340920" cy="659160"/>
              </a:xfrm>
              <a:prstGeom prst="leftRightArrow">
                <a:avLst>
                  <a:gd name="adj1" fmla="val 50000"/>
                  <a:gd name="adj2" fmla="val 19907"/>
                </a:avLst>
              </a:prstGeom>
              <a:solidFill>
                <a:srgbClr val="00ccff"/>
              </a:solidFill>
              <a:ln cap="rnd" w="9360">
                <a:solidFill>
                  <a:srgbClr val="6600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1704600" y="3278160"/>
                <a:ext cx="654840" cy="299880"/>
              </a:xfrm>
              <a:prstGeom prst="rect">
                <a:avLst/>
              </a:prstGeom>
              <a:noFill/>
              <a:ln cap="rnd" w="9360">
                <a:solidFill>
                  <a:srgbClr val="6600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Ram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7" name=""/>
            <p:cNvGrpSpPr/>
            <p:nvPr/>
          </p:nvGrpSpPr>
          <p:grpSpPr>
            <a:xfrm>
              <a:off x="2554200" y="2679120"/>
              <a:ext cx="668520" cy="856080"/>
              <a:chOff x="2554200" y="2679120"/>
              <a:chExt cx="668520" cy="856080"/>
            </a:xfrm>
          </p:grpSpPr>
          <p:sp>
            <p:nvSpPr>
              <p:cNvPr id="6508" name=""/>
              <p:cNvSpPr/>
              <p:nvPr/>
            </p:nvSpPr>
            <p:spPr>
              <a:xfrm>
                <a:off x="2554200" y="2679120"/>
                <a:ext cx="642960" cy="659520"/>
              </a:xfrm>
              <a:prstGeom prst="leftRightArrow">
                <a:avLst>
                  <a:gd name="adj1" fmla="val 50000"/>
                  <a:gd name="adj2" fmla="val 19907"/>
                </a:avLst>
              </a:prstGeom>
              <a:solidFill>
                <a:srgbClr val="ff9900"/>
              </a:solidFill>
              <a:ln cap="rnd" w="9360">
                <a:solidFill>
                  <a:srgbClr val="6600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pPr algn="ctr"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2593800" y="3235320"/>
                <a:ext cx="628920" cy="299880"/>
              </a:xfrm>
              <a:prstGeom prst="rect">
                <a:avLst/>
              </a:prstGeom>
              <a:noFill/>
              <a:ln cap="rnd" w="9360">
                <a:solidFill>
                  <a:srgbClr val="6600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6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6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6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6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6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6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0" name="PlaceHolder 1"/>
          <p:cNvSpPr>
            <a:spLocks noGrp="1"/>
          </p:cNvSpPr>
          <p:nvPr>
            <p:ph type="title"/>
          </p:nvPr>
        </p:nvSpPr>
        <p:spPr>
          <a:xfrm>
            <a:off x="1252080" y="385920"/>
            <a:ext cx="6032520" cy="8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Using a corrected ramp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6511" name=""/>
          <p:cNvGrpSpPr/>
          <p:nvPr/>
        </p:nvGrpSpPr>
        <p:grpSpPr>
          <a:xfrm>
            <a:off x="7886880" y="-307440"/>
            <a:ext cx="1252440" cy="1362240"/>
            <a:chOff x="7886880" y="-307440"/>
            <a:chExt cx="1252440" cy="1362240"/>
          </a:xfrm>
        </p:grpSpPr>
        <p:sp>
          <p:nvSpPr>
            <p:cNvPr id="6512" name=""/>
            <p:cNvSpPr/>
            <p:nvPr/>
          </p:nvSpPr>
          <p:spPr>
            <a:xfrm>
              <a:off x="7886880" y="-307440"/>
              <a:ext cx="1252440" cy="13622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Driver with ramp on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3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6514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6515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6516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7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8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9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0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1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2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6523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4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5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6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7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8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6529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0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1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3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4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5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6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6537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6538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9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0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1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6542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3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4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5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6546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7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8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9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6550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1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2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53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4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6555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0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3" name="" descr=""/>
          <p:cNvPicPr/>
          <p:nvPr/>
        </p:nvPicPr>
        <p:blipFill>
          <a:blip r:embed="rId1"/>
          <a:stretch/>
        </p:blipFill>
        <p:spPr>
          <a:xfrm>
            <a:off x="255600" y="1077840"/>
            <a:ext cx="3286080" cy="2465640"/>
          </a:xfrm>
          <a:prstGeom prst="rect">
            <a:avLst/>
          </a:prstGeom>
          <a:ln w="0">
            <a:noFill/>
          </a:ln>
        </p:spPr>
      </p:pic>
      <p:grpSp>
        <p:nvGrpSpPr>
          <p:cNvPr id="6564" name=""/>
          <p:cNvGrpSpPr/>
          <p:nvPr/>
        </p:nvGrpSpPr>
        <p:grpSpPr>
          <a:xfrm>
            <a:off x="4714920" y="1446120"/>
            <a:ext cx="4214880" cy="4243320"/>
            <a:chOff x="4714920" y="1446120"/>
            <a:chExt cx="4214880" cy="4243320"/>
          </a:xfrm>
        </p:grpSpPr>
        <p:pic>
          <p:nvPicPr>
            <p:cNvPr id="6565" name="" descr=""/>
            <p:cNvPicPr/>
            <p:nvPr/>
          </p:nvPicPr>
          <p:blipFill>
            <a:blip r:embed="rId2"/>
            <a:stretch/>
          </p:blipFill>
          <p:spPr>
            <a:xfrm>
              <a:off x="4714920" y="2527200"/>
              <a:ext cx="4214880" cy="31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6" name=""/>
            <p:cNvSpPr/>
            <p:nvPr/>
          </p:nvSpPr>
          <p:spPr>
            <a:xfrm>
              <a:off x="4802040" y="1446120"/>
              <a:ext cx="41054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Monotype Corsiva"/>
                </a:rPr>
                <a:t>!!  After using a wrong ramp   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67" name="" descr=""/>
          <p:cNvPicPr/>
          <p:nvPr/>
        </p:nvPicPr>
        <p:blipFill>
          <a:blip r:embed="rId3"/>
          <a:stretch/>
        </p:blipFill>
        <p:spPr>
          <a:xfrm>
            <a:off x="270000" y="4016520"/>
            <a:ext cx="3282840" cy="2463480"/>
          </a:xfrm>
          <a:prstGeom prst="rect">
            <a:avLst/>
          </a:prstGeom>
          <a:ln w="0">
            <a:noFill/>
          </a:ln>
        </p:spPr>
      </p:pic>
      <p:sp>
        <p:nvSpPr>
          <p:cNvPr id="6568" name=""/>
          <p:cNvSpPr/>
          <p:nvPr/>
        </p:nvSpPr>
        <p:spPr>
          <a:xfrm>
            <a:off x="182520" y="3078000"/>
            <a:ext cx="38466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onotype Corsiva"/>
              </a:rPr>
              <a:t>!!  Always have a closer l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onotype Corsiva"/>
              </a:rPr>
              <a:t>at the ramp  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6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6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6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6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9" name=""/>
          <p:cNvSpPr/>
          <p:nvPr/>
        </p:nvSpPr>
        <p:spPr>
          <a:xfrm>
            <a:off x="1136520" y="4479840"/>
            <a:ext cx="7410600" cy="132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3430440"/>
          </a:xfrm>
          <a:prstGeom prst="rect">
            <a:avLst/>
          </a:prstGeom>
          <a:ln w="0">
            <a:noFill/>
          </a:ln>
        </p:spPr>
      </p:pic>
      <p:sp>
        <p:nvSpPr>
          <p:cNvPr id="6571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6572" name="" descr=""/>
          <p:cNvPicPr/>
          <p:nvPr/>
        </p:nvPicPr>
        <p:blipFill>
          <a:blip r:embed="rId2"/>
          <a:stretch/>
        </p:blipFill>
        <p:spPr>
          <a:xfrm>
            <a:off x="4041720" y="6635880"/>
            <a:ext cx="528840" cy="222120"/>
          </a:xfrm>
          <a:prstGeom prst="rect">
            <a:avLst/>
          </a:prstGeom>
          <a:ln w="0">
            <a:noFill/>
          </a:ln>
        </p:spPr>
      </p:pic>
      <p:grpSp>
        <p:nvGrpSpPr>
          <p:cNvPr id="6573" name=""/>
          <p:cNvGrpSpPr/>
          <p:nvPr/>
        </p:nvGrpSpPr>
        <p:grpSpPr>
          <a:xfrm>
            <a:off x="6039000" y="2282040"/>
            <a:ext cx="2522160" cy="3539160"/>
            <a:chOff x="6039000" y="2282040"/>
            <a:chExt cx="2522160" cy="3539160"/>
          </a:xfrm>
        </p:grpSpPr>
        <p:grpSp>
          <p:nvGrpSpPr>
            <p:cNvPr id="6574" name=""/>
            <p:cNvGrpSpPr/>
            <p:nvPr/>
          </p:nvGrpSpPr>
          <p:grpSpPr>
            <a:xfrm>
              <a:off x="6039000" y="3292560"/>
              <a:ext cx="2522160" cy="2528640"/>
              <a:chOff x="6039000" y="3292560"/>
              <a:chExt cx="2522160" cy="2528640"/>
            </a:xfrm>
          </p:grpSpPr>
          <p:grpSp>
            <p:nvGrpSpPr>
              <p:cNvPr id="6575" name=""/>
              <p:cNvGrpSpPr/>
              <p:nvPr/>
            </p:nvGrpSpPr>
            <p:grpSpPr>
              <a:xfrm>
                <a:off x="6039000" y="4152960"/>
                <a:ext cx="2522160" cy="1668240"/>
                <a:chOff x="6039000" y="4152960"/>
                <a:chExt cx="2522160" cy="1668240"/>
              </a:xfrm>
            </p:grpSpPr>
            <p:grpSp>
              <p:nvGrpSpPr>
                <p:cNvPr id="6576" name=""/>
                <p:cNvGrpSpPr/>
                <p:nvPr/>
              </p:nvGrpSpPr>
              <p:grpSpPr>
                <a:xfrm>
                  <a:off x="6039000" y="5491080"/>
                  <a:ext cx="2522160" cy="330120"/>
                  <a:chOff x="6039000" y="5491080"/>
                  <a:chExt cx="2522160" cy="330120"/>
                </a:xfrm>
              </p:grpSpPr>
              <p:sp>
                <p:nvSpPr>
                  <p:cNvPr id="6577" name=""/>
                  <p:cNvSpPr/>
                  <p:nvPr/>
                </p:nvSpPr>
                <p:spPr>
                  <a:xfrm>
                    <a:off x="645984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8" name=""/>
                  <p:cNvSpPr/>
                  <p:nvPr/>
                </p:nvSpPr>
                <p:spPr>
                  <a:xfrm>
                    <a:off x="730152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9" name=""/>
                  <p:cNvSpPr/>
                  <p:nvPr/>
                </p:nvSpPr>
                <p:spPr>
                  <a:xfrm>
                    <a:off x="772236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0" name=""/>
                  <p:cNvSpPr/>
                  <p:nvPr/>
                </p:nvSpPr>
                <p:spPr>
                  <a:xfrm>
                    <a:off x="814284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1" name=""/>
                  <p:cNvSpPr/>
                  <p:nvPr/>
                </p:nvSpPr>
                <p:spPr>
                  <a:xfrm>
                    <a:off x="688032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2" name=""/>
                  <p:cNvSpPr/>
                  <p:nvPr/>
                </p:nvSpPr>
                <p:spPr>
                  <a:xfrm>
                    <a:off x="6039000" y="549108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3" name=""/>
                <p:cNvGrpSpPr/>
                <p:nvPr/>
              </p:nvGrpSpPr>
              <p:grpSpPr>
                <a:xfrm>
                  <a:off x="6249960" y="5157720"/>
                  <a:ext cx="2101320" cy="330120"/>
                  <a:chOff x="6249960" y="5157720"/>
                  <a:chExt cx="2101320" cy="330120"/>
                </a:xfrm>
              </p:grpSpPr>
              <p:sp>
                <p:nvSpPr>
                  <p:cNvPr id="6584" name=""/>
                  <p:cNvSpPr/>
                  <p:nvPr/>
                </p:nvSpPr>
                <p:spPr>
                  <a:xfrm>
                    <a:off x="624996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5" name=""/>
                  <p:cNvSpPr/>
                  <p:nvPr/>
                </p:nvSpPr>
                <p:spPr>
                  <a:xfrm>
                    <a:off x="709128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6" name=""/>
                  <p:cNvSpPr/>
                  <p:nvPr/>
                </p:nvSpPr>
                <p:spPr>
                  <a:xfrm>
                    <a:off x="751248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7" name=""/>
                  <p:cNvSpPr/>
                  <p:nvPr/>
                </p:nvSpPr>
                <p:spPr>
                  <a:xfrm>
                    <a:off x="793296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"/>
                  <p:cNvSpPr/>
                  <p:nvPr/>
                </p:nvSpPr>
                <p:spPr>
                  <a:xfrm>
                    <a:off x="6670440" y="515772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"/>
                <p:cNvSpPr/>
                <p:nvPr/>
              </p:nvSpPr>
              <p:spPr>
                <a:xfrm>
                  <a:off x="6881040" y="482436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7723080" y="482436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7301880" y="482436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6460200" y="482436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6671520" y="4491000"/>
                  <a:ext cx="41904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7513560" y="449100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7093080" y="4491000"/>
                  <a:ext cx="418320" cy="330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6" name=""/>
                <p:cNvGrpSpPr/>
                <p:nvPr/>
              </p:nvGrpSpPr>
              <p:grpSpPr>
                <a:xfrm>
                  <a:off x="6885720" y="4152960"/>
                  <a:ext cx="839880" cy="330120"/>
                  <a:chOff x="6885720" y="4152960"/>
                  <a:chExt cx="839880" cy="330120"/>
                </a:xfrm>
              </p:grpSpPr>
              <p:sp>
                <p:nvSpPr>
                  <p:cNvPr id="6597" name=""/>
                  <p:cNvSpPr/>
                  <p:nvPr/>
                </p:nvSpPr>
                <p:spPr>
                  <a:xfrm>
                    <a:off x="6885720" y="4152960"/>
                    <a:ext cx="4190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8" name=""/>
                  <p:cNvSpPr/>
                  <p:nvPr/>
                </p:nvSpPr>
                <p:spPr>
                  <a:xfrm>
                    <a:off x="7307280" y="4152960"/>
                    <a:ext cx="41832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9" name=""/>
              <p:cNvGrpSpPr/>
              <p:nvPr/>
            </p:nvGrpSpPr>
            <p:grpSpPr>
              <a:xfrm>
                <a:off x="7132680" y="4152960"/>
                <a:ext cx="334800" cy="1652040"/>
                <a:chOff x="7132680" y="4152960"/>
                <a:chExt cx="334800" cy="1652040"/>
              </a:xfrm>
            </p:grpSpPr>
            <p:grpSp>
              <p:nvGrpSpPr>
                <p:cNvPr id="6600" name=""/>
                <p:cNvGrpSpPr/>
                <p:nvPr/>
              </p:nvGrpSpPr>
              <p:grpSpPr>
                <a:xfrm>
                  <a:off x="7132680" y="4152960"/>
                  <a:ext cx="334800" cy="829440"/>
                  <a:chOff x="7132680" y="4152960"/>
                  <a:chExt cx="334800" cy="829440"/>
                </a:xfrm>
              </p:grpSpPr>
              <p:grpSp>
                <p:nvGrpSpPr>
                  <p:cNvPr id="6601" name=""/>
                  <p:cNvGrpSpPr/>
                  <p:nvPr/>
                </p:nvGrpSpPr>
                <p:grpSpPr>
                  <a:xfrm>
                    <a:off x="7132680" y="4152960"/>
                    <a:ext cx="334800" cy="165600"/>
                    <a:chOff x="7132680" y="4152960"/>
                    <a:chExt cx="334800" cy="165600"/>
                  </a:xfrm>
                </p:grpSpPr>
                <p:sp>
                  <p:nvSpPr>
                    <p:cNvPr id="6602" name=""/>
                    <p:cNvSpPr/>
                    <p:nvPr/>
                  </p:nvSpPr>
                  <p:spPr>
                    <a:xfrm>
                      <a:off x="7132680" y="41529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3" name=""/>
                    <p:cNvSpPr/>
                    <p:nvPr/>
                  </p:nvSpPr>
                  <p:spPr>
                    <a:xfrm>
                      <a:off x="7132680" y="42062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4" name=""/>
                    <p:cNvSpPr/>
                    <p:nvPr/>
                  </p:nvSpPr>
                  <p:spPr>
                    <a:xfrm>
                      <a:off x="7132680" y="42624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5" name=""/>
                  <p:cNvGrpSpPr/>
                  <p:nvPr/>
                </p:nvGrpSpPr>
                <p:grpSpPr>
                  <a:xfrm>
                    <a:off x="7132680" y="4319640"/>
                    <a:ext cx="334800" cy="165600"/>
                    <a:chOff x="7132680" y="4319640"/>
                    <a:chExt cx="334800" cy="165600"/>
                  </a:xfrm>
                </p:grpSpPr>
                <p:sp>
                  <p:nvSpPr>
                    <p:cNvPr id="6606" name=""/>
                    <p:cNvSpPr/>
                    <p:nvPr/>
                  </p:nvSpPr>
                  <p:spPr>
                    <a:xfrm>
                      <a:off x="7132680" y="43196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7" name=""/>
                    <p:cNvSpPr/>
                    <p:nvPr/>
                  </p:nvSpPr>
                  <p:spPr>
                    <a:xfrm>
                      <a:off x="7132680" y="43729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8" name=""/>
                    <p:cNvSpPr/>
                    <p:nvPr/>
                  </p:nvSpPr>
                  <p:spPr>
                    <a:xfrm>
                      <a:off x="7132680" y="44290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9" name=""/>
                  <p:cNvGrpSpPr/>
                  <p:nvPr/>
                </p:nvGrpSpPr>
                <p:grpSpPr>
                  <a:xfrm>
                    <a:off x="7132680" y="4486320"/>
                    <a:ext cx="334800" cy="165600"/>
                    <a:chOff x="7132680" y="4486320"/>
                    <a:chExt cx="334800" cy="165600"/>
                  </a:xfrm>
                </p:grpSpPr>
                <p:sp>
                  <p:nvSpPr>
                    <p:cNvPr id="6610" name=""/>
                    <p:cNvSpPr/>
                    <p:nvPr/>
                  </p:nvSpPr>
                  <p:spPr>
                    <a:xfrm>
                      <a:off x="7132680" y="44863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1" name=""/>
                    <p:cNvSpPr/>
                    <p:nvPr/>
                  </p:nvSpPr>
                  <p:spPr>
                    <a:xfrm>
                      <a:off x="7132680" y="4539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2" name=""/>
                    <p:cNvSpPr/>
                    <p:nvPr/>
                  </p:nvSpPr>
                  <p:spPr>
                    <a:xfrm>
                      <a:off x="7132680" y="45957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3" name=""/>
                  <p:cNvGrpSpPr/>
                  <p:nvPr/>
                </p:nvGrpSpPr>
                <p:grpSpPr>
                  <a:xfrm>
                    <a:off x="7132680" y="4653000"/>
                    <a:ext cx="334800" cy="165600"/>
                    <a:chOff x="7132680" y="4653000"/>
                    <a:chExt cx="334800" cy="165600"/>
                  </a:xfrm>
                </p:grpSpPr>
                <p:sp>
                  <p:nvSpPr>
                    <p:cNvPr id="6614" name=""/>
                    <p:cNvSpPr/>
                    <p:nvPr/>
                  </p:nvSpPr>
                  <p:spPr>
                    <a:xfrm>
                      <a:off x="7132680" y="46530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5" name=""/>
                    <p:cNvSpPr/>
                    <p:nvPr/>
                  </p:nvSpPr>
                  <p:spPr>
                    <a:xfrm>
                      <a:off x="7132680" y="47062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6" name=""/>
                    <p:cNvSpPr/>
                    <p:nvPr/>
                  </p:nvSpPr>
                  <p:spPr>
                    <a:xfrm>
                      <a:off x="7132680" y="47624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7" name=""/>
                  <p:cNvGrpSpPr/>
                  <p:nvPr/>
                </p:nvGrpSpPr>
                <p:grpSpPr>
                  <a:xfrm>
                    <a:off x="7132680" y="4816800"/>
                    <a:ext cx="334800" cy="165600"/>
                    <a:chOff x="7132680" y="4816800"/>
                    <a:chExt cx="334800" cy="165600"/>
                  </a:xfrm>
                </p:grpSpPr>
                <p:sp>
                  <p:nvSpPr>
                    <p:cNvPr id="6618" name=""/>
                    <p:cNvSpPr/>
                    <p:nvPr/>
                  </p:nvSpPr>
                  <p:spPr>
                    <a:xfrm>
                      <a:off x="7132680" y="48168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9" name=""/>
                    <p:cNvSpPr/>
                    <p:nvPr/>
                  </p:nvSpPr>
                  <p:spPr>
                    <a:xfrm>
                      <a:off x="7132680" y="48700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0" name=""/>
                    <p:cNvSpPr/>
                    <p:nvPr/>
                  </p:nvSpPr>
                  <p:spPr>
                    <a:xfrm>
                      <a:off x="7132680" y="49262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21" name=""/>
                <p:cNvGrpSpPr/>
                <p:nvPr/>
              </p:nvGrpSpPr>
              <p:grpSpPr>
                <a:xfrm>
                  <a:off x="7132680" y="4975560"/>
                  <a:ext cx="334800" cy="829440"/>
                  <a:chOff x="7132680" y="4975560"/>
                  <a:chExt cx="334800" cy="829440"/>
                </a:xfrm>
              </p:grpSpPr>
              <p:grpSp>
                <p:nvGrpSpPr>
                  <p:cNvPr id="6622" name=""/>
                  <p:cNvGrpSpPr/>
                  <p:nvPr/>
                </p:nvGrpSpPr>
                <p:grpSpPr>
                  <a:xfrm>
                    <a:off x="7132680" y="4975560"/>
                    <a:ext cx="334800" cy="165600"/>
                    <a:chOff x="7132680" y="4975560"/>
                    <a:chExt cx="334800" cy="165600"/>
                  </a:xfrm>
                </p:grpSpPr>
                <p:sp>
                  <p:nvSpPr>
                    <p:cNvPr id="6623" name=""/>
                    <p:cNvSpPr/>
                    <p:nvPr/>
                  </p:nvSpPr>
                  <p:spPr>
                    <a:xfrm>
                      <a:off x="7132680" y="49755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4" name=""/>
                    <p:cNvSpPr/>
                    <p:nvPr/>
                  </p:nvSpPr>
                  <p:spPr>
                    <a:xfrm>
                      <a:off x="7132680" y="50288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5" name=""/>
                    <p:cNvSpPr/>
                    <p:nvPr/>
                  </p:nvSpPr>
                  <p:spPr>
                    <a:xfrm>
                      <a:off x="7132680" y="50850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6" name=""/>
                  <p:cNvGrpSpPr/>
                  <p:nvPr/>
                </p:nvGrpSpPr>
                <p:grpSpPr>
                  <a:xfrm>
                    <a:off x="7132680" y="5142240"/>
                    <a:ext cx="334800" cy="165600"/>
                    <a:chOff x="7132680" y="5142240"/>
                    <a:chExt cx="334800" cy="165600"/>
                  </a:xfrm>
                </p:grpSpPr>
                <p:sp>
                  <p:nvSpPr>
                    <p:cNvPr id="6627" name=""/>
                    <p:cNvSpPr/>
                    <p:nvPr/>
                  </p:nvSpPr>
                  <p:spPr>
                    <a:xfrm>
                      <a:off x="7132680" y="51422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8" name=""/>
                    <p:cNvSpPr/>
                    <p:nvPr/>
                  </p:nvSpPr>
                  <p:spPr>
                    <a:xfrm>
                      <a:off x="7132680" y="51955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9" name=""/>
                    <p:cNvSpPr/>
                    <p:nvPr/>
                  </p:nvSpPr>
                  <p:spPr>
                    <a:xfrm>
                      <a:off x="7132680" y="52516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0" name=""/>
                  <p:cNvGrpSpPr/>
                  <p:nvPr/>
                </p:nvGrpSpPr>
                <p:grpSpPr>
                  <a:xfrm>
                    <a:off x="7132680" y="5308920"/>
                    <a:ext cx="334800" cy="165600"/>
                    <a:chOff x="7132680" y="5308920"/>
                    <a:chExt cx="334800" cy="165600"/>
                  </a:xfrm>
                </p:grpSpPr>
                <p:sp>
                  <p:nvSpPr>
                    <p:cNvPr id="6631" name=""/>
                    <p:cNvSpPr/>
                    <p:nvPr/>
                  </p:nvSpPr>
                  <p:spPr>
                    <a:xfrm>
                      <a:off x="7132680" y="53089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2" name=""/>
                    <p:cNvSpPr/>
                    <p:nvPr/>
                  </p:nvSpPr>
                  <p:spPr>
                    <a:xfrm>
                      <a:off x="7132680" y="53622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3" name=""/>
                    <p:cNvSpPr/>
                    <p:nvPr/>
                  </p:nvSpPr>
                  <p:spPr>
                    <a:xfrm>
                      <a:off x="7132680" y="54183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4" name=""/>
                  <p:cNvGrpSpPr/>
                  <p:nvPr/>
                </p:nvGrpSpPr>
                <p:grpSpPr>
                  <a:xfrm>
                    <a:off x="7132680" y="5475600"/>
                    <a:ext cx="334800" cy="165600"/>
                    <a:chOff x="7132680" y="5475600"/>
                    <a:chExt cx="334800" cy="165600"/>
                  </a:xfrm>
                </p:grpSpPr>
                <p:sp>
                  <p:nvSpPr>
                    <p:cNvPr id="6635" name=""/>
                    <p:cNvSpPr/>
                    <p:nvPr/>
                  </p:nvSpPr>
                  <p:spPr>
                    <a:xfrm>
                      <a:off x="7132680" y="5475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6" name=""/>
                    <p:cNvSpPr/>
                    <p:nvPr/>
                  </p:nvSpPr>
                  <p:spPr>
                    <a:xfrm>
                      <a:off x="7132680" y="55288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7" name=""/>
                    <p:cNvSpPr/>
                    <p:nvPr/>
                  </p:nvSpPr>
                  <p:spPr>
                    <a:xfrm>
                      <a:off x="7132680" y="55850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8" name=""/>
                  <p:cNvGrpSpPr/>
                  <p:nvPr/>
                </p:nvGrpSpPr>
                <p:grpSpPr>
                  <a:xfrm>
                    <a:off x="7132680" y="5639400"/>
                    <a:ext cx="334800" cy="165600"/>
                    <a:chOff x="7132680" y="5639400"/>
                    <a:chExt cx="334800" cy="165600"/>
                  </a:xfrm>
                </p:grpSpPr>
                <p:sp>
                  <p:nvSpPr>
                    <p:cNvPr id="6639" name=""/>
                    <p:cNvSpPr/>
                    <p:nvPr/>
                  </p:nvSpPr>
                  <p:spPr>
                    <a:xfrm>
                      <a:off x="7132680" y="56394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0" name=""/>
                    <p:cNvSpPr/>
                    <p:nvPr/>
                  </p:nvSpPr>
                  <p:spPr>
                    <a:xfrm>
                      <a:off x="7132680" y="56926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1" name=""/>
                    <p:cNvSpPr/>
                    <p:nvPr/>
                  </p:nvSpPr>
                  <p:spPr>
                    <a:xfrm>
                      <a:off x="7132680" y="57488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642" name=""/>
              <p:cNvGrpSpPr/>
              <p:nvPr/>
            </p:nvGrpSpPr>
            <p:grpSpPr>
              <a:xfrm>
                <a:off x="7026480" y="3292560"/>
                <a:ext cx="549360" cy="861480"/>
                <a:chOff x="7026480" y="3292560"/>
                <a:chExt cx="549360" cy="861480"/>
              </a:xfrm>
            </p:grpSpPr>
            <p:grpSp>
              <p:nvGrpSpPr>
                <p:cNvPr id="6643" name=""/>
                <p:cNvGrpSpPr/>
                <p:nvPr/>
              </p:nvGrpSpPr>
              <p:grpSpPr>
                <a:xfrm>
                  <a:off x="7026480" y="3583080"/>
                  <a:ext cx="549360" cy="570960"/>
                  <a:chOff x="7026480" y="3583080"/>
                  <a:chExt cx="549360" cy="570960"/>
                </a:xfrm>
              </p:grpSpPr>
              <p:sp>
                <p:nvSpPr>
                  <p:cNvPr id="6644" name=""/>
                  <p:cNvSpPr/>
                  <p:nvPr/>
                </p:nvSpPr>
                <p:spPr>
                  <a:xfrm>
                    <a:off x="7026480" y="3832200"/>
                    <a:ext cx="549360" cy="522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45" name=""/>
                  <p:cNvGrpSpPr/>
                  <p:nvPr/>
                </p:nvGrpSpPr>
                <p:grpSpPr>
                  <a:xfrm>
                    <a:off x="7036920" y="3583080"/>
                    <a:ext cx="527400" cy="570960"/>
                    <a:chOff x="7036920" y="3583080"/>
                    <a:chExt cx="527400" cy="570960"/>
                  </a:xfrm>
                </p:grpSpPr>
                <p:sp>
                  <p:nvSpPr>
                    <p:cNvPr id="6646" name=""/>
                    <p:cNvSpPr/>
                    <p:nvPr/>
                  </p:nvSpPr>
                  <p:spPr>
                    <a:xfrm>
                      <a:off x="7040520" y="3859560"/>
                      <a:ext cx="519480" cy="29448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7" name=""/>
                    <p:cNvSpPr/>
                    <p:nvPr/>
                  </p:nvSpPr>
                  <p:spPr>
                    <a:xfrm flipV="1">
                      <a:off x="7036920" y="3632040"/>
                      <a:ext cx="527400" cy="200160"/>
                    </a:xfrm>
                    <a:custGeom>
                      <a:avLst/>
                      <a:gdLst>
                        <a:gd name="textAreaLeft" fmla="*/ 54720 w 527400"/>
                        <a:gd name="textAreaRight" fmla="*/ 472680 w 527400"/>
                        <a:gd name="textAreaTop" fmla="*/ 20880 h 200160"/>
                        <a:gd name="textAreaBottom" fmla="*/ 179280 h 200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8" name=""/>
                    <p:cNvSpPr/>
                    <p:nvPr/>
                  </p:nvSpPr>
                  <p:spPr>
                    <a:xfrm>
                      <a:off x="7052760" y="3583080"/>
                      <a:ext cx="492480" cy="489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49" name=""/>
                <p:cNvGrpSpPr/>
                <p:nvPr/>
              </p:nvGrpSpPr>
              <p:grpSpPr>
                <a:xfrm>
                  <a:off x="7128000" y="3292560"/>
                  <a:ext cx="344520" cy="288720"/>
                  <a:chOff x="7128000" y="3292560"/>
                  <a:chExt cx="344520" cy="288720"/>
                </a:xfrm>
              </p:grpSpPr>
              <p:sp>
                <p:nvSpPr>
                  <p:cNvPr id="6650" name=""/>
                  <p:cNvSpPr/>
                  <p:nvPr/>
                </p:nvSpPr>
                <p:spPr>
                  <a:xfrm>
                    <a:off x="712980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1" name=""/>
                  <p:cNvSpPr/>
                  <p:nvPr/>
                </p:nvSpPr>
                <p:spPr>
                  <a:xfrm>
                    <a:off x="720252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2" name=""/>
                  <p:cNvSpPr/>
                  <p:nvPr/>
                </p:nvSpPr>
                <p:spPr>
                  <a:xfrm>
                    <a:off x="727560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3" name=""/>
                  <p:cNvSpPr/>
                  <p:nvPr/>
                </p:nvSpPr>
                <p:spPr>
                  <a:xfrm>
                    <a:off x="735516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4" name=""/>
                  <p:cNvSpPr/>
                  <p:nvPr/>
                </p:nvSpPr>
                <p:spPr>
                  <a:xfrm>
                    <a:off x="7429680" y="3292560"/>
                    <a:ext cx="42840" cy="287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5" name=""/>
                  <p:cNvSpPr/>
                  <p:nvPr/>
                </p:nvSpPr>
                <p:spPr>
                  <a:xfrm>
                    <a:off x="7128000" y="341640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6" name=""/>
                  <p:cNvSpPr/>
                  <p:nvPr/>
                </p:nvSpPr>
                <p:spPr>
                  <a:xfrm>
                    <a:off x="7131240" y="350676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7" name=""/>
                  <p:cNvSpPr/>
                  <p:nvPr/>
                </p:nvSpPr>
                <p:spPr>
                  <a:xfrm>
                    <a:off x="7131240" y="358128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58" name=""/>
                <p:cNvSpPr/>
                <p:nvPr/>
              </p:nvSpPr>
              <p:spPr>
                <a:xfrm>
                  <a:off x="7091640" y="3857400"/>
                  <a:ext cx="82440" cy="2937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7423200" y="3854520"/>
                  <a:ext cx="82800" cy="2934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7229520" y="3911400"/>
                  <a:ext cx="142920" cy="23652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61" name=""/>
            <p:cNvSpPr/>
            <p:nvPr/>
          </p:nvSpPr>
          <p:spPr>
            <a:xfrm>
              <a:off x="6531840" y="2282040"/>
              <a:ext cx="1530360" cy="5220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2" name=""/>
          <p:cNvGrpSpPr/>
          <p:nvPr/>
        </p:nvGrpSpPr>
        <p:grpSpPr>
          <a:xfrm>
            <a:off x="1663560" y="3159720"/>
            <a:ext cx="2248200" cy="1695960"/>
            <a:chOff x="1663560" y="3159720"/>
            <a:chExt cx="2248200" cy="1695960"/>
          </a:xfrm>
        </p:grpSpPr>
        <p:grpSp>
          <p:nvGrpSpPr>
            <p:cNvPr id="6663" name=""/>
            <p:cNvGrpSpPr/>
            <p:nvPr/>
          </p:nvGrpSpPr>
          <p:grpSpPr>
            <a:xfrm>
              <a:off x="2465640" y="4050720"/>
              <a:ext cx="630360" cy="804960"/>
              <a:chOff x="2465640" y="4050720"/>
              <a:chExt cx="630360" cy="804960"/>
            </a:xfrm>
          </p:grpSpPr>
          <p:grpSp>
            <p:nvGrpSpPr>
              <p:cNvPr id="6664" name=""/>
              <p:cNvGrpSpPr/>
              <p:nvPr/>
            </p:nvGrpSpPr>
            <p:grpSpPr>
              <a:xfrm>
                <a:off x="2465640" y="4324680"/>
                <a:ext cx="630360" cy="531000"/>
                <a:chOff x="2465640" y="4324680"/>
                <a:chExt cx="630360" cy="531000"/>
              </a:xfrm>
            </p:grpSpPr>
            <p:grpSp>
              <p:nvGrpSpPr>
                <p:cNvPr id="6665" name=""/>
                <p:cNvGrpSpPr/>
                <p:nvPr/>
              </p:nvGrpSpPr>
              <p:grpSpPr>
                <a:xfrm>
                  <a:off x="2465640" y="4750560"/>
                  <a:ext cx="630360" cy="105120"/>
                  <a:chOff x="2465640" y="4750560"/>
                  <a:chExt cx="630360" cy="105120"/>
                </a:xfrm>
              </p:grpSpPr>
              <p:sp>
                <p:nvSpPr>
                  <p:cNvPr id="6666" name=""/>
                  <p:cNvSpPr/>
                  <p:nvPr/>
                </p:nvSpPr>
                <p:spPr>
                  <a:xfrm>
                    <a:off x="257076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7" name=""/>
                  <p:cNvSpPr/>
                  <p:nvPr/>
                </p:nvSpPr>
                <p:spPr>
                  <a:xfrm>
                    <a:off x="27810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8" name=""/>
                  <p:cNvSpPr/>
                  <p:nvPr/>
                </p:nvSpPr>
                <p:spPr>
                  <a:xfrm>
                    <a:off x="28864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9" name=""/>
                  <p:cNvSpPr/>
                  <p:nvPr/>
                </p:nvSpPr>
                <p:spPr>
                  <a:xfrm>
                    <a:off x="29916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0" name=""/>
                  <p:cNvSpPr/>
                  <p:nvPr/>
                </p:nvSpPr>
                <p:spPr>
                  <a:xfrm>
                    <a:off x="26758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1" name=""/>
                  <p:cNvSpPr/>
                  <p:nvPr/>
                </p:nvSpPr>
                <p:spPr>
                  <a:xfrm>
                    <a:off x="246564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2" name=""/>
                <p:cNvGrpSpPr/>
                <p:nvPr/>
              </p:nvGrpSpPr>
              <p:grpSpPr>
                <a:xfrm>
                  <a:off x="2518200" y="4644360"/>
                  <a:ext cx="525240" cy="105120"/>
                  <a:chOff x="2518200" y="4644360"/>
                  <a:chExt cx="525240" cy="105120"/>
                </a:xfrm>
              </p:grpSpPr>
              <p:sp>
                <p:nvSpPr>
                  <p:cNvPr id="6673" name=""/>
                  <p:cNvSpPr/>
                  <p:nvPr/>
                </p:nvSpPr>
                <p:spPr>
                  <a:xfrm>
                    <a:off x="251820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4" name=""/>
                  <p:cNvSpPr/>
                  <p:nvPr/>
                </p:nvSpPr>
                <p:spPr>
                  <a:xfrm>
                    <a:off x="27284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5" name=""/>
                  <p:cNvSpPr/>
                  <p:nvPr/>
                </p:nvSpPr>
                <p:spPr>
                  <a:xfrm>
                    <a:off x="283356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6" name=""/>
                  <p:cNvSpPr/>
                  <p:nvPr/>
                </p:nvSpPr>
                <p:spPr>
                  <a:xfrm>
                    <a:off x="29390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7" name=""/>
                  <p:cNvSpPr/>
                  <p:nvPr/>
                </p:nvSpPr>
                <p:spPr>
                  <a:xfrm>
                    <a:off x="262332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78" name=""/>
                <p:cNvSpPr/>
                <p:nvPr/>
              </p:nvSpPr>
              <p:spPr>
                <a:xfrm>
                  <a:off x="267588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288648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278136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257076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2623680" y="443232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283428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272916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85" name=""/>
                <p:cNvGrpSpPr/>
                <p:nvPr/>
              </p:nvGrpSpPr>
              <p:grpSpPr>
                <a:xfrm>
                  <a:off x="2677320" y="4324680"/>
                  <a:ext cx="209880" cy="105120"/>
                  <a:chOff x="2677320" y="4324680"/>
                  <a:chExt cx="209880" cy="105120"/>
                </a:xfrm>
              </p:grpSpPr>
              <p:sp>
                <p:nvSpPr>
                  <p:cNvPr id="6686" name=""/>
                  <p:cNvSpPr/>
                  <p:nvPr/>
                </p:nvSpPr>
                <p:spPr>
                  <a:xfrm>
                    <a:off x="2677320" y="4324680"/>
                    <a:ext cx="10476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7" name=""/>
                  <p:cNvSpPr/>
                  <p:nvPr/>
                </p:nvSpPr>
                <p:spPr>
                  <a:xfrm>
                    <a:off x="2782800" y="432468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88" name=""/>
              <p:cNvGrpSpPr/>
              <p:nvPr/>
            </p:nvGrpSpPr>
            <p:grpSpPr>
              <a:xfrm>
                <a:off x="2738880" y="4324680"/>
                <a:ext cx="83520" cy="525600"/>
                <a:chOff x="2738880" y="4324680"/>
                <a:chExt cx="83520" cy="525600"/>
              </a:xfrm>
            </p:grpSpPr>
            <p:grpSp>
              <p:nvGrpSpPr>
                <p:cNvPr id="6689" name=""/>
                <p:cNvGrpSpPr/>
                <p:nvPr/>
              </p:nvGrpSpPr>
              <p:grpSpPr>
                <a:xfrm>
                  <a:off x="2738880" y="4324680"/>
                  <a:ext cx="83520" cy="263880"/>
                  <a:chOff x="2738880" y="4324680"/>
                  <a:chExt cx="83520" cy="263880"/>
                </a:xfrm>
              </p:grpSpPr>
              <p:grpSp>
                <p:nvGrpSpPr>
                  <p:cNvPr id="6690" name=""/>
                  <p:cNvGrpSpPr/>
                  <p:nvPr/>
                </p:nvGrpSpPr>
                <p:grpSpPr>
                  <a:xfrm>
                    <a:off x="2738880" y="4324680"/>
                    <a:ext cx="83520" cy="52560"/>
                    <a:chOff x="2738880" y="4324680"/>
                    <a:chExt cx="83520" cy="52560"/>
                  </a:xfrm>
                </p:grpSpPr>
                <p:sp>
                  <p:nvSpPr>
                    <p:cNvPr id="6691" name=""/>
                    <p:cNvSpPr/>
                    <p:nvPr/>
                  </p:nvSpPr>
                  <p:spPr>
                    <a:xfrm>
                      <a:off x="2738880" y="43246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2" name=""/>
                    <p:cNvSpPr/>
                    <p:nvPr/>
                  </p:nvSpPr>
                  <p:spPr>
                    <a:xfrm>
                      <a:off x="2738880" y="4341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3" name=""/>
                    <p:cNvSpPr/>
                    <p:nvPr/>
                  </p:nvSpPr>
                  <p:spPr>
                    <a:xfrm>
                      <a:off x="2738880" y="4359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4" name=""/>
                  <p:cNvGrpSpPr/>
                  <p:nvPr/>
                </p:nvGrpSpPr>
                <p:grpSpPr>
                  <a:xfrm>
                    <a:off x="2738880" y="4377600"/>
                    <a:ext cx="83520" cy="52560"/>
                    <a:chOff x="2738880" y="4377600"/>
                    <a:chExt cx="83520" cy="52560"/>
                  </a:xfrm>
                </p:grpSpPr>
                <p:sp>
                  <p:nvSpPr>
                    <p:cNvPr id="6695" name=""/>
                    <p:cNvSpPr/>
                    <p:nvPr/>
                  </p:nvSpPr>
                  <p:spPr>
                    <a:xfrm>
                      <a:off x="2738880" y="4377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6" name=""/>
                    <p:cNvSpPr/>
                    <p:nvPr/>
                  </p:nvSpPr>
                  <p:spPr>
                    <a:xfrm>
                      <a:off x="2738880" y="4394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7" name=""/>
                    <p:cNvSpPr/>
                    <p:nvPr/>
                  </p:nvSpPr>
                  <p:spPr>
                    <a:xfrm>
                      <a:off x="2738880" y="4412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8" name=""/>
                  <p:cNvGrpSpPr/>
                  <p:nvPr/>
                </p:nvGrpSpPr>
                <p:grpSpPr>
                  <a:xfrm>
                    <a:off x="2738880" y="4430880"/>
                    <a:ext cx="83520" cy="52560"/>
                    <a:chOff x="2738880" y="4430880"/>
                    <a:chExt cx="83520" cy="52560"/>
                  </a:xfrm>
                </p:grpSpPr>
                <p:sp>
                  <p:nvSpPr>
                    <p:cNvPr id="6699" name=""/>
                    <p:cNvSpPr/>
                    <p:nvPr/>
                  </p:nvSpPr>
                  <p:spPr>
                    <a:xfrm>
                      <a:off x="2738880" y="44308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0" name=""/>
                    <p:cNvSpPr/>
                    <p:nvPr/>
                  </p:nvSpPr>
                  <p:spPr>
                    <a:xfrm>
                      <a:off x="2738880" y="4447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1" name=""/>
                    <p:cNvSpPr/>
                    <p:nvPr/>
                  </p:nvSpPr>
                  <p:spPr>
                    <a:xfrm>
                      <a:off x="2738880" y="4465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2" name=""/>
                  <p:cNvGrpSpPr/>
                  <p:nvPr/>
                </p:nvGrpSpPr>
                <p:grpSpPr>
                  <a:xfrm>
                    <a:off x="2738880" y="4483800"/>
                    <a:ext cx="83520" cy="52560"/>
                    <a:chOff x="2738880" y="4483800"/>
                    <a:chExt cx="83520" cy="52560"/>
                  </a:xfrm>
                </p:grpSpPr>
                <p:sp>
                  <p:nvSpPr>
                    <p:cNvPr id="6703" name=""/>
                    <p:cNvSpPr/>
                    <p:nvPr/>
                  </p:nvSpPr>
                  <p:spPr>
                    <a:xfrm>
                      <a:off x="2738880" y="4483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4" name=""/>
                    <p:cNvSpPr/>
                    <p:nvPr/>
                  </p:nvSpPr>
                  <p:spPr>
                    <a:xfrm>
                      <a:off x="2738880" y="4500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5" name=""/>
                    <p:cNvSpPr/>
                    <p:nvPr/>
                  </p:nvSpPr>
                  <p:spPr>
                    <a:xfrm>
                      <a:off x="2738880" y="4518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6" name=""/>
                  <p:cNvGrpSpPr/>
                  <p:nvPr/>
                </p:nvGrpSpPr>
                <p:grpSpPr>
                  <a:xfrm>
                    <a:off x="2738880" y="4536000"/>
                    <a:ext cx="83520" cy="52560"/>
                    <a:chOff x="2738880" y="4536000"/>
                    <a:chExt cx="83520" cy="52560"/>
                  </a:xfrm>
                </p:grpSpPr>
                <p:sp>
                  <p:nvSpPr>
                    <p:cNvPr id="6707" name=""/>
                    <p:cNvSpPr/>
                    <p:nvPr/>
                  </p:nvSpPr>
                  <p:spPr>
                    <a:xfrm>
                      <a:off x="2738880" y="45360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8" name=""/>
                    <p:cNvSpPr/>
                    <p:nvPr/>
                  </p:nvSpPr>
                  <p:spPr>
                    <a:xfrm>
                      <a:off x="2738880" y="4552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9" name=""/>
                    <p:cNvSpPr/>
                    <p:nvPr/>
                  </p:nvSpPr>
                  <p:spPr>
                    <a:xfrm>
                      <a:off x="2738880" y="4570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10" name=""/>
                <p:cNvGrpSpPr/>
                <p:nvPr/>
              </p:nvGrpSpPr>
              <p:grpSpPr>
                <a:xfrm>
                  <a:off x="2738880" y="4586400"/>
                  <a:ext cx="83520" cy="263880"/>
                  <a:chOff x="2738880" y="4586400"/>
                  <a:chExt cx="83520" cy="263880"/>
                </a:xfrm>
              </p:grpSpPr>
              <p:grpSp>
                <p:nvGrpSpPr>
                  <p:cNvPr id="6711" name=""/>
                  <p:cNvGrpSpPr/>
                  <p:nvPr/>
                </p:nvGrpSpPr>
                <p:grpSpPr>
                  <a:xfrm>
                    <a:off x="2738880" y="4586400"/>
                    <a:ext cx="83520" cy="52560"/>
                    <a:chOff x="2738880" y="4586400"/>
                    <a:chExt cx="83520" cy="52560"/>
                  </a:xfrm>
                </p:grpSpPr>
                <p:sp>
                  <p:nvSpPr>
                    <p:cNvPr id="6712" name=""/>
                    <p:cNvSpPr/>
                    <p:nvPr/>
                  </p:nvSpPr>
                  <p:spPr>
                    <a:xfrm>
                      <a:off x="2738880" y="45864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3" name=""/>
                    <p:cNvSpPr/>
                    <p:nvPr/>
                  </p:nvSpPr>
                  <p:spPr>
                    <a:xfrm>
                      <a:off x="2738880" y="4603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4" name=""/>
                    <p:cNvSpPr/>
                    <p:nvPr/>
                  </p:nvSpPr>
                  <p:spPr>
                    <a:xfrm>
                      <a:off x="2738880" y="4621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5" name=""/>
                  <p:cNvGrpSpPr/>
                  <p:nvPr/>
                </p:nvGrpSpPr>
                <p:grpSpPr>
                  <a:xfrm>
                    <a:off x="2738880" y="4639320"/>
                    <a:ext cx="83520" cy="52560"/>
                    <a:chOff x="2738880" y="4639320"/>
                    <a:chExt cx="83520" cy="52560"/>
                  </a:xfrm>
                </p:grpSpPr>
                <p:sp>
                  <p:nvSpPr>
                    <p:cNvPr id="6716" name=""/>
                    <p:cNvSpPr/>
                    <p:nvPr/>
                  </p:nvSpPr>
                  <p:spPr>
                    <a:xfrm>
                      <a:off x="2738880" y="4639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7" name=""/>
                    <p:cNvSpPr/>
                    <p:nvPr/>
                  </p:nvSpPr>
                  <p:spPr>
                    <a:xfrm>
                      <a:off x="2738880" y="4656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8" name=""/>
                    <p:cNvSpPr/>
                    <p:nvPr/>
                  </p:nvSpPr>
                  <p:spPr>
                    <a:xfrm>
                      <a:off x="2738880" y="4674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9" name=""/>
                  <p:cNvGrpSpPr/>
                  <p:nvPr/>
                </p:nvGrpSpPr>
                <p:grpSpPr>
                  <a:xfrm>
                    <a:off x="2738880" y="4692600"/>
                    <a:ext cx="83520" cy="52560"/>
                    <a:chOff x="2738880" y="4692600"/>
                    <a:chExt cx="83520" cy="52560"/>
                  </a:xfrm>
                </p:grpSpPr>
                <p:sp>
                  <p:nvSpPr>
                    <p:cNvPr id="6720" name=""/>
                    <p:cNvSpPr/>
                    <p:nvPr/>
                  </p:nvSpPr>
                  <p:spPr>
                    <a:xfrm>
                      <a:off x="2738880" y="4692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1" name=""/>
                    <p:cNvSpPr/>
                    <p:nvPr/>
                  </p:nvSpPr>
                  <p:spPr>
                    <a:xfrm>
                      <a:off x="2738880" y="4709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2" name=""/>
                    <p:cNvSpPr/>
                    <p:nvPr/>
                  </p:nvSpPr>
                  <p:spPr>
                    <a:xfrm>
                      <a:off x="2738880" y="4727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3" name=""/>
                  <p:cNvGrpSpPr/>
                  <p:nvPr/>
                </p:nvGrpSpPr>
                <p:grpSpPr>
                  <a:xfrm>
                    <a:off x="2738880" y="4745520"/>
                    <a:ext cx="83520" cy="52560"/>
                    <a:chOff x="2738880" y="4745520"/>
                    <a:chExt cx="83520" cy="52560"/>
                  </a:xfrm>
                </p:grpSpPr>
                <p:sp>
                  <p:nvSpPr>
                    <p:cNvPr id="6724" name=""/>
                    <p:cNvSpPr/>
                    <p:nvPr/>
                  </p:nvSpPr>
                  <p:spPr>
                    <a:xfrm>
                      <a:off x="2738880" y="4745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5" name=""/>
                    <p:cNvSpPr/>
                    <p:nvPr/>
                  </p:nvSpPr>
                  <p:spPr>
                    <a:xfrm>
                      <a:off x="2738880" y="4762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6" name=""/>
                    <p:cNvSpPr/>
                    <p:nvPr/>
                  </p:nvSpPr>
                  <p:spPr>
                    <a:xfrm>
                      <a:off x="2738880" y="4780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7" name=""/>
                  <p:cNvGrpSpPr/>
                  <p:nvPr/>
                </p:nvGrpSpPr>
                <p:grpSpPr>
                  <a:xfrm>
                    <a:off x="2738880" y="4797720"/>
                    <a:ext cx="83520" cy="52560"/>
                    <a:chOff x="2738880" y="4797720"/>
                    <a:chExt cx="83520" cy="52560"/>
                  </a:xfrm>
                </p:grpSpPr>
                <p:sp>
                  <p:nvSpPr>
                    <p:cNvPr id="6728" name=""/>
                    <p:cNvSpPr/>
                    <p:nvPr/>
                  </p:nvSpPr>
                  <p:spPr>
                    <a:xfrm>
                      <a:off x="2738880" y="4797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9" name=""/>
                    <p:cNvSpPr/>
                    <p:nvPr/>
                  </p:nvSpPr>
                  <p:spPr>
                    <a:xfrm>
                      <a:off x="2738880" y="4814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0" name=""/>
                    <p:cNvSpPr/>
                    <p:nvPr/>
                  </p:nvSpPr>
                  <p:spPr>
                    <a:xfrm>
                      <a:off x="2738880" y="4832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31" name=""/>
              <p:cNvGrpSpPr/>
              <p:nvPr/>
            </p:nvGrpSpPr>
            <p:grpSpPr>
              <a:xfrm>
                <a:off x="2712240" y="4050720"/>
                <a:ext cx="137160" cy="273960"/>
                <a:chOff x="2712240" y="4050720"/>
                <a:chExt cx="137160" cy="273960"/>
              </a:xfrm>
            </p:grpSpPr>
            <p:grpSp>
              <p:nvGrpSpPr>
                <p:cNvPr id="6732" name=""/>
                <p:cNvGrpSpPr/>
                <p:nvPr/>
              </p:nvGrpSpPr>
              <p:grpSpPr>
                <a:xfrm>
                  <a:off x="2712240" y="4143240"/>
                  <a:ext cx="137160" cy="181440"/>
                  <a:chOff x="2712240" y="4143240"/>
                  <a:chExt cx="137160" cy="181440"/>
                </a:xfrm>
              </p:grpSpPr>
              <p:sp>
                <p:nvSpPr>
                  <p:cNvPr id="6733" name=""/>
                  <p:cNvSpPr/>
                  <p:nvPr/>
                </p:nvSpPr>
                <p:spPr>
                  <a:xfrm>
                    <a:off x="2712240" y="4222440"/>
                    <a:ext cx="137160" cy="165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34" name=""/>
                  <p:cNvGrpSpPr/>
                  <p:nvPr/>
                </p:nvGrpSpPr>
                <p:grpSpPr>
                  <a:xfrm>
                    <a:off x="2714760" y="4143240"/>
                    <a:ext cx="131760" cy="181440"/>
                    <a:chOff x="2714760" y="4143240"/>
                    <a:chExt cx="131760" cy="181440"/>
                  </a:xfrm>
                </p:grpSpPr>
                <p:sp>
                  <p:nvSpPr>
                    <p:cNvPr id="6735" name=""/>
                    <p:cNvSpPr/>
                    <p:nvPr/>
                  </p:nvSpPr>
                  <p:spPr>
                    <a:xfrm>
                      <a:off x="2715480" y="4231080"/>
                      <a:ext cx="129960" cy="936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6" name=""/>
                    <p:cNvSpPr/>
                    <p:nvPr/>
                  </p:nvSpPr>
                  <p:spPr>
                    <a:xfrm flipV="1">
                      <a:off x="2714760" y="4158000"/>
                      <a:ext cx="131760" cy="6372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6480 h 63720"/>
                        <a:gd name="textAreaBottom" fmla="*/ 57240 h 637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7" name=""/>
                    <p:cNvSpPr/>
                    <p:nvPr/>
                  </p:nvSpPr>
                  <p:spPr>
                    <a:xfrm>
                      <a:off x="2718720" y="4143240"/>
                      <a:ext cx="123120" cy="154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38" name=""/>
                <p:cNvGrpSpPr/>
                <p:nvPr/>
              </p:nvGrpSpPr>
              <p:grpSpPr>
                <a:xfrm>
                  <a:off x="2737440" y="4050720"/>
                  <a:ext cx="86040" cy="91800"/>
                  <a:chOff x="2737440" y="4050720"/>
                  <a:chExt cx="86040" cy="91800"/>
                </a:xfrm>
              </p:grpSpPr>
              <p:sp>
                <p:nvSpPr>
                  <p:cNvPr id="6739" name=""/>
                  <p:cNvSpPr/>
                  <p:nvPr/>
                </p:nvSpPr>
                <p:spPr>
                  <a:xfrm>
                    <a:off x="2737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0" name=""/>
                  <p:cNvSpPr/>
                  <p:nvPr/>
                </p:nvSpPr>
                <p:spPr>
                  <a:xfrm>
                    <a:off x="2755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1" name=""/>
                  <p:cNvSpPr/>
                  <p:nvPr/>
                </p:nvSpPr>
                <p:spPr>
                  <a:xfrm>
                    <a:off x="277416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2" name=""/>
                  <p:cNvSpPr/>
                  <p:nvPr/>
                </p:nvSpPr>
                <p:spPr>
                  <a:xfrm>
                    <a:off x="279432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3" name=""/>
                  <p:cNvSpPr/>
                  <p:nvPr/>
                </p:nvSpPr>
                <p:spPr>
                  <a:xfrm>
                    <a:off x="281268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4" name=""/>
                  <p:cNvSpPr/>
                  <p:nvPr/>
                </p:nvSpPr>
                <p:spPr>
                  <a:xfrm>
                    <a:off x="2737440" y="40899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5" name=""/>
                  <p:cNvSpPr/>
                  <p:nvPr/>
                </p:nvSpPr>
                <p:spPr>
                  <a:xfrm>
                    <a:off x="2738160" y="41187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6" name=""/>
                  <p:cNvSpPr/>
                  <p:nvPr/>
                </p:nvSpPr>
                <p:spPr>
                  <a:xfrm>
                    <a:off x="2738160" y="41425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47" name=""/>
                <p:cNvSpPr/>
                <p:nvPr/>
              </p:nvSpPr>
              <p:spPr>
                <a:xfrm>
                  <a:off x="2728440" y="423036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811240" y="422964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763000" y="4247640"/>
                  <a:ext cx="35640" cy="752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50" name=""/>
            <p:cNvSpPr/>
            <p:nvPr/>
          </p:nvSpPr>
          <p:spPr>
            <a:xfrm>
              <a:off x="1663560" y="3159720"/>
              <a:ext cx="2248200" cy="1240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for static and dynamic wavefo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1" name=""/>
          <p:cNvGrpSpPr/>
          <p:nvPr/>
        </p:nvGrpSpPr>
        <p:grpSpPr>
          <a:xfrm>
            <a:off x="332640" y="3481920"/>
            <a:ext cx="959040" cy="1002600"/>
            <a:chOff x="332640" y="3481920"/>
            <a:chExt cx="959040" cy="1002600"/>
          </a:xfrm>
        </p:grpSpPr>
        <p:grpSp>
          <p:nvGrpSpPr>
            <p:cNvPr id="6752" name=""/>
            <p:cNvGrpSpPr/>
            <p:nvPr/>
          </p:nvGrpSpPr>
          <p:grpSpPr>
            <a:xfrm>
              <a:off x="495000" y="3853080"/>
              <a:ext cx="630360" cy="631440"/>
              <a:chOff x="495000" y="3853080"/>
              <a:chExt cx="630360" cy="631440"/>
            </a:xfrm>
          </p:grpSpPr>
          <p:grpSp>
            <p:nvGrpSpPr>
              <p:cNvPr id="6753" name=""/>
              <p:cNvGrpSpPr/>
              <p:nvPr/>
            </p:nvGrpSpPr>
            <p:grpSpPr>
              <a:xfrm>
                <a:off x="495000" y="4068000"/>
                <a:ext cx="630360" cy="416520"/>
                <a:chOff x="495000" y="4068000"/>
                <a:chExt cx="630360" cy="416520"/>
              </a:xfrm>
            </p:grpSpPr>
            <p:grpSp>
              <p:nvGrpSpPr>
                <p:cNvPr id="6754" name=""/>
                <p:cNvGrpSpPr/>
                <p:nvPr/>
              </p:nvGrpSpPr>
              <p:grpSpPr>
                <a:xfrm>
                  <a:off x="495000" y="4402080"/>
                  <a:ext cx="630360" cy="82440"/>
                  <a:chOff x="495000" y="4402080"/>
                  <a:chExt cx="630360" cy="82440"/>
                </a:xfrm>
              </p:grpSpPr>
              <p:sp>
                <p:nvSpPr>
                  <p:cNvPr id="6755" name=""/>
                  <p:cNvSpPr/>
                  <p:nvPr/>
                </p:nvSpPr>
                <p:spPr>
                  <a:xfrm>
                    <a:off x="60012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6" name=""/>
                  <p:cNvSpPr/>
                  <p:nvPr/>
                </p:nvSpPr>
                <p:spPr>
                  <a:xfrm>
                    <a:off x="8103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7" name=""/>
                  <p:cNvSpPr/>
                  <p:nvPr/>
                </p:nvSpPr>
                <p:spPr>
                  <a:xfrm>
                    <a:off x="9158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8" name=""/>
                  <p:cNvSpPr/>
                  <p:nvPr/>
                </p:nvSpPr>
                <p:spPr>
                  <a:xfrm>
                    <a:off x="10209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9" name=""/>
                  <p:cNvSpPr/>
                  <p:nvPr/>
                </p:nvSpPr>
                <p:spPr>
                  <a:xfrm>
                    <a:off x="7052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0" name=""/>
                  <p:cNvSpPr/>
                  <p:nvPr/>
                </p:nvSpPr>
                <p:spPr>
                  <a:xfrm>
                    <a:off x="49500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1" name=""/>
                <p:cNvGrpSpPr/>
                <p:nvPr/>
              </p:nvGrpSpPr>
              <p:grpSpPr>
                <a:xfrm>
                  <a:off x="547560" y="4318920"/>
                  <a:ext cx="525240" cy="82440"/>
                  <a:chOff x="547560" y="4318920"/>
                  <a:chExt cx="525240" cy="82440"/>
                </a:xfrm>
              </p:grpSpPr>
              <p:sp>
                <p:nvSpPr>
                  <p:cNvPr id="6762" name=""/>
                  <p:cNvSpPr/>
                  <p:nvPr/>
                </p:nvSpPr>
                <p:spPr>
                  <a:xfrm>
                    <a:off x="54756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3" name=""/>
                  <p:cNvSpPr/>
                  <p:nvPr/>
                </p:nvSpPr>
                <p:spPr>
                  <a:xfrm>
                    <a:off x="7578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4" name=""/>
                  <p:cNvSpPr/>
                  <p:nvPr/>
                </p:nvSpPr>
                <p:spPr>
                  <a:xfrm>
                    <a:off x="86292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5" name=""/>
                  <p:cNvSpPr/>
                  <p:nvPr/>
                </p:nvSpPr>
                <p:spPr>
                  <a:xfrm>
                    <a:off x="9684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6" name=""/>
                  <p:cNvSpPr/>
                  <p:nvPr/>
                </p:nvSpPr>
                <p:spPr>
                  <a:xfrm>
                    <a:off x="65268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67" name=""/>
                <p:cNvSpPr/>
                <p:nvPr/>
              </p:nvSpPr>
              <p:spPr>
                <a:xfrm>
                  <a:off x="70524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91584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81072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60012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653040" y="4152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86364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75852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4" name=""/>
                <p:cNvGrpSpPr/>
                <p:nvPr/>
              </p:nvGrpSpPr>
              <p:grpSpPr>
                <a:xfrm>
                  <a:off x="706680" y="4068000"/>
                  <a:ext cx="209880" cy="82440"/>
                  <a:chOff x="706680" y="4068000"/>
                  <a:chExt cx="209880" cy="82440"/>
                </a:xfrm>
              </p:grpSpPr>
              <p:sp>
                <p:nvSpPr>
                  <p:cNvPr id="6775" name=""/>
                  <p:cNvSpPr/>
                  <p:nvPr/>
                </p:nvSpPr>
                <p:spPr>
                  <a:xfrm>
                    <a:off x="706680" y="406800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6" name=""/>
                  <p:cNvSpPr/>
                  <p:nvPr/>
                </p:nvSpPr>
                <p:spPr>
                  <a:xfrm>
                    <a:off x="812160" y="406800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77" name=""/>
              <p:cNvGrpSpPr/>
              <p:nvPr/>
            </p:nvGrpSpPr>
            <p:grpSpPr>
              <a:xfrm>
                <a:off x="768240" y="4068000"/>
                <a:ext cx="83520" cy="412200"/>
                <a:chOff x="768240" y="4068000"/>
                <a:chExt cx="83520" cy="412200"/>
              </a:xfrm>
            </p:grpSpPr>
            <p:grpSp>
              <p:nvGrpSpPr>
                <p:cNvPr id="6778" name=""/>
                <p:cNvGrpSpPr/>
                <p:nvPr/>
              </p:nvGrpSpPr>
              <p:grpSpPr>
                <a:xfrm>
                  <a:off x="768240" y="4068000"/>
                  <a:ext cx="83520" cy="207000"/>
                  <a:chOff x="768240" y="4068000"/>
                  <a:chExt cx="83520" cy="207000"/>
                </a:xfrm>
              </p:grpSpPr>
              <p:grpSp>
                <p:nvGrpSpPr>
                  <p:cNvPr id="6779" name=""/>
                  <p:cNvGrpSpPr/>
                  <p:nvPr/>
                </p:nvGrpSpPr>
                <p:grpSpPr>
                  <a:xfrm>
                    <a:off x="768240" y="4068000"/>
                    <a:ext cx="83520" cy="41400"/>
                    <a:chOff x="768240" y="4068000"/>
                    <a:chExt cx="83520" cy="41400"/>
                  </a:xfrm>
                </p:grpSpPr>
                <p:sp>
                  <p:nvSpPr>
                    <p:cNvPr id="6780" name=""/>
                    <p:cNvSpPr/>
                    <p:nvPr/>
                  </p:nvSpPr>
                  <p:spPr>
                    <a:xfrm>
                      <a:off x="768240" y="4068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1" name=""/>
                    <p:cNvSpPr/>
                    <p:nvPr/>
                  </p:nvSpPr>
                  <p:spPr>
                    <a:xfrm>
                      <a:off x="768240" y="4081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2" name=""/>
                    <p:cNvSpPr/>
                    <p:nvPr/>
                  </p:nvSpPr>
                  <p:spPr>
                    <a:xfrm>
                      <a:off x="768240" y="4095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3" name=""/>
                  <p:cNvGrpSpPr/>
                  <p:nvPr/>
                </p:nvGrpSpPr>
                <p:grpSpPr>
                  <a:xfrm>
                    <a:off x="768240" y="4109400"/>
                    <a:ext cx="83520" cy="41400"/>
                    <a:chOff x="768240" y="4109400"/>
                    <a:chExt cx="83520" cy="41400"/>
                  </a:xfrm>
                </p:grpSpPr>
                <p:sp>
                  <p:nvSpPr>
                    <p:cNvPr id="6784" name=""/>
                    <p:cNvSpPr/>
                    <p:nvPr/>
                  </p:nvSpPr>
                  <p:spPr>
                    <a:xfrm>
                      <a:off x="768240" y="410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5" name=""/>
                    <p:cNvSpPr/>
                    <p:nvPr/>
                  </p:nvSpPr>
                  <p:spPr>
                    <a:xfrm>
                      <a:off x="768240" y="412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6" name=""/>
                    <p:cNvSpPr/>
                    <p:nvPr/>
                  </p:nvSpPr>
                  <p:spPr>
                    <a:xfrm>
                      <a:off x="768240" y="413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7" name=""/>
                  <p:cNvGrpSpPr/>
                  <p:nvPr/>
                </p:nvGrpSpPr>
                <p:grpSpPr>
                  <a:xfrm>
                    <a:off x="768240" y="4151160"/>
                    <a:ext cx="83520" cy="40680"/>
                    <a:chOff x="768240" y="4151160"/>
                    <a:chExt cx="83520" cy="40680"/>
                  </a:xfrm>
                </p:grpSpPr>
                <p:sp>
                  <p:nvSpPr>
                    <p:cNvPr id="6788" name=""/>
                    <p:cNvSpPr/>
                    <p:nvPr/>
                  </p:nvSpPr>
                  <p:spPr>
                    <a:xfrm>
                      <a:off x="768240" y="4151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9" name=""/>
                    <p:cNvSpPr/>
                    <p:nvPr/>
                  </p:nvSpPr>
                  <p:spPr>
                    <a:xfrm>
                      <a:off x="768240" y="41644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0" name=""/>
                    <p:cNvSpPr/>
                    <p:nvPr/>
                  </p:nvSpPr>
                  <p:spPr>
                    <a:xfrm>
                      <a:off x="768240" y="4178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1" name=""/>
                  <p:cNvGrpSpPr/>
                  <p:nvPr/>
                </p:nvGrpSpPr>
                <p:grpSpPr>
                  <a:xfrm>
                    <a:off x="768240" y="4192920"/>
                    <a:ext cx="83520" cy="40680"/>
                    <a:chOff x="768240" y="4192920"/>
                    <a:chExt cx="83520" cy="40680"/>
                  </a:xfrm>
                </p:grpSpPr>
                <p:sp>
                  <p:nvSpPr>
                    <p:cNvPr id="6792" name=""/>
                    <p:cNvSpPr/>
                    <p:nvPr/>
                  </p:nvSpPr>
                  <p:spPr>
                    <a:xfrm>
                      <a:off x="768240" y="4192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3" name=""/>
                    <p:cNvSpPr/>
                    <p:nvPr/>
                  </p:nvSpPr>
                  <p:spPr>
                    <a:xfrm>
                      <a:off x="768240" y="42062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4" name=""/>
                    <p:cNvSpPr/>
                    <p:nvPr/>
                  </p:nvSpPr>
                  <p:spPr>
                    <a:xfrm>
                      <a:off x="768240" y="4219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5" name=""/>
                  <p:cNvGrpSpPr/>
                  <p:nvPr/>
                </p:nvGrpSpPr>
                <p:grpSpPr>
                  <a:xfrm>
                    <a:off x="768240" y="4233600"/>
                    <a:ext cx="83520" cy="41400"/>
                    <a:chOff x="768240" y="4233600"/>
                    <a:chExt cx="83520" cy="41400"/>
                  </a:xfrm>
                </p:grpSpPr>
                <p:sp>
                  <p:nvSpPr>
                    <p:cNvPr id="6796" name=""/>
                    <p:cNvSpPr/>
                    <p:nvPr/>
                  </p:nvSpPr>
                  <p:spPr>
                    <a:xfrm>
                      <a:off x="768240" y="4233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7" name=""/>
                    <p:cNvSpPr/>
                    <p:nvPr/>
                  </p:nvSpPr>
                  <p:spPr>
                    <a:xfrm>
                      <a:off x="768240" y="4246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8" name=""/>
                    <p:cNvSpPr/>
                    <p:nvPr/>
                  </p:nvSpPr>
                  <p:spPr>
                    <a:xfrm>
                      <a:off x="768240" y="426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99" name=""/>
                <p:cNvGrpSpPr/>
                <p:nvPr/>
              </p:nvGrpSpPr>
              <p:grpSpPr>
                <a:xfrm>
                  <a:off x="768240" y="4273200"/>
                  <a:ext cx="83520" cy="207000"/>
                  <a:chOff x="768240" y="4273200"/>
                  <a:chExt cx="83520" cy="207000"/>
                </a:xfrm>
              </p:grpSpPr>
              <p:grpSp>
                <p:nvGrpSpPr>
                  <p:cNvPr id="6800" name=""/>
                  <p:cNvGrpSpPr/>
                  <p:nvPr/>
                </p:nvGrpSpPr>
                <p:grpSpPr>
                  <a:xfrm>
                    <a:off x="768240" y="4273200"/>
                    <a:ext cx="83520" cy="41400"/>
                    <a:chOff x="768240" y="4273200"/>
                    <a:chExt cx="83520" cy="41400"/>
                  </a:xfrm>
                </p:grpSpPr>
                <p:sp>
                  <p:nvSpPr>
                    <p:cNvPr id="6801" name=""/>
                    <p:cNvSpPr/>
                    <p:nvPr/>
                  </p:nvSpPr>
                  <p:spPr>
                    <a:xfrm>
                      <a:off x="768240" y="4273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2" name=""/>
                    <p:cNvSpPr/>
                    <p:nvPr/>
                  </p:nvSpPr>
                  <p:spPr>
                    <a:xfrm>
                      <a:off x="768240" y="4286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3" name=""/>
                    <p:cNvSpPr/>
                    <p:nvPr/>
                  </p:nvSpPr>
                  <p:spPr>
                    <a:xfrm>
                      <a:off x="768240" y="4300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4" name=""/>
                  <p:cNvGrpSpPr/>
                  <p:nvPr/>
                </p:nvGrpSpPr>
                <p:grpSpPr>
                  <a:xfrm>
                    <a:off x="768240" y="4314600"/>
                    <a:ext cx="83520" cy="41400"/>
                    <a:chOff x="768240" y="4314600"/>
                    <a:chExt cx="83520" cy="41400"/>
                  </a:xfrm>
                </p:grpSpPr>
                <p:sp>
                  <p:nvSpPr>
                    <p:cNvPr id="6805" name=""/>
                    <p:cNvSpPr/>
                    <p:nvPr/>
                  </p:nvSpPr>
                  <p:spPr>
                    <a:xfrm>
                      <a:off x="768240" y="4314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6" name=""/>
                    <p:cNvSpPr/>
                    <p:nvPr/>
                  </p:nvSpPr>
                  <p:spPr>
                    <a:xfrm>
                      <a:off x="768240" y="4327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7" name=""/>
                    <p:cNvSpPr/>
                    <p:nvPr/>
                  </p:nvSpPr>
                  <p:spPr>
                    <a:xfrm>
                      <a:off x="768240" y="434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8" name=""/>
                  <p:cNvGrpSpPr/>
                  <p:nvPr/>
                </p:nvGrpSpPr>
                <p:grpSpPr>
                  <a:xfrm>
                    <a:off x="768240" y="4356360"/>
                    <a:ext cx="83520" cy="40680"/>
                    <a:chOff x="768240" y="4356360"/>
                    <a:chExt cx="83520" cy="40680"/>
                  </a:xfrm>
                </p:grpSpPr>
                <p:sp>
                  <p:nvSpPr>
                    <p:cNvPr id="6809" name=""/>
                    <p:cNvSpPr/>
                    <p:nvPr/>
                  </p:nvSpPr>
                  <p:spPr>
                    <a:xfrm>
                      <a:off x="768240" y="4356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0" name=""/>
                    <p:cNvSpPr/>
                    <p:nvPr/>
                  </p:nvSpPr>
                  <p:spPr>
                    <a:xfrm>
                      <a:off x="768240" y="43696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1" name=""/>
                    <p:cNvSpPr/>
                    <p:nvPr/>
                  </p:nvSpPr>
                  <p:spPr>
                    <a:xfrm>
                      <a:off x="768240" y="4383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2" name=""/>
                  <p:cNvGrpSpPr/>
                  <p:nvPr/>
                </p:nvGrpSpPr>
                <p:grpSpPr>
                  <a:xfrm>
                    <a:off x="768240" y="4398120"/>
                    <a:ext cx="83520" cy="40680"/>
                    <a:chOff x="768240" y="4398120"/>
                    <a:chExt cx="83520" cy="40680"/>
                  </a:xfrm>
                </p:grpSpPr>
                <p:sp>
                  <p:nvSpPr>
                    <p:cNvPr id="6813" name=""/>
                    <p:cNvSpPr/>
                    <p:nvPr/>
                  </p:nvSpPr>
                  <p:spPr>
                    <a:xfrm>
                      <a:off x="768240" y="4398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4" name=""/>
                    <p:cNvSpPr/>
                    <p:nvPr/>
                  </p:nvSpPr>
                  <p:spPr>
                    <a:xfrm>
                      <a:off x="768240" y="44114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5" name=""/>
                    <p:cNvSpPr/>
                    <p:nvPr/>
                  </p:nvSpPr>
                  <p:spPr>
                    <a:xfrm>
                      <a:off x="768240" y="4425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6" name=""/>
                  <p:cNvGrpSpPr/>
                  <p:nvPr/>
                </p:nvGrpSpPr>
                <p:grpSpPr>
                  <a:xfrm>
                    <a:off x="768240" y="4438800"/>
                    <a:ext cx="83520" cy="41400"/>
                    <a:chOff x="768240" y="4438800"/>
                    <a:chExt cx="83520" cy="41400"/>
                  </a:xfrm>
                </p:grpSpPr>
                <p:sp>
                  <p:nvSpPr>
                    <p:cNvPr id="6817" name=""/>
                    <p:cNvSpPr/>
                    <p:nvPr/>
                  </p:nvSpPr>
                  <p:spPr>
                    <a:xfrm>
                      <a:off x="768240" y="443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8" name=""/>
                    <p:cNvSpPr/>
                    <p:nvPr/>
                  </p:nvSpPr>
                  <p:spPr>
                    <a:xfrm>
                      <a:off x="768240" y="4452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9" name=""/>
                    <p:cNvSpPr/>
                    <p:nvPr/>
                  </p:nvSpPr>
                  <p:spPr>
                    <a:xfrm>
                      <a:off x="768240" y="4466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820" name=""/>
              <p:cNvGrpSpPr/>
              <p:nvPr/>
            </p:nvGrpSpPr>
            <p:grpSpPr>
              <a:xfrm>
                <a:off x="741600" y="3853080"/>
                <a:ext cx="137160" cy="214920"/>
                <a:chOff x="741600" y="3853080"/>
                <a:chExt cx="137160" cy="214920"/>
              </a:xfrm>
            </p:grpSpPr>
            <p:grpSp>
              <p:nvGrpSpPr>
                <p:cNvPr id="6821" name=""/>
                <p:cNvGrpSpPr/>
                <p:nvPr/>
              </p:nvGrpSpPr>
              <p:grpSpPr>
                <a:xfrm>
                  <a:off x="741600" y="3925440"/>
                  <a:ext cx="137160" cy="142560"/>
                  <a:chOff x="741600" y="3925440"/>
                  <a:chExt cx="137160" cy="142560"/>
                </a:xfrm>
              </p:grpSpPr>
              <p:sp>
                <p:nvSpPr>
                  <p:cNvPr id="6822" name=""/>
                  <p:cNvSpPr/>
                  <p:nvPr/>
                </p:nvSpPr>
                <p:spPr>
                  <a:xfrm>
                    <a:off x="741600" y="398772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23" name=""/>
                  <p:cNvGrpSpPr/>
                  <p:nvPr/>
                </p:nvGrpSpPr>
                <p:grpSpPr>
                  <a:xfrm>
                    <a:off x="744120" y="3925440"/>
                    <a:ext cx="131760" cy="142560"/>
                    <a:chOff x="744120" y="3925440"/>
                    <a:chExt cx="131760" cy="142560"/>
                  </a:xfrm>
                </p:grpSpPr>
                <p:sp>
                  <p:nvSpPr>
                    <p:cNvPr id="6824" name=""/>
                    <p:cNvSpPr/>
                    <p:nvPr/>
                  </p:nvSpPr>
                  <p:spPr>
                    <a:xfrm>
                      <a:off x="744840" y="3994560"/>
                      <a:ext cx="129960" cy="7344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6640" bIns="266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5" name=""/>
                    <p:cNvSpPr/>
                    <p:nvPr/>
                  </p:nvSpPr>
                  <p:spPr>
                    <a:xfrm flipV="1">
                      <a:off x="744120" y="393696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6" name=""/>
                    <p:cNvSpPr/>
                    <p:nvPr/>
                  </p:nvSpPr>
                  <p:spPr>
                    <a:xfrm>
                      <a:off x="748080" y="392544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827" name=""/>
                <p:cNvGrpSpPr/>
                <p:nvPr/>
              </p:nvGrpSpPr>
              <p:grpSpPr>
                <a:xfrm>
                  <a:off x="766800" y="3853080"/>
                  <a:ext cx="86040" cy="72000"/>
                  <a:chOff x="766800" y="3853080"/>
                  <a:chExt cx="86040" cy="72000"/>
                </a:xfrm>
              </p:grpSpPr>
              <p:sp>
                <p:nvSpPr>
                  <p:cNvPr id="6828" name=""/>
                  <p:cNvSpPr/>
                  <p:nvPr/>
                </p:nvSpPr>
                <p:spPr>
                  <a:xfrm>
                    <a:off x="767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9" name=""/>
                  <p:cNvSpPr/>
                  <p:nvPr/>
                </p:nvSpPr>
                <p:spPr>
                  <a:xfrm>
                    <a:off x="785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0" name=""/>
                  <p:cNvSpPr/>
                  <p:nvPr/>
                </p:nvSpPr>
                <p:spPr>
                  <a:xfrm>
                    <a:off x="80352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1" name=""/>
                  <p:cNvSpPr/>
                  <p:nvPr/>
                </p:nvSpPr>
                <p:spPr>
                  <a:xfrm>
                    <a:off x="82368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2" name=""/>
                  <p:cNvSpPr/>
                  <p:nvPr/>
                </p:nvSpPr>
                <p:spPr>
                  <a:xfrm>
                    <a:off x="84204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3" name=""/>
                  <p:cNvSpPr/>
                  <p:nvPr/>
                </p:nvSpPr>
                <p:spPr>
                  <a:xfrm>
                    <a:off x="766800" y="38840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4" name=""/>
                  <p:cNvSpPr/>
                  <p:nvPr/>
                </p:nvSpPr>
                <p:spPr>
                  <a:xfrm>
                    <a:off x="767520" y="39063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5" name=""/>
                  <p:cNvSpPr/>
                  <p:nvPr/>
                </p:nvSpPr>
                <p:spPr>
                  <a:xfrm>
                    <a:off x="767520" y="3925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6" name=""/>
                <p:cNvSpPr/>
                <p:nvPr/>
              </p:nvSpPr>
              <p:spPr>
                <a:xfrm>
                  <a:off x="757800" y="39942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840600" y="3993480"/>
                  <a:ext cx="20520" cy="7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792360" y="400752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9" name=""/>
            <p:cNvSpPr/>
            <p:nvPr/>
          </p:nvSpPr>
          <p:spPr>
            <a:xfrm>
              <a:off x="332640" y="3481920"/>
              <a:ext cx="959040" cy="358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0" name=""/>
          <p:cNvGrpSpPr/>
          <p:nvPr/>
        </p:nvGrpSpPr>
        <p:grpSpPr>
          <a:xfrm>
            <a:off x="508320" y="4848480"/>
            <a:ext cx="1503000" cy="1344240"/>
            <a:chOff x="508320" y="4848480"/>
            <a:chExt cx="1503000" cy="1344240"/>
          </a:xfrm>
        </p:grpSpPr>
        <p:grpSp>
          <p:nvGrpSpPr>
            <p:cNvPr id="6841" name=""/>
            <p:cNvGrpSpPr/>
            <p:nvPr/>
          </p:nvGrpSpPr>
          <p:grpSpPr>
            <a:xfrm>
              <a:off x="944280" y="5559840"/>
              <a:ext cx="630360" cy="632880"/>
              <a:chOff x="944280" y="5559840"/>
              <a:chExt cx="630360" cy="632880"/>
            </a:xfrm>
          </p:grpSpPr>
          <p:grpSp>
            <p:nvGrpSpPr>
              <p:cNvPr id="6842" name=""/>
              <p:cNvGrpSpPr/>
              <p:nvPr/>
            </p:nvGrpSpPr>
            <p:grpSpPr>
              <a:xfrm>
                <a:off x="944280" y="5775120"/>
                <a:ext cx="630360" cy="417600"/>
                <a:chOff x="944280" y="5775120"/>
                <a:chExt cx="630360" cy="417600"/>
              </a:xfrm>
            </p:grpSpPr>
            <p:grpSp>
              <p:nvGrpSpPr>
                <p:cNvPr id="6843" name=""/>
                <p:cNvGrpSpPr/>
                <p:nvPr/>
              </p:nvGrpSpPr>
              <p:grpSpPr>
                <a:xfrm>
                  <a:off x="944280" y="6110280"/>
                  <a:ext cx="630360" cy="82440"/>
                  <a:chOff x="944280" y="6110280"/>
                  <a:chExt cx="630360" cy="82440"/>
                </a:xfrm>
              </p:grpSpPr>
              <p:sp>
                <p:nvSpPr>
                  <p:cNvPr id="6844" name=""/>
                  <p:cNvSpPr/>
                  <p:nvPr/>
                </p:nvSpPr>
                <p:spPr>
                  <a:xfrm>
                    <a:off x="104940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5" name=""/>
                  <p:cNvSpPr/>
                  <p:nvPr/>
                </p:nvSpPr>
                <p:spPr>
                  <a:xfrm>
                    <a:off x="12596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6" name=""/>
                  <p:cNvSpPr/>
                  <p:nvPr/>
                </p:nvSpPr>
                <p:spPr>
                  <a:xfrm>
                    <a:off x="13651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7" name=""/>
                  <p:cNvSpPr/>
                  <p:nvPr/>
                </p:nvSpPr>
                <p:spPr>
                  <a:xfrm>
                    <a:off x="14702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"/>
                  <p:cNvSpPr/>
                  <p:nvPr/>
                </p:nvSpPr>
                <p:spPr>
                  <a:xfrm>
                    <a:off x="11545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9" name=""/>
                  <p:cNvSpPr/>
                  <p:nvPr/>
                </p:nvSpPr>
                <p:spPr>
                  <a:xfrm>
                    <a:off x="94428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0" name=""/>
                <p:cNvGrpSpPr/>
                <p:nvPr/>
              </p:nvGrpSpPr>
              <p:grpSpPr>
                <a:xfrm>
                  <a:off x="996840" y="6026760"/>
                  <a:ext cx="525240" cy="82440"/>
                  <a:chOff x="996840" y="6026760"/>
                  <a:chExt cx="525240" cy="82440"/>
                </a:xfrm>
              </p:grpSpPr>
              <p:sp>
                <p:nvSpPr>
                  <p:cNvPr id="6851" name=""/>
                  <p:cNvSpPr/>
                  <p:nvPr/>
                </p:nvSpPr>
                <p:spPr>
                  <a:xfrm>
                    <a:off x="99684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"/>
                  <p:cNvSpPr/>
                  <p:nvPr/>
                </p:nvSpPr>
                <p:spPr>
                  <a:xfrm>
                    <a:off x="12070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3" name=""/>
                  <p:cNvSpPr/>
                  <p:nvPr/>
                </p:nvSpPr>
                <p:spPr>
                  <a:xfrm>
                    <a:off x="131220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4" name=""/>
                  <p:cNvSpPr/>
                  <p:nvPr/>
                </p:nvSpPr>
                <p:spPr>
                  <a:xfrm>
                    <a:off x="14176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5" name=""/>
                  <p:cNvSpPr/>
                  <p:nvPr/>
                </p:nvSpPr>
                <p:spPr>
                  <a:xfrm>
                    <a:off x="110196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6" name=""/>
                <p:cNvSpPr/>
                <p:nvPr/>
              </p:nvSpPr>
              <p:spPr>
                <a:xfrm>
                  <a:off x="115452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136512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126000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104940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1102320" y="585972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131292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120780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63" name=""/>
                <p:cNvGrpSpPr/>
                <p:nvPr/>
              </p:nvGrpSpPr>
              <p:grpSpPr>
                <a:xfrm>
                  <a:off x="1155960" y="5775120"/>
                  <a:ext cx="209880" cy="82440"/>
                  <a:chOff x="1155960" y="5775120"/>
                  <a:chExt cx="209880" cy="82440"/>
                </a:xfrm>
              </p:grpSpPr>
              <p:sp>
                <p:nvSpPr>
                  <p:cNvPr id="6864" name=""/>
                  <p:cNvSpPr/>
                  <p:nvPr/>
                </p:nvSpPr>
                <p:spPr>
                  <a:xfrm>
                    <a:off x="1155960" y="577512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5" name=""/>
                  <p:cNvSpPr/>
                  <p:nvPr/>
                </p:nvSpPr>
                <p:spPr>
                  <a:xfrm>
                    <a:off x="1261440" y="57751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6" name=""/>
              <p:cNvGrpSpPr/>
              <p:nvPr/>
            </p:nvGrpSpPr>
            <p:grpSpPr>
              <a:xfrm>
                <a:off x="1217520" y="5775120"/>
                <a:ext cx="83520" cy="413640"/>
                <a:chOff x="1217520" y="5775120"/>
                <a:chExt cx="83520" cy="413640"/>
              </a:xfrm>
            </p:grpSpPr>
            <p:grpSp>
              <p:nvGrpSpPr>
                <p:cNvPr id="6867" name=""/>
                <p:cNvGrpSpPr/>
                <p:nvPr/>
              </p:nvGrpSpPr>
              <p:grpSpPr>
                <a:xfrm>
                  <a:off x="1217520" y="5775120"/>
                  <a:ext cx="83520" cy="207720"/>
                  <a:chOff x="1217520" y="5775120"/>
                  <a:chExt cx="83520" cy="207720"/>
                </a:xfrm>
              </p:grpSpPr>
              <p:grpSp>
                <p:nvGrpSpPr>
                  <p:cNvPr id="6868" name=""/>
                  <p:cNvGrpSpPr/>
                  <p:nvPr/>
                </p:nvGrpSpPr>
                <p:grpSpPr>
                  <a:xfrm>
                    <a:off x="1217520" y="5775120"/>
                    <a:ext cx="83520" cy="41400"/>
                    <a:chOff x="1217520" y="5775120"/>
                    <a:chExt cx="83520" cy="41400"/>
                  </a:xfrm>
                </p:grpSpPr>
                <p:sp>
                  <p:nvSpPr>
                    <p:cNvPr id="6869" name=""/>
                    <p:cNvSpPr/>
                    <p:nvPr/>
                  </p:nvSpPr>
                  <p:spPr>
                    <a:xfrm>
                      <a:off x="1217520" y="577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0" name=""/>
                    <p:cNvSpPr/>
                    <p:nvPr/>
                  </p:nvSpPr>
                  <p:spPr>
                    <a:xfrm>
                      <a:off x="1217520" y="5788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1" name=""/>
                    <p:cNvSpPr/>
                    <p:nvPr/>
                  </p:nvSpPr>
                  <p:spPr>
                    <a:xfrm>
                      <a:off x="1217520" y="5802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2" name=""/>
                  <p:cNvGrpSpPr/>
                  <p:nvPr/>
                </p:nvGrpSpPr>
                <p:grpSpPr>
                  <a:xfrm>
                    <a:off x="1217520" y="5816880"/>
                    <a:ext cx="83520" cy="41400"/>
                    <a:chOff x="1217520" y="5816880"/>
                    <a:chExt cx="83520" cy="41400"/>
                  </a:xfrm>
                </p:grpSpPr>
                <p:sp>
                  <p:nvSpPr>
                    <p:cNvPr id="6873" name=""/>
                    <p:cNvSpPr/>
                    <p:nvPr/>
                  </p:nvSpPr>
                  <p:spPr>
                    <a:xfrm>
                      <a:off x="1217520" y="581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4" name=""/>
                    <p:cNvSpPr/>
                    <p:nvPr/>
                  </p:nvSpPr>
                  <p:spPr>
                    <a:xfrm>
                      <a:off x="1217520" y="5830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5" name=""/>
                    <p:cNvSpPr/>
                    <p:nvPr/>
                  </p:nvSpPr>
                  <p:spPr>
                    <a:xfrm>
                      <a:off x="1217520" y="5844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6" name=""/>
                  <p:cNvGrpSpPr/>
                  <p:nvPr/>
                </p:nvGrpSpPr>
                <p:grpSpPr>
                  <a:xfrm>
                    <a:off x="1217520" y="5858640"/>
                    <a:ext cx="83520" cy="41400"/>
                    <a:chOff x="1217520" y="5858640"/>
                    <a:chExt cx="83520" cy="41400"/>
                  </a:xfrm>
                </p:grpSpPr>
                <p:sp>
                  <p:nvSpPr>
                    <p:cNvPr id="6877" name=""/>
                    <p:cNvSpPr/>
                    <p:nvPr/>
                  </p:nvSpPr>
                  <p:spPr>
                    <a:xfrm>
                      <a:off x="1217520" y="585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8" name=""/>
                    <p:cNvSpPr/>
                    <p:nvPr/>
                  </p:nvSpPr>
                  <p:spPr>
                    <a:xfrm>
                      <a:off x="1217520" y="587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9" name=""/>
                    <p:cNvSpPr/>
                    <p:nvPr/>
                  </p:nvSpPr>
                  <p:spPr>
                    <a:xfrm>
                      <a:off x="1217520" y="5886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0" name=""/>
                  <p:cNvGrpSpPr/>
                  <p:nvPr/>
                </p:nvGrpSpPr>
                <p:grpSpPr>
                  <a:xfrm>
                    <a:off x="1217520" y="5900400"/>
                    <a:ext cx="83520" cy="41400"/>
                    <a:chOff x="1217520" y="5900400"/>
                    <a:chExt cx="83520" cy="41400"/>
                  </a:xfrm>
                </p:grpSpPr>
                <p:sp>
                  <p:nvSpPr>
                    <p:cNvPr id="6881" name=""/>
                    <p:cNvSpPr/>
                    <p:nvPr/>
                  </p:nvSpPr>
                  <p:spPr>
                    <a:xfrm>
                      <a:off x="1217520" y="590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2" name=""/>
                    <p:cNvSpPr/>
                    <p:nvPr/>
                  </p:nvSpPr>
                  <p:spPr>
                    <a:xfrm>
                      <a:off x="1217520" y="5913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3" name=""/>
                    <p:cNvSpPr/>
                    <p:nvPr/>
                  </p:nvSpPr>
                  <p:spPr>
                    <a:xfrm>
                      <a:off x="1217520" y="5927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4" name=""/>
                  <p:cNvGrpSpPr/>
                  <p:nvPr/>
                </p:nvGrpSpPr>
                <p:grpSpPr>
                  <a:xfrm>
                    <a:off x="1217520" y="5941440"/>
                    <a:ext cx="83520" cy="41400"/>
                    <a:chOff x="1217520" y="5941440"/>
                    <a:chExt cx="83520" cy="41400"/>
                  </a:xfrm>
                </p:grpSpPr>
                <p:sp>
                  <p:nvSpPr>
                    <p:cNvPr id="6885" name=""/>
                    <p:cNvSpPr/>
                    <p:nvPr/>
                  </p:nvSpPr>
                  <p:spPr>
                    <a:xfrm>
                      <a:off x="1217520" y="594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6" name=""/>
                    <p:cNvSpPr/>
                    <p:nvPr/>
                  </p:nvSpPr>
                  <p:spPr>
                    <a:xfrm>
                      <a:off x="1217520" y="5954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7" name=""/>
                    <p:cNvSpPr/>
                    <p:nvPr/>
                  </p:nvSpPr>
                  <p:spPr>
                    <a:xfrm>
                      <a:off x="1217520" y="596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888" name=""/>
                <p:cNvGrpSpPr/>
                <p:nvPr/>
              </p:nvGrpSpPr>
              <p:grpSpPr>
                <a:xfrm>
                  <a:off x="1217520" y="5981040"/>
                  <a:ext cx="83520" cy="207720"/>
                  <a:chOff x="1217520" y="5981040"/>
                  <a:chExt cx="83520" cy="207720"/>
                </a:xfrm>
              </p:grpSpPr>
              <p:grpSp>
                <p:nvGrpSpPr>
                  <p:cNvPr id="6889" name=""/>
                  <p:cNvGrpSpPr/>
                  <p:nvPr/>
                </p:nvGrpSpPr>
                <p:grpSpPr>
                  <a:xfrm>
                    <a:off x="1217520" y="5981040"/>
                    <a:ext cx="83520" cy="41400"/>
                    <a:chOff x="1217520" y="5981040"/>
                    <a:chExt cx="83520" cy="41400"/>
                  </a:xfrm>
                </p:grpSpPr>
                <p:sp>
                  <p:nvSpPr>
                    <p:cNvPr id="6890" name=""/>
                    <p:cNvSpPr/>
                    <p:nvPr/>
                  </p:nvSpPr>
                  <p:spPr>
                    <a:xfrm>
                      <a:off x="1217520" y="59810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1" name=""/>
                    <p:cNvSpPr/>
                    <p:nvPr/>
                  </p:nvSpPr>
                  <p:spPr>
                    <a:xfrm>
                      <a:off x="1217520" y="5994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2" name=""/>
                    <p:cNvSpPr/>
                    <p:nvPr/>
                  </p:nvSpPr>
                  <p:spPr>
                    <a:xfrm>
                      <a:off x="1217520" y="6008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3" name=""/>
                  <p:cNvGrpSpPr/>
                  <p:nvPr/>
                </p:nvGrpSpPr>
                <p:grpSpPr>
                  <a:xfrm>
                    <a:off x="1217520" y="6022800"/>
                    <a:ext cx="83520" cy="41400"/>
                    <a:chOff x="1217520" y="6022800"/>
                    <a:chExt cx="83520" cy="41400"/>
                  </a:xfrm>
                </p:grpSpPr>
                <p:sp>
                  <p:nvSpPr>
                    <p:cNvPr id="6894" name=""/>
                    <p:cNvSpPr/>
                    <p:nvPr/>
                  </p:nvSpPr>
                  <p:spPr>
                    <a:xfrm>
                      <a:off x="1217520" y="6022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5" name=""/>
                    <p:cNvSpPr/>
                    <p:nvPr/>
                  </p:nvSpPr>
                  <p:spPr>
                    <a:xfrm>
                      <a:off x="1217520" y="6036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6" name=""/>
                    <p:cNvSpPr/>
                    <p:nvPr/>
                  </p:nvSpPr>
                  <p:spPr>
                    <a:xfrm>
                      <a:off x="1217520" y="6050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7" name=""/>
                  <p:cNvGrpSpPr/>
                  <p:nvPr/>
                </p:nvGrpSpPr>
                <p:grpSpPr>
                  <a:xfrm>
                    <a:off x="1217520" y="6064560"/>
                    <a:ext cx="83520" cy="41400"/>
                    <a:chOff x="1217520" y="6064560"/>
                    <a:chExt cx="83520" cy="41400"/>
                  </a:xfrm>
                </p:grpSpPr>
                <p:sp>
                  <p:nvSpPr>
                    <p:cNvPr id="6898" name=""/>
                    <p:cNvSpPr/>
                    <p:nvPr/>
                  </p:nvSpPr>
                  <p:spPr>
                    <a:xfrm>
                      <a:off x="1217520" y="6064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9" name=""/>
                    <p:cNvSpPr/>
                    <p:nvPr/>
                  </p:nvSpPr>
                  <p:spPr>
                    <a:xfrm>
                      <a:off x="1217520" y="6077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0" name=""/>
                    <p:cNvSpPr/>
                    <p:nvPr/>
                  </p:nvSpPr>
                  <p:spPr>
                    <a:xfrm>
                      <a:off x="1217520" y="6091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1" name=""/>
                  <p:cNvGrpSpPr/>
                  <p:nvPr/>
                </p:nvGrpSpPr>
                <p:grpSpPr>
                  <a:xfrm>
                    <a:off x="1217520" y="6106320"/>
                    <a:ext cx="83520" cy="41400"/>
                    <a:chOff x="1217520" y="6106320"/>
                    <a:chExt cx="83520" cy="41400"/>
                  </a:xfrm>
                </p:grpSpPr>
                <p:sp>
                  <p:nvSpPr>
                    <p:cNvPr id="6902" name=""/>
                    <p:cNvSpPr/>
                    <p:nvPr/>
                  </p:nvSpPr>
                  <p:spPr>
                    <a:xfrm>
                      <a:off x="1217520" y="6106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3" name=""/>
                    <p:cNvSpPr/>
                    <p:nvPr/>
                  </p:nvSpPr>
                  <p:spPr>
                    <a:xfrm>
                      <a:off x="1217520" y="6119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4" name=""/>
                    <p:cNvSpPr/>
                    <p:nvPr/>
                  </p:nvSpPr>
                  <p:spPr>
                    <a:xfrm>
                      <a:off x="1217520" y="6133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5" name=""/>
                  <p:cNvGrpSpPr/>
                  <p:nvPr/>
                </p:nvGrpSpPr>
                <p:grpSpPr>
                  <a:xfrm>
                    <a:off x="1217520" y="6147360"/>
                    <a:ext cx="83520" cy="41400"/>
                    <a:chOff x="1217520" y="6147360"/>
                    <a:chExt cx="83520" cy="41400"/>
                  </a:xfrm>
                </p:grpSpPr>
                <p:sp>
                  <p:nvSpPr>
                    <p:cNvPr id="6906" name=""/>
                    <p:cNvSpPr/>
                    <p:nvPr/>
                  </p:nvSpPr>
                  <p:spPr>
                    <a:xfrm>
                      <a:off x="1217520" y="6147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7" name=""/>
                    <p:cNvSpPr/>
                    <p:nvPr/>
                  </p:nvSpPr>
                  <p:spPr>
                    <a:xfrm>
                      <a:off x="1217520" y="6160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8" name=""/>
                    <p:cNvSpPr/>
                    <p:nvPr/>
                  </p:nvSpPr>
                  <p:spPr>
                    <a:xfrm>
                      <a:off x="1217520" y="6174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09" name=""/>
              <p:cNvGrpSpPr/>
              <p:nvPr/>
            </p:nvGrpSpPr>
            <p:grpSpPr>
              <a:xfrm>
                <a:off x="1190880" y="5559840"/>
                <a:ext cx="137160" cy="215640"/>
                <a:chOff x="1190880" y="5559840"/>
                <a:chExt cx="137160" cy="215640"/>
              </a:xfrm>
            </p:grpSpPr>
            <p:grpSp>
              <p:nvGrpSpPr>
                <p:cNvPr id="6910" name=""/>
                <p:cNvGrpSpPr/>
                <p:nvPr/>
              </p:nvGrpSpPr>
              <p:grpSpPr>
                <a:xfrm>
                  <a:off x="1190880" y="5632560"/>
                  <a:ext cx="137160" cy="142920"/>
                  <a:chOff x="1190880" y="5632560"/>
                  <a:chExt cx="137160" cy="142920"/>
                </a:xfrm>
              </p:grpSpPr>
              <p:sp>
                <p:nvSpPr>
                  <p:cNvPr id="6911" name=""/>
                  <p:cNvSpPr/>
                  <p:nvPr/>
                </p:nvSpPr>
                <p:spPr>
                  <a:xfrm>
                    <a:off x="1190880" y="569484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12" name=""/>
                  <p:cNvGrpSpPr/>
                  <p:nvPr/>
                </p:nvGrpSpPr>
                <p:grpSpPr>
                  <a:xfrm>
                    <a:off x="1193400" y="5632560"/>
                    <a:ext cx="131760" cy="142920"/>
                    <a:chOff x="1193400" y="5632560"/>
                    <a:chExt cx="131760" cy="142920"/>
                  </a:xfrm>
                </p:grpSpPr>
                <p:sp>
                  <p:nvSpPr>
                    <p:cNvPr id="6913" name=""/>
                    <p:cNvSpPr/>
                    <p:nvPr/>
                  </p:nvSpPr>
                  <p:spPr>
                    <a:xfrm>
                      <a:off x="1194120" y="570168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4" name=""/>
                    <p:cNvSpPr/>
                    <p:nvPr/>
                  </p:nvSpPr>
                  <p:spPr>
                    <a:xfrm flipV="1">
                      <a:off x="1193400" y="56440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5" name=""/>
                    <p:cNvSpPr/>
                    <p:nvPr/>
                  </p:nvSpPr>
                  <p:spPr>
                    <a:xfrm>
                      <a:off x="1197360" y="56325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916" name=""/>
                <p:cNvGrpSpPr/>
                <p:nvPr/>
              </p:nvGrpSpPr>
              <p:grpSpPr>
                <a:xfrm>
                  <a:off x="1216080" y="5559840"/>
                  <a:ext cx="86040" cy="72000"/>
                  <a:chOff x="1216080" y="5559840"/>
                  <a:chExt cx="86040" cy="72000"/>
                </a:xfrm>
              </p:grpSpPr>
              <p:sp>
                <p:nvSpPr>
                  <p:cNvPr id="6917" name=""/>
                  <p:cNvSpPr/>
                  <p:nvPr/>
                </p:nvSpPr>
                <p:spPr>
                  <a:xfrm>
                    <a:off x="1216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"/>
                  <p:cNvSpPr/>
                  <p:nvPr/>
                </p:nvSpPr>
                <p:spPr>
                  <a:xfrm>
                    <a:off x="1234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9" name=""/>
                  <p:cNvSpPr/>
                  <p:nvPr/>
                </p:nvSpPr>
                <p:spPr>
                  <a:xfrm>
                    <a:off x="125280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0" name=""/>
                  <p:cNvSpPr/>
                  <p:nvPr/>
                </p:nvSpPr>
                <p:spPr>
                  <a:xfrm>
                    <a:off x="127296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1" name=""/>
                  <p:cNvSpPr/>
                  <p:nvPr/>
                </p:nvSpPr>
                <p:spPr>
                  <a:xfrm>
                    <a:off x="129132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"/>
                  <p:cNvSpPr/>
                  <p:nvPr/>
                </p:nvSpPr>
                <p:spPr>
                  <a:xfrm>
                    <a:off x="1216080" y="55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3" name=""/>
                  <p:cNvSpPr/>
                  <p:nvPr/>
                </p:nvSpPr>
                <p:spPr>
                  <a:xfrm>
                    <a:off x="1216800" y="56131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4" name=""/>
                  <p:cNvSpPr/>
                  <p:nvPr/>
                </p:nvSpPr>
                <p:spPr>
                  <a:xfrm>
                    <a:off x="1216800" y="56318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5" name=""/>
                <p:cNvSpPr/>
                <p:nvPr/>
              </p:nvSpPr>
              <p:spPr>
                <a:xfrm>
                  <a:off x="1207080" y="570132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1289880" y="5700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1241640" y="571464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28" name=""/>
            <p:cNvSpPr/>
            <p:nvPr/>
          </p:nvSpPr>
          <p:spPr>
            <a:xfrm>
              <a:off x="508320" y="4848480"/>
              <a:ext cx="1503000" cy="997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3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output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ramp on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9" name=""/>
          <p:cNvGrpSpPr/>
          <p:nvPr/>
        </p:nvGrpSpPr>
        <p:grpSpPr>
          <a:xfrm>
            <a:off x="2592000" y="5298120"/>
            <a:ext cx="1231200" cy="1225080"/>
            <a:chOff x="2592000" y="5298120"/>
            <a:chExt cx="1231200" cy="1225080"/>
          </a:xfrm>
        </p:grpSpPr>
        <p:grpSp>
          <p:nvGrpSpPr>
            <p:cNvPr id="6930" name=""/>
            <p:cNvGrpSpPr/>
            <p:nvPr/>
          </p:nvGrpSpPr>
          <p:grpSpPr>
            <a:xfrm>
              <a:off x="2890800" y="5888520"/>
              <a:ext cx="631800" cy="634680"/>
              <a:chOff x="2890800" y="5888520"/>
              <a:chExt cx="631800" cy="634680"/>
            </a:xfrm>
          </p:grpSpPr>
          <p:grpSp>
            <p:nvGrpSpPr>
              <p:cNvPr id="6931" name=""/>
              <p:cNvGrpSpPr/>
              <p:nvPr/>
            </p:nvGrpSpPr>
            <p:grpSpPr>
              <a:xfrm>
                <a:off x="2890800" y="6104520"/>
                <a:ext cx="631800" cy="418680"/>
                <a:chOff x="2890800" y="6104520"/>
                <a:chExt cx="631800" cy="418680"/>
              </a:xfrm>
            </p:grpSpPr>
            <p:grpSp>
              <p:nvGrpSpPr>
                <p:cNvPr id="6932" name=""/>
                <p:cNvGrpSpPr/>
                <p:nvPr/>
              </p:nvGrpSpPr>
              <p:grpSpPr>
                <a:xfrm>
                  <a:off x="2890800" y="6440400"/>
                  <a:ext cx="631800" cy="82800"/>
                  <a:chOff x="2890800" y="6440400"/>
                  <a:chExt cx="631800" cy="82800"/>
                </a:xfrm>
              </p:grpSpPr>
              <p:sp>
                <p:nvSpPr>
                  <p:cNvPr id="6933" name=""/>
                  <p:cNvSpPr/>
                  <p:nvPr/>
                </p:nvSpPr>
                <p:spPr>
                  <a:xfrm>
                    <a:off x="299592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4" name=""/>
                  <p:cNvSpPr/>
                  <p:nvPr/>
                </p:nvSpPr>
                <p:spPr>
                  <a:xfrm>
                    <a:off x="320688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5" name=""/>
                  <p:cNvSpPr/>
                  <p:nvPr/>
                </p:nvSpPr>
                <p:spPr>
                  <a:xfrm>
                    <a:off x="331236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6" name=""/>
                  <p:cNvSpPr/>
                  <p:nvPr/>
                </p:nvSpPr>
                <p:spPr>
                  <a:xfrm>
                    <a:off x="341784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7" name=""/>
                  <p:cNvSpPr/>
                  <p:nvPr/>
                </p:nvSpPr>
                <p:spPr>
                  <a:xfrm>
                    <a:off x="31014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8" name=""/>
                  <p:cNvSpPr/>
                  <p:nvPr/>
                </p:nvSpPr>
                <p:spPr>
                  <a:xfrm>
                    <a:off x="28908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9" name=""/>
                <p:cNvGrpSpPr/>
                <p:nvPr/>
              </p:nvGrpSpPr>
              <p:grpSpPr>
                <a:xfrm>
                  <a:off x="2943360" y="6356520"/>
                  <a:ext cx="526680" cy="82800"/>
                  <a:chOff x="2943360" y="6356520"/>
                  <a:chExt cx="526680" cy="82800"/>
                </a:xfrm>
              </p:grpSpPr>
              <p:sp>
                <p:nvSpPr>
                  <p:cNvPr id="6940" name=""/>
                  <p:cNvSpPr/>
                  <p:nvPr/>
                </p:nvSpPr>
                <p:spPr>
                  <a:xfrm>
                    <a:off x="294336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1" name=""/>
                  <p:cNvSpPr/>
                  <p:nvPr/>
                </p:nvSpPr>
                <p:spPr>
                  <a:xfrm>
                    <a:off x="315432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2" name=""/>
                  <p:cNvSpPr/>
                  <p:nvPr/>
                </p:nvSpPr>
                <p:spPr>
                  <a:xfrm>
                    <a:off x="325980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3" name=""/>
                  <p:cNvSpPr/>
                  <p:nvPr/>
                </p:nvSpPr>
                <p:spPr>
                  <a:xfrm>
                    <a:off x="336528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"/>
                  <p:cNvSpPr/>
                  <p:nvPr/>
                </p:nvSpPr>
                <p:spPr>
                  <a:xfrm>
                    <a:off x="304884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"/>
                <p:cNvSpPr/>
                <p:nvPr/>
              </p:nvSpPr>
              <p:spPr>
                <a:xfrm>
                  <a:off x="310176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6" name=""/>
                <p:cNvSpPr/>
                <p:nvPr/>
              </p:nvSpPr>
              <p:spPr>
                <a:xfrm>
                  <a:off x="331272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7" name=""/>
                <p:cNvSpPr/>
                <p:nvPr/>
              </p:nvSpPr>
              <p:spPr>
                <a:xfrm>
                  <a:off x="320724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8" name=""/>
                <p:cNvSpPr/>
                <p:nvPr/>
              </p:nvSpPr>
              <p:spPr>
                <a:xfrm>
                  <a:off x="299628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9" name=""/>
                <p:cNvSpPr/>
                <p:nvPr/>
              </p:nvSpPr>
              <p:spPr>
                <a:xfrm>
                  <a:off x="304920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"/>
                <p:cNvSpPr/>
                <p:nvPr/>
              </p:nvSpPr>
              <p:spPr>
                <a:xfrm>
                  <a:off x="326016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1" name=""/>
                <p:cNvSpPr/>
                <p:nvPr/>
              </p:nvSpPr>
              <p:spPr>
                <a:xfrm>
                  <a:off x="315468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2" name=""/>
                <p:cNvGrpSpPr/>
                <p:nvPr/>
              </p:nvGrpSpPr>
              <p:grpSpPr>
                <a:xfrm>
                  <a:off x="3102840" y="6104520"/>
                  <a:ext cx="210240" cy="82800"/>
                  <a:chOff x="3102840" y="6104520"/>
                  <a:chExt cx="210240" cy="82800"/>
                </a:xfrm>
              </p:grpSpPr>
              <p:sp>
                <p:nvSpPr>
                  <p:cNvPr id="6953" name=""/>
                  <p:cNvSpPr/>
                  <p:nvPr/>
                </p:nvSpPr>
                <p:spPr>
                  <a:xfrm>
                    <a:off x="310284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4" name=""/>
                  <p:cNvSpPr/>
                  <p:nvPr/>
                </p:nvSpPr>
                <p:spPr>
                  <a:xfrm>
                    <a:off x="320832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55" name=""/>
              <p:cNvGrpSpPr/>
              <p:nvPr/>
            </p:nvGrpSpPr>
            <p:grpSpPr>
              <a:xfrm>
                <a:off x="3164760" y="6104520"/>
                <a:ext cx="83880" cy="414360"/>
                <a:chOff x="3164760" y="6104520"/>
                <a:chExt cx="83880" cy="414360"/>
              </a:xfrm>
            </p:grpSpPr>
            <p:grpSp>
              <p:nvGrpSpPr>
                <p:cNvPr id="6956" name=""/>
                <p:cNvGrpSpPr/>
                <p:nvPr/>
              </p:nvGrpSpPr>
              <p:grpSpPr>
                <a:xfrm>
                  <a:off x="3164760" y="6104520"/>
                  <a:ext cx="83880" cy="208080"/>
                  <a:chOff x="3164760" y="6104520"/>
                  <a:chExt cx="83880" cy="208080"/>
                </a:xfrm>
              </p:grpSpPr>
              <p:grpSp>
                <p:nvGrpSpPr>
                  <p:cNvPr id="6957" name=""/>
                  <p:cNvGrpSpPr/>
                  <p:nvPr/>
                </p:nvGrpSpPr>
                <p:grpSpPr>
                  <a:xfrm>
                    <a:off x="3164760" y="6104520"/>
                    <a:ext cx="83880" cy="41400"/>
                    <a:chOff x="3164760" y="6104520"/>
                    <a:chExt cx="83880" cy="41400"/>
                  </a:xfrm>
                </p:grpSpPr>
                <p:sp>
                  <p:nvSpPr>
                    <p:cNvPr id="6958" name=""/>
                    <p:cNvSpPr/>
                    <p:nvPr/>
                  </p:nvSpPr>
                  <p:spPr>
                    <a:xfrm>
                      <a:off x="3164760" y="610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9" name=""/>
                    <p:cNvSpPr/>
                    <p:nvPr/>
                  </p:nvSpPr>
                  <p:spPr>
                    <a:xfrm>
                      <a:off x="3164760" y="6117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0" name=""/>
                    <p:cNvSpPr/>
                    <p:nvPr/>
                  </p:nvSpPr>
                  <p:spPr>
                    <a:xfrm>
                      <a:off x="3164760" y="613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1" name=""/>
                  <p:cNvGrpSpPr/>
                  <p:nvPr/>
                </p:nvGrpSpPr>
                <p:grpSpPr>
                  <a:xfrm>
                    <a:off x="3164760" y="6146280"/>
                    <a:ext cx="83880" cy="41400"/>
                    <a:chOff x="3164760" y="6146280"/>
                    <a:chExt cx="83880" cy="41400"/>
                  </a:xfrm>
                </p:grpSpPr>
                <p:sp>
                  <p:nvSpPr>
                    <p:cNvPr id="6962" name=""/>
                    <p:cNvSpPr/>
                    <p:nvPr/>
                  </p:nvSpPr>
                  <p:spPr>
                    <a:xfrm>
                      <a:off x="3164760" y="6146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3" name=""/>
                    <p:cNvSpPr/>
                    <p:nvPr/>
                  </p:nvSpPr>
                  <p:spPr>
                    <a:xfrm>
                      <a:off x="3164760" y="6159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4" name=""/>
                    <p:cNvSpPr/>
                    <p:nvPr/>
                  </p:nvSpPr>
                  <p:spPr>
                    <a:xfrm>
                      <a:off x="3164760" y="617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5" name=""/>
                  <p:cNvGrpSpPr/>
                  <p:nvPr/>
                </p:nvGrpSpPr>
                <p:grpSpPr>
                  <a:xfrm>
                    <a:off x="3164760" y="6188040"/>
                    <a:ext cx="83880" cy="41400"/>
                    <a:chOff x="3164760" y="6188040"/>
                    <a:chExt cx="83880" cy="41400"/>
                  </a:xfrm>
                </p:grpSpPr>
                <p:sp>
                  <p:nvSpPr>
                    <p:cNvPr id="6966" name=""/>
                    <p:cNvSpPr/>
                    <p:nvPr/>
                  </p:nvSpPr>
                  <p:spPr>
                    <a:xfrm>
                      <a:off x="3164760" y="6188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7" name=""/>
                    <p:cNvSpPr/>
                    <p:nvPr/>
                  </p:nvSpPr>
                  <p:spPr>
                    <a:xfrm>
                      <a:off x="3164760" y="6201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8" name=""/>
                    <p:cNvSpPr/>
                    <p:nvPr/>
                  </p:nvSpPr>
                  <p:spPr>
                    <a:xfrm>
                      <a:off x="3164760" y="6215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9" name=""/>
                  <p:cNvGrpSpPr/>
                  <p:nvPr/>
                </p:nvGrpSpPr>
                <p:grpSpPr>
                  <a:xfrm>
                    <a:off x="3164760" y="6229800"/>
                    <a:ext cx="83880" cy="41400"/>
                    <a:chOff x="3164760" y="6229800"/>
                    <a:chExt cx="83880" cy="41400"/>
                  </a:xfrm>
                </p:grpSpPr>
                <p:sp>
                  <p:nvSpPr>
                    <p:cNvPr id="6970" name=""/>
                    <p:cNvSpPr/>
                    <p:nvPr/>
                  </p:nvSpPr>
                  <p:spPr>
                    <a:xfrm>
                      <a:off x="3164760" y="6229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1" name=""/>
                    <p:cNvSpPr/>
                    <p:nvPr/>
                  </p:nvSpPr>
                  <p:spPr>
                    <a:xfrm>
                      <a:off x="3164760" y="624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2" name=""/>
                    <p:cNvSpPr/>
                    <p:nvPr/>
                  </p:nvSpPr>
                  <p:spPr>
                    <a:xfrm>
                      <a:off x="3164760" y="6257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3" name=""/>
                  <p:cNvGrpSpPr/>
                  <p:nvPr/>
                </p:nvGrpSpPr>
                <p:grpSpPr>
                  <a:xfrm>
                    <a:off x="3164760" y="6271200"/>
                    <a:ext cx="83880" cy="41400"/>
                    <a:chOff x="3164760" y="6271200"/>
                    <a:chExt cx="83880" cy="41400"/>
                  </a:xfrm>
                </p:grpSpPr>
                <p:sp>
                  <p:nvSpPr>
                    <p:cNvPr id="6974" name=""/>
                    <p:cNvSpPr/>
                    <p:nvPr/>
                  </p:nvSpPr>
                  <p:spPr>
                    <a:xfrm>
                      <a:off x="3164760" y="6271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5" name=""/>
                    <p:cNvSpPr/>
                    <p:nvPr/>
                  </p:nvSpPr>
                  <p:spPr>
                    <a:xfrm>
                      <a:off x="3164760" y="628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6" name=""/>
                    <p:cNvSpPr/>
                    <p:nvPr/>
                  </p:nvSpPr>
                  <p:spPr>
                    <a:xfrm>
                      <a:off x="3164760" y="629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977" name=""/>
                <p:cNvGrpSpPr/>
                <p:nvPr/>
              </p:nvGrpSpPr>
              <p:grpSpPr>
                <a:xfrm>
                  <a:off x="3164760" y="6310800"/>
                  <a:ext cx="83880" cy="208080"/>
                  <a:chOff x="3164760" y="6310800"/>
                  <a:chExt cx="83880" cy="208080"/>
                </a:xfrm>
              </p:grpSpPr>
              <p:grpSp>
                <p:nvGrpSpPr>
                  <p:cNvPr id="6978" name=""/>
                  <p:cNvGrpSpPr/>
                  <p:nvPr/>
                </p:nvGrpSpPr>
                <p:grpSpPr>
                  <a:xfrm>
                    <a:off x="3164760" y="6310800"/>
                    <a:ext cx="83880" cy="41400"/>
                    <a:chOff x="3164760" y="6310800"/>
                    <a:chExt cx="83880" cy="41400"/>
                  </a:xfrm>
                </p:grpSpPr>
                <p:sp>
                  <p:nvSpPr>
                    <p:cNvPr id="6979" name=""/>
                    <p:cNvSpPr/>
                    <p:nvPr/>
                  </p:nvSpPr>
                  <p:spPr>
                    <a:xfrm>
                      <a:off x="3164760" y="631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0" name=""/>
                    <p:cNvSpPr/>
                    <p:nvPr/>
                  </p:nvSpPr>
                  <p:spPr>
                    <a:xfrm>
                      <a:off x="3164760" y="6324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1" name=""/>
                    <p:cNvSpPr/>
                    <p:nvPr/>
                  </p:nvSpPr>
                  <p:spPr>
                    <a:xfrm>
                      <a:off x="3164760" y="6338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2" name=""/>
                  <p:cNvGrpSpPr/>
                  <p:nvPr/>
                </p:nvGrpSpPr>
                <p:grpSpPr>
                  <a:xfrm>
                    <a:off x="3164760" y="6352560"/>
                    <a:ext cx="83880" cy="41400"/>
                    <a:chOff x="3164760" y="6352560"/>
                    <a:chExt cx="83880" cy="41400"/>
                  </a:xfrm>
                </p:grpSpPr>
                <p:sp>
                  <p:nvSpPr>
                    <p:cNvPr id="6983" name=""/>
                    <p:cNvSpPr/>
                    <p:nvPr/>
                  </p:nvSpPr>
                  <p:spPr>
                    <a:xfrm>
                      <a:off x="3164760" y="6352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4" name=""/>
                    <p:cNvSpPr/>
                    <p:nvPr/>
                  </p:nvSpPr>
                  <p:spPr>
                    <a:xfrm>
                      <a:off x="3164760" y="6365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5" name=""/>
                    <p:cNvSpPr/>
                    <p:nvPr/>
                  </p:nvSpPr>
                  <p:spPr>
                    <a:xfrm>
                      <a:off x="3164760" y="6379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6" name=""/>
                  <p:cNvGrpSpPr/>
                  <p:nvPr/>
                </p:nvGrpSpPr>
                <p:grpSpPr>
                  <a:xfrm>
                    <a:off x="3164760" y="6394320"/>
                    <a:ext cx="83880" cy="41400"/>
                    <a:chOff x="3164760" y="6394320"/>
                    <a:chExt cx="83880" cy="41400"/>
                  </a:xfrm>
                </p:grpSpPr>
                <p:sp>
                  <p:nvSpPr>
                    <p:cNvPr id="6987" name=""/>
                    <p:cNvSpPr/>
                    <p:nvPr/>
                  </p:nvSpPr>
                  <p:spPr>
                    <a:xfrm>
                      <a:off x="3164760" y="6394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8" name=""/>
                    <p:cNvSpPr/>
                    <p:nvPr/>
                  </p:nvSpPr>
                  <p:spPr>
                    <a:xfrm>
                      <a:off x="3164760" y="6407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9" name=""/>
                    <p:cNvSpPr/>
                    <p:nvPr/>
                  </p:nvSpPr>
                  <p:spPr>
                    <a:xfrm>
                      <a:off x="3164760" y="6421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0" name=""/>
                  <p:cNvGrpSpPr/>
                  <p:nvPr/>
                </p:nvGrpSpPr>
                <p:grpSpPr>
                  <a:xfrm>
                    <a:off x="3164760" y="6436080"/>
                    <a:ext cx="83880" cy="41400"/>
                    <a:chOff x="3164760" y="6436080"/>
                    <a:chExt cx="83880" cy="41400"/>
                  </a:xfrm>
                </p:grpSpPr>
                <p:sp>
                  <p:nvSpPr>
                    <p:cNvPr id="6991" name=""/>
                    <p:cNvSpPr/>
                    <p:nvPr/>
                  </p:nvSpPr>
                  <p:spPr>
                    <a:xfrm>
                      <a:off x="3164760" y="6436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2" name=""/>
                    <p:cNvSpPr/>
                    <p:nvPr/>
                  </p:nvSpPr>
                  <p:spPr>
                    <a:xfrm>
                      <a:off x="3164760" y="6449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3" name=""/>
                    <p:cNvSpPr/>
                    <p:nvPr/>
                  </p:nvSpPr>
                  <p:spPr>
                    <a:xfrm>
                      <a:off x="3164760" y="646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4" name=""/>
                  <p:cNvGrpSpPr/>
                  <p:nvPr/>
                </p:nvGrpSpPr>
                <p:grpSpPr>
                  <a:xfrm>
                    <a:off x="3164760" y="6477480"/>
                    <a:ext cx="83880" cy="41400"/>
                    <a:chOff x="3164760" y="6477480"/>
                    <a:chExt cx="83880" cy="41400"/>
                  </a:xfrm>
                </p:grpSpPr>
                <p:sp>
                  <p:nvSpPr>
                    <p:cNvPr id="6995" name=""/>
                    <p:cNvSpPr/>
                    <p:nvPr/>
                  </p:nvSpPr>
                  <p:spPr>
                    <a:xfrm>
                      <a:off x="3164760" y="647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6" name=""/>
                    <p:cNvSpPr/>
                    <p:nvPr/>
                  </p:nvSpPr>
                  <p:spPr>
                    <a:xfrm>
                      <a:off x="3164760" y="649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7" name=""/>
                    <p:cNvSpPr/>
                    <p:nvPr/>
                  </p:nvSpPr>
                  <p:spPr>
                    <a:xfrm>
                      <a:off x="3164760" y="6504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98" name=""/>
              <p:cNvGrpSpPr/>
              <p:nvPr/>
            </p:nvGrpSpPr>
            <p:grpSpPr>
              <a:xfrm>
                <a:off x="3138120" y="5888520"/>
                <a:ext cx="137520" cy="216000"/>
                <a:chOff x="3138120" y="5888520"/>
                <a:chExt cx="137520" cy="216000"/>
              </a:xfrm>
            </p:grpSpPr>
            <p:grpSp>
              <p:nvGrpSpPr>
                <p:cNvPr id="6999" name=""/>
                <p:cNvGrpSpPr/>
                <p:nvPr/>
              </p:nvGrpSpPr>
              <p:grpSpPr>
                <a:xfrm>
                  <a:off x="3138120" y="5961240"/>
                  <a:ext cx="137520" cy="143280"/>
                  <a:chOff x="3138120" y="5961240"/>
                  <a:chExt cx="137520" cy="143280"/>
                </a:xfrm>
              </p:grpSpPr>
              <p:sp>
                <p:nvSpPr>
                  <p:cNvPr id="7000" name=""/>
                  <p:cNvSpPr/>
                  <p:nvPr/>
                </p:nvSpPr>
                <p:spPr>
                  <a:xfrm>
                    <a:off x="3138120" y="6023880"/>
                    <a:ext cx="13752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01" name=""/>
                  <p:cNvGrpSpPr/>
                  <p:nvPr/>
                </p:nvGrpSpPr>
                <p:grpSpPr>
                  <a:xfrm>
                    <a:off x="3140640" y="5961240"/>
                    <a:ext cx="132120" cy="143280"/>
                    <a:chOff x="3140640" y="5961240"/>
                    <a:chExt cx="132120" cy="143280"/>
                  </a:xfrm>
                </p:grpSpPr>
                <p:sp>
                  <p:nvSpPr>
                    <p:cNvPr id="7002" name=""/>
                    <p:cNvSpPr/>
                    <p:nvPr/>
                  </p:nvSpPr>
                  <p:spPr>
                    <a:xfrm>
                      <a:off x="3141360" y="6030720"/>
                      <a:ext cx="13032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3" name=""/>
                    <p:cNvSpPr/>
                    <p:nvPr/>
                  </p:nvSpPr>
                  <p:spPr>
                    <a:xfrm flipV="1">
                      <a:off x="3140640" y="5972760"/>
                      <a:ext cx="132120" cy="50040"/>
                    </a:xfrm>
                    <a:custGeom>
                      <a:avLst/>
                      <a:gdLst>
                        <a:gd name="textAreaLeft" fmla="*/ 13680 w 132120"/>
                        <a:gd name="textAreaRight" fmla="*/ 118440 w 13212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4" name=""/>
                    <p:cNvSpPr/>
                    <p:nvPr/>
                  </p:nvSpPr>
                  <p:spPr>
                    <a:xfrm>
                      <a:off x="3144600" y="5961240"/>
                      <a:ext cx="12348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05" name=""/>
                <p:cNvGrpSpPr/>
                <p:nvPr/>
              </p:nvGrpSpPr>
              <p:grpSpPr>
                <a:xfrm>
                  <a:off x="3163320" y="5888520"/>
                  <a:ext cx="86400" cy="72360"/>
                  <a:chOff x="3163320" y="5888520"/>
                  <a:chExt cx="86400" cy="72360"/>
                </a:xfrm>
              </p:grpSpPr>
              <p:sp>
                <p:nvSpPr>
                  <p:cNvPr id="7006" name=""/>
                  <p:cNvSpPr/>
                  <p:nvPr/>
                </p:nvSpPr>
                <p:spPr>
                  <a:xfrm>
                    <a:off x="316368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7" name=""/>
                  <p:cNvSpPr/>
                  <p:nvPr/>
                </p:nvSpPr>
                <p:spPr>
                  <a:xfrm>
                    <a:off x="318204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8" name=""/>
                  <p:cNvSpPr/>
                  <p:nvPr/>
                </p:nvSpPr>
                <p:spPr>
                  <a:xfrm>
                    <a:off x="32004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9" name=""/>
                  <p:cNvSpPr/>
                  <p:nvPr/>
                </p:nvSpPr>
                <p:spPr>
                  <a:xfrm>
                    <a:off x="32202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0" name=""/>
                  <p:cNvSpPr/>
                  <p:nvPr/>
                </p:nvSpPr>
                <p:spPr>
                  <a:xfrm>
                    <a:off x="323892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1" name=""/>
                  <p:cNvSpPr/>
                  <p:nvPr/>
                </p:nvSpPr>
                <p:spPr>
                  <a:xfrm>
                    <a:off x="3163320" y="59194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"/>
                  <p:cNvSpPr/>
                  <p:nvPr/>
                </p:nvSpPr>
                <p:spPr>
                  <a:xfrm>
                    <a:off x="3164040" y="594216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3" name=""/>
                  <p:cNvSpPr/>
                  <p:nvPr/>
                </p:nvSpPr>
                <p:spPr>
                  <a:xfrm>
                    <a:off x="3164040" y="59608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4" name=""/>
                <p:cNvSpPr/>
                <p:nvPr/>
              </p:nvSpPr>
              <p:spPr>
                <a:xfrm>
                  <a:off x="3154320" y="603036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5" name=""/>
                <p:cNvSpPr/>
                <p:nvPr/>
              </p:nvSpPr>
              <p:spPr>
                <a:xfrm>
                  <a:off x="3237480" y="602964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6" name=""/>
                <p:cNvSpPr/>
                <p:nvPr/>
              </p:nvSpPr>
              <p:spPr>
                <a:xfrm>
                  <a:off x="3188880" y="604404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7" name=""/>
            <p:cNvSpPr/>
            <p:nvPr/>
          </p:nvSpPr>
          <p:spPr>
            <a:xfrm>
              <a:off x="2592000" y="5298120"/>
              <a:ext cx="1231200" cy="7714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2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lvds driver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8" name=""/>
          <p:cNvGrpSpPr/>
          <p:nvPr/>
        </p:nvGrpSpPr>
        <p:grpSpPr>
          <a:xfrm>
            <a:off x="3810600" y="2459160"/>
            <a:ext cx="1381680" cy="1174320"/>
            <a:chOff x="3810600" y="2459160"/>
            <a:chExt cx="1381680" cy="1174320"/>
          </a:xfrm>
        </p:grpSpPr>
        <p:grpSp>
          <p:nvGrpSpPr>
            <p:cNvPr id="7019" name=""/>
            <p:cNvGrpSpPr/>
            <p:nvPr/>
          </p:nvGrpSpPr>
          <p:grpSpPr>
            <a:xfrm>
              <a:off x="4185360" y="3000600"/>
              <a:ext cx="630720" cy="632880"/>
              <a:chOff x="4185360" y="3000600"/>
              <a:chExt cx="630720" cy="632880"/>
            </a:xfrm>
          </p:grpSpPr>
          <p:grpSp>
            <p:nvGrpSpPr>
              <p:cNvPr id="7020" name=""/>
              <p:cNvGrpSpPr/>
              <p:nvPr/>
            </p:nvGrpSpPr>
            <p:grpSpPr>
              <a:xfrm>
                <a:off x="4185360" y="3215880"/>
                <a:ext cx="630720" cy="417600"/>
                <a:chOff x="4185360" y="3215880"/>
                <a:chExt cx="630720" cy="417600"/>
              </a:xfrm>
            </p:grpSpPr>
            <p:grpSp>
              <p:nvGrpSpPr>
                <p:cNvPr id="7021" name=""/>
                <p:cNvGrpSpPr/>
                <p:nvPr/>
              </p:nvGrpSpPr>
              <p:grpSpPr>
                <a:xfrm>
                  <a:off x="4185360" y="3551040"/>
                  <a:ext cx="630720" cy="82440"/>
                  <a:chOff x="4185360" y="3551040"/>
                  <a:chExt cx="630720" cy="82440"/>
                </a:xfrm>
              </p:grpSpPr>
              <p:sp>
                <p:nvSpPr>
                  <p:cNvPr id="7022" name=""/>
                  <p:cNvSpPr/>
                  <p:nvPr/>
                </p:nvSpPr>
                <p:spPr>
                  <a:xfrm>
                    <a:off x="42904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3" name=""/>
                  <p:cNvSpPr/>
                  <p:nvPr/>
                </p:nvSpPr>
                <p:spPr>
                  <a:xfrm>
                    <a:off x="45010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4" name=""/>
                  <p:cNvSpPr/>
                  <p:nvPr/>
                </p:nvSpPr>
                <p:spPr>
                  <a:xfrm>
                    <a:off x="46062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"/>
                  <p:cNvSpPr/>
                  <p:nvPr/>
                </p:nvSpPr>
                <p:spPr>
                  <a:xfrm>
                    <a:off x="47116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6" name=""/>
                  <p:cNvSpPr/>
                  <p:nvPr/>
                </p:nvSpPr>
                <p:spPr>
                  <a:xfrm>
                    <a:off x="43956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7" name=""/>
                  <p:cNvSpPr/>
                  <p:nvPr/>
                </p:nvSpPr>
                <p:spPr>
                  <a:xfrm>
                    <a:off x="418536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8" name=""/>
                <p:cNvGrpSpPr/>
                <p:nvPr/>
              </p:nvGrpSpPr>
              <p:grpSpPr>
                <a:xfrm>
                  <a:off x="4237920" y="3467520"/>
                  <a:ext cx="525240" cy="82440"/>
                  <a:chOff x="4237920" y="3467520"/>
                  <a:chExt cx="525240" cy="82440"/>
                </a:xfrm>
              </p:grpSpPr>
              <p:sp>
                <p:nvSpPr>
                  <p:cNvPr id="7029" name=""/>
                  <p:cNvSpPr/>
                  <p:nvPr/>
                </p:nvSpPr>
                <p:spPr>
                  <a:xfrm>
                    <a:off x="423792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0" name=""/>
                  <p:cNvSpPr/>
                  <p:nvPr/>
                </p:nvSpPr>
                <p:spPr>
                  <a:xfrm>
                    <a:off x="44481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1" name=""/>
                  <p:cNvSpPr/>
                  <p:nvPr/>
                </p:nvSpPr>
                <p:spPr>
                  <a:xfrm>
                    <a:off x="45536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2" name=""/>
                  <p:cNvSpPr/>
                  <p:nvPr/>
                </p:nvSpPr>
                <p:spPr>
                  <a:xfrm>
                    <a:off x="46587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3" name=""/>
                  <p:cNvSpPr/>
                  <p:nvPr/>
                </p:nvSpPr>
                <p:spPr>
                  <a:xfrm>
                    <a:off x="43430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34" name=""/>
                <p:cNvSpPr/>
                <p:nvPr/>
              </p:nvSpPr>
              <p:spPr>
                <a:xfrm>
                  <a:off x="439596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"/>
                <p:cNvSpPr/>
                <p:nvPr/>
              </p:nvSpPr>
              <p:spPr>
                <a:xfrm>
                  <a:off x="460656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"/>
                <p:cNvSpPr/>
                <p:nvPr/>
              </p:nvSpPr>
              <p:spPr>
                <a:xfrm>
                  <a:off x="450108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7" name=""/>
                <p:cNvSpPr/>
                <p:nvPr/>
              </p:nvSpPr>
              <p:spPr>
                <a:xfrm>
                  <a:off x="429048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8" name=""/>
                <p:cNvSpPr/>
                <p:nvPr/>
              </p:nvSpPr>
              <p:spPr>
                <a:xfrm>
                  <a:off x="4343400" y="330048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"/>
                <p:cNvSpPr/>
                <p:nvPr/>
              </p:nvSpPr>
              <p:spPr>
                <a:xfrm>
                  <a:off x="455400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"/>
                <p:cNvSpPr/>
                <p:nvPr/>
              </p:nvSpPr>
              <p:spPr>
                <a:xfrm>
                  <a:off x="444888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1" name=""/>
                <p:cNvGrpSpPr/>
                <p:nvPr/>
              </p:nvGrpSpPr>
              <p:grpSpPr>
                <a:xfrm>
                  <a:off x="4397040" y="3215880"/>
                  <a:ext cx="209880" cy="82440"/>
                  <a:chOff x="4397040" y="3215880"/>
                  <a:chExt cx="209880" cy="82440"/>
                </a:xfrm>
              </p:grpSpPr>
              <p:sp>
                <p:nvSpPr>
                  <p:cNvPr id="7042" name=""/>
                  <p:cNvSpPr/>
                  <p:nvPr/>
                </p:nvSpPr>
                <p:spPr>
                  <a:xfrm>
                    <a:off x="4397040" y="321588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3" name=""/>
                  <p:cNvSpPr/>
                  <p:nvPr/>
                </p:nvSpPr>
                <p:spPr>
                  <a:xfrm>
                    <a:off x="4502520" y="32158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44" name=""/>
              <p:cNvGrpSpPr/>
              <p:nvPr/>
            </p:nvGrpSpPr>
            <p:grpSpPr>
              <a:xfrm>
                <a:off x="4458600" y="3215880"/>
                <a:ext cx="83520" cy="413640"/>
                <a:chOff x="4458600" y="3215880"/>
                <a:chExt cx="83520" cy="413640"/>
              </a:xfrm>
            </p:grpSpPr>
            <p:grpSp>
              <p:nvGrpSpPr>
                <p:cNvPr id="7045" name=""/>
                <p:cNvGrpSpPr/>
                <p:nvPr/>
              </p:nvGrpSpPr>
              <p:grpSpPr>
                <a:xfrm>
                  <a:off x="4458600" y="3215880"/>
                  <a:ext cx="83520" cy="207720"/>
                  <a:chOff x="4458600" y="3215880"/>
                  <a:chExt cx="83520" cy="207720"/>
                </a:xfrm>
              </p:grpSpPr>
              <p:grpSp>
                <p:nvGrpSpPr>
                  <p:cNvPr id="7046" name=""/>
                  <p:cNvGrpSpPr/>
                  <p:nvPr/>
                </p:nvGrpSpPr>
                <p:grpSpPr>
                  <a:xfrm>
                    <a:off x="4458600" y="3215880"/>
                    <a:ext cx="83520" cy="41400"/>
                    <a:chOff x="4458600" y="3215880"/>
                    <a:chExt cx="83520" cy="41400"/>
                  </a:xfrm>
                </p:grpSpPr>
                <p:sp>
                  <p:nvSpPr>
                    <p:cNvPr id="7047" name=""/>
                    <p:cNvSpPr/>
                    <p:nvPr/>
                  </p:nvSpPr>
                  <p:spPr>
                    <a:xfrm>
                      <a:off x="4458600" y="3215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8" name=""/>
                    <p:cNvSpPr/>
                    <p:nvPr/>
                  </p:nvSpPr>
                  <p:spPr>
                    <a:xfrm>
                      <a:off x="4458600" y="3229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9" name=""/>
                    <p:cNvSpPr/>
                    <p:nvPr/>
                  </p:nvSpPr>
                  <p:spPr>
                    <a:xfrm>
                      <a:off x="4458600" y="3243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0" name=""/>
                  <p:cNvGrpSpPr/>
                  <p:nvPr/>
                </p:nvGrpSpPr>
                <p:grpSpPr>
                  <a:xfrm>
                    <a:off x="4458600" y="3257640"/>
                    <a:ext cx="83520" cy="41400"/>
                    <a:chOff x="4458600" y="3257640"/>
                    <a:chExt cx="83520" cy="41400"/>
                  </a:xfrm>
                </p:grpSpPr>
                <p:sp>
                  <p:nvSpPr>
                    <p:cNvPr id="7051" name=""/>
                    <p:cNvSpPr/>
                    <p:nvPr/>
                  </p:nvSpPr>
                  <p:spPr>
                    <a:xfrm>
                      <a:off x="4458600" y="3257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2" name=""/>
                    <p:cNvSpPr/>
                    <p:nvPr/>
                  </p:nvSpPr>
                  <p:spPr>
                    <a:xfrm>
                      <a:off x="4458600" y="327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3" name=""/>
                    <p:cNvSpPr/>
                    <p:nvPr/>
                  </p:nvSpPr>
                  <p:spPr>
                    <a:xfrm>
                      <a:off x="4458600" y="3285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4" name=""/>
                  <p:cNvGrpSpPr/>
                  <p:nvPr/>
                </p:nvGrpSpPr>
                <p:grpSpPr>
                  <a:xfrm>
                    <a:off x="4458600" y="3299400"/>
                    <a:ext cx="83520" cy="41400"/>
                    <a:chOff x="4458600" y="3299400"/>
                    <a:chExt cx="83520" cy="41400"/>
                  </a:xfrm>
                </p:grpSpPr>
                <p:sp>
                  <p:nvSpPr>
                    <p:cNvPr id="7055" name=""/>
                    <p:cNvSpPr/>
                    <p:nvPr/>
                  </p:nvSpPr>
                  <p:spPr>
                    <a:xfrm>
                      <a:off x="4458600" y="329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6" name=""/>
                    <p:cNvSpPr/>
                    <p:nvPr/>
                  </p:nvSpPr>
                  <p:spPr>
                    <a:xfrm>
                      <a:off x="4458600" y="331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7" name=""/>
                    <p:cNvSpPr/>
                    <p:nvPr/>
                  </p:nvSpPr>
                  <p:spPr>
                    <a:xfrm>
                      <a:off x="4458600" y="332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8" name=""/>
                  <p:cNvGrpSpPr/>
                  <p:nvPr/>
                </p:nvGrpSpPr>
                <p:grpSpPr>
                  <a:xfrm>
                    <a:off x="4458600" y="3341160"/>
                    <a:ext cx="83520" cy="41400"/>
                    <a:chOff x="4458600" y="3341160"/>
                    <a:chExt cx="83520" cy="41400"/>
                  </a:xfrm>
                </p:grpSpPr>
                <p:sp>
                  <p:nvSpPr>
                    <p:cNvPr id="7059" name=""/>
                    <p:cNvSpPr/>
                    <p:nvPr/>
                  </p:nvSpPr>
                  <p:spPr>
                    <a:xfrm>
                      <a:off x="4458600" y="3341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0" name=""/>
                    <p:cNvSpPr/>
                    <p:nvPr/>
                  </p:nvSpPr>
                  <p:spPr>
                    <a:xfrm>
                      <a:off x="4458600" y="3354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1" name=""/>
                    <p:cNvSpPr/>
                    <p:nvPr/>
                  </p:nvSpPr>
                  <p:spPr>
                    <a:xfrm>
                      <a:off x="4458600" y="3368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2" name=""/>
                  <p:cNvGrpSpPr/>
                  <p:nvPr/>
                </p:nvGrpSpPr>
                <p:grpSpPr>
                  <a:xfrm>
                    <a:off x="4458600" y="3382200"/>
                    <a:ext cx="83520" cy="41400"/>
                    <a:chOff x="4458600" y="3382200"/>
                    <a:chExt cx="83520" cy="41400"/>
                  </a:xfrm>
                </p:grpSpPr>
                <p:sp>
                  <p:nvSpPr>
                    <p:cNvPr id="7063" name=""/>
                    <p:cNvSpPr/>
                    <p:nvPr/>
                  </p:nvSpPr>
                  <p:spPr>
                    <a:xfrm>
                      <a:off x="4458600" y="3382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4" name=""/>
                    <p:cNvSpPr/>
                    <p:nvPr/>
                  </p:nvSpPr>
                  <p:spPr>
                    <a:xfrm>
                      <a:off x="4458600" y="3395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5" name=""/>
                    <p:cNvSpPr/>
                    <p:nvPr/>
                  </p:nvSpPr>
                  <p:spPr>
                    <a:xfrm>
                      <a:off x="4458600" y="3409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66" name=""/>
                <p:cNvGrpSpPr/>
                <p:nvPr/>
              </p:nvGrpSpPr>
              <p:grpSpPr>
                <a:xfrm>
                  <a:off x="4458600" y="3421800"/>
                  <a:ext cx="83520" cy="207720"/>
                  <a:chOff x="4458600" y="3421800"/>
                  <a:chExt cx="83520" cy="207720"/>
                </a:xfrm>
              </p:grpSpPr>
              <p:grpSp>
                <p:nvGrpSpPr>
                  <p:cNvPr id="7067" name=""/>
                  <p:cNvGrpSpPr/>
                  <p:nvPr/>
                </p:nvGrpSpPr>
                <p:grpSpPr>
                  <a:xfrm>
                    <a:off x="4458600" y="3421800"/>
                    <a:ext cx="83520" cy="41400"/>
                    <a:chOff x="4458600" y="3421800"/>
                    <a:chExt cx="83520" cy="41400"/>
                  </a:xfrm>
                </p:grpSpPr>
                <p:sp>
                  <p:nvSpPr>
                    <p:cNvPr id="7068" name=""/>
                    <p:cNvSpPr/>
                    <p:nvPr/>
                  </p:nvSpPr>
                  <p:spPr>
                    <a:xfrm>
                      <a:off x="4458600" y="3421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9" name=""/>
                    <p:cNvSpPr/>
                    <p:nvPr/>
                  </p:nvSpPr>
                  <p:spPr>
                    <a:xfrm>
                      <a:off x="4458600" y="343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0" name=""/>
                    <p:cNvSpPr/>
                    <p:nvPr/>
                  </p:nvSpPr>
                  <p:spPr>
                    <a:xfrm>
                      <a:off x="4458600" y="3449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1" name=""/>
                  <p:cNvGrpSpPr/>
                  <p:nvPr/>
                </p:nvGrpSpPr>
                <p:grpSpPr>
                  <a:xfrm>
                    <a:off x="4458600" y="3463560"/>
                    <a:ext cx="83520" cy="41400"/>
                    <a:chOff x="4458600" y="3463560"/>
                    <a:chExt cx="83520" cy="41400"/>
                  </a:xfrm>
                </p:grpSpPr>
                <p:sp>
                  <p:nvSpPr>
                    <p:cNvPr id="7072" name=""/>
                    <p:cNvSpPr/>
                    <p:nvPr/>
                  </p:nvSpPr>
                  <p:spPr>
                    <a:xfrm>
                      <a:off x="4458600" y="3463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3" name=""/>
                    <p:cNvSpPr/>
                    <p:nvPr/>
                  </p:nvSpPr>
                  <p:spPr>
                    <a:xfrm>
                      <a:off x="4458600" y="347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4" name=""/>
                    <p:cNvSpPr/>
                    <p:nvPr/>
                  </p:nvSpPr>
                  <p:spPr>
                    <a:xfrm>
                      <a:off x="4458600" y="3490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5" name=""/>
                  <p:cNvGrpSpPr/>
                  <p:nvPr/>
                </p:nvGrpSpPr>
                <p:grpSpPr>
                  <a:xfrm>
                    <a:off x="4458600" y="3505320"/>
                    <a:ext cx="83520" cy="41400"/>
                    <a:chOff x="4458600" y="3505320"/>
                    <a:chExt cx="83520" cy="41400"/>
                  </a:xfrm>
                </p:grpSpPr>
                <p:sp>
                  <p:nvSpPr>
                    <p:cNvPr id="7076" name=""/>
                    <p:cNvSpPr/>
                    <p:nvPr/>
                  </p:nvSpPr>
                  <p:spPr>
                    <a:xfrm>
                      <a:off x="4458600" y="3505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7" name=""/>
                    <p:cNvSpPr/>
                    <p:nvPr/>
                  </p:nvSpPr>
                  <p:spPr>
                    <a:xfrm>
                      <a:off x="4458600" y="351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8" name=""/>
                    <p:cNvSpPr/>
                    <p:nvPr/>
                  </p:nvSpPr>
                  <p:spPr>
                    <a:xfrm>
                      <a:off x="4458600" y="3532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9" name=""/>
                  <p:cNvGrpSpPr/>
                  <p:nvPr/>
                </p:nvGrpSpPr>
                <p:grpSpPr>
                  <a:xfrm>
                    <a:off x="4458600" y="3547080"/>
                    <a:ext cx="83520" cy="41400"/>
                    <a:chOff x="4458600" y="3547080"/>
                    <a:chExt cx="83520" cy="41400"/>
                  </a:xfrm>
                </p:grpSpPr>
                <p:sp>
                  <p:nvSpPr>
                    <p:cNvPr id="7080" name=""/>
                    <p:cNvSpPr/>
                    <p:nvPr/>
                  </p:nvSpPr>
                  <p:spPr>
                    <a:xfrm>
                      <a:off x="4458600" y="35470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1" name=""/>
                    <p:cNvSpPr/>
                    <p:nvPr/>
                  </p:nvSpPr>
                  <p:spPr>
                    <a:xfrm>
                      <a:off x="4458600" y="356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2" name=""/>
                    <p:cNvSpPr/>
                    <p:nvPr/>
                  </p:nvSpPr>
                  <p:spPr>
                    <a:xfrm>
                      <a:off x="4458600" y="3574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3" name=""/>
                  <p:cNvGrpSpPr/>
                  <p:nvPr/>
                </p:nvGrpSpPr>
                <p:grpSpPr>
                  <a:xfrm>
                    <a:off x="4458600" y="3588120"/>
                    <a:ext cx="83520" cy="41400"/>
                    <a:chOff x="4458600" y="3588120"/>
                    <a:chExt cx="83520" cy="41400"/>
                  </a:xfrm>
                </p:grpSpPr>
                <p:sp>
                  <p:nvSpPr>
                    <p:cNvPr id="7084" name=""/>
                    <p:cNvSpPr/>
                    <p:nvPr/>
                  </p:nvSpPr>
                  <p:spPr>
                    <a:xfrm>
                      <a:off x="4458600" y="3588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5" name=""/>
                    <p:cNvSpPr/>
                    <p:nvPr/>
                  </p:nvSpPr>
                  <p:spPr>
                    <a:xfrm>
                      <a:off x="4458600" y="360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6" name=""/>
                    <p:cNvSpPr/>
                    <p:nvPr/>
                  </p:nvSpPr>
                  <p:spPr>
                    <a:xfrm>
                      <a:off x="4458600" y="3615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87" name=""/>
              <p:cNvGrpSpPr/>
              <p:nvPr/>
            </p:nvGrpSpPr>
            <p:grpSpPr>
              <a:xfrm>
                <a:off x="4432320" y="3000600"/>
                <a:ext cx="137160" cy="215640"/>
                <a:chOff x="4432320" y="3000600"/>
                <a:chExt cx="137160" cy="215640"/>
              </a:xfrm>
            </p:grpSpPr>
            <p:grpSp>
              <p:nvGrpSpPr>
                <p:cNvPr id="7088" name=""/>
                <p:cNvGrpSpPr/>
                <p:nvPr/>
              </p:nvGrpSpPr>
              <p:grpSpPr>
                <a:xfrm>
                  <a:off x="4432320" y="3073320"/>
                  <a:ext cx="137160" cy="142920"/>
                  <a:chOff x="4432320" y="3073320"/>
                  <a:chExt cx="137160" cy="142920"/>
                </a:xfrm>
              </p:grpSpPr>
              <p:sp>
                <p:nvSpPr>
                  <p:cNvPr id="7089" name=""/>
                  <p:cNvSpPr/>
                  <p:nvPr/>
                </p:nvSpPr>
                <p:spPr>
                  <a:xfrm>
                    <a:off x="4432320" y="31356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90" name=""/>
                  <p:cNvGrpSpPr/>
                  <p:nvPr/>
                </p:nvGrpSpPr>
                <p:grpSpPr>
                  <a:xfrm>
                    <a:off x="4434840" y="3073320"/>
                    <a:ext cx="131760" cy="142920"/>
                    <a:chOff x="4434840" y="3073320"/>
                    <a:chExt cx="131760" cy="142920"/>
                  </a:xfrm>
                </p:grpSpPr>
                <p:sp>
                  <p:nvSpPr>
                    <p:cNvPr id="7091" name=""/>
                    <p:cNvSpPr/>
                    <p:nvPr/>
                  </p:nvSpPr>
                  <p:spPr>
                    <a:xfrm>
                      <a:off x="4435560" y="31424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2" name=""/>
                    <p:cNvSpPr/>
                    <p:nvPr/>
                  </p:nvSpPr>
                  <p:spPr>
                    <a:xfrm flipV="1">
                      <a:off x="4434840" y="308484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3" name=""/>
                    <p:cNvSpPr/>
                    <p:nvPr/>
                  </p:nvSpPr>
                  <p:spPr>
                    <a:xfrm>
                      <a:off x="4438800" y="307332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94" name=""/>
                <p:cNvGrpSpPr/>
                <p:nvPr/>
              </p:nvGrpSpPr>
              <p:grpSpPr>
                <a:xfrm>
                  <a:off x="4457520" y="3000600"/>
                  <a:ext cx="86040" cy="72000"/>
                  <a:chOff x="4457520" y="3000600"/>
                  <a:chExt cx="86040" cy="72000"/>
                </a:xfrm>
              </p:grpSpPr>
              <p:sp>
                <p:nvSpPr>
                  <p:cNvPr id="7095" name=""/>
                  <p:cNvSpPr/>
                  <p:nvPr/>
                </p:nvSpPr>
                <p:spPr>
                  <a:xfrm>
                    <a:off x="4457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6" name=""/>
                  <p:cNvSpPr/>
                  <p:nvPr/>
                </p:nvSpPr>
                <p:spPr>
                  <a:xfrm>
                    <a:off x="4475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7" name=""/>
                  <p:cNvSpPr/>
                  <p:nvPr/>
                </p:nvSpPr>
                <p:spPr>
                  <a:xfrm>
                    <a:off x="449424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8" name=""/>
                  <p:cNvSpPr/>
                  <p:nvPr/>
                </p:nvSpPr>
                <p:spPr>
                  <a:xfrm>
                    <a:off x="451440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9" name=""/>
                  <p:cNvSpPr/>
                  <p:nvPr/>
                </p:nvSpPr>
                <p:spPr>
                  <a:xfrm>
                    <a:off x="453276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0" name=""/>
                  <p:cNvSpPr/>
                  <p:nvPr/>
                </p:nvSpPr>
                <p:spPr>
                  <a:xfrm>
                    <a:off x="4457520" y="30315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1" name=""/>
                  <p:cNvSpPr/>
                  <p:nvPr/>
                </p:nvSpPr>
                <p:spPr>
                  <a:xfrm>
                    <a:off x="4458240" y="30538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2" name=""/>
                  <p:cNvSpPr/>
                  <p:nvPr/>
                </p:nvSpPr>
                <p:spPr>
                  <a:xfrm>
                    <a:off x="4458240" y="30726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03" name=""/>
                <p:cNvSpPr/>
                <p:nvPr/>
              </p:nvSpPr>
              <p:spPr>
                <a:xfrm>
                  <a:off x="4448520" y="314208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"/>
                <p:cNvSpPr/>
                <p:nvPr/>
              </p:nvSpPr>
              <p:spPr>
                <a:xfrm>
                  <a:off x="4531320" y="31413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5" name=""/>
                <p:cNvSpPr/>
                <p:nvPr/>
              </p:nvSpPr>
              <p:spPr>
                <a:xfrm>
                  <a:off x="4483080" y="315540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06" name=""/>
            <p:cNvSpPr/>
            <p:nvPr/>
          </p:nvSpPr>
          <p:spPr>
            <a:xfrm>
              <a:off x="3810600" y="2459160"/>
              <a:ext cx="1381680" cy="6778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arning/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7" name=""/>
          <p:cNvGrpSpPr/>
          <p:nvPr/>
        </p:nvGrpSpPr>
        <p:grpSpPr>
          <a:xfrm>
            <a:off x="3748320" y="3860280"/>
            <a:ext cx="1903320" cy="1392840"/>
            <a:chOff x="3748320" y="3860280"/>
            <a:chExt cx="1903320" cy="1392840"/>
          </a:xfrm>
        </p:grpSpPr>
        <p:grpSp>
          <p:nvGrpSpPr>
            <p:cNvPr id="7108" name=""/>
            <p:cNvGrpSpPr/>
            <p:nvPr/>
          </p:nvGrpSpPr>
          <p:grpSpPr>
            <a:xfrm>
              <a:off x="4365720" y="4618440"/>
              <a:ext cx="631080" cy="634680"/>
              <a:chOff x="4365720" y="4618440"/>
              <a:chExt cx="631080" cy="634680"/>
            </a:xfrm>
          </p:grpSpPr>
          <p:grpSp>
            <p:nvGrpSpPr>
              <p:cNvPr id="7109" name=""/>
              <p:cNvGrpSpPr/>
              <p:nvPr/>
            </p:nvGrpSpPr>
            <p:grpSpPr>
              <a:xfrm>
                <a:off x="4365720" y="4834440"/>
                <a:ext cx="631080" cy="418680"/>
                <a:chOff x="4365720" y="4834440"/>
                <a:chExt cx="631080" cy="418680"/>
              </a:xfrm>
            </p:grpSpPr>
            <p:grpSp>
              <p:nvGrpSpPr>
                <p:cNvPr id="7110" name=""/>
                <p:cNvGrpSpPr/>
                <p:nvPr/>
              </p:nvGrpSpPr>
              <p:grpSpPr>
                <a:xfrm>
                  <a:off x="4365720" y="5170320"/>
                  <a:ext cx="631080" cy="82800"/>
                  <a:chOff x="4365720" y="5170320"/>
                  <a:chExt cx="631080" cy="82800"/>
                </a:xfrm>
              </p:grpSpPr>
              <p:sp>
                <p:nvSpPr>
                  <p:cNvPr id="7111" name=""/>
                  <p:cNvSpPr/>
                  <p:nvPr/>
                </p:nvSpPr>
                <p:spPr>
                  <a:xfrm>
                    <a:off x="447084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2" name=""/>
                  <p:cNvSpPr/>
                  <p:nvPr/>
                </p:nvSpPr>
                <p:spPr>
                  <a:xfrm>
                    <a:off x="46814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3" name=""/>
                  <p:cNvSpPr/>
                  <p:nvPr/>
                </p:nvSpPr>
                <p:spPr>
                  <a:xfrm>
                    <a:off x="478692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4" name=""/>
                  <p:cNvSpPr/>
                  <p:nvPr/>
                </p:nvSpPr>
                <p:spPr>
                  <a:xfrm>
                    <a:off x="48920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5" name=""/>
                  <p:cNvSpPr/>
                  <p:nvPr/>
                </p:nvSpPr>
                <p:spPr>
                  <a:xfrm>
                    <a:off x="45763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6" name=""/>
                  <p:cNvSpPr/>
                  <p:nvPr/>
                </p:nvSpPr>
                <p:spPr>
                  <a:xfrm>
                    <a:off x="43657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7" name=""/>
                <p:cNvGrpSpPr/>
                <p:nvPr/>
              </p:nvGrpSpPr>
              <p:grpSpPr>
                <a:xfrm>
                  <a:off x="4418280" y="5086440"/>
                  <a:ext cx="525960" cy="82800"/>
                  <a:chOff x="4418280" y="5086440"/>
                  <a:chExt cx="525960" cy="82800"/>
                </a:xfrm>
              </p:grpSpPr>
              <p:sp>
                <p:nvSpPr>
                  <p:cNvPr id="7118" name=""/>
                  <p:cNvSpPr/>
                  <p:nvPr/>
                </p:nvSpPr>
                <p:spPr>
                  <a:xfrm>
                    <a:off x="44182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9" name=""/>
                  <p:cNvSpPr/>
                  <p:nvPr/>
                </p:nvSpPr>
                <p:spPr>
                  <a:xfrm>
                    <a:off x="46288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0" name=""/>
                  <p:cNvSpPr/>
                  <p:nvPr/>
                </p:nvSpPr>
                <p:spPr>
                  <a:xfrm>
                    <a:off x="473436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1" name=""/>
                  <p:cNvSpPr/>
                  <p:nvPr/>
                </p:nvSpPr>
                <p:spPr>
                  <a:xfrm>
                    <a:off x="48394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2" name=""/>
                  <p:cNvSpPr/>
                  <p:nvPr/>
                </p:nvSpPr>
                <p:spPr>
                  <a:xfrm>
                    <a:off x="452340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23" name=""/>
                <p:cNvSpPr/>
                <p:nvPr/>
              </p:nvSpPr>
              <p:spPr>
                <a:xfrm>
                  <a:off x="457632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4" name=""/>
                <p:cNvSpPr/>
                <p:nvPr/>
              </p:nvSpPr>
              <p:spPr>
                <a:xfrm>
                  <a:off x="478728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5" name=""/>
                <p:cNvSpPr/>
                <p:nvPr/>
              </p:nvSpPr>
              <p:spPr>
                <a:xfrm>
                  <a:off x="468180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6" name=""/>
                <p:cNvSpPr/>
                <p:nvPr/>
              </p:nvSpPr>
              <p:spPr>
                <a:xfrm>
                  <a:off x="447084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7" name=""/>
                <p:cNvSpPr/>
                <p:nvPr/>
              </p:nvSpPr>
              <p:spPr>
                <a:xfrm>
                  <a:off x="4523760" y="49190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8" name=""/>
                <p:cNvSpPr/>
                <p:nvPr/>
              </p:nvSpPr>
              <p:spPr>
                <a:xfrm>
                  <a:off x="473472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9" name=""/>
                <p:cNvSpPr/>
                <p:nvPr/>
              </p:nvSpPr>
              <p:spPr>
                <a:xfrm>
                  <a:off x="462924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30" name=""/>
                <p:cNvGrpSpPr/>
                <p:nvPr/>
              </p:nvGrpSpPr>
              <p:grpSpPr>
                <a:xfrm>
                  <a:off x="4577400" y="4834440"/>
                  <a:ext cx="209880" cy="82800"/>
                  <a:chOff x="4577400" y="4834440"/>
                  <a:chExt cx="209880" cy="82800"/>
                </a:xfrm>
              </p:grpSpPr>
              <p:sp>
                <p:nvSpPr>
                  <p:cNvPr id="7131" name=""/>
                  <p:cNvSpPr/>
                  <p:nvPr/>
                </p:nvSpPr>
                <p:spPr>
                  <a:xfrm>
                    <a:off x="4577400" y="4834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2" name=""/>
                  <p:cNvSpPr/>
                  <p:nvPr/>
                </p:nvSpPr>
                <p:spPr>
                  <a:xfrm>
                    <a:off x="4682880" y="483444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3" name=""/>
              <p:cNvGrpSpPr/>
              <p:nvPr/>
            </p:nvGrpSpPr>
            <p:grpSpPr>
              <a:xfrm>
                <a:off x="4639320" y="4834440"/>
                <a:ext cx="83880" cy="414360"/>
                <a:chOff x="4639320" y="4834440"/>
                <a:chExt cx="83880" cy="414360"/>
              </a:xfrm>
            </p:grpSpPr>
            <p:grpSp>
              <p:nvGrpSpPr>
                <p:cNvPr id="7134" name=""/>
                <p:cNvGrpSpPr/>
                <p:nvPr/>
              </p:nvGrpSpPr>
              <p:grpSpPr>
                <a:xfrm>
                  <a:off x="4639320" y="4834440"/>
                  <a:ext cx="83880" cy="208080"/>
                  <a:chOff x="4639320" y="4834440"/>
                  <a:chExt cx="83880" cy="208080"/>
                </a:xfrm>
              </p:grpSpPr>
              <p:grpSp>
                <p:nvGrpSpPr>
                  <p:cNvPr id="7135" name=""/>
                  <p:cNvGrpSpPr/>
                  <p:nvPr/>
                </p:nvGrpSpPr>
                <p:grpSpPr>
                  <a:xfrm>
                    <a:off x="4639320" y="4834440"/>
                    <a:ext cx="83880" cy="41400"/>
                    <a:chOff x="4639320" y="4834440"/>
                    <a:chExt cx="83880" cy="41400"/>
                  </a:xfrm>
                </p:grpSpPr>
                <p:sp>
                  <p:nvSpPr>
                    <p:cNvPr id="7136" name=""/>
                    <p:cNvSpPr/>
                    <p:nvPr/>
                  </p:nvSpPr>
                  <p:spPr>
                    <a:xfrm>
                      <a:off x="4639320" y="483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7" name=""/>
                    <p:cNvSpPr/>
                    <p:nvPr/>
                  </p:nvSpPr>
                  <p:spPr>
                    <a:xfrm>
                      <a:off x="4639320" y="4847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8" name=""/>
                    <p:cNvSpPr/>
                    <p:nvPr/>
                  </p:nvSpPr>
                  <p:spPr>
                    <a:xfrm>
                      <a:off x="4639320" y="4861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9" name=""/>
                  <p:cNvGrpSpPr/>
                  <p:nvPr/>
                </p:nvGrpSpPr>
                <p:grpSpPr>
                  <a:xfrm>
                    <a:off x="4639320" y="4876200"/>
                    <a:ext cx="83880" cy="41400"/>
                    <a:chOff x="4639320" y="4876200"/>
                    <a:chExt cx="83880" cy="41400"/>
                  </a:xfrm>
                </p:grpSpPr>
                <p:sp>
                  <p:nvSpPr>
                    <p:cNvPr id="7140" name=""/>
                    <p:cNvSpPr/>
                    <p:nvPr/>
                  </p:nvSpPr>
                  <p:spPr>
                    <a:xfrm>
                      <a:off x="4639320" y="4876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"/>
                    <p:cNvSpPr/>
                    <p:nvPr/>
                  </p:nvSpPr>
                  <p:spPr>
                    <a:xfrm>
                      <a:off x="4639320" y="4889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2" name=""/>
                    <p:cNvSpPr/>
                    <p:nvPr/>
                  </p:nvSpPr>
                  <p:spPr>
                    <a:xfrm>
                      <a:off x="4639320" y="4903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3" name=""/>
                  <p:cNvGrpSpPr/>
                  <p:nvPr/>
                </p:nvGrpSpPr>
                <p:grpSpPr>
                  <a:xfrm>
                    <a:off x="4639320" y="4917960"/>
                    <a:ext cx="83880" cy="41400"/>
                    <a:chOff x="4639320" y="4917960"/>
                    <a:chExt cx="83880" cy="41400"/>
                  </a:xfrm>
                </p:grpSpPr>
                <p:sp>
                  <p:nvSpPr>
                    <p:cNvPr id="7144" name=""/>
                    <p:cNvSpPr/>
                    <p:nvPr/>
                  </p:nvSpPr>
                  <p:spPr>
                    <a:xfrm>
                      <a:off x="4639320" y="4917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"/>
                    <p:cNvSpPr/>
                    <p:nvPr/>
                  </p:nvSpPr>
                  <p:spPr>
                    <a:xfrm>
                      <a:off x="4639320" y="4931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6" name=""/>
                    <p:cNvSpPr/>
                    <p:nvPr/>
                  </p:nvSpPr>
                  <p:spPr>
                    <a:xfrm>
                      <a:off x="4639320" y="494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7" name=""/>
                  <p:cNvGrpSpPr/>
                  <p:nvPr/>
                </p:nvGrpSpPr>
                <p:grpSpPr>
                  <a:xfrm>
                    <a:off x="4639320" y="4959720"/>
                    <a:ext cx="83880" cy="41400"/>
                    <a:chOff x="4639320" y="4959720"/>
                    <a:chExt cx="83880" cy="41400"/>
                  </a:xfrm>
                </p:grpSpPr>
                <p:sp>
                  <p:nvSpPr>
                    <p:cNvPr id="7148" name=""/>
                    <p:cNvSpPr/>
                    <p:nvPr/>
                  </p:nvSpPr>
                  <p:spPr>
                    <a:xfrm>
                      <a:off x="4639320" y="4959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9" name=""/>
                    <p:cNvSpPr/>
                    <p:nvPr/>
                  </p:nvSpPr>
                  <p:spPr>
                    <a:xfrm>
                      <a:off x="4639320" y="4973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0" name=""/>
                    <p:cNvSpPr/>
                    <p:nvPr/>
                  </p:nvSpPr>
                  <p:spPr>
                    <a:xfrm>
                      <a:off x="4639320" y="4987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51" name=""/>
                  <p:cNvGrpSpPr/>
                  <p:nvPr/>
                </p:nvGrpSpPr>
                <p:grpSpPr>
                  <a:xfrm>
                    <a:off x="4639320" y="5001120"/>
                    <a:ext cx="83880" cy="41400"/>
                    <a:chOff x="4639320" y="5001120"/>
                    <a:chExt cx="83880" cy="41400"/>
                  </a:xfrm>
                </p:grpSpPr>
                <p:sp>
                  <p:nvSpPr>
                    <p:cNvPr id="7152" name=""/>
                    <p:cNvSpPr/>
                    <p:nvPr/>
                  </p:nvSpPr>
                  <p:spPr>
                    <a:xfrm>
                      <a:off x="4639320" y="5001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3" name=""/>
                    <p:cNvSpPr/>
                    <p:nvPr/>
                  </p:nvSpPr>
                  <p:spPr>
                    <a:xfrm>
                      <a:off x="4639320" y="501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4" name=""/>
                    <p:cNvSpPr/>
                    <p:nvPr/>
                  </p:nvSpPr>
                  <p:spPr>
                    <a:xfrm>
                      <a:off x="4639320" y="5028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155" name=""/>
                <p:cNvGrpSpPr/>
                <p:nvPr/>
              </p:nvGrpSpPr>
              <p:grpSpPr>
                <a:xfrm>
                  <a:off x="4639320" y="5040720"/>
                  <a:ext cx="83880" cy="208080"/>
                  <a:chOff x="4639320" y="5040720"/>
                  <a:chExt cx="83880" cy="208080"/>
                </a:xfrm>
              </p:grpSpPr>
              <p:grpSp>
                <p:nvGrpSpPr>
                  <p:cNvPr id="7156" name=""/>
                  <p:cNvGrpSpPr/>
                  <p:nvPr/>
                </p:nvGrpSpPr>
                <p:grpSpPr>
                  <a:xfrm>
                    <a:off x="4639320" y="5040720"/>
                    <a:ext cx="83880" cy="41400"/>
                    <a:chOff x="4639320" y="5040720"/>
                    <a:chExt cx="83880" cy="41400"/>
                  </a:xfrm>
                </p:grpSpPr>
                <p:sp>
                  <p:nvSpPr>
                    <p:cNvPr id="7157" name=""/>
                    <p:cNvSpPr/>
                    <p:nvPr/>
                  </p:nvSpPr>
                  <p:spPr>
                    <a:xfrm>
                      <a:off x="4639320" y="504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8" name=""/>
                    <p:cNvSpPr/>
                    <p:nvPr/>
                  </p:nvSpPr>
                  <p:spPr>
                    <a:xfrm>
                      <a:off x="4639320" y="5054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9" name=""/>
                    <p:cNvSpPr/>
                    <p:nvPr/>
                  </p:nvSpPr>
                  <p:spPr>
                    <a:xfrm>
                      <a:off x="4639320" y="5068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0" name=""/>
                  <p:cNvGrpSpPr/>
                  <p:nvPr/>
                </p:nvGrpSpPr>
                <p:grpSpPr>
                  <a:xfrm>
                    <a:off x="4639320" y="5082480"/>
                    <a:ext cx="83880" cy="41400"/>
                    <a:chOff x="4639320" y="5082480"/>
                    <a:chExt cx="83880" cy="41400"/>
                  </a:xfrm>
                </p:grpSpPr>
                <p:sp>
                  <p:nvSpPr>
                    <p:cNvPr id="7161" name=""/>
                    <p:cNvSpPr/>
                    <p:nvPr/>
                  </p:nvSpPr>
                  <p:spPr>
                    <a:xfrm>
                      <a:off x="4639320" y="5082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2" name=""/>
                    <p:cNvSpPr/>
                    <p:nvPr/>
                  </p:nvSpPr>
                  <p:spPr>
                    <a:xfrm>
                      <a:off x="4639320" y="5095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3" name=""/>
                    <p:cNvSpPr/>
                    <p:nvPr/>
                  </p:nvSpPr>
                  <p:spPr>
                    <a:xfrm>
                      <a:off x="4639320" y="5109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4" name=""/>
                  <p:cNvGrpSpPr/>
                  <p:nvPr/>
                </p:nvGrpSpPr>
                <p:grpSpPr>
                  <a:xfrm>
                    <a:off x="4639320" y="5124240"/>
                    <a:ext cx="83880" cy="41400"/>
                    <a:chOff x="4639320" y="5124240"/>
                    <a:chExt cx="83880" cy="41400"/>
                  </a:xfrm>
                </p:grpSpPr>
                <p:sp>
                  <p:nvSpPr>
                    <p:cNvPr id="7165" name=""/>
                    <p:cNvSpPr/>
                    <p:nvPr/>
                  </p:nvSpPr>
                  <p:spPr>
                    <a:xfrm>
                      <a:off x="4639320" y="5124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6" name=""/>
                    <p:cNvSpPr/>
                    <p:nvPr/>
                  </p:nvSpPr>
                  <p:spPr>
                    <a:xfrm>
                      <a:off x="4639320" y="5137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"/>
                    <p:cNvSpPr/>
                    <p:nvPr/>
                  </p:nvSpPr>
                  <p:spPr>
                    <a:xfrm>
                      <a:off x="4639320" y="5151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8" name=""/>
                  <p:cNvGrpSpPr/>
                  <p:nvPr/>
                </p:nvGrpSpPr>
                <p:grpSpPr>
                  <a:xfrm>
                    <a:off x="4639320" y="5166000"/>
                    <a:ext cx="83880" cy="41400"/>
                    <a:chOff x="4639320" y="5166000"/>
                    <a:chExt cx="83880" cy="41400"/>
                  </a:xfrm>
                </p:grpSpPr>
                <p:sp>
                  <p:nvSpPr>
                    <p:cNvPr id="7169" name=""/>
                    <p:cNvSpPr/>
                    <p:nvPr/>
                  </p:nvSpPr>
                  <p:spPr>
                    <a:xfrm>
                      <a:off x="4639320" y="5166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0" name=""/>
                    <p:cNvSpPr/>
                    <p:nvPr/>
                  </p:nvSpPr>
                  <p:spPr>
                    <a:xfrm>
                      <a:off x="4639320" y="5179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"/>
                    <p:cNvSpPr/>
                    <p:nvPr/>
                  </p:nvSpPr>
                  <p:spPr>
                    <a:xfrm>
                      <a:off x="4639320" y="5193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2" name=""/>
                  <p:cNvGrpSpPr/>
                  <p:nvPr/>
                </p:nvGrpSpPr>
                <p:grpSpPr>
                  <a:xfrm>
                    <a:off x="4639320" y="5207400"/>
                    <a:ext cx="83880" cy="41400"/>
                    <a:chOff x="4639320" y="5207400"/>
                    <a:chExt cx="83880" cy="41400"/>
                  </a:xfrm>
                </p:grpSpPr>
                <p:sp>
                  <p:nvSpPr>
                    <p:cNvPr id="7173" name=""/>
                    <p:cNvSpPr/>
                    <p:nvPr/>
                  </p:nvSpPr>
                  <p:spPr>
                    <a:xfrm>
                      <a:off x="4639320" y="5207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4" name=""/>
                    <p:cNvSpPr/>
                    <p:nvPr/>
                  </p:nvSpPr>
                  <p:spPr>
                    <a:xfrm>
                      <a:off x="4639320" y="522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5" name=""/>
                    <p:cNvSpPr/>
                    <p:nvPr/>
                  </p:nvSpPr>
                  <p:spPr>
                    <a:xfrm>
                      <a:off x="4639320" y="5234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176" name=""/>
              <p:cNvGrpSpPr/>
              <p:nvPr/>
            </p:nvGrpSpPr>
            <p:grpSpPr>
              <a:xfrm>
                <a:off x="4612680" y="4618440"/>
                <a:ext cx="137160" cy="216000"/>
                <a:chOff x="4612680" y="4618440"/>
                <a:chExt cx="137160" cy="216000"/>
              </a:xfrm>
            </p:grpSpPr>
            <p:grpSp>
              <p:nvGrpSpPr>
                <p:cNvPr id="7177" name=""/>
                <p:cNvGrpSpPr/>
                <p:nvPr/>
              </p:nvGrpSpPr>
              <p:grpSpPr>
                <a:xfrm>
                  <a:off x="4612680" y="4691160"/>
                  <a:ext cx="137160" cy="143280"/>
                  <a:chOff x="4612680" y="4691160"/>
                  <a:chExt cx="137160" cy="143280"/>
                </a:xfrm>
              </p:grpSpPr>
              <p:sp>
                <p:nvSpPr>
                  <p:cNvPr id="7178" name=""/>
                  <p:cNvSpPr/>
                  <p:nvPr/>
                </p:nvSpPr>
                <p:spPr>
                  <a:xfrm>
                    <a:off x="4612680" y="47538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9" name=""/>
                  <p:cNvGrpSpPr/>
                  <p:nvPr/>
                </p:nvGrpSpPr>
                <p:grpSpPr>
                  <a:xfrm>
                    <a:off x="4615200" y="4691160"/>
                    <a:ext cx="131760" cy="143280"/>
                    <a:chOff x="4615200" y="4691160"/>
                    <a:chExt cx="131760" cy="143280"/>
                  </a:xfrm>
                </p:grpSpPr>
                <p:sp>
                  <p:nvSpPr>
                    <p:cNvPr id="7180" name=""/>
                    <p:cNvSpPr/>
                    <p:nvPr/>
                  </p:nvSpPr>
                  <p:spPr>
                    <a:xfrm>
                      <a:off x="4615920" y="47606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1" name=""/>
                    <p:cNvSpPr/>
                    <p:nvPr/>
                  </p:nvSpPr>
                  <p:spPr>
                    <a:xfrm flipV="1">
                      <a:off x="4615200" y="47026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2" name=""/>
                    <p:cNvSpPr/>
                    <p:nvPr/>
                  </p:nvSpPr>
                  <p:spPr>
                    <a:xfrm>
                      <a:off x="4619160" y="46911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183" name=""/>
                <p:cNvGrpSpPr/>
                <p:nvPr/>
              </p:nvGrpSpPr>
              <p:grpSpPr>
                <a:xfrm>
                  <a:off x="4637880" y="4618440"/>
                  <a:ext cx="86040" cy="72360"/>
                  <a:chOff x="4637880" y="4618440"/>
                  <a:chExt cx="86040" cy="72360"/>
                </a:xfrm>
              </p:grpSpPr>
              <p:sp>
                <p:nvSpPr>
                  <p:cNvPr id="7184" name=""/>
                  <p:cNvSpPr/>
                  <p:nvPr/>
                </p:nvSpPr>
                <p:spPr>
                  <a:xfrm>
                    <a:off x="4638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"/>
                  <p:cNvSpPr/>
                  <p:nvPr/>
                </p:nvSpPr>
                <p:spPr>
                  <a:xfrm>
                    <a:off x="4656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"/>
                  <p:cNvSpPr/>
                  <p:nvPr/>
                </p:nvSpPr>
                <p:spPr>
                  <a:xfrm>
                    <a:off x="467460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"/>
                  <p:cNvSpPr/>
                  <p:nvPr/>
                </p:nvSpPr>
                <p:spPr>
                  <a:xfrm>
                    <a:off x="469476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"/>
                  <p:cNvSpPr/>
                  <p:nvPr/>
                </p:nvSpPr>
                <p:spPr>
                  <a:xfrm>
                    <a:off x="471312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"/>
                  <p:cNvSpPr/>
                  <p:nvPr/>
                </p:nvSpPr>
                <p:spPr>
                  <a:xfrm>
                    <a:off x="4637880" y="46494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"/>
                  <p:cNvSpPr/>
                  <p:nvPr/>
                </p:nvSpPr>
                <p:spPr>
                  <a:xfrm>
                    <a:off x="4638600" y="4672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"/>
                  <p:cNvSpPr/>
                  <p:nvPr/>
                </p:nvSpPr>
                <p:spPr>
                  <a:xfrm>
                    <a:off x="4638600" y="46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92" name=""/>
                <p:cNvSpPr/>
                <p:nvPr/>
              </p:nvSpPr>
              <p:spPr>
                <a:xfrm>
                  <a:off x="4628880" y="476028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3" name=""/>
                <p:cNvSpPr/>
                <p:nvPr/>
              </p:nvSpPr>
              <p:spPr>
                <a:xfrm>
                  <a:off x="4711680" y="47595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4" name=""/>
                <p:cNvSpPr/>
                <p:nvPr/>
              </p:nvSpPr>
              <p:spPr>
                <a:xfrm>
                  <a:off x="4663440" y="477396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95" name=""/>
            <p:cNvSpPr/>
            <p:nvPr/>
          </p:nvSpPr>
          <p:spPr>
            <a:xfrm>
              <a:off x="3748320" y="3860280"/>
              <a:ext cx="1903320" cy="10908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1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internal pullup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6" name=""/>
          <p:cNvSpPr/>
          <p:nvPr/>
        </p:nvSpPr>
        <p:spPr>
          <a:xfrm>
            <a:off x="507960" y="4503600"/>
            <a:ext cx="5548320" cy="1327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7" name=""/>
          <p:cNvSpPr/>
          <p:nvPr/>
        </p:nvSpPr>
        <p:spPr>
          <a:xfrm flipV="1">
            <a:off x="836640" y="3292560"/>
            <a:ext cx="6273720" cy="56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8" name=""/>
          <p:cNvSpPr/>
          <p:nvPr/>
        </p:nvSpPr>
        <p:spPr>
          <a:xfrm>
            <a:off x="4452840" y="2255760"/>
            <a:ext cx="98640" cy="1000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9" name=""/>
          <p:cNvGrpSpPr/>
          <p:nvPr/>
        </p:nvGrpSpPr>
        <p:grpSpPr>
          <a:xfrm>
            <a:off x="4530600" y="3754440"/>
            <a:ext cx="244080" cy="102960"/>
            <a:chOff x="4530600" y="3754440"/>
            <a:chExt cx="244080" cy="102960"/>
          </a:xfrm>
        </p:grpSpPr>
        <p:sp>
          <p:nvSpPr>
            <p:cNvPr id="7200" name=""/>
            <p:cNvSpPr/>
            <p:nvPr/>
          </p:nvSpPr>
          <p:spPr>
            <a:xfrm>
              <a:off x="4530600" y="375444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4675680" y="375696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2" name=""/>
          <p:cNvGrpSpPr/>
          <p:nvPr/>
        </p:nvGrpSpPr>
        <p:grpSpPr>
          <a:xfrm>
            <a:off x="3006720" y="5167440"/>
            <a:ext cx="378000" cy="99720"/>
            <a:chOff x="3006720" y="5167440"/>
            <a:chExt cx="378000" cy="99720"/>
          </a:xfrm>
        </p:grpSpPr>
        <p:sp>
          <p:nvSpPr>
            <p:cNvPr id="7203" name=""/>
            <p:cNvSpPr/>
            <p:nvPr/>
          </p:nvSpPr>
          <p:spPr>
            <a:xfrm>
              <a:off x="300672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3147120" y="516816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328536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6" name=""/>
          <p:cNvGrpSpPr/>
          <p:nvPr/>
        </p:nvGrpSpPr>
        <p:grpSpPr>
          <a:xfrm>
            <a:off x="977760" y="4718160"/>
            <a:ext cx="520560" cy="101520"/>
            <a:chOff x="977760" y="4718160"/>
            <a:chExt cx="520560" cy="101520"/>
          </a:xfrm>
        </p:grpSpPr>
        <p:sp>
          <p:nvSpPr>
            <p:cNvPr id="7207" name=""/>
            <p:cNvSpPr/>
            <p:nvPr/>
          </p:nvSpPr>
          <p:spPr>
            <a:xfrm>
              <a:off x="977760" y="47181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139932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1257120" y="47199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111744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1" name=""/>
          <p:cNvSpPr/>
          <p:nvPr/>
        </p:nvSpPr>
        <p:spPr>
          <a:xfrm>
            <a:off x="547560" y="3311640"/>
            <a:ext cx="565200" cy="1047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2" name=""/>
          <p:cNvSpPr/>
          <p:nvPr/>
        </p:nvSpPr>
        <p:spPr>
          <a:xfrm>
            <a:off x="6456240" y="1712880"/>
            <a:ext cx="1681200" cy="3128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ummary for ibischk  v-i vs. V-t mismatch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14" name="PlaceHolder 2"/>
          <p:cNvSpPr>
            <a:spLocks noGrp="1"/>
          </p:cNvSpPr>
          <p:nvPr>
            <p:ph/>
          </p:nvPr>
        </p:nvSpPr>
        <p:spPr>
          <a:xfrm>
            <a:off x="255600" y="759960"/>
            <a:ext cx="863424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n‘t calculate static s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[pulldown] to vcc  ( 50ohm vcc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[pullup] to gnd ( 50 ohm gn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lculate static swing from High to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[pullup] + [..clamps]   to   [pulldown] + [..clamps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loads at v-fixture and r-fix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 internal pullup/pulldown behav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e [submodel] with mode non-dr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mp dv-values  also refers to  swing from High to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 default risefall waveforms to get ibis-check information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bout  mismatch between static and ramp/dynamic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5" name=""/>
          <p:cNvGrpSpPr/>
          <p:nvPr/>
        </p:nvGrpSpPr>
        <p:grpSpPr>
          <a:xfrm>
            <a:off x="7918560" y="154800"/>
            <a:ext cx="1204920" cy="762840"/>
            <a:chOff x="7918560" y="154800"/>
            <a:chExt cx="1204920" cy="762840"/>
          </a:xfrm>
        </p:grpSpPr>
        <p:sp>
          <p:nvSpPr>
            <p:cNvPr id="7216" name=""/>
            <p:cNvSpPr/>
            <p:nvPr/>
          </p:nvSpPr>
          <p:spPr>
            <a:xfrm>
              <a:off x="7918560" y="154800"/>
              <a:ext cx="120492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7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7218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7219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7220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6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7227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8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9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0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2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7233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5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6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7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8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9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40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7241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7242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4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5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7246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7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8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9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7250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1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3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7254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57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58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7259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0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2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3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4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7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7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0" fill="hold"/>
                                        <p:tgtEl>
                                          <p:spTgt spid="7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7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7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0" fill="hold"/>
                                        <p:tgtEl>
                                          <p:spTgt spid="7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0" fill="hold"/>
                                        <p:tgtEl>
                                          <p:spTgt spid="7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7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0" fill="hold"/>
                                        <p:tgtEl>
                                          <p:spTgt spid="7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0" fill="hold"/>
                                        <p:tgtEl>
                                          <p:spTgt spid="7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0" fill="hold"/>
                                        <p:tgtEl>
                                          <p:spTgt spid="7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7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7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7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0" fill="hold"/>
                                        <p:tgtEl>
                                          <p:spTgt spid="7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0" fill="hold"/>
                                        <p:tgtEl>
                                          <p:spTgt spid="7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7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0" fill="hold"/>
                                        <p:tgtEl>
                                          <p:spTgt spid="7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0" fill="hold"/>
                                        <p:tgtEl>
                                          <p:spTgt spid="7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0" fill="hold"/>
                                        <p:tgtEl>
                                          <p:spTgt spid="7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7" name="" descr=""/>
          <p:cNvPicPr/>
          <p:nvPr/>
        </p:nvPicPr>
        <p:blipFill>
          <a:blip r:embed="rId2"/>
          <a:stretch/>
        </p:blipFill>
        <p:spPr>
          <a:xfrm>
            <a:off x="5284800" y="263520"/>
            <a:ext cx="3600360" cy="1521000"/>
          </a:xfrm>
          <a:prstGeom prst="rect">
            <a:avLst/>
          </a:prstGeom>
          <a:ln w="0">
            <a:noFill/>
          </a:ln>
        </p:spPr>
      </p:pic>
      <p:sp>
        <p:nvSpPr>
          <p:cNvPr id="7268" name="PlaceHolder 1"/>
          <p:cNvSpPr>
            <a:spLocks noGrp="1"/>
          </p:cNvSpPr>
          <p:nvPr>
            <p:ph type="title"/>
          </p:nvPr>
        </p:nvSpPr>
        <p:spPr>
          <a:xfrm>
            <a:off x="3363480" y="2290320"/>
            <a:ext cx="411948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69" name=""/>
          <p:cNvSpPr/>
          <p:nvPr/>
        </p:nvSpPr>
        <p:spPr>
          <a:xfrm>
            <a:off x="5307120" y="4376880"/>
            <a:ext cx="31194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4179960" y="3625920"/>
            <a:ext cx="1876320" cy="22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808520" y="3633840"/>
            <a:ext cx="3765600" cy="21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343044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4041720" y="6635880"/>
            <a:ext cx="528840" cy="222120"/>
          </a:xfrm>
          <a:prstGeom prst="rect">
            <a:avLst/>
          </a:prstGeom>
          <a:ln w="0">
            <a:noFill/>
          </a:ln>
        </p:spPr>
      </p:pic>
      <p:grpSp>
        <p:nvGrpSpPr>
          <p:cNvPr id="647" name=""/>
          <p:cNvGrpSpPr/>
          <p:nvPr/>
        </p:nvGrpSpPr>
        <p:grpSpPr>
          <a:xfrm>
            <a:off x="6039000" y="2001600"/>
            <a:ext cx="2522160" cy="3818520"/>
            <a:chOff x="6039000" y="2001600"/>
            <a:chExt cx="2522160" cy="3818520"/>
          </a:xfrm>
        </p:grpSpPr>
        <p:grpSp>
          <p:nvGrpSpPr>
            <p:cNvPr id="648" name=""/>
            <p:cNvGrpSpPr/>
            <p:nvPr/>
          </p:nvGrpSpPr>
          <p:grpSpPr>
            <a:xfrm>
              <a:off x="6039000" y="3292560"/>
              <a:ext cx="2522160" cy="2527560"/>
              <a:chOff x="6039000" y="3292560"/>
              <a:chExt cx="2522160" cy="252756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6039000" y="4152600"/>
                <a:ext cx="2522160" cy="1667520"/>
                <a:chOff x="6039000" y="4152600"/>
                <a:chExt cx="2522160" cy="166752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6039000" y="5490360"/>
                  <a:ext cx="2522160" cy="329760"/>
                  <a:chOff x="6039000" y="5490360"/>
                  <a:chExt cx="2522160" cy="32976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645984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730152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772236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814284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688032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6039000" y="549036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6249960" y="5157000"/>
                  <a:ext cx="2101320" cy="329760"/>
                  <a:chOff x="6249960" y="5157000"/>
                  <a:chExt cx="2101320" cy="32976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624996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709128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751248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793296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6670440" y="51570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" name=""/>
                <p:cNvSpPr/>
                <p:nvPr/>
              </p:nvSpPr>
              <p:spPr>
                <a:xfrm>
                  <a:off x="6881040" y="4823640"/>
                  <a:ext cx="4190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723080" y="4823640"/>
                  <a:ext cx="41832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301880" y="4823640"/>
                  <a:ext cx="4190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60200" y="4823640"/>
                  <a:ext cx="41832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671520" y="4490280"/>
                  <a:ext cx="4190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513560" y="4490280"/>
                  <a:ext cx="41832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093080" y="4490280"/>
                  <a:ext cx="41832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0" name=""/>
                <p:cNvGrpSpPr/>
                <p:nvPr/>
              </p:nvGrpSpPr>
              <p:grpSpPr>
                <a:xfrm>
                  <a:off x="6885720" y="4152600"/>
                  <a:ext cx="839880" cy="329760"/>
                  <a:chOff x="6885720" y="4152600"/>
                  <a:chExt cx="839880" cy="3297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6885720" y="4152600"/>
                    <a:ext cx="41904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7307280" y="4152600"/>
                    <a:ext cx="418320" cy="3297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7132680" y="4152600"/>
                <a:ext cx="334800" cy="1651320"/>
                <a:chOff x="7132680" y="4152600"/>
                <a:chExt cx="334800" cy="165132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7132680" y="4152600"/>
                  <a:ext cx="334800" cy="829080"/>
                  <a:chOff x="7132680" y="4152600"/>
                  <a:chExt cx="334800" cy="829080"/>
                </a:xfrm>
              </p:grpSpPr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7132680" y="4152600"/>
                    <a:ext cx="334800" cy="165600"/>
                    <a:chOff x="7132680" y="4152600"/>
                    <a:chExt cx="334800" cy="16560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132680" y="4152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7132680" y="42058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7132680" y="42620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7132680" y="4318920"/>
                    <a:ext cx="334800" cy="165600"/>
                    <a:chOff x="7132680" y="4318920"/>
                    <a:chExt cx="334800" cy="165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7132680" y="43189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7132680" y="43722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7132680" y="44283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7132680" y="4485600"/>
                    <a:ext cx="334800" cy="165600"/>
                    <a:chOff x="7132680" y="4485600"/>
                    <a:chExt cx="334800" cy="16560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7132680" y="4485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7132680" y="45388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7132680" y="459504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7132680" y="4652280"/>
                    <a:ext cx="334800" cy="165600"/>
                    <a:chOff x="7132680" y="4652280"/>
                    <a:chExt cx="334800" cy="16560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7132680" y="46522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7132680" y="47055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7132680" y="476172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7132680" y="4816080"/>
                    <a:ext cx="334800" cy="165600"/>
                    <a:chOff x="7132680" y="4816080"/>
                    <a:chExt cx="334800" cy="16560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7132680" y="481608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7132680" y="48693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7132680" y="492552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7132680" y="4974840"/>
                  <a:ext cx="334800" cy="829080"/>
                  <a:chOff x="7132680" y="4974840"/>
                  <a:chExt cx="334800" cy="829080"/>
                </a:xfrm>
              </p:grpSpPr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7132680" y="4974840"/>
                    <a:ext cx="334800" cy="165600"/>
                    <a:chOff x="7132680" y="4974840"/>
                    <a:chExt cx="334800" cy="16560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7132680" y="49748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7132680" y="50281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7132680" y="50842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7132680" y="5141160"/>
                    <a:ext cx="334800" cy="165600"/>
                    <a:chOff x="7132680" y="5141160"/>
                    <a:chExt cx="334800" cy="16560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7132680" y="514116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7132680" y="51944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7132680" y="525060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7132680" y="5307840"/>
                    <a:ext cx="334800" cy="165600"/>
                    <a:chOff x="7132680" y="5307840"/>
                    <a:chExt cx="334800" cy="16560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7132680" y="530784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7132680" y="53611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7132680" y="541728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7132680" y="5474520"/>
                    <a:ext cx="334800" cy="165600"/>
                    <a:chOff x="7132680" y="5474520"/>
                    <a:chExt cx="334800" cy="16560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132680" y="54745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7132680" y="55278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7132680" y="55839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7132680" y="5638320"/>
                    <a:ext cx="334800" cy="165600"/>
                    <a:chOff x="7132680" y="5638320"/>
                    <a:chExt cx="334800" cy="16560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7132680" y="563832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7132680" y="5691600"/>
                      <a:ext cx="334800" cy="5580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7132680" y="5747760"/>
                      <a:ext cx="334800" cy="5616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960" bIns="12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16" name=""/>
              <p:cNvGrpSpPr/>
              <p:nvPr/>
            </p:nvGrpSpPr>
            <p:grpSpPr>
              <a:xfrm>
                <a:off x="7026480" y="3292560"/>
                <a:ext cx="549360" cy="860760"/>
                <a:chOff x="7026480" y="3292560"/>
                <a:chExt cx="549360" cy="860760"/>
              </a:xfrm>
            </p:grpSpPr>
            <p:grpSp>
              <p:nvGrpSpPr>
                <p:cNvPr id="717" name=""/>
                <p:cNvGrpSpPr/>
                <p:nvPr/>
              </p:nvGrpSpPr>
              <p:grpSpPr>
                <a:xfrm>
                  <a:off x="7026480" y="3582720"/>
                  <a:ext cx="549360" cy="570600"/>
                  <a:chOff x="7026480" y="3582720"/>
                  <a:chExt cx="549360" cy="57060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7026480" y="3831840"/>
                    <a:ext cx="549360" cy="522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7036920" y="3582720"/>
                    <a:ext cx="527400" cy="570600"/>
                    <a:chOff x="7036920" y="3582720"/>
                    <a:chExt cx="527400" cy="57060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7040520" y="3859200"/>
                      <a:ext cx="519480" cy="294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V="1">
                      <a:off x="7036920" y="3631320"/>
                      <a:ext cx="527400" cy="200160"/>
                    </a:xfrm>
                    <a:custGeom>
                      <a:avLst/>
                      <a:gdLst>
                        <a:gd name="textAreaLeft" fmla="*/ 54720 w 527400"/>
                        <a:gd name="textAreaRight" fmla="*/ 472680 w 527400"/>
                        <a:gd name="textAreaTop" fmla="*/ 20880 h 200160"/>
                        <a:gd name="textAreaBottom" fmla="*/ 179280 h 200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7052760" y="3582720"/>
                      <a:ext cx="492480" cy="486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7128000" y="3292560"/>
                  <a:ext cx="344520" cy="288360"/>
                  <a:chOff x="7128000" y="3292560"/>
                  <a:chExt cx="344520" cy="28836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712980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720252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27560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35516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429680" y="3292560"/>
                    <a:ext cx="42840" cy="28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7128000" y="341604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131240" y="350640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7131240" y="3580920"/>
                    <a:ext cx="3412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2" name=""/>
                <p:cNvSpPr/>
                <p:nvPr/>
              </p:nvSpPr>
              <p:spPr>
                <a:xfrm>
                  <a:off x="7091640" y="3857040"/>
                  <a:ext cx="82440" cy="2934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423200" y="3854160"/>
                  <a:ext cx="82800" cy="2930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229520" y="3911040"/>
                  <a:ext cx="142920" cy="23616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"/>
            <p:cNvSpPr/>
            <p:nvPr/>
          </p:nvSpPr>
          <p:spPr>
            <a:xfrm>
              <a:off x="6090840" y="2001600"/>
              <a:ext cx="2418840" cy="10551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ibisch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Corsiva"/>
                </a:rPr>
                <a:t>Warning /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663560" y="3159720"/>
            <a:ext cx="2248200" cy="1695960"/>
            <a:chOff x="1663560" y="3159720"/>
            <a:chExt cx="2248200" cy="1695960"/>
          </a:xfrm>
        </p:grpSpPr>
        <p:grpSp>
          <p:nvGrpSpPr>
            <p:cNvPr id="737" name=""/>
            <p:cNvGrpSpPr/>
            <p:nvPr/>
          </p:nvGrpSpPr>
          <p:grpSpPr>
            <a:xfrm>
              <a:off x="2465640" y="4050720"/>
              <a:ext cx="630360" cy="804960"/>
              <a:chOff x="2465640" y="4050720"/>
              <a:chExt cx="630360" cy="80496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2465640" y="4324680"/>
                <a:ext cx="630360" cy="531000"/>
                <a:chOff x="2465640" y="4324680"/>
                <a:chExt cx="630360" cy="531000"/>
              </a:xfrm>
            </p:grpSpPr>
            <p:grpSp>
              <p:nvGrpSpPr>
                <p:cNvPr id="739" name=""/>
                <p:cNvGrpSpPr/>
                <p:nvPr/>
              </p:nvGrpSpPr>
              <p:grpSpPr>
                <a:xfrm>
                  <a:off x="2465640" y="4750560"/>
                  <a:ext cx="630360" cy="105120"/>
                  <a:chOff x="2465640" y="4750560"/>
                  <a:chExt cx="630360" cy="10512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257076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7810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8864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99160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67588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465640" y="47505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2518200" y="4644360"/>
                  <a:ext cx="525240" cy="105120"/>
                  <a:chOff x="2518200" y="4644360"/>
                  <a:chExt cx="525240" cy="10512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251820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7284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83356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93904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623320" y="464436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2" name=""/>
                <p:cNvSpPr/>
                <p:nvPr/>
              </p:nvSpPr>
              <p:spPr>
                <a:xfrm>
                  <a:off x="267588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88648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781360" y="453816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570760" y="453816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623680" y="4432320"/>
                  <a:ext cx="10476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83428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729160" y="4432320"/>
                  <a:ext cx="104400" cy="105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2677320" y="4324680"/>
                  <a:ext cx="209880" cy="105120"/>
                  <a:chOff x="2677320" y="4324680"/>
                  <a:chExt cx="209880" cy="10512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2677320" y="4324680"/>
                    <a:ext cx="10476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782800" y="4324680"/>
                    <a:ext cx="104400" cy="105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2" name=""/>
              <p:cNvGrpSpPr/>
              <p:nvPr/>
            </p:nvGrpSpPr>
            <p:grpSpPr>
              <a:xfrm>
                <a:off x="2738880" y="4324680"/>
                <a:ext cx="83520" cy="525600"/>
                <a:chOff x="2738880" y="4324680"/>
                <a:chExt cx="83520" cy="525600"/>
              </a:xfrm>
            </p:grpSpPr>
            <p:grpSp>
              <p:nvGrpSpPr>
                <p:cNvPr id="763" name=""/>
                <p:cNvGrpSpPr/>
                <p:nvPr/>
              </p:nvGrpSpPr>
              <p:grpSpPr>
                <a:xfrm>
                  <a:off x="2738880" y="4324680"/>
                  <a:ext cx="83520" cy="263880"/>
                  <a:chOff x="2738880" y="4324680"/>
                  <a:chExt cx="83520" cy="263880"/>
                </a:xfrm>
              </p:grpSpPr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738880" y="4324680"/>
                    <a:ext cx="83520" cy="52560"/>
                    <a:chOff x="2738880" y="4324680"/>
                    <a:chExt cx="83520" cy="5256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2738880" y="43246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2738880" y="4341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2738880" y="4359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2738880" y="4377600"/>
                    <a:ext cx="83520" cy="52560"/>
                    <a:chOff x="2738880" y="4377600"/>
                    <a:chExt cx="83520" cy="5256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2738880" y="4377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2738880" y="4394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2738880" y="4412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2738880" y="4430880"/>
                    <a:ext cx="83520" cy="52560"/>
                    <a:chOff x="2738880" y="4430880"/>
                    <a:chExt cx="83520" cy="52560"/>
                  </a:xfrm>
                </p:grpSpPr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2738880" y="443088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2738880" y="4447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2738880" y="4465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2738880" y="4483800"/>
                    <a:ext cx="83520" cy="52560"/>
                    <a:chOff x="2738880" y="4483800"/>
                    <a:chExt cx="83520" cy="5256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2738880" y="44838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2738880" y="4500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2738880" y="4518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2738880" y="4536000"/>
                    <a:ext cx="83520" cy="52560"/>
                    <a:chOff x="2738880" y="4536000"/>
                    <a:chExt cx="83520" cy="5256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2738880" y="45360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2738880" y="4552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2738880" y="45709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2738880" y="4586400"/>
                  <a:ext cx="83520" cy="263880"/>
                  <a:chOff x="2738880" y="4586400"/>
                  <a:chExt cx="83520" cy="263880"/>
                </a:xfrm>
              </p:grpSpPr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2738880" y="4586400"/>
                    <a:ext cx="83520" cy="52560"/>
                    <a:chOff x="2738880" y="4586400"/>
                    <a:chExt cx="83520" cy="5256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2738880" y="45864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2738880" y="4603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2738880" y="4621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2738880" y="4639320"/>
                    <a:ext cx="83520" cy="52560"/>
                    <a:chOff x="2738880" y="4639320"/>
                    <a:chExt cx="83520" cy="5256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2738880" y="46393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2738880" y="4656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2738880" y="46742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2738880" y="4692600"/>
                    <a:ext cx="83520" cy="52560"/>
                    <a:chOff x="2738880" y="4692600"/>
                    <a:chExt cx="83520" cy="525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2738880" y="469260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2738880" y="4709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2738880" y="4727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2738880" y="4745520"/>
                    <a:ext cx="83520" cy="52560"/>
                    <a:chOff x="2738880" y="4745520"/>
                    <a:chExt cx="83520" cy="5256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2738880" y="47455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2738880" y="4762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2738880" y="47804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2738880" y="4797720"/>
                    <a:ext cx="83520" cy="52560"/>
                    <a:chOff x="2738880" y="4797720"/>
                    <a:chExt cx="83520" cy="5256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2738880" y="479772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2738880" y="4814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2738880" y="4832640"/>
                      <a:ext cx="83520" cy="176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05" name=""/>
              <p:cNvGrpSpPr/>
              <p:nvPr/>
            </p:nvGrpSpPr>
            <p:grpSpPr>
              <a:xfrm>
                <a:off x="2712240" y="4050720"/>
                <a:ext cx="137160" cy="273960"/>
                <a:chOff x="2712240" y="4050720"/>
                <a:chExt cx="137160" cy="273960"/>
              </a:xfrm>
            </p:grpSpPr>
            <p:grpSp>
              <p:nvGrpSpPr>
                <p:cNvPr id="806" name=""/>
                <p:cNvGrpSpPr/>
                <p:nvPr/>
              </p:nvGrpSpPr>
              <p:grpSpPr>
                <a:xfrm>
                  <a:off x="2712240" y="4143240"/>
                  <a:ext cx="137160" cy="181440"/>
                  <a:chOff x="2712240" y="4143240"/>
                  <a:chExt cx="137160" cy="18144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>
                    <a:off x="2712240" y="4222440"/>
                    <a:ext cx="137160" cy="165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2714760" y="4143240"/>
                    <a:ext cx="131760" cy="181440"/>
                    <a:chOff x="2714760" y="4143240"/>
                    <a:chExt cx="131760" cy="18144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2715480" y="4231080"/>
                      <a:ext cx="129960" cy="936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V="1">
                      <a:off x="2714760" y="4158000"/>
                      <a:ext cx="131760" cy="6372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6480 h 63720"/>
                        <a:gd name="textAreaBottom" fmla="*/ 57240 h 637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2718720" y="4143240"/>
                      <a:ext cx="123120" cy="154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2737440" y="4050720"/>
                  <a:ext cx="86040" cy="91800"/>
                  <a:chOff x="2737440" y="4050720"/>
                  <a:chExt cx="86040" cy="9180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2737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75580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77416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79432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812680" y="4050720"/>
                    <a:ext cx="10440" cy="914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737440" y="40899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738160" y="41187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738160" y="41425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1" name=""/>
                <p:cNvSpPr/>
                <p:nvPr/>
              </p:nvSpPr>
              <p:spPr>
                <a:xfrm>
                  <a:off x="2728440" y="423036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2811240" y="4229640"/>
                  <a:ext cx="20520" cy="93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2763000" y="4247640"/>
                  <a:ext cx="35640" cy="752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"/>
            <p:cNvSpPr/>
            <p:nvPr/>
          </p:nvSpPr>
          <p:spPr>
            <a:xfrm>
              <a:off x="1663560" y="3159720"/>
              <a:ext cx="2248200" cy="1240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for static and dynamic wavefo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332640" y="3481920"/>
            <a:ext cx="959040" cy="1002600"/>
            <a:chOff x="332640" y="3481920"/>
            <a:chExt cx="959040" cy="1002600"/>
          </a:xfrm>
        </p:grpSpPr>
        <p:grpSp>
          <p:nvGrpSpPr>
            <p:cNvPr id="826" name=""/>
            <p:cNvGrpSpPr/>
            <p:nvPr/>
          </p:nvGrpSpPr>
          <p:grpSpPr>
            <a:xfrm>
              <a:off x="495000" y="3853080"/>
              <a:ext cx="630360" cy="631440"/>
              <a:chOff x="495000" y="3853080"/>
              <a:chExt cx="630360" cy="631440"/>
            </a:xfrm>
          </p:grpSpPr>
          <p:grpSp>
            <p:nvGrpSpPr>
              <p:cNvPr id="827" name=""/>
              <p:cNvGrpSpPr/>
              <p:nvPr/>
            </p:nvGrpSpPr>
            <p:grpSpPr>
              <a:xfrm>
                <a:off x="495000" y="4068000"/>
                <a:ext cx="630360" cy="416520"/>
                <a:chOff x="495000" y="4068000"/>
                <a:chExt cx="630360" cy="416520"/>
              </a:xfrm>
            </p:grpSpPr>
            <p:grpSp>
              <p:nvGrpSpPr>
                <p:cNvPr id="828" name=""/>
                <p:cNvGrpSpPr/>
                <p:nvPr/>
              </p:nvGrpSpPr>
              <p:grpSpPr>
                <a:xfrm>
                  <a:off x="495000" y="4402080"/>
                  <a:ext cx="630360" cy="82440"/>
                  <a:chOff x="495000" y="4402080"/>
                  <a:chExt cx="630360" cy="8244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60012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8103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9158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102096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70524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95000" y="44020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547560" y="4318920"/>
                  <a:ext cx="525240" cy="82440"/>
                  <a:chOff x="547560" y="4318920"/>
                  <a:chExt cx="525240" cy="8244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54756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7578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86292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96840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52680" y="43189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1" name=""/>
                <p:cNvSpPr/>
                <p:nvPr/>
              </p:nvSpPr>
              <p:spPr>
                <a:xfrm>
                  <a:off x="70524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91584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10720" y="42354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00120" y="42354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53040" y="4152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6364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8520" y="4152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8" name=""/>
                <p:cNvGrpSpPr/>
                <p:nvPr/>
              </p:nvGrpSpPr>
              <p:grpSpPr>
                <a:xfrm>
                  <a:off x="706680" y="4068000"/>
                  <a:ext cx="209880" cy="82440"/>
                  <a:chOff x="706680" y="4068000"/>
                  <a:chExt cx="209880" cy="8244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>
                    <a:off x="706680" y="406800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812160" y="406800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1" name=""/>
              <p:cNvGrpSpPr/>
              <p:nvPr/>
            </p:nvGrpSpPr>
            <p:grpSpPr>
              <a:xfrm>
                <a:off x="768240" y="4068000"/>
                <a:ext cx="83520" cy="412200"/>
                <a:chOff x="768240" y="4068000"/>
                <a:chExt cx="83520" cy="412200"/>
              </a:xfrm>
            </p:grpSpPr>
            <p:grpSp>
              <p:nvGrpSpPr>
                <p:cNvPr id="852" name=""/>
                <p:cNvGrpSpPr/>
                <p:nvPr/>
              </p:nvGrpSpPr>
              <p:grpSpPr>
                <a:xfrm>
                  <a:off x="768240" y="4068000"/>
                  <a:ext cx="83520" cy="207000"/>
                  <a:chOff x="768240" y="4068000"/>
                  <a:chExt cx="83520" cy="207000"/>
                </a:xfrm>
              </p:grpSpPr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768240" y="4068000"/>
                    <a:ext cx="83520" cy="41400"/>
                    <a:chOff x="768240" y="4068000"/>
                    <a:chExt cx="83520" cy="41400"/>
                  </a:xfrm>
                </p:grpSpPr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768240" y="4068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768240" y="4081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768240" y="4095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768240" y="4109400"/>
                    <a:ext cx="83520" cy="41400"/>
                    <a:chOff x="768240" y="4109400"/>
                    <a:chExt cx="83520" cy="4140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768240" y="410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768240" y="412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768240" y="413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768240" y="4151160"/>
                    <a:ext cx="83520" cy="40680"/>
                    <a:chOff x="768240" y="4151160"/>
                    <a:chExt cx="83520" cy="40680"/>
                  </a:xfrm>
                </p:grpSpPr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768240" y="4151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768240" y="41644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768240" y="41781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768240" y="4192920"/>
                    <a:ext cx="83520" cy="40680"/>
                    <a:chOff x="768240" y="4192920"/>
                    <a:chExt cx="83520" cy="4068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768240" y="4192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768240" y="42062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768240" y="42199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768240" y="4233600"/>
                    <a:ext cx="83520" cy="41400"/>
                    <a:chOff x="768240" y="4233600"/>
                    <a:chExt cx="83520" cy="41400"/>
                  </a:xfrm>
                </p:grpSpPr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768240" y="4233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768240" y="4246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768240" y="426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768240" y="4273200"/>
                  <a:ext cx="83520" cy="207000"/>
                  <a:chOff x="768240" y="4273200"/>
                  <a:chExt cx="83520" cy="207000"/>
                </a:xfrm>
              </p:grpSpPr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768240" y="4273200"/>
                    <a:ext cx="83520" cy="41400"/>
                    <a:chOff x="768240" y="4273200"/>
                    <a:chExt cx="83520" cy="4140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768240" y="4273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768240" y="4286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768240" y="4300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768240" y="4314600"/>
                    <a:ext cx="83520" cy="41400"/>
                    <a:chOff x="768240" y="4314600"/>
                    <a:chExt cx="83520" cy="4140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768240" y="43146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768240" y="4327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768240" y="434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"/>
                  <p:cNvGrpSpPr/>
                  <p:nvPr/>
                </p:nvGrpSpPr>
                <p:grpSpPr>
                  <a:xfrm>
                    <a:off x="768240" y="4356360"/>
                    <a:ext cx="83520" cy="40680"/>
                    <a:chOff x="768240" y="4356360"/>
                    <a:chExt cx="83520" cy="40680"/>
                  </a:xfrm>
                </p:grpSpPr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768240" y="4356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768240" y="436968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768240" y="438336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768240" y="4398120"/>
                    <a:ext cx="83520" cy="40680"/>
                    <a:chOff x="768240" y="4398120"/>
                    <a:chExt cx="83520" cy="4068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768240" y="4398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768240" y="441144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768240" y="4425120"/>
                      <a:ext cx="83520" cy="1368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768240" y="4438800"/>
                    <a:ext cx="83520" cy="41400"/>
                    <a:chOff x="768240" y="4438800"/>
                    <a:chExt cx="83520" cy="4140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768240" y="443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768240" y="4452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768240" y="4466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741600" y="3853080"/>
                <a:ext cx="137160" cy="214920"/>
                <a:chOff x="741600" y="3853080"/>
                <a:chExt cx="137160" cy="21492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741600" y="3925440"/>
                  <a:ext cx="137160" cy="142560"/>
                  <a:chOff x="741600" y="3925440"/>
                  <a:chExt cx="137160" cy="14256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741600" y="398772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7" name=""/>
                  <p:cNvGrpSpPr/>
                  <p:nvPr/>
                </p:nvGrpSpPr>
                <p:grpSpPr>
                  <a:xfrm>
                    <a:off x="744120" y="3925440"/>
                    <a:ext cx="131760" cy="142560"/>
                    <a:chOff x="744120" y="3925440"/>
                    <a:chExt cx="131760" cy="142560"/>
                  </a:xfrm>
                </p:grpSpPr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744840" y="3994560"/>
                      <a:ext cx="129960" cy="7344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6640" bIns="266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 flipV="1">
                      <a:off x="744120" y="393696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748080" y="392544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766800" y="3853080"/>
                  <a:ext cx="86040" cy="72000"/>
                  <a:chOff x="766800" y="3853080"/>
                  <a:chExt cx="86040" cy="7200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767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8516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80352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82368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842040" y="385308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766800" y="38840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767520" y="39063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67520" y="3925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0" name=""/>
                <p:cNvSpPr/>
                <p:nvPr/>
              </p:nvSpPr>
              <p:spPr>
                <a:xfrm>
                  <a:off x="757800" y="39942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40600" y="3993480"/>
                  <a:ext cx="20520" cy="7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92360" y="400752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"/>
            <p:cNvSpPr/>
            <p:nvPr/>
          </p:nvSpPr>
          <p:spPr>
            <a:xfrm>
              <a:off x="332640" y="3481920"/>
              <a:ext cx="959040" cy="358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08320" y="4848480"/>
            <a:ext cx="1503000" cy="1344240"/>
            <a:chOff x="508320" y="4848480"/>
            <a:chExt cx="1503000" cy="1344240"/>
          </a:xfrm>
        </p:grpSpPr>
        <p:grpSp>
          <p:nvGrpSpPr>
            <p:cNvPr id="915" name=""/>
            <p:cNvGrpSpPr/>
            <p:nvPr/>
          </p:nvGrpSpPr>
          <p:grpSpPr>
            <a:xfrm>
              <a:off x="944280" y="5559840"/>
              <a:ext cx="630360" cy="632880"/>
              <a:chOff x="944280" y="5559840"/>
              <a:chExt cx="630360" cy="63288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944280" y="5775120"/>
                <a:ext cx="630360" cy="417600"/>
                <a:chOff x="944280" y="5775120"/>
                <a:chExt cx="630360" cy="417600"/>
              </a:xfrm>
            </p:grpSpPr>
            <p:grpSp>
              <p:nvGrpSpPr>
                <p:cNvPr id="917" name=""/>
                <p:cNvGrpSpPr/>
                <p:nvPr/>
              </p:nvGrpSpPr>
              <p:grpSpPr>
                <a:xfrm>
                  <a:off x="944280" y="6110280"/>
                  <a:ext cx="630360" cy="82440"/>
                  <a:chOff x="944280" y="6110280"/>
                  <a:chExt cx="630360" cy="8244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104940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12596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13651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147024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115452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944280" y="61102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4" name=""/>
                <p:cNvGrpSpPr/>
                <p:nvPr/>
              </p:nvGrpSpPr>
              <p:grpSpPr>
                <a:xfrm>
                  <a:off x="996840" y="6026760"/>
                  <a:ext cx="525240" cy="82440"/>
                  <a:chOff x="996840" y="6026760"/>
                  <a:chExt cx="525240" cy="8244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99684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12070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31220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141768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101960" y="602676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0" name=""/>
                <p:cNvSpPr/>
                <p:nvPr/>
              </p:nvSpPr>
              <p:spPr>
                <a:xfrm>
                  <a:off x="115452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36512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260000" y="594324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049400" y="594324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102320" y="585972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31292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207800" y="585972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7" name=""/>
                <p:cNvGrpSpPr/>
                <p:nvPr/>
              </p:nvGrpSpPr>
              <p:grpSpPr>
                <a:xfrm>
                  <a:off x="1155960" y="5775120"/>
                  <a:ext cx="209880" cy="82440"/>
                  <a:chOff x="1155960" y="5775120"/>
                  <a:chExt cx="209880" cy="8244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1155960" y="577512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1261440" y="57751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0" name=""/>
              <p:cNvGrpSpPr/>
              <p:nvPr/>
            </p:nvGrpSpPr>
            <p:grpSpPr>
              <a:xfrm>
                <a:off x="1217520" y="5775120"/>
                <a:ext cx="83520" cy="413640"/>
                <a:chOff x="1217520" y="5775120"/>
                <a:chExt cx="83520" cy="41364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1217520" y="5775120"/>
                  <a:ext cx="83520" cy="207720"/>
                  <a:chOff x="1217520" y="5775120"/>
                  <a:chExt cx="83520" cy="207720"/>
                </a:xfrm>
              </p:grpSpPr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1217520" y="5775120"/>
                    <a:ext cx="83520" cy="41400"/>
                    <a:chOff x="1217520" y="5775120"/>
                    <a:chExt cx="83520" cy="4140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1217520" y="577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1217520" y="5788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1217520" y="5802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1217520" y="5816880"/>
                    <a:ext cx="83520" cy="41400"/>
                    <a:chOff x="1217520" y="5816880"/>
                    <a:chExt cx="83520" cy="41400"/>
                  </a:xfrm>
                </p:grpSpPr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1217520" y="581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1217520" y="5830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1217520" y="5844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1217520" y="5858640"/>
                    <a:ext cx="83520" cy="41400"/>
                    <a:chOff x="1217520" y="5858640"/>
                    <a:chExt cx="83520" cy="4140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1217520" y="585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1217520" y="5871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1217520" y="5886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1217520" y="5900400"/>
                    <a:ext cx="83520" cy="41400"/>
                    <a:chOff x="1217520" y="5900400"/>
                    <a:chExt cx="83520" cy="4140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1217520" y="590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1217520" y="5913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1217520" y="5927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1217520" y="5941440"/>
                    <a:ext cx="83520" cy="41400"/>
                    <a:chOff x="1217520" y="5941440"/>
                    <a:chExt cx="83520" cy="41400"/>
                  </a:xfrm>
                </p:grpSpPr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1217520" y="594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1217520" y="5954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1217520" y="5968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1217520" y="5981040"/>
                  <a:ext cx="83520" cy="207720"/>
                  <a:chOff x="1217520" y="5981040"/>
                  <a:chExt cx="83520" cy="207720"/>
                </a:xfrm>
              </p:grpSpPr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1217520" y="5981040"/>
                    <a:ext cx="83520" cy="41400"/>
                    <a:chOff x="1217520" y="5981040"/>
                    <a:chExt cx="83520" cy="4140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1217520" y="59810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1217520" y="5994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1217520" y="6008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1217520" y="6022800"/>
                    <a:ext cx="83520" cy="41400"/>
                    <a:chOff x="1217520" y="6022800"/>
                    <a:chExt cx="83520" cy="4140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1217520" y="6022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217520" y="6036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1217520" y="6050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1217520" y="6064560"/>
                    <a:ext cx="83520" cy="41400"/>
                    <a:chOff x="1217520" y="6064560"/>
                    <a:chExt cx="83520" cy="4140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1217520" y="6064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1217520" y="6077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1217520" y="6091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1217520" y="6106320"/>
                    <a:ext cx="83520" cy="41400"/>
                    <a:chOff x="1217520" y="6106320"/>
                    <a:chExt cx="83520" cy="4140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1217520" y="6106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1217520" y="6119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1217520" y="6133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1217520" y="6147360"/>
                    <a:ext cx="83520" cy="41400"/>
                    <a:chOff x="1217520" y="6147360"/>
                    <a:chExt cx="83520" cy="41400"/>
                  </a:xfrm>
                </p:grpSpPr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1217520" y="61473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1217520" y="6160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1217520" y="6174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83" name=""/>
              <p:cNvGrpSpPr/>
              <p:nvPr/>
            </p:nvGrpSpPr>
            <p:grpSpPr>
              <a:xfrm>
                <a:off x="1190880" y="5559840"/>
                <a:ext cx="137160" cy="215640"/>
                <a:chOff x="1190880" y="5559840"/>
                <a:chExt cx="137160" cy="21564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1190880" y="5632560"/>
                  <a:ext cx="137160" cy="142920"/>
                  <a:chOff x="1190880" y="5632560"/>
                  <a:chExt cx="137160" cy="14292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1190880" y="569484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1193400" y="5632560"/>
                    <a:ext cx="131760" cy="142920"/>
                    <a:chOff x="1193400" y="5632560"/>
                    <a:chExt cx="131760" cy="14292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1194120" y="570168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flipV="1">
                      <a:off x="1193400" y="56440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1197360" y="56325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1216080" y="5559840"/>
                  <a:ext cx="86040" cy="72000"/>
                  <a:chOff x="1216080" y="5559840"/>
                  <a:chExt cx="86040" cy="7200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>
                    <a:off x="1216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23444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125280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127296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1291320" y="555984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1216080" y="55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1216800" y="561312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1216800" y="563184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"/>
                <p:cNvSpPr/>
                <p:nvPr/>
              </p:nvSpPr>
              <p:spPr>
                <a:xfrm>
                  <a:off x="1207080" y="570132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289880" y="5700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1241640" y="571464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2" name=""/>
            <p:cNvSpPr/>
            <p:nvPr/>
          </p:nvSpPr>
          <p:spPr>
            <a:xfrm>
              <a:off x="508320" y="4848480"/>
              <a:ext cx="1503000" cy="9972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3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output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ramp on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592000" y="5298120"/>
            <a:ext cx="1231200" cy="1225080"/>
            <a:chOff x="2592000" y="5298120"/>
            <a:chExt cx="1231200" cy="1225080"/>
          </a:xfrm>
        </p:grpSpPr>
        <p:grpSp>
          <p:nvGrpSpPr>
            <p:cNvPr id="1004" name=""/>
            <p:cNvGrpSpPr/>
            <p:nvPr/>
          </p:nvGrpSpPr>
          <p:grpSpPr>
            <a:xfrm>
              <a:off x="2890800" y="5888520"/>
              <a:ext cx="631800" cy="634680"/>
              <a:chOff x="2890800" y="5888520"/>
              <a:chExt cx="631800" cy="63468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2890800" y="6104520"/>
                <a:ext cx="631800" cy="418680"/>
                <a:chOff x="2890800" y="6104520"/>
                <a:chExt cx="631800" cy="418680"/>
              </a:xfrm>
            </p:grpSpPr>
            <p:grpSp>
              <p:nvGrpSpPr>
                <p:cNvPr id="1006" name=""/>
                <p:cNvGrpSpPr/>
                <p:nvPr/>
              </p:nvGrpSpPr>
              <p:grpSpPr>
                <a:xfrm>
                  <a:off x="2890800" y="6440400"/>
                  <a:ext cx="631800" cy="82800"/>
                  <a:chOff x="2890800" y="6440400"/>
                  <a:chExt cx="631800" cy="8280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>
                    <a:off x="299592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320688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331236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41784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1014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890800" y="644040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2943360" y="6356520"/>
                  <a:ext cx="526680" cy="82800"/>
                  <a:chOff x="2943360" y="6356520"/>
                  <a:chExt cx="526680" cy="8280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>
                    <a:off x="294336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15432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25980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36528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048840" y="6356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9" name=""/>
                <p:cNvSpPr/>
                <p:nvPr/>
              </p:nvSpPr>
              <p:spPr>
                <a:xfrm>
                  <a:off x="310176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31272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20724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2996280" y="62730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04920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26016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154680" y="61891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"/>
                <p:cNvGrpSpPr/>
                <p:nvPr/>
              </p:nvGrpSpPr>
              <p:grpSpPr>
                <a:xfrm>
                  <a:off x="3102840" y="6104520"/>
                  <a:ext cx="210240" cy="82800"/>
                  <a:chOff x="3102840" y="6104520"/>
                  <a:chExt cx="210240" cy="82800"/>
                </a:xfrm>
              </p:grpSpPr>
              <p:sp>
                <p:nvSpPr>
                  <p:cNvPr id="1027" name=""/>
                  <p:cNvSpPr/>
                  <p:nvPr/>
                </p:nvSpPr>
                <p:spPr>
                  <a:xfrm>
                    <a:off x="310284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208320" y="61045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9" name=""/>
              <p:cNvGrpSpPr/>
              <p:nvPr/>
            </p:nvGrpSpPr>
            <p:grpSpPr>
              <a:xfrm>
                <a:off x="3164760" y="6104520"/>
                <a:ext cx="83880" cy="414360"/>
                <a:chOff x="3164760" y="6104520"/>
                <a:chExt cx="83880" cy="414360"/>
              </a:xfrm>
            </p:grpSpPr>
            <p:grpSp>
              <p:nvGrpSpPr>
                <p:cNvPr id="1030" name=""/>
                <p:cNvGrpSpPr/>
                <p:nvPr/>
              </p:nvGrpSpPr>
              <p:grpSpPr>
                <a:xfrm>
                  <a:off x="3164760" y="6104520"/>
                  <a:ext cx="83880" cy="208080"/>
                  <a:chOff x="3164760" y="6104520"/>
                  <a:chExt cx="83880" cy="208080"/>
                </a:xfrm>
              </p:grpSpPr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3164760" y="6104520"/>
                    <a:ext cx="83880" cy="41400"/>
                    <a:chOff x="3164760" y="6104520"/>
                    <a:chExt cx="83880" cy="4140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3164760" y="610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3164760" y="6117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164760" y="613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3164760" y="6146280"/>
                    <a:ext cx="83880" cy="41400"/>
                    <a:chOff x="3164760" y="6146280"/>
                    <a:chExt cx="83880" cy="4140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164760" y="6146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3164760" y="6159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3164760" y="617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9" name=""/>
                  <p:cNvGrpSpPr/>
                  <p:nvPr/>
                </p:nvGrpSpPr>
                <p:grpSpPr>
                  <a:xfrm>
                    <a:off x="3164760" y="6188040"/>
                    <a:ext cx="83880" cy="41400"/>
                    <a:chOff x="3164760" y="6188040"/>
                    <a:chExt cx="83880" cy="41400"/>
                  </a:xfrm>
                </p:grpSpPr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3164760" y="6188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3164760" y="6201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3164760" y="6215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3164760" y="6229800"/>
                    <a:ext cx="83880" cy="41400"/>
                    <a:chOff x="3164760" y="6229800"/>
                    <a:chExt cx="83880" cy="4140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3164760" y="6229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3164760" y="624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3164760" y="6257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3164760" y="6271200"/>
                    <a:ext cx="83880" cy="41400"/>
                    <a:chOff x="3164760" y="6271200"/>
                    <a:chExt cx="83880" cy="4140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3164760" y="6271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3164760" y="6284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3164760" y="629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3164760" y="6310800"/>
                  <a:ext cx="83880" cy="208080"/>
                  <a:chOff x="3164760" y="6310800"/>
                  <a:chExt cx="83880" cy="208080"/>
                </a:xfrm>
              </p:grpSpPr>
              <p:grpSp>
                <p:nvGrpSpPr>
                  <p:cNvPr id="1052" name=""/>
                  <p:cNvGrpSpPr/>
                  <p:nvPr/>
                </p:nvGrpSpPr>
                <p:grpSpPr>
                  <a:xfrm>
                    <a:off x="3164760" y="6310800"/>
                    <a:ext cx="83880" cy="41400"/>
                    <a:chOff x="3164760" y="6310800"/>
                    <a:chExt cx="83880" cy="41400"/>
                  </a:xfrm>
                </p:grpSpPr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3164760" y="631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3164760" y="6324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3164760" y="6338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6" name=""/>
                  <p:cNvGrpSpPr/>
                  <p:nvPr/>
                </p:nvGrpSpPr>
                <p:grpSpPr>
                  <a:xfrm>
                    <a:off x="3164760" y="6352560"/>
                    <a:ext cx="83880" cy="41400"/>
                    <a:chOff x="3164760" y="6352560"/>
                    <a:chExt cx="83880" cy="41400"/>
                  </a:xfrm>
                </p:grpSpPr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3164760" y="6352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3164760" y="6365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3164760" y="6379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3164760" y="6394320"/>
                    <a:ext cx="83880" cy="41400"/>
                    <a:chOff x="3164760" y="6394320"/>
                    <a:chExt cx="83880" cy="41400"/>
                  </a:xfrm>
                </p:grpSpPr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3164760" y="6394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3164760" y="6407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3164760" y="64216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3164760" y="6436080"/>
                    <a:ext cx="83880" cy="41400"/>
                    <a:chOff x="3164760" y="6436080"/>
                    <a:chExt cx="83880" cy="41400"/>
                  </a:xfrm>
                </p:grpSpPr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3164760" y="6436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3164760" y="6449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3164760" y="646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8" name=""/>
                  <p:cNvGrpSpPr/>
                  <p:nvPr/>
                </p:nvGrpSpPr>
                <p:grpSpPr>
                  <a:xfrm>
                    <a:off x="3164760" y="6477480"/>
                    <a:ext cx="83880" cy="41400"/>
                    <a:chOff x="3164760" y="6477480"/>
                    <a:chExt cx="83880" cy="41400"/>
                  </a:xfrm>
                </p:grpSpPr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3164760" y="647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3164760" y="6490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3164760" y="6504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72" name=""/>
              <p:cNvGrpSpPr/>
              <p:nvPr/>
            </p:nvGrpSpPr>
            <p:grpSpPr>
              <a:xfrm>
                <a:off x="3138120" y="5888520"/>
                <a:ext cx="137520" cy="216000"/>
                <a:chOff x="3138120" y="5888520"/>
                <a:chExt cx="137520" cy="216000"/>
              </a:xfrm>
            </p:grpSpPr>
            <p:grpSp>
              <p:nvGrpSpPr>
                <p:cNvPr id="1073" name=""/>
                <p:cNvGrpSpPr/>
                <p:nvPr/>
              </p:nvGrpSpPr>
              <p:grpSpPr>
                <a:xfrm>
                  <a:off x="3138120" y="5961240"/>
                  <a:ext cx="137520" cy="143280"/>
                  <a:chOff x="3138120" y="5961240"/>
                  <a:chExt cx="137520" cy="14328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3138120" y="6023880"/>
                    <a:ext cx="13752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5" name=""/>
                  <p:cNvGrpSpPr/>
                  <p:nvPr/>
                </p:nvGrpSpPr>
                <p:grpSpPr>
                  <a:xfrm>
                    <a:off x="3140640" y="5961240"/>
                    <a:ext cx="132120" cy="143280"/>
                    <a:chOff x="3140640" y="5961240"/>
                    <a:chExt cx="132120" cy="143280"/>
                  </a:xfrm>
                </p:grpSpPr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3141360" y="6030720"/>
                      <a:ext cx="13032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 flipV="1">
                      <a:off x="3140640" y="5972760"/>
                      <a:ext cx="132120" cy="50040"/>
                    </a:xfrm>
                    <a:custGeom>
                      <a:avLst/>
                      <a:gdLst>
                        <a:gd name="textAreaLeft" fmla="*/ 13680 w 132120"/>
                        <a:gd name="textAreaRight" fmla="*/ 118440 w 13212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3144600" y="5961240"/>
                      <a:ext cx="12348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3163320" y="5888520"/>
                  <a:ext cx="86400" cy="72360"/>
                  <a:chOff x="3163320" y="5888520"/>
                  <a:chExt cx="86400" cy="7236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16368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18204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2004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22020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238920" y="588852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163320" y="59194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164040" y="594216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164040" y="59608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"/>
                <p:cNvSpPr/>
                <p:nvPr/>
              </p:nvSpPr>
              <p:spPr>
                <a:xfrm>
                  <a:off x="3154320" y="603036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237480" y="602964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188880" y="604404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1" name=""/>
            <p:cNvSpPr/>
            <p:nvPr/>
          </p:nvSpPr>
          <p:spPr>
            <a:xfrm>
              <a:off x="2592000" y="5298120"/>
              <a:ext cx="1231200" cy="7714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2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lvds driver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3810600" y="2459160"/>
            <a:ext cx="1381680" cy="1174320"/>
            <a:chOff x="3810600" y="2459160"/>
            <a:chExt cx="1381680" cy="1174320"/>
          </a:xfrm>
        </p:grpSpPr>
        <p:grpSp>
          <p:nvGrpSpPr>
            <p:cNvPr id="1093" name=""/>
            <p:cNvGrpSpPr/>
            <p:nvPr/>
          </p:nvGrpSpPr>
          <p:grpSpPr>
            <a:xfrm>
              <a:off x="4185360" y="3000600"/>
              <a:ext cx="630720" cy="632880"/>
              <a:chOff x="4185360" y="3000600"/>
              <a:chExt cx="630720" cy="63288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4185360" y="3215880"/>
                <a:ext cx="630720" cy="417600"/>
                <a:chOff x="4185360" y="3215880"/>
                <a:chExt cx="630720" cy="41760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4185360" y="3551040"/>
                  <a:ext cx="630720" cy="82440"/>
                  <a:chOff x="4185360" y="3551040"/>
                  <a:chExt cx="630720" cy="824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42904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45010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46062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71168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39560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4185360" y="355104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2" name=""/>
                <p:cNvGrpSpPr/>
                <p:nvPr/>
              </p:nvGrpSpPr>
              <p:grpSpPr>
                <a:xfrm>
                  <a:off x="4237920" y="3467520"/>
                  <a:ext cx="525240" cy="82440"/>
                  <a:chOff x="4237920" y="3467520"/>
                  <a:chExt cx="525240" cy="82440"/>
                </a:xfrm>
              </p:grpSpPr>
              <p:sp>
                <p:nvSpPr>
                  <p:cNvPr id="1103" name=""/>
                  <p:cNvSpPr/>
                  <p:nvPr/>
                </p:nvSpPr>
                <p:spPr>
                  <a:xfrm>
                    <a:off x="423792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4481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5536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65876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343040" y="346752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8" name=""/>
                <p:cNvSpPr/>
                <p:nvPr/>
              </p:nvSpPr>
              <p:spPr>
                <a:xfrm>
                  <a:off x="439596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60656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501080" y="338400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290480" y="338400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43400" y="3300480"/>
                  <a:ext cx="10476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55400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48880" y="3300480"/>
                  <a:ext cx="104400" cy="82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5" name=""/>
                <p:cNvGrpSpPr/>
                <p:nvPr/>
              </p:nvGrpSpPr>
              <p:grpSpPr>
                <a:xfrm>
                  <a:off x="4397040" y="3215880"/>
                  <a:ext cx="209880" cy="82440"/>
                  <a:chOff x="4397040" y="3215880"/>
                  <a:chExt cx="209880" cy="8244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>
                    <a:off x="4397040" y="3215880"/>
                    <a:ext cx="10476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502520" y="3215880"/>
                    <a:ext cx="104400" cy="824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4458600" y="3215880"/>
                <a:ext cx="83520" cy="413640"/>
                <a:chOff x="4458600" y="3215880"/>
                <a:chExt cx="83520" cy="41364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4458600" y="3215880"/>
                  <a:ext cx="83520" cy="207720"/>
                  <a:chOff x="4458600" y="3215880"/>
                  <a:chExt cx="83520" cy="207720"/>
                </a:xfrm>
              </p:grpSpPr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4458600" y="3215880"/>
                    <a:ext cx="83520" cy="41400"/>
                    <a:chOff x="4458600" y="3215880"/>
                    <a:chExt cx="83520" cy="4140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4458600" y="3215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4458600" y="3229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4458600" y="32432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4" name=""/>
                  <p:cNvGrpSpPr/>
                  <p:nvPr/>
                </p:nvGrpSpPr>
                <p:grpSpPr>
                  <a:xfrm>
                    <a:off x="4458600" y="3257640"/>
                    <a:ext cx="83520" cy="41400"/>
                    <a:chOff x="4458600" y="3257640"/>
                    <a:chExt cx="83520" cy="41400"/>
                  </a:xfrm>
                </p:grpSpPr>
                <p:sp>
                  <p:nvSpPr>
                    <p:cNvPr id="1125" name=""/>
                    <p:cNvSpPr/>
                    <p:nvPr/>
                  </p:nvSpPr>
                  <p:spPr>
                    <a:xfrm>
                      <a:off x="4458600" y="3257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>
                      <a:off x="4458600" y="32709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4458600" y="32850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8" name=""/>
                  <p:cNvGrpSpPr/>
                  <p:nvPr/>
                </p:nvGrpSpPr>
                <p:grpSpPr>
                  <a:xfrm>
                    <a:off x="4458600" y="3299400"/>
                    <a:ext cx="83520" cy="41400"/>
                    <a:chOff x="4458600" y="3299400"/>
                    <a:chExt cx="83520" cy="41400"/>
                  </a:xfrm>
                </p:grpSpPr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4458600" y="3299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>
                      <a:off x="4458600" y="33127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4458600" y="33267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4458600" y="3341160"/>
                    <a:ext cx="83520" cy="41400"/>
                    <a:chOff x="4458600" y="3341160"/>
                    <a:chExt cx="83520" cy="41400"/>
                  </a:xfrm>
                </p:grpSpPr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458600" y="3341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4458600" y="3354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4458600" y="3368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6" name=""/>
                  <p:cNvGrpSpPr/>
                  <p:nvPr/>
                </p:nvGrpSpPr>
                <p:grpSpPr>
                  <a:xfrm>
                    <a:off x="4458600" y="3382200"/>
                    <a:ext cx="83520" cy="41400"/>
                    <a:chOff x="4458600" y="3382200"/>
                    <a:chExt cx="83520" cy="41400"/>
                  </a:xfrm>
                </p:grpSpPr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4458600" y="33822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4458600" y="33955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4458600" y="3409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4458600" y="3421800"/>
                  <a:ext cx="83520" cy="207720"/>
                  <a:chOff x="4458600" y="3421800"/>
                  <a:chExt cx="83520" cy="207720"/>
                </a:xfrm>
              </p:grpSpPr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4458600" y="3421800"/>
                    <a:ext cx="83520" cy="41400"/>
                    <a:chOff x="4458600" y="3421800"/>
                    <a:chExt cx="83520" cy="4140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4458600" y="34218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>
                      <a:off x="4458600" y="3435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>
                      <a:off x="4458600" y="34491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4458600" y="3463560"/>
                    <a:ext cx="83520" cy="41400"/>
                    <a:chOff x="4458600" y="3463560"/>
                    <a:chExt cx="83520" cy="4140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4458600" y="346356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4458600" y="34768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4458600" y="34909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4458600" y="3505320"/>
                    <a:ext cx="83520" cy="41400"/>
                    <a:chOff x="4458600" y="3505320"/>
                    <a:chExt cx="83520" cy="4140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4458600" y="35053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4458600" y="35186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4458600" y="35326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4458600" y="3547080"/>
                    <a:ext cx="83520" cy="41400"/>
                    <a:chOff x="4458600" y="3547080"/>
                    <a:chExt cx="83520" cy="4140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4458600" y="35470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4458600" y="356040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4458600" y="3574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7" name=""/>
                  <p:cNvGrpSpPr/>
                  <p:nvPr/>
                </p:nvGrpSpPr>
                <p:grpSpPr>
                  <a:xfrm>
                    <a:off x="4458600" y="3588120"/>
                    <a:ext cx="83520" cy="41400"/>
                    <a:chOff x="4458600" y="3588120"/>
                    <a:chExt cx="83520" cy="41400"/>
                  </a:xfrm>
                </p:grpSpPr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4458600" y="358812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4458600" y="360144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>
                      <a:off x="4458600" y="3615480"/>
                      <a:ext cx="8352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61" name=""/>
              <p:cNvGrpSpPr/>
              <p:nvPr/>
            </p:nvGrpSpPr>
            <p:grpSpPr>
              <a:xfrm>
                <a:off x="4432320" y="3000600"/>
                <a:ext cx="137160" cy="215640"/>
                <a:chOff x="4432320" y="3000600"/>
                <a:chExt cx="137160" cy="215640"/>
              </a:xfrm>
            </p:grpSpPr>
            <p:grpSp>
              <p:nvGrpSpPr>
                <p:cNvPr id="1162" name=""/>
                <p:cNvGrpSpPr/>
                <p:nvPr/>
              </p:nvGrpSpPr>
              <p:grpSpPr>
                <a:xfrm>
                  <a:off x="4432320" y="3073320"/>
                  <a:ext cx="137160" cy="142920"/>
                  <a:chOff x="4432320" y="3073320"/>
                  <a:chExt cx="137160" cy="14292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4432320" y="31356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4" name=""/>
                  <p:cNvGrpSpPr/>
                  <p:nvPr/>
                </p:nvGrpSpPr>
                <p:grpSpPr>
                  <a:xfrm>
                    <a:off x="4434840" y="3073320"/>
                    <a:ext cx="131760" cy="142920"/>
                    <a:chOff x="4434840" y="3073320"/>
                    <a:chExt cx="131760" cy="142920"/>
                  </a:xfrm>
                </p:grpSpPr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4435560" y="31424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 flipV="1">
                      <a:off x="4434840" y="308484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4438800" y="307332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4457520" y="3000600"/>
                  <a:ext cx="86040" cy="72000"/>
                  <a:chOff x="4457520" y="3000600"/>
                  <a:chExt cx="86040" cy="7200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4457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47588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449424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451440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532760" y="3000600"/>
                    <a:ext cx="10440" cy="7164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457520" y="303156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458240" y="30538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458240" y="30726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"/>
                <p:cNvSpPr/>
                <p:nvPr/>
              </p:nvSpPr>
              <p:spPr>
                <a:xfrm>
                  <a:off x="4448520" y="314208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531320" y="31413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483080" y="3155400"/>
                  <a:ext cx="35640" cy="5904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0" name=""/>
            <p:cNvSpPr/>
            <p:nvPr/>
          </p:nvSpPr>
          <p:spPr>
            <a:xfrm>
              <a:off x="3810600" y="2459160"/>
              <a:ext cx="1381680" cy="67788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ibisch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arning/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3748320" y="3860280"/>
            <a:ext cx="1903320" cy="1392840"/>
            <a:chOff x="3748320" y="3860280"/>
            <a:chExt cx="1903320" cy="1392840"/>
          </a:xfrm>
        </p:grpSpPr>
        <p:grpSp>
          <p:nvGrpSpPr>
            <p:cNvPr id="1182" name=""/>
            <p:cNvGrpSpPr/>
            <p:nvPr/>
          </p:nvGrpSpPr>
          <p:grpSpPr>
            <a:xfrm>
              <a:off x="4365720" y="4618440"/>
              <a:ext cx="631080" cy="634680"/>
              <a:chOff x="4365720" y="4618440"/>
              <a:chExt cx="631080" cy="63468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4365720" y="4834440"/>
                <a:ext cx="631080" cy="418680"/>
                <a:chOff x="4365720" y="4834440"/>
                <a:chExt cx="631080" cy="418680"/>
              </a:xfrm>
            </p:grpSpPr>
            <p:grpSp>
              <p:nvGrpSpPr>
                <p:cNvPr id="1184" name=""/>
                <p:cNvGrpSpPr/>
                <p:nvPr/>
              </p:nvGrpSpPr>
              <p:grpSpPr>
                <a:xfrm>
                  <a:off x="4365720" y="5170320"/>
                  <a:ext cx="631080" cy="82800"/>
                  <a:chOff x="4365720" y="5170320"/>
                  <a:chExt cx="631080" cy="8280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447084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46814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4786920" y="517032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489204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45763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4365720" y="51703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1" name=""/>
                <p:cNvGrpSpPr/>
                <p:nvPr/>
              </p:nvGrpSpPr>
              <p:grpSpPr>
                <a:xfrm>
                  <a:off x="4418280" y="5086440"/>
                  <a:ext cx="525960" cy="82800"/>
                  <a:chOff x="4418280" y="5086440"/>
                  <a:chExt cx="525960" cy="82800"/>
                </a:xfrm>
              </p:grpSpPr>
              <p:sp>
                <p:nvSpPr>
                  <p:cNvPr id="1192" name=""/>
                  <p:cNvSpPr/>
                  <p:nvPr/>
                </p:nvSpPr>
                <p:spPr>
                  <a:xfrm>
                    <a:off x="44182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46288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473436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83948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4523400" y="5086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"/>
                <p:cNvSpPr/>
                <p:nvPr/>
              </p:nvSpPr>
              <p:spPr>
                <a:xfrm>
                  <a:off x="457632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78728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4681800" y="50029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4470840" y="500292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4523760" y="49190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73472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629240" y="4919040"/>
                  <a:ext cx="10440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4" name=""/>
                <p:cNvGrpSpPr/>
                <p:nvPr/>
              </p:nvGrpSpPr>
              <p:grpSpPr>
                <a:xfrm>
                  <a:off x="4577400" y="4834440"/>
                  <a:ext cx="209880" cy="82800"/>
                  <a:chOff x="4577400" y="4834440"/>
                  <a:chExt cx="209880" cy="8280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4577400" y="48344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4682880" y="4834440"/>
                    <a:ext cx="10440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7" name=""/>
              <p:cNvGrpSpPr/>
              <p:nvPr/>
            </p:nvGrpSpPr>
            <p:grpSpPr>
              <a:xfrm>
                <a:off x="4639320" y="4834440"/>
                <a:ext cx="83880" cy="414360"/>
                <a:chOff x="4639320" y="4834440"/>
                <a:chExt cx="83880" cy="414360"/>
              </a:xfrm>
            </p:grpSpPr>
            <p:grpSp>
              <p:nvGrpSpPr>
                <p:cNvPr id="1208" name=""/>
                <p:cNvGrpSpPr/>
                <p:nvPr/>
              </p:nvGrpSpPr>
              <p:grpSpPr>
                <a:xfrm>
                  <a:off x="4639320" y="4834440"/>
                  <a:ext cx="83880" cy="208080"/>
                  <a:chOff x="4639320" y="4834440"/>
                  <a:chExt cx="83880" cy="208080"/>
                </a:xfrm>
              </p:grpSpPr>
              <p:grpSp>
                <p:nvGrpSpPr>
                  <p:cNvPr id="1209" name=""/>
                  <p:cNvGrpSpPr/>
                  <p:nvPr/>
                </p:nvGrpSpPr>
                <p:grpSpPr>
                  <a:xfrm>
                    <a:off x="4639320" y="4834440"/>
                    <a:ext cx="83880" cy="41400"/>
                    <a:chOff x="4639320" y="4834440"/>
                    <a:chExt cx="83880" cy="41400"/>
                  </a:xfrm>
                </p:grpSpPr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4639320" y="483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4639320" y="4847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4639320" y="4861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3" name=""/>
                  <p:cNvGrpSpPr/>
                  <p:nvPr/>
                </p:nvGrpSpPr>
                <p:grpSpPr>
                  <a:xfrm>
                    <a:off x="4639320" y="4876200"/>
                    <a:ext cx="83880" cy="41400"/>
                    <a:chOff x="4639320" y="4876200"/>
                    <a:chExt cx="83880" cy="41400"/>
                  </a:xfrm>
                </p:grpSpPr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4639320" y="4876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4639320" y="4889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>
                      <a:off x="4639320" y="4903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7" name=""/>
                  <p:cNvGrpSpPr/>
                  <p:nvPr/>
                </p:nvGrpSpPr>
                <p:grpSpPr>
                  <a:xfrm>
                    <a:off x="4639320" y="4917960"/>
                    <a:ext cx="83880" cy="41400"/>
                    <a:chOff x="4639320" y="4917960"/>
                    <a:chExt cx="83880" cy="41400"/>
                  </a:xfrm>
                </p:grpSpPr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4639320" y="4917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4639320" y="4931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4639320" y="4945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4639320" y="4959720"/>
                    <a:ext cx="83880" cy="41400"/>
                    <a:chOff x="4639320" y="4959720"/>
                    <a:chExt cx="83880" cy="4140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4639320" y="4959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4639320" y="4973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4639320" y="4987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5" name=""/>
                  <p:cNvGrpSpPr/>
                  <p:nvPr/>
                </p:nvGrpSpPr>
                <p:grpSpPr>
                  <a:xfrm>
                    <a:off x="4639320" y="5001120"/>
                    <a:ext cx="83880" cy="41400"/>
                    <a:chOff x="4639320" y="5001120"/>
                    <a:chExt cx="83880" cy="41400"/>
                  </a:xfrm>
                </p:grpSpPr>
                <p:sp>
                  <p:nvSpPr>
                    <p:cNvPr id="1226" name=""/>
                    <p:cNvSpPr/>
                    <p:nvPr/>
                  </p:nvSpPr>
                  <p:spPr>
                    <a:xfrm>
                      <a:off x="4639320" y="5001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>
                      <a:off x="4639320" y="5014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>
                      <a:off x="4639320" y="5028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29" name=""/>
                <p:cNvGrpSpPr/>
                <p:nvPr/>
              </p:nvGrpSpPr>
              <p:grpSpPr>
                <a:xfrm>
                  <a:off x="4639320" y="5040720"/>
                  <a:ext cx="83880" cy="208080"/>
                  <a:chOff x="4639320" y="5040720"/>
                  <a:chExt cx="83880" cy="208080"/>
                </a:xfrm>
              </p:grpSpPr>
              <p:grpSp>
                <p:nvGrpSpPr>
                  <p:cNvPr id="1230" name=""/>
                  <p:cNvGrpSpPr/>
                  <p:nvPr/>
                </p:nvGrpSpPr>
                <p:grpSpPr>
                  <a:xfrm>
                    <a:off x="4639320" y="5040720"/>
                    <a:ext cx="83880" cy="41400"/>
                    <a:chOff x="4639320" y="5040720"/>
                    <a:chExt cx="83880" cy="41400"/>
                  </a:xfrm>
                </p:grpSpPr>
                <p:sp>
                  <p:nvSpPr>
                    <p:cNvPr id="1231" name=""/>
                    <p:cNvSpPr/>
                    <p:nvPr/>
                  </p:nvSpPr>
                  <p:spPr>
                    <a:xfrm>
                      <a:off x="4639320" y="504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>
                      <a:off x="4639320" y="50540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4639320" y="5068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4" name=""/>
                  <p:cNvGrpSpPr/>
                  <p:nvPr/>
                </p:nvGrpSpPr>
                <p:grpSpPr>
                  <a:xfrm>
                    <a:off x="4639320" y="5082480"/>
                    <a:ext cx="83880" cy="41400"/>
                    <a:chOff x="4639320" y="5082480"/>
                    <a:chExt cx="83880" cy="41400"/>
                  </a:xfrm>
                </p:grpSpPr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4639320" y="5082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4639320" y="5095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>
                      <a:off x="4639320" y="5109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8" name=""/>
                  <p:cNvGrpSpPr/>
                  <p:nvPr/>
                </p:nvGrpSpPr>
                <p:grpSpPr>
                  <a:xfrm>
                    <a:off x="4639320" y="5124240"/>
                    <a:ext cx="83880" cy="41400"/>
                    <a:chOff x="4639320" y="5124240"/>
                    <a:chExt cx="83880" cy="41400"/>
                  </a:xfrm>
                </p:grpSpPr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4639320" y="5124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4639320" y="5137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4639320" y="5151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2" name=""/>
                  <p:cNvGrpSpPr/>
                  <p:nvPr/>
                </p:nvGrpSpPr>
                <p:grpSpPr>
                  <a:xfrm>
                    <a:off x="4639320" y="5166000"/>
                    <a:ext cx="83880" cy="41400"/>
                    <a:chOff x="4639320" y="5166000"/>
                    <a:chExt cx="83880" cy="41400"/>
                  </a:xfrm>
                </p:grpSpPr>
                <p:sp>
                  <p:nvSpPr>
                    <p:cNvPr id="1243" name=""/>
                    <p:cNvSpPr/>
                    <p:nvPr/>
                  </p:nvSpPr>
                  <p:spPr>
                    <a:xfrm>
                      <a:off x="4639320" y="5166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>
                      <a:off x="4639320" y="5179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4639320" y="5193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6" name=""/>
                  <p:cNvGrpSpPr/>
                  <p:nvPr/>
                </p:nvGrpSpPr>
                <p:grpSpPr>
                  <a:xfrm>
                    <a:off x="4639320" y="5207400"/>
                    <a:ext cx="83880" cy="41400"/>
                    <a:chOff x="4639320" y="5207400"/>
                    <a:chExt cx="83880" cy="41400"/>
                  </a:xfrm>
                </p:grpSpPr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4639320" y="5207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4639320" y="5220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4639320" y="5234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50" name=""/>
              <p:cNvGrpSpPr/>
              <p:nvPr/>
            </p:nvGrpSpPr>
            <p:grpSpPr>
              <a:xfrm>
                <a:off x="4612680" y="4618440"/>
                <a:ext cx="137160" cy="216000"/>
                <a:chOff x="4612680" y="4618440"/>
                <a:chExt cx="137160" cy="216000"/>
              </a:xfrm>
            </p:grpSpPr>
            <p:grpSp>
              <p:nvGrpSpPr>
                <p:cNvPr id="1251" name=""/>
                <p:cNvGrpSpPr/>
                <p:nvPr/>
              </p:nvGrpSpPr>
              <p:grpSpPr>
                <a:xfrm>
                  <a:off x="4612680" y="4691160"/>
                  <a:ext cx="137160" cy="143280"/>
                  <a:chOff x="4612680" y="4691160"/>
                  <a:chExt cx="137160" cy="143280"/>
                </a:xfrm>
              </p:grpSpPr>
              <p:sp>
                <p:nvSpPr>
                  <p:cNvPr id="1252" name=""/>
                  <p:cNvSpPr/>
                  <p:nvPr/>
                </p:nvSpPr>
                <p:spPr>
                  <a:xfrm>
                    <a:off x="4612680" y="4753800"/>
                    <a:ext cx="13716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3" name=""/>
                  <p:cNvGrpSpPr/>
                  <p:nvPr/>
                </p:nvGrpSpPr>
                <p:grpSpPr>
                  <a:xfrm>
                    <a:off x="4615200" y="4691160"/>
                    <a:ext cx="131760" cy="143280"/>
                    <a:chOff x="4615200" y="4691160"/>
                    <a:chExt cx="131760" cy="143280"/>
                  </a:xfrm>
                </p:grpSpPr>
                <p:sp>
                  <p:nvSpPr>
                    <p:cNvPr id="1254" name=""/>
                    <p:cNvSpPr/>
                    <p:nvPr/>
                  </p:nvSpPr>
                  <p:spPr>
                    <a:xfrm>
                      <a:off x="4615920" y="4760640"/>
                      <a:ext cx="12996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flipV="1">
                      <a:off x="4615200" y="4702680"/>
                      <a:ext cx="131760" cy="50040"/>
                    </a:xfrm>
                    <a:custGeom>
                      <a:avLst/>
                      <a:gdLst>
                        <a:gd name="textAreaLeft" fmla="*/ 13680 w 131760"/>
                        <a:gd name="textAreaRight" fmla="*/ 118080 w 13176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4619160" y="4691160"/>
                      <a:ext cx="12312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57" name=""/>
                <p:cNvGrpSpPr/>
                <p:nvPr/>
              </p:nvGrpSpPr>
              <p:grpSpPr>
                <a:xfrm>
                  <a:off x="4637880" y="4618440"/>
                  <a:ext cx="86040" cy="72360"/>
                  <a:chOff x="4637880" y="4618440"/>
                  <a:chExt cx="86040" cy="7236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4638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65624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467460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469476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4713120" y="46184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4637880" y="46494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4638600" y="467208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4638600" y="4690800"/>
                    <a:ext cx="8532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6" name=""/>
                <p:cNvSpPr/>
                <p:nvPr/>
              </p:nvSpPr>
              <p:spPr>
                <a:xfrm>
                  <a:off x="4628880" y="476028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711680" y="47595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663440" y="477396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9" name=""/>
            <p:cNvSpPr/>
            <p:nvPr/>
          </p:nvSpPr>
          <p:spPr>
            <a:xfrm>
              <a:off x="3748320" y="3860280"/>
              <a:ext cx="1903320" cy="109080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Example 1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3-state dri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Monotype Corsiva"/>
                </a:rPr>
                <a:t>with internal pullup</a:t>
              </a: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"/>
          <p:cNvSpPr/>
          <p:nvPr/>
        </p:nvSpPr>
        <p:spPr>
          <a:xfrm>
            <a:off x="4532400" y="2990880"/>
            <a:ext cx="2577960" cy="30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452840" y="2255760"/>
            <a:ext cx="98640" cy="1000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4530600" y="3754440"/>
            <a:ext cx="244080" cy="102960"/>
            <a:chOff x="4530600" y="3754440"/>
            <a:chExt cx="244080" cy="102960"/>
          </a:xfrm>
        </p:grpSpPr>
        <p:sp>
          <p:nvSpPr>
            <p:cNvPr id="1273" name=""/>
            <p:cNvSpPr/>
            <p:nvPr/>
          </p:nvSpPr>
          <p:spPr>
            <a:xfrm>
              <a:off x="4530600" y="375444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75680" y="3756960"/>
              <a:ext cx="99000" cy="1004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3006720" y="5167440"/>
            <a:ext cx="378000" cy="99720"/>
            <a:chOff x="3006720" y="5167440"/>
            <a:chExt cx="378000" cy="99720"/>
          </a:xfrm>
        </p:grpSpPr>
        <p:sp>
          <p:nvSpPr>
            <p:cNvPr id="1276" name=""/>
            <p:cNvSpPr/>
            <p:nvPr/>
          </p:nvSpPr>
          <p:spPr>
            <a:xfrm>
              <a:off x="300672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7120" y="516816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285360" y="5167440"/>
              <a:ext cx="99360" cy="99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977760" y="4718160"/>
            <a:ext cx="520560" cy="101520"/>
            <a:chOff x="977760" y="4718160"/>
            <a:chExt cx="520560" cy="101520"/>
          </a:xfrm>
        </p:grpSpPr>
        <p:sp>
          <p:nvSpPr>
            <p:cNvPr id="1280" name=""/>
            <p:cNvSpPr/>
            <p:nvPr/>
          </p:nvSpPr>
          <p:spPr>
            <a:xfrm>
              <a:off x="977760" y="47181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39932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257120" y="4719960"/>
              <a:ext cx="9936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117440" y="4719960"/>
              <a:ext cx="99000" cy="9972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547560" y="3311640"/>
            <a:ext cx="565200" cy="1047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7054920" y="1309680"/>
            <a:ext cx="396720" cy="3985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IBIS CHECK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96800" y="882720"/>
            <a:ext cx="8415360" cy="54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749"/>
              </a:spcBef>
              <a:spcAft>
                <a:spcPts val="5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rser program for checking ibi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meter limit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_comp ;   package R , L , C  ; Ram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rning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onent related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 pin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veform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7831800" y="145800"/>
            <a:ext cx="999000" cy="1206720"/>
            <a:chOff x="7831800" y="145800"/>
            <a:chExt cx="999000" cy="1206720"/>
          </a:xfrm>
        </p:grpSpPr>
        <p:grpSp>
          <p:nvGrpSpPr>
            <p:cNvPr id="1289" name=""/>
            <p:cNvGrpSpPr/>
            <p:nvPr/>
          </p:nvGrpSpPr>
          <p:grpSpPr>
            <a:xfrm>
              <a:off x="8015400" y="717480"/>
              <a:ext cx="633240" cy="635040"/>
              <a:chOff x="8015400" y="717480"/>
              <a:chExt cx="633240" cy="635040"/>
            </a:xfrm>
          </p:grpSpPr>
          <p:grpSp>
            <p:nvGrpSpPr>
              <p:cNvPr id="1290" name=""/>
              <p:cNvGrpSpPr/>
              <p:nvPr/>
            </p:nvGrpSpPr>
            <p:grpSpPr>
              <a:xfrm>
                <a:off x="8015400" y="933480"/>
                <a:ext cx="633240" cy="419040"/>
                <a:chOff x="8015400" y="933480"/>
                <a:chExt cx="633240" cy="419040"/>
              </a:xfrm>
            </p:grpSpPr>
            <p:grpSp>
              <p:nvGrpSpPr>
                <p:cNvPr id="1291" name=""/>
                <p:cNvGrpSpPr/>
                <p:nvPr/>
              </p:nvGrpSpPr>
              <p:grpSpPr>
                <a:xfrm>
                  <a:off x="8015400" y="1269720"/>
                  <a:ext cx="633240" cy="82800"/>
                  <a:chOff x="8015400" y="1269720"/>
                  <a:chExt cx="633240" cy="82800"/>
                </a:xfrm>
              </p:grpSpPr>
              <p:sp>
                <p:nvSpPr>
                  <p:cNvPr id="1292" name=""/>
                  <p:cNvSpPr/>
                  <p:nvPr/>
                </p:nvSpPr>
                <p:spPr>
                  <a:xfrm>
                    <a:off x="812088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83322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8438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85435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82267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80154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8068320" y="1185840"/>
                  <a:ext cx="527760" cy="82800"/>
                  <a:chOff x="8068320" y="1185840"/>
                  <a:chExt cx="527760" cy="8280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806832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827964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838548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849096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817380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4" name=""/>
                <p:cNvSpPr/>
                <p:nvPr/>
              </p:nvSpPr>
              <p:spPr>
                <a:xfrm>
                  <a:off x="822672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43840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3325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1208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17416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3854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28000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1" name=""/>
                <p:cNvGrpSpPr/>
                <p:nvPr/>
              </p:nvGrpSpPr>
              <p:grpSpPr>
                <a:xfrm>
                  <a:off x="8227800" y="933480"/>
                  <a:ext cx="210600" cy="82800"/>
                  <a:chOff x="8227800" y="933480"/>
                  <a:chExt cx="210600" cy="8280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>
                    <a:off x="822780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833364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"/>
              <p:cNvGrpSpPr/>
              <p:nvPr/>
            </p:nvGrpSpPr>
            <p:grpSpPr>
              <a:xfrm>
                <a:off x="8289720" y="933480"/>
                <a:ext cx="83880" cy="414720"/>
                <a:chOff x="8289720" y="933480"/>
                <a:chExt cx="83880" cy="414720"/>
              </a:xfrm>
            </p:grpSpPr>
            <p:grpSp>
              <p:nvGrpSpPr>
                <p:cNvPr id="1315" name=""/>
                <p:cNvGrpSpPr/>
                <p:nvPr/>
              </p:nvGrpSpPr>
              <p:grpSpPr>
                <a:xfrm>
                  <a:off x="8289720" y="933480"/>
                  <a:ext cx="83880" cy="208080"/>
                  <a:chOff x="8289720" y="933480"/>
                  <a:chExt cx="83880" cy="208080"/>
                </a:xfrm>
              </p:grpSpPr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8289720" y="933480"/>
                    <a:ext cx="83880" cy="41400"/>
                    <a:chOff x="8289720" y="933480"/>
                    <a:chExt cx="83880" cy="41400"/>
                  </a:xfrm>
                </p:grpSpPr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828972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828972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"/>
                    <p:cNvSpPr/>
                    <p:nvPr/>
                  </p:nvSpPr>
                  <p:spPr>
                    <a:xfrm>
                      <a:off x="828972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0" name=""/>
                  <p:cNvGrpSpPr/>
                  <p:nvPr/>
                </p:nvGrpSpPr>
                <p:grpSpPr>
                  <a:xfrm>
                    <a:off x="8289720" y="975240"/>
                    <a:ext cx="83880" cy="41400"/>
                    <a:chOff x="8289720" y="975240"/>
                    <a:chExt cx="83880" cy="41400"/>
                  </a:xfrm>
                </p:grpSpPr>
                <p:sp>
                  <p:nvSpPr>
                    <p:cNvPr id="1321" name=""/>
                    <p:cNvSpPr/>
                    <p:nvPr/>
                  </p:nvSpPr>
                  <p:spPr>
                    <a:xfrm>
                      <a:off x="828972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>
                      <a:off x="828972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>
                      <a:off x="828972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4" name=""/>
                  <p:cNvGrpSpPr/>
                  <p:nvPr/>
                </p:nvGrpSpPr>
                <p:grpSpPr>
                  <a:xfrm>
                    <a:off x="8289720" y="1017000"/>
                    <a:ext cx="83880" cy="41400"/>
                    <a:chOff x="8289720" y="1017000"/>
                    <a:chExt cx="83880" cy="41400"/>
                  </a:xfrm>
                </p:grpSpPr>
                <p:sp>
                  <p:nvSpPr>
                    <p:cNvPr id="1325" name=""/>
                    <p:cNvSpPr/>
                    <p:nvPr/>
                  </p:nvSpPr>
                  <p:spPr>
                    <a:xfrm>
                      <a:off x="828972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>
                      <a:off x="828972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"/>
                    <p:cNvSpPr/>
                    <p:nvPr/>
                  </p:nvSpPr>
                  <p:spPr>
                    <a:xfrm>
                      <a:off x="828972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8" name=""/>
                  <p:cNvGrpSpPr/>
                  <p:nvPr/>
                </p:nvGrpSpPr>
                <p:grpSpPr>
                  <a:xfrm>
                    <a:off x="8289720" y="1059120"/>
                    <a:ext cx="83880" cy="41400"/>
                    <a:chOff x="8289720" y="1059120"/>
                    <a:chExt cx="83880" cy="41400"/>
                  </a:xfrm>
                </p:grpSpPr>
                <p:sp>
                  <p:nvSpPr>
                    <p:cNvPr id="1329" name=""/>
                    <p:cNvSpPr/>
                    <p:nvPr/>
                  </p:nvSpPr>
                  <p:spPr>
                    <a:xfrm>
                      <a:off x="828972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"/>
                    <p:cNvSpPr/>
                    <p:nvPr/>
                  </p:nvSpPr>
                  <p:spPr>
                    <a:xfrm>
                      <a:off x="828972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1" name=""/>
                    <p:cNvSpPr/>
                    <p:nvPr/>
                  </p:nvSpPr>
                  <p:spPr>
                    <a:xfrm>
                      <a:off x="828972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2" name=""/>
                  <p:cNvGrpSpPr/>
                  <p:nvPr/>
                </p:nvGrpSpPr>
                <p:grpSpPr>
                  <a:xfrm>
                    <a:off x="8289720" y="1100160"/>
                    <a:ext cx="83880" cy="41400"/>
                    <a:chOff x="8289720" y="1100160"/>
                    <a:chExt cx="83880" cy="41400"/>
                  </a:xfrm>
                </p:grpSpPr>
                <p:sp>
                  <p:nvSpPr>
                    <p:cNvPr id="1333" name=""/>
                    <p:cNvSpPr/>
                    <p:nvPr/>
                  </p:nvSpPr>
                  <p:spPr>
                    <a:xfrm>
                      <a:off x="828972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4" name=""/>
                    <p:cNvSpPr/>
                    <p:nvPr/>
                  </p:nvSpPr>
                  <p:spPr>
                    <a:xfrm>
                      <a:off x="828972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5" name=""/>
                    <p:cNvSpPr/>
                    <p:nvPr/>
                  </p:nvSpPr>
                  <p:spPr>
                    <a:xfrm>
                      <a:off x="828972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8289720" y="1140120"/>
                  <a:ext cx="83880" cy="208080"/>
                  <a:chOff x="8289720" y="1140120"/>
                  <a:chExt cx="83880" cy="208080"/>
                </a:xfrm>
              </p:grpSpPr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8289720" y="1140120"/>
                    <a:ext cx="83880" cy="41400"/>
                    <a:chOff x="8289720" y="1140120"/>
                    <a:chExt cx="83880" cy="41400"/>
                  </a:xfrm>
                </p:grpSpPr>
                <p:sp>
                  <p:nvSpPr>
                    <p:cNvPr id="1338" name=""/>
                    <p:cNvSpPr/>
                    <p:nvPr/>
                  </p:nvSpPr>
                  <p:spPr>
                    <a:xfrm>
                      <a:off x="828972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>
                      <a:off x="828972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0" name=""/>
                    <p:cNvSpPr/>
                    <p:nvPr/>
                  </p:nvSpPr>
                  <p:spPr>
                    <a:xfrm>
                      <a:off x="828972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1" name=""/>
                  <p:cNvGrpSpPr/>
                  <p:nvPr/>
                </p:nvGrpSpPr>
                <p:grpSpPr>
                  <a:xfrm>
                    <a:off x="8289720" y="1181880"/>
                    <a:ext cx="83880" cy="41400"/>
                    <a:chOff x="8289720" y="1181880"/>
                    <a:chExt cx="83880" cy="41400"/>
                  </a:xfrm>
                </p:grpSpPr>
                <p:sp>
                  <p:nvSpPr>
                    <p:cNvPr id="1342" name=""/>
                    <p:cNvSpPr/>
                    <p:nvPr/>
                  </p:nvSpPr>
                  <p:spPr>
                    <a:xfrm>
                      <a:off x="828972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3" name=""/>
                    <p:cNvSpPr/>
                    <p:nvPr/>
                  </p:nvSpPr>
                  <p:spPr>
                    <a:xfrm>
                      <a:off x="828972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>
                      <a:off x="828972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5" name=""/>
                  <p:cNvGrpSpPr/>
                  <p:nvPr/>
                </p:nvGrpSpPr>
                <p:grpSpPr>
                  <a:xfrm>
                    <a:off x="8289720" y="1223640"/>
                    <a:ext cx="83880" cy="41400"/>
                    <a:chOff x="8289720" y="1223640"/>
                    <a:chExt cx="83880" cy="41400"/>
                  </a:xfrm>
                </p:grpSpPr>
                <p:sp>
                  <p:nvSpPr>
                    <p:cNvPr id="1346" name=""/>
                    <p:cNvSpPr/>
                    <p:nvPr/>
                  </p:nvSpPr>
                  <p:spPr>
                    <a:xfrm>
                      <a:off x="828972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>
                      <a:off x="828972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828972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9" name=""/>
                  <p:cNvGrpSpPr/>
                  <p:nvPr/>
                </p:nvGrpSpPr>
                <p:grpSpPr>
                  <a:xfrm>
                    <a:off x="8289720" y="1265760"/>
                    <a:ext cx="83880" cy="41400"/>
                    <a:chOff x="8289720" y="1265760"/>
                    <a:chExt cx="83880" cy="41400"/>
                  </a:xfrm>
                </p:grpSpPr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828972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828972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>
                      <a:off x="828972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3" name=""/>
                  <p:cNvGrpSpPr/>
                  <p:nvPr/>
                </p:nvGrpSpPr>
                <p:grpSpPr>
                  <a:xfrm>
                    <a:off x="8289720" y="1306800"/>
                    <a:ext cx="83880" cy="41400"/>
                    <a:chOff x="8289720" y="1306800"/>
                    <a:chExt cx="83880" cy="41400"/>
                  </a:xfrm>
                </p:grpSpPr>
                <p:sp>
                  <p:nvSpPr>
                    <p:cNvPr id="1354" name=""/>
                    <p:cNvSpPr/>
                    <p:nvPr/>
                  </p:nvSpPr>
                  <p:spPr>
                    <a:xfrm>
                      <a:off x="828972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>
                      <a:off x="828972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828972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57" name=""/>
              <p:cNvGrpSpPr/>
              <p:nvPr/>
            </p:nvGrpSpPr>
            <p:grpSpPr>
              <a:xfrm>
                <a:off x="8263080" y="717480"/>
                <a:ext cx="137880" cy="216000"/>
                <a:chOff x="8263080" y="717480"/>
                <a:chExt cx="137880" cy="21600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8263080" y="790200"/>
                  <a:ext cx="137880" cy="143280"/>
                  <a:chOff x="8263080" y="790200"/>
                  <a:chExt cx="137880" cy="14328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>
                    <a:off x="826308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60" name=""/>
                  <p:cNvGrpSpPr/>
                  <p:nvPr/>
                </p:nvGrpSpPr>
                <p:grpSpPr>
                  <a:xfrm>
                    <a:off x="8265600" y="790200"/>
                    <a:ext cx="132480" cy="143280"/>
                    <a:chOff x="8265600" y="790200"/>
                    <a:chExt cx="132480" cy="143280"/>
                  </a:xfrm>
                </p:grpSpPr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826632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 flipV="1">
                      <a:off x="826560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826956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64" name=""/>
                <p:cNvGrpSpPr/>
                <p:nvPr/>
              </p:nvGrpSpPr>
              <p:grpSpPr>
                <a:xfrm>
                  <a:off x="8288280" y="717480"/>
                  <a:ext cx="86400" cy="72360"/>
                  <a:chOff x="8288280" y="717480"/>
                  <a:chExt cx="86400" cy="7236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>
                    <a:off x="8288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8307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83253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83451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83638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828828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828900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828900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3" name=""/>
                <p:cNvSpPr/>
                <p:nvPr/>
              </p:nvSpPr>
              <p:spPr>
                <a:xfrm>
                  <a:off x="827928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36280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831384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6" name=""/>
            <p:cNvSpPr/>
            <p:nvPr/>
          </p:nvSpPr>
          <p:spPr>
            <a:xfrm>
              <a:off x="7831800" y="145800"/>
              <a:ext cx="99900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ibisch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6586560" y="4987800"/>
            <a:ext cx="20444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Michael Mirmak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Ibischk4 parser sp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Oct, 02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Waveform check: Warning  messag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7280" y="1085760"/>
            <a:ext cx="7389360" cy="2168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- Model LVCMOS_5V_D5510_TRI: The [Falling Waveform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[R_fixture]=50 Ohms and [V_fixture]=5.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YP column DC endpoints of  2.11V and  4.93v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quivalent load applied to the model's I-V tables y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voltages (2.03V and  5.00V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fference of  2.59% and  2.26%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7831800" y="145800"/>
            <a:ext cx="999000" cy="1206720"/>
            <a:chOff x="7831800" y="145800"/>
            <a:chExt cx="999000" cy="1206720"/>
          </a:xfrm>
        </p:grpSpPr>
        <p:grpSp>
          <p:nvGrpSpPr>
            <p:cNvPr id="1381" name=""/>
            <p:cNvGrpSpPr/>
            <p:nvPr/>
          </p:nvGrpSpPr>
          <p:grpSpPr>
            <a:xfrm>
              <a:off x="8015400" y="717480"/>
              <a:ext cx="633240" cy="635040"/>
              <a:chOff x="8015400" y="717480"/>
              <a:chExt cx="633240" cy="635040"/>
            </a:xfrm>
          </p:grpSpPr>
          <p:grpSp>
            <p:nvGrpSpPr>
              <p:cNvPr id="1382" name=""/>
              <p:cNvGrpSpPr/>
              <p:nvPr/>
            </p:nvGrpSpPr>
            <p:grpSpPr>
              <a:xfrm>
                <a:off x="8015400" y="933480"/>
                <a:ext cx="633240" cy="419040"/>
                <a:chOff x="8015400" y="933480"/>
                <a:chExt cx="633240" cy="419040"/>
              </a:xfrm>
            </p:grpSpPr>
            <p:grpSp>
              <p:nvGrpSpPr>
                <p:cNvPr id="1383" name=""/>
                <p:cNvGrpSpPr/>
                <p:nvPr/>
              </p:nvGrpSpPr>
              <p:grpSpPr>
                <a:xfrm>
                  <a:off x="8015400" y="1269720"/>
                  <a:ext cx="633240" cy="82800"/>
                  <a:chOff x="8015400" y="1269720"/>
                  <a:chExt cx="633240" cy="8280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812088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83322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8438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85435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82267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80154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0" name=""/>
                <p:cNvGrpSpPr/>
                <p:nvPr/>
              </p:nvGrpSpPr>
              <p:grpSpPr>
                <a:xfrm>
                  <a:off x="8068320" y="1185840"/>
                  <a:ext cx="527760" cy="82800"/>
                  <a:chOff x="8068320" y="1185840"/>
                  <a:chExt cx="527760" cy="82800"/>
                </a:xfrm>
              </p:grpSpPr>
              <p:sp>
                <p:nvSpPr>
                  <p:cNvPr id="1391" name=""/>
                  <p:cNvSpPr/>
                  <p:nvPr/>
                </p:nvSpPr>
                <p:spPr>
                  <a:xfrm>
                    <a:off x="806832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827964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838548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849096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817380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6" name=""/>
                <p:cNvSpPr/>
                <p:nvPr/>
              </p:nvSpPr>
              <p:spPr>
                <a:xfrm>
                  <a:off x="822672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43840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3325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1208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817416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3854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28000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3" name=""/>
                <p:cNvGrpSpPr/>
                <p:nvPr/>
              </p:nvGrpSpPr>
              <p:grpSpPr>
                <a:xfrm>
                  <a:off x="8227800" y="933480"/>
                  <a:ext cx="210600" cy="82800"/>
                  <a:chOff x="8227800" y="933480"/>
                  <a:chExt cx="210600" cy="82800"/>
                </a:xfrm>
              </p:grpSpPr>
              <p:sp>
                <p:nvSpPr>
                  <p:cNvPr id="1404" name=""/>
                  <p:cNvSpPr/>
                  <p:nvPr/>
                </p:nvSpPr>
                <p:spPr>
                  <a:xfrm>
                    <a:off x="822780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833364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6" name=""/>
              <p:cNvGrpSpPr/>
              <p:nvPr/>
            </p:nvGrpSpPr>
            <p:grpSpPr>
              <a:xfrm>
                <a:off x="8289720" y="933480"/>
                <a:ext cx="83880" cy="414720"/>
                <a:chOff x="8289720" y="933480"/>
                <a:chExt cx="83880" cy="414720"/>
              </a:xfrm>
            </p:grpSpPr>
            <p:grpSp>
              <p:nvGrpSpPr>
                <p:cNvPr id="1407" name=""/>
                <p:cNvGrpSpPr/>
                <p:nvPr/>
              </p:nvGrpSpPr>
              <p:grpSpPr>
                <a:xfrm>
                  <a:off x="8289720" y="933480"/>
                  <a:ext cx="83880" cy="208080"/>
                  <a:chOff x="8289720" y="933480"/>
                  <a:chExt cx="83880" cy="208080"/>
                </a:xfrm>
              </p:grpSpPr>
              <p:grpSp>
                <p:nvGrpSpPr>
                  <p:cNvPr id="1408" name=""/>
                  <p:cNvGrpSpPr/>
                  <p:nvPr/>
                </p:nvGrpSpPr>
                <p:grpSpPr>
                  <a:xfrm>
                    <a:off x="8289720" y="933480"/>
                    <a:ext cx="83880" cy="41400"/>
                    <a:chOff x="8289720" y="933480"/>
                    <a:chExt cx="83880" cy="41400"/>
                  </a:xfrm>
                </p:grpSpPr>
                <p:sp>
                  <p:nvSpPr>
                    <p:cNvPr id="1409" name=""/>
                    <p:cNvSpPr/>
                    <p:nvPr/>
                  </p:nvSpPr>
                  <p:spPr>
                    <a:xfrm>
                      <a:off x="828972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"/>
                    <p:cNvSpPr/>
                    <p:nvPr/>
                  </p:nvSpPr>
                  <p:spPr>
                    <a:xfrm>
                      <a:off x="828972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1" name=""/>
                    <p:cNvSpPr/>
                    <p:nvPr/>
                  </p:nvSpPr>
                  <p:spPr>
                    <a:xfrm>
                      <a:off x="828972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2" name=""/>
                  <p:cNvGrpSpPr/>
                  <p:nvPr/>
                </p:nvGrpSpPr>
                <p:grpSpPr>
                  <a:xfrm>
                    <a:off x="8289720" y="975240"/>
                    <a:ext cx="83880" cy="41400"/>
                    <a:chOff x="8289720" y="975240"/>
                    <a:chExt cx="83880" cy="41400"/>
                  </a:xfrm>
                </p:grpSpPr>
                <p:sp>
                  <p:nvSpPr>
                    <p:cNvPr id="1413" name=""/>
                    <p:cNvSpPr/>
                    <p:nvPr/>
                  </p:nvSpPr>
                  <p:spPr>
                    <a:xfrm>
                      <a:off x="828972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4" name=""/>
                    <p:cNvSpPr/>
                    <p:nvPr/>
                  </p:nvSpPr>
                  <p:spPr>
                    <a:xfrm>
                      <a:off x="828972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>
                      <a:off x="828972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"/>
                  <p:cNvGrpSpPr/>
                  <p:nvPr/>
                </p:nvGrpSpPr>
                <p:grpSpPr>
                  <a:xfrm>
                    <a:off x="8289720" y="1017000"/>
                    <a:ext cx="83880" cy="41400"/>
                    <a:chOff x="8289720" y="1017000"/>
                    <a:chExt cx="83880" cy="41400"/>
                  </a:xfrm>
                </p:grpSpPr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828972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828972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9" name=""/>
                    <p:cNvSpPr/>
                    <p:nvPr/>
                  </p:nvSpPr>
                  <p:spPr>
                    <a:xfrm>
                      <a:off x="828972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8289720" y="1059120"/>
                    <a:ext cx="83880" cy="41400"/>
                    <a:chOff x="8289720" y="1059120"/>
                    <a:chExt cx="83880" cy="4140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828972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828972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828972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4" name=""/>
                  <p:cNvGrpSpPr/>
                  <p:nvPr/>
                </p:nvGrpSpPr>
                <p:grpSpPr>
                  <a:xfrm>
                    <a:off x="8289720" y="1100160"/>
                    <a:ext cx="83880" cy="41400"/>
                    <a:chOff x="8289720" y="1100160"/>
                    <a:chExt cx="83880" cy="41400"/>
                  </a:xfrm>
                </p:grpSpPr>
                <p:sp>
                  <p:nvSpPr>
                    <p:cNvPr id="1425" name=""/>
                    <p:cNvSpPr/>
                    <p:nvPr/>
                  </p:nvSpPr>
                  <p:spPr>
                    <a:xfrm>
                      <a:off x="828972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6" name=""/>
                    <p:cNvSpPr/>
                    <p:nvPr/>
                  </p:nvSpPr>
                  <p:spPr>
                    <a:xfrm>
                      <a:off x="828972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828972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28" name=""/>
                <p:cNvGrpSpPr/>
                <p:nvPr/>
              </p:nvGrpSpPr>
              <p:grpSpPr>
                <a:xfrm>
                  <a:off x="8289720" y="1140120"/>
                  <a:ext cx="83880" cy="208080"/>
                  <a:chOff x="8289720" y="1140120"/>
                  <a:chExt cx="83880" cy="208080"/>
                </a:xfrm>
              </p:grpSpPr>
              <p:grpSp>
                <p:nvGrpSpPr>
                  <p:cNvPr id="1429" name=""/>
                  <p:cNvGrpSpPr/>
                  <p:nvPr/>
                </p:nvGrpSpPr>
                <p:grpSpPr>
                  <a:xfrm>
                    <a:off x="8289720" y="1140120"/>
                    <a:ext cx="83880" cy="41400"/>
                    <a:chOff x="8289720" y="1140120"/>
                    <a:chExt cx="83880" cy="41400"/>
                  </a:xfrm>
                </p:grpSpPr>
                <p:sp>
                  <p:nvSpPr>
                    <p:cNvPr id="1430" name=""/>
                    <p:cNvSpPr/>
                    <p:nvPr/>
                  </p:nvSpPr>
                  <p:spPr>
                    <a:xfrm>
                      <a:off x="828972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1" name=""/>
                    <p:cNvSpPr/>
                    <p:nvPr/>
                  </p:nvSpPr>
                  <p:spPr>
                    <a:xfrm>
                      <a:off x="828972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"/>
                    <p:cNvSpPr/>
                    <p:nvPr/>
                  </p:nvSpPr>
                  <p:spPr>
                    <a:xfrm>
                      <a:off x="828972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3" name=""/>
                  <p:cNvGrpSpPr/>
                  <p:nvPr/>
                </p:nvGrpSpPr>
                <p:grpSpPr>
                  <a:xfrm>
                    <a:off x="8289720" y="1181880"/>
                    <a:ext cx="83880" cy="41400"/>
                    <a:chOff x="8289720" y="1181880"/>
                    <a:chExt cx="83880" cy="41400"/>
                  </a:xfrm>
                </p:grpSpPr>
                <p:sp>
                  <p:nvSpPr>
                    <p:cNvPr id="1434" name=""/>
                    <p:cNvSpPr/>
                    <p:nvPr/>
                  </p:nvSpPr>
                  <p:spPr>
                    <a:xfrm>
                      <a:off x="828972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"/>
                    <p:cNvSpPr/>
                    <p:nvPr/>
                  </p:nvSpPr>
                  <p:spPr>
                    <a:xfrm>
                      <a:off x="828972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"/>
                    <p:cNvSpPr/>
                    <p:nvPr/>
                  </p:nvSpPr>
                  <p:spPr>
                    <a:xfrm>
                      <a:off x="828972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"/>
                  <p:cNvGrpSpPr/>
                  <p:nvPr/>
                </p:nvGrpSpPr>
                <p:grpSpPr>
                  <a:xfrm>
                    <a:off x="8289720" y="1223640"/>
                    <a:ext cx="83880" cy="41400"/>
                    <a:chOff x="8289720" y="1223640"/>
                    <a:chExt cx="83880" cy="41400"/>
                  </a:xfrm>
                </p:grpSpPr>
                <p:sp>
                  <p:nvSpPr>
                    <p:cNvPr id="1438" name=""/>
                    <p:cNvSpPr/>
                    <p:nvPr/>
                  </p:nvSpPr>
                  <p:spPr>
                    <a:xfrm>
                      <a:off x="828972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"/>
                    <p:cNvSpPr/>
                    <p:nvPr/>
                  </p:nvSpPr>
                  <p:spPr>
                    <a:xfrm>
                      <a:off x="828972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"/>
                    <p:cNvSpPr/>
                    <p:nvPr/>
                  </p:nvSpPr>
                  <p:spPr>
                    <a:xfrm>
                      <a:off x="828972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"/>
                  <p:cNvGrpSpPr/>
                  <p:nvPr/>
                </p:nvGrpSpPr>
                <p:grpSpPr>
                  <a:xfrm>
                    <a:off x="8289720" y="1265760"/>
                    <a:ext cx="83880" cy="41400"/>
                    <a:chOff x="8289720" y="1265760"/>
                    <a:chExt cx="83880" cy="41400"/>
                  </a:xfrm>
                </p:grpSpPr>
                <p:sp>
                  <p:nvSpPr>
                    <p:cNvPr id="1442" name=""/>
                    <p:cNvSpPr/>
                    <p:nvPr/>
                  </p:nvSpPr>
                  <p:spPr>
                    <a:xfrm>
                      <a:off x="828972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>
                      <a:off x="828972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828972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5" name=""/>
                  <p:cNvGrpSpPr/>
                  <p:nvPr/>
                </p:nvGrpSpPr>
                <p:grpSpPr>
                  <a:xfrm>
                    <a:off x="8289720" y="1306800"/>
                    <a:ext cx="83880" cy="41400"/>
                    <a:chOff x="8289720" y="1306800"/>
                    <a:chExt cx="83880" cy="41400"/>
                  </a:xfrm>
                </p:grpSpPr>
                <p:sp>
                  <p:nvSpPr>
                    <p:cNvPr id="1446" name=""/>
                    <p:cNvSpPr/>
                    <p:nvPr/>
                  </p:nvSpPr>
                  <p:spPr>
                    <a:xfrm>
                      <a:off x="828972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7" name=""/>
                    <p:cNvSpPr/>
                    <p:nvPr/>
                  </p:nvSpPr>
                  <p:spPr>
                    <a:xfrm>
                      <a:off x="828972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828972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9" name=""/>
              <p:cNvGrpSpPr/>
              <p:nvPr/>
            </p:nvGrpSpPr>
            <p:grpSpPr>
              <a:xfrm>
                <a:off x="8263080" y="717480"/>
                <a:ext cx="137880" cy="216000"/>
                <a:chOff x="8263080" y="717480"/>
                <a:chExt cx="137880" cy="216000"/>
              </a:xfrm>
            </p:grpSpPr>
            <p:grpSp>
              <p:nvGrpSpPr>
                <p:cNvPr id="1450" name=""/>
                <p:cNvGrpSpPr/>
                <p:nvPr/>
              </p:nvGrpSpPr>
              <p:grpSpPr>
                <a:xfrm>
                  <a:off x="8263080" y="790200"/>
                  <a:ext cx="137880" cy="143280"/>
                  <a:chOff x="8263080" y="790200"/>
                  <a:chExt cx="137880" cy="14328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826308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52" name=""/>
                  <p:cNvGrpSpPr/>
                  <p:nvPr/>
                </p:nvGrpSpPr>
                <p:grpSpPr>
                  <a:xfrm>
                    <a:off x="8265600" y="790200"/>
                    <a:ext cx="132480" cy="143280"/>
                    <a:chOff x="8265600" y="790200"/>
                    <a:chExt cx="132480" cy="143280"/>
                  </a:xfrm>
                </p:grpSpPr>
                <p:sp>
                  <p:nvSpPr>
                    <p:cNvPr id="1453" name=""/>
                    <p:cNvSpPr/>
                    <p:nvPr/>
                  </p:nvSpPr>
                  <p:spPr>
                    <a:xfrm>
                      <a:off x="826632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 flipV="1">
                      <a:off x="826560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826956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8288280" y="717480"/>
                  <a:ext cx="86400" cy="72360"/>
                  <a:chOff x="8288280" y="717480"/>
                  <a:chExt cx="86400" cy="7236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>
                    <a:off x="8288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8307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83253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83451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83638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828828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828900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828900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5" name=""/>
                <p:cNvSpPr/>
                <p:nvPr/>
              </p:nvSpPr>
              <p:spPr>
                <a:xfrm>
                  <a:off x="827928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36280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831384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8" name=""/>
            <p:cNvSpPr/>
            <p:nvPr/>
          </p:nvSpPr>
          <p:spPr>
            <a:xfrm>
              <a:off x="7831800" y="145800"/>
              <a:ext cx="99900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ibisch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461880" y="3402000"/>
            <a:ext cx="6558120" cy="3018600"/>
            <a:chOff x="461880" y="3402000"/>
            <a:chExt cx="6558120" cy="3018600"/>
          </a:xfrm>
        </p:grpSpPr>
        <p:grpSp>
          <p:nvGrpSpPr>
            <p:cNvPr id="1470" name=""/>
            <p:cNvGrpSpPr/>
            <p:nvPr/>
          </p:nvGrpSpPr>
          <p:grpSpPr>
            <a:xfrm>
              <a:off x="828720" y="3402000"/>
              <a:ext cx="6191280" cy="3018600"/>
              <a:chOff x="828720" y="3402000"/>
              <a:chExt cx="6191280" cy="3018600"/>
            </a:xfrm>
          </p:grpSpPr>
          <p:grpSp>
            <p:nvGrpSpPr>
              <p:cNvPr id="1471" name=""/>
              <p:cNvGrpSpPr/>
              <p:nvPr/>
            </p:nvGrpSpPr>
            <p:grpSpPr>
              <a:xfrm>
                <a:off x="828720" y="3792600"/>
                <a:ext cx="2255760" cy="2266920"/>
                <a:chOff x="828720" y="3792600"/>
                <a:chExt cx="2255760" cy="226692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950760" y="3792600"/>
                  <a:ext cx="0" cy="2266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28720" y="5962680"/>
                  <a:ext cx="2255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4" name=""/>
              <p:cNvGrpSpPr/>
              <p:nvPr/>
            </p:nvGrpSpPr>
            <p:grpSpPr>
              <a:xfrm>
                <a:off x="923760" y="4435560"/>
                <a:ext cx="1909800" cy="1585080"/>
                <a:chOff x="923760" y="4435560"/>
                <a:chExt cx="1909800" cy="1585080"/>
              </a:xfrm>
            </p:grpSpPr>
            <p:sp>
              <p:nvSpPr>
                <p:cNvPr id="1475" name=""/>
                <p:cNvSpPr/>
                <p:nvPr/>
              </p:nvSpPr>
              <p:spPr>
                <a:xfrm flipV="1">
                  <a:off x="923760" y="5463720"/>
                  <a:ext cx="247680" cy="556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V="1">
                  <a:off x="1176480" y="4964040"/>
                  <a:ext cx="342720" cy="499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flipV="1">
                  <a:off x="1514520" y="4573440"/>
                  <a:ext cx="571320" cy="390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V="1">
                  <a:off x="2085840" y="4435560"/>
                  <a:ext cx="74772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"/>
              <p:cNvSpPr/>
              <p:nvPr/>
            </p:nvSpPr>
            <p:spPr>
              <a:xfrm>
                <a:off x="1328760" y="4200480"/>
                <a:ext cx="1628640" cy="19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641600" y="3867120"/>
                <a:ext cx="16286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50Ohm to Vc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004280" y="5340240"/>
                <a:ext cx="77652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2.11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735640" y="5345280"/>
                <a:ext cx="45972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5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339440" y="3441600"/>
                <a:ext cx="2084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[Falling Waveform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956760" y="3927600"/>
                <a:ext cx="77652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4.93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281600" y="6059520"/>
                <a:ext cx="77652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2.03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6" name=""/>
              <p:cNvGrpSpPr/>
              <p:nvPr/>
            </p:nvGrpSpPr>
            <p:grpSpPr>
              <a:xfrm>
                <a:off x="4764240" y="3792600"/>
                <a:ext cx="2255760" cy="2266920"/>
                <a:chOff x="4764240" y="3792600"/>
                <a:chExt cx="2255760" cy="2266920"/>
              </a:xfrm>
            </p:grpSpPr>
            <p:sp>
              <p:nvSpPr>
                <p:cNvPr id="1487" name=""/>
                <p:cNvSpPr/>
                <p:nvPr/>
              </p:nvSpPr>
              <p:spPr>
                <a:xfrm>
                  <a:off x="4886280" y="3792600"/>
                  <a:ext cx="0" cy="2266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4764240" y="5962680"/>
                  <a:ext cx="2255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9" name=""/>
              <p:cNvGrpSpPr/>
              <p:nvPr/>
            </p:nvGrpSpPr>
            <p:grpSpPr>
              <a:xfrm>
                <a:off x="4933800" y="4071960"/>
                <a:ext cx="1490760" cy="1467000"/>
                <a:chOff x="4933800" y="4071960"/>
                <a:chExt cx="1490760" cy="146700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4933800" y="4071960"/>
                  <a:ext cx="344520" cy="12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5276880" y="4079880"/>
                  <a:ext cx="328680" cy="146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605560" y="4229280"/>
                  <a:ext cx="171360" cy="414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781600" y="4648320"/>
                  <a:ext cx="90720" cy="361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5877000" y="5019840"/>
                  <a:ext cx="142920" cy="361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024600" y="5386320"/>
                  <a:ext cx="200160" cy="142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224760" y="5538960"/>
                  <a:ext cx="199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"/>
              <p:cNvSpPr/>
              <p:nvPr/>
            </p:nvSpPr>
            <p:spPr>
              <a:xfrm>
                <a:off x="1792440" y="4657680"/>
                <a:ext cx="0" cy="14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00440" y="5730840"/>
                <a:ext cx="0" cy="32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4749840" y="5578560"/>
                <a:ext cx="170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275840" y="3402000"/>
                <a:ext cx="22611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High &amp; Low I-V 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2688840" y="5872320"/>
                <a:ext cx="158760" cy="317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2457360" y="6192720"/>
                <a:ext cx="225360" cy="227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3" name=""/>
            <p:cNvSpPr/>
            <p:nvPr/>
          </p:nvSpPr>
          <p:spPr>
            <a:xfrm>
              <a:off x="2909160" y="6173640"/>
              <a:ext cx="60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16200000">
              <a:off x="271800" y="4068720"/>
              <a:ext cx="62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161040" y="6134040"/>
              <a:ext cx="54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/ns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6200000">
              <a:off x="4248360" y="4561920"/>
              <a:ext cx="7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V-t-tables matching to V-I-data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7831800" y="145800"/>
            <a:ext cx="999000" cy="1206720"/>
            <a:chOff x="7831800" y="145800"/>
            <a:chExt cx="999000" cy="1206720"/>
          </a:xfrm>
        </p:grpSpPr>
        <p:grpSp>
          <p:nvGrpSpPr>
            <p:cNvPr id="1509" name=""/>
            <p:cNvGrpSpPr/>
            <p:nvPr/>
          </p:nvGrpSpPr>
          <p:grpSpPr>
            <a:xfrm>
              <a:off x="8015400" y="717480"/>
              <a:ext cx="633240" cy="635040"/>
              <a:chOff x="8015400" y="717480"/>
              <a:chExt cx="633240" cy="635040"/>
            </a:xfrm>
          </p:grpSpPr>
          <p:grpSp>
            <p:nvGrpSpPr>
              <p:cNvPr id="1510" name=""/>
              <p:cNvGrpSpPr/>
              <p:nvPr/>
            </p:nvGrpSpPr>
            <p:grpSpPr>
              <a:xfrm>
                <a:off x="8015400" y="933480"/>
                <a:ext cx="633240" cy="419040"/>
                <a:chOff x="8015400" y="933480"/>
                <a:chExt cx="633240" cy="419040"/>
              </a:xfrm>
            </p:grpSpPr>
            <p:grpSp>
              <p:nvGrpSpPr>
                <p:cNvPr id="1511" name=""/>
                <p:cNvGrpSpPr/>
                <p:nvPr/>
              </p:nvGrpSpPr>
              <p:grpSpPr>
                <a:xfrm>
                  <a:off x="8015400" y="1269720"/>
                  <a:ext cx="633240" cy="82800"/>
                  <a:chOff x="8015400" y="1269720"/>
                  <a:chExt cx="633240" cy="8280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812088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83322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8438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85435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82267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80154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8" name=""/>
                <p:cNvGrpSpPr/>
                <p:nvPr/>
              </p:nvGrpSpPr>
              <p:grpSpPr>
                <a:xfrm>
                  <a:off x="8068320" y="1185840"/>
                  <a:ext cx="527760" cy="82800"/>
                  <a:chOff x="8068320" y="1185840"/>
                  <a:chExt cx="527760" cy="82800"/>
                </a:xfrm>
              </p:grpSpPr>
              <p:sp>
                <p:nvSpPr>
                  <p:cNvPr id="1519" name=""/>
                  <p:cNvSpPr/>
                  <p:nvPr/>
                </p:nvSpPr>
                <p:spPr>
                  <a:xfrm>
                    <a:off x="806832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827964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838548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849096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817380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4" name=""/>
                <p:cNvSpPr/>
                <p:nvPr/>
              </p:nvSpPr>
              <p:spPr>
                <a:xfrm>
                  <a:off x="822672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43840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3325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1208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17416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3854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28000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1" name=""/>
                <p:cNvGrpSpPr/>
                <p:nvPr/>
              </p:nvGrpSpPr>
              <p:grpSpPr>
                <a:xfrm>
                  <a:off x="8227800" y="933480"/>
                  <a:ext cx="210600" cy="82800"/>
                  <a:chOff x="8227800" y="933480"/>
                  <a:chExt cx="210600" cy="8280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822780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833364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4" name=""/>
              <p:cNvGrpSpPr/>
              <p:nvPr/>
            </p:nvGrpSpPr>
            <p:grpSpPr>
              <a:xfrm>
                <a:off x="8289720" y="933480"/>
                <a:ext cx="83880" cy="414720"/>
                <a:chOff x="8289720" y="933480"/>
                <a:chExt cx="83880" cy="414720"/>
              </a:xfrm>
            </p:grpSpPr>
            <p:grpSp>
              <p:nvGrpSpPr>
                <p:cNvPr id="1535" name=""/>
                <p:cNvGrpSpPr/>
                <p:nvPr/>
              </p:nvGrpSpPr>
              <p:grpSpPr>
                <a:xfrm>
                  <a:off x="8289720" y="933480"/>
                  <a:ext cx="83880" cy="208080"/>
                  <a:chOff x="8289720" y="933480"/>
                  <a:chExt cx="83880" cy="208080"/>
                </a:xfrm>
              </p:grpSpPr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8289720" y="933480"/>
                    <a:ext cx="83880" cy="41400"/>
                    <a:chOff x="8289720" y="933480"/>
                    <a:chExt cx="83880" cy="4140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828972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828972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828972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"/>
                  <p:cNvGrpSpPr/>
                  <p:nvPr/>
                </p:nvGrpSpPr>
                <p:grpSpPr>
                  <a:xfrm>
                    <a:off x="8289720" y="975240"/>
                    <a:ext cx="83880" cy="41400"/>
                    <a:chOff x="8289720" y="975240"/>
                    <a:chExt cx="83880" cy="41400"/>
                  </a:xfrm>
                </p:grpSpPr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828972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828972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>
                      <a:off x="828972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"/>
                  <p:cNvGrpSpPr/>
                  <p:nvPr/>
                </p:nvGrpSpPr>
                <p:grpSpPr>
                  <a:xfrm>
                    <a:off x="8289720" y="1017000"/>
                    <a:ext cx="83880" cy="41400"/>
                    <a:chOff x="8289720" y="1017000"/>
                    <a:chExt cx="83880" cy="41400"/>
                  </a:xfrm>
                </p:grpSpPr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828972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828972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828972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8" name=""/>
                  <p:cNvGrpSpPr/>
                  <p:nvPr/>
                </p:nvGrpSpPr>
                <p:grpSpPr>
                  <a:xfrm>
                    <a:off x="8289720" y="1059120"/>
                    <a:ext cx="83880" cy="41400"/>
                    <a:chOff x="8289720" y="1059120"/>
                    <a:chExt cx="83880" cy="41400"/>
                  </a:xfrm>
                </p:grpSpPr>
                <p:sp>
                  <p:nvSpPr>
                    <p:cNvPr id="1549" name=""/>
                    <p:cNvSpPr/>
                    <p:nvPr/>
                  </p:nvSpPr>
                  <p:spPr>
                    <a:xfrm>
                      <a:off x="828972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0" name=""/>
                    <p:cNvSpPr/>
                    <p:nvPr/>
                  </p:nvSpPr>
                  <p:spPr>
                    <a:xfrm>
                      <a:off x="828972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828972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2" name=""/>
                  <p:cNvGrpSpPr/>
                  <p:nvPr/>
                </p:nvGrpSpPr>
                <p:grpSpPr>
                  <a:xfrm>
                    <a:off x="8289720" y="1100160"/>
                    <a:ext cx="83880" cy="41400"/>
                    <a:chOff x="8289720" y="1100160"/>
                    <a:chExt cx="83880" cy="41400"/>
                  </a:xfrm>
                </p:grpSpPr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828972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"/>
                    <p:cNvSpPr/>
                    <p:nvPr/>
                  </p:nvSpPr>
                  <p:spPr>
                    <a:xfrm>
                      <a:off x="828972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>
                      <a:off x="828972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56" name=""/>
                <p:cNvGrpSpPr/>
                <p:nvPr/>
              </p:nvGrpSpPr>
              <p:grpSpPr>
                <a:xfrm>
                  <a:off x="8289720" y="1140120"/>
                  <a:ext cx="83880" cy="208080"/>
                  <a:chOff x="8289720" y="1140120"/>
                  <a:chExt cx="83880" cy="208080"/>
                </a:xfrm>
              </p:grpSpPr>
              <p:grpSp>
                <p:nvGrpSpPr>
                  <p:cNvPr id="1557" name=""/>
                  <p:cNvGrpSpPr/>
                  <p:nvPr/>
                </p:nvGrpSpPr>
                <p:grpSpPr>
                  <a:xfrm>
                    <a:off x="8289720" y="1140120"/>
                    <a:ext cx="83880" cy="41400"/>
                    <a:chOff x="8289720" y="1140120"/>
                    <a:chExt cx="83880" cy="41400"/>
                  </a:xfrm>
                </p:grpSpPr>
                <p:sp>
                  <p:nvSpPr>
                    <p:cNvPr id="1558" name=""/>
                    <p:cNvSpPr/>
                    <p:nvPr/>
                  </p:nvSpPr>
                  <p:spPr>
                    <a:xfrm>
                      <a:off x="828972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"/>
                    <p:cNvSpPr/>
                    <p:nvPr/>
                  </p:nvSpPr>
                  <p:spPr>
                    <a:xfrm>
                      <a:off x="828972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"/>
                    <p:cNvSpPr/>
                    <p:nvPr/>
                  </p:nvSpPr>
                  <p:spPr>
                    <a:xfrm>
                      <a:off x="828972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"/>
                  <p:cNvGrpSpPr/>
                  <p:nvPr/>
                </p:nvGrpSpPr>
                <p:grpSpPr>
                  <a:xfrm>
                    <a:off x="8289720" y="1181880"/>
                    <a:ext cx="83880" cy="41400"/>
                    <a:chOff x="8289720" y="1181880"/>
                    <a:chExt cx="83880" cy="41400"/>
                  </a:xfrm>
                </p:grpSpPr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828972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828972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>
                      <a:off x="828972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5" name=""/>
                  <p:cNvGrpSpPr/>
                  <p:nvPr/>
                </p:nvGrpSpPr>
                <p:grpSpPr>
                  <a:xfrm>
                    <a:off x="8289720" y="1223640"/>
                    <a:ext cx="83880" cy="41400"/>
                    <a:chOff x="8289720" y="1223640"/>
                    <a:chExt cx="83880" cy="41400"/>
                  </a:xfrm>
                </p:grpSpPr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828972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828972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8" name=""/>
                    <p:cNvSpPr/>
                    <p:nvPr/>
                  </p:nvSpPr>
                  <p:spPr>
                    <a:xfrm>
                      <a:off x="828972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9" name=""/>
                  <p:cNvGrpSpPr/>
                  <p:nvPr/>
                </p:nvGrpSpPr>
                <p:grpSpPr>
                  <a:xfrm>
                    <a:off x="8289720" y="1265760"/>
                    <a:ext cx="83880" cy="41400"/>
                    <a:chOff x="8289720" y="1265760"/>
                    <a:chExt cx="83880" cy="41400"/>
                  </a:xfrm>
                </p:grpSpPr>
                <p:sp>
                  <p:nvSpPr>
                    <p:cNvPr id="1570" name=""/>
                    <p:cNvSpPr/>
                    <p:nvPr/>
                  </p:nvSpPr>
                  <p:spPr>
                    <a:xfrm>
                      <a:off x="828972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1" name=""/>
                    <p:cNvSpPr/>
                    <p:nvPr/>
                  </p:nvSpPr>
                  <p:spPr>
                    <a:xfrm>
                      <a:off x="828972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2" name=""/>
                    <p:cNvSpPr/>
                    <p:nvPr/>
                  </p:nvSpPr>
                  <p:spPr>
                    <a:xfrm>
                      <a:off x="828972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3" name=""/>
                  <p:cNvGrpSpPr/>
                  <p:nvPr/>
                </p:nvGrpSpPr>
                <p:grpSpPr>
                  <a:xfrm>
                    <a:off x="8289720" y="1306800"/>
                    <a:ext cx="83880" cy="41400"/>
                    <a:chOff x="8289720" y="1306800"/>
                    <a:chExt cx="83880" cy="41400"/>
                  </a:xfrm>
                </p:grpSpPr>
                <p:sp>
                  <p:nvSpPr>
                    <p:cNvPr id="1574" name=""/>
                    <p:cNvSpPr/>
                    <p:nvPr/>
                  </p:nvSpPr>
                  <p:spPr>
                    <a:xfrm>
                      <a:off x="828972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"/>
                    <p:cNvSpPr/>
                    <p:nvPr/>
                  </p:nvSpPr>
                  <p:spPr>
                    <a:xfrm>
                      <a:off x="828972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6" name=""/>
                    <p:cNvSpPr/>
                    <p:nvPr/>
                  </p:nvSpPr>
                  <p:spPr>
                    <a:xfrm>
                      <a:off x="828972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77" name=""/>
              <p:cNvGrpSpPr/>
              <p:nvPr/>
            </p:nvGrpSpPr>
            <p:grpSpPr>
              <a:xfrm>
                <a:off x="8263080" y="717480"/>
                <a:ext cx="137880" cy="216000"/>
                <a:chOff x="8263080" y="717480"/>
                <a:chExt cx="137880" cy="216000"/>
              </a:xfrm>
            </p:grpSpPr>
            <p:grpSp>
              <p:nvGrpSpPr>
                <p:cNvPr id="1578" name=""/>
                <p:cNvGrpSpPr/>
                <p:nvPr/>
              </p:nvGrpSpPr>
              <p:grpSpPr>
                <a:xfrm>
                  <a:off x="8263080" y="790200"/>
                  <a:ext cx="137880" cy="143280"/>
                  <a:chOff x="8263080" y="790200"/>
                  <a:chExt cx="137880" cy="14328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>
                    <a:off x="826308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0" name=""/>
                  <p:cNvGrpSpPr/>
                  <p:nvPr/>
                </p:nvGrpSpPr>
                <p:grpSpPr>
                  <a:xfrm>
                    <a:off x="8265600" y="790200"/>
                    <a:ext cx="132480" cy="143280"/>
                    <a:chOff x="8265600" y="790200"/>
                    <a:chExt cx="132480" cy="143280"/>
                  </a:xfrm>
                </p:grpSpPr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826632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2" name=""/>
                    <p:cNvSpPr/>
                    <p:nvPr/>
                  </p:nvSpPr>
                  <p:spPr>
                    <a:xfrm flipV="1">
                      <a:off x="826560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3" name=""/>
                    <p:cNvSpPr/>
                    <p:nvPr/>
                  </p:nvSpPr>
                  <p:spPr>
                    <a:xfrm>
                      <a:off x="826956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84" name=""/>
                <p:cNvGrpSpPr/>
                <p:nvPr/>
              </p:nvGrpSpPr>
              <p:grpSpPr>
                <a:xfrm>
                  <a:off x="8288280" y="717480"/>
                  <a:ext cx="86400" cy="72360"/>
                  <a:chOff x="8288280" y="717480"/>
                  <a:chExt cx="86400" cy="7236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8288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8307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83253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83451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83638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828828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828900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828900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3" name=""/>
                <p:cNvSpPr/>
                <p:nvPr/>
              </p:nvSpPr>
              <p:spPr>
                <a:xfrm>
                  <a:off x="827928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36280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31384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6" name=""/>
            <p:cNvSpPr/>
            <p:nvPr/>
          </p:nvSpPr>
          <p:spPr>
            <a:xfrm>
              <a:off x="7831800" y="145800"/>
              <a:ext cx="99900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ibisch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61880" y="2347920"/>
            <a:ext cx="8415360" cy="3056040"/>
            <a:chOff x="461880" y="2347920"/>
            <a:chExt cx="8415360" cy="3056040"/>
          </a:xfrm>
        </p:grpSpPr>
        <p:sp>
          <p:nvSpPr>
            <p:cNvPr id="1598" name=""/>
            <p:cNvSpPr/>
            <p:nvPr/>
          </p:nvSpPr>
          <p:spPr>
            <a:xfrm>
              <a:off x="2031840" y="5083200"/>
              <a:ext cx="1022400" cy="320760"/>
            </a:xfrm>
            <a:prstGeom prst="leftRightArrow">
              <a:avLst>
                <a:gd name="adj1" fmla="val 50000"/>
                <a:gd name="adj2" fmla="val 63453"/>
              </a:avLst>
            </a:prstGeom>
            <a:solidFill>
              <a:srgbClr val="ffff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1880" y="2347920"/>
              <a:ext cx="8415360" cy="818280"/>
            </a:xfrm>
            <a:prstGeom prst="rect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buClr>
                  <a:srgbClr val="ff33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he difference between the reference voltages is the ideal 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 voltage sw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461880" y="612720"/>
            <a:ext cx="6502320" cy="5583960"/>
            <a:chOff x="461880" y="612720"/>
            <a:chExt cx="6502320" cy="5583960"/>
          </a:xfrm>
        </p:grpSpPr>
        <p:sp>
          <p:nvSpPr>
            <p:cNvPr id="1601" name=""/>
            <p:cNvSpPr/>
            <p:nvPr/>
          </p:nvSpPr>
          <p:spPr>
            <a:xfrm>
              <a:off x="461880" y="612720"/>
              <a:ext cx="6502320" cy="818280"/>
            </a:xfrm>
            <a:prstGeom prst="rect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buClr>
                  <a:srgbClr val="ff33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Reference voltage points are calculated from 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the two static I-V-tables for ‚High‘ and ‚Low‘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04400" y="3666960"/>
              <a:ext cx="1512720" cy="361080"/>
            </a:xfrm>
            <a:prstGeom prst="rect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w I-V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104640" y="5835600"/>
              <a:ext cx="1563120" cy="361080"/>
            </a:xfrm>
            <a:prstGeom prst="rect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gh I-V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133720" y="4094280"/>
              <a:ext cx="81000" cy="22356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 flipV="1">
              <a:off x="2937960" y="5935680"/>
              <a:ext cx="81000" cy="22392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457200" y="1631880"/>
            <a:ext cx="7922880" cy="4240440"/>
            <a:chOff x="457200" y="1631880"/>
            <a:chExt cx="7922880" cy="4240440"/>
          </a:xfrm>
        </p:grpSpPr>
        <p:sp>
          <p:nvSpPr>
            <p:cNvPr id="1607" name=""/>
            <p:cNvSpPr/>
            <p:nvPr/>
          </p:nvSpPr>
          <p:spPr>
            <a:xfrm>
              <a:off x="1557360" y="3938760"/>
              <a:ext cx="1628640" cy="19335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751440" y="3294000"/>
              <a:ext cx="1628640" cy="36108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50Ohm to V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7200" y="1631880"/>
              <a:ext cx="7354800" cy="45252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500"/>
                </a:spcBef>
                <a:spcAft>
                  <a:spcPts val="451"/>
                </a:spcAft>
                <a:buClr>
                  <a:srgbClr val="ff33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he load lines are based on V_fixture and R_fix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2428920" y="3678120"/>
              <a:ext cx="4255920" cy="1198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1" name=""/>
          <p:cNvGrpSpPr/>
          <p:nvPr/>
        </p:nvGrpSpPr>
        <p:grpSpPr>
          <a:xfrm>
            <a:off x="615960" y="3306600"/>
            <a:ext cx="6632640" cy="2979000"/>
            <a:chOff x="615960" y="3306600"/>
            <a:chExt cx="6632640" cy="2979000"/>
          </a:xfrm>
        </p:grpSpPr>
        <p:grpSp>
          <p:nvGrpSpPr>
            <p:cNvPr id="1612" name=""/>
            <p:cNvGrpSpPr/>
            <p:nvPr/>
          </p:nvGrpSpPr>
          <p:grpSpPr>
            <a:xfrm>
              <a:off x="1057320" y="3505320"/>
              <a:ext cx="2255760" cy="2266920"/>
              <a:chOff x="1057320" y="3505320"/>
              <a:chExt cx="2255760" cy="2266920"/>
            </a:xfrm>
          </p:grpSpPr>
          <p:sp>
            <p:nvSpPr>
              <p:cNvPr id="1613" name=""/>
              <p:cNvSpPr/>
              <p:nvPr/>
            </p:nvSpPr>
            <p:spPr>
              <a:xfrm>
                <a:off x="1179360" y="3505320"/>
                <a:ext cx="0" cy="22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057320" y="5675400"/>
                <a:ext cx="22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1152360" y="4173480"/>
              <a:ext cx="1909800" cy="1585080"/>
              <a:chOff x="1152360" y="4173480"/>
              <a:chExt cx="1909800" cy="1585080"/>
            </a:xfrm>
          </p:grpSpPr>
          <p:sp>
            <p:nvSpPr>
              <p:cNvPr id="1616" name=""/>
              <p:cNvSpPr/>
              <p:nvPr/>
            </p:nvSpPr>
            <p:spPr>
              <a:xfrm flipV="1">
                <a:off x="1152360" y="5201640"/>
                <a:ext cx="247680" cy="5569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V="1">
                <a:off x="1405080" y="4701960"/>
                <a:ext cx="342720" cy="49968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1743120" y="4311360"/>
                <a:ext cx="571320" cy="39024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2314440" y="4173480"/>
                <a:ext cx="747720" cy="14256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0" name=""/>
            <p:cNvSpPr/>
            <p:nvPr/>
          </p:nvSpPr>
          <p:spPr>
            <a:xfrm>
              <a:off x="4232880" y="5205240"/>
              <a:ext cx="7765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.11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983320" y="5210280"/>
              <a:ext cx="459720" cy="361080"/>
            </a:xfrm>
            <a:prstGeom prst="rect">
              <a:avLst/>
            </a:pr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5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68040" y="3306600"/>
              <a:ext cx="20840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[Falling Waveform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209120" y="3778200"/>
              <a:ext cx="7765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4.93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29280" y="5924520"/>
              <a:ext cx="776520" cy="361080"/>
            </a:xfrm>
            <a:prstGeom prst="rect">
              <a:avLst/>
            </a:pr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.03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5" name=""/>
            <p:cNvGrpSpPr/>
            <p:nvPr/>
          </p:nvGrpSpPr>
          <p:grpSpPr>
            <a:xfrm>
              <a:off x="4992840" y="3657600"/>
              <a:ext cx="2255760" cy="2266920"/>
              <a:chOff x="4992840" y="3657600"/>
              <a:chExt cx="2255760" cy="2266920"/>
            </a:xfrm>
          </p:grpSpPr>
          <p:sp>
            <p:nvSpPr>
              <p:cNvPr id="1626" name=""/>
              <p:cNvSpPr/>
              <p:nvPr/>
            </p:nvSpPr>
            <p:spPr>
              <a:xfrm>
                <a:off x="5114880" y="3657600"/>
                <a:ext cx="0" cy="22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992840" y="5827680"/>
                <a:ext cx="22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5162400" y="3936960"/>
              <a:ext cx="1490760" cy="1467000"/>
              <a:chOff x="5162400" y="3936960"/>
              <a:chExt cx="1490760" cy="1467000"/>
            </a:xfrm>
          </p:grpSpPr>
          <p:sp>
            <p:nvSpPr>
              <p:cNvPr id="1629" name=""/>
              <p:cNvSpPr/>
              <p:nvPr/>
            </p:nvSpPr>
            <p:spPr>
              <a:xfrm>
                <a:off x="5162400" y="3936960"/>
                <a:ext cx="344520" cy="12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505480" y="3944880"/>
                <a:ext cx="328680" cy="146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834160" y="4094280"/>
                <a:ext cx="171360" cy="41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010200" y="4513320"/>
                <a:ext cx="90720" cy="36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105600" y="4884840"/>
                <a:ext cx="142920" cy="36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253200" y="5251320"/>
                <a:ext cx="200160" cy="14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453360" y="5403960"/>
                <a:ext cx="199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2030400" y="4390920"/>
              <a:ext cx="0" cy="140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029040" y="5595840"/>
              <a:ext cx="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4978440" y="5443560"/>
              <a:ext cx="17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917440" y="5610240"/>
              <a:ext cx="158760" cy="3175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2685960" y="5918040"/>
              <a:ext cx="225360" cy="22716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22160" y="5516640"/>
              <a:ext cx="60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16200000">
              <a:off x="425880" y="3748680"/>
              <a:ext cx="62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648120" y="5902200"/>
              <a:ext cx="54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/ns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4565880" y="4561920"/>
              <a:ext cx="7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error/warning percentage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34880" y="1698480"/>
            <a:ext cx="84153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749"/>
              </a:spcBef>
              <a:spcAft>
                <a:spcPts val="5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-t tables  matching to I-V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lculation with 3 ( or more )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utput message with 2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mismatch  greater than  2% but  less than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or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mismatch  greater than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7831800" y="145800"/>
            <a:ext cx="999000" cy="1206720"/>
            <a:chOff x="7831800" y="145800"/>
            <a:chExt cx="999000" cy="1206720"/>
          </a:xfrm>
        </p:grpSpPr>
        <p:grpSp>
          <p:nvGrpSpPr>
            <p:cNvPr id="1648" name=""/>
            <p:cNvGrpSpPr/>
            <p:nvPr/>
          </p:nvGrpSpPr>
          <p:grpSpPr>
            <a:xfrm>
              <a:off x="8015400" y="717480"/>
              <a:ext cx="633240" cy="635040"/>
              <a:chOff x="8015400" y="717480"/>
              <a:chExt cx="633240" cy="635040"/>
            </a:xfrm>
          </p:grpSpPr>
          <p:grpSp>
            <p:nvGrpSpPr>
              <p:cNvPr id="1649" name=""/>
              <p:cNvGrpSpPr/>
              <p:nvPr/>
            </p:nvGrpSpPr>
            <p:grpSpPr>
              <a:xfrm>
                <a:off x="8015400" y="933480"/>
                <a:ext cx="633240" cy="419040"/>
                <a:chOff x="8015400" y="933480"/>
                <a:chExt cx="633240" cy="419040"/>
              </a:xfrm>
            </p:grpSpPr>
            <p:grpSp>
              <p:nvGrpSpPr>
                <p:cNvPr id="1650" name=""/>
                <p:cNvGrpSpPr/>
                <p:nvPr/>
              </p:nvGrpSpPr>
              <p:grpSpPr>
                <a:xfrm>
                  <a:off x="8015400" y="1269720"/>
                  <a:ext cx="633240" cy="82800"/>
                  <a:chOff x="8015400" y="1269720"/>
                  <a:chExt cx="633240" cy="82800"/>
                </a:xfrm>
              </p:grpSpPr>
              <p:sp>
                <p:nvSpPr>
                  <p:cNvPr id="1651" name=""/>
                  <p:cNvSpPr/>
                  <p:nvPr/>
                </p:nvSpPr>
                <p:spPr>
                  <a:xfrm>
                    <a:off x="812088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83322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8438040" y="126972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85435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822672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8015400" y="126972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7" name=""/>
                <p:cNvGrpSpPr/>
                <p:nvPr/>
              </p:nvGrpSpPr>
              <p:grpSpPr>
                <a:xfrm>
                  <a:off x="8068320" y="1185840"/>
                  <a:ext cx="527760" cy="82800"/>
                  <a:chOff x="8068320" y="1185840"/>
                  <a:chExt cx="527760" cy="82800"/>
                </a:xfrm>
              </p:grpSpPr>
              <p:sp>
                <p:nvSpPr>
                  <p:cNvPr id="1658" name=""/>
                  <p:cNvSpPr/>
                  <p:nvPr/>
                </p:nvSpPr>
                <p:spPr>
                  <a:xfrm>
                    <a:off x="806832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827964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838548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849096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8173800" y="11858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3" name=""/>
                <p:cNvSpPr/>
                <p:nvPr/>
              </p:nvSpPr>
              <p:spPr>
                <a:xfrm>
                  <a:off x="822672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843840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8332560" y="110196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8120880" y="110196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8174160" y="101844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838548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8280000" y="101844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8227800" y="933480"/>
                  <a:ext cx="210600" cy="82800"/>
                  <a:chOff x="8227800" y="933480"/>
                  <a:chExt cx="210600" cy="8280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8227800" y="933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8333640" y="933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73" name=""/>
              <p:cNvGrpSpPr/>
              <p:nvPr/>
            </p:nvGrpSpPr>
            <p:grpSpPr>
              <a:xfrm>
                <a:off x="8289720" y="933480"/>
                <a:ext cx="83880" cy="414720"/>
                <a:chOff x="8289720" y="933480"/>
                <a:chExt cx="83880" cy="414720"/>
              </a:xfrm>
            </p:grpSpPr>
            <p:grpSp>
              <p:nvGrpSpPr>
                <p:cNvPr id="1674" name=""/>
                <p:cNvGrpSpPr/>
                <p:nvPr/>
              </p:nvGrpSpPr>
              <p:grpSpPr>
                <a:xfrm>
                  <a:off x="8289720" y="933480"/>
                  <a:ext cx="83880" cy="208080"/>
                  <a:chOff x="8289720" y="933480"/>
                  <a:chExt cx="83880" cy="208080"/>
                </a:xfrm>
              </p:grpSpPr>
              <p:grpSp>
                <p:nvGrpSpPr>
                  <p:cNvPr id="1675" name=""/>
                  <p:cNvGrpSpPr/>
                  <p:nvPr/>
                </p:nvGrpSpPr>
                <p:grpSpPr>
                  <a:xfrm>
                    <a:off x="8289720" y="933480"/>
                    <a:ext cx="83880" cy="41400"/>
                    <a:chOff x="8289720" y="933480"/>
                    <a:chExt cx="83880" cy="41400"/>
                  </a:xfrm>
                </p:grpSpPr>
                <p:sp>
                  <p:nvSpPr>
                    <p:cNvPr id="1676" name=""/>
                    <p:cNvSpPr/>
                    <p:nvPr/>
                  </p:nvSpPr>
                  <p:spPr>
                    <a:xfrm>
                      <a:off x="8289720" y="93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8289720" y="94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>
                      <a:off x="8289720" y="960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"/>
                  <p:cNvGrpSpPr/>
                  <p:nvPr/>
                </p:nvGrpSpPr>
                <p:grpSpPr>
                  <a:xfrm>
                    <a:off x="8289720" y="975240"/>
                    <a:ext cx="83880" cy="41400"/>
                    <a:chOff x="8289720" y="975240"/>
                    <a:chExt cx="83880" cy="41400"/>
                  </a:xfrm>
                </p:grpSpPr>
                <p:sp>
                  <p:nvSpPr>
                    <p:cNvPr id="1680" name=""/>
                    <p:cNvSpPr/>
                    <p:nvPr/>
                  </p:nvSpPr>
                  <p:spPr>
                    <a:xfrm>
                      <a:off x="8289720" y="975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"/>
                    <p:cNvSpPr/>
                    <p:nvPr/>
                  </p:nvSpPr>
                  <p:spPr>
                    <a:xfrm>
                      <a:off x="8289720" y="988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>
                      <a:off x="8289720" y="1002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3" name=""/>
                  <p:cNvGrpSpPr/>
                  <p:nvPr/>
                </p:nvGrpSpPr>
                <p:grpSpPr>
                  <a:xfrm>
                    <a:off x="8289720" y="1017000"/>
                    <a:ext cx="83880" cy="41400"/>
                    <a:chOff x="8289720" y="1017000"/>
                    <a:chExt cx="83880" cy="41400"/>
                  </a:xfrm>
                </p:grpSpPr>
                <p:sp>
                  <p:nvSpPr>
                    <p:cNvPr id="1684" name=""/>
                    <p:cNvSpPr/>
                    <p:nvPr/>
                  </p:nvSpPr>
                  <p:spPr>
                    <a:xfrm>
                      <a:off x="8289720" y="1017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"/>
                    <p:cNvSpPr/>
                    <p:nvPr/>
                  </p:nvSpPr>
                  <p:spPr>
                    <a:xfrm>
                      <a:off x="8289720" y="1030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"/>
                    <p:cNvSpPr/>
                    <p:nvPr/>
                  </p:nvSpPr>
                  <p:spPr>
                    <a:xfrm>
                      <a:off x="8289720" y="1044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8289720" y="1059120"/>
                    <a:ext cx="83880" cy="41400"/>
                    <a:chOff x="8289720" y="1059120"/>
                    <a:chExt cx="83880" cy="41400"/>
                  </a:xfrm>
                </p:grpSpPr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8289720" y="105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8289720" y="1072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0" name=""/>
                    <p:cNvSpPr/>
                    <p:nvPr/>
                  </p:nvSpPr>
                  <p:spPr>
                    <a:xfrm>
                      <a:off x="8289720" y="1086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1" name=""/>
                  <p:cNvGrpSpPr/>
                  <p:nvPr/>
                </p:nvGrpSpPr>
                <p:grpSpPr>
                  <a:xfrm>
                    <a:off x="8289720" y="1100160"/>
                    <a:ext cx="83880" cy="41400"/>
                    <a:chOff x="8289720" y="1100160"/>
                    <a:chExt cx="83880" cy="41400"/>
                  </a:xfrm>
                </p:grpSpPr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8289720" y="1100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8289720" y="1113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>
                      <a:off x="8289720" y="1127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95" name=""/>
                <p:cNvGrpSpPr/>
                <p:nvPr/>
              </p:nvGrpSpPr>
              <p:grpSpPr>
                <a:xfrm>
                  <a:off x="8289720" y="1140120"/>
                  <a:ext cx="83880" cy="208080"/>
                  <a:chOff x="8289720" y="1140120"/>
                  <a:chExt cx="83880" cy="208080"/>
                </a:xfrm>
              </p:grpSpPr>
              <p:grpSp>
                <p:nvGrpSpPr>
                  <p:cNvPr id="1696" name=""/>
                  <p:cNvGrpSpPr/>
                  <p:nvPr/>
                </p:nvGrpSpPr>
                <p:grpSpPr>
                  <a:xfrm>
                    <a:off x="8289720" y="1140120"/>
                    <a:ext cx="83880" cy="41400"/>
                    <a:chOff x="8289720" y="1140120"/>
                    <a:chExt cx="83880" cy="41400"/>
                  </a:xfrm>
                </p:grpSpPr>
                <p:sp>
                  <p:nvSpPr>
                    <p:cNvPr id="1697" name=""/>
                    <p:cNvSpPr/>
                    <p:nvPr/>
                  </p:nvSpPr>
                  <p:spPr>
                    <a:xfrm>
                      <a:off x="8289720" y="114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"/>
                    <p:cNvSpPr/>
                    <p:nvPr/>
                  </p:nvSpPr>
                  <p:spPr>
                    <a:xfrm>
                      <a:off x="8289720" y="11534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8289720" y="11674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0" name=""/>
                  <p:cNvGrpSpPr/>
                  <p:nvPr/>
                </p:nvGrpSpPr>
                <p:grpSpPr>
                  <a:xfrm>
                    <a:off x="8289720" y="1181880"/>
                    <a:ext cx="83880" cy="41400"/>
                    <a:chOff x="8289720" y="1181880"/>
                    <a:chExt cx="83880" cy="41400"/>
                  </a:xfrm>
                </p:grpSpPr>
                <p:sp>
                  <p:nvSpPr>
                    <p:cNvPr id="1701" name=""/>
                    <p:cNvSpPr/>
                    <p:nvPr/>
                  </p:nvSpPr>
                  <p:spPr>
                    <a:xfrm>
                      <a:off x="8289720" y="1181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"/>
                    <p:cNvSpPr/>
                    <p:nvPr/>
                  </p:nvSpPr>
                  <p:spPr>
                    <a:xfrm>
                      <a:off x="8289720" y="1195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>
                      <a:off x="8289720" y="1209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4" name=""/>
                  <p:cNvGrpSpPr/>
                  <p:nvPr/>
                </p:nvGrpSpPr>
                <p:grpSpPr>
                  <a:xfrm>
                    <a:off x="8289720" y="1223640"/>
                    <a:ext cx="83880" cy="41400"/>
                    <a:chOff x="8289720" y="1223640"/>
                    <a:chExt cx="83880" cy="41400"/>
                  </a:xfrm>
                </p:grpSpPr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8289720" y="1223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8289720" y="1236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8289720" y="1251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8" name=""/>
                  <p:cNvGrpSpPr/>
                  <p:nvPr/>
                </p:nvGrpSpPr>
                <p:grpSpPr>
                  <a:xfrm>
                    <a:off x="8289720" y="1265760"/>
                    <a:ext cx="83880" cy="41400"/>
                    <a:chOff x="8289720" y="1265760"/>
                    <a:chExt cx="83880" cy="41400"/>
                  </a:xfrm>
                </p:grpSpPr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8289720" y="126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>
                      <a:off x="8289720" y="1279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"/>
                    <p:cNvSpPr/>
                    <p:nvPr/>
                  </p:nvSpPr>
                  <p:spPr>
                    <a:xfrm>
                      <a:off x="8289720" y="1293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2" name=""/>
                  <p:cNvGrpSpPr/>
                  <p:nvPr/>
                </p:nvGrpSpPr>
                <p:grpSpPr>
                  <a:xfrm>
                    <a:off x="8289720" y="1306800"/>
                    <a:ext cx="83880" cy="41400"/>
                    <a:chOff x="8289720" y="1306800"/>
                    <a:chExt cx="83880" cy="41400"/>
                  </a:xfrm>
                </p:grpSpPr>
                <p:sp>
                  <p:nvSpPr>
                    <p:cNvPr id="1713" name=""/>
                    <p:cNvSpPr/>
                    <p:nvPr/>
                  </p:nvSpPr>
                  <p:spPr>
                    <a:xfrm>
                      <a:off x="8289720" y="13068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"/>
                    <p:cNvSpPr/>
                    <p:nvPr/>
                  </p:nvSpPr>
                  <p:spPr>
                    <a:xfrm>
                      <a:off x="8289720" y="1320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8289720" y="13341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16" name=""/>
              <p:cNvGrpSpPr/>
              <p:nvPr/>
            </p:nvGrpSpPr>
            <p:grpSpPr>
              <a:xfrm>
                <a:off x="8263080" y="717480"/>
                <a:ext cx="137880" cy="216000"/>
                <a:chOff x="8263080" y="717480"/>
                <a:chExt cx="137880" cy="216000"/>
              </a:xfrm>
            </p:grpSpPr>
            <p:grpSp>
              <p:nvGrpSpPr>
                <p:cNvPr id="1717" name=""/>
                <p:cNvGrpSpPr/>
                <p:nvPr/>
              </p:nvGrpSpPr>
              <p:grpSpPr>
                <a:xfrm>
                  <a:off x="8263080" y="790200"/>
                  <a:ext cx="137880" cy="143280"/>
                  <a:chOff x="8263080" y="790200"/>
                  <a:chExt cx="137880" cy="143280"/>
                </a:xfrm>
              </p:grpSpPr>
              <p:sp>
                <p:nvSpPr>
                  <p:cNvPr id="1718" name=""/>
                  <p:cNvSpPr/>
                  <p:nvPr/>
                </p:nvSpPr>
                <p:spPr>
                  <a:xfrm>
                    <a:off x="8263080" y="85284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19" name=""/>
                  <p:cNvGrpSpPr/>
                  <p:nvPr/>
                </p:nvGrpSpPr>
                <p:grpSpPr>
                  <a:xfrm>
                    <a:off x="8265600" y="790200"/>
                    <a:ext cx="132480" cy="143280"/>
                    <a:chOff x="8265600" y="790200"/>
                    <a:chExt cx="132480" cy="143280"/>
                  </a:xfrm>
                </p:grpSpPr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8266320" y="85968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 flipV="1">
                      <a:off x="8265600" y="80172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"/>
                    <p:cNvSpPr/>
                    <p:nvPr/>
                  </p:nvSpPr>
                  <p:spPr>
                    <a:xfrm>
                      <a:off x="8269560" y="79020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23" name=""/>
                <p:cNvGrpSpPr/>
                <p:nvPr/>
              </p:nvGrpSpPr>
              <p:grpSpPr>
                <a:xfrm>
                  <a:off x="8288280" y="717480"/>
                  <a:ext cx="86400" cy="72360"/>
                  <a:chOff x="8288280" y="717480"/>
                  <a:chExt cx="86400" cy="72360"/>
                </a:xfrm>
              </p:grpSpPr>
              <p:sp>
                <p:nvSpPr>
                  <p:cNvPr id="1724" name=""/>
                  <p:cNvSpPr/>
                  <p:nvPr/>
                </p:nvSpPr>
                <p:spPr>
                  <a:xfrm>
                    <a:off x="828864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830700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83253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834516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8363880" y="71748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8288280" y="7484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8289000" y="77112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8289000" y="78984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2" name=""/>
                <p:cNvSpPr/>
                <p:nvPr/>
              </p:nvSpPr>
              <p:spPr>
                <a:xfrm>
                  <a:off x="8279280" y="85932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8362800" y="85860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8313840" y="87300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5" name=""/>
            <p:cNvSpPr/>
            <p:nvPr/>
          </p:nvSpPr>
          <p:spPr>
            <a:xfrm>
              <a:off x="7831800" y="145800"/>
              <a:ext cx="99900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ibisch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"/>
          <p:cNvSpPr/>
          <p:nvPr/>
        </p:nvSpPr>
        <p:spPr>
          <a:xfrm>
            <a:off x="6858000" y="5178600"/>
            <a:ext cx="200952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Thanks to Bob 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or the discu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Calculations for warning message (2 digits)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7965000" y="-19440"/>
            <a:ext cx="999000" cy="1206720"/>
            <a:chOff x="7965000" y="-19440"/>
            <a:chExt cx="999000" cy="1206720"/>
          </a:xfrm>
        </p:grpSpPr>
        <p:grpSp>
          <p:nvGrpSpPr>
            <p:cNvPr id="1739" name=""/>
            <p:cNvGrpSpPr/>
            <p:nvPr/>
          </p:nvGrpSpPr>
          <p:grpSpPr>
            <a:xfrm>
              <a:off x="8148600" y="552240"/>
              <a:ext cx="633240" cy="635040"/>
              <a:chOff x="8148600" y="552240"/>
              <a:chExt cx="633240" cy="635040"/>
            </a:xfrm>
          </p:grpSpPr>
          <p:grpSp>
            <p:nvGrpSpPr>
              <p:cNvPr id="1740" name=""/>
              <p:cNvGrpSpPr/>
              <p:nvPr/>
            </p:nvGrpSpPr>
            <p:grpSpPr>
              <a:xfrm>
                <a:off x="8148600" y="768240"/>
                <a:ext cx="633240" cy="419040"/>
                <a:chOff x="8148600" y="768240"/>
                <a:chExt cx="633240" cy="419040"/>
              </a:xfrm>
            </p:grpSpPr>
            <p:grpSp>
              <p:nvGrpSpPr>
                <p:cNvPr id="1741" name=""/>
                <p:cNvGrpSpPr/>
                <p:nvPr/>
              </p:nvGrpSpPr>
              <p:grpSpPr>
                <a:xfrm>
                  <a:off x="8148600" y="1104480"/>
                  <a:ext cx="633240" cy="82800"/>
                  <a:chOff x="8148600" y="1104480"/>
                  <a:chExt cx="633240" cy="8280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8254080" y="1104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846540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8571240" y="110448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867672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835992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8148600" y="110448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"/>
                <p:cNvGrpSpPr/>
                <p:nvPr/>
              </p:nvGrpSpPr>
              <p:grpSpPr>
                <a:xfrm>
                  <a:off x="8201520" y="1020600"/>
                  <a:ext cx="527760" cy="82800"/>
                  <a:chOff x="8201520" y="1020600"/>
                  <a:chExt cx="527760" cy="8280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820152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841284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851868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862416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8307000" y="102060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4" name=""/>
                <p:cNvSpPr/>
                <p:nvPr/>
              </p:nvSpPr>
              <p:spPr>
                <a:xfrm>
                  <a:off x="8359920" y="93672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8571600" y="9367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8465760" y="93672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8254080" y="93672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307360" y="853200"/>
                  <a:ext cx="10512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8518680" y="8532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8413200" y="853200"/>
                  <a:ext cx="104760" cy="828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1" name=""/>
                <p:cNvGrpSpPr/>
                <p:nvPr/>
              </p:nvGrpSpPr>
              <p:grpSpPr>
                <a:xfrm>
                  <a:off x="8361000" y="768240"/>
                  <a:ext cx="210600" cy="82800"/>
                  <a:chOff x="8361000" y="768240"/>
                  <a:chExt cx="210600" cy="8280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>
                    <a:off x="8361000" y="768240"/>
                    <a:ext cx="10512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8466840" y="768240"/>
                    <a:ext cx="104760" cy="8280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4" name=""/>
              <p:cNvGrpSpPr/>
              <p:nvPr/>
            </p:nvGrpSpPr>
            <p:grpSpPr>
              <a:xfrm>
                <a:off x="8422920" y="768240"/>
                <a:ext cx="83880" cy="414720"/>
                <a:chOff x="8422920" y="768240"/>
                <a:chExt cx="83880" cy="414720"/>
              </a:xfrm>
            </p:grpSpPr>
            <p:grpSp>
              <p:nvGrpSpPr>
                <p:cNvPr id="1765" name=""/>
                <p:cNvGrpSpPr/>
                <p:nvPr/>
              </p:nvGrpSpPr>
              <p:grpSpPr>
                <a:xfrm>
                  <a:off x="8422920" y="768240"/>
                  <a:ext cx="83880" cy="208080"/>
                  <a:chOff x="8422920" y="768240"/>
                  <a:chExt cx="83880" cy="208080"/>
                </a:xfrm>
              </p:grpSpPr>
              <p:grpSp>
                <p:nvGrpSpPr>
                  <p:cNvPr id="1766" name=""/>
                  <p:cNvGrpSpPr/>
                  <p:nvPr/>
                </p:nvGrpSpPr>
                <p:grpSpPr>
                  <a:xfrm>
                    <a:off x="8422920" y="768240"/>
                    <a:ext cx="83880" cy="41400"/>
                    <a:chOff x="8422920" y="768240"/>
                    <a:chExt cx="83880" cy="41400"/>
                  </a:xfrm>
                </p:grpSpPr>
                <p:sp>
                  <p:nvSpPr>
                    <p:cNvPr id="1767" name=""/>
                    <p:cNvSpPr/>
                    <p:nvPr/>
                  </p:nvSpPr>
                  <p:spPr>
                    <a:xfrm>
                      <a:off x="8422920" y="768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"/>
                    <p:cNvSpPr/>
                    <p:nvPr/>
                  </p:nvSpPr>
                  <p:spPr>
                    <a:xfrm>
                      <a:off x="8422920" y="781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"/>
                    <p:cNvSpPr/>
                    <p:nvPr/>
                  </p:nvSpPr>
                  <p:spPr>
                    <a:xfrm>
                      <a:off x="8422920" y="7956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0" name=""/>
                  <p:cNvGrpSpPr/>
                  <p:nvPr/>
                </p:nvGrpSpPr>
                <p:grpSpPr>
                  <a:xfrm>
                    <a:off x="8422920" y="810000"/>
                    <a:ext cx="83880" cy="41400"/>
                    <a:chOff x="8422920" y="810000"/>
                    <a:chExt cx="83880" cy="41400"/>
                  </a:xfrm>
                </p:grpSpPr>
                <p:sp>
                  <p:nvSpPr>
                    <p:cNvPr id="1771" name=""/>
                    <p:cNvSpPr/>
                    <p:nvPr/>
                  </p:nvSpPr>
                  <p:spPr>
                    <a:xfrm>
                      <a:off x="8422920" y="810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"/>
                    <p:cNvSpPr/>
                    <p:nvPr/>
                  </p:nvSpPr>
                  <p:spPr>
                    <a:xfrm>
                      <a:off x="8422920" y="8233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"/>
                    <p:cNvSpPr/>
                    <p:nvPr/>
                  </p:nvSpPr>
                  <p:spPr>
                    <a:xfrm>
                      <a:off x="8422920" y="8373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4" name=""/>
                  <p:cNvGrpSpPr/>
                  <p:nvPr/>
                </p:nvGrpSpPr>
                <p:grpSpPr>
                  <a:xfrm>
                    <a:off x="8422920" y="851760"/>
                    <a:ext cx="83880" cy="41400"/>
                    <a:chOff x="8422920" y="851760"/>
                    <a:chExt cx="83880" cy="41400"/>
                  </a:xfrm>
                </p:grpSpPr>
                <p:sp>
                  <p:nvSpPr>
                    <p:cNvPr id="1775" name=""/>
                    <p:cNvSpPr/>
                    <p:nvPr/>
                  </p:nvSpPr>
                  <p:spPr>
                    <a:xfrm>
                      <a:off x="8422920" y="851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"/>
                    <p:cNvSpPr/>
                    <p:nvPr/>
                  </p:nvSpPr>
                  <p:spPr>
                    <a:xfrm>
                      <a:off x="8422920" y="8650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"/>
                    <p:cNvSpPr/>
                    <p:nvPr/>
                  </p:nvSpPr>
                  <p:spPr>
                    <a:xfrm>
                      <a:off x="8422920" y="8791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8" name=""/>
                  <p:cNvGrpSpPr/>
                  <p:nvPr/>
                </p:nvGrpSpPr>
                <p:grpSpPr>
                  <a:xfrm>
                    <a:off x="8422920" y="893880"/>
                    <a:ext cx="83880" cy="41400"/>
                    <a:chOff x="8422920" y="893880"/>
                    <a:chExt cx="83880" cy="41400"/>
                  </a:xfrm>
                </p:grpSpPr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8422920" y="893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8422920" y="907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8422920" y="921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8422920" y="934920"/>
                    <a:ext cx="83880" cy="41400"/>
                    <a:chOff x="8422920" y="934920"/>
                    <a:chExt cx="83880" cy="4140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8422920" y="934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8422920" y="948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8422920" y="9622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86" name=""/>
                <p:cNvGrpSpPr/>
                <p:nvPr/>
              </p:nvGrpSpPr>
              <p:grpSpPr>
                <a:xfrm>
                  <a:off x="8422920" y="974880"/>
                  <a:ext cx="83880" cy="208080"/>
                  <a:chOff x="8422920" y="974880"/>
                  <a:chExt cx="83880" cy="208080"/>
                </a:xfrm>
              </p:grpSpPr>
              <p:grpSp>
                <p:nvGrpSpPr>
                  <p:cNvPr id="1787" name=""/>
                  <p:cNvGrpSpPr/>
                  <p:nvPr/>
                </p:nvGrpSpPr>
                <p:grpSpPr>
                  <a:xfrm>
                    <a:off x="8422920" y="974880"/>
                    <a:ext cx="83880" cy="41400"/>
                    <a:chOff x="8422920" y="974880"/>
                    <a:chExt cx="83880" cy="41400"/>
                  </a:xfrm>
                </p:grpSpPr>
                <p:sp>
                  <p:nvSpPr>
                    <p:cNvPr id="1788" name=""/>
                    <p:cNvSpPr/>
                    <p:nvPr/>
                  </p:nvSpPr>
                  <p:spPr>
                    <a:xfrm>
                      <a:off x="8422920" y="974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8422920" y="9882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>
                      <a:off x="8422920" y="10022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1" name=""/>
                  <p:cNvGrpSpPr/>
                  <p:nvPr/>
                </p:nvGrpSpPr>
                <p:grpSpPr>
                  <a:xfrm>
                    <a:off x="8422920" y="1016640"/>
                    <a:ext cx="83880" cy="41400"/>
                    <a:chOff x="8422920" y="1016640"/>
                    <a:chExt cx="83880" cy="41400"/>
                  </a:xfrm>
                </p:grpSpPr>
                <p:sp>
                  <p:nvSpPr>
                    <p:cNvPr id="1792" name=""/>
                    <p:cNvSpPr/>
                    <p:nvPr/>
                  </p:nvSpPr>
                  <p:spPr>
                    <a:xfrm>
                      <a:off x="8422920" y="10166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"/>
                    <p:cNvSpPr/>
                    <p:nvPr/>
                  </p:nvSpPr>
                  <p:spPr>
                    <a:xfrm>
                      <a:off x="8422920" y="10299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8422920" y="10440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5" name=""/>
                  <p:cNvGrpSpPr/>
                  <p:nvPr/>
                </p:nvGrpSpPr>
                <p:grpSpPr>
                  <a:xfrm>
                    <a:off x="8422920" y="1058400"/>
                    <a:ext cx="83880" cy="41400"/>
                    <a:chOff x="8422920" y="1058400"/>
                    <a:chExt cx="83880" cy="41400"/>
                  </a:xfrm>
                </p:grpSpPr>
                <p:sp>
                  <p:nvSpPr>
                    <p:cNvPr id="1796" name=""/>
                    <p:cNvSpPr/>
                    <p:nvPr/>
                  </p:nvSpPr>
                  <p:spPr>
                    <a:xfrm>
                      <a:off x="8422920" y="105840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"/>
                    <p:cNvSpPr/>
                    <p:nvPr/>
                  </p:nvSpPr>
                  <p:spPr>
                    <a:xfrm>
                      <a:off x="8422920" y="10717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8422920" y="10857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9" name=""/>
                  <p:cNvGrpSpPr/>
                  <p:nvPr/>
                </p:nvGrpSpPr>
                <p:grpSpPr>
                  <a:xfrm>
                    <a:off x="8422920" y="1100520"/>
                    <a:ext cx="83880" cy="41400"/>
                    <a:chOff x="8422920" y="1100520"/>
                    <a:chExt cx="83880" cy="41400"/>
                  </a:xfrm>
                </p:grpSpPr>
                <p:sp>
                  <p:nvSpPr>
                    <p:cNvPr id="1800" name=""/>
                    <p:cNvSpPr/>
                    <p:nvPr/>
                  </p:nvSpPr>
                  <p:spPr>
                    <a:xfrm>
                      <a:off x="8422920" y="11005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"/>
                    <p:cNvSpPr/>
                    <p:nvPr/>
                  </p:nvSpPr>
                  <p:spPr>
                    <a:xfrm>
                      <a:off x="8422920" y="111384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"/>
                    <p:cNvSpPr/>
                    <p:nvPr/>
                  </p:nvSpPr>
                  <p:spPr>
                    <a:xfrm>
                      <a:off x="8422920" y="1127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3" name=""/>
                  <p:cNvGrpSpPr/>
                  <p:nvPr/>
                </p:nvGrpSpPr>
                <p:grpSpPr>
                  <a:xfrm>
                    <a:off x="8422920" y="1141560"/>
                    <a:ext cx="83880" cy="41400"/>
                    <a:chOff x="8422920" y="1141560"/>
                    <a:chExt cx="83880" cy="41400"/>
                  </a:xfrm>
                </p:grpSpPr>
                <p:sp>
                  <p:nvSpPr>
                    <p:cNvPr id="1804" name=""/>
                    <p:cNvSpPr/>
                    <p:nvPr/>
                  </p:nvSpPr>
                  <p:spPr>
                    <a:xfrm>
                      <a:off x="8422920" y="114156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"/>
                    <p:cNvSpPr/>
                    <p:nvPr/>
                  </p:nvSpPr>
                  <p:spPr>
                    <a:xfrm>
                      <a:off x="8422920" y="115488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"/>
                    <p:cNvSpPr/>
                    <p:nvPr/>
                  </p:nvSpPr>
                  <p:spPr>
                    <a:xfrm>
                      <a:off x="8422920" y="1168920"/>
                      <a:ext cx="83880" cy="14040"/>
                    </a:xfrm>
                    <a:prstGeom prst="flowChartProcess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07" name=""/>
              <p:cNvGrpSpPr/>
              <p:nvPr/>
            </p:nvGrpSpPr>
            <p:grpSpPr>
              <a:xfrm>
                <a:off x="8396280" y="552240"/>
                <a:ext cx="137880" cy="216000"/>
                <a:chOff x="8396280" y="552240"/>
                <a:chExt cx="137880" cy="216000"/>
              </a:xfrm>
            </p:grpSpPr>
            <p:grpSp>
              <p:nvGrpSpPr>
                <p:cNvPr id="1808" name=""/>
                <p:cNvGrpSpPr/>
                <p:nvPr/>
              </p:nvGrpSpPr>
              <p:grpSpPr>
                <a:xfrm>
                  <a:off x="8396280" y="624960"/>
                  <a:ext cx="137880" cy="143280"/>
                  <a:chOff x="8396280" y="624960"/>
                  <a:chExt cx="137880" cy="143280"/>
                </a:xfrm>
              </p:grpSpPr>
              <p:sp>
                <p:nvSpPr>
                  <p:cNvPr id="1809" name=""/>
                  <p:cNvSpPr/>
                  <p:nvPr/>
                </p:nvSpPr>
                <p:spPr>
                  <a:xfrm>
                    <a:off x="8396280" y="687600"/>
                    <a:ext cx="137880" cy="129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10" name=""/>
                  <p:cNvGrpSpPr/>
                  <p:nvPr/>
                </p:nvGrpSpPr>
                <p:grpSpPr>
                  <a:xfrm>
                    <a:off x="8398800" y="624960"/>
                    <a:ext cx="132480" cy="143280"/>
                    <a:chOff x="8398800" y="624960"/>
                    <a:chExt cx="132480" cy="143280"/>
                  </a:xfrm>
                </p:grpSpPr>
                <p:sp>
                  <p:nvSpPr>
                    <p:cNvPr id="1811" name=""/>
                    <p:cNvSpPr/>
                    <p:nvPr/>
                  </p:nvSpPr>
                  <p:spPr>
                    <a:xfrm>
                      <a:off x="8399520" y="694440"/>
                      <a:ext cx="130680" cy="7380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"/>
                    <p:cNvSpPr/>
                    <p:nvPr/>
                  </p:nvSpPr>
                  <p:spPr>
                    <a:xfrm flipV="1">
                      <a:off x="8398800" y="636480"/>
                      <a:ext cx="132480" cy="50040"/>
                    </a:xfrm>
                    <a:custGeom>
                      <a:avLst/>
                      <a:gdLst>
                        <a:gd name="textAreaLeft" fmla="*/ 13680 w 132480"/>
                        <a:gd name="textAreaRight" fmla="*/ 118800 w 132480"/>
                        <a:gd name="textAreaTop" fmla="*/ 5040 h 50040"/>
                        <a:gd name="textAreaBottom" fmla="*/ 45000 h 50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20701" y="21600"/>
                          </a:lnTo>
                          <a:lnTo>
                            <a:pt x="899" y="21600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"/>
                    <p:cNvSpPr/>
                    <p:nvPr/>
                  </p:nvSpPr>
                  <p:spPr>
                    <a:xfrm>
                      <a:off x="8402760" y="624960"/>
                      <a:ext cx="123840" cy="12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14" name=""/>
                <p:cNvGrpSpPr/>
                <p:nvPr/>
              </p:nvGrpSpPr>
              <p:grpSpPr>
                <a:xfrm>
                  <a:off x="8421480" y="552240"/>
                  <a:ext cx="86400" cy="72360"/>
                  <a:chOff x="8421480" y="552240"/>
                  <a:chExt cx="86400" cy="72360"/>
                </a:xfrm>
              </p:grpSpPr>
              <p:sp>
                <p:nvSpPr>
                  <p:cNvPr id="1815" name=""/>
                  <p:cNvSpPr/>
                  <p:nvPr/>
                </p:nvSpPr>
                <p:spPr>
                  <a:xfrm>
                    <a:off x="842184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844020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845856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847836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8497080" y="552240"/>
                    <a:ext cx="10440" cy="720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8421480" y="58320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8422200" y="60588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8422200" y="624600"/>
                    <a:ext cx="85680" cy="0"/>
                  </a:xfrm>
                  <a:prstGeom prst="line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3" name=""/>
                <p:cNvSpPr/>
                <p:nvPr/>
              </p:nvSpPr>
              <p:spPr>
                <a:xfrm>
                  <a:off x="8412480" y="694080"/>
                  <a:ext cx="20520" cy="73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8496000" y="693360"/>
                  <a:ext cx="20520" cy="73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8447040" y="707760"/>
                  <a:ext cx="35640" cy="5940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6" name=""/>
            <p:cNvSpPr/>
            <p:nvPr/>
          </p:nvSpPr>
          <p:spPr>
            <a:xfrm>
              <a:off x="7965000" y="-19440"/>
              <a:ext cx="999000" cy="439560"/>
            </a:xfrm>
            <a:prstGeom prst="verticalScroll">
              <a:avLst>
                <a:gd name="adj" fmla="val 12500"/>
              </a:avLst>
            </a:prstGeom>
            <a:noFill/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ibisch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194400" y="3121200"/>
            <a:ext cx="212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 calculation 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8v : 2.97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6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2145240" y="3130560"/>
            <a:ext cx="1916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 calcul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7v : 2.97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884920" y="1046160"/>
            <a:ext cx="2319120" cy="1555920"/>
            <a:chOff x="5884920" y="1046160"/>
            <a:chExt cx="2319120" cy="1555920"/>
          </a:xfrm>
        </p:grpSpPr>
        <p:sp>
          <p:nvSpPr>
            <p:cNvPr id="1830" name=""/>
            <p:cNvSpPr/>
            <p:nvPr/>
          </p:nvSpPr>
          <p:spPr>
            <a:xfrm>
              <a:off x="5884920" y="1046160"/>
              <a:ext cx="2319120" cy="15559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fference   ‚High-level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H_stat  5.00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H_dyn  4.93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.07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851520" y="2228760"/>
              <a:ext cx="85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3691080" y="1046160"/>
            <a:ext cx="2233440" cy="1555920"/>
            <a:chOff x="3691080" y="1046160"/>
            <a:chExt cx="2233440" cy="1555920"/>
          </a:xfrm>
        </p:grpSpPr>
        <p:sp>
          <p:nvSpPr>
            <p:cNvPr id="1833" name=""/>
            <p:cNvSpPr/>
            <p:nvPr/>
          </p:nvSpPr>
          <p:spPr>
            <a:xfrm>
              <a:off x="3691080" y="1046160"/>
              <a:ext cx="2233440" cy="15559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ifference   ‚Low-level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L_dyn  2.11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inL_stat  2.03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.08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678200" y="2241720"/>
              <a:ext cx="85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230040" y="1046160"/>
            <a:ext cx="1649520" cy="1555920"/>
            <a:chOff x="230040" y="1046160"/>
            <a:chExt cx="1649520" cy="1555920"/>
          </a:xfrm>
        </p:grpSpPr>
        <p:sp>
          <p:nvSpPr>
            <p:cNvPr id="1836" name=""/>
            <p:cNvSpPr/>
            <p:nvPr/>
          </p:nvSpPr>
          <p:spPr>
            <a:xfrm>
              <a:off x="230040" y="1046160"/>
              <a:ext cx="1649520" cy="1555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ynamic sw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4.93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.11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.8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36520" y="2241720"/>
              <a:ext cx="85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1909800" y="1046160"/>
            <a:ext cx="1560600" cy="1555920"/>
            <a:chOff x="1909800" y="1046160"/>
            <a:chExt cx="1560600" cy="1555920"/>
          </a:xfrm>
        </p:grpSpPr>
        <p:sp>
          <p:nvSpPr>
            <p:cNvPr id="1839" name=""/>
            <p:cNvSpPr/>
            <p:nvPr/>
          </p:nvSpPr>
          <p:spPr>
            <a:xfrm>
              <a:off x="1909800" y="1046160"/>
              <a:ext cx="1560600" cy="1555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atic sw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5.00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.03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2.97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963800" y="2241720"/>
              <a:ext cx="85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86040" y="4255920"/>
            <a:ext cx="4341240" cy="12452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NING - Model LVCMOS_3P3V_DR310_TRI: The [Falling Waveform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[R_fixture]=50 Ohms and [V_fixture_min]=5.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YP column DC endpoints of  2.11V and  4.93v, 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equivalent load applied to the model's I-V tables yie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voltages (2.03V and  5.00V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difference of  2.59% and  2.26%, respective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65240" y="5600880"/>
            <a:ext cx="3504960" cy="721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fference to ibischk-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59%         2.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4009680" y="3087720"/>
            <a:ext cx="2168640" cy="2957400"/>
            <a:chOff x="4009680" y="3087720"/>
            <a:chExt cx="2168640" cy="2957400"/>
          </a:xfrm>
        </p:grpSpPr>
        <p:grpSp>
          <p:nvGrpSpPr>
            <p:cNvPr id="1844" name=""/>
            <p:cNvGrpSpPr/>
            <p:nvPr/>
          </p:nvGrpSpPr>
          <p:grpSpPr>
            <a:xfrm>
              <a:off x="4009680" y="3087720"/>
              <a:ext cx="2168640" cy="2957400"/>
              <a:chOff x="4009680" y="3087720"/>
              <a:chExt cx="2168640" cy="2957400"/>
            </a:xfrm>
          </p:grpSpPr>
          <p:grpSp>
            <p:nvGrpSpPr>
              <p:cNvPr id="1845" name=""/>
              <p:cNvGrpSpPr/>
              <p:nvPr/>
            </p:nvGrpSpPr>
            <p:grpSpPr>
              <a:xfrm>
                <a:off x="4400640" y="3427560"/>
                <a:ext cx="1128600" cy="2266920"/>
                <a:chOff x="4400640" y="3427560"/>
                <a:chExt cx="1128600" cy="2266920"/>
              </a:xfrm>
            </p:grpSpPr>
            <p:sp>
              <p:nvSpPr>
                <p:cNvPr id="1846" name=""/>
                <p:cNvSpPr/>
                <p:nvPr/>
              </p:nvSpPr>
              <p:spPr>
                <a:xfrm>
                  <a:off x="4461840" y="3427560"/>
                  <a:ext cx="0" cy="2266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4400640" y="5597640"/>
                  <a:ext cx="11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8" name=""/>
              <p:cNvGrpSpPr/>
              <p:nvPr/>
            </p:nvGrpSpPr>
            <p:grpSpPr>
              <a:xfrm>
                <a:off x="4448160" y="4070520"/>
                <a:ext cx="955440" cy="1585080"/>
                <a:chOff x="4448160" y="4070520"/>
                <a:chExt cx="955440" cy="1585080"/>
              </a:xfrm>
            </p:grpSpPr>
            <p:sp>
              <p:nvSpPr>
                <p:cNvPr id="1849" name=""/>
                <p:cNvSpPr/>
                <p:nvPr/>
              </p:nvSpPr>
              <p:spPr>
                <a:xfrm flipV="1">
                  <a:off x="4448160" y="5098680"/>
                  <a:ext cx="123840" cy="556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V="1">
                  <a:off x="4574520" y="4599000"/>
                  <a:ext cx="171360" cy="499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V="1">
                  <a:off x="4743720" y="4208400"/>
                  <a:ext cx="285840" cy="390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flipV="1">
                  <a:off x="5029560" y="4070520"/>
                  <a:ext cx="37404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3" name=""/>
              <p:cNvSpPr/>
              <p:nvPr/>
            </p:nvSpPr>
            <p:spPr>
              <a:xfrm>
                <a:off x="4651200" y="3835440"/>
                <a:ext cx="814680" cy="1933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808880" y="3552840"/>
                <a:ext cx="1369440" cy="299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50Ohm to Vc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291280" y="5006880"/>
                <a:ext cx="3985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5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626360" y="5745240"/>
                <a:ext cx="6469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2.03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883040" y="4292640"/>
                <a:ext cx="0" cy="14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386320" y="5365800"/>
                <a:ext cx="0" cy="32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009680" y="3087720"/>
                <a:ext cx="19044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Low &amp; High I-V tab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0" name=""/>
              <p:cNvGrpSpPr/>
              <p:nvPr/>
            </p:nvGrpSpPr>
            <p:grpSpPr>
              <a:xfrm>
                <a:off x="5240160" y="5467320"/>
                <a:ext cx="179280" cy="439920"/>
                <a:chOff x="5240160" y="5467320"/>
                <a:chExt cx="179280" cy="439920"/>
              </a:xfrm>
            </p:grpSpPr>
            <p:sp>
              <p:nvSpPr>
                <p:cNvPr id="1861" name=""/>
                <p:cNvSpPr/>
                <p:nvPr/>
              </p:nvSpPr>
              <p:spPr>
                <a:xfrm flipH="1">
                  <a:off x="5362560" y="5467320"/>
                  <a:ext cx="56880" cy="219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H="1">
                  <a:off x="5240160" y="5688000"/>
                  <a:ext cx="123840" cy="219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3" name=""/>
            <p:cNvSpPr/>
            <p:nvPr/>
          </p:nvSpPr>
          <p:spPr>
            <a:xfrm>
              <a:off x="5566680" y="5479920"/>
              <a:ext cx="60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/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rot="16200000">
              <a:off x="3912120" y="3748680"/>
              <a:ext cx="62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 / A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6341040" y="3127320"/>
            <a:ext cx="2133000" cy="2774160"/>
            <a:chOff x="6341040" y="3127320"/>
            <a:chExt cx="2133000" cy="2774160"/>
          </a:xfrm>
        </p:grpSpPr>
        <p:grpSp>
          <p:nvGrpSpPr>
            <p:cNvPr id="1866" name=""/>
            <p:cNvGrpSpPr/>
            <p:nvPr/>
          </p:nvGrpSpPr>
          <p:grpSpPr>
            <a:xfrm>
              <a:off x="6341040" y="3127320"/>
              <a:ext cx="2133000" cy="2567160"/>
              <a:chOff x="6341040" y="3127320"/>
              <a:chExt cx="2133000" cy="2567160"/>
            </a:xfrm>
          </p:grpSpPr>
          <p:sp>
            <p:nvSpPr>
              <p:cNvPr id="1867" name=""/>
              <p:cNvSpPr/>
              <p:nvPr/>
            </p:nvSpPr>
            <p:spPr>
              <a:xfrm>
                <a:off x="6353640" y="5013360"/>
                <a:ext cx="6469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2.11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688440" y="3127320"/>
                <a:ext cx="17856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[Falling Waveform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341040" y="3613320"/>
                <a:ext cx="6469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264"/>
                  </a:spcBef>
                  <a:spcAft>
                    <a:spcPts val="264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4.93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0" name=""/>
              <p:cNvGrpSpPr/>
              <p:nvPr/>
            </p:nvGrpSpPr>
            <p:grpSpPr>
              <a:xfrm>
                <a:off x="6905520" y="3427560"/>
                <a:ext cx="1127160" cy="2266920"/>
                <a:chOff x="6905520" y="3427560"/>
                <a:chExt cx="1127160" cy="2266920"/>
              </a:xfrm>
            </p:grpSpPr>
            <p:sp>
              <p:nvSpPr>
                <p:cNvPr id="1871" name=""/>
                <p:cNvSpPr/>
                <p:nvPr/>
              </p:nvSpPr>
              <p:spPr>
                <a:xfrm>
                  <a:off x="6966360" y="3427560"/>
                  <a:ext cx="0" cy="2266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6905520" y="5597640"/>
                  <a:ext cx="112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3" name=""/>
              <p:cNvGrpSpPr/>
              <p:nvPr/>
            </p:nvGrpSpPr>
            <p:grpSpPr>
              <a:xfrm>
                <a:off x="6989760" y="3706920"/>
                <a:ext cx="745920" cy="1466640"/>
                <a:chOff x="6989760" y="3706920"/>
                <a:chExt cx="745920" cy="1466640"/>
              </a:xfrm>
            </p:grpSpPr>
            <p:sp>
              <p:nvSpPr>
                <p:cNvPr id="1874" name=""/>
                <p:cNvSpPr/>
                <p:nvPr/>
              </p:nvSpPr>
              <p:spPr>
                <a:xfrm>
                  <a:off x="6989760" y="3706920"/>
                  <a:ext cx="172440" cy="12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7161480" y="3714480"/>
                  <a:ext cx="16452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7326000" y="3863880"/>
                  <a:ext cx="85680" cy="4136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7414200" y="4282920"/>
                  <a:ext cx="45360" cy="36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7461720" y="4654440"/>
                  <a:ext cx="71280" cy="36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7535880" y="5020920"/>
                  <a:ext cx="100080" cy="142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7635960" y="5173560"/>
                  <a:ext cx="99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1" name=""/>
              <p:cNvSpPr/>
              <p:nvPr/>
            </p:nvSpPr>
            <p:spPr>
              <a:xfrm flipH="1">
                <a:off x="6934320" y="5213520"/>
                <a:ext cx="85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7367400" y="5657760"/>
              <a:ext cx="54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/ns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rot="16200000">
              <a:off x="6370920" y="4107960"/>
              <a:ext cx="7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8:17:14Z</dcterms:created>
  <dc:creator>Lenski</dc:creator>
  <dc:description/>
  <cp:keywords/>
  <dc:language>en-US</dc:language>
  <cp:lastModifiedBy>Lenski</cp:lastModifiedBy>
  <cp:lastPrinted>1998-09-04T08:04:32Z</cp:lastPrinted>
  <dcterms:modified xsi:type="dcterms:W3CDTF">2009-04-20T12:00:22Z</dcterms:modified>
  <cp:revision>194</cp:revision>
  <dc:subject>Nokia Siemens Networks template</dc:subject>
  <dc:title>Experiences with driver schedules</dc:title>
</cp:coreProperties>
</file>