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284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898200" y="4629240"/>
            <a:ext cx="4932360" cy="43941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095120" y="84456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sldImg"/>
          </p:nvPr>
        </p:nvSpPr>
        <p:spPr>
          <a:xfrm>
            <a:off x="93672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4606" name="PlaceHolder 2"/>
          <p:cNvSpPr>
            <a:spLocks noGrp="1"/>
          </p:cNvSpPr>
          <p:nvPr>
            <p:ph type="body"/>
          </p:nvPr>
        </p:nvSpPr>
        <p:spPr>
          <a:xfrm>
            <a:off x="896760" y="4614840"/>
            <a:ext cx="4935600" cy="43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mple animatio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he only slides that have trans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o be spread sparingly through the presentation to help punctuate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ggestion, these could be used at the start and/or end of se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7" name="PlaceHolder 1"/>
          <p:cNvSpPr>
            <a:spLocks noGrp="1"/>
          </p:cNvSpPr>
          <p:nvPr>
            <p:ph type="sldImg"/>
          </p:nvPr>
        </p:nvSpPr>
        <p:spPr>
          <a:xfrm>
            <a:off x="93672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4608" name="PlaceHolder 2"/>
          <p:cNvSpPr>
            <a:spLocks noGrp="1"/>
          </p:cNvSpPr>
          <p:nvPr>
            <p:ph type="body"/>
          </p:nvPr>
        </p:nvSpPr>
        <p:spPr>
          <a:xfrm>
            <a:off x="896760" y="4614840"/>
            <a:ext cx="4935600" cy="43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mple animatio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he only slides that have trans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o be spread sparingly through the presentation to help punctuate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ggestion, these could be used at the start and/or end of se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9" name="PlaceHolder 1"/>
          <p:cNvSpPr>
            <a:spLocks noGrp="1"/>
          </p:cNvSpPr>
          <p:nvPr>
            <p:ph type="sldImg"/>
          </p:nvPr>
        </p:nvSpPr>
        <p:spPr>
          <a:xfrm>
            <a:off x="93672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4610" name="PlaceHolder 2"/>
          <p:cNvSpPr>
            <a:spLocks noGrp="1"/>
          </p:cNvSpPr>
          <p:nvPr>
            <p:ph type="body"/>
          </p:nvPr>
        </p:nvSpPr>
        <p:spPr>
          <a:xfrm>
            <a:off x="896760" y="4614840"/>
            <a:ext cx="4935600" cy="43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rough   opsink mit internal term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main only    open sink mit wave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scheduled   open sink main buffer  with  open source as additional drive to Hi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1" name="PlaceHolder 1"/>
          <p:cNvSpPr>
            <a:spLocks noGrp="1"/>
          </p:cNvSpPr>
          <p:nvPr>
            <p:ph type="sldImg"/>
          </p:nvPr>
        </p:nvSpPr>
        <p:spPr>
          <a:xfrm>
            <a:off x="93672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4612" name="PlaceHolder 2"/>
          <p:cNvSpPr>
            <a:spLocks noGrp="1"/>
          </p:cNvSpPr>
          <p:nvPr>
            <p:ph type="body"/>
          </p:nvPr>
        </p:nvSpPr>
        <p:spPr>
          <a:xfrm>
            <a:off x="896760" y="4614840"/>
            <a:ext cx="4935600" cy="43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mple animatio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he only slides that have trans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o be spread sparingly through the presentation to help punctuate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ggestion, these could be used at the start and/or end of se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sldImg"/>
          </p:nvPr>
        </p:nvSpPr>
        <p:spPr>
          <a:xfrm>
            <a:off x="93672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4614" name="PlaceHolder 2"/>
          <p:cNvSpPr>
            <a:spLocks noGrp="1"/>
          </p:cNvSpPr>
          <p:nvPr>
            <p:ph type="body"/>
          </p:nvPr>
        </p:nvSpPr>
        <p:spPr>
          <a:xfrm>
            <a:off x="896760" y="4614840"/>
            <a:ext cx="4935600" cy="43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rough   opsink mit internal term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main only    open sink mit wave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scheduled   open sink main buffer  with  open source as additional drive to Hi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3" name="PlaceHolder 1"/>
          <p:cNvSpPr>
            <a:spLocks noGrp="1"/>
          </p:cNvSpPr>
          <p:nvPr>
            <p:ph type="sldImg"/>
          </p:nvPr>
        </p:nvSpPr>
        <p:spPr>
          <a:xfrm>
            <a:off x="93672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4604" name="PlaceHolder 2"/>
          <p:cNvSpPr>
            <a:spLocks noGrp="1"/>
          </p:cNvSpPr>
          <p:nvPr>
            <p:ph type="body"/>
          </p:nvPr>
        </p:nvSpPr>
        <p:spPr>
          <a:xfrm>
            <a:off x="896760" y="4614840"/>
            <a:ext cx="4935600" cy="43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mple animatio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he only slides that have trans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o be spread sparingly through the presentation to help punctuate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ggestion, these could be used at the start and/or end of se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5600" y="417168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484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08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560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484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08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5600" y="3428640"/>
            <a:ext cx="8634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8634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5600" y="2120760"/>
            <a:ext cx="8634240" cy="56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5600" y="3428640"/>
            <a:ext cx="8634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5600" y="417168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484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08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560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484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08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8634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5600" y="2120760"/>
            <a:ext cx="8634240" cy="56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3000" y="6591240"/>
            <a:ext cx="684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BC4D-8DCF-4394-AA92-F4F4F6C2F048}" type="slidenum">
              <a:rPr b="0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Nokia Siemens Networks</a:t>
            </a:r>
            <a:r>
              <a:rPr b="0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periences with driver schedules / Lenski / 19th April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43000" y="6454800"/>
            <a:ext cx="304488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-2286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94000" indent="-2286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94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94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37560" y="6243480"/>
            <a:ext cx="10555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7837560" y="6243480"/>
            <a:ext cx="1055520" cy="444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000" y="6591240"/>
            <a:ext cx="684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D86A-3284-4029-BA96-274C58C82EB2}" type="slidenum">
              <a:rPr b="0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Nokia Siemens Networks</a:t>
            </a:r>
            <a:r>
              <a:rPr b="0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periences with driver schedules /  Lenski  / 19th April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000" y="6454800"/>
            <a:ext cx="304488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49280" algn="ctr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57160" algn="ctr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65400" algn="ctr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265400">
              <a:spcBef>
                <a:spcPts val="4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265400">
              <a:spcBef>
                <a:spcPts val="4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159520" y="1192320"/>
            <a:ext cx="360036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example  timing schedule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76040" y="1206360"/>
            <a:ext cx="73044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Driver Schedul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Model_name  Rise_on_dly   Rise_off_dly   Fall_on_dly   Fall_off_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_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0.5ns              NA                  0ns             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_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1.0ns              NA                  0ns             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_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1.5ns              2.5ns               NA              N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7689960" y="-130320"/>
            <a:ext cx="1454040" cy="1173240"/>
            <a:chOff x="7689960" y="-130320"/>
            <a:chExt cx="1454040" cy="1173240"/>
          </a:xfrm>
        </p:grpSpPr>
        <p:sp>
          <p:nvSpPr>
            <p:cNvPr id="838" name=""/>
            <p:cNvSpPr/>
            <p:nvPr/>
          </p:nvSpPr>
          <p:spPr>
            <a:xfrm>
              <a:off x="7689960" y="-130320"/>
              <a:ext cx="1454040" cy="84528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Driver schedules bas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7759440" y="536760"/>
              <a:ext cx="1220400" cy="506160"/>
              <a:chOff x="7759440" y="536760"/>
              <a:chExt cx="1220400" cy="506160"/>
            </a:xfrm>
          </p:grpSpPr>
          <p:grpSp>
            <p:nvGrpSpPr>
              <p:cNvPr id="840" name=""/>
              <p:cNvGrpSpPr/>
              <p:nvPr/>
            </p:nvGrpSpPr>
            <p:grpSpPr>
              <a:xfrm>
                <a:off x="7759440" y="721800"/>
                <a:ext cx="1220400" cy="321120"/>
                <a:chOff x="7759440" y="721800"/>
                <a:chExt cx="1220400" cy="321120"/>
              </a:xfrm>
            </p:grpSpPr>
            <p:grpSp>
              <p:nvGrpSpPr>
                <p:cNvPr id="841" name=""/>
                <p:cNvGrpSpPr/>
                <p:nvPr/>
              </p:nvGrpSpPr>
              <p:grpSpPr>
                <a:xfrm>
                  <a:off x="7759440" y="963360"/>
                  <a:ext cx="1220400" cy="79560"/>
                  <a:chOff x="7759440" y="963360"/>
                  <a:chExt cx="1220400" cy="79560"/>
                </a:xfrm>
              </p:grpSpPr>
              <p:sp>
                <p:nvSpPr>
                  <p:cNvPr id="842" name=""/>
                  <p:cNvSpPr/>
                  <p:nvPr/>
                </p:nvSpPr>
                <p:spPr>
                  <a:xfrm>
                    <a:off x="79628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837000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857376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877752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816660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77594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8" name=""/>
                <p:cNvGrpSpPr/>
                <p:nvPr/>
              </p:nvGrpSpPr>
              <p:grpSpPr>
                <a:xfrm>
                  <a:off x="7861680" y="882720"/>
                  <a:ext cx="1017000" cy="79560"/>
                  <a:chOff x="7861680" y="882720"/>
                  <a:chExt cx="1017000" cy="7956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>
                    <a:off x="78616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826884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847260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867636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80650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7963200" y="721800"/>
                  <a:ext cx="813240" cy="159840"/>
                  <a:chOff x="7963200" y="721800"/>
                  <a:chExt cx="813240" cy="15984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>
                    <a:off x="816660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857412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837036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796320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806544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847260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826884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2" name=""/>
              <p:cNvGrpSpPr/>
              <p:nvPr/>
            </p:nvGrpSpPr>
            <p:grpSpPr>
              <a:xfrm>
                <a:off x="8220240" y="721800"/>
                <a:ext cx="303480" cy="320040"/>
                <a:chOff x="8220240" y="721800"/>
                <a:chExt cx="303480" cy="320040"/>
              </a:xfrm>
            </p:grpSpPr>
            <p:grpSp>
              <p:nvGrpSpPr>
                <p:cNvPr id="863" name=""/>
                <p:cNvGrpSpPr/>
                <p:nvPr/>
              </p:nvGrpSpPr>
              <p:grpSpPr>
                <a:xfrm>
                  <a:off x="8220240" y="963000"/>
                  <a:ext cx="303480" cy="78840"/>
                  <a:chOff x="8220240" y="963000"/>
                  <a:chExt cx="303480" cy="7884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8232840" y="988920"/>
                    <a:ext cx="2782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8220240" y="1015200"/>
                    <a:ext cx="303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8245440" y="963000"/>
                    <a:ext cx="2530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7" name=""/>
                <p:cNvGrpSpPr/>
                <p:nvPr/>
              </p:nvGrpSpPr>
              <p:grpSpPr>
                <a:xfrm>
                  <a:off x="8258040" y="882720"/>
                  <a:ext cx="227520" cy="78840"/>
                  <a:chOff x="8258040" y="882720"/>
                  <a:chExt cx="227520" cy="7884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>
                    <a:off x="8267400" y="908640"/>
                    <a:ext cx="2088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8258040" y="934920"/>
                    <a:ext cx="2275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8276760" y="882720"/>
                    <a:ext cx="1897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8283600" y="802080"/>
                  <a:ext cx="177120" cy="78480"/>
                  <a:chOff x="8283600" y="802080"/>
                  <a:chExt cx="177120" cy="7848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8290800" y="827640"/>
                    <a:ext cx="162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8283600" y="853920"/>
                    <a:ext cx="1771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8298000" y="802080"/>
                    <a:ext cx="1476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5" name=""/>
                <p:cNvGrpSpPr/>
                <p:nvPr/>
              </p:nvGrpSpPr>
              <p:grpSpPr>
                <a:xfrm>
                  <a:off x="8308800" y="721800"/>
                  <a:ext cx="126360" cy="78840"/>
                  <a:chOff x="8308800" y="721800"/>
                  <a:chExt cx="126360" cy="7884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8313840" y="747720"/>
                    <a:ext cx="1159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8308800" y="774000"/>
                    <a:ext cx="126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8319240" y="721800"/>
                    <a:ext cx="105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9" name=""/>
              <p:cNvSpPr/>
              <p:nvPr/>
            </p:nvSpPr>
            <p:spPr>
              <a:xfrm>
                <a:off x="8116920" y="625320"/>
                <a:ext cx="506160" cy="950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"/>
              <p:cNvGrpSpPr/>
              <p:nvPr/>
            </p:nvGrpSpPr>
            <p:grpSpPr>
              <a:xfrm>
                <a:off x="8186760" y="661680"/>
                <a:ext cx="366480" cy="56880"/>
                <a:chOff x="8186760" y="661680"/>
                <a:chExt cx="366480" cy="5688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818676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826668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850284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842256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834336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6" name=""/>
              <p:cNvSpPr/>
              <p:nvPr/>
            </p:nvSpPr>
            <p:spPr>
              <a:xfrm>
                <a:off x="8102160" y="617040"/>
                <a:ext cx="53568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8112960" y="55296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28440" y="536760"/>
                <a:ext cx="48096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time schedule   t=0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97040" y="627120"/>
            <a:ext cx="724032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l 3 driver stages are switched o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749160" y="1909800"/>
            <a:ext cx="6840360" cy="2709720"/>
            <a:chOff x="749160" y="1909800"/>
            <a:chExt cx="6840360" cy="2709720"/>
          </a:xfrm>
        </p:grpSpPr>
        <p:grpSp>
          <p:nvGrpSpPr>
            <p:cNvPr id="892" name=""/>
            <p:cNvGrpSpPr/>
            <p:nvPr/>
          </p:nvGrpSpPr>
          <p:grpSpPr>
            <a:xfrm>
              <a:off x="1096920" y="4057560"/>
              <a:ext cx="6416280" cy="174600"/>
              <a:chOff x="1096920" y="4057560"/>
              <a:chExt cx="6416280" cy="174600"/>
            </a:xfrm>
          </p:grpSpPr>
          <p:sp>
            <p:nvSpPr>
              <p:cNvPr id="893" name=""/>
              <p:cNvSpPr/>
              <p:nvPr/>
            </p:nvSpPr>
            <p:spPr>
              <a:xfrm>
                <a:off x="1096920" y="4181760"/>
                <a:ext cx="641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50056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11456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03884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50620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92532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 flipH="1" flipV="1">
              <a:off x="1118880" y="1909800"/>
              <a:ext cx="5040" cy="23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916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96668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1304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01300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575400" y="4295880"/>
              <a:ext cx="10141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1058760" y="2095560"/>
            <a:ext cx="1537920" cy="1697760"/>
            <a:chOff x="1058760" y="2095560"/>
            <a:chExt cx="1537920" cy="1697760"/>
          </a:xfrm>
        </p:grpSpPr>
        <p:sp>
          <p:nvSpPr>
            <p:cNvPr id="906" name=""/>
            <p:cNvSpPr/>
            <p:nvPr/>
          </p:nvSpPr>
          <p:spPr>
            <a:xfrm rot="5400000">
              <a:off x="1267560" y="2350080"/>
              <a:ext cx="399960" cy="313920"/>
            </a:xfrm>
            <a:prstGeom prst="flowChartExtra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5400000">
              <a:off x="1267560" y="2893320"/>
              <a:ext cx="399960" cy="313920"/>
            </a:xfrm>
            <a:prstGeom prst="flowChartExtra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5400000">
              <a:off x="1267560" y="3436200"/>
              <a:ext cx="399960" cy="313920"/>
            </a:xfrm>
            <a:prstGeom prst="flowChartExtra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253960" y="2507040"/>
              <a:ext cx="0" cy="10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25040" y="35938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200" y="359388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1996200" y="356472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796760" y="356508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625040" y="30502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996200" y="305028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1996200" y="302148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796760" y="302184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25040" y="250740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996200" y="250740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1996200" y="247860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796760" y="247896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253960" y="305028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96720" y="2993040"/>
              <a:ext cx="113760" cy="1144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1058760" y="2095560"/>
              <a:ext cx="759240" cy="1240200"/>
              <a:chOff x="1058760" y="2095560"/>
              <a:chExt cx="759240" cy="1240200"/>
            </a:xfrm>
          </p:grpSpPr>
          <p:sp>
            <p:nvSpPr>
              <p:cNvPr id="925" name=""/>
              <p:cNvSpPr/>
              <p:nvPr/>
            </p:nvSpPr>
            <p:spPr>
              <a:xfrm>
                <a:off x="1058760" y="2095560"/>
                <a:ext cx="7592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058760" y="2647440"/>
                <a:ext cx="7592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058760" y="3190680"/>
                <a:ext cx="759240" cy="1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8" name=""/>
          <p:cNvGrpSpPr/>
          <p:nvPr/>
        </p:nvGrpSpPr>
        <p:grpSpPr>
          <a:xfrm>
            <a:off x="735120" y="4640040"/>
            <a:ext cx="6852600" cy="1640160"/>
            <a:chOff x="735120" y="4640040"/>
            <a:chExt cx="6852600" cy="1640160"/>
          </a:xfrm>
        </p:grpSpPr>
        <p:grpSp>
          <p:nvGrpSpPr>
            <p:cNvPr id="929" name=""/>
            <p:cNvGrpSpPr/>
            <p:nvPr/>
          </p:nvGrpSpPr>
          <p:grpSpPr>
            <a:xfrm>
              <a:off x="1082880" y="5942160"/>
              <a:ext cx="6427440" cy="104760"/>
              <a:chOff x="1082880" y="5942160"/>
              <a:chExt cx="6427440" cy="104760"/>
            </a:xfrm>
          </p:grpSpPr>
          <p:sp>
            <p:nvSpPr>
              <p:cNvPr id="930" name=""/>
              <p:cNvSpPr/>
              <p:nvPr/>
            </p:nvSpPr>
            <p:spPr>
              <a:xfrm>
                <a:off x="1082880" y="6016680"/>
                <a:ext cx="642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48904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10052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02984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49972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92136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 flipV="1">
              <a:off x="1110240" y="464004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35120" y="6084720"/>
              <a:ext cx="1015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954440" y="6084720"/>
              <a:ext cx="10173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704040" y="6084720"/>
              <a:ext cx="1015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007240" y="6084720"/>
              <a:ext cx="101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72160" y="6084720"/>
              <a:ext cx="1015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458640" y="4680000"/>
            <a:ext cx="512640" cy="1085400"/>
            <a:chOff x="458640" y="4680000"/>
            <a:chExt cx="512640" cy="1085400"/>
          </a:xfrm>
        </p:grpSpPr>
        <p:sp>
          <p:nvSpPr>
            <p:cNvPr id="943" name=""/>
            <p:cNvSpPr/>
            <p:nvPr/>
          </p:nvSpPr>
          <p:spPr>
            <a:xfrm>
              <a:off x="458640" y="4680000"/>
              <a:ext cx="51264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58640" y="5163120"/>
              <a:ext cx="51264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58640" y="5638320"/>
              <a:ext cx="5126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 flipV="1">
            <a:off x="2495520" y="1654200"/>
            <a:ext cx="12600" cy="4532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5508720" y="1654200"/>
            <a:ext cx="12600" cy="4532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4032360" y="1654200"/>
            <a:ext cx="12600" cy="4532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130400" y="3363840"/>
            <a:ext cx="479160" cy="471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192320" y="2284560"/>
            <a:ext cx="479160" cy="4712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174680" y="2828880"/>
            <a:ext cx="479520" cy="471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313760" y="4268880"/>
            <a:ext cx="723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7689960" y="-130320"/>
            <a:ext cx="1454040" cy="1173240"/>
            <a:chOff x="7689960" y="-130320"/>
            <a:chExt cx="1454040" cy="1173240"/>
          </a:xfrm>
        </p:grpSpPr>
        <p:sp>
          <p:nvSpPr>
            <p:cNvPr id="954" name=""/>
            <p:cNvSpPr/>
            <p:nvPr/>
          </p:nvSpPr>
          <p:spPr>
            <a:xfrm>
              <a:off x="7689960" y="-130320"/>
              <a:ext cx="1454040" cy="84528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Driver schedules bas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7759440" y="536760"/>
              <a:ext cx="1220400" cy="506160"/>
              <a:chOff x="7759440" y="536760"/>
              <a:chExt cx="1220400" cy="506160"/>
            </a:xfrm>
          </p:grpSpPr>
          <p:grpSp>
            <p:nvGrpSpPr>
              <p:cNvPr id="956" name=""/>
              <p:cNvGrpSpPr/>
              <p:nvPr/>
            </p:nvGrpSpPr>
            <p:grpSpPr>
              <a:xfrm>
                <a:off x="7759440" y="721800"/>
                <a:ext cx="1220400" cy="321120"/>
                <a:chOff x="7759440" y="721800"/>
                <a:chExt cx="1220400" cy="321120"/>
              </a:xfrm>
            </p:grpSpPr>
            <p:grpSp>
              <p:nvGrpSpPr>
                <p:cNvPr id="957" name=""/>
                <p:cNvGrpSpPr/>
                <p:nvPr/>
              </p:nvGrpSpPr>
              <p:grpSpPr>
                <a:xfrm>
                  <a:off x="7759440" y="963360"/>
                  <a:ext cx="1220400" cy="79560"/>
                  <a:chOff x="7759440" y="963360"/>
                  <a:chExt cx="1220400" cy="7956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79628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837000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857376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877752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816660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77594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7861680" y="882720"/>
                  <a:ext cx="1017000" cy="79560"/>
                  <a:chOff x="7861680" y="882720"/>
                  <a:chExt cx="1017000" cy="7956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78616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826884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847260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867636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80650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7963200" y="721800"/>
                  <a:ext cx="813240" cy="159840"/>
                  <a:chOff x="7963200" y="721800"/>
                  <a:chExt cx="813240" cy="15984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>
                    <a:off x="816660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857412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837036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796320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806544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847260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826884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8" name=""/>
              <p:cNvGrpSpPr/>
              <p:nvPr/>
            </p:nvGrpSpPr>
            <p:grpSpPr>
              <a:xfrm>
                <a:off x="8220240" y="721800"/>
                <a:ext cx="303480" cy="320040"/>
                <a:chOff x="8220240" y="721800"/>
                <a:chExt cx="303480" cy="320040"/>
              </a:xfrm>
            </p:grpSpPr>
            <p:grpSp>
              <p:nvGrpSpPr>
                <p:cNvPr id="979" name=""/>
                <p:cNvGrpSpPr/>
                <p:nvPr/>
              </p:nvGrpSpPr>
              <p:grpSpPr>
                <a:xfrm>
                  <a:off x="8220240" y="963000"/>
                  <a:ext cx="303480" cy="78840"/>
                  <a:chOff x="8220240" y="963000"/>
                  <a:chExt cx="303480" cy="7884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8232840" y="988920"/>
                    <a:ext cx="2782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8220240" y="1015200"/>
                    <a:ext cx="303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8245440" y="963000"/>
                    <a:ext cx="2530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3" name=""/>
                <p:cNvGrpSpPr/>
                <p:nvPr/>
              </p:nvGrpSpPr>
              <p:grpSpPr>
                <a:xfrm>
                  <a:off x="8258040" y="882720"/>
                  <a:ext cx="227520" cy="78840"/>
                  <a:chOff x="8258040" y="882720"/>
                  <a:chExt cx="227520" cy="78840"/>
                </a:xfrm>
              </p:grpSpPr>
              <p:sp>
                <p:nvSpPr>
                  <p:cNvPr id="984" name=""/>
                  <p:cNvSpPr/>
                  <p:nvPr/>
                </p:nvSpPr>
                <p:spPr>
                  <a:xfrm>
                    <a:off x="8267400" y="908640"/>
                    <a:ext cx="2088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8258040" y="934920"/>
                    <a:ext cx="2275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8276760" y="882720"/>
                    <a:ext cx="1897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7" name=""/>
                <p:cNvGrpSpPr/>
                <p:nvPr/>
              </p:nvGrpSpPr>
              <p:grpSpPr>
                <a:xfrm>
                  <a:off x="8283600" y="802080"/>
                  <a:ext cx="177120" cy="78480"/>
                  <a:chOff x="8283600" y="802080"/>
                  <a:chExt cx="177120" cy="7848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8290800" y="827640"/>
                    <a:ext cx="162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8283600" y="853920"/>
                    <a:ext cx="1771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8298000" y="802080"/>
                    <a:ext cx="1476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8308800" y="721800"/>
                  <a:ext cx="126360" cy="78840"/>
                  <a:chOff x="8308800" y="721800"/>
                  <a:chExt cx="126360" cy="7884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8313840" y="747720"/>
                    <a:ext cx="1159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8308800" y="774000"/>
                    <a:ext cx="126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8319240" y="721800"/>
                    <a:ext cx="105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95" name=""/>
              <p:cNvSpPr/>
              <p:nvPr/>
            </p:nvSpPr>
            <p:spPr>
              <a:xfrm>
                <a:off x="8116920" y="625320"/>
                <a:ext cx="506160" cy="950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"/>
              <p:cNvGrpSpPr/>
              <p:nvPr/>
            </p:nvGrpSpPr>
            <p:grpSpPr>
              <a:xfrm>
                <a:off x="8186760" y="661680"/>
                <a:ext cx="366480" cy="56880"/>
                <a:chOff x="8186760" y="661680"/>
                <a:chExt cx="366480" cy="5688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818676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826668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850284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842256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834336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2" name=""/>
              <p:cNvSpPr/>
              <p:nvPr/>
            </p:nvSpPr>
            <p:spPr>
              <a:xfrm>
                <a:off x="8102160" y="617040"/>
                <a:ext cx="53568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8112960" y="55296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128440" y="536760"/>
                <a:ext cx="48096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time schedule   t = 0.5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797040" y="627120"/>
            <a:ext cx="724032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river stage D1 is switch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749160" y="1909800"/>
            <a:ext cx="6840360" cy="2709720"/>
            <a:chOff x="749160" y="1909800"/>
            <a:chExt cx="6840360" cy="2709720"/>
          </a:xfrm>
        </p:grpSpPr>
        <p:grpSp>
          <p:nvGrpSpPr>
            <p:cNvPr id="1008" name=""/>
            <p:cNvGrpSpPr/>
            <p:nvPr/>
          </p:nvGrpSpPr>
          <p:grpSpPr>
            <a:xfrm>
              <a:off x="1096920" y="4057560"/>
              <a:ext cx="6416280" cy="174600"/>
              <a:chOff x="1096920" y="4057560"/>
              <a:chExt cx="6416280" cy="174600"/>
            </a:xfrm>
          </p:grpSpPr>
          <p:sp>
            <p:nvSpPr>
              <p:cNvPr id="1009" name=""/>
              <p:cNvSpPr/>
              <p:nvPr/>
            </p:nvSpPr>
            <p:spPr>
              <a:xfrm>
                <a:off x="1096920" y="4181760"/>
                <a:ext cx="641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50056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11456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03884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50620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92532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 flipH="1" flipV="1">
              <a:off x="1118880" y="1909800"/>
              <a:ext cx="5040" cy="23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4916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96668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71304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01300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75400" y="4295880"/>
              <a:ext cx="10141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1058760" y="2095560"/>
            <a:ext cx="1537920" cy="1697760"/>
            <a:chOff x="1058760" y="2095560"/>
            <a:chExt cx="1537920" cy="1697760"/>
          </a:xfrm>
        </p:grpSpPr>
        <p:sp>
          <p:nvSpPr>
            <p:cNvPr id="1022" name=""/>
            <p:cNvSpPr/>
            <p:nvPr/>
          </p:nvSpPr>
          <p:spPr>
            <a:xfrm rot="5400000">
              <a:off x="1267560" y="2350080"/>
              <a:ext cx="399960" cy="313920"/>
            </a:xfrm>
            <a:prstGeom prst="flowChartExtra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5400000">
              <a:off x="1267560" y="2893320"/>
              <a:ext cx="399960" cy="313920"/>
            </a:xfrm>
            <a:prstGeom prst="flowChartExtra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1267560" y="3436200"/>
              <a:ext cx="399960" cy="313920"/>
            </a:xfrm>
            <a:prstGeom prst="flowChartExtra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2253960" y="2507040"/>
              <a:ext cx="0" cy="10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625040" y="35938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996200" y="359388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1996200" y="356472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796760" y="356508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625040" y="30502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96200" y="305028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1996200" y="302148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796760" y="302184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625040" y="250740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996200" y="250740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1996200" y="247860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796760" y="247896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253960" y="305028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196720" y="2993040"/>
              <a:ext cx="113760" cy="1144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0" name=""/>
            <p:cNvGrpSpPr/>
            <p:nvPr/>
          </p:nvGrpSpPr>
          <p:grpSpPr>
            <a:xfrm>
              <a:off x="1058760" y="2095560"/>
              <a:ext cx="759240" cy="1240200"/>
              <a:chOff x="1058760" y="2095560"/>
              <a:chExt cx="759240" cy="124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1058760" y="2095560"/>
                <a:ext cx="7592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058760" y="2647440"/>
                <a:ext cx="7592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058760" y="3190680"/>
                <a:ext cx="759240" cy="1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"/>
          <p:cNvGrpSpPr/>
          <p:nvPr/>
        </p:nvGrpSpPr>
        <p:grpSpPr>
          <a:xfrm>
            <a:off x="2502000" y="4632480"/>
            <a:ext cx="1568520" cy="376200"/>
            <a:chOff x="2502000" y="4632480"/>
            <a:chExt cx="1568520" cy="376200"/>
          </a:xfrm>
        </p:grpSpPr>
        <p:sp>
          <p:nvSpPr>
            <p:cNvPr id="1045" name=""/>
            <p:cNvSpPr/>
            <p:nvPr/>
          </p:nvSpPr>
          <p:spPr>
            <a:xfrm>
              <a:off x="2973240" y="4632480"/>
              <a:ext cx="1097280" cy="376200"/>
            </a:xfrm>
            <a:prstGeom prst="rightArrow">
              <a:avLst>
                <a:gd name="adj1" fmla="val 56120"/>
                <a:gd name="adj2" fmla="val 139706"/>
              </a:avLst>
            </a:prstGeom>
            <a:solidFill>
              <a:srgbClr val="ff99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502000" y="4726080"/>
              <a:ext cx="615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735120" y="4640040"/>
            <a:ext cx="6852600" cy="1640160"/>
            <a:chOff x="735120" y="4640040"/>
            <a:chExt cx="6852600" cy="1640160"/>
          </a:xfrm>
        </p:grpSpPr>
        <p:grpSp>
          <p:nvGrpSpPr>
            <p:cNvPr id="1048" name=""/>
            <p:cNvGrpSpPr/>
            <p:nvPr/>
          </p:nvGrpSpPr>
          <p:grpSpPr>
            <a:xfrm>
              <a:off x="1082880" y="5942160"/>
              <a:ext cx="6427440" cy="104760"/>
              <a:chOff x="1082880" y="5942160"/>
              <a:chExt cx="6427440" cy="104760"/>
            </a:xfrm>
          </p:grpSpPr>
          <p:sp>
            <p:nvSpPr>
              <p:cNvPr id="1049" name=""/>
              <p:cNvSpPr/>
              <p:nvPr/>
            </p:nvSpPr>
            <p:spPr>
              <a:xfrm>
                <a:off x="1082880" y="6016680"/>
                <a:ext cx="642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48904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10052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02984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9972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92136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"/>
            <p:cNvSpPr/>
            <p:nvPr/>
          </p:nvSpPr>
          <p:spPr>
            <a:xfrm flipV="1">
              <a:off x="1110240" y="464004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35120" y="6084720"/>
              <a:ext cx="1015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954440" y="6084720"/>
              <a:ext cx="10173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704040" y="6084720"/>
              <a:ext cx="1015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007240" y="6084720"/>
              <a:ext cx="101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572160" y="6084720"/>
              <a:ext cx="1015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458640" y="4680000"/>
            <a:ext cx="512640" cy="1085400"/>
            <a:chOff x="458640" y="4680000"/>
            <a:chExt cx="512640" cy="1085400"/>
          </a:xfrm>
        </p:grpSpPr>
        <p:sp>
          <p:nvSpPr>
            <p:cNvPr id="1062" name=""/>
            <p:cNvSpPr/>
            <p:nvPr/>
          </p:nvSpPr>
          <p:spPr>
            <a:xfrm>
              <a:off x="458640" y="4680000"/>
              <a:ext cx="51264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58640" y="5163120"/>
              <a:ext cx="51264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58640" y="5638320"/>
              <a:ext cx="5126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2698920" y="2109960"/>
            <a:ext cx="1539360" cy="1697760"/>
            <a:chOff x="2698920" y="2109960"/>
            <a:chExt cx="1539360" cy="1697760"/>
          </a:xfrm>
        </p:grpSpPr>
        <p:sp>
          <p:nvSpPr>
            <p:cNvPr id="1066" name=""/>
            <p:cNvSpPr/>
            <p:nvPr/>
          </p:nvSpPr>
          <p:spPr>
            <a:xfrm rot="5400000">
              <a:off x="2907720" y="2364480"/>
              <a:ext cx="399960" cy="314280"/>
            </a:xfrm>
            <a:prstGeom prst="flowChartExtra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5400000">
              <a:off x="2907720" y="2907720"/>
              <a:ext cx="399960" cy="314280"/>
            </a:xfrm>
            <a:prstGeom prst="flowChartExtra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5400000">
              <a:off x="2907720" y="3450600"/>
              <a:ext cx="399960" cy="314280"/>
            </a:xfrm>
            <a:prstGeom prst="flowChartExtra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3895200" y="2521440"/>
              <a:ext cx="0" cy="10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265560" y="36082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637440" y="3608280"/>
              <a:ext cx="25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3637440" y="357912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437280" y="3579480"/>
              <a:ext cx="5724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265560" y="30646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637440" y="3064680"/>
              <a:ext cx="25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3637440" y="303588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437280" y="3036240"/>
              <a:ext cx="5724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65560" y="252180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37440" y="2521800"/>
              <a:ext cx="25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3637440" y="249300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437280" y="2493360"/>
              <a:ext cx="5724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895200" y="306468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837960" y="3007440"/>
              <a:ext cx="113760" cy="1144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2698920" y="2109960"/>
              <a:ext cx="759600" cy="1240200"/>
              <a:chOff x="2698920" y="2109960"/>
              <a:chExt cx="759600" cy="1240200"/>
            </a:xfrm>
          </p:grpSpPr>
          <p:sp>
            <p:nvSpPr>
              <p:cNvPr id="1085" name=""/>
              <p:cNvSpPr/>
              <p:nvPr/>
            </p:nvSpPr>
            <p:spPr>
              <a:xfrm>
                <a:off x="2698920" y="2109960"/>
                <a:ext cx="75960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698920" y="2661840"/>
                <a:ext cx="75960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98920" y="3205080"/>
                <a:ext cx="759600" cy="1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8" name=""/>
          <p:cNvSpPr/>
          <p:nvPr/>
        </p:nvSpPr>
        <p:spPr>
          <a:xfrm>
            <a:off x="3492360" y="2521080"/>
            <a:ext cx="2113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2495520" y="1654200"/>
            <a:ext cx="12600" cy="4532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5508720" y="1654200"/>
            <a:ext cx="12600" cy="4532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4032360" y="1654200"/>
            <a:ext cx="12600" cy="4532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130400" y="3363840"/>
            <a:ext cx="479160" cy="471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859120" y="2841480"/>
            <a:ext cx="479520" cy="471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843280" y="3363840"/>
            <a:ext cx="479520" cy="471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192320" y="2284560"/>
            <a:ext cx="479160" cy="4712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174680" y="2828880"/>
            <a:ext cx="479520" cy="471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313760" y="4268880"/>
            <a:ext cx="723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249720" y="2270160"/>
            <a:ext cx="703080" cy="507960"/>
          </a:xfrm>
          <a:prstGeom prst="irregularSeal2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7475400" y="-130320"/>
            <a:ext cx="1454400" cy="1173240"/>
            <a:chOff x="7475400" y="-130320"/>
            <a:chExt cx="1454400" cy="1173240"/>
          </a:xfrm>
        </p:grpSpPr>
        <p:sp>
          <p:nvSpPr>
            <p:cNvPr id="1100" name=""/>
            <p:cNvSpPr/>
            <p:nvPr/>
          </p:nvSpPr>
          <p:spPr>
            <a:xfrm>
              <a:off x="7475400" y="-130320"/>
              <a:ext cx="1454400" cy="84528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Driver schedules bas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7545240" y="536760"/>
              <a:ext cx="1220760" cy="506160"/>
              <a:chOff x="7545240" y="536760"/>
              <a:chExt cx="1220760" cy="506160"/>
            </a:xfrm>
          </p:grpSpPr>
          <p:grpSp>
            <p:nvGrpSpPr>
              <p:cNvPr id="1102" name=""/>
              <p:cNvGrpSpPr/>
              <p:nvPr/>
            </p:nvGrpSpPr>
            <p:grpSpPr>
              <a:xfrm>
                <a:off x="7545240" y="721800"/>
                <a:ext cx="1220760" cy="321120"/>
                <a:chOff x="7545240" y="721800"/>
                <a:chExt cx="1220760" cy="321120"/>
              </a:xfrm>
            </p:grpSpPr>
            <p:grpSp>
              <p:nvGrpSpPr>
                <p:cNvPr id="1103" name=""/>
                <p:cNvGrpSpPr/>
                <p:nvPr/>
              </p:nvGrpSpPr>
              <p:grpSpPr>
                <a:xfrm>
                  <a:off x="7545240" y="963360"/>
                  <a:ext cx="1220760" cy="79560"/>
                  <a:chOff x="7545240" y="963360"/>
                  <a:chExt cx="1220760" cy="7956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>
                    <a:off x="77486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815616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835992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856368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795240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5452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0" name=""/>
                <p:cNvGrpSpPr/>
                <p:nvPr/>
              </p:nvGrpSpPr>
              <p:grpSpPr>
                <a:xfrm>
                  <a:off x="7647480" y="882720"/>
                  <a:ext cx="1017000" cy="79560"/>
                  <a:chOff x="7647480" y="882720"/>
                  <a:chExt cx="1017000" cy="79560"/>
                </a:xfrm>
              </p:grpSpPr>
              <p:sp>
                <p:nvSpPr>
                  <p:cNvPr id="1111" name=""/>
                  <p:cNvSpPr/>
                  <p:nvPr/>
                </p:nvSpPr>
                <p:spPr>
                  <a:xfrm>
                    <a:off x="76474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805464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825840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846216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78508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6" name=""/>
                <p:cNvGrpSpPr/>
                <p:nvPr/>
              </p:nvGrpSpPr>
              <p:grpSpPr>
                <a:xfrm>
                  <a:off x="7749360" y="721800"/>
                  <a:ext cx="813240" cy="159840"/>
                  <a:chOff x="7749360" y="721800"/>
                  <a:chExt cx="813240" cy="15984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795312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836028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815688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774936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785160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825912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805536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4" name=""/>
              <p:cNvGrpSpPr/>
              <p:nvPr/>
            </p:nvGrpSpPr>
            <p:grpSpPr>
              <a:xfrm>
                <a:off x="8006040" y="721800"/>
                <a:ext cx="303480" cy="320040"/>
                <a:chOff x="8006040" y="721800"/>
                <a:chExt cx="303480" cy="320040"/>
              </a:xfrm>
            </p:grpSpPr>
            <p:grpSp>
              <p:nvGrpSpPr>
                <p:cNvPr id="1125" name=""/>
                <p:cNvGrpSpPr/>
                <p:nvPr/>
              </p:nvGrpSpPr>
              <p:grpSpPr>
                <a:xfrm>
                  <a:off x="8006040" y="963000"/>
                  <a:ext cx="303480" cy="78840"/>
                  <a:chOff x="8006040" y="963000"/>
                  <a:chExt cx="303480" cy="7884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>
                    <a:off x="8018640" y="988920"/>
                    <a:ext cx="2782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8006040" y="1015200"/>
                    <a:ext cx="303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8031240" y="963000"/>
                    <a:ext cx="2530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9" name=""/>
                <p:cNvGrpSpPr/>
                <p:nvPr/>
              </p:nvGrpSpPr>
              <p:grpSpPr>
                <a:xfrm>
                  <a:off x="8043840" y="882720"/>
                  <a:ext cx="227520" cy="78840"/>
                  <a:chOff x="8043840" y="882720"/>
                  <a:chExt cx="227520" cy="7884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>
                    <a:off x="8053200" y="908640"/>
                    <a:ext cx="2088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8043840" y="934920"/>
                    <a:ext cx="2275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8062560" y="882720"/>
                    <a:ext cx="1897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8069400" y="802080"/>
                  <a:ext cx="177120" cy="78480"/>
                  <a:chOff x="8069400" y="802080"/>
                  <a:chExt cx="177120" cy="7848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8076600" y="827640"/>
                    <a:ext cx="162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8069400" y="853920"/>
                    <a:ext cx="1771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8083800" y="802080"/>
                    <a:ext cx="1476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7" name=""/>
                <p:cNvGrpSpPr/>
                <p:nvPr/>
              </p:nvGrpSpPr>
              <p:grpSpPr>
                <a:xfrm>
                  <a:off x="8094600" y="721800"/>
                  <a:ext cx="126360" cy="78840"/>
                  <a:chOff x="8094600" y="721800"/>
                  <a:chExt cx="126360" cy="78840"/>
                </a:xfrm>
              </p:grpSpPr>
              <p:sp>
                <p:nvSpPr>
                  <p:cNvPr id="1138" name=""/>
                  <p:cNvSpPr/>
                  <p:nvPr/>
                </p:nvSpPr>
                <p:spPr>
                  <a:xfrm>
                    <a:off x="8099640" y="747720"/>
                    <a:ext cx="1159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8094600" y="774000"/>
                    <a:ext cx="126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8105040" y="721800"/>
                    <a:ext cx="105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41" name=""/>
              <p:cNvSpPr/>
              <p:nvPr/>
            </p:nvSpPr>
            <p:spPr>
              <a:xfrm>
                <a:off x="7902720" y="625320"/>
                <a:ext cx="506160" cy="950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7972920" y="661680"/>
                <a:ext cx="366480" cy="56880"/>
                <a:chOff x="7972920" y="661680"/>
                <a:chExt cx="366480" cy="568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79729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805284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828900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82087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81295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7887960" y="617040"/>
                <a:ext cx="53604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7898760" y="55296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914240" y="536760"/>
                <a:ext cx="48096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time schedule   t = 1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797040" y="627120"/>
            <a:ext cx="724032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river stage  D2 is additionally switch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749160" y="1909800"/>
            <a:ext cx="6840360" cy="2709720"/>
            <a:chOff x="749160" y="1909800"/>
            <a:chExt cx="6840360" cy="2709720"/>
          </a:xfrm>
        </p:grpSpPr>
        <p:grpSp>
          <p:nvGrpSpPr>
            <p:cNvPr id="1154" name=""/>
            <p:cNvGrpSpPr/>
            <p:nvPr/>
          </p:nvGrpSpPr>
          <p:grpSpPr>
            <a:xfrm>
              <a:off x="1096920" y="4057560"/>
              <a:ext cx="6416280" cy="174600"/>
              <a:chOff x="1096920" y="4057560"/>
              <a:chExt cx="6416280" cy="174600"/>
            </a:xfrm>
          </p:grpSpPr>
          <p:sp>
            <p:nvSpPr>
              <p:cNvPr id="1155" name=""/>
              <p:cNvSpPr/>
              <p:nvPr/>
            </p:nvSpPr>
            <p:spPr>
              <a:xfrm>
                <a:off x="1096920" y="4181760"/>
                <a:ext cx="641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50056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11456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03884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50620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92532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1" name=""/>
            <p:cNvSpPr/>
            <p:nvPr/>
          </p:nvSpPr>
          <p:spPr>
            <a:xfrm flipH="1" flipV="1">
              <a:off x="1118880" y="1909800"/>
              <a:ext cx="5040" cy="23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4916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96668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71304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01300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575400" y="4295880"/>
              <a:ext cx="10141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1058760" y="2095560"/>
            <a:ext cx="1537920" cy="1697760"/>
            <a:chOff x="1058760" y="2095560"/>
            <a:chExt cx="1537920" cy="1697760"/>
          </a:xfrm>
        </p:grpSpPr>
        <p:sp>
          <p:nvSpPr>
            <p:cNvPr id="1168" name=""/>
            <p:cNvSpPr/>
            <p:nvPr/>
          </p:nvSpPr>
          <p:spPr>
            <a:xfrm rot="5400000">
              <a:off x="1267560" y="2350080"/>
              <a:ext cx="399960" cy="313920"/>
            </a:xfrm>
            <a:prstGeom prst="flowChartExtra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5400000">
              <a:off x="1267560" y="2893320"/>
              <a:ext cx="399960" cy="313920"/>
            </a:xfrm>
            <a:prstGeom prst="flowChartExtra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5400000">
              <a:off x="1267560" y="3436200"/>
              <a:ext cx="399960" cy="313920"/>
            </a:xfrm>
            <a:prstGeom prst="flowChartExtra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2253960" y="2507040"/>
              <a:ext cx="0" cy="10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25040" y="35938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996200" y="359388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1996200" y="356472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796760" y="356508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625040" y="30502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96200" y="305028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1996200" y="302148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796760" y="302184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625040" y="250740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96200" y="250740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1996200" y="247860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796760" y="247896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253960" y="305028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196720" y="2993040"/>
              <a:ext cx="113760" cy="1144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6" name=""/>
            <p:cNvGrpSpPr/>
            <p:nvPr/>
          </p:nvGrpSpPr>
          <p:grpSpPr>
            <a:xfrm>
              <a:off x="1058760" y="2095560"/>
              <a:ext cx="759240" cy="1240200"/>
              <a:chOff x="1058760" y="2095560"/>
              <a:chExt cx="759240" cy="1240200"/>
            </a:xfrm>
          </p:grpSpPr>
          <p:sp>
            <p:nvSpPr>
              <p:cNvPr id="1187" name=""/>
              <p:cNvSpPr/>
              <p:nvPr/>
            </p:nvSpPr>
            <p:spPr>
              <a:xfrm>
                <a:off x="1058760" y="2095560"/>
                <a:ext cx="7592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058760" y="2647440"/>
                <a:ext cx="7592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058760" y="3190680"/>
                <a:ext cx="759240" cy="1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0" name=""/>
          <p:cNvGrpSpPr/>
          <p:nvPr/>
        </p:nvGrpSpPr>
        <p:grpSpPr>
          <a:xfrm>
            <a:off x="2473200" y="4640400"/>
            <a:ext cx="3076560" cy="376200"/>
            <a:chOff x="2473200" y="4640400"/>
            <a:chExt cx="3076560" cy="376200"/>
          </a:xfrm>
        </p:grpSpPr>
        <p:sp>
          <p:nvSpPr>
            <p:cNvPr id="1191" name=""/>
            <p:cNvSpPr/>
            <p:nvPr/>
          </p:nvSpPr>
          <p:spPr>
            <a:xfrm>
              <a:off x="4468680" y="4640400"/>
              <a:ext cx="1081080" cy="376200"/>
            </a:xfrm>
            <a:prstGeom prst="rightArrow">
              <a:avLst>
                <a:gd name="adj1" fmla="val 56120"/>
                <a:gd name="adj2" fmla="val 137644"/>
              </a:avLst>
            </a:prstGeom>
            <a:solidFill>
              <a:srgbClr val="ff99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473200" y="4740120"/>
              <a:ext cx="2008440" cy="185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4033800" y="5043600"/>
            <a:ext cx="1506600" cy="376200"/>
            <a:chOff x="4033800" y="5043600"/>
            <a:chExt cx="1506600" cy="376200"/>
          </a:xfrm>
        </p:grpSpPr>
        <p:sp>
          <p:nvSpPr>
            <p:cNvPr id="1194" name=""/>
            <p:cNvSpPr/>
            <p:nvPr/>
          </p:nvSpPr>
          <p:spPr>
            <a:xfrm>
              <a:off x="4483080" y="5043600"/>
              <a:ext cx="1057320" cy="376200"/>
            </a:xfrm>
            <a:prstGeom prst="rightArrow">
              <a:avLst>
                <a:gd name="adj1" fmla="val 56120"/>
                <a:gd name="adj2" fmla="val 134619"/>
              </a:avLst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033800" y="5133960"/>
              <a:ext cx="565200" cy="18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735120" y="4640040"/>
            <a:ext cx="6852600" cy="1640160"/>
            <a:chOff x="735120" y="4640040"/>
            <a:chExt cx="6852600" cy="1640160"/>
          </a:xfrm>
        </p:grpSpPr>
        <p:grpSp>
          <p:nvGrpSpPr>
            <p:cNvPr id="1197" name=""/>
            <p:cNvGrpSpPr/>
            <p:nvPr/>
          </p:nvGrpSpPr>
          <p:grpSpPr>
            <a:xfrm>
              <a:off x="1082880" y="5942160"/>
              <a:ext cx="6427440" cy="104760"/>
              <a:chOff x="1082880" y="5942160"/>
              <a:chExt cx="6427440" cy="104760"/>
            </a:xfrm>
          </p:grpSpPr>
          <p:sp>
            <p:nvSpPr>
              <p:cNvPr id="1198" name=""/>
              <p:cNvSpPr/>
              <p:nvPr/>
            </p:nvSpPr>
            <p:spPr>
              <a:xfrm>
                <a:off x="1082880" y="6016680"/>
                <a:ext cx="642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48904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10052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02984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49972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92136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 flipV="1">
              <a:off x="1110240" y="464004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35120" y="6084720"/>
              <a:ext cx="1015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954440" y="6084720"/>
              <a:ext cx="10173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704040" y="6084720"/>
              <a:ext cx="1015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007240" y="6084720"/>
              <a:ext cx="101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572160" y="6084720"/>
              <a:ext cx="1015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458640" y="4680000"/>
            <a:ext cx="512640" cy="1085400"/>
            <a:chOff x="458640" y="4680000"/>
            <a:chExt cx="512640" cy="1085400"/>
          </a:xfrm>
        </p:grpSpPr>
        <p:sp>
          <p:nvSpPr>
            <p:cNvPr id="1211" name=""/>
            <p:cNvSpPr/>
            <p:nvPr/>
          </p:nvSpPr>
          <p:spPr>
            <a:xfrm>
              <a:off x="458640" y="4680000"/>
              <a:ext cx="51264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58640" y="5163120"/>
              <a:ext cx="51264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58640" y="5638320"/>
              <a:ext cx="5126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2698920" y="2109960"/>
            <a:ext cx="1539360" cy="1697760"/>
            <a:chOff x="2698920" y="2109960"/>
            <a:chExt cx="1539360" cy="1697760"/>
          </a:xfrm>
        </p:grpSpPr>
        <p:sp>
          <p:nvSpPr>
            <p:cNvPr id="1215" name=""/>
            <p:cNvSpPr/>
            <p:nvPr/>
          </p:nvSpPr>
          <p:spPr>
            <a:xfrm rot="5400000">
              <a:off x="2907720" y="2364480"/>
              <a:ext cx="399960" cy="314280"/>
            </a:xfrm>
            <a:prstGeom prst="flowChartExtra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5400000">
              <a:off x="2907720" y="2907720"/>
              <a:ext cx="399960" cy="314280"/>
            </a:xfrm>
            <a:prstGeom prst="flowChartExtra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907720" y="3450600"/>
              <a:ext cx="399960" cy="314280"/>
            </a:xfrm>
            <a:prstGeom prst="flowChartExtra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3895200" y="2521440"/>
              <a:ext cx="0" cy="10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265560" y="36082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637440" y="3608280"/>
              <a:ext cx="25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3637440" y="357912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37280" y="3579480"/>
              <a:ext cx="5724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65560" y="30646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637440" y="3064680"/>
              <a:ext cx="25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3637440" y="303588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37280" y="3036240"/>
              <a:ext cx="5724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265560" y="252180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637440" y="2521800"/>
              <a:ext cx="25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>
              <a:off x="3637440" y="249300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437280" y="2493360"/>
              <a:ext cx="5724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895200" y="306468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837960" y="3007440"/>
              <a:ext cx="113760" cy="1144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3" name=""/>
            <p:cNvGrpSpPr/>
            <p:nvPr/>
          </p:nvGrpSpPr>
          <p:grpSpPr>
            <a:xfrm>
              <a:off x="2698920" y="2109960"/>
              <a:ext cx="759600" cy="1240200"/>
              <a:chOff x="2698920" y="2109960"/>
              <a:chExt cx="759600" cy="1240200"/>
            </a:xfrm>
          </p:grpSpPr>
          <p:sp>
            <p:nvSpPr>
              <p:cNvPr id="1234" name=""/>
              <p:cNvSpPr/>
              <p:nvPr/>
            </p:nvSpPr>
            <p:spPr>
              <a:xfrm>
                <a:off x="2698920" y="2109960"/>
                <a:ext cx="75960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698920" y="2661840"/>
                <a:ext cx="75960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698920" y="3205080"/>
                <a:ext cx="759600" cy="1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7" name=""/>
          <p:cNvSpPr/>
          <p:nvPr/>
        </p:nvSpPr>
        <p:spPr>
          <a:xfrm>
            <a:off x="3492360" y="2521080"/>
            <a:ext cx="2113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4213080" y="2093760"/>
            <a:ext cx="1539720" cy="1696320"/>
            <a:chOff x="4213080" y="2093760"/>
            <a:chExt cx="1539720" cy="1696320"/>
          </a:xfrm>
        </p:grpSpPr>
        <p:sp>
          <p:nvSpPr>
            <p:cNvPr id="1239" name=""/>
            <p:cNvSpPr/>
            <p:nvPr/>
          </p:nvSpPr>
          <p:spPr>
            <a:xfrm rot="5400000">
              <a:off x="4422240" y="2347560"/>
              <a:ext cx="399600" cy="314280"/>
            </a:xfrm>
            <a:prstGeom prst="flowChartExtra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4422240" y="2890440"/>
              <a:ext cx="399600" cy="314280"/>
            </a:xfrm>
            <a:prstGeom prst="flowChartExtra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5400000">
              <a:off x="4422240" y="3432960"/>
              <a:ext cx="399600" cy="314280"/>
            </a:xfrm>
            <a:prstGeom prst="flowChartExtra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409720" y="2505240"/>
              <a:ext cx="0" cy="108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779720" y="3590640"/>
              <a:ext cx="20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151600" y="3590640"/>
              <a:ext cx="25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5151600" y="356184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951800" y="3562200"/>
              <a:ext cx="57240" cy="568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79720" y="3047760"/>
              <a:ext cx="20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151600" y="3047760"/>
              <a:ext cx="25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5151600" y="301896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951800" y="3019320"/>
              <a:ext cx="57240" cy="568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779720" y="2505240"/>
              <a:ext cx="20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151600" y="2505240"/>
              <a:ext cx="25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5151600" y="247644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51800" y="2476800"/>
              <a:ext cx="57240" cy="568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409720" y="30477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352120" y="2990520"/>
              <a:ext cx="113760" cy="11412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7" name=""/>
            <p:cNvGrpSpPr/>
            <p:nvPr/>
          </p:nvGrpSpPr>
          <p:grpSpPr>
            <a:xfrm>
              <a:off x="4213080" y="2093760"/>
              <a:ext cx="759960" cy="1238760"/>
              <a:chOff x="4213080" y="2093760"/>
              <a:chExt cx="759960" cy="1238760"/>
            </a:xfrm>
          </p:grpSpPr>
          <p:sp>
            <p:nvSpPr>
              <p:cNvPr id="1258" name=""/>
              <p:cNvSpPr/>
              <p:nvPr/>
            </p:nvSpPr>
            <p:spPr>
              <a:xfrm>
                <a:off x="4213080" y="2093760"/>
                <a:ext cx="75996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213080" y="2645280"/>
                <a:ext cx="75996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D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213080" y="3187800"/>
                <a:ext cx="759960" cy="1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"/>
          <p:cNvSpPr/>
          <p:nvPr/>
        </p:nvSpPr>
        <p:spPr>
          <a:xfrm>
            <a:off x="4984920" y="3044880"/>
            <a:ext cx="2109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994280" y="2502000"/>
            <a:ext cx="21096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2495520" y="1654200"/>
            <a:ext cx="12600" cy="4532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5508720" y="1654200"/>
            <a:ext cx="12600" cy="4532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4032360" y="1654200"/>
            <a:ext cx="12600" cy="4532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1130400" y="3363840"/>
            <a:ext cx="479160" cy="471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4340160" y="3363840"/>
            <a:ext cx="479520" cy="471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859120" y="2841480"/>
            <a:ext cx="479520" cy="471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843280" y="3363840"/>
            <a:ext cx="479520" cy="471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192320" y="2284560"/>
            <a:ext cx="479160" cy="4712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174680" y="2828880"/>
            <a:ext cx="479520" cy="471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313760" y="4268880"/>
            <a:ext cx="723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754520" y="2778120"/>
            <a:ext cx="703440" cy="507960"/>
          </a:xfrm>
          <a:prstGeom prst="irregularSeal2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7475400" y="-130320"/>
            <a:ext cx="1454400" cy="1173240"/>
            <a:chOff x="7475400" y="-130320"/>
            <a:chExt cx="1454400" cy="1173240"/>
          </a:xfrm>
        </p:grpSpPr>
        <p:sp>
          <p:nvSpPr>
            <p:cNvPr id="1275" name=""/>
            <p:cNvSpPr/>
            <p:nvPr/>
          </p:nvSpPr>
          <p:spPr>
            <a:xfrm>
              <a:off x="7475400" y="-130320"/>
              <a:ext cx="1454400" cy="84528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Driver schedules bas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6" name=""/>
            <p:cNvGrpSpPr/>
            <p:nvPr/>
          </p:nvGrpSpPr>
          <p:grpSpPr>
            <a:xfrm>
              <a:off x="7545240" y="536760"/>
              <a:ext cx="1220760" cy="506160"/>
              <a:chOff x="7545240" y="536760"/>
              <a:chExt cx="1220760" cy="506160"/>
            </a:xfrm>
          </p:grpSpPr>
          <p:grpSp>
            <p:nvGrpSpPr>
              <p:cNvPr id="1277" name=""/>
              <p:cNvGrpSpPr/>
              <p:nvPr/>
            </p:nvGrpSpPr>
            <p:grpSpPr>
              <a:xfrm>
                <a:off x="7545240" y="721800"/>
                <a:ext cx="1220760" cy="321120"/>
                <a:chOff x="7545240" y="721800"/>
                <a:chExt cx="1220760" cy="321120"/>
              </a:xfrm>
            </p:grpSpPr>
            <p:grpSp>
              <p:nvGrpSpPr>
                <p:cNvPr id="1278" name=""/>
                <p:cNvGrpSpPr/>
                <p:nvPr/>
              </p:nvGrpSpPr>
              <p:grpSpPr>
                <a:xfrm>
                  <a:off x="7545240" y="963360"/>
                  <a:ext cx="1220760" cy="79560"/>
                  <a:chOff x="7545240" y="963360"/>
                  <a:chExt cx="1220760" cy="79560"/>
                </a:xfrm>
              </p:grpSpPr>
              <p:sp>
                <p:nvSpPr>
                  <p:cNvPr id="1279" name=""/>
                  <p:cNvSpPr/>
                  <p:nvPr/>
                </p:nvSpPr>
                <p:spPr>
                  <a:xfrm>
                    <a:off x="77486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815616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835992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856368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795240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75452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5" name=""/>
                <p:cNvGrpSpPr/>
                <p:nvPr/>
              </p:nvGrpSpPr>
              <p:grpSpPr>
                <a:xfrm>
                  <a:off x="7647480" y="882720"/>
                  <a:ext cx="1017000" cy="79560"/>
                  <a:chOff x="7647480" y="882720"/>
                  <a:chExt cx="1017000" cy="79560"/>
                </a:xfrm>
              </p:grpSpPr>
              <p:sp>
                <p:nvSpPr>
                  <p:cNvPr id="1286" name=""/>
                  <p:cNvSpPr/>
                  <p:nvPr/>
                </p:nvSpPr>
                <p:spPr>
                  <a:xfrm>
                    <a:off x="76474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805464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825840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>
                    <a:off x="846216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78508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1" name=""/>
                <p:cNvGrpSpPr/>
                <p:nvPr/>
              </p:nvGrpSpPr>
              <p:grpSpPr>
                <a:xfrm>
                  <a:off x="7749360" y="721800"/>
                  <a:ext cx="813240" cy="159840"/>
                  <a:chOff x="7749360" y="721800"/>
                  <a:chExt cx="813240" cy="159840"/>
                </a:xfrm>
              </p:grpSpPr>
              <p:sp>
                <p:nvSpPr>
                  <p:cNvPr id="1292" name=""/>
                  <p:cNvSpPr/>
                  <p:nvPr/>
                </p:nvSpPr>
                <p:spPr>
                  <a:xfrm>
                    <a:off x="795312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836028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815688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774936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785160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825912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805536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9" name=""/>
              <p:cNvGrpSpPr/>
              <p:nvPr/>
            </p:nvGrpSpPr>
            <p:grpSpPr>
              <a:xfrm>
                <a:off x="8006040" y="721800"/>
                <a:ext cx="303480" cy="320040"/>
                <a:chOff x="8006040" y="721800"/>
                <a:chExt cx="303480" cy="320040"/>
              </a:xfrm>
            </p:grpSpPr>
            <p:grpSp>
              <p:nvGrpSpPr>
                <p:cNvPr id="1300" name=""/>
                <p:cNvGrpSpPr/>
                <p:nvPr/>
              </p:nvGrpSpPr>
              <p:grpSpPr>
                <a:xfrm>
                  <a:off x="8006040" y="963000"/>
                  <a:ext cx="303480" cy="78840"/>
                  <a:chOff x="8006040" y="963000"/>
                  <a:chExt cx="303480" cy="78840"/>
                </a:xfrm>
              </p:grpSpPr>
              <p:sp>
                <p:nvSpPr>
                  <p:cNvPr id="1301" name=""/>
                  <p:cNvSpPr/>
                  <p:nvPr/>
                </p:nvSpPr>
                <p:spPr>
                  <a:xfrm>
                    <a:off x="8018640" y="988920"/>
                    <a:ext cx="2782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8006040" y="1015200"/>
                    <a:ext cx="303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8031240" y="963000"/>
                    <a:ext cx="2530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4" name=""/>
                <p:cNvGrpSpPr/>
                <p:nvPr/>
              </p:nvGrpSpPr>
              <p:grpSpPr>
                <a:xfrm>
                  <a:off x="8043840" y="882720"/>
                  <a:ext cx="227520" cy="78840"/>
                  <a:chOff x="8043840" y="882720"/>
                  <a:chExt cx="227520" cy="78840"/>
                </a:xfrm>
              </p:grpSpPr>
              <p:sp>
                <p:nvSpPr>
                  <p:cNvPr id="1305" name=""/>
                  <p:cNvSpPr/>
                  <p:nvPr/>
                </p:nvSpPr>
                <p:spPr>
                  <a:xfrm>
                    <a:off x="8053200" y="908640"/>
                    <a:ext cx="2088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8043840" y="934920"/>
                    <a:ext cx="2275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8062560" y="882720"/>
                    <a:ext cx="1897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8" name=""/>
                <p:cNvGrpSpPr/>
                <p:nvPr/>
              </p:nvGrpSpPr>
              <p:grpSpPr>
                <a:xfrm>
                  <a:off x="8069400" y="802080"/>
                  <a:ext cx="177120" cy="78480"/>
                  <a:chOff x="8069400" y="802080"/>
                  <a:chExt cx="177120" cy="78480"/>
                </a:xfrm>
              </p:grpSpPr>
              <p:sp>
                <p:nvSpPr>
                  <p:cNvPr id="1309" name=""/>
                  <p:cNvSpPr/>
                  <p:nvPr/>
                </p:nvSpPr>
                <p:spPr>
                  <a:xfrm>
                    <a:off x="8076600" y="827640"/>
                    <a:ext cx="162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8069400" y="853920"/>
                    <a:ext cx="1771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8083800" y="802080"/>
                    <a:ext cx="1476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2" name=""/>
                <p:cNvGrpSpPr/>
                <p:nvPr/>
              </p:nvGrpSpPr>
              <p:grpSpPr>
                <a:xfrm>
                  <a:off x="8094600" y="721800"/>
                  <a:ext cx="126360" cy="78840"/>
                  <a:chOff x="8094600" y="721800"/>
                  <a:chExt cx="126360" cy="7884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8099640" y="747720"/>
                    <a:ext cx="1159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8094600" y="774000"/>
                    <a:ext cx="126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8105040" y="721800"/>
                    <a:ext cx="105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16" name=""/>
              <p:cNvSpPr/>
              <p:nvPr/>
            </p:nvSpPr>
            <p:spPr>
              <a:xfrm>
                <a:off x="7902720" y="625320"/>
                <a:ext cx="506160" cy="950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7972920" y="661680"/>
                <a:ext cx="366480" cy="56880"/>
                <a:chOff x="7972920" y="661680"/>
                <a:chExt cx="366480" cy="5688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79729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805284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828900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82087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81295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3" name=""/>
              <p:cNvSpPr/>
              <p:nvPr/>
            </p:nvSpPr>
            <p:spPr>
              <a:xfrm>
                <a:off x="7887960" y="617040"/>
                <a:ext cx="53604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7898760" y="55296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914240" y="536760"/>
                <a:ext cx="48096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time schedule    t = 1.5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797040" y="627120"/>
            <a:ext cx="724032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river stage D3  is additionally  switch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749160" y="1909800"/>
            <a:ext cx="6840360" cy="2709720"/>
            <a:chOff x="749160" y="1909800"/>
            <a:chExt cx="6840360" cy="2709720"/>
          </a:xfrm>
        </p:grpSpPr>
        <p:grpSp>
          <p:nvGrpSpPr>
            <p:cNvPr id="1329" name=""/>
            <p:cNvGrpSpPr/>
            <p:nvPr/>
          </p:nvGrpSpPr>
          <p:grpSpPr>
            <a:xfrm>
              <a:off x="1096920" y="4057560"/>
              <a:ext cx="6416280" cy="174600"/>
              <a:chOff x="1096920" y="4057560"/>
              <a:chExt cx="6416280" cy="174600"/>
            </a:xfrm>
          </p:grpSpPr>
          <p:sp>
            <p:nvSpPr>
              <p:cNvPr id="1330" name=""/>
              <p:cNvSpPr/>
              <p:nvPr/>
            </p:nvSpPr>
            <p:spPr>
              <a:xfrm>
                <a:off x="1096920" y="4181760"/>
                <a:ext cx="641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50056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11456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03884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50620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92532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6" name=""/>
            <p:cNvSpPr/>
            <p:nvPr/>
          </p:nvSpPr>
          <p:spPr>
            <a:xfrm flipH="1" flipV="1">
              <a:off x="1118880" y="1909800"/>
              <a:ext cx="5040" cy="23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4916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96668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71304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01300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575400" y="4295880"/>
              <a:ext cx="10141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1058760" y="2095560"/>
            <a:ext cx="1537920" cy="1697760"/>
            <a:chOff x="1058760" y="2095560"/>
            <a:chExt cx="1537920" cy="1697760"/>
          </a:xfrm>
        </p:grpSpPr>
        <p:sp>
          <p:nvSpPr>
            <p:cNvPr id="1343" name=""/>
            <p:cNvSpPr/>
            <p:nvPr/>
          </p:nvSpPr>
          <p:spPr>
            <a:xfrm rot="5400000">
              <a:off x="1267560" y="2350080"/>
              <a:ext cx="399960" cy="313920"/>
            </a:xfrm>
            <a:prstGeom prst="flowChartExtra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rot="5400000">
              <a:off x="1267560" y="2893320"/>
              <a:ext cx="399960" cy="313920"/>
            </a:xfrm>
            <a:prstGeom prst="flowChartExtra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 rot="5400000">
              <a:off x="1267560" y="3436200"/>
              <a:ext cx="399960" cy="313920"/>
            </a:xfrm>
            <a:prstGeom prst="flowChartExtra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2253960" y="2507040"/>
              <a:ext cx="0" cy="10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25040" y="35938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996200" y="359388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1996200" y="356472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796760" y="356508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625040" y="30502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96200" y="305028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1996200" y="302148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796760" y="302184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625040" y="250740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996200" y="250740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1996200" y="247860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96760" y="247896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53960" y="305028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96720" y="2993040"/>
              <a:ext cx="113760" cy="1144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1" name=""/>
            <p:cNvGrpSpPr/>
            <p:nvPr/>
          </p:nvGrpSpPr>
          <p:grpSpPr>
            <a:xfrm>
              <a:off x="1058760" y="2095560"/>
              <a:ext cx="759240" cy="1240200"/>
              <a:chOff x="1058760" y="2095560"/>
              <a:chExt cx="759240" cy="1240200"/>
            </a:xfrm>
          </p:grpSpPr>
          <p:sp>
            <p:nvSpPr>
              <p:cNvPr id="1362" name=""/>
              <p:cNvSpPr/>
              <p:nvPr/>
            </p:nvSpPr>
            <p:spPr>
              <a:xfrm>
                <a:off x="1058760" y="2095560"/>
                <a:ext cx="7592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058760" y="2647440"/>
                <a:ext cx="7592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058760" y="3190680"/>
                <a:ext cx="759240" cy="1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5" name=""/>
          <p:cNvGrpSpPr/>
          <p:nvPr/>
        </p:nvGrpSpPr>
        <p:grpSpPr>
          <a:xfrm>
            <a:off x="2473200" y="4645080"/>
            <a:ext cx="4457520" cy="376200"/>
            <a:chOff x="2473200" y="4645080"/>
            <a:chExt cx="4457520" cy="376200"/>
          </a:xfrm>
        </p:grpSpPr>
        <p:sp>
          <p:nvSpPr>
            <p:cNvPr id="1366" name=""/>
            <p:cNvSpPr/>
            <p:nvPr/>
          </p:nvSpPr>
          <p:spPr>
            <a:xfrm>
              <a:off x="5873760" y="4645080"/>
              <a:ext cx="1056960" cy="376200"/>
            </a:xfrm>
            <a:prstGeom prst="rightArrow">
              <a:avLst>
                <a:gd name="adj1" fmla="val 56120"/>
                <a:gd name="adj2" fmla="val 134573"/>
              </a:avLst>
            </a:prstGeom>
            <a:solidFill>
              <a:srgbClr val="ff99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473200" y="4740120"/>
              <a:ext cx="3427560" cy="185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4010040" y="5043600"/>
            <a:ext cx="2920680" cy="376200"/>
            <a:chOff x="4010040" y="5043600"/>
            <a:chExt cx="2920680" cy="376200"/>
          </a:xfrm>
        </p:grpSpPr>
        <p:sp>
          <p:nvSpPr>
            <p:cNvPr id="1369" name=""/>
            <p:cNvSpPr/>
            <p:nvPr/>
          </p:nvSpPr>
          <p:spPr>
            <a:xfrm>
              <a:off x="5873760" y="5043600"/>
              <a:ext cx="1056960" cy="376200"/>
            </a:xfrm>
            <a:prstGeom prst="rightArrow">
              <a:avLst>
                <a:gd name="adj1" fmla="val 56120"/>
                <a:gd name="adj2" fmla="val 134573"/>
              </a:avLst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010040" y="5133960"/>
              <a:ext cx="1917360" cy="18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735120" y="4640040"/>
            <a:ext cx="6852600" cy="1640160"/>
            <a:chOff x="735120" y="4640040"/>
            <a:chExt cx="6852600" cy="1640160"/>
          </a:xfrm>
        </p:grpSpPr>
        <p:grpSp>
          <p:nvGrpSpPr>
            <p:cNvPr id="1372" name=""/>
            <p:cNvGrpSpPr/>
            <p:nvPr/>
          </p:nvGrpSpPr>
          <p:grpSpPr>
            <a:xfrm>
              <a:off x="1082880" y="5942160"/>
              <a:ext cx="6427440" cy="104760"/>
              <a:chOff x="1082880" y="5942160"/>
              <a:chExt cx="6427440" cy="104760"/>
            </a:xfrm>
          </p:grpSpPr>
          <p:sp>
            <p:nvSpPr>
              <p:cNvPr id="1373" name=""/>
              <p:cNvSpPr/>
              <p:nvPr/>
            </p:nvSpPr>
            <p:spPr>
              <a:xfrm>
                <a:off x="1082880" y="6016680"/>
                <a:ext cx="642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48904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10052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02984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49972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92136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9" name=""/>
            <p:cNvSpPr/>
            <p:nvPr/>
          </p:nvSpPr>
          <p:spPr>
            <a:xfrm flipV="1">
              <a:off x="1110240" y="464004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35120" y="6084720"/>
              <a:ext cx="1015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954440" y="6084720"/>
              <a:ext cx="10173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704040" y="6084720"/>
              <a:ext cx="1015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07240" y="6084720"/>
              <a:ext cx="101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572160" y="6084720"/>
              <a:ext cx="1015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458640" y="4680000"/>
            <a:ext cx="512640" cy="1085400"/>
            <a:chOff x="458640" y="4680000"/>
            <a:chExt cx="512640" cy="1085400"/>
          </a:xfrm>
        </p:grpSpPr>
        <p:sp>
          <p:nvSpPr>
            <p:cNvPr id="1386" name=""/>
            <p:cNvSpPr/>
            <p:nvPr/>
          </p:nvSpPr>
          <p:spPr>
            <a:xfrm>
              <a:off x="458640" y="4680000"/>
              <a:ext cx="51264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58640" y="5163120"/>
              <a:ext cx="51264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58640" y="5638320"/>
              <a:ext cx="5126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856120" y="2114640"/>
            <a:ext cx="1537920" cy="1697760"/>
            <a:chOff x="5856120" y="2114640"/>
            <a:chExt cx="1537920" cy="1697760"/>
          </a:xfrm>
        </p:grpSpPr>
        <p:sp>
          <p:nvSpPr>
            <p:cNvPr id="1390" name=""/>
            <p:cNvSpPr/>
            <p:nvPr/>
          </p:nvSpPr>
          <p:spPr>
            <a:xfrm rot="5400000">
              <a:off x="6064920" y="2369160"/>
              <a:ext cx="399960" cy="313920"/>
            </a:xfrm>
            <a:prstGeom prst="flowChartExtra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rot="5400000">
              <a:off x="6064920" y="2912400"/>
              <a:ext cx="399960" cy="313920"/>
            </a:xfrm>
            <a:prstGeom prst="flowChartExtra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rot="5400000">
              <a:off x="6064920" y="3455280"/>
              <a:ext cx="399960" cy="313920"/>
            </a:xfrm>
            <a:prstGeom prst="flowChartExtra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7051320" y="2526120"/>
              <a:ext cx="0" cy="10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422400" y="361296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793560" y="361296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6793560" y="358380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594120" y="358416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422400" y="306936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793560" y="306936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793560" y="304056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594120" y="304092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422400" y="25264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793560" y="252648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6793560" y="249768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594120" y="249804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51320" y="30693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94080" y="3012120"/>
              <a:ext cx="113760" cy="1144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"/>
            <p:cNvGrpSpPr/>
            <p:nvPr/>
          </p:nvGrpSpPr>
          <p:grpSpPr>
            <a:xfrm>
              <a:off x="5856120" y="2114640"/>
              <a:ext cx="759240" cy="1240200"/>
              <a:chOff x="5856120" y="2114640"/>
              <a:chExt cx="759240" cy="1240200"/>
            </a:xfrm>
          </p:grpSpPr>
          <p:sp>
            <p:nvSpPr>
              <p:cNvPr id="1409" name=""/>
              <p:cNvSpPr/>
              <p:nvPr/>
            </p:nvSpPr>
            <p:spPr>
              <a:xfrm>
                <a:off x="5856120" y="2114640"/>
                <a:ext cx="7592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856120" y="2666520"/>
                <a:ext cx="7592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D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856120" y="3209760"/>
                <a:ext cx="759240" cy="1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D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2" name=""/>
          <p:cNvSpPr/>
          <p:nvPr/>
        </p:nvSpPr>
        <p:spPr>
          <a:xfrm>
            <a:off x="6630840" y="3073320"/>
            <a:ext cx="2113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630840" y="3602160"/>
            <a:ext cx="2113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630840" y="2530440"/>
            <a:ext cx="2113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2698920" y="2109960"/>
            <a:ext cx="1539360" cy="1697760"/>
            <a:chOff x="2698920" y="2109960"/>
            <a:chExt cx="1539360" cy="1697760"/>
          </a:xfrm>
        </p:grpSpPr>
        <p:sp>
          <p:nvSpPr>
            <p:cNvPr id="1416" name=""/>
            <p:cNvSpPr/>
            <p:nvPr/>
          </p:nvSpPr>
          <p:spPr>
            <a:xfrm rot="5400000">
              <a:off x="2907720" y="2364480"/>
              <a:ext cx="399960" cy="314280"/>
            </a:xfrm>
            <a:prstGeom prst="flowChartExtra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rot="5400000">
              <a:off x="2907720" y="2907720"/>
              <a:ext cx="399960" cy="314280"/>
            </a:xfrm>
            <a:prstGeom prst="flowChartExtra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rot="5400000">
              <a:off x="2907720" y="3450600"/>
              <a:ext cx="399960" cy="314280"/>
            </a:xfrm>
            <a:prstGeom prst="flowChartExtra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3895200" y="2521440"/>
              <a:ext cx="0" cy="10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265560" y="36082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637440" y="3608280"/>
              <a:ext cx="25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3637440" y="357912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37280" y="3579480"/>
              <a:ext cx="5724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265560" y="30646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637440" y="3064680"/>
              <a:ext cx="25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3637440" y="303588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437280" y="3036240"/>
              <a:ext cx="5724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265560" y="252180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637440" y="2521800"/>
              <a:ext cx="25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>
              <a:off x="3637440" y="249300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437280" y="2493360"/>
              <a:ext cx="5724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895200" y="306468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837960" y="3007440"/>
              <a:ext cx="113760" cy="1144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4" name=""/>
            <p:cNvGrpSpPr/>
            <p:nvPr/>
          </p:nvGrpSpPr>
          <p:grpSpPr>
            <a:xfrm>
              <a:off x="2698920" y="2109960"/>
              <a:ext cx="759600" cy="1240200"/>
              <a:chOff x="2698920" y="2109960"/>
              <a:chExt cx="759600" cy="1240200"/>
            </a:xfrm>
          </p:grpSpPr>
          <p:sp>
            <p:nvSpPr>
              <p:cNvPr id="1435" name=""/>
              <p:cNvSpPr/>
              <p:nvPr/>
            </p:nvSpPr>
            <p:spPr>
              <a:xfrm>
                <a:off x="2698920" y="2109960"/>
                <a:ext cx="75960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698920" y="2661840"/>
                <a:ext cx="75960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698920" y="3205080"/>
                <a:ext cx="759600" cy="1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3492360" y="2521080"/>
            <a:ext cx="2113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4213080" y="2093760"/>
            <a:ext cx="1539720" cy="1696320"/>
            <a:chOff x="4213080" y="2093760"/>
            <a:chExt cx="1539720" cy="1696320"/>
          </a:xfrm>
        </p:grpSpPr>
        <p:grpSp>
          <p:nvGrpSpPr>
            <p:cNvPr id="1440" name=""/>
            <p:cNvGrpSpPr/>
            <p:nvPr/>
          </p:nvGrpSpPr>
          <p:grpSpPr>
            <a:xfrm>
              <a:off x="4213080" y="2093760"/>
              <a:ext cx="1539720" cy="1696320"/>
              <a:chOff x="4213080" y="2093760"/>
              <a:chExt cx="1539720" cy="1696320"/>
            </a:xfrm>
          </p:grpSpPr>
          <p:sp>
            <p:nvSpPr>
              <p:cNvPr id="1441" name=""/>
              <p:cNvSpPr/>
              <p:nvPr/>
            </p:nvSpPr>
            <p:spPr>
              <a:xfrm rot="5400000">
                <a:off x="4422240" y="2347560"/>
                <a:ext cx="399600" cy="314280"/>
              </a:xfrm>
              <a:prstGeom prst="flowChartExtra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rot="5400000">
                <a:off x="4422240" y="2890440"/>
                <a:ext cx="399600" cy="314280"/>
              </a:xfrm>
              <a:prstGeom prst="flowChartExtra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rot="5400000">
                <a:off x="4422240" y="3432960"/>
                <a:ext cx="399600" cy="314280"/>
              </a:xfrm>
              <a:prstGeom prst="flowChartExtra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5409720" y="2505240"/>
                <a:ext cx="0" cy="108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779720" y="3590640"/>
                <a:ext cx="20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151600" y="3590640"/>
                <a:ext cx="25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V="1">
                <a:off x="5151600" y="3561840"/>
                <a:ext cx="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951800" y="3562200"/>
                <a:ext cx="57240" cy="56880"/>
              </a:xfrm>
              <a:prstGeom prst="ellipse">
                <a:avLst/>
              </a:prstGeom>
              <a:solidFill>
                <a:srgbClr val="99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779720" y="3047760"/>
                <a:ext cx="20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51600" y="3047760"/>
                <a:ext cx="25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V="1">
                <a:off x="5151600" y="3018960"/>
                <a:ext cx="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951800" y="3019320"/>
                <a:ext cx="57240" cy="56880"/>
              </a:xfrm>
              <a:prstGeom prst="ellipse">
                <a:avLst/>
              </a:prstGeom>
              <a:solidFill>
                <a:srgbClr val="99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779720" y="2505240"/>
                <a:ext cx="20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151600" y="2505240"/>
                <a:ext cx="25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V="1">
                <a:off x="5151600" y="2476440"/>
                <a:ext cx="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951800" y="2476800"/>
                <a:ext cx="57240" cy="56880"/>
              </a:xfrm>
              <a:prstGeom prst="ellipse">
                <a:avLst/>
              </a:prstGeom>
              <a:solidFill>
                <a:srgbClr val="99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409720" y="3047760"/>
                <a:ext cx="34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2120" y="2990520"/>
                <a:ext cx="113760" cy="114120"/>
              </a:xfrm>
              <a:prstGeom prst="ellipse">
                <a:avLst/>
              </a:prstGeom>
              <a:solidFill>
                <a:srgbClr val="99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9" name=""/>
              <p:cNvGrpSpPr/>
              <p:nvPr/>
            </p:nvGrpSpPr>
            <p:grpSpPr>
              <a:xfrm>
                <a:off x="4213080" y="2093760"/>
                <a:ext cx="759960" cy="1238760"/>
                <a:chOff x="4213080" y="2093760"/>
                <a:chExt cx="759960" cy="123876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4213080" y="2093760"/>
                  <a:ext cx="759960" cy="14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D 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4213080" y="2645280"/>
                  <a:ext cx="759960" cy="14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D 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4213080" y="3187800"/>
                  <a:ext cx="75996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D 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3" name=""/>
            <p:cNvSpPr/>
            <p:nvPr/>
          </p:nvSpPr>
          <p:spPr>
            <a:xfrm>
              <a:off x="4984920" y="3044520"/>
              <a:ext cx="210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994280" y="2501640"/>
              <a:ext cx="2113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5500800" y="5473800"/>
            <a:ext cx="1430280" cy="376200"/>
            <a:chOff x="5500800" y="5473800"/>
            <a:chExt cx="1430280" cy="376200"/>
          </a:xfrm>
        </p:grpSpPr>
        <p:sp>
          <p:nvSpPr>
            <p:cNvPr id="1466" name=""/>
            <p:cNvSpPr/>
            <p:nvPr/>
          </p:nvSpPr>
          <p:spPr>
            <a:xfrm>
              <a:off x="5874120" y="5473800"/>
              <a:ext cx="1056960" cy="376200"/>
            </a:xfrm>
            <a:prstGeom prst="rightArrow">
              <a:avLst>
                <a:gd name="adj1" fmla="val 56120"/>
                <a:gd name="adj2" fmla="val 134573"/>
              </a:avLst>
            </a:prstGeom>
            <a:solidFill>
              <a:srgbClr val="6600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500800" y="5572080"/>
              <a:ext cx="436680" cy="185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"/>
          <p:cNvSpPr/>
          <p:nvPr/>
        </p:nvSpPr>
        <p:spPr>
          <a:xfrm flipV="1">
            <a:off x="2495520" y="1654200"/>
            <a:ext cx="12600" cy="4532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5508720" y="1654200"/>
            <a:ext cx="12600" cy="4532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4032360" y="1654200"/>
            <a:ext cx="12600" cy="4532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130400" y="3363840"/>
            <a:ext cx="479160" cy="471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340160" y="3363840"/>
            <a:ext cx="479520" cy="471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859120" y="2841480"/>
            <a:ext cx="479520" cy="471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2843280" y="3363840"/>
            <a:ext cx="479520" cy="471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192320" y="2284560"/>
            <a:ext cx="479160" cy="4712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174680" y="2828880"/>
            <a:ext cx="479520" cy="471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7313760" y="4268880"/>
            <a:ext cx="723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00800" y="3311640"/>
            <a:ext cx="703440" cy="507960"/>
          </a:xfrm>
          <a:prstGeom prst="irregularSeal2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9" name=""/>
          <p:cNvGrpSpPr/>
          <p:nvPr/>
        </p:nvGrpSpPr>
        <p:grpSpPr>
          <a:xfrm>
            <a:off x="7475400" y="-130320"/>
            <a:ext cx="1454400" cy="1173240"/>
            <a:chOff x="7475400" y="-130320"/>
            <a:chExt cx="1454400" cy="1173240"/>
          </a:xfrm>
        </p:grpSpPr>
        <p:sp>
          <p:nvSpPr>
            <p:cNvPr id="1480" name=""/>
            <p:cNvSpPr/>
            <p:nvPr/>
          </p:nvSpPr>
          <p:spPr>
            <a:xfrm>
              <a:off x="7475400" y="-130320"/>
              <a:ext cx="1454400" cy="84528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Driver schedules bas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7545240" y="536760"/>
              <a:ext cx="1220760" cy="506160"/>
              <a:chOff x="7545240" y="536760"/>
              <a:chExt cx="1220760" cy="506160"/>
            </a:xfrm>
          </p:grpSpPr>
          <p:grpSp>
            <p:nvGrpSpPr>
              <p:cNvPr id="1482" name=""/>
              <p:cNvGrpSpPr/>
              <p:nvPr/>
            </p:nvGrpSpPr>
            <p:grpSpPr>
              <a:xfrm>
                <a:off x="7545240" y="721800"/>
                <a:ext cx="1220760" cy="321120"/>
                <a:chOff x="7545240" y="721800"/>
                <a:chExt cx="1220760" cy="321120"/>
              </a:xfrm>
            </p:grpSpPr>
            <p:grpSp>
              <p:nvGrpSpPr>
                <p:cNvPr id="1483" name=""/>
                <p:cNvGrpSpPr/>
                <p:nvPr/>
              </p:nvGrpSpPr>
              <p:grpSpPr>
                <a:xfrm>
                  <a:off x="7545240" y="963360"/>
                  <a:ext cx="1220760" cy="79560"/>
                  <a:chOff x="7545240" y="963360"/>
                  <a:chExt cx="1220760" cy="79560"/>
                </a:xfrm>
              </p:grpSpPr>
              <p:sp>
                <p:nvSpPr>
                  <p:cNvPr id="1484" name=""/>
                  <p:cNvSpPr/>
                  <p:nvPr/>
                </p:nvSpPr>
                <p:spPr>
                  <a:xfrm>
                    <a:off x="77486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815616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835992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856368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795240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75452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0" name=""/>
                <p:cNvGrpSpPr/>
                <p:nvPr/>
              </p:nvGrpSpPr>
              <p:grpSpPr>
                <a:xfrm>
                  <a:off x="7647480" y="882720"/>
                  <a:ext cx="1017000" cy="79560"/>
                  <a:chOff x="7647480" y="882720"/>
                  <a:chExt cx="1017000" cy="79560"/>
                </a:xfrm>
              </p:grpSpPr>
              <p:sp>
                <p:nvSpPr>
                  <p:cNvPr id="1491" name=""/>
                  <p:cNvSpPr/>
                  <p:nvPr/>
                </p:nvSpPr>
                <p:spPr>
                  <a:xfrm>
                    <a:off x="76474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805464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825840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846216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>
                    <a:off x="78508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6" name=""/>
                <p:cNvGrpSpPr/>
                <p:nvPr/>
              </p:nvGrpSpPr>
              <p:grpSpPr>
                <a:xfrm>
                  <a:off x="7749360" y="721800"/>
                  <a:ext cx="813240" cy="159840"/>
                  <a:chOff x="7749360" y="721800"/>
                  <a:chExt cx="813240" cy="159840"/>
                </a:xfrm>
              </p:grpSpPr>
              <p:sp>
                <p:nvSpPr>
                  <p:cNvPr id="1497" name=""/>
                  <p:cNvSpPr/>
                  <p:nvPr/>
                </p:nvSpPr>
                <p:spPr>
                  <a:xfrm>
                    <a:off x="795312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836028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815688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774936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785160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825912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805536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4" name=""/>
              <p:cNvGrpSpPr/>
              <p:nvPr/>
            </p:nvGrpSpPr>
            <p:grpSpPr>
              <a:xfrm>
                <a:off x="8006040" y="721800"/>
                <a:ext cx="303480" cy="320040"/>
                <a:chOff x="8006040" y="721800"/>
                <a:chExt cx="303480" cy="320040"/>
              </a:xfrm>
            </p:grpSpPr>
            <p:grpSp>
              <p:nvGrpSpPr>
                <p:cNvPr id="1505" name=""/>
                <p:cNvGrpSpPr/>
                <p:nvPr/>
              </p:nvGrpSpPr>
              <p:grpSpPr>
                <a:xfrm>
                  <a:off x="8006040" y="963000"/>
                  <a:ext cx="303480" cy="78840"/>
                  <a:chOff x="8006040" y="963000"/>
                  <a:chExt cx="303480" cy="78840"/>
                </a:xfrm>
              </p:grpSpPr>
              <p:sp>
                <p:nvSpPr>
                  <p:cNvPr id="1506" name=""/>
                  <p:cNvSpPr/>
                  <p:nvPr/>
                </p:nvSpPr>
                <p:spPr>
                  <a:xfrm>
                    <a:off x="8018640" y="988920"/>
                    <a:ext cx="2782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8006040" y="1015200"/>
                    <a:ext cx="303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8031240" y="963000"/>
                    <a:ext cx="2530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9" name=""/>
                <p:cNvGrpSpPr/>
                <p:nvPr/>
              </p:nvGrpSpPr>
              <p:grpSpPr>
                <a:xfrm>
                  <a:off x="8043840" y="882720"/>
                  <a:ext cx="227520" cy="78840"/>
                  <a:chOff x="8043840" y="882720"/>
                  <a:chExt cx="227520" cy="78840"/>
                </a:xfrm>
              </p:grpSpPr>
              <p:sp>
                <p:nvSpPr>
                  <p:cNvPr id="1510" name=""/>
                  <p:cNvSpPr/>
                  <p:nvPr/>
                </p:nvSpPr>
                <p:spPr>
                  <a:xfrm>
                    <a:off x="8053200" y="908640"/>
                    <a:ext cx="2088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8043840" y="934920"/>
                    <a:ext cx="2275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8062560" y="882720"/>
                    <a:ext cx="1897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3" name=""/>
                <p:cNvGrpSpPr/>
                <p:nvPr/>
              </p:nvGrpSpPr>
              <p:grpSpPr>
                <a:xfrm>
                  <a:off x="8069400" y="802080"/>
                  <a:ext cx="177120" cy="78480"/>
                  <a:chOff x="8069400" y="802080"/>
                  <a:chExt cx="177120" cy="78480"/>
                </a:xfrm>
              </p:grpSpPr>
              <p:sp>
                <p:nvSpPr>
                  <p:cNvPr id="1514" name=""/>
                  <p:cNvSpPr/>
                  <p:nvPr/>
                </p:nvSpPr>
                <p:spPr>
                  <a:xfrm>
                    <a:off x="8076600" y="827640"/>
                    <a:ext cx="162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8069400" y="853920"/>
                    <a:ext cx="1771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8083800" y="802080"/>
                    <a:ext cx="1476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7" name=""/>
                <p:cNvGrpSpPr/>
                <p:nvPr/>
              </p:nvGrpSpPr>
              <p:grpSpPr>
                <a:xfrm>
                  <a:off x="8094600" y="721800"/>
                  <a:ext cx="126360" cy="78840"/>
                  <a:chOff x="8094600" y="721800"/>
                  <a:chExt cx="126360" cy="78840"/>
                </a:xfrm>
              </p:grpSpPr>
              <p:sp>
                <p:nvSpPr>
                  <p:cNvPr id="1518" name=""/>
                  <p:cNvSpPr/>
                  <p:nvPr/>
                </p:nvSpPr>
                <p:spPr>
                  <a:xfrm>
                    <a:off x="8099640" y="747720"/>
                    <a:ext cx="1159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8094600" y="774000"/>
                    <a:ext cx="126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8105040" y="721800"/>
                    <a:ext cx="105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1" name=""/>
              <p:cNvSpPr/>
              <p:nvPr/>
            </p:nvSpPr>
            <p:spPr>
              <a:xfrm>
                <a:off x="7902720" y="625320"/>
                <a:ext cx="506160" cy="950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"/>
              <p:cNvGrpSpPr/>
              <p:nvPr/>
            </p:nvGrpSpPr>
            <p:grpSpPr>
              <a:xfrm>
                <a:off x="7972920" y="661680"/>
                <a:ext cx="366480" cy="56880"/>
                <a:chOff x="7972920" y="661680"/>
                <a:chExt cx="366480" cy="56880"/>
              </a:xfrm>
            </p:grpSpPr>
            <p:sp>
              <p:nvSpPr>
                <p:cNvPr id="1523" name=""/>
                <p:cNvSpPr/>
                <p:nvPr/>
              </p:nvSpPr>
              <p:spPr>
                <a:xfrm>
                  <a:off x="79729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805284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28900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2087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81295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8" name=""/>
              <p:cNvSpPr/>
              <p:nvPr/>
            </p:nvSpPr>
            <p:spPr>
              <a:xfrm>
                <a:off x="7887960" y="617040"/>
                <a:ext cx="53604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7898760" y="55296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914240" y="536760"/>
                <a:ext cx="48096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time schedule    t = 2.5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797040" y="627120"/>
            <a:ext cx="724032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river stage D3  is switche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749160" y="1909800"/>
            <a:ext cx="6840360" cy="2709720"/>
            <a:chOff x="749160" y="1909800"/>
            <a:chExt cx="6840360" cy="2709720"/>
          </a:xfrm>
        </p:grpSpPr>
        <p:grpSp>
          <p:nvGrpSpPr>
            <p:cNvPr id="1534" name=""/>
            <p:cNvGrpSpPr/>
            <p:nvPr/>
          </p:nvGrpSpPr>
          <p:grpSpPr>
            <a:xfrm>
              <a:off x="1096920" y="4057560"/>
              <a:ext cx="6416280" cy="174600"/>
              <a:chOff x="1096920" y="4057560"/>
              <a:chExt cx="6416280" cy="174600"/>
            </a:xfrm>
          </p:grpSpPr>
          <p:sp>
            <p:nvSpPr>
              <p:cNvPr id="1535" name=""/>
              <p:cNvSpPr/>
              <p:nvPr/>
            </p:nvSpPr>
            <p:spPr>
              <a:xfrm>
                <a:off x="1096920" y="4181760"/>
                <a:ext cx="641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50056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11456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03884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0620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925320" y="405756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1" name=""/>
            <p:cNvSpPr/>
            <p:nvPr/>
          </p:nvSpPr>
          <p:spPr>
            <a:xfrm flipH="1" flipV="1">
              <a:off x="1118880" y="1909800"/>
              <a:ext cx="5040" cy="23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4916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96668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71304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013000" y="4295880"/>
              <a:ext cx="1014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575400" y="4295880"/>
              <a:ext cx="10141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1058760" y="2095560"/>
            <a:ext cx="1537920" cy="1697760"/>
            <a:chOff x="1058760" y="2095560"/>
            <a:chExt cx="1537920" cy="1697760"/>
          </a:xfrm>
        </p:grpSpPr>
        <p:sp>
          <p:nvSpPr>
            <p:cNvPr id="1548" name=""/>
            <p:cNvSpPr/>
            <p:nvPr/>
          </p:nvSpPr>
          <p:spPr>
            <a:xfrm rot="5400000">
              <a:off x="1267560" y="2350080"/>
              <a:ext cx="399960" cy="313920"/>
            </a:xfrm>
            <a:prstGeom prst="flowChartExtra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5400000">
              <a:off x="1267560" y="2893320"/>
              <a:ext cx="399960" cy="313920"/>
            </a:xfrm>
            <a:prstGeom prst="flowChartExtra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5400000">
              <a:off x="1267560" y="3436200"/>
              <a:ext cx="399960" cy="313920"/>
            </a:xfrm>
            <a:prstGeom prst="flowChartExtra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2253960" y="2507040"/>
              <a:ext cx="0" cy="10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625040" y="35938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996200" y="359388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1996200" y="356472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796760" y="356508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625040" y="30502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996200" y="305028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V="1">
              <a:off x="1996200" y="302148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796760" y="302184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625040" y="250740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996200" y="250740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1996200" y="247860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796760" y="247896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253960" y="305028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196720" y="2993040"/>
              <a:ext cx="113760" cy="1144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1058760" y="2095560"/>
              <a:ext cx="759240" cy="1240200"/>
              <a:chOff x="1058760" y="2095560"/>
              <a:chExt cx="759240" cy="1240200"/>
            </a:xfrm>
          </p:grpSpPr>
          <p:sp>
            <p:nvSpPr>
              <p:cNvPr id="1567" name=""/>
              <p:cNvSpPr/>
              <p:nvPr/>
            </p:nvSpPr>
            <p:spPr>
              <a:xfrm>
                <a:off x="1058760" y="2095560"/>
                <a:ext cx="7592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058760" y="2647440"/>
                <a:ext cx="7592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058760" y="3190680"/>
                <a:ext cx="759240" cy="1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0" name=""/>
          <p:cNvGrpSpPr/>
          <p:nvPr/>
        </p:nvGrpSpPr>
        <p:grpSpPr>
          <a:xfrm>
            <a:off x="1109520" y="4645080"/>
            <a:ext cx="5821200" cy="376200"/>
            <a:chOff x="1109520" y="4645080"/>
            <a:chExt cx="5821200" cy="376200"/>
          </a:xfrm>
        </p:grpSpPr>
        <p:sp>
          <p:nvSpPr>
            <p:cNvPr id="1571" name=""/>
            <p:cNvSpPr/>
            <p:nvPr/>
          </p:nvSpPr>
          <p:spPr>
            <a:xfrm>
              <a:off x="5550480" y="4645080"/>
              <a:ext cx="1380240" cy="376200"/>
            </a:xfrm>
            <a:prstGeom prst="rightArrow">
              <a:avLst>
                <a:gd name="adj1" fmla="val 56120"/>
                <a:gd name="adj2" fmla="val 175733"/>
              </a:avLst>
            </a:prstGeom>
            <a:solidFill>
              <a:srgbClr val="ff99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109520" y="4740120"/>
              <a:ext cx="4476240" cy="185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125360" y="5043600"/>
            <a:ext cx="5805720" cy="376200"/>
            <a:chOff x="1125360" y="5043600"/>
            <a:chExt cx="5805720" cy="376200"/>
          </a:xfrm>
        </p:grpSpPr>
        <p:sp>
          <p:nvSpPr>
            <p:cNvPr id="1574" name=""/>
            <p:cNvSpPr/>
            <p:nvPr/>
          </p:nvSpPr>
          <p:spPr>
            <a:xfrm>
              <a:off x="5873760" y="5043600"/>
              <a:ext cx="1057320" cy="376200"/>
            </a:xfrm>
            <a:prstGeom prst="rightArrow">
              <a:avLst>
                <a:gd name="adj1" fmla="val 56120"/>
                <a:gd name="adj2" fmla="val 134619"/>
              </a:avLst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125360" y="5133960"/>
              <a:ext cx="480240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735120" y="4640040"/>
            <a:ext cx="6852600" cy="1640160"/>
            <a:chOff x="735120" y="4640040"/>
            <a:chExt cx="6852600" cy="1640160"/>
          </a:xfrm>
        </p:grpSpPr>
        <p:grpSp>
          <p:nvGrpSpPr>
            <p:cNvPr id="1577" name=""/>
            <p:cNvGrpSpPr/>
            <p:nvPr/>
          </p:nvGrpSpPr>
          <p:grpSpPr>
            <a:xfrm>
              <a:off x="1082880" y="5942160"/>
              <a:ext cx="6427440" cy="104760"/>
              <a:chOff x="1082880" y="5942160"/>
              <a:chExt cx="6427440" cy="104760"/>
            </a:xfrm>
          </p:grpSpPr>
          <p:sp>
            <p:nvSpPr>
              <p:cNvPr id="1578" name=""/>
              <p:cNvSpPr/>
              <p:nvPr/>
            </p:nvSpPr>
            <p:spPr>
              <a:xfrm>
                <a:off x="1082880" y="6016680"/>
                <a:ext cx="642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48904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10052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02984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49972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942160"/>
                <a:ext cx="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4" name=""/>
            <p:cNvSpPr/>
            <p:nvPr/>
          </p:nvSpPr>
          <p:spPr>
            <a:xfrm flipV="1">
              <a:off x="1110240" y="464004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35120" y="6084720"/>
              <a:ext cx="1015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954440" y="6084720"/>
              <a:ext cx="10173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704040" y="6084720"/>
              <a:ext cx="1015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007240" y="6084720"/>
              <a:ext cx="101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572160" y="6084720"/>
              <a:ext cx="1015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458640" y="4680000"/>
            <a:ext cx="512640" cy="1085400"/>
            <a:chOff x="458640" y="4680000"/>
            <a:chExt cx="512640" cy="1085400"/>
          </a:xfrm>
        </p:grpSpPr>
        <p:sp>
          <p:nvSpPr>
            <p:cNvPr id="1591" name=""/>
            <p:cNvSpPr/>
            <p:nvPr/>
          </p:nvSpPr>
          <p:spPr>
            <a:xfrm>
              <a:off x="458640" y="4680000"/>
              <a:ext cx="51264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58640" y="5163120"/>
              <a:ext cx="51264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58640" y="5638320"/>
              <a:ext cx="5126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5856120" y="2114640"/>
            <a:ext cx="1537920" cy="1697760"/>
            <a:chOff x="5856120" y="2114640"/>
            <a:chExt cx="1537920" cy="1697760"/>
          </a:xfrm>
        </p:grpSpPr>
        <p:sp>
          <p:nvSpPr>
            <p:cNvPr id="1595" name=""/>
            <p:cNvSpPr/>
            <p:nvPr/>
          </p:nvSpPr>
          <p:spPr>
            <a:xfrm rot="5400000">
              <a:off x="6064920" y="2369160"/>
              <a:ext cx="399960" cy="313920"/>
            </a:xfrm>
            <a:prstGeom prst="flowChartExtra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 rot="5400000">
              <a:off x="6064920" y="2912400"/>
              <a:ext cx="399960" cy="313920"/>
            </a:xfrm>
            <a:prstGeom prst="flowChartExtra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rot="5400000">
              <a:off x="6064920" y="3455280"/>
              <a:ext cx="399960" cy="313920"/>
            </a:xfrm>
            <a:prstGeom prst="flowChartExtra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7051320" y="2526120"/>
              <a:ext cx="0" cy="10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422400" y="361296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793560" y="361296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6793560" y="358380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594120" y="358416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422400" y="306936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793560" y="306936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V="1">
              <a:off x="6793560" y="304056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94120" y="304092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422400" y="25264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793560" y="252648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6793560" y="249768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594120" y="2498040"/>
              <a:ext cx="5688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051320" y="30693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994080" y="3012120"/>
              <a:ext cx="113760" cy="1144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3" name=""/>
            <p:cNvGrpSpPr/>
            <p:nvPr/>
          </p:nvGrpSpPr>
          <p:grpSpPr>
            <a:xfrm>
              <a:off x="5856120" y="2114640"/>
              <a:ext cx="759240" cy="1240200"/>
              <a:chOff x="5856120" y="2114640"/>
              <a:chExt cx="759240" cy="1240200"/>
            </a:xfrm>
          </p:grpSpPr>
          <p:sp>
            <p:nvSpPr>
              <p:cNvPr id="1614" name=""/>
              <p:cNvSpPr/>
              <p:nvPr/>
            </p:nvSpPr>
            <p:spPr>
              <a:xfrm>
                <a:off x="5856120" y="2114640"/>
                <a:ext cx="7592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856120" y="2666520"/>
                <a:ext cx="7592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D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856120" y="3209760"/>
                <a:ext cx="759240" cy="1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D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7" name=""/>
          <p:cNvSpPr/>
          <p:nvPr/>
        </p:nvSpPr>
        <p:spPr>
          <a:xfrm>
            <a:off x="6630840" y="3073320"/>
            <a:ext cx="2113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V="1">
            <a:off x="6665760" y="3424320"/>
            <a:ext cx="0" cy="2109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6630840" y="2530440"/>
            <a:ext cx="2113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2698920" y="2109960"/>
            <a:ext cx="1539360" cy="1697760"/>
            <a:chOff x="2698920" y="2109960"/>
            <a:chExt cx="1539360" cy="1697760"/>
          </a:xfrm>
        </p:grpSpPr>
        <p:sp>
          <p:nvSpPr>
            <p:cNvPr id="1621" name=""/>
            <p:cNvSpPr/>
            <p:nvPr/>
          </p:nvSpPr>
          <p:spPr>
            <a:xfrm rot="5400000">
              <a:off x="2907720" y="2364480"/>
              <a:ext cx="399960" cy="314280"/>
            </a:xfrm>
            <a:prstGeom prst="flowChartExtra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rot="5400000">
              <a:off x="2907720" y="2907720"/>
              <a:ext cx="399960" cy="314280"/>
            </a:xfrm>
            <a:prstGeom prst="flowChartExtra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 rot="5400000">
              <a:off x="2907720" y="3450600"/>
              <a:ext cx="399960" cy="314280"/>
            </a:xfrm>
            <a:prstGeom prst="flowChartExtra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3895200" y="2521440"/>
              <a:ext cx="0" cy="10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265560" y="36082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637440" y="3608280"/>
              <a:ext cx="25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3637440" y="357912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437280" y="3579480"/>
              <a:ext cx="5724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265560" y="306468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637440" y="3064680"/>
              <a:ext cx="25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>
              <a:off x="3637440" y="303588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437280" y="3036240"/>
              <a:ext cx="5724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265560" y="252180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37440" y="2521800"/>
              <a:ext cx="25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3637440" y="249300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437280" y="2493360"/>
              <a:ext cx="57240" cy="57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895200" y="306468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837960" y="3007440"/>
              <a:ext cx="113760" cy="1144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9" name=""/>
            <p:cNvGrpSpPr/>
            <p:nvPr/>
          </p:nvGrpSpPr>
          <p:grpSpPr>
            <a:xfrm>
              <a:off x="2698920" y="2109960"/>
              <a:ext cx="759600" cy="1240200"/>
              <a:chOff x="2698920" y="2109960"/>
              <a:chExt cx="759600" cy="1240200"/>
            </a:xfrm>
          </p:grpSpPr>
          <p:sp>
            <p:nvSpPr>
              <p:cNvPr id="1640" name=""/>
              <p:cNvSpPr/>
              <p:nvPr/>
            </p:nvSpPr>
            <p:spPr>
              <a:xfrm>
                <a:off x="2698920" y="2109960"/>
                <a:ext cx="75960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698920" y="2661840"/>
                <a:ext cx="75960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698920" y="3205080"/>
                <a:ext cx="759600" cy="1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D 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3" name=""/>
          <p:cNvSpPr/>
          <p:nvPr/>
        </p:nvSpPr>
        <p:spPr>
          <a:xfrm>
            <a:off x="3492360" y="2521080"/>
            <a:ext cx="2113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4" name=""/>
          <p:cNvGrpSpPr/>
          <p:nvPr/>
        </p:nvGrpSpPr>
        <p:grpSpPr>
          <a:xfrm>
            <a:off x="4213080" y="2093760"/>
            <a:ext cx="1539720" cy="1696320"/>
            <a:chOff x="4213080" y="2093760"/>
            <a:chExt cx="1539720" cy="1696320"/>
          </a:xfrm>
        </p:grpSpPr>
        <p:grpSp>
          <p:nvGrpSpPr>
            <p:cNvPr id="1645" name=""/>
            <p:cNvGrpSpPr/>
            <p:nvPr/>
          </p:nvGrpSpPr>
          <p:grpSpPr>
            <a:xfrm>
              <a:off x="4213080" y="2093760"/>
              <a:ext cx="1539720" cy="1696320"/>
              <a:chOff x="4213080" y="2093760"/>
              <a:chExt cx="1539720" cy="1696320"/>
            </a:xfrm>
          </p:grpSpPr>
          <p:sp>
            <p:nvSpPr>
              <p:cNvPr id="1646" name=""/>
              <p:cNvSpPr/>
              <p:nvPr/>
            </p:nvSpPr>
            <p:spPr>
              <a:xfrm rot="5400000">
                <a:off x="4422240" y="2347560"/>
                <a:ext cx="399600" cy="314280"/>
              </a:xfrm>
              <a:prstGeom prst="flowChartExtra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rot="5400000">
                <a:off x="4422240" y="2890440"/>
                <a:ext cx="399600" cy="314280"/>
              </a:xfrm>
              <a:prstGeom prst="flowChartExtra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rot="5400000">
                <a:off x="4422240" y="3432960"/>
                <a:ext cx="399600" cy="314280"/>
              </a:xfrm>
              <a:prstGeom prst="flowChartExtra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V="1">
                <a:off x="5409720" y="2505240"/>
                <a:ext cx="0" cy="108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779720" y="3590640"/>
                <a:ext cx="20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151600" y="3590640"/>
                <a:ext cx="25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V="1">
                <a:off x="5151600" y="3561840"/>
                <a:ext cx="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951800" y="3562200"/>
                <a:ext cx="57240" cy="56880"/>
              </a:xfrm>
              <a:prstGeom prst="ellipse">
                <a:avLst/>
              </a:prstGeom>
              <a:solidFill>
                <a:srgbClr val="99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779720" y="3047760"/>
                <a:ext cx="20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151600" y="3047760"/>
                <a:ext cx="25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5151600" y="3018960"/>
                <a:ext cx="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951800" y="3019320"/>
                <a:ext cx="57240" cy="56880"/>
              </a:xfrm>
              <a:prstGeom prst="ellipse">
                <a:avLst/>
              </a:prstGeom>
              <a:solidFill>
                <a:srgbClr val="99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779720" y="2505240"/>
                <a:ext cx="20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151600" y="2505240"/>
                <a:ext cx="25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5151600" y="2476440"/>
                <a:ext cx="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951800" y="2476800"/>
                <a:ext cx="57240" cy="56880"/>
              </a:xfrm>
              <a:prstGeom prst="ellipse">
                <a:avLst/>
              </a:prstGeom>
              <a:solidFill>
                <a:srgbClr val="99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409720" y="3047760"/>
                <a:ext cx="34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352120" y="2990520"/>
                <a:ext cx="113760" cy="114120"/>
              </a:xfrm>
              <a:prstGeom prst="ellipse">
                <a:avLst/>
              </a:prstGeom>
              <a:solidFill>
                <a:srgbClr val="99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4" name=""/>
              <p:cNvGrpSpPr/>
              <p:nvPr/>
            </p:nvGrpSpPr>
            <p:grpSpPr>
              <a:xfrm>
                <a:off x="4213080" y="2093760"/>
                <a:ext cx="759960" cy="1238760"/>
                <a:chOff x="4213080" y="2093760"/>
                <a:chExt cx="759960" cy="1238760"/>
              </a:xfrm>
            </p:grpSpPr>
            <p:sp>
              <p:nvSpPr>
                <p:cNvPr id="1665" name=""/>
                <p:cNvSpPr/>
                <p:nvPr/>
              </p:nvSpPr>
              <p:spPr>
                <a:xfrm>
                  <a:off x="4213080" y="2093760"/>
                  <a:ext cx="759960" cy="14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D 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4213080" y="2645280"/>
                  <a:ext cx="759960" cy="14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D 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4213080" y="3187800"/>
                  <a:ext cx="75996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D 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8" name=""/>
            <p:cNvSpPr/>
            <p:nvPr/>
          </p:nvSpPr>
          <p:spPr>
            <a:xfrm>
              <a:off x="4984920" y="3044520"/>
              <a:ext cx="210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994280" y="2501640"/>
              <a:ext cx="2113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2460600" y="5514840"/>
            <a:ext cx="3062160" cy="376200"/>
            <a:chOff x="2460600" y="5514840"/>
            <a:chExt cx="3062160" cy="376200"/>
          </a:xfrm>
        </p:grpSpPr>
        <p:sp>
          <p:nvSpPr>
            <p:cNvPr id="1671" name=""/>
            <p:cNvSpPr/>
            <p:nvPr/>
          </p:nvSpPr>
          <p:spPr>
            <a:xfrm>
              <a:off x="4395960" y="5514840"/>
              <a:ext cx="1126800" cy="376200"/>
            </a:xfrm>
            <a:prstGeom prst="rightArrow">
              <a:avLst>
                <a:gd name="adj1" fmla="val 56120"/>
                <a:gd name="adj2" fmla="val 143465"/>
              </a:avLst>
            </a:prstGeom>
            <a:solidFill>
              <a:srgbClr val="6600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460600" y="5605560"/>
              <a:ext cx="1998720" cy="1936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"/>
          <p:cNvSpPr/>
          <p:nvPr/>
        </p:nvSpPr>
        <p:spPr>
          <a:xfrm flipV="1">
            <a:off x="2495520" y="1654200"/>
            <a:ext cx="12600" cy="4532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5508720" y="1654200"/>
            <a:ext cx="12600" cy="4532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4032360" y="1654200"/>
            <a:ext cx="12600" cy="4532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130400" y="3363840"/>
            <a:ext cx="479160" cy="4716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5958000" y="3349800"/>
            <a:ext cx="479160" cy="4712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313760" y="4268880"/>
            <a:ext cx="723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6400800" y="3311640"/>
            <a:ext cx="703440" cy="507960"/>
          </a:xfrm>
          <a:prstGeom prst="irregularSeal2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3462480" y="3602160"/>
            <a:ext cx="21096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473280" y="3078000"/>
            <a:ext cx="2113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976640" y="3583080"/>
            <a:ext cx="2113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3" name=""/>
          <p:cNvGrpSpPr/>
          <p:nvPr/>
        </p:nvGrpSpPr>
        <p:grpSpPr>
          <a:xfrm>
            <a:off x="7689960" y="-130320"/>
            <a:ext cx="1454040" cy="1173240"/>
            <a:chOff x="7689960" y="-130320"/>
            <a:chExt cx="1454040" cy="1173240"/>
          </a:xfrm>
        </p:grpSpPr>
        <p:sp>
          <p:nvSpPr>
            <p:cNvPr id="1684" name=""/>
            <p:cNvSpPr/>
            <p:nvPr/>
          </p:nvSpPr>
          <p:spPr>
            <a:xfrm>
              <a:off x="7689960" y="-130320"/>
              <a:ext cx="1454040" cy="84528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Driver schedules bas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"/>
            <p:cNvGrpSpPr/>
            <p:nvPr/>
          </p:nvGrpSpPr>
          <p:grpSpPr>
            <a:xfrm>
              <a:off x="7759440" y="536760"/>
              <a:ext cx="1220400" cy="506160"/>
              <a:chOff x="7759440" y="536760"/>
              <a:chExt cx="1220400" cy="506160"/>
            </a:xfrm>
          </p:grpSpPr>
          <p:grpSp>
            <p:nvGrpSpPr>
              <p:cNvPr id="1686" name=""/>
              <p:cNvGrpSpPr/>
              <p:nvPr/>
            </p:nvGrpSpPr>
            <p:grpSpPr>
              <a:xfrm>
                <a:off x="7759440" y="721800"/>
                <a:ext cx="1220400" cy="321120"/>
                <a:chOff x="7759440" y="721800"/>
                <a:chExt cx="1220400" cy="321120"/>
              </a:xfrm>
            </p:grpSpPr>
            <p:grpSp>
              <p:nvGrpSpPr>
                <p:cNvPr id="1687" name=""/>
                <p:cNvGrpSpPr/>
                <p:nvPr/>
              </p:nvGrpSpPr>
              <p:grpSpPr>
                <a:xfrm>
                  <a:off x="7759440" y="963360"/>
                  <a:ext cx="1220400" cy="79560"/>
                  <a:chOff x="7759440" y="963360"/>
                  <a:chExt cx="1220400" cy="79560"/>
                </a:xfrm>
              </p:grpSpPr>
              <p:sp>
                <p:nvSpPr>
                  <p:cNvPr id="1688" name=""/>
                  <p:cNvSpPr/>
                  <p:nvPr/>
                </p:nvSpPr>
                <p:spPr>
                  <a:xfrm>
                    <a:off x="79628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837000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857376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877752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816660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77594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4" name=""/>
                <p:cNvGrpSpPr/>
                <p:nvPr/>
              </p:nvGrpSpPr>
              <p:grpSpPr>
                <a:xfrm>
                  <a:off x="7861680" y="882720"/>
                  <a:ext cx="1017000" cy="79560"/>
                  <a:chOff x="7861680" y="882720"/>
                  <a:chExt cx="1017000" cy="79560"/>
                </a:xfrm>
              </p:grpSpPr>
              <p:sp>
                <p:nvSpPr>
                  <p:cNvPr id="1695" name=""/>
                  <p:cNvSpPr/>
                  <p:nvPr/>
                </p:nvSpPr>
                <p:spPr>
                  <a:xfrm>
                    <a:off x="78616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826884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847260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867636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80650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0" name=""/>
                <p:cNvGrpSpPr/>
                <p:nvPr/>
              </p:nvGrpSpPr>
              <p:grpSpPr>
                <a:xfrm>
                  <a:off x="7963200" y="721800"/>
                  <a:ext cx="813240" cy="159840"/>
                  <a:chOff x="7963200" y="721800"/>
                  <a:chExt cx="813240" cy="159840"/>
                </a:xfrm>
              </p:grpSpPr>
              <p:sp>
                <p:nvSpPr>
                  <p:cNvPr id="1701" name=""/>
                  <p:cNvSpPr/>
                  <p:nvPr/>
                </p:nvSpPr>
                <p:spPr>
                  <a:xfrm>
                    <a:off x="816660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857412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837036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796320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806544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847260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826884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8" name=""/>
              <p:cNvGrpSpPr/>
              <p:nvPr/>
            </p:nvGrpSpPr>
            <p:grpSpPr>
              <a:xfrm>
                <a:off x="8220240" y="721800"/>
                <a:ext cx="303480" cy="320040"/>
                <a:chOff x="8220240" y="721800"/>
                <a:chExt cx="303480" cy="320040"/>
              </a:xfrm>
            </p:grpSpPr>
            <p:grpSp>
              <p:nvGrpSpPr>
                <p:cNvPr id="1709" name=""/>
                <p:cNvGrpSpPr/>
                <p:nvPr/>
              </p:nvGrpSpPr>
              <p:grpSpPr>
                <a:xfrm>
                  <a:off x="8220240" y="963000"/>
                  <a:ext cx="303480" cy="78840"/>
                  <a:chOff x="8220240" y="963000"/>
                  <a:chExt cx="303480" cy="78840"/>
                </a:xfrm>
              </p:grpSpPr>
              <p:sp>
                <p:nvSpPr>
                  <p:cNvPr id="1710" name=""/>
                  <p:cNvSpPr/>
                  <p:nvPr/>
                </p:nvSpPr>
                <p:spPr>
                  <a:xfrm>
                    <a:off x="8232840" y="988920"/>
                    <a:ext cx="2782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8220240" y="1015200"/>
                    <a:ext cx="303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8245440" y="963000"/>
                    <a:ext cx="2530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3" name=""/>
                <p:cNvGrpSpPr/>
                <p:nvPr/>
              </p:nvGrpSpPr>
              <p:grpSpPr>
                <a:xfrm>
                  <a:off x="8258040" y="882720"/>
                  <a:ext cx="227520" cy="78840"/>
                  <a:chOff x="8258040" y="882720"/>
                  <a:chExt cx="227520" cy="78840"/>
                </a:xfrm>
              </p:grpSpPr>
              <p:sp>
                <p:nvSpPr>
                  <p:cNvPr id="1714" name=""/>
                  <p:cNvSpPr/>
                  <p:nvPr/>
                </p:nvSpPr>
                <p:spPr>
                  <a:xfrm>
                    <a:off x="8267400" y="908640"/>
                    <a:ext cx="2088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8258040" y="934920"/>
                    <a:ext cx="2275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8276760" y="882720"/>
                    <a:ext cx="1897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7" name=""/>
                <p:cNvGrpSpPr/>
                <p:nvPr/>
              </p:nvGrpSpPr>
              <p:grpSpPr>
                <a:xfrm>
                  <a:off x="8283600" y="802080"/>
                  <a:ext cx="177120" cy="78480"/>
                  <a:chOff x="8283600" y="802080"/>
                  <a:chExt cx="177120" cy="78480"/>
                </a:xfrm>
              </p:grpSpPr>
              <p:sp>
                <p:nvSpPr>
                  <p:cNvPr id="1718" name=""/>
                  <p:cNvSpPr/>
                  <p:nvPr/>
                </p:nvSpPr>
                <p:spPr>
                  <a:xfrm>
                    <a:off x="8290800" y="827640"/>
                    <a:ext cx="162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8283600" y="853920"/>
                    <a:ext cx="1771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8298000" y="802080"/>
                    <a:ext cx="1476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1" name=""/>
                <p:cNvGrpSpPr/>
                <p:nvPr/>
              </p:nvGrpSpPr>
              <p:grpSpPr>
                <a:xfrm>
                  <a:off x="8308800" y="721800"/>
                  <a:ext cx="126360" cy="78840"/>
                  <a:chOff x="8308800" y="721800"/>
                  <a:chExt cx="126360" cy="78840"/>
                </a:xfrm>
              </p:grpSpPr>
              <p:sp>
                <p:nvSpPr>
                  <p:cNvPr id="1722" name=""/>
                  <p:cNvSpPr/>
                  <p:nvPr/>
                </p:nvSpPr>
                <p:spPr>
                  <a:xfrm>
                    <a:off x="8313840" y="747720"/>
                    <a:ext cx="1159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8308800" y="774000"/>
                    <a:ext cx="126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8319240" y="721800"/>
                    <a:ext cx="105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25" name=""/>
              <p:cNvSpPr/>
              <p:nvPr/>
            </p:nvSpPr>
            <p:spPr>
              <a:xfrm>
                <a:off x="8116920" y="625320"/>
                <a:ext cx="506160" cy="950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6" name=""/>
              <p:cNvGrpSpPr/>
              <p:nvPr/>
            </p:nvGrpSpPr>
            <p:grpSpPr>
              <a:xfrm>
                <a:off x="8186760" y="661680"/>
                <a:ext cx="366480" cy="56880"/>
                <a:chOff x="8186760" y="661680"/>
                <a:chExt cx="366480" cy="56880"/>
              </a:xfrm>
            </p:grpSpPr>
            <p:sp>
              <p:nvSpPr>
                <p:cNvPr id="1727" name=""/>
                <p:cNvSpPr/>
                <p:nvPr/>
              </p:nvSpPr>
              <p:spPr>
                <a:xfrm>
                  <a:off x="818676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826668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850284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842256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834336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2" name=""/>
              <p:cNvSpPr/>
              <p:nvPr/>
            </p:nvSpPr>
            <p:spPr>
              <a:xfrm>
                <a:off x="8102160" y="617040"/>
                <a:ext cx="53568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8112960" y="55296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8128440" y="536760"/>
                <a:ext cx="48096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5" name=""/>
          <p:cNvSpPr/>
          <p:nvPr/>
        </p:nvSpPr>
        <p:spPr>
          <a:xfrm>
            <a:off x="1817640" y="2489040"/>
            <a:ext cx="2113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55800" y="3065400"/>
            <a:ext cx="21096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2065320" y="2064960"/>
            <a:ext cx="485784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024"/>
                </a:solidFill>
                <a:latin typeface="Arial"/>
              </a:rPr>
              <a:t>Driver schedules </a:t>
            </a:r>
            <a:br>
              <a:rPr sz="2800"/>
            </a:br>
            <a:r>
              <a:rPr b="1" lang="en-GB" sz="2800" spc="-1" strike="noStrike">
                <a:solidFill>
                  <a:srgbClr val="001024"/>
                </a:solidFill>
                <a:latin typeface="Arial"/>
              </a:rPr>
              <a:t>with push-pull ( CMOS ) Model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39" name="" descr=""/>
          <p:cNvPicPr/>
          <p:nvPr/>
        </p:nvPicPr>
        <p:blipFill>
          <a:blip r:embed="rId2"/>
          <a:stretch/>
        </p:blipFill>
        <p:spPr>
          <a:xfrm>
            <a:off x="7837560" y="6243480"/>
            <a:ext cx="1055520" cy="444600"/>
          </a:xfrm>
          <a:prstGeom prst="rect">
            <a:avLst/>
          </a:prstGeom>
          <a:ln w="0">
            <a:noFill/>
          </a:ln>
        </p:spPr>
      </p:pic>
      <p:grpSp>
        <p:nvGrpSpPr>
          <p:cNvPr id="1740" name=""/>
          <p:cNvGrpSpPr/>
          <p:nvPr/>
        </p:nvGrpSpPr>
        <p:grpSpPr>
          <a:xfrm>
            <a:off x="0" y="5565960"/>
            <a:ext cx="1698480" cy="985320"/>
            <a:chOff x="0" y="5565960"/>
            <a:chExt cx="1698480" cy="985320"/>
          </a:xfrm>
        </p:grpSpPr>
        <p:sp>
          <p:nvSpPr>
            <p:cNvPr id="1741" name=""/>
            <p:cNvSpPr/>
            <p:nvPr/>
          </p:nvSpPr>
          <p:spPr>
            <a:xfrm>
              <a:off x="0" y="5565960"/>
              <a:ext cx="1698480" cy="43992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Push-pu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2" name=""/>
            <p:cNvGrpSpPr/>
            <p:nvPr/>
          </p:nvGrpSpPr>
          <p:grpSpPr>
            <a:xfrm>
              <a:off x="241200" y="6045120"/>
              <a:ext cx="1220760" cy="506160"/>
              <a:chOff x="241200" y="6045120"/>
              <a:chExt cx="1220760" cy="506160"/>
            </a:xfrm>
          </p:grpSpPr>
          <p:grpSp>
            <p:nvGrpSpPr>
              <p:cNvPr id="1743" name=""/>
              <p:cNvGrpSpPr/>
              <p:nvPr/>
            </p:nvGrpSpPr>
            <p:grpSpPr>
              <a:xfrm>
                <a:off x="241200" y="6230160"/>
                <a:ext cx="1220760" cy="321120"/>
                <a:chOff x="241200" y="6230160"/>
                <a:chExt cx="1220760" cy="321120"/>
              </a:xfrm>
            </p:grpSpPr>
            <p:grpSp>
              <p:nvGrpSpPr>
                <p:cNvPr id="1744" name=""/>
                <p:cNvGrpSpPr/>
                <p:nvPr/>
              </p:nvGrpSpPr>
              <p:grpSpPr>
                <a:xfrm>
                  <a:off x="241200" y="6471720"/>
                  <a:ext cx="1220760" cy="79560"/>
                  <a:chOff x="241200" y="6471720"/>
                  <a:chExt cx="1220760" cy="79560"/>
                </a:xfrm>
              </p:grpSpPr>
              <p:sp>
                <p:nvSpPr>
                  <p:cNvPr id="1745" name=""/>
                  <p:cNvSpPr/>
                  <p:nvPr/>
                </p:nvSpPr>
                <p:spPr>
                  <a:xfrm>
                    <a:off x="444600" y="6471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852120" y="6471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1055880" y="6471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1259640" y="6471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648360" y="6471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241200" y="6471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343440" y="6391080"/>
                  <a:ext cx="1017000" cy="79560"/>
                  <a:chOff x="343440" y="6391080"/>
                  <a:chExt cx="1017000" cy="7956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343440" y="6391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750600" y="6391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954360" y="6391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1158120" y="6391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546840" y="6391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7" name=""/>
                <p:cNvGrpSpPr/>
                <p:nvPr/>
              </p:nvGrpSpPr>
              <p:grpSpPr>
                <a:xfrm>
                  <a:off x="445320" y="6230160"/>
                  <a:ext cx="813240" cy="159840"/>
                  <a:chOff x="445320" y="6230160"/>
                  <a:chExt cx="813240" cy="159840"/>
                </a:xfrm>
              </p:grpSpPr>
              <p:sp>
                <p:nvSpPr>
                  <p:cNvPr id="1758" name=""/>
                  <p:cNvSpPr/>
                  <p:nvPr/>
                </p:nvSpPr>
                <p:spPr>
                  <a:xfrm>
                    <a:off x="649080" y="63104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1056240" y="63104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852840" y="63104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>
                    <a:off x="445320" y="63104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547560" y="62301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955080" y="62301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751320" y="62301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5" name=""/>
              <p:cNvGrpSpPr/>
              <p:nvPr/>
            </p:nvGrpSpPr>
            <p:grpSpPr>
              <a:xfrm>
                <a:off x="702000" y="6230160"/>
                <a:ext cx="303480" cy="320400"/>
                <a:chOff x="702000" y="6230160"/>
                <a:chExt cx="303480" cy="320400"/>
              </a:xfrm>
            </p:grpSpPr>
            <p:grpSp>
              <p:nvGrpSpPr>
                <p:cNvPr id="1766" name=""/>
                <p:cNvGrpSpPr/>
                <p:nvPr/>
              </p:nvGrpSpPr>
              <p:grpSpPr>
                <a:xfrm>
                  <a:off x="702000" y="6471720"/>
                  <a:ext cx="303480" cy="78840"/>
                  <a:chOff x="702000" y="6471720"/>
                  <a:chExt cx="303480" cy="78840"/>
                </a:xfrm>
              </p:grpSpPr>
              <p:sp>
                <p:nvSpPr>
                  <p:cNvPr id="1767" name=""/>
                  <p:cNvSpPr/>
                  <p:nvPr/>
                </p:nvSpPr>
                <p:spPr>
                  <a:xfrm>
                    <a:off x="714600" y="6497640"/>
                    <a:ext cx="2782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>
                    <a:off x="702000" y="6523920"/>
                    <a:ext cx="303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727200" y="6471720"/>
                    <a:ext cx="2530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0" name=""/>
                <p:cNvGrpSpPr/>
                <p:nvPr/>
              </p:nvGrpSpPr>
              <p:grpSpPr>
                <a:xfrm>
                  <a:off x="739800" y="6391080"/>
                  <a:ext cx="227520" cy="78840"/>
                  <a:chOff x="739800" y="6391080"/>
                  <a:chExt cx="227520" cy="78840"/>
                </a:xfrm>
              </p:grpSpPr>
              <p:sp>
                <p:nvSpPr>
                  <p:cNvPr id="1771" name=""/>
                  <p:cNvSpPr/>
                  <p:nvPr/>
                </p:nvSpPr>
                <p:spPr>
                  <a:xfrm>
                    <a:off x="749160" y="6417000"/>
                    <a:ext cx="2088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739800" y="6443280"/>
                    <a:ext cx="2275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>
                    <a:off x="758520" y="6391080"/>
                    <a:ext cx="1897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4" name=""/>
                <p:cNvGrpSpPr/>
                <p:nvPr/>
              </p:nvGrpSpPr>
              <p:grpSpPr>
                <a:xfrm>
                  <a:off x="765360" y="6310440"/>
                  <a:ext cx="177120" cy="78840"/>
                  <a:chOff x="765360" y="6310440"/>
                  <a:chExt cx="177120" cy="78840"/>
                </a:xfrm>
              </p:grpSpPr>
              <p:sp>
                <p:nvSpPr>
                  <p:cNvPr id="1775" name=""/>
                  <p:cNvSpPr/>
                  <p:nvPr/>
                </p:nvSpPr>
                <p:spPr>
                  <a:xfrm>
                    <a:off x="772560" y="6336360"/>
                    <a:ext cx="162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765360" y="6362640"/>
                    <a:ext cx="1771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779760" y="6310440"/>
                    <a:ext cx="1476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8" name=""/>
                <p:cNvGrpSpPr/>
                <p:nvPr/>
              </p:nvGrpSpPr>
              <p:grpSpPr>
                <a:xfrm>
                  <a:off x="790560" y="6230160"/>
                  <a:ext cx="126360" cy="78840"/>
                  <a:chOff x="790560" y="6230160"/>
                  <a:chExt cx="126360" cy="78840"/>
                </a:xfrm>
              </p:grpSpPr>
              <p:sp>
                <p:nvSpPr>
                  <p:cNvPr id="1779" name=""/>
                  <p:cNvSpPr/>
                  <p:nvPr/>
                </p:nvSpPr>
                <p:spPr>
                  <a:xfrm>
                    <a:off x="795600" y="6256080"/>
                    <a:ext cx="1159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>
                    <a:off x="790560" y="6282360"/>
                    <a:ext cx="126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>
                    <a:off x="801000" y="6230160"/>
                    <a:ext cx="105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82" name=""/>
              <p:cNvSpPr/>
              <p:nvPr/>
            </p:nvSpPr>
            <p:spPr>
              <a:xfrm>
                <a:off x="598680" y="6133680"/>
                <a:ext cx="506160" cy="950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3" name=""/>
              <p:cNvGrpSpPr/>
              <p:nvPr/>
            </p:nvGrpSpPr>
            <p:grpSpPr>
              <a:xfrm>
                <a:off x="668880" y="6170040"/>
                <a:ext cx="366480" cy="56880"/>
                <a:chOff x="668880" y="6170040"/>
                <a:chExt cx="366480" cy="5688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668880" y="617004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748800" y="617004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984960" y="617004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904680" y="617004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825480" y="617004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9" name=""/>
              <p:cNvSpPr/>
              <p:nvPr/>
            </p:nvSpPr>
            <p:spPr>
              <a:xfrm>
                <a:off x="583920" y="6125760"/>
                <a:ext cx="53604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594720" y="606132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10200" y="6045120"/>
                <a:ext cx="48096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IBIS push pull driver schedule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0" y="1216080"/>
            <a:ext cx="8089920" cy="2301120"/>
            <a:chOff x="0" y="1216080"/>
            <a:chExt cx="8089920" cy="2301120"/>
          </a:xfrm>
        </p:grpSpPr>
        <p:sp>
          <p:nvSpPr>
            <p:cNvPr id="1794" name=""/>
            <p:cNvSpPr/>
            <p:nvPr/>
          </p:nvSpPr>
          <p:spPr>
            <a:xfrm>
              <a:off x="0" y="1298160"/>
              <a:ext cx="2062080" cy="1355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5" name=""/>
            <p:cNvGrpSpPr/>
            <p:nvPr/>
          </p:nvGrpSpPr>
          <p:grpSpPr>
            <a:xfrm>
              <a:off x="247320" y="1382760"/>
              <a:ext cx="1765080" cy="1347480"/>
              <a:chOff x="247320" y="1382760"/>
              <a:chExt cx="1765080" cy="1347480"/>
            </a:xfrm>
          </p:grpSpPr>
          <p:sp>
            <p:nvSpPr>
              <p:cNvPr id="1796" name=""/>
              <p:cNvSpPr/>
              <p:nvPr/>
            </p:nvSpPr>
            <p:spPr>
              <a:xfrm>
                <a:off x="704520" y="1382760"/>
                <a:ext cx="0" cy="11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93760" y="2102760"/>
                <a:ext cx="135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466280" y="21423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78440" y="146448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11840" y="2331360"/>
                <a:ext cx="130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Gnd clam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93560" y="1722240"/>
                <a:ext cx="151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Power clam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2" name=""/>
              <p:cNvGrpSpPr/>
              <p:nvPr/>
            </p:nvGrpSpPr>
            <p:grpSpPr>
              <a:xfrm>
                <a:off x="247320" y="2102760"/>
                <a:ext cx="1027080" cy="423000"/>
                <a:chOff x="247320" y="2102760"/>
                <a:chExt cx="1027080" cy="423000"/>
              </a:xfrm>
            </p:grpSpPr>
            <p:sp>
              <p:nvSpPr>
                <p:cNvPr id="1803" name=""/>
                <p:cNvSpPr/>
                <p:nvPr/>
              </p:nvSpPr>
              <p:spPr>
                <a:xfrm flipH="1">
                  <a:off x="480600" y="2102760"/>
                  <a:ext cx="793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H="1">
                  <a:off x="387360" y="2102760"/>
                  <a:ext cx="93240" cy="4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flipH="1">
                  <a:off x="247320" y="2144880"/>
                  <a:ext cx="14004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6" name=""/>
              <p:cNvGrpSpPr/>
              <p:nvPr/>
            </p:nvGrpSpPr>
            <p:grpSpPr>
              <a:xfrm>
                <a:off x="293760" y="1679400"/>
                <a:ext cx="1029240" cy="423000"/>
                <a:chOff x="293760" y="1679400"/>
                <a:chExt cx="1029240" cy="423000"/>
              </a:xfrm>
            </p:grpSpPr>
            <p:sp>
              <p:nvSpPr>
                <p:cNvPr id="1807" name=""/>
                <p:cNvSpPr/>
                <p:nvPr/>
              </p:nvSpPr>
              <p:spPr>
                <a:xfrm flipH="1">
                  <a:off x="527400" y="2102400"/>
                  <a:ext cx="795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 flipH="1" flipV="1">
                  <a:off x="433800" y="2060280"/>
                  <a:ext cx="93240" cy="4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 flipH="1" flipV="1">
                  <a:off x="293760" y="1679400"/>
                  <a:ext cx="14040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"/>
            <p:cNvSpPr/>
            <p:nvPr/>
          </p:nvSpPr>
          <p:spPr>
            <a:xfrm>
              <a:off x="2249640" y="1324800"/>
              <a:ext cx="1731960" cy="1949400"/>
            </a:xfrm>
            <a:custGeom>
              <a:avLst/>
              <a:gdLst>
                <a:gd name="textAreaLeft" fmla="*/ 84240 w 1731960"/>
                <a:gd name="textAreaRight" fmla="*/ 1647720 w 1731960"/>
                <a:gd name="textAreaTop" fmla="*/ 84240 h 1949400"/>
                <a:gd name="textAreaBottom" fmla="*/ 1865160 h 1949400"/>
              </a:gdLst>
              <a:ahLst/>
              <a:rect l="textAreaLeft" t="textAreaTop" r="textAreaRight" b="textAreaBottom"/>
              <a:pathLst>
                <a:path w="21600" h="24311">
                  <a:moveTo>
                    <a:pt x="3600" y="0"/>
                  </a:moveTo>
                  <a:arcTo wR="3600" hR="3600" stAng="16200000" swAng="-5400000"/>
                  <a:lnTo>
                    <a:pt x="0" y="20711"/>
                  </a:lnTo>
                  <a:arcTo wR="3600" hR="3600" stAng="10800000" swAng="-5400000"/>
                  <a:lnTo>
                    <a:pt x="18000" y="24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1" name=""/>
            <p:cNvGrpSpPr/>
            <p:nvPr/>
          </p:nvGrpSpPr>
          <p:grpSpPr>
            <a:xfrm>
              <a:off x="2167200" y="1494720"/>
              <a:ext cx="1769400" cy="1976400"/>
              <a:chOff x="2167200" y="1494720"/>
              <a:chExt cx="1769400" cy="1976400"/>
            </a:xfrm>
          </p:grpSpPr>
          <p:sp>
            <p:nvSpPr>
              <p:cNvPr id="1812" name=""/>
              <p:cNvSpPr/>
              <p:nvPr/>
            </p:nvSpPr>
            <p:spPr>
              <a:xfrm>
                <a:off x="2708280" y="1663200"/>
                <a:ext cx="0" cy="118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664720" y="2366280"/>
                <a:ext cx="102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157560" y="2341800"/>
                <a:ext cx="69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Vou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167200" y="179028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Iou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6" name=""/>
              <p:cNvGrpSpPr/>
              <p:nvPr/>
            </p:nvGrpSpPr>
            <p:grpSpPr>
              <a:xfrm>
                <a:off x="2696040" y="1751040"/>
                <a:ext cx="929520" cy="649800"/>
                <a:chOff x="2696040" y="1751040"/>
                <a:chExt cx="929520" cy="649800"/>
              </a:xfrm>
            </p:grpSpPr>
            <p:sp>
              <p:nvSpPr>
                <p:cNvPr id="1817" name=""/>
                <p:cNvSpPr/>
                <p:nvPr/>
              </p:nvSpPr>
              <p:spPr>
                <a:xfrm flipV="1">
                  <a:off x="2696040" y="2148480"/>
                  <a:ext cx="154440" cy="2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flipV="1">
                  <a:off x="2850480" y="1967400"/>
                  <a:ext cx="155520" cy="1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V="1">
                  <a:off x="3006360" y="1823760"/>
                  <a:ext cx="247320" cy="144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 flipV="1">
                  <a:off x="3253680" y="1751040"/>
                  <a:ext cx="37188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1" name=""/>
              <p:cNvGrpSpPr/>
              <p:nvPr/>
            </p:nvGrpSpPr>
            <p:grpSpPr>
              <a:xfrm>
                <a:off x="2696040" y="2366280"/>
                <a:ext cx="898560" cy="432720"/>
                <a:chOff x="2696040" y="2366280"/>
                <a:chExt cx="898560" cy="432720"/>
              </a:xfrm>
            </p:grpSpPr>
            <p:sp>
              <p:nvSpPr>
                <p:cNvPr id="1822" name=""/>
                <p:cNvSpPr/>
                <p:nvPr/>
              </p:nvSpPr>
              <p:spPr>
                <a:xfrm>
                  <a:off x="2696040" y="2366280"/>
                  <a:ext cx="31320" cy="10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2727360" y="2473920"/>
                  <a:ext cx="123840" cy="1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851560" y="2655000"/>
                  <a:ext cx="217080" cy="108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3068280" y="2763720"/>
                  <a:ext cx="340560" cy="3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3408840" y="2799000"/>
                  <a:ext cx="185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7" name=""/>
              <p:cNvSpPr/>
              <p:nvPr/>
            </p:nvSpPr>
            <p:spPr>
              <a:xfrm>
                <a:off x="2707920" y="2767320"/>
                <a:ext cx="916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Pullup/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2707200" y="1494720"/>
                <a:ext cx="1229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Pulldown/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9" name=""/>
            <p:cNvSpPr/>
            <p:nvPr/>
          </p:nvSpPr>
          <p:spPr>
            <a:xfrm>
              <a:off x="4300560" y="1300320"/>
              <a:ext cx="1816200" cy="1949400"/>
            </a:xfrm>
            <a:custGeom>
              <a:avLst/>
              <a:gdLst>
                <a:gd name="textAreaLeft" fmla="*/ 88560 w 1816200"/>
                <a:gd name="textAreaRight" fmla="*/ 1727640 w 1816200"/>
                <a:gd name="textAreaTop" fmla="*/ 88560 h 1949400"/>
                <a:gd name="textAreaBottom" fmla="*/ 1860840 h 1949400"/>
              </a:gdLst>
              <a:ahLst/>
              <a:rect l="textAreaLeft" t="textAreaTop" r="textAreaRight" b="textAreaBottom"/>
              <a:pathLst>
                <a:path w="21600" h="23184">
                  <a:moveTo>
                    <a:pt x="3600" y="0"/>
                  </a:moveTo>
                  <a:arcTo wR="3600" hR="3600" stAng="16200000" swAng="-5400000"/>
                  <a:lnTo>
                    <a:pt x="0" y="19584"/>
                  </a:lnTo>
                  <a:arcTo wR="3600" hR="3600" stAng="10800000" swAng="-5400000"/>
                  <a:lnTo>
                    <a:pt x="18000" y="231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0" name=""/>
            <p:cNvGrpSpPr/>
            <p:nvPr/>
          </p:nvGrpSpPr>
          <p:grpSpPr>
            <a:xfrm>
              <a:off x="4218840" y="1216080"/>
              <a:ext cx="1653840" cy="2271240"/>
              <a:chOff x="4218840" y="1216080"/>
              <a:chExt cx="1653840" cy="2271240"/>
            </a:xfrm>
          </p:grpSpPr>
          <p:grpSp>
            <p:nvGrpSpPr>
              <p:cNvPr id="1831" name=""/>
              <p:cNvGrpSpPr/>
              <p:nvPr/>
            </p:nvGrpSpPr>
            <p:grpSpPr>
              <a:xfrm>
                <a:off x="4218840" y="1216080"/>
                <a:ext cx="1653840" cy="1256040"/>
                <a:chOff x="4218840" y="1216080"/>
                <a:chExt cx="1653840" cy="1256040"/>
              </a:xfrm>
            </p:grpSpPr>
            <p:grpSp>
              <p:nvGrpSpPr>
                <p:cNvPr id="1832" name=""/>
                <p:cNvGrpSpPr/>
                <p:nvPr/>
              </p:nvGrpSpPr>
              <p:grpSpPr>
                <a:xfrm>
                  <a:off x="4682160" y="1479240"/>
                  <a:ext cx="899280" cy="400320"/>
                  <a:chOff x="4682160" y="1479240"/>
                  <a:chExt cx="899280" cy="400320"/>
                </a:xfrm>
              </p:grpSpPr>
              <p:sp>
                <p:nvSpPr>
                  <p:cNvPr id="1833" name=""/>
                  <p:cNvSpPr/>
                  <p:nvPr/>
                </p:nvSpPr>
                <p:spPr>
                  <a:xfrm>
                    <a:off x="5376600" y="1879560"/>
                    <a:ext cx="187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34" name=""/>
                  <p:cNvGrpSpPr/>
                  <p:nvPr/>
                </p:nvGrpSpPr>
                <p:grpSpPr>
                  <a:xfrm>
                    <a:off x="4682160" y="1479240"/>
                    <a:ext cx="899280" cy="399240"/>
                    <a:chOff x="4682160" y="1479240"/>
                    <a:chExt cx="899280" cy="399240"/>
                  </a:xfrm>
                </p:grpSpPr>
                <p:sp>
                  <p:nvSpPr>
                    <p:cNvPr id="1835" name=""/>
                    <p:cNvSpPr/>
                    <p:nvPr/>
                  </p:nvSpPr>
                  <p:spPr>
                    <a:xfrm flipH="1" flipV="1">
                      <a:off x="5131440" y="1478880"/>
                      <a:ext cx="450000" cy="39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6" name=""/>
                    <p:cNvSpPr/>
                    <p:nvPr/>
                  </p:nvSpPr>
                  <p:spPr>
                    <a:xfrm flipH="1" flipV="1" rot="10800000">
                      <a:off x="4682160" y="1478880"/>
                      <a:ext cx="448560" cy="39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37" name=""/>
                  <p:cNvSpPr/>
                  <p:nvPr/>
                </p:nvSpPr>
                <p:spPr>
                  <a:xfrm>
                    <a:off x="4717800" y="1479600"/>
                    <a:ext cx="187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8" name=""/>
                <p:cNvGrpSpPr/>
                <p:nvPr/>
              </p:nvGrpSpPr>
              <p:grpSpPr>
                <a:xfrm>
                  <a:off x="4218840" y="1216080"/>
                  <a:ext cx="1582200" cy="992160"/>
                  <a:chOff x="4218840" y="1216080"/>
                  <a:chExt cx="1582200" cy="992160"/>
                </a:xfrm>
              </p:grpSpPr>
              <p:grpSp>
                <p:nvGrpSpPr>
                  <p:cNvPr id="1839" name=""/>
                  <p:cNvGrpSpPr/>
                  <p:nvPr/>
                </p:nvGrpSpPr>
                <p:grpSpPr>
                  <a:xfrm>
                    <a:off x="4685040" y="1469880"/>
                    <a:ext cx="897480" cy="400320"/>
                    <a:chOff x="4685040" y="1469880"/>
                    <a:chExt cx="897480" cy="400320"/>
                  </a:xfrm>
                </p:grpSpPr>
                <p:sp>
                  <p:nvSpPr>
                    <p:cNvPr id="1840" name=""/>
                    <p:cNvSpPr/>
                    <p:nvPr/>
                  </p:nvSpPr>
                  <p:spPr>
                    <a:xfrm flipH="1">
                      <a:off x="5377320" y="1870200"/>
                      <a:ext cx="187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1" name=""/>
                    <p:cNvSpPr/>
                    <p:nvPr/>
                  </p:nvSpPr>
                  <p:spPr>
                    <a:xfrm flipH="1">
                      <a:off x="4719960" y="1470240"/>
                      <a:ext cx="187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42" name=""/>
                    <p:cNvGrpSpPr/>
                    <p:nvPr/>
                  </p:nvGrpSpPr>
                  <p:grpSpPr>
                    <a:xfrm>
                      <a:off x="4685040" y="1469880"/>
                      <a:ext cx="897480" cy="399240"/>
                      <a:chOff x="4685040" y="1469880"/>
                      <a:chExt cx="897480" cy="399240"/>
                    </a:xfrm>
                  </p:grpSpPr>
                  <p:sp>
                    <p:nvSpPr>
                      <p:cNvPr id="1843" name=""/>
                      <p:cNvSpPr/>
                      <p:nvPr/>
                    </p:nvSpPr>
                    <p:spPr>
                      <a:xfrm flipH="1" flipV="1">
                        <a:off x="5133240" y="1469520"/>
                        <a:ext cx="449280" cy="39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4" name=""/>
                      <p:cNvSpPr/>
                      <p:nvPr/>
                    </p:nvSpPr>
                    <p:spPr>
                      <a:xfrm flipH="1" flipV="1" rot="10800000">
                        <a:off x="4685040" y="1469520"/>
                        <a:ext cx="447840" cy="39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45" name=""/>
                  <p:cNvGrpSpPr/>
                  <p:nvPr/>
                </p:nvGrpSpPr>
                <p:grpSpPr>
                  <a:xfrm>
                    <a:off x="4218840" y="1216080"/>
                    <a:ext cx="1582200" cy="992160"/>
                    <a:chOff x="4218840" y="1216080"/>
                    <a:chExt cx="1582200" cy="992160"/>
                  </a:xfrm>
                </p:grpSpPr>
                <p:sp>
                  <p:nvSpPr>
                    <p:cNvPr id="1846" name=""/>
                    <p:cNvSpPr/>
                    <p:nvPr/>
                  </p:nvSpPr>
                  <p:spPr>
                    <a:xfrm>
                      <a:off x="4709160" y="1371240"/>
                      <a:ext cx="0" cy="701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7" name=""/>
                    <p:cNvSpPr/>
                    <p:nvPr/>
                  </p:nvSpPr>
                  <p:spPr>
                    <a:xfrm>
                      <a:off x="4672800" y="2046600"/>
                      <a:ext cx="11282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8" name=""/>
                    <p:cNvSpPr/>
                    <p:nvPr/>
                  </p:nvSpPr>
                  <p:spPr>
                    <a:xfrm>
                      <a:off x="4672800" y="1891440"/>
                      <a:ext cx="108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>
                      <a:off x="4637160" y="1474560"/>
                      <a:ext cx="107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0" name=""/>
                    <p:cNvSpPr/>
                    <p:nvPr/>
                  </p:nvSpPr>
                  <p:spPr>
                    <a:xfrm>
                      <a:off x="4600800" y="1216080"/>
                      <a:ext cx="18540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1" name=""/>
                    <p:cNvSpPr/>
                    <p:nvPr/>
                  </p:nvSpPr>
                  <p:spPr>
                    <a:xfrm>
                      <a:off x="4218840" y="1427040"/>
                      <a:ext cx="5907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2" name=""/>
                    <p:cNvSpPr/>
                    <p:nvPr/>
                  </p:nvSpPr>
                  <p:spPr>
                    <a:xfrm>
                      <a:off x="4218840" y="180936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53" name=""/>
                <p:cNvSpPr/>
                <p:nvPr/>
              </p:nvSpPr>
              <p:spPr>
                <a:xfrm>
                  <a:off x="5621760" y="20732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300920" y="12254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5" name=""/>
              <p:cNvGrpSpPr/>
              <p:nvPr/>
            </p:nvGrpSpPr>
            <p:grpSpPr>
              <a:xfrm>
                <a:off x="4218840" y="2156760"/>
                <a:ext cx="1653840" cy="1330560"/>
                <a:chOff x="4218840" y="2156760"/>
                <a:chExt cx="1653840" cy="1330560"/>
              </a:xfrm>
            </p:grpSpPr>
            <p:grpSp>
              <p:nvGrpSpPr>
                <p:cNvPr id="1856" name=""/>
                <p:cNvGrpSpPr/>
                <p:nvPr/>
              </p:nvGrpSpPr>
              <p:grpSpPr>
                <a:xfrm>
                  <a:off x="4700160" y="2646720"/>
                  <a:ext cx="899280" cy="399960"/>
                  <a:chOff x="4700160" y="2646720"/>
                  <a:chExt cx="899280" cy="399960"/>
                </a:xfrm>
              </p:grpSpPr>
              <p:sp>
                <p:nvSpPr>
                  <p:cNvPr id="1857" name=""/>
                  <p:cNvSpPr/>
                  <p:nvPr/>
                </p:nvSpPr>
                <p:spPr>
                  <a:xfrm>
                    <a:off x="4717800" y="3046680"/>
                    <a:ext cx="187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8" name=""/>
                  <p:cNvSpPr/>
                  <p:nvPr/>
                </p:nvSpPr>
                <p:spPr>
                  <a:xfrm>
                    <a:off x="5376600" y="2647080"/>
                    <a:ext cx="187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59" name=""/>
                  <p:cNvGrpSpPr/>
                  <p:nvPr/>
                </p:nvGrpSpPr>
                <p:grpSpPr>
                  <a:xfrm>
                    <a:off x="4700160" y="2646720"/>
                    <a:ext cx="899280" cy="399240"/>
                    <a:chOff x="4700160" y="2646720"/>
                    <a:chExt cx="899280" cy="399240"/>
                  </a:xfrm>
                </p:grpSpPr>
                <p:sp>
                  <p:nvSpPr>
                    <p:cNvPr id="1860" name=""/>
                    <p:cNvSpPr/>
                    <p:nvPr/>
                  </p:nvSpPr>
                  <p:spPr>
                    <a:xfrm flipV="1">
                      <a:off x="4700160" y="2646360"/>
                      <a:ext cx="450000" cy="39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"/>
                    <p:cNvSpPr/>
                    <p:nvPr/>
                  </p:nvSpPr>
                  <p:spPr>
                    <a:xfrm flipV="1" rot="10800000">
                      <a:off x="5150880" y="2646360"/>
                      <a:ext cx="448560" cy="39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62" name=""/>
                <p:cNvGrpSpPr/>
                <p:nvPr/>
              </p:nvGrpSpPr>
              <p:grpSpPr>
                <a:xfrm>
                  <a:off x="4218840" y="2156760"/>
                  <a:ext cx="1589760" cy="1254600"/>
                  <a:chOff x="4218840" y="2156760"/>
                  <a:chExt cx="1589760" cy="1254600"/>
                </a:xfrm>
              </p:grpSpPr>
              <p:grpSp>
                <p:nvGrpSpPr>
                  <p:cNvPr id="1863" name=""/>
                  <p:cNvGrpSpPr/>
                  <p:nvPr/>
                </p:nvGrpSpPr>
                <p:grpSpPr>
                  <a:xfrm>
                    <a:off x="4218840" y="2156760"/>
                    <a:ext cx="1589760" cy="1254600"/>
                    <a:chOff x="4218840" y="2156760"/>
                    <a:chExt cx="1589760" cy="1254600"/>
                  </a:xfrm>
                </p:grpSpPr>
                <p:sp>
                  <p:nvSpPr>
                    <p:cNvPr id="1864" name=""/>
                    <p:cNvSpPr/>
                    <p:nvPr/>
                  </p:nvSpPr>
                  <p:spPr>
                    <a:xfrm>
                      <a:off x="4717800" y="2364120"/>
                      <a:ext cx="0" cy="702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5" name=""/>
                    <p:cNvSpPr/>
                    <p:nvPr/>
                  </p:nvSpPr>
                  <p:spPr>
                    <a:xfrm>
                      <a:off x="4680000" y="3040200"/>
                      <a:ext cx="1128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6" name=""/>
                    <p:cNvSpPr/>
                    <p:nvPr/>
                  </p:nvSpPr>
                  <p:spPr>
                    <a:xfrm>
                      <a:off x="4680000" y="2624400"/>
                      <a:ext cx="109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7" name=""/>
                    <p:cNvSpPr/>
                    <p:nvPr/>
                  </p:nvSpPr>
                  <p:spPr>
                    <a:xfrm>
                      <a:off x="4608000" y="2156760"/>
                      <a:ext cx="18360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8" name=""/>
                    <p:cNvSpPr/>
                    <p:nvPr/>
                  </p:nvSpPr>
                  <p:spPr>
                    <a:xfrm>
                      <a:off x="4218840" y="255564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9" name=""/>
                    <p:cNvSpPr/>
                    <p:nvPr/>
                  </p:nvSpPr>
                  <p:spPr>
                    <a:xfrm>
                      <a:off x="4300920" y="3012480"/>
                      <a:ext cx="73404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0" name=""/>
                  <p:cNvGrpSpPr/>
                  <p:nvPr/>
                </p:nvGrpSpPr>
                <p:grpSpPr>
                  <a:xfrm>
                    <a:off x="4695120" y="2639880"/>
                    <a:ext cx="899280" cy="399960"/>
                    <a:chOff x="4695120" y="2639880"/>
                    <a:chExt cx="899280" cy="399960"/>
                  </a:xfrm>
                </p:grpSpPr>
                <p:sp>
                  <p:nvSpPr>
                    <p:cNvPr id="1871" name=""/>
                    <p:cNvSpPr/>
                    <p:nvPr/>
                  </p:nvSpPr>
                  <p:spPr>
                    <a:xfrm>
                      <a:off x="4712760" y="3039840"/>
                      <a:ext cx="187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2" name=""/>
                    <p:cNvSpPr/>
                    <p:nvPr/>
                  </p:nvSpPr>
                  <p:spPr>
                    <a:xfrm>
                      <a:off x="5371560" y="2640240"/>
                      <a:ext cx="187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73" name=""/>
                    <p:cNvGrpSpPr/>
                    <p:nvPr/>
                  </p:nvGrpSpPr>
                  <p:grpSpPr>
                    <a:xfrm>
                      <a:off x="4695120" y="2639880"/>
                      <a:ext cx="899280" cy="399240"/>
                      <a:chOff x="4695120" y="2639880"/>
                      <a:chExt cx="899280" cy="399240"/>
                    </a:xfrm>
                  </p:grpSpPr>
                  <p:sp>
                    <p:nvSpPr>
                      <p:cNvPr id="1874" name=""/>
                      <p:cNvSpPr/>
                      <p:nvPr/>
                    </p:nvSpPr>
                    <p:spPr>
                      <a:xfrm flipV="1">
                        <a:off x="4695120" y="2639520"/>
                        <a:ext cx="450000" cy="39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5" name=""/>
                      <p:cNvSpPr/>
                      <p:nvPr/>
                    </p:nvSpPr>
                    <p:spPr>
                      <a:xfrm flipV="1" rot="10800000">
                        <a:off x="5145840" y="2639520"/>
                        <a:ext cx="448560" cy="39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876" name=""/>
                <p:cNvSpPr/>
                <p:nvPr/>
              </p:nvSpPr>
              <p:spPr>
                <a:xfrm>
                  <a:off x="4300920" y="22838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5621760" y="30884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78" name=""/>
            <p:cNvSpPr/>
            <p:nvPr/>
          </p:nvSpPr>
          <p:spPr>
            <a:xfrm>
              <a:off x="6356520" y="1330200"/>
              <a:ext cx="1733400" cy="1949400"/>
            </a:xfrm>
            <a:custGeom>
              <a:avLst/>
              <a:gdLst>
                <a:gd name="textAreaLeft" fmla="*/ 84600 w 1733400"/>
                <a:gd name="textAreaRight" fmla="*/ 1648800 w 1733400"/>
                <a:gd name="textAreaTop" fmla="*/ 84600 h 1949400"/>
                <a:gd name="textAreaBottom" fmla="*/ 1864800 h 1949400"/>
              </a:gdLst>
              <a:ahLst/>
              <a:rect l="textAreaLeft" t="textAreaTop" r="textAreaRight" b="textAreaBottom"/>
              <a:pathLst>
                <a:path w="21600" h="24291">
                  <a:moveTo>
                    <a:pt x="3600" y="0"/>
                  </a:moveTo>
                  <a:arcTo wR="3600" hR="3600" stAng="16200000" swAng="-5400000"/>
                  <a:lnTo>
                    <a:pt x="0" y="20691"/>
                  </a:lnTo>
                  <a:arcTo wR="3600" hR="3600" stAng="10800000" swAng="-5400000"/>
                  <a:lnTo>
                    <a:pt x="18000" y="242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6274440" y="1245960"/>
              <a:ext cx="1654200" cy="2271240"/>
              <a:chOff x="6274440" y="1245960"/>
              <a:chExt cx="1654200" cy="2271240"/>
            </a:xfrm>
          </p:grpSpPr>
          <p:grpSp>
            <p:nvGrpSpPr>
              <p:cNvPr id="1880" name=""/>
              <p:cNvGrpSpPr/>
              <p:nvPr/>
            </p:nvGrpSpPr>
            <p:grpSpPr>
              <a:xfrm>
                <a:off x="6274440" y="1245960"/>
                <a:ext cx="1654200" cy="1256760"/>
                <a:chOff x="6274440" y="1245960"/>
                <a:chExt cx="1654200" cy="1256760"/>
              </a:xfrm>
            </p:grpSpPr>
            <p:grpSp>
              <p:nvGrpSpPr>
                <p:cNvPr id="1881" name=""/>
                <p:cNvGrpSpPr/>
                <p:nvPr/>
              </p:nvGrpSpPr>
              <p:grpSpPr>
                <a:xfrm>
                  <a:off x="6763680" y="1509120"/>
                  <a:ext cx="597960" cy="400320"/>
                  <a:chOff x="6763680" y="1509120"/>
                  <a:chExt cx="597960" cy="400320"/>
                </a:xfrm>
              </p:grpSpPr>
              <p:sp>
                <p:nvSpPr>
                  <p:cNvPr id="1882" name=""/>
                  <p:cNvSpPr/>
                  <p:nvPr/>
                </p:nvSpPr>
                <p:spPr>
                  <a:xfrm>
                    <a:off x="6775560" y="1909440"/>
                    <a:ext cx="12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>
                    <a:off x="7213680" y="1509480"/>
                    <a:ext cx="12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84" name=""/>
                  <p:cNvGrpSpPr/>
                  <p:nvPr/>
                </p:nvGrpSpPr>
                <p:grpSpPr>
                  <a:xfrm>
                    <a:off x="6763680" y="1509120"/>
                    <a:ext cx="597960" cy="399240"/>
                    <a:chOff x="6763680" y="1509120"/>
                    <a:chExt cx="597960" cy="399240"/>
                  </a:xfrm>
                </p:grpSpPr>
                <p:sp>
                  <p:nvSpPr>
                    <p:cNvPr id="1885" name=""/>
                    <p:cNvSpPr/>
                    <p:nvPr/>
                  </p:nvSpPr>
                  <p:spPr>
                    <a:xfrm flipV="1">
                      <a:off x="6763680" y="1508760"/>
                      <a:ext cx="299520" cy="39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6" name=""/>
                    <p:cNvSpPr/>
                    <p:nvPr/>
                  </p:nvSpPr>
                  <p:spPr>
                    <a:xfrm flipV="1" rot="10800000">
                      <a:off x="7063560" y="1508760"/>
                      <a:ext cx="298080" cy="39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87" name=""/>
                <p:cNvGrpSpPr/>
                <p:nvPr/>
              </p:nvGrpSpPr>
              <p:grpSpPr>
                <a:xfrm>
                  <a:off x="6274440" y="1245960"/>
                  <a:ext cx="1583640" cy="992160"/>
                  <a:chOff x="6274440" y="1245960"/>
                  <a:chExt cx="1583640" cy="992160"/>
                </a:xfrm>
              </p:grpSpPr>
              <p:sp>
                <p:nvSpPr>
                  <p:cNvPr id="1888" name=""/>
                  <p:cNvSpPr/>
                  <p:nvPr/>
                </p:nvSpPr>
                <p:spPr>
                  <a:xfrm>
                    <a:off x="6765120" y="1401120"/>
                    <a:ext cx="0" cy="701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"/>
                  <p:cNvSpPr/>
                  <p:nvPr/>
                </p:nvSpPr>
                <p:spPr>
                  <a:xfrm>
                    <a:off x="6728760" y="2076480"/>
                    <a:ext cx="112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"/>
                  <p:cNvSpPr/>
                  <p:nvPr/>
                </p:nvSpPr>
                <p:spPr>
                  <a:xfrm>
                    <a:off x="6728760" y="1921320"/>
                    <a:ext cx="10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"/>
                  <p:cNvSpPr/>
                  <p:nvPr/>
                </p:nvSpPr>
                <p:spPr>
                  <a:xfrm>
                    <a:off x="6693120" y="1504440"/>
                    <a:ext cx="10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>
                    <a:off x="6656760" y="1245960"/>
                    <a:ext cx="185400" cy="39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"/>
                  <p:cNvSpPr/>
                  <p:nvPr/>
                </p:nvSpPr>
                <p:spPr>
                  <a:xfrm>
                    <a:off x="6274800" y="1456920"/>
                    <a:ext cx="590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c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>
                    <a:off x="6274440" y="183924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5" name=""/>
                <p:cNvSpPr/>
                <p:nvPr/>
              </p:nvSpPr>
              <p:spPr>
                <a:xfrm>
                  <a:off x="7677720" y="21038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6357240" y="12553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7" name=""/>
              <p:cNvGrpSpPr/>
              <p:nvPr/>
            </p:nvGrpSpPr>
            <p:grpSpPr>
              <a:xfrm>
                <a:off x="6274440" y="2186640"/>
                <a:ext cx="1654200" cy="1330560"/>
                <a:chOff x="6274440" y="2186640"/>
                <a:chExt cx="1654200" cy="1330560"/>
              </a:xfrm>
            </p:grpSpPr>
            <p:grpSp>
              <p:nvGrpSpPr>
                <p:cNvPr id="1898" name=""/>
                <p:cNvGrpSpPr/>
                <p:nvPr/>
              </p:nvGrpSpPr>
              <p:grpSpPr>
                <a:xfrm>
                  <a:off x="6274440" y="2186640"/>
                  <a:ext cx="1590840" cy="1254600"/>
                  <a:chOff x="6274440" y="2186640"/>
                  <a:chExt cx="1590840" cy="1254600"/>
                </a:xfrm>
              </p:grpSpPr>
              <p:sp>
                <p:nvSpPr>
                  <p:cNvPr id="1899" name=""/>
                  <p:cNvSpPr/>
                  <p:nvPr/>
                </p:nvSpPr>
                <p:spPr>
                  <a:xfrm>
                    <a:off x="6773760" y="2394000"/>
                    <a:ext cx="0" cy="702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"/>
                  <p:cNvSpPr/>
                  <p:nvPr/>
                </p:nvSpPr>
                <p:spPr>
                  <a:xfrm>
                    <a:off x="6735960" y="3070080"/>
                    <a:ext cx="112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>
                    <a:off x="6735960" y="2654280"/>
                    <a:ext cx="10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>
                    <a:off x="6663960" y="2186640"/>
                    <a:ext cx="1839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>
                    <a:off x="6274440" y="258552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6356520" y="3042360"/>
                    <a:ext cx="734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N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5" name=""/>
                <p:cNvGrpSpPr/>
                <p:nvPr/>
              </p:nvGrpSpPr>
              <p:grpSpPr>
                <a:xfrm>
                  <a:off x="6356880" y="2314440"/>
                  <a:ext cx="1571760" cy="1202760"/>
                  <a:chOff x="6356880" y="2314440"/>
                  <a:chExt cx="1571760" cy="1202760"/>
                </a:xfrm>
              </p:grpSpPr>
              <p:grpSp>
                <p:nvGrpSpPr>
                  <p:cNvPr id="1906" name=""/>
                  <p:cNvGrpSpPr/>
                  <p:nvPr/>
                </p:nvGrpSpPr>
                <p:grpSpPr>
                  <a:xfrm>
                    <a:off x="6744960" y="2652840"/>
                    <a:ext cx="599760" cy="399960"/>
                    <a:chOff x="6744960" y="2652840"/>
                    <a:chExt cx="599760" cy="399960"/>
                  </a:xfrm>
                </p:grpSpPr>
                <p:sp>
                  <p:nvSpPr>
                    <p:cNvPr id="1907" name=""/>
                    <p:cNvSpPr/>
                    <p:nvPr/>
                  </p:nvSpPr>
                  <p:spPr>
                    <a:xfrm>
                      <a:off x="7207920" y="3052800"/>
                      <a:ext cx="1252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08" name=""/>
                    <p:cNvGrpSpPr/>
                    <p:nvPr/>
                  </p:nvGrpSpPr>
                  <p:grpSpPr>
                    <a:xfrm>
                      <a:off x="6744960" y="2652840"/>
                      <a:ext cx="599760" cy="399240"/>
                      <a:chOff x="6744960" y="2652840"/>
                      <a:chExt cx="599760" cy="399240"/>
                    </a:xfrm>
                  </p:grpSpPr>
                  <p:sp>
                    <p:nvSpPr>
                      <p:cNvPr id="1909" name=""/>
                      <p:cNvSpPr/>
                      <p:nvPr/>
                    </p:nvSpPr>
                    <p:spPr>
                      <a:xfrm flipH="1" flipV="1">
                        <a:off x="7044480" y="2652480"/>
                        <a:ext cx="300240" cy="39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0" name=""/>
                      <p:cNvSpPr/>
                      <p:nvPr/>
                    </p:nvSpPr>
                    <p:spPr>
                      <a:xfrm flipH="1" flipV="1" rot="10800000">
                        <a:off x="6744960" y="2652480"/>
                        <a:ext cx="298800" cy="39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11" name=""/>
                    <p:cNvSpPr/>
                    <p:nvPr/>
                  </p:nvSpPr>
                  <p:spPr>
                    <a:xfrm>
                      <a:off x="6768360" y="2653200"/>
                      <a:ext cx="1252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12" name=""/>
                  <p:cNvSpPr/>
                  <p:nvPr/>
                </p:nvSpPr>
                <p:spPr>
                  <a:xfrm>
                    <a:off x="6356880" y="231444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7677720" y="3118320"/>
                    <a:ext cx="250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914" name=""/>
          <p:cNvGrpSpPr/>
          <p:nvPr/>
        </p:nvGrpSpPr>
        <p:grpSpPr>
          <a:xfrm>
            <a:off x="0" y="3718080"/>
            <a:ext cx="8089920" cy="2300760"/>
            <a:chOff x="0" y="3718080"/>
            <a:chExt cx="8089920" cy="2300760"/>
          </a:xfrm>
        </p:grpSpPr>
        <p:sp>
          <p:nvSpPr>
            <p:cNvPr id="1915" name=""/>
            <p:cNvSpPr/>
            <p:nvPr/>
          </p:nvSpPr>
          <p:spPr>
            <a:xfrm>
              <a:off x="4300560" y="3801960"/>
              <a:ext cx="1816200" cy="1949040"/>
            </a:xfrm>
            <a:custGeom>
              <a:avLst/>
              <a:gdLst>
                <a:gd name="textAreaLeft" fmla="*/ 88560 w 1816200"/>
                <a:gd name="textAreaRight" fmla="*/ 1727640 w 1816200"/>
                <a:gd name="textAreaTop" fmla="*/ 88560 h 1949040"/>
                <a:gd name="textAreaBottom" fmla="*/ 1860480 h 1949040"/>
              </a:gdLst>
              <a:ahLst/>
              <a:rect l="textAreaLeft" t="textAreaTop" r="textAreaRight" b="textAreaBottom"/>
              <a:pathLst>
                <a:path w="21600" h="23180">
                  <a:moveTo>
                    <a:pt x="3600" y="0"/>
                  </a:moveTo>
                  <a:arcTo wR="3600" hR="3600" stAng="16200000" swAng="-5400000"/>
                  <a:lnTo>
                    <a:pt x="0" y="19580"/>
                  </a:lnTo>
                  <a:arcTo wR="3600" hR="3600" stAng="10800000" swAng="-5400000"/>
                  <a:lnTo>
                    <a:pt x="18000" y="23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0" y="3800160"/>
              <a:ext cx="2062080" cy="13554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7" name=""/>
            <p:cNvGrpSpPr/>
            <p:nvPr/>
          </p:nvGrpSpPr>
          <p:grpSpPr>
            <a:xfrm>
              <a:off x="247320" y="3884400"/>
              <a:ext cx="1765080" cy="1347480"/>
              <a:chOff x="247320" y="3884400"/>
              <a:chExt cx="1765080" cy="1347480"/>
            </a:xfrm>
          </p:grpSpPr>
          <p:sp>
            <p:nvSpPr>
              <p:cNvPr id="1918" name=""/>
              <p:cNvSpPr/>
              <p:nvPr/>
            </p:nvSpPr>
            <p:spPr>
              <a:xfrm>
                <a:off x="704520" y="3884400"/>
                <a:ext cx="0" cy="11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293760" y="4604400"/>
                <a:ext cx="135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466280" y="46440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78440" y="396612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11840" y="4833000"/>
                <a:ext cx="130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Gnd clam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93560" y="4223880"/>
                <a:ext cx="151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Power clam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4" name=""/>
              <p:cNvGrpSpPr/>
              <p:nvPr/>
            </p:nvGrpSpPr>
            <p:grpSpPr>
              <a:xfrm>
                <a:off x="247320" y="4604400"/>
                <a:ext cx="1027080" cy="423000"/>
                <a:chOff x="247320" y="4604400"/>
                <a:chExt cx="1027080" cy="423000"/>
              </a:xfrm>
            </p:grpSpPr>
            <p:sp>
              <p:nvSpPr>
                <p:cNvPr id="1925" name=""/>
                <p:cNvSpPr/>
                <p:nvPr/>
              </p:nvSpPr>
              <p:spPr>
                <a:xfrm flipH="1">
                  <a:off x="480600" y="4604400"/>
                  <a:ext cx="793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H="1">
                  <a:off x="387360" y="4604400"/>
                  <a:ext cx="93240" cy="4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 flipH="1">
                  <a:off x="247320" y="4646520"/>
                  <a:ext cx="14004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293760" y="4181040"/>
                <a:ext cx="1029240" cy="423000"/>
                <a:chOff x="293760" y="4181040"/>
                <a:chExt cx="1029240" cy="423000"/>
              </a:xfrm>
            </p:grpSpPr>
            <p:sp>
              <p:nvSpPr>
                <p:cNvPr id="1929" name=""/>
                <p:cNvSpPr/>
                <p:nvPr/>
              </p:nvSpPr>
              <p:spPr>
                <a:xfrm flipH="1">
                  <a:off x="527400" y="4604040"/>
                  <a:ext cx="795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 flipH="1" flipV="1">
                  <a:off x="433800" y="4561920"/>
                  <a:ext cx="93240" cy="4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 flipH="1" flipV="1">
                  <a:off x="293760" y="4181040"/>
                  <a:ext cx="14040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2" name=""/>
            <p:cNvSpPr/>
            <p:nvPr/>
          </p:nvSpPr>
          <p:spPr>
            <a:xfrm>
              <a:off x="2249640" y="3827160"/>
              <a:ext cx="1731960" cy="1947600"/>
            </a:xfrm>
            <a:custGeom>
              <a:avLst/>
              <a:gdLst>
                <a:gd name="textAreaLeft" fmla="*/ 84240 w 1731960"/>
                <a:gd name="textAreaRight" fmla="*/ 1647720 w 1731960"/>
                <a:gd name="textAreaTop" fmla="*/ 84240 h 1947600"/>
                <a:gd name="textAreaBottom" fmla="*/ 1863360 h 1947600"/>
              </a:gdLst>
              <a:ahLst/>
              <a:rect l="textAreaLeft" t="textAreaTop" r="textAreaRight" b="textAreaBottom"/>
              <a:pathLst>
                <a:path w="21600" h="24289">
                  <a:moveTo>
                    <a:pt x="3600" y="0"/>
                  </a:moveTo>
                  <a:arcTo wR="3600" hR="3600" stAng="16200000" swAng="-5400000"/>
                  <a:lnTo>
                    <a:pt x="0" y="20689"/>
                  </a:lnTo>
                  <a:arcTo wR="3600" hR="3600" stAng="10800000" swAng="-5400000"/>
                  <a:lnTo>
                    <a:pt x="18000" y="242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3" name=""/>
            <p:cNvGrpSpPr/>
            <p:nvPr/>
          </p:nvGrpSpPr>
          <p:grpSpPr>
            <a:xfrm>
              <a:off x="2166840" y="3997080"/>
              <a:ext cx="1769760" cy="1974960"/>
              <a:chOff x="2166840" y="3997080"/>
              <a:chExt cx="1769760" cy="1974960"/>
            </a:xfrm>
          </p:grpSpPr>
          <p:sp>
            <p:nvSpPr>
              <p:cNvPr id="1934" name=""/>
              <p:cNvSpPr/>
              <p:nvPr/>
            </p:nvSpPr>
            <p:spPr>
              <a:xfrm>
                <a:off x="2708280" y="4164840"/>
                <a:ext cx="0" cy="11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665440" y="4868280"/>
                <a:ext cx="10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3157920" y="4842720"/>
                <a:ext cx="69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Vou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166840" y="42919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Iou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8" name=""/>
              <p:cNvGrpSpPr/>
              <p:nvPr/>
            </p:nvGrpSpPr>
            <p:grpSpPr>
              <a:xfrm>
                <a:off x="2695680" y="4422240"/>
                <a:ext cx="915480" cy="480240"/>
                <a:chOff x="2695680" y="4422240"/>
                <a:chExt cx="915480" cy="480240"/>
              </a:xfrm>
            </p:grpSpPr>
            <p:sp>
              <p:nvSpPr>
                <p:cNvPr id="1939" name=""/>
                <p:cNvSpPr/>
                <p:nvPr/>
              </p:nvSpPr>
              <p:spPr>
                <a:xfrm flipV="1">
                  <a:off x="2695680" y="4716000"/>
                  <a:ext cx="152280" cy="186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 flipV="1">
                  <a:off x="2847960" y="4581720"/>
                  <a:ext cx="153000" cy="133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V="1">
                  <a:off x="3001320" y="4475160"/>
                  <a:ext cx="243720" cy="106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flipV="1">
                  <a:off x="3245040" y="4422240"/>
                  <a:ext cx="366120" cy="5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3" name=""/>
              <p:cNvGrpSpPr/>
              <p:nvPr/>
            </p:nvGrpSpPr>
            <p:grpSpPr>
              <a:xfrm>
                <a:off x="2695320" y="4868280"/>
                <a:ext cx="887760" cy="587160"/>
                <a:chOff x="2695320" y="4868280"/>
                <a:chExt cx="887760" cy="587160"/>
              </a:xfrm>
            </p:grpSpPr>
            <p:sp>
              <p:nvSpPr>
                <p:cNvPr id="1944" name=""/>
                <p:cNvSpPr/>
                <p:nvPr/>
              </p:nvSpPr>
              <p:spPr>
                <a:xfrm>
                  <a:off x="2695320" y="4868280"/>
                  <a:ext cx="30960" cy="14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2726640" y="5014440"/>
                  <a:ext cx="122400" cy="245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2849400" y="5259960"/>
                  <a:ext cx="214200" cy="147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3063240" y="5407560"/>
                  <a:ext cx="336240" cy="47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3399840" y="5455440"/>
                  <a:ext cx="183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9" name=""/>
              <p:cNvSpPr/>
              <p:nvPr/>
            </p:nvSpPr>
            <p:spPr>
              <a:xfrm>
                <a:off x="2707920" y="5268240"/>
                <a:ext cx="916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Pullup/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707200" y="3997080"/>
                <a:ext cx="1229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Pulldown/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1" name=""/>
            <p:cNvSpPr/>
            <p:nvPr/>
          </p:nvSpPr>
          <p:spPr>
            <a:xfrm>
              <a:off x="6356520" y="3831840"/>
              <a:ext cx="1733400" cy="1949400"/>
            </a:xfrm>
            <a:custGeom>
              <a:avLst/>
              <a:gdLst>
                <a:gd name="textAreaLeft" fmla="*/ 84600 w 1733400"/>
                <a:gd name="textAreaRight" fmla="*/ 1648800 w 1733400"/>
                <a:gd name="textAreaTop" fmla="*/ 84600 h 1949400"/>
                <a:gd name="textAreaBottom" fmla="*/ 1864800 h 1949400"/>
              </a:gdLst>
              <a:ahLst/>
              <a:rect l="textAreaLeft" t="textAreaTop" r="textAreaRight" b="textAreaBottom"/>
              <a:pathLst>
                <a:path w="21600" h="24291">
                  <a:moveTo>
                    <a:pt x="3600" y="0"/>
                  </a:moveTo>
                  <a:arcTo wR="3600" hR="3600" stAng="16200000" swAng="-5400000"/>
                  <a:lnTo>
                    <a:pt x="0" y="20691"/>
                  </a:lnTo>
                  <a:arcTo wR="3600" hR="3600" stAng="10800000" swAng="-5400000"/>
                  <a:lnTo>
                    <a:pt x="18000" y="242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2" name=""/>
            <p:cNvGrpSpPr/>
            <p:nvPr/>
          </p:nvGrpSpPr>
          <p:grpSpPr>
            <a:xfrm>
              <a:off x="6274440" y="3747960"/>
              <a:ext cx="1654920" cy="2270880"/>
              <a:chOff x="6274440" y="3747960"/>
              <a:chExt cx="1654920" cy="2270880"/>
            </a:xfrm>
          </p:grpSpPr>
          <p:grpSp>
            <p:nvGrpSpPr>
              <p:cNvPr id="1953" name=""/>
              <p:cNvGrpSpPr/>
              <p:nvPr/>
            </p:nvGrpSpPr>
            <p:grpSpPr>
              <a:xfrm>
                <a:off x="6274800" y="3747960"/>
                <a:ext cx="1654560" cy="1255680"/>
                <a:chOff x="6274800" y="3747960"/>
                <a:chExt cx="1654560" cy="1255680"/>
              </a:xfrm>
            </p:grpSpPr>
            <p:grpSp>
              <p:nvGrpSpPr>
                <p:cNvPr id="1954" name=""/>
                <p:cNvGrpSpPr/>
                <p:nvPr/>
              </p:nvGrpSpPr>
              <p:grpSpPr>
                <a:xfrm>
                  <a:off x="6760800" y="4010760"/>
                  <a:ext cx="732240" cy="484200"/>
                  <a:chOff x="6760800" y="4010760"/>
                  <a:chExt cx="732240" cy="484200"/>
                </a:xfrm>
              </p:grpSpPr>
              <p:sp>
                <p:nvSpPr>
                  <p:cNvPr id="1955" name=""/>
                  <p:cNvSpPr/>
                  <p:nvPr/>
                </p:nvSpPr>
                <p:spPr>
                  <a:xfrm>
                    <a:off x="6775560" y="4494960"/>
                    <a:ext cx="152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>
                    <a:off x="7311240" y="4011120"/>
                    <a:ext cx="152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57" name=""/>
                  <p:cNvGrpSpPr/>
                  <p:nvPr/>
                </p:nvGrpSpPr>
                <p:grpSpPr>
                  <a:xfrm>
                    <a:off x="6760800" y="4010760"/>
                    <a:ext cx="732240" cy="482760"/>
                    <a:chOff x="6760800" y="4010760"/>
                    <a:chExt cx="732240" cy="482760"/>
                  </a:xfrm>
                </p:grpSpPr>
                <p:sp>
                  <p:nvSpPr>
                    <p:cNvPr id="1958" name=""/>
                    <p:cNvSpPr/>
                    <p:nvPr/>
                  </p:nvSpPr>
                  <p:spPr>
                    <a:xfrm flipV="1">
                      <a:off x="6760800" y="4010400"/>
                      <a:ext cx="366480" cy="48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9" name=""/>
                    <p:cNvSpPr/>
                    <p:nvPr/>
                  </p:nvSpPr>
                  <p:spPr>
                    <a:xfrm flipV="1" rot="10800000">
                      <a:off x="7128000" y="4010400"/>
                      <a:ext cx="365040" cy="48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60" name=""/>
                <p:cNvGrpSpPr/>
                <p:nvPr/>
              </p:nvGrpSpPr>
              <p:grpSpPr>
                <a:xfrm>
                  <a:off x="6274800" y="3747960"/>
                  <a:ext cx="1584360" cy="990360"/>
                  <a:chOff x="6274800" y="3747960"/>
                  <a:chExt cx="1584360" cy="990360"/>
                </a:xfrm>
              </p:grpSpPr>
              <p:sp>
                <p:nvSpPr>
                  <p:cNvPr id="1961" name=""/>
                  <p:cNvSpPr/>
                  <p:nvPr/>
                </p:nvSpPr>
                <p:spPr>
                  <a:xfrm>
                    <a:off x="6765480" y="3903120"/>
                    <a:ext cx="0" cy="700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6729120" y="4577760"/>
                    <a:ext cx="1130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6729120" y="4422600"/>
                    <a:ext cx="108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6693480" y="4006080"/>
                    <a:ext cx="10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6657120" y="3747960"/>
                    <a:ext cx="185400" cy="39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6274800" y="3958560"/>
                    <a:ext cx="590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c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6274800" y="433944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8" name=""/>
                <p:cNvSpPr/>
                <p:nvPr/>
              </p:nvSpPr>
              <p:spPr>
                <a:xfrm>
                  <a:off x="7678440" y="460476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6357600" y="37569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0" name=""/>
              <p:cNvGrpSpPr/>
              <p:nvPr/>
            </p:nvGrpSpPr>
            <p:grpSpPr>
              <a:xfrm>
                <a:off x="6274440" y="4689000"/>
                <a:ext cx="1654920" cy="1329840"/>
                <a:chOff x="6274440" y="4689000"/>
                <a:chExt cx="1654920" cy="1329840"/>
              </a:xfrm>
            </p:grpSpPr>
            <p:grpSp>
              <p:nvGrpSpPr>
                <p:cNvPr id="1971" name=""/>
                <p:cNvGrpSpPr/>
                <p:nvPr/>
              </p:nvGrpSpPr>
              <p:grpSpPr>
                <a:xfrm>
                  <a:off x="6274440" y="4689000"/>
                  <a:ext cx="1591200" cy="1254600"/>
                  <a:chOff x="6274440" y="4689000"/>
                  <a:chExt cx="1591200" cy="1254600"/>
                </a:xfrm>
              </p:grpSpPr>
              <p:sp>
                <p:nvSpPr>
                  <p:cNvPr id="1972" name=""/>
                  <p:cNvSpPr/>
                  <p:nvPr/>
                </p:nvSpPr>
                <p:spPr>
                  <a:xfrm>
                    <a:off x="6773760" y="4896360"/>
                    <a:ext cx="0" cy="702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6735960" y="5572440"/>
                    <a:ext cx="112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6735960" y="5156640"/>
                    <a:ext cx="10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6663960" y="4689000"/>
                    <a:ext cx="1839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6274440" y="508788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6356880" y="5544720"/>
                    <a:ext cx="734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N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8" name=""/>
                <p:cNvGrpSpPr/>
                <p:nvPr/>
              </p:nvGrpSpPr>
              <p:grpSpPr>
                <a:xfrm>
                  <a:off x="6357600" y="4817160"/>
                  <a:ext cx="1571760" cy="1201680"/>
                  <a:chOff x="6357600" y="4817160"/>
                  <a:chExt cx="1571760" cy="1201680"/>
                </a:xfrm>
              </p:grpSpPr>
              <p:grpSp>
                <p:nvGrpSpPr>
                  <p:cNvPr id="1979" name=""/>
                  <p:cNvGrpSpPr/>
                  <p:nvPr/>
                </p:nvGrpSpPr>
                <p:grpSpPr>
                  <a:xfrm>
                    <a:off x="6723720" y="5280120"/>
                    <a:ext cx="1138680" cy="274320"/>
                    <a:chOff x="6723720" y="5280120"/>
                    <a:chExt cx="1138680" cy="274320"/>
                  </a:xfrm>
                </p:grpSpPr>
                <p:sp>
                  <p:nvSpPr>
                    <p:cNvPr id="1980" name=""/>
                    <p:cNvSpPr/>
                    <p:nvPr/>
                  </p:nvSpPr>
                  <p:spPr>
                    <a:xfrm>
                      <a:off x="7602480" y="5554440"/>
                      <a:ext cx="2376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81" name=""/>
                    <p:cNvGrpSpPr/>
                    <p:nvPr/>
                  </p:nvGrpSpPr>
                  <p:grpSpPr>
                    <a:xfrm>
                      <a:off x="6723720" y="5280120"/>
                      <a:ext cx="1138680" cy="273600"/>
                      <a:chOff x="6723720" y="5280120"/>
                      <a:chExt cx="1138680" cy="273600"/>
                    </a:xfrm>
                  </p:grpSpPr>
                  <p:sp>
                    <p:nvSpPr>
                      <p:cNvPr id="1982" name=""/>
                      <p:cNvSpPr/>
                      <p:nvPr/>
                    </p:nvSpPr>
                    <p:spPr>
                      <a:xfrm flipH="1" flipV="1">
                        <a:off x="7292160" y="5279760"/>
                        <a:ext cx="569880" cy="27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3" name=""/>
                      <p:cNvSpPr/>
                      <p:nvPr/>
                    </p:nvSpPr>
                    <p:spPr>
                      <a:xfrm flipH="1" flipV="1" rot="10800000">
                        <a:off x="6723720" y="5280120"/>
                        <a:ext cx="568080" cy="27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84" name=""/>
                    <p:cNvSpPr/>
                    <p:nvPr/>
                  </p:nvSpPr>
                  <p:spPr>
                    <a:xfrm>
                      <a:off x="6769080" y="5280480"/>
                      <a:ext cx="2376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5" name=""/>
                  <p:cNvSpPr/>
                  <p:nvPr/>
                </p:nvSpPr>
                <p:spPr>
                  <a:xfrm>
                    <a:off x="6357600" y="481716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7678440" y="5619960"/>
                    <a:ext cx="250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87" name=""/>
            <p:cNvGrpSpPr/>
            <p:nvPr/>
          </p:nvGrpSpPr>
          <p:grpSpPr>
            <a:xfrm>
              <a:off x="4218840" y="3718080"/>
              <a:ext cx="1654920" cy="2271240"/>
              <a:chOff x="4218840" y="3718080"/>
              <a:chExt cx="1654920" cy="2271240"/>
            </a:xfrm>
          </p:grpSpPr>
          <p:grpSp>
            <p:nvGrpSpPr>
              <p:cNvPr id="1988" name=""/>
              <p:cNvGrpSpPr/>
              <p:nvPr/>
            </p:nvGrpSpPr>
            <p:grpSpPr>
              <a:xfrm>
                <a:off x="4219200" y="3718080"/>
                <a:ext cx="1654560" cy="1255680"/>
                <a:chOff x="4219200" y="3718080"/>
                <a:chExt cx="1654560" cy="1255680"/>
              </a:xfrm>
            </p:grpSpPr>
            <p:grpSp>
              <p:nvGrpSpPr>
                <p:cNvPr id="1989" name=""/>
                <p:cNvGrpSpPr/>
                <p:nvPr/>
              </p:nvGrpSpPr>
              <p:grpSpPr>
                <a:xfrm>
                  <a:off x="4697280" y="3980880"/>
                  <a:ext cx="513000" cy="484200"/>
                  <a:chOff x="4697280" y="3980880"/>
                  <a:chExt cx="513000" cy="484200"/>
                </a:xfrm>
              </p:grpSpPr>
              <p:sp>
                <p:nvSpPr>
                  <p:cNvPr id="1990" name=""/>
                  <p:cNvSpPr/>
                  <p:nvPr/>
                </p:nvSpPr>
                <p:spPr>
                  <a:xfrm>
                    <a:off x="5093280" y="4465080"/>
                    <a:ext cx="106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91" name=""/>
                  <p:cNvGrpSpPr/>
                  <p:nvPr/>
                </p:nvGrpSpPr>
                <p:grpSpPr>
                  <a:xfrm>
                    <a:off x="4697280" y="3980880"/>
                    <a:ext cx="513000" cy="482760"/>
                    <a:chOff x="4697280" y="3980880"/>
                    <a:chExt cx="513000" cy="482760"/>
                  </a:xfrm>
                </p:grpSpPr>
                <p:sp>
                  <p:nvSpPr>
                    <p:cNvPr id="1992" name=""/>
                    <p:cNvSpPr/>
                    <p:nvPr/>
                  </p:nvSpPr>
                  <p:spPr>
                    <a:xfrm flipH="1" flipV="1">
                      <a:off x="4953240" y="3980520"/>
                      <a:ext cx="256680" cy="48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3" name=""/>
                    <p:cNvSpPr/>
                    <p:nvPr/>
                  </p:nvSpPr>
                  <p:spPr>
                    <a:xfrm flipH="1" flipV="1" rot="10800000">
                      <a:off x="4697280" y="3980520"/>
                      <a:ext cx="255600" cy="48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94" name=""/>
                  <p:cNvSpPr/>
                  <p:nvPr/>
                </p:nvSpPr>
                <p:spPr>
                  <a:xfrm>
                    <a:off x="4718160" y="3981240"/>
                    <a:ext cx="106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5" name=""/>
                <p:cNvGrpSpPr/>
                <p:nvPr/>
              </p:nvGrpSpPr>
              <p:grpSpPr>
                <a:xfrm>
                  <a:off x="4219200" y="3718080"/>
                  <a:ext cx="1584360" cy="992880"/>
                  <a:chOff x="4219200" y="3718080"/>
                  <a:chExt cx="1584360" cy="992880"/>
                </a:xfrm>
              </p:grpSpPr>
              <p:grpSp>
                <p:nvGrpSpPr>
                  <p:cNvPr id="1996" name=""/>
                  <p:cNvGrpSpPr/>
                  <p:nvPr/>
                </p:nvGrpSpPr>
                <p:grpSpPr>
                  <a:xfrm>
                    <a:off x="4700520" y="3971160"/>
                    <a:ext cx="510120" cy="484200"/>
                    <a:chOff x="4700520" y="3971160"/>
                    <a:chExt cx="510120" cy="484200"/>
                  </a:xfrm>
                </p:grpSpPr>
                <p:sp>
                  <p:nvSpPr>
                    <p:cNvPr id="1997" name=""/>
                    <p:cNvSpPr/>
                    <p:nvPr/>
                  </p:nvSpPr>
                  <p:spPr>
                    <a:xfrm flipH="1">
                      <a:off x="5094000" y="4455360"/>
                      <a:ext cx="106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"/>
                    <p:cNvSpPr/>
                    <p:nvPr/>
                  </p:nvSpPr>
                  <p:spPr>
                    <a:xfrm flipH="1">
                      <a:off x="4719960" y="3971520"/>
                      <a:ext cx="1065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99" name=""/>
                    <p:cNvGrpSpPr/>
                    <p:nvPr/>
                  </p:nvGrpSpPr>
                  <p:grpSpPr>
                    <a:xfrm>
                      <a:off x="4700520" y="3971160"/>
                      <a:ext cx="510120" cy="482760"/>
                      <a:chOff x="4700520" y="3971160"/>
                      <a:chExt cx="510120" cy="482760"/>
                    </a:xfrm>
                  </p:grpSpPr>
                  <p:sp>
                    <p:nvSpPr>
                      <p:cNvPr id="2000" name=""/>
                      <p:cNvSpPr/>
                      <p:nvPr/>
                    </p:nvSpPr>
                    <p:spPr>
                      <a:xfrm flipH="1" flipV="1">
                        <a:off x="4955040" y="3970800"/>
                        <a:ext cx="255240" cy="48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1" name=""/>
                      <p:cNvSpPr/>
                      <p:nvPr/>
                    </p:nvSpPr>
                    <p:spPr>
                      <a:xfrm flipH="1" flipV="1" rot="10800000">
                        <a:off x="4700520" y="3970800"/>
                        <a:ext cx="254160" cy="48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002" name=""/>
                  <p:cNvGrpSpPr/>
                  <p:nvPr/>
                </p:nvGrpSpPr>
                <p:grpSpPr>
                  <a:xfrm>
                    <a:off x="4219200" y="3718080"/>
                    <a:ext cx="1584360" cy="992880"/>
                    <a:chOff x="4219200" y="3718080"/>
                    <a:chExt cx="1584360" cy="992880"/>
                  </a:xfrm>
                </p:grpSpPr>
                <p:sp>
                  <p:nvSpPr>
                    <p:cNvPr id="2003" name=""/>
                    <p:cNvSpPr/>
                    <p:nvPr/>
                  </p:nvSpPr>
                  <p:spPr>
                    <a:xfrm>
                      <a:off x="4709880" y="3873240"/>
                      <a:ext cx="0" cy="701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"/>
                    <p:cNvSpPr/>
                    <p:nvPr/>
                  </p:nvSpPr>
                  <p:spPr>
                    <a:xfrm>
                      <a:off x="4673520" y="4548600"/>
                      <a:ext cx="113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5" name=""/>
                    <p:cNvSpPr/>
                    <p:nvPr/>
                  </p:nvSpPr>
                  <p:spPr>
                    <a:xfrm>
                      <a:off x="4673520" y="4393440"/>
                      <a:ext cx="1083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6" name=""/>
                    <p:cNvSpPr/>
                    <p:nvPr/>
                  </p:nvSpPr>
                  <p:spPr>
                    <a:xfrm>
                      <a:off x="4637520" y="3976560"/>
                      <a:ext cx="108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7" name=""/>
                    <p:cNvSpPr/>
                    <p:nvPr/>
                  </p:nvSpPr>
                  <p:spPr>
                    <a:xfrm>
                      <a:off x="4601520" y="3718080"/>
                      <a:ext cx="18540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8" name=""/>
                    <p:cNvSpPr/>
                    <p:nvPr/>
                  </p:nvSpPr>
                  <p:spPr>
                    <a:xfrm>
                      <a:off x="4219200" y="3929040"/>
                      <a:ext cx="5907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9" name=""/>
                    <p:cNvSpPr/>
                    <p:nvPr/>
                  </p:nvSpPr>
                  <p:spPr>
                    <a:xfrm>
                      <a:off x="4219200" y="431208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010" name=""/>
                <p:cNvSpPr/>
                <p:nvPr/>
              </p:nvSpPr>
              <p:spPr>
                <a:xfrm>
                  <a:off x="5622840" y="457488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301640" y="37270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2" name=""/>
              <p:cNvGrpSpPr/>
              <p:nvPr/>
            </p:nvGrpSpPr>
            <p:grpSpPr>
              <a:xfrm>
                <a:off x="4218840" y="4659120"/>
                <a:ext cx="1654920" cy="1330200"/>
                <a:chOff x="4218840" y="4659120"/>
                <a:chExt cx="1654920" cy="1330200"/>
              </a:xfrm>
            </p:grpSpPr>
            <p:grpSp>
              <p:nvGrpSpPr>
                <p:cNvPr id="2013" name=""/>
                <p:cNvGrpSpPr/>
                <p:nvPr/>
              </p:nvGrpSpPr>
              <p:grpSpPr>
                <a:xfrm>
                  <a:off x="4705920" y="5247360"/>
                  <a:ext cx="631440" cy="301680"/>
                  <a:chOff x="4705920" y="5247360"/>
                  <a:chExt cx="631440" cy="301680"/>
                </a:xfrm>
              </p:grpSpPr>
              <p:sp>
                <p:nvSpPr>
                  <p:cNvPr id="2014" name=""/>
                  <p:cNvSpPr/>
                  <p:nvPr/>
                </p:nvSpPr>
                <p:spPr>
                  <a:xfrm>
                    <a:off x="4718160" y="5549040"/>
                    <a:ext cx="132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5181120" y="5247720"/>
                    <a:ext cx="132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16" name=""/>
                  <p:cNvGrpSpPr/>
                  <p:nvPr/>
                </p:nvGrpSpPr>
                <p:grpSpPr>
                  <a:xfrm>
                    <a:off x="4705920" y="5247360"/>
                    <a:ext cx="631440" cy="300960"/>
                    <a:chOff x="4705920" y="5247360"/>
                    <a:chExt cx="631440" cy="300960"/>
                  </a:xfrm>
                </p:grpSpPr>
                <p:sp>
                  <p:nvSpPr>
                    <p:cNvPr id="2017" name=""/>
                    <p:cNvSpPr/>
                    <p:nvPr/>
                  </p:nvSpPr>
                  <p:spPr>
                    <a:xfrm flipV="1">
                      <a:off x="4705920" y="5247000"/>
                      <a:ext cx="316080" cy="30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"/>
                    <p:cNvSpPr/>
                    <p:nvPr/>
                  </p:nvSpPr>
                  <p:spPr>
                    <a:xfrm flipV="1" rot="10800000">
                      <a:off x="5022720" y="5247360"/>
                      <a:ext cx="314640" cy="30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19" name=""/>
                <p:cNvGrpSpPr/>
                <p:nvPr/>
              </p:nvGrpSpPr>
              <p:grpSpPr>
                <a:xfrm>
                  <a:off x="4218840" y="4659120"/>
                  <a:ext cx="1591200" cy="1254600"/>
                  <a:chOff x="4218840" y="4659120"/>
                  <a:chExt cx="1591200" cy="1254600"/>
                </a:xfrm>
              </p:grpSpPr>
              <p:grpSp>
                <p:nvGrpSpPr>
                  <p:cNvPr id="2020" name=""/>
                  <p:cNvGrpSpPr/>
                  <p:nvPr/>
                </p:nvGrpSpPr>
                <p:grpSpPr>
                  <a:xfrm>
                    <a:off x="4218840" y="4659120"/>
                    <a:ext cx="1591200" cy="1254600"/>
                    <a:chOff x="4218840" y="4659120"/>
                    <a:chExt cx="1591200" cy="1254600"/>
                  </a:xfrm>
                </p:grpSpPr>
                <p:sp>
                  <p:nvSpPr>
                    <p:cNvPr id="2021" name=""/>
                    <p:cNvSpPr/>
                    <p:nvPr/>
                  </p:nvSpPr>
                  <p:spPr>
                    <a:xfrm>
                      <a:off x="4718160" y="4866480"/>
                      <a:ext cx="0" cy="702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2" name=""/>
                    <p:cNvSpPr/>
                    <p:nvPr/>
                  </p:nvSpPr>
                  <p:spPr>
                    <a:xfrm>
                      <a:off x="4680360" y="5542560"/>
                      <a:ext cx="112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3" name=""/>
                    <p:cNvSpPr/>
                    <p:nvPr/>
                  </p:nvSpPr>
                  <p:spPr>
                    <a:xfrm>
                      <a:off x="4680360" y="5126760"/>
                      <a:ext cx="109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4" name=""/>
                    <p:cNvSpPr/>
                    <p:nvPr/>
                  </p:nvSpPr>
                  <p:spPr>
                    <a:xfrm>
                      <a:off x="4608360" y="4659120"/>
                      <a:ext cx="183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5" name=""/>
                    <p:cNvSpPr/>
                    <p:nvPr/>
                  </p:nvSpPr>
                  <p:spPr>
                    <a:xfrm>
                      <a:off x="4218840" y="505800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"/>
                    <p:cNvSpPr/>
                    <p:nvPr/>
                  </p:nvSpPr>
                  <p:spPr>
                    <a:xfrm>
                      <a:off x="4301280" y="5514840"/>
                      <a:ext cx="73404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7" name=""/>
                  <p:cNvGrpSpPr/>
                  <p:nvPr/>
                </p:nvGrpSpPr>
                <p:grpSpPr>
                  <a:xfrm>
                    <a:off x="4699440" y="5240880"/>
                    <a:ext cx="676080" cy="301680"/>
                    <a:chOff x="4699440" y="5240880"/>
                    <a:chExt cx="676080" cy="301680"/>
                  </a:xfrm>
                </p:grpSpPr>
                <p:sp>
                  <p:nvSpPr>
                    <p:cNvPr id="2028" name=""/>
                    <p:cNvSpPr/>
                    <p:nvPr/>
                  </p:nvSpPr>
                  <p:spPr>
                    <a:xfrm>
                      <a:off x="4713120" y="5542560"/>
                      <a:ext cx="141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"/>
                    <p:cNvSpPr/>
                    <p:nvPr/>
                  </p:nvSpPr>
                  <p:spPr>
                    <a:xfrm>
                      <a:off x="5208480" y="5241240"/>
                      <a:ext cx="141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30" name=""/>
                    <p:cNvGrpSpPr/>
                    <p:nvPr/>
                  </p:nvGrpSpPr>
                  <p:grpSpPr>
                    <a:xfrm>
                      <a:off x="4699440" y="5240880"/>
                      <a:ext cx="676080" cy="300960"/>
                      <a:chOff x="4699440" y="5240880"/>
                      <a:chExt cx="676080" cy="300960"/>
                    </a:xfrm>
                  </p:grpSpPr>
                  <p:sp>
                    <p:nvSpPr>
                      <p:cNvPr id="2031" name=""/>
                      <p:cNvSpPr/>
                      <p:nvPr/>
                    </p:nvSpPr>
                    <p:spPr>
                      <a:xfrm flipV="1">
                        <a:off x="4699440" y="5240520"/>
                        <a:ext cx="338760" cy="30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2" name=""/>
                      <p:cNvSpPr/>
                      <p:nvPr/>
                    </p:nvSpPr>
                    <p:spPr>
                      <a:xfrm flipV="1" rot="10800000">
                        <a:off x="5038560" y="5240880"/>
                        <a:ext cx="336960" cy="30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033" name=""/>
                <p:cNvSpPr/>
                <p:nvPr/>
              </p:nvSpPr>
              <p:spPr>
                <a:xfrm>
                  <a:off x="4301640" y="47858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5622840" y="55904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35" name=""/>
          <p:cNvSpPr/>
          <p:nvPr/>
        </p:nvSpPr>
        <p:spPr>
          <a:xfrm>
            <a:off x="225360" y="2765520"/>
            <a:ext cx="1559160" cy="391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237960" y="5311800"/>
            <a:ext cx="1559160" cy="3916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7" name=""/>
          <p:cNvGrpSpPr/>
          <p:nvPr/>
        </p:nvGrpSpPr>
        <p:grpSpPr>
          <a:xfrm>
            <a:off x="7939080" y="-161280"/>
            <a:ext cx="1020600" cy="928080"/>
            <a:chOff x="7939080" y="-161280"/>
            <a:chExt cx="1020600" cy="928080"/>
          </a:xfrm>
        </p:grpSpPr>
        <p:sp>
          <p:nvSpPr>
            <p:cNvPr id="2038" name=""/>
            <p:cNvSpPr/>
            <p:nvPr/>
          </p:nvSpPr>
          <p:spPr>
            <a:xfrm>
              <a:off x="7939080" y="-161280"/>
              <a:ext cx="1020600" cy="76392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Push-pu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9" name=""/>
            <p:cNvGrpSpPr/>
            <p:nvPr/>
          </p:nvGrpSpPr>
          <p:grpSpPr>
            <a:xfrm>
              <a:off x="8156520" y="512640"/>
              <a:ext cx="611280" cy="254160"/>
              <a:chOff x="8156520" y="512640"/>
              <a:chExt cx="611280" cy="254160"/>
            </a:xfrm>
          </p:grpSpPr>
          <p:grpSp>
            <p:nvGrpSpPr>
              <p:cNvPr id="2040" name=""/>
              <p:cNvGrpSpPr/>
              <p:nvPr/>
            </p:nvGrpSpPr>
            <p:grpSpPr>
              <a:xfrm>
                <a:off x="8156520" y="605520"/>
                <a:ext cx="611280" cy="161280"/>
                <a:chOff x="8156520" y="605520"/>
                <a:chExt cx="611280" cy="161280"/>
              </a:xfrm>
            </p:grpSpPr>
            <p:grpSp>
              <p:nvGrpSpPr>
                <p:cNvPr id="2041" name=""/>
                <p:cNvGrpSpPr/>
                <p:nvPr/>
              </p:nvGrpSpPr>
              <p:grpSpPr>
                <a:xfrm>
                  <a:off x="8156520" y="726840"/>
                  <a:ext cx="611280" cy="39960"/>
                  <a:chOff x="8156520" y="726840"/>
                  <a:chExt cx="611280" cy="39960"/>
                </a:xfrm>
              </p:grpSpPr>
              <p:sp>
                <p:nvSpPr>
                  <p:cNvPr id="2042" name=""/>
                  <p:cNvSpPr/>
                  <p:nvPr/>
                </p:nvSpPr>
                <p:spPr>
                  <a:xfrm>
                    <a:off x="825840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846252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856440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866664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836028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815652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8" name=""/>
                <p:cNvGrpSpPr/>
                <p:nvPr/>
              </p:nvGrpSpPr>
              <p:grpSpPr>
                <a:xfrm>
                  <a:off x="8207640" y="686160"/>
                  <a:ext cx="509040" cy="39960"/>
                  <a:chOff x="8207640" y="686160"/>
                  <a:chExt cx="509040" cy="39960"/>
                </a:xfrm>
              </p:grpSpPr>
              <p:sp>
                <p:nvSpPr>
                  <p:cNvPr id="2049" name=""/>
                  <p:cNvSpPr/>
                  <p:nvPr/>
                </p:nvSpPr>
                <p:spPr>
                  <a:xfrm>
                    <a:off x="820764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841140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851364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861552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830952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4" name=""/>
                <p:cNvGrpSpPr/>
                <p:nvPr/>
              </p:nvGrpSpPr>
              <p:grpSpPr>
                <a:xfrm>
                  <a:off x="8258760" y="605520"/>
                  <a:ext cx="407520" cy="80280"/>
                  <a:chOff x="8258760" y="605520"/>
                  <a:chExt cx="407520" cy="80280"/>
                </a:xfrm>
              </p:grpSpPr>
              <p:sp>
                <p:nvSpPr>
                  <p:cNvPr id="2055" name=""/>
                  <p:cNvSpPr/>
                  <p:nvPr/>
                </p:nvSpPr>
                <p:spPr>
                  <a:xfrm>
                    <a:off x="836064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856476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846288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825876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830988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851400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841212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62" name=""/>
              <p:cNvGrpSpPr/>
              <p:nvPr/>
            </p:nvGrpSpPr>
            <p:grpSpPr>
              <a:xfrm>
                <a:off x="8387280" y="605520"/>
                <a:ext cx="151920" cy="160200"/>
                <a:chOff x="8387280" y="605520"/>
                <a:chExt cx="151920" cy="160200"/>
              </a:xfrm>
            </p:grpSpPr>
            <p:grpSp>
              <p:nvGrpSpPr>
                <p:cNvPr id="2063" name=""/>
                <p:cNvGrpSpPr/>
                <p:nvPr/>
              </p:nvGrpSpPr>
              <p:grpSpPr>
                <a:xfrm>
                  <a:off x="8387280" y="726480"/>
                  <a:ext cx="151920" cy="39240"/>
                  <a:chOff x="8387280" y="726480"/>
                  <a:chExt cx="151920" cy="39240"/>
                </a:xfrm>
              </p:grpSpPr>
              <p:sp>
                <p:nvSpPr>
                  <p:cNvPr id="2064" name=""/>
                  <p:cNvSpPr/>
                  <p:nvPr/>
                </p:nvSpPr>
                <p:spPr>
                  <a:xfrm>
                    <a:off x="8393400" y="739440"/>
                    <a:ext cx="139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>
                    <a:off x="8387280" y="752400"/>
                    <a:ext cx="151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>
                    <a:off x="8399880" y="726480"/>
                    <a:ext cx="126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7" name=""/>
                <p:cNvGrpSpPr/>
                <p:nvPr/>
              </p:nvGrpSpPr>
              <p:grpSpPr>
                <a:xfrm>
                  <a:off x="8406000" y="686160"/>
                  <a:ext cx="114120" cy="39240"/>
                  <a:chOff x="8406000" y="686160"/>
                  <a:chExt cx="114120" cy="39240"/>
                </a:xfrm>
              </p:grpSpPr>
              <p:sp>
                <p:nvSpPr>
                  <p:cNvPr id="2068" name=""/>
                  <p:cNvSpPr/>
                  <p:nvPr/>
                </p:nvSpPr>
                <p:spPr>
                  <a:xfrm>
                    <a:off x="8410680" y="69912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8406000" y="71208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0" name=""/>
                  <p:cNvSpPr/>
                  <p:nvPr/>
                </p:nvSpPr>
                <p:spPr>
                  <a:xfrm>
                    <a:off x="8415360" y="68616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1" name=""/>
                <p:cNvGrpSpPr/>
                <p:nvPr/>
              </p:nvGrpSpPr>
              <p:grpSpPr>
                <a:xfrm>
                  <a:off x="8418960" y="645840"/>
                  <a:ext cx="88560" cy="39240"/>
                  <a:chOff x="8418960" y="645840"/>
                  <a:chExt cx="88560" cy="39240"/>
                </a:xfrm>
              </p:grpSpPr>
              <p:sp>
                <p:nvSpPr>
                  <p:cNvPr id="2072" name=""/>
                  <p:cNvSpPr/>
                  <p:nvPr/>
                </p:nvSpPr>
                <p:spPr>
                  <a:xfrm>
                    <a:off x="8422560" y="658800"/>
                    <a:ext cx="81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>
                    <a:off x="8418960" y="671760"/>
                    <a:ext cx="885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>
                    <a:off x="8426160" y="645840"/>
                    <a:ext cx="738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5" name=""/>
                <p:cNvGrpSpPr/>
                <p:nvPr/>
              </p:nvGrpSpPr>
              <p:grpSpPr>
                <a:xfrm>
                  <a:off x="8431560" y="605520"/>
                  <a:ext cx="63360" cy="39240"/>
                  <a:chOff x="8431560" y="605520"/>
                  <a:chExt cx="63360" cy="39240"/>
                </a:xfrm>
              </p:grpSpPr>
              <p:sp>
                <p:nvSpPr>
                  <p:cNvPr id="2076" name=""/>
                  <p:cNvSpPr/>
                  <p:nvPr/>
                </p:nvSpPr>
                <p:spPr>
                  <a:xfrm>
                    <a:off x="8434080" y="61848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>
                    <a:off x="8431560" y="63144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>
                    <a:off x="8436600" y="60552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79" name=""/>
              <p:cNvSpPr/>
              <p:nvPr/>
            </p:nvSpPr>
            <p:spPr>
              <a:xfrm>
                <a:off x="8335440" y="556920"/>
                <a:ext cx="25344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0" name=""/>
              <p:cNvGrpSpPr/>
              <p:nvPr/>
            </p:nvGrpSpPr>
            <p:grpSpPr>
              <a:xfrm>
                <a:off x="8370720" y="575280"/>
                <a:ext cx="183600" cy="28440"/>
                <a:chOff x="8370720" y="575280"/>
                <a:chExt cx="183600" cy="28440"/>
              </a:xfrm>
            </p:grpSpPr>
            <p:sp>
              <p:nvSpPr>
                <p:cNvPr id="2081" name=""/>
                <p:cNvSpPr/>
                <p:nvPr/>
              </p:nvSpPr>
              <p:spPr>
                <a:xfrm>
                  <a:off x="837072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841068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852912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848880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844920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6" name=""/>
              <p:cNvSpPr/>
              <p:nvPr/>
            </p:nvSpPr>
            <p:spPr>
              <a:xfrm>
                <a:off x="8328240" y="552960"/>
                <a:ext cx="268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flipV="1">
                <a:off x="8333640" y="519840"/>
                <a:ext cx="257400" cy="32040"/>
              </a:xfrm>
              <a:custGeom>
                <a:avLst/>
                <a:gdLst>
                  <a:gd name="textAreaLeft" fmla="*/ 26640 w 257400"/>
                  <a:gd name="textAreaRight" fmla="*/ 230760 w 25740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8341200" y="512640"/>
                <a:ext cx="24084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realization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338040" y="2949480"/>
            <a:ext cx="8607600" cy="25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Driver schedul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Model_name      Rise_on_dly   Rise_off_dly   Fall_on_dly    Fall_off_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_1       2.00ns               NA                 2.0ns               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_2       2.50ns               NA                 2.0ns               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99680" y="1176120"/>
            <a:ext cx="735156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 with two IO-Mod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 top level mode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2" name=""/>
          <p:cNvGrpSpPr/>
          <p:nvPr/>
        </p:nvGrpSpPr>
        <p:grpSpPr>
          <a:xfrm>
            <a:off x="7939080" y="-161280"/>
            <a:ext cx="1020600" cy="928080"/>
            <a:chOff x="7939080" y="-161280"/>
            <a:chExt cx="1020600" cy="928080"/>
          </a:xfrm>
        </p:grpSpPr>
        <p:sp>
          <p:nvSpPr>
            <p:cNvPr id="2093" name=""/>
            <p:cNvSpPr/>
            <p:nvPr/>
          </p:nvSpPr>
          <p:spPr>
            <a:xfrm>
              <a:off x="7939080" y="-161280"/>
              <a:ext cx="1020600" cy="76392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Push-pu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4" name=""/>
            <p:cNvGrpSpPr/>
            <p:nvPr/>
          </p:nvGrpSpPr>
          <p:grpSpPr>
            <a:xfrm>
              <a:off x="8156520" y="512640"/>
              <a:ext cx="611280" cy="254160"/>
              <a:chOff x="8156520" y="512640"/>
              <a:chExt cx="611280" cy="254160"/>
            </a:xfrm>
          </p:grpSpPr>
          <p:grpSp>
            <p:nvGrpSpPr>
              <p:cNvPr id="2095" name=""/>
              <p:cNvGrpSpPr/>
              <p:nvPr/>
            </p:nvGrpSpPr>
            <p:grpSpPr>
              <a:xfrm>
                <a:off x="8156520" y="605520"/>
                <a:ext cx="611280" cy="161280"/>
                <a:chOff x="8156520" y="605520"/>
                <a:chExt cx="611280" cy="161280"/>
              </a:xfrm>
            </p:grpSpPr>
            <p:grpSp>
              <p:nvGrpSpPr>
                <p:cNvPr id="2096" name=""/>
                <p:cNvGrpSpPr/>
                <p:nvPr/>
              </p:nvGrpSpPr>
              <p:grpSpPr>
                <a:xfrm>
                  <a:off x="8156520" y="726840"/>
                  <a:ext cx="611280" cy="39960"/>
                  <a:chOff x="8156520" y="726840"/>
                  <a:chExt cx="611280" cy="39960"/>
                </a:xfrm>
              </p:grpSpPr>
              <p:sp>
                <p:nvSpPr>
                  <p:cNvPr id="2097" name=""/>
                  <p:cNvSpPr/>
                  <p:nvPr/>
                </p:nvSpPr>
                <p:spPr>
                  <a:xfrm>
                    <a:off x="825840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846252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856440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866664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836028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>
                    <a:off x="815652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3" name=""/>
                <p:cNvGrpSpPr/>
                <p:nvPr/>
              </p:nvGrpSpPr>
              <p:grpSpPr>
                <a:xfrm>
                  <a:off x="8207640" y="686160"/>
                  <a:ext cx="509040" cy="39960"/>
                  <a:chOff x="8207640" y="686160"/>
                  <a:chExt cx="509040" cy="39960"/>
                </a:xfrm>
              </p:grpSpPr>
              <p:sp>
                <p:nvSpPr>
                  <p:cNvPr id="2104" name=""/>
                  <p:cNvSpPr/>
                  <p:nvPr/>
                </p:nvSpPr>
                <p:spPr>
                  <a:xfrm>
                    <a:off x="820764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>
                    <a:off x="841140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851364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"/>
                  <p:cNvSpPr/>
                  <p:nvPr/>
                </p:nvSpPr>
                <p:spPr>
                  <a:xfrm>
                    <a:off x="861552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"/>
                  <p:cNvSpPr/>
                  <p:nvPr/>
                </p:nvSpPr>
                <p:spPr>
                  <a:xfrm>
                    <a:off x="830952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9" name=""/>
                <p:cNvGrpSpPr/>
                <p:nvPr/>
              </p:nvGrpSpPr>
              <p:grpSpPr>
                <a:xfrm>
                  <a:off x="8258760" y="605520"/>
                  <a:ext cx="407520" cy="80280"/>
                  <a:chOff x="8258760" y="605520"/>
                  <a:chExt cx="407520" cy="80280"/>
                </a:xfrm>
              </p:grpSpPr>
              <p:sp>
                <p:nvSpPr>
                  <p:cNvPr id="2110" name=""/>
                  <p:cNvSpPr/>
                  <p:nvPr/>
                </p:nvSpPr>
                <p:spPr>
                  <a:xfrm>
                    <a:off x="836064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1" name=""/>
                  <p:cNvSpPr/>
                  <p:nvPr/>
                </p:nvSpPr>
                <p:spPr>
                  <a:xfrm>
                    <a:off x="856476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>
                    <a:off x="846288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"/>
                  <p:cNvSpPr/>
                  <p:nvPr/>
                </p:nvSpPr>
                <p:spPr>
                  <a:xfrm>
                    <a:off x="825876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830988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5" name=""/>
                  <p:cNvSpPr/>
                  <p:nvPr/>
                </p:nvSpPr>
                <p:spPr>
                  <a:xfrm>
                    <a:off x="851400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>
                    <a:off x="841212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7" name=""/>
              <p:cNvGrpSpPr/>
              <p:nvPr/>
            </p:nvGrpSpPr>
            <p:grpSpPr>
              <a:xfrm>
                <a:off x="8387280" y="605520"/>
                <a:ext cx="151920" cy="160200"/>
                <a:chOff x="8387280" y="605520"/>
                <a:chExt cx="151920" cy="160200"/>
              </a:xfrm>
            </p:grpSpPr>
            <p:grpSp>
              <p:nvGrpSpPr>
                <p:cNvPr id="2118" name=""/>
                <p:cNvGrpSpPr/>
                <p:nvPr/>
              </p:nvGrpSpPr>
              <p:grpSpPr>
                <a:xfrm>
                  <a:off x="8387280" y="726480"/>
                  <a:ext cx="151920" cy="39240"/>
                  <a:chOff x="8387280" y="726480"/>
                  <a:chExt cx="151920" cy="39240"/>
                </a:xfrm>
              </p:grpSpPr>
              <p:sp>
                <p:nvSpPr>
                  <p:cNvPr id="2119" name=""/>
                  <p:cNvSpPr/>
                  <p:nvPr/>
                </p:nvSpPr>
                <p:spPr>
                  <a:xfrm>
                    <a:off x="8393400" y="739440"/>
                    <a:ext cx="139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0" name=""/>
                  <p:cNvSpPr/>
                  <p:nvPr/>
                </p:nvSpPr>
                <p:spPr>
                  <a:xfrm>
                    <a:off x="8387280" y="752400"/>
                    <a:ext cx="151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>
                    <a:off x="8399880" y="726480"/>
                    <a:ext cx="126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2" name=""/>
                <p:cNvGrpSpPr/>
                <p:nvPr/>
              </p:nvGrpSpPr>
              <p:grpSpPr>
                <a:xfrm>
                  <a:off x="8406000" y="686160"/>
                  <a:ext cx="114120" cy="39240"/>
                  <a:chOff x="8406000" y="686160"/>
                  <a:chExt cx="114120" cy="39240"/>
                </a:xfrm>
              </p:grpSpPr>
              <p:sp>
                <p:nvSpPr>
                  <p:cNvPr id="2123" name=""/>
                  <p:cNvSpPr/>
                  <p:nvPr/>
                </p:nvSpPr>
                <p:spPr>
                  <a:xfrm>
                    <a:off x="8410680" y="69912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>
                    <a:off x="8406000" y="71208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>
                    <a:off x="8415360" y="68616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6" name=""/>
                <p:cNvGrpSpPr/>
                <p:nvPr/>
              </p:nvGrpSpPr>
              <p:grpSpPr>
                <a:xfrm>
                  <a:off x="8418960" y="645840"/>
                  <a:ext cx="88560" cy="39240"/>
                  <a:chOff x="8418960" y="645840"/>
                  <a:chExt cx="88560" cy="39240"/>
                </a:xfrm>
              </p:grpSpPr>
              <p:sp>
                <p:nvSpPr>
                  <p:cNvPr id="2127" name=""/>
                  <p:cNvSpPr/>
                  <p:nvPr/>
                </p:nvSpPr>
                <p:spPr>
                  <a:xfrm>
                    <a:off x="8422560" y="658800"/>
                    <a:ext cx="81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>
                    <a:off x="8418960" y="671760"/>
                    <a:ext cx="885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8426160" y="645840"/>
                    <a:ext cx="738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0" name=""/>
                <p:cNvGrpSpPr/>
                <p:nvPr/>
              </p:nvGrpSpPr>
              <p:grpSpPr>
                <a:xfrm>
                  <a:off x="8431560" y="605520"/>
                  <a:ext cx="63360" cy="39240"/>
                  <a:chOff x="8431560" y="605520"/>
                  <a:chExt cx="63360" cy="39240"/>
                </a:xfrm>
              </p:grpSpPr>
              <p:sp>
                <p:nvSpPr>
                  <p:cNvPr id="2131" name=""/>
                  <p:cNvSpPr/>
                  <p:nvPr/>
                </p:nvSpPr>
                <p:spPr>
                  <a:xfrm>
                    <a:off x="8434080" y="61848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>
                    <a:off x="8431560" y="63144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>
                    <a:off x="8436600" y="60552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34" name=""/>
              <p:cNvSpPr/>
              <p:nvPr/>
            </p:nvSpPr>
            <p:spPr>
              <a:xfrm>
                <a:off x="8335440" y="556920"/>
                <a:ext cx="25344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5" name=""/>
              <p:cNvGrpSpPr/>
              <p:nvPr/>
            </p:nvGrpSpPr>
            <p:grpSpPr>
              <a:xfrm>
                <a:off x="8370720" y="575280"/>
                <a:ext cx="183600" cy="28440"/>
                <a:chOff x="8370720" y="575280"/>
                <a:chExt cx="183600" cy="28440"/>
              </a:xfrm>
            </p:grpSpPr>
            <p:sp>
              <p:nvSpPr>
                <p:cNvPr id="2136" name=""/>
                <p:cNvSpPr/>
                <p:nvPr/>
              </p:nvSpPr>
              <p:spPr>
                <a:xfrm>
                  <a:off x="837072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841068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852912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848880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844920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1" name=""/>
              <p:cNvSpPr/>
              <p:nvPr/>
            </p:nvSpPr>
            <p:spPr>
              <a:xfrm>
                <a:off x="8328240" y="552960"/>
                <a:ext cx="268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8333640" y="519840"/>
                <a:ext cx="257400" cy="32040"/>
              </a:xfrm>
              <a:custGeom>
                <a:avLst/>
                <a:gdLst>
                  <a:gd name="textAreaLeft" fmla="*/ 26640 w 257400"/>
                  <a:gd name="textAreaRight" fmla="*/ 230760 w 25740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8341200" y="512640"/>
                <a:ext cx="24084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IO-models stand alone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274680" y="866880"/>
            <a:ext cx="860724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_1  stand alone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_2  stand al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4622760" y="1609560"/>
            <a:ext cx="3141720" cy="4024440"/>
            <a:chOff x="4622760" y="1609560"/>
            <a:chExt cx="3141720" cy="4024440"/>
          </a:xfrm>
        </p:grpSpPr>
        <p:pic>
          <p:nvPicPr>
            <p:cNvPr id="2147" name="" descr=""/>
            <p:cNvPicPr/>
            <p:nvPr/>
          </p:nvPicPr>
          <p:blipFill>
            <a:blip r:embed="rId1"/>
            <a:stretch/>
          </p:blipFill>
          <p:spPr>
            <a:xfrm>
              <a:off x="4622760" y="1609560"/>
              <a:ext cx="311004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8" name=""/>
            <p:cNvGrpSpPr/>
            <p:nvPr/>
          </p:nvGrpSpPr>
          <p:grpSpPr>
            <a:xfrm>
              <a:off x="4761360" y="2298240"/>
              <a:ext cx="3003120" cy="2230200"/>
              <a:chOff x="4761360" y="2298240"/>
              <a:chExt cx="3003120" cy="2230200"/>
            </a:xfrm>
          </p:grpSpPr>
          <p:grpSp>
            <p:nvGrpSpPr>
              <p:cNvPr id="2149" name=""/>
              <p:cNvGrpSpPr/>
              <p:nvPr/>
            </p:nvGrpSpPr>
            <p:grpSpPr>
              <a:xfrm>
                <a:off x="5195880" y="3838680"/>
                <a:ext cx="1969920" cy="142560"/>
                <a:chOff x="5195880" y="3838680"/>
                <a:chExt cx="1969920" cy="142560"/>
              </a:xfrm>
            </p:grpSpPr>
            <p:sp>
              <p:nvSpPr>
                <p:cNvPr id="2150" name=""/>
                <p:cNvSpPr/>
                <p:nvPr/>
              </p:nvSpPr>
              <p:spPr>
                <a:xfrm>
                  <a:off x="5195880" y="3906360"/>
                  <a:ext cx="1969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6446880" y="3853440"/>
                  <a:ext cx="0" cy="12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5508720" y="3853440"/>
                  <a:ext cx="0" cy="12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6137280" y="3838680"/>
                  <a:ext cx="0" cy="12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5827680" y="3845880"/>
                  <a:ext cx="0" cy="12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6763320" y="3838680"/>
                  <a:ext cx="0" cy="12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6" name=""/>
              <p:cNvGrpSpPr/>
              <p:nvPr/>
            </p:nvGrpSpPr>
            <p:grpSpPr>
              <a:xfrm>
                <a:off x="5140440" y="2298240"/>
                <a:ext cx="110520" cy="2098440"/>
                <a:chOff x="5140440" y="2298240"/>
                <a:chExt cx="110520" cy="2098440"/>
              </a:xfrm>
            </p:grpSpPr>
            <p:sp>
              <p:nvSpPr>
                <p:cNvPr id="2157" name=""/>
                <p:cNvSpPr/>
                <p:nvPr/>
              </p:nvSpPr>
              <p:spPr>
                <a:xfrm flipV="1">
                  <a:off x="5192640" y="2298240"/>
                  <a:ext cx="0" cy="20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5149800" y="347508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5143320" y="264312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5140440" y="306288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1" name=""/>
              <p:cNvSpPr/>
              <p:nvPr/>
            </p:nvSpPr>
            <p:spPr>
              <a:xfrm>
                <a:off x="5113440" y="4167360"/>
                <a:ext cx="26510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0      1.6     3.2     4.8  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054920" y="3835440"/>
                <a:ext cx="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829480" y="3848040"/>
                <a:ext cx="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445080" y="3848040"/>
                <a:ext cx="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133960" y="348948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121360" y="307656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133960" y="265104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4761360" y="2421000"/>
                <a:ext cx="307080" cy="168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3"/>
                  </a:spcBef>
                  <a:spcAft>
                    <a:spcPts val="113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3"/>
                  </a:spcBef>
                  <a:spcAft>
                    <a:spcPts val="113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69" name=""/>
          <p:cNvGrpSpPr/>
          <p:nvPr/>
        </p:nvGrpSpPr>
        <p:grpSpPr>
          <a:xfrm>
            <a:off x="612720" y="1609560"/>
            <a:ext cx="3151080" cy="4029120"/>
            <a:chOff x="612720" y="1609560"/>
            <a:chExt cx="3151080" cy="4029120"/>
          </a:xfrm>
        </p:grpSpPr>
        <p:pic>
          <p:nvPicPr>
            <p:cNvPr id="2170" name="" descr=""/>
            <p:cNvPicPr/>
            <p:nvPr/>
          </p:nvPicPr>
          <p:blipFill>
            <a:blip r:embed="rId2"/>
            <a:stretch/>
          </p:blipFill>
          <p:spPr>
            <a:xfrm>
              <a:off x="612720" y="1609560"/>
              <a:ext cx="3113280" cy="402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1" name=""/>
            <p:cNvGrpSpPr/>
            <p:nvPr/>
          </p:nvGrpSpPr>
          <p:grpSpPr>
            <a:xfrm>
              <a:off x="760680" y="2311560"/>
              <a:ext cx="3003120" cy="2229480"/>
              <a:chOff x="760680" y="2311560"/>
              <a:chExt cx="3003120" cy="2229480"/>
            </a:xfrm>
          </p:grpSpPr>
          <p:grpSp>
            <p:nvGrpSpPr>
              <p:cNvPr id="2172" name=""/>
              <p:cNvGrpSpPr/>
              <p:nvPr/>
            </p:nvGrpSpPr>
            <p:grpSpPr>
              <a:xfrm>
                <a:off x="1195200" y="3851280"/>
                <a:ext cx="1969920" cy="142200"/>
                <a:chOff x="1195200" y="3851280"/>
                <a:chExt cx="1969920" cy="142200"/>
              </a:xfrm>
            </p:grpSpPr>
            <p:sp>
              <p:nvSpPr>
                <p:cNvPr id="2173" name=""/>
                <p:cNvSpPr/>
                <p:nvPr/>
              </p:nvSpPr>
              <p:spPr>
                <a:xfrm>
                  <a:off x="1195200" y="3918600"/>
                  <a:ext cx="1969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2446200" y="3866040"/>
                  <a:ext cx="0" cy="12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1508040" y="3866040"/>
                  <a:ext cx="0" cy="12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2136600" y="3851280"/>
                  <a:ext cx="0" cy="12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1827000" y="3858480"/>
                  <a:ext cx="0" cy="12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2762640" y="3851280"/>
                  <a:ext cx="0" cy="12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9" name=""/>
              <p:cNvGrpSpPr/>
              <p:nvPr/>
            </p:nvGrpSpPr>
            <p:grpSpPr>
              <a:xfrm>
                <a:off x="1139760" y="2311560"/>
                <a:ext cx="110520" cy="2098080"/>
                <a:chOff x="1139760" y="2311560"/>
                <a:chExt cx="110520" cy="2098080"/>
              </a:xfrm>
            </p:grpSpPr>
            <p:sp>
              <p:nvSpPr>
                <p:cNvPr id="2180" name=""/>
                <p:cNvSpPr/>
                <p:nvPr/>
              </p:nvSpPr>
              <p:spPr>
                <a:xfrm flipV="1">
                  <a:off x="1191960" y="2311560"/>
                  <a:ext cx="0" cy="20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1149120" y="348768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1142640" y="265608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1139760" y="307584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4" name=""/>
              <p:cNvSpPr/>
              <p:nvPr/>
            </p:nvSpPr>
            <p:spPr>
              <a:xfrm>
                <a:off x="1112760" y="4179960"/>
                <a:ext cx="26510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0      1.6     3.2     4.8  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054240" y="3848040"/>
                <a:ext cx="0" cy="13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828800" y="3860640"/>
                <a:ext cx="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2444400" y="3860640"/>
                <a:ext cx="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133280" y="350208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120680" y="308916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133280" y="266364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60680" y="2433600"/>
                <a:ext cx="307080" cy="168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3"/>
                  </a:spcBef>
                  <a:spcAft>
                    <a:spcPts val="113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3"/>
                  </a:spcBef>
                  <a:spcAft>
                    <a:spcPts val="113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92" name=""/>
          <p:cNvGrpSpPr/>
          <p:nvPr/>
        </p:nvGrpSpPr>
        <p:grpSpPr>
          <a:xfrm>
            <a:off x="1395360" y="5253120"/>
            <a:ext cx="6694560" cy="855360"/>
            <a:chOff x="1395360" y="5253120"/>
            <a:chExt cx="6694560" cy="855360"/>
          </a:xfrm>
        </p:grpSpPr>
        <p:sp>
          <p:nvSpPr>
            <p:cNvPr id="2193" name=""/>
            <p:cNvSpPr/>
            <p:nvPr/>
          </p:nvSpPr>
          <p:spPr>
            <a:xfrm>
              <a:off x="1395360" y="5253120"/>
              <a:ext cx="66945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load was a 3 inch transmission line ( open 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river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 of 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148360" y="5943600"/>
              <a:ext cx="7318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416320" y="5954760"/>
              <a:ext cx="73152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6" name=""/>
          <p:cNvGrpSpPr/>
          <p:nvPr/>
        </p:nvGrpSpPr>
        <p:grpSpPr>
          <a:xfrm>
            <a:off x="7939080" y="-161280"/>
            <a:ext cx="1020600" cy="928080"/>
            <a:chOff x="7939080" y="-161280"/>
            <a:chExt cx="1020600" cy="928080"/>
          </a:xfrm>
        </p:grpSpPr>
        <p:sp>
          <p:nvSpPr>
            <p:cNvPr id="2197" name=""/>
            <p:cNvSpPr/>
            <p:nvPr/>
          </p:nvSpPr>
          <p:spPr>
            <a:xfrm>
              <a:off x="7939080" y="-161280"/>
              <a:ext cx="1020600" cy="76392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Push-pu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8" name=""/>
            <p:cNvGrpSpPr/>
            <p:nvPr/>
          </p:nvGrpSpPr>
          <p:grpSpPr>
            <a:xfrm>
              <a:off x="8156520" y="512640"/>
              <a:ext cx="611280" cy="254160"/>
              <a:chOff x="8156520" y="512640"/>
              <a:chExt cx="611280" cy="254160"/>
            </a:xfrm>
          </p:grpSpPr>
          <p:grpSp>
            <p:nvGrpSpPr>
              <p:cNvPr id="2199" name=""/>
              <p:cNvGrpSpPr/>
              <p:nvPr/>
            </p:nvGrpSpPr>
            <p:grpSpPr>
              <a:xfrm>
                <a:off x="8156520" y="605520"/>
                <a:ext cx="611280" cy="161280"/>
                <a:chOff x="8156520" y="605520"/>
                <a:chExt cx="611280" cy="161280"/>
              </a:xfrm>
            </p:grpSpPr>
            <p:grpSp>
              <p:nvGrpSpPr>
                <p:cNvPr id="2200" name=""/>
                <p:cNvGrpSpPr/>
                <p:nvPr/>
              </p:nvGrpSpPr>
              <p:grpSpPr>
                <a:xfrm>
                  <a:off x="8156520" y="726840"/>
                  <a:ext cx="611280" cy="39960"/>
                  <a:chOff x="8156520" y="726840"/>
                  <a:chExt cx="611280" cy="39960"/>
                </a:xfrm>
              </p:grpSpPr>
              <p:sp>
                <p:nvSpPr>
                  <p:cNvPr id="2201" name=""/>
                  <p:cNvSpPr/>
                  <p:nvPr/>
                </p:nvSpPr>
                <p:spPr>
                  <a:xfrm>
                    <a:off x="825840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846252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>
                    <a:off x="856440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866664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836028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815652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7" name=""/>
                <p:cNvGrpSpPr/>
                <p:nvPr/>
              </p:nvGrpSpPr>
              <p:grpSpPr>
                <a:xfrm>
                  <a:off x="8207640" y="686160"/>
                  <a:ext cx="509040" cy="39960"/>
                  <a:chOff x="8207640" y="686160"/>
                  <a:chExt cx="509040" cy="39960"/>
                </a:xfrm>
              </p:grpSpPr>
              <p:sp>
                <p:nvSpPr>
                  <p:cNvPr id="2208" name=""/>
                  <p:cNvSpPr/>
                  <p:nvPr/>
                </p:nvSpPr>
                <p:spPr>
                  <a:xfrm>
                    <a:off x="820764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>
                    <a:off x="841140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851364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>
                    <a:off x="861552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>
                    <a:off x="830952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3" name=""/>
                <p:cNvGrpSpPr/>
                <p:nvPr/>
              </p:nvGrpSpPr>
              <p:grpSpPr>
                <a:xfrm>
                  <a:off x="8258760" y="605520"/>
                  <a:ext cx="407520" cy="80280"/>
                  <a:chOff x="8258760" y="605520"/>
                  <a:chExt cx="407520" cy="80280"/>
                </a:xfrm>
              </p:grpSpPr>
              <p:sp>
                <p:nvSpPr>
                  <p:cNvPr id="2214" name=""/>
                  <p:cNvSpPr/>
                  <p:nvPr/>
                </p:nvSpPr>
                <p:spPr>
                  <a:xfrm>
                    <a:off x="836064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>
                    <a:off x="856476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846288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825876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830988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>
                    <a:off x="851400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841212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21" name=""/>
              <p:cNvGrpSpPr/>
              <p:nvPr/>
            </p:nvGrpSpPr>
            <p:grpSpPr>
              <a:xfrm>
                <a:off x="8387280" y="605520"/>
                <a:ext cx="151920" cy="160200"/>
                <a:chOff x="8387280" y="605520"/>
                <a:chExt cx="151920" cy="160200"/>
              </a:xfrm>
            </p:grpSpPr>
            <p:grpSp>
              <p:nvGrpSpPr>
                <p:cNvPr id="2222" name=""/>
                <p:cNvGrpSpPr/>
                <p:nvPr/>
              </p:nvGrpSpPr>
              <p:grpSpPr>
                <a:xfrm>
                  <a:off x="8387280" y="726480"/>
                  <a:ext cx="151920" cy="39240"/>
                  <a:chOff x="8387280" y="726480"/>
                  <a:chExt cx="151920" cy="39240"/>
                </a:xfrm>
              </p:grpSpPr>
              <p:sp>
                <p:nvSpPr>
                  <p:cNvPr id="2223" name=""/>
                  <p:cNvSpPr/>
                  <p:nvPr/>
                </p:nvSpPr>
                <p:spPr>
                  <a:xfrm>
                    <a:off x="8393400" y="739440"/>
                    <a:ext cx="139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8387280" y="752400"/>
                    <a:ext cx="151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8399880" y="726480"/>
                    <a:ext cx="126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6" name=""/>
                <p:cNvGrpSpPr/>
                <p:nvPr/>
              </p:nvGrpSpPr>
              <p:grpSpPr>
                <a:xfrm>
                  <a:off x="8406000" y="686160"/>
                  <a:ext cx="114120" cy="39240"/>
                  <a:chOff x="8406000" y="686160"/>
                  <a:chExt cx="114120" cy="39240"/>
                </a:xfrm>
              </p:grpSpPr>
              <p:sp>
                <p:nvSpPr>
                  <p:cNvPr id="2227" name=""/>
                  <p:cNvSpPr/>
                  <p:nvPr/>
                </p:nvSpPr>
                <p:spPr>
                  <a:xfrm>
                    <a:off x="8410680" y="69912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>
                    <a:off x="8406000" y="71208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8415360" y="68616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0" name=""/>
                <p:cNvGrpSpPr/>
                <p:nvPr/>
              </p:nvGrpSpPr>
              <p:grpSpPr>
                <a:xfrm>
                  <a:off x="8418960" y="645840"/>
                  <a:ext cx="88560" cy="39240"/>
                  <a:chOff x="8418960" y="645840"/>
                  <a:chExt cx="88560" cy="39240"/>
                </a:xfrm>
              </p:grpSpPr>
              <p:sp>
                <p:nvSpPr>
                  <p:cNvPr id="2231" name=""/>
                  <p:cNvSpPr/>
                  <p:nvPr/>
                </p:nvSpPr>
                <p:spPr>
                  <a:xfrm>
                    <a:off x="8422560" y="658800"/>
                    <a:ext cx="81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>
                    <a:off x="8418960" y="671760"/>
                    <a:ext cx="885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>
                    <a:off x="8426160" y="645840"/>
                    <a:ext cx="738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4" name=""/>
                <p:cNvGrpSpPr/>
                <p:nvPr/>
              </p:nvGrpSpPr>
              <p:grpSpPr>
                <a:xfrm>
                  <a:off x="8431560" y="605520"/>
                  <a:ext cx="63360" cy="39240"/>
                  <a:chOff x="8431560" y="605520"/>
                  <a:chExt cx="63360" cy="39240"/>
                </a:xfrm>
              </p:grpSpPr>
              <p:sp>
                <p:nvSpPr>
                  <p:cNvPr id="2235" name=""/>
                  <p:cNvSpPr/>
                  <p:nvPr/>
                </p:nvSpPr>
                <p:spPr>
                  <a:xfrm>
                    <a:off x="8434080" y="61848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8431560" y="63144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8436600" y="60552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8" name=""/>
              <p:cNvSpPr/>
              <p:nvPr/>
            </p:nvSpPr>
            <p:spPr>
              <a:xfrm>
                <a:off x="8335440" y="556920"/>
                <a:ext cx="25344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9" name=""/>
              <p:cNvGrpSpPr/>
              <p:nvPr/>
            </p:nvGrpSpPr>
            <p:grpSpPr>
              <a:xfrm>
                <a:off x="8370720" y="575280"/>
                <a:ext cx="183600" cy="28440"/>
                <a:chOff x="8370720" y="575280"/>
                <a:chExt cx="183600" cy="28440"/>
              </a:xfrm>
            </p:grpSpPr>
            <p:sp>
              <p:nvSpPr>
                <p:cNvPr id="2240" name=""/>
                <p:cNvSpPr/>
                <p:nvPr/>
              </p:nvSpPr>
              <p:spPr>
                <a:xfrm>
                  <a:off x="837072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841068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852912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848880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844920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5" name=""/>
              <p:cNvSpPr/>
              <p:nvPr/>
            </p:nvSpPr>
            <p:spPr>
              <a:xfrm>
                <a:off x="8328240" y="552960"/>
                <a:ext cx="268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V="1">
                <a:off x="8333640" y="519840"/>
                <a:ext cx="257400" cy="32040"/>
              </a:xfrm>
              <a:custGeom>
                <a:avLst/>
                <a:gdLst>
                  <a:gd name="textAreaLeft" fmla="*/ 26640 w 257400"/>
                  <a:gd name="textAreaRight" fmla="*/ 230760 w 25740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8341200" y="512640"/>
                <a:ext cx="24084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666666"/>
                </a:solidFill>
                <a:latin typeface="Arial"/>
              </a:rPr>
              <a:t>Experiences with driver schedules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" y="3428640"/>
            <a:ext cx="8634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ckhard Lensk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DATE , Nice , Fr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19th April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3 test case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276120" y="604800"/>
            <a:ext cx="835992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examples show only rising edge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0" name=""/>
          <p:cNvGrpSpPr/>
          <p:nvPr/>
        </p:nvGrpSpPr>
        <p:grpSpPr>
          <a:xfrm>
            <a:off x="182520" y="1501920"/>
            <a:ext cx="8651880" cy="1319040"/>
            <a:chOff x="182520" y="1501920"/>
            <a:chExt cx="8651880" cy="1319040"/>
          </a:xfrm>
        </p:grpSpPr>
        <p:sp>
          <p:nvSpPr>
            <p:cNvPr id="2251" name=""/>
            <p:cNvSpPr/>
            <p:nvPr/>
          </p:nvSpPr>
          <p:spPr>
            <a:xfrm>
              <a:off x="803160" y="1501920"/>
              <a:ext cx="8031240" cy="13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|Model_name  Rise_on_dly   Rise_off_dly   Fall_on_dly    Fall_off_d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_1       0.00ns               NA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0ns                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_2       0.00ns               NA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0ns                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82520" y="195984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208080" y="3313080"/>
            <a:ext cx="8694720" cy="1319040"/>
            <a:chOff x="208080" y="3313080"/>
            <a:chExt cx="8694720" cy="1319040"/>
          </a:xfrm>
        </p:grpSpPr>
        <p:sp>
          <p:nvSpPr>
            <p:cNvPr id="2254" name=""/>
            <p:cNvSpPr/>
            <p:nvPr/>
          </p:nvSpPr>
          <p:spPr>
            <a:xfrm>
              <a:off x="208080" y="372996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71560" y="3313080"/>
              <a:ext cx="8031240" cy="13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|Model_name  Rise_on_dly   Rise_off_dly   Fall_on_dly    Fall_off_d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_1       0.00ns               NA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0ns                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_2       2.50ns               NA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0ns                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233280" y="4919760"/>
            <a:ext cx="8688600" cy="1319040"/>
            <a:chOff x="233280" y="4919760"/>
            <a:chExt cx="8688600" cy="1319040"/>
          </a:xfrm>
        </p:grpSpPr>
        <p:sp>
          <p:nvSpPr>
            <p:cNvPr id="2257" name=""/>
            <p:cNvSpPr/>
            <p:nvPr/>
          </p:nvSpPr>
          <p:spPr>
            <a:xfrm>
              <a:off x="233280" y="537768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890640" y="4919760"/>
              <a:ext cx="8031240" cy="13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|Model_name  Rise_on_dly   Rise_off_dly   Fall_on_dly    Fall_off_d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_1       2.00ns               NA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0ns                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_2       2.50ns               NA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0ns                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9" name=""/>
          <p:cNvGrpSpPr/>
          <p:nvPr/>
        </p:nvGrpSpPr>
        <p:grpSpPr>
          <a:xfrm>
            <a:off x="7939080" y="-161280"/>
            <a:ext cx="1020600" cy="928080"/>
            <a:chOff x="7939080" y="-161280"/>
            <a:chExt cx="1020600" cy="928080"/>
          </a:xfrm>
        </p:grpSpPr>
        <p:sp>
          <p:nvSpPr>
            <p:cNvPr id="2260" name=""/>
            <p:cNvSpPr/>
            <p:nvPr/>
          </p:nvSpPr>
          <p:spPr>
            <a:xfrm>
              <a:off x="7939080" y="-161280"/>
              <a:ext cx="1020600" cy="76392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Push-pu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1" name=""/>
            <p:cNvGrpSpPr/>
            <p:nvPr/>
          </p:nvGrpSpPr>
          <p:grpSpPr>
            <a:xfrm>
              <a:off x="8156520" y="512640"/>
              <a:ext cx="611280" cy="254160"/>
              <a:chOff x="8156520" y="512640"/>
              <a:chExt cx="611280" cy="254160"/>
            </a:xfrm>
          </p:grpSpPr>
          <p:grpSp>
            <p:nvGrpSpPr>
              <p:cNvPr id="2262" name=""/>
              <p:cNvGrpSpPr/>
              <p:nvPr/>
            </p:nvGrpSpPr>
            <p:grpSpPr>
              <a:xfrm>
                <a:off x="8156520" y="605520"/>
                <a:ext cx="611280" cy="161280"/>
                <a:chOff x="8156520" y="605520"/>
                <a:chExt cx="611280" cy="161280"/>
              </a:xfrm>
            </p:grpSpPr>
            <p:grpSp>
              <p:nvGrpSpPr>
                <p:cNvPr id="2263" name=""/>
                <p:cNvGrpSpPr/>
                <p:nvPr/>
              </p:nvGrpSpPr>
              <p:grpSpPr>
                <a:xfrm>
                  <a:off x="8156520" y="726840"/>
                  <a:ext cx="611280" cy="39960"/>
                  <a:chOff x="8156520" y="726840"/>
                  <a:chExt cx="611280" cy="39960"/>
                </a:xfrm>
              </p:grpSpPr>
              <p:sp>
                <p:nvSpPr>
                  <p:cNvPr id="2264" name=""/>
                  <p:cNvSpPr/>
                  <p:nvPr/>
                </p:nvSpPr>
                <p:spPr>
                  <a:xfrm>
                    <a:off x="825840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>
                    <a:off x="846252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6" name=""/>
                  <p:cNvSpPr/>
                  <p:nvPr/>
                </p:nvSpPr>
                <p:spPr>
                  <a:xfrm>
                    <a:off x="856440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>
                    <a:off x="866664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>
                    <a:off x="836028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9" name=""/>
                  <p:cNvSpPr/>
                  <p:nvPr/>
                </p:nvSpPr>
                <p:spPr>
                  <a:xfrm>
                    <a:off x="815652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0" name=""/>
                <p:cNvGrpSpPr/>
                <p:nvPr/>
              </p:nvGrpSpPr>
              <p:grpSpPr>
                <a:xfrm>
                  <a:off x="8207640" y="686160"/>
                  <a:ext cx="509040" cy="39960"/>
                  <a:chOff x="8207640" y="686160"/>
                  <a:chExt cx="509040" cy="39960"/>
                </a:xfrm>
              </p:grpSpPr>
              <p:sp>
                <p:nvSpPr>
                  <p:cNvPr id="2271" name=""/>
                  <p:cNvSpPr/>
                  <p:nvPr/>
                </p:nvSpPr>
                <p:spPr>
                  <a:xfrm>
                    <a:off x="820764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841140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851364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861552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830952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6" name=""/>
                <p:cNvGrpSpPr/>
                <p:nvPr/>
              </p:nvGrpSpPr>
              <p:grpSpPr>
                <a:xfrm>
                  <a:off x="8258760" y="605520"/>
                  <a:ext cx="407520" cy="80280"/>
                  <a:chOff x="8258760" y="605520"/>
                  <a:chExt cx="407520" cy="80280"/>
                </a:xfrm>
              </p:grpSpPr>
              <p:sp>
                <p:nvSpPr>
                  <p:cNvPr id="2277" name=""/>
                  <p:cNvSpPr/>
                  <p:nvPr/>
                </p:nvSpPr>
                <p:spPr>
                  <a:xfrm>
                    <a:off x="836064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>
                    <a:off x="856476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9" name=""/>
                  <p:cNvSpPr/>
                  <p:nvPr/>
                </p:nvSpPr>
                <p:spPr>
                  <a:xfrm>
                    <a:off x="846288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>
                    <a:off x="825876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>
                    <a:off x="830988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>
                    <a:off x="851400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>
                    <a:off x="841212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84" name=""/>
              <p:cNvGrpSpPr/>
              <p:nvPr/>
            </p:nvGrpSpPr>
            <p:grpSpPr>
              <a:xfrm>
                <a:off x="8387280" y="605520"/>
                <a:ext cx="151920" cy="160200"/>
                <a:chOff x="8387280" y="605520"/>
                <a:chExt cx="151920" cy="160200"/>
              </a:xfrm>
            </p:grpSpPr>
            <p:grpSp>
              <p:nvGrpSpPr>
                <p:cNvPr id="2285" name=""/>
                <p:cNvGrpSpPr/>
                <p:nvPr/>
              </p:nvGrpSpPr>
              <p:grpSpPr>
                <a:xfrm>
                  <a:off x="8387280" y="726480"/>
                  <a:ext cx="151920" cy="39240"/>
                  <a:chOff x="8387280" y="726480"/>
                  <a:chExt cx="151920" cy="39240"/>
                </a:xfrm>
              </p:grpSpPr>
              <p:sp>
                <p:nvSpPr>
                  <p:cNvPr id="2286" name=""/>
                  <p:cNvSpPr/>
                  <p:nvPr/>
                </p:nvSpPr>
                <p:spPr>
                  <a:xfrm>
                    <a:off x="8393400" y="739440"/>
                    <a:ext cx="139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>
                    <a:off x="8387280" y="752400"/>
                    <a:ext cx="151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>
                    <a:off x="8399880" y="726480"/>
                    <a:ext cx="126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9" name=""/>
                <p:cNvGrpSpPr/>
                <p:nvPr/>
              </p:nvGrpSpPr>
              <p:grpSpPr>
                <a:xfrm>
                  <a:off x="8406000" y="686160"/>
                  <a:ext cx="114120" cy="39240"/>
                  <a:chOff x="8406000" y="686160"/>
                  <a:chExt cx="114120" cy="39240"/>
                </a:xfrm>
              </p:grpSpPr>
              <p:sp>
                <p:nvSpPr>
                  <p:cNvPr id="2290" name=""/>
                  <p:cNvSpPr/>
                  <p:nvPr/>
                </p:nvSpPr>
                <p:spPr>
                  <a:xfrm>
                    <a:off x="8410680" y="69912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>
                    <a:off x="8406000" y="71208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8415360" y="68616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3" name=""/>
                <p:cNvGrpSpPr/>
                <p:nvPr/>
              </p:nvGrpSpPr>
              <p:grpSpPr>
                <a:xfrm>
                  <a:off x="8418960" y="645840"/>
                  <a:ext cx="88560" cy="39240"/>
                  <a:chOff x="8418960" y="645840"/>
                  <a:chExt cx="88560" cy="39240"/>
                </a:xfrm>
              </p:grpSpPr>
              <p:sp>
                <p:nvSpPr>
                  <p:cNvPr id="2294" name=""/>
                  <p:cNvSpPr/>
                  <p:nvPr/>
                </p:nvSpPr>
                <p:spPr>
                  <a:xfrm>
                    <a:off x="8422560" y="658800"/>
                    <a:ext cx="81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>
                    <a:off x="8418960" y="671760"/>
                    <a:ext cx="885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6" name=""/>
                  <p:cNvSpPr/>
                  <p:nvPr/>
                </p:nvSpPr>
                <p:spPr>
                  <a:xfrm>
                    <a:off x="8426160" y="645840"/>
                    <a:ext cx="738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7" name=""/>
                <p:cNvGrpSpPr/>
                <p:nvPr/>
              </p:nvGrpSpPr>
              <p:grpSpPr>
                <a:xfrm>
                  <a:off x="8431560" y="605520"/>
                  <a:ext cx="63360" cy="39240"/>
                  <a:chOff x="8431560" y="605520"/>
                  <a:chExt cx="63360" cy="39240"/>
                </a:xfrm>
              </p:grpSpPr>
              <p:sp>
                <p:nvSpPr>
                  <p:cNvPr id="2298" name=""/>
                  <p:cNvSpPr/>
                  <p:nvPr/>
                </p:nvSpPr>
                <p:spPr>
                  <a:xfrm>
                    <a:off x="8434080" y="61848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>
                    <a:off x="8431560" y="63144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>
                    <a:off x="8436600" y="60552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01" name=""/>
              <p:cNvSpPr/>
              <p:nvPr/>
            </p:nvSpPr>
            <p:spPr>
              <a:xfrm>
                <a:off x="8335440" y="556920"/>
                <a:ext cx="25344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2" name=""/>
              <p:cNvGrpSpPr/>
              <p:nvPr/>
            </p:nvGrpSpPr>
            <p:grpSpPr>
              <a:xfrm>
                <a:off x="8370720" y="575280"/>
                <a:ext cx="183600" cy="28440"/>
                <a:chOff x="8370720" y="575280"/>
                <a:chExt cx="183600" cy="28440"/>
              </a:xfrm>
            </p:grpSpPr>
            <p:sp>
              <p:nvSpPr>
                <p:cNvPr id="2303" name=""/>
                <p:cNvSpPr/>
                <p:nvPr/>
              </p:nvSpPr>
              <p:spPr>
                <a:xfrm>
                  <a:off x="837072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841068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852912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848880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844920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8" name=""/>
              <p:cNvSpPr/>
              <p:nvPr/>
            </p:nvSpPr>
            <p:spPr>
              <a:xfrm>
                <a:off x="8328240" y="552960"/>
                <a:ext cx="268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V="1">
                <a:off x="8333640" y="519840"/>
                <a:ext cx="257400" cy="32040"/>
              </a:xfrm>
              <a:custGeom>
                <a:avLst/>
                <a:gdLst>
                  <a:gd name="textAreaLeft" fmla="*/ 26640 w 257400"/>
                  <a:gd name="textAreaRight" fmla="*/ 230760 w 25740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8341200" y="512640"/>
                <a:ext cx="24084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0" y="728640"/>
            <a:ext cx="88329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Model_name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e_on_dly   Rise_off_d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_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0ns               N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0ns               N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ns               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_2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0ns               NA                    2.50ns               NA          2.50ns               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3" name=""/>
          <p:cNvGrpSpPr/>
          <p:nvPr/>
        </p:nvGrpSpPr>
        <p:grpSpPr>
          <a:xfrm>
            <a:off x="190440" y="1168560"/>
            <a:ext cx="3130560" cy="5056200"/>
            <a:chOff x="190440" y="1168560"/>
            <a:chExt cx="3130560" cy="5056200"/>
          </a:xfrm>
        </p:grpSpPr>
        <p:pic>
          <p:nvPicPr>
            <p:cNvPr id="2314" name="" descr=""/>
            <p:cNvPicPr/>
            <p:nvPr/>
          </p:nvPicPr>
          <p:blipFill>
            <a:blip r:embed="rId1"/>
            <a:stretch/>
          </p:blipFill>
          <p:spPr>
            <a:xfrm>
              <a:off x="190440" y="2200320"/>
              <a:ext cx="311004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15" name=""/>
            <p:cNvGrpSpPr/>
            <p:nvPr/>
          </p:nvGrpSpPr>
          <p:grpSpPr>
            <a:xfrm>
              <a:off x="317880" y="2918880"/>
              <a:ext cx="3003120" cy="2230200"/>
              <a:chOff x="317880" y="2918880"/>
              <a:chExt cx="3003120" cy="2230200"/>
            </a:xfrm>
          </p:grpSpPr>
          <p:grpSp>
            <p:nvGrpSpPr>
              <p:cNvPr id="2316" name=""/>
              <p:cNvGrpSpPr/>
              <p:nvPr/>
            </p:nvGrpSpPr>
            <p:grpSpPr>
              <a:xfrm>
                <a:off x="752400" y="4459320"/>
                <a:ext cx="1969920" cy="142560"/>
                <a:chOff x="752400" y="4459320"/>
                <a:chExt cx="1969920" cy="142560"/>
              </a:xfrm>
            </p:grpSpPr>
            <p:sp>
              <p:nvSpPr>
                <p:cNvPr id="2317" name=""/>
                <p:cNvSpPr/>
                <p:nvPr/>
              </p:nvSpPr>
              <p:spPr>
                <a:xfrm>
                  <a:off x="752400" y="4527000"/>
                  <a:ext cx="1969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2003400" y="4474080"/>
                  <a:ext cx="0" cy="12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1065240" y="4474080"/>
                  <a:ext cx="0" cy="12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1693800" y="4459320"/>
                  <a:ext cx="0" cy="12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1384200" y="4466520"/>
                  <a:ext cx="0" cy="12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2319840" y="4459320"/>
                  <a:ext cx="0" cy="12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3" name=""/>
              <p:cNvGrpSpPr/>
              <p:nvPr/>
            </p:nvGrpSpPr>
            <p:grpSpPr>
              <a:xfrm>
                <a:off x="696960" y="2918880"/>
                <a:ext cx="110520" cy="2098440"/>
                <a:chOff x="696960" y="2918880"/>
                <a:chExt cx="110520" cy="2098440"/>
              </a:xfrm>
            </p:grpSpPr>
            <p:sp>
              <p:nvSpPr>
                <p:cNvPr id="2324" name=""/>
                <p:cNvSpPr/>
                <p:nvPr/>
              </p:nvSpPr>
              <p:spPr>
                <a:xfrm flipV="1">
                  <a:off x="749160" y="2918880"/>
                  <a:ext cx="0" cy="20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706320" y="409572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699840" y="326376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696960" y="368352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8" name=""/>
              <p:cNvSpPr/>
              <p:nvPr/>
            </p:nvSpPr>
            <p:spPr>
              <a:xfrm>
                <a:off x="669960" y="4788000"/>
                <a:ext cx="26510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0      1.6     3.2     4.8  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611440" y="4456080"/>
                <a:ext cx="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1386000" y="4468680"/>
                <a:ext cx="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2001600" y="4468680"/>
                <a:ext cx="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90480" y="411012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77880" y="369720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90480" y="327168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317880" y="3041640"/>
                <a:ext cx="307080" cy="168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3"/>
                  </a:spcBef>
                  <a:spcAft>
                    <a:spcPts val="113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3"/>
                  </a:spcBef>
                  <a:spcAft>
                    <a:spcPts val="113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6" name=""/>
            <p:cNvSpPr/>
            <p:nvPr/>
          </p:nvSpPr>
          <p:spPr>
            <a:xfrm>
              <a:off x="1940040" y="205848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533600" y="1168560"/>
              <a:ext cx="1082520" cy="914400"/>
            </a:xfrm>
            <a:prstGeom prst="ellipse">
              <a:avLst/>
            </a:prstGeom>
            <a:noFill/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6033960" y="1193760"/>
            <a:ext cx="3148200" cy="5031000"/>
            <a:chOff x="6033960" y="1193760"/>
            <a:chExt cx="3148200" cy="5031000"/>
          </a:xfrm>
        </p:grpSpPr>
        <p:pic>
          <p:nvPicPr>
            <p:cNvPr id="2339" name="" descr=""/>
            <p:cNvPicPr/>
            <p:nvPr/>
          </p:nvPicPr>
          <p:blipFill>
            <a:blip r:embed="rId2"/>
            <a:stretch/>
          </p:blipFill>
          <p:spPr>
            <a:xfrm>
              <a:off x="6033960" y="2200320"/>
              <a:ext cx="311004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0" name=""/>
            <p:cNvGrpSpPr/>
            <p:nvPr/>
          </p:nvGrpSpPr>
          <p:grpSpPr>
            <a:xfrm>
              <a:off x="6179040" y="1193760"/>
              <a:ext cx="3003120" cy="3953520"/>
              <a:chOff x="6179040" y="1193760"/>
              <a:chExt cx="3003120" cy="3953520"/>
            </a:xfrm>
          </p:grpSpPr>
          <p:grpSp>
            <p:nvGrpSpPr>
              <p:cNvPr id="2341" name=""/>
              <p:cNvGrpSpPr/>
              <p:nvPr/>
            </p:nvGrpSpPr>
            <p:grpSpPr>
              <a:xfrm>
                <a:off x="6179040" y="2917800"/>
                <a:ext cx="3003120" cy="2229480"/>
                <a:chOff x="6179040" y="2917800"/>
                <a:chExt cx="3003120" cy="2229480"/>
              </a:xfrm>
            </p:grpSpPr>
            <p:grpSp>
              <p:nvGrpSpPr>
                <p:cNvPr id="2342" name=""/>
                <p:cNvGrpSpPr/>
                <p:nvPr/>
              </p:nvGrpSpPr>
              <p:grpSpPr>
                <a:xfrm>
                  <a:off x="6613560" y="4457520"/>
                  <a:ext cx="1969920" cy="142200"/>
                  <a:chOff x="6613560" y="4457520"/>
                  <a:chExt cx="1969920" cy="142200"/>
                </a:xfrm>
              </p:grpSpPr>
              <p:sp>
                <p:nvSpPr>
                  <p:cNvPr id="2343" name=""/>
                  <p:cNvSpPr/>
                  <p:nvPr/>
                </p:nvSpPr>
                <p:spPr>
                  <a:xfrm>
                    <a:off x="6613560" y="4524840"/>
                    <a:ext cx="1969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7864560" y="4472280"/>
                    <a:ext cx="0" cy="12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>
                    <a:off x="6926400" y="4472280"/>
                    <a:ext cx="0" cy="12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7554960" y="4457520"/>
                    <a:ext cx="0" cy="12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7245360" y="4464720"/>
                    <a:ext cx="0" cy="12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8181000" y="4457520"/>
                    <a:ext cx="0" cy="12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9" name=""/>
                <p:cNvGrpSpPr/>
                <p:nvPr/>
              </p:nvGrpSpPr>
              <p:grpSpPr>
                <a:xfrm>
                  <a:off x="6558120" y="2917800"/>
                  <a:ext cx="110520" cy="2098080"/>
                  <a:chOff x="6558120" y="2917800"/>
                  <a:chExt cx="110520" cy="2098080"/>
                </a:xfrm>
              </p:grpSpPr>
              <p:sp>
                <p:nvSpPr>
                  <p:cNvPr id="2350" name=""/>
                  <p:cNvSpPr/>
                  <p:nvPr/>
                </p:nvSpPr>
                <p:spPr>
                  <a:xfrm flipV="1">
                    <a:off x="6610320" y="2917800"/>
                    <a:ext cx="0" cy="209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1" name=""/>
                  <p:cNvSpPr/>
                  <p:nvPr/>
                </p:nvSpPr>
                <p:spPr>
                  <a:xfrm>
                    <a:off x="6567480" y="4093920"/>
                    <a:ext cx="101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>
                    <a:off x="6561000" y="3262320"/>
                    <a:ext cx="101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3" name=""/>
                  <p:cNvSpPr/>
                  <p:nvPr/>
                </p:nvSpPr>
                <p:spPr>
                  <a:xfrm>
                    <a:off x="6558120" y="3682080"/>
                    <a:ext cx="101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54" name=""/>
                <p:cNvSpPr/>
                <p:nvPr/>
              </p:nvSpPr>
              <p:spPr>
                <a:xfrm>
                  <a:off x="6531120" y="4786200"/>
                  <a:ext cx="265104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0      1.6     3.2     4.8  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8472600" y="4454280"/>
                  <a:ext cx="0" cy="132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7247160" y="4466880"/>
                  <a:ext cx="0" cy="13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7862760" y="4466880"/>
                  <a:ext cx="0" cy="13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6551640" y="4108320"/>
                  <a:ext cx="133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6539040" y="3695400"/>
                  <a:ext cx="133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6551640" y="3269880"/>
                  <a:ext cx="133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6179040" y="3039840"/>
                  <a:ext cx="307080" cy="168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3"/>
                    </a:spcBef>
                    <a:spcAft>
                      <a:spcPts val="113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3"/>
                    </a:spcBef>
                    <a:spcAft>
                      <a:spcPts val="113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2" name=""/>
              <p:cNvSpPr/>
              <p:nvPr/>
            </p:nvSpPr>
            <p:spPr>
              <a:xfrm>
                <a:off x="7512120" y="2012400"/>
                <a:ext cx="577800" cy="6397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pPr algn="ctr"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6721560" y="1193760"/>
                <a:ext cx="1082520" cy="914400"/>
              </a:xfrm>
              <a:prstGeom prst="ellipse">
                <a:avLst/>
              </a:prstGeom>
              <a:noFill/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4" name=""/>
          <p:cNvSpPr/>
          <p:nvPr/>
        </p:nvSpPr>
        <p:spPr>
          <a:xfrm>
            <a:off x="1574640" y="731880"/>
            <a:ext cx="2856240" cy="43668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5" name=""/>
          <p:cNvGrpSpPr/>
          <p:nvPr/>
        </p:nvGrpSpPr>
        <p:grpSpPr>
          <a:xfrm>
            <a:off x="2917800" y="1149480"/>
            <a:ext cx="3144960" cy="5075280"/>
            <a:chOff x="2917800" y="1149480"/>
            <a:chExt cx="3144960" cy="5075280"/>
          </a:xfrm>
        </p:grpSpPr>
        <p:pic>
          <p:nvPicPr>
            <p:cNvPr id="2366" name="" descr=""/>
            <p:cNvPicPr/>
            <p:nvPr/>
          </p:nvPicPr>
          <p:blipFill>
            <a:blip r:embed="rId3"/>
            <a:stretch/>
          </p:blipFill>
          <p:spPr>
            <a:xfrm>
              <a:off x="2917800" y="2200320"/>
              <a:ext cx="3110040" cy="40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7" name=""/>
            <p:cNvSpPr/>
            <p:nvPr/>
          </p:nvSpPr>
          <p:spPr>
            <a:xfrm>
              <a:off x="4892760" y="207108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383000" y="1149480"/>
              <a:ext cx="1082880" cy="914400"/>
            </a:xfrm>
            <a:prstGeom prst="ellipse">
              <a:avLst/>
            </a:prstGeom>
            <a:noFill/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9" name=""/>
            <p:cNvGrpSpPr/>
            <p:nvPr/>
          </p:nvGrpSpPr>
          <p:grpSpPr>
            <a:xfrm>
              <a:off x="3059640" y="2921040"/>
              <a:ext cx="3003120" cy="2229480"/>
              <a:chOff x="3059640" y="2921040"/>
              <a:chExt cx="3003120" cy="2229480"/>
            </a:xfrm>
          </p:grpSpPr>
          <p:grpSp>
            <p:nvGrpSpPr>
              <p:cNvPr id="2370" name=""/>
              <p:cNvGrpSpPr/>
              <p:nvPr/>
            </p:nvGrpSpPr>
            <p:grpSpPr>
              <a:xfrm>
                <a:off x="3494160" y="4460760"/>
                <a:ext cx="1969920" cy="142200"/>
                <a:chOff x="3494160" y="4460760"/>
                <a:chExt cx="1969920" cy="142200"/>
              </a:xfrm>
            </p:grpSpPr>
            <p:sp>
              <p:nvSpPr>
                <p:cNvPr id="2371" name=""/>
                <p:cNvSpPr/>
                <p:nvPr/>
              </p:nvSpPr>
              <p:spPr>
                <a:xfrm>
                  <a:off x="3494160" y="4528080"/>
                  <a:ext cx="1969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4745160" y="4475520"/>
                  <a:ext cx="0" cy="12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3807000" y="4475520"/>
                  <a:ext cx="0" cy="12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4435560" y="4460760"/>
                  <a:ext cx="0" cy="12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4125960" y="4467960"/>
                  <a:ext cx="0" cy="12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5061600" y="4460760"/>
                  <a:ext cx="0" cy="12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7" name=""/>
              <p:cNvGrpSpPr/>
              <p:nvPr/>
            </p:nvGrpSpPr>
            <p:grpSpPr>
              <a:xfrm>
                <a:off x="3438720" y="2921040"/>
                <a:ext cx="110520" cy="2098080"/>
                <a:chOff x="3438720" y="2921040"/>
                <a:chExt cx="110520" cy="2098080"/>
              </a:xfrm>
            </p:grpSpPr>
            <p:sp>
              <p:nvSpPr>
                <p:cNvPr id="2378" name=""/>
                <p:cNvSpPr/>
                <p:nvPr/>
              </p:nvSpPr>
              <p:spPr>
                <a:xfrm flipV="1">
                  <a:off x="3490920" y="2921040"/>
                  <a:ext cx="0" cy="20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3448080" y="409716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3441600" y="326556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3438720" y="368532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2" name=""/>
              <p:cNvSpPr/>
              <p:nvPr/>
            </p:nvSpPr>
            <p:spPr>
              <a:xfrm>
                <a:off x="3411720" y="4789440"/>
                <a:ext cx="26510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0      1.6     3.2     4.8  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353200" y="4457520"/>
                <a:ext cx="0" cy="13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4127760" y="4470120"/>
                <a:ext cx="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4743360" y="4470120"/>
                <a:ext cx="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3432240" y="411156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3419640" y="369864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3432240" y="327312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3059640" y="3043080"/>
                <a:ext cx="307080" cy="168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3"/>
                  </a:spcBef>
                  <a:spcAft>
                    <a:spcPts val="113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3"/>
                  </a:spcBef>
                  <a:spcAft>
                    <a:spcPts val="113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0" name=""/>
          <p:cNvGrpSpPr/>
          <p:nvPr/>
        </p:nvGrpSpPr>
        <p:grpSpPr>
          <a:xfrm>
            <a:off x="1170000" y="5376960"/>
            <a:ext cx="6694560" cy="855360"/>
            <a:chOff x="1170000" y="5376960"/>
            <a:chExt cx="6694560" cy="855360"/>
          </a:xfrm>
        </p:grpSpPr>
        <p:sp>
          <p:nvSpPr>
            <p:cNvPr id="2391" name=""/>
            <p:cNvSpPr/>
            <p:nvPr/>
          </p:nvSpPr>
          <p:spPr>
            <a:xfrm>
              <a:off x="1170000" y="5376960"/>
              <a:ext cx="66945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load was a 3 inch transmission line ( open 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river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 of 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923000" y="6067440"/>
              <a:ext cx="7318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190960" y="6078600"/>
              <a:ext cx="73152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4" name=""/>
          <p:cNvGrpSpPr/>
          <p:nvPr/>
        </p:nvGrpSpPr>
        <p:grpSpPr>
          <a:xfrm>
            <a:off x="7939080" y="-161280"/>
            <a:ext cx="1020600" cy="928080"/>
            <a:chOff x="7939080" y="-161280"/>
            <a:chExt cx="1020600" cy="928080"/>
          </a:xfrm>
        </p:grpSpPr>
        <p:sp>
          <p:nvSpPr>
            <p:cNvPr id="2395" name=""/>
            <p:cNvSpPr/>
            <p:nvPr/>
          </p:nvSpPr>
          <p:spPr>
            <a:xfrm>
              <a:off x="7939080" y="-161280"/>
              <a:ext cx="1020600" cy="76392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Push-pu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6" name=""/>
            <p:cNvGrpSpPr/>
            <p:nvPr/>
          </p:nvGrpSpPr>
          <p:grpSpPr>
            <a:xfrm>
              <a:off x="8156520" y="512640"/>
              <a:ext cx="611280" cy="254160"/>
              <a:chOff x="8156520" y="512640"/>
              <a:chExt cx="611280" cy="254160"/>
            </a:xfrm>
          </p:grpSpPr>
          <p:grpSp>
            <p:nvGrpSpPr>
              <p:cNvPr id="2397" name=""/>
              <p:cNvGrpSpPr/>
              <p:nvPr/>
            </p:nvGrpSpPr>
            <p:grpSpPr>
              <a:xfrm>
                <a:off x="8156520" y="605520"/>
                <a:ext cx="611280" cy="161280"/>
                <a:chOff x="8156520" y="605520"/>
                <a:chExt cx="611280" cy="161280"/>
              </a:xfrm>
            </p:grpSpPr>
            <p:grpSp>
              <p:nvGrpSpPr>
                <p:cNvPr id="2398" name=""/>
                <p:cNvGrpSpPr/>
                <p:nvPr/>
              </p:nvGrpSpPr>
              <p:grpSpPr>
                <a:xfrm>
                  <a:off x="8156520" y="726840"/>
                  <a:ext cx="611280" cy="39960"/>
                  <a:chOff x="8156520" y="726840"/>
                  <a:chExt cx="611280" cy="39960"/>
                </a:xfrm>
              </p:grpSpPr>
              <p:sp>
                <p:nvSpPr>
                  <p:cNvPr id="2399" name=""/>
                  <p:cNvSpPr/>
                  <p:nvPr/>
                </p:nvSpPr>
                <p:spPr>
                  <a:xfrm>
                    <a:off x="825840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"/>
                  <p:cNvSpPr/>
                  <p:nvPr/>
                </p:nvSpPr>
                <p:spPr>
                  <a:xfrm>
                    <a:off x="846252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"/>
                  <p:cNvSpPr/>
                  <p:nvPr/>
                </p:nvSpPr>
                <p:spPr>
                  <a:xfrm>
                    <a:off x="856440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>
                    <a:off x="866664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>
                    <a:off x="836028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4" name=""/>
                  <p:cNvSpPr/>
                  <p:nvPr/>
                </p:nvSpPr>
                <p:spPr>
                  <a:xfrm>
                    <a:off x="815652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5" name=""/>
                <p:cNvGrpSpPr/>
                <p:nvPr/>
              </p:nvGrpSpPr>
              <p:grpSpPr>
                <a:xfrm>
                  <a:off x="8207640" y="686160"/>
                  <a:ext cx="509040" cy="39960"/>
                  <a:chOff x="8207640" y="686160"/>
                  <a:chExt cx="509040" cy="39960"/>
                </a:xfrm>
              </p:grpSpPr>
              <p:sp>
                <p:nvSpPr>
                  <p:cNvPr id="2406" name=""/>
                  <p:cNvSpPr/>
                  <p:nvPr/>
                </p:nvSpPr>
                <p:spPr>
                  <a:xfrm>
                    <a:off x="820764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"/>
                  <p:cNvSpPr/>
                  <p:nvPr/>
                </p:nvSpPr>
                <p:spPr>
                  <a:xfrm>
                    <a:off x="841140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>
                    <a:off x="851364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9" name=""/>
                  <p:cNvSpPr/>
                  <p:nvPr/>
                </p:nvSpPr>
                <p:spPr>
                  <a:xfrm>
                    <a:off x="861552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0" name=""/>
                  <p:cNvSpPr/>
                  <p:nvPr/>
                </p:nvSpPr>
                <p:spPr>
                  <a:xfrm>
                    <a:off x="830952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1" name=""/>
                <p:cNvGrpSpPr/>
                <p:nvPr/>
              </p:nvGrpSpPr>
              <p:grpSpPr>
                <a:xfrm>
                  <a:off x="8258760" y="605520"/>
                  <a:ext cx="407520" cy="80280"/>
                  <a:chOff x="8258760" y="605520"/>
                  <a:chExt cx="407520" cy="80280"/>
                </a:xfrm>
              </p:grpSpPr>
              <p:sp>
                <p:nvSpPr>
                  <p:cNvPr id="2412" name=""/>
                  <p:cNvSpPr/>
                  <p:nvPr/>
                </p:nvSpPr>
                <p:spPr>
                  <a:xfrm>
                    <a:off x="836064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3" name=""/>
                  <p:cNvSpPr/>
                  <p:nvPr/>
                </p:nvSpPr>
                <p:spPr>
                  <a:xfrm>
                    <a:off x="856476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"/>
                  <p:cNvSpPr/>
                  <p:nvPr/>
                </p:nvSpPr>
                <p:spPr>
                  <a:xfrm>
                    <a:off x="846288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5" name=""/>
                  <p:cNvSpPr/>
                  <p:nvPr/>
                </p:nvSpPr>
                <p:spPr>
                  <a:xfrm>
                    <a:off x="825876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6" name=""/>
                  <p:cNvSpPr/>
                  <p:nvPr/>
                </p:nvSpPr>
                <p:spPr>
                  <a:xfrm>
                    <a:off x="830988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"/>
                  <p:cNvSpPr/>
                  <p:nvPr/>
                </p:nvSpPr>
                <p:spPr>
                  <a:xfrm>
                    <a:off x="851400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8" name=""/>
                  <p:cNvSpPr/>
                  <p:nvPr/>
                </p:nvSpPr>
                <p:spPr>
                  <a:xfrm>
                    <a:off x="841212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19" name=""/>
              <p:cNvGrpSpPr/>
              <p:nvPr/>
            </p:nvGrpSpPr>
            <p:grpSpPr>
              <a:xfrm>
                <a:off x="8387280" y="605520"/>
                <a:ext cx="151920" cy="160200"/>
                <a:chOff x="8387280" y="605520"/>
                <a:chExt cx="151920" cy="160200"/>
              </a:xfrm>
            </p:grpSpPr>
            <p:grpSp>
              <p:nvGrpSpPr>
                <p:cNvPr id="2420" name=""/>
                <p:cNvGrpSpPr/>
                <p:nvPr/>
              </p:nvGrpSpPr>
              <p:grpSpPr>
                <a:xfrm>
                  <a:off x="8387280" y="726480"/>
                  <a:ext cx="151920" cy="39240"/>
                  <a:chOff x="8387280" y="726480"/>
                  <a:chExt cx="151920" cy="39240"/>
                </a:xfrm>
              </p:grpSpPr>
              <p:sp>
                <p:nvSpPr>
                  <p:cNvPr id="2421" name=""/>
                  <p:cNvSpPr/>
                  <p:nvPr/>
                </p:nvSpPr>
                <p:spPr>
                  <a:xfrm>
                    <a:off x="8393400" y="739440"/>
                    <a:ext cx="139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"/>
                  <p:cNvSpPr/>
                  <p:nvPr/>
                </p:nvSpPr>
                <p:spPr>
                  <a:xfrm>
                    <a:off x="8387280" y="752400"/>
                    <a:ext cx="151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>
                    <a:off x="8399880" y="726480"/>
                    <a:ext cx="126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4" name=""/>
                <p:cNvGrpSpPr/>
                <p:nvPr/>
              </p:nvGrpSpPr>
              <p:grpSpPr>
                <a:xfrm>
                  <a:off x="8406000" y="686160"/>
                  <a:ext cx="114120" cy="39240"/>
                  <a:chOff x="8406000" y="686160"/>
                  <a:chExt cx="114120" cy="39240"/>
                </a:xfrm>
              </p:grpSpPr>
              <p:sp>
                <p:nvSpPr>
                  <p:cNvPr id="2425" name=""/>
                  <p:cNvSpPr/>
                  <p:nvPr/>
                </p:nvSpPr>
                <p:spPr>
                  <a:xfrm>
                    <a:off x="8410680" y="69912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>
                    <a:off x="8406000" y="71208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"/>
                  <p:cNvSpPr/>
                  <p:nvPr/>
                </p:nvSpPr>
                <p:spPr>
                  <a:xfrm>
                    <a:off x="8415360" y="68616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8" name=""/>
                <p:cNvGrpSpPr/>
                <p:nvPr/>
              </p:nvGrpSpPr>
              <p:grpSpPr>
                <a:xfrm>
                  <a:off x="8418960" y="645840"/>
                  <a:ext cx="88560" cy="39240"/>
                  <a:chOff x="8418960" y="645840"/>
                  <a:chExt cx="88560" cy="39240"/>
                </a:xfrm>
              </p:grpSpPr>
              <p:sp>
                <p:nvSpPr>
                  <p:cNvPr id="2429" name=""/>
                  <p:cNvSpPr/>
                  <p:nvPr/>
                </p:nvSpPr>
                <p:spPr>
                  <a:xfrm>
                    <a:off x="8422560" y="658800"/>
                    <a:ext cx="81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"/>
                  <p:cNvSpPr/>
                  <p:nvPr/>
                </p:nvSpPr>
                <p:spPr>
                  <a:xfrm>
                    <a:off x="8418960" y="671760"/>
                    <a:ext cx="885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"/>
                  <p:cNvSpPr/>
                  <p:nvPr/>
                </p:nvSpPr>
                <p:spPr>
                  <a:xfrm>
                    <a:off x="8426160" y="645840"/>
                    <a:ext cx="738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2" name=""/>
                <p:cNvGrpSpPr/>
                <p:nvPr/>
              </p:nvGrpSpPr>
              <p:grpSpPr>
                <a:xfrm>
                  <a:off x="8431560" y="605520"/>
                  <a:ext cx="63360" cy="39240"/>
                  <a:chOff x="8431560" y="605520"/>
                  <a:chExt cx="63360" cy="39240"/>
                </a:xfrm>
              </p:grpSpPr>
              <p:sp>
                <p:nvSpPr>
                  <p:cNvPr id="2433" name=""/>
                  <p:cNvSpPr/>
                  <p:nvPr/>
                </p:nvSpPr>
                <p:spPr>
                  <a:xfrm>
                    <a:off x="8434080" y="61848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"/>
                  <p:cNvSpPr/>
                  <p:nvPr/>
                </p:nvSpPr>
                <p:spPr>
                  <a:xfrm>
                    <a:off x="8431560" y="63144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>
                    <a:off x="8436600" y="60552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36" name=""/>
              <p:cNvSpPr/>
              <p:nvPr/>
            </p:nvSpPr>
            <p:spPr>
              <a:xfrm>
                <a:off x="8335440" y="556920"/>
                <a:ext cx="25344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7" name=""/>
              <p:cNvGrpSpPr/>
              <p:nvPr/>
            </p:nvGrpSpPr>
            <p:grpSpPr>
              <a:xfrm>
                <a:off x="8370720" y="575280"/>
                <a:ext cx="183600" cy="28440"/>
                <a:chOff x="8370720" y="575280"/>
                <a:chExt cx="183600" cy="28440"/>
              </a:xfrm>
            </p:grpSpPr>
            <p:sp>
              <p:nvSpPr>
                <p:cNvPr id="2438" name=""/>
                <p:cNvSpPr/>
                <p:nvPr/>
              </p:nvSpPr>
              <p:spPr>
                <a:xfrm>
                  <a:off x="837072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841068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852912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848880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844920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3" name=""/>
              <p:cNvSpPr/>
              <p:nvPr/>
            </p:nvSpPr>
            <p:spPr>
              <a:xfrm>
                <a:off x="8328240" y="552960"/>
                <a:ext cx="268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8333640" y="519840"/>
                <a:ext cx="257400" cy="32040"/>
              </a:xfrm>
              <a:custGeom>
                <a:avLst/>
                <a:gdLst>
                  <a:gd name="textAreaLeft" fmla="*/ 26640 w 257400"/>
                  <a:gd name="textAreaRight" fmla="*/ 230760 w 25740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8341200" y="512640"/>
                <a:ext cx="24084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results with comment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2447" name=""/>
          <p:cNvGrpSpPr/>
          <p:nvPr/>
        </p:nvGrpSpPr>
        <p:grpSpPr>
          <a:xfrm>
            <a:off x="190440" y="2058480"/>
            <a:ext cx="3130560" cy="4166280"/>
            <a:chOff x="190440" y="2058480"/>
            <a:chExt cx="3130560" cy="4166280"/>
          </a:xfrm>
        </p:grpSpPr>
        <p:pic>
          <p:nvPicPr>
            <p:cNvPr id="2448" name="" descr=""/>
            <p:cNvPicPr/>
            <p:nvPr/>
          </p:nvPicPr>
          <p:blipFill>
            <a:blip r:embed="rId1"/>
            <a:stretch/>
          </p:blipFill>
          <p:spPr>
            <a:xfrm>
              <a:off x="190440" y="2200320"/>
              <a:ext cx="311004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9" name=""/>
            <p:cNvGrpSpPr/>
            <p:nvPr/>
          </p:nvGrpSpPr>
          <p:grpSpPr>
            <a:xfrm>
              <a:off x="317880" y="2918880"/>
              <a:ext cx="3003120" cy="2230200"/>
              <a:chOff x="317880" y="2918880"/>
              <a:chExt cx="3003120" cy="2230200"/>
            </a:xfrm>
          </p:grpSpPr>
          <p:grpSp>
            <p:nvGrpSpPr>
              <p:cNvPr id="2450" name=""/>
              <p:cNvGrpSpPr/>
              <p:nvPr/>
            </p:nvGrpSpPr>
            <p:grpSpPr>
              <a:xfrm>
                <a:off x="752400" y="4459320"/>
                <a:ext cx="1969920" cy="142560"/>
                <a:chOff x="752400" y="4459320"/>
                <a:chExt cx="1969920" cy="142560"/>
              </a:xfrm>
            </p:grpSpPr>
            <p:sp>
              <p:nvSpPr>
                <p:cNvPr id="2451" name=""/>
                <p:cNvSpPr/>
                <p:nvPr/>
              </p:nvSpPr>
              <p:spPr>
                <a:xfrm>
                  <a:off x="752400" y="4527000"/>
                  <a:ext cx="1969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2003400" y="4474080"/>
                  <a:ext cx="0" cy="12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1065240" y="4474080"/>
                  <a:ext cx="0" cy="12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1693800" y="4459320"/>
                  <a:ext cx="0" cy="12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1384200" y="4466520"/>
                  <a:ext cx="0" cy="12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2319840" y="4459320"/>
                  <a:ext cx="0" cy="12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7" name=""/>
              <p:cNvGrpSpPr/>
              <p:nvPr/>
            </p:nvGrpSpPr>
            <p:grpSpPr>
              <a:xfrm>
                <a:off x="696960" y="2918880"/>
                <a:ext cx="110520" cy="2098440"/>
                <a:chOff x="696960" y="2918880"/>
                <a:chExt cx="110520" cy="2098440"/>
              </a:xfrm>
            </p:grpSpPr>
            <p:sp>
              <p:nvSpPr>
                <p:cNvPr id="2458" name=""/>
                <p:cNvSpPr/>
                <p:nvPr/>
              </p:nvSpPr>
              <p:spPr>
                <a:xfrm flipV="1">
                  <a:off x="749160" y="2918880"/>
                  <a:ext cx="0" cy="20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706320" y="409572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99840" y="326376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696960" y="368352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2" name=""/>
              <p:cNvSpPr/>
              <p:nvPr/>
            </p:nvSpPr>
            <p:spPr>
              <a:xfrm>
                <a:off x="669960" y="4788000"/>
                <a:ext cx="26510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0      1.6     3.2     4.8  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2611440" y="4456080"/>
                <a:ext cx="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386000" y="4468680"/>
                <a:ext cx="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2001600" y="4468680"/>
                <a:ext cx="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90480" y="411012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77880" y="369720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90480" y="327168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317880" y="3041640"/>
                <a:ext cx="307080" cy="168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3"/>
                  </a:spcBef>
                  <a:spcAft>
                    <a:spcPts val="113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3"/>
                  </a:spcBef>
                  <a:spcAft>
                    <a:spcPts val="113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0" name=""/>
            <p:cNvSpPr/>
            <p:nvPr/>
          </p:nvSpPr>
          <p:spPr>
            <a:xfrm>
              <a:off x="1940040" y="205848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6033960" y="2012400"/>
            <a:ext cx="3148200" cy="4212360"/>
            <a:chOff x="6033960" y="2012400"/>
            <a:chExt cx="3148200" cy="4212360"/>
          </a:xfrm>
        </p:grpSpPr>
        <p:pic>
          <p:nvPicPr>
            <p:cNvPr id="2472" name="" descr=""/>
            <p:cNvPicPr/>
            <p:nvPr/>
          </p:nvPicPr>
          <p:blipFill>
            <a:blip r:embed="rId2"/>
            <a:stretch/>
          </p:blipFill>
          <p:spPr>
            <a:xfrm>
              <a:off x="6033960" y="2200320"/>
              <a:ext cx="311004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73" name=""/>
            <p:cNvGrpSpPr/>
            <p:nvPr/>
          </p:nvGrpSpPr>
          <p:grpSpPr>
            <a:xfrm>
              <a:off x="6179040" y="2012400"/>
              <a:ext cx="3003120" cy="3134880"/>
              <a:chOff x="6179040" y="2012400"/>
              <a:chExt cx="3003120" cy="3134880"/>
            </a:xfrm>
          </p:grpSpPr>
          <p:grpSp>
            <p:nvGrpSpPr>
              <p:cNvPr id="2474" name=""/>
              <p:cNvGrpSpPr/>
              <p:nvPr/>
            </p:nvGrpSpPr>
            <p:grpSpPr>
              <a:xfrm>
                <a:off x="6179040" y="2917800"/>
                <a:ext cx="3003120" cy="2229480"/>
                <a:chOff x="6179040" y="2917800"/>
                <a:chExt cx="3003120" cy="2229480"/>
              </a:xfrm>
            </p:grpSpPr>
            <p:grpSp>
              <p:nvGrpSpPr>
                <p:cNvPr id="2475" name=""/>
                <p:cNvGrpSpPr/>
                <p:nvPr/>
              </p:nvGrpSpPr>
              <p:grpSpPr>
                <a:xfrm>
                  <a:off x="6613560" y="4457520"/>
                  <a:ext cx="1969920" cy="142200"/>
                  <a:chOff x="6613560" y="4457520"/>
                  <a:chExt cx="1969920" cy="142200"/>
                </a:xfrm>
              </p:grpSpPr>
              <p:sp>
                <p:nvSpPr>
                  <p:cNvPr id="2476" name=""/>
                  <p:cNvSpPr/>
                  <p:nvPr/>
                </p:nvSpPr>
                <p:spPr>
                  <a:xfrm>
                    <a:off x="6613560" y="4524840"/>
                    <a:ext cx="1969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"/>
                  <p:cNvSpPr/>
                  <p:nvPr/>
                </p:nvSpPr>
                <p:spPr>
                  <a:xfrm>
                    <a:off x="7864560" y="4472280"/>
                    <a:ext cx="0" cy="12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>
                    <a:off x="6926400" y="4472280"/>
                    <a:ext cx="0" cy="12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7554960" y="4457520"/>
                    <a:ext cx="0" cy="12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>
                    <a:off x="7245360" y="4464720"/>
                    <a:ext cx="0" cy="12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>
                    <a:off x="8181000" y="4457520"/>
                    <a:ext cx="0" cy="12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2" name=""/>
                <p:cNvGrpSpPr/>
                <p:nvPr/>
              </p:nvGrpSpPr>
              <p:grpSpPr>
                <a:xfrm>
                  <a:off x="6558120" y="2917800"/>
                  <a:ext cx="110520" cy="2098080"/>
                  <a:chOff x="6558120" y="2917800"/>
                  <a:chExt cx="110520" cy="2098080"/>
                </a:xfrm>
              </p:grpSpPr>
              <p:sp>
                <p:nvSpPr>
                  <p:cNvPr id="2483" name=""/>
                  <p:cNvSpPr/>
                  <p:nvPr/>
                </p:nvSpPr>
                <p:spPr>
                  <a:xfrm flipV="1">
                    <a:off x="6610320" y="2917800"/>
                    <a:ext cx="0" cy="209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>
                    <a:off x="6567480" y="4093920"/>
                    <a:ext cx="101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6561000" y="3262320"/>
                    <a:ext cx="101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>
                    <a:off x="6558120" y="3682080"/>
                    <a:ext cx="101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7" name=""/>
                <p:cNvSpPr/>
                <p:nvPr/>
              </p:nvSpPr>
              <p:spPr>
                <a:xfrm>
                  <a:off x="6531120" y="4786200"/>
                  <a:ext cx="265104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0      1.6     3.2     4.8  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8472600" y="4454280"/>
                  <a:ext cx="0" cy="132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7247160" y="4466880"/>
                  <a:ext cx="0" cy="13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7862760" y="4466880"/>
                  <a:ext cx="0" cy="13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6551640" y="4108320"/>
                  <a:ext cx="133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6539040" y="3695400"/>
                  <a:ext cx="133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6551640" y="3269880"/>
                  <a:ext cx="133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6179040" y="3039840"/>
                  <a:ext cx="307080" cy="168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3"/>
                    </a:spcBef>
                    <a:spcAft>
                      <a:spcPts val="113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3"/>
                    </a:spcBef>
                    <a:spcAft>
                      <a:spcPts val="113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5" name=""/>
              <p:cNvSpPr/>
              <p:nvPr/>
            </p:nvSpPr>
            <p:spPr>
              <a:xfrm>
                <a:off x="7512120" y="2012400"/>
                <a:ext cx="577800" cy="6397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pPr algn="ctr"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96" name=""/>
          <p:cNvGrpSpPr/>
          <p:nvPr/>
        </p:nvGrpSpPr>
        <p:grpSpPr>
          <a:xfrm>
            <a:off x="2917800" y="2071080"/>
            <a:ext cx="3144960" cy="4153680"/>
            <a:chOff x="2917800" y="2071080"/>
            <a:chExt cx="3144960" cy="4153680"/>
          </a:xfrm>
        </p:grpSpPr>
        <p:pic>
          <p:nvPicPr>
            <p:cNvPr id="2497" name="" descr=""/>
            <p:cNvPicPr/>
            <p:nvPr/>
          </p:nvPicPr>
          <p:blipFill>
            <a:blip r:embed="rId3"/>
            <a:stretch/>
          </p:blipFill>
          <p:spPr>
            <a:xfrm>
              <a:off x="2917800" y="2200320"/>
              <a:ext cx="3110040" cy="40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8" name=""/>
            <p:cNvSpPr/>
            <p:nvPr/>
          </p:nvSpPr>
          <p:spPr>
            <a:xfrm>
              <a:off x="4892760" y="207108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9" name=""/>
            <p:cNvGrpSpPr/>
            <p:nvPr/>
          </p:nvGrpSpPr>
          <p:grpSpPr>
            <a:xfrm>
              <a:off x="3059640" y="2921040"/>
              <a:ext cx="3003120" cy="2229480"/>
              <a:chOff x="3059640" y="2921040"/>
              <a:chExt cx="3003120" cy="2229480"/>
            </a:xfrm>
          </p:grpSpPr>
          <p:grpSp>
            <p:nvGrpSpPr>
              <p:cNvPr id="2500" name=""/>
              <p:cNvGrpSpPr/>
              <p:nvPr/>
            </p:nvGrpSpPr>
            <p:grpSpPr>
              <a:xfrm>
                <a:off x="3494160" y="4460760"/>
                <a:ext cx="1969920" cy="142200"/>
                <a:chOff x="3494160" y="4460760"/>
                <a:chExt cx="1969920" cy="142200"/>
              </a:xfrm>
            </p:grpSpPr>
            <p:sp>
              <p:nvSpPr>
                <p:cNvPr id="2501" name=""/>
                <p:cNvSpPr/>
                <p:nvPr/>
              </p:nvSpPr>
              <p:spPr>
                <a:xfrm>
                  <a:off x="3494160" y="4528080"/>
                  <a:ext cx="1969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4745160" y="4475520"/>
                  <a:ext cx="0" cy="12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3807000" y="4475520"/>
                  <a:ext cx="0" cy="12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4435560" y="4460760"/>
                  <a:ext cx="0" cy="12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4125960" y="4467960"/>
                  <a:ext cx="0" cy="12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5061600" y="4460760"/>
                  <a:ext cx="0" cy="12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7" name=""/>
              <p:cNvGrpSpPr/>
              <p:nvPr/>
            </p:nvGrpSpPr>
            <p:grpSpPr>
              <a:xfrm>
                <a:off x="3438720" y="2921040"/>
                <a:ext cx="110520" cy="2098080"/>
                <a:chOff x="3438720" y="2921040"/>
                <a:chExt cx="110520" cy="2098080"/>
              </a:xfrm>
            </p:grpSpPr>
            <p:sp>
              <p:nvSpPr>
                <p:cNvPr id="2508" name=""/>
                <p:cNvSpPr/>
                <p:nvPr/>
              </p:nvSpPr>
              <p:spPr>
                <a:xfrm flipV="1">
                  <a:off x="3490920" y="2921040"/>
                  <a:ext cx="0" cy="20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3448080" y="409716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3441600" y="326556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3438720" y="368532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2" name=""/>
              <p:cNvSpPr/>
              <p:nvPr/>
            </p:nvSpPr>
            <p:spPr>
              <a:xfrm>
                <a:off x="3411720" y="4789440"/>
                <a:ext cx="26510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0      1.6     3.2     4.8  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5353200" y="4457520"/>
                <a:ext cx="0" cy="13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127760" y="4470120"/>
                <a:ext cx="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4743360" y="4470120"/>
                <a:ext cx="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3432240" y="411156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419640" y="369864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3432240" y="3273120"/>
                <a:ext cx="13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3059640" y="3043080"/>
                <a:ext cx="307080" cy="168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3"/>
                  </a:spcBef>
                  <a:spcAft>
                    <a:spcPts val="113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3"/>
                  </a:spcBef>
                  <a:spcAft>
                    <a:spcPts val="113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0" name=""/>
          <p:cNvGrpSpPr/>
          <p:nvPr/>
        </p:nvGrpSpPr>
        <p:grpSpPr>
          <a:xfrm>
            <a:off x="1170000" y="5376960"/>
            <a:ext cx="6694560" cy="855360"/>
            <a:chOff x="1170000" y="5376960"/>
            <a:chExt cx="6694560" cy="855360"/>
          </a:xfrm>
        </p:grpSpPr>
        <p:sp>
          <p:nvSpPr>
            <p:cNvPr id="2521" name=""/>
            <p:cNvSpPr/>
            <p:nvPr/>
          </p:nvSpPr>
          <p:spPr>
            <a:xfrm>
              <a:off x="1170000" y="5376960"/>
              <a:ext cx="66945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load was a 3 inch transmission line ( open 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river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 of 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923000" y="6067440"/>
              <a:ext cx="7318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190960" y="6078600"/>
              <a:ext cx="73152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4" name=""/>
          <p:cNvSpPr/>
          <p:nvPr/>
        </p:nvSpPr>
        <p:spPr>
          <a:xfrm>
            <a:off x="423720" y="826920"/>
            <a:ext cx="2644920" cy="1154160"/>
          </a:xfrm>
          <a:prstGeom prst="wedgeRectCallout">
            <a:avLst>
              <a:gd name="adj1" fmla="val -31694"/>
              <a:gd name="adj2" fmla="val 2478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th drivers starting at time 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6499080" y="825480"/>
            <a:ext cx="2644920" cy="1154160"/>
          </a:xfrm>
          <a:prstGeom prst="wedgeRectCallout">
            <a:avLst>
              <a:gd name="adj1" fmla="val -6180"/>
              <a:gd name="adj2" fmla="val 26237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th drivers starting with delaytime 2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3516480" y="838080"/>
            <a:ext cx="2644560" cy="1154160"/>
          </a:xfrm>
          <a:prstGeom prst="wedgeRectCallout">
            <a:avLst>
              <a:gd name="adj1" fmla="val -29592"/>
              <a:gd name="adj2" fmla="val 238171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ne  driver starts at t=0ns, the second driver starts at 2.5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7" name=""/>
          <p:cNvGrpSpPr/>
          <p:nvPr/>
        </p:nvGrpSpPr>
        <p:grpSpPr>
          <a:xfrm>
            <a:off x="7939080" y="-161280"/>
            <a:ext cx="1020600" cy="928080"/>
            <a:chOff x="7939080" y="-161280"/>
            <a:chExt cx="1020600" cy="928080"/>
          </a:xfrm>
        </p:grpSpPr>
        <p:sp>
          <p:nvSpPr>
            <p:cNvPr id="2528" name=""/>
            <p:cNvSpPr/>
            <p:nvPr/>
          </p:nvSpPr>
          <p:spPr>
            <a:xfrm>
              <a:off x="7939080" y="-161280"/>
              <a:ext cx="1020600" cy="76392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Push-pu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9" name=""/>
            <p:cNvGrpSpPr/>
            <p:nvPr/>
          </p:nvGrpSpPr>
          <p:grpSpPr>
            <a:xfrm>
              <a:off x="8156520" y="512640"/>
              <a:ext cx="611280" cy="254160"/>
              <a:chOff x="8156520" y="512640"/>
              <a:chExt cx="611280" cy="254160"/>
            </a:xfrm>
          </p:grpSpPr>
          <p:grpSp>
            <p:nvGrpSpPr>
              <p:cNvPr id="2530" name=""/>
              <p:cNvGrpSpPr/>
              <p:nvPr/>
            </p:nvGrpSpPr>
            <p:grpSpPr>
              <a:xfrm>
                <a:off x="8156520" y="605520"/>
                <a:ext cx="611280" cy="161280"/>
                <a:chOff x="8156520" y="605520"/>
                <a:chExt cx="611280" cy="161280"/>
              </a:xfrm>
            </p:grpSpPr>
            <p:grpSp>
              <p:nvGrpSpPr>
                <p:cNvPr id="2531" name=""/>
                <p:cNvGrpSpPr/>
                <p:nvPr/>
              </p:nvGrpSpPr>
              <p:grpSpPr>
                <a:xfrm>
                  <a:off x="8156520" y="726840"/>
                  <a:ext cx="611280" cy="39960"/>
                  <a:chOff x="8156520" y="726840"/>
                  <a:chExt cx="611280" cy="39960"/>
                </a:xfrm>
              </p:grpSpPr>
              <p:sp>
                <p:nvSpPr>
                  <p:cNvPr id="2532" name=""/>
                  <p:cNvSpPr/>
                  <p:nvPr/>
                </p:nvSpPr>
                <p:spPr>
                  <a:xfrm>
                    <a:off x="825840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>
                    <a:off x="846252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>
                    <a:off x="856440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>
                    <a:off x="866664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>
                    <a:off x="836028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>
                    <a:off x="8156520" y="72684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8" name=""/>
                <p:cNvGrpSpPr/>
                <p:nvPr/>
              </p:nvGrpSpPr>
              <p:grpSpPr>
                <a:xfrm>
                  <a:off x="8207640" y="686160"/>
                  <a:ext cx="509040" cy="39960"/>
                  <a:chOff x="8207640" y="686160"/>
                  <a:chExt cx="509040" cy="39960"/>
                </a:xfrm>
              </p:grpSpPr>
              <p:sp>
                <p:nvSpPr>
                  <p:cNvPr id="2539" name=""/>
                  <p:cNvSpPr/>
                  <p:nvPr/>
                </p:nvSpPr>
                <p:spPr>
                  <a:xfrm>
                    <a:off x="820764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>
                    <a:off x="841140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851364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861552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>
                    <a:off x="8309520" y="686160"/>
                    <a:ext cx="10116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4" name=""/>
                <p:cNvGrpSpPr/>
                <p:nvPr/>
              </p:nvGrpSpPr>
              <p:grpSpPr>
                <a:xfrm>
                  <a:off x="8258760" y="605520"/>
                  <a:ext cx="407520" cy="80280"/>
                  <a:chOff x="8258760" y="605520"/>
                  <a:chExt cx="407520" cy="80280"/>
                </a:xfrm>
              </p:grpSpPr>
              <p:sp>
                <p:nvSpPr>
                  <p:cNvPr id="2545" name=""/>
                  <p:cNvSpPr/>
                  <p:nvPr/>
                </p:nvSpPr>
                <p:spPr>
                  <a:xfrm>
                    <a:off x="836064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>
                    <a:off x="856476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>
                    <a:off x="846288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8258760" y="64584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830988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"/>
                  <p:cNvSpPr/>
                  <p:nvPr/>
                </p:nvSpPr>
                <p:spPr>
                  <a:xfrm>
                    <a:off x="851400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8412120" y="60552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52" name=""/>
              <p:cNvGrpSpPr/>
              <p:nvPr/>
            </p:nvGrpSpPr>
            <p:grpSpPr>
              <a:xfrm>
                <a:off x="8387280" y="605520"/>
                <a:ext cx="151920" cy="160200"/>
                <a:chOff x="8387280" y="605520"/>
                <a:chExt cx="151920" cy="160200"/>
              </a:xfrm>
            </p:grpSpPr>
            <p:grpSp>
              <p:nvGrpSpPr>
                <p:cNvPr id="2553" name=""/>
                <p:cNvGrpSpPr/>
                <p:nvPr/>
              </p:nvGrpSpPr>
              <p:grpSpPr>
                <a:xfrm>
                  <a:off x="8387280" y="726480"/>
                  <a:ext cx="151920" cy="39240"/>
                  <a:chOff x="8387280" y="726480"/>
                  <a:chExt cx="151920" cy="39240"/>
                </a:xfrm>
              </p:grpSpPr>
              <p:sp>
                <p:nvSpPr>
                  <p:cNvPr id="2554" name=""/>
                  <p:cNvSpPr/>
                  <p:nvPr/>
                </p:nvSpPr>
                <p:spPr>
                  <a:xfrm>
                    <a:off x="8393400" y="739440"/>
                    <a:ext cx="139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8387280" y="752400"/>
                    <a:ext cx="151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>
                    <a:off x="8399880" y="726480"/>
                    <a:ext cx="126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7" name=""/>
                <p:cNvGrpSpPr/>
                <p:nvPr/>
              </p:nvGrpSpPr>
              <p:grpSpPr>
                <a:xfrm>
                  <a:off x="8406000" y="686160"/>
                  <a:ext cx="114120" cy="39240"/>
                  <a:chOff x="8406000" y="686160"/>
                  <a:chExt cx="114120" cy="39240"/>
                </a:xfrm>
              </p:grpSpPr>
              <p:sp>
                <p:nvSpPr>
                  <p:cNvPr id="2558" name=""/>
                  <p:cNvSpPr/>
                  <p:nvPr/>
                </p:nvSpPr>
                <p:spPr>
                  <a:xfrm>
                    <a:off x="8410680" y="69912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>
                    <a:off x="8406000" y="71208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>
                    <a:off x="8415360" y="68616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1" name=""/>
                <p:cNvGrpSpPr/>
                <p:nvPr/>
              </p:nvGrpSpPr>
              <p:grpSpPr>
                <a:xfrm>
                  <a:off x="8418960" y="645840"/>
                  <a:ext cx="88560" cy="39240"/>
                  <a:chOff x="8418960" y="645840"/>
                  <a:chExt cx="88560" cy="39240"/>
                </a:xfrm>
              </p:grpSpPr>
              <p:sp>
                <p:nvSpPr>
                  <p:cNvPr id="2562" name=""/>
                  <p:cNvSpPr/>
                  <p:nvPr/>
                </p:nvSpPr>
                <p:spPr>
                  <a:xfrm>
                    <a:off x="8422560" y="658800"/>
                    <a:ext cx="81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8418960" y="671760"/>
                    <a:ext cx="885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>
                    <a:off x="8426160" y="645840"/>
                    <a:ext cx="738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5" name=""/>
                <p:cNvGrpSpPr/>
                <p:nvPr/>
              </p:nvGrpSpPr>
              <p:grpSpPr>
                <a:xfrm>
                  <a:off x="8431560" y="605520"/>
                  <a:ext cx="63360" cy="39240"/>
                  <a:chOff x="8431560" y="605520"/>
                  <a:chExt cx="63360" cy="39240"/>
                </a:xfrm>
              </p:grpSpPr>
              <p:sp>
                <p:nvSpPr>
                  <p:cNvPr id="2566" name=""/>
                  <p:cNvSpPr/>
                  <p:nvPr/>
                </p:nvSpPr>
                <p:spPr>
                  <a:xfrm>
                    <a:off x="8434080" y="61848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>
                    <a:off x="8431560" y="63144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"/>
                  <p:cNvSpPr/>
                  <p:nvPr/>
                </p:nvSpPr>
                <p:spPr>
                  <a:xfrm>
                    <a:off x="8436600" y="60552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69" name=""/>
              <p:cNvSpPr/>
              <p:nvPr/>
            </p:nvSpPr>
            <p:spPr>
              <a:xfrm>
                <a:off x="8335440" y="556920"/>
                <a:ext cx="25344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0" name=""/>
              <p:cNvGrpSpPr/>
              <p:nvPr/>
            </p:nvGrpSpPr>
            <p:grpSpPr>
              <a:xfrm>
                <a:off x="8370720" y="575280"/>
                <a:ext cx="183600" cy="28440"/>
                <a:chOff x="8370720" y="575280"/>
                <a:chExt cx="183600" cy="28440"/>
              </a:xfrm>
            </p:grpSpPr>
            <p:sp>
              <p:nvSpPr>
                <p:cNvPr id="2571" name=""/>
                <p:cNvSpPr/>
                <p:nvPr/>
              </p:nvSpPr>
              <p:spPr>
                <a:xfrm>
                  <a:off x="837072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841068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852912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848880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8449200" y="57528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6" name=""/>
              <p:cNvSpPr/>
              <p:nvPr/>
            </p:nvSpPr>
            <p:spPr>
              <a:xfrm>
                <a:off x="8328240" y="552960"/>
                <a:ext cx="268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V="1">
                <a:off x="8333640" y="519840"/>
                <a:ext cx="257400" cy="32040"/>
              </a:xfrm>
              <a:custGeom>
                <a:avLst/>
                <a:gdLst>
                  <a:gd name="textAreaLeft" fmla="*/ 26640 w 257400"/>
                  <a:gd name="textAreaRight" fmla="*/ 230760 w 25740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8341200" y="512640"/>
                <a:ext cx="24084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2181240" y="2525760"/>
            <a:ext cx="485784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024"/>
                </a:solidFill>
                <a:latin typeface="Arial"/>
              </a:rPr>
              <a:t>GTL-like driver schedule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581" name="" descr=""/>
          <p:cNvPicPr/>
          <p:nvPr/>
        </p:nvPicPr>
        <p:blipFill>
          <a:blip r:embed="rId2"/>
          <a:stretch/>
        </p:blipFill>
        <p:spPr>
          <a:xfrm>
            <a:off x="7837560" y="6243480"/>
            <a:ext cx="1055520" cy="444600"/>
          </a:xfrm>
          <a:prstGeom prst="rect">
            <a:avLst/>
          </a:prstGeom>
          <a:ln w="0">
            <a:noFill/>
          </a:ln>
        </p:spPr>
      </p:pic>
      <p:grpSp>
        <p:nvGrpSpPr>
          <p:cNvPr id="2582" name=""/>
          <p:cNvGrpSpPr/>
          <p:nvPr/>
        </p:nvGrpSpPr>
        <p:grpSpPr>
          <a:xfrm>
            <a:off x="241200" y="4724280"/>
            <a:ext cx="1220760" cy="1118880"/>
            <a:chOff x="241200" y="4724280"/>
            <a:chExt cx="1220760" cy="1118880"/>
          </a:xfrm>
        </p:grpSpPr>
        <p:sp>
          <p:nvSpPr>
            <p:cNvPr id="2583" name=""/>
            <p:cNvSpPr/>
            <p:nvPr/>
          </p:nvSpPr>
          <p:spPr>
            <a:xfrm>
              <a:off x="241200" y="4724280"/>
              <a:ext cx="1047960" cy="84672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Monotype Corsiva"/>
                </a:rPr>
                <a:t>GTL-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4" name=""/>
            <p:cNvGrpSpPr/>
            <p:nvPr/>
          </p:nvGrpSpPr>
          <p:grpSpPr>
            <a:xfrm>
              <a:off x="241200" y="5337000"/>
              <a:ext cx="1220760" cy="506160"/>
              <a:chOff x="241200" y="5337000"/>
              <a:chExt cx="1220760" cy="506160"/>
            </a:xfrm>
          </p:grpSpPr>
          <p:grpSp>
            <p:nvGrpSpPr>
              <p:cNvPr id="2585" name=""/>
              <p:cNvGrpSpPr/>
              <p:nvPr/>
            </p:nvGrpSpPr>
            <p:grpSpPr>
              <a:xfrm>
                <a:off x="241200" y="5522040"/>
                <a:ext cx="1220760" cy="321120"/>
                <a:chOff x="241200" y="5522040"/>
                <a:chExt cx="1220760" cy="321120"/>
              </a:xfrm>
            </p:grpSpPr>
            <p:grpSp>
              <p:nvGrpSpPr>
                <p:cNvPr id="2586" name=""/>
                <p:cNvGrpSpPr/>
                <p:nvPr/>
              </p:nvGrpSpPr>
              <p:grpSpPr>
                <a:xfrm>
                  <a:off x="241200" y="5763600"/>
                  <a:ext cx="1220760" cy="79560"/>
                  <a:chOff x="241200" y="5763600"/>
                  <a:chExt cx="1220760" cy="79560"/>
                </a:xfrm>
              </p:grpSpPr>
              <p:sp>
                <p:nvSpPr>
                  <p:cNvPr id="2587" name=""/>
                  <p:cNvSpPr/>
                  <p:nvPr/>
                </p:nvSpPr>
                <p:spPr>
                  <a:xfrm>
                    <a:off x="444600" y="57636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"/>
                  <p:cNvSpPr/>
                  <p:nvPr/>
                </p:nvSpPr>
                <p:spPr>
                  <a:xfrm>
                    <a:off x="852120" y="57636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>
                    <a:off x="1055880" y="57636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>
                    <a:off x="1259640" y="57636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"/>
                  <p:cNvSpPr/>
                  <p:nvPr/>
                </p:nvSpPr>
                <p:spPr>
                  <a:xfrm>
                    <a:off x="648360" y="57636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>
                    <a:off x="241200" y="57636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3" name=""/>
                <p:cNvGrpSpPr/>
                <p:nvPr/>
              </p:nvGrpSpPr>
              <p:grpSpPr>
                <a:xfrm>
                  <a:off x="343440" y="5682960"/>
                  <a:ext cx="1017000" cy="79560"/>
                  <a:chOff x="343440" y="5682960"/>
                  <a:chExt cx="1017000" cy="79560"/>
                </a:xfrm>
              </p:grpSpPr>
              <p:sp>
                <p:nvSpPr>
                  <p:cNvPr id="2594" name=""/>
                  <p:cNvSpPr/>
                  <p:nvPr/>
                </p:nvSpPr>
                <p:spPr>
                  <a:xfrm>
                    <a:off x="343440" y="56829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750600" y="56829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"/>
                  <p:cNvSpPr/>
                  <p:nvPr/>
                </p:nvSpPr>
                <p:spPr>
                  <a:xfrm>
                    <a:off x="954360" y="56829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>
                    <a:off x="1158120" y="56829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>
                    <a:off x="546840" y="56829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9" name=""/>
                <p:cNvGrpSpPr/>
                <p:nvPr/>
              </p:nvGrpSpPr>
              <p:grpSpPr>
                <a:xfrm>
                  <a:off x="445320" y="5522040"/>
                  <a:ext cx="813240" cy="159840"/>
                  <a:chOff x="445320" y="5522040"/>
                  <a:chExt cx="813240" cy="159840"/>
                </a:xfrm>
              </p:grpSpPr>
              <p:sp>
                <p:nvSpPr>
                  <p:cNvPr id="2600" name=""/>
                  <p:cNvSpPr/>
                  <p:nvPr/>
                </p:nvSpPr>
                <p:spPr>
                  <a:xfrm>
                    <a:off x="649080" y="56023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"/>
                  <p:cNvSpPr/>
                  <p:nvPr/>
                </p:nvSpPr>
                <p:spPr>
                  <a:xfrm>
                    <a:off x="1056240" y="56023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"/>
                  <p:cNvSpPr/>
                  <p:nvPr/>
                </p:nvSpPr>
                <p:spPr>
                  <a:xfrm>
                    <a:off x="852840" y="56023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3" name=""/>
                  <p:cNvSpPr/>
                  <p:nvPr/>
                </p:nvSpPr>
                <p:spPr>
                  <a:xfrm>
                    <a:off x="445320" y="56023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>
                    <a:off x="547560" y="55220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>
                    <a:off x="955080" y="55220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751320" y="55220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07" name=""/>
              <p:cNvGrpSpPr/>
              <p:nvPr/>
            </p:nvGrpSpPr>
            <p:grpSpPr>
              <a:xfrm>
                <a:off x="702000" y="5522040"/>
                <a:ext cx="303480" cy="320400"/>
                <a:chOff x="702000" y="5522040"/>
                <a:chExt cx="303480" cy="320400"/>
              </a:xfrm>
            </p:grpSpPr>
            <p:grpSp>
              <p:nvGrpSpPr>
                <p:cNvPr id="2608" name=""/>
                <p:cNvGrpSpPr/>
                <p:nvPr/>
              </p:nvGrpSpPr>
              <p:grpSpPr>
                <a:xfrm>
                  <a:off x="702000" y="5763600"/>
                  <a:ext cx="303480" cy="78840"/>
                  <a:chOff x="702000" y="5763600"/>
                  <a:chExt cx="303480" cy="78840"/>
                </a:xfrm>
              </p:grpSpPr>
              <p:sp>
                <p:nvSpPr>
                  <p:cNvPr id="2609" name=""/>
                  <p:cNvSpPr/>
                  <p:nvPr/>
                </p:nvSpPr>
                <p:spPr>
                  <a:xfrm>
                    <a:off x="714600" y="5789520"/>
                    <a:ext cx="2782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>
                    <a:off x="702000" y="5815800"/>
                    <a:ext cx="303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>
                    <a:off x="727200" y="5763600"/>
                    <a:ext cx="2530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2" name=""/>
                <p:cNvGrpSpPr/>
                <p:nvPr/>
              </p:nvGrpSpPr>
              <p:grpSpPr>
                <a:xfrm>
                  <a:off x="739800" y="5682960"/>
                  <a:ext cx="227520" cy="78840"/>
                  <a:chOff x="739800" y="5682960"/>
                  <a:chExt cx="227520" cy="78840"/>
                </a:xfrm>
              </p:grpSpPr>
              <p:sp>
                <p:nvSpPr>
                  <p:cNvPr id="2613" name=""/>
                  <p:cNvSpPr/>
                  <p:nvPr/>
                </p:nvSpPr>
                <p:spPr>
                  <a:xfrm>
                    <a:off x="749160" y="5708880"/>
                    <a:ext cx="2088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739800" y="5735160"/>
                    <a:ext cx="2275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>
                    <a:off x="758520" y="5682960"/>
                    <a:ext cx="1897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6" name=""/>
                <p:cNvGrpSpPr/>
                <p:nvPr/>
              </p:nvGrpSpPr>
              <p:grpSpPr>
                <a:xfrm>
                  <a:off x="765360" y="5602320"/>
                  <a:ext cx="177120" cy="78840"/>
                  <a:chOff x="765360" y="5602320"/>
                  <a:chExt cx="177120" cy="78840"/>
                </a:xfrm>
              </p:grpSpPr>
              <p:sp>
                <p:nvSpPr>
                  <p:cNvPr id="2617" name=""/>
                  <p:cNvSpPr/>
                  <p:nvPr/>
                </p:nvSpPr>
                <p:spPr>
                  <a:xfrm>
                    <a:off x="772560" y="5628240"/>
                    <a:ext cx="162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>
                    <a:off x="765360" y="5654520"/>
                    <a:ext cx="1771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>
                    <a:off x="779760" y="5602320"/>
                    <a:ext cx="1476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0" name=""/>
                <p:cNvGrpSpPr/>
                <p:nvPr/>
              </p:nvGrpSpPr>
              <p:grpSpPr>
                <a:xfrm>
                  <a:off x="790560" y="5522040"/>
                  <a:ext cx="126360" cy="78840"/>
                  <a:chOff x="790560" y="5522040"/>
                  <a:chExt cx="126360" cy="78840"/>
                </a:xfrm>
              </p:grpSpPr>
              <p:sp>
                <p:nvSpPr>
                  <p:cNvPr id="2621" name=""/>
                  <p:cNvSpPr/>
                  <p:nvPr/>
                </p:nvSpPr>
                <p:spPr>
                  <a:xfrm>
                    <a:off x="795600" y="5547960"/>
                    <a:ext cx="1159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>
                    <a:off x="790560" y="5574240"/>
                    <a:ext cx="126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>
                    <a:off x="801000" y="5522040"/>
                    <a:ext cx="105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24" name=""/>
              <p:cNvSpPr/>
              <p:nvPr/>
            </p:nvSpPr>
            <p:spPr>
              <a:xfrm>
                <a:off x="598680" y="5425560"/>
                <a:ext cx="506160" cy="950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5" name=""/>
              <p:cNvGrpSpPr/>
              <p:nvPr/>
            </p:nvGrpSpPr>
            <p:grpSpPr>
              <a:xfrm>
                <a:off x="668880" y="5461920"/>
                <a:ext cx="366480" cy="56880"/>
                <a:chOff x="668880" y="5461920"/>
                <a:chExt cx="366480" cy="56880"/>
              </a:xfrm>
            </p:grpSpPr>
            <p:sp>
              <p:nvSpPr>
                <p:cNvPr id="2626" name=""/>
                <p:cNvSpPr/>
                <p:nvPr/>
              </p:nvSpPr>
              <p:spPr>
                <a:xfrm>
                  <a:off x="668880" y="546192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748800" y="546192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984960" y="546192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904680" y="546192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825480" y="546192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1" name=""/>
              <p:cNvSpPr/>
              <p:nvPr/>
            </p:nvSpPr>
            <p:spPr>
              <a:xfrm>
                <a:off x="583920" y="5417640"/>
                <a:ext cx="53604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594720" y="535320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10200" y="5337000"/>
                <a:ext cx="48096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IO model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2635" name=""/>
          <p:cNvGrpSpPr/>
          <p:nvPr/>
        </p:nvGrpSpPr>
        <p:grpSpPr>
          <a:xfrm>
            <a:off x="3506760" y="1120680"/>
            <a:ext cx="2516040" cy="3548520"/>
            <a:chOff x="3506760" y="1120680"/>
            <a:chExt cx="2516040" cy="3548520"/>
          </a:xfrm>
        </p:grpSpPr>
        <p:sp>
          <p:nvSpPr>
            <p:cNvPr id="2636" name=""/>
            <p:cNvSpPr/>
            <p:nvPr/>
          </p:nvSpPr>
          <p:spPr>
            <a:xfrm>
              <a:off x="3909600" y="1120680"/>
              <a:ext cx="1558800" cy="391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_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7" name=""/>
            <p:cNvGrpSpPr/>
            <p:nvPr/>
          </p:nvGrpSpPr>
          <p:grpSpPr>
            <a:xfrm>
              <a:off x="3506760" y="1658880"/>
              <a:ext cx="2516040" cy="1846800"/>
              <a:chOff x="3506760" y="1658880"/>
              <a:chExt cx="2516040" cy="1846800"/>
            </a:xfrm>
          </p:grpSpPr>
          <p:sp>
            <p:nvSpPr>
              <p:cNvPr id="2638" name=""/>
              <p:cNvSpPr/>
              <p:nvPr/>
            </p:nvSpPr>
            <p:spPr>
              <a:xfrm>
                <a:off x="3506760" y="1685880"/>
                <a:ext cx="2516040" cy="14270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9" name=""/>
              <p:cNvGrpSpPr/>
              <p:nvPr/>
            </p:nvGrpSpPr>
            <p:grpSpPr>
              <a:xfrm>
                <a:off x="3533040" y="1658880"/>
                <a:ext cx="2487960" cy="1846800"/>
                <a:chOff x="3533040" y="1658880"/>
                <a:chExt cx="2487960" cy="1846800"/>
              </a:xfrm>
            </p:grpSpPr>
            <p:grpSp>
              <p:nvGrpSpPr>
                <p:cNvPr id="2640" name=""/>
                <p:cNvGrpSpPr/>
                <p:nvPr/>
              </p:nvGrpSpPr>
              <p:grpSpPr>
                <a:xfrm>
                  <a:off x="3533040" y="1658880"/>
                  <a:ext cx="2487960" cy="1846800"/>
                  <a:chOff x="3533040" y="1658880"/>
                  <a:chExt cx="2487960" cy="1846800"/>
                </a:xfrm>
              </p:grpSpPr>
              <p:sp>
                <p:nvSpPr>
                  <p:cNvPr id="2641" name=""/>
                  <p:cNvSpPr/>
                  <p:nvPr/>
                </p:nvSpPr>
                <p:spPr>
                  <a:xfrm>
                    <a:off x="4174200" y="1811160"/>
                    <a:ext cx="0" cy="1066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>
                    <a:off x="4100760" y="2442960"/>
                    <a:ext cx="1740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3" name=""/>
                  <p:cNvSpPr/>
                  <p:nvPr/>
                </p:nvSpPr>
                <p:spPr>
                  <a:xfrm>
                    <a:off x="5329800" y="2192040"/>
                    <a:ext cx="691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ou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>
                    <a:off x="3533040" y="1925280"/>
                    <a:ext cx="592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ou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45" name=""/>
                  <p:cNvGrpSpPr/>
                  <p:nvPr/>
                </p:nvGrpSpPr>
                <p:grpSpPr>
                  <a:xfrm>
                    <a:off x="4153680" y="1890000"/>
                    <a:ext cx="1580400" cy="584280"/>
                    <a:chOff x="4153680" y="1890000"/>
                    <a:chExt cx="1580400" cy="584280"/>
                  </a:xfrm>
                </p:grpSpPr>
                <p:sp>
                  <p:nvSpPr>
                    <p:cNvPr id="2646" name=""/>
                    <p:cNvSpPr/>
                    <p:nvPr/>
                  </p:nvSpPr>
                  <p:spPr>
                    <a:xfrm flipV="1">
                      <a:off x="4153680" y="2247480"/>
                      <a:ext cx="262800" cy="226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"/>
                    <p:cNvSpPr/>
                    <p:nvPr/>
                  </p:nvSpPr>
                  <p:spPr>
                    <a:xfrm flipV="1">
                      <a:off x="4416480" y="2084760"/>
                      <a:ext cx="264240" cy="1627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8" name=""/>
                    <p:cNvSpPr/>
                    <p:nvPr/>
                  </p:nvSpPr>
                  <p:spPr>
                    <a:xfrm flipV="1">
                      <a:off x="4681080" y="1955160"/>
                      <a:ext cx="420480" cy="1292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9" name=""/>
                    <p:cNvSpPr/>
                    <p:nvPr/>
                  </p:nvSpPr>
                  <p:spPr>
                    <a:xfrm flipV="1">
                      <a:off x="5101920" y="1890000"/>
                      <a:ext cx="632160" cy="65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0" name=""/>
                  <p:cNvGrpSpPr/>
                  <p:nvPr/>
                </p:nvGrpSpPr>
                <p:grpSpPr>
                  <a:xfrm>
                    <a:off x="4154040" y="2442960"/>
                    <a:ext cx="1529280" cy="388800"/>
                    <a:chOff x="4154040" y="2442960"/>
                    <a:chExt cx="1529280" cy="388800"/>
                  </a:xfrm>
                </p:grpSpPr>
                <p:sp>
                  <p:nvSpPr>
                    <p:cNvPr id="2651" name=""/>
                    <p:cNvSpPr/>
                    <p:nvPr/>
                  </p:nvSpPr>
                  <p:spPr>
                    <a:xfrm>
                      <a:off x="4154040" y="2442960"/>
                      <a:ext cx="53280" cy="968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2" name=""/>
                    <p:cNvSpPr/>
                    <p:nvPr/>
                  </p:nvSpPr>
                  <p:spPr>
                    <a:xfrm>
                      <a:off x="4207320" y="2539800"/>
                      <a:ext cx="210960" cy="1627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3" name=""/>
                    <p:cNvSpPr/>
                    <p:nvPr/>
                  </p:nvSpPr>
                  <p:spPr>
                    <a:xfrm>
                      <a:off x="4419000" y="2702520"/>
                      <a:ext cx="369000" cy="97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4" name=""/>
                    <p:cNvSpPr/>
                    <p:nvPr/>
                  </p:nvSpPr>
                  <p:spPr>
                    <a:xfrm>
                      <a:off x="4788360" y="2800080"/>
                      <a:ext cx="579240" cy="31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5" name=""/>
                    <p:cNvSpPr/>
                    <p:nvPr/>
                  </p:nvSpPr>
                  <p:spPr>
                    <a:xfrm>
                      <a:off x="5367600" y="2831760"/>
                      <a:ext cx="31572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6" name=""/>
                  <p:cNvSpPr/>
                  <p:nvPr/>
                </p:nvSpPr>
                <p:spPr>
                  <a:xfrm>
                    <a:off x="4173480" y="2801880"/>
                    <a:ext cx="83304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igh/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ullu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>
                    <a:off x="4173120" y="1658880"/>
                    <a:ext cx="114552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ow/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ulldow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8" name=""/>
                <p:cNvSpPr/>
                <p:nvPr/>
              </p:nvSpPr>
              <p:spPr>
                <a:xfrm>
                  <a:off x="4586760" y="2649240"/>
                  <a:ext cx="660240" cy="304560"/>
                </a:xfrm>
                <a:prstGeom prst="noSmoking">
                  <a:avLst>
                    <a:gd name="adj" fmla="val 12500"/>
                  </a:avLst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4174200" y="2458800"/>
                  <a:ext cx="1567440" cy="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0" name=""/>
            <p:cNvGrpSpPr/>
            <p:nvPr/>
          </p:nvGrpSpPr>
          <p:grpSpPr>
            <a:xfrm>
              <a:off x="3557160" y="3560760"/>
              <a:ext cx="1900080" cy="1108440"/>
              <a:chOff x="3557160" y="3560760"/>
              <a:chExt cx="1900080" cy="1108440"/>
            </a:xfrm>
          </p:grpSpPr>
          <p:sp>
            <p:nvSpPr>
              <p:cNvPr id="2661" name=""/>
              <p:cNvSpPr/>
              <p:nvPr/>
            </p:nvSpPr>
            <p:spPr>
              <a:xfrm>
                <a:off x="3557160" y="3589200"/>
                <a:ext cx="1900080" cy="87624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2" name=""/>
              <p:cNvGrpSpPr/>
              <p:nvPr/>
            </p:nvGrpSpPr>
            <p:grpSpPr>
              <a:xfrm>
                <a:off x="3599280" y="3560760"/>
                <a:ext cx="912240" cy="1108440"/>
                <a:chOff x="3599280" y="3560760"/>
                <a:chExt cx="912240" cy="1108440"/>
              </a:xfrm>
            </p:grpSpPr>
            <p:grpSp>
              <p:nvGrpSpPr>
                <p:cNvPr id="2663" name=""/>
                <p:cNvGrpSpPr/>
                <p:nvPr/>
              </p:nvGrpSpPr>
              <p:grpSpPr>
                <a:xfrm>
                  <a:off x="3830400" y="3750120"/>
                  <a:ext cx="450360" cy="360000"/>
                  <a:chOff x="3830400" y="3750120"/>
                  <a:chExt cx="450360" cy="360000"/>
                </a:xfrm>
              </p:grpSpPr>
              <p:sp>
                <p:nvSpPr>
                  <p:cNvPr id="2664" name=""/>
                  <p:cNvSpPr/>
                  <p:nvPr/>
                </p:nvSpPr>
                <p:spPr>
                  <a:xfrm>
                    <a:off x="4178160" y="4110120"/>
                    <a:ext cx="939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65" name=""/>
                  <p:cNvGrpSpPr/>
                  <p:nvPr/>
                </p:nvGrpSpPr>
                <p:grpSpPr>
                  <a:xfrm>
                    <a:off x="3830400" y="3750120"/>
                    <a:ext cx="450360" cy="358920"/>
                    <a:chOff x="3830400" y="3750120"/>
                    <a:chExt cx="450360" cy="358920"/>
                  </a:xfrm>
                </p:grpSpPr>
                <p:sp>
                  <p:nvSpPr>
                    <p:cNvPr id="2666" name=""/>
                    <p:cNvSpPr/>
                    <p:nvPr/>
                  </p:nvSpPr>
                  <p:spPr>
                    <a:xfrm flipH="1" flipV="1">
                      <a:off x="4055400" y="3749760"/>
                      <a:ext cx="225360" cy="35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7" name=""/>
                    <p:cNvSpPr/>
                    <p:nvPr/>
                  </p:nvSpPr>
                  <p:spPr>
                    <a:xfrm flipH="1" flipV="1" rot="10800000">
                      <a:off x="3830400" y="3749760"/>
                      <a:ext cx="224640" cy="35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8" name=""/>
                  <p:cNvSpPr/>
                  <p:nvPr/>
                </p:nvSpPr>
                <p:spPr>
                  <a:xfrm>
                    <a:off x="3848400" y="3750480"/>
                    <a:ext cx="939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9" name=""/>
                <p:cNvGrpSpPr/>
                <p:nvPr/>
              </p:nvGrpSpPr>
              <p:grpSpPr>
                <a:xfrm>
                  <a:off x="3599280" y="3560760"/>
                  <a:ext cx="792000" cy="870840"/>
                  <a:chOff x="3599280" y="3560760"/>
                  <a:chExt cx="792000" cy="870840"/>
                </a:xfrm>
              </p:grpSpPr>
              <p:grpSp>
                <p:nvGrpSpPr>
                  <p:cNvPr id="2670" name=""/>
                  <p:cNvGrpSpPr/>
                  <p:nvPr/>
                </p:nvGrpSpPr>
                <p:grpSpPr>
                  <a:xfrm>
                    <a:off x="3831840" y="3741120"/>
                    <a:ext cx="449280" cy="360000"/>
                    <a:chOff x="3831840" y="3741120"/>
                    <a:chExt cx="449280" cy="360000"/>
                  </a:xfrm>
                </p:grpSpPr>
                <p:sp>
                  <p:nvSpPr>
                    <p:cNvPr id="2671" name=""/>
                    <p:cNvSpPr/>
                    <p:nvPr/>
                  </p:nvSpPr>
                  <p:spPr>
                    <a:xfrm flipH="1">
                      <a:off x="4178520" y="4101120"/>
                      <a:ext cx="939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2" name=""/>
                    <p:cNvSpPr/>
                    <p:nvPr/>
                  </p:nvSpPr>
                  <p:spPr>
                    <a:xfrm flipH="1">
                      <a:off x="3849120" y="3741480"/>
                      <a:ext cx="939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73" name=""/>
                    <p:cNvGrpSpPr/>
                    <p:nvPr/>
                  </p:nvGrpSpPr>
                  <p:grpSpPr>
                    <a:xfrm>
                      <a:off x="3831840" y="3741120"/>
                      <a:ext cx="449280" cy="358920"/>
                      <a:chOff x="3831840" y="3741120"/>
                      <a:chExt cx="449280" cy="358920"/>
                    </a:xfrm>
                  </p:grpSpPr>
                  <p:sp>
                    <p:nvSpPr>
                      <p:cNvPr id="2674" name=""/>
                      <p:cNvSpPr/>
                      <p:nvPr/>
                    </p:nvSpPr>
                    <p:spPr>
                      <a:xfrm flipH="1" flipV="1">
                        <a:off x="4056480" y="3740760"/>
                        <a:ext cx="22464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5" name=""/>
                      <p:cNvSpPr/>
                      <p:nvPr/>
                    </p:nvSpPr>
                    <p:spPr>
                      <a:xfrm flipH="1" flipV="1" rot="10800000">
                        <a:off x="3831840" y="3740760"/>
                        <a:ext cx="22392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676" name=""/>
                  <p:cNvGrpSpPr/>
                  <p:nvPr/>
                </p:nvGrpSpPr>
                <p:grpSpPr>
                  <a:xfrm>
                    <a:off x="3599280" y="3560760"/>
                    <a:ext cx="792000" cy="870840"/>
                    <a:chOff x="3599280" y="3560760"/>
                    <a:chExt cx="792000" cy="870840"/>
                  </a:xfrm>
                </p:grpSpPr>
                <p:sp>
                  <p:nvSpPr>
                    <p:cNvPr id="2677" name=""/>
                    <p:cNvSpPr/>
                    <p:nvPr/>
                  </p:nvSpPr>
                  <p:spPr>
                    <a:xfrm>
                      <a:off x="3844080" y="3652560"/>
                      <a:ext cx="0" cy="63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8" name=""/>
                    <p:cNvSpPr/>
                    <p:nvPr/>
                  </p:nvSpPr>
                  <p:spPr>
                    <a:xfrm>
                      <a:off x="3826080" y="4260600"/>
                      <a:ext cx="5652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9" name=""/>
                    <p:cNvSpPr/>
                    <p:nvPr/>
                  </p:nvSpPr>
                  <p:spPr>
                    <a:xfrm>
                      <a:off x="3826080" y="4120560"/>
                      <a:ext cx="54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0" name=""/>
                    <p:cNvSpPr/>
                    <p:nvPr/>
                  </p:nvSpPr>
                  <p:spPr>
                    <a:xfrm>
                      <a:off x="3808080" y="3745440"/>
                      <a:ext cx="54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1" name=""/>
                    <p:cNvSpPr/>
                    <p:nvPr/>
                  </p:nvSpPr>
                  <p:spPr>
                    <a:xfrm>
                      <a:off x="3744360" y="3560760"/>
                      <a:ext cx="183960" cy="33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2" name=""/>
                    <p:cNvSpPr/>
                    <p:nvPr/>
                  </p:nvSpPr>
                  <p:spPr>
                    <a:xfrm>
                      <a:off x="3600000" y="3751200"/>
                      <a:ext cx="5068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3" name=""/>
                    <p:cNvSpPr/>
                    <p:nvPr/>
                  </p:nvSpPr>
                  <p:spPr>
                    <a:xfrm>
                      <a:off x="3599280" y="4094280"/>
                      <a:ext cx="42912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84" name=""/>
                <p:cNvSpPr/>
                <p:nvPr/>
              </p:nvSpPr>
              <p:spPr>
                <a:xfrm>
                  <a:off x="4274280" y="4331880"/>
                  <a:ext cx="23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3625560" y="357012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6" name=""/>
              <p:cNvGrpSpPr/>
              <p:nvPr/>
            </p:nvGrpSpPr>
            <p:grpSpPr>
              <a:xfrm>
                <a:off x="4509360" y="3560760"/>
                <a:ext cx="910440" cy="1108440"/>
                <a:chOff x="4509360" y="3560760"/>
                <a:chExt cx="910440" cy="1108440"/>
              </a:xfrm>
            </p:grpSpPr>
            <p:grpSp>
              <p:nvGrpSpPr>
                <p:cNvPr id="2687" name=""/>
                <p:cNvGrpSpPr/>
                <p:nvPr/>
              </p:nvGrpSpPr>
              <p:grpSpPr>
                <a:xfrm>
                  <a:off x="4752360" y="3750120"/>
                  <a:ext cx="299520" cy="360000"/>
                  <a:chOff x="4752360" y="3750120"/>
                  <a:chExt cx="299520" cy="360000"/>
                </a:xfrm>
              </p:grpSpPr>
              <p:sp>
                <p:nvSpPr>
                  <p:cNvPr id="2688" name=""/>
                  <p:cNvSpPr/>
                  <p:nvPr/>
                </p:nvSpPr>
                <p:spPr>
                  <a:xfrm>
                    <a:off x="4758120" y="4110120"/>
                    <a:ext cx="62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9" name=""/>
                  <p:cNvSpPr/>
                  <p:nvPr/>
                </p:nvSpPr>
                <p:spPr>
                  <a:xfrm>
                    <a:off x="4977720" y="3750480"/>
                    <a:ext cx="62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90" name=""/>
                  <p:cNvGrpSpPr/>
                  <p:nvPr/>
                </p:nvGrpSpPr>
                <p:grpSpPr>
                  <a:xfrm>
                    <a:off x="4752360" y="3750120"/>
                    <a:ext cx="299520" cy="358920"/>
                    <a:chOff x="4752360" y="3750120"/>
                    <a:chExt cx="299520" cy="358920"/>
                  </a:xfrm>
                </p:grpSpPr>
                <p:sp>
                  <p:nvSpPr>
                    <p:cNvPr id="2691" name=""/>
                    <p:cNvSpPr/>
                    <p:nvPr/>
                  </p:nvSpPr>
                  <p:spPr>
                    <a:xfrm flipV="1">
                      <a:off x="4752360" y="3749760"/>
                      <a:ext cx="149760" cy="35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2" name=""/>
                    <p:cNvSpPr/>
                    <p:nvPr/>
                  </p:nvSpPr>
                  <p:spPr>
                    <a:xfrm flipV="1" rot="10800000">
                      <a:off x="4902840" y="3749760"/>
                      <a:ext cx="149040" cy="35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93" name=""/>
                <p:cNvGrpSpPr/>
                <p:nvPr/>
              </p:nvGrpSpPr>
              <p:grpSpPr>
                <a:xfrm>
                  <a:off x="4509360" y="3560760"/>
                  <a:ext cx="791280" cy="870840"/>
                  <a:chOff x="4509360" y="3560760"/>
                  <a:chExt cx="791280" cy="870840"/>
                </a:xfrm>
              </p:grpSpPr>
              <p:sp>
                <p:nvSpPr>
                  <p:cNvPr id="2694" name=""/>
                  <p:cNvSpPr/>
                  <p:nvPr/>
                </p:nvSpPr>
                <p:spPr>
                  <a:xfrm>
                    <a:off x="4753080" y="3652560"/>
                    <a:ext cx="0" cy="63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5" name=""/>
                  <p:cNvSpPr/>
                  <p:nvPr/>
                </p:nvSpPr>
                <p:spPr>
                  <a:xfrm>
                    <a:off x="4735080" y="4260600"/>
                    <a:ext cx="56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6" name=""/>
                  <p:cNvSpPr/>
                  <p:nvPr/>
                </p:nvSpPr>
                <p:spPr>
                  <a:xfrm>
                    <a:off x="4735080" y="412056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>
                    <a:off x="4717080" y="374544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>
                    <a:off x="4652280" y="356076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9" name=""/>
                  <p:cNvSpPr/>
                  <p:nvPr/>
                </p:nvSpPr>
                <p:spPr>
                  <a:xfrm>
                    <a:off x="4510080" y="3751200"/>
                    <a:ext cx="50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c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0" name=""/>
                  <p:cNvSpPr/>
                  <p:nvPr/>
                </p:nvSpPr>
                <p:spPr>
                  <a:xfrm>
                    <a:off x="4509360" y="4094280"/>
                    <a:ext cx="4291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1" name=""/>
                <p:cNvSpPr/>
                <p:nvPr/>
              </p:nvSpPr>
              <p:spPr>
                <a:xfrm>
                  <a:off x="5182560" y="4331880"/>
                  <a:ext cx="23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4535280" y="357012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3" name=""/>
              <p:cNvSpPr/>
              <p:nvPr/>
            </p:nvSpPr>
            <p:spPr>
              <a:xfrm>
                <a:off x="4052160" y="3855960"/>
                <a:ext cx="41040" cy="1904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4879080" y="3855960"/>
                <a:ext cx="40680" cy="1904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5" name=""/>
          <p:cNvGrpSpPr/>
          <p:nvPr/>
        </p:nvGrpSpPr>
        <p:grpSpPr>
          <a:xfrm>
            <a:off x="6308640" y="1163520"/>
            <a:ext cx="2527560" cy="3591360"/>
            <a:chOff x="6308640" y="1163520"/>
            <a:chExt cx="2527560" cy="3591360"/>
          </a:xfrm>
        </p:grpSpPr>
        <p:sp>
          <p:nvSpPr>
            <p:cNvPr id="2706" name=""/>
            <p:cNvSpPr/>
            <p:nvPr/>
          </p:nvSpPr>
          <p:spPr>
            <a:xfrm>
              <a:off x="6572160" y="1163520"/>
              <a:ext cx="1558800" cy="39168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_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7" name=""/>
            <p:cNvGrpSpPr/>
            <p:nvPr/>
          </p:nvGrpSpPr>
          <p:grpSpPr>
            <a:xfrm>
              <a:off x="6370560" y="3579480"/>
              <a:ext cx="1903320" cy="1175400"/>
              <a:chOff x="6370560" y="3579480"/>
              <a:chExt cx="1903320" cy="1175400"/>
            </a:xfrm>
          </p:grpSpPr>
          <p:sp>
            <p:nvSpPr>
              <p:cNvPr id="2708" name=""/>
              <p:cNvSpPr/>
              <p:nvPr/>
            </p:nvSpPr>
            <p:spPr>
              <a:xfrm>
                <a:off x="6370560" y="3676320"/>
                <a:ext cx="1898640" cy="87624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9" name=""/>
              <p:cNvGrpSpPr/>
              <p:nvPr/>
            </p:nvGrpSpPr>
            <p:grpSpPr>
              <a:xfrm>
                <a:off x="6454080" y="3579480"/>
                <a:ext cx="911520" cy="1175400"/>
                <a:chOff x="6454080" y="3579480"/>
                <a:chExt cx="911520" cy="1175400"/>
              </a:xfrm>
            </p:grpSpPr>
            <p:grpSp>
              <p:nvGrpSpPr>
                <p:cNvPr id="2710" name=""/>
                <p:cNvGrpSpPr/>
                <p:nvPr/>
              </p:nvGrpSpPr>
              <p:grpSpPr>
                <a:xfrm>
                  <a:off x="6694200" y="3971880"/>
                  <a:ext cx="450360" cy="360000"/>
                  <a:chOff x="6694200" y="3971880"/>
                  <a:chExt cx="450360" cy="360000"/>
                </a:xfrm>
              </p:grpSpPr>
              <p:sp>
                <p:nvSpPr>
                  <p:cNvPr id="2711" name=""/>
                  <p:cNvSpPr/>
                  <p:nvPr/>
                </p:nvSpPr>
                <p:spPr>
                  <a:xfrm>
                    <a:off x="6703200" y="4331880"/>
                    <a:ext cx="939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>
                    <a:off x="7032960" y="3972240"/>
                    <a:ext cx="939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13" name=""/>
                  <p:cNvGrpSpPr/>
                  <p:nvPr/>
                </p:nvGrpSpPr>
                <p:grpSpPr>
                  <a:xfrm>
                    <a:off x="6694200" y="3971880"/>
                    <a:ext cx="450360" cy="358920"/>
                    <a:chOff x="6694200" y="3971880"/>
                    <a:chExt cx="450360" cy="358920"/>
                  </a:xfrm>
                </p:grpSpPr>
                <p:sp>
                  <p:nvSpPr>
                    <p:cNvPr id="2714" name=""/>
                    <p:cNvSpPr/>
                    <p:nvPr/>
                  </p:nvSpPr>
                  <p:spPr>
                    <a:xfrm flipV="1">
                      <a:off x="6694200" y="3971520"/>
                      <a:ext cx="225360" cy="35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5" name=""/>
                    <p:cNvSpPr/>
                    <p:nvPr/>
                  </p:nvSpPr>
                  <p:spPr>
                    <a:xfrm flipV="1" rot="10800000">
                      <a:off x="6919920" y="3971520"/>
                      <a:ext cx="224640" cy="35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16" name=""/>
                <p:cNvGrpSpPr/>
                <p:nvPr/>
              </p:nvGrpSpPr>
              <p:grpSpPr>
                <a:xfrm>
                  <a:off x="6454080" y="3579480"/>
                  <a:ext cx="795240" cy="1107000"/>
                  <a:chOff x="6454080" y="3579480"/>
                  <a:chExt cx="795240" cy="1107000"/>
                </a:xfrm>
              </p:grpSpPr>
              <p:grpSp>
                <p:nvGrpSpPr>
                  <p:cNvPr id="2717" name=""/>
                  <p:cNvGrpSpPr/>
                  <p:nvPr/>
                </p:nvGrpSpPr>
                <p:grpSpPr>
                  <a:xfrm>
                    <a:off x="6454080" y="3579480"/>
                    <a:ext cx="795240" cy="1107000"/>
                    <a:chOff x="6454080" y="3579480"/>
                    <a:chExt cx="795240" cy="1107000"/>
                  </a:xfrm>
                </p:grpSpPr>
                <p:sp>
                  <p:nvSpPr>
                    <p:cNvPr id="2718" name=""/>
                    <p:cNvSpPr/>
                    <p:nvPr/>
                  </p:nvSpPr>
                  <p:spPr>
                    <a:xfrm>
                      <a:off x="6703200" y="3717360"/>
                      <a:ext cx="0" cy="63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9" name=""/>
                    <p:cNvSpPr/>
                    <p:nvPr/>
                  </p:nvSpPr>
                  <p:spPr>
                    <a:xfrm>
                      <a:off x="6684120" y="4325400"/>
                      <a:ext cx="5652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0" name=""/>
                    <p:cNvSpPr/>
                    <p:nvPr/>
                  </p:nvSpPr>
                  <p:spPr>
                    <a:xfrm>
                      <a:off x="6684120" y="3951720"/>
                      <a:ext cx="54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1" name=""/>
                    <p:cNvSpPr/>
                    <p:nvPr/>
                  </p:nvSpPr>
                  <p:spPr>
                    <a:xfrm>
                      <a:off x="6602400" y="3579480"/>
                      <a:ext cx="18396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2" name=""/>
                    <p:cNvSpPr/>
                    <p:nvPr/>
                  </p:nvSpPr>
                  <p:spPr>
                    <a:xfrm>
                      <a:off x="6454080" y="3938040"/>
                      <a:ext cx="42912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3" name=""/>
                    <p:cNvSpPr/>
                    <p:nvPr/>
                  </p:nvSpPr>
                  <p:spPr>
                    <a:xfrm>
                      <a:off x="6495480" y="4349160"/>
                      <a:ext cx="6195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4" name=""/>
                  <p:cNvGrpSpPr/>
                  <p:nvPr/>
                </p:nvGrpSpPr>
                <p:grpSpPr>
                  <a:xfrm>
                    <a:off x="6691680" y="3965400"/>
                    <a:ext cx="450360" cy="359640"/>
                    <a:chOff x="6691680" y="3965400"/>
                    <a:chExt cx="450360" cy="359640"/>
                  </a:xfrm>
                </p:grpSpPr>
                <p:sp>
                  <p:nvSpPr>
                    <p:cNvPr id="2725" name=""/>
                    <p:cNvSpPr/>
                    <p:nvPr/>
                  </p:nvSpPr>
                  <p:spPr>
                    <a:xfrm>
                      <a:off x="6700680" y="4325040"/>
                      <a:ext cx="939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6" name=""/>
                    <p:cNvSpPr/>
                    <p:nvPr/>
                  </p:nvSpPr>
                  <p:spPr>
                    <a:xfrm>
                      <a:off x="7030440" y="3965760"/>
                      <a:ext cx="939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27" name=""/>
                    <p:cNvGrpSpPr/>
                    <p:nvPr/>
                  </p:nvGrpSpPr>
                  <p:grpSpPr>
                    <a:xfrm>
                      <a:off x="6691680" y="3965400"/>
                      <a:ext cx="450360" cy="358920"/>
                      <a:chOff x="6691680" y="3965400"/>
                      <a:chExt cx="450360" cy="358920"/>
                    </a:xfrm>
                  </p:grpSpPr>
                  <p:sp>
                    <p:nvSpPr>
                      <p:cNvPr id="2728" name=""/>
                      <p:cNvSpPr/>
                      <p:nvPr/>
                    </p:nvSpPr>
                    <p:spPr>
                      <a:xfrm flipV="1">
                        <a:off x="6691680" y="3965040"/>
                        <a:ext cx="22536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9" name=""/>
                      <p:cNvSpPr/>
                      <p:nvPr/>
                    </p:nvSpPr>
                    <p:spPr>
                      <a:xfrm flipV="1" rot="10800000">
                        <a:off x="6917400" y="3965040"/>
                        <a:ext cx="22464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730" name=""/>
                <p:cNvSpPr/>
                <p:nvPr/>
              </p:nvSpPr>
              <p:spPr>
                <a:xfrm>
                  <a:off x="6481080" y="369360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7128360" y="4417560"/>
                  <a:ext cx="23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2" name=""/>
              <p:cNvGrpSpPr/>
              <p:nvPr/>
            </p:nvGrpSpPr>
            <p:grpSpPr>
              <a:xfrm>
                <a:off x="7362360" y="3579480"/>
                <a:ext cx="911520" cy="1175040"/>
                <a:chOff x="7362360" y="3579480"/>
                <a:chExt cx="911520" cy="1175040"/>
              </a:xfrm>
            </p:grpSpPr>
            <p:grpSp>
              <p:nvGrpSpPr>
                <p:cNvPr id="2733" name=""/>
                <p:cNvGrpSpPr/>
                <p:nvPr/>
              </p:nvGrpSpPr>
              <p:grpSpPr>
                <a:xfrm>
                  <a:off x="7362360" y="3579480"/>
                  <a:ext cx="795240" cy="1107000"/>
                  <a:chOff x="7362360" y="3579480"/>
                  <a:chExt cx="795240" cy="1107000"/>
                </a:xfrm>
              </p:grpSpPr>
              <p:sp>
                <p:nvSpPr>
                  <p:cNvPr id="2734" name=""/>
                  <p:cNvSpPr/>
                  <p:nvPr/>
                </p:nvSpPr>
                <p:spPr>
                  <a:xfrm>
                    <a:off x="7611480" y="3717360"/>
                    <a:ext cx="0" cy="63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5" name=""/>
                  <p:cNvSpPr/>
                  <p:nvPr/>
                </p:nvSpPr>
                <p:spPr>
                  <a:xfrm>
                    <a:off x="7592400" y="4325400"/>
                    <a:ext cx="56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>
                    <a:off x="7592400" y="3951720"/>
                    <a:ext cx="54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7" name=""/>
                  <p:cNvSpPr/>
                  <p:nvPr/>
                </p:nvSpPr>
                <p:spPr>
                  <a:xfrm>
                    <a:off x="7509960" y="3579480"/>
                    <a:ext cx="1846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8" name=""/>
                  <p:cNvSpPr/>
                  <p:nvPr/>
                </p:nvSpPr>
                <p:spPr>
                  <a:xfrm>
                    <a:off x="7362360" y="3938040"/>
                    <a:ext cx="4291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>
                    <a:off x="7403760" y="4349160"/>
                    <a:ext cx="6195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N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0" name=""/>
                <p:cNvGrpSpPr/>
                <p:nvPr/>
              </p:nvGrpSpPr>
              <p:grpSpPr>
                <a:xfrm>
                  <a:off x="7389360" y="3693600"/>
                  <a:ext cx="884520" cy="1060920"/>
                  <a:chOff x="7389360" y="3693600"/>
                  <a:chExt cx="884520" cy="1060920"/>
                </a:xfrm>
              </p:grpSpPr>
              <p:grpSp>
                <p:nvGrpSpPr>
                  <p:cNvPr id="2741" name=""/>
                  <p:cNvGrpSpPr/>
                  <p:nvPr/>
                </p:nvGrpSpPr>
                <p:grpSpPr>
                  <a:xfrm>
                    <a:off x="7597080" y="3950280"/>
                    <a:ext cx="299880" cy="360000"/>
                    <a:chOff x="7597080" y="3950280"/>
                    <a:chExt cx="299880" cy="360000"/>
                  </a:xfrm>
                </p:grpSpPr>
                <p:sp>
                  <p:nvSpPr>
                    <p:cNvPr id="2742" name=""/>
                    <p:cNvSpPr/>
                    <p:nvPr/>
                  </p:nvSpPr>
                  <p:spPr>
                    <a:xfrm>
                      <a:off x="7828920" y="4310280"/>
                      <a:ext cx="626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43" name=""/>
                    <p:cNvGrpSpPr/>
                    <p:nvPr/>
                  </p:nvGrpSpPr>
                  <p:grpSpPr>
                    <a:xfrm>
                      <a:off x="7597080" y="3950280"/>
                      <a:ext cx="299880" cy="358920"/>
                      <a:chOff x="7597080" y="3950280"/>
                      <a:chExt cx="299880" cy="358920"/>
                    </a:xfrm>
                  </p:grpSpPr>
                  <p:sp>
                    <p:nvSpPr>
                      <p:cNvPr id="2744" name=""/>
                      <p:cNvSpPr/>
                      <p:nvPr/>
                    </p:nvSpPr>
                    <p:spPr>
                      <a:xfrm flipH="1" flipV="1">
                        <a:off x="7747200" y="3949920"/>
                        <a:ext cx="14976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5" name=""/>
                      <p:cNvSpPr/>
                      <p:nvPr/>
                    </p:nvSpPr>
                    <p:spPr>
                      <a:xfrm flipH="1" flipV="1" rot="10800000">
                        <a:off x="7597080" y="3949920"/>
                        <a:ext cx="14976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46" name=""/>
                    <p:cNvSpPr/>
                    <p:nvPr/>
                  </p:nvSpPr>
                  <p:spPr>
                    <a:xfrm>
                      <a:off x="7608960" y="3950640"/>
                      <a:ext cx="626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47" name=""/>
                  <p:cNvSpPr/>
                  <p:nvPr/>
                </p:nvSpPr>
                <p:spPr>
                  <a:xfrm>
                    <a:off x="7389360" y="3693600"/>
                    <a:ext cx="2829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8" name=""/>
                  <p:cNvSpPr/>
                  <p:nvPr/>
                </p:nvSpPr>
                <p:spPr>
                  <a:xfrm>
                    <a:off x="8036640" y="4417200"/>
                    <a:ext cx="2372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49" name=""/>
              <p:cNvSpPr/>
              <p:nvPr/>
            </p:nvSpPr>
            <p:spPr>
              <a:xfrm>
                <a:off x="7732440" y="4057200"/>
                <a:ext cx="41400" cy="190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H="1">
                <a:off x="6906600" y="4057200"/>
                <a:ext cx="41400" cy="190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308640" y="1726920"/>
              <a:ext cx="2527560" cy="1846440"/>
              <a:chOff x="6308640" y="1726920"/>
              <a:chExt cx="2527560" cy="1846440"/>
            </a:xfrm>
          </p:grpSpPr>
          <p:sp>
            <p:nvSpPr>
              <p:cNvPr id="2752" name=""/>
              <p:cNvSpPr/>
              <p:nvPr/>
            </p:nvSpPr>
            <p:spPr>
              <a:xfrm>
                <a:off x="6308640" y="1776240"/>
                <a:ext cx="2516040" cy="14475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3" name=""/>
              <p:cNvGrpSpPr/>
              <p:nvPr/>
            </p:nvGrpSpPr>
            <p:grpSpPr>
              <a:xfrm>
                <a:off x="6348240" y="1726920"/>
                <a:ext cx="2487960" cy="1846440"/>
                <a:chOff x="6348240" y="1726920"/>
                <a:chExt cx="2487960" cy="1846440"/>
              </a:xfrm>
            </p:grpSpPr>
            <p:grpSp>
              <p:nvGrpSpPr>
                <p:cNvPr id="2754" name=""/>
                <p:cNvGrpSpPr/>
                <p:nvPr/>
              </p:nvGrpSpPr>
              <p:grpSpPr>
                <a:xfrm>
                  <a:off x="6348240" y="1726920"/>
                  <a:ext cx="2487960" cy="1846440"/>
                  <a:chOff x="6348240" y="1726920"/>
                  <a:chExt cx="2487960" cy="1846440"/>
                </a:xfrm>
              </p:grpSpPr>
              <p:sp>
                <p:nvSpPr>
                  <p:cNvPr id="2755" name=""/>
                  <p:cNvSpPr/>
                  <p:nvPr/>
                </p:nvSpPr>
                <p:spPr>
                  <a:xfrm>
                    <a:off x="6989400" y="1879200"/>
                    <a:ext cx="0" cy="1067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6" name=""/>
                  <p:cNvSpPr/>
                  <p:nvPr/>
                </p:nvSpPr>
                <p:spPr>
                  <a:xfrm>
                    <a:off x="6915240" y="2511360"/>
                    <a:ext cx="174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7" name=""/>
                  <p:cNvSpPr/>
                  <p:nvPr/>
                </p:nvSpPr>
                <p:spPr>
                  <a:xfrm>
                    <a:off x="8145000" y="2260440"/>
                    <a:ext cx="691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ou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8" name=""/>
                  <p:cNvSpPr/>
                  <p:nvPr/>
                </p:nvSpPr>
                <p:spPr>
                  <a:xfrm>
                    <a:off x="6348240" y="1993320"/>
                    <a:ext cx="592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ou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59" name=""/>
                  <p:cNvGrpSpPr/>
                  <p:nvPr/>
                </p:nvGrpSpPr>
                <p:grpSpPr>
                  <a:xfrm>
                    <a:off x="6968520" y="1958040"/>
                    <a:ext cx="1581120" cy="584280"/>
                    <a:chOff x="6968520" y="1958040"/>
                    <a:chExt cx="1581120" cy="584280"/>
                  </a:xfrm>
                </p:grpSpPr>
                <p:sp>
                  <p:nvSpPr>
                    <p:cNvPr id="2760" name=""/>
                    <p:cNvSpPr/>
                    <p:nvPr/>
                  </p:nvSpPr>
                  <p:spPr>
                    <a:xfrm flipV="1">
                      <a:off x="6968520" y="2315520"/>
                      <a:ext cx="262800" cy="226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1" name=""/>
                    <p:cNvSpPr/>
                    <p:nvPr/>
                  </p:nvSpPr>
                  <p:spPr>
                    <a:xfrm flipV="1">
                      <a:off x="7231320" y="2152800"/>
                      <a:ext cx="264600" cy="1627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2" name=""/>
                    <p:cNvSpPr/>
                    <p:nvPr/>
                  </p:nvSpPr>
                  <p:spPr>
                    <a:xfrm flipV="1">
                      <a:off x="7496280" y="2023200"/>
                      <a:ext cx="420840" cy="1292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3" name=""/>
                    <p:cNvSpPr/>
                    <p:nvPr/>
                  </p:nvSpPr>
                  <p:spPr>
                    <a:xfrm flipV="1">
                      <a:off x="7917120" y="1958040"/>
                      <a:ext cx="632520" cy="65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4" name=""/>
                  <p:cNvGrpSpPr/>
                  <p:nvPr/>
                </p:nvGrpSpPr>
                <p:grpSpPr>
                  <a:xfrm>
                    <a:off x="6968520" y="2511360"/>
                    <a:ext cx="1529640" cy="389160"/>
                    <a:chOff x="6968520" y="2511360"/>
                    <a:chExt cx="1529640" cy="389160"/>
                  </a:xfrm>
                </p:grpSpPr>
                <p:sp>
                  <p:nvSpPr>
                    <p:cNvPr id="2765" name=""/>
                    <p:cNvSpPr/>
                    <p:nvPr/>
                  </p:nvSpPr>
                  <p:spPr>
                    <a:xfrm>
                      <a:off x="6968520" y="2511360"/>
                      <a:ext cx="53280" cy="968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6" name=""/>
                    <p:cNvSpPr/>
                    <p:nvPr/>
                  </p:nvSpPr>
                  <p:spPr>
                    <a:xfrm>
                      <a:off x="7022160" y="2608200"/>
                      <a:ext cx="210960" cy="1627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7" name=""/>
                    <p:cNvSpPr/>
                    <p:nvPr/>
                  </p:nvSpPr>
                  <p:spPr>
                    <a:xfrm>
                      <a:off x="7233120" y="2770920"/>
                      <a:ext cx="369360" cy="97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8" name=""/>
                    <p:cNvSpPr/>
                    <p:nvPr/>
                  </p:nvSpPr>
                  <p:spPr>
                    <a:xfrm>
                      <a:off x="7603200" y="2868840"/>
                      <a:ext cx="579240" cy="31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9" name=""/>
                    <p:cNvSpPr/>
                    <p:nvPr/>
                  </p:nvSpPr>
                  <p:spPr>
                    <a:xfrm>
                      <a:off x="8182440" y="2900520"/>
                      <a:ext cx="31572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0" name=""/>
                  <p:cNvSpPr/>
                  <p:nvPr/>
                </p:nvSpPr>
                <p:spPr>
                  <a:xfrm>
                    <a:off x="6988680" y="2869560"/>
                    <a:ext cx="83304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igh/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ullu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1" name=""/>
                  <p:cNvSpPr/>
                  <p:nvPr/>
                </p:nvSpPr>
                <p:spPr>
                  <a:xfrm>
                    <a:off x="6987960" y="1726920"/>
                    <a:ext cx="114552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ow/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ulldow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2" name=""/>
                <p:cNvSpPr/>
                <p:nvPr/>
              </p:nvSpPr>
              <p:spPr>
                <a:xfrm>
                  <a:off x="7319160" y="1955520"/>
                  <a:ext cx="660240" cy="304560"/>
                </a:xfrm>
                <a:prstGeom prst="noSmoking">
                  <a:avLst>
                    <a:gd name="adj" fmla="val 12500"/>
                  </a:avLst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6989400" y="2527200"/>
                  <a:ext cx="1567440" cy="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738000" y="4686120"/>
            <a:ext cx="735156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with two IO-Mod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th top level mode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5" name=""/>
          <p:cNvGrpSpPr/>
          <p:nvPr/>
        </p:nvGrpSpPr>
        <p:grpSpPr>
          <a:xfrm>
            <a:off x="257040" y="822240"/>
            <a:ext cx="2516400" cy="4007520"/>
            <a:chOff x="257040" y="822240"/>
            <a:chExt cx="2516400" cy="4007520"/>
          </a:xfrm>
        </p:grpSpPr>
        <p:sp>
          <p:nvSpPr>
            <p:cNvPr id="2776" name=""/>
            <p:cNvSpPr/>
            <p:nvPr/>
          </p:nvSpPr>
          <p:spPr>
            <a:xfrm>
              <a:off x="411120" y="1792080"/>
              <a:ext cx="2062080" cy="96840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116000" y="1852560"/>
              <a:ext cx="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04880" y="2367000"/>
              <a:ext cx="13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877760" y="2396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889920" y="19126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905040" y="2095560"/>
              <a:ext cx="151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Power cla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2" name=""/>
            <p:cNvGrpSpPr/>
            <p:nvPr/>
          </p:nvGrpSpPr>
          <p:grpSpPr>
            <a:xfrm>
              <a:off x="793800" y="2068200"/>
              <a:ext cx="1081080" cy="488520"/>
              <a:chOff x="793800" y="2068200"/>
              <a:chExt cx="1081080" cy="488520"/>
            </a:xfrm>
          </p:grpSpPr>
          <p:sp>
            <p:nvSpPr>
              <p:cNvPr id="2783" name=""/>
              <p:cNvSpPr/>
              <p:nvPr/>
            </p:nvSpPr>
            <p:spPr>
              <a:xfrm flipH="1" flipV="1">
                <a:off x="1136880" y="2369880"/>
                <a:ext cx="738000" cy="18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 flipV="1">
                <a:off x="1042560" y="2340000"/>
                <a:ext cx="93960" cy="2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H="1" flipV="1">
                <a:off x="793800" y="2068200"/>
                <a:ext cx="249120" cy="27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6" name=""/>
            <p:cNvGrpSpPr/>
            <p:nvPr/>
          </p:nvGrpSpPr>
          <p:grpSpPr>
            <a:xfrm>
              <a:off x="257040" y="2982960"/>
              <a:ext cx="2516400" cy="1846800"/>
              <a:chOff x="257040" y="2982960"/>
              <a:chExt cx="2516400" cy="1846800"/>
            </a:xfrm>
          </p:grpSpPr>
          <p:sp>
            <p:nvSpPr>
              <p:cNvPr id="2787" name=""/>
              <p:cNvSpPr/>
              <p:nvPr/>
            </p:nvSpPr>
            <p:spPr>
              <a:xfrm>
                <a:off x="257040" y="3009960"/>
                <a:ext cx="2516400" cy="14270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8" name=""/>
              <p:cNvGrpSpPr/>
              <p:nvPr/>
            </p:nvGrpSpPr>
            <p:grpSpPr>
              <a:xfrm>
                <a:off x="283680" y="2982960"/>
                <a:ext cx="2487960" cy="1846800"/>
                <a:chOff x="283680" y="2982960"/>
                <a:chExt cx="2487960" cy="1846800"/>
              </a:xfrm>
            </p:grpSpPr>
            <p:grpSp>
              <p:nvGrpSpPr>
                <p:cNvPr id="2789" name=""/>
                <p:cNvGrpSpPr/>
                <p:nvPr/>
              </p:nvGrpSpPr>
              <p:grpSpPr>
                <a:xfrm>
                  <a:off x="283680" y="2982960"/>
                  <a:ext cx="2487960" cy="1846800"/>
                  <a:chOff x="283680" y="2982960"/>
                  <a:chExt cx="2487960" cy="1846800"/>
                </a:xfrm>
              </p:grpSpPr>
              <p:sp>
                <p:nvSpPr>
                  <p:cNvPr id="2790" name=""/>
                  <p:cNvSpPr/>
                  <p:nvPr/>
                </p:nvSpPr>
                <p:spPr>
                  <a:xfrm>
                    <a:off x="924840" y="3135240"/>
                    <a:ext cx="0" cy="1066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>
                    <a:off x="851400" y="3767040"/>
                    <a:ext cx="174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>
                    <a:off x="2080440" y="3516120"/>
                    <a:ext cx="691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ou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3" name=""/>
                  <p:cNvSpPr/>
                  <p:nvPr/>
                </p:nvSpPr>
                <p:spPr>
                  <a:xfrm>
                    <a:off x="283680" y="3249360"/>
                    <a:ext cx="592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ou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94" name=""/>
                  <p:cNvGrpSpPr/>
                  <p:nvPr/>
                </p:nvGrpSpPr>
                <p:grpSpPr>
                  <a:xfrm>
                    <a:off x="904320" y="3214080"/>
                    <a:ext cx="1580400" cy="584280"/>
                    <a:chOff x="904320" y="3214080"/>
                    <a:chExt cx="1580400" cy="584280"/>
                  </a:xfrm>
                </p:grpSpPr>
                <p:sp>
                  <p:nvSpPr>
                    <p:cNvPr id="2795" name=""/>
                    <p:cNvSpPr/>
                    <p:nvPr/>
                  </p:nvSpPr>
                  <p:spPr>
                    <a:xfrm flipV="1">
                      <a:off x="904320" y="3571560"/>
                      <a:ext cx="262800" cy="226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6" name=""/>
                    <p:cNvSpPr/>
                    <p:nvPr/>
                  </p:nvSpPr>
                  <p:spPr>
                    <a:xfrm flipV="1">
                      <a:off x="1167120" y="3408840"/>
                      <a:ext cx="264600" cy="1627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7" name=""/>
                    <p:cNvSpPr/>
                    <p:nvPr/>
                  </p:nvSpPr>
                  <p:spPr>
                    <a:xfrm flipV="1">
                      <a:off x="1431720" y="3279240"/>
                      <a:ext cx="420840" cy="1292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8" name=""/>
                    <p:cNvSpPr/>
                    <p:nvPr/>
                  </p:nvSpPr>
                  <p:spPr>
                    <a:xfrm flipV="1">
                      <a:off x="1852560" y="3214080"/>
                      <a:ext cx="632160" cy="65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9" name=""/>
                  <p:cNvGrpSpPr/>
                  <p:nvPr/>
                </p:nvGrpSpPr>
                <p:grpSpPr>
                  <a:xfrm>
                    <a:off x="904320" y="3767040"/>
                    <a:ext cx="1529640" cy="388800"/>
                    <a:chOff x="904320" y="3767040"/>
                    <a:chExt cx="1529640" cy="388800"/>
                  </a:xfrm>
                </p:grpSpPr>
                <p:sp>
                  <p:nvSpPr>
                    <p:cNvPr id="2800" name=""/>
                    <p:cNvSpPr/>
                    <p:nvPr/>
                  </p:nvSpPr>
                  <p:spPr>
                    <a:xfrm>
                      <a:off x="904320" y="3767040"/>
                      <a:ext cx="53280" cy="968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1" name=""/>
                    <p:cNvSpPr/>
                    <p:nvPr/>
                  </p:nvSpPr>
                  <p:spPr>
                    <a:xfrm>
                      <a:off x="957960" y="3863880"/>
                      <a:ext cx="210960" cy="1627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2" name=""/>
                    <p:cNvSpPr/>
                    <p:nvPr/>
                  </p:nvSpPr>
                  <p:spPr>
                    <a:xfrm>
                      <a:off x="1168920" y="4026600"/>
                      <a:ext cx="369360" cy="97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3" name=""/>
                    <p:cNvSpPr/>
                    <p:nvPr/>
                  </p:nvSpPr>
                  <p:spPr>
                    <a:xfrm>
                      <a:off x="1539000" y="4124160"/>
                      <a:ext cx="579240" cy="31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4" name=""/>
                    <p:cNvSpPr/>
                    <p:nvPr/>
                  </p:nvSpPr>
                  <p:spPr>
                    <a:xfrm>
                      <a:off x="2118240" y="4155840"/>
                      <a:ext cx="31572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05" name=""/>
                  <p:cNvSpPr/>
                  <p:nvPr/>
                </p:nvSpPr>
                <p:spPr>
                  <a:xfrm>
                    <a:off x="924120" y="4125960"/>
                    <a:ext cx="83304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igh/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ullu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6" name=""/>
                  <p:cNvSpPr/>
                  <p:nvPr/>
                </p:nvSpPr>
                <p:spPr>
                  <a:xfrm>
                    <a:off x="923760" y="2982960"/>
                    <a:ext cx="114552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ow/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ulldow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07" name=""/>
                <p:cNvSpPr/>
                <p:nvPr/>
              </p:nvSpPr>
              <p:spPr>
                <a:xfrm>
                  <a:off x="1337400" y="3973320"/>
                  <a:ext cx="660240" cy="304560"/>
                </a:xfrm>
                <a:prstGeom prst="noSmoking">
                  <a:avLst>
                    <a:gd name="adj" fmla="val 12500"/>
                  </a:avLst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925200" y="3782880"/>
                  <a:ext cx="1567800" cy="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9" name=""/>
            <p:cNvSpPr/>
            <p:nvPr/>
          </p:nvSpPr>
          <p:spPr>
            <a:xfrm>
              <a:off x="777600" y="822240"/>
              <a:ext cx="1559160" cy="69660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p level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0" name=""/>
          <p:cNvGrpSpPr/>
          <p:nvPr/>
        </p:nvGrpSpPr>
        <p:grpSpPr>
          <a:xfrm>
            <a:off x="7810560" y="196200"/>
            <a:ext cx="1114200" cy="694440"/>
            <a:chOff x="7810560" y="196200"/>
            <a:chExt cx="1114200" cy="694440"/>
          </a:xfrm>
        </p:grpSpPr>
        <p:sp>
          <p:nvSpPr>
            <p:cNvPr id="2811" name=""/>
            <p:cNvSpPr/>
            <p:nvPr/>
          </p:nvSpPr>
          <p:spPr>
            <a:xfrm>
              <a:off x="7810560" y="196200"/>
              <a:ext cx="1114200" cy="43956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GTL-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2" name=""/>
            <p:cNvGrpSpPr/>
            <p:nvPr/>
          </p:nvGrpSpPr>
          <p:grpSpPr>
            <a:xfrm>
              <a:off x="8107200" y="637920"/>
              <a:ext cx="610560" cy="252720"/>
              <a:chOff x="8107200" y="637920"/>
              <a:chExt cx="610560" cy="252720"/>
            </a:xfrm>
          </p:grpSpPr>
          <p:grpSp>
            <p:nvGrpSpPr>
              <p:cNvPr id="2813" name=""/>
              <p:cNvGrpSpPr/>
              <p:nvPr/>
            </p:nvGrpSpPr>
            <p:grpSpPr>
              <a:xfrm>
                <a:off x="8107200" y="730440"/>
                <a:ext cx="610560" cy="160200"/>
                <a:chOff x="8107200" y="730440"/>
                <a:chExt cx="610560" cy="160200"/>
              </a:xfrm>
            </p:grpSpPr>
            <p:grpSp>
              <p:nvGrpSpPr>
                <p:cNvPr id="2814" name=""/>
                <p:cNvGrpSpPr/>
                <p:nvPr/>
              </p:nvGrpSpPr>
              <p:grpSpPr>
                <a:xfrm>
                  <a:off x="8107200" y="851040"/>
                  <a:ext cx="610560" cy="39600"/>
                  <a:chOff x="8107200" y="851040"/>
                  <a:chExt cx="610560" cy="39600"/>
                </a:xfrm>
              </p:grpSpPr>
              <p:sp>
                <p:nvSpPr>
                  <p:cNvPr id="2815" name=""/>
                  <p:cNvSpPr/>
                  <p:nvPr/>
                </p:nvSpPr>
                <p:spPr>
                  <a:xfrm>
                    <a:off x="820908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6" name=""/>
                  <p:cNvSpPr/>
                  <p:nvPr/>
                </p:nvSpPr>
                <p:spPr>
                  <a:xfrm>
                    <a:off x="841284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>
                    <a:off x="851472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>
                    <a:off x="861660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831096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810720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1" name=""/>
                <p:cNvGrpSpPr/>
                <p:nvPr/>
              </p:nvGrpSpPr>
              <p:grpSpPr>
                <a:xfrm>
                  <a:off x="8158320" y="810720"/>
                  <a:ext cx="508680" cy="39600"/>
                  <a:chOff x="8158320" y="810720"/>
                  <a:chExt cx="508680" cy="39600"/>
                </a:xfrm>
              </p:grpSpPr>
              <p:sp>
                <p:nvSpPr>
                  <p:cNvPr id="2822" name=""/>
                  <p:cNvSpPr/>
                  <p:nvPr/>
                </p:nvSpPr>
                <p:spPr>
                  <a:xfrm>
                    <a:off x="815832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3" name=""/>
                  <p:cNvSpPr/>
                  <p:nvPr/>
                </p:nvSpPr>
                <p:spPr>
                  <a:xfrm>
                    <a:off x="836208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>
                    <a:off x="846396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5" name=""/>
                  <p:cNvSpPr/>
                  <p:nvPr/>
                </p:nvSpPr>
                <p:spPr>
                  <a:xfrm>
                    <a:off x="856584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6" name=""/>
                  <p:cNvSpPr/>
                  <p:nvPr/>
                </p:nvSpPr>
                <p:spPr>
                  <a:xfrm>
                    <a:off x="826020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7" name=""/>
                <p:cNvGrpSpPr/>
                <p:nvPr/>
              </p:nvGrpSpPr>
              <p:grpSpPr>
                <a:xfrm>
                  <a:off x="8209080" y="730440"/>
                  <a:ext cx="406800" cy="79560"/>
                  <a:chOff x="8209080" y="730440"/>
                  <a:chExt cx="406800" cy="79560"/>
                </a:xfrm>
              </p:grpSpPr>
              <p:sp>
                <p:nvSpPr>
                  <p:cNvPr id="2828" name=""/>
                  <p:cNvSpPr/>
                  <p:nvPr/>
                </p:nvSpPr>
                <p:spPr>
                  <a:xfrm>
                    <a:off x="8310960" y="77040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9" name=""/>
                  <p:cNvSpPr/>
                  <p:nvPr/>
                </p:nvSpPr>
                <p:spPr>
                  <a:xfrm>
                    <a:off x="8514720" y="77040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>
                    <a:off x="8412840" y="77040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>
                    <a:off x="8209080" y="77040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>
                    <a:off x="8260200" y="7304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8463960" y="7304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8362080" y="7304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35" name=""/>
              <p:cNvGrpSpPr/>
              <p:nvPr/>
            </p:nvGrpSpPr>
            <p:grpSpPr>
              <a:xfrm>
                <a:off x="8337600" y="730440"/>
                <a:ext cx="151920" cy="159840"/>
                <a:chOff x="8337600" y="730440"/>
                <a:chExt cx="151920" cy="159840"/>
              </a:xfrm>
            </p:grpSpPr>
            <p:grpSp>
              <p:nvGrpSpPr>
                <p:cNvPr id="2836" name=""/>
                <p:cNvGrpSpPr/>
                <p:nvPr/>
              </p:nvGrpSpPr>
              <p:grpSpPr>
                <a:xfrm>
                  <a:off x="8337600" y="851040"/>
                  <a:ext cx="151920" cy="39240"/>
                  <a:chOff x="8337600" y="851040"/>
                  <a:chExt cx="151920" cy="39240"/>
                </a:xfrm>
              </p:grpSpPr>
              <p:sp>
                <p:nvSpPr>
                  <p:cNvPr id="2837" name=""/>
                  <p:cNvSpPr/>
                  <p:nvPr/>
                </p:nvSpPr>
                <p:spPr>
                  <a:xfrm>
                    <a:off x="8343720" y="864000"/>
                    <a:ext cx="139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8" name=""/>
                  <p:cNvSpPr/>
                  <p:nvPr/>
                </p:nvSpPr>
                <p:spPr>
                  <a:xfrm>
                    <a:off x="8337600" y="876960"/>
                    <a:ext cx="151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>
                    <a:off x="8350200" y="851040"/>
                    <a:ext cx="126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0" name=""/>
                <p:cNvGrpSpPr/>
                <p:nvPr/>
              </p:nvGrpSpPr>
              <p:grpSpPr>
                <a:xfrm>
                  <a:off x="8356320" y="810720"/>
                  <a:ext cx="114120" cy="39240"/>
                  <a:chOff x="8356320" y="810720"/>
                  <a:chExt cx="114120" cy="39240"/>
                </a:xfrm>
              </p:grpSpPr>
              <p:sp>
                <p:nvSpPr>
                  <p:cNvPr id="2841" name=""/>
                  <p:cNvSpPr/>
                  <p:nvPr/>
                </p:nvSpPr>
                <p:spPr>
                  <a:xfrm>
                    <a:off x="8361000" y="82368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2" name=""/>
                  <p:cNvSpPr/>
                  <p:nvPr/>
                </p:nvSpPr>
                <p:spPr>
                  <a:xfrm>
                    <a:off x="8356320" y="83664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3" name=""/>
                  <p:cNvSpPr/>
                  <p:nvPr/>
                </p:nvSpPr>
                <p:spPr>
                  <a:xfrm>
                    <a:off x="8365680" y="81072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4" name=""/>
                <p:cNvGrpSpPr/>
                <p:nvPr/>
              </p:nvGrpSpPr>
              <p:grpSpPr>
                <a:xfrm>
                  <a:off x="8369280" y="770400"/>
                  <a:ext cx="88560" cy="39240"/>
                  <a:chOff x="8369280" y="770400"/>
                  <a:chExt cx="88560" cy="39240"/>
                </a:xfrm>
              </p:grpSpPr>
              <p:sp>
                <p:nvSpPr>
                  <p:cNvPr id="2845" name=""/>
                  <p:cNvSpPr/>
                  <p:nvPr/>
                </p:nvSpPr>
                <p:spPr>
                  <a:xfrm>
                    <a:off x="8372880" y="783360"/>
                    <a:ext cx="81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>
                    <a:off x="8369280" y="796320"/>
                    <a:ext cx="885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>
                    <a:off x="8376480" y="770400"/>
                    <a:ext cx="738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8" name=""/>
                <p:cNvGrpSpPr/>
                <p:nvPr/>
              </p:nvGrpSpPr>
              <p:grpSpPr>
                <a:xfrm>
                  <a:off x="8381880" y="730440"/>
                  <a:ext cx="63360" cy="39240"/>
                  <a:chOff x="8381880" y="730440"/>
                  <a:chExt cx="63360" cy="39240"/>
                </a:xfrm>
              </p:grpSpPr>
              <p:sp>
                <p:nvSpPr>
                  <p:cNvPr id="2849" name=""/>
                  <p:cNvSpPr/>
                  <p:nvPr/>
                </p:nvSpPr>
                <p:spPr>
                  <a:xfrm>
                    <a:off x="8384400" y="74340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>
                    <a:off x="8381880" y="75636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>
                    <a:off x="8386920" y="73044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52" name=""/>
              <p:cNvSpPr/>
              <p:nvPr/>
            </p:nvSpPr>
            <p:spPr>
              <a:xfrm>
                <a:off x="8286120" y="682200"/>
                <a:ext cx="253080" cy="47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3" name=""/>
              <p:cNvGrpSpPr/>
              <p:nvPr/>
            </p:nvGrpSpPr>
            <p:grpSpPr>
              <a:xfrm>
                <a:off x="8321040" y="700200"/>
                <a:ext cx="183240" cy="28440"/>
                <a:chOff x="8321040" y="700200"/>
                <a:chExt cx="183240" cy="28440"/>
              </a:xfrm>
            </p:grpSpPr>
            <p:sp>
              <p:nvSpPr>
                <p:cNvPr id="2854" name=""/>
                <p:cNvSpPr/>
                <p:nvPr/>
              </p:nvSpPr>
              <p:spPr>
                <a:xfrm>
                  <a:off x="832104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836100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847908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843876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839952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9" name=""/>
              <p:cNvSpPr/>
              <p:nvPr/>
            </p:nvSpPr>
            <p:spPr>
              <a:xfrm>
                <a:off x="8278560" y="677880"/>
                <a:ext cx="26784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8283960" y="645120"/>
                <a:ext cx="257400" cy="32040"/>
              </a:xfrm>
              <a:custGeom>
                <a:avLst/>
                <a:gdLst>
                  <a:gd name="textAreaLeft" fmla="*/ 26640 w 257400"/>
                  <a:gd name="textAreaRight" fmla="*/ 230760 w 25740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8291880" y="637920"/>
                <a:ext cx="24048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IBIS gtl driver schedule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246240" y="628560"/>
            <a:ext cx="860724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Driver schedul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Model_name      Rise_on_dly   Rise_off_dly   Fall_on_dly    Fall_off_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_OPSINK              0.00ns       NA          2.0ns      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_OPSOURCE       0.00ns      2.0ns       NA           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pullu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V    0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pulldow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V    0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       35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powerclam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V     0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V    -10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ramp]     0.5V/0.45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4" name=""/>
          <p:cNvGrpSpPr/>
          <p:nvPr/>
        </p:nvGrpSpPr>
        <p:grpSpPr>
          <a:xfrm>
            <a:off x="7810560" y="196200"/>
            <a:ext cx="1114200" cy="694440"/>
            <a:chOff x="7810560" y="196200"/>
            <a:chExt cx="1114200" cy="694440"/>
          </a:xfrm>
        </p:grpSpPr>
        <p:sp>
          <p:nvSpPr>
            <p:cNvPr id="2865" name=""/>
            <p:cNvSpPr/>
            <p:nvPr/>
          </p:nvSpPr>
          <p:spPr>
            <a:xfrm>
              <a:off x="7810560" y="196200"/>
              <a:ext cx="1114200" cy="43956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GTL-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6" name=""/>
            <p:cNvGrpSpPr/>
            <p:nvPr/>
          </p:nvGrpSpPr>
          <p:grpSpPr>
            <a:xfrm>
              <a:off x="8107200" y="637920"/>
              <a:ext cx="610560" cy="252720"/>
              <a:chOff x="8107200" y="637920"/>
              <a:chExt cx="610560" cy="252720"/>
            </a:xfrm>
          </p:grpSpPr>
          <p:grpSp>
            <p:nvGrpSpPr>
              <p:cNvPr id="2867" name=""/>
              <p:cNvGrpSpPr/>
              <p:nvPr/>
            </p:nvGrpSpPr>
            <p:grpSpPr>
              <a:xfrm>
                <a:off x="8107200" y="730440"/>
                <a:ext cx="610560" cy="160200"/>
                <a:chOff x="8107200" y="730440"/>
                <a:chExt cx="610560" cy="160200"/>
              </a:xfrm>
            </p:grpSpPr>
            <p:grpSp>
              <p:nvGrpSpPr>
                <p:cNvPr id="2868" name=""/>
                <p:cNvGrpSpPr/>
                <p:nvPr/>
              </p:nvGrpSpPr>
              <p:grpSpPr>
                <a:xfrm>
                  <a:off x="8107200" y="851040"/>
                  <a:ext cx="610560" cy="39600"/>
                  <a:chOff x="8107200" y="851040"/>
                  <a:chExt cx="610560" cy="39600"/>
                </a:xfrm>
              </p:grpSpPr>
              <p:sp>
                <p:nvSpPr>
                  <p:cNvPr id="2869" name=""/>
                  <p:cNvSpPr/>
                  <p:nvPr/>
                </p:nvSpPr>
                <p:spPr>
                  <a:xfrm>
                    <a:off x="820908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>
                    <a:off x="841284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>
                    <a:off x="851472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2" name=""/>
                  <p:cNvSpPr/>
                  <p:nvPr/>
                </p:nvSpPr>
                <p:spPr>
                  <a:xfrm>
                    <a:off x="861660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3" name=""/>
                  <p:cNvSpPr/>
                  <p:nvPr/>
                </p:nvSpPr>
                <p:spPr>
                  <a:xfrm>
                    <a:off x="831096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4" name=""/>
                  <p:cNvSpPr/>
                  <p:nvPr/>
                </p:nvSpPr>
                <p:spPr>
                  <a:xfrm>
                    <a:off x="810720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5" name=""/>
                <p:cNvGrpSpPr/>
                <p:nvPr/>
              </p:nvGrpSpPr>
              <p:grpSpPr>
                <a:xfrm>
                  <a:off x="8158320" y="810720"/>
                  <a:ext cx="508680" cy="39600"/>
                  <a:chOff x="8158320" y="810720"/>
                  <a:chExt cx="508680" cy="39600"/>
                </a:xfrm>
              </p:grpSpPr>
              <p:sp>
                <p:nvSpPr>
                  <p:cNvPr id="2876" name=""/>
                  <p:cNvSpPr/>
                  <p:nvPr/>
                </p:nvSpPr>
                <p:spPr>
                  <a:xfrm>
                    <a:off x="815832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>
                    <a:off x="836208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8" name=""/>
                  <p:cNvSpPr/>
                  <p:nvPr/>
                </p:nvSpPr>
                <p:spPr>
                  <a:xfrm>
                    <a:off x="846396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>
                    <a:off x="856584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0" name=""/>
                  <p:cNvSpPr/>
                  <p:nvPr/>
                </p:nvSpPr>
                <p:spPr>
                  <a:xfrm>
                    <a:off x="826020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1" name=""/>
                <p:cNvGrpSpPr/>
                <p:nvPr/>
              </p:nvGrpSpPr>
              <p:grpSpPr>
                <a:xfrm>
                  <a:off x="8209080" y="730440"/>
                  <a:ext cx="406800" cy="79560"/>
                  <a:chOff x="8209080" y="730440"/>
                  <a:chExt cx="406800" cy="79560"/>
                </a:xfrm>
              </p:grpSpPr>
              <p:sp>
                <p:nvSpPr>
                  <p:cNvPr id="2882" name=""/>
                  <p:cNvSpPr/>
                  <p:nvPr/>
                </p:nvSpPr>
                <p:spPr>
                  <a:xfrm>
                    <a:off x="8310960" y="77040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>
                    <a:off x="8514720" y="77040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>
                    <a:off x="8412840" y="77040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5" name=""/>
                  <p:cNvSpPr/>
                  <p:nvPr/>
                </p:nvSpPr>
                <p:spPr>
                  <a:xfrm>
                    <a:off x="8209080" y="77040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6" name=""/>
                  <p:cNvSpPr/>
                  <p:nvPr/>
                </p:nvSpPr>
                <p:spPr>
                  <a:xfrm>
                    <a:off x="8260200" y="7304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>
                    <a:off x="8463960" y="7304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>
                    <a:off x="8362080" y="7304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89" name=""/>
              <p:cNvGrpSpPr/>
              <p:nvPr/>
            </p:nvGrpSpPr>
            <p:grpSpPr>
              <a:xfrm>
                <a:off x="8337600" y="730440"/>
                <a:ext cx="151920" cy="159840"/>
                <a:chOff x="8337600" y="730440"/>
                <a:chExt cx="151920" cy="159840"/>
              </a:xfrm>
            </p:grpSpPr>
            <p:grpSp>
              <p:nvGrpSpPr>
                <p:cNvPr id="2890" name=""/>
                <p:cNvGrpSpPr/>
                <p:nvPr/>
              </p:nvGrpSpPr>
              <p:grpSpPr>
                <a:xfrm>
                  <a:off x="8337600" y="851040"/>
                  <a:ext cx="151920" cy="39240"/>
                  <a:chOff x="8337600" y="851040"/>
                  <a:chExt cx="151920" cy="39240"/>
                </a:xfrm>
              </p:grpSpPr>
              <p:sp>
                <p:nvSpPr>
                  <p:cNvPr id="2891" name=""/>
                  <p:cNvSpPr/>
                  <p:nvPr/>
                </p:nvSpPr>
                <p:spPr>
                  <a:xfrm>
                    <a:off x="8343720" y="864000"/>
                    <a:ext cx="139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2" name=""/>
                  <p:cNvSpPr/>
                  <p:nvPr/>
                </p:nvSpPr>
                <p:spPr>
                  <a:xfrm>
                    <a:off x="8337600" y="876960"/>
                    <a:ext cx="151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>
                    <a:off x="8350200" y="851040"/>
                    <a:ext cx="126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4" name=""/>
                <p:cNvGrpSpPr/>
                <p:nvPr/>
              </p:nvGrpSpPr>
              <p:grpSpPr>
                <a:xfrm>
                  <a:off x="8356320" y="810720"/>
                  <a:ext cx="114120" cy="39240"/>
                  <a:chOff x="8356320" y="810720"/>
                  <a:chExt cx="114120" cy="39240"/>
                </a:xfrm>
              </p:grpSpPr>
              <p:sp>
                <p:nvSpPr>
                  <p:cNvPr id="2895" name=""/>
                  <p:cNvSpPr/>
                  <p:nvPr/>
                </p:nvSpPr>
                <p:spPr>
                  <a:xfrm>
                    <a:off x="8361000" y="82368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8356320" y="83664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8365680" y="81072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8" name=""/>
                <p:cNvGrpSpPr/>
                <p:nvPr/>
              </p:nvGrpSpPr>
              <p:grpSpPr>
                <a:xfrm>
                  <a:off x="8369280" y="770400"/>
                  <a:ext cx="88560" cy="39240"/>
                  <a:chOff x="8369280" y="770400"/>
                  <a:chExt cx="88560" cy="39240"/>
                </a:xfrm>
              </p:grpSpPr>
              <p:sp>
                <p:nvSpPr>
                  <p:cNvPr id="2899" name=""/>
                  <p:cNvSpPr/>
                  <p:nvPr/>
                </p:nvSpPr>
                <p:spPr>
                  <a:xfrm>
                    <a:off x="8372880" y="783360"/>
                    <a:ext cx="81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0" name=""/>
                  <p:cNvSpPr/>
                  <p:nvPr/>
                </p:nvSpPr>
                <p:spPr>
                  <a:xfrm>
                    <a:off x="8369280" y="796320"/>
                    <a:ext cx="885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1" name=""/>
                  <p:cNvSpPr/>
                  <p:nvPr/>
                </p:nvSpPr>
                <p:spPr>
                  <a:xfrm>
                    <a:off x="8376480" y="770400"/>
                    <a:ext cx="738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2" name=""/>
                <p:cNvGrpSpPr/>
                <p:nvPr/>
              </p:nvGrpSpPr>
              <p:grpSpPr>
                <a:xfrm>
                  <a:off x="8381880" y="730440"/>
                  <a:ext cx="63360" cy="39240"/>
                  <a:chOff x="8381880" y="730440"/>
                  <a:chExt cx="63360" cy="39240"/>
                </a:xfrm>
              </p:grpSpPr>
              <p:sp>
                <p:nvSpPr>
                  <p:cNvPr id="2903" name=""/>
                  <p:cNvSpPr/>
                  <p:nvPr/>
                </p:nvSpPr>
                <p:spPr>
                  <a:xfrm>
                    <a:off x="8384400" y="74340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4" name=""/>
                  <p:cNvSpPr/>
                  <p:nvPr/>
                </p:nvSpPr>
                <p:spPr>
                  <a:xfrm>
                    <a:off x="8381880" y="75636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5" name=""/>
                  <p:cNvSpPr/>
                  <p:nvPr/>
                </p:nvSpPr>
                <p:spPr>
                  <a:xfrm>
                    <a:off x="8386920" y="73044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06" name=""/>
              <p:cNvSpPr/>
              <p:nvPr/>
            </p:nvSpPr>
            <p:spPr>
              <a:xfrm>
                <a:off x="8286120" y="682200"/>
                <a:ext cx="253080" cy="47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7" name=""/>
              <p:cNvGrpSpPr/>
              <p:nvPr/>
            </p:nvGrpSpPr>
            <p:grpSpPr>
              <a:xfrm>
                <a:off x="8321040" y="700200"/>
                <a:ext cx="183240" cy="28440"/>
                <a:chOff x="8321040" y="700200"/>
                <a:chExt cx="183240" cy="28440"/>
              </a:xfrm>
            </p:grpSpPr>
            <p:sp>
              <p:nvSpPr>
                <p:cNvPr id="2908" name=""/>
                <p:cNvSpPr/>
                <p:nvPr/>
              </p:nvSpPr>
              <p:spPr>
                <a:xfrm>
                  <a:off x="832104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836100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847908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843876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839952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3" name=""/>
              <p:cNvSpPr/>
              <p:nvPr/>
            </p:nvSpPr>
            <p:spPr>
              <a:xfrm>
                <a:off x="8278560" y="677880"/>
                <a:ext cx="26784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8283960" y="645120"/>
                <a:ext cx="257400" cy="32040"/>
              </a:xfrm>
              <a:custGeom>
                <a:avLst/>
                <a:gdLst>
                  <a:gd name="textAreaLeft" fmla="*/ 26640 w 257400"/>
                  <a:gd name="textAreaRight" fmla="*/ 230760 w 25740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8291880" y="637920"/>
                <a:ext cx="24048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3 test case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276120" y="604800"/>
            <a:ext cx="835992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here only rising edge show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8" name=""/>
          <p:cNvGrpSpPr/>
          <p:nvPr/>
        </p:nvGrpSpPr>
        <p:grpSpPr>
          <a:xfrm>
            <a:off x="241200" y="4638600"/>
            <a:ext cx="8664480" cy="1319040"/>
            <a:chOff x="241200" y="4638600"/>
            <a:chExt cx="8664480" cy="1319040"/>
          </a:xfrm>
        </p:grpSpPr>
        <p:sp>
          <p:nvSpPr>
            <p:cNvPr id="2919" name=""/>
            <p:cNvSpPr/>
            <p:nvPr/>
          </p:nvSpPr>
          <p:spPr>
            <a:xfrm>
              <a:off x="874440" y="4638600"/>
              <a:ext cx="8031240" cy="13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|Model_name  Rise_on_dly   Rise_off_dly   Fall_on_dly    Fall_off_d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_1       0.00ns               NA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0ns                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_2       0.00ns               2.0ns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0ns                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241200" y="500940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1" name=""/>
          <p:cNvGrpSpPr/>
          <p:nvPr/>
        </p:nvGrpSpPr>
        <p:grpSpPr>
          <a:xfrm>
            <a:off x="241200" y="1487520"/>
            <a:ext cx="8713800" cy="1319040"/>
            <a:chOff x="241200" y="1487520"/>
            <a:chExt cx="8713800" cy="1319040"/>
          </a:xfrm>
        </p:grpSpPr>
        <p:sp>
          <p:nvSpPr>
            <p:cNvPr id="2922" name=""/>
            <p:cNvSpPr/>
            <p:nvPr/>
          </p:nvSpPr>
          <p:spPr>
            <a:xfrm>
              <a:off x="241200" y="177876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923760" y="1487520"/>
              <a:ext cx="8031240" cy="13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lldow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wer cla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4" name=""/>
          <p:cNvGrpSpPr/>
          <p:nvPr/>
        </p:nvGrpSpPr>
        <p:grpSpPr>
          <a:xfrm>
            <a:off x="241200" y="3062160"/>
            <a:ext cx="8683560" cy="1319040"/>
            <a:chOff x="241200" y="3062160"/>
            <a:chExt cx="8683560" cy="1319040"/>
          </a:xfrm>
        </p:grpSpPr>
        <p:sp>
          <p:nvSpPr>
            <p:cNvPr id="2925" name=""/>
            <p:cNvSpPr/>
            <p:nvPr/>
          </p:nvSpPr>
          <p:spPr>
            <a:xfrm>
              <a:off x="241200" y="343620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893520" y="3062160"/>
              <a:ext cx="8031240" cy="13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|Model_name  Rise_on_dly   Rise_off_dly   Fall_on_dly    Fall_off_d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_1       0.00ns               NA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0ns                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|MODEL_2       0.00ns               2.0ns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0ns                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893520" y="4173480"/>
              <a:ext cx="783288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8" name=""/>
          <p:cNvGrpSpPr/>
          <p:nvPr/>
        </p:nvGrpSpPr>
        <p:grpSpPr>
          <a:xfrm>
            <a:off x="7810560" y="196200"/>
            <a:ext cx="1114200" cy="694440"/>
            <a:chOff x="7810560" y="196200"/>
            <a:chExt cx="1114200" cy="694440"/>
          </a:xfrm>
        </p:grpSpPr>
        <p:sp>
          <p:nvSpPr>
            <p:cNvPr id="2929" name=""/>
            <p:cNvSpPr/>
            <p:nvPr/>
          </p:nvSpPr>
          <p:spPr>
            <a:xfrm>
              <a:off x="7810560" y="196200"/>
              <a:ext cx="1114200" cy="43956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GTL-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0" name=""/>
            <p:cNvGrpSpPr/>
            <p:nvPr/>
          </p:nvGrpSpPr>
          <p:grpSpPr>
            <a:xfrm>
              <a:off x="8107200" y="637920"/>
              <a:ext cx="610560" cy="252720"/>
              <a:chOff x="8107200" y="637920"/>
              <a:chExt cx="610560" cy="252720"/>
            </a:xfrm>
          </p:grpSpPr>
          <p:grpSp>
            <p:nvGrpSpPr>
              <p:cNvPr id="2931" name=""/>
              <p:cNvGrpSpPr/>
              <p:nvPr/>
            </p:nvGrpSpPr>
            <p:grpSpPr>
              <a:xfrm>
                <a:off x="8107200" y="730440"/>
                <a:ext cx="610560" cy="160200"/>
                <a:chOff x="8107200" y="730440"/>
                <a:chExt cx="610560" cy="160200"/>
              </a:xfrm>
            </p:grpSpPr>
            <p:grpSp>
              <p:nvGrpSpPr>
                <p:cNvPr id="2932" name=""/>
                <p:cNvGrpSpPr/>
                <p:nvPr/>
              </p:nvGrpSpPr>
              <p:grpSpPr>
                <a:xfrm>
                  <a:off x="8107200" y="851040"/>
                  <a:ext cx="610560" cy="39600"/>
                  <a:chOff x="8107200" y="851040"/>
                  <a:chExt cx="610560" cy="39600"/>
                </a:xfrm>
              </p:grpSpPr>
              <p:sp>
                <p:nvSpPr>
                  <p:cNvPr id="2933" name=""/>
                  <p:cNvSpPr/>
                  <p:nvPr/>
                </p:nvSpPr>
                <p:spPr>
                  <a:xfrm>
                    <a:off x="820908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4" name=""/>
                  <p:cNvSpPr/>
                  <p:nvPr/>
                </p:nvSpPr>
                <p:spPr>
                  <a:xfrm>
                    <a:off x="841284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5" name=""/>
                  <p:cNvSpPr/>
                  <p:nvPr/>
                </p:nvSpPr>
                <p:spPr>
                  <a:xfrm>
                    <a:off x="851472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6" name=""/>
                  <p:cNvSpPr/>
                  <p:nvPr/>
                </p:nvSpPr>
                <p:spPr>
                  <a:xfrm>
                    <a:off x="861660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7" name=""/>
                  <p:cNvSpPr/>
                  <p:nvPr/>
                </p:nvSpPr>
                <p:spPr>
                  <a:xfrm>
                    <a:off x="831096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8" name=""/>
                  <p:cNvSpPr/>
                  <p:nvPr/>
                </p:nvSpPr>
                <p:spPr>
                  <a:xfrm>
                    <a:off x="810720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9" name=""/>
                <p:cNvGrpSpPr/>
                <p:nvPr/>
              </p:nvGrpSpPr>
              <p:grpSpPr>
                <a:xfrm>
                  <a:off x="8158320" y="810720"/>
                  <a:ext cx="508680" cy="39600"/>
                  <a:chOff x="8158320" y="810720"/>
                  <a:chExt cx="508680" cy="39600"/>
                </a:xfrm>
              </p:grpSpPr>
              <p:sp>
                <p:nvSpPr>
                  <p:cNvPr id="2940" name=""/>
                  <p:cNvSpPr/>
                  <p:nvPr/>
                </p:nvSpPr>
                <p:spPr>
                  <a:xfrm>
                    <a:off x="815832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1" name=""/>
                  <p:cNvSpPr/>
                  <p:nvPr/>
                </p:nvSpPr>
                <p:spPr>
                  <a:xfrm>
                    <a:off x="836208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2" name=""/>
                  <p:cNvSpPr/>
                  <p:nvPr/>
                </p:nvSpPr>
                <p:spPr>
                  <a:xfrm>
                    <a:off x="846396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3" name=""/>
                  <p:cNvSpPr/>
                  <p:nvPr/>
                </p:nvSpPr>
                <p:spPr>
                  <a:xfrm>
                    <a:off x="856584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4" name=""/>
                  <p:cNvSpPr/>
                  <p:nvPr/>
                </p:nvSpPr>
                <p:spPr>
                  <a:xfrm>
                    <a:off x="826020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5" name=""/>
                <p:cNvGrpSpPr/>
                <p:nvPr/>
              </p:nvGrpSpPr>
              <p:grpSpPr>
                <a:xfrm>
                  <a:off x="8209080" y="730440"/>
                  <a:ext cx="406800" cy="79560"/>
                  <a:chOff x="8209080" y="730440"/>
                  <a:chExt cx="406800" cy="79560"/>
                </a:xfrm>
              </p:grpSpPr>
              <p:sp>
                <p:nvSpPr>
                  <p:cNvPr id="2946" name=""/>
                  <p:cNvSpPr/>
                  <p:nvPr/>
                </p:nvSpPr>
                <p:spPr>
                  <a:xfrm>
                    <a:off x="8310960" y="77040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7" name=""/>
                  <p:cNvSpPr/>
                  <p:nvPr/>
                </p:nvSpPr>
                <p:spPr>
                  <a:xfrm>
                    <a:off x="8514720" y="77040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8" name=""/>
                  <p:cNvSpPr/>
                  <p:nvPr/>
                </p:nvSpPr>
                <p:spPr>
                  <a:xfrm>
                    <a:off x="8412840" y="77040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9" name=""/>
                  <p:cNvSpPr/>
                  <p:nvPr/>
                </p:nvSpPr>
                <p:spPr>
                  <a:xfrm>
                    <a:off x="8209080" y="77040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0" name=""/>
                  <p:cNvSpPr/>
                  <p:nvPr/>
                </p:nvSpPr>
                <p:spPr>
                  <a:xfrm>
                    <a:off x="8260200" y="7304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1" name=""/>
                  <p:cNvSpPr/>
                  <p:nvPr/>
                </p:nvSpPr>
                <p:spPr>
                  <a:xfrm>
                    <a:off x="8463960" y="7304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2" name=""/>
                  <p:cNvSpPr/>
                  <p:nvPr/>
                </p:nvSpPr>
                <p:spPr>
                  <a:xfrm>
                    <a:off x="8362080" y="7304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53" name=""/>
              <p:cNvGrpSpPr/>
              <p:nvPr/>
            </p:nvGrpSpPr>
            <p:grpSpPr>
              <a:xfrm>
                <a:off x="8337600" y="730440"/>
                <a:ext cx="151920" cy="159840"/>
                <a:chOff x="8337600" y="730440"/>
                <a:chExt cx="151920" cy="159840"/>
              </a:xfrm>
            </p:grpSpPr>
            <p:grpSp>
              <p:nvGrpSpPr>
                <p:cNvPr id="2954" name=""/>
                <p:cNvGrpSpPr/>
                <p:nvPr/>
              </p:nvGrpSpPr>
              <p:grpSpPr>
                <a:xfrm>
                  <a:off x="8337600" y="851040"/>
                  <a:ext cx="151920" cy="39240"/>
                  <a:chOff x="8337600" y="851040"/>
                  <a:chExt cx="151920" cy="39240"/>
                </a:xfrm>
              </p:grpSpPr>
              <p:sp>
                <p:nvSpPr>
                  <p:cNvPr id="2955" name=""/>
                  <p:cNvSpPr/>
                  <p:nvPr/>
                </p:nvSpPr>
                <p:spPr>
                  <a:xfrm>
                    <a:off x="8343720" y="864000"/>
                    <a:ext cx="139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6" name=""/>
                  <p:cNvSpPr/>
                  <p:nvPr/>
                </p:nvSpPr>
                <p:spPr>
                  <a:xfrm>
                    <a:off x="8337600" y="876960"/>
                    <a:ext cx="151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7" name=""/>
                  <p:cNvSpPr/>
                  <p:nvPr/>
                </p:nvSpPr>
                <p:spPr>
                  <a:xfrm>
                    <a:off x="8350200" y="851040"/>
                    <a:ext cx="126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8" name=""/>
                <p:cNvGrpSpPr/>
                <p:nvPr/>
              </p:nvGrpSpPr>
              <p:grpSpPr>
                <a:xfrm>
                  <a:off x="8356320" y="810720"/>
                  <a:ext cx="114120" cy="39240"/>
                  <a:chOff x="8356320" y="810720"/>
                  <a:chExt cx="114120" cy="39240"/>
                </a:xfrm>
              </p:grpSpPr>
              <p:sp>
                <p:nvSpPr>
                  <p:cNvPr id="2959" name=""/>
                  <p:cNvSpPr/>
                  <p:nvPr/>
                </p:nvSpPr>
                <p:spPr>
                  <a:xfrm>
                    <a:off x="8361000" y="82368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0" name=""/>
                  <p:cNvSpPr/>
                  <p:nvPr/>
                </p:nvSpPr>
                <p:spPr>
                  <a:xfrm>
                    <a:off x="8356320" y="83664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1" name=""/>
                  <p:cNvSpPr/>
                  <p:nvPr/>
                </p:nvSpPr>
                <p:spPr>
                  <a:xfrm>
                    <a:off x="8365680" y="81072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2" name=""/>
                <p:cNvGrpSpPr/>
                <p:nvPr/>
              </p:nvGrpSpPr>
              <p:grpSpPr>
                <a:xfrm>
                  <a:off x="8369280" y="770400"/>
                  <a:ext cx="88560" cy="39240"/>
                  <a:chOff x="8369280" y="770400"/>
                  <a:chExt cx="88560" cy="39240"/>
                </a:xfrm>
              </p:grpSpPr>
              <p:sp>
                <p:nvSpPr>
                  <p:cNvPr id="2963" name=""/>
                  <p:cNvSpPr/>
                  <p:nvPr/>
                </p:nvSpPr>
                <p:spPr>
                  <a:xfrm>
                    <a:off x="8372880" y="783360"/>
                    <a:ext cx="81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4" name=""/>
                  <p:cNvSpPr/>
                  <p:nvPr/>
                </p:nvSpPr>
                <p:spPr>
                  <a:xfrm>
                    <a:off x="8369280" y="796320"/>
                    <a:ext cx="885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5" name=""/>
                  <p:cNvSpPr/>
                  <p:nvPr/>
                </p:nvSpPr>
                <p:spPr>
                  <a:xfrm>
                    <a:off x="8376480" y="770400"/>
                    <a:ext cx="738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6" name=""/>
                <p:cNvGrpSpPr/>
                <p:nvPr/>
              </p:nvGrpSpPr>
              <p:grpSpPr>
                <a:xfrm>
                  <a:off x="8381880" y="730440"/>
                  <a:ext cx="63360" cy="39240"/>
                  <a:chOff x="8381880" y="730440"/>
                  <a:chExt cx="63360" cy="39240"/>
                </a:xfrm>
              </p:grpSpPr>
              <p:sp>
                <p:nvSpPr>
                  <p:cNvPr id="2967" name=""/>
                  <p:cNvSpPr/>
                  <p:nvPr/>
                </p:nvSpPr>
                <p:spPr>
                  <a:xfrm>
                    <a:off x="8384400" y="74340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8" name=""/>
                  <p:cNvSpPr/>
                  <p:nvPr/>
                </p:nvSpPr>
                <p:spPr>
                  <a:xfrm>
                    <a:off x="8381880" y="75636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9" name=""/>
                  <p:cNvSpPr/>
                  <p:nvPr/>
                </p:nvSpPr>
                <p:spPr>
                  <a:xfrm>
                    <a:off x="8386920" y="73044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70" name=""/>
              <p:cNvSpPr/>
              <p:nvPr/>
            </p:nvSpPr>
            <p:spPr>
              <a:xfrm>
                <a:off x="8286120" y="682200"/>
                <a:ext cx="253080" cy="47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1" name=""/>
              <p:cNvGrpSpPr/>
              <p:nvPr/>
            </p:nvGrpSpPr>
            <p:grpSpPr>
              <a:xfrm>
                <a:off x="8321040" y="700200"/>
                <a:ext cx="183240" cy="28440"/>
                <a:chOff x="8321040" y="700200"/>
                <a:chExt cx="183240" cy="28440"/>
              </a:xfrm>
            </p:grpSpPr>
            <p:sp>
              <p:nvSpPr>
                <p:cNvPr id="2972" name=""/>
                <p:cNvSpPr/>
                <p:nvPr/>
              </p:nvSpPr>
              <p:spPr>
                <a:xfrm>
                  <a:off x="832104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836100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847908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843876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839952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7" name=""/>
              <p:cNvSpPr/>
              <p:nvPr/>
            </p:nvSpPr>
            <p:spPr>
              <a:xfrm>
                <a:off x="8278560" y="677880"/>
                <a:ext cx="26784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8283960" y="645120"/>
                <a:ext cx="257400" cy="32040"/>
              </a:xfrm>
              <a:custGeom>
                <a:avLst/>
                <a:gdLst>
                  <a:gd name="textAreaLeft" fmla="*/ 26640 w 257400"/>
                  <a:gd name="textAreaRight" fmla="*/ 230760 w 25740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8291880" y="637920"/>
                <a:ext cx="24048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models overview for testcase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241200" y="993600"/>
            <a:ext cx="860760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1 top level                Case 2  Main only             Case 3   schedu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2" name=""/>
          <p:cNvGrpSpPr/>
          <p:nvPr/>
        </p:nvGrpSpPr>
        <p:grpSpPr>
          <a:xfrm>
            <a:off x="184320" y="509040"/>
            <a:ext cx="2515680" cy="3790440"/>
            <a:chOff x="184320" y="509040"/>
            <a:chExt cx="2515680" cy="3790440"/>
          </a:xfrm>
        </p:grpSpPr>
        <p:grpSp>
          <p:nvGrpSpPr>
            <p:cNvPr id="2983" name=""/>
            <p:cNvGrpSpPr/>
            <p:nvPr/>
          </p:nvGrpSpPr>
          <p:grpSpPr>
            <a:xfrm>
              <a:off x="184320" y="1554120"/>
              <a:ext cx="2515680" cy="2745360"/>
              <a:chOff x="184320" y="1554120"/>
              <a:chExt cx="2515680" cy="2745360"/>
            </a:xfrm>
          </p:grpSpPr>
          <p:grpSp>
            <p:nvGrpSpPr>
              <p:cNvPr id="2984" name=""/>
              <p:cNvGrpSpPr/>
              <p:nvPr/>
            </p:nvGrpSpPr>
            <p:grpSpPr>
              <a:xfrm>
                <a:off x="343080" y="1554120"/>
                <a:ext cx="2062080" cy="1003680"/>
                <a:chOff x="343080" y="1554120"/>
                <a:chExt cx="2062080" cy="1003680"/>
              </a:xfrm>
            </p:grpSpPr>
            <p:sp>
              <p:nvSpPr>
                <p:cNvPr id="2985" name=""/>
                <p:cNvSpPr/>
                <p:nvPr/>
              </p:nvSpPr>
              <p:spPr>
                <a:xfrm>
                  <a:off x="343080" y="1554120"/>
                  <a:ext cx="2062080" cy="968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1047600" y="1614240"/>
                  <a:ext cx="0" cy="84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636480" y="2129040"/>
                  <a:ext cx="135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1809360" y="215892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821520" y="1674720"/>
                  <a:ext cx="266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836640" y="1857240"/>
                  <a:ext cx="1518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Power clam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91" name=""/>
                <p:cNvGrpSpPr/>
                <p:nvPr/>
              </p:nvGrpSpPr>
              <p:grpSpPr>
                <a:xfrm>
                  <a:off x="725040" y="1829520"/>
                  <a:ext cx="1080360" cy="489600"/>
                  <a:chOff x="725040" y="1829520"/>
                  <a:chExt cx="1080360" cy="489600"/>
                </a:xfrm>
              </p:grpSpPr>
              <p:sp>
                <p:nvSpPr>
                  <p:cNvPr id="2992" name=""/>
                  <p:cNvSpPr/>
                  <p:nvPr/>
                </p:nvSpPr>
                <p:spPr>
                  <a:xfrm flipH="1" flipV="1">
                    <a:off x="1067760" y="2131920"/>
                    <a:ext cx="737640" cy="187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3" name=""/>
                  <p:cNvSpPr/>
                  <p:nvPr/>
                </p:nvSpPr>
                <p:spPr>
                  <a:xfrm flipH="1" flipV="1">
                    <a:off x="974160" y="2101320"/>
                    <a:ext cx="93600" cy="29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 flipH="1" flipV="1">
                    <a:off x="725040" y="1829520"/>
                    <a:ext cx="248760" cy="27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95" name=""/>
              <p:cNvGrpSpPr/>
              <p:nvPr/>
            </p:nvGrpSpPr>
            <p:grpSpPr>
              <a:xfrm>
                <a:off x="184320" y="2757600"/>
                <a:ext cx="2515680" cy="1541880"/>
                <a:chOff x="184320" y="2757600"/>
                <a:chExt cx="2515680" cy="1541880"/>
              </a:xfrm>
            </p:grpSpPr>
            <p:sp>
              <p:nvSpPr>
                <p:cNvPr id="2996" name=""/>
                <p:cNvSpPr/>
                <p:nvPr/>
              </p:nvSpPr>
              <p:spPr>
                <a:xfrm>
                  <a:off x="184320" y="2783520"/>
                  <a:ext cx="2515680" cy="1427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97" name=""/>
                <p:cNvGrpSpPr/>
                <p:nvPr/>
              </p:nvGrpSpPr>
              <p:grpSpPr>
                <a:xfrm>
                  <a:off x="210600" y="2757600"/>
                  <a:ext cx="2487960" cy="1541880"/>
                  <a:chOff x="210600" y="2757600"/>
                  <a:chExt cx="2487960" cy="1541880"/>
                </a:xfrm>
              </p:grpSpPr>
              <p:grpSp>
                <p:nvGrpSpPr>
                  <p:cNvPr id="2998" name=""/>
                  <p:cNvGrpSpPr/>
                  <p:nvPr/>
                </p:nvGrpSpPr>
                <p:grpSpPr>
                  <a:xfrm>
                    <a:off x="210600" y="2757600"/>
                    <a:ext cx="2487960" cy="1541880"/>
                    <a:chOff x="210600" y="2757600"/>
                    <a:chExt cx="2487960" cy="1541880"/>
                  </a:xfrm>
                </p:grpSpPr>
                <p:sp>
                  <p:nvSpPr>
                    <p:cNvPr id="2999" name=""/>
                    <p:cNvSpPr/>
                    <p:nvPr/>
                  </p:nvSpPr>
                  <p:spPr>
                    <a:xfrm>
                      <a:off x="852120" y="2909880"/>
                      <a:ext cx="0" cy="1066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"/>
                    <p:cNvSpPr/>
                    <p:nvPr/>
                  </p:nvSpPr>
                  <p:spPr>
                    <a:xfrm>
                      <a:off x="778320" y="3541680"/>
                      <a:ext cx="17402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1" name=""/>
                    <p:cNvSpPr/>
                    <p:nvPr/>
                  </p:nvSpPr>
                  <p:spPr>
                    <a:xfrm>
                      <a:off x="2007360" y="3290760"/>
                      <a:ext cx="691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2" name=""/>
                    <p:cNvSpPr/>
                    <p:nvPr/>
                  </p:nvSpPr>
                  <p:spPr>
                    <a:xfrm>
                      <a:off x="210600" y="3024000"/>
                      <a:ext cx="592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03" name=""/>
                    <p:cNvGrpSpPr/>
                    <p:nvPr/>
                  </p:nvGrpSpPr>
                  <p:grpSpPr>
                    <a:xfrm>
                      <a:off x="831600" y="2988720"/>
                      <a:ext cx="1580400" cy="584280"/>
                      <a:chOff x="831600" y="2988720"/>
                      <a:chExt cx="1580400" cy="584280"/>
                    </a:xfrm>
                  </p:grpSpPr>
                  <p:sp>
                    <p:nvSpPr>
                      <p:cNvPr id="3004" name=""/>
                      <p:cNvSpPr/>
                      <p:nvPr/>
                    </p:nvSpPr>
                    <p:spPr>
                      <a:xfrm flipV="1">
                        <a:off x="831600" y="3346200"/>
                        <a:ext cx="262800" cy="2268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5" name=""/>
                      <p:cNvSpPr/>
                      <p:nvPr/>
                    </p:nvSpPr>
                    <p:spPr>
                      <a:xfrm flipV="1">
                        <a:off x="1094400" y="3183480"/>
                        <a:ext cx="264240" cy="1627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6" name=""/>
                      <p:cNvSpPr/>
                      <p:nvPr/>
                    </p:nvSpPr>
                    <p:spPr>
                      <a:xfrm flipV="1">
                        <a:off x="1359000" y="3053880"/>
                        <a:ext cx="420480" cy="129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7" name=""/>
                      <p:cNvSpPr/>
                      <p:nvPr/>
                    </p:nvSpPr>
                    <p:spPr>
                      <a:xfrm flipV="1">
                        <a:off x="1779840" y="2988720"/>
                        <a:ext cx="632160" cy="651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08" name=""/>
                    <p:cNvGrpSpPr/>
                    <p:nvPr/>
                  </p:nvGrpSpPr>
                  <p:grpSpPr>
                    <a:xfrm>
                      <a:off x="831960" y="3541680"/>
                      <a:ext cx="1529280" cy="388800"/>
                      <a:chOff x="831960" y="3541680"/>
                      <a:chExt cx="1529280" cy="388800"/>
                    </a:xfrm>
                  </p:grpSpPr>
                  <p:sp>
                    <p:nvSpPr>
                      <p:cNvPr id="3009" name=""/>
                      <p:cNvSpPr/>
                      <p:nvPr/>
                    </p:nvSpPr>
                    <p:spPr>
                      <a:xfrm>
                        <a:off x="831960" y="3541680"/>
                        <a:ext cx="53280" cy="968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10" name=""/>
                      <p:cNvSpPr/>
                      <p:nvPr/>
                    </p:nvSpPr>
                    <p:spPr>
                      <a:xfrm>
                        <a:off x="885240" y="3638520"/>
                        <a:ext cx="210960" cy="1627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11" name=""/>
                      <p:cNvSpPr/>
                      <p:nvPr/>
                    </p:nvSpPr>
                    <p:spPr>
                      <a:xfrm>
                        <a:off x="1096920" y="3801240"/>
                        <a:ext cx="369000" cy="975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12" name=""/>
                      <p:cNvSpPr/>
                      <p:nvPr/>
                    </p:nvSpPr>
                    <p:spPr>
                      <a:xfrm>
                        <a:off x="1466280" y="3898800"/>
                        <a:ext cx="579240" cy="31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13" name=""/>
                      <p:cNvSpPr/>
                      <p:nvPr/>
                    </p:nvSpPr>
                    <p:spPr>
                      <a:xfrm>
                        <a:off x="2045520" y="3930480"/>
                        <a:ext cx="3157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014" name=""/>
                    <p:cNvSpPr/>
                    <p:nvPr/>
                  </p:nvSpPr>
                  <p:spPr>
                    <a:xfrm>
                      <a:off x="849600" y="3900600"/>
                      <a:ext cx="1413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/pull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"/>
                    <p:cNvSpPr/>
                    <p:nvPr/>
                  </p:nvSpPr>
                  <p:spPr>
                    <a:xfrm>
                      <a:off x="850680" y="2757600"/>
                      <a:ext cx="1145520" cy="703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ll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6" name=""/>
                  <p:cNvSpPr/>
                  <p:nvPr/>
                </p:nvSpPr>
                <p:spPr>
                  <a:xfrm>
                    <a:off x="1264680" y="3747960"/>
                    <a:ext cx="659880" cy="304560"/>
                  </a:xfrm>
                  <a:prstGeom prst="noSmoking">
                    <a:avLst>
                      <a:gd name="adj" fmla="val 12500"/>
                    </a:avLst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7" name=""/>
                  <p:cNvSpPr/>
                  <p:nvPr/>
                </p:nvSpPr>
                <p:spPr>
                  <a:xfrm>
                    <a:off x="852120" y="3557520"/>
                    <a:ext cx="1567080" cy="0"/>
                  </a:xfrm>
                  <a:prstGeom prst="line">
                    <a:avLst/>
                  </a:prstGeom>
                  <a:ln w="381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018" name=""/>
            <p:cNvSpPr/>
            <p:nvPr/>
          </p:nvSpPr>
          <p:spPr>
            <a:xfrm>
              <a:off x="860400" y="50904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"/>
          <p:cNvGrpSpPr/>
          <p:nvPr/>
        </p:nvGrpSpPr>
        <p:grpSpPr>
          <a:xfrm>
            <a:off x="3097080" y="464400"/>
            <a:ext cx="2516040" cy="5311440"/>
            <a:chOff x="3097080" y="464400"/>
            <a:chExt cx="2516040" cy="5311440"/>
          </a:xfrm>
        </p:grpSpPr>
        <p:grpSp>
          <p:nvGrpSpPr>
            <p:cNvPr id="3020" name=""/>
            <p:cNvGrpSpPr/>
            <p:nvPr/>
          </p:nvGrpSpPr>
          <p:grpSpPr>
            <a:xfrm>
              <a:off x="3097080" y="2757600"/>
              <a:ext cx="2516040" cy="3018240"/>
              <a:chOff x="3097080" y="2757600"/>
              <a:chExt cx="2516040" cy="3018240"/>
            </a:xfrm>
          </p:grpSpPr>
          <p:grpSp>
            <p:nvGrpSpPr>
              <p:cNvPr id="3021" name=""/>
              <p:cNvGrpSpPr/>
              <p:nvPr/>
            </p:nvGrpSpPr>
            <p:grpSpPr>
              <a:xfrm>
                <a:off x="3097080" y="2757600"/>
                <a:ext cx="2516040" cy="1541880"/>
                <a:chOff x="3097080" y="2757600"/>
                <a:chExt cx="2516040" cy="1541880"/>
              </a:xfrm>
            </p:grpSpPr>
            <p:sp>
              <p:nvSpPr>
                <p:cNvPr id="3022" name=""/>
                <p:cNvSpPr/>
                <p:nvPr/>
              </p:nvSpPr>
              <p:spPr>
                <a:xfrm>
                  <a:off x="3097080" y="2783520"/>
                  <a:ext cx="2516040" cy="1427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23" name=""/>
                <p:cNvGrpSpPr/>
                <p:nvPr/>
              </p:nvGrpSpPr>
              <p:grpSpPr>
                <a:xfrm>
                  <a:off x="3123720" y="2757600"/>
                  <a:ext cx="2487960" cy="1541880"/>
                  <a:chOff x="3123720" y="2757600"/>
                  <a:chExt cx="2487960" cy="1541880"/>
                </a:xfrm>
              </p:grpSpPr>
              <p:grpSp>
                <p:nvGrpSpPr>
                  <p:cNvPr id="3024" name=""/>
                  <p:cNvGrpSpPr/>
                  <p:nvPr/>
                </p:nvGrpSpPr>
                <p:grpSpPr>
                  <a:xfrm>
                    <a:off x="3123720" y="2757600"/>
                    <a:ext cx="2487960" cy="1541880"/>
                    <a:chOff x="3123720" y="2757600"/>
                    <a:chExt cx="2487960" cy="1541880"/>
                  </a:xfrm>
                </p:grpSpPr>
                <p:sp>
                  <p:nvSpPr>
                    <p:cNvPr id="3025" name=""/>
                    <p:cNvSpPr/>
                    <p:nvPr/>
                  </p:nvSpPr>
                  <p:spPr>
                    <a:xfrm>
                      <a:off x="3764880" y="2909880"/>
                      <a:ext cx="0" cy="1066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6" name=""/>
                    <p:cNvSpPr/>
                    <p:nvPr/>
                  </p:nvSpPr>
                  <p:spPr>
                    <a:xfrm>
                      <a:off x="3691440" y="3541680"/>
                      <a:ext cx="1740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"/>
                    <p:cNvSpPr/>
                    <p:nvPr/>
                  </p:nvSpPr>
                  <p:spPr>
                    <a:xfrm>
                      <a:off x="4920480" y="3290760"/>
                      <a:ext cx="691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8" name=""/>
                    <p:cNvSpPr/>
                    <p:nvPr/>
                  </p:nvSpPr>
                  <p:spPr>
                    <a:xfrm>
                      <a:off x="3123720" y="3024000"/>
                      <a:ext cx="592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29" name=""/>
                    <p:cNvGrpSpPr/>
                    <p:nvPr/>
                  </p:nvGrpSpPr>
                  <p:grpSpPr>
                    <a:xfrm>
                      <a:off x="3744360" y="2988720"/>
                      <a:ext cx="1580400" cy="584280"/>
                      <a:chOff x="3744360" y="2988720"/>
                      <a:chExt cx="1580400" cy="584280"/>
                    </a:xfrm>
                  </p:grpSpPr>
                  <p:sp>
                    <p:nvSpPr>
                      <p:cNvPr id="3030" name=""/>
                      <p:cNvSpPr/>
                      <p:nvPr/>
                    </p:nvSpPr>
                    <p:spPr>
                      <a:xfrm flipV="1">
                        <a:off x="3744360" y="3346200"/>
                        <a:ext cx="262800" cy="2268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1" name=""/>
                      <p:cNvSpPr/>
                      <p:nvPr/>
                    </p:nvSpPr>
                    <p:spPr>
                      <a:xfrm flipV="1">
                        <a:off x="4007160" y="3183480"/>
                        <a:ext cx="264240" cy="1627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2" name=""/>
                      <p:cNvSpPr/>
                      <p:nvPr/>
                    </p:nvSpPr>
                    <p:spPr>
                      <a:xfrm flipV="1">
                        <a:off x="4271760" y="3053880"/>
                        <a:ext cx="420480" cy="129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3" name=""/>
                      <p:cNvSpPr/>
                      <p:nvPr/>
                    </p:nvSpPr>
                    <p:spPr>
                      <a:xfrm flipV="1">
                        <a:off x="4692600" y="2988720"/>
                        <a:ext cx="632160" cy="651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34" name=""/>
                    <p:cNvGrpSpPr/>
                    <p:nvPr/>
                  </p:nvGrpSpPr>
                  <p:grpSpPr>
                    <a:xfrm>
                      <a:off x="3744720" y="3541680"/>
                      <a:ext cx="1529280" cy="388800"/>
                      <a:chOff x="3744720" y="3541680"/>
                      <a:chExt cx="1529280" cy="388800"/>
                    </a:xfrm>
                  </p:grpSpPr>
                  <p:sp>
                    <p:nvSpPr>
                      <p:cNvPr id="3035" name=""/>
                      <p:cNvSpPr/>
                      <p:nvPr/>
                    </p:nvSpPr>
                    <p:spPr>
                      <a:xfrm>
                        <a:off x="3744720" y="3541680"/>
                        <a:ext cx="53280" cy="968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6" name=""/>
                      <p:cNvSpPr/>
                      <p:nvPr/>
                    </p:nvSpPr>
                    <p:spPr>
                      <a:xfrm>
                        <a:off x="3798000" y="3638520"/>
                        <a:ext cx="210960" cy="1627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7" name=""/>
                      <p:cNvSpPr/>
                      <p:nvPr/>
                    </p:nvSpPr>
                    <p:spPr>
                      <a:xfrm>
                        <a:off x="4009680" y="3801240"/>
                        <a:ext cx="369000" cy="975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8" name=""/>
                      <p:cNvSpPr/>
                      <p:nvPr/>
                    </p:nvSpPr>
                    <p:spPr>
                      <a:xfrm>
                        <a:off x="4379040" y="3898800"/>
                        <a:ext cx="579240" cy="31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9" name=""/>
                      <p:cNvSpPr/>
                      <p:nvPr/>
                    </p:nvSpPr>
                    <p:spPr>
                      <a:xfrm>
                        <a:off x="4958280" y="3930480"/>
                        <a:ext cx="3157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040" name=""/>
                    <p:cNvSpPr/>
                    <p:nvPr/>
                  </p:nvSpPr>
                  <p:spPr>
                    <a:xfrm>
                      <a:off x="3762720" y="3900600"/>
                      <a:ext cx="1413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/pull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1" name=""/>
                    <p:cNvSpPr/>
                    <p:nvPr/>
                  </p:nvSpPr>
                  <p:spPr>
                    <a:xfrm>
                      <a:off x="3763800" y="2757600"/>
                      <a:ext cx="1145520" cy="703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ll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2" name=""/>
                  <p:cNvSpPr/>
                  <p:nvPr/>
                </p:nvSpPr>
                <p:spPr>
                  <a:xfrm>
                    <a:off x="4177440" y="3747960"/>
                    <a:ext cx="660240" cy="304560"/>
                  </a:xfrm>
                  <a:prstGeom prst="noSmoking">
                    <a:avLst>
                      <a:gd name="adj" fmla="val 12500"/>
                    </a:avLst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>
                    <a:off x="3764880" y="3557520"/>
                    <a:ext cx="1567440" cy="0"/>
                  </a:xfrm>
                  <a:prstGeom prst="line">
                    <a:avLst/>
                  </a:prstGeom>
                  <a:ln w="381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44" name=""/>
              <p:cNvGrpSpPr/>
              <p:nvPr/>
            </p:nvGrpSpPr>
            <p:grpSpPr>
              <a:xfrm>
                <a:off x="3249720" y="4667400"/>
                <a:ext cx="1900080" cy="1108440"/>
                <a:chOff x="3249720" y="4667400"/>
                <a:chExt cx="1900080" cy="1108440"/>
              </a:xfrm>
            </p:grpSpPr>
            <p:sp>
              <p:nvSpPr>
                <p:cNvPr id="3045" name=""/>
                <p:cNvSpPr/>
                <p:nvPr/>
              </p:nvSpPr>
              <p:spPr>
                <a:xfrm>
                  <a:off x="3249720" y="4695840"/>
                  <a:ext cx="1900080" cy="876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46" name=""/>
                <p:cNvGrpSpPr/>
                <p:nvPr/>
              </p:nvGrpSpPr>
              <p:grpSpPr>
                <a:xfrm>
                  <a:off x="3291840" y="4667400"/>
                  <a:ext cx="912240" cy="1108440"/>
                  <a:chOff x="3291840" y="4667400"/>
                  <a:chExt cx="912240" cy="1108440"/>
                </a:xfrm>
              </p:grpSpPr>
              <p:grpSp>
                <p:nvGrpSpPr>
                  <p:cNvPr id="3047" name=""/>
                  <p:cNvGrpSpPr/>
                  <p:nvPr/>
                </p:nvGrpSpPr>
                <p:grpSpPr>
                  <a:xfrm>
                    <a:off x="3522960" y="4856760"/>
                    <a:ext cx="450360" cy="360000"/>
                    <a:chOff x="3522960" y="4856760"/>
                    <a:chExt cx="450360" cy="360000"/>
                  </a:xfrm>
                </p:grpSpPr>
                <p:sp>
                  <p:nvSpPr>
                    <p:cNvPr id="3048" name=""/>
                    <p:cNvSpPr/>
                    <p:nvPr/>
                  </p:nvSpPr>
                  <p:spPr>
                    <a:xfrm>
                      <a:off x="3870720" y="5216760"/>
                      <a:ext cx="939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49" name=""/>
                    <p:cNvGrpSpPr/>
                    <p:nvPr/>
                  </p:nvGrpSpPr>
                  <p:grpSpPr>
                    <a:xfrm>
                      <a:off x="3522960" y="4856760"/>
                      <a:ext cx="450360" cy="358920"/>
                      <a:chOff x="3522960" y="4856760"/>
                      <a:chExt cx="450360" cy="358920"/>
                    </a:xfrm>
                  </p:grpSpPr>
                  <p:sp>
                    <p:nvSpPr>
                      <p:cNvPr id="3050" name=""/>
                      <p:cNvSpPr/>
                      <p:nvPr/>
                    </p:nvSpPr>
                    <p:spPr>
                      <a:xfrm flipH="1" flipV="1">
                        <a:off x="3747960" y="4856400"/>
                        <a:ext cx="22536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1" name=""/>
                      <p:cNvSpPr/>
                      <p:nvPr/>
                    </p:nvSpPr>
                    <p:spPr>
                      <a:xfrm flipH="1" flipV="1" rot="10800000">
                        <a:off x="3522960" y="4856400"/>
                        <a:ext cx="22464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052" name=""/>
                    <p:cNvSpPr/>
                    <p:nvPr/>
                  </p:nvSpPr>
                  <p:spPr>
                    <a:xfrm>
                      <a:off x="3540960" y="4857120"/>
                      <a:ext cx="939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3" name=""/>
                  <p:cNvGrpSpPr/>
                  <p:nvPr/>
                </p:nvGrpSpPr>
                <p:grpSpPr>
                  <a:xfrm>
                    <a:off x="3291840" y="4667400"/>
                    <a:ext cx="792000" cy="870840"/>
                    <a:chOff x="3291840" y="4667400"/>
                    <a:chExt cx="792000" cy="870840"/>
                  </a:xfrm>
                </p:grpSpPr>
                <p:grpSp>
                  <p:nvGrpSpPr>
                    <p:cNvPr id="3054" name=""/>
                    <p:cNvGrpSpPr/>
                    <p:nvPr/>
                  </p:nvGrpSpPr>
                  <p:grpSpPr>
                    <a:xfrm>
                      <a:off x="3524400" y="4847760"/>
                      <a:ext cx="449280" cy="360000"/>
                      <a:chOff x="3524400" y="4847760"/>
                      <a:chExt cx="449280" cy="360000"/>
                    </a:xfrm>
                  </p:grpSpPr>
                  <p:sp>
                    <p:nvSpPr>
                      <p:cNvPr id="3055" name=""/>
                      <p:cNvSpPr/>
                      <p:nvPr/>
                    </p:nvSpPr>
                    <p:spPr>
                      <a:xfrm flipH="1">
                        <a:off x="3871080" y="5207760"/>
                        <a:ext cx="939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6" name=""/>
                      <p:cNvSpPr/>
                      <p:nvPr/>
                    </p:nvSpPr>
                    <p:spPr>
                      <a:xfrm flipH="1">
                        <a:off x="3541680" y="4848120"/>
                        <a:ext cx="939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057" name=""/>
                      <p:cNvGrpSpPr/>
                      <p:nvPr/>
                    </p:nvGrpSpPr>
                    <p:grpSpPr>
                      <a:xfrm>
                        <a:off x="3524400" y="4847760"/>
                        <a:ext cx="449280" cy="358920"/>
                        <a:chOff x="3524400" y="4847760"/>
                        <a:chExt cx="449280" cy="358920"/>
                      </a:xfrm>
                    </p:grpSpPr>
                    <p:sp>
                      <p:nvSpPr>
                        <p:cNvPr id="3058" name=""/>
                        <p:cNvSpPr/>
                        <p:nvPr/>
                      </p:nvSpPr>
                      <p:spPr>
                        <a:xfrm flipH="1" flipV="1">
                          <a:off x="3749040" y="4847400"/>
                          <a:ext cx="224640" cy="358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9864" y="41"/>
                              </a:moveTo>
                              <a:arcTo wR="10800" hR="10800" stAng="-5698349" swAng="5698349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9864" y="41"/>
                              </a:moveTo>
                              <a:arcTo wR="10800" hR="10800" stAng="-5698349" swAng="5698349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9" name=""/>
                        <p:cNvSpPr/>
                        <p:nvPr/>
                      </p:nvSpPr>
                      <p:spPr>
                        <a:xfrm flipH="1" flipV="1" rot="10800000">
                          <a:off x="3524400" y="4847400"/>
                          <a:ext cx="223920" cy="358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060" name=""/>
                    <p:cNvGrpSpPr/>
                    <p:nvPr/>
                  </p:nvGrpSpPr>
                  <p:grpSpPr>
                    <a:xfrm>
                      <a:off x="3291840" y="4667400"/>
                      <a:ext cx="792000" cy="870840"/>
                      <a:chOff x="3291840" y="4667400"/>
                      <a:chExt cx="792000" cy="870840"/>
                    </a:xfrm>
                  </p:grpSpPr>
                  <p:sp>
                    <p:nvSpPr>
                      <p:cNvPr id="3061" name=""/>
                      <p:cNvSpPr/>
                      <p:nvPr/>
                    </p:nvSpPr>
                    <p:spPr>
                      <a:xfrm>
                        <a:off x="3536640" y="4759200"/>
                        <a:ext cx="0" cy="63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2" name=""/>
                      <p:cNvSpPr/>
                      <p:nvPr/>
                    </p:nvSpPr>
                    <p:spPr>
                      <a:xfrm>
                        <a:off x="3518640" y="5367240"/>
                        <a:ext cx="5652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3" name=""/>
                      <p:cNvSpPr/>
                      <p:nvPr/>
                    </p:nvSpPr>
                    <p:spPr>
                      <a:xfrm>
                        <a:off x="3518640" y="5227200"/>
                        <a:ext cx="540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4" name=""/>
                      <p:cNvSpPr/>
                      <p:nvPr/>
                    </p:nvSpPr>
                    <p:spPr>
                      <a:xfrm>
                        <a:off x="3500640" y="4852080"/>
                        <a:ext cx="540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5" name=""/>
                      <p:cNvSpPr/>
                      <p:nvPr/>
                    </p:nvSpPr>
                    <p:spPr>
                      <a:xfrm>
                        <a:off x="3436920" y="4667400"/>
                        <a:ext cx="183960" cy="336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6" name=""/>
                      <p:cNvSpPr/>
                      <p:nvPr/>
                    </p:nvSpPr>
                    <p:spPr>
                      <a:xfrm>
                        <a:off x="3292560" y="4857840"/>
                        <a:ext cx="50688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Vc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7" name=""/>
                      <p:cNvSpPr/>
                      <p:nvPr/>
                    </p:nvSpPr>
                    <p:spPr>
                      <a:xfrm>
                        <a:off x="3291840" y="5200920"/>
                        <a:ext cx="42912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V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68" name=""/>
                  <p:cNvSpPr/>
                  <p:nvPr/>
                </p:nvSpPr>
                <p:spPr>
                  <a:xfrm>
                    <a:off x="3966840" y="5438520"/>
                    <a:ext cx="2372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>
                    <a:off x="3318120" y="4676760"/>
                    <a:ext cx="2829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0" name=""/>
                <p:cNvGrpSpPr/>
                <p:nvPr/>
              </p:nvGrpSpPr>
              <p:grpSpPr>
                <a:xfrm>
                  <a:off x="4201920" y="4667400"/>
                  <a:ext cx="910440" cy="1108440"/>
                  <a:chOff x="4201920" y="4667400"/>
                  <a:chExt cx="910440" cy="1108440"/>
                </a:xfrm>
              </p:grpSpPr>
              <p:grpSp>
                <p:nvGrpSpPr>
                  <p:cNvPr id="3071" name=""/>
                  <p:cNvGrpSpPr/>
                  <p:nvPr/>
                </p:nvGrpSpPr>
                <p:grpSpPr>
                  <a:xfrm>
                    <a:off x="4444920" y="4856760"/>
                    <a:ext cx="298800" cy="360000"/>
                    <a:chOff x="4444920" y="4856760"/>
                    <a:chExt cx="298800" cy="360000"/>
                  </a:xfrm>
                </p:grpSpPr>
                <p:sp>
                  <p:nvSpPr>
                    <p:cNvPr id="3072" name=""/>
                    <p:cNvSpPr/>
                    <p:nvPr/>
                  </p:nvSpPr>
                  <p:spPr>
                    <a:xfrm>
                      <a:off x="4450680" y="5216760"/>
                      <a:ext cx="622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3" name=""/>
                    <p:cNvSpPr/>
                    <p:nvPr/>
                  </p:nvSpPr>
                  <p:spPr>
                    <a:xfrm>
                      <a:off x="4669920" y="4857120"/>
                      <a:ext cx="622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74" name=""/>
                    <p:cNvGrpSpPr/>
                    <p:nvPr/>
                  </p:nvGrpSpPr>
                  <p:grpSpPr>
                    <a:xfrm>
                      <a:off x="4444920" y="4856760"/>
                      <a:ext cx="298800" cy="358920"/>
                      <a:chOff x="4444920" y="4856760"/>
                      <a:chExt cx="298800" cy="358920"/>
                    </a:xfrm>
                  </p:grpSpPr>
                  <p:sp>
                    <p:nvSpPr>
                      <p:cNvPr id="3075" name=""/>
                      <p:cNvSpPr/>
                      <p:nvPr/>
                    </p:nvSpPr>
                    <p:spPr>
                      <a:xfrm flipV="1">
                        <a:off x="4444920" y="4856400"/>
                        <a:ext cx="14904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76" name=""/>
                      <p:cNvSpPr/>
                      <p:nvPr/>
                    </p:nvSpPr>
                    <p:spPr>
                      <a:xfrm flipV="1" rot="10800000">
                        <a:off x="4594680" y="4856400"/>
                        <a:ext cx="14904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077" name=""/>
                  <p:cNvGrpSpPr/>
                  <p:nvPr/>
                </p:nvGrpSpPr>
                <p:grpSpPr>
                  <a:xfrm>
                    <a:off x="4201920" y="4667400"/>
                    <a:ext cx="790920" cy="870840"/>
                    <a:chOff x="4201920" y="4667400"/>
                    <a:chExt cx="790920" cy="870840"/>
                  </a:xfrm>
                </p:grpSpPr>
                <p:sp>
                  <p:nvSpPr>
                    <p:cNvPr id="3078" name=""/>
                    <p:cNvSpPr/>
                    <p:nvPr/>
                  </p:nvSpPr>
                  <p:spPr>
                    <a:xfrm>
                      <a:off x="4445640" y="4759200"/>
                      <a:ext cx="0" cy="63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9" name=""/>
                    <p:cNvSpPr/>
                    <p:nvPr/>
                  </p:nvSpPr>
                  <p:spPr>
                    <a:xfrm>
                      <a:off x="4427640" y="5367240"/>
                      <a:ext cx="5652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"/>
                    <p:cNvSpPr/>
                    <p:nvPr/>
                  </p:nvSpPr>
                  <p:spPr>
                    <a:xfrm>
                      <a:off x="4427640" y="5227200"/>
                      <a:ext cx="54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1" name=""/>
                    <p:cNvSpPr/>
                    <p:nvPr/>
                  </p:nvSpPr>
                  <p:spPr>
                    <a:xfrm>
                      <a:off x="4409640" y="4852080"/>
                      <a:ext cx="54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2" name=""/>
                    <p:cNvSpPr/>
                    <p:nvPr/>
                  </p:nvSpPr>
                  <p:spPr>
                    <a:xfrm>
                      <a:off x="4344840" y="4667400"/>
                      <a:ext cx="183960" cy="33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3" name=""/>
                    <p:cNvSpPr/>
                    <p:nvPr/>
                  </p:nvSpPr>
                  <p:spPr>
                    <a:xfrm>
                      <a:off x="4202280" y="4857840"/>
                      <a:ext cx="5068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4" name=""/>
                    <p:cNvSpPr/>
                    <p:nvPr/>
                  </p:nvSpPr>
                  <p:spPr>
                    <a:xfrm>
                      <a:off x="4201920" y="5200920"/>
                      <a:ext cx="42912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85" name=""/>
                  <p:cNvSpPr/>
                  <p:nvPr/>
                </p:nvSpPr>
                <p:spPr>
                  <a:xfrm>
                    <a:off x="4875120" y="5438520"/>
                    <a:ext cx="2372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"/>
                  <p:cNvSpPr/>
                  <p:nvPr/>
                </p:nvSpPr>
                <p:spPr>
                  <a:xfrm>
                    <a:off x="4227840" y="4676760"/>
                    <a:ext cx="2829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87" name=""/>
                <p:cNvSpPr/>
                <p:nvPr/>
              </p:nvSpPr>
              <p:spPr>
                <a:xfrm>
                  <a:off x="3745080" y="4962600"/>
                  <a:ext cx="41040" cy="1908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 flipH="1">
                  <a:off x="4571640" y="4962600"/>
                  <a:ext cx="41040" cy="1908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9" name=""/>
            <p:cNvSpPr/>
            <p:nvPr/>
          </p:nvSpPr>
          <p:spPr>
            <a:xfrm>
              <a:off x="3987720" y="46440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0" name=""/>
          <p:cNvGrpSpPr/>
          <p:nvPr/>
        </p:nvGrpSpPr>
        <p:grpSpPr>
          <a:xfrm>
            <a:off x="6181560" y="278640"/>
            <a:ext cx="2527200" cy="6175080"/>
            <a:chOff x="6181560" y="278640"/>
            <a:chExt cx="2527200" cy="6175080"/>
          </a:xfrm>
        </p:grpSpPr>
        <p:grpSp>
          <p:nvGrpSpPr>
            <p:cNvPr id="3091" name=""/>
            <p:cNvGrpSpPr/>
            <p:nvPr/>
          </p:nvGrpSpPr>
          <p:grpSpPr>
            <a:xfrm>
              <a:off x="6181560" y="1220760"/>
              <a:ext cx="2527200" cy="5232960"/>
              <a:chOff x="6181560" y="1220760"/>
              <a:chExt cx="2527200" cy="5232960"/>
            </a:xfrm>
          </p:grpSpPr>
          <p:grpSp>
            <p:nvGrpSpPr>
              <p:cNvPr id="3092" name=""/>
              <p:cNvGrpSpPr/>
              <p:nvPr/>
            </p:nvGrpSpPr>
            <p:grpSpPr>
              <a:xfrm>
                <a:off x="6181560" y="1220760"/>
                <a:ext cx="2527200" cy="5232960"/>
                <a:chOff x="6181560" y="1220760"/>
                <a:chExt cx="2527200" cy="5232960"/>
              </a:xfrm>
            </p:grpSpPr>
            <p:grpSp>
              <p:nvGrpSpPr>
                <p:cNvPr id="3093" name=""/>
                <p:cNvGrpSpPr/>
                <p:nvPr/>
              </p:nvGrpSpPr>
              <p:grpSpPr>
                <a:xfrm>
                  <a:off x="6181560" y="1220760"/>
                  <a:ext cx="2527200" cy="1541880"/>
                  <a:chOff x="6181560" y="1220760"/>
                  <a:chExt cx="2527200" cy="1541880"/>
                </a:xfrm>
              </p:grpSpPr>
              <p:sp>
                <p:nvSpPr>
                  <p:cNvPr id="3094" name=""/>
                  <p:cNvSpPr/>
                  <p:nvPr/>
                </p:nvSpPr>
                <p:spPr>
                  <a:xfrm>
                    <a:off x="6181560" y="1269720"/>
                    <a:ext cx="2516760" cy="14479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9966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95" name=""/>
                  <p:cNvGrpSpPr/>
                  <p:nvPr/>
                </p:nvGrpSpPr>
                <p:grpSpPr>
                  <a:xfrm>
                    <a:off x="6220800" y="1220760"/>
                    <a:ext cx="2487960" cy="1541880"/>
                    <a:chOff x="6220800" y="1220760"/>
                    <a:chExt cx="2487960" cy="1541880"/>
                  </a:xfrm>
                </p:grpSpPr>
                <p:grpSp>
                  <p:nvGrpSpPr>
                    <p:cNvPr id="3096" name=""/>
                    <p:cNvGrpSpPr/>
                    <p:nvPr/>
                  </p:nvGrpSpPr>
                  <p:grpSpPr>
                    <a:xfrm>
                      <a:off x="6220800" y="1220760"/>
                      <a:ext cx="2487960" cy="1541880"/>
                      <a:chOff x="6220800" y="1220760"/>
                      <a:chExt cx="2487960" cy="1541880"/>
                    </a:xfrm>
                  </p:grpSpPr>
                  <p:sp>
                    <p:nvSpPr>
                      <p:cNvPr id="3097" name=""/>
                      <p:cNvSpPr/>
                      <p:nvPr/>
                    </p:nvSpPr>
                    <p:spPr>
                      <a:xfrm>
                        <a:off x="6861960" y="1373040"/>
                        <a:ext cx="0" cy="10674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98" name=""/>
                      <p:cNvSpPr/>
                      <p:nvPr/>
                    </p:nvSpPr>
                    <p:spPr>
                      <a:xfrm>
                        <a:off x="6787800" y="2005200"/>
                        <a:ext cx="17413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99" name=""/>
                      <p:cNvSpPr/>
                      <p:nvPr/>
                    </p:nvSpPr>
                    <p:spPr>
                      <a:xfrm>
                        <a:off x="8017560" y="1754280"/>
                        <a:ext cx="69120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Vout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00" name=""/>
                      <p:cNvSpPr/>
                      <p:nvPr/>
                    </p:nvSpPr>
                    <p:spPr>
                      <a:xfrm>
                        <a:off x="6220800" y="1487520"/>
                        <a:ext cx="59220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Iout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101" name=""/>
                      <p:cNvGrpSpPr/>
                      <p:nvPr/>
                    </p:nvGrpSpPr>
                    <p:grpSpPr>
                      <a:xfrm>
                        <a:off x="6841080" y="1452240"/>
                        <a:ext cx="1581120" cy="584640"/>
                        <a:chOff x="6841080" y="1452240"/>
                        <a:chExt cx="1581120" cy="584640"/>
                      </a:xfrm>
                    </p:grpSpPr>
                    <p:sp>
                      <p:nvSpPr>
                        <p:cNvPr id="3102" name=""/>
                        <p:cNvSpPr/>
                        <p:nvPr/>
                      </p:nvSpPr>
                      <p:spPr>
                        <a:xfrm flipV="1">
                          <a:off x="6841080" y="1809720"/>
                          <a:ext cx="262800" cy="2271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3" name=""/>
                        <p:cNvSpPr/>
                        <p:nvPr/>
                      </p:nvSpPr>
                      <p:spPr>
                        <a:xfrm flipV="1">
                          <a:off x="7103880" y="1647000"/>
                          <a:ext cx="264600" cy="1627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4" name=""/>
                        <p:cNvSpPr/>
                        <p:nvPr/>
                      </p:nvSpPr>
                      <p:spPr>
                        <a:xfrm flipV="1">
                          <a:off x="7368840" y="1517400"/>
                          <a:ext cx="420840" cy="129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5" name=""/>
                        <p:cNvSpPr/>
                        <p:nvPr/>
                      </p:nvSpPr>
                      <p:spPr>
                        <a:xfrm flipV="1">
                          <a:off x="7789680" y="1452240"/>
                          <a:ext cx="632520" cy="651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06" name=""/>
                      <p:cNvGrpSpPr/>
                      <p:nvPr/>
                    </p:nvGrpSpPr>
                    <p:grpSpPr>
                      <a:xfrm>
                        <a:off x="6841080" y="2005200"/>
                        <a:ext cx="1529640" cy="389160"/>
                        <a:chOff x="6841080" y="2005200"/>
                        <a:chExt cx="1529640" cy="389160"/>
                      </a:xfrm>
                    </p:grpSpPr>
                    <p:sp>
                      <p:nvSpPr>
                        <p:cNvPr id="3107" name=""/>
                        <p:cNvSpPr/>
                        <p:nvPr/>
                      </p:nvSpPr>
                      <p:spPr>
                        <a:xfrm>
                          <a:off x="6841080" y="2005200"/>
                          <a:ext cx="53280" cy="968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8" name=""/>
                        <p:cNvSpPr/>
                        <p:nvPr/>
                      </p:nvSpPr>
                      <p:spPr>
                        <a:xfrm>
                          <a:off x="6894720" y="2102040"/>
                          <a:ext cx="210960" cy="1627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9" name=""/>
                        <p:cNvSpPr/>
                        <p:nvPr/>
                      </p:nvSpPr>
                      <p:spPr>
                        <a:xfrm>
                          <a:off x="7105680" y="2264760"/>
                          <a:ext cx="369360" cy="975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0" name=""/>
                        <p:cNvSpPr/>
                        <p:nvPr/>
                      </p:nvSpPr>
                      <p:spPr>
                        <a:xfrm>
                          <a:off x="7475760" y="2362680"/>
                          <a:ext cx="579240" cy="31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1" name=""/>
                        <p:cNvSpPr/>
                        <p:nvPr/>
                      </p:nvSpPr>
                      <p:spPr>
                        <a:xfrm>
                          <a:off x="8055000" y="2394360"/>
                          <a:ext cx="3157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12" name=""/>
                      <p:cNvSpPr/>
                      <p:nvPr/>
                    </p:nvSpPr>
                    <p:spPr>
                      <a:xfrm>
                        <a:off x="6859800" y="2363760"/>
                        <a:ext cx="141372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High/pullup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3" name=""/>
                      <p:cNvSpPr/>
                      <p:nvPr/>
                    </p:nvSpPr>
                    <p:spPr>
                      <a:xfrm>
                        <a:off x="6860520" y="1220760"/>
                        <a:ext cx="1145520" cy="703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Low/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pulldown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14" name=""/>
                    <p:cNvSpPr/>
                    <p:nvPr/>
                  </p:nvSpPr>
                  <p:spPr>
                    <a:xfrm>
                      <a:off x="7191720" y="1449360"/>
                      <a:ext cx="660240" cy="304920"/>
                    </a:xfrm>
                    <a:prstGeom prst="noSmoking">
                      <a:avLst>
                        <a:gd name="adj" fmla="val 12500"/>
                      </a:avLst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5" name=""/>
                    <p:cNvSpPr/>
                    <p:nvPr/>
                  </p:nvSpPr>
                  <p:spPr>
                    <a:xfrm>
                      <a:off x="6861960" y="2021400"/>
                      <a:ext cx="1567440" cy="0"/>
                    </a:xfrm>
                    <a:prstGeom prst="line">
                      <a:avLst/>
                    </a:prstGeom>
                    <a:ln w="38160">
                      <a:solidFill>
                        <a:srgbClr val="ff99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16" name=""/>
                <p:cNvGrpSpPr/>
                <p:nvPr/>
              </p:nvGrpSpPr>
              <p:grpSpPr>
                <a:xfrm>
                  <a:off x="6189840" y="3851280"/>
                  <a:ext cx="2515680" cy="1541880"/>
                  <a:chOff x="6189840" y="3851280"/>
                  <a:chExt cx="2515680" cy="1541880"/>
                </a:xfrm>
              </p:grpSpPr>
              <p:sp>
                <p:nvSpPr>
                  <p:cNvPr id="3117" name=""/>
                  <p:cNvSpPr/>
                  <p:nvPr/>
                </p:nvSpPr>
                <p:spPr>
                  <a:xfrm>
                    <a:off x="6189840" y="3877200"/>
                    <a:ext cx="2515680" cy="14277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9966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18" name=""/>
                  <p:cNvGrpSpPr/>
                  <p:nvPr/>
                </p:nvGrpSpPr>
                <p:grpSpPr>
                  <a:xfrm>
                    <a:off x="6216120" y="3851280"/>
                    <a:ext cx="2487960" cy="1541880"/>
                    <a:chOff x="6216120" y="3851280"/>
                    <a:chExt cx="2487960" cy="1541880"/>
                  </a:xfrm>
                </p:grpSpPr>
                <p:grpSp>
                  <p:nvGrpSpPr>
                    <p:cNvPr id="3119" name=""/>
                    <p:cNvGrpSpPr/>
                    <p:nvPr/>
                  </p:nvGrpSpPr>
                  <p:grpSpPr>
                    <a:xfrm>
                      <a:off x="6216120" y="3851280"/>
                      <a:ext cx="2487960" cy="1541880"/>
                      <a:chOff x="6216120" y="3851280"/>
                      <a:chExt cx="2487960" cy="1541880"/>
                    </a:xfrm>
                  </p:grpSpPr>
                  <p:sp>
                    <p:nvSpPr>
                      <p:cNvPr id="3120" name=""/>
                      <p:cNvSpPr/>
                      <p:nvPr/>
                    </p:nvSpPr>
                    <p:spPr>
                      <a:xfrm>
                        <a:off x="6857640" y="4003560"/>
                        <a:ext cx="0" cy="1066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1" name=""/>
                      <p:cNvSpPr/>
                      <p:nvPr/>
                    </p:nvSpPr>
                    <p:spPr>
                      <a:xfrm>
                        <a:off x="6783840" y="4635360"/>
                        <a:ext cx="174024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2" name=""/>
                      <p:cNvSpPr/>
                      <p:nvPr/>
                    </p:nvSpPr>
                    <p:spPr>
                      <a:xfrm>
                        <a:off x="8012880" y="4384440"/>
                        <a:ext cx="69120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Vout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3" name=""/>
                      <p:cNvSpPr/>
                      <p:nvPr/>
                    </p:nvSpPr>
                    <p:spPr>
                      <a:xfrm>
                        <a:off x="6216120" y="4117680"/>
                        <a:ext cx="59220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Iout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124" name=""/>
                      <p:cNvGrpSpPr/>
                      <p:nvPr/>
                    </p:nvGrpSpPr>
                    <p:grpSpPr>
                      <a:xfrm>
                        <a:off x="6837120" y="4082400"/>
                        <a:ext cx="1580400" cy="584280"/>
                        <a:chOff x="6837120" y="4082400"/>
                        <a:chExt cx="1580400" cy="584280"/>
                      </a:xfrm>
                    </p:grpSpPr>
                    <p:sp>
                      <p:nvSpPr>
                        <p:cNvPr id="3125" name=""/>
                        <p:cNvSpPr/>
                        <p:nvPr/>
                      </p:nvSpPr>
                      <p:spPr>
                        <a:xfrm flipV="1">
                          <a:off x="6837120" y="4439880"/>
                          <a:ext cx="262800" cy="2268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6" name=""/>
                        <p:cNvSpPr/>
                        <p:nvPr/>
                      </p:nvSpPr>
                      <p:spPr>
                        <a:xfrm flipV="1">
                          <a:off x="7099920" y="4277160"/>
                          <a:ext cx="264240" cy="1627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7" name=""/>
                        <p:cNvSpPr/>
                        <p:nvPr/>
                      </p:nvSpPr>
                      <p:spPr>
                        <a:xfrm flipV="1">
                          <a:off x="7364520" y="4147560"/>
                          <a:ext cx="420480" cy="129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8" name=""/>
                        <p:cNvSpPr/>
                        <p:nvPr/>
                      </p:nvSpPr>
                      <p:spPr>
                        <a:xfrm flipV="1">
                          <a:off x="7785360" y="4082400"/>
                          <a:ext cx="632160" cy="651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29" name=""/>
                      <p:cNvGrpSpPr/>
                      <p:nvPr/>
                    </p:nvGrpSpPr>
                    <p:grpSpPr>
                      <a:xfrm>
                        <a:off x="6837480" y="4635360"/>
                        <a:ext cx="1529280" cy="388800"/>
                        <a:chOff x="6837480" y="4635360"/>
                        <a:chExt cx="1529280" cy="388800"/>
                      </a:xfrm>
                    </p:grpSpPr>
                    <p:sp>
                      <p:nvSpPr>
                        <p:cNvPr id="3130" name=""/>
                        <p:cNvSpPr/>
                        <p:nvPr/>
                      </p:nvSpPr>
                      <p:spPr>
                        <a:xfrm>
                          <a:off x="6837480" y="4635360"/>
                          <a:ext cx="53280" cy="968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1" name=""/>
                        <p:cNvSpPr/>
                        <p:nvPr/>
                      </p:nvSpPr>
                      <p:spPr>
                        <a:xfrm>
                          <a:off x="6890760" y="4732200"/>
                          <a:ext cx="210960" cy="1627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2" name=""/>
                        <p:cNvSpPr/>
                        <p:nvPr/>
                      </p:nvSpPr>
                      <p:spPr>
                        <a:xfrm>
                          <a:off x="7102440" y="4894920"/>
                          <a:ext cx="369000" cy="975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3" name=""/>
                        <p:cNvSpPr/>
                        <p:nvPr/>
                      </p:nvSpPr>
                      <p:spPr>
                        <a:xfrm>
                          <a:off x="7471800" y="4992480"/>
                          <a:ext cx="579240" cy="31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4" name=""/>
                        <p:cNvSpPr/>
                        <p:nvPr/>
                      </p:nvSpPr>
                      <p:spPr>
                        <a:xfrm>
                          <a:off x="8051040" y="5024160"/>
                          <a:ext cx="3157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5" name=""/>
                      <p:cNvSpPr/>
                      <p:nvPr/>
                    </p:nvSpPr>
                    <p:spPr>
                      <a:xfrm>
                        <a:off x="6855120" y="4994280"/>
                        <a:ext cx="141372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High/pullup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36" name=""/>
                      <p:cNvSpPr/>
                      <p:nvPr/>
                    </p:nvSpPr>
                    <p:spPr>
                      <a:xfrm>
                        <a:off x="6856200" y="3851280"/>
                        <a:ext cx="1145520" cy="703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Low/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pulldown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37" name=""/>
                    <p:cNvSpPr/>
                    <p:nvPr/>
                  </p:nvSpPr>
                  <p:spPr>
                    <a:xfrm>
                      <a:off x="7270200" y="4841640"/>
                      <a:ext cx="659880" cy="304560"/>
                    </a:xfrm>
                    <a:prstGeom prst="noSmoking">
                      <a:avLst>
                        <a:gd name="adj" fmla="val 12500"/>
                      </a:avLst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8" name=""/>
                    <p:cNvSpPr/>
                    <p:nvPr/>
                  </p:nvSpPr>
                  <p:spPr>
                    <a:xfrm>
                      <a:off x="6857640" y="4651200"/>
                      <a:ext cx="1567080" cy="0"/>
                    </a:xfrm>
                    <a:prstGeom prst="line">
                      <a:avLst/>
                    </a:prstGeom>
                    <a:ln w="38160">
                      <a:solidFill>
                        <a:srgbClr val="ff99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39" name=""/>
                <p:cNvGrpSpPr/>
                <p:nvPr/>
              </p:nvGrpSpPr>
              <p:grpSpPr>
                <a:xfrm>
                  <a:off x="6615000" y="5345280"/>
                  <a:ext cx="1900440" cy="1108440"/>
                  <a:chOff x="6615000" y="5345280"/>
                  <a:chExt cx="1900440" cy="1108440"/>
                </a:xfrm>
              </p:grpSpPr>
              <p:sp>
                <p:nvSpPr>
                  <p:cNvPr id="3140" name=""/>
                  <p:cNvSpPr/>
                  <p:nvPr/>
                </p:nvSpPr>
                <p:spPr>
                  <a:xfrm>
                    <a:off x="6615000" y="5373720"/>
                    <a:ext cx="1900440" cy="876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41" name=""/>
                  <p:cNvGrpSpPr/>
                  <p:nvPr/>
                </p:nvGrpSpPr>
                <p:grpSpPr>
                  <a:xfrm>
                    <a:off x="6657480" y="5345280"/>
                    <a:ext cx="912240" cy="1108440"/>
                    <a:chOff x="6657480" y="5345280"/>
                    <a:chExt cx="912240" cy="1108440"/>
                  </a:xfrm>
                </p:grpSpPr>
                <p:grpSp>
                  <p:nvGrpSpPr>
                    <p:cNvPr id="3142" name=""/>
                    <p:cNvGrpSpPr/>
                    <p:nvPr/>
                  </p:nvGrpSpPr>
                  <p:grpSpPr>
                    <a:xfrm>
                      <a:off x="6888240" y="5534640"/>
                      <a:ext cx="450360" cy="360000"/>
                      <a:chOff x="6888240" y="5534640"/>
                      <a:chExt cx="450360" cy="360000"/>
                    </a:xfrm>
                  </p:grpSpPr>
                  <p:sp>
                    <p:nvSpPr>
                      <p:cNvPr id="3143" name=""/>
                      <p:cNvSpPr/>
                      <p:nvPr/>
                    </p:nvSpPr>
                    <p:spPr>
                      <a:xfrm>
                        <a:off x="7236000" y="5894640"/>
                        <a:ext cx="939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144" name=""/>
                      <p:cNvGrpSpPr/>
                      <p:nvPr/>
                    </p:nvGrpSpPr>
                    <p:grpSpPr>
                      <a:xfrm>
                        <a:off x="6888240" y="5534640"/>
                        <a:ext cx="450360" cy="358920"/>
                        <a:chOff x="6888240" y="5534640"/>
                        <a:chExt cx="450360" cy="358920"/>
                      </a:xfrm>
                    </p:grpSpPr>
                    <p:sp>
                      <p:nvSpPr>
                        <p:cNvPr id="3145" name=""/>
                        <p:cNvSpPr/>
                        <p:nvPr/>
                      </p:nvSpPr>
                      <p:spPr>
                        <a:xfrm flipH="1" flipV="1">
                          <a:off x="7113240" y="5534280"/>
                          <a:ext cx="225360" cy="358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9864" y="41"/>
                              </a:moveTo>
                              <a:arcTo wR="10800" hR="10800" stAng="-5698349" swAng="5698349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9864" y="41"/>
                              </a:moveTo>
                              <a:arcTo wR="10800" hR="10800" stAng="-5698349" swAng="5698349"/>
                            </a:path>
                          </a:pathLst>
                        </a:cu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6" name=""/>
                        <p:cNvSpPr/>
                        <p:nvPr/>
                      </p:nvSpPr>
                      <p:spPr>
                        <a:xfrm flipH="1" flipV="1" rot="10800000">
                          <a:off x="6888240" y="5534280"/>
                          <a:ext cx="224640" cy="358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47" name=""/>
                      <p:cNvSpPr/>
                      <p:nvPr/>
                    </p:nvSpPr>
                    <p:spPr>
                      <a:xfrm>
                        <a:off x="6906240" y="5535000"/>
                        <a:ext cx="939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48" name=""/>
                    <p:cNvGrpSpPr/>
                    <p:nvPr/>
                  </p:nvGrpSpPr>
                  <p:grpSpPr>
                    <a:xfrm>
                      <a:off x="6657480" y="5345280"/>
                      <a:ext cx="792000" cy="870840"/>
                      <a:chOff x="6657480" y="5345280"/>
                      <a:chExt cx="792000" cy="870840"/>
                    </a:xfrm>
                  </p:grpSpPr>
                  <p:grpSp>
                    <p:nvGrpSpPr>
                      <p:cNvPr id="3149" name=""/>
                      <p:cNvGrpSpPr/>
                      <p:nvPr/>
                    </p:nvGrpSpPr>
                    <p:grpSpPr>
                      <a:xfrm>
                        <a:off x="6889680" y="5525640"/>
                        <a:ext cx="449280" cy="360000"/>
                        <a:chOff x="6889680" y="5525640"/>
                        <a:chExt cx="449280" cy="360000"/>
                      </a:xfrm>
                    </p:grpSpPr>
                    <p:sp>
                      <p:nvSpPr>
                        <p:cNvPr id="3150" name=""/>
                        <p:cNvSpPr/>
                        <p:nvPr/>
                      </p:nvSpPr>
                      <p:spPr>
                        <a:xfrm flipH="1">
                          <a:off x="7236360" y="5885640"/>
                          <a:ext cx="939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1" name=""/>
                        <p:cNvSpPr/>
                        <p:nvPr/>
                      </p:nvSpPr>
                      <p:spPr>
                        <a:xfrm flipH="1">
                          <a:off x="6906960" y="5526000"/>
                          <a:ext cx="939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52" name=""/>
                        <p:cNvGrpSpPr/>
                        <p:nvPr/>
                      </p:nvGrpSpPr>
                      <p:grpSpPr>
                        <a:xfrm>
                          <a:off x="6889680" y="5525640"/>
                          <a:ext cx="449280" cy="358920"/>
                          <a:chOff x="6889680" y="5525640"/>
                          <a:chExt cx="449280" cy="358920"/>
                        </a:xfrm>
                      </p:grpSpPr>
                      <p:sp>
                        <p:nvSpPr>
                          <p:cNvPr id="3153" name=""/>
                          <p:cNvSpPr/>
                          <p:nvPr/>
                        </p:nvSpPr>
                        <p:spPr>
                          <a:xfrm flipH="1" flipV="1">
                            <a:off x="7114320" y="5525280"/>
                            <a:ext cx="224640" cy="358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9864" y="41"/>
                                </a:moveTo>
                                <a:arcTo wR="10800" hR="10800" stAng="-5698349" swAng="5698349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9864" y="41"/>
                                </a:moveTo>
                                <a:arcTo wR="10800" hR="10800" stAng="-5698349" swAng="5698349"/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4" name=""/>
                          <p:cNvSpPr/>
                          <p:nvPr/>
                        </p:nvSpPr>
                        <p:spPr>
                          <a:xfrm flipH="1" flipV="1" rot="10800000">
                            <a:off x="6889680" y="5525280"/>
                            <a:ext cx="223920" cy="358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155" name=""/>
                      <p:cNvGrpSpPr/>
                      <p:nvPr/>
                    </p:nvGrpSpPr>
                    <p:grpSpPr>
                      <a:xfrm>
                        <a:off x="6657480" y="5345280"/>
                        <a:ext cx="792000" cy="870840"/>
                        <a:chOff x="6657480" y="5345280"/>
                        <a:chExt cx="792000" cy="870840"/>
                      </a:xfrm>
                    </p:grpSpPr>
                    <p:sp>
                      <p:nvSpPr>
                        <p:cNvPr id="3156" name=""/>
                        <p:cNvSpPr/>
                        <p:nvPr/>
                      </p:nvSpPr>
                      <p:spPr>
                        <a:xfrm>
                          <a:off x="6901920" y="5437080"/>
                          <a:ext cx="0" cy="63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head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7" name=""/>
                        <p:cNvSpPr/>
                        <p:nvPr/>
                      </p:nvSpPr>
                      <p:spPr>
                        <a:xfrm>
                          <a:off x="6883920" y="6045120"/>
                          <a:ext cx="565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  <a:tail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8" name=""/>
                        <p:cNvSpPr/>
                        <p:nvPr/>
                      </p:nvSpPr>
                      <p:spPr>
                        <a:xfrm>
                          <a:off x="6883920" y="5905080"/>
                          <a:ext cx="5400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9" name=""/>
                        <p:cNvSpPr/>
                        <p:nvPr/>
                      </p:nvSpPr>
                      <p:spPr>
                        <a:xfrm>
                          <a:off x="6865920" y="5529960"/>
                          <a:ext cx="5400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60" name=""/>
                        <p:cNvSpPr/>
                        <p:nvPr/>
                      </p:nvSpPr>
                      <p:spPr>
                        <a:xfrm>
                          <a:off x="6802200" y="5345280"/>
                          <a:ext cx="183960" cy="336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61" name=""/>
                        <p:cNvSpPr/>
                        <p:nvPr/>
                      </p:nvSpPr>
                      <p:spPr>
                        <a:xfrm>
                          <a:off x="6658200" y="5535720"/>
                          <a:ext cx="50688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r>
                            <a:rPr b="0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Vc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62" name=""/>
                        <p:cNvSpPr/>
                        <p:nvPr/>
                      </p:nvSpPr>
                      <p:spPr>
                        <a:xfrm>
                          <a:off x="6657480" y="5878800"/>
                          <a:ext cx="42912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r>
                            <a:rPr b="0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V2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63" name=""/>
                    <p:cNvSpPr/>
                    <p:nvPr/>
                  </p:nvSpPr>
                  <p:spPr>
                    <a:xfrm>
                      <a:off x="7332480" y="6116400"/>
                      <a:ext cx="2372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4" name=""/>
                    <p:cNvSpPr/>
                    <p:nvPr/>
                  </p:nvSpPr>
                  <p:spPr>
                    <a:xfrm>
                      <a:off x="6683400" y="5354640"/>
                      <a:ext cx="282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5" name=""/>
                  <p:cNvGrpSpPr/>
                  <p:nvPr/>
                </p:nvGrpSpPr>
                <p:grpSpPr>
                  <a:xfrm>
                    <a:off x="7567560" y="5345280"/>
                    <a:ext cx="910440" cy="1108440"/>
                    <a:chOff x="7567560" y="5345280"/>
                    <a:chExt cx="910440" cy="1108440"/>
                  </a:xfrm>
                </p:grpSpPr>
                <p:grpSp>
                  <p:nvGrpSpPr>
                    <p:cNvPr id="3166" name=""/>
                    <p:cNvGrpSpPr/>
                    <p:nvPr/>
                  </p:nvGrpSpPr>
                  <p:grpSpPr>
                    <a:xfrm>
                      <a:off x="7810560" y="5534640"/>
                      <a:ext cx="299520" cy="360000"/>
                      <a:chOff x="7810560" y="5534640"/>
                      <a:chExt cx="299520" cy="360000"/>
                    </a:xfrm>
                  </p:grpSpPr>
                  <p:sp>
                    <p:nvSpPr>
                      <p:cNvPr id="3167" name=""/>
                      <p:cNvSpPr/>
                      <p:nvPr/>
                    </p:nvSpPr>
                    <p:spPr>
                      <a:xfrm>
                        <a:off x="7816320" y="5894640"/>
                        <a:ext cx="626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8" name=""/>
                      <p:cNvSpPr/>
                      <p:nvPr/>
                    </p:nvSpPr>
                    <p:spPr>
                      <a:xfrm>
                        <a:off x="8035920" y="5535000"/>
                        <a:ext cx="626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169" name=""/>
                      <p:cNvGrpSpPr/>
                      <p:nvPr/>
                    </p:nvGrpSpPr>
                    <p:grpSpPr>
                      <a:xfrm>
                        <a:off x="7810560" y="5534640"/>
                        <a:ext cx="299520" cy="358920"/>
                        <a:chOff x="7810560" y="5534640"/>
                        <a:chExt cx="299520" cy="358920"/>
                      </a:xfrm>
                    </p:grpSpPr>
                    <p:sp>
                      <p:nvSpPr>
                        <p:cNvPr id="3170" name=""/>
                        <p:cNvSpPr/>
                        <p:nvPr/>
                      </p:nvSpPr>
                      <p:spPr>
                        <a:xfrm flipV="1">
                          <a:off x="7810560" y="5534280"/>
                          <a:ext cx="149760" cy="358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9864" y="41"/>
                              </a:moveTo>
                              <a:arcTo wR="10800" hR="10800" stAng="-5698349" swAng="5698349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9864" y="41"/>
                              </a:moveTo>
                              <a:arcTo wR="10800" hR="10800" stAng="-5698349" swAng="5698349"/>
                            </a:path>
                          </a:pathLst>
                        </a:cu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1" name=""/>
                        <p:cNvSpPr/>
                        <p:nvPr/>
                      </p:nvSpPr>
                      <p:spPr>
                        <a:xfrm flipV="1" rot="10800000">
                          <a:off x="7961040" y="5534280"/>
                          <a:ext cx="149040" cy="358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172" name=""/>
                    <p:cNvGrpSpPr/>
                    <p:nvPr/>
                  </p:nvGrpSpPr>
                  <p:grpSpPr>
                    <a:xfrm>
                      <a:off x="7567560" y="5345280"/>
                      <a:ext cx="791280" cy="870840"/>
                      <a:chOff x="7567560" y="5345280"/>
                      <a:chExt cx="791280" cy="870840"/>
                    </a:xfrm>
                  </p:grpSpPr>
                  <p:sp>
                    <p:nvSpPr>
                      <p:cNvPr id="3173" name=""/>
                      <p:cNvSpPr/>
                      <p:nvPr/>
                    </p:nvSpPr>
                    <p:spPr>
                      <a:xfrm>
                        <a:off x="7811280" y="5437080"/>
                        <a:ext cx="0" cy="63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4" name=""/>
                      <p:cNvSpPr/>
                      <p:nvPr/>
                    </p:nvSpPr>
                    <p:spPr>
                      <a:xfrm>
                        <a:off x="7793280" y="6045120"/>
                        <a:ext cx="5655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5" name=""/>
                      <p:cNvSpPr/>
                      <p:nvPr/>
                    </p:nvSpPr>
                    <p:spPr>
                      <a:xfrm>
                        <a:off x="7793280" y="5905080"/>
                        <a:ext cx="540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6" name=""/>
                      <p:cNvSpPr/>
                      <p:nvPr/>
                    </p:nvSpPr>
                    <p:spPr>
                      <a:xfrm>
                        <a:off x="7775280" y="5529960"/>
                        <a:ext cx="540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7" name=""/>
                      <p:cNvSpPr/>
                      <p:nvPr/>
                    </p:nvSpPr>
                    <p:spPr>
                      <a:xfrm>
                        <a:off x="7710480" y="5345280"/>
                        <a:ext cx="183960" cy="336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8" name=""/>
                      <p:cNvSpPr/>
                      <p:nvPr/>
                    </p:nvSpPr>
                    <p:spPr>
                      <a:xfrm>
                        <a:off x="7568280" y="5535720"/>
                        <a:ext cx="50688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Vc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9" name=""/>
                      <p:cNvSpPr/>
                      <p:nvPr/>
                    </p:nvSpPr>
                    <p:spPr>
                      <a:xfrm>
                        <a:off x="7567560" y="5878800"/>
                        <a:ext cx="42912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V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80" name=""/>
                    <p:cNvSpPr/>
                    <p:nvPr/>
                  </p:nvSpPr>
                  <p:spPr>
                    <a:xfrm>
                      <a:off x="8240760" y="6116400"/>
                      <a:ext cx="2372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1" name=""/>
                    <p:cNvSpPr/>
                    <p:nvPr/>
                  </p:nvSpPr>
                  <p:spPr>
                    <a:xfrm>
                      <a:off x="7593480" y="5354640"/>
                      <a:ext cx="282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82" name=""/>
                  <p:cNvSpPr/>
                  <p:nvPr/>
                </p:nvSpPr>
                <p:spPr>
                  <a:xfrm>
                    <a:off x="7110720" y="5640480"/>
                    <a:ext cx="41040" cy="190800"/>
                  </a:xfrm>
                  <a:prstGeom prst="line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3" name=""/>
                  <p:cNvSpPr/>
                  <p:nvPr/>
                </p:nvSpPr>
                <p:spPr>
                  <a:xfrm flipH="1">
                    <a:off x="7936920" y="5640480"/>
                    <a:ext cx="41040" cy="190800"/>
                  </a:xfrm>
                  <a:prstGeom prst="line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84" name=""/>
              <p:cNvGrpSpPr/>
              <p:nvPr/>
            </p:nvGrpSpPr>
            <p:grpSpPr>
              <a:xfrm>
                <a:off x="6480000" y="2716200"/>
                <a:ext cx="1902960" cy="1175400"/>
                <a:chOff x="6480000" y="2716200"/>
                <a:chExt cx="1902960" cy="1175400"/>
              </a:xfrm>
            </p:grpSpPr>
            <p:sp>
              <p:nvSpPr>
                <p:cNvPr id="3185" name=""/>
                <p:cNvSpPr/>
                <p:nvPr/>
              </p:nvSpPr>
              <p:spPr>
                <a:xfrm>
                  <a:off x="6480000" y="2812320"/>
                  <a:ext cx="1899000" cy="876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86" name=""/>
                <p:cNvGrpSpPr/>
                <p:nvPr/>
              </p:nvGrpSpPr>
              <p:grpSpPr>
                <a:xfrm>
                  <a:off x="6563520" y="2716200"/>
                  <a:ext cx="911520" cy="1175400"/>
                  <a:chOff x="6563520" y="2716200"/>
                  <a:chExt cx="911520" cy="1175400"/>
                </a:xfrm>
              </p:grpSpPr>
              <p:grpSp>
                <p:nvGrpSpPr>
                  <p:cNvPr id="3187" name=""/>
                  <p:cNvGrpSpPr/>
                  <p:nvPr/>
                </p:nvGrpSpPr>
                <p:grpSpPr>
                  <a:xfrm>
                    <a:off x="6803640" y="3108600"/>
                    <a:ext cx="450360" cy="360000"/>
                    <a:chOff x="6803640" y="3108600"/>
                    <a:chExt cx="450360" cy="360000"/>
                  </a:xfrm>
                </p:grpSpPr>
                <p:sp>
                  <p:nvSpPr>
                    <p:cNvPr id="3188" name=""/>
                    <p:cNvSpPr/>
                    <p:nvPr/>
                  </p:nvSpPr>
                  <p:spPr>
                    <a:xfrm>
                      <a:off x="6812640" y="3468600"/>
                      <a:ext cx="939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9" name=""/>
                    <p:cNvSpPr/>
                    <p:nvPr/>
                  </p:nvSpPr>
                  <p:spPr>
                    <a:xfrm>
                      <a:off x="7142400" y="3108960"/>
                      <a:ext cx="939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190" name=""/>
                    <p:cNvGrpSpPr/>
                    <p:nvPr/>
                  </p:nvGrpSpPr>
                  <p:grpSpPr>
                    <a:xfrm>
                      <a:off x="6803640" y="3108600"/>
                      <a:ext cx="450360" cy="358920"/>
                      <a:chOff x="6803640" y="3108600"/>
                      <a:chExt cx="450360" cy="358920"/>
                    </a:xfrm>
                  </p:grpSpPr>
                  <p:sp>
                    <p:nvSpPr>
                      <p:cNvPr id="3191" name=""/>
                      <p:cNvSpPr/>
                      <p:nvPr/>
                    </p:nvSpPr>
                    <p:spPr>
                      <a:xfrm flipV="1">
                        <a:off x="6803640" y="3108240"/>
                        <a:ext cx="22536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2" name=""/>
                      <p:cNvSpPr/>
                      <p:nvPr/>
                    </p:nvSpPr>
                    <p:spPr>
                      <a:xfrm flipV="1" rot="10800000">
                        <a:off x="7029360" y="3108240"/>
                        <a:ext cx="22464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193" name=""/>
                  <p:cNvGrpSpPr/>
                  <p:nvPr/>
                </p:nvGrpSpPr>
                <p:grpSpPr>
                  <a:xfrm>
                    <a:off x="6563520" y="2716200"/>
                    <a:ext cx="795240" cy="1107000"/>
                    <a:chOff x="6563520" y="2716200"/>
                    <a:chExt cx="795240" cy="1107000"/>
                  </a:xfrm>
                </p:grpSpPr>
                <p:grpSp>
                  <p:nvGrpSpPr>
                    <p:cNvPr id="3194" name=""/>
                    <p:cNvGrpSpPr/>
                    <p:nvPr/>
                  </p:nvGrpSpPr>
                  <p:grpSpPr>
                    <a:xfrm>
                      <a:off x="6563520" y="2716200"/>
                      <a:ext cx="795240" cy="1107000"/>
                      <a:chOff x="6563520" y="2716200"/>
                      <a:chExt cx="795240" cy="1107000"/>
                    </a:xfrm>
                  </p:grpSpPr>
                  <p:sp>
                    <p:nvSpPr>
                      <p:cNvPr id="3195" name=""/>
                      <p:cNvSpPr/>
                      <p:nvPr/>
                    </p:nvSpPr>
                    <p:spPr>
                      <a:xfrm>
                        <a:off x="6812640" y="2854080"/>
                        <a:ext cx="0" cy="63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6" name=""/>
                      <p:cNvSpPr/>
                      <p:nvPr/>
                    </p:nvSpPr>
                    <p:spPr>
                      <a:xfrm>
                        <a:off x="6793560" y="3462120"/>
                        <a:ext cx="5652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7" name=""/>
                      <p:cNvSpPr/>
                      <p:nvPr/>
                    </p:nvSpPr>
                    <p:spPr>
                      <a:xfrm>
                        <a:off x="6793560" y="3088440"/>
                        <a:ext cx="54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8" name=""/>
                      <p:cNvSpPr/>
                      <p:nvPr/>
                    </p:nvSpPr>
                    <p:spPr>
                      <a:xfrm>
                        <a:off x="6711840" y="2716200"/>
                        <a:ext cx="183960" cy="33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9" name=""/>
                      <p:cNvSpPr/>
                      <p:nvPr/>
                    </p:nvSpPr>
                    <p:spPr>
                      <a:xfrm>
                        <a:off x="6563520" y="3074760"/>
                        <a:ext cx="42912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V1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0" name=""/>
                      <p:cNvSpPr/>
                      <p:nvPr/>
                    </p:nvSpPr>
                    <p:spPr>
                      <a:xfrm>
                        <a:off x="6604920" y="3485880"/>
                        <a:ext cx="61956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GND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01" name=""/>
                    <p:cNvGrpSpPr/>
                    <p:nvPr/>
                  </p:nvGrpSpPr>
                  <p:grpSpPr>
                    <a:xfrm>
                      <a:off x="6801120" y="3102120"/>
                      <a:ext cx="450360" cy="359640"/>
                      <a:chOff x="6801120" y="3102120"/>
                      <a:chExt cx="450360" cy="359640"/>
                    </a:xfrm>
                  </p:grpSpPr>
                  <p:sp>
                    <p:nvSpPr>
                      <p:cNvPr id="3202" name=""/>
                      <p:cNvSpPr/>
                      <p:nvPr/>
                    </p:nvSpPr>
                    <p:spPr>
                      <a:xfrm>
                        <a:off x="6810120" y="3461760"/>
                        <a:ext cx="939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3" name=""/>
                      <p:cNvSpPr/>
                      <p:nvPr/>
                    </p:nvSpPr>
                    <p:spPr>
                      <a:xfrm>
                        <a:off x="7139880" y="3102480"/>
                        <a:ext cx="939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04" name=""/>
                      <p:cNvGrpSpPr/>
                      <p:nvPr/>
                    </p:nvGrpSpPr>
                    <p:grpSpPr>
                      <a:xfrm>
                        <a:off x="6801120" y="3102120"/>
                        <a:ext cx="450360" cy="358920"/>
                        <a:chOff x="6801120" y="3102120"/>
                        <a:chExt cx="450360" cy="358920"/>
                      </a:xfrm>
                    </p:grpSpPr>
                    <p:sp>
                      <p:nvSpPr>
                        <p:cNvPr id="3205" name=""/>
                        <p:cNvSpPr/>
                        <p:nvPr/>
                      </p:nvSpPr>
                      <p:spPr>
                        <a:xfrm flipV="1">
                          <a:off x="6801120" y="3101760"/>
                          <a:ext cx="225360" cy="358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9864" y="41"/>
                              </a:moveTo>
                              <a:arcTo wR="10800" hR="10800" stAng="-5698349" swAng="5698349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9864" y="41"/>
                              </a:moveTo>
                              <a:arcTo wR="10800" hR="10800" stAng="-5698349" swAng="5698349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06" name=""/>
                        <p:cNvSpPr/>
                        <p:nvPr/>
                      </p:nvSpPr>
                      <p:spPr>
                        <a:xfrm flipV="1" rot="10800000">
                          <a:off x="7026840" y="3101760"/>
                          <a:ext cx="224640" cy="358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3207" name=""/>
                  <p:cNvSpPr/>
                  <p:nvPr/>
                </p:nvSpPr>
                <p:spPr>
                  <a:xfrm>
                    <a:off x="6590520" y="2830320"/>
                    <a:ext cx="2829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8" name=""/>
                  <p:cNvSpPr/>
                  <p:nvPr/>
                </p:nvSpPr>
                <p:spPr>
                  <a:xfrm>
                    <a:off x="7237800" y="3554280"/>
                    <a:ext cx="2372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9" name=""/>
                <p:cNvGrpSpPr/>
                <p:nvPr/>
              </p:nvGrpSpPr>
              <p:grpSpPr>
                <a:xfrm>
                  <a:off x="7471800" y="2716200"/>
                  <a:ext cx="911160" cy="1175040"/>
                  <a:chOff x="7471800" y="2716200"/>
                  <a:chExt cx="911160" cy="1175040"/>
                </a:xfrm>
              </p:grpSpPr>
              <p:grpSp>
                <p:nvGrpSpPr>
                  <p:cNvPr id="3210" name=""/>
                  <p:cNvGrpSpPr/>
                  <p:nvPr/>
                </p:nvGrpSpPr>
                <p:grpSpPr>
                  <a:xfrm>
                    <a:off x="7471800" y="2716200"/>
                    <a:ext cx="794880" cy="1107000"/>
                    <a:chOff x="7471800" y="2716200"/>
                    <a:chExt cx="794880" cy="1107000"/>
                  </a:xfrm>
                </p:grpSpPr>
                <p:sp>
                  <p:nvSpPr>
                    <p:cNvPr id="3211" name=""/>
                    <p:cNvSpPr/>
                    <p:nvPr/>
                  </p:nvSpPr>
                  <p:spPr>
                    <a:xfrm>
                      <a:off x="7720920" y="2854080"/>
                      <a:ext cx="0" cy="63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2" name=""/>
                    <p:cNvSpPr/>
                    <p:nvPr/>
                  </p:nvSpPr>
                  <p:spPr>
                    <a:xfrm>
                      <a:off x="7701840" y="3462120"/>
                      <a:ext cx="5648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3" name=""/>
                    <p:cNvSpPr/>
                    <p:nvPr/>
                  </p:nvSpPr>
                  <p:spPr>
                    <a:xfrm>
                      <a:off x="7701840" y="3088440"/>
                      <a:ext cx="54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4" name=""/>
                    <p:cNvSpPr/>
                    <p:nvPr/>
                  </p:nvSpPr>
                  <p:spPr>
                    <a:xfrm>
                      <a:off x="7619400" y="2716200"/>
                      <a:ext cx="1846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5" name=""/>
                    <p:cNvSpPr/>
                    <p:nvPr/>
                  </p:nvSpPr>
                  <p:spPr>
                    <a:xfrm>
                      <a:off x="7471800" y="3074760"/>
                      <a:ext cx="42912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6" name=""/>
                    <p:cNvSpPr/>
                    <p:nvPr/>
                  </p:nvSpPr>
                  <p:spPr>
                    <a:xfrm>
                      <a:off x="7513200" y="3485880"/>
                      <a:ext cx="6195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7" name=""/>
                  <p:cNvGrpSpPr/>
                  <p:nvPr/>
                </p:nvGrpSpPr>
                <p:grpSpPr>
                  <a:xfrm>
                    <a:off x="7498800" y="2830320"/>
                    <a:ext cx="884160" cy="1060920"/>
                    <a:chOff x="7498800" y="2830320"/>
                    <a:chExt cx="884160" cy="1060920"/>
                  </a:xfrm>
                </p:grpSpPr>
                <p:grpSp>
                  <p:nvGrpSpPr>
                    <p:cNvPr id="3218" name=""/>
                    <p:cNvGrpSpPr/>
                    <p:nvPr/>
                  </p:nvGrpSpPr>
                  <p:grpSpPr>
                    <a:xfrm>
                      <a:off x="7706160" y="3087000"/>
                      <a:ext cx="299880" cy="360000"/>
                      <a:chOff x="7706160" y="3087000"/>
                      <a:chExt cx="299880" cy="360000"/>
                    </a:xfrm>
                  </p:grpSpPr>
                  <p:sp>
                    <p:nvSpPr>
                      <p:cNvPr id="3219" name=""/>
                      <p:cNvSpPr/>
                      <p:nvPr/>
                    </p:nvSpPr>
                    <p:spPr>
                      <a:xfrm>
                        <a:off x="7938000" y="3447000"/>
                        <a:ext cx="626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20" name=""/>
                      <p:cNvGrpSpPr/>
                      <p:nvPr/>
                    </p:nvGrpSpPr>
                    <p:grpSpPr>
                      <a:xfrm>
                        <a:off x="7706160" y="3087000"/>
                        <a:ext cx="299880" cy="358920"/>
                        <a:chOff x="7706160" y="3087000"/>
                        <a:chExt cx="299880" cy="358920"/>
                      </a:xfrm>
                    </p:grpSpPr>
                    <p:sp>
                      <p:nvSpPr>
                        <p:cNvPr id="3221" name=""/>
                        <p:cNvSpPr/>
                        <p:nvPr/>
                      </p:nvSpPr>
                      <p:spPr>
                        <a:xfrm flipH="1" flipV="1">
                          <a:off x="7856280" y="3086640"/>
                          <a:ext cx="149760" cy="358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9864" y="41"/>
                              </a:moveTo>
                              <a:arcTo wR="10800" hR="10800" stAng="-5698349" swAng="5698349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9864" y="41"/>
                              </a:moveTo>
                              <a:arcTo wR="10800" hR="10800" stAng="-5698349" swAng="5698349"/>
                            </a:path>
                          </a:pathLst>
                        </a:cu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22" name=""/>
                        <p:cNvSpPr/>
                        <p:nvPr/>
                      </p:nvSpPr>
                      <p:spPr>
                        <a:xfrm flipH="1" flipV="1" rot="10800000">
                          <a:off x="7706160" y="3086640"/>
                          <a:ext cx="149760" cy="358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223" name=""/>
                      <p:cNvSpPr/>
                      <p:nvPr/>
                    </p:nvSpPr>
                    <p:spPr>
                      <a:xfrm>
                        <a:off x="7718040" y="3087360"/>
                        <a:ext cx="626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24" name=""/>
                    <p:cNvSpPr/>
                    <p:nvPr/>
                  </p:nvSpPr>
                  <p:spPr>
                    <a:xfrm>
                      <a:off x="7498800" y="2830320"/>
                      <a:ext cx="282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5" name=""/>
                    <p:cNvSpPr/>
                    <p:nvPr/>
                  </p:nvSpPr>
                  <p:spPr>
                    <a:xfrm>
                      <a:off x="8145720" y="3553920"/>
                      <a:ext cx="2372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226" name=""/>
                <p:cNvSpPr/>
                <p:nvPr/>
              </p:nvSpPr>
              <p:spPr>
                <a:xfrm>
                  <a:off x="7842240" y="3193200"/>
                  <a:ext cx="41040" cy="1904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 flipH="1">
                  <a:off x="7016400" y="3193200"/>
                  <a:ext cx="41040" cy="1904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28" name=""/>
            <p:cNvSpPr/>
            <p:nvPr/>
          </p:nvSpPr>
          <p:spPr>
            <a:xfrm>
              <a:off x="6896160" y="27864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9" name=""/>
          <p:cNvGrpSpPr/>
          <p:nvPr/>
        </p:nvGrpSpPr>
        <p:grpSpPr>
          <a:xfrm>
            <a:off x="7810560" y="196200"/>
            <a:ext cx="1114200" cy="694440"/>
            <a:chOff x="7810560" y="196200"/>
            <a:chExt cx="1114200" cy="694440"/>
          </a:xfrm>
        </p:grpSpPr>
        <p:sp>
          <p:nvSpPr>
            <p:cNvPr id="3230" name=""/>
            <p:cNvSpPr/>
            <p:nvPr/>
          </p:nvSpPr>
          <p:spPr>
            <a:xfrm>
              <a:off x="7810560" y="196200"/>
              <a:ext cx="1114200" cy="43956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GTL-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1" name=""/>
            <p:cNvGrpSpPr/>
            <p:nvPr/>
          </p:nvGrpSpPr>
          <p:grpSpPr>
            <a:xfrm>
              <a:off x="8107200" y="637920"/>
              <a:ext cx="610560" cy="252720"/>
              <a:chOff x="8107200" y="637920"/>
              <a:chExt cx="610560" cy="252720"/>
            </a:xfrm>
          </p:grpSpPr>
          <p:grpSp>
            <p:nvGrpSpPr>
              <p:cNvPr id="3232" name=""/>
              <p:cNvGrpSpPr/>
              <p:nvPr/>
            </p:nvGrpSpPr>
            <p:grpSpPr>
              <a:xfrm>
                <a:off x="8107200" y="730440"/>
                <a:ext cx="610560" cy="160200"/>
                <a:chOff x="8107200" y="730440"/>
                <a:chExt cx="610560" cy="160200"/>
              </a:xfrm>
            </p:grpSpPr>
            <p:grpSp>
              <p:nvGrpSpPr>
                <p:cNvPr id="3233" name=""/>
                <p:cNvGrpSpPr/>
                <p:nvPr/>
              </p:nvGrpSpPr>
              <p:grpSpPr>
                <a:xfrm>
                  <a:off x="8107200" y="851040"/>
                  <a:ext cx="610560" cy="39600"/>
                  <a:chOff x="8107200" y="851040"/>
                  <a:chExt cx="610560" cy="39600"/>
                </a:xfrm>
              </p:grpSpPr>
              <p:sp>
                <p:nvSpPr>
                  <p:cNvPr id="3234" name=""/>
                  <p:cNvSpPr/>
                  <p:nvPr/>
                </p:nvSpPr>
                <p:spPr>
                  <a:xfrm>
                    <a:off x="820908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5" name=""/>
                  <p:cNvSpPr/>
                  <p:nvPr/>
                </p:nvSpPr>
                <p:spPr>
                  <a:xfrm>
                    <a:off x="841284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6" name=""/>
                  <p:cNvSpPr/>
                  <p:nvPr/>
                </p:nvSpPr>
                <p:spPr>
                  <a:xfrm>
                    <a:off x="851472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7" name=""/>
                  <p:cNvSpPr/>
                  <p:nvPr/>
                </p:nvSpPr>
                <p:spPr>
                  <a:xfrm>
                    <a:off x="861660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8" name=""/>
                  <p:cNvSpPr/>
                  <p:nvPr/>
                </p:nvSpPr>
                <p:spPr>
                  <a:xfrm>
                    <a:off x="831096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9" name=""/>
                  <p:cNvSpPr/>
                  <p:nvPr/>
                </p:nvSpPr>
                <p:spPr>
                  <a:xfrm>
                    <a:off x="8107200" y="8510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0" name=""/>
                <p:cNvGrpSpPr/>
                <p:nvPr/>
              </p:nvGrpSpPr>
              <p:grpSpPr>
                <a:xfrm>
                  <a:off x="8158320" y="810720"/>
                  <a:ext cx="508680" cy="39600"/>
                  <a:chOff x="8158320" y="810720"/>
                  <a:chExt cx="508680" cy="39600"/>
                </a:xfrm>
              </p:grpSpPr>
              <p:sp>
                <p:nvSpPr>
                  <p:cNvPr id="3241" name=""/>
                  <p:cNvSpPr/>
                  <p:nvPr/>
                </p:nvSpPr>
                <p:spPr>
                  <a:xfrm>
                    <a:off x="815832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2" name=""/>
                  <p:cNvSpPr/>
                  <p:nvPr/>
                </p:nvSpPr>
                <p:spPr>
                  <a:xfrm>
                    <a:off x="836208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3" name=""/>
                  <p:cNvSpPr/>
                  <p:nvPr/>
                </p:nvSpPr>
                <p:spPr>
                  <a:xfrm>
                    <a:off x="846396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4" name=""/>
                  <p:cNvSpPr/>
                  <p:nvPr/>
                </p:nvSpPr>
                <p:spPr>
                  <a:xfrm>
                    <a:off x="856584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5" name=""/>
                  <p:cNvSpPr/>
                  <p:nvPr/>
                </p:nvSpPr>
                <p:spPr>
                  <a:xfrm>
                    <a:off x="8260200" y="8107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6" name=""/>
                <p:cNvGrpSpPr/>
                <p:nvPr/>
              </p:nvGrpSpPr>
              <p:grpSpPr>
                <a:xfrm>
                  <a:off x="8209080" y="730440"/>
                  <a:ext cx="406800" cy="79560"/>
                  <a:chOff x="8209080" y="730440"/>
                  <a:chExt cx="406800" cy="79560"/>
                </a:xfrm>
              </p:grpSpPr>
              <p:sp>
                <p:nvSpPr>
                  <p:cNvPr id="3247" name=""/>
                  <p:cNvSpPr/>
                  <p:nvPr/>
                </p:nvSpPr>
                <p:spPr>
                  <a:xfrm>
                    <a:off x="8310960" y="77040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8" name=""/>
                  <p:cNvSpPr/>
                  <p:nvPr/>
                </p:nvSpPr>
                <p:spPr>
                  <a:xfrm>
                    <a:off x="8514720" y="77040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9" name=""/>
                  <p:cNvSpPr/>
                  <p:nvPr/>
                </p:nvSpPr>
                <p:spPr>
                  <a:xfrm>
                    <a:off x="8412840" y="77040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0" name=""/>
                  <p:cNvSpPr/>
                  <p:nvPr/>
                </p:nvSpPr>
                <p:spPr>
                  <a:xfrm>
                    <a:off x="8209080" y="77040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1" name=""/>
                  <p:cNvSpPr/>
                  <p:nvPr/>
                </p:nvSpPr>
                <p:spPr>
                  <a:xfrm>
                    <a:off x="8260200" y="7304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2" name=""/>
                  <p:cNvSpPr/>
                  <p:nvPr/>
                </p:nvSpPr>
                <p:spPr>
                  <a:xfrm>
                    <a:off x="8463960" y="7304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3" name=""/>
                  <p:cNvSpPr/>
                  <p:nvPr/>
                </p:nvSpPr>
                <p:spPr>
                  <a:xfrm>
                    <a:off x="8362080" y="7304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54" name=""/>
              <p:cNvGrpSpPr/>
              <p:nvPr/>
            </p:nvGrpSpPr>
            <p:grpSpPr>
              <a:xfrm>
                <a:off x="8337600" y="730440"/>
                <a:ext cx="151920" cy="159840"/>
                <a:chOff x="8337600" y="730440"/>
                <a:chExt cx="151920" cy="159840"/>
              </a:xfrm>
            </p:grpSpPr>
            <p:grpSp>
              <p:nvGrpSpPr>
                <p:cNvPr id="3255" name=""/>
                <p:cNvGrpSpPr/>
                <p:nvPr/>
              </p:nvGrpSpPr>
              <p:grpSpPr>
                <a:xfrm>
                  <a:off x="8337600" y="851040"/>
                  <a:ext cx="151920" cy="39240"/>
                  <a:chOff x="8337600" y="851040"/>
                  <a:chExt cx="151920" cy="39240"/>
                </a:xfrm>
              </p:grpSpPr>
              <p:sp>
                <p:nvSpPr>
                  <p:cNvPr id="3256" name=""/>
                  <p:cNvSpPr/>
                  <p:nvPr/>
                </p:nvSpPr>
                <p:spPr>
                  <a:xfrm>
                    <a:off x="8343720" y="864000"/>
                    <a:ext cx="139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7" name=""/>
                  <p:cNvSpPr/>
                  <p:nvPr/>
                </p:nvSpPr>
                <p:spPr>
                  <a:xfrm>
                    <a:off x="8337600" y="876960"/>
                    <a:ext cx="151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8" name=""/>
                  <p:cNvSpPr/>
                  <p:nvPr/>
                </p:nvSpPr>
                <p:spPr>
                  <a:xfrm>
                    <a:off x="8350200" y="851040"/>
                    <a:ext cx="126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9" name=""/>
                <p:cNvGrpSpPr/>
                <p:nvPr/>
              </p:nvGrpSpPr>
              <p:grpSpPr>
                <a:xfrm>
                  <a:off x="8356320" y="810720"/>
                  <a:ext cx="114120" cy="39240"/>
                  <a:chOff x="8356320" y="810720"/>
                  <a:chExt cx="114120" cy="39240"/>
                </a:xfrm>
              </p:grpSpPr>
              <p:sp>
                <p:nvSpPr>
                  <p:cNvPr id="3260" name=""/>
                  <p:cNvSpPr/>
                  <p:nvPr/>
                </p:nvSpPr>
                <p:spPr>
                  <a:xfrm>
                    <a:off x="8361000" y="82368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1" name=""/>
                  <p:cNvSpPr/>
                  <p:nvPr/>
                </p:nvSpPr>
                <p:spPr>
                  <a:xfrm>
                    <a:off x="8356320" y="83664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2" name=""/>
                  <p:cNvSpPr/>
                  <p:nvPr/>
                </p:nvSpPr>
                <p:spPr>
                  <a:xfrm>
                    <a:off x="8365680" y="81072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3" name=""/>
                <p:cNvGrpSpPr/>
                <p:nvPr/>
              </p:nvGrpSpPr>
              <p:grpSpPr>
                <a:xfrm>
                  <a:off x="8369280" y="770400"/>
                  <a:ext cx="88560" cy="39240"/>
                  <a:chOff x="8369280" y="770400"/>
                  <a:chExt cx="88560" cy="39240"/>
                </a:xfrm>
              </p:grpSpPr>
              <p:sp>
                <p:nvSpPr>
                  <p:cNvPr id="3264" name=""/>
                  <p:cNvSpPr/>
                  <p:nvPr/>
                </p:nvSpPr>
                <p:spPr>
                  <a:xfrm>
                    <a:off x="8372880" y="783360"/>
                    <a:ext cx="81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5" name=""/>
                  <p:cNvSpPr/>
                  <p:nvPr/>
                </p:nvSpPr>
                <p:spPr>
                  <a:xfrm>
                    <a:off x="8369280" y="796320"/>
                    <a:ext cx="885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6" name=""/>
                  <p:cNvSpPr/>
                  <p:nvPr/>
                </p:nvSpPr>
                <p:spPr>
                  <a:xfrm>
                    <a:off x="8376480" y="770400"/>
                    <a:ext cx="738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7" name=""/>
                <p:cNvGrpSpPr/>
                <p:nvPr/>
              </p:nvGrpSpPr>
              <p:grpSpPr>
                <a:xfrm>
                  <a:off x="8381880" y="730440"/>
                  <a:ext cx="63360" cy="39240"/>
                  <a:chOff x="8381880" y="730440"/>
                  <a:chExt cx="63360" cy="39240"/>
                </a:xfrm>
              </p:grpSpPr>
              <p:sp>
                <p:nvSpPr>
                  <p:cNvPr id="3268" name=""/>
                  <p:cNvSpPr/>
                  <p:nvPr/>
                </p:nvSpPr>
                <p:spPr>
                  <a:xfrm>
                    <a:off x="8384400" y="74340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9" name=""/>
                  <p:cNvSpPr/>
                  <p:nvPr/>
                </p:nvSpPr>
                <p:spPr>
                  <a:xfrm>
                    <a:off x="8381880" y="75636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0" name=""/>
                  <p:cNvSpPr/>
                  <p:nvPr/>
                </p:nvSpPr>
                <p:spPr>
                  <a:xfrm>
                    <a:off x="8386920" y="73044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71" name=""/>
              <p:cNvSpPr/>
              <p:nvPr/>
            </p:nvSpPr>
            <p:spPr>
              <a:xfrm>
                <a:off x="8286120" y="682200"/>
                <a:ext cx="253080" cy="47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2" name=""/>
              <p:cNvGrpSpPr/>
              <p:nvPr/>
            </p:nvGrpSpPr>
            <p:grpSpPr>
              <a:xfrm>
                <a:off x="8321040" y="700200"/>
                <a:ext cx="183240" cy="28440"/>
                <a:chOff x="8321040" y="700200"/>
                <a:chExt cx="183240" cy="28440"/>
              </a:xfrm>
            </p:grpSpPr>
            <p:sp>
              <p:nvSpPr>
                <p:cNvPr id="3273" name=""/>
                <p:cNvSpPr/>
                <p:nvPr/>
              </p:nvSpPr>
              <p:spPr>
                <a:xfrm>
                  <a:off x="832104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>
                  <a:off x="836100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>
                  <a:off x="847908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843876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>
                  <a:off x="8399520" y="70020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8" name=""/>
              <p:cNvSpPr/>
              <p:nvPr/>
            </p:nvSpPr>
            <p:spPr>
              <a:xfrm>
                <a:off x="8278560" y="677880"/>
                <a:ext cx="26784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V="1">
                <a:off x="8283960" y="645120"/>
                <a:ext cx="257400" cy="32040"/>
              </a:xfrm>
              <a:custGeom>
                <a:avLst/>
                <a:gdLst>
                  <a:gd name="textAreaLeft" fmla="*/ 26640 w 257400"/>
                  <a:gd name="textAreaRight" fmla="*/ 230760 w 25740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8291880" y="637920"/>
                <a:ext cx="24048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282" name=""/>
          <p:cNvGrpSpPr/>
          <p:nvPr/>
        </p:nvGrpSpPr>
        <p:grpSpPr>
          <a:xfrm>
            <a:off x="2416320" y="722160"/>
            <a:ext cx="3992400" cy="5502600"/>
            <a:chOff x="2416320" y="722160"/>
            <a:chExt cx="3992400" cy="5502600"/>
          </a:xfrm>
        </p:grpSpPr>
        <p:pic>
          <p:nvPicPr>
            <p:cNvPr id="3283" name="" descr=""/>
            <p:cNvPicPr/>
            <p:nvPr/>
          </p:nvPicPr>
          <p:blipFill>
            <a:blip r:embed="rId1"/>
            <a:stretch/>
          </p:blipFill>
          <p:spPr>
            <a:xfrm>
              <a:off x="3298680" y="2200320"/>
              <a:ext cx="311004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4" name=""/>
            <p:cNvGrpSpPr/>
            <p:nvPr/>
          </p:nvGrpSpPr>
          <p:grpSpPr>
            <a:xfrm>
              <a:off x="2416320" y="722160"/>
              <a:ext cx="3946320" cy="4823280"/>
              <a:chOff x="2416320" y="722160"/>
              <a:chExt cx="3946320" cy="4823280"/>
            </a:xfrm>
          </p:grpSpPr>
          <p:sp>
            <p:nvSpPr>
              <p:cNvPr id="3285" name=""/>
              <p:cNvSpPr/>
              <p:nvPr/>
            </p:nvSpPr>
            <p:spPr>
              <a:xfrm>
                <a:off x="4118040" y="1915560"/>
                <a:ext cx="577800" cy="6397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pPr algn="ctr"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2416320" y="1033560"/>
                <a:ext cx="2954160" cy="674640"/>
              </a:xfrm>
              <a:prstGeom prst="ellipse">
                <a:avLst/>
              </a:prstGeom>
              <a:noFill/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7" name=""/>
              <p:cNvGrpSpPr/>
              <p:nvPr/>
            </p:nvGrpSpPr>
            <p:grpSpPr>
              <a:xfrm>
                <a:off x="3211560" y="2268000"/>
                <a:ext cx="3151080" cy="3277440"/>
                <a:chOff x="3211560" y="2268000"/>
                <a:chExt cx="3151080" cy="3277440"/>
              </a:xfrm>
            </p:grpSpPr>
            <p:sp>
              <p:nvSpPr>
                <p:cNvPr id="3288" name=""/>
                <p:cNvSpPr/>
                <p:nvPr/>
              </p:nvSpPr>
              <p:spPr>
                <a:xfrm>
                  <a:off x="5653080" y="4852800"/>
                  <a:ext cx="0" cy="13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4427280" y="4865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5043240" y="4865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91" name=""/>
                <p:cNvGrpSpPr/>
                <p:nvPr/>
              </p:nvGrpSpPr>
              <p:grpSpPr>
                <a:xfrm>
                  <a:off x="3211560" y="2268000"/>
                  <a:ext cx="3151080" cy="3277440"/>
                  <a:chOff x="3211560" y="2268000"/>
                  <a:chExt cx="3151080" cy="3277440"/>
                </a:xfrm>
              </p:grpSpPr>
              <p:sp>
                <p:nvSpPr>
                  <p:cNvPr id="3292" name=""/>
                  <p:cNvSpPr/>
                  <p:nvPr/>
                </p:nvSpPr>
                <p:spPr>
                  <a:xfrm>
                    <a:off x="3711600" y="5184360"/>
                    <a:ext cx="2651040" cy="36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t">
                    <a:spAutoFit/>
                  </a:bodyPr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0      1.6     3.2     4.8  n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93" name=""/>
                  <p:cNvGrpSpPr/>
                  <p:nvPr/>
                </p:nvGrpSpPr>
                <p:grpSpPr>
                  <a:xfrm>
                    <a:off x="3211560" y="2268000"/>
                    <a:ext cx="2552400" cy="3146040"/>
                    <a:chOff x="3211560" y="2268000"/>
                    <a:chExt cx="2552400" cy="3146040"/>
                  </a:xfrm>
                </p:grpSpPr>
                <p:grpSp>
                  <p:nvGrpSpPr>
                    <p:cNvPr id="3294" name=""/>
                    <p:cNvGrpSpPr/>
                    <p:nvPr/>
                  </p:nvGrpSpPr>
                  <p:grpSpPr>
                    <a:xfrm>
                      <a:off x="3794040" y="4849560"/>
                      <a:ext cx="1969920" cy="142560"/>
                      <a:chOff x="3794040" y="4849560"/>
                      <a:chExt cx="1969920" cy="142560"/>
                    </a:xfrm>
                  </p:grpSpPr>
                  <p:sp>
                    <p:nvSpPr>
                      <p:cNvPr id="3295" name=""/>
                      <p:cNvSpPr/>
                      <p:nvPr/>
                    </p:nvSpPr>
                    <p:spPr>
                      <a:xfrm>
                        <a:off x="3794040" y="4917240"/>
                        <a:ext cx="1969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6" name=""/>
                      <p:cNvSpPr/>
                      <p:nvPr/>
                    </p:nvSpPr>
                    <p:spPr>
                      <a:xfrm>
                        <a:off x="5045040" y="486432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7" name=""/>
                      <p:cNvSpPr/>
                      <p:nvPr/>
                    </p:nvSpPr>
                    <p:spPr>
                      <a:xfrm>
                        <a:off x="4106880" y="486432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8" name=""/>
                      <p:cNvSpPr/>
                      <p:nvPr/>
                    </p:nvSpPr>
                    <p:spPr>
                      <a:xfrm>
                        <a:off x="4735440" y="484956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9" name=""/>
                      <p:cNvSpPr/>
                      <p:nvPr/>
                    </p:nvSpPr>
                    <p:spPr>
                      <a:xfrm>
                        <a:off x="4425840" y="485676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00" name=""/>
                      <p:cNvSpPr/>
                      <p:nvPr/>
                    </p:nvSpPr>
                    <p:spPr>
                      <a:xfrm>
                        <a:off x="5361480" y="484956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01" name=""/>
                    <p:cNvGrpSpPr/>
                    <p:nvPr/>
                  </p:nvGrpSpPr>
                  <p:grpSpPr>
                    <a:xfrm>
                      <a:off x="3738600" y="2268000"/>
                      <a:ext cx="186840" cy="3146040"/>
                      <a:chOff x="3738600" y="2268000"/>
                      <a:chExt cx="186840" cy="3146040"/>
                    </a:xfrm>
                  </p:grpSpPr>
                  <p:sp>
                    <p:nvSpPr>
                      <p:cNvPr id="3302" name=""/>
                      <p:cNvSpPr/>
                      <p:nvPr/>
                    </p:nvSpPr>
                    <p:spPr>
                      <a:xfrm flipV="1">
                        <a:off x="3826440" y="2268000"/>
                        <a:ext cx="0" cy="3146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03" name=""/>
                      <p:cNvSpPr/>
                      <p:nvPr/>
                    </p:nvSpPr>
                    <p:spPr>
                      <a:xfrm>
                        <a:off x="3754440" y="4032000"/>
                        <a:ext cx="171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04" name=""/>
                      <p:cNvSpPr/>
                      <p:nvPr/>
                    </p:nvSpPr>
                    <p:spPr>
                      <a:xfrm>
                        <a:off x="3743640" y="2784960"/>
                        <a:ext cx="171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05" name=""/>
                      <p:cNvSpPr/>
                      <p:nvPr/>
                    </p:nvSpPr>
                    <p:spPr>
                      <a:xfrm>
                        <a:off x="3738600" y="3414240"/>
                        <a:ext cx="171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06" name=""/>
                    <p:cNvSpPr/>
                    <p:nvPr/>
                  </p:nvSpPr>
                  <p:spPr>
                    <a:xfrm>
                      <a:off x="3732120" y="4606560"/>
                      <a:ext cx="1332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7" name=""/>
                    <p:cNvSpPr/>
                    <p:nvPr/>
                  </p:nvSpPr>
                  <p:spPr>
                    <a:xfrm>
                      <a:off x="3757320" y="4017600"/>
                      <a:ext cx="1335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8" name=""/>
                    <p:cNvSpPr/>
                    <p:nvPr/>
                  </p:nvSpPr>
                  <p:spPr>
                    <a:xfrm>
                      <a:off x="3760560" y="3401640"/>
                      <a:ext cx="1335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9" name=""/>
                    <p:cNvSpPr/>
                    <p:nvPr/>
                  </p:nvSpPr>
                  <p:spPr>
                    <a:xfrm>
                      <a:off x="3211560" y="2624040"/>
                      <a:ext cx="497880" cy="251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t">
                      <a:spAutoFit/>
                    </a:bodyPr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0" name=""/>
                    <p:cNvSpPr/>
                    <p:nvPr/>
                  </p:nvSpPr>
                  <p:spPr>
                    <a:xfrm>
                      <a:off x="3774960" y="2777760"/>
                      <a:ext cx="1332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311" name=""/>
              <p:cNvSpPr/>
              <p:nvPr/>
            </p:nvSpPr>
            <p:spPr>
              <a:xfrm>
                <a:off x="2478240" y="722160"/>
                <a:ext cx="3290760" cy="79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|Model_nam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ise_on_dly   Rise_off_dl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DEL_1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.0ns      NA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2" name=""/>
          <p:cNvGrpSpPr/>
          <p:nvPr/>
        </p:nvGrpSpPr>
        <p:grpSpPr>
          <a:xfrm>
            <a:off x="0" y="915840"/>
            <a:ext cx="3151080" cy="5308920"/>
            <a:chOff x="0" y="915840"/>
            <a:chExt cx="3151080" cy="5308920"/>
          </a:xfrm>
        </p:grpSpPr>
        <p:pic>
          <p:nvPicPr>
            <p:cNvPr id="3313" name="" descr=""/>
            <p:cNvPicPr/>
            <p:nvPr/>
          </p:nvPicPr>
          <p:blipFill>
            <a:blip r:embed="rId2"/>
            <a:stretch/>
          </p:blipFill>
          <p:spPr>
            <a:xfrm>
              <a:off x="0" y="2200320"/>
              <a:ext cx="311004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4" name=""/>
            <p:cNvGrpSpPr/>
            <p:nvPr/>
          </p:nvGrpSpPr>
          <p:grpSpPr>
            <a:xfrm>
              <a:off x="0" y="915840"/>
              <a:ext cx="3151080" cy="4644000"/>
              <a:chOff x="0" y="915840"/>
              <a:chExt cx="3151080" cy="4644000"/>
            </a:xfrm>
          </p:grpSpPr>
          <p:sp>
            <p:nvSpPr>
              <p:cNvPr id="3315" name=""/>
              <p:cNvSpPr/>
              <p:nvPr/>
            </p:nvSpPr>
            <p:spPr>
              <a:xfrm>
                <a:off x="968400" y="1875600"/>
                <a:ext cx="577800" cy="6397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pPr algn="ctr"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249120" y="915840"/>
                <a:ext cx="1743120" cy="914400"/>
              </a:xfrm>
              <a:prstGeom prst="ellipse">
                <a:avLst/>
              </a:prstGeom>
              <a:noFill/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7" name=""/>
              <p:cNvGrpSpPr/>
              <p:nvPr/>
            </p:nvGrpSpPr>
            <p:grpSpPr>
              <a:xfrm>
                <a:off x="0" y="2282400"/>
                <a:ext cx="3151080" cy="3277440"/>
                <a:chOff x="0" y="2282400"/>
                <a:chExt cx="3151080" cy="3277440"/>
              </a:xfrm>
            </p:grpSpPr>
            <p:sp>
              <p:nvSpPr>
                <p:cNvPr id="3318" name=""/>
                <p:cNvSpPr/>
                <p:nvPr/>
              </p:nvSpPr>
              <p:spPr>
                <a:xfrm>
                  <a:off x="2441520" y="4867200"/>
                  <a:ext cx="0" cy="13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>
                  <a:off x="1215720" y="48798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>
                  <a:off x="1831680" y="48798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21" name=""/>
                <p:cNvGrpSpPr/>
                <p:nvPr/>
              </p:nvGrpSpPr>
              <p:grpSpPr>
                <a:xfrm>
                  <a:off x="0" y="2282400"/>
                  <a:ext cx="3151080" cy="3277440"/>
                  <a:chOff x="0" y="2282400"/>
                  <a:chExt cx="3151080" cy="3277440"/>
                </a:xfrm>
              </p:grpSpPr>
              <p:sp>
                <p:nvSpPr>
                  <p:cNvPr id="3322" name=""/>
                  <p:cNvSpPr/>
                  <p:nvPr/>
                </p:nvSpPr>
                <p:spPr>
                  <a:xfrm>
                    <a:off x="500040" y="5198760"/>
                    <a:ext cx="2651040" cy="36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t">
                    <a:spAutoFit/>
                  </a:bodyPr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0      1.6     3.2     4.8  n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23" name=""/>
                  <p:cNvGrpSpPr/>
                  <p:nvPr/>
                </p:nvGrpSpPr>
                <p:grpSpPr>
                  <a:xfrm>
                    <a:off x="0" y="2282400"/>
                    <a:ext cx="2552400" cy="3146040"/>
                    <a:chOff x="0" y="2282400"/>
                    <a:chExt cx="2552400" cy="3146040"/>
                  </a:xfrm>
                </p:grpSpPr>
                <p:grpSp>
                  <p:nvGrpSpPr>
                    <p:cNvPr id="3324" name=""/>
                    <p:cNvGrpSpPr/>
                    <p:nvPr/>
                  </p:nvGrpSpPr>
                  <p:grpSpPr>
                    <a:xfrm>
                      <a:off x="582480" y="4863960"/>
                      <a:ext cx="1969920" cy="142560"/>
                      <a:chOff x="582480" y="4863960"/>
                      <a:chExt cx="1969920" cy="142560"/>
                    </a:xfrm>
                  </p:grpSpPr>
                  <p:sp>
                    <p:nvSpPr>
                      <p:cNvPr id="3325" name=""/>
                      <p:cNvSpPr/>
                      <p:nvPr/>
                    </p:nvSpPr>
                    <p:spPr>
                      <a:xfrm>
                        <a:off x="582480" y="4931640"/>
                        <a:ext cx="1969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6" name=""/>
                      <p:cNvSpPr/>
                      <p:nvPr/>
                    </p:nvSpPr>
                    <p:spPr>
                      <a:xfrm>
                        <a:off x="1833480" y="487872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7" name=""/>
                      <p:cNvSpPr/>
                      <p:nvPr/>
                    </p:nvSpPr>
                    <p:spPr>
                      <a:xfrm>
                        <a:off x="895320" y="487872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8" name=""/>
                      <p:cNvSpPr/>
                      <p:nvPr/>
                    </p:nvSpPr>
                    <p:spPr>
                      <a:xfrm>
                        <a:off x="1523880" y="486396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9" name=""/>
                      <p:cNvSpPr/>
                      <p:nvPr/>
                    </p:nvSpPr>
                    <p:spPr>
                      <a:xfrm>
                        <a:off x="1214280" y="487116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0" name=""/>
                      <p:cNvSpPr/>
                      <p:nvPr/>
                    </p:nvSpPr>
                    <p:spPr>
                      <a:xfrm>
                        <a:off x="2149920" y="486396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31" name=""/>
                    <p:cNvGrpSpPr/>
                    <p:nvPr/>
                  </p:nvGrpSpPr>
                  <p:grpSpPr>
                    <a:xfrm>
                      <a:off x="527040" y="2282400"/>
                      <a:ext cx="186840" cy="3146040"/>
                      <a:chOff x="527040" y="2282400"/>
                      <a:chExt cx="186840" cy="3146040"/>
                    </a:xfrm>
                  </p:grpSpPr>
                  <p:sp>
                    <p:nvSpPr>
                      <p:cNvPr id="3332" name=""/>
                      <p:cNvSpPr/>
                      <p:nvPr/>
                    </p:nvSpPr>
                    <p:spPr>
                      <a:xfrm flipV="1">
                        <a:off x="614880" y="2282400"/>
                        <a:ext cx="0" cy="3146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3" name=""/>
                      <p:cNvSpPr/>
                      <p:nvPr/>
                    </p:nvSpPr>
                    <p:spPr>
                      <a:xfrm>
                        <a:off x="542880" y="4046400"/>
                        <a:ext cx="171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4" name=""/>
                      <p:cNvSpPr/>
                      <p:nvPr/>
                    </p:nvSpPr>
                    <p:spPr>
                      <a:xfrm>
                        <a:off x="532080" y="2799360"/>
                        <a:ext cx="171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5" name=""/>
                      <p:cNvSpPr/>
                      <p:nvPr/>
                    </p:nvSpPr>
                    <p:spPr>
                      <a:xfrm>
                        <a:off x="527040" y="3428640"/>
                        <a:ext cx="171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36" name=""/>
                    <p:cNvSpPr/>
                    <p:nvPr/>
                  </p:nvSpPr>
                  <p:spPr>
                    <a:xfrm>
                      <a:off x="520560" y="4620960"/>
                      <a:ext cx="1332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7" name=""/>
                    <p:cNvSpPr/>
                    <p:nvPr/>
                  </p:nvSpPr>
                  <p:spPr>
                    <a:xfrm>
                      <a:off x="545760" y="4032000"/>
                      <a:ext cx="1335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8" name=""/>
                    <p:cNvSpPr/>
                    <p:nvPr/>
                  </p:nvSpPr>
                  <p:spPr>
                    <a:xfrm>
                      <a:off x="549000" y="3416040"/>
                      <a:ext cx="1335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9" name=""/>
                    <p:cNvSpPr/>
                    <p:nvPr/>
                  </p:nvSpPr>
                  <p:spPr>
                    <a:xfrm>
                      <a:off x="0" y="2638440"/>
                      <a:ext cx="497880" cy="251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t">
                      <a:spAutoFit/>
                    </a:bodyPr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0" name=""/>
                    <p:cNvSpPr/>
                    <p:nvPr/>
                  </p:nvSpPr>
                  <p:spPr>
                    <a:xfrm>
                      <a:off x="563400" y="2792160"/>
                      <a:ext cx="1332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341" name=""/>
              <p:cNvSpPr/>
              <p:nvPr/>
            </p:nvSpPr>
            <p:spPr>
              <a:xfrm>
                <a:off x="338040" y="1003320"/>
                <a:ext cx="181476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ulldow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ower clam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42" name=""/>
          <p:cNvGrpSpPr/>
          <p:nvPr/>
        </p:nvGrpSpPr>
        <p:grpSpPr>
          <a:xfrm>
            <a:off x="7810560" y="720"/>
            <a:ext cx="1114200" cy="694440"/>
            <a:chOff x="7810560" y="720"/>
            <a:chExt cx="1114200" cy="694440"/>
          </a:xfrm>
        </p:grpSpPr>
        <p:sp>
          <p:nvSpPr>
            <p:cNvPr id="3343" name=""/>
            <p:cNvSpPr/>
            <p:nvPr/>
          </p:nvSpPr>
          <p:spPr>
            <a:xfrm>
              <a:off x="7810560" y="720"/>
              <a:ext cx="1114200" cy="43956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GTL-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4" name=""/>
            <p:cNvGrpSpPr/>
            <p:nvPr/>
          </p:nvGrpSpPr>
          <p:grpSpPr>
            <a:xfrm>
              <a:off x="8107200" y="442440"/>
              <a:ext cx="610560" cy="252720"/>
              <a:chOff x="8107200" y="442440"/>
              <a:chExt cx="610560" cy="252720"/>
            </a:xfrm>
          </p:grpSpPr>
          <p:grpSp>
            <p:nvGrpSpPr>
              <p:cNvPr id="3345" name=""/>
              <p:cNvGrpSpPr/>
              <p:nvPr/>
            </p:nvGrpSpPr>
            <p:grpSpPr>
              <a:xfrm>
                <a:off x="8107200" y="534960"/>
                <a:ext cx="610560" cy="160200"/>
                <a:chOff x="8107200" y="534960"/>
                <a:chExt cx="610560" cy="160200"/>
              </a:xfrm>
            </p:grpSpPr>
            <p:grpSp>
              <p:nvGrpSpPr>
                <p:cNvPr id="3346" name=""/>
                <p:cNvGrpSpPr/>
                <p:nvPr/>
              </p:nvGrpSpPr>
              <p:grpSpPr>
                <a:xfrm>
                  <a:off x="8107200" y="655560"/>
                  <a:ext cx="610560" cy="39600"/>
                  <a:chOff x="8107200" y="655560"/>
                  <a:chExt cx="610560" cy="39600"/>
                </a:xfrm>
              </p:grpSpPr>
              <p:sp>
                <p:nvSpPr>
                  <p:cNvPr id="3347" name=""/>
                  <p:cNvSpPr/>
                  <p:nvPr/>
                </p:nvSpPr>
                <p:spPr>
                  <a:xfrm>
                    <a:off x="8209080" y="6555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>
                    <a:off x="8412840" y="6555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>
                    <a:off x="8514720" y="6555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>
                    <a:off x="8616600" y="6555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1" name=""/>
                  <p:cNvSpPr/>
                  <p:nvPr/>
                </p:nvSpPr>
                <p:spPr>
                  <a:xfrm>
                    <a:off x="8310960" y="6555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>
                    <a:off x="8107200" y="6555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3" name=""/>
                <p:cNvGrpSpPr/>
                <p:nvPr/>
              </p:nvGrpSpPr>
              <p:grpSpPr>
                <a:xfrm>
                  <a:off x="8158320" y="615240"/>
                  <a:ext cx="508680" cy="39600"/>
                  <a:chOff x="8158320" y="615240"/>
                  <a:chExt cx="508680" cy="39600"/>
                </a:xfrm>
              </p:grpSpPr>
              <p:sp>
                <p:nvSpPr>
                  <p:cNvPr id="3354" name=""/>
                  <p:cNvSpPr/>
                  <p:nvPr/>
                </p:nvSpPr>
                <p:spPr>
                  <a:xfrm>
                    <a:off x="8158320" y="6152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5" name=""/>
                  <p:cNvSpPr/>
                  <p:nvPr/>
                </p:nvSpPr>
                <p:spPr>
                  <a:xfrm>
                    <a:off x="8362080" y="6152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6" name=""/>
                  <p:cNvSpPr/>
                  <p:nvPr/>
                </p:nvSpPr>
                <p:spPr>
                  <a:xfrm>
                    <a:off x="8463960" y="6152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7" name=""/>
                  <p:cNvSpPr/>
                  <p:nvPr/>
                </p:nvSpPr>
                <p:spPr>
                  <a:xfrm>
                    <a:off x="8565840" y="6152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8" name=""/>
                  <p:cNvSpPr/>
                  <p:nvPr/>
                </p:nvSpPr>
                <p:spPr>
                  <a:xfrm>
                    <a:off x="8260200" y="6152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9" name=""/>
                <p:cNvGrpSpPr/>
                <p:nvPr/>
              </p:nvGrpSpPr>
              <p:grpSpPr>
                <a:xfrm>
                  <a:off x="8209080" y="534960"/>
                  <a:ext cx="406800" cy="79560"/>
                  <a:chOff x="8209080" y="534960"/>
                  <a:chExt cx="406800" cy="79560"/>
                </a:xfrm>
              </p:grpSpPr>
              <p:sp>
                <p:nvSpPr>
                  <p:cNvPr id="3360" name=""/>
                  <p:cNvSpPr/>
                  <p:nvPr/>
                </p:nvSpPr>
                <p:spPr>
                  <a:xfrm>
                    <a:off x="8310960" y="5749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1" name=""/>
                  <p:cNvSpPr/>
                  <p:nvPr/>
                </p:nvSpPr>
                <p:spPr>
                  <a:xfrm>
                    <a:off x="8514720" y="5749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2" name=""/>
                  <p:cNvSpPr/>
                  <p:nvPr/>
                </p:nvSpPr>
                <p:spPr>
                  <a:xfrm>
                    <a:off x="8412840" y="5749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3" name=""/>
                  <p:cNvSpPr/>
                  <p:nvPr/>
                </p:nvSpPr>
                <p:spPr>
                  <a:xfrm>
                    <a:off x="8209080" y="5749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4" name=""/>
                  <p:cNvSpPr/>
                  <p:nvPr/>
                </p:nvSpPr>
                <p:spPr>
                  <a:xfrm>
                    <a:off x="8260200" y="5349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5" name=""/>
                  <p:cNvSpPr/>
                  <p:nvPr/>
                </p:nvSpPr>
                <p:spPr>
                  <a:xfrm>
                    <a:off x="8463960" y="5349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6" name=""/>
                  <p:cNvSpPr/>
                  <p:nvPr/>
                </p:nvSpPr>
                <p:spPr>
                  <a:xfrm>
                    <a:off x="8362080" y="5349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67" name=""/>
              <p:cNvGrpSpPr/>
              <p:nvPr/>
            </p:nvGrpSpPr>
            <p:grpSpPr>
              <a:xfrm>
                <a:off x="8337600" y="534960"/>
                <a:ext cx="151920" cy="159840"/>
                <a:chOff x="8337600" y="534960"/>
                <a:chExt cx="151920" cy="159840"/>
              </a:xfrm>
            </p:grpSpPr>
            <p:grpSp>
              <p:nvGrpSpPr>
                <p:cNvPr id="3368" name=""/>
                <p:cNvGrpSpPr/>
                <p:nvPr/>
              </p:nvGrpSpPr>
              <p:grpSpPr>
                <a:xfrm>
                  <a:off x="8337600" y="655560"/>
                  <a:ext cx="151920" cy="39240"/>
                  <a:chOff x="8337600" y="655560"/>
                  <a:chExt cx="151920" cy="39240"/>
                </a:xfrm>
              </p:grpSpPr>
              <p:sp>
                <p:nvSpPr>
                  <p:cNvPr id="3369" name=""/>
                  <p:cNvSpPr/>
                  <p:nvPr/>
                </p:nvSpPr>
                <p:spPr>
                  <a:xfrm>
                    <a:off x="8343720" y="668520"/>
                    <a:ext cx="139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0" name=""/>
                  <p:cNvSpPr/>
                  <p:nvPr/>
                </p:nvSpPr>
                <p:spPr>
                  <a:xfrm>
                    <a:off x="8337600" y="681480"/>
                    <a:ext cx="151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1" name=""/>
                  <p:cNvSpPr/>
                  <p:nvPr/>
                </p:nvSpPr>
                <p:spPr>
                  <a:xfrm>
                    <a:off x="8350200" y="655560"/>
                    <a:ext cx="126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2" name=""/>
                <p:cNvGrpSpPr/>
                <p:nvPr/>
              </p:nvGrpSpPr>
              <p:grpSpPr>
                <a:xfrm>
                  <a:off x="8356320" y="615240"/>
                  <a:ext cx="114120" cy="39240"/>
                  <a:chOff x="8356320" y="615240"/>
                  <a:chExt cx="114120" cy="39240"/>
                </a:xfrm>
              </p:grpSpPr>
              <p:sp>
                <p:nvSpPr>
                  <p:cNvPr id="3373" name=""/>
                  <p:cNvSpPr/>
                  <p:nvPr/>
                </p:nvSpPr>
                <p:spPr>
                  <a:xfrm>
                    <a:off x="8361000" y="62820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4" name=""/>
                  <p:cNvSpPr/>
                  <p:nvPr/>
                </p:nvSpPr>
                <p:spPr>
                  <a:xfrm>
                    <a:off x="8356320" y="64116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5" name=""/>
                  <p:cNvSpPr/>
                  <p:nvPr/>
                </p:nvSpPr>
                <p:spPr>
                  <a:xfrm>
                    <a:off x="8365680" y="61524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6" name=""/>
                <p:cNvGrpSpPr/>
                <p:nvPr/>
              </p:nvGrpSpPr>
              <p:grpSpPr>
                <a:xfrm>
                  <a:off x="8369280" y="574920"/>
                  <a:ext cx="88560" cy="39240"/>
                  <a:chOff x="8369280" y="574920"/>
                  <a:chExt cx="88560" cy="39240"/>
                </a:xfrm>
              </p:grpSpPr>
              <p:sp>
                <p:nvSpPr>
                  <p:cNvPr id="3377" name=""/>
                  <p:cNvSpPr/>
                  <p:nvPr/>
                </p:nvSpPr>
                <p:spPr>
                  <a:xfrm>
                    <a:off x="8372880" y="587880"/>
                    <a:ext cx="81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8" name=""/>
                  <p:cNvSpPr/>
                  <p:nvPr/>
                </p:nvSpPr>
                <p:spPr>
                  <a:xfrm>
                    <a:off x="8369280" y="600840"/>
                    <a:ext cx="885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9" name=""/>
                  <p:cNvSpPr/>
                  <p:nvPr/>
                </p:nvSpPr>
                <p:spPr>
                  <a:xfrm>
                    <a:off x="8376480" y="574920"/>
                    <a:ext cx="738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0" name=""/>
                <p:cNvGrpSpPr/>
                <p:nvPr/>
              </p:nvGrpSpPr>
              <p:grpSpPr>
                <a:xfrm>
                  <a:off x="8381880" y="534960"/>
                  <a:ext cx="63360" cy="39240"/>
                  <a:chOff x="8381880" y="534960"/>
                  <a:chExt cx="63360" cy="39240"/>
                </a:xfrm>
              </p:grpSpPr>
              <p:sp>
                <p:nvSpPr>
                  <p:cNvPr id="3381" name=""/>
                  <p:cNvSpPr/>
                  <p:nvPr/>
                </p:nvSpPr>
                <p:spPr>
                  <a:xfrm>
                    <a:off x="8384400" y="5479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2" name=""/>
                  <p:cNvSpPr/>
                  <p:nvPr/>
                </p:nvSpPr>
                <p:spPr>
                  <a:xfrm>
                    <a:off x="8381880" y="5608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3" name=""/>
                  <p:cNvSpPr/>
                  <p:nvPr/>
                </p:nvSpPr>
                <p:spPr>
                  <a:xfrm>
                    <a:off x="8386920" y="5349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84" name=""/>
              <p:cNvSpPr/>
              <p:nvPr/>
            </p:nvSpPr>
            <p:spPr>
              <a:xfrm>
                <a:off x="8286120" y="486720"/>
                <a:ext cx="253080" cy="47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5" name=""/>
              <p:cNvGrpSpPr/>
              <p:nvPr/>
            </p:nvGrpSpPr>
            <p:grpSpPr>
              <a:xfrm>
                <a:off x="8321040" y="504720"/>
                <a:ext cx="183240" cy="28440"/>
                <a:chOff x="8321040" y="504720"/>
                <a:chExt cx="183240" cy="28440"/>
              </a:xfrm>
            </p:grpSpPr>
            <p:sp>
              <p:nvSpPr>
                <p:cNvPr id="3386" name=""/>
                <p:cNvSpPr/>
                <p:nvPr/>
              </p:nvSpPr>
              <p:spPr>
                <a:xfrm>
                  <a:off x="8321040" y="5047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8361000" y="5047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8479080" y="5047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>
                  <a:off x="8438760" y="5047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>
                  <a:off x="8399520" y="5047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1" name=""/>
              <p:cNvSpPr/>
              <p:nvPr/>
            </p:nvSpPr>
            <p:spPr>
              <a:xfrm>
                <a:off x="8278560" y="482400"/>
                <a:ext cx="26784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 flipV="1">
                <a:off x="8283960" y="449640"/>
                <a:ext cx="257400" cy="32040"/>
              </a:xfrm>
              <a:custGeom>
                <a:avLst/>
                <a:gdLst>
                  <a:gd name="textAreaLeft" fmla="*/ 26640 w 257400"/>
                  <a:gd name="textAreaRight" fmla="*/ 230760 w 25740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8291880" y="442440"/>
                <a:ext cx="24048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94" name=""/>
          <p:cNvGrpSpPr/>
          <p:nvPr/>
        </p:nvGrpSpPr>
        <p:grpSpPr>
          <a:xfrm>
            <a:off x="5499000" y="727200"/>
            <a:ext cx="3648240" cy="5497560"/>
            <a:chOff x="5499000" y="727200"/>
            <a:chExt cx="3648240" cy="5497560"/>
          </a:xfrm>
        </p:grpSpPr>
        <p:pic>
          <p:nvPicPr>
            <p:cNvPr id="3395" name="" descr=""/>
            <p:cNvPicPr/>
            <p:nvPr/>
          </p:nvPicPr>
          <p:blipFill>
            <a:blip r:embed="rId3"/>
            <a:stretch/>
          </p:blipFill>
          <p:spPr>
            <a:xfrm>
              <a:off x="6033960" y="2200320"/>
              <a:ext cx="311004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96" name=""/>
            <p:cNvGrpSpPr/>
            <p:nvPr/>
          </p:nvGrpSpPr>
          <p:grpSpPr>
            <a:xfrm>
              <a:off x="5996160" y="2298240"/>
              <a:ext cx="3151080" cy="3277440"/>
              <a:chOff x="5996160" y="2298240"/>
              <a:chExt cx="3151080" cy="3277440"/>
            </a:xfrm>
          </p:grpSpPr>
          <p:sp>
            <p:nvSpPr>
              <p:cNvPr id="3397" name=""/>
              <p:cNvSpPr/>
              <p:nvPr/>
            </p:nvSpPr>
            <p:spPr>
              <a:xfrm>
                <a:off x="8437680" y="4883040"/>
                <a:ext cx="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211880" y="4895640"/>
                <a:ext cx="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827840" y="4895640"/>
                <a:ext cx="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0" name=""/>
              <p:cNvGrpSpPr/>
              <p:nvPr/>
            </p:nvGrpSpPr>
            <p:grpSpPr>
              <a:xfrm>
                <a:off x="5996160" y="2298240"/>
                <a:ext cx="3151080" cy="3277440"/>
                <a:chOff x="5996160" y="2298240"/>
                <a:chExt cx="3151080" cy="3277440"/>
              </a:xfrm>
            </p:grpSpPr>
            <p:sp>
              <p:nvSpPr>
                <p:cNvPr id="3401" name=""/>
                <p:cNvSpPr/>
                <p:nvPr/>
              </p:nvSpPr>
              <p:spPr>
                <a:xfrm>
                  <a:off x="6496200" y="5214600"/>
                  <a:ext cx="265104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0      1.6     3.2     4.8  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02" name=""/>
                <p:cNvGrpSpPr/>
                <p:nvPr/>
              </p:nvGrpSpPr>
              <p:grpSpPr>
                <a:xfrm>
                  <a:off x="5996160" y="2298240"/>
                  <a:ext cx="2552400" cy="3146040"/>
                  <a:chOff x="5996160" y="2298240"/>
                  <a:chExt cx="2552400" cy="3146040"/>
                </a:xfrm>
              </p:grpSpPr>
              <p:grpSp>
                <p:nvGrpSpPr>
                  <p:cNvPr id="3403" name=""/>
                  <p:cNvGrpSpPr/>
                  <p:nvPr/>
                </p:nvGrpSpPr>
                <p:grpSpPr>
                  <a:xfrm>
                    <a:off x="6578640" y="4879800"/>
                    <a:ext cx="1969920" cy="142560"/>
                    <a:chOff x="6578640" y="4879800"/>
                    <a:chExt cx="1969920" cy="142560"/>
                  </a:xfrm>
                </p:grpSpPr>
                <p:sp>
                  <p:nvSpPr>
                    <p:cNvPr id="3404" name=""/>
                    <p:cNvSpPr/>
                    <p:nvPr/>
                  </p:nvSpPr>
                  <p:spPr>
                    <a:xfrm>
                      <a:off x="6578640" y="4947480"/>
                      <a:ext cx="1969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5" name=""/>
                    <p:cNvSpPr/>
                    <p:nvPr/>
                  </p:nvSpPr>
                  <p:spPr>
                    <a:xfrm>
                      <a:off x="7829640" y="4894560"/>
                      <a:ext cx="0" cy="12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6" name=""/>
                    <p:cNvSpPr/>
                    <p:nvPr/>
                  </p:nvSpPr>
                  <p:spPr>
                    <a:xfrm>
                      <a:off x="6891480" y="4894560"/>
                      <a:ext cx="0" cy="12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7" name=""/>
                    <p:cNvSpPr/>
                    <p:nvPr/>
                  </p:nvSpPr>
                  <p:spPr>
                    <a:xfrm>
                      <a:off x="7520040" y="4879800"/>
                      <a:ext cx="0" cy="12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8" name=""/>
                    <p:cNvSpPr/>
                    <p:nvPr/>
                  </p:nvSpPr>
                  <p:spPr>
                    <a:xfrm>
                      <a:off x="7210440" y="4887000"/>
                      <a:ext cx="0" cy="12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9" name=""/>
                    <p:cNvSpPr/>
                    <p:nvPr/>
                  </p:nvSpPr>
                  <p:spPr>
                    <a:xfrm>
                      <a:off x="8146080" y="4879800"/>
                      <a:ext cx="0" cy="12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0" name=""/>
                  <p:cNvGrpSpPr/>
                  <p:nvPr/>
                </p:nvGrpSpPr>
                <p:grpSpPr>
                  <a:xfrm>
                    <a:off x="6523200" y="2298240"/>
                    <a:ext cx="186840" cy="3146040"/>
                    <a:chOff x="6523200" y="2298240"/>
                    <a:chExt cx="186840" cy="3146040"/>
                  </a:xfrm>
                </p:grpSpPr>
                <p:sp>
                  <p:nvSpPr>
                    <p:cNvPr id="3411" name=""/>
                    <p:cNvSpPr/>
                    <p:nvPr/>
                  </p:nvSpPr>
                  <p:spPr>
                    <a:xfrm flipV="1">
                      <a:off x="6611040" y="2298240"/>
                      <a:ext cx="0" cy="3146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2" name=""/>
                    <p:cNvSpPr/>
                    <p:nvPr/>
                  </p:nvSpPr>
                  <p:spPr>
                    <a:xfrm>
                      <a:off x="6539040" y="4062240"/>
                      <a:ext cx="17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3" name=""/>
                    <p:cNvSpPr/>
                    <p:nvPr/>
                  </p:nvSpPr>
                  <p:spPr>
                    <a:xfrm>
                      <a:off x="6528240" y="2815200"/>
                      <a:ext cx="17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4" name=""/>
                    <p:cNvSpPr/>
                    <p:nvPr/>
                  </p:nvSpPr>
                  <p:spPr>
                    <a:xfrm>
                      <a:off x="6523200" y="3444480"/>
                      <a:ext cx="17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15" name=""/>
                  <p:cNvSpPr/>
                  <p:nvPr/>
                </p:nvSpPr>
                <p:spPr>
                  <a:xfrm>
                    <a:off x="6516720" y="4636800"/>
                    <a:ext cx="133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6" name=""/>
                  <p:cNvSpPr/>
                  <p:nvPr/>
                </p:nvSpPr>
                <p:spPr>
                  <a:xfrm>
                    <a:off x="6541920" y="4047840"/>
                    <a:ext cx="133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7" name=""/>
                  <p:cNvSpPr/>
                  <p:nvPr/>
                </p:nvSpPr>
                <p:spPr>
                  <a:xfrm>
                    <a:off x="6545160" y="3431880"/>
                    <a:ext cx="133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8" name=""/>
                  <p:cNvSpPr/>
                  <p:nvPr/>
                </p:nvSpPr>
                <p:spPr>
                  <a:xfrm>
                    <a:off x="5996160" y="2654280"/>
                    <a:ext cx="497880" cy="2519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t">
                    <a:spAutoFit/>
                  </a:bodyPr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224"/>
                      </a:spcBef>
                      <a:spcAft>
                        <a:spcPts val="224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224"/>
                      </a:spcBef>
                      <a:spcAft>
                        <a:spcPts val="224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0.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224"/>
                      </a:spcBef>
                      <a:spcAft>
                        <a:spcPts val="224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0.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9" name=""/>
                  <p:cNvSpPr/>
                  <p:nvPr/>
                </p:nvSpPr>
                <p:spPr>
                  <a:xfrm>
                    <a:off x="6559560" y="2808000"/>
                    <a:ext cx="133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420" name=""/>
            <p:cNvSpPr/>
            <p:nvPr/>
          </p:nvSpPr>
          <p:spPr>
            <a:xfrm>
              <a:off x="7512120" y="201240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5499000" y="1122480"/>
              <a:ext cx="3192480" cy="914400"/>
            </a:xfrm>
            <a:prstGeom prst="ellipse">
              <a:avLst/>
            </a:prstGeom>
            <a:noFill/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853240" y="727200"/>
              <a:ext cx="3290760" cy="12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|Model_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se_on_dly   Rise_off_d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EL_1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ns      NA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EL_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ns     2.0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3" name=""/>
          <p:cNvGrpSpPr/>
          <p:nvPr/>
        </p:nvGrpSpPr>
        <p:grpSpPr>
          <a:xfrm>
            <a:off x="353880" y="5460840"/>
            <a:ext cx="8269200" cy="855360"/>
            <a:chOff x="353880" y="5460840"/>
            <a:chExt cx="8269200" cy="855360"/>
          </a:xfrm>
        </p:grpSpPr>
        <p:sp>
          <p:nvSpPr>
            <p:cNvPr id="3424" name=""/>
            <p:cNvSpPr/>
            <p:nvPr/>
          </p:nvSpPr>
          <p:spPr>
            <a:xfrm>
              <a:off x="353880" y="5460840"/>
              <a:ext cx="82692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load was a 3 inch transmission line with  Rload 50 to 1P2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river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 of 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4989600" y="6151320"/>
              <a:ext cx="90396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1614960" y="6162480"/>
              <a:ext cx="9036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results with comment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428" name=""/>
          <p:cNvGrpSpPr/>
          <p:nvPr/>
        </p:nvGrpSpPr>
        <p:grpSpPr>
          <a:xfrm>
            <a:off x="8029440" y="720"/>
            <a:ext cx="1114560" cy="694440"/>
            <a:chOff x="8029440" y="720"/>
            <a:chExt cx="1114560" cy="694440"/>
          </a:xfrm>
        </p:grpSpPr>
        <p:sp>
          <p:nvSpPr>
            <p:cNvPr id="3429" name=""/>
            <p:cNvSpPr/>
            <p:nvPr/>
          </p:nvSpPr>
          <p:spPr>
            <a:xfrm>
              <a:off x="8029440" y="720"/>
              <a:ext cx="1114560" cy="43956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GTL-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0" name=""/>
            <p:cNvGrpSpPr/>
            <p:nvPr/>
          </p:nvGrpSpPr>
          <p:grpSpPr>
            <a:xfrm>
              <a:off x="8326440" y="442440"/>
              <a:ext cx="610920" cy="252720"/>
              <a:chOff x="8326440" y="442440"/>
              <a:chExt cx="610920" cy="252720"/>
            </a:xfrm>
          </p:grpSpPr>
          <p:grpSp>
            <p:nvGrpSpPr>
              <p:cNvPr id="3431" name=""/>
              <p:cNvGrpSpPr/>
              <p:nvPr/>
            </p:nvGrpSpPr>
            <p:grpSpPr>
              <a:xfrm>
                <a:off x="8326440" y="534960"/>
                <a:ext cx="610920" cy="160200"/>
                <a:chOff x="8326440" y="534960"/>
                <a:chExt cx="610920" cy="160200"/>
              </a:xfrm>
            </p:grpSpPr>
            <p:grpSp>
              <p:nvGrpSpPr>
                <p:cNvPr id="3432" name=""/>
                <p:cNvGrpSpPr/>
                <p:nvPr/>
              </p:nvGrpSpPr>
              <p:grpSpPr>
                <a:xfrm>
                  <a:off x="8326440" y="655560"/>
                  <a:ext cx="610920" cy="39600"/>
                  <a:chOff x="8326440" y="655560"/>
                  <a:chExt cx="610920" cy="39600"/>
                </a:xfrm>
              </p:grpSpPr>
              <p:sp>
                <p:nvSpPr>
                  <p:cNvPr id="3433" name=""/>
                  <p:cNvSpPr/>
                  <p:nvPr/>
                </p:nvSpPr>
                <p:spPr>
                  <a:xfrm>
                    <a:off x="8428320" y="6555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4" name=""/>
                  <p:cNvSpPr/>
                  <p:nvPr/>
                </p:nvSpPr>
                <p:spPr>
                  <a:xfrm>
                    <a:off x="8632080" y="6555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5" name=""/>
                  <p:cNvSpPr/>
                  <p:nvPr/>
                </p:nvSpPr>
                <p:spPr>
                  <a:xfrm>
                    <a:off x="8734320" y="6555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6" name=""/>
                  <p:cNvSpPr/>
                  <p:nvPr/>
                </p:nvSpPr>
                <p:spPr>
                  <a:xfrm>
                    <a:off x="8836200" y="6555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7" name=""/>
                  <p:cNvSpPr/>
                  <p:nvPr/>
                </p:nvSpPr>
                <p:spPr>
                  <a:xfrm>
                    <a:off x="8530200" y="6555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8" name=""/>
                  <p:cNvSpPr/>
                  <p:nvPr/>
                </p:nvSpPr>
                <p:spPr>
                  <a:xfrm>
                    <a:off x="8326440" y="6555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9" name=""/>
                <p:cNvGrpSpPr/>
                <p:nvPr/>
              </p:nvGrpSpPr>
              <p:grpSpPr>
                <a:xfrm>
                  <a:off x="8377560" y="615240"/>
                  <a:ext cx="509040" cy="39600"/>
                  <a:chOff x="8377560" y="615240"/>
                  <a:chExt cx="509040" cy="39600"/>
                </a:xfrm>
              </p:grpSpPr>
              <p:sp>
                <p:nvSpPr>
                  <p:cNvPr id="3440" name=""/>
                  <p:cNvSpPr/>
                  <p:nvPr/>
                </p:nvSpPr>
                <p:spPr>
                  <a:xfrm>
                    <a:off x="8377560" y="6152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1" name=""/>
                  <p:cNvSpPr/>
                  <p:nvPr/>
                </p:nvSpPr>
                <p:spPr>
                  <a:xfrm>
                    <a:off x="8581320" y="6152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2" name=""/>
                  <p:cNvSpPr/>
                  <p:nvPr/>
                </p:nvSpPr>
                <p:spPr>
                  <a:xfrm>
                    <a:off x="8683200" y="6152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3" name=""/>
                  <p:cNvSpPr/>
                  <p:nvPr/>
                </p:nvSpPr>
                <p:spPr>
                  <a:xfrm>
                    <a:off x="8785440" y="6152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4" name=""/>
                  <p:cNvSpPr/>
                  <p:nvPr/>
                </p:nvSpPr>
                <p:spPr>
                  <a:xfrm>
                    <a:off x="8479440" y="61524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5" name=""/>
                <p:cNvGrpSpPr/>
                <p:nvPr/>
              </p:nvGrpSpPr>
              <p:grpSpPr>
                <a:xfrm>
                  <a:off x="8428320" y="534960"/>
                  <a:ext cx="407160" cy="79560"/>
                  <a:chOff x="8428320" y="534960"/>
                  <a:chExt cx="407160" cy="79560"/>
                </a:xfrm>
              </p:grpSpPr>
              <p:sp>
                <p:nvSpPr>
                  <p:cNvPr id="3446" name=""/>
                  <p:cNvSpPr/>
                  <p:nvPr/>
                </p:nvSpPr>
                <p:spPr>
                  <a:xfrm>
                    <a:off x="8530200" y="5749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7" name=""/>
                  <p:cNvSpPr/>
                  <p:nvPr/>
                </p:nvSpPr>
                <p:spPr>
                  <a:xfrm>
                    <a:off x="8734320" y="5749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8" name=""/>
                  <p:cNvSpPr/>
                  <p:nvPr/>
                </p:nvSpPr>
                <p:spPr>
                  <a:xfrm>
                    <a:off x="8632080" y="5749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9" name=""/>
                  <p:cNvSpPr/>
                  <p:nvPr/>
                </p:nvSpPr>
                <p:spPr>
                  <a:xfrm>
                    <a:off x="8428320" y="57492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0" name=""/>
                  <p:cNvSpPr/>
                  <p:nvPr/>
                </p:nvSpPr>
                <p:spPr>
                  <a:xfrm>
                    <a:off x="8479440" y="5349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1" name=""/>
                  <p:cNvSpPr/>
                  <p:nvPr/>
                </p:nvSpPr>
                <p:spPr>
                  <a:xfrm>
                    <a:off x="8683560" y="5349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2" name=""/>
                  <p:cNvSpPr/>
                  <p:nvPr/>
                </p:nvSpPr>
                <p:spPr>
                  <a:xfrm>
                    <a:off x="8581320" y="534960"/>
                    <a:ext cx="101160" cy="396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53" name=""/>
              <p:cNvGrpSpPr/>
              <p:nvPr/>
            </p:nvGrpSpPr>
            <p:grpSpPr>
              <a:xfrm>
                <a:off x="8557200" y="534960"/>
                <a:ext cx="151920" cy="159840"/>
                <a:chOff x="8557200" y="534960"/>
                <a:chExt cx="151920" cy="159840"/>
              </a:xfrm>
            </p:grpSpPr>
            <p:grpSp>
              <p:nvGrpSpPr>
                <p:cNvPr id="3454" name=""/>
                <p:cNvGrpSpPr/>
                <p:nvPr/>
              </p:nvGrpSpPr>
              <p:grpSpPr>
                <a:xfrm>
                  <a:off x="8557200" y="655560"/>
                  <a:ext cx="151920" cy="39240"/>
                  <a:chOff x="8557200" y="655560"/>
                  <a:chExt cx="151920" cy="39240"/>
                </a:xfrm>
              </p:grpSpPr>
              <p:sp>
                <p:nvSpPr>
                  <p:cNvPr id="3455" name=""/>
                  <p:cNvSpPr/>
                  <p:nvPr/>
                </p:nvSpPr>
                <p:spPr>
                  <a:xfrm>
                    <a:off x="8563320" y="668520"/>
                    <a:ext cx="139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6" name=""/>
                  <p:cNvSpPr/>
                  <p:nvPr/>
                </p:nvSpPr>
                <p:spPr>
                  <a:xfrm>
                    <a:off x="8557200" y="681480"/>
                    <a:ext cx="151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7" name=""/>
                  <p:cNvSpPr/>
                  <p:nvPr/>
                </p:nvSpPr>
                <p:spPr>
                  <a:xfrm>
                    <a:off x="8569800" y="655560"/>
                    <a:ext cx="126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8" name=""/>
                <p:cNvGrpSpPr/>
                <p:nvPr/>
              </p:nvGrpSpPr>
              <p:grpSpPr>
                <a:xfrm>
                  <a:off x="8575920" y="615240"/>
                  <a:ext cx="114120" cy="39240"/>
                  <a:chOff x="8575920" y="615240"/>
                  <a:chExt cx="114120" cy="39240"/>
                </a:xfrm>
              </p:grpSpPr>
              <p:sp>
                <p:nvSpPr>
                  <p:cNvPr id="3459" name=""/>
                  <p:cNvSpPr/>
                  <p:nvPr/>
                </p:nvSpPr>
                <p:spPr>
                  <a:xfrm>
                    <a:off x="8580600" y="62820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0" name=""/>
                  <p:cNvSpPr/>
                  <p:nvPr/>
                </p:nvSpPr>
                <p:spPr>
                  <a:xfrm>
                    <a:off x="8575920" y="64116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1" name=""/>
                  <p:cNvSpPr/>
                  <p:nvPr/>
                </p:nvSpPr>
                <p:spPr>
                  <a:xfrm>
                    <a:off x="8585280" y="61524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2" name=""/>
                <p:cNvGrpSpPr/>
                <p:nvPr/>
              </p:nvGrpSpPr>
              <p:grpSpPr>
                <a:xfrm>
                  <a:off x="8588880" y="574920"/>
                  <a:ext cx="88560" cy="39240"/>
                  <a:chOff x="8588880" y="574920"/>
                  <a:chExt cx="88560" cy="39240"/>
                </a:xfrm>
              </p:grpSpPr>
              <p:sp>
                <p:nvSpPr>
                  <p:cNvPr id="3463" name=""/>
                  <p:cNvSpPr/>
                  <p:nvPr/>
                </p:nvSpPr>
                <p:spPr>
                  <a:xfrm>
                    <a:off x="8592480" y="587880"/>
                    <a:ext cx="81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4" name=""/>
                  <p:cNvSpPr/>
                  <p:nvPr/>
                </p:nvSpPr>
                <p:spPr>
                  <a:xfrm>
                    <a:off x="8588880" y="600840"/>
                    <a:ext cx="885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5" name=""/>
                  <p:cNvSpPr/>
                  <p:nvPr/>
                </p:nvSpPr>
                <p:spPr>
                  <a:xfrm>
                    <a:off x="8596080" y="574920"/>
                    <a:ext cx="738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6" name=""/>
                <p:cNvGrpSpPr/>
                <p:nvPr/>
              </p:nvGrpSpPr>
              <p:grpSpPr>
                <a:xfrm>
                  <a:off x="8601480" y="534960"/>
                  <a:ext cx="63360" cy="39240"/>
                  <a:chOff x="8601480" y="534960"/>
                  <a:chExt cx="63360" cy="39240"/>
                </a:xfrm>
              </p:grpSpPr>
              <p:sp>
                <p:nvSpPr>
                  <p:cNvPr id="3467" name=""/>
                  <p:cNvSpPr/>
                  <p:nvPr/>
                </p:nvSpPr>
                <p:spPr>
                  <a:xfrm>
                    <a:off x="8604000" y="5479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8" name=""/>
                  <p:cNvSpPr/>
                  <p:nvPr/>
                </p:nvSpPr>
                <p:spPr>
                  <a:xfrm>
                    <a:off x="8601480" y="5608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9" name=""/>
                  <p:cNvSpPr/>
                  <p:nvPr/>
                </p:nvSpPr>
                <p:spPr>
                  <a:xfrm>
                    <a:off x="8606520" y="5349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70" name=""/>
              <p:cNvSpPr/>
              <p:nvPr/>
            </p:nvSpPr>
            <p:spPr>
              <a:xfrm>
                <a:off x="8505360" y="486720"/>
                <a:ext cx="253440" cy="47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1" name=""/>
              <p:cNvGrpSpPr/>
              <p:nvPr/>
            </p:nvGrpSpPr>
            <p:grpSpPr>
              <a:xfrm>
                <a:off x="8540280" y="504720"/>
                <a:ext cx="183240" cy="28440"/>
                <a:chOff x="8540280" y="504720"/>
                <a:chExt cx="183240" cy="28440"/>
              </a:xfrm>
            </p:grpSpPr>
            <p:sp>
              <p:nvSpPr>
                <p:cNvPr id="3472" name=""/>
                <p:cNvSpPr/>
                <p:nvPr/>
              </p:nvSpPr>
              <p:spPr>
                <a:xfrm>
                  <a:off x="8540280" y="5047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8580240" y="5047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8698320" y="5047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8658000" y="5047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8618760" y="5047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7" name=""/>
              <p:cNvSpPr/>
              <p:nvPr/>
            </p:nvSpPr>
            <p:spPr>
              <a:xfrm>
                <a:off x="8498160" y="482400"/>
                <a:ext cx="268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 flipV="1">
                <a:off x="8503200" y="449640"/>
                <a:ext cx="257400" cy="32040"/>
              </a:xfrm>
              <a:custGeom>
                <a:avLst/>
                <a:gdLst>
                  <a:gd name="textAreaLeft" fmla="*/ 26640 w 257400"/>
                  <a:gd name="textAreaRight" fmla="*/ 230760 w 25740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8511120" y="442440"/>
                <a:ext cx="24084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0" name=""/>
          <p:cNvGrpSpPr/>
          <p:nvPr/>
        </p:nvGrpSpPr>
        <p:grpSpPr>
          <a:xfrm>
            <a:off x="3211560" y="2183760"/>
            <a:ext cx="3197160" cy="4041000"/>
            <a:chOff x="3211560" y="2183760"/>
            <a:chExt cx="3197160" cy="4041000"/>
          </a:xfrm>
        </p:grpSpPr>
        <p:grpSp>
          <p:nvGrpSpPr>
            <p:cNvPr id="3481" name=""/>
            <p:cNvGrpSpPr/>
            <p:nvPr/>
          </p:nvGrpSpPr>
          <p:grpSpPr>
            <a:xfrm>
              <a:off x="3211560" y="2200320"/>
              <a:ext cx="3197160" cy="4024440"/>
              <a:chOff x="3211560" y="2200320"/>
              <a:chExt cx="3197160" cy="4024440"/>
            </a:xfrm>
          </p:grpSpPr>
          <p:pic>
            <p:nvPicPr>
              <p:cNvPr id="34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98680" y="2200320"/>
                <a:ext cx="3110040" cy="40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483" name=""/>
              <p:cNvGrpSpPr/>
              <p:nvPr/>
            </p:nvGrpSpPr>
            <p:grpSpPr>
              <a:xfrm>
                <a:off x="3211560" y="2268000"/>
                <a:ext cx="3151080" cy="3277440"/>
                <a:chOff x="3211560" y="2268000"/>
                <a:chExt cx="3151080" cy="3277440"/>
              </a:xfrm>
            </p:grpSpPr>
            <p:sp>
              <p:nvSpPr>
                <p:cNvPr id="3484" name=""/>
                <p:cNvSpPr/>
                <p:nvPr/>
              </p:nvSpPr>
              <p:spPr>
                <a:xfrm>
                  <a:off x="5653080" y="4852800"/>
                  <a:ext cx="0" cy="13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4427280" y="4865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5043240" y="4865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87" name=""/>
                <p:cNvGrpSpPr/>
                <p:nvPr/>
              </p:nvGrpSpPr>
              <p:grpSpPr>
                <a:xfrm>
                  <a:off x="3211560" y="2268000"/>
                  <a:ext cx="3151080" cy="3277440"/>
                  <a:chOff x="3211560" y="2268000"/>
                  <a:chExt cx="3151080" cy="3277440"/>
                </a:xfrm>
              </p:grpSpPr>
              <p:sp>
                <p:nvSpPr>
                  <p:cNvPr id="3488" name=""/>
                  <p:cNvSpPr/>
                  <p:nvPr/>
                </p:nvSpPr>
                <p:spPr>
                  <a:xfrm>
                    <a:off x="3711600" y="5184360"/>
                    <a:ext cx="2651040" cy="36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t">
                    <a:spAutoFit/>
                  </a:bodyPr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0      1.6     3.2     4.8  n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89" name=""/>
                  <p:cNvGrpSpPr/>
                  <p:nvPr/>
                </p:nvGrpSpPr>
                <p:grpSpPr>
                  <a:xfrm>
                    <a:off x="3211560" y="2268000"/>
                    <a:ext cx="2552400" cy="3146040"/>
                    <a:chOff x="3211560" y="2268000"/>
                    <a:chExt cx="2552400" cy="3146040"/>
                  </a:xfrm>
                </p:grpSpPr>
                <p:grpSp>
                  <p:nvGrpSpPr>
                    <p:cNvPr id="3490" name=""/>
                    <p:cNvGrpSpPr/>
                    <p:nvPr/>
                  </p:nvGrpSpPr>
                  <p:grpSpPr>
                    <a:xfrm>
                      <a:off x="3794040" y="4849560"/>
                      <a:ext cx="1969920" cy="142560"/>
                      <a:chOff x="3794040" y="4849560"/>
                      <a:chExt cx="1969920" cy="142560"/>
                    </a:xfrm>
                  </p:grpSpPr>
                  <p:sp>
                    <p:nvSpPr>
                      <p:cNvPr id="3491" name=""/>
                      <p:cNvSpPr/>
                      <p:nvPr/>
                    </p:nvSpPr>
                    <p:spPr>
                      <a:xfrm>
                        <a:off x="3794040" y="4917240"/>
                        <a:ext cx="1969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2" name=""/>
                      <p:cNvSpPr/>
                      <p:nvPr/>
                    </p:nvSpPr>
                    <p:spPr>
                      <a:xfrm>
                        <a:off x="5045040" y="486432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3" name=""/>
                      <p:cNvSpPr/>
                      <p:nvPr/>
                    </p:nvSpPr>
                    <p:spPr>
                      <a:xfrm>
                        <a:off x="4106880" y="486432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4" name=""/>
                      <p:cNvSpPr/>
                      <p:nvPr/>
                    </p:nvSpPr>
                    <p:spPr>
                      <a:xfrm>
                        <a:off x="4735440" y="484956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5" name=""/>
                      <p:cNvSpPr/>
                      <p:nvPr/>
                    </p:nvSpPr>
                    <p:spPr>
                      <a:xfrm>
                        <a:off x="4425840" y="485676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6" name=""/>
                      <p:cNvSpPr/>
                      <p:nvPr/>
                    </p:nvSpPr>
                    <p:spPr>
                      <a:xfrm>
                        <a:off x="5361480" y="484956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97" name=""/>
                    <p:cNvGrpSpPr/>
                    <p:nvPr/>
                  </p:nvGrpSpPr>
                  <p:grpSpPr>
                    <a:xfrm>
                      <a:off x="3738600" y="2268000"/>
                      <a:ext cx="186840" cy="3146040"/>
                      <a:chOff x="3738600" y="2268000"/>
                      <a:chExt cx="186840" cy="3146040"/>
                    </a:xfrm>
                  </p:grpSpPr>
                  <p:sp>
                    <p:nvSpPr>
                      <p:cNvPr id="3498" name=""/>
                      <p:cNvSpPr/>
                      <p:nvPr/>
                    </p:nvSpPr>
                    <p:spPr>
                      <a:xfrm flipV="1">
                        <a:off x="3826440" y="2268000"/>
                        <a:ext cx="0" cy="3146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9" name=""/>
                      <p:cNvSpPr/>
                      <p:nvPr/>
                    </p:nvSpPr>
                    <p:spPr>
                      <a:xfrm>
                        <a:off x="3754440" y="4032000"/>
                        <a:ext cx="171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0" name=""/>
                      <p:cNvSpPr/>
                      <p:nvPr/>
                    </p:nvSpPr>
                    <p:spPr>
                      <a:xfrm>
                        <a:off x="3743640" y="2784960"/>
                        <a:ext cx="171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1" name=""/>
                      <p:cNvSpPr/>
                      <p:nvPr/>
                    </p:nvSpPr>
                    <p:spPr>
                      <a:xfrm>
                        <a:off x="3738600" y="3414240"/>
                        <a:ext cx="171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02" name=""/>
                    <p:cNvSpPr/>
                    <p:nvPr/>
                  </p:nvSpPr>
                  <p:spPr>
                    <a:xfrm>
                      <a:off x="3732120" y="4606560"/>
                      <a:ext cx="1332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3" name=""/>
                    <p:cNvSpPr/>
                    <p:nvPr/>
                  </p:nvSpPr>
                  <p:spPr>
                    <a:xfrm>
                      <a:off x="3757320" y="4017600"/>
                      <a:ext cx="1335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4" name=""/>
                    <p:cNvSpPr/>
                    <p:nvPr/>
                  </p:nvSpPr>
                  <p:spPr>
                    <a:xfrm>
                      <a:off x="3760560" y="3401640"/>
                      <a:ext cx="1335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5" name=""/>
                    <p:cNvSpPr/>
                    <p:nvPr/>
                  </p:nvSpPr>
                  <p:spPr>
                    <a:xfrm>
                      <a:off x="3211560" y="2624040"/>
                      <a:ext cx="497880" cy="251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t">
                      <a:spAutoFit/>
                    </a:bodyPr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6" name=""/>
                    <p:cNvSpPr/>
                    <p:nvPr/>
                  </p:nvSpPr>
                  <p:spPr>
                    <a:xfrm>
                      <a:off x="3774960" y="2777760"/>
                      <a:ext cx="1332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3507" name=""/>
            <p:cNvSpPr/>
            <p:nvPr/>
          </p:nvSpPr>
          <p:spPr>
            <a:xfrm>
              <a:off x="4792680" y="218376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8" name=""/>
          <p:cNvGrpSpPr/>
          <p:nvPr/>
        </p:nvGrpSpPr>
        <p:grpSpPr>
          <a:xfrm>
            <a:off x="5996160" y="2012400"/>
            <a:ext cx="3151080" cy="4212360"/>
            <a:chOff x="5996160" y="2012400"/>
            <a:chExt cx="3151080" cy="4212360"/>
          </a:xfrm>
        </p:grpSpPr>
        <p:grpSp>
          <p:nvGrpSpPr>
            <p:cNvPr id="3509" name=""/>
            <p:cNvGrpSpPr/>
            <p:nvPr/>
          </p:nvGrpSpPr>
          <p:grpSpPr>
            <a:xfrm>
              <a:off x="5996160" y="2298240"/>
              <a:ext cx="3151080" cy="3277440"/>
              <a:chOff x="5996160" y="2298240"/>
              <a:chExt cx="3151080" cy="3277440"/>
            </a:xfrm>
          </p:grpSpPr>
          <p:sp>
            <p:nvSpPr>
              <p:cNvPr id="3510" name=""/>
              <p:cNvSpPr/>
              <p:nvPr/>
            </p:nvSpPr>
            <p:spPr>
              <a:xfrm>
                <a:off x="8437680" y="4883040"/>
                <a:ext cx="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7211880" y="4895640"/>
                <a:ext cx="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7827840" y="4895640"/>
                <a:ext cx="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3" name=""/>
              <p:cNvGrpSpPr/>
              <p:nvPr/>
            </p:nvGrpSpPr>
            <p:grpSpPr>
              <a:xfrm>
                <a:off x="5996160" y="2298240"/>
                <a:ext cx="3151080" cy="3277440"/>
                <a:chOff x="5996160" y="2298240"/>
                <a:chExt cx="3151080" cy="3277440"/>
              </a:xfrm>
            </p:grpSpPr>
            <p:sp>
              <p:nvSpPr>
                <p:cNvPr id="3514" name=""/>
                <p:cNvSpPr/>
                <p:nvPr/>
              </p:nvSpPr>
              <p:spPr>
                <a:xfrm>
                  <a:off x="6496200" y="5214600"/>
                  <a:ext cx="265104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0      1.6     3.2     4.8  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15" name=""/>
                <p:cNvGrpSpPr/>
                <p:nvPr/>
              </p:nvGrpSpPr>
              <p:grpSpPr>
                <a:xfrm>
                  <a:off x="5996160" y="2298240"/>
                  <a:ext cx="2552400" cy="3146040"/>
                  <a:chOff x="5996160" y="2298240"/>
                  <a:chExt cx="2552400" cy="3146040"/>
                </a:xfrm>
              </p:grpSpPr>
              <p:grpSp>
                <p:nvGrpSpPr>
                  <p:cNvPr id="3516" name=""/>
                  <p:cNvGrpSpPr/>
                  <p:nvPr/>
                </p:nvGrpSpPr>
                <p:grpSpPr>
                  <a:xfrm>
                    <a:off x="6578640" y="4879800"/>
                    <a:ext cx="1969920" cy="142560"/>
                    <a:chOff x="6578640" y="4879800"/>
                    <a:chExt cx="1969920" cy="142560"/>
                  </a:xfrm>
                </p:grpSpPr>
                <p:sp>
                  <p:nvSpPr>
                    <p:cNvPr id="3517" name=""/>
                    <p:cNvSpPr/>
                    <p:nvPr/>
                  </p:nvSpPr>
                  <p:spPr>
                    <a:xfrm>
                      <a:off x="6578640" y="4947480"/>
                      <a:ext cx="1969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8" name=""/>
                    <p:cNvSpPr/>
                    <p:nvPr/>
                  </p:nvSpPr>
                  <p:spPr>
                    <a:xfrm>
                      <a:off x="7829640" y="4894560"/>
                      <a:ext cx="0" cy="12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9" name=""/>
                    <p:cNvSpPr/>
                    <p:nvPr/>
                  </p:nvSpPr>
                  <p:spPr>
                    <a:xfrm>
                      <a:off x="6891480" y="4894560"/>
                      <a:ext cx="0" cy="12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0" name=""/>
                    <p:cNvSpPr/>
                    <p:nvPr/>
                  </p:nvSpPr>
                  <p:spPr>
                    <a:xfrm>
                      <a:off x="7520040" y="4879800"/>
                      <a:ext cx="0" cy="12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1" name=""/>
                    <p:cNvSpPr/>
                    <p:nvPr/>
                  </p:nvSpPr>
                  <p:spPr>
                    <a:xfrm>
                      <a:off x="7210440" y="4887000"/>
                      <a:ext cx="0" cy="12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2" name=""/>
                    <p:cNvSpPr/>
                    <p:nvPr/>
                  </p:nvSpPr>
                  <p:spPr>
                    <a:xfrm>
                      <a:off x="8146080" y="4879800"/>
                      <a:ext cx="0" cy="12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3" name=""/>
                  <p:cNvGrpSpPr/>
                  <p:nvPr/>
                </p:nvGrpSpPr>
                <p:grpSpPr>
                  <a:xfrm>
                    <a:off x="6523200" y="2298240"/>
                    <a:ext cx="186840" cy="3146040"/>
                    <a:chOff x="6523200" y="2298240"/>
                    <a:chExt cx="186840" cy="3146040"/>
                  </a:xfrm>
                </p:grpSpPr>
                <p:sp>
                  <p:nvSpPr>
                    <p:cNvPr id="3524" name=""/>
                    <p:cNvSpPr/>
                    <p:nvPr/>
                  </p:nvSpPr>
                  <p:spPr>
                    <a:xfrm flipV="1">
                      <a:off x="6611040" y="2298240"/>
                      <a:ext cx="0" cy="3146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5" name=""/>
                    <p:cNvSpPr/>
                    <p:nvPr/>
                  </p:nvSpPr>
                  <p:spPr>
                    <a:xfrm>
                      <a:off x="6539040" y="4062240"/>
                      <a:ext cx="17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6" name=""/>
                    <p:cNvSpPr/>
                    <p:nvPr/>
                  </p:nvSpPr>
                  <p:spPr>
                    <a:xfrm>
                      <a:off x="6528240" y="2815200"/>
                      <a:ext cx="17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7" name=""/>
                    <p:cNvSpPr/>
                    <p:nvPr/>
                  </p:nvSpPr>
                  <p:spPr>
                    <a:xfrm>
                      <a:off x="6523200" y="3444480"/>
                      <a:ext cx="17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28" name=""/>
                  <p:cNvSpPr/>
                  <p:nvPr/>
                </p:nvSpPr>
                <p:spPr>
                  <a:xfrm>
                    <a:off x="6516720" y="4636800"/>
                    <a:ext cx="133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9" name=""/>
                  <p:cNvSpPr/>
                  <p:nvPr/>
                </p:nvSpPr>
                <p:spPr>
                  <a:xfrm>
                    <a:off x="6541920" y="4047840"/>
                    <a:ext cx="133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0" name=""/>
                  <p:cNvSpPr/>
                  <p:nvPr/>
                </p:nvSpPr>
                <p:spPr>
                  <a:xfrm>
                    <a:off x="6545160" y="3431880"/>
                    <a:ext cx="133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"/>
                  <p:cNvSpPr/>
                  <p:nvPr/>
                </p:nvSpPr>
                <p:spPr>
                  <a:xfrm>
                    <a:off x="5996160" y="2654280"/>
                    <a:ext cx="497880" cy="2519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t">
                    <a:spAutoFit/>
                  </a:bodyPr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224"/>
                      </a:spcBef>
                      <a:spcAft>
                        <a:spcPts val="224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224"/>
                      </a:spcBef>
                      <a:spcAft>
                        <a:spcPts val="224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0.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224"/>
                      </a:spcBef>
                      <a:spcAft>
                        <a:spcPts val="224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0.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2" name=""/>
                  <p:cNvSpPr/>
                  <p:nvPr/>
                </p:nvSpPr>
                <p:spPr>
                  <a:xfrm>
                    <a:off x="6559560" y="2808000"/>
                    <a:ext cx="133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33" name=""/>
            <p:cNvGrpSpPr/>
            <p:nvPr/>
          </p:nvGrpSpPr>
          <p:grpSpPr>
            <a:xfrm>
              <a:off x="5996160" y="2012400"/>
              <a:ext cx="3151080" cy="4212360"/>
              <a:chOff x="5996160" y="2012400"/>
              <a:chExt cx="3151080" cy="4212360"/>
            </a:xfrm>
          </p:grpSpPr>
          <p:grpSp>
            <p:nvGrpSpPr>
              <p:cNvPr id="3534" name=""/>
              <p:cNvGrpSpPr/>
              <p:nvPr/>
            </p:nvGrpSpPr>
            <p:grpSpPr>
              <a:xfrm>
                <a:off x="5996160" y="2012400"/>
                <a:ext cx="3151080" cy="4212360"/>
                <a:chOff x="5996160" y="2012400"/>
                <a:chExt cx="3151080" cy="4212360"/>
              </a:xfrm>
            </p:grpSpPr>
            <p:grpSp>
              <p:nvGrpSpPr>
                <p:cNvPr id="3535" name=""/>
                <p:cNvGrpSpPr/>
                <p:nvPr/>
              </p:nvGrpSpPr>
              <p:grpSpPr>
                <a:xfrm>
                  <a:off x="5996160" y="2200320"/>
                  <a:ext cx="3151080" cy="4024440"/>
                  <a:chOff x="5996160" y="2200320"/>
                  <a:chExt cx="3151080" cy="4024440"/>
                </a:xfrm>
              </p:grpSpPr>
              <p:pic>
                <p:nvPicPr>
                  <p:cNvPr id="3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960" y="2200320"/>
                    <a:ext cx="3110040" cy="40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537" name=""/>
                  <p:cNvGrpSpPr/>
                  <p:nvPr/>
                </p:nvGrpSpPr>
                <p:grpSpPr>
                  <a:xfrm>
                    <a:off x="5996160" y="2269800"/>
                    <a:ext cx="3151080" cy="3277440"/>
                    <a:chOff x="5996160" y="2269800"/>
                    <a:chExt cx="3151080" cy="3277440"/>
                  </a:xfrm>
                </p:grpSpPr>
                <p:sp>
                  <p:nvSpPr>
                    <p:cNvPr id="3538" name=""/>
                    <p:cNvSpPr/>
                    <p:nvPr/>
                  </p:nvSpPr>
                  <p:spPr>
                    <a:xfrm>
                      <a:off x="8437680" y="4854600"/>
                      <a:ext cx="0" cy="1332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9" name=""/>
                    <p:cNvSpPr/>
                    <p:nvPr/>
                  </p:nvSpPr>
                  <p:spPr>
                    <a:xfrm>
                      <a:off x="7211880" y="4867200"/>
                      <a:ext cx="0" cy="133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0" name=""/>
                    <p:cNvSpPr/>
                    <p:nvPr/>
                  </p:nvSpPr>
                  <p:spPr>
                    <a:xfrm>
                      <a:off x="7827840" y="4867200"/>
                      <a:ext cx="0" cy="133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541" name=""/>
                    <p:cNvGrpSpPr/>
                    <p:nvPr/>
                  </p:nvGrpSpPr>
                  <p:grpSpPr>
                    <a:xfrm>
                      <a:off x="5996160" y="2269800"/>
                      <a:ext cx="3151080" cy="3277440"/>
                      <a:chOff x="5996160" y="2269800"/>
                      <a:chExt cx="3151080" cy="3277440"/>
                    </a:xfrm>
                  </p:grpSpPr>
                  <p:sp>
                    <p:nvSpPr>
                      <p:cNvPr id="3542" name=""/>
                      <p:cNvSpPr/>
                      <p:nvPr/>
                    </p:nvSpPr>
                    <p:spPr>
                      <a:xfrm>
                        <a:off x="6496200" y="5186160"/>
                        <a:ext cx="2651040" cy="36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t">
                        <a:spAutoFit/>
                      </a:bodyPr>
                      <a:p>
                        <a:pPr>
                          <a:spcBef>
                            <a:spcPts val="337"/>
                          </a:spcBef>
                          <a:spcAft>
                            <a:spcPts val="337"/>
                          </a:spcAft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0      1.6     3.2     4.8  ns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543" name=""/>
                      <p:cNvGrpSpPr/>
                      <p:nvPr/>
                    </p:nvGrpSpPr>
                    <p:grpSpPr>
                      <a:xfrm>
                        <a:off x="5996160" y="2269800"/>
                        <a:ext cx="2552400" cy="3146040"/>
                        <a:chOff x="5996160" y="2269800"/>
                        <a:chExt cx="2552400" cy="3146040"/>
                      </a:xfrm>
                    </p:grpSpPr>
                    <p:grpSp>
                      <p:nvGrpSpPr>
                        <p:cNvPr id="3544" name=""/>
                        <p:cNvGrpSpPr/>
                        <p:nvPr/>
                      </p:nvGrpSpPr>
                      <p:grpSpPr>
                        <a:xfrm>
                          <a:off x="6578640" y="4851360"/>
                          <a:ext cx="1969920" cy="142560"/>
                          <a:chOff x="6578640" y="4851360"/>
                          <a:chExt cx="1969920" cy="142560"/>
                        </a:xfrm>
                      </p:grpSpPr>
                      <p:sp>
                        <p:nvSpPr>
                          <p:cNvPr id="3545" name=""/>
                          <p:cNvSpPr/>
                          <p:nvPr/>
                        </p:nvSpPr>
                        <p:spPr>
                          <a:xfrm>
                            <a:off x="6578640" y="4919040"/>
                            <a:ext cx="196992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6" name=""/>
                          <p:cNvSpPr/>
                          <p:nvPr/>
                        </p:nvSpPr>
                        <p:spPr>
                          <a:xfrm>
                            <a:off x="7829640" y="4866120"/>
                            <a:ext cx="0" cy="127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0" bIns="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7" name=""/>
                          <p:cNvSpPr/>
                          <p:nvPr/>
                        </p:nvSpPr>
                        <p:spPr>
                          <a:xfrm>
                            <a:off x="6891480" y="4866120"/>
                            <a:ext cx="0" cy="127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0" bIns="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8" name=""/>
                          <p:cNvSpPr/>
                          <p:nvPr/>
                        </p:nvSpPr>
                        <p:spPr>
                          <a:xfrm>
                            <a:off x="7520040" y="4851360"/>
                            <a:ext cx="0" cy="127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0" bIns="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9" name=""/>
                          <p:cNvSpPr/>
                          <p:nvPr/>
                        </p:nvSpPr>
                        <p:spPr>
                          <a:xfrm>
                            <a:off x="7210440" y="4858560"/>
                            <a:ext cx="0" cy="127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0" bIns="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50" name=""/>
                          <p:cNvSpPr/>
                          <p:nvPr/>
                        </p:nvSpPr>
                        <p:spPr>
                          <a:xfrm>
                            <a:off x="8146080" y="4851360"/>
                            <a:ext cx="0" cy="127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0" bIns="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51" name=""/>
                        <p:cNvGrpSpPr/>
                        <p:nvPr/>
                      </p:nvGrpSpPr>
                      <p:grpSpPr>
                        <a:xfrm>
                          <a:off x="6523200" y="2269800"/>
                          <a:ext cx="186840" cy="3146040"/>
                          <a:chOff x="6523200" y="2269800"/>
                          <a:chExt cx="186840" cy="3146040"/>
                        </a:xfrm>
                      </p:grpSpPr>
                      <p:sp>
                        <p:nvSpPr>
                          <p:cNvPr id="3552" name=""/>
                          <p:cNvSpPr/>
                          <p:nvPr/>
                        </p:nvSpPr>
                        <p:spPr>
                          <a:xfrm flipV="1">
                            <a:off x="6611040" y="2269800"/>
                            <a:ext cx="0" cy="31460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0" bIns="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53" name=""/>
                          <p:cNvSpPr/>
                          <p:nvPr/>
                        </p:nvSpPr>
                        <p:spPr>
                          <a:xfrm>
                            <a:off x="6539040" y="4033800"/>
                            <a:ext cx="171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54" name=""/>
                          <p:cNvSpPr/>
                          <p:nvPr/>
                        </p:nvSpPr>
                        <p:spPr>
                          <a:xfrm>
                            <a:off x="6528240" y="2786760"/>
                            <a:ext cx="171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55" name=""/>
                          <p:cNvSpPr/>
                          <p:nvPr/>
                        </p:nvSpPr>
                        <p:spPr>
                          <a:xfrm>
                            <a:off x="6523200" y="3416040"/>
                            <a:ext cx="171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56" name=""/>
                        <p:cNvSpPr/>
                        <p:nvPr/>
                      </p:nvSpPr>
                      <p:spPr>
                        <a:xfrm>
                          <a:off x="6516720" y="4608360"/>
                          <a:ext cx="133200" cy="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7" name=""/>
                        <p:cNvSpPr/>
                        <p:nvPr/>
                      </p:nvSpPr>
                      <p:spPr>
                        <a:xfrm>
                          <a:off x="6541920" y="4019400"/>
                          <a:ext cx="133560" cy="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8" name=""/>
                        <p:cNvSpPr/>
                        <p:nvPr/>
                      </p:nvSpPr>
                      <p:spPr>
                        <a:xfrm>
                          <a:off x="6545160" y="3403440"/>
                          <a:ext cx="133560" cy="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9" name=""/>
                        <p:cNvSpPr/>
                        <p:nvPr/>
                      </p:nvSpPr>
                      <p:spPr>
                        <a:xfrm>
                          <a:off x="5996160" y="2625840"/>
                          <a:ext cx="497880" cy="2519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3200" bIns="43200" anchor="t">
                          <a:spAutoFit/>
                        </a:bodyPr>
                        <a:p>
                          <a:pPr>
                            <a:spcBef>
                              <a:spcPts val="337"/>
                            </a:spcBef>
                            <a:spcAft>
                              <a:spcPts val="337"/>
                            </a:spcAft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r>
                            <a:rPr b="0" lang="de-DE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1.4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spcBef>
                              <a:spcPts val="224"/>
                            </a:spcBef>
                            <a:spcAft>
                              <a:spcPts val="224"/>
                            </a:spcAft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spcBef>
                              <a:spcPts val="337"/>
                            </a:spcBef>
                            <a:spcAft>
                              <a:spcPts val="337"/>
                            </a:spcAft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r>
                            <a:rPr b="0" lang="de-DE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1.0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spcBef>
                              <a:spcPts val="224"/>
                            </a:spcBef>
                            <a:spcAft>
                              <a:spcPts val="224"/>
                            </a:spcAft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spcBef>
                              <a:spcPts val="337"/>
                            </a:spcBef>
                            <a:spcAft>
                              <a:spcPts val="337"/>
                            </a:spcAft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r>
                            <a:rPr b="0" lang="de-DE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0.6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spcBef>
                              <a:spcPts val="224"/>
                            </a:spcBef>
                            <a:spcAft>
                              <a:spcPts val="224"/>
                            </a:spcAft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spcBef>
                              <a:spcPts val="337"/>
                            </a:spcBef>
                            <a:spcAft>
                              <a:spcPts val="337"/>
                            </a:spcAft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r>
                            <a:rPr b="0" lang="de-DE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0.2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spcBef>
                              <a:spcPts val="337"/>
                            </a:spcBef>
                            <a:spcAft>
                              <a:spcPts val="337"/>
                            </a:spcAft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0" name=""/>
                        <p:cNvSpPr/>
                        <p:nvPr/>
                      </p:nvSpPr>
                      <p:spPr>
                        <a:xfrm>
                          <a:off x="6559560" y="2779560"/>
                          <a:ext cx="133200" cy="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561" name=""/>
                <p:cNvSpPr/>
                <p:nvPr/>
              </p:nvSpPr>
              <p:spPr>
                <a:xfrm>
                  <a:off x="7512120" y="2012400"/>
                  <a:ext cx="577800" cy="63972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pPr algn="ctr">
                    <a:spcBef>
                      <a:spcPts val="451"/>
                    </a:spcBef>
                    <a:spcAft>
                      <a:spcPts val="451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2" name=""/>
              <p:cNvSpPr/>
              <p:nvPr/>
            </p:nvSpPr>
            <p:spPr>
              <a:xfrm>
                <a:off x="6710400" y="3348000"/>
                <a:ext cx="689040" cy="42876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3" name=""/>
          <p:cNvGrpSpPr/>
          <p:nvPr/>
        </p:nvGrpSpPr>
        <p:grpSpPr>
          <a:xfrm>
            <a:off x="0" y="1875600"/>
            <a:ext cx="3151080" cy="4349160"/>
            <a:chOff x="0" y="1875600"/>
            <a:chExt cx="3151080" cy="4349160"/>
          </a:xfrm>
        </p:grpSpPr>
        <p:grpSp>
          <p:nvGrpSpPr>
            <p:cNvPr id="3564" name=""/>
            <p:cNvGrpSpPr/>
            <p:nvPr/>
          </p:nvGrpSpPr>
          <p:grpSpPr>
            <a:xfrm>
              <a:off x="0" y="2200320"/>
              <a:ext cx="3151080" cy="4024440"/>
              <a:chOff x="0" y="2200320"/>
              <a:chExt cx="3151080" cy="4024440"/>
            </a:xfrm>
          </p:grpSpPr>
          <p:pic>
            <p:nvPicPr>
              <p:cNvPr id="35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2200320"/>
                <a:ext cx="3110040" cy="40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66" name=""/>
              <p:cNvGrpSpPr/>
              <p:nvPr/>
            </p:nvGrpSpPr>
            <p:grpSpPr>
              <a:xfrm>
                <a:off x="0" y="2282400"/>
                <a:ext cx="3151080" cy="3277440"/>
                <a:chOff x="0" y="2282400"/>
                <a:chExt cx="3151080" cy="3277440"/>
              </a:xfrm>
            </p:grpSpPr>
            <p:sp>
              <p:nvSpPr>
                <p:cNvPr id="3567" name=""/>
                <p:cNvSpPr/>
                <p:nvPr/>
              </p:nvSpPr>
              <p:spPr>
                <a:xfrm>
                  <a:off x="2441520" y="4867200"/>
                  <a:ext cx="0" cy="13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8" name=""/>
                <p:cNvSpPr/>
                <p:nvPr/>
              </p:nvSpPr>
              <p:spPr>
                <a:xfrm>
                  <a:off x="1215720" y="48798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9" name=""/>
                <p:cNvSpPr/>
                <p:nvPr/>
              </p:nvSpPr>
              <p:spPr>
                <a:xfrm>
                  <a:off x="1831680" y="48798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70" name=""/>
                <p:cNvGrpSpPr/>
                <p:nvPr/>
              </p:nvGrpSpPr>
              <p:grpSpPr>
                <a:xfrm>
                  <a:off x="0" y="2282400"/>
                  <a:ext cx="3151080" cy="3277440"/>
                  <a:chOff x="0" y="2282400"/>
                  <a:chExt cx="3151080" cy="3277440"/>
                </a:xfrm>
              </p:grpSpPr>
              <p:sp>
                <p:nvSpPr>
                  <p:cNvPr id="3571" name=""/>
                  <p:cNvSpPr/>
                  <p:nvPr/>
                </p:nvSpPr>
                <p:spPr>
                  <a:xfrm>
                    <a:off x="500040" y="5198760"/>
                    <a:ext cx="2651040" cy="36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t">
                    <a:spAutoFit/>
                  </a:bodyPr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0      1.6     3.2     4.8  n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2" name=""/>
                  <p:cNvGrpSpPr/>
                  <p:nvPr/>
                </p:nvGrpSpPr>
                <p:grpSpPr>
                  <a:xfrm>
                    <a:off x="0" y="2282400"/>
                    <a:ext cx="2552400" cy="3146040"/>
                    <a:chOff x="0" y="2282400"/>
                    <a:chExt cx="2552400" cy="3146040"/>
                  </a:xfrm>
                </p:grpSpPr>
                <p:grpSp>
                  <p:nvGrpSpPr>
                    <p:cNvPr id="3573" name=""/>
                    <p:cNvGrpSpPr/>
                    <p:nvPr/>
                  </p:nvGrpSpPr>
                  <p:grpSpPr>
                    <a:xfrm>
                      <a:off x="582480" y="4863960"/>
                      <a:ext cx="1969920" cy="142560"/>
                      <a:chOff x="582480" y="4863960"/>
                      <a:chExt cx="1969920" cy="142560"/>
                    </a:xfrm>
                  </p:grpSpPr>
                  <p:sp>
                    <p:nvSpPr>
                      <p:cNvPr id="3574" name=""/>
                      <p:cNvSpPr/>
                      <p:nvPr/>
                    </p:nvSpPr>
                    <p:spPr>
                      <a:xfrm>
                        <a:off x="582480" y="4931640"/>
                        <a:ext cx="1969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75" name=""/>
                      <p:cNvSpPr/>
                      <p:nvPr/>
                    </p:nvSpPr>
                    <p:spPr>
                      <a:xfrm>
                        <a:off x="1833480" y="487872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76" name=""/>
                      <p:cNvSpPr/>
                      <p:nvPr/>
                    </p:nvSpPr>
                    <p:spPr>
                      <a:xfrm>
                        <a:off x="895320" y="487872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77" name=""/>
                      <p:cNvSpPr/>
                      <p:nvPr/>
                    </p:nvSpPr>
                    <p:spPr>
                      <a:xfrm>
                        <a:off x="1523880" y="486396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78" name=""/>
                      <p:cNvSpPr/>
                      <p:nvPr/>
                    </p:nvSpPr>
                    <p:spPr>
                      <a:xfrm>
                        <a:off x="1214280" y="487116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79" name=""/>
                      <p:cNvSpPr/>
                      <p:nvPr/>
                    </p:nvSpPr>
                    <p:spPr>
                      <a:xfrm>
                        <a:off x="2149920" y="4863960"/>
                        <a:ext cx="0" cy="12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80" name=""/>
                    <p:cNvGrpSpPr/>
                    <p:nvPr/>
                  </p:nvGrpSpPr>
                  <p:grpSpPr>
                    <a:xfrm>
                      <a:off x="527040" y="2282400"/>
                      <a:ext cx="186840" cy="3146040"/>
                      <a:chOff x="527040" y="2282400"/>
                      <a:chExt cx="186840" cy="3146040"/>
                    </a:xfrm>
                  </p:grpSpPr>
                  <p:sp>
                    <p:nvSpPr>
                      <p:cNvPr id="3581" name=""/>
                      <p:cNvSpPr/>
                      <p:nvPr/>
                    </p:nvSpPr>
                    <p:spPr>
                      <a:xfrm flipV="1">
                        <a:off x="614880" y="2282400"/>
                        <a:ext cx="0" cy="3146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82" name=""/>
                      <p:cNvSpPr/>
                      <p:nvPr/>
                    </p:nvSpPr>
                    <p:spPr>
                      <a:xfrm>
                        <a:off x="542880" y="4046400"/>
                        <a:ext cx="171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83" name=""/>
                      <p:cNvSpPr/>
                      <p:nvPr/>
                    </p:nvSpPr>
                    <p:spPr>
                      <a:xfrm>
                        <a:off x="532080" y="2799360"/>
                        <a:ext cx="171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84" name=""/>
                      <p:cNvSpPr/>
                      <p:nvPr/>
                    </p:nvSpPr>
                    <p:spPr>
                      <a:xfrm>
                        <a:off x="527040" y="3428640"/>
                        <a:ext cx="171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85" name=""/>
                    <p:cNvSpPr/>
                    <p:nvPr/>
                  </p:nvSpPr>
                  <p:spPr>
                    <a:xfrm>
                      <a:off x="520560" y="4620960"/>
                      <a:ext cx="1332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6" name=""/>
                    <p:cNvSpPr/>
                    <p:nvPr/>
                  </p:nvSpPr>
                  <p:spPr>
                    <a:xfrm>
                      <a:off x="545760" y="4032000"/>
                      <a:ext cx="1335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7" name=""/>
                    <p:cNvSpPr/>
                    <p:nvPr/>
                  </p:nvSpPr>
                  <p:spPr>
                    <a:xfrm>
                      <a:off x="549000" y="3416040"/>
                      <a:ext cx="1335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8" name=""/>
                    <p:cNvSpPr/>
                    <p:nvPr/>
                  </p:nvSpPr>
                  <p:spPr>
                    <a:xfrm>
                      <a:off x="0" y="2638440"/>
                      <a:ext cx="497880" cy="251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t">
                      <a:spAutoFit/>
                    </a:bodyPr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9" name=""/>
                    <p:cNvSpPr/>
                    <p:nvPr/>
                  </p:nvSpPr>
                  <p:spPr>
                    <a:xfrm>
                      <a:off x="563400" y="2792160"/>
                      <a:ext cx="1332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3590" name=""/>
            <p:cNvSpPr/>
            <p:nvPr/>
          </p:nvSpPr>
          <p:spPr>
            <a:xfrm>
              <a:off x="1746360" y="187560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1" name=""/>
          <p:cNvSpPr/>
          <p:nvPr/>
        </p:nvSpPr>
        <p:spPr>
          <a:xfrm>
            <a:off x="423720" y="671400"/>
            <a:ext cx="2644920" cy="1154160"/>
          </a:xfrm>
          <a:prstGeom prst="wedgeRectCallout">
            <a:avLst>
              <a:gd name="adj1" fmla="val -40217"/>
              <a:gd name="adj2" fmla="val 20405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mp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accurate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3249720" y="641520"/>
            <a:ext cx="2644560" cy="1153800"/>
          </a:xfrm>
          <a:prstGeom prst="wedgeRectCallout">
            <a:avLst>
              <a:gd name="adj1" fmla="val -10986"/>
              <a:gd name="adj2" fmla="val 20281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sing  behavior from external 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6148440" y="617400"/>
            <a:ext cx="2644560" cy="1154160"/>
          </a:xfrm>
          <a:prstGeom prst="wedgeRectCallout">
            <a:avLst>
              <a:gd name="adj1" fmla="val -17166"/>
              <a:gd name="adj2" fmla="val 19181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itional swing by open sourc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4" name=""/>
          <p:cNvGrpSpPr/>
          <p:nvPr/>
        </p:nvGrpSpPr>
        <p:grpSpPr>
          <a:xfrm>
            <a:off x="382680" y="5376960"/>
            <a:ext cx="8268840" cy="855360"/>
            <a:chOff x="382680" y="5376960"/>
            <a:chExt cx="8268840" cy="855360"/>
          </a:xfrm>
        </p:grpSpPr>
        <p:sp>
          <p:nvSpPr>
            <p:cNvPr id="3595" name=""/>
            <p:cNvSpPr/>
            <p:nvPr/>
          </p:nvSpPr>
          <p:spPr>
            <a:xfrm>
              <a:off x="382680" y="5376960"/>
              <a:ext cx="826884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load was a 3 inch transmission line with  Rload 50 to 1P2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river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 of 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018040" y="6067440"/>
              <a:ext cx="90396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1643760" y="6078600"/>
              <a:ext cx="903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rot="9000000">
            <a:off x="489960" y="3050640"/>
            <a:ext cx="1168200" cy="127980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279800"/>
              <a:gd name="textAreaBottom" fmla="*/ 1280160 h 1279800"/>
            </a:gdLst>
            <a:ahLst/>
            <a:rect l="textAreaLeft" t="textAreaTop" r="textAreaRight" b="textAreaBottom"/>
            <a:pathLst>
              <a:path w="21600" h="21600">
                <a:moveTo>
                  <a:pt x="7718" y="1769"/>
                </a:moveTo>
                <a:arcTo wR="-9542" hR="-9542" stAng="-6530591" swAng="-5896465"/>
                <a:lnTo>
                  <a:pt x="20413" y="5877"/>
                </a:lnTo>
                <a:arcTo wR="10800" hR="10800" stAng="-1627056" swAng="5896465"/>
                <a:lnTo>
                  <a:pt x="15160" y="23576"/>
                </a:lnTo>
                <a:lnTo>
                  <a:pt x="10934" y="21501"/>
                </a:lnTo>
                <a:lnTo>
                  <a:pt x="13010" y="1727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5600" y="228240"/>
            <a:ext cx="86342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927520" y="527760"/>
            <a:ext cx="3257280" cy="3363120"/>
            <a:chOff x="2927520" y="527760"/>
            <a:chExt cx="3257280" cy="3363120"/>
          </a:xfrm>
        </p:grpSpPr>
        <p:sp>
          <p:nvSpPr>
            <p:cNvPr id="91" name=""/>
            <p:cNvSpPr/>
            <p:nvPr/>
          </p:nvSpPr>
          <p:spPr>
            <a:xfrm>
              <a:off x="2927520" y="527760"/>
              <a:ext cx="3055680" cy="2567880"/>
            </a:xfrm>
            <a:prstGeom prst="horizontalScroll">
              <a:avLst>
                <a:gd name="adj" fmla="val 12500"/>
              </a:avLst>
            </a:prstGeom>
            <a:solidFill>
              <a:srgbClr val="ffcc00"/>
            </a:solidFill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Monotype Corsiva"/>
                </a:rPr>
                <a:t>Experiences with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Monotype Corsiva"/>
                </a:rPr>
                <a:t>driver schedu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927520" y="2540160"/>
              <a:ext cx="3257280" cy="1350720"/>
              <a:chOff x="2927520" y="2540160"/>
              <a:chExt cx="3257280" cy="135072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927520" y="3034080"/>
                <a:ext cx="3257280" cy="856800"/>
                <a:chOff x="2927520" y="3034080"/>
                <a:chExt cx="3257280" cy="856800"/>
              </a:xfrm>
            </p:grpSpPr>
            <p:grpSp>
              <p:nvGrpSpPr>
                <p:cNvPr id="94" name=""/>
                <p:cNvGrpSpPr/>
                <p:nvPr/>
              </p:nvGrpSpPr>
              <p:grpSpPr>
                <a:xfrm>
                  <a:off x="2927520" y="3678120"/>
                  <a:ext cx="3257280" cy="212760"/>
                  <a:chOff x="2927520" y="3678120"/>
                  <a:chExt cx="3257280" cy="21276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3470760" y="3678120"/>
                    <a:ext cx="54000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4557600" y="3678120"/>
                    <a:ext cx="54036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5101200" y="3678120"/>
                    <a:ext cx="54000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5644440" y="3678120"/>
                    <a:ext cx="54036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4014000" y="3678120"/>
                    <a:ext cx="54036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927520" y="3678120"/>
                    <a:ext cx="54036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3200400" y="3463200"/>
                  <a:ext cx="2714040" cy="212760"/>
                  <a:chOff x="3200400" y="3463200"/>
                  <a:chExt cx="2714040" cy="2127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3200400" y="3463200"/>
                    <a:ext cx="54036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287240" y="3463200"/>
                    <a:ext cx="54036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4830480" y="3463200"/>
                    <a:ext cx="54036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5374080" y="3463200"/>
                    <a:ext cx="54036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3743640" y="3463200"/>
                    <a:ext cx="54036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3471840" y="3034080"/>
                  <a:ext cx="2170440" cy="427320"/>
                  <a:chOff x="3471840" y="3034080"/>
                  <a:chExt cx="2170440" cy="42732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4015080" y="3248640"/>
                    <a:ext cx="54036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101920" y="3248640"/>
                    <a:ext cx="54036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4558680" y="3248640"/>
                    <a:ext cx="54000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471840" y="3248640"/>
                    <a:ext cx="54036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744720" y="3034080"/>
                    <a:ext cx="54036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4831200" y="3034080"/>
                    <a:ext cx="54036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287960" y="3034080"/>
                    <a:ext cx="540000" cy="212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" name=""/>
              <p:cNvGrpSpPr/>
              <p:nvPr/>
            </p:nvGrpSpPr>
            <p:grpSpPr>
              <a:xfrm>
                <a:off x="4157280" y="3034080"/>
                <a:ext cx="810000" cy="853560"/>
                <a:chOff x="4157280" y="3034080"/>
                <a:chExt cx="810000" cy="85356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4157280" y="3677760"/>
                  <a:ext cx="810000" cy="209880"/>
                  <a:chOff x="4157280" y="3677760"/>
                  <a:chExt cx="810000" cy="20988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4190760" y="3746520"/>
                    <a:ext cx="742680" cy="70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157280" y="3816720"/>
                    <a:ext cx="810000" cy="70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4224600" y="3677760"/>
                    <a:ext cx="675000" cy="70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4258440" y="3463200"/>
                  <a:ext cx="607680" cy="209880"/>
                  <a:chOff x="4258440" y="3463200"/>
                  <a:chExt cx="607680" cy="20988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4283640" y="3531960"/>
                    <a:ext cx="557280" cy="70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4258440" y="3602160"/>
                    <a:ext cx="607680" cy="70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4308840" y="3463200"/>
                    <a:ext cx="506520" cy="70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4326480" y="3248640"/>
                  <a:ext cx="472680" cy="209880"/>
                  <a:chOff x="4326480" y="3248640"/>
                  <a:chExt cx="472680" cy="2098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4345920" y="3317400"/>
                    <a:ext cx="433440" cy="70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4326480" y="3387600"/>
                    <a:ext cx="472680" cy="70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365720" y="3248640"/>
                    <a:ext cx="394200" cy="70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4393800" y="3034080"/>
                  <a:ext cx="337680" cy="209880"/>
                  <a:chOff x="4393800" y="3034080"/>
                  <a:chExt cx="337680" cy="20988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4407480" y="3102840"/>
                    <a:ext cx="309600" cy="70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4393800" y="3173040"/>
                    <a:ext cx="337680" cy="70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421880" y="3034080"/>
                    <a:ext cx="281520" cy="70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2" name=""/>
              <p:cNvSpPr/>
              <p:nvPr/>
            </p:nvSpPr>
            <p:spPr>
              <a:xfrm>
                <a:off x="3881880" y="2776680"/>
                <a:ext cx="1350720" cy="253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068360" y="2873160"/>
                <a:ext cx="977760" cy="152280"/>
                <a:chOff x="4068360" y="2873160"/>
                <a:chExt cx="977760" cy="152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068360" y="2873520"/>
                  <a:ext cx="135000" cy="15192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281480" y="2873160"/>
                  <a:ext cx="135000" cy="15192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911120" y="2873520"/>
                  <a:ext cx="135000" cy="15192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697280" y="2873520"/>
                  <a:ext cx="135000" cy="15192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486320" y="2873520"/>
                  <a:ext cx="135000" cy="15192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3842640" y="2755080"/>
                <a:ext cx="1429920" cy="42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3871080" y="2583360"/>
                <a:ext cx="1372680" cy="171360"/>
              </a:xfrm>
              <a:custGeom>
                <a:avLst/>
                <a:gdLst>
                  <a:gd name="textAreaLeft" fmla="*/ 142920 w 1372680"/>
                  <a:gd name="textAreaRight" fmla="*/ 1229760 w 1372680"/>
                  <a:gd name="textAreaTop" fmla="*/ 17640 h 171360"/>
                  <a:gd name="textAreaBottom" fmla="*/ 153720 h 17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2120" y="2540160"/>
                <a:ext cx="1283400" cy="42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6237360" y="1183680"/>
            <a:ext cx="2906640" cy="1847880"/>
            <a:chOff x="6237360" y="1183680"/>
            <a:chExt cx="2906640" cy="1847880"/>
          </a:xfrm>
        </p:grpSpPr>
        <p:sp>
          <p:nvSpPr>
            <p:cNvPr id="143" name=""/>
            <p:cNvSpPr/>
            <p:nvPr/>
          </p:nvSpPr>
          <p:spPr>
            <a:xfrm>
              <a:off x="6237360" y="1183680"/>
              <a:ext cx="2906640" cy="10904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Monotype Corsiva"/>
                </a:rPr>
                <a:t>Driver schedules bas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6377040" y="2020680"/>
              <a:ext cx="2439720" cy="1010880"/>
              <a:chOff x="6377040" y="2020680"/>
              <a:chExt cx="2439720" cy="101088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6377040" y="2390400"/>
                <a:ext cx="2439720" cy="641160"/>
                <a:chOff x="6377040" y="2390400"/>
                <a:chExt cx="2439720" cy="641160"/>
              </a:xfrm>
            </p:grpSpPr>
            <p:grpSp>
              <p:nvGrpSpPr>
                <p:cNvPr id="146" name=""/>
                <p:cNvGrpSpPr/>
                <p:nvPr/>
              </p:nvGrpSpPr>
              <p:grpSpPr>
                <a:xfrm>
                  <a:off x="6377040" y="2872440"/>
                  <a:ext cx="2439720" cy="159120"/>
                  <a:chOff x="6377040" y="2872440"/>
                  <a:chExt cx="2439720" cy="1591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6783840" y="28724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7598160" y="28724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8005320" y="28724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8412120" y="28724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7191000" y="28724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377040" y="28724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6581160" y="2711880"/>
                  <a:ext cx="2032920" cy="159120"/>
                  <a:chOff x="6581160" y="2711880"/>
                  <a:chExt cx="2032920" cy="1591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6581160" y="27118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395120" y="27118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802280" y="27118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8209440" y="27118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987960" y="27118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784920" y="2390400"/>
                  <a:ext cx="1625760" cy="319680"/>
                  <a:chOff x="6784920" y="2390400"/>
                  <a:chExt cx="1625760" cy="3196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191720" y="25509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8006040" y="25509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7598880" y="25509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784920" y="25509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989040" y="23904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803360" y="23904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7396200" y="23904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7" name=""/>
              <p:cNvGrpSpPr/>
              <p:nvPr/>
            </p:nvGrpSpPr>
            <p:grpSpPr>
              <a:xfrm>
                <a:off x="7298280" y="2390400"/>
                <a:ext cx="606960" cy="639360"/>
                <a:chOff x="7298280" y="2390400"/>
                <a:chExt cx="606960" cy="63936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7298280" y="2872440"/>
                  <a:ext cx="606960" cy="157320"/>
                  <a:chOff x="7298280" y="2872440"/>
                  <a:chExt cx="606960" cy="15732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7323480" y="2923920"/>
                    <a:ext cx="5565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7298280" y="2976480"/>
                    <a:ext cx="6069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7348680" y="2872440"/>
                    <a:ext cx="5058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373880" y="2711520"/>
                  <a:ext cx="455400" cy="157320"/>
                  <a:chOff x="7373880" y="2711520"/>
                  <a:chExt cx="455400" cy="1573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7392600" y="2763000"/>
                    <a:ext cx="4176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373880" y="2815560"/>
                    <a:ext cx="4554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7411680" y="2711520"/>
                    <a:ext cx="3798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7425000" y="2550960"/>
                  <a:ext cx="354240" cy="157320"/>
                  <a:chOff x="7425000" y="2550960"/>
                  <a:chExt cx="354240" cy="15732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7439400" y="2602440"/>
                    <a:ext cx="3250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7425000" y="2655000"/>
                    <a:ext cx="35424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7454160" y="2550960"/>
                    <a:ext cx="2952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475760" y="2390400"/>
                  <a:ext cx="253080" cy="157320"/>
                  <a:chOff x="7475760" y="2390400"/>
                  <a:chExt cx="253080" cy="1573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7486200" y="2441880"/>
                    <a:ext cx="2322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7475760" y="2494440"/>
                    <a:ext cx="2530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7496640" y="2390400"/>
                    <a:ext cx="2109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4" name=""/>
              <p:cNvSpPr/>
              <p:nvPr/>
            </p:nvSpPr>
            <p:spPr>
              <a:xfrm>
                <a:off x="7092000" y="2197800"/>
                <a:ext cx="1011600" cy="1897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7231680" y="2270160"/>
                <a:ext cx="732600" cy="113760"/>
                <a:chOff x="7231680" y="2270160"/>
                <a:chExt cx="732600" cy="1137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231680" y="2270160"/>
                  <a:ext cx="10116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91160" y="2270160"/>
                  <a:ext cx="10116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863120" y="2270160"/>
                  <a:ext cx="10116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702920" y="2270160"/>
                  <a:ext cx="10116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544880" y="2270160"/>
                  <a:ext cx="10116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7062480" y="2181600"/>
                <a:ext cx="1071360" cy="32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7084080" y="2052360"/>
                <a:ext cx="1028160" cy="128520"/>
              </a:xfrm>
              <a:custGeom>
                <a:avLst/>
                <a:gdLst>
                  <a:gd name="textAreaLeft" fmla="*/ 106920 w 1028160"/>
                  <a:gd name="textAreaRight" fmla="*/ 921240 w 1028160"/>
                  <a:gd name="textAreaTop" fmla="*/ 13320 h 128520"/>
                  <a:gd name="textAreaBottom" fmla="*/ 115200 h 1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114680" y="2020680"/>
                <a:ext cx="961200" cy="32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6348240" y="3647160"/>
            <a:ext cx="2439720" cy="1848240"/>
            <a:chOff x="6348240" y="3647160"/>
            <a:chExt cx="2439720" cy="1848240"/>
          </a:xfrm>
        </p:grpSpPr>
        <p:sp>
          <p:nvSpPr>
            <p:cNvPr id="195" name=""/>
            <p:cNvSpPr/>
            <p:nvPr/>
          </p:nvSpPr>
          <p:spPr>
            <a:xfrm>
              <a:off x="6825960" y="3647160"/>
              <a:ext cx="1487520" cy="10904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Monotype Corsiva"/>
                </a:rPr>
                <a:t>Push-pu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348240" y="4484520"/>
              <a:ext cx="2439720" cy="1010880"/>
              <a:chOff x="6348240" y="4484520"/>
              <a:chExt cx="2439720" cy="10108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6348240" y="4854240"/>
                <a:ext cx="2439720" cy="641160"/>
                <a:chOff x="6348240" y="4854240"/>
                <a:chExt cx="2439720" cy="64116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6348240" y="5336280"/>
                  <a:ext cx="2439720" cy="159120"/>
                  <a:chOff x="6348240" y="5336280"/>
                  <a:chExt cx="2439720" cy="1591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6755040" y="53362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569000" y="53362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976160" y="53362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8383320" y="53362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162200" y="53362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348240" y="53362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6552360" y="5175360"/>
                  <a:ext cx="2032560" cy="159120"/>
                  <a:chOff x="6552360" y="5175360"/>
                  <a:chExt cx="2032560" cy="15912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6552360" y="51753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366320" y="51753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773120" y="51753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180280" y="51753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959160" y="51753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6756120" y="4854240"/>
                  <a:ext cx="1625760" cy="319680"/>
                  <a:chOff x="6756120" y="4854240"/>
                  <a:chExt cx="1625760" cy="31968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7162920" y="50148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7977240" y="50148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570080" y="50148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756120" y="50148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960240" y="48542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774560" y="48542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367400" y="48542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9" name=""/>
              <p:cNvGrpSpPr/>
              <p:nvPr/>
            </p:nvGrpSpPr>
            <p:grpSpPr>
              <a:xfrm>
                <a:off x="7269120" y="4854240"/>
                <a:ext cx="606600" cy="639000"/>
                <a:chOff x="7269120" y="4854240"/>
                <a:chExt cx="606600" cy="6390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7269120" y="5335920"/>
                  <a:ext cx="606600" cy="157320"/>
                  <a:chOff x="7269120" y="5335920"/>
                  <a:chExt cx="606600" cy="157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7293960" y="5387400"/>
                    <a:ext cx="5562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269120" y="5439960"/>
                    <a:ext cx="6066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319520" y="5335920"/>
                    <a:ext cx="5058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7344720" y="5175360"/>
                  <a:ext cx="455040" cy="157320"/>
                  <a:chOff x="7344720" y="5175360"/>
                  <a:chExt cx="455040" cy="15732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7363440" y="5226840"/>
                    <a:ext cx="41724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344720" y="5279400"/>
                    <a:ext cx="45504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382520" y="5175360"/>
                    <a:ext cx="37944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7395840" y="5014800"/>
                  <a:ext cx="353880" cy="156960"/>
                  <a:chOff x="7395840" y="5014800"/>
                  <a:chExt cx="353880" cy="15696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7410240" y="5066280"/>
                    <a:ext cx="324720" cy="52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395840" y="5118840"/>
                    <a:ext cx="353880" cy="52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425000" y="5014800"/>
                    <a:ext cx="295200" cy="52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446240" y="4854240"/>
                  <a:ext cx="252720" cy="157320"/>
                  <a:chOff x="7446240" y="4854240"/>
                  <a:chExt cx="252720" cy="1573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456680" y="4905720"/>
                    <a:ext cx="23184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446240" y="4958280"/>
                    <a:ext cx="2527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467120" y="4854240"/>
                    <a:ext cx="2106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6" name=""/>
              <p:cNvSpPr/>
              <p:nvPr/>
            </p:nvSpPr>
            <p:spPr>
              <a:xfrm>
                <a:off x="7062840" y="4661280"/>
                <a:ext cx="1011600" cy="1897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7202880" y="4733640"/>
                <a:ext cx="732600" cy="113400"/>
                <a:chOff x="7202880" y="4733640"/>
                <a:chExt cx="732600" cy="1134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202880" y="4733640"/>
                  <a:ext cx="101160" cy="11340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362360" y="4733640"/>
                  <a:ext cx="101160" cy="11340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834320" y="4733640"/>
                  <a:ext cx="101160" cy="11340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674120" y="4733640"/>
                  <a:ext cx="101160" cy="11340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516080" y="4733640"/>
                  <a:ext cx="101160" cy="11340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7033680" y="4645440"/>
                <a:ext cx="1071000" cy="32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054920" y="4516920"/>
                <a:ext cx="1028160" cy="128160"/>
              </a:xfrm>
              <a:custGeom>
                <a:avLst/>
                <a:gdLst>
                  <a:gd name="textAreaLeft" fmla="*/ 106920 w 1028160"/>
                  <a:gd name="textAreaRight" fmla="*/ 921240 w 1028160"/>
                  <a:gd name="textAreaTop" fmla="*/ 13320 h 128160"/>
                  <a:gd name="textAreaBottom" fmla="*/ 114840 h 128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085880" y="4484520"/>
                <a:ext cx="961200" cy="32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"/>
          <p:cNvGrpSpPr/>
          <p:nvPr/>
        </p:nvGrpSpPr>
        <p:grpSpPr>
          <a:xfrm>
            <a:off x="3201840" y="4603680"/>
            <a:ext cx="2439720" cy="1604520"/>
            <a:chOff x="3201840" y="4603680"/>
            <a:chExt cx="2439720" cy="1604520"/>
          </a:xfrm>
        </p:grpSpPr>
        <p:sp>
          <p:nvSpPr>
            <p:cNvPr id="247" name=""/>
            <p:cNvSpPr/>
            <p:nvPr/>
          </p:nvSpPr>
          <p:spPr>
            <a:xfrm>
              <a:off x="3695760" y="4603680"/>
              <a:ext cx="1569960" cy="60300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Monotype Corsiva"/>
                </a:rPr>
                <a:t>GTL-li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201840" y="5197320"/>
              <a:ext cx="2439720" cy="1010880"/>
              <a:chOff x="3201840" y="5197320"/>
              <a:chExt cx="2439720" cy="10108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3201840" y="5567040"/>
                <a:ext cx="2439720" cy="641160"/>
                <a:chOff x="3201840" y="5567040"/>
                <a:chExt cx="2439720" cy="64116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3201840" y="6049080"/>
                  <a:ext cx="2439720" cy="159120"/>
                  <a:chOff x="3201840" y="6049080"/>
                  <a:chExt cx="2439720" cy="15912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608640" y="60490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422960" y="60490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830120" y="60490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5236920" y="60490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4015800" y="60490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201840" y="60490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3405960" y="5888160"/>
                  <a:ext cx="2032920" cy="159120"/>
                  <a:chOff x="3405960" y="5888160"/>
                  <a:chExt cx="2032920" cy="1591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3405960" y="58881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4219920" y="58881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4627080" y="58881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034240" y="58881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812760" y="58881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3609720" y="5567040"/>
                  <a:ext cx="1625760" cy="319680"/>
                  <a:chOff x="3609720" y="5567040"/>
                  <a:chExt cx="1625760" cy="3196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4016520" y="57276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830840" y="57276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4423680" y="57276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609720" y="57276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13840" y="55670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628160" y="55670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4221000" y="55670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1" name=""/>
              <p:cNvGrpSpPr/>
              <p:nvPr/>
            </p:nvGrpSpPr>
            <p:grpSpPr>
              <a:xfrm>
                <a:off x="4123080" y="5567040"/>
                <a:ext cx="606960" cy="639000"/>
                <a:chOff x="4123080" y="5567040"/>
                <a:chExt cx="606960" cy="63900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4123080" y="6048720"/>
                  <a:ext cx="606960" cy="157320"/>
                  <a:chOff x="4123080" y="6048720"/>
                  <a:chExt cx="606960" cy="15732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4148280" y="6100200"/>
                    <a:ext cx="5565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4123080" y="6152760"/>
                    <a:ext cx="6069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4173480" y="6048720"/>
                    <a:ext cx="5058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4198680" y="5888160"/>
                  <a:ext cx="455400" cy="157320"/>
                  <a:chOff x="4198680" y="5888160"/>
                  <a:chExt cx="455400" cy="1573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4217400" y="5939640"/>
                    <a:ext cx="4176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198680" y="5992200"/>
                    <a:ext cx="4554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236480" y="5888160"/>
                    <a:ext cx="3798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4249800" y="5727600"/>
                  <a:ext cx="354240" cy="156960"/>
                  <a:chOff x="4249800" y="5727600"/>
                  <a:chExt cx="354240" cy="15696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4264200" y="5779080"/>
                    <a:ext cx="325080" cy="52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249800" y="5831640"/>
                    <a:ext cx="354240" cy="52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4278960" y="5727600"/>
                    <a:ext cx="295200" cy="52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4300560" y="5567040"/>
                  <a:ext cx="253080" cy="157320"/>
                  <a:chOff x="4300560" y="5567040"/>
                  <a:chExt cx="253080" cy="15732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4311000" y="5618520"/>
                    <a:ext cx="2322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300560" y="5671080"/>
                    <a:ext cx="2530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4321440" y="5567040"/>
                    <a:ext cx="2109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>
                <a:off x="3916800" y="5374080"/>
                <a:ext cx="1011600" cy="1897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4056480" y="5446440"/>
                <a:ext cx="732600" cy="113400"/>
                <a:chOff x="4056480" y="5446440"/>
                <a:chExt cx="732600" cy="11340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4056480" y="5446440"/>
                  <a:ext cx="101160" cy="11340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215960" y="5446440"/>
                  <a:ext cx="101160" cy="11340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687920" y="5446440"/>
                  <a:ext cx="101160" cy="11340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527720" y="5446440"/>
                  <a:ext cx="101160" cy="11340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369680" y="5446440"/>
                  <a:ext cx="101160" cy="11340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3887280" y="5358240"/>
                <a:ext cx="1071360" cy="32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3908880" y="5229720"/>
                <a:ext cx="1028160" cy="128160"/>
              </a:xfrm>
              <a:custGeom>
                <a:avLst/>
                <a:gdLst>
                  <a:gd name="textAreaLeft" fmla="*/ 106920 w 1028160"/>
                  <a:gd name="textAreaRight" fmla="*/ 921240 w 1028160"/>
                  <a:gd name="textAreaTop" fmla="*/ 13320 h 128160"/>
                  <a:gd name="textAreaBottom" fmla="*/ 114840 h 128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939480" y="5197320"/>
                <a:ext cx="961200" cy="32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241200" y="1183680"/>
            <a:ext cx="2439720" cy="1847880"/>
            <a:chOff x="241200" y="1183680"/>
            <a:chExt cx="2439720" cy="1847880"/>
          </a:xfrm>
        </p:grpSpPr>
        <p:sp>
          <p:nvSpPr>
            <p:cNvPr id="299" name=""/>
            <p:cNvSpPr/>
            <p:nvPr/>
          </p:nvSpPr>
          <p:spPr>
            <a:xfrm>
              <a:off x="776160" y="1183680"/>
              <a:ext cx="1528920" cy="10904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Monotype Corsiva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41200" y="2020680"/>
              <a:ext cx="2439720" cy="1010880"/>
              <a:chOff x="241200" y="2020680"/>
              <a:chExt cx="2439720" cy="101088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241200" y="2390400"/>
                <a:ext cx="2439720" cy="641160"/>
                <a:chOff x="241200" y="2390400"/>
                <a:chExt cx="2439720" cy="64116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241200" y="2872440"/>
                  <a:ext cx="2439720" cy="159120"/>
                  <a:chOff x="241200" y="2872440"/>
                  <a:chExt cx="2439720" cy="15912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648000" y="28724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462320" y="28724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869480" y="28724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276280" y="28724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1055160" y="28724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41200" y="28724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45320" y="2711880"/>
                  <a:ext cx="2032920" cy="159120"/>
                  <a:chOff x="445320" y="2711880"/>
                  <a:chExt cx="2032920" cy="159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45320" y="27118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1259280" y="27118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1666440" y="27118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073600" y="27118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852120" y="27118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649080" y="2390400"/>
                  <a:ext cx="1625760" cy="319680"/>
                  <a:chOff x="649080" y="2390400"/>
                  <a:chExt cx="1625760" cy="3196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1055880" y="25509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1870200" y="25509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463040" y="25509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49080" y="25509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853200" y="23904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1667520" y="23904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1260360" y="23904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3" name=""/>
              <p:cNvGrpSpPr/>
              <p:nvPr/>
            </p:nvGrpSpPr>
            <p:grpSpPr>
              <a:xfrm>
                <a:off x="1162440" y="2390400"/>
                <a:ext cx="606960" cy="639360"/>
                <a:chOff x="1162440" y="2390400"/>
                <a:chExt cx="606960" cy="639360"/>
              </a:xfrm>
            </p:grpSpPr>
            <p:grpSp>
              <p:nvGrpSpPr>
                <p:cNvPr id="324" name=""/>
                <p:cNvGrpSpPr/>
                <p:nvPr/>
              </p:nvGrpSpPr>
              <p:grpSpPr>
                <a:xfrm>
                  <a:off x="1162440" y="2872440"/>
                  <a:ext cx="606960" cy="157320"/>
                  <a:chOff x="1162440" y="2872440"/>
                  <a:chExt cx="606960" cy="15732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1187640" y="2923920"/>
                    <a:ext cx="5565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1162440" y="2976480"/>
                    <a:ext cx="6069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1212840" y="2872440"/>
                    <a:ext cx="5058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1238040" y="2711520"/>
                  <a:ext cx="455400" cy="157320"/>
                  <a:chOff x="1238040" y="2711520"/>
                  <a:chExt cx="455400" cy="15732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1256760" y="2763000"/>
                    <a:ext cx="4176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1238040" y="2815560"/>
                    <a:ext cx="4554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275840" y="2711520"/>
                    <a:ext cx="3798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1289160" y="2550960"/>
                  <a:ext cx="354240" cy="157320"/>
                  <a:chOff x="1289160" y="2550960"/>
                  <a:chExt cx="354240" cy="1573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1303560" y="2602440"/>
                    <a:ext cx="3250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1289160" y="2655000"/>
                    <a:ext cx="35424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1318320" y="2550960"/>
                    <a:ext cx="2952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1339920" y="2390400"/>
                  <a:ext cx="253080" cy="157320"/>
                  <a:chOff x="1339920" y="2390400"/>
                  <a:chExt cx="253080" cy="15732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1350360" y="2441880"/>
                    <a:ext cx="2322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1339920" y="2494440"/>
                    <a:ext cx="2530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1360800" y="2390400"/>
                    <a:ext cx="2109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0" name=""/>
              <p:cNvSpPr/>
              <p:nvPr/>
            </p:nvSpPr>
            <p:spPr>
              <a:xfrm>
                <a:off x="956160" y="2197800"/>
                <a:ext cx="1011600" cy="1897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095840" y="2270160"/>
                <a:ext cx="732600" cy="113760"/>
                <a:chOff x="1095840" y="2270160"/>
                <a:chExt cx="732600" cy="1137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095840" y="2270160"/>
                  <a:ext cx="10116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255320" y="2270160"/>
                  <a:ext cx="10116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27280" y="2270160"/>
                  <a:ext cx="10116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567080" y="2270160"/>
                  <a:ext cx="10116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409040" y="2270160"/>
                  <a:ext cx="10116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926640" y="2181600"/>
                <a:ext cx="1071360" cy="32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948240" y="2052360"/>
                <a:ext cx="1028160" cy="128520"/>
              </a:xfrm>
              <a:custGeom>
                <a:avLst/>
                <a:gdLst>
                  <a:gd name="textAreaLeft" fmla="*/ 106920 w 1028160"/>
                  <a:gd name="textAreaRight" fmla="*/ 921240 w 1028160"/>
                  <a:gd name="textAreaTop" fmla="*/ 13320 h 128520"/>
                  <a:gd name="textAreaBottom" fmla="*/ 115200 h 1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978840" y="2020680"/>
                <a:ext cx="961200" cy="32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"/>
          <p:cNvSpPr/>
          <p:nvPr/>
        </p:nvSpPr>
        <p:spPr>
          <a:xfrm rot="19800000">
            <a:off x="7653240" y="3251160"/>
            <a:ext cx="1168560" cy="1279440"/>
          </a:xfrm>
          <a:custGeom>
            <a:avLst/>
            <a:gdLst>
              <a:gd name="textAreaLeft" fmla="*/ 0 w 1168560"/>
              <a:gd name="textAreaRight" fmla="*/ 1168920 w 116856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7718" y="1769"/>
                </a:moveTo>
                <a:arcTo wR="-9542" hR="-9542" stAng="-6530591" swAng="-5896465"/>
                <a:lnTo>
                  <a:pt x="20413" y="5877"/>
                </a:lnTo>
                <a:arcTo wR="10800" hR="10800" stAng="-1627056" swAng="5896465"/>
                <a:lnTo>
                  <a:pt x="15160" y="23576"/>
                </a:lnTo>
                <a:lnTo>
                  <a:pt x="10934" y="21501"/>
                </a:lnTo>
                <a:lnTo>
                  <a:pt x="13010" y="1727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989680" y="5016600"/>
            <a:ext cx="1182600" cy="1279440"/>
          </a:xfrm>
          <a:custGeom>
            <a:avLst/>
            <a:gdLst>
              <a:gd name="textAreaLeft" fmla="*/ 0 w 1182600"/>
              <a:gd name="textAreaRight" fmla="*/ 1182960 w 118260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7718" y="1769"/>
                </a:moveTo>
                <a:arcTo wR="-9542" hR="-9542" stAng="-6530591" swAng="-3888139"/>
                <a:lnTo>
                  <a:pt x="21534" y="11995"/>
                </a:lnTo>
                <a:arcTo wR="10800" hR="10800" stAng="381270" swAng="3888139"/>
                <a:lnTo>
                  <a:pt x="15160" y="23576"/>
                </a:lnTo>
                <a:lnTo>
                  <a:pt x="10934" y="21501"/>
                </a:lnTo>
                <a:lnTo>
                  <a:pt x="13010" y="1727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1359000" y="5026680"/>
            <a:ext cx="1182600" cy="1279800"/>
          </a:xfrm>
          <a:custGeom>
            <a:avLst/>
            <a:gdLst>
              <a:gd name="textAreaLeft" fmla="*/ 0 w 1182600"/>
              <a:gd name="textAreaRight" fmla="*/ 1182960 w 1182600"/>
              <a:gd name="textAreaTop" fmla="*/ 0 h 1279800"/>
              <a:gd name="textAreaBottom" fmla="*/ 1280160 h 1279800"/>
            </a:gdLst>
            <a:ahLst/>
            <a:rect l="textAreaLeft" t="textAreaTop" r="textAreaRight" b="textAreaBottom"/>
            <a:pathLst>
              <a:path w="21600" h="21600">
                <a:moveTo>
                  <a:pt x="7718" y="1769"/>
                </a:moveTo>
                <a:arcTo wR="-9542" hR="-9542" stAng="-6530591" swAng="-3888139"/>
                <a:lnTo>
                  <a:pt x="21534" y="11995"/>
                </a:lnTo>
                <a:arcTo wR="10800" hR="10800" stAng="381270" swAng="3888139"/>
                <a:lnTo>
                  <a:pt x="15160" y="23576"/>
                </a:lnTo>
                <a:lnTo>
                  <a:pt x="10934" y="21501"/>
                </a:lnTo>
                <a:lnTo>
                  <a:pt x="13010" y="1727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41200" y="3647520"/>
            <a:ext cx="2628720" cy="1847880"/>
            <a:chOff x="241200" y="3647520"/>
            <a:chExt cx="2628720" cy="1847880"/>
          </a:xfrm>
        </p:grpSpPr>
        <p:sp>
          <p:nvSpPr>
            <p:cNvPr id="354" name=""/>
            <p:cNvSpPr/>
            <p:nvPr/>
          </p:nvSpPr>
          <p:spPr>
            <a:xfrm>
              <a:off x="267840" y="3647520"/>
              <a:ext cx="2602080" cy="10904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Monotype Corsiva"/>
                </a:rPr>
                <a:t>CML- Pre-empha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241200" y="4484520"/>
              <a:ext cx="2548800" cy="1010880"/>
              <a:chOff x="241200" y="4484520"/>
              <a:chExt cx="2548800" cy="101088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241200" y="4854240"/>
                <a:ext cx="2548800" cy="641160"/>
                <a:chOff x="241200" y="4854240"/>
                <a:chExt cx="2548800" cy="641160"/>
              </a:xfrm>
            </p:grpSpPr>
            <p:grpSp>
              <p:nvGrpSpPr>
                <p:cNvPr id="357" name=""/>
                <p:cNvGrpSpPr/>
                <p:nvPr/>
              </p:nvGrpSpPr>
              <p:grpSpPr>
                <a:xfrm>
                  <a:off x="241200" y="5336280"/>
                  <a:ext cx="2548800" cy="159120"/>
                  <a:chOff x="241200" y="5336280"/>
                  <a:chExt cx="2548800" cy="1591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666360" y="533628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1517040" y="533628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1942200" y="533628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367360" y="533628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1091520" y="533628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41200" y="533628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454680" y="5175720"/>
                  <a:ext cx="2124000" cy="159120"/>
                  <a:chOff x="454680" y="5175720"/>
                  <a:chExt cx="2124000" cy="15912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454680" y="517572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1305000" y="5175720"/>
                    <a:ext cx="4230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730520" y="517572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2155680" y="5175720"/>
                    <a:ext cx="4230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79840" y="5175720"/>
                    <a:ext cx="4230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667440" y="4854240"/>
                  <a:ext cx="1698120" cy="319680"/>
                  <a:chOff x="667440" y="4854240"/>
                  <a:chExt cx="1698120" cy="31968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1092600" y="501480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1942920" y="501480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1517760" y="501480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667440" y="501480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80920" y="485424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1731240" y="485424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1306080" y="485424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8" name=""/>
              <p:cNvGrpSpPr/>
              <p:nvPr/>
            </p:nvGrpSpPr>
            <p:grpSpPr>
              <a:xfrm>
                <a:off x="1203480" y="4854240"/>
                <a:ext cx="633960" cy="639360"/>
                <a:chOff x="1203480" y="4854240"/>
                <a:chExt cx="633960" cy="639360"/>
              </a:xfrm>
            </p:grpSpPr>
            <p:grpSp>
              <p:nvGrpSpPr>
                <p:cNvPr id="379" name=""/>
                <p:cNvGrpSpPr/>
                <p:nvPr/>
              </p:nvGrpSpPr>
              <p:grpSpPr>
                <a:xfrm>
                  <a:off x="1203480" y="5336280"/>
                  <a:ext cx="633960" cy="157320"/>
                  <a:chOff x="1203480" y="5336280"/>
                  <a:chExt cx="633960" cy="15732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>
                    <a:off x="1229760" y="5387760"/>
                    <a:ext cx="5814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1203480" y="5440320"/>
                    <a:ext cx="6339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1256040" y="5336280"/>
                    <a:ext cx="5284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1282680" y="5175360"/>
                  <a:ext cx="475560" cy="157320"/>
                  <a:chOff x="1282680" y="5175360"/>
                  <a:chExt cx="475560" cy="15732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1302120" y="5226840"/>
                    <a:ext cx="4363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1282680" y="5279400"/>
                    <a:ext cx="4755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1321920" y="5175360"/>
                    <a:ext cx="3963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1335600" y="5014800"/>
                  <a:ext cx="369720" cy="157320"/>
                  <a:chOff x="1335600" y="5014800"/>
                  <a:chExt cx="369720" cy="15732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1350720" y="5066280"/>
                    <a:ext cx="3391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1335600" y="5118840"/>
                    <a:ext cx="3697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366200" y="5014800"/>
                    <a:ext cx="3081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1388880" y="4854240"/>
                  <a:ext cx="264240" cy="157320"/>
                  <a:chOff x="1388880" y="4854240"/>
                  <a:chExt cx="264240" cy="15732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1399680" y="4905720"/>
                    <a:ext cx="2422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388880" y="4958280"/>
                    <a:ext cx="26424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410840" y="4854240"/>
                    <a:ext cx="2203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5" name=""/>
              <p:cNvSpPr/>
              <p:nvPr/>
            </p:nvSpPr>
            <p:spPr>
              <a:xfrm>
                <a:off x="988200" y="4661640"/>
                <a:ext cx="1056960" cy="1897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1134000" y="4734000"/>
                <a:ext cx="765000" cy="113760"/>
                <a:chOff x="1134000" y="4734000"/>
                <a:chExt cx="765000" cy="11376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134000" y="4734000"/>
                  <a:ext cx="10548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300680" y="4734000"/>
                  <a:ext cx="10548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793520" y="4734000"/>
                  <a:ext cx="10548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626120" y="4734000"/>
                  <a:ext cx="10548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461240" y="4734000"/>
                  <a:ext cx="10548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"/>
              <p:cNvSpPr/>
              <p:nvPr/>
            </p:nvSpPr>
            <p:spPr>
              <a:xfrm>
                <a:off x="957240" y="4645440"/>
                <a:ext cx="1119240" cy="32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979560" y="4516200"/>
                <a:ext cx="1074240" cy="128520"/>
              </a:xfrm>
              <a:custGeom>
                <a:avLst/>
                <a:gdLst>
                  <a:gd name="textAreaLeft" fmla="*/ 111600 w 1074240"/>
                  <a:gd name="textAreaRight" fmla="*/ 962640 w 1074240"/>
                  <a:gd name="textAreaTop" fmla="*/ 13320 h 128520"/>
                  <a:gd name="textAreaBottom" fmla="*/ 115200 h 1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011960" y="4484520"/>
                <a:ext cx="1004400" cy="32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7464600" y="3774960"/>
            <a:ext cx="328320" cy="115920"/>
            <a:chOff x="7464600" y="3774960"/>
            <a:chExt cx="328320" cy="115920"/>
          </a:xfrm>
        </p:grpSpPr>
        <p:sp>
          <p:nvSpPr>
            <p:cNvPr id="406" name=""/>
            <p:cNvSpPr/>
            <p:nvPr/>
          </p:nvSpPr>
          <p:spPr>
            <a:xfrm>
              <a:off x="7464600" y="3774960"/>
              <a:ext cx="115920" cy="1159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77000" y="3774960"/>
              <a:ext cx="115920" cy="1159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7605720" y="1276200"/>
            <a:ext cx="115920" cy="115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311720" y="4513320"/>
            <a:ext cx="501480" cy="115920"/>
            <a:chOff x="4311720" y="4513320"/>
            <a:chExt cx="501480" cy="115920"/>
          </a:xfrm>
        </p:grpSpPr>
        <p:sp>
          <p:nvSpPr>
            <p:cNvPr id="410" name=""/>
            <p:cNvSpPr/>
            <p:nvPr/>
          </p:nvSpPr>
          <p:spPr>
            <a:xfrm>
              <a:off x="4697640" y="4513320"/>
              <a:ext cx="115560" cy="1159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04320" y="4513320"/>
              <a:ext cx="115560" cy="1159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11720" y="4513320"/>
              <a:ext cx="115560" cy="1159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182600" y="3774960"/>
            <a:ext cx="754200" cy="115920"/>
            <a:chOff x="1182600" y="3774960"/>
            <a:chExt cx="754200" cy="115920"/>
          </a:xfrm>
        </p:grpSpPr>
        <p:sp>
          <p:nvSpPr>
            <p:cNvPr id="414" name=""/>
            <p:cNvSpPr/>
            <p:nvPr/>
          </p:nvSpPr>
          <p:spPr>
            <a:xfrm>
              <a:off x="1182600" y="3774960"/>
              <a:ext cx="115920" cy="1159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395360" y="3774960"/>
              <a:ext cx="115920" cy="1159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8120" y="3774960"/>
              <a:ext cx="115920" cy="1159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20880" y="3774960"/>
              <a:ext cx="115920" cy="1159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060560" y="1298520"/>
            <a:ext cx="888840" cy="115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4567320" y="3104640"/>
            <a:ext cx="39513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024"/>
                </a:solidFill>
                <a:latin typeface="Arial"/>
              </a:rPr>
              <a:t>CML pre-emphasi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600" name="" descr=""/>
          <p:cNvPicPr/>
          <p:nvPr/>
        </p:nvPicPr>
        <p:blipFill>
          <a:blip r:embed="rId2"/>
          <a:stretch/>
        </p:blipFill>
        <p:spPr>
          <a:xfrm>
            <a:off x="7837560" y="6243480"/>
            <a:ext cx="1055520" cy="444600"/>
          </a:xfrm>
          <a:prstGeom prst="rect">
            <a:avLst/>
          </a:prstGeom>
          <a:ln w="0">
            <a:noFill/>
          </a:ln>
        </p:spPr>
      </p:pic>
      <p:grpSp>
        <p:nvGrpSpPr>
          <p:cNvPr id="3601" name=""/>
          <p:cNvGrpSpPr/>
          <p:nvPr/>
        </p:nvGrpSpPr>
        <p:grpSpPr>
          <a:xfrm>
            <a:off x="0" y="3285000"/>
            <a:ext cx="1584360" cy="1409040"/>
            <a:chOff x="0" y="3285000"/>
            <a:chExt cx="1584360" cy="1409040"/>
          </a:xfrm>
        </p:grpSpPr>
        <p:sp>
          <p:nvSpPr>
            <p:cNvPr id="3602" name=""/>
            <p:cNvSpPr/>
            <p:nvPr/>
          </p:nvSpPr>
          <p:spPr>
            <a:xfrm>
              <a:off x="0" y="3285000"/>
              <a:ext cx="1584360" cy="121248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Monotype Corsiva"/>
                </a:rPr>
                <a:t>CML- Preempha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3" name=""/>
            <p:cNvGrpSpPr/>
            <p:nvPr/>
          </p:nvGrpSpPr>
          <p:grpSpPr>
            <a:xfrm>
              <a:off x="241200" y="4187880"/>
              <a:ext cx="1220760" cy="506160"/>
              <a:chOff x="241200" y="4187880"/>
              <a:chExt cx="1220760" cy="506160"/>
            </a:xfrm>
          </p:grpSpPr>
          <p:grpSp>
            <p:nvGrpSpPr>
              <p:cNvPr id="3604" name=""/>
              <p:cNvGrpSpPr/>
              <p:nvPr/>
            </p:nvGrpSpPr>
            <p:grpSpPr>
              <a:xfrm>
                <a:off x="241200" y="4372920"/>
                <a:ext cx="1220760" cy="321120"/>
                <a:chOff x="241200" y="4372920"/>
                <a:chExt cx="1220760" cy="321120"/>
              </a:xfrm>
            </p:grpSpPr>
            <p:grpSp>
              <p:nvGrpSpPr>
                <p:cNvPr id="3605" name=""/>
                <p:cNvGrpSpPr/>
                <p:nvPr/>
              </p:nvGrpSpPr>
              <p:grpSpPr>
                <a:xfrm>
                  <a:off x="241200" y="4614480"/>
                  <a:ext cx="1220760" cy="79560"/>
                  <a:chOff x="241200" y="4614480"/>
                  <a:chExt cx="1220760" cy="79560"/>
                </a:xfrm>
              </p:grpSpPr>
              <p:sp>
                <p:nvSpPr>
                  <p:cNvPr id="3606" name=""/>
                  <p:cNvSpPr/>
                  <p:nvPr/>
                </p:nvSpPr>
                <p:spPr>
                  <a:xfrm>
                    <a:off x="444600" y="46144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7" name=""/>
                  <p:cNvSpPr/>
                  <p:nvPr/>
                </p:nvSpPr>
                <p:spPr>
                  <a:xfrm>
                    <a:off x="852120" y="46144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8" name=""/>
                  <p:cNvSpPr/>
                  <p:nvPr/>
                </p:nvSpPr>
                <p:spPr>
                  <a:xfrm>
                    <a:off x="1055880" y="46144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9" name=""/>
                  <p:cNvSpPr/>
                  <p:nvPr/>
                </p:nvSpPr>
                <p:spPr>
                  <a:xfrm>
                    <a:off x="1259640" y="46144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0" name=""/>
                  <p:cNvSpPr/>
                  <p:nvPr/>
                </p:nvSpPr>
                <p:spPr>
                  <a:xfrm>
                    <a:off x="648360" y="46144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1" name=""/>
                  <p:cNvSpPr/>
                  <p:nvPr/>
                </p:nvSpPr>
                <p:spPr>
                  <a:xfrm>
                    <a:off x="241200" y="46144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2" name=""/>
                <p:cNvGrpSpPr/>
                <p:nvPr/>
              </p:nvGrpSpPr>
              <p:grpSpPr>
                <a:xfrm>
                  <a:off x="343440" y="4533840"/>
                  <a:ext cx="1017000" cy="79560"/>
                  <a:chOff x="343440" y="4533840"/>
                  <a:chExt cx="1017000" cy="79560"/>
                </a:xfrm>
              </p:grpSpPr>
              <p:sp>
                <p:nvSpPr>
                  <p:cNvPr id="3613" name=""/>
                  <p:cNvSpPr/>
                  <p:nvPr/>
                </p:nvSpPr>
                <p:spPr>
                  <a:xfrm>
                    <a:off x="343440" y="45338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4" name=""/>
                  <p:cNvSpPr/>
                  <p:nvPr/>
                </p:nvSpPr>
                <p:spPr>
                  <a:xfrm>
                    <a:off x="750600" y="45338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5" name=""/>
                  <p:cNvSpPr/>
                  <p:nvPr/>
                </p:nvSpPr>
                <p:spPr>
                  <a:xfrm>
                    <a:off x="954360" y="45338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6" name=""/>
                  <p:cNvSpPr/>
                  <p:nvPr/>
                </p:nvSpPr>
                <p:spPr>
                  <a:xfrm>
                    <a:off x="1158120" y="45338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7" name=""/>
                  <p:cNvSpPr/>
                  <p:nvPr/>
                </p:nvSpPr>
                <p:spPr>
                  <a:xfrm>
                    <a:off x="546840" y="45338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8" name=""/>
                <p:cNvGrpSpPr/>
                <p:nvPr/>
              </p:nvGrpSpPr>
              <p:grpSpPr>
                <a:xfrm>
                  <a:off x="445320" y="4372920"/>
                  <a:ext cx="813240" cy="159840"/>
                  <a:chOff x="445320" y="4372920"/>
                  <a:chExt cx="813240" cy="159840"/>
                </a:xfrm>
              </p:grpSpPr>
              <p:sp>
                <p:nvSpPr>
                  <p:cNvPr id="3619" name=""/>
                  <p:cNvSpPr/>
                  <p:nvPr/>
                </p:nvSpPr>
                <p:spPr>
                  <a:xfrm>
                    <a:off x="649080" y="44532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0" name=""/>
                  <p:cNvSpPr/>
                  <p:nvPr/>
                </p:nvSpPr>
                <p:spPr>
                  <a:xfrm>
                    <a:off x="1056240" y="44532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1" name=""/>
                  <p:cNvSpPr/>
                  <p:nvPr/>
                </p:nvSpPr>
                <p:spPr>
                  <a:xfrm>
                    <a:off x="852840" y="44532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2" name=""/>
                  <p:cNvSpPr/>
                  <p:nvPr/>
                </p:nvSpPr>
                <p:spPr>
                  <a:xfrm>
                    <a:off x="445320" y="44532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3" name=""/>
                  <p:cNvSpPr/>
                  <p:nvPr/>
                </p:nvSpPr>
                <p:spPr>
                  <a:xfrm>
                    <a:off x="547560" y="43729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4" name=""/>
                  <p:cNvSpPr/>
                  <p:nvPr/>
                </p:nvSpPr>
                <p:spPr>
                  <a:xfrm>
                    <a:off x="955080" y="43729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5" name=""/>
                  <p:cNvSpPr/>
                  <p:nvPr/>
                </p:nvSpPr>
                <p:spPr>
                  <a:xfrm>
                    <a:off x="751320" y="43729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26" name=""/>
              <p:cNvGrpSpPr/>
              <p:nvPr/>
            </p:nvGrpSpPr>
            <p:grpSpPr>
              <a:xfrm>
                <a:off x="702000" y="4372920"/>
                <a:ext cx="303480" cy="320400"/>
                <a:chOff x="702000" y="4372920"/>
                <a:chExt cx="303480" cy="320400"/>
              </a:xfrm>
            </p:grpSpPr>
            <p:grpSp>
              <p:nvGrpSpPr>
                <p:cNvPr id="3627" name=""/>
                <p:cNvGrpSpPr/>
                <p:nvPr/>
              </p:nvGrpSpPr>
              <p:grpSpPr>
                <a:xfrm>
                  <a:off x="702000" y="4614480"/>
                  <a:ext cx="303480" cy="78840"/>
                  <a:chOff x="702000" y="4614480"/>
                  <a:chExt cx="303480" cy="78840"/>
                </a:xfrm>
              </p:grpSpPr>
              <p:sp>
                <p:nvSpPr>
                  <p:cNvPr id="3628" name=""/>
                  <p:cNvSpPr/>
                  <p:nvPr/>
                </p:nvSpPr>
                <p:spPr>
                  <a:xfrm>
                    <a:off x="714600" y="4640400"/>
                    <a:ext cx="2782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9" name=""/>
                  <p:cNvSpPr/>
                  <p:nvPr/>
                </p:nvSpPr>
                <p:spPr>
                  <a:xfrm>
                    <a:off x="702000" y="4666680"/>
                    <a:ext cx="303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0" name=""/>
                  <p:cNvSpPr/>
                  <p:nvPr/>
                </p:nvSpPr>
                <p:spPr>
                  <a:xfrm>
                    <a:off x="727200" y="4614480"/>
                    <a:ext cx="2530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1" name=""/>
                <p:cNvGrpSpPr/>
                <p:nvPr/>
              </p:nvGrpSpPr>
              <p:grpSpPr>
                <a:xfrm>
                  <a:off x="739800" y="4533840"/>
                  <a:ext cx="227520" cy="78840"/>
                  <a:chOff x="739800" y="4533840"/>
                  <a:chExt cx="227520" cy="78840"/>
                </a:xfrm>
              </p:grpSpPr>
              <p:sp>
                <p:nvSpPr>
                  <p:cNvPr id="3632" name=""/>
                  <p:cNvSpPr/>
                  <p:nvPr/>
                </p:nvSpPr>
                <p:spPr>
                  <a:xfrm>
                    <a:off x="749160" y="4559760"/>
                    <a:ext cx="2088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3" name=""/>
                  <p:cNvSpPr/>
                  <p:nvPr/>
                </p:nvSpPr>
                <p:spPr>
                  <a:xfrm>
                    <a:off x="739800" y="4586040"/>
                    <a:ext cx="2275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4" name=""/>
                  <p:cNvSpPr/>
                  <p:nvPr/>
                </p:nvSpPr>
                <p:spPr>
                  <a:xfrm>
                    <a:off x="758520" y="4533840"/>
                    <a:ext cx="1897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5" name=""/>
                <p:cNvGrpSpPr/>
                <p:nvPr/>
              </p:nvGrpSpPr>
              <p:grpSpPr>
                <a:xfrm>
                  <a:off x="765360" y="4453200"/>
                  <a:ext cx="177120" cy="78840"/>
                  <a:chOff x="765360" y="4453200"/>
                  <a:chExt cx="177120" cy="78840"/>
                </a:xfrm>
              </p:grpSpPr>
              <p:sp>
                <p:nvSpPr>
                  <p:cNvPr id="3636" name=""/>
                  <p:cNvSpPr/>
                  <p:nvPr/>
                </p:nvSpPr>
                <p:spPr>
                  <a:xfrm>
                    <a:off x="772560" y="4479120"/>
                    <a:ext cx="162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7" name=""/>
                  <p:cNvSpPr/>
                  <p:nvPr/>
                </p:nvSpPr>
                <p:spPr>
                  <a:xfrm>
                    <a:off x="765360" y="4505400"/>
                    <a:ext cx="1771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8" name=""/>
                  <p:cNvSpPr/>
                  <p:nvPr/>
                </p:nvSpPr>
                <p:spPr>
                  <a:xfrm>
                    <a:off x="779760" y="4453200"/>
                    <a:ext cx="1476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9" name=""/>
                <p:cNvGrpSpPr/>
                <p:nvPr/>
              </p:nvGrpSpPr>
              <p:grpSpPr>
                <a:xfrm>
                  <a:off x="790560" y="4372920"/>
                  <a:ext cx="126360" cy="78840"/>
                  <a:chOff x="790560" y="4372920"/>
                  <a:chExt cx="126360" cy="78840"/>
                </a:xfrm>
              </p:grpSpPr>
              <p:sp>
                <p:nvSpPr>
                  <p:cNvPr id="3640" name=""/>
                  <p:cNvSpPr/>
                  <p:nvPr/>
                </p:nvSpPr>
                <p:spPr>
                  <a:xfrm>
                    <a:off x="795600" y="4398840"/>
                    <a:ext cx="1159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1" name=""/>
                  <p:cNvSpPr/>
                  <p:nvPr/>
                </p:nvSpPr>
                <p:spPr>
                  <a:xfrm>
                    <a:off x="790560" y="4425120"/>
                    <a:ext cx="126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2" name=""/>
                  <p:cNvSpPr/>
                  <p:nvPr/>
                </p:nvSpPr>
                <p:spPr>
                  <a:xfrm>
                    <a:off x="801000" y="4372920"/>
                    <a:ext cx="105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43" name=""/>
              <p:cNvSpPr/>
              <p:nvPr/>
            </p:nvSpPr>
            <p:spPr>
              <a:xfrm>
                <a:off x="598680" y="4276440"/>
                <a:ext cx="506160" cy="950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4" name=""/>
              <p:cNvGrpSpPr/>
              <p:nvPr/>
            </p:nvGrpSpPr>
            <p:grpSpPr>
              <a:xfrm>
                <a:off x="668880" y="4312800"/>
                <a:ext cx="366480" cy="56880"/>
                <a:chOff x="668880" y="4312800"/>
                <a:chExt cx="366480" cy="56880"/>
              </a:xfrm>
            </p:grpSpPr>
            <p:sp>
              <p:nvSpPr>
                <p:cNvPr id="3645" name=""/>
                <p:cNvSpPr/>
                <p:nvPr/>
              </p:nvSpPr>
              <p:spPr>
                <a:xfrm>
                  <a:off x="668880" y="431280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6" name=""/>
                <p:cNvSpPr/>
                <p:nvPr/>
              </p:nvSpPr>
              <p:spPr>
                <a:xfrm>
                  <a:off x="748800" y="431280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7" name=""/>
                <p:cNvSpPr/>
                <p:nvPr/>
              </p:nvSpPr>
              <p:spPr>
                <a:xfrm>
                  <a:off x="984960" y="431280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8" name=""/>
                <p:cNvSpPr/>
                <p:nvPr/>
              </p:nvSpPr>
              <p:spPr>
                <a:xfrm>
                  <a:off x="904680" y="431280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9" name=""/>
                <p:cNvSpPr/>
                <p:nvPr/>
              </p:nvSpPr>
              <p:spPr>
                <a:xfrm>
                  <a:off x="825480" y="431280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0" name=""/>
              <p:cNvSpPr/>
              <p:nvPr/>
            </p:nvSpPr>
            <p:spPr>
              <a:xfrm>
                <a:off x="583920" y="4268520"/>
                <a:ext cx="53604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 flipV="1">
                <a:off x="594720" y="420408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610200" y="4187880"/>
                <a:ext cx="48096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IO model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241200" y="5331960"/>
            <a:ext cx="7351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 with two IO-Model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th wrong top level mode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5" name=""/>
          <p:cNvGrpSpPr/>
          <p:nvPr/>
        </p:nvGrpSpPr>
        <p:grpSpPr>
          <a:xfrm>
            <a:off x="241200" y="804960"/>
            <a:ext cx="2516400" cy="3481560"/>
            <a:chOff x="241200" y="804960"/>
            <a:chExt cx="2516400" cy="3481560"/>
          </a:xfrm>
        </p:grpSpPr>
        <p:grpSp>
          <p:nvGrpSpPr>
            <p:cNvPr id="3656" name=""/>
            <p:cNvGrpSpPr/>
            <p:nvPr/>
          </p:nvGrpSpPr>
          <p:grpSpPr>
            <a:xfrm>
              <a:off x="395280" y="1630080"/>
              <a:ext cx="2062080" cy="1003320"/>
              <a:chOff x="395280" y="1630080"/>
              <a:chExt cx="2062080" cy="1003320"/>
            </a:xfrm>
          </p:grpSpPr>
          <p:sp>
            <p:nvSpPr>
              <p:cNvPr id="3657" name=""/>
              <p:cNvSpPr/>
              <p:nvPr/>
            </p:nvSpPr>
            <p:spPr>
              <a:xfrm>
                <a:off x="395280" y="1630080"/>
                <a:ext cx="2062080" cy="968040"/>
              </a:xfrm>
              <a:prstGeom prst="roundRect">
                <a:avLst>
                  <a:gd name="adj" fmla="val 16667"/>
                </a:avLst>
              </a:prstGeom>
              <a:solidFill>
                <a:srgbClr val="cc99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1100160" y="1690200"/>
                <a:ext cx="0" cy="84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689040" y="2204640"/>
                <a:ext cx="13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1861920" y="22345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874080" y="175032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889200" y="1933200"/>
                <a:ext cx="151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Power clam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3" name=""/>
              <p:cNvGrpSpPr/>
              <p:nvPr/>
            </p:nvGrpSpPr>
            <p:grpSpPr>
              <a:xfrm>
                <a:off x="777960" y="1906200"/>
                <a:ext cx="1081080" cy="488160"/>
                <a:chOff x="777960" y="1906200"/>
                <a:chExt cx="1081080" cy="488160"/>
              </a:xfrm>
            </p:grpSpPr>
            <p:sp>
              <p:nvSpPr>
                <p:cNvPr id="3664" name=""/>
                <p:cNvSpPr/>
                <p:nvPr/>
              </p:nvSpPr>
              <p:spPr>
                <a:xfrm flipH="1" flipV="1">
                  <a:off x="1121040" y="2207520"/>
                  <a:ext cx="738000" cy="18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5" name=""/>
                <p:cNvSpPr/>
                <p:nvPr/>
              </p:nvSpPr>
              <p:spPr>
                <a:xfrm flipH="1" flipV="1">
                  <a:off x="1026720" y="2177280"/>
                  <a:ext cx="93960" cy="29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6" name=""/>
                <p:cNvSpPr/>
                <p:nvPr/>
              </p:nvSpPr>
              <p:spPr>
                <a:xfrm flipH="1" flipV="1">
                  <a:off x="777960" y="1906200"/>
                  <a:ext cx="249120" cy="27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7" name=""/>
            <p:cNvSpPr/>
            <p:nvPr/>
          </p:nvSpPr>
          <p:spPr>
            <a:xfrm>
              <a:off x="704880" y="804960"/>
              <a:ext cx="1558800" cy="69660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p level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8" name=""/>
            <p:cNvGrpSpPr/>
            <p:nvPr/>
          </p:nvGrpSpPr>
          <p:grpSpPr>
            <a:xfrm>
              <a:off x="241200" y="2744640"/>
              <a:ext cx="2516400" cy="1541880"/>
              <a:chOff x="241200" y="2744640"/>
              <a:chExt cx="2516400" cy="1541880"/>
            </a:xfrm>
          </p:grpSpPr>
          <p:sp>
            <p:nvSpPr>
              <p:cNvPr id="3669" name=""/>
              <p:cNvSpPr/>
              <p:nvPr/>
            </p:nvSpPr>
            <p:spPr>
              <a:xfrm>
                <a:off x="241200" y="2771640"/>
                <a:ext cx="2516400" cy="14270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0" name=""/>
              <p:cNvGrpSpPr/>
              <p:nvPr/>
            </p:nvGrpSpPr>
            <p:grpSpPr>
              <a:xfrm>
                <a:off x="268200" y="2744640"/>
                <a:ext cx="2488680" cy="1541880"/>
                <a:chOff x="268200" y="2744640"/>
                <a:chExt cx="2488680" cy="1541880"/>
              </a:xfrm>
            </p:grpSpPr>
            <p:sp>
              <p:nvSpPr>
                <p:cNvPr id="3671" name=""/>
                <p:cNvSpPr/>
                <p:nvPr/>
              </p:nvSpPr>
              <p:spPr>
                <a:xfrm>
                  <a:off x="909720" y="2896920"/>
                  <a:ext cx="0" cy="106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2" name=""/>
                <p:cNvSpPr/>
                <p:nvPr/>
              </p:nvSpPr>
              <p:spPr>
                <a:xfrm>
                  <a:off x="834840" y="3528720"/>
                  <a:ext cx="1741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"/>
                <p:cNvSpPr/>
                <p:nvPr/>
              </p:nvSpPr>
              <p:spPr>
                <a:xfrm>
                  <a:off x="2065680" y="3277800"/>
                  <a:ext cx="691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Vou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4" name=""/>
                <p:cNvSpPr/>
                <p:nvPr/>
              </p:nvSpPr>
              <p:spPr>
                <a:xfrm>
                  <a:off x="268200" y="3011040"/>
                  <a:ext cx="592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Iou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5" name=""/>
                <p:cNvGrpSpPr/>
                <p:nvPr/>
              </p:nvGrpSpPr>
              <p:grpSpPr>
                <a:xfrm>
                  <a:off x="888840" y="2975760"/>
                  <a:ext cx="1580400" cy="584280"/>
                  <a:chOff x="888840" y="2975760"/>
                  <a:chExt cx="1580400" cy="584280"/>
                </a:xfrm>
              </p:grpSpPr>
              <p:sp>
                <p:nvSpPr>
                  <p:cNvPr id="3676" name=""/>
                  <p:cNvSpPr/>
                  <p:nvPr/>
                </p:nvSpPr>
                <p:spPr>
                  <a:xfrm flipV="1">
                    <a:off x="888840" y="3333240"/>
                    <a:ext cx="262800" cy="226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7" name=""/>
                  <p:cNvSpPr/>
                  <p:nvPr/>
                </p:nvSpPr>
                <p:spPr>
                  <a:xfrm flipV="1">
                    <a:off x="1151640" y="3170520"/>
                    <a:ext cx="264600" cy="162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8" name=""/>
                  <p:cNvSpPr/>
                  <p:nvPr/>
                </p:nvSpPr>
                <p:spPr>
                  <a:xfrm flipV="1">
                    <a:off x="1416240" y="3040920"/>
                    <a:ext cx="420840" cy="129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9" name=""/>
                  <p:cNvSpPr/>
                  <p:nvPr/>
                </p:nvSpPr>
                <p:spPr>
                  <a:xfrm flipV="1">
                    <a:off x="1837080" y="2975760"/>
                    <a:ext cx="632160" cy="65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0" name=""/>
                <p:cNvGrpSpPr/>
                <p:nvPr/>
              </p:nvGrpSpPr>
              <p:grpSpPr>
                <a:xfrm>
                  <a:off x="888840" y="3528720"/>
                  <a:ext cx="1530000" cy="388800"/>
                  <a:chOff x="888840" y="3528720"/>
                  <a:chExt cx="1530000" cy="388800"/>
                </a:xfrm>
              </p:grpSpPr>
              <p:sp>
                <p:nvSpPr>
                  <p:cNvPr id="3681" name=""/>
                  <p:cNvSpPr/>
                  <p:nvPr/>
                </p:nvSpPr>
                <p:spPr>
                  <a:xfrm>
                    <a:off x="888840" y="3528720"/>
                    <a:ext cx="53280" cy="96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2" name=""/>
                  <p:cNvSpPr/>
                  <p:nvPr/>
                </p:nvSpPr>
                <p:spPr>
                  <a:xfrm>
                    <a:off x="942480" y="3625560"/>
                    <a:ext cx="211320" cy="162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3" name=""/>
                  <p:cNvSpPr/>
                  <p:nvPr/>
                </p:nvSpPr>
                <p:spPr>
                  <a:xfrm>
                    <a:off x="1153800" y="3788280"/>
                    <a:ext cx="369360" cy="97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4" name=""/>
                  <p:cNvSpPr/>
                  <p:nvPr/>
                </p:nvSpPr>
                <p:spPr>
                  <a:xfrm>
                    <a:off x="1523160" y="3885840"/>
                    <a:ext cx="579600" cy="31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5" name=""/>
                  <p:cNvSpPr/>
                  <p:nvPr/>
                </p:nvSpPr>
                <p:spPr>
                  <a:xfrm>
                    <a:off x="2102760" y="3917520"/>
                    <a:ext cx="3160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86" name=""/>
                <p:cNvSpPr/>
                <p:nvPr/>
              </p:nvSpPr>
              <p:spPr>
                <a:xfrm>
                  <a:off x="907560" y="3887640"/>
                  <a:ext cx="1413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High/pullu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>
                  <a:off x="908640" y="2744640"/>
                  <a:ext cx="11455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Low/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pulldow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8" name=""/>
              <p:cNvSpPr/>
              <p:nvPr/>
            </p:nvSpPr>
            <p:spPr>
              <a:xfrm>
                <a:off x="1322280" y="3735000"/>
                <a:ext cx="660600" cy="304920"/>
              </a:xfrm>
              <a:prstGeom prst="noSmoking">
                <a:avLst>
                  <a:gd name="adj" fmla="val 125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909720" y="3544560"/>
                <a:ext cx="1566720" cy="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1658880" y="2917440"/>
                <a:ext cx="660240" cy="304920"/>
              </a:xfrm>
              <a:prstGeom prst="noSmoking">
                <a:avLst>
                  <a:gd name="adj" fmla="val 1250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91" name=""/>
          <p:cNvGrpSpPr/>
          <p:nvPr/>
        </p:nvGrpSpPr>
        <p:grpSpPr>
          <a:xfrm>
            <a:off x="6162840" y="841320"/>
            <a:ext cx="2516040" cy="4834800"/>
            <a:chOff x="6162840" y="841320"/>
            <a:chExt cx="2516040" cy="4834800"/>
          </a:xfrm>
        </p:grpSpPr>
        <p:sp>
          <p:nvSpPr>
            <p:cNvPr id="3692" name=""/>
            <p:cNvSpPr/>
            <p:nvPr/>
          </p:nvSpPr>
          <p:spPr>
            <a:xfrm>
              <a:off x="6558120" y="841320"/>
              <a:ext cx="1558800" cy="39168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_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3" name=""/>
            <p:cNvGrpSpPr/>
            <p:nvPr/>
          </p:nvGrpSpPr>
          <p:grpSpPr>
            <a:xfrm>
              <a:off x="6162840" y="2651040"/>
              <a:ext cx="2516040" cy="1541880"/>
              <a:chOff x="6162840" y="2651040"/>
              <a:chExt cx="2516040" cy="1541880"/>
            </a:xfrm>
          </p:grpSpPr>
          <p:sp>
            <p:nvSpPr>
              <p:cNvPr id="3694" name=""/>
              <p:cNvSpPr/>
              <p:nvPr/>
            </p:nvSpPr>
            <p:spPr>
              <a:xfrm>
                <a:off x="6162840" y="2678040"/>
                <a:ext cx="2516040" cy="14270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5" name=""/>
              <p:cNvGrpSpPr/>
              <p:nvPr/>
            </p:nvGrpSpPr>
            <p:grpSpPr>
              <a:xfrm>
                <a:off x="6189840" y="2651040"/>
                <a:ext cx="2488680" cy="1541880"/>
                <a:chOff x="6189840" y="2651040"/>
                <a:chExt cx="2488680" cy="1541880"/>
              </a:xfrm>
            </p:grpSpPr>
            <p:grpSp>
              <p:nvGrpSpPr>
                <p:cNvPr id="3696" name=""/>
                <p:cNvGrpSpPr/>
                <p:nvPr/>
              </p:nvGrpSpPr>
              <p:grpSpPr>
                <a:xfrm>
                  <a:off x="6189840" y="2651040"/>
                  <a:ext cx="2488680" cy="1541880"/>
                  <a:chOff x="6189840" y="2651040"/>
                  <a:chExt cx="2488680" cy="1541880"/>
                </a:xfrm>
              </p:grpSpPr>
              <p:sp>
                <p:nvSpPr>
                  <p:cNvPr id="3697" name=""/>
                  <p:cNvSpPr/>
                  <p:nvPr/>
                </p:nvSpPr>
                <p:spPr>
                  <a:xfrm>
                    <a:off x="6831000" y="2803320"/>
                    <a:ext cx="0" cy="1066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8" name=""/>
                  <p:cNvSpPr/>
                  <p:nvPr/>
                </p:nvSpPr>
                <p:spPr>
                  <a:xfrm>
                    <a:off x="6756480" y="3435120"/>
                    <a:ext cx="1741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9" name=""/>
                  <p:cNvSpPr/>
                  <p:nvPr/>
                </p:nvSpPr>
                <p:spPr>
                  <a:xfrm>
                    <a:off x="7987320" y="3184200"/>
                    <a:ext cx="691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ou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0" name=""/>
                  <p:cNvSpPr/>
                  <p:nvPr/>
                </p:nvSpPr>
                <p:spPr>
                  <a:xfrm>
                    <a:off x="6189840" y="2917440"/>
                    <a:ext cx="592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ou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01" name=""/>
                  <p:cNvGrpSpPr/>
                  <p:nvPr/>
                </p:nvGrpSpPr>
                <p:grpSpPr>
                  <a:xfrm>
                    <a:off x="6810480" y="3247560"/>
                    <a:ext cx="1594800" cy="219240"/>
                    <a:chOff x="6810480" y="3247560"/>
                    <a:chExt cx="1594800" cy="219240"/>
                  </a:xfrm>
                </p:grpSpPr>
                <p:sp>
                  <p:nvSpPr>
                    <p:cNvPr id="3702" name=""/>
                    <p:cNvSpPr/>
                    <p:nvPr/>
                  </p:nvSpPr>
                  <p:spPr>
                    <a:xfrm flipV="1">
                      <a:off x="6810480" y="3381840"/>
                      <a:ext cx="265320" cy="84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3" name=""/>
                    <p:cNvSpPr/>
                    <p:nvPr/>
                  </p:nvSpPr>
                  <p:spPr>
                    <a:xfrm flipV="1">
                      <a:off x="7075800" y="3320280"/>
                      <a:ext cx="266760" cy="608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4" name=""/>
                    <p:cNvSpPr/>
                    <p:nvPr/>
                  </p:nvSpPr>
                  <p:spPr>
                    <a:xfrm flipV="1">
                      <a:off x="7342920" y="3272040"/>
                      <a:ext cx="424440" cy="482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5" name=""/>
                    <p:cNvSpPr/>
                    <p:nvPr/>
                  </p:nvSpPr>
                  <p:spPr>
                    <a:xfrm flipV="1">
                      <a:off x="7767360" y="3247560"/>
                      <a:ext cx="637920" cy="24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6" name=""/>
                  <p:cNvGrpSpPr/>
                  <p:nvPr/>
                </p:nvGrpSpPr>
                <p:grpSpPr>
                  <a:xfrm>
                    <a:off x="6810480" y="3435120"/>
                    <a:ext cx="1530000" cy="388800"/>
                    <a:chOff x="6810480" y="3435120"/>
                    <a:chExt cx="1530000" cy="388800"/>
                  </a:xfrm>
                </p:grpSpPr>
                <p:sp>
                  <p:nvSpPr>
                    <p:cNvPr id="3707" name=""/>
                    <p:cNvSpPr/>
                    <p:nvPr/>
                  </p:nvSpPr>
                  <p:spPr>
                    <a:xfrm>
                      <a:off x="6810480" y="3435120"/>
                      <a:ext cx="53280" cy="968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8" name=""/>
                    <p:cNvSpPr/>
                    <p:nvPr/>
                  </p:nvSpPr>
                  <p:spPr>
                    <a:xfrm>
                      <a:off x="6864120" y="3531960"/>
                      <a:ext cx="211320" cy="1627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9" name=""/>
                    <p:cNvSpPr/>
                    <p:nvPr/>
                  </p:nvSpPr>
                  <p:spPr>
                    <a:xfrm>
                      <a:off x="7075440" y="3694680"/>
                      <a:ext cx="369360" cy="97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0" name=""/>
                    <p:cNvSpPr/>
                    <p:nvPr/>
                  </p:nvSpPr>
                  <p:spPr>
                    <a:xfrm>
                      <a:off x="7444800" y="3792240"/>
                      <a:ext cx="579600" cy="31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1" name=""/>
                    <p:cNvSpPr/>
                    <p:nvPr/>
                  </p:nvSpPr>
                  <p:spPr>
                    <a:xfrm>
                      <a:off x="8024400" y="3823920"/>
                      <a:ext cx="3160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12" name=""/>
                  <p:cNvSpPr/>
                  <p:nvPr/>
                </p:nvSpPr>
                <p:spPr>
                  <a:xfrm>
                    <a:off x="6829200" y="3794040"/>
                    <a:ext cx="1413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igh/pullu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3" name=""/>
                  <p:cNvSpPr/>
                  <p:nvPr/>
                </p:nvSpPr>
                <p:spPr>
                  <a:xfrm>
                    <a:off x="6829920" y="2651040"/>
                    <a:ext cx="114552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ow/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ulldow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14" name=""/>
                <p:cNvSpPr/>
                <p:nvPr/>
              </p:nvSpPr>
              <p:spPr>
                <a:xfrm>
                  <a:off x="7243920" y="3641400"/>
                  <a:ext cx="660240" cy="304920"/>
                </a:xfrm>
                <a:prstGeom prst="noSmoking">
                  <a:avLst>
                    <a:gd name="adj" fmla="val 12500"/>
                  </a:avLst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5" name=""/>
                <p:cNvSpPr/>
                <p:nvPr/>
              </p:nvSpPr>
              <p:spPr>
                <a:xfrm>
                  <a:off x="6831000" y="3450960"/>
                  <a:ext cx="1567080" cy="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16" name=""/>
            <p:cNvGrpSpPr/>
            <p:nvPr/>
          </p:nvGrpSpPr>
          <p:grpSpPr>
            <a:xfrm>
              <a:off x="6564240" y="4297320"/>
              <a:ext cx="1900440" cy="1378800"/>
              <a:chOff x="6564240" y="4297320"/>
              <a:chExt cx="1900440" cy="1378800"/>
            </a:xfrm>
          </p:grpSpPr>
          <p:sp>
            <p:nvSpPr>
              <p:cNvPr id="3717" name=""/>
              <p:cNvSpPr/>
              <p:nvPr/>
            </p:nvSpPr>
            <p:spPr>
              <a:xfrm>
                <a:off x="6564240" y="4335480"/>
                <a:ext cx="1900440" cy="118296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7282080" y="5338800"/>
                <a:ext cx="23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9" name=""/>
              <p:cNvGrpSpPr/>
              <p:nvPr/>
            </p:nvGrpSpPr>
            <p:grpSpPr>
              <a:xfrm>
                <a:off x="7516440" y="4297320"/>
                <a:ext cx="911160" cy="1378800"/>
                <a:chOff x="7516440" y="4297320"/>
                <a:chExt cx="911160" cy="1378800"/>
              </a:xfrm>
            </p:grpSpPr>
            <p:grpSp>
              <p:nvGrpSpPr>
                <p:cNvPr id="3720" name=""/>
                <p:cNvGrpSpPr/>
                <p:nvPr/>
              </p:nvGrpSpPr>
              <p:grpSpPr>
                <a:xfrm>
                  <a:off x="7760160" y="4552560"/>
                  <a:ext cx="299520" cy="257760"/>
                  <a:chOff x="7760160" y="4552560"/>
                  <a:chExt cx="299520" cy="257760"/>
                </a:xfrm>
              </p:grpSpPr>
              <p:sp>
                <p:nvSpPr>
                  <p:cNvPr id="3721" name=""/>
                  <p:cNvSpPr/>
                  <p:nvPr/>
                </p:nvSpPr>
                <p:spPr>
                  <a:xfrm>
                    <a:off x="7765920" y="4810320"/>
                    <a:ext cx="62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2" name=""/>
                  <p:cNvSpPr/>
                  <p:nvPr/>
                </p:nvSpPr>
                <p:spPr>
                  <a:xfrm>
                    <a:off x="7985880" y="4552920"/>
                    <a:ext cx="62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23" name=""/>
                  <p:cNvGrpSpPr/>
                  <p:nvPr/>
                </p:nvGrpSpPr>
                <p:grpSpPr>
                  <a:xfrm>
                    <a:off x="7760160" y="4552560"/>
                    <a:ext cx="299520" cy="256680"/>
                    <a:chOff x="7760160" y="4552560"/>
                    <a:chExt cx="299520" cy="256680"/>
                  </a:xfrm>
                </p:grpSpPr>
                <p:sp>
                  <p:nvSpPr>
                    <p:cNvPr id="3724" name=""/>
                    <p:cNvSpPr/>
                    <p:nvPr/>
                  </p:nvSpPr>
                  <p:spPr>
                    <a:xfrm flipV="1">
                      <a:off x="7760160" y="4552200"/>
                      <a:ext cx="149760" cy="25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5" name=""/>
                    <p:cNvSpPr/>
                    <p:nvPr/>
                  </p:nvSpPr>
                  <p:spPr>
                    <a:xfrm flipV="1" rot="10800000">
                      <a:off x="7910640" y="4552200"/>
                      <a:ext cx="149040" cy="25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26" name=""/>
                <p:cNvGrpSpPr/>
                <p:nvPr/>
              </p:nvGrpSpPr>
              <p:grpSpPr>
                <a:xfrm>
                  <a:off x="7516440" y="4297320"/>
                  <a:ext cx="792720" cy="976320"/>
                  <a:chOff x="7516440" y="4297320"/>
                  <a:chExt cx="792720" cy="976320"/>
                </a:xfrm>
              </p:grpSpPr>
              <p:sp>
                <p:nvSpPr>
                  <p:cNvPr id="3727" name=""/>
                  <p:cNvSpPr/>
                  <p:nvPr/>
                </p:nvSpPr>
                <p:spPr>
                  <a:xfrm>
                    <a:off x="7761240" y="4421160"/>
                    <a:ext cx="0" cy="852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8" name=""/>
                  <p:cNvSpPr/>
                  <p:nvPr/>
                </p:nvSpPr>
                <p:spPr>
                  <a:xfrm>
                    <a:off x="7742160" y="5241960"/>
                    <a:ext cx="56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9" name=""/>
                  <p:cNvSpPr/>
                  <p:nvPr/>
                </p:nvSpPr>
                <p:spPr>
                  <a:xfrm>
                    <a:off x="7742160" y="4873680"/>
                    <a:ext cx="5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0" name=""/>
                  <p:cNvSpPr/>
                  <p:nvPr/>
                </p:nvSpPr>
                <p:spPr>
                  <a:xfrm>
                    <a:off x="7724880" y="454680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1" name=""/>
                  <p:cNvSpPr/>
                  <p:nvPr/>
                </p:nvSpPr>
                <p:spPr>
                  <a:xfrm>
                    <a:off x="7659720" y="4297320"/>
                    <a:ext cx="18432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2" name=""/>
                  <p:cNvSpPr/>
                  <p:nvPr/>
                </p:nvSpPr>
                <p:spPr>
                  <a:xfrm>
                    <a:off x="7517520" y="4554720"/>
                    <a:ext cx="50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c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3" name=""/>
                  <p:cNvSpPr/>
                  <p:nvPr/>
                </p:nvSpPr>
                <p:spPr>
                  <a:xfrm>
                    <a:off x="7516440" y="4881600"/>
                    <a:ext cx="4291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34" name=""/>
                <p:cNvSpPr/>
                <p:nvPr/>
              </p:nvSpPr>
              <p:spPr>
                <a:xfrm>
                  <a:off x="8190360" y="5338800"/>
                  <a:ext cx="23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7543440" y="431028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6" name=""/>
              <p:cNvGrpSpPr/>
              <p:nvPr/>
            </p:nvGrpSpPr>
            <p:grpSpPr>
              <a:xfrm>
                <a:off x="6606720" y="4297320"/>
                <a:ext cx="792720" cy="976320"/>
                <a:chOff x="6606720" y="4297320"/>
                <a:chExt cx="792720" cy="976320"/>
              </a:xfrm>
            </p:grpSpPr>
            <p:grpSp>
              <p:nvGrpSpPr>
                <p:cNvPr id="3737" name=""/>
                <p:cNvGrpSpPr/>
                <p:nvPr/>
              </p:nvGrpSpPr>
              <p:grpSpPr>
                <a:xfrm>
                  <a:off x="6839280" y="4552560"/>
                  <a:ext cx="449280" cy="267120"/>
                  <a:chOff x="6839280" y="4552560"/>
                  <a:chExt cx="449280" cy="267120"/>
                </a:xfrm>
              </p:grpSpPr>
              <p:sp>
                <p:nvSpPr>
                  <p:cNvPr id="3738" name=""/>
                  <p:cNvSpPr/>
                  <p:nvPr/>
                </p:nvSpPr>
                <p:spPr>
                  <a:xfrm>
                    <a:off x="7185960" y="4819680"/>
                    <a:ext cx="939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39" name=""/>
                  <p:cNvGrpSpPr/>
                  <p:nvPr/>
                </p:nvGrpSpPr>
                <p:grpSpPr>
                  <a:xfrm>
                    <a:off x="6839280" y="4552560"/>
                    <a:ext cx="449280" cy="266400"/>
                    <a:chOff x="6839280" y="4552560"/>
                    <a:chExt cx="449280" cy="266400"/>
                  </a:xfrm>
                </p:grpSpPr>
                <p:sp>
                  <p:nvSpPr>
                    <p:cNvPr id="3740" name=""/>
                    <p:cNvSpPr/>
                    <p:nvPr/>
                  </p:nvSpPr>
                  <p:spPr>
                    <a:xfrm flipH="1" flipV="1">
                      <a:off x="7063920" y="4552200"/>
                      <a:ext cx="22464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1" name=""/>
                    <p:cNvSpPr/>
                    <p:nvPr/>
                  </p:nvSpPr>
                  <p:spPr>
                    <a:xfrm flipH="1" flipV="1" rot="10800000">
                      <a:off x="6839280" y="4552560"/>
                      <a:ext cx="22392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2" name=""/>
                  <p:cNvSpPr/>
                  <p:nvPr/>
                </p:nvSpPr>
                <p:spPr>
                  <a:xfrm>
                    <a:off x="6856560" y="4552920"/>
                    <a:ext cx="939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43" name=""/>
                <p:cNvSpPr/>
                <p:nvPr/>
              </p:nvSpPr>
              <p:spPr>
                <a:xfrm flipH="1">
                  <a:off x="6856560" y="4542120"/>
                  <a:ext cx="93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4" name=""/>
                <p:cNvGrpSpPr/>
                <p:nvPr/>
              </p:nvGrpSpPr>
              <p:grpSpPr>
                <a:xfrm>
                  <a:off x="6606720" y="4297320"/>
                  <a:ext cx="792720" cy="976320"/>
                  <a:chOff x="6606720" y="4297320"/>
                  <a:chExt cx="792720" cy="976320"/>
                </a:xfrm>
              </p:grpSpPr>
              <p:sp>
                <p:nvSpPr>
                  <p:cNvPr id="3745" name=""/>
                  <p:cNvSpPr/>
                  <p:nvPr/>
                </p:nvSpPr>
                <p:spPr>
                  <a:xfrm>
                    <a:off x="6851520" y="4421160"/>
                    <a:ext cx="0" cy="852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6" name=""/>
                  <p:cNvSpPr/>
                  <p:nvPr/>
                </p:nvSpPr>
                <p:spPr>
                  <a:xfrm>
                    <a:off x="6834240" y="5241960"/>
                    <a:ext cx="56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7" name=""/>
                  <p:cNvSpPr/>
                  <p:nvPr/>
                </p:nvSpPr>
                <p:spPr>
                  <a:xfrm>
                    <a:off x="6834240" y="487368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8" name=""/>
                  <p:cNvSpPr/>
                  <p:nvPr/>
                </p:nvSpPr>
                <p:spPr>
                  <a:xfrm>
                    <a:off x="6815160" y="454680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9" name=""/>
                  <p:cNvSpPr/>
                  <p:nvPr/>
                </p:nvSpPr>
                <p:spPr>
                  <a:xfrm>
                    <a:off x="6751800" y="429732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0" name=""/>
                  <p:cNvSpPr/>
                  <p:nvPr/>
                </p:nvSpPr>
                <p:spPr>
                  <a:xfrm>
                    <a:off x="6607800" y="4554720"/>
                    <a:ext cx="50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c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1" name=""/>
                  <p:cNvSpPr/>
                  <p:nvPr/>
                </p:nvSpPr>
                <p:spPr>
                  <a:xfrm>
                    <a:off x="6606720" y="4888080"/>
                    <a:ext cx="4291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2" name=""/>
                <p:cNvSpPr/>
                <p:nvPr/>
              </p:nvSpPr>
              <p:spPr>
                <a:xfrm>
                  <a:off x="6634080" y="431028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3" name=""/>
                <p:cNvSpPr/>
                <p:nvPr/>
              </p:nvSpPr>
              <p:spPr>
                <a:xfrm>
                  <a:off x="7045200" y="4605480"/>
                  <a:ext cx="22320" cy="1396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4" name=""/>
              <p:cNvSpPr/>
              <p:nvPr/>
            </p:nvSpPr>
            <p:spPr>
              <a:xfrm flipH="1">
                <a:off x="7904160" y="4600800"/>
                <a:ext cx="23760" cy="147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5" name=""/>
            <p:cNvGrpSpPr/>
            <p:nvPr/>
          </p:nvGrpSpPr>
          <p:grpSpPr>
            <a:xfrm>
              <a:off x="6369120" y="1536480"/>
              <a:ext cx="2062080" cy="1003680"/>
              <a:chOff x="6369120" y="1536480"/>
              <a:chExt cx="2062080" cy="1003680"/>
            </a:xfrm>
          </p:grpSpPr>
          <p:sp>
            <p:nvSpPr>
              <p:cNvPr id="3756" name=""/>
              <p:cNvSpPr/>
              <p:nvPr/>
            </p:nvSpPr>
            <p:spPr>
              <a:xfrm>
                <a:off x="6369120" y="1536480"/>
                <a:ext cx="2062080" cy="968400"/>
              </a:xfrm>
              <a:prstGeom prst="roundRect">
                <a:avLst>
                  <a:gd name="adj" fmla="val 16667"/>
                </a:avLst>
              </a:prstGeom>
              <a:solidFill>
                <a:srgbClr val="cc99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7074000" y="1596960"/>
                <a:ext cx="0" cy="84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6662880" y="2111400"/>
                <a:ext cx="13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835760" y="2141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6847920" y="165708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6863040" y="1839960"/>
                <a:ext cx="151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Power clam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2" name=""/>
              <p:cNvGrpSpPr/>
              <p:nvPr/>
            </p:nvGrpSpPr>
            <p:grpSpPr>
              <a:xfrm>
                <a:off x="6751800" y="1812600"/>
                <a:ext cx="1081080" cy="488520"/>
                <a:chOff x="6751800" y="1812600"/>
                <a:chExt cx="1081080" cy="488520"/>
              </a:xfrm>
            </p:grpSpPr>
            <p:sp>
              <p:nvSpPr>
                <p:cNvPr id="3763" name=""/>
                <p:cNvSpPr/>
                <p:nvPr/>
              </p:nvSpPr>
              <p:spPr>
                <a:xfrm flipH="1" flipV="1">
                  <a:off x="7094880" y="2114280"/>
                  <a:ext cx="738000" cy="18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4" name=""/>
                <p:cNvSpPr/>
                <p:nvPr/>
              </p:nvSpPr>
              <p:spPr>
                <a:xfrm flipH="1" flipV="1">
                  <a:off x="7000560" y="2084400"/>
                  <a:ext cx="93960" cy="29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5" name=""/>
                <p:cNvSpPr/>
                <p:nvPr/>
              </p:nvSpPr>
              <p:spPr>
                <a:xfrm flipH="1" flipV="1">
                  <a:off x="6751800" y="1812600"/>
                  <a:ext cx="249120" cy="27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66" name=""/>
          <p:cNvGrpSpPr/>
          <p:nvPr/>
        </p:nvGrpSpPr>
        <p:grpSpPr>
          <a:xfrm>
            <a:off x="2957400" y="849240"/>
            <a:ext cx="2516400" cy="4824360"/>
            <a:chOff x="2957400" y="849240"/>
            <a:chExt cx="2516400" cy="4824360"/>
          </a:xfrm>
        </p:grpSpPr>
        <p:sp>
          <p:nvSpPr>
            <p:cNvPr id="3767" name=""/>
            <p:cNvSpPr/>
            <p:nvPr/>
          </p:nvSpPr>
          <p:spPr>
            <a:xfrm>
              <a:off x="3375000" y="849240"/>
              <a:ext cx="1558800" cy="3916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_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8" name=""/>
            <p:cNvGrpSpPr/>
            <p:nvPr/>
          </p:nvGrpSpPr>
          <p:grpSpPr>
            <a:xfrm>
              <a:off x="2957400" y="2649240"/>
              <a:ext cx="2516400" cy="1541880"/>
              <a:chOff x="2957400" y="2649240"/>
              <a:chExt cx="2516400" cy="1541880"/>
            </a:xfrm>
          </p:grpSpPr>
          <p:sp>
            <p:nvSpPr>
              <p:cNvPr id="3769" name=""/>
              <p:cNvSpPr/>
              <p:nvPr/>
            </p:nvSpPr>
            <p:spPr>
              <a:xfrm>
                <a:off x="2957400" y="2676240"/>
                <a:ext cx="2516400" cy="14270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0" name=""/>
              <p:cNvGrpSpPr/>
              <p:nvPr/>
            </p:nvGrpSpPr>
            <p:grpSpPr>
              <a:xfrm>
                <a:off x="2984040" y="2649240"/>
                <a:ext cx="2487960" cy="1541880"/>
                <a:chOff x="2984040" y="2649240"/>
                <a:chExt cx="2487960" cy="1541880"/>
              </a:xfrm>
            </p:grpSpPr>
            <p:grpSp>
              <p:nvGrpSpPr>
                <p:cNvPr id="3771" name=""/>
                <p:cNvGrpSpPr/>
                <p:nvPr/>
              </p:nvGrpSpPr>
              <p:grpSpPr>
                <a:xfrm>
                  <a:off x="2984040" y="2649240"/>
                  <a:ext cx="2487960" cy="1541880"/>
                  <a:chOff x="2984040" y="2649240"/>
                  <a:chExt cx="2487960" cy="1541880"/>
                </a:xfrm>
              </p:grpSpPr>
              <p:sp>
                <p:nvSpPr>
                  <p:cNvPr id="3772" name=""/>
                  <p:cNvSpPr/>
                  <p:nvPr/>
                </p:nvSpPr>
                <p:spPr>
                  <a:xfrm>
                    <a:off x="3625200" y="2801520"/>
                    <a:ext cx="0" cy="1066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3" name=""/>
                  <p:cNvSpPr/>
                  <p:nvPr/>
                </p:nvSpPr>
                <p:spPr>
                  <a:xfrm>
                    <a:off x="3551760" y="3433320"/>
                    <a:ext cx="1740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4" name=""/>
                  <p:cNvSpPr/>
                  <p:nvPr/>
                </p:nvSpPr>
                <p:spPr>
                  <a:xfrm>
                    <a:off x="4780800" y="3182400"/>
                    <a:ext cx="691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ou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5" name=""/>
                  <p:cNvSpPr/>
                  <p:nvPr/>
                </p:nvSpPr>
                <p:spPr>
                  <a:xfrm>
                    <a:off x="2984040" y="2915640"/>
                    <a:ext cx="592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ou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76" name=""/>
                  <p:cNvGrpSpPr/>
                  <p:nvPr/>
                </p:nvGrpSpPr>
                <p:grpSpPr>
                  <a:xfrm>
                    <a:off x="3604680" y="2880360"/>
                    <a:ext cx="1580400" cy="584280"/>
                    <a:chOff x="3604680" y="2880360"/>
                    <a:chExt cx="1580400" cy="584280"/>
                  </a:xfrm>
                </p:grpSpPr>
                <p:sp>
                  <p:nvSpPr>
                    <p:cNvPr id="3777" name=""/>
                    <p:cNvSpPr/>
                    <p:nvPr/>
                  </p:nvSpPr>
                  <p:spPr>
                    <a:xfrm flipV="1">
                      <a:off x="3604680" y="3237840"/>
                      <a:ext cx="262800" cy="226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8" name=""/>
                    <p:cNvSpPr/>
                    <p:nvPr/>
                  </p:nvSpPr>
                  <p:spPr>
                    <a:xfrm flipV="1">
                      <a:off x="3867480" y="3075120"/>
                      <a:ext cx="264600" cy="1627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9" name=""/>
                    <p:cNvSpPr/>
                    <p:nvPr/>
                  </p:nvSpPr>
                  <p:spPr>
                    <a:xfrm flipV="1">
                      <a:off x="4132080" y="2945520"/>
                      <a:ext cx="420840" cy="1292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0" name=""/>
                    <p:cNvSpPr/>
                    <p:nvPr/>
                  </p:nvSpPr>
                  <p:spPr>
                    <a:xfrm flipV="1">
                      <a:off x="4552920" y="2880360"/>
                      <a:ext cx="632160" cy="65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1" name=""/>
                  <p:cNvGrpSpPr/>
                  <p:nvPr/>
                </p:nvGrpSpPr>
                <p:grpSpPr>
                  <a:xfrm>
                    <a:off x="3604680" y="3433320"/>
                    <a:ext cx="1529640" cy="388800"/>
                    <a:chOff x="3604680" y="3433320"/>
                    <a:chExt cx="1529640" cy="388800"/>
                  </a:xfrm>
                </p:grpSpPr>
                <p:sp>
                  <p:nvSpPr>
                    <p:cNvPr id="3782" name=""/>
                    <p:cNvSpPr/>
                    <p:nvPr/>
                  </p:nvSpPr>
                  <p:spPr>
                    <a:xfrm>
                      <a:off x="3604680" y="3433320"/>
                      <a:ext cx="53280" cy="968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3" name=""/>
                    <p:cNvSpPr/>
                    <p:nvPr/>
                  </p:nvSpPr>
                  <p:spPr>
                    <a:xfrm>
                      <a:off x="3658320" y="3530160"/>
                      <a:ext cx="210960" cy="1627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4" name=""/>
                    <p:cNvSpPr/>
                    <p:nvPr/>
                  </p:nvSpPr>
                  <p:spPr>
                    <a:xfrm>
                      <a:off x="3869280" y="3692880"/>
                      <a:ext cx="369360" cy="97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5" name=""/>
                    <p:cNvSpPr/>
                    <p:nvPr/>
                  </p:nvSpPr>
                  <p:spPr>
                    <a:xfrm>
                      <a:off x="4239360" y="3790440"/>
                      <a:ext cx="579240" cy="31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6" name=""/>
                    <p:cNvSpPr/>
                    <p:nvPr/>
                  </p:nvSpPr>
                  <p:spPr>
                    <a:xfrm>
                      <a:off x="4818600" y="3822120"/>
                      <a:ext cx="31572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87" name=""/>
                  <p:cNvSpPr/>
                  <p:nvPr/>
                </p:nvSpPr>
                <p:spPr>
                  <a:xfrm>
                    <a:off x="3623040" y="3792240"/>
                    <a:ext cx="1413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igh/pullu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8" name=""/>
                  <p:cNvSpPr/>
                  <p:nvPr/>
                </p:nvSpPr>
                <p:spPr>
                  <a:xfrm>
                    <a:off x="3624120" y="2649240"/>
                    <a:ext cx="114552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ow/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ulldow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89" name=""/>
                <p:cNvSpPr/>
                <p:nvPr/>
              </p:nvSpPr>
              <p:spPr>
                <a:xfrm>
                  <a:off x="4037760" y="3639600"/>
                  <a:ext cx="660240" cy="304560"/>
                </a:xfrm>
                <a:prstGeom prst="noSmoking">
                  <a:avLst>
                    <a:gd name="adj" fmla="val 12500"/>
                  </a:avLst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0" name=""/>
                <p:cNvSpPr/>
                <p:nvPr/>
              </p:nvSpPr>
              <p:spPr>
                <a:xfrm>
                  <a:off x="3625560" y="3449160"/>
                  <a:ext cx="1567800" cy="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91" name=""/>
            <p:cNvGrpSpPr/>
            <p:nvPr/>
          </p:nvGrpSpPr>
          <p:grpSpPr>
            <a:xfrm>
              <a:off x="3214800" y="4295520"/>
              <a:ext cx="1900080" cy="1378080"/>
              <a:chOff x="3214800" y="4295520"/>
              <a:chExt cx="1900080" cy="1378080"/>
            </a:xfrm>
          </p:grpSpPr>
          <p:sp>
            <p:nvSpPr>
              <p:cNvPr id="3792" name=""/>
              <p:cNvSpPr/>
              <p:nvPr/>
            </p:nvSpPr>
            <p:spPr>
              <a:xfrm>
                <a:off x="3214800" y="4333680"/>
                <a:ext cx="1900080" cy="118260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3" name=""/>
              <p:cNvGrpSpPr/>
              <p:nvPr/>
            </p:nvGrpSpPr>
            <p:grpSpPr>
              <a:xfrm>
                <a:off x="3256920" y="4295520"/>
                <a:ext cx="912240" cy="1378080"/>
                <a:chOff x="3256920" y="4295520"/>
                <a:chExt cx="912240" cy="1378080"/>
              </a:xfrm>
            </p:grpSpPr>
            <p:grpSp>
              <p:nvGrpSpPr>
                <p:cNvPr id="3794" name=""/>
                <p:cNvGrpSpPr/>
                <p:nvPr/>
              </p:nvGrpSpPr>
              <p:grpSpPr>
                <a:xfrm>
                  <a:off x="3488040" y="4551120"/>
                  <a:ext cx="450360" cy="486000"/>
                  <a:chOff x="3488040" y="4551120"/>
                  <a:chExt cx="450360" cy="486000"/>
                </a:xfrm>
              </p:grpSpPr>
              <p:sp>
                <p:nvSpPr>
                  <p:cNvPr id="3795" name=""/>
                  <p:cNvSpPr/>
                  <p:nvPr/>
                </p:nvSpPr>
                <p:spPr>
                  <a:xfrm>
                    <a:off x="3835800" y="5037120"/>
                    <a:ext cx="939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96" name=""/>
                  <p:cNvGrpSpPr/>
                  <p:nvPr/>
                </p:nvGrpSpPr>
                <p:grpSpPr>
                  <a:xfrm>
                    <a:off x="3488040" y="4551120"/>
                    <a:ext cx="450360" cy="485280"/>
                    <a:chOff x="3488040" y="4551120"/>
                    <a:chExt cx="450360" cy="485280"/>
                  </a:xfrm>
                </p:grpSpPr>
                <p:sp>
                  <p:nvSpPr>
                    <p:cNvPr id="3797" name=""/>
                    <p:cNvSpPr/>
                    <p:nvPr/>
                  </p:nvSpPr>
                  <p:spPr>
                    <a:xfrm flipH="1" flipV="1">
                      <a:off x="3713040" y="4550760"/>
                      <a:ext cx="225360" cy="48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8" name=""/>
                    <p:cNvSpPr/>
                    <p:nvPr/>
                  </p:nvSpPr>
                  <p:spPr>
                    <a:xfrm flipH="1" flipV="1" rot="10800000">
                      <a:off x="3488040" y="4551120"/>
                      <a:ext cx="224640" cy="48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99" name=""/>
                  <p:cNvSpPr/>
                  <p:nvPr/>
                </p:nvSpPr>
                <p:spPr>
                  <a:xfrm>
                    <a:off x="3506040" y="4551480"/>
                    <a:ext cx="939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0" name=""/>
                <p:cNvGrpSpPr/>
                <p:nvPr/>
              </p:nvGrpSpPr>
              <p:grpSpPr>
                <a:xfrm>
                  <a:off x="3256920" y="4295520"/>
                  <a:ext cx="792000" cy="1056600"/>
                  <a:chOff x="3256920" y="4295520"/>
                  <a:chExt cx="792000" cy="1056600"/>
                </a:xfrm>
              </p:grpSpPr>
              <p:grpSp>
                <p:nvGrpSpPr>
                  <p:cNvPr id="3801" name=""/>
                  <p:cNvGrpSpPr/>
                  <p:nvPr/>
                </p:nvGrpSpPr>
                <p:grpSpPr>
                  <a:xfrm>
                    <a:off x="3489480" y="4539240"/>
                    <a:ext cx="449280" cy="486000"/>
                    <a:chOff x="3489480" y="4539240"/>
                    <a:chExt cx="449280" cy="486000"/>
                  </a:xfrm>
                </p:grpSpPr>
                <p:sp>
                  <p:nvSpPr>
                    <p:cNvPr id="3802" name=""/>
                    <p:cNvSpPr/>
                    <p:nvPr/>
                  </p:nvSpPr>
                  <p:spPr>
                    <a:xfrm flipH="1">
                      <a:off x="3836160" y="5025240"/>
                      <a:ext cx="939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3" name=""/>
                    <p:cNvSpPr/>
                    <p:nvPr/>
                  </p:nvSpPr>
                  <p:spPr>
                    <a:xfrm flipH="1">
                      <a:off x="3506760" y="4539600"/>
                      <a:ext cx="939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804" name=""/>
                    <p:cNvGrpSpPr/>
                    <p:nvPr/>
                  </p:nvGrpSpPr>
                  <p:grpSpPr>
                    <a:xfrm>
                      <a:off x="3489480" y="4539240"/>
                      <a:ext cx="449280" cy="485280"/>
                      <a:chOff x="3489480" y="4539240"/>
                      <a:chExt cx="449280" cy="485280"/>
                    </a:xfrm>
                  </p:grpSpPr>
                  <p:sp>
                    <p:nvSpPr>
                      <p:cNvPr id="3805" name=""/>
                      <p:cNvSpPr/>
                      <p:nvPr/>
                    </p:nvSpPr>
                    <p:spPr>
                      <a:xfrm flipH="1" flipV="1">
                        <a:off x="3714120" y="4538880"/>
                        <a:ext cx="224640" cy="48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6" name=""/>
                      <p:cNvSpPr/>
                      <p:nvPr/>
                    </p:nvSpPr>
                    <p:spPr>
                      <a:xfrm flipH="1" flipV="1" rot="10800000">
                        <a:off x="3489480" y="4539240"/>
                        <a:ext cx="223920" cy="48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807" name=""/>
                  <p:cNvGrpSpPr/>
                  <p:nvPr/>
                </p:nvGrpSpPr>
                <p:grpSpPr>
                  <a:xfrm>
                    <a:off x="3256920" y="4295520"/>
                    <a:ext cx="792000" cy="1056600"/>
                    <a:chOff x="3256920" y="4295520"/>
                    <a:chExt cx="792000" cy="1056600"/>
                  </a:xfrm>
                </p:grpSpPr>
                <p:sp>
                  <p:nvSpPr>
                    <p:cNvPr id="3808" name=""/>
                    <p:cNvSpPr/>
                    <p:nvPr/>
                  </p:nvSpPr>
                  <p:spPr>
                    <a:xfrm>
                      <a:off x="3501720" y="4419720"/>
                      <a:ext cx="0" cy="852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9" name=""/>
                    <p:cNvSpPr/>
                    <p:nvPr/>
                  </p:nvSpPr>
                  <p:spPr>
                    <a:xfrm>
                      <a:off x="3483720" y="5239800"/>
                      <a:ext cx="5652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0" name=""/>
                    <p:cNvSpPr/>
                    <p:nvPr/>
                  </p:nvSpPr>
                  <p:spPr>
                    <a:xfrm>
                      <a:off x="3483720" y="5051160"/>
                      <a:ext cx="54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1" name=""/>
                    <p:cNvSpPr/>
                    <p:nvPr/>
                  </p:nvSpPr>
                  <p:spPr>
                    <a:xfrm>
                      <a:off x="3465720" y="4545000"/>
                      <a:ext cx="54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2" name=""/>
                    <p:cNvSpPr/>
                    <p:nvPr/>
                  </p:nvSpPr>
                  <p:spPr>
                    <a:xfrm>
                      <a:off x="3402000" y="4295520"/>
                      <a:ext cx="183960" cy="33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3" name=""/>
                    <p:cNvSpPr/>
                    <p:nvPr/>
                  </p:nvSpPr>
                  <p:spPr>
                    <a:xfrm>
                      <a:off x="3257640" y="4552560"/>
                      <a:ext cx="5068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4" name=""/>
                    <p:cNvSpPr/>
                    <p:nvPr/>
                  </p:nvSpPr>
                  <p:spPr>
                    <a:xfrm>
                      <a:off x="3256920" y="5014800"/>
                      <a:ext cx="42912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815" name=""/>
                <p:cNvSpPr/>
                <p:nvPr/>
              </p:nvSpPr>
              <p:spPr>
                <a:xfrm>
                  <a:off x="3931920" y="5336280"/>
                  <a:ext cx="23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6" name=""/>
                <p:cNvSpPr/>
                <p:nvPr/>
              </p:nvSpPr>
              <p:spPr>
                <a:xfrm>
                  <a:off x="3283200" y="430812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7" name=""/>
              <p:cNvGrpSpPr/>
              <p:nvPr/>
            </p:nvGrpSpPr>
            <p:grpSpPr>
              <a:xfrm>
                <a:off x="4167000" y="4295520"/>
                <a:ext cx="910440" cy="1378080"/>
                <a:chOff x="4167000" y="4295520"/>
                <a:chExt cx="910440" cy="1378080"/>
              </a:xfrm>
            </p:grpSpPr>
            <p:grpSp>
              <p:nvGrpSpPr>
                <p:cNvPr id="3818" name=""/>
                <p:cNvGrpSpPr/>
                <p:nvPr/>
              </p:nvGrpSpPr>
              <p:grpSpPr>
                <a:xfrm>
                  <a:off x="4410000" y="4551120"/>
                  <a:ext cx="299520" cy="486000"/>
                  <a:chOff x="4410000" y="4551120"/>
                  <a:chExt cx="299520" cy="486000"/>
                </a:xfrm>
              </p:grpSpPr>
              <p:sp>
                <p:nvSpPr>
                  <p:cNvPr id="3819" name=""/>
                  <p:cNvSpPr/>
                  <p:nvPr/>
                </p:nvSpPr>
                <p:spPr>
                  <a:xfrm>
                    <a:off x="4415760" y="5037120"/>
                    <a:ext cx="62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0" name=""/>
                  <p:cNvSpPr/>
                  <p:nvPr/>
                </p:nvSpPr>
                <p:spPr>
                  <a:xfrm>
                    <a:off x="4635360" y="4551480"/>
                    <a:ext cx="62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21" name=""/>
                  <p:cNvGrpSpPr/>
                  <p:nvPr/>
                </p:nvGrpSpPr>
                <p:grpSpPr>
                  <a:xfrm>
                    <a:off x="4410000" y="4551120"/>
                    <a:ext cx="299520" cy="485280"/>
                    <a:chOff x="4410000" y="4551120"/>
                    <a:chExt cx="299520" cy="485280"/>
                  </a:xfrm>
                </p:grpSpPr>
                <p:sp>
                  <p:nvSpPr>
                    <p:cNvPr id="3822" name=""/>
                    <p:cNvSpPr/>
                    <p:nvPr/>
                  </p:nvSpPr>
                  <p:spPr>
                    <a:xfrm flipV="1">
                      <a:off x="4410000" y="4550760"/>
                      <a:ext cx="149760" cy="48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3" name=""/>
                    <p:cNvSpPr/>
                    <p:nvPr/>
                  </p:nvSpPr>
                  <p:spPr>
                    <a:xfrm flipV="1" rot="10800000">
                      <a:off x="4560480" y="4551120"/>
                      <a:ext cx="149040" cy="48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24" name=""/>
                <p:cNvGrpSpPr/>
                <p:nvPr/>
              </p:nvGrpSpPr>
              <p:grpSpPr>
                <a:xfrm>
                  <a:off x="4167000" y="4295520"/>
                  <a:ext cx="791280" cy="1054080"/>
                  <a:chOff x="4167000" y="4295520"/>
                  <a:chExt cx="791280" cy="1054080"/>
                </a:xfrm>
              </p:grpSpPr>
              <p:sp>
                <p:nvSpPr>
                  <p:cNvPr id="3825" name=""/>
                  <p:cNvSpPr/>
                  <p:nvPr/>
                </p:nvSpPr>
                <p:spPr>
                  <a:xfrm>
                    <a:off x="4410720" y="4419360"/>
                    <a:ext cx="0" cy="85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6" name=""/>
                  <p:cNvSpPr/>
                  <p:nvPr/>
                </p:nvSpPr>
                <p:spPr>
                  <a:xfrm>
                    <a:off x="4392720" y="5239440"/>
                    <a:ext cx="56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7" name=""/>
                  <p:cNvSpPr/>
                  <p:nvPr/>
                </p:nvSpPr>
                <p:spPr>
                  <a:xfrm>
                    <a:off x="4392720" y="505080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8" name=""/>
                  <p:cNvSpPr/>
                  <p:nvPr/>
                </p:nvSpPr>
                <p:spPr>
                  <a:xfrm>
                    <a:off x="4374720" y="454500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9" name=""/>
                  <p:cNvSpPr/>
                  <p:nvPr/>
                </p:nvSpPr>
                <p:spPr>
                  <a:xfrm>
                    <a:off x="4309920" y="4295520"/>
                    <a:ext cx="183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0" name=""/>
                  <p:cNvSpPr/>
                  <p:nvPr/>
                </p:nvSpPr>
                <p:spPr>
                  <a:xfrm>
                    <a:off x="4167720" y="4552560"/>
                    <a:ext cx="50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c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1" name=""/>
                  <p:cNvSpPr/>
                  <p:nvPr/>
                </p:nvSpPr>
                <p:spPr>
                  <a:xfrm>
                    <a:off x="4167000" y="5012280"/>
                    <a:ext cx="4291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32" name=""/>
                <p:cNvSpPr/>
                <p:nvPr/>
              </p:nvSpPr>
              <p:spPr>
                <a:xfrm>
                  <a:off x="4840200" y="5336280"/>
                  <a:ext cx="23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3" name=""/>
                <p:cNvSpPr/>
                <p:nvPr/>
              </p:nvSpPr>
              <p:spPr>
                <a:xfrm>
                  <a:off x="4192920" y="430812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4" name=""/>
              <p:cNvSpPr/>
              <p:nvPr/>
            </p:nvSpPr>
            <p:spPr>
              <a:xfrm>
                <a:off x="3709800" y="4693680"/>
                <a:ext cx="41040" cy="2570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 flipH="1">
                <a:off x="4536720" y="4693680"/>
                <a:ext cx="40680" cy="2570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6" name=""/>
            <p:cNvGrpSpPr/>
            <p:nvPr/>
          </p:nvGrpSpPr>
          <p:grpSpPr>
            <a:xfrm>
              <a:off x="3191040" y="1534680"/>
              <a:ext cx="2062080" cy="1003320"/>
              <a:chOff x="3191040" y="1534680"/>
              <a:chExt cx="2062080" cy="1003320"/>
            </a:xfrm>
          </p:grpSpPr>
          <p:sp>
            <p:nvSpPr>
              <p:cNvPr id="3837" name=""/>
              <p:cNvSpPr/>
              <p:nvPr/>
            </p:nvSpPr>
            <p:spPr>
              <a:xfrm>
                <a:off x="3191040" y="1534680"/>
                <a:ext cx="2062080" cy="968040"/>
              </a:xfrm>
              <a:prstGeom prst="roundRect">
                <a:avLst>
                  <a:gd name="adj" fmla="val 16667"/>
                </a:avLst>
              </a:prstGeom>
              <a:solidFill>
                <a:srgbClr val="cc99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3895920" y="1594800"/>
                <a:ext cx="0" cy="84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3484800" y="2109240"/>
                <a:ext cx="13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4657680" y="2139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3669840" y="165492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3684960" y="1837800"/>
                <a:ext cx="151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Power clam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3" name=""/>
              <p:cNvGrpSpPr/>
              <p:nvPr/>
            </p:nvGrpSpPr>
            <p:grpSpPr>
              <a:xfrm>
                <a:off x="3573720" y="1810800"/>
                <a:ext cx="1081080" cy="488160"/>
                <a:chOff x="3573720" y="1810800"/>
                <a:chExt cx="1081080" cy="488160"/>
              </a:xfrm>
            </p:grpSpPr>
            <p:sp>
              <p:nvSpPr>
                <p:cNvPr id="3844" name=""/>
                <p:cNvSpPr/>
                <p:nvPr/>
              </p:nvSpPr>
              <p:spPr>
                <a:xfrm flipH="1" flipV="1">
                  <a:off x="3916800" y="2112120"/>
                  <a:ext cx="738000" cy="18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5" name=""/>
                <p:cNvSpPr/>
                <p:nvPr/>
              </p:nvSpPr>
              <p:spPr>
                <a:xfrm flipH="1" flipV="1">
                  <a:off x="3822480" y="2081880"/>
                  <a:ext cx="93960" cy="29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6" name=""/>
                <p:cNvSpPr/>
                <p:nvPr/>
              </p:nvSpPr>
              <p:spPr>
                <a:xfrm flipH="1" flipV="1">
                  <a:off x="3573720" y="1810800"/>
                  <a:ext cx="249120" cy="27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47" name=""/>
          <p:cNvGrpSpPr/>
          <p:nvPr/>
        </p:nvGrpSpPr>
        <p:grpSpPr>
          <a:xfrm>
            <a:off x="7878600" y="-169560"/>
            <a:ext cx="1265040" cy="1088640"/>
            <a:chOff x="7878600" y="-169560"/>
            <a:chExt cx="1265040" cy="1088640"/>
          </a:xfrm>
        </p:grpSpPr>
        <p:sp>
          <p:nvSpPr>
            <p:cNvPr id="3848" name=""/>
            <p:cNvSpPr/>
            <p:nvPr/>
          </p:nvSpPr>
          <p:spPr>
            <a:xfrm>
              <a:off x="7878600" y="-169560"/>
              <a:ext cx="126504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CML- Preempha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9" name=""/>
            <p:cNvGrpSpPr/>
            <p:nvPr/>
          </p:nvGrpSpPr>
          <p:grpSpPr>
            <a:xfrm>
              <a:off x="8272080" y="663480"/>
              <a:ext cx="612720" cy="254160"/>
              <a:chOff x="8272080" y="663480"/>
              <a:chExt cx="612720" cy="254160"/>
            </a:xfrm>
          </p:grpSpPr>
          <p:grpSp>
            <p:nvGrpSpPr>
              <p:cNvPr id="3850" name=""/>
              <p:cNvGrpSpPr/>
              <p:nvPr/>
            </p:nvGrpSpPr>
            <p:grpSpPr>
              <a:xfrm>
                <a:off x="8272080" y="756360"/>
                <a:ext cx="612720" cy="161280"/>
                <a:chOff x="8272080" y="756360"/>
                <a:chExt cx="612720" cy="161280"/>
              </a:xfrm>
            </p:grpSpPr>
            <p:grpSp>
              <p:nvGrpSpPr>
                <p:cNvPr id="3851" name=""/>
                <p:cNvGrpSpPr/>
                <p:nvPr/>
              </p:nvGrpSpPr>
              <p:grpSpPr>
                <a:xfrm>
                  <a:off x="8272080" y="877680"/>
                  <a:ext cx="612720" cy="39960"/>
                  <a:chOff x="8272080" y="877680"/>
                  <a:chExt cx="612720" cy="39960"/>
                </a:xfrm>
              </p:grpSpPr>
              <p:sp>
                <p:nvSpPr>
                  <p:cNvPr id="3852" name=""/>
                  <p:cNvSpPr/>
                  <p:nvPr/>
                </p:nvSpPr>
                <p:spPr>
                  <a:xfrm>
                    <a:off x="83743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3" name=""/>
                  <p:cNvSpPr/>
                  <p:nvPr/>
                </p:nvSpPr>
                <p:spPr>
                  <a:xfrm>
                    <a:off x="85788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4" name=""/>
                  <p:cNvSpPr/>
                  <p:nvPr/>
                </p:nvSpPr>
                <p:spPr>
                  <a:xfrm>
                    <a:off x="86810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5" name=""/>
                  <p:cNvSpPr/>
                  <p:nvPr/>
                </p:nvSpPr>
                <p:spPr>
                  <a:xfrm>
                    <a:off x="87832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6" name=""/>
                  <p:cNvSpPr/>
                  <p:nvPr/>
                </p:nvSpPr>
                <p:spPr>
                  <a:xfrm>
                    <a:off x="84765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7" name=""/>
                  <p:cNvSpPr/>
                  <p:nvPr/>
                </p:nvSpPr>
                <p:spPr>
                  <a:xfrm>
                    <a:off x="82720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8" name=""/>
                <p:cNvGrpSpPr/>
                <p:nvPr/>
              </p:nvGrpSpPr>
              <p:grpSpPr>
                <a:xfrm>
                  <a:off x="8323200" y="837000"/>
                  <a:ext cx="510480" cy="39960"/>
                  <a:chOff x="8323200" y="837000"/>
                  <a:chExt cx="510480" cy="39960"/>
                </a:xfrm>
              </p:grpSpPr>
              <p:sp>
                <p:nvSpPr>
                  <p:cNvPr id="3859" name=""/>
                  <p:cNvSpPr/>
                  <p:nvPr/>
                </p:nvSpPr>
                <p:spPr>
                  <a:xfrm>
                    <a:off x="83232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0" name=""/>
                  <p:cNvSpPr/>
                  <p:nvPr/>
                </p:nvSpPr>
                <p:spPr>
                  <a:xfrm>
                    <a:off x="85276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1" name=""/>
                  <p:cNvSpPr/>
                  <p:nvPr/>
                </p:nvSpPr>
                <p:spPr>
                  <a:xfrm>
                    <a:off x="86299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2" name=""/>
                  <p:cNvSpPr/>
                  <p:nvPr/>
                </p:nvSpPr>
                <p:spPr>
                  <a:xfrm>
                    <a:off x="87321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3" name=""/>
                  <p:cNvSpPr/>
                  <p:nvPr/>
                </p:nvSpPr>
                <p:spPr>
                  <a:xfrm>
                    <a:off x="84254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4" name=""/>
                <p:cNvGrpSpPr/>
                <p:nvPr/>
              </p:nvGrpSpPr>
              <p:grpSpPr>
                <a:xfrm>
                  <a:off x="8374320" y="756360"/>
                  <a:ext cx="408240" cy="80280"/>
                  <a:chOff x="8374320" y="756360"/>
                  <a:chExt cx="408240" cy="80280"/>
                </a:xfrm>
              </p:grpSpPr>
              <p:sp>
                <p:nvSpPr>
                  <p:cNvPr id="3865" name=""/>
                  <p:cNvSpPr/>
                  <p:nvPr/>
                </p:nvSpPr>
                <p:spPr>
                  <a:xfrm>
                    <a:off x="84765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6" name=""/>
                  <p:cNvSpPr/>
                  <p:nvPr/>
                </p:nvSpPr>
                <p:spPr>
                  <a:xfrm>
                    <a:off x="868104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"/>
                  <p:cNvSpPr/>
                  <p:nvPr/>
                </p:nvSpPr>
                <p:spPr>
                  <a:xfrm>
                    <a:off x="85788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8" name=""/>
                  <p:cNvSpPr/>
                  <p:nvPr/>
                </p:nvSpPr>
                <p:spPr>
                  <a:xfrm>
                    <a:off x="83743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9" name=""/>
                  <p:cNvSpPr/>
                  <p:nvPr/>
                </p:nvSpPr>
                <p:spPr>
                  <a:xfrm>
                    <a:off x="84254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0" name=""/>
                  <p:cNvSpPr/>
                  <p:nvPr/>
                </p:nvSpPr>
                <p:spPr>
                  <a:xfrm>
                    <a:off x="862992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"/>
                  <p:cNvSpPr/>
                  <p:nvPr/>
                </p:nvSpPr>
                <p:spPr>
                  <a:xfrm>
                    <a:off x="85276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72" name=""/>
              <p:cNvGrpSpPr/>
              <p:nvPr/>
            </p:nvGrpSpPr>
            <p:grpSpPr>
              <a:xfrm>
                <a:off x="8503200" y="756360"/>
                <a:ext cx="152280" cy="160200"/>
                <a:chOff x="8503200" y="756360"/>
                <a:chExt cx="152280" cy="160200"/>
              </a:xfrm>
            </p:grpSpPr>
            <p:grpSp>
              <p:nvGrpSpPr>
                <p:cNvPr id="3873" name=""/>
                <p:cNvGrpSpPr/>
                <p:nvPr/>
              </p:nvGrpSpPr>
              <p:grpSpPr>
                <a:xfrm>
                  <a:off x="8503200" y="877320"/>
                  <a:ext cx="152280" cy="39240"/>
                  <a:chOff x="8503200" y="877320"/>
                  <a:chExt cx="152280" cy="39240"/>
                </a:xfrm>
              </p:grpSpPr>
              <p:sp>
                <p:nvSpPr>
                  <p:cNvPr id="3874" name=""/>
                  <p:cNvSpPr/>
                  <p:nvPr/>
                </p:nvSpPr>
                <p:spPr>
                  <a:xfrm>
                    <a:off x="850932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"/>
                  <p:cNvSpPr/>
                  <p:nvPr/>
                </p:nvSpPr>
                <p:spPr>
                  <a:xfrm>
                    <a:off x="850320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"/>
                  <p:cNvSpPr/>
                  <p:nvPr/>
                </p:nvSpPr>
                <p:spPr>
                  <a:xfrm>
                    <a:off x="851580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7" name=""/>
                <p:cNvGrpSpPr/>
                <p:nvPr/>
              </p:nvGrpSpPr>
              <p:grpSpPr>
                <a:xfrm>
                  <a:off x="8521920" y="837000"/>
                  <a:ext cx="114120" cy="39240"/>
                  <a:chOff x="8521920" y="837000"/>
                  <a:chExt cx="114120" cy="39240"/>
                </a:xfrm>
              </p:grpSpPr>
              <p:sp>
                <p:nvSpPr>
                  <p:cNvPr id="3878" name=""/>
                  <p:cNvSpPr/>
                  <p:nvPr/>
                </p:nvSpPr>
                <p:spPr>
                  <a:xfrm>
                    <a:off x="852660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"/>
                  <p:cNvSpPr/>
                  <p:nvPr/>
                </p:nvSpPr>
                <p:spPr>
                  <a:xfrm>
                    <a:off x="852192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"/>
                  <p:cNvSpPr/>
                  <p:nvPr/>
                </p:nvSpPr>
                <p:spPr>
                  <a:xfrm>
                    <a:off x="853128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1" name=""/>
                <p:cNvGrpSpPr/>
                <p:nvPr/>
              </p:nvGrpSpPr>
              <p:grpSpPr>
                <a:xfrm>
                  <a:off x="8534880" y="796680"/>
                  <a:ext cx="88920" cy="39240"/>
                  <a:chOff x="8534880" y="796680"/>
                  <a:chExt cx="88920" cy="39240"/>
                </a:xfrm>
              </p:grpSpPr>
              <p:sp>
                <p:nvSpPr>
                  <p:cNvPr id="3882" name=""/>
                  <p:cNvSpPr/>
                  <p:nvPr/>
                </p:nvSpPr>
                <p:spPr>
                  <a:xfrm>
                    <a:off x="853848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"/>
                  <p:cNvSpPr/>
                  <p:nvPr/>
                </p:nvSpPr>
                <p:spPr>
                  <a:xfrm>
                    <a:off x="853488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"/>
                  <p:cNvSpPr/>
                  <p:nvPr/>
                </p:nvSpPr>
                <p:spPr>
                  <a:xfrm>
                    <a:off x="854208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5" name=""/>
                <p:cNvGrpSpPr/>
                <p:nvPr/>
              </p:nvGrpSpPr>
              <p:grpSpPr>
                <a:xfrm>
                  <a:off x="8547480" y="756360"/>
                  <a:ext cx="63360" cy="39240"/>
                  <a:chOff x="8547480" y="756360"/>
                  <a:chExt cx="63360" cy="39240"/>
                </a:xfrm>
              </p:grpSpPr>
              <p:sp>
                <p:nvSpPr>
                  <p:cNvPr id="3886" name=""/>
                  <p:cNvSpPr/>
                  <p:nvPr/>
                </p:nvSpPr>
                <p:spPr>
                  <a:xfrm>
                    <a:off x="855000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7" name=""/>
                  <p:cNvSpPr/>
                  <p:nvPr/>
                </p:nvSpPr>
                <p:spPr>
                  <a:xfrm>
                    <a:off x="854748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8" name=""/>
                  <p:cNvSpPr/>
                  <p:nvPr/>
                </p:nvSpPr>
                <p:spPr>
                  <a:xfrm>
                    <a:off x="855252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9" name=""/>
              <p:cNvSpPr/>
              <p:nvPr/>
            </p:nvSpPr>
            <p:spPr>
              <a:xfrm>
                <a:off x="845136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0" name=""/>
              <p:cNvGrpSpPr/>
              <p:nvPr/>
            </p:nvGrpSpPr>
            <p:grpSpPr>
              <a:xfrm>
                <a:off x="8486640" y="726120"/>
                <a:ext cx="183960" cy="28440"/>
                <a:chOff x="8486640" y="726120"/>
                <a:chExt cx="183960" cy="28440"/>
              </a:xfrm>
            </p:grpSpPr>
            <p:sp>
              <p:nvSpPr>
                <p:cNvPr id="3891" name=""/>
                <p:cNvSpPr/>
                <p:nvPr/>
              </p:nvSpPr>
              <p:spPr>
                <a:xfrm>
                  <a:off x="84866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2" name=""/>
                <p:cNvSpPr/>
                <p:nvPr/>
              </p:nvSpPr>
              <p:spPr>
                <a:xfrm>
                  <a:off x="85266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>
                  <a:off x="86454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>
                  <a:off x="86050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856512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6" name=""/>
              <p:cNvSpPr/>
              <p:nvPr/>
            </p:nvSpPr>
            <p:spPr>
              <a:xfrm>
                <a:off x="844416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flipV="1">
                <a:off x="844956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845712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IBIS cml driver schedule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246240" y="628560"/>
            <a:ext cx="860724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Driver schedul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Model_name      Rise_on_dly   Rise_off_dly   Fall_on_dly    Fall_off_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_OPSINKMAIN              0.00ns       NA          2.0ns      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_OPSINKBOOST       0.00ns      0.8ns       NA           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pullu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V    0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pulldow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V    0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V    0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powerclam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V     0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V    -10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ramp]     0.4V/37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1" name=""/>
          <p:cNvGrpSpPr/>
          <p:nvPr/>
        </p:nvGrpSpPr>
        <p:grpSpPr>
          <a:xfrm>
            <a:off x="7878600" y="-169560"/>
            <a:ext cx="1265040" cy="1088640"/>
            <a:chOff x="7878600" y="-169560"/>
            <a:chExt cx="1265040" cy="1088640"/>
          </a:xfrm>
        </p:grpSpPr>
        <p:sp>
          <p:nvSpPr>
            <p:cNvPr id="3902" name=""/>
            <p:cNvSpPr/>
            <p:nvPr/>
          </p:nvSpPr>
          <p:spPr>
            <a:xfrm>
              <a:off x="7878600" y="-169560"/>
              <a:ext cx="126504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CML- Preempha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3" name=""/>
            <p:cNvGrpSpPr/>
            <p:nvPr/>
          </p:nvGrpSpPr>
          <p:grpSpPr>
            <a:xfrm>
              <a:off x="8272080" y="663480"/>
              <a:ext cx="612720" cy="254160"/>
              <a:chOff x="8272080" y="663480"/>
              <a:chExt cx="612720" cy="254160"/>
            </a:xfrm>
          </p:grpSpPr>
          <p:grpSp>
            <p:nvGrpSpPr>
              <p:cNvPr id="3904" name=""/>
              <p:cNvGrpSpPr/>
              <p:nvPr/>
            </p:nvGrpSpPr>
            <p:grpSpPr>
              <a:xfrm>
                <a:off x="8272080" y="756360"/>
                <a:ext cx="612720" cy="161280"/>
                <a:chOff x="8272080" y="756360"/>
                <a:chExt cx="612720" cy="161280"/>
              </a:xfrm>
            </p:grpSpPr>
            <p:grpSp>
              <p:nvGrpSpPr>
                <p:cNvPr id="3905" name=""/>
                <p:cNvGrpSpPr/>
                <p:nvPr/>
              </p:nvGrpSpPr>
              <p:grpSpPr>
                <a:xfrm>
                  <a:off x="8272080" y="877680"/>
                  <a:ext cx="612720" cy="39960"/>
                  <a:chOff x="8272080" y="877680"/>
                  <a:chExt cx="612720" cy="39960"/>
                </a:xfrm>
              </p:grpSpPr>
              <p:sp>
                <p:nvSpPr>
                  <p:cNvPr id="3906" name=""/>
                  <p:cNvSpPr/>
                  <p:nvPr/>
                </p:nvSpPr>
                <p:spPr>
                  <a:xfrm>
                    <a:off x="83743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7" name=""/>
                  <p:cNvSpPr/>
                  <p:nvPr/>
                </p:nvSpPr>
                <p:spPr>
                  <a:xfrm>
                    <a:off x="85788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8" name=""/>
                  <p:cNvSpPr/>
                  <p:nvPr/>
                </p:nvSpPr>
                <p:spPr>
                  <a:xfrm>
                    <a:off x="86810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9" name=""/>
                  <p:cNvSpPr/>
                  <p:nvPr/>
                </p:nvSpPr>
                <p:spPr>
                  <a:xfrm>
                    <a:off x="87832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"/>
                  <p:cNvSpPr/>
                  <p:nvPr/>
                </p:nvSpPr>
                <p:spPr>
                  <a:xfrm>
                    <a:off x="84765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1" name=""/>
                  <p:cNvSpPr/>
                  <p:nvPr/>
                </p:nvSpPr>
                <p:spPr>
                  <a:xfrm>
                    <a:off x="82720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2" name=""/>
                <p:cNvGrpSpPr/>
                <p:nvPr/>
              </p:nvGrpSpPr>
              <p:grpSpPr>
                <a:xfrm>
                  <a:off x="8323200" y="837000"/>
                  <a:ext cx="510480" cy="39960"/>
                  <a:chOff x="8323200" y="837000"/>
                  <a:chExt cx="510480" cy="39960"/>
                </a:xfrm>
              </p:grpSpPr>
              <p:sp>
                <p:nvSpPr>
                  <p:cNvPr id="3913" name=""/>
                  <p:cNvSpPr/>
                  <p:nvPr/>
                </p:nvSpPr>
                <p:spPr>
                  <a:xfrm>
                    <a:off x="83232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4" name=""/>
                  <p:cNvSpPr/>
                  <p:nvPr/>
                </p:nvSpPr>
                <p:spPr>
                  <a:xfrm>
                    <a:off x="85276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5" name=""/>
                  <p:cNvSpPr/>
                  <p:nvPr/>
                </p:nvSpPr>
                <p:spPr>
                  <a:xfrm>
                    <a:off x="86299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6" name=""/>
                  <p:cNvSpPr/>
                  <p:nvPr/>
                </p:nvSpPr>
                <p:spPr>
                  <a:xfrm>
                    <a:off x="87321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7" name=""/>
                  <p:cNvSpPr/>
                  <p:nvPr/>
                </p:nvSpPr>
                <p:spPr>
                  <a:xfrm>
                    <a:off x="84254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8" name=""/>
                <p:cNvGrpSpPr/>
                <p:nvPr/>
              </p:nvGrpSpPr>
              <p:grpSpPr>
                <a:xfrm>
                  <a:off x="8374320" y="756360"/>
                  <a:ext cx="408240" cy="80280"/>
                  <a:chOff x="8374320" y="756360"/>
                  <a:chExt cx="408240" cy="80280"/>
                </a:xfrm>
              </p:grpSpPr>
              <p:sp>
                <p:nvSpPr>
                  <p:cNvPr id="3919" name=""/>
                  <p:cNvSpPr/>
                  <p:nvPr/>
                </p:nvSpPr>
                <p:spPr>
                  <a:xfrm>
                    <a:off x="84765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0" name=""/>
                  <p:cNvSpPr/>
                  <p:nvPr/>
                </p:nvSpPr>
                <p:spPr>
                  <a:xfrm>
                    <a:off x="868104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1" name=""/>
                  <p:cNvSpPr/>
                  <p:nvPr/>
                </p:nvSpPr>
                <p:spPr>
                  <a:xfrm>
                    <a:off x="85788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2" name=""/>
                  <p:cNvSpPr/>
                  <p:nvPr/>
                </p:nvSpPr>
                <p:spPr>
                  <a:xfrm>
                    <a:off x="83743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3" name=""/>
                  <p:cNvSpPr/>
                  <p:nvPr/>
                </p:nvSpPr>
                <p:spPr>
                  <a:xfrm>
                    <a:off x="84254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4" name=""/>
                  <p:cNvSpPr/>
                  <p:nvPr/>
                </p:nvSpPr>
                <p:spPr>
                  <a:xfrm>
                    <a:off x="862992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5" name=""/>
                  <p:cNvSpPr/>
                  <p:nvPr/>
                </p:nvSpPr>
                <p:spPr>
                  <a:xfrm>
                    <a:off x="85276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26" name=""/>
              <p:cNvGrpSpPr/>
              <p:nvPr/>
            </p:nvGrpSpPr>
            <p:grpSpPr>
              <a:xfrm>
                <a:off x="8503200" y="756360"/>
                <a:ext cx="152280" cy="160200"/>
                <a:chOff x="8503200" y="756360"/>
                <a:chExt cx="152280" cy="160200"/>
              </a:xfrm>
            </p:grpSpPr>
            <p:grpSp>
              <p:nvGrpSpPr>
                <p:cNvPr id="3927" name=""/>
                <p:cNvGrpSpPr/>
                <p:nvPr/>
              </p:nvGrpSpPr>
              <p:grpSpPr>
                <a:xfrm>
                  <a:off x="8503200" y="877320"/>
                  <a:ext cx="152280" cy="39240"/>
                  <a:chOff x="8503200" y="877320"/>
                  <a:chExt cx="152280" cy="39240"/>
                </a:xfrm>
              </p:grpSpPr>
              <p:sp>
                <p:nvSpPr>
                  <p:cNvPr id="3928" name=""/>
                  <p:cNvSpPr/>
                  <p:nvPr/>
                </p:nvSpPr>
                <p:spPr>
                  <a:xfrm>
                    <a:off x="850932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9" name=""/>
                  <p:cNvSpPr/>
                  <p:nvPr/>
                </p:nvSpPr>
                <p:spPr>
                  <a:xfrm>
                    <a:off x="850320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0" name=""/>
                  <p:cNvSpPr/>
                  <p:nvPr/>
                </p:nvSpPr>
                <p:spPr>
                  <a:xfrm>
                    <a:off x="851580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1" name=""/>
                <p:cNvGrpSpPr/>
                <p:nvPr/>
              </p:nvGrpSpPr>
              <p:grpSpPr>
                <a:xfrm>
                  <a:off x="8521920" y="837000"/>
                  <a:ext cx="114120" cy="39240"/>
                  <a:chOff x="8521920" y="837000"/>
                  <a:chExt cx="114120" cy="39240"/>
                </a:xfrm>
              </p:grpSpPr>
              <p:sp>
                <p:nvSpPr>
                  <p:cNvPr id="3932" name=""/>
                  <p:cNvSpPr/>
                  <p:nvPr/>
                </p:nvSpPr>
                <p:spPr>
                  <a:xfrm>
                    <a:off x="852660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3" name=""/>
                  <p:cNvSpPr/>
                  <p:nvPr/>
                </p:nvSpPr>
                <p:spPr>
                  <a:xfrm>
                    <a:off x="852192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4" name=""/>
                  <p:cNvSpPr/>
                  <p:nvPr/>
                </p:nvSpPr>
                <p:spPr>
                  <a:xfrm>
                    <a:off x="853128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5" name=""/>
                <p:cNvGrpSpPr/>
                <p:nvPr/>
              </p:nvGrpSpPr>
              <p:grpSpPr>
                <a:xfrm>
                  <a:off x="8534880" y="796680"/>
                  <a:ext cx="88920" cy="39240"/>
                  <a:chOff x="8534880" y="796680"/>
                  <a:chExt cx="88920" cy="39240"/>
                </a:xfrm>
              </p:grpSpPr>
              <p:sp>
                <p:nvSpPr>
                  <p:cNvPr id="3936" name=""/>
                  <p:cNvSpPr/>
                  <p:nvPr/>
                </p:nvSpPr>
                <p:spPr>
                  <a:xfrm>
                    <a:off x="853848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"/>
                  <p:cNvSpPr/>
                  <p:nvPr/>
                </p:nvSpPr>
                <p:spPr>
                  <a:xfrm>
                    <a:off x="853488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8" name=""/>
                  <p:cNvSpPr/>
                  <p:nvPr/>
                </p:nvSpPr>
                <p:spPr>
                  <a:xfrm>
                    <a:off x="854208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9" name=""/>
                <p:cNvGrpSpPr/>
                <p:nvPr/>
              </p:nvGrpSpPr>
              <p:grpSpPr>
                <a:xfrm>
                  <a:off x="8547480" y="756360"/>
                  <a:ext cx="63360" cy="39240"/>
                  <a:chOff x="8547480" y="756360"/>
                  <a:chExt cx="63360" cy="39240"/>
                </a:xfrm>
              </p:grpSpPr>
              <p:sp>
                <p:nvSpPr>
                  <p:cNvPr id="3940" name=""/>
                  <p:cNvSpPr/>
                  <p:nvPr/>
                </p:nvSpPr>
                <p:spPr>
                  <a:xfrm>
                    <a:off x="855000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1" name=""/>
                  <p:cNvSpPr/>
                  <p:nvPr/>
                </p:nvSpPr>
                <p:spPr>
                  <a:xfrm>
                    <a:off x="854748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2" name=""/>
                  <p:cNvSpPr/>
                  <p:nvPr/>
                </p:nvSpPr>
                <p:spPr>
                  <a:xfrm>
                    <a:off x="855252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43" name=""/>
              <p:cNvSpPr/>
              <p:nvPr/>
            </p:nvSpPr>
            <p:spPr>
              <a:xfrm>
                <a:off x="845136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4" name=""/>
              <p:cNvGrpSpPr/>
              <p:nvPr/>
            </p:nvGrpSpPr>
            <p:grpSpPr>
              <a:xfrm>
                <a:off x="8486640" y="726120"/>
                <a:ext cx="183960" cy="28440"/>
                <a:chOff x="8486640" y="726120"/>
                <a:chExt cx="183960" cy="28440"/>
              </a:xfrm>
            </p:grpSpPr>
            <p:sp>
              <p:nvSpPr>
                <p:cNvPr id="3945" name=""/>
                <p:cNvSpPr/>
                <p:nvPr/>
              </p:nvSpPr>
              <p:spPr>
                <a:xfrm>
                  <a:off x="84866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>
                  <a:off x="85266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>
                  <a:off x="86454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>
                  <a:off x="86050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>
                  <a:off x="856512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50" name=""/>
              <p:cNvSpPr/>
              <p:nvPr/>
            </p:nvSpPr>
            <p:spPr>
              <a:xfrm>
                <a:off x="844416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 flipV="1">
                <a:off x="844956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845712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3 test case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276120" y="604800"/>
            <a:ext cx="835992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here only rising edge show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5" name=""/>
          <p:cNvGrpSpPr/>
          <p:nvPr/>
        </p:nvGrpSpPr>
        <p:grpSpPr>
          <a:xfrm>
            <a:off x="241200" y="4765680"/>
            <a:ext cx="8664480" cy="1319040"/>
            <a:chOff x="241200" y="4765680"/>
            <a:chExt cx="8664480" cy="1319040"/>
          </a:xfrm>
        </p:grpSpPr>
        <p:sp>
          <p:nvSpPr>
            <p:cNvPr id="3956" name=""/>
            <p:cNvSpPr/>
            <p:nvPr/>
          </p:nvSpPr>
          <p:spPr>
            <a:xfrm>
              <a:off x="874440" y="4765680"/>
              <a:ext cx="8031240" cy="13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|Model_name  Rise_on_dly   Rise_off_dly   Fall_on_dly    Fall_off_d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_MAIN       0.00ns               NA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0ns             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_BOOST   0.00ns               0.8ns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0ns             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41200" y="513648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8" name=""/>
          <p:cNvGrpSpPr/>
          <p:nvPr/>
        </p:nvGrpSpPr>
        <p:grpSpPr>
          <a:xfrm>
            <a:off x="241200" y="1542960"/>
            <a:ext cx="8713800" cy="1319040"/>
            <a:chOff x="241200" y="1542960"/>
            <a:chExt cx="8713800" cy="1319040"/>
          </a:xfrm>
        </p:grpSpPr>
        <p:sp>
          <p:nvSpPr>
            <p:cNvPr id="3959" name=""/>
            <p:cNvSpPr/>
            <p:nvPr/>
          </p:nvSpPr>
          <p:spPr>
            <a:xfrm>
              <a:off x="241200" y="183420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923760" y="1542960"/>
              <a:ext cx="8031240" cy="13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lldow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wer cla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1" name=""/>
          <p:cNvGrpSpPr/>
          <p:nvPr/>
        </p:nvGrpSpPr>
        <p:grpSpPr>
          <a:xfrm>
            <a:off x="241200" y="3152880"/>
            <a:ext cx="8683560" cy="1319040"/>
            <a:chOff x="241200" y="3152880"/>
            <a:chExt cx="8683560" cy="1319040"/>
          </a:xfrm>
        </p:grpSpPr>
        <p:sp>
          <p:nvSpPr>
            <p:cNvPr id="3962" name=""/>
            <p:cNvSpPr/>
            <p:nvPr/>
          </p:nvSpPr>
          <p:spPr>
            <a:xfrm>
              <a:off x="241200" y="352692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893520" y="3152880"/>
              <a:ext cx="8031240" cy="13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|Model_name  Rise_on_dly   Rise_off_dly   Fall_on_dly    Fall_off_d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_MAIN       0.00ns               NA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0ns                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|MODEL_BOOST  0.00ns               0.8ns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0ns                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893520" y="4264200"/>
              <a:ext cx="783288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5" name=""/>
          <p:cNvGrpSpPr/>
          <p:nvPr/>
        </p:nvGrpSpPr>
        <p:grpSpPr>
          <a:xfrm>
            <a:off x="7878600" y="-169560"/>
            <a:ext cx="1265040" cy="1088640"/>
            <a:chOff x="7878600" y="-169560"/>
            <a:chExt cx="1265040" cy="1088640"/>
          </a:xfrm>
        </p:grpSpPr>
        <p:sp>
          <p:nvSpPr>
            <p:cNvPr id="3966" name=""/>
            <p:cNvSpPr/>
            <p:nvPr/>
          </p:nvSpPr>
          <p:spPr>
            <a:xfrm>
              <a:off x="7878600" y="-169560"/>
              <a:ext cx="126504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CML- Preempha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7" name=""/>
            <p:cNvGrpSpPr/>
            <p:nvPr/>
          </p:nvGrpSpPr>
          <p:grpSpPr>
            <a:xfrm>
              <a:off x="8272080" y="663480"/>
              <a:ext cx="612720" cy="254160"/>
              <a:chOff x="8272080" y="663480"/>
              <a:chExt cx="612720" cy="254160"/>
            </a:xfrm>
          </p:grpSpPr>
          <p:grpSp>
            <p:nvGrpSpPr>
              <p:cNvPr id="3968" name=""/>
              <p:cNvGrpSpPr/>
              <p:nvPr/>
            </p:nvGrpSpPr>
            <p:grpSpPr>
              <a:xfrm>
                <a:off x="8272080" y="756360"/>
                <a:ext cx="612720" cy="161280"/>
                <a:chOff x="8272080" y="756360"/>
                <a:chExt cx="612720" cy="161280"/>
              </a:xfrm>
            </p:grpSpPr>
            <p:grpSp>
              <p:nvGrpSpPr>
                <p:cNvPr id="3969" name=""/>
                <p:cNvGrpSpPr/>
                <p:nvPr/>
              </p:nvGrpSpPr>
              <p:grpSpPr>
                <a:xfrm>
                  <a:off x="8272080" y="877680"/>
                  <a:ext cx="612720" cy="39960"/>
                  <a:chOff x="8272080" y="877680"/>
                  <a:chExt cx="612720" cy="39960"/>
                </a:xfrm>
              </p:grpSpPr>
              <p:sp>
                <p:nvSpPr>
                  <p:cNvPr id="3970" name=""/>
                  <p:cNvSpPr/>
                  <p:nvPr/>
                </p:nvSpPr>
                <p:spPr>
                  <a:xfrm>
                    <a:off x="83743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1" name=""/>
                  <p:cNvSpPr/>
                  <p:nvPr/>
                </p:nvSpPr>
                <p:spPr>
                  <a:xfrm>
                    <a:off x="85788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2" name=""/>
                  <p:cNvSpPr/>
                  <p:nvPr/>
                </p:nvSpPr>
                <p:spPr>
                  <a:xfrm>
                    <a:off x="86810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3" name=""/>
                  <p:cNvSpPr/>
                  <p:nvPr/>
                </p:nvSpPr>
                <p:spPr>
                  <a:xfrm>
                    <a:off x="87832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4" name=""/>
                  <p:cNvSpPr/>
                  <p:nvPr/>
                </p:nvSpPr>
                <p:spPr>
                  <a:xfrm>
                    <a:off x="84765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"/>
                  <p:cNvSpPr/>
                  <p:nvPr/>
                </p:nvSpPr>
                <p:spPr>
                  <a:xfrm>
                    <a:off x="82720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6" name=""/>
                <p:cNvGrpSpPr/>
                <p:nvPr/>
              </p:nvGrpSpPr>
              <p:grpSpPr>
                <a:xfrm>
                  <a:off x="8323200" y="837000"/>
                  <a:ext cx="510480" cy="39960"/>
                  <a:chOff x="8323200" y="837000"/>
                  <a:chExt cx="510480" cy="39960"/>
                </a:xfrm>
              </p:grpSpPr>
              <p:sp>
                <p:nvSpPr>
                  <p:cNvPr id="3977" name=""/>
                  <p:cNvSpPr/>
                  <p:nvPr/>
                </p:nvSpPr>
                <p:spPr>
                  <a:xfrm>
                    <a:off x="83232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8" name=""/>
                  <p:cNvSpPr/>
                  <p:nvPr/>
                </p:nvSpPr>
                <p:spPr>
                  <a:xfrm>
                    <a:off x="85276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9" name=""/>
                  <p:cNvSpPr/>
                  <p:nvPr/>
                </p:nvSpPr>
                <p:spPr>
                  <a:xfrm>
                    <a:off x="86299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"/>
                  <p:cNvSpPr/>
                  <p:nvPr/>
                </p:nvSpPr>
                <p:spPr>
                  <a:xfrm>
                    <a:off x="87321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1" name=""/>
                  <p:cNvSpPr/>
                  <p:nvPr/>
                </p:nvSpPr>
                <p:spPr>
                  <a:xfrm>
                    <a:off x="84254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2" name=""/>
                <p:cNvGrpSpPr/>
                <p:nvPr/>
              </p:nvGrpSpPr>
              <p:grpSpPr>
                <a:xfrm>
                  <a:off x="8374320" y="756360"/>
                  <a:ext cx="408240" cy="80280"/>
                  <a:chOff x="8374320" y="756360"/>
                  <a:chExt cx="408240" cy="80280"/>
                </a:xfrm>
              </p:grpSpPr>
              <p:sp>
                <p:nvSpPr>
                  <p:cNvPr id="3983" name=""/>
                  <p:cNvSpPr/>
                  <p:nvPr/>
                </p:nvSpPr>
                <p:spPr>
                  <a:xfrm>
                    <a:off x="84765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4" name=""/>
                  <p:cNvSpPr/>
                  <p:nvPr/>
                </p:nvSpPr>
                <p:spPr>
                  <a:xfrm>
                    <a:off x="868104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5" name=""/>
                  <p:cNvSpPr/>
                  <p:nvPr/>
                </p:nvSpPr>
                <p:spPr>
                  <a:xfrm>
                    <a:off x="85788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"/>
                  <p:cNvSpPr/>
                  <p:nvPr/>
                </p:nvSpPr>
                <p:spPr>
                  <a:xfrm>
                    <a:off x="83743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7" name=""/>
                  <p:cNvSpPr/>
                  <p:nvPr/>
                </p:nvSpPr>
                <p:spPr>
                  <a:xfrm>
                    <a:off x="84254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8" name=""/>
                  <p:cNvSpPr/>
                  <p:nvPr/>
                </p:nvSpPr>
                <p:spPr>
                  <a:xfrm>
                    <a:off x="862992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9" name=""/>
                  <p:cNvSpPr/>
                  <p:nvPr/>
                </p:nvSpPr>
                <p:spPr>
                  <a:xfrm>
                    <a:off x="85276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90" name=""/>
              <p:cNvGrpSpPr/>
              <p:nvPr/>
            </p:nvGrpSpPr>
            <p:grpSpPr>
              <a:xfrm>
                <a:off x="8503200" y="756360"/>
                <a:ext cx="152280" cy="160200"/>
                <a:chOff x="8503200" y="756360"/>
                <a:chExt cx="152280" cy="160200"/>
              </a:xfrm>
            </p:grpSpPr>
            <p:grpSp>
              <p:nvGrpSpPr>
                <p:cNvPr id="3991" name=""/>
                <p:cNvGrpSpPr/>
                <p:nvPr/>
              </p:nvGrpSpPr>
              <p:grpSpPr>
                <a:xfrm>
                  <a:off x="8503200" y="877320"/>
                  <a:ext cx="152280" cy="39240"/>
                  <a:chOff x="8503200" y="877320"/>
                  <a:chExt cx="152280" cy="39240"/>
                </a:xfrm>
              </p:grpSpPr>
              <p:sp>
                <p:nvSpPr>
                  <p:cNvPr id="3992" name=""/>
                  <p:cNvSpPr/>
                  <p:nvPr/>
                </p:nvSpPr>
                <p:spPr>
                  <a:xfrm>
                    <a:off x="850932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3" name=""/>
                  <p:cNvSpPr/>
                  <p:nvPr/>
                </p:nvSpPr>
                <p:spPr>
                  <a:xfrm>
                    <a:off x="850320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4" name=""/>
                  <p:cNvSpPr/>
                  <p:nvPr/>
                </p:nvSpPr>
                <p:spPr>
                  <a:xfrm>
                    <a:off x="851580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5" name=""/>
                <p:cNvGrpSpPr/>
                <p:nvPr/>
              </p:nvGrpSpPr>
              <p:grpSpPr>
                <a:xfrm>
                  <a:off x="8521920" y="837000"/>
                  <a:ext cx="114120" cy="39240"/>
                  <a:chOff x="8521920" y="837000"/>
                  <a:chExt cx="114120" cy="39240"/>
                </a:xfrm>
              </p:grpSpPr>
              <p:sp>
                <p:nvSpPr>
                  <p:cNvPr id="3996" name=""/>
                  <p:cNvSpPr/>
                  <p:nvPr/>
                </p:nvSpPr>
                <p:spPr>
                  <a:xfrm>
                    <a:off x="852660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7" name=""/>
                  <p:cNvSpPr/>
                  <p:nvPr/>
                </p:nvSpPr>
                <p:spPr>
                  <a:xfrm>
                    <a:off x="852192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8" name=""/>
                  <p:cNvSpPr/>
                  <p:nvPr/>
                </p:nvSpPr>
                <p:spPr>
                  <a:xfrm>
                    <a:off x="853128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9" name=""/>
                <p:cNvGrpSpPr/>
                <p:nvPr/>
              </p:nvGrpSpPr>
              <p:grpSpPr>
                <a:xfrm>
                  <a:off x="8534880" y="796680"/>
                  <a:ext cx="88920" cy="39240"/>
                  <a:chOff x="8534880" y="796680"/>
                  <a:chExt cx="88920" cy="39240"/>
                </a:xfrm>
              </p:grpSpPr>
              <p:sp>
                <p:nvSpPr>
                  <p:cNvPr id="4000" name=""/>
                  <p:cNvSpPr/>
                  <p:nvPr/>
                </p:nvSpPr>
                <p:spPr>
                  <a:xfrm>
                    <a:off x="853848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1" name=""/>
                  <p:cNvSpPr/>
                  <p:nvPr/>
                </p:nvSpPr>
                <p:spPr>
                  <a:xfrm>
                    <a:off x="853488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2" name=""/>
                  <p:cNvSpPr/>
                  <p:nvPr/>
                </p:nvSpPr>
                <p:spPr>
                  <a:xfrm>
                    <a:off x="854208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3" name=""/>
                <p:cNvGrpSpPr/>
                <p:nvPr/>
              </p:nvGrpSpPr>
              <p:grpSpPr>
                <a:xfrm>
                  <a:off x="8547480" y="756360"/>
                  <a:ext cx="63360" cy="39240"/>
                  <a:chOff x="8547480" y="756360"/>
                  <a:chExt cx="63360" cy="39240"/>
                </a:xfrm>
              </p:grpSpPr>
              <p:sp>
                <p:nvSpPr>
                  <p:cNvPr id="4004" name=""/>
                  <p:cNvSpPr/>
                  <p:nvPr/>
                </p:nvSpPr>
                <p:spPr>
                  <a:xfrm>
                    <a:off x="855000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5" name=""/>
                  <p:cNvSpPr/>
                  <p:nvPr/>
                </p:nvSpPr>
                <p:spPr>
                  <a:xfrm>
                    <a:off x="854748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6" name=""/>
                  <p:cNvSpPr/>
                  <p:nvPr/>
                </p:nvSpPr>
                <p:spPr>
                  <a:xfrm>
                    <a:off x="855252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07" name=""/>
              <p:cNvSpPr/>
              <p:nvPr/>
            </p:nvSpPr>
            <p:spPr>
              <a:xfrm>
                <a:off x="845136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8" name=""/>
              <p:cNvGrpSpPr/>
              <p:nvPr/>
            </p:nvGrpSpPr>
            <p:grpSpPr>
              <a:xfrm>
                <a:off x="8486640" y="726120"/>
                <a:ext cx="183960" cy="28440"/>
                <a:chOff x="8486640" y="726120"/>
                <a:chExt cx="183960" cy="28440"/>
              </a:xfrm>
            </p:grpSpPr>
            <p:sp>
              <p:nvSpPr>
                <p:cNvPr id="4009" name=""/>
                <p:cNvSpPr/>
                <p:nvPr/>
              </p:nvSpPr>
              <p:spPr>
                <a:xfrm>
                  <a:off x="84866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>
                  <a:off x="85266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>
                  <a:off x="86454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>
                  <a:off x="86050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>
                  <a:off x="856512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4" name=""/>
              <p:cNvSpPr/>
              <p:nvPr/>
            </p:nvSpPr>
            <p:spPr>
              <a:xfrm>
                <a:off x="844416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 flipV="1">
                <a:off x="844956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845712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models for test case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0" y="1162080"/>
            <a:ext cx="860760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1  top level    Case 2  Main only       Case 3   schedu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9" name=""/>
          <p:cNvGrpSpPr/>
          <p:nvPr/>
        </p:nvGrpSpPr>
        <p:grpSpPr>
          <a:xfrm>
            <a:off x="241200" y="636120"/>
            <a:ext cx="2058120" cy="4382280"/>
            <a:chOff x="241200" y="636120"/>
            <a:chExt cx="2058120" cy="4382280"/>
          </a:xfrm>
        </p:grpSpPr>
        <p:sp>
          <p:nvSpPr>
            <p:cNvPr id="4020" name=""/>
            <p:cNvSpPr/>
            <p:nvPr/>
          </p:nvSpPr>
          <p:spPr>
            <a:xfrm>
              <a:off x="930240" y="63612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1" name=""/>
            <p:cNvGrpSpPr/>
            <p:nvPr/>
          </p:nvGrpSpPr>
          <p:grpSpPr>
            <a:xfrm>
              <a:off x="241200" y="2362320"/>
              <a:ext cx="2058120" cy="2656080"/>
              <a:chOff x="241200" y="2362320"/>
              <a:chExt cx="2058120" cy="2656080"/>
            </a:xfrm>
          </p:grpSpPr>
          <p:grpSp>
            <p:nvGrpSpPr>
              <p:cNvPr id="4022" name=""/>
              <p:cNvGrpSpPr/>
              <p:nvPr/>
            </p:nvGrpSpPr>
            <p:grpSpPr>
              <a:xfrm>
                <a:off x="356400" y="2362320"/>
                <a:ext cx="1888920" cy="1003320"/>
                <a:chOff x="356400" y="2362320"/>
                <a:chExt cx="1888920" cy="1003320"/>
              </a:xfrm>
            </p:grpSpPr>
            <p:sp>
              <p:nvSpPr>
                <p:cNvPr id="4023" name=""/>
                <p:cNvSpPr/>
                <p:nvPr/>
              </p:nvSpPr>
              <p:spPr>
                <a:xfrm>
                  <a:off x="356400" y="2362320"/>
                  <a:ext cx="1545840" cy="96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99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4" name=""/>
                <p:cNvSpPr/>
                <p:nvPr/>
              </p:nvSpPr>
              <p:spPr>
                <a:xfrm>
                  <a:off x="884880" y="2422440"/>
                  <a:ext cx="0" cy="84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5" name=""/>
                <p:cNvSpPr/>
                <p:nvPr/>
              </p:nvSpPr>
              <p:spPr>
                <a:xfrm>
                  <a:off x="576360" y="2936880"/>
                  <a:ext cx="1017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>
                  <a:off x="1456560" y="296676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>
                  <a:off x="716400" y="2482560"/>
                  <a:ext cx="266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8" name=""/>
                <p:cNvSpPr/>
                <p:nvPr/>
              </p:nvSpPr>
              <p:spPr>
                <a:xfrm>
                  <a:off x="726480" y="2665440"/>
                  <a:ext cx="1518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Power clam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29" name=""/>
                <p:cNvGrpSpPr/>
                <p:nvPr/>
              </p:nvGrpSpPr>
              <p:grpSpPr>
                <a:xfrm>
                  <a:off x="643320" y="2638440"/>
                  <a:ext cx="810000" cy="488160"/>
                  <a:chOff x="643320" y="2638440"/>
                  <a:chExt cx="810000" cy="488160"/>
                </a:xfrm>
              </p:grpSpPr>
              <p:sp>
                <p:nvSpPr>
                  <p:cNvPr id="4030" name=""/>
                  <p:cNvSpPr/>
                  <p:nvPr/>
                </p:nvSpPr>
                <p:spPr>
                  <a:xfrm flipH="1" flipV="1">
                    <a:off x="900360" y="2939760"/>
                    <a:ext cx="552960" cy="186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1" name=""/>
                  <p:cNvSpPr/>
                  <p:nvPr/>
                </p:nvSpPr>
                <p:spPr>
                  <a:xfrm flipH="1" flipV="1">
                    <a:off x="829440" y="2909520"/>
                    <a:ext cx="70200" cy="29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2" name=""/>
                  <p:cNvSpPr/>
                  <p:nvPr/>
                </p:nvSpPr>
                <p:spPr>
                  <a:xfrm flipH="1" flipV="1">
                    <a:off x="643320" y="2638440"/>
                    <a:ext cx="186480" cy="27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3" name=""/>
              <p:cNvGrpSpPr/>
              <p:nvPr/>
            </p:nvGrpSpPr>
            <p:grpSpPr>
              <a:xfrm>
                <a:off x="241200" y="3476520"/>
                <a:ext cx="2058120" cy="1541880"/>
                <a:chOff x="241200" y="3476520"/>
                <a:chExt cx="2058120" cy="1541880"/>
              </a:xfrm>
            </p:grpSpPr>
            <p:sp>
              <p:nvSpPr>
                <p:cNvPr id="4034" name=""/>
                <p:cNvSpPr/>
                <p:nvPr/>
              </p:nvSpPr>
              <p:spPr>
                <a:xfrm>
                  <a:off x="241200" y="3503520"/>
                  <a:ext cx="1886760" cy="1427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35" name=""/>
                <p:cNvGrpSpPr/>
                <p:nvPr/>
              </p:nvGrpSpPr>
              <p:grpSpPr>
                <a:xfrm>
                  <a:off x="261360" y="3476520"/>
                  <a:ext cx="2037960" cy="1541880"/>
                  <a:chOff x="261360" y="3476520"/>
                  <a:chExt cx="2037960" cy="1541880"/>
                </a:xfrm>
              </p:grpSpPr>
              <p:sp>
                <p:nvSpPr>
                  <p:cNvPr id="4036" name=""/>
                  <p:cNvSpPr/>
                  <p:nvPr/>
                </p:nvSpPr>
                <p:spPr>
                  <a:xfrm>
                    <a:off x="742320" y="3628800"/>
                    <a:ext cx="0" cy="1066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7" name=""/>
                  <p:cNvSpPr/>
                  <p:nvPr/>
                </p:nvSpPr>
                <p:spPr>
                  <a:xfrm>
                    <a:off x="686160" y="4260600"/>
                    <a:ext cx="1305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8" name=""/>
                  <p:cNvSpPr/>
                  <p:nvPr/>
                </p:nvSpPr>
                <p:spPr>
                  <a:xfrm>
                    <a:off x="1608120" y="4009680"/>
                    <a:ext cx="691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ou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9" name=""/>
                  <p:cNvSpPr/>
                  <p:nvPr/>
                </p:nvSpPr>
                <p:spPr>
                  <a:xfrm>
                    <a:off x="261360" y="3742920"/>
                    <a:ext cx="592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ou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40" name=""/>
                  <p:cNvGrpSpPr/>
                  <p:nvPr/>
                </p:nvGrpSpPr>
                <p:grpSpPr>
                  <a:xfrm>
                    <a:off x="726480" y="3707640"/>
                    <a:ext cx="1185120" cy="584280"/>
                    <a:chOff x="726480" y="3707640"/>
                    <a:chExt cx="1185120" cy="584280"/>
                  </a:xfrm>
                </p:grpSpPr>
                <p:sp>
                  <p:nvSpPr>
                    <p:cNvPr id="4041" name=""/>
                    <p:cNvSpPr/>
                    <p:nvPr/>
                  </p:nvSpPr>
                  <p:spPr>
                    <a:xfrm flipV="1">
                      <a:off x="726480" y="4065120"/>
                      <a:ext cx="196920" cy="226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2" name=""/>
                    <p:cNvSpPr/>
                    <p:nvPr/>
                  </p:nvSpPr>
                  <p:spPr>
                    <a:xfrm flipV="1">
                      <a:off x="923400" y="3902400"/>
                      <a:ext cx="198360" cy="1627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3" name=""/>
                    <p:cNvSpPr/>
                    <p:nvPr/>
                  </p:nvSpPr>
                  <p:spPr>
                    <a:xfrm flipV="1">
                      <a:off x="1122120" y="3772800"/>
                      <a:ext cx="315360" cy="1292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4" name=""/>
                    <p:cNvSpPr/>
                    <p:nvPr/>
                  </p:nvSpPr>
                  <p:spPr>
                    <a:xfrm flipV="1">
                      <a:off x="1437480" y="3707640"/>
                      <a:ext cx="474120" cy="65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5" name=""/>
                  <p:cNvGrpSpPr/>
                  <p:nvPr/>
                </p:nvGrpSpPr>
                <p:grpSpPr>
                  <a:xfrm>
                    <a:off x="726840" y="4260600"/>
                    <a:ext cx="1146600" cy="388800"/>
                    <a:chOff x="726840" y="4260600"/>
                    <a:chExt cx="1146600" cy="388800"/>
                  </a:xfrm>
                </p:grpSpPr>
                <p:sp>
                  <p:nvSpPr>
                    <p:cNvPr id="4046" name=""/>
                    <p:cNvSpPr/>
                    <p:nvPr/>
                  </p:nvSpPr>
                  <p:spPr>
                    <a:xfrm>
                      <a:off x="726840" y="4260600"/>
                      <a:ext cx="39960" cy="968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7" name=""/>
                    <p:cNvSpPr/>
                    <p:nvPr/>
                  </p:nvSpPr>
                  <p:spPr>
                    <a:xfrm>
                      <a:off x="766440" y="4357440"/>
                      <a:ext cx="158400" cy="1627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8" name=""/>
                    <p:cNvSpPr/>
                    <p:nvPr/>
                  </p:nvSpPr>
                  <p:spPr>
                    <a:xfrm>
                      <a:off x="925200" y="4520160"/>
                      <a:ext cx="276840" cy="97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9" name=""/>
                    <p:cNvSpPr/>
                    <p:nvPr/>
                  </p:nvSpPr>
                  <p:spPr>
                    <a:xfrm>
                      <a:off x="1202400" y="4617720"/>
                      <a:ext cx="434520" cy="31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0" name=""/>
                    <p:cNvSpPr/>
                    <p:nvPr/>
                  </p:nvSpPr>
                  <p:spPr>
                    <a:xfrm>
                      <a:off x="1636560" y="4649400"/>
                      <a:ext cx="2368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51" name=""/>
                  <p:cNvSpPr/>
                  <p:nvPr/>
                </p:nvSpPr>
                <p:spPr>
                  <a:xfrm>
                    <a:off x="741240" y="4619520"/>
                    <a:ext cx="1413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igh/pullu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2" name=""/>
                  <p:cNvSpPr/>
                  <p:nvPr/>
                </p:nvSpPr>
                <p:spPr>
                  <a:xfrm>
                    <a:off x="741960" y="3476520"/>
                    <a:ext cx="114552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ow/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ulldow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53" name=""/>
                <p:cNvSpPr/>
                <p:nvPr/>
              </p:nvSpPr>
              <p:spPr>
                <a:xfrm>
                  <a:off x="1051560" y="4466880"/>
                  <a:ext cx="495000" cy="304920"/>
                </a:xfrm>
                <a:prstGeom prst="noSmoking">
                  <a:avLst>
                    <a:gd name="adj" fmla="val 12500"/>
                  </a:avLst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4" name=""/>
                <p:cNvSpPr/>
                <p:nvPr/>
              </p:nvSpPr>
              <p:spPr>
                <a:xfrm>
                  <a:off x="742320" y="4276440"/>
                  <a:ext cx="1174680" cy="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5" name=""/>
                <p:cNvSpPr/>
                <p:nvPr/>
              </p:nvSpPr>
              <p:spPr>
                <a:xfrm>
                  <a:off x="1303920" y="3649320"/>
                  <a:ext cx="495000" cy="304920"/>
                </a:xfrm>
                <a:prstGeom prst="noSmoking">
                  <a:avLst>
                    <a:gd name="adj" fmla="val 12500"/>
                  </a:avLst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56" name=""/>
          <p:cNvGrpSpPr/>
          <p:nvPr/>
        </p:nvGrpSpPr>
        <p:grpSpPr>
          <a:xfrm>
            <a:off x="2492280" y="605880"/>
            <a:ext cx="2063160" cy="5267880"/>
            <a:chOff x="2492280" y="605880"/>
            <a:chExt cx="2063160" cy="5267880"/>
          </a:xfrm>
        </p:grpSpPr>
        <p:sp>
          <p:nvSpPr>
            <p:cNvPr id="4057" name=""/>
            <p:cNvSpPr/>
            <p:nvPr/>
          </p:nvSpPr>
          <p:spPr>
            <a:xfrm>
              <a:off x="3143160" y="60588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8" name=""/>
            <p:cNvGrpSpPr/>
            <p:nvPr/>
          </p:nvGrpSpPr>
          <p:grpSpPr>
            <a:xfrm>
              <a:off x="2492280" y="1735200"/>
              <a:ext cx="2063160" cy="4138560"/>
              <a:chOff x="2492280" y="1735200"/>
              <a:chExt cx="2063160" cy="4138560"/>
            </a:xfrm>
          </p:grpSpPr>
          <p:grpSp>
            <p:nvGrpSpPr>
              <p:cNvPr id="4059" name=""/>
              <p:cNvGrpSpPr/>
              <p:nvPr/>
            </p:nvGrpSpPr>
            <p:grpSpPr>
              <a:xfrm>
                <a:off x="2492280" y="2849760"/>
                <a:ext cx="2057040" cy="1541880"/>
                <a:chOff x="2492280" y="2849760"/>
                <a:chExt cx="2057040" cy="1541880"/>
              </a:xfrm>
            </p:grpSpPr>
            <p:sp>
              <p:nvSpPr>
                <p:cNvPr id="4060" name=""/>
                <p:cNvSpPr/>
                <p:nvPr/>
              </p:nvSpPr>
              <p:spPr>
                <a:xfrm>
                  <a:off x="2492280" y="2876760"/>
                  <a:ext cx="1885680" cy="1427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61" name=""/>
                <p:cNvGrpSpPr/>
                <p:nvPr/>
              </p:nvGrpSpPr>
              <p:grpSpPr>
                <a:xfrm>
                  <a:off x="2512440" y="2849760"/>
                  <a:ext cx="2036880" cy="1541880"/>
                  <a:chOff x="2512440" y="2849760"/>
                  <a:chExt cx="2036880" cy="1541880"/>
                </a:xfrm>
              </p:grpSpPr>
              <p:grpSp>
                <p:nvGrpSpPr>
                  <p:cNvPr id="4062" name=""/>
                  <p:cNvGrpSpPr/>
                  <p:nvPr/>
                </p:nvGrpSpPr>
                <p:grpSpPr>
                  <a:xfrm>
                    <a:off x="2512440" y="2849760"/>
                    <a:ext cx="2036880" cy="1541880"/>
                    <a:chOff x="2512440" y="2849760"/>
                    <a:chExt cx="2036880" cy="1541880"/>
                  </a:xfrm>
                </p:grpSpPr>
                <p:sp>
                  <p:nvSpPr>
                    <p:cNvPr id="4063" name=""/>
                    <p:cNvSpPr/>
                    <p:nvPr/>
                  </p:nvSpPr>
                  <p:spPr>
                    <a:xfrm>
                      <a:off x="2993040" y="3002040"/>
                      <a:ext cx="0" cy="1066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4" name=""/>
                    <p:cNvSpPr/>
                    <p:nvPr/>
                  </p:nvSpPr>
                  <p:spPr>
                    <a:xfrm>
                      <a:off x="2937600" y="3633840"/>
                      <a:ext cx="1305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5" name=""/>
                    <p:cNvSpPr/>
                    <p:nvPr/>
                  </p:nvSpPr>
                  <p:spPr>
                    <a:xfrm>
                      <a:off x="3858120" y="3382920"/>
                      <a:ext cx="691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6" name=""/>
                    <p:cNvSpPr/>
                    <p:nvPr/>
                  </p:nvSpPr>
                  <p:spPr>
                    <a:xfrm>
                      <a:off x="2512440" y="3116160"/>
                      <a:ext cx="592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067" name=""/>
                    <p:cNvGrpSpPr/>
                    <p:nvPr/>
                  </p:nvGrpSpPr>
                  <p:grpSpPr>
                    <a:xfrm>
                      <a:off x="2977560" y="3080880"/>
                      <a:ext cx="1185120" cy="584280"/>
                      <a:chOff x="2977560" y="3080880"/>
                      <a:chExt cx="1185120" cy="584280"/>
                    </a:xfrm>
                  </p:grpSpPr>
                  <p:sp>
                    <p:nvSpPr>
                      <p:cNvPr id="4068" name=""/>
                      <p:cNvSpPr/>
                      <p:nvPr/>
                    </p:nvSpPr>
                    <p:spPr>
                      <a:xfrm flipV="1">
                        <a:off x="2977560" y="3438360"/>
                        <a:ext cx="196920" cy="2268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69" name=""/>
                      <p:cNvSpPr/>
                      <p:nvPr/>
                    </p:nvSpPr>
                    <p:spPr>
                      <a:xfrm flipV="1">
                        <a:off x="3174480" y="3275640"/>
                        <a:ext cx="198000" cy="1627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0" name=""/>
                      <p:cNvSpPr/>
                      <p:nvPr/>
                    </p:nvSpPr>
                    <p:spPr>
                      <a:xfrm flipV="1">
                        <a:off x="3372840" y="3146040"/>
                        <a:ext cx="315360" cy="129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1" name=""/>
                      <p:cNvSpPr/>
                      <p:nvPr/>
                    </p:nvSpPr>
                    <p:spPr>
                      <a:xfrm flipV="1">
                        <a:off x="3688560" y="3080880"/>
                        <a:ext cx="474120" cy="651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72" name=""/>
                    <p:cNvGrpSpPr/>
                    <p:nvPr/>
                  </p:nvGrpSpPr>
                  <p:grpSpPr>
                    <a:xfrm>
                      <a:off x="2977560" y="3633840"/>
                      <a:ext cx="1146240" cy="388800"/>
                      <a:chOff x="2977560" y="3633840"/>
                      <a:chExt cx="1146240" cy="388800"/>
                    </a:xfrm>
                  </p:grpSpPr>
                  <p:sp>
                    <p:nvSpPr>
                      <p:cNvPr id="4073" name=""/>
                      <p:cNvSpPr/>
                      <p:nvPr/>
                    </p:nvSpPr>
                    <p:spPr>
                      <a:xfrm>
                        <a:off x="2977560" y="3633840"/>
                        <a:ext cx="39960" cy="968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4" name=""/>
                      <p:cNvSpPr/>
                      <p:nvPr/>
                    </p:nvSpPr>
                    <p:spPr>
                      <a:xfrm>
                        <a:off x="3017880" y="3730680"/>
                        <a:ext cx="158040" cy="1627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5" name=""/>
                      <p:cNvSpPr/>
                      <p:nvPr/>
                    </p:nvSpPr>
                    <p:spPr>
                      <a:xfrm>
                        <a:off x="3176280" y="3893400"/>
                        <a:ext cx="276840" cy="975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6" name=""/>
                      <p:cNvSpPr/>
                      <p:nvPr/>
                    </p:nvSpPr>
                    <p:spPr>
                      <a:xfrm>
                        <a:off x="3452760" y="3990960"/>
                        <a:ext cx="434160" cy="31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7" name=""/>
                      <p:cNvSpPr/>
                      <p:nvPr/>
                    </p:nvSpPr>
                    <p:spPr>
                      <a:xfrm>
                        <a:off x="3886920" y="4022640"/>
                        <a:ext cx="236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078" name=""/>
                    <p:cNvSpPr/>
                    <p:nvPr/>
                  </p:nvSpPr>
                  <p:spPr>
                    <a:xfrm>
                      <a:off x="2993400" y="3992760"/>
                      <a:ext cx="1413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/pull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9" name=""/>
                    <p:cNvSpPr/>
                    <p:nvPr/>
                  </p:nvSpPr>
                  <p:spPr>
                    <a:xfrm>
                      <a:off x="2993040" y="2849760"/>
                      <a:ext cx="1145520" cy="703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ll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80" name=""/>
                  <p:cNvSpPr/>
                  <p:nvPr/>
                </p:nvSpPr>
                <p:spPr>
                  <a:xfrm>
                    <a:off x="3301920" y="3840120"/>
                    <a:ext cx="494640" cy="304560"/>
                  </a:xfrm>
                  <a:prstGeom prst="noSmoking">
                    <a:avLst>
                      <a:gd name="adj" fmla="val 12500"/>
                    </a:avLst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"/>
                  <p:cNvSpPr/>
                  <p:nvPr/>
                </p:nvSpPr>
                <p:spPr>
                  <a:xfrm>
                    <a:off x="2993040" y="3649680"/>
                    <a:ext cx="1175040" cy="0"/>
                  </a:xfrm>
                  <a:prstGeom prst="line">
                    <a:avLst/>
                  </a:prstGeom>
                  <a:ln w="381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82" name=""/>
              <p:cNvGrpSpPr/>
              <p:nvPr/>
            </p:nvGrpSpPr>
            <p:grpSpPr>
              <a:xfrm>
                <a:off x="2684880" y="4495680"/>
                <a:ext cx="1453680" cy="1378080"/>
                <a:chOff x="2684880" y="4495680"/>
                <a:chExt cx="1453680" cy="1378080"/>
              </a:xfrm>
            </p:grpSpPr>
            <p:sp>
              <p:nvSpPr>
                <p:cNvPr id="4083" name=""/>
                <p:cNvSpPr/>
                <p:nvPr/>
              </p:nvSpPr>
              <p:spPr>
                <a:xfrm>
                  <a:off x="2684880" y="4533840"/>
                  <a:ext cx="1424160" cy="1182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84" name=""/>
                <p:cNvGrpSpPr/>
                <p:nvPr/>
              </p:nvGrpSpPr>
              <p:grpSpPr>
                <a:xfrm>
                  <a:off x="2717280" y="4495680"/>
                  <a:ext cx="740880" cy="1378080"/>
                  <a:chOff x="2717280" y="4495680"/>
                  <a:chExt cx="740880" cy="1378080"/>
                </a:xfrm>
              </p:grpSpPr>
              <p:grpSp>
                <p:nvGrpSpPr>
                  <p:cNvPr id="4085" name=""/>
                  <p:cNvGrpSpPr/>
                  <p:nvPr/>
                </p:nvGrpSpPr>
                <p:grpSpPr>
                  <a:xfrm>
                    <a:off x="2890080" y="4751280"/>
                    <a:ext cx="337680" cy="486000"/>
                    <a:chOff x="2890080" y="4751280"/>
                    <a:chExt cx="337680" cy="486000"/>
                  </a:xfrm>
                </p:grpSpPr>
                <p:sp>
                  <p:nvSpPr>
                    <p:cNvPr id="4086" name=""/>
                    <p:cNvSpPr/>
                    <p:nvPr/>
                  </p:nvSpPr>
                  <p:spPr>
                    <a:xfrm>
                      <a:off x="3151080" y="5237280"/>
                      <a:ext cx="70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087" name=""/>
                    <p:cNvGrpSpPr/>
                    <p:nvPr/>
                  </p:nvGrpSpPr>
                  <p:grpSpPr>
                    <a:xfrm>
                      <a:off x="2890080" y="4751280"/>
                      <a:ext cx="337680" cy="485280"/>
                      <a:chOff x="2890080" y="4751280"/>
                      <a:chExt cx="337680" cy="485280"/>
                    </a:xfrm>
                  </p:grpSpPr>
                  <p:sp>
                    <p:nvSpPr>
                      <p:cNvPr id="4088" name=""/>
                      <p:cNvSpPr/>
                      <p:nvPr/>
                    </p:nvSpPr>
                    <p:spPr>
                      <a:xfrm flipH="1" flipV="1">
                        <a:off x="3058560" y="4750920"/>
                        <a:ext cx="169200" cy="48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89" name=""/>
                      <p:cNvSpPr/>
                      <p:nvPr/>
                    </p:nvSpPr>
                    <p:spPr>
                      <a:xfrm flipH="1" flipV="1" rot="10800000">
                        <a:off x="2890080" y="4751280"/>
                        <a:ext cx="167760" cy="48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090" name=""/>
                    <p:cNvSpPr/>
                    <p:nvPr/>
                  </p:nvSpPr>
                  <p:spPr>
                    <a:xfrm>
                      <a:off x="2903400" y="4751640"/>
                      <a:ext cx="70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1" name=""/>
                  <p:cNvGrpSpPr/>
                  <p:nvPr/>
                </p:nvGrpSpPr>
                <p:grpSpPr>
                  <a:xfrm>
                    <a:off x="2717280" y="4495680"/>
                    <a:ext cx="593640" cy="1056600"/>
                    <a:chOff x="2717280" y="4495680"/>
                    <a:chExt cx="593640" cy="1056600"/>
                  </a:xfrm>
                </p:grpSpPr>
                <p:grpSp>
                  <p:nvGrpSpPr>
                    <p:cNvPr id="4092" name=""/>
                    <p:cNvGrpSpPr/>
                    <p:nvPr/>
                  </p:nvGrpSpPr>
                  <p:grpSpPr>
                    <a:xfrm>
                      <a:off x="2891520" y="4739400"/>
                      <a:ext cx="336960" cy="486000"/>
                      <a:chOff x="2891520" y="4739400"/>
                      <a:chExt cx="336960" cy="486000"/>
                    </a:xfrm>
                  </p:grpSpPr>
                  <p:sp>
                    <p:nvSpPr>
                      <p:cNvPr id="4093" name=""/>
                      <p:cNvSpPr/>
                      <p:nvPr/>
                    </p:nvSpPr>
                    <p:spPr>
                      <a:xfrm flipH="1">
                        <a:off x="3151440" y="5225400"/>
                        <a:ext cx="702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94" name=""/>
                      <p:cNvSpPr/>
                      <p:nvPr/>
                    </p:nvSpPr>
                    <p:spPr>
                      <a:xfrm flipH="1">
                        <a:off x="2904480" y="4739760"/>
                        <a:ext cx="702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095" name=""/>
                      <p:cNvGrpSpPr/>
                      <p:nvPr/>
                    </p:nvGrpSpPr>
                    <p:grpSpPr>
                      <a:xfrm>
                        <a:off x="2891520" y="4739400"/>
                        <a:ext cx="336960" cy="485280"/>
                        <a:chOff x="2891520" y="4739400"/>
                        <a:chExt cx="336960" cy="485280"/>
                      </a:xfrm>
                    </p:grpSpPr>
                    <p:sp>
                      <p:nvSpPr>
                        <p:cNvPr id="4096" name=""/>
                        <p:cNvSpPr/>
                        <p:nvPr/>
                      </p:nvSpPr>
                      <p:spPr>
                        <a:xfrm flipH="1" flipV="1">
                          <a:off x="3060000" y="4739040"/>
                          <a:ext cx="168480" cy="48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9864" y="41"/>
                              </a:moveTo>
                              <a:arcTo wR="10800" hR="10800" stAng="-5698349" swAng="5698349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9864" y="41"/>
                              </a:moveTo>
                              <a:arcTo wR="10800" hR="10800" stAng="-5698349" swAng="5698349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97" name=""/>
                        <p:cNvSpPr/>
                        <p:nvPr/>
                      </p:nvSpPr>
                      <p:spPr>
                        <a:xfrm flipH="1" flipV="1" rot="10800000">
                          <a:off x="2891520" y="4739400"/>
                          <a:ext cx="167760" cy="48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098" name=""/>
                    <p:cNvGrpSpPr/>
                    <p:nvPr/>
                  </p:nvGrpSpPr>
                  <p:grpSpPr>
                    <a:xfrm>
                      <a:off x="2717280" y="4495680"/>
                      <a:ext cx="593640" cy="1056600"/>
                      <a:chOff x="2717280" y="4495680"/>
                      <a:chExt cx="593640" cy="1056600"/>
                    </a:xfrm>
                  </p:grpSpPr>
                  <p:sp>
                    <p:nvSpPr>
                      <p:cNvPr id="4099" name=""/>
                      <p:cNvSpPr/>
                      <p:nvPr/>
                    </p:nvSpPr>
                    <p:spPr>
                      <a:xfrm>
                        <a:off x="2900160" y="4619880"/>
                        <a:ext cx="0" cy="8524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00" name=""/>
                      <p:cNvSpPr/>
                      <p:nvPr/>
                    </p:nvSpPr>
                    <p:spPr>
                      <a:xfrm>
                        <a:off x="2886840" y="5439960"/>
                        <a:ext cx="4240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01" name=""/>
                      <p:cNvSpPr/>
                      <p:nvPr/>
                    </p:nvSpPr>
                    <p:spPr>
                      <a:xfrm>
                        <a:off x="2886840" y="5251320"/>
                        <a:ext cx="40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02" name=""/>
                      <p:cNvSpPr/>
                      <p:nvPr/>
                    </p:nvSpPr>
                    <p:spPr>
                      <a:xfrm>
                        <a:off x="2873160" y="4745160"/>
                        <a:ext cx="403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03" name=""/>
                      <p:cNvSpPr/>
                      <p:nvPr/>
                    </p:nvSpPr>
                    <p:spPr>
                      <a:xfrm>
                        <a:off x="2825280" y="4495680"/>
                        <a:ext cx="138240" cy="336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04" name=""/>
                      <p:cNvSpPr/>
                      <p:nvPr/>
                    </p:nvSpPr>
                    <p:spPr>
                      <a:xfrm>
                        <a:off x="2718360" y="4752720"/>
                        <a:ext cx="50688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Vc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05" name=""/>
                      <p:cNvSpPr/>
                      <p:nvPr/>
                    </p:nvSpPr>
                    <p:spPr>
                      <a:xfrm>
                        <a:off x="2717280" y="5214960"/>
                        <a:ext cx="42912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V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106" name=""/>
                  <p:cNvSpPr/>
                  <p:nvPr/>
                </p:nvSpPr>
                <p:spPr>
                  <a:xfrm>
                    <a:off x="3220920" y="5536440"/>
                    <a:ext cx="2372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7" name=""/>
                  <p:cNvSpPr/>
                  <p:nvPr/>
                </p:nvSpPr>
                <p:spPr>
                  <a:xfrm>
                    <a:off x="2737800" y="4508280"/>
                    <a:ext cx="2829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8" name=""/>
                <p:cNvGrpSpPr/>
                <p:nvPr/>
              </p:nvGrpSpPr>
              <p:grpSpPr>
                <a:xfrm>
                  <a:off x="3397680" y="4495680"/>
                  <a:ext cx="740880" cy="1378080"/>
                  <a:chOff x="3397680" y="4495680"/>
                  <a:chExt cx="740880" cy="1378080"/>
                </a:xfrm>
              </p:grpSpPr>
              <p:grpSp>
                <p:nvGrpSpPr>
                  <p:cNvPr id="4109" name=""/>
                  <p:cNvGrpSpPr/>
                  <p:nvPr/>
                </p:nvGrpSpPr>
                <p:grpSpPr>
                  <a:xfrm>
                    <a:off x="3580920" y="4751280"/>
                    <a:ext cx="224280" cy="486000"/>
                    <a:chOff x="3580920" y="4751280"/>
                    <a:chExt cx="224280" cy="486000"/>
                  </a:xfrm>
                </p:grpSpPr>
                <p:sp>
                  <p:nvSpPr>
                    <p:cNvPr id="4110" name=""/>
                    <p:cNvSpPr/>
                    <p:nvPr/>
                  </p:nvSpPr>
                  <p:spPr>
                    <a:xfrm>
                      <a:off x="3585240" y="5237280"/>
                      <a:ext cx="468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1" name=""/>
                    <p:cNvSpPr/>
                    <p:nvPr/>
                  </p:nvSpPr>
                  <p:spPr>
                    <a:xfrm>
                      <a:off x="3749760" y="4751640"/>
                      <a:ext cx="468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112" name=""/>
                    <p:cNvGrpSpPr/>
                    <p:nvPr/>
                  </p:nvGrpSpPr>
                  <p:grpSpPr>
                    <a:xfrm>
                      <a:off x="3580920" y="4751280"/>
                      <a:ext cx="224280" cy="485280"/>
                      <a:chOff x="3580920" y="4751280"/>
                      <a:chExt cx="224280" cy="485280"/>
                    </a:xfrm>
                  </p:grpSpPr>
                  <p:sp>
                    <p:nvSpPr>
                      <p:cNvPr id="4113" name=""/>
                      <p:cNvSpPr/>
                      <p:nvPr/>
                    </p:nvSpPr>
                    <p:spPr>
                      <a:xfrm flipV="1">
                        <a:off x="3580920" y="4750920"/>
                        <a:ext cx="111960" cy="48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14" name=""/>
                      <p:cNvSpPr/>
                      <p:nvPr/>
                    </p:nvSpPr>
                    <p:spPr>
                      <a:xfrm flipV="1" rot="10800000">
                        <a:off x="3693600" y="4751280"/>
                        <a:ext cx="111600" cy="48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115" name=""/>
                  <p:cNvGrpSpPr/>
                  <p:nvPr/>
                </p:nvGrpSpPr>
                <p:grpSpPr>
                  <a:xfrm>
                    <a:off x="3397680" y="4495680"/>
                    <a:ext cx="594360" cy="1054440"/>
                    <a:chOff x="3397680" y="4495680"/>
                    <a:chExt cx="594360" cy="1054440"/>
                  </a:xfrm>
                </p:grpSpPr>
                <p:sp>
                  <p:nvSpPr>
                    <p:cNvPr id="4116" name=""/>
                    <p:cNvSpPr/>
                    <p:nvPr/>
                  </p:nvSpPr>
                  <p:spPr>
                    <a:xfrm>
                      <a:off x="3581280" y="4619880"/>
                      <a:ext cx="0" cy="852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7" name=""/>
                    <p:cNvSpPr/>
                    <p:nvPr/>
                  </p:nvSpPr>
                  <p:spPr>
                    <a:xfrm>
                      <a:off x="3567960" y="5439960"/>
                      <a:ext cx="424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8" name=""/>
                    <p:cNvSpPr/>
                    <p:nvPr/>
                  </p:nvSpPr>
                  <p:spPr>
                    <a:xfrm>
                      <a:off x="3567960" y="5251320"/>
                      <a:ext cx="40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9" name=""/>
                    <p:cNvSpPr/>
                    <p:nvPr/>
                  </p:nvSpPr>
                  <p:spPr>
                    <a:xfrm>
                      <a:off x="3554280" y="4745160"/>
                      <a:ext cx="40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0" name=""/>
                    <p:cNvSpPr/>
                    <p:nvPr/>
                  </p:nvSpPr>
                  <p:spPr>
                    <a:xfrm>
                      <a:off x="3506040" y="4495680"/>
                      <a:ext cx="138240" cy="33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1" name=""/>
                    <p:cNvSpPr/>
                    <p:nvPr/>
                  </p:nvSpPr>
                  <p:spPr>
                    <a:xfrm>
                      <a:off x="3400560" y="4752720"/>
                      <a:ext cx="5068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2" name=""/>
                    <p:cNvSpPr/>
                    <p:nvPr/>
                  </p:nvSpPr>
                  <p:spPr>
                    <a:xfrm>
                      <a:off x="3397680" y="5212800"/>
                      <a:ext cx="42912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3" name=""/>
                  <p:cNvSpPr/>
                  <p:nvPr/>
                </p:nvSpPr>
                <p:spPr>
                  <a:xfrm>
                    <a:off x="3901320" y="5536440"/>
                    <a:ext cx="2372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4" name=""/>
                  <p:cNvSpPr/>
                  <p:nvPr/>
                </p:nvSpPr>
                <p:spPr>
                  <a:xfrm>
                    <a:off x="3418560" y="4508280"/>
                    <a:ext cx="2829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25" name=""/>
                <p:cNvSpPr/>
                <p:nvPr/>
              </p:nvSpPr>
              <p:spPr>
                <a:xfrm>
                  <a:off x="3056040" y="4894200"/>
                  <a:ext cx="30960" cy="2570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6" name=""/>
                <p:cNvSpPr/>
                <p:nvPr/>
              </p:nvSpPr>
              <p:spPr>
                <a:xfrm flipH="1">
                  <a:off x="3675600" y="4894200"/>
                  <a:ext cx="30600" cy="2570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7" name=""/>
              <p:cNvGrpSpPr/>
              <p:nvPr/>
            </p:nvGrpSpPr>
            <p:grpSpPr>
              <a:xfrm>
                <a:off x="2666880" y="1735200"/>
                <a:ext cx="1888560" cy="1003320"/>
                <a:chOff x="2666880" y="1735200"/>
                <a:chExt cx="1888560" cy="1003320"/>
              </a:xfrm>
            </p:grpSpPr>
            <p:sp>
              <p:nvSpPr>
                <p:cNvPr id="4128" name=""/>
                <p:cNvSpPr/>
                <p:nvPr/>
              </p:nvSpPr>
              <p:spPr>
                <a:xfrm>
                  <a:off x="2666880" y="1735200"/>
                  <a:ext cx="1545480" cy="96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99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>
                  <a:off x="3195000" y="1795320"/>
                  <a:ext cx="0" cy="84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0" name=""/>
                <p:cNvSpPr/>
                <p:nvPr/>
              </p:nvSpPr>
              <p:spPr>
                <a:xfrm>
                  <a:off x="2886840" y="2309760"/>
                  <a:ext cx="101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1" name=""/>
                <p:cNvSpPr/>
                <p:nvPr/>
              </p:nvSpPr>
              <p:spPr>
                <a:xfrm>
                  <a:off x="3765960" y="23396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2" name=""/>
                <p:cNvSpPr/>
                <p:nvPr/>
              </p:nvSpPr>
              <p:spPr>
                <a:xfrm>
                  <a:off x="3026160" y="1855440"/>
                  <a:ext cx="266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3" name=""/>
                <p:cNvSpPr/>
                <p:nvPr/>
              </p:nvSpPr>
              <p:spPr>
                <a:xfrm>
                  <a:off x="3036600" y="2038320"/>
                  <a:ext cx="1518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Power clam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34" name=""/>
                <p:cNvGrpSpPr/>
                <p:nvPr/>
              </p:nvGrpSpPr>
              <p:grpSpPr>
                <a:xfrm>
                  <a:off x="2953440" y="2011320"/>
                  <a:ext cx="810000" cy="488160"/>
                  <a:chOff x="2953440" y="2011320"/>
                  <a:chExt cx="810000" cy="488160"/>
                </a:xfrm>
              </p:grpSpPr>
              <p:sp>
                <p:nvSpPr>
                  <p:cNvPr id="4135" name=""/>
                  <p:cNvSpPr/>
                  <p:nvPr/>
                </p:nvSpPr>
                <p:spPr>
                  <a:xfrm flipH="1" flipV="1">
                    <a:off x="3210480" y="2312640"/>
                    <a:ext cx="552960" cy="186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6" name=""/>
                  <p:cNvSpPr/>
                  <p:nvPr/>
                </p:nvSpPr>
                <p:spPr>
                  <a:xfrm flipH="1" flipV="1">
                    <a:off x="3139560" y="2282400"/>
                    <a:ext cx="70200" cy="29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"/>
                  <p:cNvSpPr/>
                  <p:nvPr/>
                </p:nvSpPr>
                <p:spPr>
                  <a:xfrm flipH="1" flipV="1">
                    <a:off x="2953440" y="2011320"/>
                    <a:ext cx="186480" cy="27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138" name=""/>
          <p:cNvGrpSpPr/>
          <p:nvPr/>
        </p:nvGrpSpPr>
        <p:grpSpPr>
          <a:xfrm>
            <a:off x="4854600" y="561240"/>
            <a:ext cx="4288680" cy="5313240"/>
            <a:chOff x="4854600" y="561240"/>
            <a:chExt cx="4288680" cy="5313240"/>
          </a:xfrm>
        </p:grpSpPr>
        <p:sp>
          <p:nvSpPr>
            <p:cNvPr id="4139" name=""/>
            <p:cNvSpPr/>
            <p:nvPr/>
          </p:nvSpPr>
          <p:spPr>
            <a:xfrm>
              <a:off x="6516720" y="56124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0" name=""/>
            <p:cNvGrpSpPr/>
            <p:nvPr/>
          </p:nvGrpSpPr>
          <p:grpSpPr>
            <a:xfrm>
              <a:off x="7085160" y="1735200"/>
              <a:ext cx="2058120" cy="4139280"/>
              <a:chOff x="7085160" y="1735200"/>
              <a:chExt cx="2058120" cy="4139280"/>
            </a:xfrm>
          </p:grpSpPr>
          <p:grpSp>
            <p:nvGrpSpPr>
              <p:cNvPr id="4141" name=""/>
              <p:cNvGrpSpPr/>
              <p:nvPr/>
            </p:nvGrpSpPr>
            <p:grpSpPr>
              <a:xfrm>
                <a:off x="7085160" y="2849400"/>
                <a:ext cx="2058120" cy="1541880"/>
                <a:chOff x="7085160" y="2849400"/>
                <a:chExt cx="2058120" cy="1541880"/>
              </a:xfrm>
            </p:grpSpPr>
            <p:sp>
              <p:nvSpPr>
                <p:cNvPr id="4142" name=""/>
                <p:cNvSpPr/>
                <p:nvPr/>
              </p:nvSpPr>
              <p:spPr>
                <a:xfrm>
                  <a:off x="7085160" y="2876400"/>
                  <a:ext cx="1884960" cy="1427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43" name=""/>
                <p:cNvGrpSpPr/>
                <p:nvPr/>
              </p:nvGrpSpPr>
              <p:grpSpPr>
                <a:xfrm>
                  <a:off x="7105320" y="2849400"/>
                  <a:ext cx="2037960" cy="1541880"/>
                  <a:chOff x="7105320" y="2849400"/>
                  <a:chExt cx="2037960" cy="1541880"/>
                </a:xfrm>
              </p:grpSpPr>
              <p:grpSp>
                <p:nvGrpSpPr>
                  <p:cNvPr id="4144" name=""/>
                  <p:cNvGrpSpPr/>
                  <p:nvPr/>
                </p:nvGrpSpPr>
                <p:grpSpPr>
                  <a:xfrm>
                    <a:off x="7105320" y="2849400"/>
                    <a:ext cx="2037960" cy="1541880"/>
                    <a:chOff x="7105320" y="2849400"/>
                    <a:chExt cx="2037960" cy="1541880"/>
                  </a:xfrm>
                </p:grpSpPr>
                <p:sp>
                  <p:nvSpPr>
                    <p:cNvPr id="4145" name=""/>
                    <p:cNvSpPr/>
                    <p:nvPr/>
                  </p:nvSpPr>
                  <p:spPr>
                    <a:xfrm>
                      <a:off x="7585560" y="3001680"/>
                      <a:ext cx="0" cy="1066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6" name=""/>
                    <p:cNvSpPr/>
                    <p:nvPr/>
                  </p:nvSpPr>
                  <p:spPr>
                    <a:xfrm>
                      <a:off x="7529760" y="3633480"/>
                      <a:ext cx="1305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7" name=""/>
                    <p:cNvSpPr/>
                    <p:nvPr/>
                  </p:nvSpPr>
                  <p:spPr>
                    <a:xfrm>
                      <a:off x="8452080" y="3382560"/>
                      <a:ext cx="691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8" name=""/>
                    <p:cNvSpPr/>
                    <p:nvPr/>
                  </p:nvSpPr>
                  <p:spPr>
                    <a:xfrm>
                      <a:off x="7105320" y="3115800"/>
                      <a:ext cx="592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149" name=""/>
                    <p:cNvGrpSpPr/>
                    <p:nvPr/>
                  </p:nvGrpSpPr>
                  <p:grpSpPr>
                    <a:xfrm>
                      <a:off x="7570080" y="3445920"/>
                      <a:ext cx="1194840" cy="219240"/>
                      <a:chOff x="7570080" y="3445920"/>
                      <a:chExt cx="1194840" cy="219240"/>
                    </a:xfrm>
                  </p:grpSpPr>
                  <p:sp>
                    <p:nvSpPr>
                      <p:cNvPr id="4150" name=""/>
                      <p:cNvSpPr/>
                      <p:nvPr/>
                    </p:nvSpPr>
                    <p:spPr>
                      <a:xfrm flipV="1">
                        <a:off x="7570080" y="3580200"/>
                        <a:ext cx="198720" cy="849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1" name=""/>
                      <p:cNvSpPr/>
                      <p:nvPr/>
                    </p:nvSpPr>
                    <p:spPr>
                      <a:xfrm flipV="1">
                        <a:off x="7768800" y="3518640"/>
                        <a:ext cx="199800" cy="608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2" name=""/>
                      <p:cNvSpPr/>
                      <p:nvPr/>
                    </p:nvSpPr>
                    <p:spPr>
                      <a:xfrm flipV="1">
                        <a:off x="7968960" y="3470400"/>
                        <a:ext cx="317880" cy="48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" bIns="1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3" name=""/>
                      <p:cNvSpPr/>
                      <p:nvPr/>
                    </p:nvSpPr>
                    <p:spPr>
                      <a:xfrm flipV="1">
                        <a:off x="8286840" y="3445920"/>
                        <a:ext cx="478080" cy="241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54" name=""/>
                    <p:cNvGrpSpPr/>
                    <p:nvPr/>
                  </p:nvGrpSpPr>
                  <p:grpSpPr>
                    <a:xfrm>
                      <a:off x="7570080" y="3633480"/>
                      <a:ext cx="1146240" cy="388800"/>
                      <a:chOff x="7570080" y="3633480"/>
                      <a:chExt cx="1146240" cy="388800"/>
                    </a:xfrm>
                  </p:grpSpPr>
                  <p:sp>
                    <p:nvSpPr>
                      <p:cNvPr id="4155" name=""/>
                      <p:cNvSpPr/>
                      <p:nvPr/>
                    </p:nvSpPr>
                    <p:spPr>
                      <a:xfrm>
                        <a:off x="7570080" y="3633480"/>
                        <a:ext cx="39960" cy="968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6" name=""/>
                      <p:cNvSpPr/>
                      <p:nvPr/>
                    </p:nvSpPr>
                    <p:spPr>
                      <a:xfrm>
                        <a:off x="7610400" y="3730320"/>
                        <a:ext cx="158040" cy="1627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7" name=""/>
                      <p:cNvSpPr/>
                      <p:nvPr/>
                    </p:nvSpPr>
                    <p:spPr>
                      <a:xfrm>
                        <a:off x="7768800" y="3893040"/>
                        <a:ext cx="276840" cy="975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8" name=""/>
                      <p:cNvSpPr/>
                      <p:nvPr/>
                    </p:nvSpPr>
                    <p:spPr>
                      <a:xfrm>
                        <a:off x="8045280" y="3990600"/>
                        <a:ext cx="434160" cy="31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9" name=""/>
                      <p:cNvSpPr/>
                      <p:nvPr/>
                    </p:nvSpPr>
                    <p:spPr>
                      <a:xfrm>
                        <a:off x="8479440" y="4022280"/>
                        <a:ext cx="236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160" name=""/>
                    <p:cNvSpPr/>
                    <p:nvPr/>
                  </p:nvSpPr>
                  <p:spPr>
                    <a:xfrm>
                      <a:off x="7584840" y="3992400"/>
                      <a:ext cx="1413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/pull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1" name=""/>
                    <p:cNvSpPr/>
                    <p:nvPr/>
                  </p:nvSpPr>
                  <p:spPr>
                    <a:xfrm>
                      <a:off x="7585200" y="2849400"/>
                      <a:ext cx="1145520" cy="703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ll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62" name=""/>
                  <p:cNvSpPr/>
                  <p:nvPr/>
                </p:nvSpPr>
                <p:spPr>
                  <a:xfrm>
                    <a:off x="7894800" y="3839760"/>
                    <a:ext cx="494640" cy="304920"/>
                  </a:xfrm>
                  <a:prstGeom prst="noSmoking">
                    <a:avLst>
                      <a:gd name="adj" fmla="val 12500"/>
                    </a:avLst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3" name=""/>
                  <p:cNvSpPr/>
                  <p:nvPr/>
                </p:nvSpPr>
                <p:spPr>
                  <a:xfrm>
                    <a:off x="7585560" y="3649320"/>
                    <a:ext cx="1173960" cy="0"/>
                  </a:xfrm>
                  <a:prstGeom prst="line">
                    <a:avLst/>
                  </a:prstGeom>
                  <a:ln w="381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4" name=""/>
              <p:cNvGrpSpPr/>
              <p:nvPr/>
            </p:nvGrpSpPr>
            <p:grpSpPr>
              <a:xfrm>
                <a:off x="7385760" y="4495680"/>
                <a:ext cx="1454760" cy="1378800"/>
                <a:chOff x="7385760" y="4495680"/>
                <a:chExt cx="1454760" cy="1378800"/>
              </a:xfrm>
            </p:grpSpPr>
            <p:sp>
              <p:nvSpPr>
                <p:cNvPr id="4165" name=""/>
                <p:cNvSpPr/>
                <p:nvPr/>
              </p:nvSpPr>
              <p:spPr>
                <a:xfrm>
                  <a:off x="7385760" y="4533840"/>
                  <a:ext cx="1423800" cy="1182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6" name=""/>
                <p:cNvSpPr/>
                <p:nvPr/>
              </p:nvSpPr>
              <p:spPr>
                <a:xfrm>
                  <a:off x="7922880" y="5537160"/>
                  <a:ext cx="23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67" name=""/>
                <p:cNvGrpSpPr/>
                <p:nvPr/>
              </p:nvGrpSpPr>
              <p:grpSpPr>
                <a:xfrm>
                  <a:off x="8100360" y="4495680"/>
                  <a:ext cx="740160" cy="1378800"/>
                  <a:chOff x="8100360" y="4495680"/>
                  <a:chExt cx="740160" cy="1378800"/>
                </a:xfrm>
              </p:grpSpPr>
              <p:grpSp>
                <p:nvGrpSpPr>
                  <p:cNvPr id="4168" name=""/>
                  <p:cNvGrpSpPr/>
                  <p:nvPr/>
                </p:nvGrpSpPr>
                <p:grpSpPr>
                  <a:xfrm>
                    <a:off x="8281440" y="4750920"/>
                    <a:ext cx="224280" cy="257760"/>
                    <a:chOff x="8281440" y="4750920"/>
                    <a:chExt cx="224280" cy="257760"/>
                  </a:xfrm>
                </p:grpSpPr>
                <p:sp>
                  <p:nvSpPr>
                    <p:cNvPr id="4169" name=""/>
                    <p:cNvSpPr/>
                    <p:nvPr/>
                  </p:nvSpPr>
                  <p:spPr>
                    <a:xfrm>
                      <a:off x="8285760" y="5008680"/>
                      <a:ext cx="468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0" name=""/>
                    <p:cNvSpPr/>
                    <p:nvPr/>
                  </p:nvSpPr>
                  <p:spPr>
                    <a:xfrm>
                      <a:off x="8450280" y="4751280"/>
                      <a:ext cx="468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171" name=""/>
                    <p:cNvGrpSpPr/>
                    <p:nvPr/>
                  </p:nvGrpSpPr>
                  <p:grpSpPr>
                    <a:xfrm>
                      <a:off x="8281440" y="4750920"/>
                      <a:ext cx="224280" cy="256680"/>
                      <a:chOff x="8281440" y="4750920"/>
                      <a:chExt cx="224280" cy="256680"/>
                    </a:xfrm>
                  </p:grpSpPr>
                  <p:sp>
                    <p:nvSpPr>
                      <p:cNvPr id="4172" name=""/>
                      <p:cNvSpPr/>
                      <p:nvPr/>
                    </p:nvSpPr>
                    <p:spPr>
                      <a:xfrm flipV="1">
                        <a:off x="8281440" y="4750560"/>
                        <a:ext cx="111960" cy="25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73" name=""/>
                      <p:cNvSpPr/>
                      <p:nvPr/>
                    </p:nvSpPr>
                    <p:spPr>
                      <a:xfrm flipV="1" rot="10800000">
                        <a:off x="8394120" y="4750560"/>
                        <a:ext cx="111600" cy="25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174" name=""/>
                  <p:cNvGrpSpPr/>
                  <p:nvPr/>
                </p:nvGrpSpPr>
                <p:grpSpPr>
                  <a:xfrm>
                    <a:off x="8100360" y="4495680"/>
                    <a:ext cx="591840" cy="976320"/>
                    <a:chOff x="8100360" y="4495680"/>
                    <a:chExt cx="591840" cy="976320"/>
                  </a:xfrm>
                </p:grpSpPr>
                <p:sp>
                  <p:nvSpPr>
                    <p:cNvPr id="4175" name=""/>
                    <p:cNvSpPr/>
                    <p:nvPr/>
                  </p:nvSpPr>
                  <p:spPr>
                    <a:xfrm>
                      <a:off x="8282160" y="4619520"/>
                      <a:ext cx="0" cy="852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6" name=""/>
                    <p:cNvSpPr/>
                    <p:nvPr/>
                  </p:nvSpPr>
                  <p:spPr>
                    <a:xfrm>
                      <a:off x="8267760" y="5440320"/>
                      <a:ext cx="424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7" name=""/>
                    <p:cNvSpPr/>
                    <p:nvPr/>
                  </p:nvSpPr>
                  <p:spPr>
                    <a:xfrm>
                      <a:off x="8267760" y="5072040"/>
                      <a:ext cx="41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8" name=""/>
                    <p:cNvSpPr/>
                    <p:nvPr/>
                  </p:nvSpPr>
                  <p:spPr>
                    <a:xfrm>
                      <a:off x="8254800" y="4745160"/>
                      <a:ext cx="40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9" name=""/>
                    <p:cNvSpPr/>
                    <p:nvPr/>
                  </p:nvSpPr>
                  <p:spPr>
                    <a:xfrm>
                      <a:off x="8206200" y="4495680"/>
                      <a:ext cx="137880" cy="33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0" name=""/>
                    <p:cNvSpPr/>
                    <p:nvPr/>
                  </p:nvSpPr>
                  <p:spPr>
                    <a:xfrm>
                      <a:off x="8100720" y="4753080"/>
                      <a:ext cx="5068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1" name=""/>
                    <p:cNvSpPr/>
                    <p:nvPr/>
                  </p:nvSpPr>
                  <p:spPr>
                    <a:xfrm>
                      <a:off x="8100360" y="5079960"/>
                      <a:ext cx="42912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82" name=""/>
                  <p:cNvSpPr/>
                  <p:nvPr/>
                </p:nvSpPr>
                <p:spPr>
                  <a:xfrm>
                    <a:off x="8603280" y="5537160"/>
                    <a:ext cx="2372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3" name=""/>
                  <p:cNvSpPr/>
                  <p:nvPr/>
                </p:nvSpPr>
                <p:spPr>
                  <a:xfrm>
                    <a:off x="8120520" y="4508640"/>
                    <a:ext cx="2829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4" name=""/>
                <p:cNvGrpSpPr/>
                <p:nvPr/>
              </p:nvGrpSpPr>
              <p:grpSpPr>
                <a:xfrm>
                  <a:off x="7417800" y="4495680"/>
                  <a:ext cx="593280" cy="976320"/>
                  <a:chOff x="7417800" y="4495680"/>
                  <a:chExt cx="593280" cy="976320"/>
                </a:xfrm>
              </p:grpSpPr>
              <p:grpSp>
                <p:nvGrpSpPr>
                  <p:cNvPr id="4185" name=""/>
                  <p:cNvGrpSpPr/>
                  <p:nvPr/>
                </p:nvGrpSpPr>
                <p:grpSpPr>
                  <a:xfrm>
                    <a:off x="7591320" y="4750920"/>
                    <a:ext cx="336960" cy="267120"/>
                    <a:chOff x="7591320" y="4750920"/>
                    <a:chExt cx="336960" cy="267120"/>
                  </a:xfrm>
                </p:grpSpPr>
                <p:sp>
                  <p:nvSpPr>
                    <p:cNvPr id="4186" name=""/>
                    <p:cNvSpPr/>
                    <p:nvPr/>
                  </p:nvSpPr>
                  <p:spPr>
                    <a:xfrm>
                      <a:off x="7851240" y="5018040"/>
                      <a:ext cx="70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187" name=""/>
                    <p:cNvGrpSpPr/>
                    <p:nvPr/>
                  </p:nvGrpSpPr>
                  <p:grpSpPr>
                    <a:xfrm>
                      <a:off x="7591320" y="4750920"/>
                      <a:ext cx="336960" cy="266400"/>
                      <a:chOff x="7591320" y="4750920"/>
                      <a:chExt cx="336960" cy="266400"/>
                    </a:xfrm>
                  </p:grpSpPr>
                  <p:sp>
                    <p:nvSpPr>
                      <p:cNvPr id="4188" name=""/>
                      <p:cNvSpPr/>
                      <p:nvPr/>
                    </p:nvSpPr>
                    <p:spPr>
                      <a:xfrm flipH="1" flipV="1">
                        <a:off x="7759800" y="4750560"/>
                        <a:ext cx="168480" cy="26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89" name=""/>
                      <p:cNvSpPr/>
                      <p:nvPr/>
                    </p:nvSpPr>
                    <p:spPr>
                      <a:xfrm flipH="1" flipV="1" rot="10800000">
                        <a:off x="7591320" y="4750920"/>
                        <a:ext cx="167760" cy="26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190" name=""/>
                    <p:cNvSpPr/>
                    <p:nvPr/>
                  </p:nvSpPr>
                  <p:spPr>
                    <a:xfrm>
                      <a:off x="7604640" y="4751280"/>
                      <a:ext cx="70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1" name=""/>
                  <p:cNvSpPr/>
                  <p:nvPr/>
                </p:nvSpPr>
                <p:spPr>
                  <a:xfrm flipH="1">
                    <a:off x="7604640" y="4740480"/>
                    <a:ext cx="69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92" name=""/>
                  <p:cNvGrpSpPr/>
                  <p:nvPr/>
                </p:nvGrpSpPr>
                <p:grpSpPr>
                  <a:xfrm>
                    <a:off x="7417800" y="4495680"/>
                    <a:ext cx="593280" cy="976320"/>
                    <a:chOff x="7417800" y="4495680"/>
                    <a:chExt cx="593280" cy="976320"/>
                  </a:xfrm>
                </p:grpSpPr>
                <p:sp>
                  <p:nvSpPr>
                    <p:cNvPr id="4193" name=""/>
                    <p:cNvSpPr/>
                    <p:nvPr/>
                  </p:nvSpPr>
                  <p:spPr>
                    <a:xfrm>
                      <a:off x="7600680" y="4619520"/>
                      <a:ext cx="0" cy="852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4" name=""/>
                    <p:cNvSpPr/>
                    <p:nvPr/>
                  </p:nvSpPr>
                  <p:spPr>
                    <a:xfrm>
                      <a:off x="7587720" y="5440320"/>
                      <a:ext cx="4233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5" name=""/>
                    <p:cNvSpPr/>
                    <p:nvPr/>
                  </p:nvSpPr>
                  <p:spPr>
                    <a:xfrm>
                      <a:off x="7587720" y="5072040"/>
                      <a:ext cx="40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6" name=""/>
                    <p:cNvSpPr/>
                    <p:nvPr/>
                  </p:nvSpPr>
                  <p:spPr>
                    <a:xfrm>
                      <a:off x="7573680" y="4745160"/>
                      <a:ext cx="40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7" name=""/>
                    <p:cNvSpPr/>
                    <p:nvPr/>
                  </p:nvSpPr>
                  <p:spPr>
                    <a:xfrm>
                      <a:off x="7526160" y="4495680"/>
                      <a:ext cx="137520" cy="33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8" name=""/>
                    <p:cNvSpPr/>
                    <p:nvPr/>
                  </p:nvSpPr>
                  <p:spPr>
                    <a:xfrm>
                      <a:off x="7418880" y="4753080"/>
                      <a:ext cx="5068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9" name=""/>
                    <p:cNvSpPr/>
                    <p:nvPr/>
                  </p:nvSpPr>
                  <p:spPr>
                    <a:xfrm>
                      <a:off x="7417800" y="5086440"/>
                      <a:ext cx="42912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00" name=""/>
                  <p:cNvSpPr/>
                  <p:nvPr/>
                </p:nvSpPr>
                <p:spPr>
                  <a:xfrm>
                    <a:off x="7437960" y="4508640"/>
                    <a:ext cx="2829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1" name=""/>
                  <p:cNvSpPr/>
                  <p:nvPr/>
                </p:nvSpPr>
                <p:spPr>
                  <a:xfrm>
                    <a:off x="7745760" y="4803840"/>
                    <a:ext cx="16560" cy="139680"/>
                  </a:xfrm>
                  <a:prstGeom prst="line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2" name=""/>
                <p:cNvSpPr/>
                <p:nvPr/>
              </p:nvSpPr>
              <p:spPr>
                <a:xfrm flipH="1">
                  <a:off x="8389080" y="4799160"/>
                  <a:ext cx="17640" cy="147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3" name=""/>
              <p:cNvGrpSpPr/>
              <p:nvPr/>
            </p:nvGrpSpPr>
            <p:grpSpPr>
              <a:xfrm>
                <a:off x="7239600" y="1735200"/>
                <a:ext cx="1887840" cy="1003320"/>
                <a:chOff x="7239600" y="1735200"/>
                <a:chExt cx="1887840" cy="1003320"/>
              </a:xfrm>
            </p:grpSpPr>
            <p:sp>
              <p:nvSpPr>
                <p:cNvPr id="4204" name=""/>
                <p:cNvSpPr/>
                <p:nvPr/>
              </p:nvSpPr>
              <p:spPr>
                <a:xfrm>
                  <a:off x="7239600" y="1735200"/>
                  <a:ext cx="1544760" cy="96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99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5" name=""/>
                <p:cNvSpPr/>
                <p:nvPr/>
              </p:nvSpPr>
              <p:spPr>
                <a:xfrm>
                  <a:off x="7767720" y="1795320"/>
                  <a:ext cx="0" cy="84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6" name=""/>
                <p:cNvSpPr/>
                <p:nvPr/>
              </p:nvSpPr>
              <p:spPr>
                <a:xfrm>
                  <a:off x="7459560" y="2309760"/>
                  <a:ext cx="1016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7" name=""/>
                <p:cNvSpPr/>
                <p:nvPr/>
              </p:nvSpPr>
              <p:spPr>
                <a:xfrm>
                  <a:off x="8338320" y="23396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8" name=""/>
                <p:cNvSpPr/>
                <p:nvPr/>
              </p:nvSpPr>
              <p:spPr>
                <a:xfrm>
                  <a:off x="7598880" y="1855440"/>
                  <a:ext cx="266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9" name=""/>
                <p:cNvSpPr/>
                <p:nvPr/>
              </p:nvSpPr>
              <p:spPr>
                <a:xfrm>
                  <a:off x="7608600" y="2038320"/>
                  <a:ext cx="1518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Power clam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10" name=""/>
                <p:cNvGrpSpPr/>
                <p:nvPr/>
              </p:nvGrpSpPr>
              <p:grpSpPr>
                <a:xfrm>
                  <a:off x="7526160" y="2011320"/>
                  <a:ext cx="808920" cy="488160"/>
                  <a:chOff x="7526160" y="2011320"/>
                  <a:chExt cx="808920" cy="488160"/>
                </a:xfrm>
              </p:grpSpPr>
              <p:sp>
                <p:nvSpPr>
                  <p:cNvPr id="4211" name=""/>
                  <p:cNvSpPr/>
                  <p:nvPr/>
                </p:nvSpPr>
                <p:spPr>
                  <a:xfrm flipH="1" flipV="1">
                    <a:off x="7782480" y="2312640"/>
                    <a:ext cx="552600" cy="186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2" name=""/>
                  <p:cNvSpPr/>
                  <p:nvPr/>
                </p:nvSpPr>
                <p:spPr>
                  <a:xfrm flipH="1" flipV="1">
                    <a:off x="7712280" y="2282400"/>
                    <a:ext cx="70200" cy="29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3" name=""/>
                  <p:cNvSpPr/>
                  <p:nvPr/>
                </p:nvSpPr>
                <p:spPr>
                  <a:xfrm flipH="1" flipV="1">
                    <a:off x="7526160" y="2011320"/>
                    <a:ext cx="186480" cy="27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14" name=""/>
            <p:cNvGrpSpPr/>
            <p:nvPr/>
          </p:nvGrpSpPr>
          <p:grpSpPr>
            <a:xfrm>
              <a:off x="4854600" y="1735200"/>
              <a:ext cx="2063160" cy="4138560"/>
              <a:chOff x="4854600" y="1735200"/>
              <a:chExt cx="2063160" cy="4138560"/>
            </a:xfrm>
          </p:grpSpPr>
          <p:grpSp>
            <p:nvGrpSpPr>
              <p:cNvPr id="4215" name=""/>
              <p:cNvGrpSpPr/>
              <p:nvPr/>
            </p:nvGrpSpPr>
            <p:grpSpPr>
              <a:xfrm>
                <a:off x="4854600" y="2849760"/>
                <a:ext cx="2057040" cy="1541880"/>
                <a:chOff x="4854600" y="2849760"/>
                <a:chExt cx="2057040" cy="1541880"/>
              </a:xfrm>
            </p:grpSpPr>
            <p:sp>
              <p:nvSpPr>
                <p:cNvPr id="4216" name=""/>
                <p:cNvSpPr/>
                <p:nvPr/>
              </p:nvSpPr>
              <p:spPr>
                <a:xfrm>
                  <a:off x="4854600" y="2876760"/>
                  <a:ext cx="1885680" cy="1427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17" name=""/>
                <p:cNvGrpSpPr/>
                <p:nvPr/>
              </p:nvGrpSpPr>
              <p:grpSpPr>
                <a:xfrm>
                  <a:off x="4874760" y="2849760"/>
                  <a:ext cx="2036880" cy="1541880"/>
                  <a:chOff x="4874760" y="2849760"/>
                  <a:chExt cx="2036880" cy="1541880"/>
                </a:xfrm>
              </p:grpSpPr>
              <p:grpSp>
                <p:nvGrpSpPr>
                  <p:cNvPr id="4218" name=""/>
                  <p:cNvGrpSpPr/>
                  <p:nvPr/>
                </p:nvGrpSpPr>
                <p:grpSpPr>
                  <a:xfrm>
                    <a:off x="4874760" y="2849760"/>
                    <a:ext cx="2036880" cy="1541880"/>
                    <a:chOff x="4874760" y="2849760"/>
                    <a:chExt cx="2036880" cy="1541880"/>
                  </a:xfrm>
                </p:grpSpPr>
                <p:sp>
                  <p:nvSpPr>
                    <p:cNvPr id="4219" name=""/>
                    <p:cNvSpPr/>
                    <p:nvPr/>
                  </p:nvSpPr>
                  <p:spPr>
                    <a:xfrm>
                      <a:off x="5355360" y="3002040"/>
                      <a:ext cx="0" cy="1066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0" name=""/>
                    <p:cNvSpPr/>
                    <p:nvPr/>
                  </p:nvSpPr>
                  <p:spPr>
                    <a:xfrm>
                      <a:off x="5299920" y="3633840"/>
                      <a:ext cx="1305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1" name=""/>
                    <p:cNvSpPr/>
                    <p:nvPr/>
                  </p:nvSpPr>
                  <p:spPr>
                    <a:xfrm>
                      <a:off x="6220440" y="3382920"/>
                      <a:ext cx="691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2" name=""/>
                    <p:cNvSpPr/>
                    <p:nvPr/>
                  </p:nvSpPr>
                  <p:spPr>
                    <a:xfrm>
                      <a:off x="4874760" y="3116160"/>
                      <a:ext cx="592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23" name=""/>
                    <p:cNvGrpSpPr/>
                    <p:nvPr/>
                  </p:nvGrpSpPr>
                  <p:grpSpPr>
                    <a:xfrm>
                      <a:off x="5339880" y="3080880"/>
                      <a:ext cx="1185120" cy="584280"/>
                      <a:chOff x="5339880" y="3080880"/>
                      <a:chExt cx="1185120" cy="584280"/>
                    </a:xfrm>
                  </p:grpSpPr>
                  <p:sp>
                    <p:nvSpPr>
                      <p:cNvPr id="4224" name=""/>
                      <p:cNvSpPr/>
                      <p:nvPr/>
                    </p:nvSpPr>
                    <p:spPr>
                      <a:xfrm flipV="1">
                        <a:off x="5339880" y="3438360"/>
                        <a:ext cx="196920" cy="2268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25" name=""/>
                      <p:cNvSpPr/>
                      <p:nvPr/>
                    </p:nvSpPr>
                    <p:spPr>
                      <a:xfrm flipV="1">
                        <a:off x="5536800" y="3275640"/>
                        <a:ext cx="198000" cy="1627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26" name=""/>
                      <p:cNvSpPr/>
                      <p:nvPr/>
                    </p:nvSpPr>
                    <p:spPr>
                      <a:xfrm flipV="1">
                        <a:off x="5735160" y="3146040"/>
                        <a:ext cx="315360" cy="129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27" name=""/>
                      <p:cNvSpPr/>
                      <p:nvPr/>
                    </p:nvSpPr>
                    <p:spPr>
                      <a:xfrm flipV="1">
                        <a:off x="6050880" y="3080880"/>
                        <a:ext cx="474120" cy="651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28" name=""/>
                    <p:cNvGrpSpPr/>
                    <p:nvPr/>
                  </p:nvGrpSpPr>
                  <p:grpSpPr>
                    <a:xfrm>
                      <a:off x="5339880" y="3633840"/>
                      <a:ext cx="1146240" cy="388800"/>
                      <a:chOff x="5339880" y="3633840"/>
                      <a:chExt cx="1146240" cy="388800"/>
                    </a:xfrm>
                  </p:grpSpPr>
                  <p:sp>
                    <p:nvSpPr>
                      <p:cNvPr id="4229" name=""/>
                      <p:cNvSpPr/>
                      <p:nvPr/>
                    </p:nvSpPr>
                    <p:spPr>
                      <a:xfrm>
                        <a:off x="5339880" y="3633840"/>
                        <a:ext cx="39960" cy="968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30" name=""/>
                      <p:cNvSpPr/>
                      <p:nvPr/>
                    </p:nvSpPr>
                    <p:spPr>
                      <a:xfrm>
                        <a:off x="5380200" y="3730680"/>
                        <a:ext cx="158040" cy="1627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31" name=""/>
                      <p:cNvSpPr/>
                      <p:nvPr/>
                    </p:nvSpPr>
                    <p:spPr>
                      <a:xfrm>
                        <a:off x="5538600" y="3893400"/>
                        <a:ext cx="276840" cy="975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32" name=""/>
                      <p:cNvSpPr/>
                      <p:nvPr/>
                    </p:nvSpPr>
                    <p:spPr>
                      <a:xfrm>
                        <a:off x="5815080" y="3990960"/>
                        <a:ext cx="434160" cy="31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33" name=""/>
                      <p:cNvSpPr/>
                      <p:nvPr/>
                    </p:nvSpPr>
                    <p:spPr>
                      <a:xfrm>
                        <a:off x="6249240" y="4022640"/>
                        <a:ext cx="236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234" name=""/>
                    <p:cNvSpPr/>
                    <p:nvPr/>
                  </p:nvSpPr>
                  <p:spPr>
                    <a:xfrm>
                      <a:off x="5355720" y="3992760"/>
                      <a:ext cx="1413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/pull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5" name=""/>
                    <p:cNvSpPr/>
                    <p:nvPr/>
                  </p:nvSpPr>
                  <p:spPr>
                    <a:xfrm>
                      <a:off x="5355360" y="2849760"/>
                      <a:ext cx="1145520" cy="703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ll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36" name=""/>
                  <p:cNvSpPr/>
                  <p:nvPr/>
                </p:nvSpPr>
                <p:spPr>
                  <a:xfrm>
                    <a:off x="5664240" y="3840120"/>
                    <a:ext cx="494640" cy="304560"/>
                  </a:xfrm>
                  <a:prstGeom prst="noSmoking">
                    <a:avLst>
                      <a:gd name="adj" fmla="val 12500"/>
                    </a:avLst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7" name=""/>
                  <p:cNvSpPr/>
                  <p:nvPr/>
                </p:nvSpPr>
                <p:spPr>
                  <a:xfrm>
                    <a:off x="5355360" y="3649680"/>
                    <a:ext cx="1175040" cy="0"/>
                  </a:xfrm>
                  <a:prstGeom prst="line">
                    <a:avLst/>
                  </a:prstGeom>
                  <a:ln w="381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38" name=""/>
              <p:cNvGrpSpPr/>
              <p:nvPr/>
            </p:nvGrpSpPr>
            <p:grpSpPr>
              <a:xfrm>
                <a:off x="5047200" y="4495680"/>
                <a:ext cx="1453680" cy="1378080"/>
                <a:chOff x="5047200" y="4495680"/>
                <a:chExt cx="1453680" cy="1378080"/>
              </a:xfrm>
            </p:grpSpPr>
            <p:sp>
              <p:nvSpPr>
                <p:cNvPr id="4239" name=""/>
                <p:cNvSpPr/>
                <p:nvPr/>
              </p:nvSpPr>
              <p:spPr>
                <a:xfrm>
                  <a:off x="5047200" y="4533840"/>
                  <a:ext cx="1424160" cy="1182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40" name=""/>
                <p:cNvGrpSpPr/>
                <p:nvPr/>
              </p:nvGrpSpPr>
              <p:grpSpPr>
                <a:xfrm>
                  <a:off x="5079600" y="4495680"/>
                  <a:ext cx="740880" cy="1378080"/>
                  <a:chOff x="5079600" y="4495680"/>
                  <a:chExt cx="740880" cy="1378080"/>
                </a:xfrm>
              </p:grpSpPr>
              <p:grpSp>
                <p:nvGrpSpPr>
                  <p:cNvPr id="4241" name=""/>
                  <p:cNvGrpSpPr/>
                  <p:nvPr/>
                </p:nvGrpSpPr>
                <p:grpSpPr>
                  <a:xfrm>
                    <a:off x="5252400" y="4751280"/>
                    <a:ext cx="337680" cy="486000"/>
                    <a:chOff x="5252400" y="4751280"/>
                    <a:chExt cx="337680" cy="486000"/>
                  </a:xfrm>
                </p:grpSpPr>
                <p:sp>
                  <p:nvSpPr>
                    <p:cNvPr id="4242" name=""/>
                    <p:cNvSpPr/>
                    <p:nvPr/>
                  </p:nvSpPr>
                  <p:spPr>
                    <a:xfrm>
                      <a:off x="5513400" y="5237280"/>
                      <a:ext cx="70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43" name=""/>
                    <p:cNvGrpSpPr/>
                    <p:nvPr/>
                  </p:nvGrpSpPr>
                  <p:grpSpPr>
                    <a:xfrm>
                      <a:off x="5252400" y="4751280"/>
                      <a:ext cx="337680" cy="485280"/>
                      <a:chOff x="5252400" y="4751280"/>
                      <a:chExt cx="337680" cy="485280"/>
                    </a:xfrm>
                  </p:grpSpPr>
                  <p:sp>
                    <p:nvSpPr>
                      <p:cNvPr id="4244" name=""/>
                      <p:cNvSpPr/>
                      <p:nvPr/>
                    </p:nvSpPr>
                    <p:spPr>
                      <a:xfrm flipH="1" flipV="1">
                        <a:off x="5420880" y="4750920"/>
                        <a:ext cx="169200" cy="48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45" name=""/>
                      <p:cNvSpPr/>
                      <p:nvPr/>
                    </p:nvSpPr>
                    <p:spPr>
                      <a:xfrm flipH="1" flipV="1" rot="10800000">
                        <a:off x="5252400" y="4751280"/>
                        <a:ext cx="167760" cy="48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246" name=""/>
                    <p:cNvSpPr/>
                    <p:nvPr/>
                  </p:nvSpPr>
                  <p:spPr>
                    <a:xfrm>
                      <a:off x="5265720" y="4751640"/>
                      <a:ext cx="70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7" name=""/>
                  <p:cNvGrpSpPr/>
                  <p:nvPr/>
                </p:nvGrpSpPr>
                <p:grpSpPr>
                  <a:xfrm>
                    <a:off x="5079600" y="4495680"/>
                    <a:ext cx="593640" cy="1056600"/>
                    <a:chOff x="5079600" y="4495680"/>
                    <a:chExt cx="593640" cy="1056600"/>
                  </a:xfrm>
                </p:grpSpPr>
                <p:grpSp>
                  <p:nvGrpSpPr>
                    <p:cNvPr id="4248" name=""/>
                    <p:cNvGrpSpPr/>
                    <p:nvPr/>
                  </p:nvGrpSpPr>
                  <p:grpSpPr>
                    <a:xfrm>
                      <a:off x="5253840" y="4739400"/>
                      <a:ext cx="336960" cy="486000"/>
                      <a:chOff x="5253840" y="4739400"/>
                      <a:chExt cx="336960" cy="486000"/>
                    </a:xfrm>
                  </p:grpSpPr>
                  <p:sp>
                    <p:nvSpPr>
                      <p:cNvPr id="4249" name=""/>
                      <p:cNvSpPr/>
                      <p:nvPr/>
                    </p:nvSpPr>
                    <p:spPr>
                      <a:xfrm flipH="1">
                        <a:off x="5513760" y="5225400"/>
                        <a:ext cx="702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50" name=""/>
                      <p:cNvSpPr/>
                      <p:nvPr/>
                    </p:nvSpPr>
                    <p:spPr>
                      <a:xfrm flipH="1">
                        <a:off x="5266800" y="4739760"/>
                        <a:ext cx="702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251" name=""/>
                      <p:cNvGrpSpPr/>
                      <p:nvPr/>
                    </p:nvGrpSpPr>
                    <p:grpSpPr>
                      <a:xfrm>
                        <a:off x="5253840" y="4739400"/>
                        <a:ext cx="336960" cy="485280"/>
                        <a:chOff x="5253840" y="4739400"/>
                        <a:chExt cx="336960" cy="485280"/>
                      </a:xfrm>
                    </p:grpSpPr>
                    <p:sp>
                      <p:nvSpPr>
                        <p:cNvPr id="4252" name=""/>
                        <p:cNvSpPr/>
                        <p:nvPr/>
                      </p:nvSpPr>
                      <p:spPr>
                        <a:xfrm flipH="1" flipV="1">
                          <a:off x="5422320" y="4739040"/>
                          <a:ext cx="168480" cy="48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9864" y="41"/>
                              </a:moveTo>
                              <a:arcTo wR="10800" hR="10800" stAng="-5698349" swAng="5698349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9864" y="41"/>
                              </a:moveTo>
                              <a:arcTo wR="10800" hR="10800" stAng="-5698349" swAng="5698349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53" name=""/>
                        <p:cNvSpPr/>
                        <p:nvPr/>
                      </p:nvSpPr>
                      <p:spPr>
                        <a:xfrm flipH="1" flipV="1" rot="10800000">
                          <a:off x="5253840" y="4739400"/>
                          <a:ext cx="167760" cy="48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54" name=""/>
                    <p:cNvGrpSpPr/>
                    <p:nvPr/>
                  </p:nvGrpSpPr>
                  <p:grpSpPr>
                    <a:xfrm>
                      <a:off x="5079600" y="4495680"/>
                      <a:ext cx="593640" cy="1056600"/>
                      <a:chOff x="5079600" y="4495680"/>
                      <a:chExt cx="593640" cy="1056600"/>
                    </a:xfrm>
                  </p:grpSpPr>
                  <p:sp>
                    <p:nvSpPr>
                      <p:cNvPr id="4255" name=""/>
                      <p:cNvSpPr/>
                      <p:nvPr/>
                    </p:nvSpPr>
                    <p:spPr>
                      <a:xfrm>
                        <a:off x="5262480" y="4619880"/>
                        <a:ext cx="0" cy="8524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56" name=""/>
                      <p:cNvSpPr/>
                      <p:nvPr/>
                    </p:nvSpPr>
                    <p:spPr>
                      <a:xfrm>
                        <a:off x="5249160" y="5439960"/>
                        <a:ext cx="4240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57" name=""/>
                      <p:cNvSpPr/>
                      <p:nvPr/>
                    </p:nvSpPr>
                    <p:spPr>
                      <a:xfrm>
                        <a:off x="5249160" y="5251320"/>
                        <a:ext cx="40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58" name=""/>
                      <p:cNvSpPr/>
                      <p:nvPr/>
                    </p:nvSpPr>
                    <p:spPr>
                      <a:xfrm>
                        <a:off x="5235480" y="4745160"/>
                        <a:ext cx="403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59" name=""/>
                      <p:cNvSpPr/>
                      <p:nvPr/>
                    </p:nvSpPr>
                    <p:spPr>
                      <a:xfrm>
                        <a:off x="5187600" y="4495680"/>
                        <a:ext cx="138240" cy="336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60" name=""/>
                      <p:cNvSpPr/>
                      <p:nvPr/>
                    </p:nvSpPr>
                    <p:spPr>
                      <a:xfrm>
                        <a:off x="5080680" y="4752720"/>
                        <a:ext cx="50688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Vc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61" name=""/>
                      <p:cNvSpPr/>
                      <p:nvPr/>
                    </p:nvSpPr>
                    <p:spPr>
                      <a:xfrm>
                        <a:off x="5079600" y="5214960"/>
                        <a:ext cx="42912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V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262" name=""/>
                  <p:cNvSpPr/>
                  <p:nvPr/>
                </p:nvSpPr>
                <p:spPr>
                  <a:xfrm>
                    <a:off x="5583240" y="5536440"/>
                    <a:ext cx="2372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3" name=""/>
                  <p:cNvSpPr/>
                  <p:nvPr/>
                </p:nvSpPr>
                <p:spPr>
                  <a:xfrm>
                    <a:off x="5100120" y="4508280"/>
                    <a:ext cx="2829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4" name=""/>
                <p:cNvGrpSpPr/>
                <p:nvPr/>
              </p:nvGrpSpPr>
              <p:grpSpPr>
                <a:xfrm>
                  <a:off x="5760000" y="4495680"/>
                  <a:ext cx="740880" cy="1378080"/>
                  <a:chOff x="5760000" y="4495680"/>
                  <a:chExt cx="740880" cy="1378080"/>
                </a:xfrm>
              </p:grpSpPr>
              <p:grpSp>
                <p:nvGrpSpPr>
                  <p:cNvPr id="4265" name=""/>
                  <p:cNvGrpSpPr/>
                  <p:nvPr/>
                </p:nvGrpSpPr>
                <p:grpSpPr>
                  <a:xfrm>
                    <a:off x="5943240" y="4751280"/>
                    <a:ext cx="224280" cy="486000"/>
                    <a:chOff x="5943240" y="4751280"/>
                    <a:chExt cx="224280" cy="486000"/>
                  </a:xfrm>
                </p:grpSpPr>
                <p:sp>
                  <p:nvSpPr>
                    <p:cNvPr id="4266" name=""/>
                    <p:cNvSpPr/>
                    <p:nvPr/>
                  </p:nvSpPr>
                  <p:spPr>
                    <a:xfrm>
                      <a:off x="5947560" y="5237280"/>
                      <a:ext cx="468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7" name=""/>
                    <p:cNvSpPr/>
                    <p:nvPr/>
                  </p:nvSpPr>
                  <p:spPr>
                    <a:xfrm>
                      <a:off x="6112080" y="4751640"/>
                      <a:ext cx="468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68" name=""/>
                    <p:cNvGrpSpPr/>
                    <p:nvPr/>
                  </p:nvGrpSpPr>
                  <p:grpSpPr>
                    <a:xfrm>
                      <a:off x="5943240" y="4751280"/>
                      <a:ext cx="224280" cy="485280"/>
                      <a:chOff x="5943240" y="4751280"/>
                      <a:chExt cx="224280" cy="485280"/>
                    </a:xfrm>
                  </p:grpSpPr>
                  <p:sp>
                    <p:nvSpPr>
                      <p:cNvPr id="4269" name=""/>
                      <p:cNvSpPr/>
                      <p:nvPr/>
                    </p:nvSpPr>
                    <p:spPr>
                      <a:xfrm flipV="1">
                        <a:off x="5943240" y="4750920"/>
                        <a:ext cx="111960" cy="48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70" name=""/>
                      <p:cNvSpPr/>
                      <p:nvPr/>
                    </p:nvSpPr>
                    <p:spPr>
                      <a:xfrm flipV="1" rot="10800000">
                        <a:off x="6055920" y="4751280"/>
                        <a:ext cx="111600" cy="48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271" name=""/>
                  <p:cNvGrpSpPr/>
                  <p:nvPr/>
                </p:nvGrpSpPr>
                <p:grpSpPr>
                  <a:xfrm>
                    <a:off x="5760000" y="4495680"/>
                    <a:ext cx="594360" cy="1054440"/>
                    <a:chOff x="5760000" y="4495680"/>
                    <a:chExt cx="594360" cy="1054440"/>
                  </a:xfrm>
                </p:grpSpPr>
                <p:sp>
                  <p:nvSpPr>
                    <p:cNvPr id="4272" name=""/>
                    <p:cNvSpPr/>
                    <p:nvPr/>
                  </p:nvSpPr>
                  <p:spPr>
                    <a:xfrm>
                      <a:off x="5943600" y="4619880"/>
                      <a:ext cx="0" cy="852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3" name=""/>
                    <p:cNvSpPr/>
                    <p:nvPr/>
                  </p:nvSpPr>
                  <p:spPr>
                    <a:xfrm>
                      <a:off x="5930280" y="5439960"/>
                      <a:ext cx="424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4" name=""/>
                    <p:cNvSpPr/>
                    <p:nvPr/>
                  </p:nvSpPr>
                  <p:spPr>
                    <a:xfrm>
                      <a:off x="5930280" y="5251320"/>
                      <a:ext cx="40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5" name=""/>
                    <p:cNvSpPr/>
                    <p:nvPr/>
                  </p:nvSpPr>
                  <p:spPr>
                    <a:xfrm>
                      <a:off x="5916600" y="4745160"/>
                      <a:ext cx="40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6" name=""/>
                    <p:cNvSpPr/>
                    <p:nvPr/>
                  </p:nvSpPr>
                  <p:spPr>
                    <a:xfrm>
                      <a:off x="5868360" y="4495680"/>
                      <a:ext cx="138240" cy="33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7" name=""/>
                    <p:cNvSpPr/>
                    <p:nvPr/>
                  </p:nvSpPr>
                  <p:spPr>
                    <a:xfrm>
                      <a:off x="5762880" y="4752720"/>
                      <a:ext cx="5068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8" name=""/>
                    <p:cNvSpPr/>
                    <p:nvPr/>
                  </p:nvSpPr>
                  <p:spPr>
                    <a:xfrm>
                      <a:off x="5760000" y="5212800"/>
                      <a:ext cx="42912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79" name=""/>
                  <p:cNvSpPr/>
                  <p:nvPr/>
                </p:nvSpPr>
                <p:spPr>
                  <a:xfrm>
                    <a:off x="6263640" y="5536440"/>
                    <a:ext cx="2372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0" name=""/>
                  <p:cNvSpPr/>
                  <p:nvPr/>
                </p:nvSpPr>
                <p:spPr>
                  <a:xfrm>
                    <a:off x="5780880" y="4508280"/>
                    <a:ext cx="2829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81" name=""/>
                <p:cNvSpPr/>
                <p:nvPr/>
              </p:nvSpPr>
              <p:spPr>
                <a:xfrm>
                  <a:off x="5418360" y="4894200"/>
                  <a:ext cx="30960" cy="2570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2" name=""/>
                <p:cNvSpPr/>
                <p:nvPr/>
              </p:nvSpPr>
              <p:spPr>
                <a:xfrm flipH="1">
                  <a:off x="6037920" y="4894200"/>
                  <a:ext cx="30600" cy="2570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3" name=""/>
              <p:cNvGrpSpPr/>
              <p:nvPr/>
            </p:nvGrpSpPr>
            <p:grpSpPr>
              <a:xfrm>
                <a:off x="5029200" y="1735200"/>
                <a:ext cx="1888560" cy="1003320"/>
                <a:chOff x="5029200" y="1735200"/>
                <a:chExt cx="1888560" cy="1003320"/>
              </a:xfrm>
            </p:grpSpPr>
            <p:sp>
              <p:nvSpPr>
                <p:cNvPr id="4284" name=""/>
                <p:cNvSpPr/>
                <p:nvPr/>
              </p:nvSpPr>
              <p:spPr>
                <a:xfrm>
                  <a:off x="5029200" y="1735200"/>
                  <a:ext cx="1545480" cy="96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99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5" name=""/>
                <p:cNvSpPr/>
                <p:nvPr/>
              </p:nvSpPr>
              <p:spPr>
                <a:xfrm>
                  <a:off x="5557320" y="1795320"/>
                  <a:ext cx="0" cy="84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6" name=""/>
                <p:cNvSpPr/>
                <p:nvPr/>
              </p:nvSpPr>
              <p:spPr>
                <a:xfrm>
                  <a:off x="5249160" y="2309760"/>
                  <a:ext cx="101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7" name=""/>
                <p:cNvSpPr/>
                <p:nvPr/>
              </p:nvSpPr>
              <p:spPr>
                <a:xfrm>
                  <a:off x="6128280" y="23396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8" name=""/>
                <p:cNvSpPr/>
                <p:nvPr/>
              </p:nvSpPr>
              <p:spPr>
                <a:xfrm>
                  <a:off x="5388480" y="1855440"/>
                  <a:ext cx="266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9" name=""/>
                <p:cNvSpPr/>
                <p:nvPr/>
              </p:nvSpPr>
              <p:spPr>
                <a:xfrm>
                  <a:off x="5398920" y="2038320"/>
                  <a:ext cx="1518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Power clam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90" name=""/>
                <p:cNvGrpSpPr/>
                <p:nvPr/>
              </p:nvGrpSpPr>
              <p:grpSpPr>
                <a:xfrm>
                  <a:off x="5315760" y="2011320"/>
                  <a:ext cx="810000" cy="488160"/>
                  <a:chOff x="5315760" y="2011320"/>
                  <a:chExt cx="810000" cy="488160"/>
                </a:xfrm>
              </p:grpSpPr>
              <p:sp>
                <p:nvSpPr>
                  <p:cNvPr id="4291" name=""/>
                  <p:cNvSpPr/>
                  <p:nvPr/>
                </p:nvSpPr>
                <p:spPr>
                  <a:xfrm flipH="1" flipV="1">
                    <a:off x="5572800" y="2312640"/>
                    <a:ext cx="552960" cy="186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2" name=""/>
                  <p:cNvSpPr/>
                  <p:nvPr/>
                </p:nvSpPr>
                <p:spPr>
                  <a:xfrm flipH="1" flipV="1">
                    <a:off x="5501880" y="2282400"/>
                    <a:ext cx="70200" cy="29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3" name=""/>
                  <p:cNvSpPr/>
                  <p:nvPr/>
                </p:nvSpPr>
                <p:spPr>
                  <a:xfrm flipH="1" flipV="1">
                    <a:off x="5315760" y="2011320"/>
                    <a:ext cx="186480" cy="27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294" name=""/>
          <p:cNvGrpSpPr/>
          <p:nvPr/>
        </p:nvGrpSpPr>
        <p:grpSpPr>
          <a:xfrm>
            <a:off x="7878600" y="-169560"/>
            <a:ext cx="1265040" cy="1088640"/>
            <a:chOff x="7878600" y="-169560"/>
            <a:chExt cx="1265040" cy="1088640"/>
          </a:xfrm>
        </p:grpSpPr>
        <p:sp>
          <p:nvSpPr>
            <p:cNvPr id="4295" name=""/>
            <p:cNvSpPr/>
            <p:nvPr/>
          </p:nvSpPr>
          <p:spPr>
            <a:xfrm>
              <a:off x="7878600" y="-169560"/>
              <a:ext cx="126504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CML- Preempha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6" name=""/>
            <p:cNvGrpSpPr/>
            <p:nvPr/>
          </p:nvGrpSpPr>
          <p:grpSpPr>
            <a:xfrm>
              <a:off x="8272080" y="663480"/>
              <a:ext cx="612720" cy="254160"/>
              <a:chOff x="8272080" y="663480"/>
              <a:chExt cx="612720" cy="254160"/>
            </a:xfrm>
          </p:grpSpPr>
          <p:grpSp>
            <p:nvGrpSpPr>
              <p:cNvPr id="4297" name=""/>
              <p:cNvGrpSpPr/>
              <p:nvPr/>
            </p:nvGrpSpPr>
            <p:grpSpPr>
              <a:xfrm>
                <a:off x="8272080" y="756360"/>
                <a:ext cx="612720" cy="161280"/>
                <a:chOff x="8272080" y="756360"/>
                <a:chExt cx="612720" cy="161280"/>
              </a:xfrm>
            </p:grpSpPr>
            <p:grpSp>
              <p:nvGrpSpPr>
                <p:cNvPr id="4298" name=""/>
                <p:cNvGrpSpPr/>
                <p:nvPr/>
              </p:nvGrpSpPr>
              <p:grpSpPr>
                <a:xfrm>
                  <a:off x="8272080" y="877680"/>
                  <a:ext cx="612720" cy="39960"/>
                  <a:chOff x="8272080" y="877680"/>
                  <a:chExt cx="612720" cy="39960"/>
                </a:xfrm>
              </p:grpSpPr>
              <p:sp>
                <p:nvSpPr>
                  <p:cNvPr id="4299" name=""/>
                  <p:cNvSpPr/>
                  <p:nvPr/>
                </p:nvSpPr>
                <p:spPr>
                  <a:xfrm>
                    <a:off x="83743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0" name=""/>
                  <p:cNvSpPr/>
                  <p:nvPr/>
                </p:nvSpPr>
                <p:spPr>
                  <a:xfrm>
                    <a:off x="85788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1" name=""/>
                  <p:cNvSpPr/>
                  <p:nvPr/>
                </p:nvSpPr>
                <p:spPr>
                  <a:xfrm>
                    <a:off x="86810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2" name=""/>
                  <p:cNvSpPr/>
                  <p:nvPr/>
                </p:nvSpPr>
                <p:spPr>
                  <a:xfrm>
                    <a:off x="87832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3" name=""/>
                  <p:cNvSpPr/>
                  <p:nvPr/>
                </p:nvSpPr>
                <p:spPr>
                  <a:xfrm>
                    <a:off x="84765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4" name=""/>
                  <p:cNvSpPr/>
                  <p:nvPr/>
                </p:nvSpPr>
                <p:spPr>
                  <a:xfrm>
                    <a:off x="82720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5" name=""/>
                <p:cNvGrpSpPr/>
                <p:nvPr/>
              </p:nvGrpSpPr>
              <p:grpSpPr>
                <a:xfrm>
                  <a:off x="8323200" y="837000"/>
                  <a:ext cx="510480" cy="39960"/>
                  <a:chOff x="8323200" y="837000"/>
                  <a:chExt cx="510480" cy="39960"/>
                </a:xfrm>
              </p:grpSpPr>
              <p:sp>
                <p:nvSpPr>
                  <p:cNvPr id="4306" name=""/>
                  <p:cNvSpPr/>
                  <p:nvPr/>
                </p:nvSpPr>
                <p:spPr>
                  <a:xfrm>
                    <a:off x="83232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7" name=""/>
                  <p:cNvSpPr/>
                  <p:nvPr/>
                </p:nvSpPr>
                <p:spPr>
                  <a:xfrm>
                    <a:off x="85276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8" name=""/>
                  <p:cNvSpPr/>
                  <p:nvPr/>
                </p:nvSpPr>
                <p:spPr>
                  <a:xfrm>
                    <a:off x="86299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9" name=""/>
                  <p:cNvSpPr/>
                  <p:nvPr/>
                </p:nvSpPr>
                <p:spPr>
                  <a:xfrm>
                    <a:off x="87321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0" name=""/>
                  <p:cNvSpPr/>
                  <p:nvPr/>
                </p:nvSpPr>
                <p:spPr>
                  <a:xfrm>
                    <a:off x="84254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1" name=""/>
                <p:cNvGrpSpPr/>
                <p:nvPr/>
              </p:nvGrpSpPr>
              <p:grpSpPr>
                <a:xfrm>
                  <a:off x="8374320" y="756360"/>
                  <a:ext cx="408240" cy="80280"/>
                  <a:chOff x="8374320" y="756360"/>
                  <a:chExt cx="408240" cy="80280"/>
                </a:xfrm>
              </p:grpSpPr>
              <p:sp>
                <p:nvSpPr>
                  <p:cNvPr id="4312" name=""/>
                  <p:cNvSpPr/>
                  <p:nvPr/>
                </p:nvSpPr>
                <p:spPr>
                  <a:xfrm>
                    <a:off x="84765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3" name=""/>
                  <p:cNvSpPr/>
                  <p:nvPr/>
                </p:nvSpPr>
                <p:spPr>
                  <a:xfrm>
                    <a:off x="868104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4" name=""/>
                  <p:cNvSpPr/>
                  <p:nvPr/>
                </p:nvSpPr>
                <p:spPr>
                  <a:xfrm>
                    <a:off x="85788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5" name=""/>
                  <p:cNvSpPr/>
                  <p:nvPr/>
                </p:nvSpPr>
                <p:spPr>
                  <a:xfrm>
                    <a:off x="83743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6" name=""/>
                  <p:cNvSpPr/>
                  <p:nvPr/>
                </p:nvSpPr>
                <p:spPr>
                  <a:xfrm>
                    <a:off x="84254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7" name=""/>
                  <p:cNvSpPr/>
                  <p:nvPr/>
                </p:nvSpPr>
                <p:spPr>
                  <a:xfrm>
                    <a:off x="862992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8" name=""/>
                  <p:cNvSpPr/>
                  <p:nvPr/>
                </p:nvSpPr>
                <p:spPr>
                  <a:xfrm>
                    <a:off x="85276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9" name=""/>
              <p:cNvGrpSpPr/>
              <p:nvPr/>
            </p:nvGrpSpPr>
            <p:grpSpPr>
              <a:xfrm>
                <a:off x="8503200" y="756360"/>
                <a:ext cx="152280" cy="160200"/>
                <a:chOff x="8503200" y="756360"/>
                <a:chExt cx="152280" cy="160200"/>
              </a:xfrm>
            </p:grpSpPr>
            <p:grpSp>
              <p:nvGrpSpPr>
                <p:cNvPr id="4320" name=""/>
                <p:cNvGrpSpPr/>
                <p:nvPr/>
              </p:nvGrpSpPr>
              <p:grpSpPr>
                <a:xfrm>
                  <a:off x="8503200" y="877320"/>
                  <a:ext cx="152280" cy="39240"/>
                  <a:chOff x="8503200" y="877320"/>
                  <a:chExt cx="152280" cy="39240"/>
                </a:xfrm>
              </p:grpSpPr>
              <p:sp>
                <p:nvSpPr>
                  <p:cNvPr id="4321" name=""/>
                  <p:cNvSpPr/>
                  <p:nvPr/>
                </p:nvSpPr>
                <p:spPr>
                  <a:xfrm>
                    <a:off x="850932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2" name=""/>
                  <p:cNvSpPr/>
                  <p:nvPr/>
                </p:nvSpPr>
                <p:spPr>
                  <a:xfrm>
                    <a:off x="850320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3" name=""/>
                  <p:cNvSpPr/>
                  <p:nvPr/>
                </p:nvSpPr>
                <p:spPr>
                  <a:xfrm>
                    <a:off x="851580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4" name=""/>
                <p:cNvGrpSpPr/>
                <p:nvPr/>
              </p:nvGrpSpPr>
              <p:grpSpPr>
                <a:xfrm>
                  <a:off x="8521920" y="837000"/>
                  <a:ext cx="114120" cy="39240"/>
                  <a:chOff x="8521920" y="837000"/>
                  <a:chExt cx="114120" cy="39240"/>
                </a:xfrm>
              </p:grpSpPr>
              <p:sp>
                <p:nvSpPr>
                  <p:cNvPr id="4325" name=""/>
                  <p:cNvSpPr/>
                  <p:nvPr/>
                </p:nvSpPr>
                <p:spPr>
                  <a:xfrm>
                    <a:off x="852660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6" name=""/>
                  <p:cNvSpPr/>
                  <p:nvPr/>
                </p:nvSpPr>
                <p:spPr>
                  <a:xfrm>
                    <a:off x="852192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7" name=""/>
                  <p:cNvSpPr/>
                  <p:nvPr/>
                </p:nvSpPr>
                <p:spPr>
                  <a:xfrm>
                    <a:off x="853128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8" name=""/>
                <p:cNvGrpSpPr/>
                <p:nvPr/>
              </p:nvGrpSpPr>
              <p:grpSpPr>
                <a:xfrm>
                  <a:off x="8534880" y="796680"/>
                  <a:ext cx="88920" cy="39240"/>
                  <a:chOff x="8534880" y="796680"/>
                  <a:chExt cx="88920" cy="39240"/>
                </a:xfrm>
              </p:grpSpPr>
              <p:sp>
                <p:nvSpPr>
                  <p:cNvPr id="4329" name=""/>
                  <p:cNvSpPr/>
                  <p:nvPr/>
                </p:nvSpPr>
                <p:spPr>
                  <a:xfrm>
                    <a:off x="853848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0" name=""/>
                  <p:cNvSpPr/>
                  <p:nvPr/>
                </p:nvSpPr>
                <p:spPr>
                  <a:xfrm>
                    <a:off x="853488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1" name=""/>
                  <p:cNvSpPr/>
                  <p:nvPr/>
                </p:nvSpPr>
                <p:spPr>
                  <a:xfrm>
                    <a:off x="854208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2" name=""/>
                <p:cNvGrpSpPr/>
                <p:nvPr/>
              </p:nvGrpSpPr>
              <p:grpSpPr>
                <a:xfrm>
                  <a:off x="8547480" y="756360"/>
                  <a:ext cx="63360" cy="39240"/>
                  <a:chOff x="8547480" y="756360"/>
                  <a:chExt cx="63360" cy="39240"/>
                </a:xfrm>
              </p:grpSpPr>
              <p:sp>
                <p:nvSpPr>
                  <p:cNvPr id="4333" name=""/>
                  <p:cNvSpPr/>
                  <p:nvPr/>
                </p:nvSpPr>
                <p:spPr>
                  <a:xfrm>
                    <a:off x="855000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4" name=""/>
                  <p:cNvSpPr/>
                  <p:nvPr/>
                </p:nvSpPr>
                <p:spPr>
                  <a:xfrm>
                    <a:off x="854748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5" name=""/>
                  <p:cNvSpPr/>
                  <p:nvPr/>
                </p:nvSpPr>
                <p:spPr>
                  <a:xfrm>
                    <a:off x="855252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36" name=""/>
              <p:cNvSpPr/>
              <p:nvPr/>
            </p:nvSpPr>
            <p:spPr>
              <a:xfrm>
                <a:off x="845136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37" name=""/>
              <p:cNvGrpSpPr/>
              <p:nvPr/>
            </p:nvGrpSpPr>
            <p:grpSpPr>
              <a:xfrm>
                <a:off x="8486640" y="726120"/>
                <a:ext cx="183960" cy="28440"/>
                <a:chOff x="8486640" y="726120"/>
                <a:chExt cx="183960" cy="28440"/>
              </a:xfrm>
            </p:grpSpPr>
            <p:sp>
              <p:nvSpPr>
                <p:cNvPr id="4338" name=""/>
                <p:cNvSpPr/>
                <p:nvPr/>
              </p:nvSpPr>
              <p:spPr>
                <a:xfrm>
                  <a:off x="84866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9" name=""/>
                <p:cNvSpPr/>
                <p:nvPr/>
              </p:nvSpPr>
              <p:spPr>
                <a:xfrm>
                  <a:off x="85266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0" name=""/>
                <p:cNvSpPr/>
                <p:nvPr/>
              </p:nvSpPr>
              <p:spPr>
                <a:xfrm>
                  <a:off x="86454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1" name=""/>
                <p:cNvSpPr/>
                <p:nvPr/>
              </p:nvSpPr>
              <p:spPr>
                <a:xfrm>
                  <a:off x="86050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2" name=""/>
                <p:cNvSpPr/>
                <p:nvPr/>
              </p:nvSpPr>
              <p:spPr>
                <a:xfrm>
                  <a:off x="856512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3" name=""/>
              <p:cNvSpPr/>
              <p:nvPr/>
            </p:nvSpPr>
            <p:spPr>
              <a:xfrm>
                <a:off x="844416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 flipV="1">
                <a:off x="844956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845712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4347" name=""/>
          <p:cNvGrpSpPr/>
          <p:nvPr/>
        </p:nvGrpSpPr>
        <p:grpSpPr>
          <a:xfrm>
            <a:off x="360" y="1044000"/>
            <a:ext cx="3144600" cy="4659840"/>
            <a:chOff x="360" y="1044000"/>
            <a:chExt cx="3144600" cy="4659840"/>
          </a:xfrm>
        </p:grpSpPr>
        <p:grpSp>
          <p:nvGrpSpPr>
            <p:cNvPr id="4348" name=""/>
            <p:cNvGrpSpPr/>
            <p:nvPr/>
          </p:nvGrpSpPr>
          <p:grpSpPr>
            <a:xfrm>
              <a:off x="360" y="1679400"/>
              <a:ext cx="3144600" cy="4024440"/>
              <a:chOff x="360" y="1679400"/>
              <a:chExt cx="3144600" cy="4024440"/>
            </a:xfrm>
          </p:grpSpPr>
          <p:pic>
            <p:nvPicPr>
              <p:cNvPr id="43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920" y="1679400"/>
                <a:ext cx="3110040" cy="40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50" name=""/>
              <p:cNvGrpSpPr/>
              <p:nvPr/>
            </p:nvGrpSpPr>
            <p:grpSpPr>
              <a:xfrm>
                <a:off x="360" y="1773000"/>
                <a:ext cx="2777760" cy="3277440"/>
                <a:chOff x="360" y="1773000"/>
                <a:chExt cx="2777760" cy="3277440"/>
              </a:xfrm>
            </p:grpSpPr>
            <p:sp>
              <p:nvSpPr>
                <p:cNvPr id="4351" name=""/>
                <p:cNvSpPr/>
                <p:nvPr/>
              </p:nvSpPr>
              <p:spPr>
                <a:xfrm>
                  <a:off x="511200" y="4689360"/>
                  <a:ext cx="226692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0   0.5   1.0    1.5  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52" name=""/>
                <p:cNvGrpSpPr/>
                <p:nvPr/>
              </p:nvGrpSpPr>
              <p:grpSpPr>
                <a:xfrm>
                  <a:off x="592200" y="4354200"/>
                  <a:ext cx="1969920" cy="142200"/>
                  <a:chOff x="592200" y="4354200"/>
                  <a:chExt cx="1969920" cy="142200"/>
                </a:xfrm>
              </p:grpSpPr>
              <p:sp>
                <p:nvSpPr>
                  <p:cNvPr id="4353" name=""/>
                  <p:cNvSpPr/>
                  <p:nvPr/>
                </p:nvSpPr>
                <p:spPr>
                  <a:xfrm>
                    <a:off x="592200" y="4422240"/>
                    <a:ext cx="1969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4" name=""/>
                  <p:cNvSpPr/>
                  <p:nvPr/>
                </p:nvSpPr>
                <p:spPr>
                  <a:xfrm>
                    <a:off x="1600200" y="4368240"/>
                    <a:ext cx="0" cy="128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5" name=""/>
                  <p:cNvSpPr/>
                  <p:nvPr/>
                </p:nvSpPr>
                <p:spPr>
                  <a:xfrm>
                    <a:off x="871560" y="4368240"/>
                    <a:ext cx="0" cy="1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6" name=""/>
                  <p:cNvSpPr/>
                  <p:nvPr/>
                </p:nvSpPr>
                <p:spPr>
                  <a:xfrm>
                    <a:off x="1366920" y="4354200"/>
                    <a:ext cx="0" cy="1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7" name=""/>
                  <p:cNvSpPr/>
                  <p:nvPr/>
                </p:nvSpPr>
                <p:spPr>
                  <a:xfrm>
                    <a:off x="1109520" y="4357080"/>
                    <a:ext cx="0" cy="12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8" name=""/>
                  <p:cNvSpPr/>
                  <p:nvPr/>
                </p:nvSpPr>
                <p:spPr>
                  <a:xfrm>
                    <a:off x="1835280" y="4354200"/>
                    <a:ext cx="0" cy="1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9" name=""/>
                <p:cNvGrpSpPr/>
                <p:nvPr/>
              </p:nvGrpSpPr>
              <p:grpSpPr>
                <a:xfrm>
                  <a:off x="360" y="1773000"/>
                  <a:ext cx="696600" cy="3146040"/>
                  <a:chOff x="360" y="1773000"/>
                  <a:chExt cx="696600" cy="3146040"/>
                </a:xfrm>
              </p:grpSpPr>
              <p:sp>
                <p:nvSpPr>
                  <p:cNvPr id="4360" name=""/>
                  <p:cNvSpPr/>
                  <p:nvPr/>
                </p:nvSpPr>
                <p:spPr>
                  <a:xfrm flipV="1">
                    <a:off x="625320" y="1773000"/>
                    <a:ext cx="0" cy="3146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1" name=""/>
                  <p:cNvSpPr/>
                  <p:nvPr/>
                </p:nvSpPr>
                <p:spPr>
                  <a:xfrm>
                    <a:off x="554040" y="3935160"/>
                    <a:ext cx="133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2" name=""/>
                  <p:cNvSpPr/>
                  <p:nvPr/>
                </p:nvSpPr>
                <p:spPr>
                  <a:xfrm>
                    <a:off x="555480" y="3433680"/>
                    <a:ext cx="133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3" name=""/>
                  <p:cNvSpPr/>
                  <p:nvPr/>
                </p:nvSpPr>
                <p:spPr>
                  <a:xfrm>
                    <a:off x="558720" y="2949480"/>
                    <a:ext cx="133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4" name=""/>
                  <p:cNvSpPr/>
                  <p:nvPr/>
                </p:nvSpPr>
                <p:spPr>
                  <a:xfrm>
                    <a:off x="360" y="2260440"/>
                    <a:ext cx="497880" cy="244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t">
                    <a:spAutoFit/>
                  </a:bodyPr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0.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5" name=""/>
                  <p:cNvSpPr/>
                  <p:nvPr/>
                </p:nvSpPr>
                <p:spPr>
                  <a:xfrm>
                    <a:off x="563760" y="2454120"/>
                    <a:ext cx="133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6" name=""/>
                  <p:cNvSpPr/>
                  <p:nvPr/>
                </p:nvSpPr>
                <p:spPr>
                  <a:xfrm>
                    <a:off x="558720" y="4416120"/>
                    <a:ext cx="133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67" name=""/>
            <p:cNvSpPr/>
            <p:nvPr/>
          </p:nvSpPr>
          <p:spPr>
            <a:xfrm>
              <a:off x="1330200" y="104400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8" name=""/>
          <p:cNvGrpSpPr/>
          <p:nvPr/>
        </p:nvGrpSpPr>
        <p:grpSpPr>
          <a:xfrm>
            <a:off x="3102120" y="283680"/>
            <a:ext cx="3495600" cy="5420160"/>
            <a:chOff x="3102120" y="283680"/>
            <a:chExt cx="3495600" cy="5420160"/>
          </a:xfrm>
        </p:grpSpPr>
        <p:grpSp>
          <p:nvGrpSpPr>
            <p:cNvPr id="4369" name=""/>
            <p:cNvGrpSpPr/>
            <p:nvPr/>
          </p:nvGrpSpPr>
          <p:grpSpPr>
            <a:xfrm>
              <a:off x="3102120" y="1679400"/>
              <a:ext cx="3149280" cy="4024440"/>
              <a:chOff x="3102120" y="1679400"/>
              <a:chExt cx="3149280" cy="4024440"/>
            </a:xfrm>
          </p:grpSpPr>
          <p:pic>
            <p:nvPicPr>
              <p:cNvPr id="43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41720" y="1679400"/>
                <a:ext cx="3109680" cy="40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71" name=""/>
              <p:cNvGrpSpPr/>
              <p:nvPr/>
            </p:nvGrpSpPr>
            <p:grpSpPr>
              <a:xfrm>
                <a:off x="3102120" y="1790640"/>
                <a:ext cx="2777760" cy="3277440"/>
                <a:chOff x="3102120" y="1790640"/>
                <a:chExt cx="2777760" cy="3277440"/>
              </a:xfrm>
            </p:grpSpPr>
            <p:sp>
              <p:nvSpPr>
                <p:cNvPr id="4372" name=""/>
                <p:cNvSpPr/>
                <p:nvPr/>
              </p:nvSpPr>
              <p:spPr>
                <a:xfrm>
                  <a:off x="3612960" y="4707000"/>
                  <a:ext cx="226692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0   0.5   1.0    1.5  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73" name=""/>
                <p:cNvGrpSpPr/>
                <p:nvPr/>
              </p:nvGrpSpPr>
              <p:grpSpPr>
                <a:xfrm>
                  <a:off x="3693960" y="4371840"/>
                  <a:ext cx="1969560" cy="142920"/>
                  <a:chOff x="3693960" y="4371840"/>
                  <a:chExt cx="1969560" cy="142920"/>
                </a:xfrm>
              </p:grpSpPr>
              <p:sp>
                <p:nvSpPr>
                  <p:cNvPr id="4374" name=""/>
                  <p:cNvSpPr/>
                  <p:nvPr/>
                </p:nvSpPr>
                <p:spPr>
                  <a:xfrm>
                    <a:off x="3693960" y="4440240"/>
                    <a:ext cx="1969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5" name=""/>
                  <p:cNvSpPr/>
                  <p:nvPr/>
                </p:nvSpPr>
                <p:spPr>
                  <a:xfrm>
                    <a:off x="4701600" y="4386240"/>
                    <a:ext cx="0" cy="128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6" name=""/>
                  <p:cNvSpPr/>
                  <p:nvPr/>
                </p:nvSpPr>
                <p:spPr>
                  <a:xfrm>
                    <a:off x="3972960" y="4386240"/>
                    <a:ext cx="0" cy="12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7" name=""/>
                  <p:cNvSpPr/>
                  <p:nvPr/>
                </p:nvSpPr>
                <p:spPr>
                  <a:xfrm>
                    <a:off x="4468320" y="4371840"/>
                    <a:ext cx="0" cy="12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8" name=""/>
                  <p:cNvSpPr/>
                  <p:nvPr/>
                </p:nvSpPr>
                <p:spPr>
                  <a:xfrm>
                    <a:off x="4210920" y="4375080"/>
                    <a:ext cx="0" cy="12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9" name=""/>
                  <p:cNvSpPr/>
                  <p:nvPr/>
                </p:nvSpPr>
                <p:spPr>
                  <a:xfrm>
                    <a:off x="4936680" y="4371840"/>
                    <a:ext cx="0" cy="12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0" name=""/>
                <p:cNvGrpSpPr/>
                <p:nvPr/>
              </p:nvGrpSpPr>
              <p:grpSpPr>
                <a:xfrm>
                  <a:off x="3102120" y="1790640"/>
                  <a:ext cx="696240" cy="3146400"/>
                  <a:chOff x="3102120" y="1790640"/>
                  <a:chExt cx="696240" cy="3146400"/>
                </a:xfrm>
              </p:grpSpPr>
              <p:sp>
                <p:nvSpPr>
                  <p:cNvPr id="4381" name=""/>
                  <p:cNvSpPr/>
                  <p:nvPr/>
                </p:nvSpPr>
                <p:spPr>
                  <a:xfrm flipV="1">
                    <a:off x="3727080" y="1790640"/>
                    <a:ext cx="0" cy="314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2" name=""/>
                  <p:cNvSpPr/>
                  <p:nvPr/>
                </p:nvSpPr>
                <p:spPr>
                  <a:xfrm>
                    <a:off x="3655800" y="3952800"/>
                    <a:ext cx="132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3" name=""/>
                  <p:cNvSpPr/>
                  <p:nvPr/>
                </p:nvSpPr>
                <p:spPr>
                  <a:xfrm>
                    <a:off x="3657240" y="3451320"/>
                    <a:ext cx="133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4" name=""/>
                  <p:cNvSpPr/>
                  <p:nvPr/>
                </p:nvSpPr>
                <p:spPr>
                  <a:xfrm>
                    <a:off x="3660480" y="2967120"/>
                    <a:ext cx="133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5" name=""/>
                  <p:cNvSpPr/>
                  <p:nvPr/>
                </p:nvSpPr>
                <p:spPr>
                  <a:xfrm>
                    <a:off x="3102120" y="2278080"/>
                    <a:ext cx="497880" cy="244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t">
                    <a:spAutoFit/>
                  </a:bodyPr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0.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6" name=""/>
                  <p:cNvSpPr/>
                  <p:nvPr/>
                </p:nvSpPr>
                <p:spPr>
                  <a:xfrm>
                    <a:off x="3665520" y="2471760"/>
                    <a:ext cx="132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7" name=""/>
                  <p:cNvSpPr/>
                  <p:nvPr/>
                </p:nvSpPr>
                <p:spPr>
                  <a:xfrm>
                    <a:off x="3660480" y="4433760"/>
                    <a:ext cx="133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88" name=""/>
            <p:cNvSpPr/>
            <p:nvPr/>
          </p:nvSpPr>
          <p:spPr>
            <a:xfrm>
              <a:off x="4233960" y="28368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3306600" y="950760"/>
              <a:ext cx="329112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|Model_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ise_on_dly   Rise_off_dl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EL_1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ns      NA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0" name=""/>
          <p:cNvGrpSpPr/>
          <p:nvPr/>
        </p:nvGrpSpPr>
        <p:grpSpPr>
          <a:xfrm>
            <a:off x="2041560" y="-169560"/>
            <a:ext cx="1265040" cy="1088640"/>
            <a:chOff x="2041560" y="-169560"/>
            <a:chExt cx="1265040" cy="1088640"/>
          </a:xfrm>
        </p:grpSpPr>
        <p:sp>
          <p:nvSpPr>
            <p:cNvPr id="4391" name=""/>
            <p:cNvSpPr/>
            <p:nvPr/>
          </p:nvSpPr>
          <p:spPr>
            <a:xfrm>
              <a:off x="2041560" y="-169560"/>
              <a:ext cx="126504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CML- Preempha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2" name=""/>
            <p:cNvGrpSpPr/>
            <p:nvPr/>
          </p:nvGrpSpPr>
          <p:grpSpPr>
            <a:xfrm>
              <a:off x="2435040" y="663480"/>
              <a:ext cx="612720" cy="254160"/>
              <a:chOff x="2435040" y="663480"/>
              <a:chExt cx="612720" cy="254160"/>
            </a:xfrm>
          </p:grpSpPr>
          <p:grpSp>
            <p:nvGrpSpPr>
              <p:cNvPr id="4393" name=""/>
              <p:cNvGrpSpPr/>
              <p:nvPr/>
            </p:nvGrpSpPr>
            <p:grpSpPr>
              <a:xfrm>
                <a:off x="2435040" y="756360"/>
                <a:ext cx="612720" cy="161280"/>
                <a:chOff x="2435040" y="756360"/>
                <a:chExt cx="612720" cy="161280"/>
              </a:xfrm>
            </p:grpSpPr>
            <p:grpSp>
              <p:nvGrpSpPr>
                <p:cNvPr id="4394" name=""/>
                <p:cNvGrpSpPr/>
                <p:nvPr/>
              </p:nvGrpSpPr>
              <p:grpSpPr>
                <a:xfrm>
                  <a:off x="2435040" y="877680"/>
                  <a:ext cx="612720" cy="39960"/>
                  <a:chOff x="2435040" y="877680"/>
                  <a:chExt cx="612720" cy="39960"/>
                </a:xfrm>
              </p:grpSpPr>
              <p:sp>
                <p:nvSpPr>
                  <p:cNvPr id="4395" name=""/>
                  <p:cNvSpPr/>
                  <p:nvPr/>
                </p:nvSpPr>
                <p:spPr>
                  <a:xfrm>
                    <a:off x="25372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6" name=""/>
                  <p:cNvSpPr/>
                  <p:nvPr/>
                </p:nvSpPr>
                <p:spPr>
                  <a:xfrm>
                    <a:off x="27417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7" name=""/>
                  <p:cNvSpPr/>
                  <p:nvPr/>
                </p:nvSpPr>
                <p:spPr>
                  <a:xfrm>
                    <a:off x="28440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8" name=""/>
                  <p:cNvSpPr/>
                  <p:nvPr/>
                </p:nvSpPr>
                <p:spPr>
                  <a:xfrm>
                    <a:off x="29462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9" name=""/>
                  <p:cNvSpPr/>
                  <p:nvPr/>
                </p:nvSpPr>
                <p:spPr>
                  <a:xfrm>
                    <a:off x="26395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0" name=""/>
                  <p:cNvSpPr/>
                  <p:nvPr/>
                </p:nvSpPr>
                <p:spPr>
                  <a:xfrm>
                    <a:off x="24350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1" name=""/>
                <p:cNvGrpSpPr/>
                <p:nvPr/>
              </p:nvGrpSpPr>
              <p:grpSpPr>
                <a:xfrm>
                  <a:off x="2486160" y="837000"/>
                  <a:ext cx="510480" cy="39960"/>
                  <a:chOff x="2486160" y="837000"/>
                  <a:chExt cx="510480" cy="39960"/>
                </a:xfrm>
              </p:grpSpPr>
              <p:sp>
                <p:nvSpPr>
                  <p:cNvPr id="4402" name=""/>
                  <p:cNvSpPr/>
                  <p:nvPr/>
                </p:nvSpPr>
                <p:spPr>
                  <a:xfrm>
                    <a:off x="24861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3" name=""/>
                  <p:cNvSpPr/>
                  <p:nvPr/>
                </p:nvSpPr>
                <p:spPr>
                  <a:xfrm>
                    <a:off x="26906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4" name=""/>
                  <p:cNvSpPr/>
                  <p:nvPr/>
                </p:nvSpPr>
                <p:spPr>
                  <a:xfrm>
                    <a:off x="27928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5" name=""/>
                  <p:cNvSpPr/>
                  <p:nvPr/>
                </p:nvSpPr>
                <p:spPr>
                  <a:xfrm>
                    <a:off x="28951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6" name=""/>
                  <p:cNvSpPr/>
                  <p:nvPr/>
                </p:nvSpPr>
                <p:spPr>
                  <a:xfrm>
                    <a:off x="25884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7" name=""/>
                <p:cNvGrpSpPr/>
                <p:nvPr/>
              </p:nvGrpSpPr>
              <p:grpSpPr>
                <a:xfrm>
                  <a:off x="2537280" y="756360"/>
                  <a:ext cx="408240" cy="80280"/>
                  <a:chOff x="2537280" y="756360"/>
                  <a:chExt cx="408240" cy="80280"/>
                </a:xfrm>
              </p:grpSpPr>
              <p:sp>
                <p:nvSpPr>
                  <p:cNvPr id="4408" name=""/>
                  <p:cNvSpPr/>
                  <p:nvPr/>
                </p:nvSpPr>
                <p:spPr>
                  <a:xfrm>
                    <a:off x="26395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9" name=""/>
                  <p:cNvSpPr/>
                  <p:nvPr/>
                </p:nvSpPr>
                <p:spPr>
                  <a:xfrm>
                    <a:off x="28440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0" name=""/>
                  <p:cNvSpPr/>
                  <p:nvPr/>
                </p:nvSpPr>
                <p:spPr>
                  <a:xfrm>
                    <a:off x="27417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1" name=""/>
                  <p:cNvSpPr/>
                  <p:nvPr/>
                </p:nvSpPr>
                <p:spPr>
                  <a:xfrm>
                    <a:off x="25372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2" name=""/>
                  <p:cNvSpPr/>
                  <p:nvPr/>
                </p:nvSpPr>
                <p:spPr>
                  <a:xfrm>
                    <a:off x="25884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3" name=""/>
                  <p:cNvSpPr/>
                  <p:nvPr/>
                </p:nvSpPr>
                <p:spPr>
                  <a:xfrm>
                    <a:off x="27928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4" name=""/>
                  <p:cNvSpPr/>
                  <p:nvPr/>
                </p:nvSpPr>
                <p:spPr>
                  <a:xfrm>
                    <a:off x="26906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5" name=""/>
              <p:cNvGrpSpPr/>
              <p:nvPr/>
            </p:nvGrpSpPr>
            <p:grpSpPr>
              <a:xfrm>
                <a:off x="2666160" y="756360"/>
                <a:ext cx="152280" cy="160200"/>
                <a:chOff x="2666160" y="756360"/>
                <a:chExt cx="152280" cy="160200"/>
              </a:xfrm>
            </p:grpSpPr>
            <p:grpSp>
              <p:nvGrpSpPr>
                <p:cNvPr id="4416" name=""/>
                <p:cNvGrpSpPr/>
                <p:nvPr/>
              </p:nvGrpSpPr>
              <p:grpSpPr>
                <a:xfrm>
                  <a:off x="2666160" y="877320"/>
                  <a:ext cx="152280" cy="39240"/>
                  <a:chOff x="2666160" y="877320"/>
                  <a:chExt cx="152280" cy="39240"/>
                </a:xfrm>
              </p:grpSpPr>
              <p:sp>
                <p:nvSpPr>
                  <p:cNvPr id="4417" name=""/>
                  <p:cNvSpPr/>
                  <p:nvPr/>
                </p:nvSpPr>
                <p:spPr>
                  <a:xfrm>
                    <a:off x="26722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8" name=""/>
                  <p:cNvSpPr/>
                  <p:nvPr/>
                </p:nvSpPr>
                <p:spPr>
                  <a:xfrm>
                    <a:off x="26661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9" name=""/>
                  <p:cNvSpPr/>
                  <p:nvPr/>
                </p:nvSpPr>
                <p:spPr>
                  <a:xfrm>
                    <a:off x="26787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0" name=""/>
                <p:cNvGrpSpPr/>
                <p:nvPr/>
              </p:nvGrpSpPr>
              <p:grpSpPr>
                <a:xfrm>
                  <a:off x="2684880" y="837000"/>
                  <a:ext cx="114120" cy="39240"/>
                  <a:chOff x="2684880" y="837000"/>
                  <a:chExt cx="114120" cy="39240"/>
                </a:xfrm>
              </p:grpSpPr>
              <p:sp>
                <p:nvSpPr>
                  <p:cNvPr id="4421" name=""/>
                  <p:cNvSpPr/>
                  <p:nvPr/>
                </p:nvSpPr>
                <p:spPr>
                  <a:xfrm>
                    <a:off x="26895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2" name=""/>
                  <p:cNvSpPr/>
                  <p:nvPr/>
                </p:nvSpPr>
                <p:spPr>
                  <a:xfrm>
                    <a:off x="26848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3" name=""/>
                  <p:cNvSpPr/>
                  <p:nvPr/>
                </p:nvSpPr>
                <p:spPr>
                  <a:xfrm>
                    <a:off x="26942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4" name=""/>
                <p:cNvGrpSpPr/>
                <p:nvPr/>
              </p:nvGrpSpPr>
              <p:grpSpPr>
                <a:xfrm>
                  <a:off x="2697840" y="796680"/>
                  <a:ext cx="88920" cy="39240"/>
                  <a:chOff x="2697840" y="796680"/>
                  <a:chExt cx="88920" cy="39240"/>
                </a:xfrm>
              </p:grpSpPr>
              <p:sp>
                <p:nvSpPr>
                  <p:cNvPr id="4425" name=""/>
                  <p:cNvSpPr/>
                  <p:nvPr/>
                </p:nvSpPr>
                <p:spPr>
                  <a:xfrm>
                    <a:off x="27014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6" name=""/>
                  <p:cNvSpPr/>
                  <p:nvPr/>
                </p:nvSpPr>
                <p:spPr>
                  <a:xfrm>
                    <a:off x="26978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7" name=""/>
                  <p:cNvSpPr/>
                  <p:nvPr/>
                </p:nvSpPr>
                <p:spPr>
                  <a:xfrm>
                    <a:off x="27050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8" name=""/>
                <p:cNvGrpSpPr/>
                <p:nvPr/>
              </p:nvGrpSpPr>
              <p:grpSpPr>
                <a:xfrm>
                  <a:off x="2710440" y="756360"/>
                  <a:ext cx="63360" cy="39240"/>
                  <a:chOff x="2710440" y="756360"/>
                  <a:chExt cx="63360" cy="39240"/>
                </a:xfrm>
              </p:grpSpPr>
              <p:sp>
                <p:nvSpPr>
                  <p:cNvPr id="4429" name=""/>
                  <p:cNvSpPr/>
                  <p:nvPr/>
                </p:nvSpPr>
                <p:spPr>
                  <a:xfrm>
                    <a:off x="27129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0" name=""/>
                  <p:cNvSpPr/>
                  <p:nvPr/>
                </p:nvSpPr>
                <p:spPr>
                  <a:xfrm>
                    <a:off x="27104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1" name=""/>
                  <p:cNvSpPr/>
                  <p:nvPr/>
                </p:nvSpPr>
                <p:spPr>
                  <a:xfrm>
                    <a:off x="27154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32" name=""/>
              <p:cNvSpPr/>
              <p:nvPr/>
            </p:nvSpPr>
            <p:spPr>
              <a:xfrm>
                <a:off x="26143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33" name=""/>
              <p:cNvGrpSpPr/>
              <p:nvPr/>
            </p:nvGrpSpPr>
            <p:grpSpPr>
              <a:xfrm>
                <a:off x="2649600" y="726120"/>
                <a:ext cx="183960" cy="28440"/>
                <a:chOff x="2649600" y="726120"/>
                <a:chExt cx="183960" cy="28440"/>
              </a:xfrm>
            </p:grpSpPr>
            <p:sp>
              <p:nvSpPr>
                <p:cNvPr id="4434" name=""/>
                <p:cNvSpPr/>
                <p:nvPr/>
              </p:nvSpPr>
              <p:spPr>
                <a:xfrm>
                  <a:off x="26496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5" name=""/>
                <p:cNvSpPr/>
                <p:nvPr/>
              </p:nvSpPr>
              <p:spPr>
                <a:xfrm>
                  <a:off x="26895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6" name=""/>
                <p:cNvSpPr/>
                <p:nvPr/>
              </p:nvSpPr>
              <p:spPr>
                <a:xfrm>
                  <a:off x="28083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7" name=""/>
                <p:cNvSpPr/>
                <p:nvPr/>
              </p:nvSpPr>
              <p:spPr>
                <a:xfrm>
                  <a:off x="27680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8" name=""/>
                <p:cNvSpPr/>
                <p:nvPr/>
              </p:nvSpPr>
              <p:spPr>
                <a:xfrm>
                  <a:off x="27280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9" name=""/>
              <p:cNvSpPr/>
              <p:nvPr/>
            </p:nvSpPr>
            <p:spPr>
              <a:xfrm>
                <a:off x="26071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 flipV="1">
                <a:off x="26125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26200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2" name=""/>
          <p:cNvGrpSpPr/>
          <p:nvPr/>
        </p:nvGrpSpPr>
        <p:grpSpPr>
          <a:xfrm>
            <a:off x="5985000" y="223200"/>
            <a:ext cx="3159000" cy="5480640"/>
            <a:chOff x="5985000" y="223200"/>
            <a:chExt cx="3159000" cy="5480640"/>
          </a:xfrm>
        </p:grpSpPr>
        <p:sp>
          <p:nvSpPr>
            <p:cNvPr id="4443" name=""/>
            <p:cNvSpPr/>
            <p:nvPr/>
          </p:nvSpPr>
          <p:spPr>
            <a:xfrm>
              <a:off x="7102440" y="4670280"/>
              <a:ext cx="0" cy="1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8070840" y="46562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5" name=""/>
            <p:cNvGrpSpPr/>
            <p:nvPr/>
          </p:nvGrpSpPr>
          <p:grpSpPr>
            <a:xfrm>
              <a:off x="5985000" y="1679400"/>
              <a:ext cx="3159000" cy="4024440"/>
              <a:chOff x="5985000" y="1679400"/>
              <a:chExt cx="3159000" cy="4024440"/>
            </a:xfrm>
          </p:grpSpPr>
          <p:pic>
            <p:nvPicPr>
              <p:cNvPr id="44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33960" y="1679400"/>
                <a:ext cx="3110040" cy="40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47" name=""/>
              <p:cNvGrpSpPr/>
              <p:nvPr/>
            </p:nvGrpSpPr>
            <p:grpSpPr>
              <a:xfrm>
                <a:off x="5985000" y="1784160"/>
                <a:ext cx="2777760" cy="3277440"/>
                <a:chOff x="5985000" y="1784160"/>
                <a:chExt cx="2777760" cy="3277440"/>
              </a:xfrm>
            </p:grpSpPr>
            <p:sp>
              <p:nvSpPr>
                <p:cNvPr id="4448" name=""/>
                <p:cNvSpPr/>
                <p:nvPr/>
              </p:nvSpPr>
              <p:spPr>
                <a:xfrm>
                  <a:off x="6495840" y="4700520"/>
                  <a:ext cx="226692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0   0.5   1.0    1.5  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49" name=""/>
                <p:cNvGrpSpPr/>
                <p:nvPr/>
              </p:nvGrpSpPr>
              <p:grpSpPr>
                <a:xfrm>
                  <a:off x="6576840" y="4365360"/>
                  <a:ext cx="1969560" cy="142200"/>
                  <a:chOff x="6576840" y="4365360"/>
                  <a:chExt cx="1969560" cy="142200"/>
                </a:xfrm>
              </p:grpSpPr>
              <p:sp>
                <p:nvSpPr>
                  <p:cNvPr id="4450" name=""/>
                  <p:cNvSpPr/>
                  <p:nvPr/>
                </p:nvSpPr>
                <p:spPr>
                  <a:xfrm>
                    <a:off x="6576840" y="4433400"/>
                    <a:ext cx="1969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1" name=""/>
                  <p:cNvSpPr/>
                  <p:nvPr/>
                </p:nvSpPr>
                <p:spPr>
                  <a:xfrm>
                    <a:off x="7584480" y="4379400"/>
                    <a:ext cx="0" cy="128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2" name=""/>
                  <p:cNvSpPr/>
                  <p:nvPr/>
                </p:nvSpPr>
                <p:spPr>
                  <a:xfrm>
                    <a:off x="6855840" y="4379400"/>
                    <a:ext cx="0" cy="1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3" name=""/>
                  <p:cNvSpPr/>
                  <p:nvPr/>
                </p:nvSpPr>
                <p:spPr>
                  <a:xfrm>
                    <a:off x="7351200" y="4365360"/>
                    <a:ext cx="0" cy="1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4" name=""/>
                  <p:cNvSpPr/>
                  <p:nvPr/>
                </p:nvSpPr>
                <p:spPr>
                  <a:xfrm>
                    <a:off x="7093800" y="4368240"/>
                    <a:ext cx="0" cy="12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5" name=""/>
                  <p:cNvSpPr/>
                  <p:nvPr/>
                </p:nvSpPr>
                <p:spPr>
                  <a:xfrm>
                    <a:off x="7819560" y="4365360"/>
                    <a:ext cx="0" cy="1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6" name=""/>
                <p:cNvGrpSpPr/>
                <p:nvPr/>
              </p:nvGrpSpPr>
              <p:grpSpPr>
                <a:xfrm>
                  <a:off x="5985000" y="1784160"/>
                  <a:ext cx="696240" cy="3146040"/>
                  <a:chOff x="5985000" y="1784160"/>
                  <a:chExt cx="696240" cy="3146040"/>
                </a:xfrm>
              </p:grpSpPr>
              <p:sp>
                <p:nvSpPr>
                  <p:cNvPr id="4457" name=""/>
                  <p:cNvSpPr/>
                  <p:nvPr/>
                </p:nvSpPr>
                <p:spPr>
                  <a:xfrm flipV="1">
                    <a:off x="6609960" y="1784160"/>
                    <a:ext cx="0" cy="3146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8" name=""/>
                  <p:cNvSpPr/>
                  <p:nvPr/>
                </p:nvSpPr>
                <p:spPr>
                  <a:xfrm>
                    <a:off x="6538680" y="3946320"/>
                    <a:ext cx="132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9" name=""/>
                  <p:cNvSpPr/>
                  <p:nvPr/>
                </p:nvSpPr>
                <p:spPr>
                  <a:xfrm>
                    <a:off x="6540120" y="3444840"/>
                    <a:ext cx="133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0" name=""/>
                  <p:cNvSpPr/>
                  <p:nvPr/>
                </p:nvSpPr>
                <p:spPr>
                  <a:xfrm>
                    <a:off x="6543360" y="2960640"/>
                    <a:ext cx="133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1" name=""/>
                  <p:cNvSpPr/>
                  <p:nvPr/>
                </p:nvSpPr>
                <p:spPr>
                  <a:xfrm>
                    <a:off x="5985000" y="2271600"/>
                    <a:ext cx="497880" cy="244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t">
                    <a:spAutoFit/>
                  </a:bodyPr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0.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2" name=""/>
                  <p:cNvSpPr/>
                  <p:nvPr/>
                </p:nvSpPr>
                <p:spPr>
                  <a:xfrm>
                    <a:off x="6548400" y="2465280"/>
                    <a:ext cx="132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3" name=""/>
                  <p:cNvSpPr/>
                  <p:nvPr/>
                </p:nvSpPr>
                <p:spPr>
                  <a:xfrm>
                    <a:off x="6543360" y="4427280"/>
                    <a:ext cx="133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464" name=""/>
            <p:cNvSpPr/>
            <p:nvPr/>
          </p:nvSpPr>
          <p:spPr>
            <a:xfrm>
              <a:off x="6148440" y="727200"/>
              <a:ext cx="2995560" cy="12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|Model_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ise_on_dly  Rise_off_dl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EL_1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ns      N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EL_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0ns     0.8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7115040" y="223200"/>
              <a:ext cx="57816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6" name=""/>
          <p:cNvGrpSpPr/>
          <p:nvPr/>
        </p:nvGrpSpPr>
        <p:grpSpPr>
          <a:xfrm>
            <a:off x="353880" y="5460840"/>
            <a:ext cx="8269200" cy="855360"/>
            <a:chOff x="353880" y="5460840"/>
            <a:chExt cx="8269200" cy="855360"/>
          </a:xfrm>
        </p:grpSpPr>
        <p:sp>
          <p:nvSpPr>
            <p:cNvPr id="4467" name=""/>
            <p:cNvSpPr/>
            <p:nvPr/>
          </p:nvSpPr>
          <p:spPr>
            <a:xfrm>
              <a:off x="353880" y="5460840"/>
              <a:ext cx="82692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load was a 3 inch transmission line with  Rload 50 to 1P5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river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 of 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4989600" y="6151320"/>
              <a:ext cx="90396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1614960" y="6162480"/>
              <a:ext cx="9036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0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results with comment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4471" name=""/>
          <p:cNvGrpSpPr/>
          <p:nvPr/>
        </p:nvGrpSpPr>
        <p:grpSpPr>
          <a:xfrm>
            <a:off x="-34560" y="1679400"/>
            <a:ext cx="3144600" cy="4024440"/>
            <a:chOff x="-34560" y="1679400"/>
            <a:chExt cx="3144600" cy="4024440"/>
          </a:xfrm>
        </p:grpSpPr>
        <p:grpSp>
          <p:nvGrpSpPr>
            <p:cNvPr id="4472" name=""/>
            <p:cNvGrpSpPr/>
            <p:nvPr/>
          </p:nvGrpSpPr>
          <p:grpSpPr>
            <a:xfrm>
              <a:off x="-34560" y="1679400"/>
              <a:ext cx="3144600" cy="4024440"/>
              <a:chOff x="-34560" y="1679400"/>
              <a:chExt cx="3144600" cy="4024440"/>
            </a:xfrm>
          </p:grpSpPr>
          <p:pic>
            <p:nvPicPr>
              <p:cNvPr id="44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679400"/>
                <a:ext cx="3110040" cy="40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74" name=""/>
              <p:cNvGrpSpPr/>
              <p:nvPr/>
            </p:nvGrpSpPr>
            <p:grpSpPr>
              <a:xfrm>
                <a:off x="-34560" y="1773000"/>
                <a:ext cx="2777760" cy="3277440"/>
                <a:chOff x="-34560" y="1773000"/>
                <a:chExt cx="2777760" cy="3277440"/>
              </a:xfrm>
            </p:grpSpPr>
            <p:sp>
              <p:nvSpPr>
                <p:cNvPr id="4475" name=""/>
                <p:cNvSpPr/>
                <p:nvPr/>
              </p:nvSpPr>
              <p:spPr>
                <a:xfrm>
                  <a:off x="476280" y="4689360"/>
                  <a:ext cx="226692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0   0.5   1.0    1.5  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76" name=""/>
                <p:cNvGrpSpPr/>
                <p:nvPr/>
              </p:nvGrpSpPr>
              <p:grpSpPr>
                <a:xfrm>
                  <a:off x="557280" y="4354200"/>
                  <a:ext cx="1969920" cy="142200"/>
                  <a:chOff x="557280" y="4354200"/>
                  <a:chExt cx="1969920" cy="142200"/>
                </a:xfrm>
              </p:grpSpPr>
              <p:sp>
                <p:nvSpPr>
                  <p:cNvPr id="4477" name=""/>
                  <p:cNvSpPr/>
                  <p:nvPr/>
                </p:nvSpPr>
                <p:spPr>
                  <a:xfrm>
                    <a:off x="557280" y="4422240"/>
                    <a:ext cx="1969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8" name=""/>
                  <p:cNvSpPr/>
                  <p:nvPr/>
                </p:nvSpPr>
                <p:spPr>
                  <a:xfrm>
                    <a:off x="1565280" y="4368240"/>
                    <a:ext cx="0" cy="128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9" name=""/>
                  <p:cNvSpPr/>
                  <p:nvPr/>
                </p:nvSpPr>
                <p:spPr>
                  <a:xfrm>
                    <a:off x="836640" y="4368240"/>
                    <a:ext cx="0" cy="1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0" name=""/>
                  <p:cNvSpPr/>
                  <p:nvPr/>
                </p:nvSpPr>
                <p:spPr>
                  <a:xfrm>
                    <a:off x="1332000" y="4354200"/>
                    <a:ext cx="0" cy="1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1" name=""/>
                  <p:cNvSpPr/>
                  <p:nvPr/>
                </p:nvSpPr>
                <p:spPr>
                  <a:xfrm>
                    <a:off x="1074600" y="4357080"/>
                    <a:ext cx="0" cy="12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2" name=""/>
                  <p:cNvSpPr/>
                  <p:nvPr/>
                </p:nvSpPr>
                <p:spPr>
                  <a:xfrm>
                    <a:off x="1800360" y="4354200"/>
                    <a:ext cx="0" cy="1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3" name=""/>
                <p:cNvGrpSpPr/>
                <p:nvPr/>
              </p:nvGrpSpPr>
              <p:grpSpPr>
                <a:xfrm>
                  <a:off x="-34560" y="1773000"/>
                  <a:ext cx="696600" cy="3146040"/>
                  <a:chOff x="-34560" y="1773000"/>
                  <a:chExt cx="696600" cy="3146040"/>
                </a:xfrm>
              </p:grpSpPr>
              <p:sp>
                <p:nvSpPr>
                  <p:cNvPr id="4484" name=""/>
                  <p:cNvSpPr/>
                  <p:nvPr/>
                </p:nvSpPr>
                <p:spPr>
                  <a:xfrm flipV="1">
                    <a:off x="590400" y="1773000"/>
                    <a:ext cx="0" cy="3146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5" name=""/>
                  <p:cNvSpPr/>
                  <p:nvPr/>
                </p:nvSpPr>
                <p:spPr>
                  <a:xfrm>
                    <a:off x="519120" y="3935160"/>
                    <a:ext cx="133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6" name=""/>
                  <p:cNvSpPr/>
                  <p:nvPr/>
                </p:nvSpPr>
                <p:spPr>
                  <a:xfrm>
                    <a:off x="520560" y="3433680"/>
                    <a:ext cx="133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7" name=""/>
                  <p:cNvSpPr/>
                  <p:nvPr/>
                </p:nvSpPr>
                <p:spPr>
                  <a:xfrm>
                    <a:off x="523800" y="2949480"/>
                    <a:ext cx="133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8" name=""/>
                  <p:cNvSpPr/>
                  <p:nvPr/>
                </p:nvSpPr>
                <p:spPr>
                  <a:xfrm>
                    <a:off x="-34560" y="2260440"/>
                    <a:ext cx="497880" cy="244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t">
                    <a:spAutoFit/>
                  </a:bodyPr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0.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9" name=""/>
                  <p:cNvSpPr/>
                  <p:nvPr/>
                </p:nvSpPr>
                <p:spPr>
                  <a:xfrm>
                    <a:off x="528840" y="2454120"/>
                    <a:ext cx="133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0" name=""/>
                  <p:cNvSpPr/>
                  <p:nvPr/>
                </p:nvSpPr>
                <p:spPr>
                  <a:xfrm>
                    <a:off x="523800" y="4416120"/>
                    <a:ext cx="133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491" name=""/>
            <p:cNvSpPr/>
            <p:nvPr/>
          </p:nvSpPr>
          <p:spPr>
            <a:xfrm>
              <a:off x="1492200" y="1802880"/>
              <a:ext cx="57780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2" name=""/>
          <p:cNvGrpSpPr/>
          <p:nvPr/>
        </p:nvGrpSpPr>
        <p:grpSpPr>
          <a:xfrm>
            <a:off x="3102120" y="1679400"/>
            <a:ext cx="3149280" cy="4024440"/>
            <a:chOff x="3102120" y="1679400"/>
            <a:chExt cx="3149280" cy="4024440"/>
          </a:xfrm>
        </p:grpSpPr>
        <p:grpSp>
          <p:nvGrpSpPr>
            <p:cNvPr id="4493" name=""/>
            <p:cNvGrpSpPr/>
            <p:nvPr/>
          </p:nvGrpSpPr>
          <p:grpSpPr>
            <a:xfrm>
              <a:off x="3102120" y="1679400"/>
              <a:ext cx="3149280" cy="4024440"/>
              <a:chOff x="3102120" y="1679400"/>
              <a:chExt cx="3149280" cy="4024440"/>
            </a:xfrm>
          </p:grpSpPr>
          <p:pic>
            <p:nvPicPr>
              <p:cNvPr id="449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41720" y="1679400"/>
                <a:ext cx="3109680" cy="40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95" name=""/>
              <p:cNvGrpSpPr/>
              <p:nvPr/>
            </p:nvGrpSpPr>
            <p:grpSpPr>
              <a:xfrm>
                <a:off x="3102120" y="1790640"/>
                <a:ext cx="2777760" cy="3277440"/>
                <a:chOff x="3102120" y="1790640"/>
                <a:chExt cx="2777760" cy="3277440"/>
              </a:xfrm>
            </p:grpSpPr>
            <p:sp>
              <p:nvSpPr>
                <p:cNvPr id="4496" name=""/>
                <p:cNvSpPr/>
                <p:nvPr/>
              </p:nvSpPr>
              <p:spPr>
                <a:xfrm>
                  <a:off x="3612960" y="4707000"/>
                  <a:ext cx="226692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0   0.5   1.0    1.5  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97" name=""/>
                <p:cNvGrpSpPr/>
                <p:nvPr/>
              </p:nvGrpSpPr>
              <p:grpSpPr>
                <a:xfrm>
                  <a:off x="3693960" y="4371840"/>
                  <a:ext cx="1969560" cy="142920"/>
                  <a:chOff x="3693960" y="4371840"/>
                  <a:chExt cx="1969560" cy="142920"/>
                </a:xfrm>
              </p:grpSpPr>
              <p:sp>
                <p:nvSpPr>
                  <p:cNvPr id="4498" name=""/>
                  <p:cNvSpPr/>
                  <p:nvPr/>
                </p:nvSpPr>
                <p:spPr>
                  <a:xfrm>
                    <a:off x="3693960" y="4440240"/>
                    <a:ext cx="1969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9" name=""/>
                  <p:cNvSpPr/>
                  <p:nvPr/>
                </p:nvSpPr>
                <p:spPr>
                  <a:xfrm>
                    <a:off x="4701600" y="4386240"/>
                    <a:ext cx="0" cy="128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0" name=""/>
                  <p:cNvSpPr/>
                  <p:nvPr/>
                </p:nvSpPr>
                <p:spPr>
                  <a:xfrm>
                    <a:off x="3972960" y="4386240"/>
                    <a:ext cx="0" cy="12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1" name=""/>
                  <p:cNvSpPr/>
                  <p:nvPr/>
                </p:nvSpPr>
                <p:spPr>
                  <a:xfrm>
                    <a:off x="4468320" y="4371840"/>
                    <a:ext cx="0" cy="12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2" name=""/>
                  <p:cNvSpPr/>
                  <p:nvPr/>
                </p:nvSpPr>
                <p:spPr>
                  <a:xfrm>
                    <a:off x="4210920" y="4375080"/>
                    <a:ext cx="0" cy="12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3" name=""/>
                  <p:cNvSpPr/>
                  <p:nvPr/>
                </p:nvSpPr>
                <p:spPr>
                  <a:xfrm>
                    <a:off x="4936680" y="4371840"/>
                    <a:ext cx="0" cy="12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4" name=""/>
                <p:cNvGrpSpPr/>
                <p:nvPr/>
              </p:nvGrpSpPr>
              <p:grpSpPr>
                <a:xfrm>
                  <a:off x="3102120" y="1790640"/>
                  <a:ext cx="696240" cy="3146400"/>
                  <a:chOff x="3102120" y="1790640"/>
                  <a:chExt cx="696240" cy="3146400"/>
                </a:xfrm>
              </p:grpSpPr>
              <p:sp>
                <p:nvSpPr>
                  <p:cNvPr id="4505" name=""/>
                  <p:cNvSpPr/>
                  <p:nvPr/>
                </p:nvSpPr>
                <p:spPr>
                  <a:xfrm flipV="1">
                    <a:off x="3727080" y="1790640"/>
                    <a:ext cx="0" cy="314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6" name=""/>
                  <p:cNvSpPr/>
                  <p:nvPr/>
                </p:nvSpPr>
                <p:spPr>
                  <a:xfrm>
                    <a:off x="3655800" y="3952800"/>
                    <a:ext cx="132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7" name=""/>
                  <p:cNvSpPr/>
                  <p:nvPr/>
                </p:nvSpPr>
                <p:spPr>
                  <a:xfrm>
                    <a:off x="3657240" y="3451320"/>
                    <a:ext cx="133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8" name=""/>
                  <p:cNvSpPr/>
                  <p:nvPr/>
                </p:nvSpPr>
                <p:spPr>
                  <a:xfrm>
                    <a:off x="3660480" y="2967120"/>
                    <a:ext cx="133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9" name=""/>
                  <p:cNvSpPr/>
                  <p:nvPr/>
                </p:nvSpPr>
                <p:spPr>
                  <a:xfrm>
                    <a:off x="3102120" y="2278080"/>
                    <a:ext cx="497880" cy="244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t">
                    <a:spAutoFit/>
                  </a:bodyPr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"/>
                      </a:spcBef>
                      <a:spcAft>
                        <a:spcPts val="15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337"/>
                      </a:spcBef>
                      <a:spcAft>
                        <a:spcPts val="337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0.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0" name=""/>
                  <p:cNvSpPr/>
                  <p:nvPr/>
                </p:nvSpPr>
                <p:spPr>
                  <a:xfrm>
                    <a:off x="3665520" y="2471760"/>
                    <a:ext cx="132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1" name=""/>
                  <p:cNvSpPr/>
                  <p:nvPr/>
                </p:nvSpPr>
                <p:spPr>
                  <a:xfrm>
                    <a:off x="3660480" y="4433760"/>
                    <a:ext cx="133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512" name=""/>
            <p:cNvSpPr/>
            <p:nvPr/>
          </p:nvSpPr>
          <p:spPr>
            <a:xfrm>
              <a:off x="3868560" y="1985400"/>
              <a:ext cx="578160" cy="639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3" name=""/>
          <p:cNvGrpSpPr/>
          <p:nvPr/>
        </p:nvGrpSpPr>
        <p:grpSpPr>
          <a:xfrm>
            <a:off x="7284960" y="-170640"/>
            <a:ext cx="1859040" cy="763920"/>
            <a:chOff x="7284960" y="-170640"/>
            <a:chExt cx="1859040" cy="763920"/>
          </a:xfrm>
        </p:grpSpPr>
        <p:sp>
          <p:nvSpPr>
            <p:cNvPr id="4514" name=""/>
            <p:cNvSpPr/>
            <p:nvPr/>
          </p:nvSpPr>
          <p:spPr>
            <a:xfrm>
              <a:off x="7284960" y="-170640"/>
              <a:ext cx="1859040" cy="76392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CML- Preempha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5" name=""/>
            <p:cNvGrpSpPr/>
            <p:nvPr/>
          </p:nvGrpSpPr>
          <p:grpSpPr>
            <a:xfrm>
              <a:off x="8059680" y="417600"/>
              <a:ext cx="307800" cy="127080"/>
              <a:chOff x="8059680" y="417600"/>
              <a:chExt cx="307800" cy="127080"/>
            </a:xfrm>
          </p:grpSpPr>
          <p:grpSp>
            <p:nvGrpSpPr>
              <p:cNvPr id="4516" name=""/>
              <p:cNvGrpSpPr/>
              <p:nvPr/>
            </p:nvGrpSpPr>
            <p:grpSpPr>
              <a:xfrm>
                <a:off x="8059680" y="464040"/>
                <a:ext cx="307800" cy="80640"/>
                <a:chOff x="8059680" y="464040"/>
                <a:chExt cx="307800" cy="80640"/>
              </a:xfrm>
            </p:grpSpPr>
            <p:grpSp>
              <p:nvGrpSpPr>
                <p:cNvPr id="4517" name=""/>
                <p:cNvGrpSpPr/>
                <p:nvPr/>
              </p:nvGrpSpPr>
              <p:grpSpPr>
                <a:xfrm>
                  <a:off x="8059680" y="524880"/>
                  <a:ext cx="307800" cy="19800"/>
                  <a:chOff x="8059680" y="524880"/>
                  <a:chExt cx="307800" cy="19800"/>
                </a:xfrm>
              </p:grpSpPr>
              <p:sp>
                <p:nvSpPr>
                  <p:cNvPr id="4518" name=""/>
                  <p:cNvSpPr/>
                  <p:nvPr/>
                </p:nvSpPr>
                <p:spPr>
                  <a:xfrm>
                    <a:off x="8110800" y="524880"/>
                    <a:ext cx="50760" cy="19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9" name=""/>
                  <p:cNvSpPr/>
                  <p:nvPr/>
                </p:nvSpPr>
                <p:spPr>
                  <a:xfrm>
                    <a:off x="8213760" y="524880"/>
                    <a:ext cx="51120" cy="19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0" name=""/>
                  <p:cNvSpPr/>
                  <p:nvPr/>
                </p:nvSpPr>
                <p:spPr>
                  <a:xfrm>
                    <a:off x="8265240" y="524880"/>
                    <a:ext cx="50760" cy="19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1" name=""/>
                  <p:cNvSpPr/>
                  <p:nvPr/>
                </p:nvSpPr>
                <p:spPr>
                  <a:xfrm>
                    <a:off x="8316360" y="524880"/>
                    <a:ext cx="51120" cy="19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2" name=""/>
                  <p:cNvSpPr/>
                  <p:nvPr/>
                </p:nvSpPr>
                <p:spPr>
                  <a:xfrm>
                    <a:off x="8162280" y="524880"/>
                    <a:ext cx="51120" cy="19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3" name=""/>
                  <p:cNvSpPr/>
                  <p:nvPr/>
                </p:nvSpPr>
                <p:spPr>
                  <a:xfrm>
                    <a:off x="8059680" y="524880"/>
                    <a:ext cx="51120" cy="19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4" name=""/>
                <p:cNvGrpSpPr/>
                <p:nvPr/>
              </p:nvGrpSpPr>
              <p:grpSpPr>
                <a:xfrm>
                  <a:off x="8085240" y="504360"/>
                  <a:ext cx="256680" cy="19800"/>
                  <a:chOff x="8085240" y="504360"/>
                  <a:chExt cx="256680" cy="19800"/>
                </a:xfrm>
              </p:grpSpPr>
              <p:sp>
                <p:nvSpPr>
                  <p:cNvPr id="4525" name=""/>
                  <p:cNvSpPr/>
                  <p:nvPr/>
                </p:nvSpPr>
                <p:spPr>
                  <a:xfrm>
                    <a:off x="8085240" y="504360"/>
                    <a:ext cx="51120" cy="19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6" name=""/>
                  <p:cNvSpPr/>
                  <p:nvPr/>
                </p:nvSpPr>
                <p:spPr>
                  <a:xfrm>
                    <a:off x="8187840" y="504360"/>
                    <a:ext cx="51120" cy="19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7" name=""/>
                  <p:cNvSpPr/>
                  <p:nvPr/>
                </p:nvSpPr>
                <p:spPr>
                  <a:xfrm>
                    <a:off x="8239320" y="504360"/>
                    <a:ext cx="51120" cy="19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8" name=""/>
                  <p:cNvSpPr/>
                  <p:nvPr/>
                </p:nvSpPr>
                <p:spPr>
                  <a:xfrm>
                    <a:off x="8290800" y="504360"/>
                    <a:ext cx="51120" cy="19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9" name=""/>
                  <p:cNvSpPr/>
                  <p:nvPr/>
                </p:nvSpPr>
                <p:spPr>
                  <a:xfrm>
                    <a:off x="8136360" y="504360"/>
                    <a:ext cx="51120" cy="19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0" name=""/>
                <p:cNvGrpSpPr/>
                <p:nvPr/>
              </p:nvGrpSpPr>
              <p:grpSpPr>
                <a:xfrm>
                  <a:off x="8111160" y="464040"/>
                  <a:ext cx="205200" cy="40320"/>
                  <a:chOff x="8111160" y="464040"/>
                  <a:chExt cx="205200" cy="40320"/>
                </a:xfrm>
              </p:grpSpPr>
              <p:sp>
                <p:nvSpPr>
                  <p:cNvPr id="4531" name=""/>
                  <p:cNvSpPr/>
                  <p:nvPr/>
                </p:nvSpPr>
                <p:spPr>
                  <a:xfrm>
                    <a:off x="8162280" y="484200"/>
                    <a:ext cx="51120" cy="201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2" name=""/>
                  <p:cNvSpPr/>
                  <p:nvPr/>
                </p:nvSpPr>
                <p:spPr>
                  <a:xfrm>
                    <a:off x="8265240" y="484200"/>
                    <a:ext cx="51120" cy="201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3" name=""/>
                  <p:cNvSpPr/>
                  <p:nvPr/>
                </p:nvSpPr>
                <p:spPr>
                  <a:xfrm>
                    <a:off x="8213760" y="484200"/>
                    <a:ext cx="51120" cy="201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4" name=""/>
                  <p:cNvSpPr/>
                  <p:nvPr/>
                </p:nvSpPr>
                <p:spPr>
                  <a:xfrm>
                    <a:off x="8111160" y="484200"/>
                    <a:ext cx="51120" cy="201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5" name=""/>
                  <p:cNvSpPr/>
                  <p:nvPr/>
                </p:nvSpPr>
                <p:spPr>
                  <a:xfrm>
                    <a:off x="8136720" y="464040"/>
                    <a:ext cx="51120" cy="201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6" name=""/>
                  <p:cNvSpPr/>
                  <p:nvPr/>
                </p:nvSpPr>
                <p:spPr>
                  <a:xfrm>
                    <a:off x="8239680" y="464040"/>
                    <a:ext cx="51120" cy="201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7" name=""/>
                  <p:cNvSpPr/>
                  <p:nvPr/>
                </p:nvSpPr>
                <p:spPr>
                  <a:xfrm>
                    <a:off x="8188200" y="464040"/>
                    <a:ext cx="51120" cy="201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38" name=""/>
              <p:cNvGrpSpPr/>
              <p:nvPr/>
            </p:nvGrpSpPr>
            <p:grpSpPr>
              <a:xfrm>
                <a:off x="8175960" y="464040"/>
                <a:ext cx="76320" cy="80280"/>
                <a:chOff x="8175960" y="464040"/>
                <a:chExt cx="76320" cy="80280"/>
              </a:xfrm>
            </p:grpSpPr>
            <p:grpSp>
              <p:nvGrpSpPr>
                <p:cNvPr id="4539" name=""/>
                <p:cNvGrpSpPr/>
                <p:nvPr/>
              </p:nvGrpSpPr>
              <p:grpSpPr>
                <a:xfrm>
                  <a:off x="8175960" y="524520"/>
                  <a:ext cx="76320" cy="19800"/>
                  <a:chOff x="8175960" y="524520"/>
                  <a:chExt cx="76320" cy="19800"/>
                </a:xfrm>
              </p:grpSpPr>
              <p:sp>
                <p:nvSpPr>
                  <p:cNvPr id="4540" name=""/>
                  <p:cNvSpPr/>
                  <p:nvPr/>
                </p:nvSpPr>
                <p:spPr>
                  <a:xfrm>
                    <a:off x="8178840" y="531000"/>
                    <a:ext cx="70200" cy="64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1" name=""/>
                  <p:cNvSpPr/>
                  <p:nvPr/>
                </p:nvSpPr>
                <p:spPr>
                  <a:xfrm>
                    <a:off x="8175960" y="537840"/>
                    <a:ext cx="76320" cy="64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2" name=""/>
                  <p:cNvSpPr/>
                  <p:nvPr/>
                </p:nvSpPr>
                <p:spPr>
                  <a:xfrm>
                    <a:off x="8182080" y="524520"/>
                    <a:ext cx="63720" cy="64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3" name=""/>
                <p:cNvGrpSpPr/>
                <p:nvPr/>
              </p:nvGrpSpPr>
              <p:grpSpPr>
                <a:xfrm>
                  <a:off x="8185320" y="504360"/>
                  <a:ext cx="57240" cy="19800"/>
                  <a:chOff x="8185320" y="504360"/>
                  <a:chExt cx="57240" cy="19800"/>
                </a:xfrm>
              </p:grpSpPr>
              <p:sp>
                <p:nvSpPr>
                  <p:cNvPr id="4544" name=""/>
                  <p:cNvSpPr/>
                  <p:nvPr/>
                </p:nvSpPr>
                <p:spPr>
                  <a:xfrm>
                    <a:off x="8187480" y="510840"/>
                    <a:ext cx="52560" cy="64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5" name=""/>
                  <p:cNvSpPr/>
                  <p:nvPr/>
                </p:nvSpPr>
                <p:spPr>
                  <a:xfrm>
                    <a:off x="8185320" y="517680"/>
                    <a:ext cx="57240" cy="64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6" name=""/>
                  <p:cNvSpPr/>
                  <p:nvPr/>
                </p:nvSpPr>
                <p:spPr>
                  <a:xfrm>
                    <a:off x="8190000" y="504360"/>
                    <a:ext cx="47880" cy="64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7" name=""/>
                <p:cNvGrpSpPr/>
                <p:nvPr/>
              </p:nvGrpSpPr>
              <p:grpSpPr>
                <a:xfrm>
                  <a:off x="8191800" y="484200"/>
                  <a:ext cx="44640" cy="19800"/>
                  <a:chOff x="8191800" y="484200"/>
                  <a:chExt cx="44640" cy="19800"/>
                </a:xfrm>
              </p:grpSpPr>
              <p:sp>
                <p:nvSpPr>
                  <p:cNvPr id="4548" name=""/>
                  <p:cNvSpPr/>
                  <p:nvPr/>
                </p:nvSpPr>
                <p:spPr>
                  <a:xfrm>
                    <a:off x="8193600" y="490680"/>
                    <a:ext cx="41040" cy="64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9" name=""/>
                  <p:cNvSpPr/>
                  <p:nvPr/>
                </p:nvSpPr>
                <p:spPr>
                  <a:xfrm>
                    <a:off x="8191800" y="497520"/>
                    <a:ext cx="44640" cy="64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0" name=""/>
                  <p:cNvSpPr/>
                  <p:nvPr/>
                </p:nvSpPr>
                <p:spPr>
                  <a:xfrm>
                    <a:off x="8195400" y="484200"/>
                    <a:ext cx="37440" cy="64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1" name=""/>
                <p:cNvGrpSpPr/>
                <p:nvPr/>
              </p:nvGrpSpPr>
              <p:grpSpPr>
                <a:xfrm>
                  <a:off x="8198280" y="464040"/>
                  <a:ext cx="31680" cy="19800"/>
                  <a:chOff x="8198280" y="464040"/>
                  <a:chExt cx="31680" cy="19800"/>
                </a:xfrm>
              </p:grpSpPr>
              <p:sp>
                <p:nvSpPr>
                  <p:cNvPr id="4552" name=""/>
                  <p:cNvSpPr/>
                  <p:nvPr/>
                </p:nvSpPr>
                <p:spPr>
                  <a:xfrm>
                    <a:off x="8199360" y="470520"/>
                    <a:ext cx="29160" cy="64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3" name=""/>
                  <p:cNvSpPr/>
                  <p:nvPr/>
                </p:nvSpPr>
                <p:spPr>
                  <a:xfrm>
                    <a:off x="8198280" y="477360"/>
                    <a:ext cx="31680" cy="64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4" name=""/>
                  <p:cNvSpPr/>
                  <p:nvPr/>
                </p:nvSpPr>
                <p:spPr>
                  <a:xfrm>
                    <a:off x="8200800" y="464040"/>
                    <a:ext cx="26640" cy="64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55" name=""/>
              <p:cNvSpPr/>
              <p:nvPr/>
            </p:nvSpPr>
            <p:spPr>
              <a:xfrm>
                <a:off x="8149680" y="439560"/>
                <a:ext cx="127440" cy="23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56" name=""/>
              <p:cNvGrpSpPr/>
              <p:nvPr/>
            </p:nvGrpSpPr>
            <p:grpSpPr>
              <a:xfrm>
                <a:off x="8167320" y="448920"/>
                <a:ext cx="92520" cy="14040"/>
                <a:chOff x="8167320" y="448920"/>
                <a:chExt cx="92520" cy="14040"/>
              </a:xfrm>
            </p:grpSpPr>
            <p:sp>
              <p:nvSpPr>
                <p:cNvPr id="4557" name=""/>
                <p:cNvSpPr/>
                <p:nvPr/>
              </p:nvSpPr>
              <p:spPr>
                <a:xfrm>
                  <a:off x="8167320" y="448920"/>
                  <a:ext cx="12600" cy="140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8" name=""/>
                <p:cNvSpPr/>
                <p:nvPr/>
              </p:nvSpPr>
              <p:spPr>
                <a:xfrm>
                  <a:off x="8187480" y="448920"/>
                  <a:ext cx="12600" cy="140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9" name=""/>
                <p:cNvSpPr/>
                <p:nvPr/>
              </p:nvSpPr>
              <p:spPr>
                <a:xfrm>
                  <a:off x="8247240" y="448920"/>
                  <a:ext cx="12600" cy="140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>
                  <a:off x="8226720" y="448920"/>
                  <a:ext cx="12600" cy="140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1" name=""/>
                <p:cNvSpPr/>
                <p:nvPr/>
              </p:nvSpPr>
              <p:spPr>
                <a:xfrm>
                  <a:off x="8206920" y="448920"/>
                  <a:ext cx="12600" cy="140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2" name=""/>
              <p:cNvSpPr/>
              <p:nvPr/>
            </p:nvSpPr>
            <p:spPr>
              <a:xfrm>
                <a:off x="8146080" y="437760"/>
                <a:ext cx="135000" cy="39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 flipV="1">
                <a:off x="8148960" y="421560"/>
                <a:ext cx="129600" cy="15840"/>
              </a:xfrm>
              <a:custGeom>
                <a:avLst/>
                <a:gdLst>
                  <a:gd name="textAreaLeft" fmla="*/ 13320 w 129600"/>
                  <a:gd name="textAreaRight" fmla="*/ 116280 w 129600"/>
                  <a:gd name="textAreaTop" fmla="*/ 1440 h 15840"/>
                  <a:gd name="textAreaBottom" fmla="*/ 14400 h 1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8152560" y="417600"/>
                <a:ext cx="121320" cy="39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65" name=""/>
          <p:cNvSpPr/>
          <p:nvPr/>
        </p:nvSpPr>
        <p:spPr>
          <a:xfrm>
            <a:off x="423720" y="671400"/>
            <a:ext cx="2644920" cy="1154160"/>
          </a:xfrm>
          <a:prstGeom prst="wedgeRectCallout">
            <a:avLst>
              <a:gd name="adj1" fmla="val -40217"/>
              <a:gd name="adj2" fmla="val 20405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switching a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6" name=""/>
          <p:cNvGrpSpPr/>
          <p:nvPr/>
        </p:nvGrpSpPr>
        <p:grpSpPr>
          <a:xfrm>
            <a:off x="5985000" y="1679400"/>
            <a:ext cx="3159000" cy="4024440"/>
            <a:chOff x="5985000" y="1679400"/>
            <a:chExt cx="3159000" cy="4024440"/>
          </a:xfrm>
        </p:grpSpPr>
        <p:grpSp>
          <p:nvGrpSpPr>
            <p:cNvPr id="4567" name=""/>
            <p:cNvGrpSpPr/>
            <p:nvPr/>
          </p:nvGrpSpPr>
          <p:grpSpPr>
            <a:xfrm>
              <a:off x="5985000" y="1679400"/>
              <a:ext cx="3159000" cy="4024440"/>
              <a:chOff x="5985000" y="1679400"/>
              <a:chExt cx="3159000" cy="4024440"/>
            </a:xfrm>
          </p:grpSpPr>
          <p:sp>
            <p:nvSpPr>
              <p:cNvPr id="4568" name=""/>
              <p:cNvSpPr/>
              <p:nvPr/>
            </p:nvSpPr>
            <p:spPr>
              <a:xfrm>
                <a:off x="7102440" y="4670280"/>
                <a:ext cx="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8070840" y="4656240"/>
                <a:ext cx="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70" name=""/>
              <p:cNvGrpSpPr/>
              <p:nvPr/>
            </p:nvGrpSpPr>
            <p:grpSpPr>
              <a:xfrm>
                <a:off x="5985000" y="1679400"/>
                <a:ext cx="3159000" cy="4024440"/>
                <a:chOff x="5985000" y="1679400"/>
                <a:chExt cx="3159000" cy="4024440"/>
              </a:xfrm>
            </p:grpSpPr>
            <p:grpSp>
              <p:nvGrpSpPr>
                <p:cNvPr id="4571" name=""/>
                <p:cNvGrpSpPr/>
                <p:nvPr/>
              </p:nvGrpSpPr>
              <p:grpSpPr>
                <a:xfrm>
                  <a:off x="5985000" y="1679400"/>
                  <a:ext cx="3159000" cy="4024440"/>
                  <a:chOff x="5985000" y="1679400"/>
                  <a:chExt cx="3159000" cy="4024440"/>
                </a:xfrm>
              </p:grpSpPr>
              <p:pic>
                <p:nvPicPr>
                  <p:cNvPr id="45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33960" y="1679400"/>
                    <a:ext cx="3110040" cy="40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4573" name=""/>
                  <p:cNvGrpSpPr/>
                  <p:nvPr/>
                </p:nvGrpSpPr>
                <p:grpSpPr>
                  <a:xfrm>
                    <a:off x="5985000" y="1784160"/>
                    <a:ext cx="2777760" cy="3277440"/>
                    <a:chOff x="5985000" y="1784160"/>
                    <a:chExt cx="2777760" cy="3277440"/>
                  </a:xfrm>
                </p:grpSpPr>
                <p:sp>
                  <p:nvSpPr>
                    <p:cNvPr id="4574" name=""/>
                    <p:cNvSpPr/>
                    <p:nvPr/>
                  </p:nvSpPr>
                  <p:spPr>
                    <a:xfrm>
                      <a:off x="6495840" y="4700520"/>
                      <a:ext cx="2266920" cy="361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t">
                      <a:spAutoFit/>
                    </a:bodyPr>
                    <a:p>
                      <a:pPr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0.5   1.0    1.5 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75" name=""/>
                    <p:cNvGrpSpPr/>
                    <p:nvPr/>
                  </p:nvGrpSpPr>
                  <p:grpSpPr>
                    <a:xfrm>
                      <a:off x="6576840" y="4365360"/>
                      <a:ext cx="1969560" cy="142200"/>
                      <a:chOff x="6576840" y="4365360"/>
                      <a:chExt cx="1969560" cy="142200"/>
                    </a:xfrm>
                  </p:grpSpPr>
                  <p:sp>
                    <p:nvSpPr>
                      <p:cNvPr id="4576" name=""/>
                      <p:cNvSpPr/>
                      <p:nvPr/>
                    </p:nvSpPr>
                    <p:spPr>
                      <a:xfrm>
                        <a:off x="6576840" y="4433400"/>
                        <a:ext cx="1969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7" name=""/>
                      <p:cNvSpPr/>
                      <p:nvPr/>
                    </p:nvSpPr>
                    <p:spPr>
                      <a:xfrm>
                        <a:off x="7584480" y="4379400"/>
                        <a:ext cx="0" cy="1281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8" name=""/>
                      <p:cNvSpPr/>
                      <p:nvPr/>
                    </p:nvSpPr>
                    <p:spPr>
                      <a:xfrm>
                        <a:off x="6855840" y="4379400"/>
                        <a:ext cx="0" cy="1281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9" name=""/>
                      <p:cNvSpPr/>
                      <p:nvPr/>
                    </p:nvSpPr>
                    <p:spPr>
                      <a:xfrm>
                        <a:off x="7351200" y="4365360"/>
                        <a:ext cx="0" cy="1281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80" name=""/>
                      <p:cNvSpPr/>
                      <p:nvPr/>
                    </p:nvSpPr>
                    <p:spPr>
                      <a:xfrm>
                        <a:off x="7093800" y="4368240"/>
                        <a:ext cx="0" cy="126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81" name=""/>
                      <p:cNvSpPr/>
                      <p:nvPr/>
                    </p:nvSpPr>
                    <p:spPr>
                      <a:xfrm>
                        <a:off x="7819560" y="4365360"/>
                        <a:ext cx="0" cy="1281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82" name=""/>
                    <p:cNvGrpSpPr/>
                    <p:nvPr/>
                  </p:nvGrpSpPr>
                  <p:grpSpPr>
                    <a:xfrm>
                      <a:off x="5985000" y="1784160"/>
                      <a:ext cx="696240" cy="3146040"/>
                      <a:chOff x="5985000" y="1784160"/>
                      <a:chExt cx="696240" cy="3146040"/>
                    </a:xfrm>
                  </p:grpSpPr>
                  <p:sp>
                    <p:nvSpPr>
                      <p:cNvPr id="4583" name=""/>
                      <p:cNvSpPr/>
                      <p:nvPr/>
                    </p:nvSpPr>
                    <p:spPr>
                      <a:xfrm flipV="1">
                        <a:off x="6609960" y="1784160"/>
                        <a:ext cx="0" cy="3146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84" name=""/>
                      <p:cNvSpPr/>
                      <p:nvPr/>
                    </p:nvSpPr>
                    <p:spPr>
                      <a:xfrm>
                        <a:off x="6538680" y="3946320"/>
                        <a:ext cx="132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85" name=""/>
                      <p:cNvSpPr/>
                      <p:nvPr/>
                    </p:nvSpPr>
                    <p:spPr>
                      <a:xfrm>
                        <a:off x="6540120" y="3444840"/>
                        <a:ext cx="133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86" name=""/>
                      <p:cNvSpPr/>
                      <p:nvPr/>
                    </p:nvSpPr>
                    <p:spPr>
                      <a:xfrm>
                        <a:off x="6543360" y="2960640"/>
                        <a:ext cx="133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87" name=""/>
                      <p:cNvSpPr/>
                      <p:nvPr/>
                    </p:nvSpPr>
                    <p:spPr>
                      <a:xfrm>
                        <a:off x="5985000" y="2271600"/>
                        <a:ext cx="497880" cy="244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t">
                        <a:spAutoFit/>
                      </a:bodyPr>
                      <a:p>
                        <a:pPr>
                          <a:spcBef>
                            <a:spcPts val="337"/>
                          </a:spcBef>
                          <a:spcAft>
                            <a:spcPts val="337"/>
                          </a:spcAft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.6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spcBef>
                            <a:spcPts val="150"/>
                          </a:spcBef>
                          <a:spcAft>
                            <a:spcPts val="150"/>
                          </a:spcAft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spcBef>
                            <a:spcPts val="337"/>
                          </a:spcBef>
                          <a:spcAft>
                            <a:spcPts val="337"/>
                          </a:spcAft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.4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spcBef>
                            <a:spcPts val="150"/>
                          </a:spcBef>
                          <a:spcAft>
                            <a:spcPts val="150"/>
                          </a:spcAft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spcBef>
                            <a:spcPts val="337"/>
                          </a:spcBef>
                          <a:spcAft>
                            <a:spcPts val="337"/>
                          </a:spcAft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.2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spcBef>
                            <a:spcPts val="150"/>
                          </a:spcBef>
                          <a:spcAft>
                            <a:spcPts val="150"/>
                          </a:spcAft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spcBef>
                            <a:spcPts val="337"/>
                          </a:spcBef>
                          <a:spcAft>
                            <a:spcPts val="337"/>
                          </a:spcAft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.0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spcBef>
                            <a:spcPts val="150"/>
                          </a:spcBef>
                          <a:spcAft>
                            <a:spcPts val="150"/>
                          </a:spcAft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spcBef>
                            <a:spcPts val="337"/>
                          </a:spcBef>
                          <a:spcAft>
                            <a:spcPts val="337"/>
                          </a:spcAft>
                          <a:tabLst>
                            <a:tab algn="l" pos="0"/>
                            <a:tab algn="l" pos="762120"/>
                            <a:tab algn="l" pos="1523880"/>
                            <a:tab algn="l" pos="2286000"/>
                            <a:tab algn="l" pos="3048120"/>
                            <a:tab algn="l" pos="3809880"/>
                            <a:tab algn="l" pos="4572000"/>
                            <a:tab algn="l" pos="5334120"/>
                            <a:tab algn="l" pos="6095880"/>
                            <a:tab algn="l" pos="6858000"/>
                            <a:tab algn="l" pos="7620120"/>
                            <a:tab algn="l" pos="8381880"/>
                            <a:tab algn="l" pos="9144000"/>
                            <a:tab algn="l" pos="9906120"/>
                            <a:tab algn="l" pos="10667880"/>
                          </a:tabLst>
                        </a:pPr>
                        <a:r>
                          <a:rPr b="0" lang="de-DE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0.8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88" name=""/>
                      <p:cNvSpPr/>
                      <p:nvPr/>
                    </p:nvSpPr>
                    <p:spPr>
                      <a:xfrm>
                        <a:off x="6548400" y="2465280"/>
                        <a:ext cx="132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89" name=""/>
                      <p:cNvSpPr/>
                      <p:nvPr/>
                    </p:nvSpPr>
                    <p:spPr>
                      <a:xfrm>
                        <a:off x="6543360" y="4427280"/>
                        <a:ext cx="133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90" name=""/>
                <p:cNvSpPr/>
                <p:nvPr/>
              </p:nvSpPr>
              <p:spPr>
                <a:xfrm>
                  <a:off x="7512120" y="2012400"/>
                  <a:ext cx="577800" cy="63972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pPr algn="ctr">
                    <a:spcBef>
                      <a:spcPts val="451"/>
                    </a:spcBef>
                    <a:spcAft>
                      <a:spcPts val="451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91" name=""/>
            <p:cNvSpPr/>
            <p:nvPr/>
          </p:nvSpPr>
          <p:spPr>
            <a:xfrm>
              <a:off x="6527880" y="2602080"/>
              <a:ext cx="1181160" cy="4651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2" name=""/>
          <p:cNvSpPr/>
          <p:nvPr/>
        </p:nvSpPr>
        <p:spPr>
          <a:xfrm>
            <a:off x="3235320" y="766800"/>
            <a:ext cx="2644920" cy="1154160"/>
          </a:xfrm>
          <a:prstGeom prst="wedgeRectCallout">
            <a:avLst>
              <a:gd name="adj1" fmla="val 15606"/>
              <a:gd name="adj2" fmla="val 11396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witches up to 1.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rrect level, but no pre-emphasi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"/>
          <p:cNvSpPr/>
          <p:nvPr/>
        </p:nvSpPr>
        <p:spPr>
          <a:xfrm>
            <a:off x="6286680" y="609480"/>
            <a:ext cx="2644560" cy="1154160"/>
          </a:xfrm>
          <a:prstGeom prst="wedgeRectCallout">
            <a:avLst>
              <a:gd name="adj1" fmla="val -20587"/>
              <a:gd name="adj2" fmla="val 1310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ows Pre-emphasis behavior, but  then goes back  to 1.4V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4" name=""/>
          <p:cNvGrpSpPr/>
          <p:nvPr/>
        </p:nvGrpSpPr>
        <p:grpSpPr>
          <a:xfrm>
            <a:off x="353880" y="5460840"/>
            <a:ext cx="8269200" cy="855360"/>
            <a:chOff x="353880" y="5460840"/>
            <a:chExt cx="8269200" cy="855360"/>
          </a:xfrm>
        </p:grpSpPr>
        <p:sp>
          <p:nvSpPr>
            <p:cNvPr id="4595" name=""/>
            <p:cNvSpPr/>
            <p:nvPr/>
          </p:nvSpPr>
          <p:spPr>
            <a:xfrm>
              <a:off x="353880" y="5460840"/>
              <a:ext cx="82692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load was a 3 inch transmission line with  Rload 50 to 1P5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river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 of 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989600" y="6151320"/>
              <a:ext cx="90396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1614960" y="6162480"/>
              <a:ext cx="9036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8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99" name="PlaceHolder 2"/>
          <p:cNvSpPr>
            <a:spLocks noGrp="1"/>
          </p:cNvSpPr>
          <p:nvPr>
            <p:ph/>
          </p:nvPr>
        </p:nvSpPr>
        <p:spPr>
          <a:xfrm>
            <a:off x="255600" y="759960"/>
            <a:ext cx="8634240" cy="52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ming dependant drivers works 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ltage dependant drivers should be possible wit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[submodel] and ‚fall-back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e-emphasis  modeling is possible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but only with fixed ‚Pre-emphasis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ttern dependant ‚Pre-emphasis‘ with VHDL-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eck of combined static and dynamic waveform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iver schedule models have to be carefully 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0" name="" descr=""/>
          <p:cNvPicPr/>
          <p:nvPr/>
        </p:nvPicPr>
        <p:blipFill>
          <a:blip r:embed="rId2"/>
          <a:stretch/>
        </p:blipFill>
        <p:spPr>
          <a:xfrm>
            <a:off x="5284800" y="263520"/>
            <a:ext cx="3600360" cy="1521000"/>
          </a:xfrm>
          <a:prstGeom prst="rect">
            <a:avLst/>
          </a:prstGeom>
          <a:ln w="0">
            <a:noFill/>
          </a:ln>
        </p:spPr>
      </p:pic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3363480" y="2290320"/>
            <a:ext cx="411948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6666"/>
                </a:solidFill>
                <a:latin typeface="Arial"/>
              </a:rPr>
              <a:t>Thank You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>
            <a:off x="5307120" y="4376880"/>
            <a:ext cx="31194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6720" y="2587680"/>
            <a:ext cx="485784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024"/>
                </a:solidFill>
                <a:latin typeface="Arial"/>
              </a:rPr>
              <a:t>Driver schedule basics…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7837560" y="6243480"/>
            <a:ext cx="1055520" cy="444600"/>
          </a:xfrm>
          <a:prstGeom prst="rect">
            <a:avLst/>
          </a:prstGeom>
          <a:ln w="0">
            <a:noFill/>
          </a:ln>
        </p:spPr>
      </p:pic>
      <p:grpSp>
        <p:nvGrpSpPr>
          <p:cNvPr id="422" name=""/>
          <p:cNvGrpSpPr/>
          <p:nvPr/>
        </p:nvGrpSpPr>
        <p:grpSpPr>
          <a:xfrm>
            <a:off x="582480" y="156960"/>
            <a:ext cx="1454400" cy="1173240"/>
            <a:chOff x="582480" y="156960"/>
            <a:chExt cx="1454400" cy="1173240"/>
          </a:xfrm>
        </p:grpSpPr>
        <p:sp>
          <p:nvSpPr>
            <p:cNvPr id="423" name=""/>
            <p:cNvSpPr/>
            <p:nvPr/>
          </p:nvSpPr>
          <p:spPr>
            <a:xfrm>
              <a:off x="582480" y="156960"/>
              <a:ext cx="1454400" cy="84528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Driver schedules bas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652320" y="824040"/>
              <a:ext cx="1220760" cy="506160"/>
              <a:chOff x="652320" y="824040"/>
              <a:chExt cx="1220760" cy="50616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652320" y="1009080"/>
                <a:ext cx="1220760" cy="321120"/>
                <a:chOff x="652320" y="1009080"/>
                <a:chExt cx="1220760" cy="32112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652320" y="1250640"/>
                  <a:ext cx="1220760" cy="79560"/>
                  <a:chOff x="652320" y="1250640"/>
                  <a:chExt cx="1220760" cy="7956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855720" y="12506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1263240" y="12506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1467000" y="12506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1670760" y="12506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059480" y="12506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652320" y="125064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754560" y="1170000"/>
                  <a:ext cx="1017000" cy="79560"/>
                  <a:chOff x="754560" y="1170000"/>
                  <a:chExt cx="1017000" cy="795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754560" y="11700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1161720" y="11700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1365480" y="11700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1569240" y="11700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957960" y="11700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856440" y="1009080"/>
                  <a:ext cx="813240" cy="159840"/>
                  <a:chOff x="856440" y="1009080"/>
                  <a:chExt cx="813240" cy="15984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1060200" y="1089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467360" y="1089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1263960" y="1089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856440" y="1089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958680" y="1009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366200" y="1009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1162440" y="1009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1113120" y="1009080"/>
                <a:ext cx="303480" cy="320040"/>
                <a:chOff x="1113120" y="1009080"/>
                <a:chExt cx="303480" cy="320040"/>
              </a:xfrm>
            </p:grpSpPr>
            <p:grpSp>
              <p:nvGrpSpPr>
                <p:cNvPr id="448" name=""/>
                <p:cNvGrpSpPr/>
                <p:nvPr/>
              </p:nvGrpSpPr>
              <p:grpSpPr>
                <a:xfrm>
                  <a:off x="1113120" y="1250280"/>
                  <a:ext cx="303480" cy="78840"/>
                  <a:chOff x="1113120" y="1250280"/>
                  <a:chExt cx="303480" cy="7884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25720" y="1276200"/>
                    <a:ext cx="2782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113120" y="1302480"/>
                    <a:ext cx="303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1138320" y="1250280"/>
                    <a:ext cx="2530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1150920" y="1170000"/>
                  <a:ext cx="227520" cy="78840"/>
                  <a:chOff x="1150920" y="1170000"/>
                  <a:chExt cx="227520" cy="788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1160280" y="1195920"/>
                    <a:ext cx="2088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1150920" y="1222200"/>
                    <a:ext cx="2275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169640" y="1170000"/>
                    <a:ext cx="1897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1176480" y="1089360"/>
                  <a:ext cx="177120" cy="78480"/>
                  <a:chOff x="1176480" y="1089360"/>
                  <a:chExt cx="177120" cy="7848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1183680" y="1114920"/>
                    <a:ext cx="162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1176480" y="1141200"/>
                    <a:ext cx="1771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1190880" y="1089360"/>
                    <a:ext cx="1476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1201680" y="1009080"/>
                  <a:ext cx="126360" cy="78840"/>
                  <a:chOff x="1201680" y="1009080"/>
                  <a:chExt cx="126360" cy="7884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1206720" y="1035000"/>
                    <a:ext cx="1159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1201680" y="1061280"/>
                    <a:ext cx="126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1212120" y="1009080"/>
                    <a:ext cx="105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1009800" y="912600"/>
                <a:ext cx="506160" cy="950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1080000" y="948960"/>
                <a:ext cx="366480" cy="56880"/>
                <a:chOff x="1080000" y="948960"/>
                <a:chExt cx="366480" cy="5688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1080000" y="94896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159920" y="94896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396080" y="94896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315800" y="94896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236600" y="94896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>
                <a:off x="995040" y="904320"/>
                <a:ext cx="53604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1005840" y="84024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021320" y="824040"/>
                <a:ext cx="48096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Multistage driver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57200" y="868320"/>
            <a:ext cx="4114800" cy="4846680"/>
            <a:chOff x="457200" y="868320"/>
            <a:chExt cx="4114800" cy="4846680"/>
          </a:xfrm>
        </p:grpSpPr>
        <p:grpSp>
          <p:nvGrpSpPr>
            <p:cNvPr id="476" name=""/>
            <p:cNvGrpSpPr/>
            <p:nvPr/>
          </p:nvGrpSpPr>
          <p:grpSpPr>
            <a:xfrm>
              <a:off x="1143000" y="1447920"/>
              <a:ext cx="3429000" cy="3962160"/>
              <a:chOff x="1143000" y="1447920"/>
              <a:chExt cx="3429000" cy="3962160"/>
            </a:xfrm>
          </p:grpSpPr>
          <p:sp>
            <p:nvSpPr>
              <p:cNvPr id="477" name=""/>
              <p:cNvSpPr/>
              <p:nvPr/>
            </p:nvSpPr>
            <p:spPr>
              <a:xfrm rot="5400000">
                <a:off x="1028520" y="1562040"/>
                <a:ext cx="1066680" cy="838080"/>
              </a:xfrm>
              <a:prstGeom prst="flowChartExtra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5400000">
                <a:off x="1028520" y="3009960"/>
                <a:ext cx="1067040" cy="838080"/>
              </a:xfrm>
              <a:prstGeom prst="flowChartExtra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5400000">
                <a:off x="1028520" y="4457520"/>
                <a:ext cx="1066680" cy="838080"/>
              </a:xfrm>
              <a:prstGeom prst="flowChartExtra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3657600" y="1981080"/>
                <a:ext cx="0" cy="289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1981080" y="4493520"/>
                <a:ext cx="1676520" cy="690840"/>
                <a:chOff x="1981080" y="4493520"/>
                <a:chExt cx="1676520" cy="69084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981080" y="487692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2210040" y="4493520"/>
                  <a:ext cx="840600" cy="690840"/>
                  <a:chOff x="2210040" y="4493520"/>
                  <a:chExt cx="840600" cy="690840"/>
                </a:xfrm>
              </p:grpSpPr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2512080" y="4493520"/>
                    <a:ext cx="538560" cy="376920"/>
                    <a:chOff x="2512080" y="4493520"/>
                    <a:chExt cx="538560" cy="37692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 flipV="1">
                      <a:off x="2512080" y="4493520"/>
                      <a:ext cx="376920" cy="376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2889000" y="4493520"/>
                      <a:ext cx="161640" cy="16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7" name=""/>
                  <p:cNvSpPr/>
                  <p:nvPr/>
                </p:nvSpPr>
                <p:spPr>
                  <a:xfrm>
                    <a:off x="2210040" y="4572000"/>
                    <a:ext cx="609120" cy="61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>
                  <a:off x="2971800" y="48769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V="1">
                  <a:off x="2971800" y="48006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438280" y="4800600"/>
                  <a:ext cx="152640" cy="152280"/>
                </a:xfrm>
                <a:prstGeom prst="ellipse">
                  <a:avLst/>
                </a:prstGeom>
                <a:solidFill>
                  <a:srgbClr val="99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1981080" y="3045600"/>
                <a:ext cx="1676520" cy="690840"/>
                <a:chOff x="1981080" y="3045600"/>
                <a:chExt cx="1676520" cy="6908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981080" y="342900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210040" y="3045600"/>
                  <a:ext cx="840600" cy="690840"/>
                  <a:chOff x="2210040" y="3045600"/>
                  <a:chExt cx="840600" cy="69084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2512080" y="3045600"/>
                    <a:ext cx="538560" cy="376920"/>
                    <a:chOff x="2512080" y="3045600"/>
                    <a:chExt cx="538560" cy="376920"/>
                  </a:xfrm>
                </p:grpSpPr>
                <p:sp>
                  <p:nvSpPr>
                    <p:cNvPr id="495" name=""/>
                    <p:cNvSpPr/>
                    <p:nvPr/>
                  </p:nvSpPr>
                  <p:spPr>
                    <a:xfrm flipV="1">
                      <a:off x="2512080" y="3045600"/>
                      <a:ext cx="376920" cy="376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>
                      <a:off x="2889000" y="3045600"/>
                      <a:ext cx="161640" cy="16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7" name=""/>
                  <p:cNvSpPr/>
                  <p:nvPr/>
                </p:nvSpPr>
                <p:spPr>
                  <a:xfrm>
                    <a:off x="2210040" y="3124080"/>
                    <a:ext cx="609120" cy="61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2971800" y="34290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2971800" y="335268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438280" y="3352680"/>
                  <a:ext cx="152640" cy="152280"/>
                </a:xfrm>
                <a:prstGeom prst="ellipse">
                  <a:avLst/>
                </a:prstGeom>
                <a:solidFill>
                  <a:srgbClr val="99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981080" y="1598040"/>
                <a:ext cx="1676520" cy="690840"/>
                <a:chOff x="1981080" y="1598040"/>
                <a:chExt cx="1676520" cy="6908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981080" y="198144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2210040" y="1598040"/>
                  <a:ext cx="840600" cy="690840"/>
                  <a:chOff x="2210040" y="1598040"/>
                  <a:chExt cx="840600" cy="690840"/>
                </a:xfrm>
              </p:grpSpPr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2512080" y="1598040"/>
                    <a:ext cx="538560" cy="376920"/>
                    <a:chOff x="2512080" y="1598040"/>
                    <a:chExt cx="538560" cy="37692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flipV="1">
                      <a:off x="2512080" y="1598040"/>
                      <a:ext cx="376920" cy="376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2889000" y="1598040"/>
                      <a:ext cx="161640" cy="16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7" name=""/>
                  <p:cNvSpPr/>
                  <p:nvPr/>
                </p:nvSpPr>
                <p:spPr>
                  <a:xfrm>
                    <a:off x="2210040" y="1676520"/>
                    <a:ext cx="609120" cy="612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8" name=""/>
                <p:cNvSpPr/>
                <p:nvPr/>
              </p:nvSpPr>
              <p:spPr>
                <a:xfrm>
                  <a:off x="2971800" y="198144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2971800" y="19051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438280" y="1905120"/>
                  <a:ext cx="152640" cy="152280"/>
                </a:xfrm>
                <a:prstGeom prst="ellipse">
                  <a:avLst/>
                </a:prstGeom>
                <a:solidFill>
                  <a:srgbClr val="99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1" name=""/>
              <p:cNvSpPr/>
              <p:nvPr/>
            </p:nvSpPr>
            <p:spPr>
              <a:xfrm>
                <a:off x="3657600" y="34290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505320" y="3276720"/>
                <a:ext cx="304560" cy="304560"/>
              </a:xfrm>
              <a:prstGeom prst="ellipse">
                <a:avLst/>
              </a:prstGeom>
              <a:solidFill>
                <a:srgbClr val="99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457200" y="868320"/>
              <a:ext cx="3809880" cy="48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809640" y="1131840"/>
            <a:ext cx="2030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iverst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9640" y="2603520"/>
            <a:ext cx="2030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iverstag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09640" y="4048200"/>
            <a:ext cx="2030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iverstag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353960" y="5807160"/>
            <a:ext cx="2030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417920" y="1262160"/>
            <a:ext cx="447192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Multistage driver consists of several driverstages, which are switching at different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 different voltag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7475400" y="-130320"/>
            <a:ext cx="1454400" cy="1173240"/>
            <a:chOff x="7475400" y="-130320"/>
            <a:chExt cx="1454400" cy="1173240"/>
          </a:xfrm>
        </p:grpSpPr>
        <p:sp>
          <p:nvSpPr>
            <p:cNvPr id="520" name=""/>
            <p:cNvSpPr/>
            <p:nvPr/>
          </p:nvSpPr>
          <p:spPr>
            <a:xfrm>
              <a:off x="7475400" y="-130320"/>
              <a:ext cx="1454400" cy="84528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Driver schedules bas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7545240" y="536760"/>
              <a:ext cx="1220760" cy="506160"/>
              <a:chOff x="7545240" y="536760"/>
              <a:chExt cx="1220760" cy="506160"/>
            </a:xfrm>
          </p:grpSpPr>
          <p:grpSp>
            <p:nvGrpSpPr>
              <p:cNvPr id="522" name=""/>
              <p:cNvGrpSpPr/>
              <p:nvPr/>
            </p:nvGrpSpPr>
            <p:grpSpPr>
              <a:xfrm>
                <a:off x="7545240" y="721800"/>
                <a:ext cx="1220760" cy="321120"/>
                <a:chOff x="7545240" y="721800"/>
                <a:chExt cx="1220760" cy="321120"/>
              </a:xfrm>
            </p:grpSpPr>
            <p:grpSp>
              <p:nvGrpSpPr>
                <p:cNvPr id="523" name=""/>
                <p:cNvGrpSpPr/>
                <p:nvPr/>
              </p:nvGrpSpPr>
              <p:grpSpPr>
                <a:xfrm>
                  <a:off x="7545240" y="963360"/>
                  <a:ext cx="1220760" cy="79560"/>
                  <a:chOff x="7545240" y="963360"/>
                  <a:chExt cx="1220760" cy="795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77486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815616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835992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856368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795240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75452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7647480" y="882720"/>
                  <a:ext cx="1017000" cy="79560"/>
                  <a:chOff x="7647480" y="882720"/>
                  <a:chExt cx="1017000" cy="7956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76474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805464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825840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846216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78508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7749360" y="721800"/>
                  <a:ext cx="813240" cy="159840"/>
                  <a:chOff x="7749360" y="721800"/>
                  <a:chExt cx="813240" cy="15984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795312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836028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815688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774936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785160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825912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805536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4" name=""/>
              <p:cNvGrpSpPr/>
              <p:nvPr/>
            </p:nvGrpSpPr>
            <p:grpSpPr>
              <a:xfrm>
                <a:off x="8006040" y="721800"/>
                <a:ext cx="303480" cy="320040"/>
                <a:chOff x="8006040" y="721800"/>
                <a:chExt cx="303480" cy="320040"/>
              </a:xfrm>
            </p:grpSpPr>
            <p:grpSp>
              <p:nvGrpSpPr>
                <p:cNvPr id="545" name=""/>
                <p:cNvGrpSpPr/>
                <p:nvPr/>
              </p:nvGrpSpPr>
              <p:grpSpPr>
                <a:xfrm>
                  <a:off x="8006040" y="963000"/>
                  <a:ext cx="303480" cy="78840"/>
                  <a:chOff x="8006040" y="963000"/>
                  <a:chExt cx="303480" cy="7884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8018640" y="988920"/>
                    <a:ext cx="2782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8006040" y="1015200"/>
                    <a:ext cx="303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8031240" y="963000"/>
                    <a:ext cx="2530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8043840" y="882720"/>
                  <a:ext cx="227520" cy="78840"/>
                  <a:chOff x="8043840" y="882720"/>
                  <a:chExt cx="227520" cy="7884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>
                    <a:off x="8053200" y="908640"/>
                    <a:ext cx="2088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8043840" y="934920"/>
                    <a:ext cx="2275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8062560" y="882720"/>
                    <a:ext cx="1897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" name=""/>
                <p:cNvGrpSpPr/>
                <p:nvPr/>
              </p:nvGrpSpPr>
              <p:grpSpPr>
                <a:xfrm>
                  <a:off x="8069400" y="802080"/>
                  <a:ext cx="177120" cy="78480"/>
                  <a:chOff x="8069400" y="802080"/>
                  <a:chExt cx="177120" cy="7848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8076600" y="827640"/>
                    <a:ext cx="162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8069400" y="853920"/>
                    <a:ext cx="1771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8083800" y="802080"/>
                    <a:ext cx="1476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8094600" y="721800"/>
                  <a:ext cx="126360" cy="78840"/>
                  <a:chOff x="8094600" y="721800"/>
                  <a:chExt cx="126360" cy="7884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8099640" y="747720"/>
                    <a:ext cx="1159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8094600" y="774000"/>
                    <a:ext cx="126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8105040" y="721800"/>
                    <a:ext cx="105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1" name=""/>
              <p:cNvSpPr/>
              <p:nvPr/>
            </p:nvSpPr>
            <p:spPr>
              <a:xfrm>
                <a:off x="7902720" y="625320"/>
                <a:ext cx="506160" cy="950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" name=""/>
              <p:cNvGrpSpPr/>
              <p:nvPr/>
            </p:nvGrpSpPr>
            <p:grpSpPr>
              <a:xfrm>
                <a:off x="7972920" y="661680"/>
                <a:ext cx="366480" cy="56880"/>
                <a:chOff x="7972920" y="661680"/>
                <a:chExt cx="366480" cy="5688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79729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805284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28900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2087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1295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7887960" y="617040"/>
                <a:ext cx="53604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7898760" y="55296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914240" y="536760"/>
                <a:ext cx="48096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parts of IBIS Multistage driver model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6040" y="566640"/>
            <a:ext cx="5500800" cy="61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Model]       3-Driver-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_type   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nl = 0.68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nh = 0.88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_comp                         1.5pF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0pF          2.0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Voltage Range]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3.3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1350V      3.4650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Driver Schedu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Model_name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_on_dly   Rise_off_dly   Fall_on_dly   Fall_off_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_1       0s                NA               0ns             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_2       0.5ns           NA               0ns             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_3       1.0ns           2.5ns           NA               N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GND Clamp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lamp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ulldow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ullup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00     0.00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.00   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Ramp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V/dt_r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0V/1.8ns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0.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2.50ns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1.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V/dt_f       1.3V/1.5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2.0ns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0.9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5335560" y="812880"/>
            <a:ext cx="3481200" cy="1643040"/>
            <a:chOff x="5335560" y="812880"/>
            <a:chExt cx="3481200" cy="1643040"/>
          </a:xfrm>
        </p:grpSpPr>
        <p:sp>
          <p:nvSpPr>
            <p:cNvPr id="574" name=""/>
            <p:cNvSpPr/>
            <p:nvPr/>
          </p:nvSpPr>
          <p:spPr>
            <a:xfrm>
              <a:off x="5335560" y="865080"/>
              <a:ext cx="1905120" cy="1590840"/>
            </a:xfrm>
            <a:custGeom>
              <a:avLst/>
              <a:gdLst>
                <a:gd name="textAreaLeft" fmla="*/ 0 w 1905120"/>
                <a:gd name="textAreaRight" fmla="*/ 687960 w 1905120"/>
                <a:gd name="textAreaTop" fmla="*/ 64800 h 1590840"/>
                <a:gd name="textAreaBottom" fmla="*/ 1526040 h 159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12"/>
                    <a:pt x="10800" y="2823"/>
                  </a:cubicBezTo>
                  <a:lnTo>
                    <a:pt x="10800" y="3566"/>
                  </a:lnTo>
                  <a:cubicBezTo>
                    <a:pt x="10800" y="4978"/>
                    <a:pt x="16200" y="6389"/>
                    <a:pt x="21600" y="6389"/>
                  </a:cubicBezTo>
                  <a:cubicBezTo>
                    <a:pt x="16200" y="6389"/>
                    <a:pt x="10800" y="7801"/>
                    <a:pt x="10800" y="9212"/>
                  </a:cubicBezTo>
                  <a:lnTo>
                    <a:pt x="10800" y="18777"/>
                  </a:lnTo>
                  <a:cubicBezTo>
                    <a:pt x="10800" y="20189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6607080" y="812880"/>
              <a:ext cx="2209680" cy="412560"/>
              <a:chOff x="6607080" y="812880"/>
              <a:chExt cx="2209680" cy="412560"/>
            </a:xfrm>
          </p:grpSpPr>
          <p:sp>
            <p:nvSpPr>
              <p:cNvPr id="576" name=""/>
              <p:cNvSpPr/>
              <p:nvPr/>
            </p:nvSpPr>
            <p:spPr>
              <a:xfrm>
                <a:off x="6692040" y="852480"/>
                <a:ext cx="1531800" cy="34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Paramet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607080" y="812880"/>
                <a:ext cx="2209680" cy="4125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5335560" y="2457360"/>
            <a:ext cx="3573360" cy="1641600"/>
            <a:chOff x="5335560" y="2457360"/>
            <a:chExt cx="3573360" cy="1641600"/>
          </a:xfrm>
        </p:grpSpPr>
        <p:sp>
          <p:nvSpPr>
            <p:cNvPr id="579" name=""/>
            <p:cNvSpPr/>
            <p:nvPr/>
          </p:nvSpPr>
          <p:spPr>
            <a:xfrm>
              <a:off x="5335560" y="2457360"/>
              <a:ext cx="1905120" cy="1641600"/>
            </a:xfrm>
            <a:custGeom>
              <a:avLst/>
              <a:gdLst>
                <a:gd name="textAreaLeft" fmla="*/ 0 w 1905120"/>
                <a:gd name="textAreaRight" fmla="*/ 687960 w 1905120"/>
                <a:gd name="textAreaTop" fmla="*/ 66960 h 1641600"/>
                <a:gd name="textAreaBottom" fmla="*/ 1574640 h 164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12"/>
                    <a:pt x="10800" y="2823"/>
                  </a:cubicBezTo>
                  <a:lnTo>
                    <a:pt x="10800" y="3566"/>
                  </a:lnTo>
                  <a:cubicBezTo>
                    <a:pt x="10800" y="4978"/>
                    <a:pt x="16200" y="6389"/>
                    <a:pt x="21600" y="6389"/>
                  </a:cubicBezTo>
                  <a:cubicBezTo>
                    <a:pt x="16200" y="6389"/>
                    <a:pt x="10800" y="7801"/>
                    <a:pt x="10800" y="9212"/>
                  </a:cubicBezTo>
                  <a:lnTo>
                    <a:pt x="10800" y="18777"/>
                  </a:lnTo>
                  <a:cubicBezTo>
                    <a:pt x="10800" y="20189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6554880" y="2475000"/>
              <a:ext cx="2354040" cy="412560"/>
              <a:chOff x="6554880" y="2475000"/>
              <a:chExt cx="2354040" cy="412560"/>
            </a:xfrm>
          </p:grpSpPr>
          <p:sp>
            <p:nvSpPr>
              <p:cNvPr id="581" name=""/>
              <p:cNvSpPr/>
              <p:nvPr/>
            </p:nvSpPr>
            <p:spPr>
              <a:xfrm>
                <a:off x="6639480" y="2514600"/>
                <a:ext cx="2269440" cy="34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scheduled model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554880" y="2475000"/>
                <a:ext cx="2209680" cy="4125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3" name=""/>
          <p:cNvGrpSpPr/>
          <p:nvPr/>
        </p:nvGrpSpPr>
        <p:grpSpPr>
          <a:xfrm>
            <a:off x="5335560" y="4086360"/>
            <a:ext cx="3812040" cy="2463840"/>
            <a:chOff x="5335560" y="4086360"/>
            <a:chExt cx="3812040" cy="2463840"/>
          </a:xfrm>
        </p:grpSpPr>
        <p:sp>
          <p:nvSpPr>
            <p:cNvPr id="584" name=""/>
            <p:cNvSpPr/>
            <p:nvPr/>
          </p:nvSpPr>
          <p:spPr>
            <a:xfrm>
              <a:off x="5335560" y="4086360"/>
              <a:ext cx="1905120" cy="2463840"/>
            </a:xfrm>
            <a:custGeom>
              <a:avLst/>
              <a:gdLst>
                <a:gd name="textAreaLeft" fmla="*/ 0 w 1905120"/>
                <a:gd name="textAreaRight" fmla="*/ 687960 w 1905120"/>
                <a:gd name="textAreaTop" fmla="*/ 100440 h 2463840"/>
                <a:gd name="textAreaBottom" fmla="*/ 2363400 h 246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12"/>
                    <a:pt x="10800" y="2823"/>
                  </a:cubicBezTo>
                  <a:lnTo>
                    <a:pt x="10800" y="3566"/>
                  </a:lnTo>
                  <a:cubicBezTo>
                    <a:pt x="10800" y="4978"/>
                    <a:pt x="16200" y="6389"/>
                    <a:pt x="21600" y="6389"/>
                  </a:cubicBezTo>
                  <a:cubicBezTo>
                    <a:pt x="16200" y="6389"/>
                    <a:pt x="10800" y="7801"/>
                    <a:pt x="10800" y="9212"/>
                  </a:cubicBezTo>
                  <a:lnTo>
                    <a:pt x="10800" y="18777"/>
                  </a:lnTo>
                  <a:cubicBezTo>
                    <a:pt x="10800" y="20189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6300720" y="4305240"/>
              <a:ext cx="2846880" cy="412560"/>
              <a:chOff x="6300720" y="4305240"/>
              <a:chExt cx="2846880" cy="412560"/>
            </a:xfrm>
          </p:grpSpPr>
          <p:sp>
            <p:nvSpPr>
              <p:cNvPr id="586" name=""/>
              <p:cNvSpPr/>
              <p:nvPr/>
            </p:nvSpPr>
            <p:spPr>
              <a:xfrm>
                <a:off x="6386040" y="4344840"/>
                <a:ext cx="2761560" cy="34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Top level model tabl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300720" y="4305240"/>
                <a:ext cx="2209680" cy="4125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8" name=""/>
          <p:cNvSpPr/>
          <p:nvPr/>
        </p:nvSpPr>
        <p:spPr>
          <a:xfrm flipH="1" flipV="1">
            <a:off x="234720" y="4089240"/>
            <a:ext cx="4924440" cy="12960"/>
          </a:xfrm>
          <a:prstGeom prst="line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217080" y="2439720"/>
            <a:ext cx="4924440" cy="12600"/>
          </a:xfrm>
          <a:prstGeom prst="line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8272440" y="-96840"/>
            <a:ext cx="871560" cy="1021320"/>
            <a:chOff x="8272440" y="-96840"/>
            <a:chExt cx="871560" cy="1021320"/>
          </a:xfrm>
        </p:grpSpPr>
        <p:sp>
          <p:nvSpPr>
            <p:cNvPr id="591" name=""/>
            <p:cNvSpPr/>
            <p:nvPr/>
          </p:nvSpPr>
          <p:spPr>
            <a:xfrm>
              <a:off x="8272440" y="-96840"/>
              <a:ext cx="871560" cy="102132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Driver schedules bas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8314200" y="559800"/>
              <a:ext cx="731520" cy="303480"/>
              <a:chOff x="8314200" y="559800"/>
              <a:chExt cx="731520" cy="30348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8314200" y="670680"/>
                <a:ext cx="731520" cy="192600"/>
                <a:chOff x="8314200" y="670680"/>
                <a:chExt cx="731520" cy="19260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8314200" y="815400"/>
                  <a:ext cx="731520" cy="47880"/>
                  <a:chOff x="8314200" y="815400"/>
                  <a:chExt cx="731520" cy="478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8436240" y="81540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8680320" y="81540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8802360" y="81540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8924400" y="81540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8558280" y="81540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8314200" y="81540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1" name=""/>
                <p:cNvGrpSpPr/>
                <p:nvPr/>
              </p:nvGrpSpPr>
              <p:grpSpPr>
                <a:xfrm>
                  <a:off x="8375400" y="767160"/>
                  <a:ext cx="609480" cy="47880"/>
                  <a:chOff x="8375400" y="767160"/>
                  <a:chExt cx="609480" cy="478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8375400" y="76716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8619480" y="76716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8741520" y="76716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8863560" y="76716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8497440" y="76716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" name=""/>
                <p:cNvGrpSpPr/>
                <p:nvPr/>
              </p:nvGrpSpPr>
              <p:grpSpPr>
                <a:xfrm>
                  <a:off x="8436240" y="670680"/>
                  <a:ext cx="487440" cy="96120"/>
                  <a:chOff x="8436240" y="670680"/>
                  <a:chExt cx="487440" cy="9612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8558280" y="71892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8802360" y="71892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8680320" y="71892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8436240" y="71892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8497440" y="67068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8741520" y="67068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8619480" y="670680"/>
                    <a:ext cx="121320" cy="47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5" name=""/>
              <p:cNvGrpSpPr/>
              <p:nvPr/>
            </p:nvGrpSpPr>
            <p:grpSpPr>
              <a:xfrm>
                <a:off x="8590320" y="670680"/>
                <a:ext cx="181800" cy="191880"/>
                <a:chOff x="8590320" y="670680"/>
                <a:chExt cx="181800" cy="191880"/>
              </a:xfrm>
            </p:grpSpPr>
            <p:grpSp>
              <p:nvGrpSpPr>
                <p:cNvPr id="616" name=""/>
                <p:cNvGrpSpPr/>
                <p:nvPr/>
              </p:nvGrpSpPr>
              <p:grpSpPr>
                <a:xfrm>
                  <a:off x="8590320" y="815400"/>
                  <a:ext cx="181800" cy="47160"/>
                  <a:chOff x="8590320" y="815400"/>
                  <a:chExt cx="181800" cy="4716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>
                    <a:off x="8597880" y="830880"/>
                    <a:ext cx="166680" cy="158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8590320" y="846720"/>
                    <a:ext cx="181800" cy="158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8605440" y="815400"/>
                    <a:ext cx="151560" cy="158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8613000" y="767160"/>
                  <a:ext cx="136440" cy="47160"/>
                  <a:chOff x="8613000" y="767160"/>
                  <a:chExt cx="136440" cy="4716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>
                    <a:off x="8618400" y="782640"/>
                    <a:ext cx="125280" cy="158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8613000" y="798480"/>
                    <a:ext cx="136440" cy="158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8624160" y="767160"/>
                    <a:ext cx="113760" cy="158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8628120" y="718920"/>
                  <a:ext cx="106200" cy="47160"/>
                  <a:chOff x="8628120" y="718920"/>
                  <a:chExt cx="106200" cy="4716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>
                    <a:off x="8632440" y="734400"/>
                    <a:ext cx="97560" cy="158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8628120" y="750240"/>
                    <a:ext cx="106200" cy="158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8636760" y="718920"/>
                    <a:ext cx="88560" cy="158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8643240" y="670680"/>
                  <a:ext cx="75600" cy="47160"/>
                  <a:chOff x="8643240" y="670680"/>
                  <a:chExt cx="75600" cy="471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>
                    <a:off x="8646120" y="686160"/>
                    <a:ext cx="69480" cy="158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8643240" y="702000"/>
                    <a:ext cx="75600" cy="158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8649360" y="670680"/>
                    <a:ext cx="63000" cy="158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2" name=""/>
              <p:cNvSpPr/>
              <p:nvPr/>
            </p:nvSpPr>
            <p:spPr>
              <a:xfrm>
                <a:off x="8528400" y="612720"/>
                <a:ext cx="303480" cy="568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8570520" y="634680"/>
                <a:ext cx="219600" cy="34200"/>
                <a:chOff x="8570520" y="634680"/>
                <a:chExt cx="219600" cy="342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8570520" y="634680"/>
                  <a:ext cx="30240" cy="3420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618400" y="634680"/>
                  <a:ext cx="30240" cy="3420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759880" y="634680"/>
                  <a:ext cx="30240" cy="3420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711640" y="634680"/>
                  <a:ext cx="30240" cy="3420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664480" y="634680"/>
                  <a:ext cx="30240" cy="3420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>
                <a:off x="8519760" y="608040"/>
                <a:ext cx="321120" cy="9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8526240" y="568800"/>
                <a:ext cx="308160" cy="38520"/>
              </a:xfrm>
              <a:custGeom>
                <a:avLst/>
                <a:gdLst>
                  <a:gd name="textAreaLeft" fmla="*/ 32040 w 308160"/>
                  <a:gd name="textAreaRight" fmla="*/ 276120 w 308160"/>
                  <a:gd name="textAreaTop" fmla="*/ 3960 h 38520"/>
                  <a:gd name="textAreaBottom" fmla="*/ 34560 h 3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535240" y="559800"/>
                <a:ext cx="288360" cy="9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top level model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3311640" y="941400"/>
            <a:ext cx="4781880" cy="2816280"/>
            <a:chOff x="3311640" y="941400"/>
            <a:chExt cx="4781880" cy="2816280"/>
          </a:xfrm>
        </p:grpSpPr>
        <p:sp>
          <p:nvSpPr>
            <p:cNvPr id="644" name=""/>
            <p:cNvSpPr/>
            <p:nvPr/>
          </p:nvSpPr>
          <p:spPr>
            <a:xfrm>
              <a:off x="3311640" y="941400"/>
              <a:ext cx="1904760" cy="2816280"/>
            </a:xfrm>
            <a:custGeom>
              <a:avLst/>
              <a:gdLst>
                <a:gd name="textAreaLeft" fmla="*/ 0 w 1904760"/>
                <a:gd name="textAreaRight" fmla="*/ 687960 w 1904760"/>
                <a:gd name="textAreaTop" fmla="*/ 115200 h 2816280"/>
                <a:gd name="textAreaBottom" fmla="*/ 2701080 h 281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12"/>
                    <a:pt x="10800" y="2823"/>
                  </a:cubicBezTo>
                  <a:lnTo>
                    <a:pt x="10800" y="3566"/>
                  </a:lnTo>
                  <a:cubicBezTo>
                    <a:pt x="10800" y="4978"/>
                    <a:pt x="16200" y="6389"/>
                    <a:pt x="21600" y="6389"/>
                  </a:cubicBezTo>
                  <a:cubicBezTo>
                    <a:pt x="16200" y="6389"/>
                    <a:pt x="10800" y="7801"/>
                    <a:pt x="10800" y="9212"/>
                  </a:cubicBezTo>
                  <a:lnTo>
                    <a:pt x="10800" y="18777"/>
                  </a:lnTo>
                  <a:cubicBezTo>
                    <a:pt x="10800" y="20189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5246640" y="1434960"/>
              <a:ext cx="2846880" cy="412560"/>
              <a:chOff x="5246640" y="1434960"/>
              <a:chExt cx="2846880" cy="412560"/>
            </a:xfrm>
          </p:grpSpPr>
          <p:sp>
            <p:nvSpPr>
              <p:cNvPr id="646" name=""/>
              <p:cNvSpPr/>
              <p:nvPr/>
            </p:nvSpPr>
            <p:spPr>
              <a:xfrm>
                <a:off x="5331960" y="1474560"/>
                <a:ext cx="2761560" cy="34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Top level model tabl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246640" y="1434960"/>
                <a:ext cx="2209680" cy="4125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8" name=""/>
          <p:cNvSpPr/>
          <p:nvPr/>
        </p:nvSpPr>
        <p:spPr>
          <a:xfrm>
            <a:off x="252360" y="903240"/>
            <a:ext cx="274320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_co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Voltage Range]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3.3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GND Clamp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lamp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ulldow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ullup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Ramp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V/dt_r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0V/1.8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V/dt_f       1.3V/1.5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18960" y="4073040"/>
            <a:ext cx="835992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tools, which don’t understand the [Driver schedule] keyword, there is a description of the rough/approximate behavior of the output with normal IBIS keywords, (called top level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7475400" y="-130320"/>
            <a:ext cx="1454400" cy="1173240"/>
            <a:chOff x="7475400" y="-130320"/>
            <a:chExt cx="1454400" cy="1173240"/>
          </a:xfrm>
        </p:grpSpPr>
        <p:sp>
          <p:nvSpPr>
            <p:cNvPr id="651" name=""/>
            <p:cNvSpPr/>
            <p:nvPr/>
          </p:nvSpPr>
          <p:spPr>
            <a:xfrm>
              <a:off x="7475400" y="-130320"/>
              <a:ext cx="1454400" cy="84528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Driver schedules bas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7545240" y="536760"/>
              <a:ext cx="1220760" cy="506160"/>
              <a:chOff x="7545240" y="536760"/>
              <a:chExt cx="1220760" cy="50616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7545240" y="721800"/>
                <a:ext cx="1220760" cy="321120"/>
                <a:chOff x="7545240" y="721800"/>
                <a:chExt cx="1220760" cy="32112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7545240" y="963360"/>
                  <a:ext cx="1220760" cy="79560"/>
                  <a:chOff x="7545240" y="963360"/>
                  <a:chExt cx="1220760" cy="7956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77486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815616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835992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856368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795240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75452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7647480" y="882720"/>
                  <a:ext cx="1017000" cy="79560"/>
                  <a:chOff x="7647480" y="882720"/>
                  <a:chExt cx="1017000" cy="7956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76474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805464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825840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846216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78508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7749360" y="721800"/>
                  <a:ext cx="813240" cy="159840"/>
                  <a:chOff x="7749360" y="721800"/>
                  <a:chExt cx="813240" cy="15984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795312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836028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815688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774936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785160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825912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805536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5" name=""/>
              <p:cNvGrpSpPr/>
              <p:nvPr/>
            </p:nvGrpSpPr>
            <p:grpSpPr>
              <a:xfrm>
                <a:off x="8006040" y="721800"/>
                <a:ext cx="303480" cy="320040"/>
                <a:chOff x="8006040" y="721800"/>
                <a:chExt cx="303480" cy="320040"/>
              </a:xfrm>
            </p:grpSpPr>
            <p:grpSp>
              <p:nvGrpSpPr>
                <p:cNvPr id="676" name=""/>
                <p:cNvGrpSpPr/>
                <p:nvPr/>
              </p:nvGrpSpPr>
              <p:grpSpPr>
                <a:xfrm>
                  <a:off x="8006040" y="963000"/>
                  <a:ext cx="303480" cy="78840"/>
                  <a:chOff x="8006040" y="963000"/>
                  <a:chExt cx="303480" cy="7884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>
                    <a:off x="8018640" y="988920"/>
                    <a:ext cx="2782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8006040" y="1015200"/>
                    <a:ext cx="303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8031240" y="963000"/>
                    <a:ext cx="2530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8043840" y="882720"/>
                  <a:ext cx="227520" cy="78840"/>
                  <a:chOff x="8043840" y="882720"/>
                  <a:chExt cx="227520" cy="7884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>
                    <a:off x="8053200" y="908640"/>
                    <a:ext cx="2088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8043840" y="934920"/>
                    <a:ext cx="2275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8062560" y="882720"/>
                    <a:ext cx="1897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8069400" y="802080"/>
                  <a:ext cx="177120" cy="78480"/>
                  <a:chOff x="8069400" y="802080"/>
                  <a:chExt cx="177120" cy="7848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>
                    <a:off x="8076600" y="827640"/>
                    <a:ext cx="162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8069400" y="853920"/>
                    <a:ext cx="1771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8083800" y="802080"/>
                    <a:ext cx="1476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8094600" y="721800"/>
                  <a:ext cx="126360" cy="78840"/>
                  <a:chOff x="8094600" y="721800"/>
                  <a:chExt cx="126360" cy="7884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>
                    <a:off x="8099640" y="747720"/>
                    <a:ext cx="1159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8094600" y="774000"/>
                    <a:ext cx="126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8105040" y="721800"/>
                    <a:ext cx="105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2" name=""/>
              <p:cNvSpPr/>
              <p:nvPr/>
            </p:nvSpPr>
            <p:spPr>
              <a:xfrm>
                <a:off x="7902720" y="625320"/>
                <a:ext cx="506160" cy="950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"/>
              <p:cNvGrpSpPr/>
              <p:nvPr/>
            </p:nvGrpSpPr>
            <p:grpSpPr>
              <a:xfrm>
                <a:off x="7972920" y="661680"/>
                <a:ext cx="366480" cy="56880"/>
                <a:chOff x="7972920" y="661680"/>
                <a:chExt cx="366480" cy="568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79729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805284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828900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82087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81295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9" name=""/>
              <p:cNvSpPr/>
              <p:nvPr/>
            </p:nvSpPr>
            <p:spPr>
              <a:xfrm>
                <a:off x="7887960" y="617040"/>
                <a:ext cx="53604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7898760" y="55296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914240" y="536760"/>
                <a:ext cx="48096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scheduled model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60280" y="749160"/>
            <a:ext cx="3389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Model]       3-Driver-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_type   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5940360" y="1682640"/>
            <a:ext cx="2968560" cy="1879560"/>
            <a:chOff x="5940360" y="1682640"/>
            <a:chExt cx="2968560" cy="1879560"/>
          </a:xfrm>
        </p:grpSpPr>
        <p:sp>
          <p:nvSpPr>
            <p:cNvPr id="705" name=""/>
            <p:cNvSpPr/>
            <p:nvPr/>
          </p:nvSpPr>
          <p:spPr>
            <a:xfrm>
              <a:off x="5940360" y="1682640"/>
              <a:ext cx="806400" cy="1879560"/>
            </a:xfrm>
            <a:custGeom>
              <a:avLst/>
              <a:gdLst>
                <a:gd name="textAreaLeft" fmla="*/ 0 w 806400"/>
                <a:gd name="textAreaRight" fmla="*/ 291240 w 806400"/>
                <a:gd name="textAreaTop" fmla="*/ 76680 h 1879560"/>
                <a:gd name="textAreaBottom" fmla="*/ 1802880 h 18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12"/>
                    <a:pt x="10800" y="2823"/>
                  </a:cubicBezTo>
                  <a:lnTo>
                    <a:pt x="10800" y="3566"/>
                  </a:lnTo>
                  <a:cubicBezTo>
                    <a:pt x="10800" y="4978"/>
                    <a:pt x="16200" y="6389"/>
                    <a:pt x="21600" y="6389"/>
                  </a:cubicBezTo>
                  <a:cubicBezTo>
                    <a:pt x="16200" y="6389"/>
                    <a:pt x="10800" y="7801"/>
                    <a:pt x="10800" y="9212"/>
                  </a:cubicBezTo>
                  <a:lnTo>
                    <a:pt x="10800" y="18777"/>
                  </a:lnTo>
                  <a:cubicBezTo>
                    <a:pt x="10800" y="20189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6554880" y="1760400"/>
              <a:ext cx="2354040" cy="412560"/>
              <a:chOff x="6554880" y="1760400"/>
              <a:chExt cx="2354040" cy="412560"/>
            </a:xfrm>
          </p:grpSpPr>
          <p:sp>
            <p:nvSpPr>
              <p:cNvPr id="707" name=""/>
              <p:cNvSpPr/>
              <p:nvPr/>
            </p:nvSpPr>
            <p:spPr>
              <a:xfrm>
                <a:off x="6639480" y="1800000"/>
                <a:ext cx="2269440" cy="34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scheduled model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54880" y="1760400"/>
                <a:ext cx="2209680" cy="4125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9" name=""/>
          <p:cNvSpPr/>
          <p:nvPr/>
        </p:nvSpPr>
        <p:spPr>
          <a:xfrm>
            <a:off x="312840" y="1623960"/>
            <a:ext cx="550044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Driver Schedul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Model_name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_on_dly   Rise_off_dly   Fall_on_dly   Fall_off_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_1       0s           NA               0ns             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_2       0.5ns      NA               0ns             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_3       1.0ns      2.5ns           NA               N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291600" y="3693960"/>
            <a:ext cx="7574040" cy="28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Driver schedule contains the exact timing information about the time, when the different driverstage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switching behavior of each driverstage itself is described like that of  a normal IBIS IO-model in a [Model]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7475400" y="-130320"/>
            <a:ext cx="1454400" cy="1173240"/>
            <a:chOff x="7475400" y="-130320"/>
            <a:chExt cx="1454400" cy="1173240"/>
          </a:xfrm>
        </p:grpSpPr>
        <p:sp>
          <p:nvSpPr>
            <p:cNvPr id="712" name=""/>
            <p:cNvSpPr/>
            <p:nvPr/>
          </p:nvSpPr>
          <p:spPr>
            <a:xfrm>
              <a:off x="7475400" y="-130320"/>
              <a:ext cx="1454400" cy="84528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Driver schedules bas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7545240" y="536760"/>
              <a:ext cx="1220760" cy="506160"/>
              <a:chOff x="7545240" y="536760"/>
              <a:chExt cx="1220760" cy="50616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7545240" y="721800"/>
                <a:ext cx="1220760" cy="321120"/>
                <a:chOff x="7545240" y="721800"/>
                <a:chExt cx="1220760" cy="321120"/>
              </a:xfrm>
            </p:grpSpPr>
            <p:grpSp>
              <p:nvGrpSpPr>
                <p:cNvPr id="715" name=""/>
                <p:cNvGrpSpPr/>
                <p:nvPr/>
              </p:nvGrpSpPr>
              <p:grpSpPr>
                <a:xfrm>
                  <a:off x="7545240" y="963360"/>
                  <a:ext cx="1220760" cy="79560"/>
                  <a:chOff x="7545240" y="963360"/>
                  <a:chExt cx="1220760" cy="7956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77486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815616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835992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856368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795240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75452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2" name=""/>
                <p:cNvGrpSpPr/>
                <p:nvPr/>
              </p:nvGrpSpPr>
              <p:grpSpPr>
                <a:xfrm>
                  <a:off x="7647480" y="882720"/>
                  <a:ext cx="1017000" cy="79560"/>
                  <a:chOff x="7647480" y="882720"/>
                  <a:chExt cx="1017000" cy="7956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76474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805464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825840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846216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78508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8" name=""/>
                <p:cNvGrpSpPr/>
                <p:nvPr/>
              </p:nvGrpSpPr>
              <p:grpSpPr>
                <a:xfrm>
                  <a:off x="7749360" y="721800"/>
                  <a:ext cx="813240" cy="159840"/>
                  <a:chOff x="7749360" y="721800"/>
                  <a:chExt cx="813240" cy="15984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>
                    <a:off x="795312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836028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815688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774936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785160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825912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805536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6" name=""/>
              <p:cNvGrpSpPr/>
              <p:nvPr/>
            </p:nvGrpSpPr>
            <p:grpSpPr>
              <a:xfrm>
                <a:off x="8006040" y="721800"/>
                <a:ext cx="303480" cy="320040"/>
                <a:chOff x="8006040" y="721800"/>
                <a:chExt cx="303480" cy="320040"/>
              </a:xfrm>
            </p:grpSpPr>
            <p:grpSp>
              <p:nvGrpSpPr>
                <p:cNvPr id="737" name=""/>
                <p:cNvGrpSpPr/>
                <p:nvPr/>
              </p:nvGrpSpPr>
              <p:grpSpPr>
                <a:xfrm>
                  <a:off x="8006040" y="963000"/>
                  <a:ext cx="303480" cy="78840"/>
                  <a:chOff x="8006040" y="963000"/>
                  <a:chExt cx="303480" cy="78840"/>
                </a:xfrm>
              </p:grpSpPr>
              <p:sp>
                <p:nvSpPr>
                  <p:cNvPr id="738" name=""/>
                  <p:cNvSpPr/>
                  <p:nvPr/>
                </p:nvSpPr>
                <p:spPr>
                  <a:xfrm>
                    <a:off x="8018640" y="988920"/>
                    <a:ext cx="2782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8006040" y="1015200"/>
                    <a:ext cx="303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8031240" y="963000"/>
                    <a:ext cx="2530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8043840" y="882720"/>
                  <a:ext cx="227520" cy="78840"/>
                  <a:chOff x="8043840" y="882720"/>
                  <a:chExt cx="227520" cy="7884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>
                    <a:off x="8053200" y="908640"/>
                    <a:ext cx="2088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8043840" y="934920"/>
                    <a:ext cx="2275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8062560" y="882720"/>
                    <a:ext cx="1897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5" name=""/>
                <p:cNvGrpSpPr/>
                <p:nvPr/>
              </p:nvGrpSpPr>
              <p:grpSpPr>
                <a:xfrm>
                  <a:off x="8069400" y="802080"/>
                  <a:ext cx="177120" cy="78480"/>
                  <a:chOff x="8069400" y="802080"/>
                  <a:chExt cx="177120" cy="78480"/>
                </a:xfrm>
              </p:grpSpPr>
              <p:sp>
                <p:nvSpPr>
                  <p:cNvPr id="746" name=""/>
                  <p:cNvSpPr/>
                  <p:nvPr/>
                </p:nvSpPr>
                <p:spPr>
                  <a:xfrm>
                    <a:off x="8076600" y="827640"/>
                    <a:ext cx="162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8069400" y="853920"/>
                    <a:ext cx="1771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8083800" y="802080"/>
                    <a:ext cx="1476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"/>
                <p:cNvGrpSpPr/>
                <p:nvPr/>
              </p:nvGrpSpPr>
              <p:grpSpPr>
                <a:xfrm>
                  <a:off x="8094600" y="721800"/>
                  <a:ext cx="126360" cy="78840"/>
                  <a:chOff x="8094600" y="721800"/>
                  <a:chExt cx="126360" cy="7884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>
                    <a:off x="8099640" y="747720"/>
                    <a:ext cx="1159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8094600" y="774000"/>
                    <a:ext cx="126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8105040" y="721800"/>
                    <a:ext cx="105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3" name=""/>
              <p:cNvSpPr/>
              <p:nvPr/>
            </p:nvSpPr>
            <p:spPr>
              <a:xfrm>
                <a:off x="7902720" y="625320"/>
                <a:ext cx="506160" cy="950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7972920" y="661680"/>
                <a:ext cx="366480" cy="56880"/>
                <a:chOff x="7972920" y="661680"/>
                <a:chExt cx="366480" cy="5688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9729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805284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828900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82087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81295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0" name=""/>
              <p:cNvSpPr/>
              <p:nvPr/>
            </p:nvSpPr>
            <p:spPr>
              <a:xfrm>
                <a:off x="7887960" y="617040"/>
                <a:ext cx="53604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7898760" y="55296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914240" y="536760"/>
                <a:ext cx="48096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scheduled models timing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74680" y="2090880"/>
            <a:ext cx="8607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Model_name  Rise_on_dly   Rise_off_dly   Fall_on_dly    Fall_off_d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_1       1.0ns            2.5ns                 0ns               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957320" y="1271520"/>
            <a:ext cx="3040200" cy="819360"/>
            <a:chOff x="1957320" y="1271520"/>
            <a:chExt cx="3040200" cy="819360"/>
          </a:xfrm>
        </p:grpSpPr>
        <p:sp>
          <p:nvSpPr>
            <p:cNvPr id="766" name=""/>
            <p:cNvSpPr/>
            <p:nvPr/>
          </p:nvSpPr>
          <p:spPr>
            <a:xfrm flipV="1" rot="16200000">
              <a:off x="3254400" y="347760"/>
              <a:ext cx="449280" cy="3036960"/>
            </a:xfrm>
            <a:custGeom>
              <a:avLst/>
              <a:gdLst>
                <a:gd name="textAreaLeft" fmla="*/ 0 w 449280"/>
                <a:gd name="textAreaRight" fmla="*/ 162360 w 449280"/>
                <a:gd name="textAreaTop" fmla="*/ 124200 h 3036960"/>
                <a:gd name="textAreaBottom" fmla="*/ 291276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12"/>
                    <a:pt x="10800" y="2823"/>
                  </a:cubicBezTo>
                  <a:lnTo>
                    <a:pt x="10800" y="3566"/>
                  </a:lnTo>
                  <a:cubicBezTo>
                    <a:pt x="10800" y="4978"/>
                    <a:pt x="16200" y="6389"/>
                    <a:pt x="21600" y="6389"/>
                  </a:cubicBezTo>
                  <a:cubicBezTo>
                    <a:pt x="16200" y="6389"/>
                    <a:pt x="10800" y="7801"/>
                    <a:pt x="10800" y="9212"/>
                  </a:cubicBezTo>
                  <a:lnTo>
                    <a:pt x="10800" y="18777"/>
                  </a:lnTo>
                  <a:cubicBezTo>
                    <a:pt x="10800" y="20189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57320" y="1271520"/>
              <a:ext cx="2678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ising edge (L-&gt;H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5178600" y="1295280"/>
            <a:ext cx="2910960" cy="795600"/>
            <a:chOff x="5178600" y="1295280"/>
            <a:chExt cx="2910960" cy="795600"/>
          </a:xfrm>
        </p:grpSpPr>
        <p:sp>
          <p:nvSpPr>
            <p:cNvPr id="769" name=""/>
            <p:cNvSpPr/>
            <p:nvPr/>
          </p:nvSpPr>
          <p:spPr>
            <a:xfrm flipV="1" rot="16200000">
              <a:off x="6409800" y="411120"/>
              <a:ext cx="449280" cy="2909880"/>
            </a:xfrm>
            <a:custGeom>
              <a:avLst/>
              <a:gdLst>
                <a:gd name="textAreaLeft" fmla="*/ 0 w 449280"/>
                <a:gd name="textAreaRight" fmla="*/ 162360 w 449280"/>
                <a:gd name="textAreaTop" fmla="*/ 118800 h 2909880"/>
                <a:gd name="textAreaBottom" fmla="*/ 2791080 h 29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12"/>
                    <a:pt x="10800" y="2823"/>
                  </a:cubicBezTo>
                  <a:lnTo>
                    <a:pt x="10800" y="3566"/>
                  </a:lnTo>
                  <a:cubicBezTo>
                    <a:pt x="10800" y="4978"/>
                    <a:pt x="16200" y="6389"/>
                    <a:pt x="21600" y="6389"/>
                  </a:cubicBezTo>
                  <a:cubicBezTo>
                    <a:pt x="16200" y="6389"/>
                    <a:pt x="10800" y="7801"/>
                    <a:pt x="10800" y="9212"/>
                  </a:cubicBezTo>
                  <a:lnTo>
                    <a:pt x="10800" y="18777"/>
                  </a:lnTo>
                  <a:cubicBezTo>
                    <a:pt x="10800" y="20189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178600" y="1295280"/>
              <a:ext cx="2678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alling edge (H-&gt;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1596960" y="3109680"/>
            <a:ext cx="1567080" cy="2873520"/>
            <a:chOff x="1596960" y="3109680"/>
            <a:chExt cx="1567080" cy="2873520"/>
          </a:xfrm>
        </p:grpSpPr>
        <p:sp>
          <p:nvSpPr>
            <p:cNvPr id="772" name=""/>
            <p:cNvSpPr/>
            <p:nvPr/>
          </p:nvSpPr>
          <p:spPr>
            <a:xfrm>
              <a:off x="1596960" y="3706920"/>
              <a:ext cx="1567080" cy="22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urn on pullup-stru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urn off pulldown-stru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6200000">
              <a:off x="2060640" y="3098520"/>
              <a:ext cx="353880" cy="376200"/>
            </a:xfrm>
            <a:prstGeom prst="rightArrow">
              <a:avLst>
                <a:gd name="adj1" fmla="val 56120"/>
                <a:gd name="adj2" fmla="val 47898"/>
              </a:avLst>
            </a:prstGeom>
            <a:solidFill>
              <a:srgbClr val="ffcc00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3368520" y="3109680"/>
            <a:ext cx="1567080" cy="2873520"/>
            <a:chOff x="3368520" y="3109680"/>
            <a:chExt cx="1567080" cy="2873520"/>
          </a:xfrm>
        </p:grpSpPr>
        <p:sp>
          <p:nvSpPr>
            <p:cNvPr id="775" name=""/>
            <p:cNvSpPr/>
            <p:nvPr/>
          </p:nvSpPr>
          <p:spPr>
            <a:xfrm>
              <a:off x="3368520" y="3706920"/>
              <a:ext cx="1567080" cy="22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urn off pullup-stru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urn on pulldown-stru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6200000">
              <a:off x="3676680" y="3098520"/>
              <a:ext cx="353880" cy="376200"/>
            </a:xfrm>
            <a:prstGeom prst="rightArrow">
              <a:avLst>
                <a:gd name="adj1" fmla="val 56120"/>
                <a:gd name="adj2" fmla="val 47898"/>
              </a:avLst>
            </a:prstGeom>
            <a:solidFill>
              <a:srgbClr val="ffcc00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5113440" y="3109680"/>
            <a:ext cx="1552320" cy="2873520"/>
            <a:chOff x="5113440" y="3109680"/>
            <a:chExt cx="1552320" cy="2873520"/>
          </a:xfrm>
        </p:grpSpPr>
        <p:sp>
          <p:nvSpPr>
            <p:cNvPr id="778" name=""/>
            <p:cNvSpPr/>
            <p:nvPr/>
          </p:nvSpPr>
          <p:spPr>
            <a:xfrm>
              <a:off x="5113440" y="3706920"/>
              <a:ext cx="1552320" cy="22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urn on pulldown-stru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urn off pullup-stru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6200000">
              <a:off x="5275440" y="3098520"/>
              <a:ext cx="353880" cy="376200"/>
            </a:xfrm>
            <a:prstGeom prst="rightArrow">
              <a:avLst>
                <a:gd name="adj1" fmla="val 56120"/>
                <a:gd name="adj2" fmla="val 47898"/>
              </a:avLst>
            </a:prstGeom>
            <a:solidFill>
              <a:srgbClr val="ffcc00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6880320" y="3109680"/>
            <a:ext cx="1638360" cy="2873520"/>
            <a:chOff x="6880320" y="3109680"/>
            <a:chExt cx="1638360" cy="2873520"/>
          </a:xfrm>
        </p:grpSpPr>
        <p:sp>
          <p:nvSpPr>
            <p:cNvPr id="781" name=""/>
            <p:cNvSpPr/>
            <p:nvPr/>
          </p:nvSpPr>
          <p:spPr>
            <a:xfrm>
              <a:off x="6939000" y="3706920"/>
              <a:ext cx="1579680" cy="22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urn off pulldown-stru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urn on pullup-stru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200000">
              <a:off x="6891480" y="3098520"/>
              <a:ext cx="353880" cy="376200"/>
            </a:xfrm>
            <a:prstGeom prst="rightArrow">
              <a:avLst>
                <a:gd name="adj1" fmla="val 56120"/>
                <a:gd name="adj2" fmla="val 47898"/>
              </a:avLst>
            </a:prstGeom>
            <a:solidFill>
              <a:srgbClr val="ffcc00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7475400" y="-130320"/>
            <a:ext cx="1454400" cy="1173240"/>
            <a:chOff x="7475400" y="-130320"/>
            <a:chExt cx="1454400" cy="1173240"/>
          </a:xfrm>
        </p:grpSpPr>
        <p:sp>
          <p:nvSpPr>
            <p:cNvPr id="784" name=""/>
            <p:cNvSpPr/>
            <p:nvPr/>
          </p:nvSpPr>
          <p:spPr>
            <a:xfrm>
              <a:off x="7475400" y="-130320"/>
              <a:ext cx="1454400" cy="84528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Driver schedules bas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7545240" y="536760"/>
              <a:ext cx="1220760" cy="506160"/>
              <a:chOff x="7545240" y="536760"/>
              <a:chExt cx="1220760" cy="506160"/>
            </a:xfrm>
          </p:grpSpPr>
          <p:grpSp>
            <p:nvGrpSpPr>
              <p:cNvPr id="786" name=""/>
              <p:cNvGrpSpPr/>
              <p:nvPr/>
            </p:nvGrpSpPr>
            <p:grpSpPr>
              <a:xfrm>
                <a:off x="7545240" y="721800"/>
                <a:ext cx="1220760" cy="321120"/>
                <a:chOff x="7545240" y="721800"/>
                <a:chExt cx="1220760" cy="321120"/>
              </a:xfrm>
            </p:grpSpPr>
            <p:grpSp>
              <p:nvGrpSpPr>
                <p:cNvPr id="787" name=""/>
                <p:cNvGrpSpPr/>
                <p:nvPr/>
              </p:nvGrpSpPr>
              <p:grpSpPr>
                <a:xfrm>
                  <a:off x="7545240" y="963360"/>
                  <a:ext cx="1220760" cy="79560"/>
                  <a:chOff x="7545240" y="963360"/>
                  <a:chExt cx="1220760" cy="7956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77486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815616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835992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856368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795240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7545240" y="96336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7647480" y="882720"/>
                  <a:ext cx="1017000" cy="79560"/>
                  <a:chOff x="7647480" y="882720"/>
                  <a:chExt cx="1017000" cy="7956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>
                    <a:off x="76474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805464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825840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846216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7850880" y="88272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0" name=""/>
                <p:cNvGrpSpPr/>
                <p:nvPr/>
              </p:nvGrpSpPr>
              <p:grpSpPr>
                <a:xfrm>
                  <a:off x="7749360" y="721800"/>
                  <a:ext cx="813240" cy="159840"/>
                  <a:chOff x="7749360" y="721800"/>
                  <a:chExt cx="813240" cy="15984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>
                    <a:off x="795312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836028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815688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7749360" y="80208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785160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825912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8055360" y="721800"/>
                    <a:ext cx="202320" cy="795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8" name=""/>
              <p:cNvGrpSpPr/>
              <p:nvPr/>
            </p:nvGrpSpPr>
            <p:grpSpPr>
              <a:xfrm>
                <a:off x="8006040" y="721800"/>
                <a:ext cx="303480" cy="320040"/>
                <a:chOff x="8006040" y="721800"/>
                <a:chExt cx="303480" cy="320040"/>
              </a:xfrm>
            </p:grpSpPr>
            <p:grpSp>
              <p:nvGrpSpPr>
                <p:cNvPr id="809" name=""/>
                <p:cNvGrpSpPr/>
                <p:nvPr/>
              </p:nvGrpSpPr>
              <p:grpSpPr>
                <a:xfrm>
                  <a:off x="8006040" y="963000"/>
                  <a:ext cx="303480" cy="78840"/>
                  <a:chOff x="8006040" y="963000"/>
                  <a:chExt cx="303480" cy="7884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>
                    <a:off x="8018640" y="988920"/>
                    <a:ext cx="2782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8006040" y="1015200"/>
                    <a:ext cx="303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8031240" y="963000"/>
                    <a:ext cx="2530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8043840" y="882720"/>
                  <a:ext cx="227520" cy="78840"/>
                  <a:chOff x="8043840" y="882720"/>
                  <a:chExt cx="227520" cy="7884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>
                    <a:off x="8053200" y="908640"/>
                    <a:ext cx="2088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8043840" y="934920"/>
                    <a:ext cx="2275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8062560" y="882720"/>
                    <a:ext cx="1897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7" name=""/>
                <p:cNvGrpSpPr/>
                <p:nvPr/>
              </p:nvGrpSpPr>
              <p:grpSpPr>
                <a:xfrm>
                  <a:off x="8069400" y="802080"/>
                  <a:ext cx="177120" cy="78480"/>
                  <a:chOff x="8069400" y="802080"/>
                  <a:chExt cx="177120" cy="7848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>
                    <a:off x="8076600" y="827640"/>
                    <a:ext cx="162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8069400" y="853920"/>
                    <a:ext cx="1771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8083800" y="802080"/>
                    <a:ext cx="14760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1" name=""/>
                <p:cNvGrpSpPr/>
                <p:nvPr/>
              </p:nvGrpSpPr>
              <p:grpSpPr>
                <a:xfrm>
                  <a:off x="8094600" y="721800"/>
                  <a:ext cx="126360" cy="78840"/>
                  <a:chOff x="8094600" y="721800"/>
                  <a:chExt cx="126360" cy="7884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>
                    <a:off x="8099640" y="747720"/>
                    <a:ext cx="11592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8094600" y="774000"/>
                    <a:ext cx="12636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8105040" y="721800"/>
                    <a:ext cx="105480" cy="26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5" name=""/>
              <p:cNvSpPr/>
              <p:nvPr/>
            </p:nvSpPr>
            <p:spPr>
              <a:xfrm>
                <a:off x="7902720" y="625320"/>
                <a:ext cx="506160" cy="950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"/>
              <p:cNvGrpSpPr/>
              <p:nvPr/>
            </p:nvGrpSpPr>
            <p:grpSpPr>
              <a:xfrm>
                <a:off x="7972920" y="661680"/>
                <a:ext cx="366480" cy="56880"/>
                <a:chOff x="7972920" y="661680"/>
                <a:chExt cx="366480" cy="5688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9729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805284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28900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2087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8129520" y="661680"/>
                  <a:ext cx="50400" cy="568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2" name=""/>
              <p:cNvSpPr/>
              <p:nvPr/>
            </p:nvSpPr>
            <p:spPr>
              <a:xfrm>
                <a:off x="7887960" y="617040"/>
                <a:ext cx="53604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7898760" y="55296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914240" y="536760"/>
                <a:ext cx="480960" cy="15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8:17:14Z</dcterms:created>
  <dc:creator>Lenski</dc:creator>
  <dc:description/>
  <cp:keywords/>
  <dc:language>en-US</dc:language>
  <cp:lastModifiedBy>ICN Windows2000 Netz</cp:lastModifiedBy>
  <cp:lastPrinted>1998-09-04T08:04:32Z</cp:lastPrinted>
  <dcterms:modified xsi:type="dcterms:W3CDTF">2007-04-17T06:37:06Z</dcterms:modified>
  <cp:revision>46</cp:revision>
  <dc:subject>Nokia Siemens Networks template</dc:subject>
  <dc:title>Experiences with driver schedules</dc:title>
</cp:coreProperties>
</file>