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37C8-8C3D-45EC-967B-E97B533D5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15FD-602D-44F8-94F7-CBA59E5DC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D9E1-9F54-4576-9FC3-F4A378557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0D47-9641-44D1-AA6F-765010947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5C03-9867-4BF0-9814-2C34BB2A3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F169-D752-456E-B952-11F3F9ED7B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9277-3938-4F2F-BEA2-E1C6D5F189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0C35-DE5E-46D7-89DC-3552ABDAE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D7F7-8652-48AB-BB80-A3044CE48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3BEB-9E09-4F34-9E39-01FB8E4C4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C6C8-3560-4D38-8269-00F3478E5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0D63-3255-4E10-AB80-9E37DEE5E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7BDD-D997-4503-AED9-CC39033062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32F3-8669-4AA9-9E03-3659D4E14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6ED6-3AE1-45F1-8873-FBBADDB546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CB81-0184-4205-8F5F-D5EBF0940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1AC2-43D9-4F1D-9CB3-7F38FB20C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35BB-A301-4A75-B07C-3901D02B6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B318-8365-467F-B386-06C0EFE02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4DEB-959F-4392-A9D2-29DD76C7C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441C-566B-43FB-8A58-3CD526A38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0979-BF06-4E71-A288-CBEDEAAE2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1D58-EEFA-49B7-91D3-9E287AEB2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24EE-3B90-44AC-AEEF-78F0A5098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9692-FB94-4F0B-B4A9-E70569890B84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DBA-9FF0-4588-8A79-52C78026EF7E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IBIS Buffer Model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Pre-emphasis</a:t>
            </a:r>
            <a:br>
              <a:rPr sz="2800"/>
            </a:b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ce Wa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Con East - IBIS Summit, April 200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73EB-6AFE-4F71-B4E5-8FDFC8A7B123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Result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876920" cy="219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858000" cy="31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2976-F9A1-44BE-854E-E183498C004B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Result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2217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63244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E47F-200D-42E2-8AC1-D7BD655EF9B9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Result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2316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52578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84D9-4F5F-490D-A2A2-1AFF2DC79955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Keys for IBIS Implement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oost Source Data Extra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ain Source Scal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-comp and Internal Termina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imulus Delay (1 bit for Pre-emphasi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ore Complicated DSP Applications are com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A75A-D173-43BB-9E9A-133F7BB0B52D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What IBIS could do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(Discussion)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pport Scalable Current Sour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“Scale Fact” into [Pin] se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r, Introduce “Scaled” [Model] Refer to the Main Sour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pport Multiple Stimulus Inputs with Delay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“Stimulus Delay” into [Model] se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r, Introduce new [Signal] keyword for Signal Grouping with Stimulus Delays, Signal Logic Operations (OR, AND, …) etc. Even Scaling Fac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292B-813A-4065-9D3D-934B62FB2B6D}" type="slidenum">
              <a:t>14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re-emphasis Application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428640" y="243864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3276720"/>
            <a:ext cx="152280" cy="1522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62520" y="2437920"/>
            <a:ext cx="0" cy="2286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438280"/>
            <a:ext cx="28191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352680"/>
            <a:ext cx="27432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114440" y="44197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0a55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257800"/>
            <a:ext cx="152280" cy="152280"/>
          </a:xfrm>
          <a:prstGeom prst="ellipse">
            <a:avLst/>
          </a:prstGeom>
          <a:solidFill>
            <a:srgbClr val="0a55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48320" y="44193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33412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019920" y="2438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33526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2362320"/>
            <a:ext cx="152280" cy="1522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276720"/>
            <a:ext cx="152280" cy="1522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71800"/>
            <a:ext cx="16002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8769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457200" cy="609480"/>
          </a:xfrm>
          <a:prstGeom prst="flowChartDelay">
            <a:avLst/>
          </a:prstGeom>
          <a:solidFill>
            <a:srgbClr val="ffe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29718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5146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8195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2514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5146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8195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2438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33526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0920" y="1933560"/>
            <a:ext cx="13600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i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5840" y="5638680"/>
            <a:ext cx="14868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oos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240" y="5334120"/>
            <a:ext cx="648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(1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7360" y="2133720"/>
            <a:ext cx="9669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590920"/>
            <a:ext cx="1334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Empha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4795-0723-4561-8089-7576E0E3A731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Buffer Models for Pre-emphasi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ract Buffer Data for Main Sour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ract Buffer Data for Boost Sour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rom common applications, they could be scaled from Main Sources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imulus Delay for Boost Sour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943D-E089-4561-998F-A4052C504BEF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687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4d4d"/>
                </a:solidFill>
                <a:latin typeface="Arial"/>
              </a:rPr>
              <a:t>An example</a:t>
            </a: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DD30-2A3F-48A7-8F67-9E43E9AE9A32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Parameter Setting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2720" y="1677960"/>
            <a:ext cx="4527000" cy="34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"pre-emphasis_driver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Macro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MacroType TDiffIO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NumberOfTerminals 8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Buff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BUFF pre_emph_dB_drvr 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MinTypMaxParams</a:t>
            </a: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(eqdb -3.5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(bitp 400p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(padcap 0.3p) </a:t>
            </a:r>
            <a:r>
              <a:rPr b="0" lang="en-US" sz="1800" spc="-1" strike="noStrike">
                <a:solidFill>
                  <a:srgbClr val="c0c0c0"/>
                </a:solidFill>
                <a:latin typeface="Courier New"/>
              </a:rPr>
              <a:t>) )</a:t>
            </a: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dddddd"/>
                </a:solidFill>
                <a:latin typeface="Courier New"/>
              </a:rPr>
              <a:t>(SubCircuits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19160" y="1905120"/>
            <a:ext cx="1981080" cy="2133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219320"/>
            <a:ext cx="3809880" cy="1218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Equalization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(Main Source vs. Boost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440" y="3124080"/>
            <a:ext cx="2590920" cy="1143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2743200"/>
            <a:ext cx="167616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it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040" y="4191120"/>
            <a:ext cx="335268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3962520"/>
            <a:ext cx="167652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_co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12F7-F3D8-4D9C-BA3E-0D13EAD55FE2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Boost Source Scaling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552680"/>
            <a:ext cx="3832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ddddd"/>
                </a:solidFill>
                <a:latin typeface="Arial"/>
              </a:rPr>
              <a:t>.param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eqf='1.0 - (10.0 ^ (eqdb/20.0))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ddddd"/>
                </a:solidFill>
                <a:latin typeface="Arial"/>
              </a:rPr>
              <a:t>.param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cf1='cf0 * eqf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467080"/>
            <a:ext cx="39783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xtx0 nvdd out ngnd in0 en tx scale='cf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xtx1 nvdd out ngnd in1 en tx scale='cf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6240" y="3457440"/>
            <a:ext cx="67305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subckt tx nvdd out ngnd in en scal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drvr nvdd out ngnd in en Model=BUFF File=ibis_file c_compX=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+ VIScale_pulldown='scale'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ends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029200" y="1676520"/>
            <a:ext cx="838080" cy="759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371600"/>
            <a:ext cx="21337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cal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57800" y="2666880"/>
            <a:ext cx="838080" cy="763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286000"/>
            <a:ext cx="221004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ircuit call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cal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495680" y="4267080"/>
            <a:ext cx="91440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343400"/>
            <a:ext cx="198144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drvr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7520" y="5210280"/>
            <a:ext cx="3661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You can use other Spice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o produce the sam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0564-D8ED-4115-B21B-296108D9FD99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Stimulus Delay)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22200" y="1552680"/>
            <a:ext cx="42451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xin0 in0 in ngnd delayin inv=inv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xin1 in1 in ngnd delayin inv=inv1 del='bitp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1120" y="2695680"/>
            <a:ext cx="5910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subckt delayin in1 in ngnd inv=0 de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inp in2 ngnd v='inv * (1 - v(in,ngnd)) + (1-inv) * v(in,ngnd)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in1 in1 ngnd pwl in2 ngnd delay=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atapoints v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nd v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ends delay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562360" y="190512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1523880"/>
            <a:ext cx="2590920" cy="838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timulu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On Boos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809880" y="3733560"/>
            <a:ext cx="1447920" cy="990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4343400"/>
            <a:ext cx="259092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timulu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7520" y="5210280"/>
            <a:ext cx="3661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You can use other Spice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o produce the sam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E88C-358A-4ED1-AF19-850E502B6730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Result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543040" cy="1486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666880" y="2317680"/>
            <a:ext cx="5486400" cy="38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55D4-70EF-4755-84C8-F43F099941EF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work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Result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72464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6705720" cy="33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F61E-4C03-4A0F-BEB4-A86973E08D7A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9:39:45Z</dcterms:created>
  <dc:creator>Lynne Green</dc:creator>
  <dc:description/>
  <dc:language>en-US</dc:language>
  <cp:lastModifiedBy>lwang</cp:lastModifiedBy>
  <cp:lastPrinted>2001-02-02T22:51:20Z</cp:lastPrinted>
  <dcterms:modified xsi:type="dcterms:W3CDTF">2004-03-30T22:45:42Z</dcterms:modified>
  <cp:revision>9</cp:revision>
  <dc:subject/>
  <dc:title>IBIS 4.1</dc:title>
</cp:coreProperties>
</file>