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2-2004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9F5D09E5-AD28-4CAD-95CE-AE3E8D742B31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Hierarchical Overrides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nd BIRD88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76760"/>
            <a:ext cx="64008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East 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xborough, Massachuset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ril 5, 200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cheduled Model Initial States (should be implemented for full capability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_on R_off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_on F_of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odel Lo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odel Hig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296960" y="1390680"/>
            <a:ext cx="19080" cy="443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95160" y="2021040"/>
            <a:ext cx="6967800" cy="1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llegal Cas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_on R_off  F_on F_of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known initial st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-u sequ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-d sequ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2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-d-d-u sequ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-u-u-d sequ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just 1 or 3 numerical entries (sequenc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323960" y="1517760"/>
            <a:ext cx="9720" cy="324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8800" y="2057400"/>
            <a:ext cx="711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ummary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ansion of IBIS based mostly on evolutionary hierarchical overrid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imple rules (easier specification and parser maintenance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ome exceptions – and complicated rul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Driver Schedule] insertion consistent with [Model] st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nitial scheduled model states defined in BIRD88, as originally intend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What is Hierarchical Override?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Override rather than “Conditional” Replac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etting higher order detail/functionality wi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ractical needs drove expans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 grew from 8 pages in 1993 to 140+ in 2004 with layers of capability blended into EBD (later), [Component], [Package], [Model] – Cornerstone skeleton for surrounding developmen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east disruptive with downward/upward compatible chang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resentation motivation: BIRD88 [Driver Schedule] initializ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cases from the early days, for 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_pin overrides default L_pkg,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Rising/Falling Waveform] overrides [Ramp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s EDA interface overrides (e.g., model and differential pin assignmen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Why this Approach?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st disrup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Keeps SIMPLE rules rather than “conditional”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Keeps IBIS sections similar – easier visual inspec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Keeps parser simple – lower cost, fewer “conditional” upgrades to specify, track, check, repair, …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Keeps original required “defaults”, even if not fully meaningful for syntactical robustness (Typ column always required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nal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t always technically robust or correct ([Ramp] for LVD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edundant (or wrong) information confusing and wastefu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nheritance of capabilities differences (e.g., [Driver Schedule] versus [Submodel] with inheritance of voltage rail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urden falls on EDA vendors to sort out and implement properl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ackage Example Overrides (H to L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BD’s a separate issue (calls EBDs or componen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CM under discussion possibly using [Alternate Package Model Mechanism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Define Package], [Package Model] (V. 2.1, V. 3.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oupled package Matrices (V. 2.1), or Len L, R, C/    (V. 3.2) overrides *_pin and *_pkg below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[Number of Sections]/[Model Data] “flags” instead of overrides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Package Model] in .ibs file overrides same model in .pkg fil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Model]  L_pin, R_pin, C_pin (V. 1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ptional specific pin overrides default packag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Package] L_pkg, R_pkg, C_pkg (V. 1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equired Typ column – lowest order defaul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oltage Rail Overrid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External Model] under [Model] (V. 4.1) (external pow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Pin Mapping] assignments and EDA or multi-lingual rail voltage assignments – some EDA vendors may override voltages (V. 3.2, V. 4.1)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Pullup Reference], [Pulldown Reference], [Gnd Clamp Reference], [Power Clamp Reference], (V. 2.1), [External Reference] (V. 4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IMPLE RULE: [Voltage Range] REQUIRED (unless first FOUR rails are given) – no conditional mix and match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Gives added detail not available from [Voltage Range] – such as ECL and PECL voltage, hot swap clamps, etc.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Voltage Range] and implied default 0 V ground (V. 1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yp column require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hreshold Overrid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External Model] under [Model] thresholds (V. 4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D_receiv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Diff Pin] threshold vdiff (V. 2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verrides single ended thresholds below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Receiver Thresholds] under [Model] (V. 4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dds detail and new thresholds including some differential checking condit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Model Spec] thresholds under [Model] (V. 3.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dds typ/min/max detail and more choic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Model] subparameters (V. 1.1, V. 2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ome still required for certain Model_typ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istorical Vinh, Vinl requirements retained even if overridden by [Model Specification] (with legacy 2.0 V and 0.8 V default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_comp – an Excep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External Model] under [Model] (V. 4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_comp, C_comp_* optiona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Model] C_comp_pullup, C_comp_pulldown, C_comp_gnd_clamp, C_comp_power_clamp (V. 4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Different rule, C_comp NOT required if any of above exis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o rule is at least one of C_comp or C_comp_* must exis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Model] C_comp (V. 1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equired Typ valu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heduled [Model] under [Mode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_comp values should be “0”, should be ignored since the overall mode control (Model_type) is at the higher level [Model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till required entry in scheduled [Model] for simplicity of document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[Diff Pin] and [Model] Overrid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Diff Pin] partial overrides of [Model] (V. 2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olarity set by [Diff Pin] and inv_pin colum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Needed since same [Model] can be used for any pin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diff threshold used instead of model threshold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kewing of inverting operation with respect to non-inverting (tdelay_*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Model]  (V. 1.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olarity and other subparameters override those below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Model]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STATE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is centra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Driver Schedule] references to models (V. 3.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nitiation and polarity of scheduled models made relative to the [Model]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STATE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and [Driver Schedule] delay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pecified in BIRD88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My (stated/unstated) [Driver Schedule] Assumptions (in BIRD35.3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der [Model], the model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umptions must prevai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Works for single transition and one cycle (Rising and Falling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ULL CYCLE for [Driver Schedule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Rise_on_dly   Rise_off_dly    Fall_on_dly    Fall_off_dly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r1 or NA        r2 or NA        f3 or NA       f4 or NA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Full cycle =&gt; down-up (d-u),  (u-d),   (d-u-d-u),   (u-d-u-d) sequencing for “slow” clock (assumes no over-clocking)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16 possibilities, but 5 [r/f || NA] table variations with 8 total variations considering numerical ordering, finite durations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ollows top-level [Model]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state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(Low or High) and input stimulus in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transparent manner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ncluding Polarit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verything is relative to Rise or Fall edges of “internal simulator pulse”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refore known initial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High or Low) allows single switch and one cycle simu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4-03-30T19:56:54Z</dcterms:modified>
  <cp:revision>458</cp:revision>
  <dc:subject/>
  <dc:title>IBIS</dc:title>
</cp:coreProperties>
</file>