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png" ContentType="image/png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422E9-3F1D-4A0F-AC38-D0735B7F68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F4B7C-28A7-4A58-8872-56727CDB5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B16F62-3C85-4369-889C-D854A315E8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30803-E534-4A9A-A50E-95B1F0E067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0B2E5-04B0-479A-B487-EDE952FE9A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79188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136200" y="11430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4756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79188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136200" y="3571200"/>
            <a:ext cx="22323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B3B78-31C3-425A-ADC4-DCDFFFD542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62E3-0AD0-46B4-AE27-D16339EED1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7EEC-4E75-41F4-9A4A-FDD31E2944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1522080" y="-360"/>
            <a:ext cx="7088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BA124-EFA1-48CC-95CD-8D1822FF74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D2A0A-E3D0-41A1-9344-5B00CD8665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00760" y="35712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412AF-E37D-44FD-A3BB-E93C24A9A7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00760" y="1143000"/>
            <a:ext cx="338364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447560" y="3571200"/>
            <a:ext cx="6933960" cy="221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DCEC41-5A01-4571-9ADA-18163F12A6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23760" y="6248520"/>
            <a:ext cx="329904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3/29/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*Other brands and names are the property of their respective owner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266720" y="62485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ge </a:t>
            </a:r>
            <a:fld id="{D5A6500C-432D-4897-9DF1-325EDFD4A9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1219320" y="457200"/>
            <a:ext cx="7544880" cy="612720"/>
            <a:chOff x="1219320" y="457200"/>
            <a:chExt cx="7544880" cy="612720"/>
          </a:xfrm>
        </p:grpSpPr>
        <p:sp>
          <p:nvSpPr>
            <p:cNvPr id="4" name=""/>
            <p:cNvSpPr/>
            <p:nvPr/>
          </p:nvSpPr>
          <p:spPr>
            <a:xfrm>
              <a:off x="8588880" y="457200"/>
              <a:ext cx="1753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219320" y="1042920"/>
              <a:ext cx="7458120" cy="2700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659080" y="603360"/>
              <a:ext cx="3168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tretch/>
        </p:blipFill>
        <p:spPr>
          <a:xfrm>
            <a:off x="6400800" y="6324480"/>
            <a:ext cx="2590920" cy="378000"/>
          </a:xfrm>
          <a:prstGeom prst="rect">
            <a:avLst/>
          </a:prstGeom>
          <a:ln w="0">
            <a:noFill/>
          </a:ln>
        </p:spPr>
      </p:pic>
      <p:grpSp>
        <p:nvGrpSpPr>
          <p:cNvPr id="9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10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14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16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17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18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152352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523880" y="2438280"/>
            <a:ext cx="7316640" cy="612720"/>
            <a:chOff x="1523880" y="2438280"/>
            <a:chExt cx="7316640" cy="612720"/>
          </a:xfrm>
        </p:grpSpPr>
        <p:sp>
          <p:nvSpPr>
            <p:cNvPr id="58" name=""/>
            <p:cNvSpPr/>
            <p:nvPr/>
          </p:nvSpPr>
          <p:spPr>
            <a:xfrm>
              <a:off x="8670600" y="2438280"/>
              <a:ext cx="169920" cy="147600"/>
            </a:xfrm>
            <a:custGeom>
              <a:avLst/>
              <a:gdLst/>
              <a:ahLst/>
              <a:rect l="l" t="t" r="r" b="b"/>
              <a:pathLst>
                <a:path w="105" h="93">
                  <a:moveTo>
                    <a:pt x="52" y="47"/>
                  </a:moveTo>
                  <a:lnTo>
                    <a:pt x="52" y="0"/>
                  </a:lnTo>
                  <a:lnTo>
                    <a:pt x="56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2"/>
                  </a:lnTo>
                  <a:lnTo>
                    <a:pt x="66" y="2"/>
                  </a:lnTo>
                  <a:lnTo>
                    <a:pt x="70" y="2"/>
                  </a:lnTo>
                  <a:lnTo>
                    <a:pt x="73" y="2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2" y="6"/>
                  </a:lnTo>
                  <a:lnTo>
                    <a:pt x="85" y="10"/>
                  </a:lnTo>
                  <a:lnTo>
                    <a:pt x="87" y="10"/>
                  </a:lnTo>
                  <a:lnTo>
                    <a:pt x="89" y="12"/>
                  </a:lnTo>
                  <a:lnTo>
                    <a:pt x="92" y="14"/>
                  </a:lnTo>
                  <a:lnTo>
                    <a:pt x="92" y="17"/>
                  </a:lnTo>
                  <a:lnTo>
                    <a:pt x="96" y="17"/>
                  </a:lnTo>
                  <a:lnTo>
                    <a:pt x="96" y="21"/>
                  </a:lnTo>
                  <a:lnTo>
                    <a:pt x="99" y="23"/>
                  </a:lnTo>
                  <a:lnTo>
                    <a:pt x="99" y="25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101" y="29"/>
                  </a:lnTo>
                  <a:lnTo>
                    <a:pt x="104" y="34"/>
                  </a:lnTo>
                  <a:lnTo>
                    <a:pt x="104" y="36"/>
                  </a:lnTo>
                  <a:lnTo>
                    <a:pt x="104" y="38"/>
                  </a:lnTo>
                  <a:lnTo>
                    <a:pt x="104" y="40"/>
                  </a:lnTo>
                  <a:lnTo>
                    <a:pt x="104" y="42"/>
                  </a:lnTo>
                  <a:lnTo>
                    <a:pt x="104" y="47"/>
                  </a:lnTo>
                  <a:lnTo>
                    <a:pt x="104" y="49"/>
                  </a:lnTo>
                  <a:lnTo>
                    <a:pt x="104" y="51"/>
                  </a:lnTo>
                  <a:lnTo>
                    <a:pt x="104" y="53"/>
                  </a:lnTo>
                  <a:lnTo>
                    <a:pt x="104" y="55"/>
                  </a:lnTo>
                  <a:lnTo>
                    <a:pt x="104" y="59"/>
                  </a:lnTo>
                  <a:lnTo>
                    <a:pt x="104" y="62"/>
                  </a:lnTo>
                  <a:lnTo>
                    <a:pt x="101" y="62"/>
                  </a:lnTo>
                  <a:lnTo>
                    <a:pt x="101" y="64"/>
                  </a:lnTo>
                  <a:lnTo>
                    <a:pt x="101" y="66"/>
                  </a:lnTo>
                  <a:lnTo>
                    <a:pt x="99" y="70"/>
                  </a:lnTo>
                  <a:lnTo>
                    <a:pt x="99" y="72"/>
                  </a:lnTo>
                  <a:lnTo>
                    <a:pt x="96" y="72"/>
                  </a:lnTo>
                  <a:lnTo>
                    <a:pt x="96" y="74"/>
                  </a:lnTo>
                  <a:lnTo>
                    <a:pt x="92" y="77"/>
                  </a:lnTo>
                  <a:lnTo>
                    <a:pt x="89" y="79"/>
                  </a:lnTo>
                  <a:lnTo>
                    <a:pt x="87" y="83"/>
                  </a:lnTo>
                  <a:lnTo>
                    <a:pt x="85" y="85"/>
                  </a:lnTo>
                  <a:lnTo>
                    <a:pt x="82" y="85"/>
                  </a:lnTo>
                  <a:lnTo>
                    <a:pt x="82" y="87"/>
                  </a:lnTo>
                  <a:lnTo>
                    <a:pt x="78" y="87"/>
                  </a:lnTo>
                  <a:lnTo>
                    <a:pt x="75" y="87"/>
                  </a:lnTo>
                  <a:lnTo>
                    <a:pt x="73" y="89"/>
                  </a:lnTo>
                  <a:lnTo>
                    <a:pt x="70" y="89"/>
                  </a:lnTo>
                  <a:lnTo>
                    <a:pt x="66" y="92"/>
                  </a:lnTo>
                  <a:lnTo>
                    <a:pt x="63" y="92"/>
                  </a:lnTo>
                  <a:lnTo>
                    <a:pt x="61" y="92"/>
                  </a:lnTo>
                  <a:lnTo>
                    <a:pt x="59" y="92"/>
                  </a:lnTo>
                  <a:lnTo>
                    <a:pt x="56" y="92"/>
                  </a:lnTo>
                  <a:lnTo>
                    <a:pt x="52" y="92"/>
                  </a:lnTo>
                  <a:lnTo>
                    <a:pt x="49" y="92"/>
                  </a:lnTo>
                  <a:lnTo>
                    <a:pt x="47" y="92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37" y="89"/>
                  </a:lnTo>
                  <a:lnTo>
                    <a:pt x="35" y="89"/>
                  </a:lnTo>
                  <a:lnTo>
                    <a:pt x="33" y="89"/>
                  </a:lnTo>
                  <a:lnTo>
                    <a:pt x="33" y="87"/>
                  </a:lnTo>
                  <a:lnTo>
                    <a:pt x="30" y="87"/>
                  </a:lnTo>
                  <a:lnTo>
                    <a:pt x="26" y="87"/>
                  </a:lnTo>
                  <a:lnTo>
                    <a:pt x="23" y="85"/>
                  </a:lnTo>
                  <a:lnTo>
                    <a:pt x="21" y="83"/>
                  </a:lnTo>
                  <a:lnTo>
                    <a:pt x="18" y="79"/>
                  </a:lnTo>
                  <a:lnTo>
                    <a:pt x="16" y="77"/>
                  </a:lnTo>
                  <a:lnTo>
                    <a:pt x="11" y="74"/>
                  </a:lnTo>
                  <a:lnTo>
                    <a:pt x="11" y="72"/>
                  </a:lnTo>
                  <a:lnTo>
                    <a:pt x="9" y="72"/>
                  </a:lnTo>
                  <a:lnTo>
                    <a:pt x="9" y="70"/>
                  </a:lnTo>
                  <a:lnTo>
                    <a:pt x="7" y="66"/>
                  </a:lnTo>
                  <a:lnTo>
                    <a:pt x="7" y="64"/>
                  </a:lnTo>
                  <a:lnTo>
                    <a:pt x="7" y="62"/>
                  </a:lnTo>
                  <a:lnTo>
                    <a:pt x="4" y="62"/>
                  </a:lnTo>
                  <a:lnTo>
                    <a:pt x="4" y="59"/>
                  </a:lnTo>
                  <a:lnTo>
                    <a:pt x="4" y="55"/>
                  </a:lnTo>
                  <a:lnTo>
                    <a:pt x="4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0" y="47"/>
                  </a:lnTo>
                  <a:lnTo>
                    <a:pt x="0" y="42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4" y="36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7" y="27"/>
                  </a:lnTo>
                  <a:lnTo>
                    <a:pt x="7" y="25"/>
                  </a:lnTo>
                  <a:lnTo>
                    <a:pt x="9" y="25"/>
                  </a:lnTo>
                  <a:lnTo>
                    <a:pt x="9" y="23"/>
                  </a:lnTo>
                  <a:lnTo>
                    <a:pt x="11" y="21"/>
                  </a:lnTo>
                  <a:lnTo>
                    <a:pt x="11" y="17"/>
                  </a:lnTo>
                  <a:lnTo>
                    <a:pt x="16" y="17"/>
                  </a:lnTo>
                  <a:lnTo>
                    <a:pt x="16" y="14"/>
                  </a:lnTo>
                  <a:lnTo>
                    <a:pt x="18" y="12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6" y="6"/>
                  </a:lnTo>
                  <a:lnTo>
                    <a:pt x="30" y="4"/>
                  </a:lnTo>
                  <a:lnTo>
                    <a:pt x="33" y="4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2" y="2"/>
                  </a:lnTo>
                  <a:lnTo>
                    <a:pt x="44" y="2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2" y="0"/>
                  </a:lnTo>
                  <a:lnTo>
                    <a:pt x="52" y="4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523880" y="3024360"/>
              <a:ext cx="7232400" cy="26640"/>
            </a:xfrm>
            <a:custGeom>
              <a:avLst/>
              <a:gdLst/>
              <a:ahLst/>
              <a:rect l="l" t="t" r="r" b="b"/>
              <a:pathLst>
                <a:path w="4461" h="17">
                  <a:moveTo>
                    <a:pt x="4460" y="8"/>
                  </a:moveTo>
                  <a:lnTo>
                    <a:pt x="4460" y="0"/>
                  </a:lnTo>
                  <a:lnTo>
                    <a:pt x="0" y="0"/>
                  </a:lnTo>
                  <a:lnTo>
                    <a:pt x="0" y="16"/>
                  </a:lnTo>
                  <a:lnTo>
                    <a:pt x="4460" y="16"/>
                  </a:lnTo>
                  <a:lnTo>
                    <a:pt x="4460" y="8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738640" y="2584440"/>
              <a:ext cx="30600" cy="441360"/>
            </a:xfrm>
            <a:custGeom>
              <a:avLst/>
              <a:gdLst/>
              <a:ahLst/>
              <a:rect l="l" t="t" r="r" b="b"/>
              <a:pathLst>
                <a:path w="19" h="278">
                  <a:moveTo>
                    <a:pt x="9" y="277"/>
                  </a:moveTo>
                  <a:lnTo>
                    <a:pt x="18" y="277"/>
                  </a:lnTo>
                  <a:lnTo>
                    <a:pt x="18" y="0"/>
                  </a:lnTo>
                  <a:lnTo>
                    <a:pt x="0" y="0"/>
                  </a:lnTo>
                  <a:lnTo>
                    <a:pt x="0" y="277"/>
                  </a:lnTo>
                  <a:lnTo>
                    <a:pt x="9" y="277"/>
                  </a:lnTo>
                </a:path>
              </a:pathLst>
            </a:custGeom>
            <a:solidFill>
              <a:srgbClr val="ffbe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629400" y="6324480"/>
            <a:ext cx="2286000" cy="3812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315200" y="152280"/>
            <a:ext cx="210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Intel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0"/>
            <a:ext cx="1066680" cy="6856560"/>
            <a:chOff x="0" y="0"/>
            <a:chExt cx="1066680" cy="6856560"/>
          </a:xfrm>
        </p:grpSpPr>
        <p:sp>
          <p:nvSpPr>
            <p:cNvPr id="64" name=""/>
            <p:cNvSpPr/>
            <p:nvPr/>
          </p:nvSpPr>
          <p:spPr>
            <a:xfrm>
              <a:off x="0" y="0"/>
              <a:ext cx="990720" cy="68565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0"/>
              <a:ext cx="152280" cy="838080"/>
            </a:xfrm>
            <a:prstGeom prst="rect">
              <a:avLst/>
            </a:prstGeom>
            <a:solidFill>
              <a:srgbClr val="00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6" name="" descr=""/>
            <p:cNvPicPr/>
            <p:nvPr/>
          </p:nvPicPr>
          <p:blipFill>
            <a:blip r:embed="rId3"/>
            <a:stretch/>
          </p:blipFill>
          <p:spPr>
            <a:xfrm>
              <a:off x="0" y="6019920"/>
              <a:ext cx="990720" cy="609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7" name=""/>
            <p:cNvGrpSpPr/>
            <p:nvPr/>
          </p:nvGrpSpPr>
          <p:grpSpPr>
            <a:xfrm>
              <a:off x="27720" y="990720"/>
              <a:ext cx="939960" cy="760680"/>
              <a:chOff x="27720" y="990720"/>
              <a:chExt cx="939960" cy="760680"/>
            </a:xfrm>
          </p:grpSpPr>
          <p:sp>
            <p:nvSpPr>
              <p:cNvPr id="68" name=""/>
              <p:cNvSpPr/>
              <p:nvPr/>
            </p:nvSpPr>
            <p:spPr>
              <a:xfrm flipH="1" rot="8916600">
                <a:off x="38160" y="1238040"/>
                <a:ext cx="919080" cy="29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596" y="11102"/>
                    </a:moveTo>
                    <a:arcTo wR="10800" hR="10800" stAng="96163" swAng="1067143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596" y="11102"/>
                    </a:moveTo>
                    <a:arcTo wR="10800" hR="10800" stAng="96163" swAng="10671432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9" name=""/>
              <p:cNvGrpSpPr/>
              <p:nvPr/>
            </p:nvGrpSpPr>
            <p:grpSpPr>
              <a:xfrm>
                <a:off x="222480" y="1165320"/>
                <a:ext cx="566640" cy="428400"/>
                <a:chOff x="222480" y="1165320"/>
                <a:chExt cx="566640" cy="428400"/>
              </a:xfrm>
            </p:grpSpPr>
            <p:sp>
              <p:nvSpPr>
                <p:cNvPr id="70" name=""/>
                <p:cNvSpPr txBox="1"/>
                <p:nvPr/>
              </p:nvSpPr>
              <p:spPr>
                <a:xfrm>
                  <a:off x="554040" y="1165320"/>
                  <a:ext cx="23508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I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222480" y="1165320"/>
                  <a:ext cx="283320" cy="4284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gradFill rotWithShape="0">
                        <a:gsLst>
                          <a:gs pos="0">
                            <a:srgbClr val="eaeaea"/>
                          </a:gs>
                          <a:gs pos="100000">
                            <a:srgbClr val="cbcbcb"/>
                          </a:gs>
                        </a:gsLst>
                        <a:lin ang="13500000"/>
                      </a:gradFill>
                      <a:latin typeface="Times New Roman"/>
                    </a:rPr>
                    <a:t>S</a:t>
                  </a:r>
                  <a:endParaRPr b="0" lang="en-US" sz="2400" spc="1" strike="noStrike">
                    <a:ln w="936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eaeaea"/>
                        </a:gs>
                        <a:gs pos="100000">
                          <a:srgbClr val="cbcbcb"/>
                        </a:gs>
                      </a:gsLst>
                      <a:lin ang="13500000"/>
                    </a:gradFill>
                    <a:latin typeface="Times New Roman"/>
                    <a:ea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 flipH="1" rot="8916600">
                <a:off x="36720" y="1237680"/>
                <a:ext cx="918360" cy="294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" y="10985"/>
                    </a:moveTo>
                    <a:arcTo wR="10800" hR="10800" stAng="10741070" swAng="1112536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" y="10985"/>
                    </a:moveTo>
                    <a:arcTo wR="10800" hR="10800" stAng="10741070" swAng="11125369"/>
                  </a:path>
                </a:pathLst>
              </a:custGeom>
              <a:noFill/>
              <a:ln w="28440">
                <a:solidFill>
                  <a:srgbClr val="4c3d9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 txBox="1"/>
              <p:nvPr/>
            </p:nvSpPr>
            <p:spPr>
              <a:xfrm>
                <a:off x="800280" y="990720"/>
                <a:ext cx="137880" cy="1299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1" strike="noStrike">
                    <a:ln w="12600">
                      <a:solidFill>
                        <a:srgbClr val="3333cc"/>
                      </a:solidFill>
                      <a:miter/>
                    </a:ln>
                    <a:gradFill rotWithShape="0">
                      <a:gsLst>
                        <a:gs pos="0">
                          <a:srgbClr val="000000"/>
                        </a:gs>
                        <a:gs pos="50000">
                          <a:srgbClr val="581ddb"/>
                        </a:gs>
                        <a:gs pos="100000">
                          <a:srgbClr val="000000"/>
                        </a:gs>
                      </a:gsLst>
                      <a:lin ang="13500000"/>
                    </a:gradFill>
                    <a:effectLst>
                      <a:outerShdw dist="40186" dir="1096358" blurRad="0" rotWithShape="0">
                        <a:srgbClr val="9999ff"/>
                      </a:outerShdw>
                    </a:effectLst>
                    <a:latin typeface="Times New Roman"/>
                  </a:rPr>
                  <a:t>e</a:t>
                </a:r>
                <a:endParaRPr b="1" lang="en-US" sz="2400" spc="1" strike="noStrike">
                  <a:ln w="12600">
                    <a:solidFill>
                      <a:srgbClr val="3333cc"/>
                    </a:solidFill>
                    <a:miter/>
                  </a:ln>
                  <a:gradFill rotWithShape="0">
                    <a:gsLst>
                      <a:gs pos="0">
                        <a:srgbClr val="000000"/>
                      </a:gs>
                      <a:gs pos="50000">
                        <a:srgbClr val="581ddb"/>
                      </a:gs>
                      <a:gs pos="100000">
                        <a:srgbClr val="000000"/>
                      </a:gs>
                    </a:gsLst>
                    <a:lin ang="13500000"/>
                  </a:gra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74" name=""/>
          <p:cNvSpPr/>
          <p:nvPr/>
        </p:nvSpPr>
        <p:spPr>
          <a:xfrm>
            <a:off x="990720" y="617220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ttp://www-fmec.fm.intel.com/si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eda.org/pub/ibis/summits/oct03/muranyi.pdf" TargetMode="External"/><Relationship Id="rId2" Type="http://schemas.openxmlformats.org/officeDocument/2006/relationships/hyperlink" Target="http://www.eda.org/pub/ibis/summits/oct03/muranyi.pdf" TargetMode="External"/><Relationship Id="rId3" Type="http://schemas.openxmlformats.org/officeDocument/2006/relationships/hyperlink" Target="http://www.eda.org/pub/ibis/summits/oct03/muranyi.pdf" TargetMode="External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eda.org/pub/ibis/summits/oct03/muranyi.pdf" TargetMode="External"/><Relationship Id="rId2" Type="http://schemas.openxmlformats.org/officeDocument/2006/relationships/hyperlink" Target="http://www.eda.org/pub/ibis/summits/oct03/muranyi.pdf" TargetMode="External"/><Relationship Id="rId3" Type="http://schemas.openxmlformats.org/officeDocument/2006/relationships/hyperlink" Target="http://www.eda.org/pub/ibis/summits/oct03/muranyi.pdf" TargetMode="External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erialata.org/" TargetMode="External"/><Relationship Id="rId2" Type="http://schemas.openxmlformats.org/officeDocument/2006/relationships/hyperlink" Target="http://www.serialata.org/" TargetMode="External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080" y="267948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ssues with C_comp and Differential Multi-stage IBIS Mode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104000" y="4259160"/>
            <a:ext cx="2066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Michael Mirm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Intel Corp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IBIS Sum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DesignCon East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April 5, 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5C164-BFC6-40C1-98EB-4C556937438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522440" y="228600"/>
            <a:ext cx="7012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BIS Group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9" name=""/>
          <p:cNvSpPr/>
          <p:nvPr/>
        </p:nvSpPr>
        <p:spPr>
          <a:xfrm>
            <a:off x="2562120" y="2019240"/>
            <a:ext cx="684360" cy="6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903400" y="20844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2903400" y="18288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903400" y="26575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2016000" y="3040200"/>
            <a:ext cx="17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0160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7926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18108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7926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016000" y="367668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92600" y="367668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47960" y="4186080"/>
            <a:ext cx="136440" cy="128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811160" y="520704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1879560" y="527040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947960" y="533412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2016000" y="4441680"/>
            <a:ext cx="204840" cy="636120"/>
            <a:chOff x="2016000" y="4441680"/>
            <a:chExt cx="204840" cy="636120"/>
          </a:xfrm>
        </p:grpSpPr>
        <p:sp>
          <p:nvSpPr>
            <p:cNvPr id="485" name=""/>
            <p:cNvSpPr/>
            <p:nvPr/>
          </p:nvSpPr>
          <p:spPr>
            <a:xfrm>
              <a:off x="2016000" y="4441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16000" y="46537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V="1">
              <a:off x="2016000" y="47599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2016000" y="4547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16000" y="48661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2016000" y="497160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2016000" y="5078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587760" y="520704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656160" y="527040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724200" y="533412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5" name=""/>
          <p:cNvGrpSpPr/>
          <p:nvPr/>
        </p:nvGrpSpPr>
        <p:grpSpPr>
          <a:xfrm>
            <a:off x="3792600" y="4441680"/>
            <a:ext cx="204840" cy="636120"/>
            <a:chOff x="3792600" y="4441680"/>
            <a:chExt cx="204840" cy="636120"/>
          </a:xfrm>
        </p:grpSpPr>
        <p:sp>
          <p:nvSpPr>
            <p:cNvPr id="496" name=""/>
            <p:cNvSpPr/>
            <p:nvPr/>
          </p:nvSpPr>
          <p:spPr>
            <a:xfrm>
              <a:off x="3792600" y="4441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3792600" y="46537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V="1">
              <a:off x="3792600" y="47599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3792600" y="4547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792600" y="48661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V="1">
              <a:off x="3792600" y="497160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3792600" y="5078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724200" y="3805200"/>
            <a:ext cx="136440" cy="127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84400" y="4251240"/>
            <a:ext cx="16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977080" y="2019240"/>
            <a:ext cx="684000" cy="6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319800" y="20844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319800" y="18288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19800" y="26575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0960" y="3040200"/>
            <a:ext cx="17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3096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072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H="1">
            <a:off x="522576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2072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40080" y="32241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080960" y="32306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901760" y="3230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87280" y="32306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132280" y="3932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0" y="358128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013360" y="4487760"/>
            <a:ext cx="22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Pre-Emph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P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 =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 = P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 =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5486400" y="5029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400800" y="5029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029200" y="5486400"/>
            <a:ext cx="222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De-Emph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P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 =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 = P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 =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86400" y="6019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00800" y="5791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781640" y="2133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832080" y="213372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10080" y="3657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86200" y="3886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486400" y="3886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86200" y="4267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676520" y="1600200"/>
            <a:ext cx="2438280" cy="1371600"/>
          </a:xfrm>
          <a:prstGeom prst="rect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69339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739880" y="1287360"/>
            <a:ext cx="207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Pullup – Main (+ &amp;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81480" y="1600200"/>
            <a:ext cx="2438640" cy="1371600"/>
          </a:xfrm>
          <a:prstGeom prst="rect">
            <a:avLst/>
          </a:prstGeom>
          <a:noFill/>
          <a:ln w="12600">
            <a:solidFill>
              <a:srgbClr val="0099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58240" y="1295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66"/>
                </a:solidFill>
                <a:latin typeface="Arial Black"/>
              </a:rPr>
              <a:t>Pullup – Boost (+ &amp;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523880" y="3962520"/>
            <a:ext cx="3048120" cy="1523880"/>
          </a:xfrm>
          <a:prstGeom prst="rect">
            <a:avLst/>
          </a:prstGeom>
          <a:noFill/>
          <a:ln w="1260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180520" y="5734080"/>
            <a:ext cx="166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Ground Clam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in + &amp;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F557D-267C-4F04-837E-DF1E5FC35F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BIS Data Extrac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 pre-emphasis uses two buffers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-V curves are individual to each buf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Main I-V &amp; Boost I-V are separately genera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Internal terminations should NOT be double-counted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-t curves are individual to each buf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Main V-t &amp; Boost V-t are separately generat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Internal terminations should NOT be double-counted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Good designs will have test modes for disabling the sources and the termin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Arial"/>
              </a:rPr>
              <a:t>What about c_comp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_comp is collected only once, for entire buff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urning off” sections will not remove loading 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st designs cannot be easily “split” into main and boost for purposes of c_comp measurem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CFF70D-F2E5-4FAA-89A4-E92D36E5B85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wo Approaches to C_comp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447920" y="1028520"/>
            <a:ext cx="7238880" cy="506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Method 1: split c_comp proportionally to Main and Boost relative drive strength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: “Buffer X” has total die capacitance of 8 p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ee below for calcul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in is 18 mA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oost is 3 mA (6:1 rati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Main c_comp: 6.857 p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Boost c_comp: 1.1424 p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2400480" y="3746520"/>
            <a:ext cx="5984280" cy="2621520"/>
            <a:chOff x="2400480" y="3746520"/>
            <a:chExt cx="5984280" cy="2621520"/>
          </a:xfrm>
        </p:grpSpPr>
        <p:pic>
          <p:nvPicPr>
            <p:cNvPr id="545" name="" descr=""/>
            <p:cNvPicPr/>
            <p:nvPr/>
          </p:nvPicPr>
          <p:blipFill>
            <a:blip r:embed="rId1"/>
            <a:stretch/>
          </p:blipFill>
          <p:spPr>
            <a:xfrm>
              <a:off x="2400480" y="3930480"/>
              <a:ext cx="5460840" cy="20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4234320" y="3746520"/>
              <a:ext cx="1267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Arial Black"/>
                </a:rPr>
                <a:t>Main (+ &amp; -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252320" y="6030720"/>
              <a:ext cx="133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9966"/>
                  </a:solidFill>
                  <a:latin typeface="Arial Black"/>
                </a:rPr>
                <a:t>Boost (+ &amp; -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83360" y="4066920"/>
              <a:ext cx="1383840" cy="195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24160" y="4057560"/>
              <a:ext cx="146340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24160" y="5105160"/>
              <a:ext cx="1463400" cy="914400"/>
            </a:xfrm>
            <a:prstGeom prst="rect">
              <a:avLst/>
            </a:prstGeom>
            <a:noFill/>
            <a:ln w="19080">
              <a:solidFill>
                <a:srgbClr val="00cc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283360" y="4360680"/>
              <a:ext cx="1426680" cy="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299200" y="4663440"/>
              <a:ext cx="90108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5276880" y="5403240"/>
              <a:ext cx="1087200" cy="1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280120" y="5698800"/>
              <a:ext cx="667800" cy="18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340320" y="4375080"/>
              <a:ext cx="10800" cy="1047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43600" y="4679640"/>
              <a:ext cx="1080" cy="103824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533680" y="4243320"/>
              <a:ext cx="1383840" cy="175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705360" y="3993840"/>
              <a:ext cx="94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TX+ P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724880" y="4249440"/>
              <a:ext cx="65988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602040" y="4498920"/>
              <a:ext cx="89244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3300"/>
                  </a:solidFill>
                  <a:latin typeface="Arial Black"/>
                </a:rPr>
                <a:t>TX- P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40892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39160" y="4413240"/>
              <a:ext cx="29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591000" y="4448160"/>
              <a:ext cx="174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531960" y="521316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541320" y="564192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591000" y="5667120"/>
              <a:ext cx="1742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 flipV="1">
            <a:off x="5781600" y="3524400"/>
            <a:ext cx="1314360" cy="51408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2895120" y="4638600"/>
            <a:ext cx="1133640" cy="447840"/>
          </a:xfrm>
          <a:prstGeom prst="line">
            <a:avLst/>
          </a:prstGeom>
          <a:ln w="38160">
            <a:solidFill>
              <a:srgbClr val="0099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760040" y="4335480"/>
            <a:ext cx="1098000" cy="337320"/>
          </a:xfrm>
          <a:prstGeom prst="rect">
            <a:avLst/>
          </a:prstGeom>
          <a:noFill/>
          <a:ln w="12600">
            <a:solidFill>
              <a:srgbClr val="00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.1424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7265160" y="3306600"/>
            <a:ext cx="982440" cy="3373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6.857 p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4EB7D-E1E9-42D7-8AA5-C659C2D0104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How was C_comp generated?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248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Initial method used to get 8 pF valu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Vsource with known edge rate, dV/d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asure the input curr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lculate capacitance (may have to take an averag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3" name=""/>
              <p:cNvSpPr txBox="1"/>
              <p:nvPr/>
            </p:nvSpPr>
            <p:spPr>
              <a:xfrm>
                <a:off x="2397240" y="5203800"/>
                <a:ext cx="147312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C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4" name=""/>
          <p:cNvSpPr/>
          <p:nvPr/>
        </p:nvSpPr>
        <p:spPr>
          <a:xfrm rot="5400000">
            <a:off x="2085480" y="1714320"/>
            <a:ext cx="1209600" cy="140004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352680" y="2419200"/>
            <a:ext cx="1086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093400" y="222084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ri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000680" y="2676600"/>
            <a:ext cx="857160" cy="809640"/>
          </a:xfrm>
          <a:prstGeom prst="ellipse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438800" y="2409840"/>
            <a:ext cx="0" cy="257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876840" y="2628720"/>
            <a:ext cx="1095120" cy="82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38800" y="3476520"/>
            <a:ext cx="0" cy="257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216320" y="3724200"/>
            <a:ext cx="457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95880" y="3809880"/>
            <a:ext cx="27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384800" y="3892680"/>
            <a:ext cx="12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3695400" y="2238480"/>
            <a:ext cx="8478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5610240" y="2781360"/>
            <a:ext cx="2228760" cy="695160"/>
            <a:chOff x="5610240" y="2781360"/>
            <a:chExt cx="2228760" cy="695160"/>
          </a:xfrm>
        </p:grpSpPr>
        <p:sp>
          <p:nvSpPr>
            <p:cNvPr id="586" name=""/>
            <p:cNvSpPr/>
            <p:nvPr/>
          </p:nvSpPr>
          <p:spPr>
            <a:xfrm flipV="1">
              <a:off x="6286320" y="2790720"/>
              <a:ext cx="885960" cy="6854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72280" y="2781360"/>
              <a:ext cx="66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10240" y="3476520"/>
              <a:ext cx="666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 rot="13786800">
            <a:off x="6791040" y="2943000"/>
            <a:ext cx="457200" cy="952560"/>
          </a:xfrm>
          <a:custGeom>
            <a:avLst/>
            <a:gdLst>
              <a:gd name="textAreaLeft" fmla="*/ 292320 w 457200"/>
              <a:gd name="textAreaRight" fmla="*/ 457560 w 457200"/>
              <a:gd name="textAreaTop" fmla="*/ 24840 h 952560"/>
              <a:gd name="textAreaBottom" fmla="*/ 927720 h 952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991320" y="1830240"/>
            <a:ext cx="24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60840" y="28782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928240" y="291636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V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214760" y="3506760"/>
            <a:ext cx="70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V/d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4" name=""/>
              <p:cNvSpPr txBox="1"/>
              <p:nvPr/>
            </p:nvSpPr>
            <p:spPr>
              <a:xfrm>
                <a:off x="5603760" y="5222880"/>
                <a:ext cx="15750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5" name=""/>
          <p:cNvSpPr/>
          <p:nvPr/>
        </p:nvSpPr>
        <p:spPr>
          <a:xfrm>
            <a:off x="4429080" y="5610240"/>
            <a:ext cx="67644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59FCD-E42D-4320-89DF-F4B0A9F8013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226880" y="-360"/>
            <a:ext cx="7383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 of Method 1 on Buffer 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" descr=""/>
          <p:cNvPicPr/>
          <p:nvPr/>
        </p:nvPicPr>
        <p:blipFill>
          <a:blip r:embed="rId1"/>
          <a:stretch/>
        </p:blipFill>
        <p:spPr>
          <a:xfrm>
            <a:off x="946080" y="961920"/>
            <a:ext cx="8197920" cy="5515200"/>
          </a:xfrm>
          <a:prstGeom prst="rect">
            <a:avLst/>
          </a:prstGeom>
          <a:ln w="0">
            <a:noFill/>
          </a:ln>
        </p:spPr>
      </p:pic>
      <p:pic>
        <p:nvPicPr>
          <p:cNvPr id="599" name="" descr=""/>
          <p:cNvPicPr/>
          <p:nvPr/>
        </p:nvPicPr>
        <p:blipFill>
          <a:blip r:embed="rId2"/>
          <a:stretch/>
        </p:blipFill>
        <p:spPr>
          <a:xfrm>
            <a:off x="5024520" y="3021120"/>
            <a:ext cx="1847880" cy="112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1E09F-0C8C-4A17-AC89-8C614B43C48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Problem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i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7%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slower than the transistor model!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ame Main V-t curve as transistor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ame Boost V-t curve as transistor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-V curves match to within  1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Die capacitance (C_comp) is only area of change..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 How is C_comp treated by EDA tool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IBIS V-t curves include C_comp 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_comp also affects incoming (and reflected) wa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ools therefore remove C_comp effects from V-t curv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p with C_comp value is placed external to buffer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ap-less” V-t curves are used for driving simul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utput waveform at pad should be equivalent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rot="5400000">
            <a:off x="2742840" y="4838400"/>
            <a:ext cx="1209960" cy="1400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662920" y="5183280"/>
            <a:ext cx="85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V-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(inclu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c_co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4179960" y="5545080"/>
            <a:ext cx="199800" cy="511200"/>
            <a:chOff x="4179960" y="5545080"/>
            <a:chExt cx="199800" cy="511200"/>
          </a:xfrm>
        </p:grpSpPr>
        <p:sp>
          <p:nvSpPr>
            <p:cNvPr id="605" name=""/>
            <p:cNvSpPr/>
            <p:nvPr/>
          </p:nvSpPr>
          <p:spPr>
            <a:xfrm>
              <a:off x="4179960" y="5983560"/>
              <a:ext cx="199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13080" y="6019920"/>
              <a:ext cx="133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246560" y="605628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8" name=""/>
            <p:cNvGrpSpPr/>
            <p:nvPr/>
          </p:nvGrpSpPr>
          <p:grpSpPr>
            <a:xfrm>
              <a:off x="4279680" y="5545080"/>
              <a:ext cx="99720" cy="364320"/>
              <a:chOff x="4279680" y="5545080"/>
              <a:chExt cx="99720" cy="364320"/>
            </a:xfrm>
          </p:grpSpPr>
          <p:sp>
            <p:nvSpPr>
              <p:cNvPr id="609" name=""/>
              <p:cNvSpPr/>
              <p:nvPr/>
            </p:nvSpPr>
            <p:spPr>
              <a:xfrm>
                <a:off x="4279680" y="5545080"/>
                <a:ext cx="9972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4279680" y="5666400"/>
                <a:ext cx="997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V="1">
                <a:off x="4279680" y="5727240"/>
                <a:ext cx="9972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V="1">
                <a:off x="4279680" y="5605560"/>
                <a:ext cx="9972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4279680" y="5788080"/>
                <a:ext cx="9972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V="1">
                <a:off x="4279680" y="5848560"/>
                <a:ext cx="9972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>
              <a:off x="4279680" y="5909760"/>
              <a:ext cx="0" cy="7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4048200" y="553392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753080" y="5533920"/>
            <a:ext cx="676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5400000">
            <a:off x="6086160" y="4857480"/>
            <a:ext cx="1209960" cy="14004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064920" y="5202360"/>
            <a:ext cx="736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V-t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(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c_co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723080" y="600228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756560" y="603900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7790040" y="607536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823160" y="5564160"/>
            <a:ext cx="100080" cy="364680"/>
            <a:chOff x="7823160" y="5564160"/>
            <a:chExt cx="100080" cy="364680"/>
          </a:xfrm>
        </p:grpSpPr>
        <p:sp>
          <p:nvSpPr>
            <p:cNvPr id="624" name=""/>
            <p:cNvSpPr/>
            <p:nvPr/>
          </p:nvSpPr>
          <p:spPr>
            <a:xfrm>
              <a:off x="7823160" y="5564160"/>
              <a:ext cx="10008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23160" y="5685480"/>
              <a:ext cx="100080" cy="6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823160" y="5746680"/>
              <a:ext cx="10008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7823160" y="5624640"/>
              <a:ext cx="10008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823160" y="5807520"/>
              <a:ext cx="100080" cy="6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823160" y="5868000"/>
              <a:ext cx="100080" cy="6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0" name=""/>
          <p:cNvSpPr/>
          <p:nvPr/>
        </p:nvSpPr>
        <p:spPr>
          <a:xfrm>
            <a:off x="7823160" y="5929200"/>
            <a:ext cx="0" cy="73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391520" y="5553000"/>
            <a:ext cx="43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7534440" y="573408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534440" y="580068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7620120" y="55530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7620120" y="5810400"/>
            <a:ext cx="468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7619760" y="594828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4695120" y="514512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29659-4D2A-4C01-A40F-A7D69B5EC07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Problem with Method 1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1447920" y="1104840"/>
            <a:ext cx="7238880" cy="499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r Pre-Emphasis, tool approach breaks down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38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ming…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_comp (transistor) = C_comp’ A + C_comp’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38840" indent="-438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en Buffer A drives with adjusted curves…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 sees its own cap load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LUS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he load at Buffer B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’s V-t curves were only adjusted for C_comp’ 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4240" indent="-36540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Equivalent output edge rate will be too slow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rot="5400000">
            <a:off x="2775960" y="3071520"/>
            <a:ext cx="1123920" cy="15145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656440" y="3478320"/>
            <a:ext cx="85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V-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(inclu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C_co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rot="5400000">
            <a:off x="2785680" y="1442880"/>
            <a:ext cx="1123920" cy="151452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647080" y="1849320"/>
            <a:ext cx="85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 Black"/>
              </a:rPr>
              <a:t>V-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 Black"/>
              </a:rPr>
              <a:t>(inclu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 Black"/>
              </a:rPr>
              <a:t>C_comp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237200" y="2925720"/>
            <a:ext cx="201600" cy="474840"/>
            <a:chOff x="4237200" y="2925720"/>
            <a:chExt cx="201600" cy="474840"/>
          </a:xfrm>
        </p:grpSpPr>
        <p:sp>
          <p:nvSpPr>
            <p:cNvPr id="645" name=""/>
            <p:cNvSpPr/>
            <p:nvPr/>
          </p:nvSpPr>
          <p:spPr>
            <a:xfrm>
              <a:off x="4237200" y="3332880"/>
              <a:ext cx="201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270680" y="3366720"/>
              <a:ext cx="134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04520" y="3400560"/>
              <a:ext cx="6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4338000" y="2925720"/>
              <a:ext cx="100800" cy="338400"/>
              <a:chOff x="4338000" y="2925720"/>
              <a:chExt cx="100800" cy="338400"/>
            </a:xfrm>
          </p:grpSpPr>
          <p:sp>
            <p:nvSpPr>
              <p:cNvPr id="649" name=""/>
              <p:cNvSpPr/>
              <p:nvPr/>
            </p:nvSpPr>
            <p:spPr>
              <a:xfrm>
                <a:off x="4338000" y="2925720"/>
                <a:ext cx="100800" cy="5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4338000" y="3038400"/>
                <a:ext cx="100800" cy="5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flipV="1">
                <a:off x="4338000" y="3094920"/>
                <a:ext cx="100800" cy="5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flipV="1">
                <a:off x="4338000" y="2981880"/>
                <a:ext cx="100800" cy="5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4338000" y="3151440"/>
                <a:ext cx="100800" cy="5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4338000" y="3207600"/>
                <a:ext cx="100800" cy="56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4338000" y="3264480"/>
              <a:ext cx="0" cy="68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4100400" y="2200320"/>
            <a:ext cx="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1467360" y="1906560"/>
            <a:ext cx="6562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488600" y="3668760"/>
            <a:ext cx="7264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4124160" y="2209680"/>
            <a:ext cx="1800" cy="1617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 flipH="1">
            <a:off x="4076640" y="3814920"/>
            <a:ext cx="52560" cy="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133880" y="2924280"/>
            <a:ext cx="22068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rot="5400000">
            <a:off x="5865840" y="3017880"/>
            <a:ext cx="1209600" cy="1504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55680" y="3414600"/>
            <a:ext cx="909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V-t’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(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ff"/>
                </a:solidFill>
                <a:latin typeface="Arial Black"/>
              </a:rPr>
              <a:t>C_comp’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rot="5400000">
            <a:off x="5874840" y="1388880"/>
            <a:ext cx="1209600" cy="150516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760000" y="1785960"/>
            <a:ext cx="903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 Black"/>
              </a:rPr>
              <a:t>V-t’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 Black"/>
              </a:rPr>
              <a:t>(with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0000"/>
                </a:solidFill>
                <a:latin typeface="Arial Black"/>
              </a:rPr>
              <a:t>C_comp’ 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373880" y="2824200"/>
            <a:ext cx="200160" cy="511200"/>
            <a:chOff x="7373880" y="2824200"/>
            <a:chExt cx="200160" cy="511200"/>
          </a:xfrm>
        </p:grpSpPr>
        <p:sp>
          <p:nvSpPr>
            <p:cNvPr id="667" name=""/>
            <p:cNvSpPr/>
            <p:nvPr/>
          </p:nvSpPr>
          <p:spPr>
            <a:xfrm>
              <a:off x="7373880" y="326268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407000" y="3299040"/>
              <a:ext cx="133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440480" y="3335400"/>
              <a:ext cx="6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7473960" y="2824200"/>
              <a:ext cx="100080" cy="364320"/>
              <a:chOff x="7473960" y="2824200"/>
              <a:chExt cx="100080" cy="364320"/>
            </a:xfrm>
          </p:grpSpPr>
          <p:sp>
            <p:nvSpPr>
              <p:cNvPr id="671" name=""/>
              <p:cNvSpPr/>
              <p:nvPr/>
            </p:nvSpPr>
            <p:spPr>
              <a:xfrm>
                <a:off x="7473960" y="2824200"/>
                <a:ext cx="10008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473960" y="2945520"/>
                <a:ext cx="100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V="1">
                <a:off x="7473960" y="3006360"/>
                <a:ext cx="10008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7473960" y="2884680"/>
                <a:ext cx="10008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7473960" y="3067200"/>
                <a:ext cx="100080" cy="6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V="1">
                <a:off x="7473960" y="3127680"/>
                <a:ext cx="100080" cy="6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7473960" y="3188880"/>
              <a:ext cx="0" cy="7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7232760" y="2136600"/>
            <a:ext cx="28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261200" y="2136600"/>
            <a:ext cx="0" cy="16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7213680" y="3765600"/>
            <a:ext cx="47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270920" y="2822400"/>
            <a:ext cx="21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38880" y="214164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81800" y="231768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381800" y="238428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467480" y="2136600"/>
            <a:ext cx="0" cy="181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467480" y="2394000"/>
            <a:ext cx="504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238880" y="3762360"/>
            <a:ext cx="214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375680" y="393696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75680" y="4003560"/>
            <a:ext cx="171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461360" y="3765600"/>
            <a:ext cx="0" cy="171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7461360" y="4013280"/>
            <a:ext cx="4680" cy="166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7373880" y="2585880"/>
            <a:ext cx="200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407360" y="2622600"/>
            <a:ext cx="13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440480" y="2658960"/>
            <a:ext cx="66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473960" y="2513160"/>
            <a:ext cx="0" cy="7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7367760" y="4199040"/>
            <a:ext cx="19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7400880" y="4235400"/>
            <a:ext cx="13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434360" y="4272120"/>
            <a:ext cx="6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7672680" y="2201760"/>
            <a:ext cx="91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_comp’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65480" y="382428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C_comp’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4772160" y="3191040"/>
            <a:ext cx="67608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4714200" y="2801880"/>
            <a:ext cx="71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TO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475AE3-DB21-4801-81A8-15CDDE6D494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oposed Fix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72644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Method 2: Adjust all V-t curves for the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otal</a:t>
            </a: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 C_comp value before using the models for simul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Each V-t curve reflects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otal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C_comp lo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djust each curve (Main, Boost) for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otal 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C_co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Set IBIS C_comp for Main, Boost to 0 p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Add external cap equal to original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total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C_co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1727280" y="3510000"/>
            <a:ext cx="2800440" cy="1697040"/>
          </a:xfrm>
          <a:prstGeom prst="rect">
            <a:avLst/>
          </a:prstGeom>
          <a:ln w="0">
            <a:noFill/>
          </a:ln>
        </p:spPr>
      </p:pic>
      <p:pic>
        <p:nvPicPr>
          <p:cNvPr id="706" name="" descr=""/>
          <p:cNvPicPr/>
          <p:nvPr/>
        </p:nvPicPr>
        <p:blipFill>
          <a:blip r:embed="rId2"/>
          <a:stretch/>
        </p:blipFill>
        <p:spPr>
          <a:xfrm>
            <a:off x="1128600" y="5173560"/>
            <a:ext cx="8015400" cy="674640"/>
          </a:xfrm>
          <a:prstGeom prst="rect">
            <a:avLst/>
          </a:prstGeom>
          <a:ln w="0">
            <a:noFill/>
          </a:ln>
        </p:spPr>
      </p:pic>
      <p:sp>
        <p:nvSpPr>
          <p:cNvPr id="707" name=""/>
          <p:cNvSpPr/>
          <p:nvPr/>
        </p:nvSpPr>
        <p:spPr>
          <a:xfrm>
            <a:off x="1388160" y="5910120"/>
            <a:ext cx="368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cc00"/>
                </a:solidFill>
                <a:latin typeface="Arial Black"/>
              </a:rPr>
              <a:t>images and equations from A. Murany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2778120" y="3742920"/>
            <a:ext cx="558720" cy="3430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478320" y="3567240"/>
            <a:ext cx="1169640" cy="276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wfm_pu (V-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257360" y="3998880"/>
            <a:ext cx="660960" cy="45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Vfx_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fix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3654360" y="4251240"/>
            <a:ext cx="495360" cy="139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958000" y="3583080"/>
            <a:ext cx="2423880" cy="1067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urrent through fix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s function of curr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ough pullup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hrough die c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835280" y="4467240"/>
            <a:ext cx="17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1835280" y="4533840"/>
            <a:ext cx="171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1920960" y="4295880"/>
            <a:ext cx="0" cy="171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920960" y="4543560"/>
            <a:ext cx="4680" cy="1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1827360" y="4729320"/>
            <a:ext cx="199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860480" y="4765680"/>
            <a:ext cx="1335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893960" y="4802040"/>
            <a:ext cx="66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1914480" y="4289400"/>
            <a:ext cx="673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3698-2F1D-428C-9887-8CE239A292D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traction – Main Ris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990720" y="973080"/>
            <a:ext cx="8153280" cy="5538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A8BC1-2757-4A9D-A3E1-C781F5A43A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Extraction – Main Fall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1"/>
          <a:stretch/>
        </p:blipFill>
        <p:spPr>
          <a:xfrm>
            <a:off x="933480" y="925560"/>
            <a:ext cx="8210520" cy="559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CF2FD-E716-4A60-A07E-AA82412963E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2388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ical serial/diff. interface buffer desig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Pre-emphasis is addressed in IB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l Approach to C_co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w tools use C_co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ortional splitt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-estimation of buffer load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Approa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ing Out” C_co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ing external capac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bined V-t correlation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lti-variate c_co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elines and Future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11360" y="5792760"/>
            <a:ext cx="4819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Note: many slides in this presentation are anim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9D289-2359-430E-AD9B-B691789B15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teps &amp; Notable Feature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238880" cy="516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w curves should be much sharp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-V setting point should be the sam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monotonic “bumps”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_comp does not differentiate between sources of capacit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ssibly due to Miller cap effe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justment Procedure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rt with 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t curve (IBIS V-t curv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se 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o calculate I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t curve (V = IR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Take derivative of 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-t to get d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/dt cur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ultiply C_comp by dV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/dt to get I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I = C*dV/d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ubtract I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cap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from I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o get I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adj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ch signs!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ultiply I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adj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* R</a:t>
            </a:r>
            <a:r>
              <a:rPr b="1" lang="en-US" sz="1800" spc="-1" strike="noStrike" baseline="-25000">
                <a:solidFill>
                  <a:srgbClr val="0000ff"/>
                </a:solidFill>
                <a:latin typeface="Arial"/>
              </a:rPr>
              <a:t>load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to get </a:t>
            </a:r>
            <a:r>
              <a:rPr b="1" lang="en-US" sz="1800" spc="-1" strike="noStrike">
                <a:solidFill>
                  <a:srgbClr val="009966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9966"/>
                </a:solidFill>
                <a:latin typeface="Arial"/>
              </a:rPr>
              <a:t>adj</a:t>
            </a:r>
            <a:r>
              <a:rPr b="1" lang="en-US" sz="1800" spc="-1" strike="noStrike">
                <a:solidFill>
                  <a:srgbClr val="009966"/>
                </a:solidFill>
                <a:latin typeface="Arial"/>
              </a:rPr>
              <a:t>-t cur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32280" indent="-3358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Easily done in Microsoft Excel*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1160" indent="-372960">
              <a:spcBef>
                <a:spcPts val="451"/>
              </a:spcBef>
              <a:buClr>
                <a:srgbClr val="ffcc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dd C_comp external to buffers in simul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68FAC6-BEA3-4410-82E7-13F27BB882F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Results of Using New Metho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"/>
          <a:stretch/>
        </p:blipFill>
        <p:spPr>
          <a:xfrm>
            <a:off x="888840" y="660240"/>
            <a:ext cx="8255160" cy="58928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5289840" y="4322880"/>
            <a:ext cx="220896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New c_comp = </a:t>
            </a: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14pF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2"/>
          <a:stretch/>
        </p:blipFill>
        <p:spPr>
          <a:xfrm>
            <a:off x="4427640" y="2830680"/>
            <a:ext cx="2203200" cy="117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AFEB7-F3E3-44EF-B175-F3DF3F91B6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omment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1447920" y="1402920"/>
            <a:ext cx="7277040" cy="438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ch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IBIS edge rate now  &lt; 0.5% match to transistor edge ra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Peak voltage &amp; settling still not matching transis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Match only good for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1100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patter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IBIS lacks ISI coupling to current sourc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Matching to other patterns not yet stud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Needed to add </a:t>
            </a:r>
            <a:r>
              <a:rPr b="1" i="1" lang="en-US" sz="1800" spc="-1" strike="noStrike">
                <a:solidFill>
                  <a:srgbClr val="ff3300"/>
                </a:solidFill>
                <a:latin typeface="Arial"/>
              </a:rPr>
              <a:t>14 pF</a:t>
            </a: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 externally, not 8 pF, to match edg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Recall: C_comp is added external to adjusted buffe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Transistor and IBIS edge rates only matched with 14 p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ff"/>
                </a:solidFill>
                <a:latin typeface="Arial"/>
              </a:rPr>
              <a:t>What explains discrepancy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-3808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Under investigation (see below)…</a:t>
            </a:r>
            <a:endParaRPr b="0" lang="en-US" sz="1600" spc="-1" strike="noStrike">
              <a:solidFill>
                <a:srgbClr val="000000"/>
              </a:solidFill>
              <a:latin typeface="Arial Black"/>
            </a:endParaRPr>
          </a:p>
          <a:p>
            <a:pPr lvl="2" marL="1257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1728E-350B-4784-A355-816C2F9DE31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Further Compli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447920" y="1143000"/>
            <a:ext cx="7315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istor model capacitance behaviors are not simp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pacitance for “Buffer X” vs. Frequency and bias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requency-based measurement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not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constant 8 pF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016680" y="2849400"/>
            <a:ext cx="29844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call A. Muranyi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alys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Detail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True Differential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Characterization Revisited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ctober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1305000" y="2209680"/>
            <a:ext cx="4590720" cy="4049640"/>
            <a:chOff x="1305000" y="2209680"/>
            <a:chExt cx="4590720" cy="4049640"/>
          </a:xfrm>
        </p:grpSpPr>
        <p:pic>
          <p:nvPicPr>
            <p:cNvPr id="740" name="" descr=""/>
            <p:cNvPicPr/>
            <p:nvPr/>
          </p:nvPicPr>
          <p:blipFill>
            <a:blip r:embed="rId4"/>
            <a:stretch/>
          </p:blipFill>
          <p:spPr>
            <a:xfrm>
              <a:off x="1305000" y="2209680"/>
              <a:ext cx="4590720" cy="40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1" name=""/>
            <p:cNvSpPr/>
            <p:nvPr/>
          </p:nvSpPr>
          <p:spPr>
            <a:xfrm flipV="1">
              <a:off x="3952800" y="5676840"/>
              <a:ext cx="1504800" cy="49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 flipV="1">
              <a:off x="1771200" y="5533920"/>
              <a:ext cx="1152360" cy="57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37040" y="583092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909320" y="585000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860480" y="5830920"/>
              <a:ext cx="1839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775160" y="577368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619280" y="2943000"/>
              <a:ext cx="0" cy="2467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62600" y="25923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3A66E-BE48-4A9E-B68A-355AC023220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 Further Complic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1447920" y="1057320"/>
            <a:ext cx="7315200" cy="473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ial view of transistor model capacitan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Differential capacitance not included in adjusted mod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ote that finding of femto-farad differential capacitances described in previous summits may not always apply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016680" y="2849400"/>
            <a:ext cx="29844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ecall A. Muranyi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nalys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1"/>
              </a:rPr>
              <a:t>Details 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2"/>
              </a:rPr>
              <a:t>True Differential Buff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Arial Black"/>
                <a:hlinkClick r:id="rId3"/>
              </a:rPr>
              <a:t>Characterization Revisited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ctober, 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1418040" y="2427120"/>
            <a:ext cx="4320360" cy="3692520"/>
            <a:chOff x="1418040" y="2427120"/>
            <a:chExt cx="4320360" cy="3692520"/>
          </a:xfrm>
        </p:grpSpPr>
        <p:graphicFrame>
          <p:nvGraphicFramePr>
            <p:cNvPr id="753" name=""/>
            <p:cNvGraphicFramePr/>
            <p:nvPr/>
          </p:nvGraphicFramePr>
          <p:xfrm>
            <a:off x="1418040" y="2427120"/>
            <a:ext cx="4320360" cy="36925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754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418040" y="2427120"/>
                      <a:ext cx="4320360" cy="3692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55" name=""/>
            <p:cNvSpPr/>
            <p:nvPr/>
          </p:nvSpPr>
          <p:spPr>
            <a:xfrm flipV="1">
              <a:off x="3843720" y="5404320"/>
              <a:ext cx="1373400" cy="50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 flipV="1">
              <a:off x="1873080" y="5176080"/>
              <a:ext cx="1007280" cy="676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759200" y="559908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740840" y="5616360"/>
              <a:ext cx="30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877400" y="5599080"/>
              <a:ext cx="1843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806840" y="554616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H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658880" y="2937600"/>
              <a:ext cx="0" cy="22734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19840" y="26143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D1088-F8AC-454F-96A5-FFB0E798DE5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uidelines and Future Work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7505640" cy="5200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ollect three types of V-t curves from source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-only V-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st-only V-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100 correlation curve from full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66"/>
                </a:solidFill>
                <a:latin typeface="Arial"/>
              </a:rPr>
              <a:t>Combination of main and boost, at pad with R load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66"/>
                </a:solidFill>
                <a:latin typeface="Arial"/>
              </a:rPr>
              <a:t>Pre- and de-emphasis behaviors will be show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00"/>
                </a:solidFill>
                <a:latin typeface="Arial"/>
              </a:rPr>
              <a:t>Other data patterns may yield different results!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Use equations to “back out” c_com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just external capacitance to match 1100 correlation cur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Measurement method used for c_comp could make a difference!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ternatives for investigatio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tion-based capacitance, for example: C(V,f)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66"/>
                </a:solidFill>
                <a:latin typeface="Arial"/>
              </a:rPr>
              <a:t>Would require collecting additional data from sourc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66"/>
                </a:solidFill>
                <a:latin typeface="Arial"/>
              </a:rPr>
              <a:t>Very possible under IBIS 4.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66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009966"/>
                </a:solidFill>
                <a:latin typeface="Arial"/>
              </a:rPr>
              <a:t>Backing out” c_comp from Main, Boost is non-trivia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river Schedu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66"/>
                </a:solidFill>
                <a:latin typeface="Arial"/>
              </a:rPr>
              <a:t>Check sim tool implementation of c_comp adjustment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9966"/>
                </a:solidFill>
                <a:latin typeface="Arial"/>
              </a:rPr>
              <a:t>V-t curve adjustment may still be needed before simula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40DB8-93C9-48ED-8847-09CF12307EC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ypical Ser/Diff TX Desig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447560" y="1053720"/>
            <a:ext cx="6654600" cy="17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ngle stage buff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shown in S-ATA Gen. I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serialata.or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856120" y="4254480"/>
            <a:ext cx="3287880" cy="19558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794040" y="2514600"/>
            <a:ext cx="684360" cy="6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135320" y="257976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35320" y="23241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35320" y="3152880"/>
            <a:ext cx="0" cy="38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247920" y="3535200"/>
            <a:ext cx="17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247920" y="3535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024520" y="3535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042720" y="3852720"/>
            <a:ext cx="20484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4520" y="3852720"/>
            <a:ext cx="204840" cy="319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47920" y="417204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024520" y="417204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79880" y="4681440"/>
            <a:ext cx="136440" cy="128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043080" y="570240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11480" y="576576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79880" y="58294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247920" y="4937040"/>
            <a:ext cx="204840" cy="636120"/>
            <a:chOff x="3247920" y="4937040"/>
            <a:chExt cx="204840" cy="636120"/>
          </a:xfrm>
        </p:grpSpPr>
        <p:sp>
          <p:nvSpPr>
            <p:cNvPr id="136" name=""/>
            <p:cNvSpPr/>
            <p:nvPr/>
          </p:nvSpPr>
          <p:spPr>
            <a:xfrm>
              <a:off x="3247920" y="49370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47920" y="514908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247920" y="52552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47920" y="50428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47920" y="53614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247920" y="546696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247920" y="55738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19680" y="570240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88080" y="576576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56120" y="58294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024520" y="4937040"/>
            <a:ext cx="204840" cy="636120"/>
            <a:chOff x="5024520" y="4937040"/>
            <a:chExt cx="204840" cy="636120"/>
          </a:xfrm>
        </p:grpSpPr>
        <p:sp>
          <p:nvSpPr>
            <p:cNvPr id="147" name=""/>
            <p:cNvSpPr/>
            <p:nvPr/>
          </p:nvSpPr>
          <p:spPr>
            <a:xfrm>
              <a:off x="5024520" y="49370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4520" y="514908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5024520" y="52552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024520" y="50428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024520" y="53614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024520" y="546696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024520" y="557388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956120" y="4300560"/>
            <a:ext cx="136440" cy="127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72000" y="371952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12880" y="372600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64200" y="442764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71920" y="400068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30400" y="425448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39880" y="372096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39880" y="372096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60920" y="262908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186200" y="3360600"/>
            <a:ext cx="161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ta Strea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5856120" y="2197080"/>
            <a:ext cx="3287880" cy="2247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732720" y="1846440"/>
            <a:ext cx="17535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(into 100 </a:t>
            </a:r>
            <a:r>
              <a:rPr b="0" lang="el-GR" sz="1600" spc="-1" strike="noStrike">
                <a:solidFill>
                  <a:srgbClr val="000000"/>
                </a:solidFill>
                <a:latin typeface="Arial Black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loa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39160" y="3819600"/>
            <a:ext cx="137700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Single-e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07120" y="5940360"/>
            <a:ext cx="12556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ifferent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575600" y="2658960"/>
            <a:ext cx="91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=13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51920" y="5033880"/>
            <a:ext cx="86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R=50 </a:t>
            </a:r>
            <a:r>
              <a:rPr b="0" lang="el-GR" sz="1600" spc="-1" strike="noStrike">
                <a:solidFill>
                  <a:srgbClr val="000000"/>
                </a:solidFill>
                <a:latin typeface="Arial Black"/>
              </a:rPr>
              <a:t>Ω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6E5C-FE86-47FE-BC0F-01C0A4D9B75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22440" y="228600"/>
            <a:ext cx="7012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ding Pre-empha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28520" y="1066320"/>
            <a:ext cx="784836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source with different stimul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source usually a fraction of the fir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44880" y="2502000"/>
            <a:ext cx="684000" cy="637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86160" y="256716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86160" y="2311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86160" y="31399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98760" y="3522600"/>
            <a:ext cx="17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8760" y="3522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275000" y="3522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293560" y="38401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75000" y="38401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98760" y="4159080"/>
            <a:ext cx="0" cy="76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75000" y="4159080"/>
            <a:ext cx="0" cy="765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30360" y="4668840"/>
            <a:ext cx="136800" cy="1285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93920" y="568944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362320" y="575316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30360" y="5816520"/>
            <a:ext cx="136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98760" y="4924440"/>
            <a:ext cx="204840" cy="636120"/>
            <a:chOff x="2498760" y="4924440"/>
            <a:chExt cx="204840" cy="636120"/>
          </a:xfrm>
        </p:grpSpPr>
        <p:sp>
          <p:nvSpPr>
            <p:cNvPr id="188" name=""/>
            <p:cNvSpPr/>
            <p:nvPr/>
          </p:nvSpPr>
          <p:spPr>
            <a:xfrm>
              <a:off x="2498760" y="49244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498760" y="51361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2498760" y="5242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2498760" y="50302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498760" y="5348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2498760" y="545436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498760" y="55609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070520" y="5689440"/>
            <a:ext cx="40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38560" y="575316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06960" y="581652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4275000" y="4924440"/>
            <a:ext cx="204840" cy="636120"/>
            <a:chOff x="4275000" y="4924440"/>
            <a:chExt cx="204840" cy="636120"/>
          </a:xfrm>
        </p:grpSpPr>
        <p:sp>
          <p:nvSpPr>
            <p:cNvPr id="199" name=""/>
            <p:cNvSpPr/>
            <p:nvPr/>
          </p:nvSpPr>
          <p:spPr>
            <a:xfrm>
              <a:off x="4275000" y="492444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75000" y="51361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4275000" y="5242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4275000" y="50302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75000" y="5348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275000" y="545436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5" name=""/>
          <p:cNvSpPr/>
          <p:nvPr/>
        </p:nvSpPr>
        <p:spPr>
          <a:xfrm>
            <a:off x="4275000" y="55609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206960" y="4287960"/>
            <a:ext cx="136440" cy="1267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567160" y="4734000"/>
            <a:ext cx="16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459480" y="2502000"/>
            <a:ext cx="684360" cy="63792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02560" y="256716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02560" y="231156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02560" y="31399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13360" y="3522600"/>
            <a:ext cx="17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13360" y="3522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89960" y="35226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5708160" y="38401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689960" y="38401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022840" y="370692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63720" y="37130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84160" y="37130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70040" y="37130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615040" y="44146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722400" y="398772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11760" y="26161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480" y="261612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892840" y="414036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368960" y="4368960"/>
            <a:ext cx="144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69160" y="436896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68960" y="474984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721640" y="4140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74234-CB8B-4FB1-B6D4-A2D2D4D7FBB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flipH="1">
            <a:off x="5231880" y="3359160"/>
            <a:ext cx="196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2440" y="228600"/>
            <a:ext cx="7012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ding Pre-empha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source with different stimul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62120" y="2019240"/>
            <a:ext cx="684360" cy="6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903400" y="20844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03400" y="18288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903400" y="26575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016000" y="3040200"/>
            <a:ext cx="17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160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926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926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16000" y="367668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92600" y="367668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947960" y="4186080"/>
            <a:ext cx="136440" cy="128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811160" y="520704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879560" y="527040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947960" y="533412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016000" y="4441680"/>
            <a:ext cx="204840" cy="636120"/>
            <a:chOff x="2016000" y="4441680"/>
            <a:chExt cx="204840" cy="636120"/>
          </a:xfrm>
        </p:grpSpPr>
        <p:sp>
          <p:nvSpPr>
            <p:cNvPr id="248" name=""/>
            <p:cNvSpPr/>
            <p:nvPr/>
          </p:nvSpPr>
          <p:spPr>
            <a:xfrm>
              <a:off x="2016000" y="4441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16000" y="46537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2016000" y="47599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2016000" y="4547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16000" y="48661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2016000" y="497160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2016000" y="5078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7760" y="520704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6160" y="527040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724200" y="533412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3792600" y="4441680"/>
            <a:ext cx="204840" cy="636120"/>
            <a:chOff x="3792600" y="4441680"/>
            <a:chExt cx="204840" cy="636120"/>
          </a:xfrm>
        </p:grpSpPr>
        <p:sp>
          <p:nvSpPr>
            <p:cNvPr id="259" name=""/>
            <p:cNvSpPr/>
            <p:nvPr/>
          </p:nvSpPr>
          <p:spPr>
            <a:xfrm>
              <a:off x="3792600" y="4441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792600" y="46537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792600" y="47599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792600" y="4547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792600" y="48661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792600" y="497160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5" name=""/>
          <p:cNvSpPr/>
          <p:nvPr/>
        </p:nvSpPr>
        <p:spPr>
          <a:xfrm>
            <a:off x="3792600" y="5078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724200" y="3805200"/>
            <a:ext cx="136440" cy="127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084400" y="4251240"/>
            <a:ext cx="16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77080" y="2019240"/>
            <a:ext cx="684000" cy="6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19800" y="20844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319800" y="18288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319800" y="26575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430960" y="3040200"/>
            <a:ext cx="17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3096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2072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2072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40080" y="32241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080960" y="32306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901760" y="3230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487280" y="32306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132280" y="3932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0" y="350532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9880" y="259092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19720" y="20574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419720" y="20574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85680" y="2209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984920" y="5049720"/>
            <a:ext cx="1768320" cy="8240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Pre-Emph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P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 =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 = P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 =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29000" y="2133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832080" y="213372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3657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886200" y="3886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486400" y="3886200"/>
            <a:ext cx="1752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886200" y="4267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890520" y="167652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Strea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981840" y="498168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08960" y="4981680"/>
            <a:ext cx="1123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in conc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225760" y="3357720"/>
            <a:ext cx="204840" cy="3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2021040" y="3344760"/>
            <a:ext cx="1440" cy="34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5417640" y="3344760"/>
            <a:ext cx="1800" cy="357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1815840" y="3359160"/>
            <a:ext cx="196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810800" y="3357720"/>
            <a:ext cx="204840" cy="3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708200" y="4381560"/>
            <a:ext cx="0" cy="67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1520" y="4344840"/>
            <a:ext cx="593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457960" y="56102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372360" y="561024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808640" y="5564160"/>
            <a:ext cx="2480400" cy="5806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oad between TX+ &amp; TX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es 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Main +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C581A-3D24-414F-950E-4AB4A42083A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 flipH="1">
            <a:off x="5231880" y="3359160"/>
            <a:ext cx="196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522440" y="228600"/>
            <a:ext cx="7012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dding Pre-emphasi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66680" y="1066680"/>
            <a:ext cx="78487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other source with different stimul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562120" y="2019240"/>
            <a:ext cx="684360" cy="6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03400" y="20844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903400" y="18288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903400" y="26575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016000" y="3040200"/>
            <a:ext cx="177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0160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7926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7926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016000" y="367668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92600" y="3676680"/>
            <a:ext cx="0" cy="765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947960" y="4186080"/>
            <a:ext cx="136440" cy="128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811160" y="520704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879560" y="5270400"/>
            <a:ext cx="273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947960" y="533412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2016000" y="4441680"/>
            <a:ext cx="204840" cy="636120"/>
            <a:chOff x="2016000" y="4441680"/>
            <a:chExt cx="204840" cy="636120"/>
          </a:xfrm>
        </p:grpSpPr>
        <p:sp>
          <p:nvSpPr>
            <p:cNvPr id="325" name=""/>
            <p:cNvSpPr/>
            <p:nvPr/>
          </p:nvSpPr>
          <p:spPr>
            <a:xfrm>
              <a:off x="2016000" y="4441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016000" y="46537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016000" y="47599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2016000" y="4547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16000" y="48661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2016000" y="497160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016000" y="5078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587760" y="5207040"/>
            <a:ext cx="40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656160" y="5270400"/>
            <a:ext cx="272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24200" y="533412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3792600" y="4441680"/>
            <a:ext cx="204840" cy="636120"/>
            <a:chOff x="3792600" y="4441680"/>
            <a:chExt cx="204840" cy="636120"/>
          </a:xfrm>
        </p:grpSpPr>
        <p:sp>
          <p:nvSpPr>
            <p:cNvPr id="336" name=""/>
            <p:cNvSpPr/>
            <p:nvPr/>
          </p:nvSpPr>
          <p:spPr>
            <a:xfrm>
              <a:off x="3792600" y="444168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92600" y="465372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3792600" y="47599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3792600" y="45475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92600" y="4866120"/>
              <a:ext cx="204840" cy="10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3792600" y="4971600"/>
              <a:ext cx="204840" cy="10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/>
          <p:cNvSpPr/>
          <p:nvPr/>
        </p:nvSpPr>
        <p:spPr>
          <a:xfrm>
            <a:off x="3792600" y="5078520"/>
            <a:ext cx="0" cy="128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24200" y="3805200"/>
            <a:ext cx="136440" cy="1270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84400" y="4251240"/>
            <a:ext cx="163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977080" y="2019240"/>
            <a:ext cx="684000" cy="6382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319800" y="2084400"/>
            <a:ext cx="0" cy="50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319800" y="1828800"/>
            <a:ext cx="0" cy="190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319800" y="2657520"/>
            <a:ext cx="0" cy="38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430960" y="3040200"/>
            <a:ext cx="1776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3096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207200" y="30402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207200" y="3357720"/>
            <a:ext cx="204840" cy="3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540080" y="3224160"/>
            <a:ext cx="31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080960" y="32306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901760" y="3230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487280" y="32306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132280" y="3932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240000" y="3505320"/>
            <a:ext cx="47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9880" y="2590920"/>
            <a:ext cx="6098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419720" y="2057400"/>
            <a:ext cx="6094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419720" y="2057400"/>
            <a:ext cx="0" cy="533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85680" y="22096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029200" y="4886280"/>
            <a:ext cx="1752480" cy="8240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De-Emph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A = P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 =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 = P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 = 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486400" y="5419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00800" y="51912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629000" y="21337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832080" y="2133720"/>
            <a:ext cx="72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3657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86200" y="3886200"/>
            <a:ext cx="1447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886200"/>
            <a:ext cx="1708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42670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201080" y="366408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890520" y="1676520"/>
            <a:ext cx="159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ata Stream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62960" y="4809960"/>
            <a:ext cx="107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Main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 Black"/>
              </a:rPr>
              <a:t>oppo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010280" y="480996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210440" y="3354480"/>
            <a:ext cx="204840" cy="318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2014560" y="3348000"/>
            <a:ext cx="1440" cy="3445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>
            <a:off x="7202520" y="3341520"/>
            <a:ext cx="1440" cy="357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1815840" y="3359160"/>
            <a:ext cx="19692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1807920" y="3360600"/>
            <a:ext cx="204840" cy="319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708200" y="4381560"/>
            <a:ext cx="0" cy="679320"/>
          </a:xfrm>
          <a:prstGeom prst="line">
            <a:avLst/>
          </a:prstGeom>
          <a:ln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118520" y="4545000"/>
            <a:ext cx="53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M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244040" y="4602240"/>
            <a:ext cx="59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Bo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098960" y="4410000"/>
            <a:ext cx="0" cy="679680"/>
          </a:xfrm>
          <a:prstGeom prst="line">
            <a:avLst/>
          </a:prstGeom>
          <a:ln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08640" y="5564160"/>
            <a:ext cx="2480400" cy="580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Load between TX+ &amp; TX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ees </a:t>
            </a: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Main -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DF68B-1763-48DF-99BA-7600E0005CA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0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e-emphasis Outpu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447560" y="1143000"/>
            <a:ext cx="33908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4432320" y="2914560"/>
            <a:ext cx="4317840" cy="3295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015920" y="1066680"/>
            <a:ext cx="789948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ypic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 Bit = Crossover to Cross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ch bit after a crossover is emphas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nsates for ISI and other loss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1066680" y="2933640"/>
            <a:ext cx="4587840" cy="334008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7023240" y="4030560"/>
            <a:ext cx="1480680" cy="8240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utpu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ta Patter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0 1 0 1 0 1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5753160" y="4470480"/>
            <a:ext cx="97776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02000" y="4102200"/>
            <a:ext cx="1480680" cy="824040"/>
          </a:xfrm>
          <a:prstGeom prst="rect">
            <a:avLst/>
          </a:prstGeom>
          <a:noFill/>
          <a:ln w="12600">
            <a:solidFill>
              <a:srgbClr val="00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Output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Data Patter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 0 0 1 1 0 0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3416400" y="4529160"/>
            <a:ext cx="977760" cy="0"/>
          </a:xfrm>
          <a:prstGeom prst="line">
            <a:avLst/>
          </a:prstGeom>
          <a:ln w="57240">
            <a:solidFill>
              <a:srgbClr val="00cc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863AC-84E7-48B7-9069-7CADEACE4A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1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BIS Implement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1628640" y="3381480"/>
            <a:ext cx="6537600" cy="24699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6754680" y="2895480"/>
            <a:ext cx="146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Wired-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767760" y="306864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in (+ &amp;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804840" y="5972040"/>
            <a:ext cx="133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66"/>
                </a:solidFill>
                <a:latin typeface="Arial Black"/>
              </a:rPr>
              <a:t>Boost (+ &amp;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083200" y="3584520"/>
            <a:ext cx="1657440" cy="245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686040" y="3457440"/>
            <a:ext cx="1752840" cy="114300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686040" y="4753080"/>
            <a:ext cx="1752840" cy="1143000"/>
          </a:xfrm>
          <a:prstGeom prst="rect">
            <a:avLst/>
          </a:prstGeom>
          <a:noFill/>
          <a:ln w="19080">
            <a:solidFill>
              <a:srgbClr val="00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048360" y="3267000"/>
            <a:ext cx="542880" cy="495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083200" y="3882960"/>
            <a:ext cx="147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70600" y="426420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076720" y="5108400"/>
            <a:ext cx="130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070600" y="5489640"/>
            <a:ext cx="799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59400" y="3889440"/>
            <a:ext cx="0" cy="12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57920" y="4270320"/>
            <a:ext cx="0" cy="123840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762200" y="3660840"/>
            <a:ext cx="1657440" cy="21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562400" y="3656160"/>
            <a:ext cx="9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im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553400" y="488484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mph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im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2400" y="1038240"/>
            <a:ext cx="746784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IBIS, two differential pairs are combi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differential pair represents the 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e differential pair represents the bo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Each pair has a distinct stimulus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in pair driven by the desired output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mphasis pair driven by different data 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667560" y="3697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 P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953400" y="4029120"/>
            <a:ext cx="7905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554520" y="410688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TX- P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610000" y="3591000"/>
            <a:ext cx="161640" cy="1009440"/>
          </a:xfrm>
          <a:custGeom>
            <a:avLst/>
            <a:gdLst>
              <a:gd name="textAreaLeft" fmla="*/ 103320 w 161640"/>
              <a:gd name="textAreaRight" fmla="*/ 162000 w 161640"/>
              <a:gd name="textAreaTop" fmla="*/ 26280 h 1009440"/>
              <a:gd name="textAreaBottom" fmla="*/ 983160 h 100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619360" y="4800600"/>
            <a:ext cx="162000" cy="1009800"/>
          </a:xfrm>
          <a:custGeom>
            <a:avLst/>
            <a:gdLst>
              <a:gd name="textAreaLeft" fmla="*/ 103680 w 162000"/>
              <a:gd name="textAreaRight" fmla="*/ 162360 w 162000"/>
              <a:gd name="textAreaTop" fmla="*/ 26280 h 1009800"/>
              <a:gd name="textAreaBottom" fmla="*/ 983520 h 100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082320" y="367812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072600" y="4116240"/>
            <a:ext cx="29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114720" y="4162320"/>
            <a:ext cx="20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65400" y="491652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56040" y="5354640"/>
            <a:ext cx="29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095640" y="5400720"/>
            <a:ext cx="209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1E672-4CC9-43CF-BEB7-18EE09D8699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522080" y="-360"/>
            <a:ext cx="7088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IBIS Implementatio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3545280" y="2801880"/>
            <a:ext cx="2636640" cy="337320"/>
            <a:chOff x="3545280" y="2801880"/>
            <a:chExt cx="2636640" cy="337320"/>
          </a:xfrm>
        </p:grpSpPr>
        <p:sp>
          <p:nvSpPr>
            <p:cNvPr id="427" name=""/>
            <p:cNvSpPr/>
            <p:nvPr/>
          </p:nvSpPr>
          <p:spPr>
            <a:xfrm>
              <a:off x="3545280" y="2801880"/>
              <a:ext cx="2564280" cy="33732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Emphasis (t) = Input (t-1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095800" y="2838240"/>
              <a:ext cx="1086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9" name="" descr=""/>
          <p:cNvPicPr/>
          <p:nvPr/>
        </p:nvPicPr>
        <p:blipFill>
          <a:blip r:embed="rId1"/>
          <a:stretch/>
        </p:blipFill>
        <p:spPr>
          <a:xfrm>
            <a:off x="1628640" y="3381480"/>
            <a:ext cx="6537600" cy="246996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3815280" y="3182760"/>
            <a:ext cx="126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 Black"/>
              </a:rPr>
              <a:t>Main (+ &amp;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6040" y="5848200"/>
            <a:ext cx="133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66"/>
                </a:solidFill>
                <a:latin typeface="Arial Black"/>
              </a:rPr>
              <a:t>Boost (+ &amp; -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083200" y="3470400"/>
            <a:ext cx="1657440" cy="245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543480" y="3533760"/>
            <a:ext cx="1752480" cy="1143000"/>
          </a:xfrm>
          <a:prstGeom prst="rect">
            <a:avLst/>
          </a:prstGeom>
          <a:noFill/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33760" y="4705200"/>
            <a:ext cx="1752480" cy="1143000"/>
          </a:xfrm>
          <a:prstGeom prst="rect">
            <a:avLst/>
          </a:prstGeom>
          <a:noFill/>
          <a:ln w="19080">
            <a:solidFill>
              <a:srgbClr val="00cc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064120" y="3911760"/>
            <a:ext cx="1479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051520" y="4292640"/>
            <a:ext cx="10792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057640" y="5137200"/>
            <a:ext cx="13017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051520" y="5518080"/>
            <a:ext cx="7999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40320" y="3917880"/>
            <a:ext cx="0" cy="1238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838840" y="4299120"/>
            <a:ext cx="0" cy="123804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762200" y="3660840"/>
            <a:ext cx="1657440" cy="21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028880" y="3646440"/>
            <a:ext cx="991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im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991440" y="48751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Empha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stimul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t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648480" y="37260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TX+ P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34320" y="4057560"/>
            <a:ext cx="7905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535440" y="41353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 Black"/>
              </a:rPr>
              <a:t>TX- P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095560" y="3591000"/>
            <a:ext cx="162000" cy="1009440"/>
          </a:xfrm>
          <a:custGeom>
            <a:avLst/>
            <a:gdLst>
              <a:gd name="textAreaLeft" fmla="*/ 103680 w 162000"/>
              <a:gd name="textAreaRight" fmla="*/ 162360 w 162000"/>
              <a:gd name="textAreaTop" fmla="*/ 26280 h 1009440"/>
              <a:gd name="textAreaBottom" fmla="*/ 983160 h 100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04920" y="4791240"/>
            <a:ext cx="162000" cy="1009440"/>
          </a:xfrm>
          <a:custGeom>
            <a:avLst/>
            <a:gdLst>
              <a:gd name="textAreaLeft" fmla="*/ 103680 w 162000"/>
              <a:gd name="textAreaRight" fmla="*/ 162360 w 162000"/>
              <a:gd name="textAreaTop" fmla="*/ 26280 h 1009440"/>
              <a:gd name="textAreaBottom" fmla="*/ 983160 h 100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76400"/>
            <a:ext cx="8277480" cy="23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What is the emphasis pair’s stimulus patter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only transition bits are emphasized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mphasis bit = </a:t>
            </a:r>
            <a:r>
              <a:rPr b="1" i="1" lang="en-US" sz="1600" spc="-1" strike="noStrike">
                <a:solidFill>
                  <a:srgbClr val="ff3300"/>
                </a:solidFill>
                <a:latin typeface="Arial"/>
              </a:rPr>
              <a:t>inverse of input bit, delayed by 1 bi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gical proof has 20+ ste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irly simple to demonstrate empirica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381400" y="3732120"/>
            <a:ext cx="9712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70160" y="36972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000 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251080" y="409716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111 01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718400" y="370692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0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0 </a:t>
            </a: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10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708680" y="415440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0</a:t>
            </a: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 </a:t>
            </a:r>
            <a:r>
              <a:rPr b="0" lang="en-US" sz="1600" spc="-1" strike="noStrike">
                <a:solidFill>
                  <a:srgbClr val="00cc66"/>
                </a:solidFill>
                <a:latin typeface="Arial Black"/>
              </a:rPr>
              <a:t>01</a:t>
            </a: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626600" y="4478400"/>
            <a:ext cx="137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cc66"/>
                </a:solidFill>
                <a:latin typeface="Arial Black"/>
              </a:rPr>
              <a:t>(emphasize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55680" y="4944960"/>
            <a:ext cx="137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X011 10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247840" y="5354640"/>
            <a:ext cx="1196280" cy="337320"/>
            <a:chOff x="2247840" y="5354640"/>
            <a:chExt cx="1196280" cy="337320"/>
          </a:xfrm>
        </p:grpSpPr>
        <p:sp>
          <p:nvSpPr>
            <p:cNvPr id="458" name=""/>
            <p:cNvSpPr/>
            <p:nvPr/>
          </p:nvSpPr>
          <p:spPr>
            <a:xfrm>
              <a:off x="2280240" y="535464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 Black"/>
                </a:rPr>
                <a:t>X100 0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47840" y="5391000"/>
              <a:ext cx="1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2400480" y="3600360"/>
            <a:ext cx="133200" cy="1714680"/>
          </a:xfrm>
          <a:prstGeom prst="rect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486160" y="5381640"/>
            <a:ext cx="0" cy="714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086560" y="6078600"/>
            <a:ext cx="84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in conce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552760" y="3600360"/>
            <a:ext cx="133200" cy="1714680"/>
          </a:xfrm>
          <a:prstGeom prst="rect">
            <a:avLst/>
          </a:prstGeom>
          <a:noFill/>
          <a:ln w="1260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619360" y="5391000"/>
            <a:ext cx="0" cy="7146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225160" y="608796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 Black"/>
              </a:rPr>
              <a:t>in op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991640" y="3666960"/>
            <a:ext cx="115236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8134200" y="3686040"/>
            <a:ext cx="100980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78A2-D49B-48D8-BF40-5ADD8B519E1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6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9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2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9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9T02:00:46Z</dcterms:created>
  <dc:creator>Michael Mirmak</dc:creator>
  <dc:description/>
  <dc:language>en-US</dc:language>
  <cp:lastModifiedBy>Michael Mirmak</cp:lastModifiedBy>
  <cp:lastPrinted>1998-11-04T21:31:56Z</cp:lastPrinted>
  <dcterms:modified xsi:type="dcterms:W3CDTF">2004-03-31T23:55:11Z</dcterms:modified>
  <cp:revision>631</cp:revision>
  <dc:subject>Pre-emphasis buffer treatments of die cap.</dc:subject>
  <dc:title>C_comp and Pre-emphasis</dc:title>
</cp:coreProperties>
</file>