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61175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8C8-4A0E-48FB-A162-81B8207C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456-3B2B-4804-B62F-2B0E8784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3E0-486F-493A-9518-B71A3113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B02-6E96-4D8D-A8F3-37C63C87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32BC-C936-4254-B06B-1BA825B9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E449-C61C-4103-B584-26DB6DDF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0003-1329-4561-BA18-D2E0B246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2AF3-537F-4BF2-9DE2-05B61B8A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FE91-6C73-44B3-A582-5D3BE29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89A8-EDD1-45AD-A048-B10E49A6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7CC8-F8F8-4A9A-AF4F-ECF920F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D72-E2A4-499D-82DE-BED9A03E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0CC2-7456-46EA-A5F0-23588E6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3393-DCE1-43BE-9068-E40C4679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A1D6-5DC2-418C-B0E9-4D98E6E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362A-DAAE-41B7-912B-C57F7C1B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6A3-9914-4182-9023-ACEF4ADC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B0C-A161-47C8-B7AA-CEEA45A1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391-1E0E-493A-9E8A-711045FF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E18-FF45-4EAA-8F0F-5607B21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854-E497-4E10-A744-AF2AA0EA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091-ACC9-4A93-8223-C2FD653A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44A-652C-425D-98CD-2DD1FC4E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AD4-9354-4497-9408-4C4B8A3C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Con 2004 IBIS Summ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8A41-335C-48D6-8181-17EFD6471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889280" cy="22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&amp; Roadm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352320" y="3047760"/>
            <a:ext cx="5410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Con East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5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D22E-7D56-4931-B55B-D5531E851A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9760" y="439200"/>
            <a:ext cx="7913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Cookbook &amp; Training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109160"/>
            <a:ext cx="7043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okbook Sub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every two weeks, with Futures Sub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, edit and distribute Cook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actical examples of new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nts for data extraction and correl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S. Peters’ 1997 IBIS 2.1 Cookboo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ICM and IBIS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-Road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it-level teleconference presentations for global aud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 worldwide interaction, rather than separate IBIS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esentations (60-90 minutes, plus Q&amp;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to be tailored for specif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GMT+1 for Europe (ex. 6 AM US Pacif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GMT+6/9 for Asia (ex. 10 PM US Pacif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86E-E9C2-4123-A507-164D75B8C3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2080" y="37044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0600" y="920520"/>
            <a:ext cx="8524800" cy="55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66"/>
                </a:solidFill>
                <a:latin typeface="Arial"/>
              </a:rPr>
              <a:t>A Motto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ow can we keep IBIS valuable to the indus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latest design tren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st and proa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barriers to acceptance of new IBIS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barriers for users of IBI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66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 a regular, aggressiv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 to make changes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ew subcommitte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66"/>
                </a:solidFill>
                <a:latin typeface="Arial"/>
              </a:rPr>
              <a:t>Volunteers are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47880" y="5334120"/>
            <a:ext cx="6172200" cy="72396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Your participation and contributions are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IBI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8D9-C979-4ECC-9BC6-A46C9A8CCF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15524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 4.1 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log-AMS and VHDL-AMS are now linked to IBI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3300"/>
                </a:solidFill>
                <a:latin typeface="Arial"/>
              </a:rPr>
              <a:t>Flash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April edition of EDN Japan features discussion of JEITA EDA-WG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onsumer applications of IBIS 4.1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 4.0 parser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. 4.0.1 covers all BUGs except BUG80 and BUG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the parser licensees for their suppor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o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 4.1 parser bidding unde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M 1.0 approved and a golden parser distrib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developer Kelly Green for his considerable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ship remains strong despite economic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ended with 28 paid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 membership invoices are already being f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IS Quality Committee continues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Stunning Progress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865160" y="2649600"/>
            <a:ext cx="320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I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or 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p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79640" y="5605560"/>
            <a:ext cx="6865920" cy="4744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BIS is an active and growing force in the 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B66-CD11-488F-B2CC-4707FE800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74520"/>
            <a:ext cx="6705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…</a:t>
            </a: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And Upcoming Challeng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62120"/>
            <a:ext cx="830592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our development 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IBIS enhancements in th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sh an updated Cookb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actively with other modeling standards groups (IEEE, Accele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 4.1 language extensions in trade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widespread ICM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the ICM with a cookbook, example models and tool en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for ICM 1.5/2.0 (frequency-dependent RLGCs, fixes to known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international support and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active participation in European IBIS Sum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“Electronic Roadshow” to support Asia, Europe and the US with summit-quality teleconference 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Open Forum’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 our membership as we help drive behavioral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our public image through web and publication improv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808600"/>
            <a:ext cx="7239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 always, thank you for your suppo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B12-131E-47A5-981B-B18EB3EB81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5200" y="37836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oadmap 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6280" y="1109160"/>
            <a:ext cx="8439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BI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ll to 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Developmen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wo-year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s Sub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book &amp;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BD0-8FAC-4443-AC60-2CF12040BC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369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Histor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0916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pecification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1.0 – April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1.1 – June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2.0 – June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2.1 – Dec.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3.0 – June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3.1 – July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3.2 – Sept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0 – July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1 – January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verage Delivery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ths for a major specification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ths for a minor specification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ths for a parser from final specification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57640" y="2479680"/>
            <a:ext cx="3753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ser Re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 1.0 – July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 2.0 – April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 2.0+ – Aug.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 3.0 – July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 4.0 – Dec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4600" y="1638360"/>
            <a:ext cx="279360" cy="493560"/>
          </a:xfrm>
          <a:custGeom>
            <a:avLst/>
            <a:gdLst>
              <a:gd name="textAreaLeft" fmla="*/ 178560 w 279360"/>
              <a:gd name="textAreaRight" fmla="*/ 279720 w 279360"/>
              <a:gd name="textAreaTop" fmla="*/ 12600 h 493560"/>
              <a:gd name="textAreaBottom" fmla="*/ 480960 h 4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800" y="3882960"/>
            <a:ext cx="279360" cy="571680"/>
          </a:xfrm>
          <a:custGeom>
            <a:avLst/>
            <a:gdLst>
              <a:gd name="textAreaLeft" fmla="*/ 178560 w 279360"/>
              <a:gd name="textAreaRight" fmla="*/ 279720 w 27936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3960" y="2320920"/>
            <a:ext cx="279360" cy="536760"/>
          </a:xfrm>
          <a:custGeom>
            <a:avLst/>
            <a:gdLst>
              <a:gd name="textAreaLeft" fmla="*/ 178560 w 279360"/>
              <a:gd name="textAreaRight" fmla="*/ 279720 w 279360"/>
              <a:gd name="textAreaTop" fmla="*/ 13680 h 536760"/>
              <a:gd name="textAreaBottom" fmla="*/ 523080 h 53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3960" y="2989440"/>
            <a:ext cx="279360" cy="831600"/>
          </a:xfrm>
          <a:custGeom>
            <a:avLst/>
            <a:gdLst>
              <a:gd name="textAreaLeft" fmla="*/ 178560 w 279360"/>
              <a:gd name="textAreaRight" fmla="*/ 279720 w 279360"/>
              <a:gd name="textAreaTop" fmla="*/ 21600 h 831600"/>
              <a:gd name="textAreaBottom" fmla="*/ 810000 h 83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771-52B3-4457-B42E-26652781E6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5200" y="2926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Challeng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0240" y="975960"/>
            <a:ext cx="854244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 need to “close the gaps” to keep IB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levant to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products on an 18 month cycle (“Moore’s Law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synergy between transportation, PC and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electronics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Example: DVD, Bluetooth* in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Cellular telephones, cameras and PCs now integ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Traditional PC makers now entering home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echnologies in almost every produc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is not the only choice for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IBIS universality is a “plus”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Any perception that IBIS is “behind” is a major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can we keep IBIS valu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latest design tren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 and proa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barriers to acceptance of new IBIS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barriers for users of IBIS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105-F72B-4DF1-9F4D-41623A73B6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7920" y="267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all To Action!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9680" y="957240"/>
            <a:ext cx="7035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new design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aster release of new specification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Address new technologies with new IBI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Be proactive with features, rather than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aster release of par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Avoid delaying EDA tools or driving custom par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ing barriers for users of IBIS feat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gular Cookbook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actical training through web and “E-Roadshow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66"/>
                </a:solidFill>
                <a:latin typeface="Arial"/>
              </a:rPr>
              <a:t>Proposed Develop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pecification-to-parser delay of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6-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Add in 8-12 months for EDA product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arser-to-cookbook delay of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Cookbook to be available with new EDA tool rel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Specification revision cycle of 18 months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Major vs. minor to be clarifi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327-717C-4DF9-B5CE-3BB7BBC374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09480" y="3654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4780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816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1760" y="39546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35360" y="39546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716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57520" y="39546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19680" y="395460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7824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184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0220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62560" y="39546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47800" y="4106880"/>
            <a:ext cx="1082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35360" y="4106880"/>
            <a:ext cx="1084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9680" y="410688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02200" y="410688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747800" y="3801960"/>
            <a:ext cx="1082880" cy="152280"/>
            <a:chOff x="1747800" y="3801960"/>
            <a:chExt cx="1082880" cy="152280"/>
          </a:xfrm>
        </p:grpSpPr>
        <p:sp>
          <p:nvSpPr>
            <p:cNvPr id="124" name=""/>
            <p:cNvSpPr/>
            <p:nvPr/>
          </p:nvSpPr>
          <p:spPr>
            <a:xfrm>
              <a:off x="174780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747800" y="3858840"/>
              <a:ext cx="1082880" cy="90360"/>
              <a:chOff x="1747800" y="3858840"/>
              <a:chExt cx="1082880" cy="90360"/>
            </a:xfrm>
          </p:grpSpPr>
          <p:sp>
            <p:nvSpPr>
              <p:cNvPr id="126" name=""/>
              <p:cNvSpPr/>
              <p:nvPr/>
            </p:nvSpPr>
            <p:spPr>
              <a:xfrm>
                <a:off x="174780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30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14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97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80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63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47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30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414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97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80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63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747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30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2835360" y="3801960"/>
            <a:ext cx="1084320" cy="152280"/>
            <a:chOff x="2835360" y="3801960"/>
            <a:chExt cx="1084320" cy="152280"/>
          </a:xfrm>
        </p:grpSpPr>
        <p:sp>
          <p:nvSpPr>
            <p:cNvPr id="141" name=""/>
            <p:cNvSpPr/>
            <p:nvPr/>
          </p:nvSpPr>
          <p:spPr>
            <a:xfrm>
              <a:off x="283536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835360" y="3858840"/>
              <a:ext cx="1084320" cy="90360"/>
              <a:chOff x="2835360" y="3858840"/>
              <a:chExt cx="1084320" cy="90360"/>
            </a:xfrm>
          </p:grpSpPr>
          <p:sp>
            <p:nvSpPr>
              <p:cNvPr id="143" name=""/>
              <p:cNvSpPr/>
              <p:nvPr/>
            </p:nvSpPr>
            <p:spPr>
              <a:xfrm>
                <a:off x="283536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188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020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85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168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522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357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89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024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856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69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52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36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19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919680" y="3801960"/>
            <a:ext cx="1082520" cy="152280"/>
            <a:chOff x="3919680" y="3801960"/>
            <a:chExt cx="1082520" cy="152280"/>
          </a:xfrm>
        </p:grpSpPr>
        <p:sp>
          <p:nvSpPr>
            <p:cNvPr id="158" name=""/>
            <p:cNvSpPr/>
            <p:nvPr/>
          </p:nvSpPr>
          <p:spPr>
            <a:xfrm>
              <a:off x="391968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919680" y="3858840"/>
              <a:ext cx="1082520" cy="90360"/>
              <a:chOff x="3919680" y="3858840"/>
              <a:chExt cx="1082520" cy="90360"/>
            </a:xfrm>
          </p:grpSpPr>
          <p:sp>
            <p:nvSpPr>
              <p:cNvPr id="160" name=""/>
              <p:cNvSpPr/>
              <p:nvPr/>
            </p:nvSpPr>
            <p:spPr>
              <a:xfrm>
                <a:off x="391968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02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860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69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52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35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02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85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68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52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35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18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022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5002200" y="3801960"/>
            <a:ext cx="1085760" cy="152280"/>
            <a:chOff x="5002200" y="3801960"/>
            <a:chExt cx="1085760" cy="152280"/>
          </a:xfrm>
        </p:grpSpPr>
        <p:sp>
          <p:nvSpPr>
            <p:cNvPr id="175" name=""/>
            <p:cNvSpPr/>
            <p:nvPr/>
          </p:nvSpPr>
          <p:spPr>
            <a:xfrm>
              <a:off x="500220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002200" y="3858840"/>
              <a:ext cx="1085760" cy="90360"/>
              <a:chOff x="5002200" y="3858840"/>
              <a:chExt cx="1085760" cy="90360"/>
            </a:xfrm>
          </p:grpSpPr>
          <p:sp>
            <p:nvSpPr>
              <p:cNvPr id="177" name=""/>
              <p:cNvSpPr/>
              <p:nvPr/>
            </p:nvSpPr>
            <p:spPr>
              <a:xfrm>
                <a:off x="500220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85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688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527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359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194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03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86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70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53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370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20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040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7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261360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18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152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8796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4832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08680" y="39546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7084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34440" y="395460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9300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7960" y="4106880"/>
            <a:ext cx="1082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70840" y="410688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87960" y="3801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087960" y="3801960"/>
            <a:ext cx="1082880" cy="152280"/>
            <a:chOff x="6087960" y="3801960"/>
            <a:chExt cx="1082880" cy="152280"/>
          </a:xfrm>
        </p:grpSpPr>
        <p:sp>
          <p:nvSpPr>
            <p:cNvPr id="205" name=""/>
            <p:cNvSpPr/>
            <p:nvPr/>
          </p:nvSpPr>
          <p:spPr>
            <a:xfrm>
              <a:off x="608796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087960" y="3858840"/>
              <a:ext cx="1082880" cy="90360"/>
              <a:chOff x="6087960" y="3858840"/>
              <a:chExt cx="1082880" cy="90360"/>
            </a:xfrm>
          </p:grpSpPr>
          <p:sp>
            <p:nvSpPr>
              <p:cNvPr id="207" name=""/>
              <p:cNvSpPr/>
              <p:nvPr/>
            </p:nvSpPr>
            <p:spPr>
              <a:xfrm>
                <a:off x="608796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71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542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37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420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04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87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70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54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37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20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03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87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70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7170840" y="3801960"/>
            <a:ext cx="1085760" cy="152280"/>
            <a:chOff x="7170840" y="3801960"/>
            <a:chExt cx="1085760" cy="152280"/>
          </a:xfrm>
        </p:grpSpPr>
        <p:sp>
          <p:nvSpPr>
            <p:cNvPr id="222" name=""/>
            <p:cNvSpPr/>
            <p:nvPr/>
          </p:nvSpPr>
          <p:spPr>
            <a:xfrm>
              <a:off x="717084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7170840" y="3858840"/>
              <a:ext cx="1085760" cy="90360"/>
              <a:chOff x="7170840" y="3858840"/>
              <a:chExt cx="1085760" cy="90360"/>
            </a:xfrm>
          </p:grpSpPr>
          <p:sp>
            <p:nvSpPr>
              <p:cNvPr id="224" name=""/>
              <p:cNvSpPr/>
              <p:nvPr/>
            </p:nvSpPr>
            <p:spPr>
              <a:xfrm>
                <a:off x="717084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54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37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4214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04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880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71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55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8390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922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05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892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172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2566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69562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4132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velopment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193760"/>
            <a:ext cx="4013280" cy="8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t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7760" y="2327400"/>
            <a:ext cx="15264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64400" y="3654360"/>
            <a:ext cx="1279800" cy="604800"/>
            <a:chOff x="464400" y="3654360"/>
            <a:chExt cx="1279800" cy="604800"/>
          </a:xfrm>
        </p:grpSpPr>
        <p:sp>
          <p:nvSpPr>
            <p:cNvPr id="247" name=""/>
            <p:cNvSpPr/>
            <p:nvPr/>
          </p:nvSpPr>
          <p:spPr>
            <a:xfrm>
              <a:off x="464400" y="3654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7080" y="3954240"/>
              <a:ext cx="3582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25640" y="3954240"/>
              <a:ext cx="3614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87440" y="3954240"/>
              <a:ext cx="3567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080" y="4106880"/>
              <a:ext cx="10771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1’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667080" y="3801960"/>
              <a:ext cx="1077120" cy="152280"/>
              <a:chOff x="667080" y="3801960"/>
              <a:chExt cx="1077120" cy="152280"/>
            </a:xfrm>
          </p:grpSpPr>
          <p:sp>
            <p:nvSpPr>
              <p:cNvPr id="253" name=""/>
              <p:cNvSpPr/>
              <p:nvPr/>
            </p:nvSpPr>
            <p:spPr>
              <a:xfrm>
                <a:off x="667080" y="3801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667080" y="3858840"/>
                <a:ext cx="1077120" cy="90360"/>
                <a:chOff x="667080" y="3858840"/>
                <a:chExt cx="1077120" cy="903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67080" y="38588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98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326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9154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9982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0810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642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2466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3298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126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4954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5782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6610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74420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" name=""/>
          <p:cNvSpPr/>
          <p:nvPr/>
        </p:nvSpPr>
        <p:spPr>
          <a:xfrm>
            <a:off x="627120" y="270972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981000" y="31572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36920" y="267804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24200" y="3090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0720" y="558792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Su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3200" y="588960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CB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13280" y="43084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68280" y="4294080"/>
            <a:ext cx="13032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22720" y="268452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457880" y="3093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76680" y="3084480"/>
            <a:ext cx="657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114720" y="350352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47600" y="4294080"/>
            <a:ext cx="14940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27680" y="4309920"/>
            <a:ext cx="13032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04040" y="3122640"/>
            <a:ext cx="733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867280" y="3547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94400" y="3132000"/>
            <a:ext cx="746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883560" y="35514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63840" y="3122640"/>
            <a:ext cx="745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952640" y="35416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42160" y="269064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067600" y="3109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38960" y="433872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56000" y="4289400"/>
            <a:ext cx="22356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4097160"/>
            <a:ext cx="80056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02200" y="38070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15040" y="43038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89680" y="42894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46720" y="5797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93840" y="435780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436716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58040" y="436716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21080" y="435780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72240" y="437688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2872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36880" y="479916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320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228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3592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C15-C58E-4582-B037-183AFC53A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5680" y="3690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utures Subcommitte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1800" y="1074600"/>
            <a:ext cx="85536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w” Futures Sub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every two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reate, discuss and draft IBIS/ICM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sks for IBIS 4.2 and Beyo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 up” of language and resolve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[Series Pin Mapping] &amp; [Model Selector] (BIRD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ternal Model] integr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cceptable digital states fo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xternal Circuit] usag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definable measurement parameters and delay fix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“hooks” between ICM and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sks for I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frequency-dependent RLGC matrix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 known parser assumptions and keyword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639-1533-4083-A6B6-F5E2A1BE94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4-03-30T21:49:42Z</dcterms:modified>
  <cp:revision>77</cp:revision>
  <dc:subject>Update at 2004 DesignCon East Summit</dc:subject>
  <dc:title>IBIS Chair's Report</dc:title>
</cp:coreProperties>
</file>