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95560" y="0"/>
            <a:ext cx="298008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702280"/>
            <a:ext cx="297972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95560" y="8702280"/>
            <a:ext cx="2980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BB5AA-0FC4-468C-B051-938B2719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Afternoon (morning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Bob Haller Principal Consultant for Si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oft is a SI  EDA Software and Si consulting services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will present a tour of the ibis quality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renamed from IBIS Quality Docu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is presentation I will present the IBIS Quality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BIS Quality Example IBIS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n IBIS Quality Checklist (which will be contained within the IBIS fi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BIS quality created specific quality levels to distinguish different levels of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with IBIS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 section recently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ibis file used to implement IQ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list is contained within the IBIS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Mikes Help I have an updated check-off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be included in the NOTES section of the ibis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eded with |IQ comment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example clearly implement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written a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ontains levels and appropriat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an example ibis file and check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the practicality of performing th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would like some Semiconductor Vend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model Makers in general to try and implemen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is encouraged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dditional information availab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092C-3A79-44C1-B16E-D163F28DC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D49C-DBAC-4FF0-ACAB-AD768A582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8BD8-880A-4EFD-8F1C-7499C99EE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C84A-BA87-4D19-9A41-6D3353EA2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4C1-0A8F-495C-B636-43B9DF0D7B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F1A-1446-4838-818E-B8995ABD8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058-B825-4F6B-9826-15A6F15FBC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22C-D3E6-41D6-AFC9-883BCB8506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910-39C0-44CC-8046-168702F891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1F8-DA50-4BC6-9EDB-23D6E5A891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F63-4A29-42A3-89D6-0865A58A3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7B5F-CE35-4BFD-A940-99C25515F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C70-ED66-452D-9B07-EEBFDA6546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A3A-7B2C-4F75-806F-8322A0A1D3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350-8340-4ECF-B4DA-F64430BF28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3F8-E71F-47EC-ABB0-CFDD3C376E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52C-46BE-4442-92B9-33735B0B0A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A992-2565-4174-B1FA-D35CE0CF8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44B0-E054-495E-B3FF-4F9DF243C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A946-99B7-4E90-ABDB-5BC75E49E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F9C4-1A6D-4E83-BA60-C0FF3913D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5606-A97D-4B62-BF16-F9C3C9E35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3A4E-7DC0-4E17-A55E-FB95D7FFF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21CE-89AC-492B-83E7-6260B0751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096920" indent="-181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5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6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141360" y="6267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0CFD-E08D-4491-A07C-FF5B00864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20600" y="6297480"/>
            <a:ext cx="10335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9CC9-F4D9-4107-9A66-3563224F4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3200" y="318960"/>
            <a:ext cx="1811520" cy="69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63324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91584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4" marL="121140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5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6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isoft.com/ibis-quality/doc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isoft.com/ibis-quality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59280"/>
            <a:ext cx="9144000" cy="13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Arial Narrow"/>
              </a:rPr>
              <a:t>A Tour of the IBIS Quality Specification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Arial Narrow"/>
              </a:rPr>
              <a:t>DesignCon East IBIS Summit April 5, 2004</a:t>
            </a:r>
            <a:endParaRPr b="0" lang="en-US" sz="4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55760" y="45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obert Haller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haller@sisoft.com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Signal Integrity Software, Inc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6 Clock Tower Place – Suite 250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Maynard MA. 01754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978-461-0449 X 15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67200" y="6192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IQ Specification and Exampl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ccff"/>
                </a:solidFill>
                <a:uFillTx/>
                <a:latin typeface="Arial Narrow"/>
                <a:hlinkClick r:id="rId2"/>
              </a:rPr>
              <a:t>http://www.sisoft.com/ibis-quality/doc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Q_Specification.txt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Q_Example.ib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Q_Checklist.x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IBIS Quality Specification Levels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Level 0 requir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Most Level 0 requirements can be checked by ibischk3 version 3.2.9 or later software.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bischk3 is highly recommended, to avoid performing level 0 checks manuall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Level 1 requir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Level 1 includes all items in level 0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Plus checks for correctness and completeness, and basic simulation tes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Level 2 requir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Level 2 includes all items in levels 1 &amp; 0, plus correlation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pice Correlation and/or Bench Correl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BIS Accuracy Handbook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Correlation Levels (1,2,3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Figure of Merit (FOM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IQ Specification Index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1.0 IBIS Quality Summary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1.1 IBIS Quality level definition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1.2 IBIS Quality summary as comments in file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2.0 General Header Section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3.0 Component Section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3.1 Component Package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3.2 Component Pin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3.3 Component Diff Pin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3.4 Component Model Selector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4.0 Model Section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4.1 Model General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4.2 Model Waveform Processing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4.3 Model I-V Table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4.4 Model V-T Table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4.5 Model Ramp Data Requirement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5.0 Possible Errors that should be checked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6.0 Correlation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7.0 Model Limitations and model maker note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IQ IBIS File Exampl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384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[File Name]  iq_example.ibs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[File Rev]    1.0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[Date]          3/30/2004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[Source]      Developed by: Signal Integrity Software, Inc.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[Notes]         Rev 1.0  - 03/30/04 Release as iq_example. RJH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|IQ SUMMARY Overall Quality of component and models Level 2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Level 0 - 0 errors 12 warnings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Level 1 - All checks done for completeness and correctness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Level 2 - HSPICE Correlation (2003.09) completed FOM =99%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Buffer SSTLDATIO/SSTLADDIO:    Quality level 2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Level 0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    All I/O Models: When running through ibischk3, this file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    contains 12 warnings about pullup and pulldown being non-monotonic.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    This is due to an IBIS Parser Bug, BUG71.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 IQ WARNING (line  209) - Pulldown Maximum data is non-monotonic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 IQ WARNING (line  210) - Pulldown Typical data is non-monotonic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    IBISHCK 4.0 produces 0 errors and 0 warnings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Level 1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    All Level 1 checks performed and are either OK or NA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    Limitations: Ccomp is a compromise between driving and receiving.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Level 2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    Using VT IBIS Data compared to source HSPICE models FOM = 99%.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376280"/>
            <a:ext cx="40384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Narrow"/>
              </a:rPr>
              <a:t>|</a:t>
            </a: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Q BEGIN IBIS Quality Checklis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FILE: iq_example.ibs      IQ Level:       2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2.1     LEVEL 0  Header passes IBISCHK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2.2     LEVEL 0  Latest [IBIS ver] used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2.3     LEVEL 0  Do not use [Comment Char]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2.4     LEVEL 0  [File Name] is correc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COMPONENT: IQ_EXAMPLE     IQ Level:       2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3.1.1   LEVEL 0  [Package] must have typical values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3.1.2   LEVEL 0  [Package] Parasitics must be reasonable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3.1.3   LEVEL 0  [Define Package Model] present if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3.1.4   LEVEL 1  [Package] parasitics are validated datashee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3.2.1   LEVEL 0  [Pin] section complete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3.2.2   LEVEL 0  [Pin] model names not too long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3.2.3   LEVEL 0  [Pin] models present in file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3.2.4   OPTIONAL [Pin] RLC complete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3.2.5   LEVEL 1  [Pin] RLC parasitics are validated datashee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NA  3.3.1   LEVEL 0  [Diff Pin] referenced pins exis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NA  3.3.2   LEVEL 0  [Diff Pin] Vdiff and Tskew complete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MODEL: SSTLADDIO           IQ Level:       2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4.1.1   LEVEL 0  [Model] parameters have correct typ/min/max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4.1.2   LEVEL 0  [Model] Model_type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4.1.3   LEVEL 0  [Model] C_comp is reasonable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4.1.4   LEVEL 1  [Model] C_comp is correc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XX  4.1.5   LEVEL 2a [Model] C_comp SPICE correlation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|IQ __  4.1.6   LEVEL 2b [Model] C_comp laboratory correlation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IQ Checklist Exampl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pic>
        <p:nvPicPr>
          <p:cNvPr id="101" name="iq_ex_checklist" descr=""/>
          <p:cNvPicPr/>
          <p:nvPr/>
        </p:nvPicPr>
        <p:blipFill>
          <a:blip r:embed="rId2"/>
          <a:stretch/>
        </p:blipFill>
        <p:spPr>
          <a:xfrm>
            <a:off x="2486160" y="1376280"/>
            <a:ext cx="4171680" cy="471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Summary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BIS Quality Specifi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Q Leve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Q Index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Q IBIS File Examp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Q Checklist Examp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Additional Resources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Mailing lis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Ibis-quality@freelists.org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http://www.freelists.org/archives/ibis-quality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eb sit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ccff"/>
                </a:solidFill>
                <a:uFillTx/>
                <a:latin typeface="Arial Narrow"/>
                <a:hlinkClick r:id="rId2"/>
              </a:rPr>
              <a:t>http://www.sisoft.com/ibis-quality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http://www.sisoft.com/ibis-quality/doc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ome visit IBIS boot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ome to our SI and Timing paper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Wed 2pm  (6-WP1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ome to PASS/FAIL Pan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Wed 4 pm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ank you and thanks to IQ committe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Questions 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16:46:21Z</dcterms:created>
  <dc:creator>Robert Haller</dc:creator>
  <dc:description/>
  <dc:language>en-US</dc:language>
  <cp:lastModifiedBy>Robert Haller</cp:lastModifiedBy>
  <dcterms:modified xsi:type="dcterms:W3CDTF">2004-03-31T21:12:42Z</dcterms:modified>
  <cp:revision>247</cp:revision>
  <dc:subject/>
  <dc:title>Pass Fail Crite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56878831</vt:r8>
  </property>
  <property fmtid="{D5CDD505-2E9C-101B-9397-08002B2CF9AE}" pid="3" name="_AuthorEmail">
    <vt:lpwstr>whayden@sisoft.com</vt:lpwstr>
  </property>
  <property fmtid="{D5CDD505-2E9C-101B-9397-08002B2CF9AE}" pid="4" name="_AuthorEmailDisplayName">
    <vt:lpwstr>Warren Hayden</vt:lpwstr>
  </property>
  <property fmtid="{D5CDD505-2E9C-101B-9397-08002B2CF9AE}" pid="5" name="_EmailSubject">
    <vt:lpwstr>template.ppt</vt:lpwstr>
  </property>
</Properties>
</file>