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D6A-B36C-419C-92F3-7FB56F86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node name by triple clicking before you type. The nam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 input ena vdd 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rout pad vdd 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entering the last name, be sure to click on some other cell,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 last entry ta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to click in a cell, then click again to get the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Nodes to get this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is point you can enter file name “iobuff.s2i” and click Import, s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ettings will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“Operating Range” to expose the “Voltages” item. If you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ng Range fields you don’t have to set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out, the best temperature is HIGHER than the wo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ase and Fall times of “0.2n” should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HOWN: also check the “Active-High”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click “Fixture” to expose this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and C values in fixtures are not recomm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T fields are going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in spearate simulations to determine Ramp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fill these in. These are s2ibis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bunch of windows flash open while simulations are running,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have JDK 1.2 installed. There is one window for each spectre r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2 more for Spitran post-processing to cleanup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THING has been missed, there will be an error message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. But an IBIS file may still have been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ModelDemo\spitran\iobuff\iobuff.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errors it may have some wrong numbers, th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rectory name “iobuff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hit return to create the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echnology “CM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type “iobuff.sp” for the SPICE file name or browse for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le is in the ModeDemo\spitran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on the lower half of the form are for add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files associated with the buffer. This testcase has 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licking “OK” there will be a confirmer saying typical values will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min and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mo will actually have only one warning. It can be ignored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voltage source inside an unused test fixture subckt. If you wis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“Edit” and show the SPICE subckts. But don’t click “Repa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2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mo “iobuff.sp” desn’t have the main circuit stuff in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one warning. Ignor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first 2 rows and “Instantiat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6D16BF-8FF7-43C4-BEF8-8EF1056A4092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adence%20Logo%20Web%20Red" descr=""/>
            <p:cNvPicPr/>
            <p:nvPr/>
          </p:nvPicPr>
          <p:blipFill>
            <a:blip r:embed="rId2"/>
            <a:stretch/>
          </p:blipFill>
          <p:spPr>
            <a:xfrm>
              <a:off x="7351560" y="855720"/>
              <a:ext cx="13352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8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590560"/>
            <a:ext cx="7315200" cy="21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: A GUI for S2IBIS2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ike LaBonte</a:t>
            </a:r>
            <a:br>
              <a:rPr sz="34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BIS Summit 21 June 1999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214308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stantiated Subckts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0" y="1981080"/>
            <a:ext cx="198108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antiated subckts appear in the lower  section. Change the node names to establish the test circuit net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 names s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781680" y="1981080"/>
            <a:ext cx="205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“Configure Net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elling S2IBIS How Each Node is Used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10040" cy="3152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562720" y="1981080"/>
            <a:ext cx="30477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how each external node is to be used by s2ibis. The pin  type of each node  is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s Configured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10040" cy="3152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62720" y="1981080"/>
            <a:ext cx="3047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cvrout” node is unused by s2ibis, so it must be “floated” with a terminating resistor. Click “O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epare the S2IBIS Control Fi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81680" y="1981080"/>
            <a:ext cx="18288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“Options”  item from the “Translate”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62920" y="1981080"/>
            <a:ext cx="14475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nodes to be used for power, ground, enab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d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simulator to be used, and other s2ibis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oltag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238880" y="1981080"/>
            <a:ext cx="144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ol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emperatur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38880" y="1981080"/>
            <a:ext cx="167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mper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timulus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238880" y="1981080"/>
            <a:ext cx="14479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simulation duration and input stimulus times and vol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: A GUI for S2IBIS2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ritten as a Java application - platform port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ts SPICE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es top level test circu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es S2IBIS control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s NCSU s2ibis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del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238880" y="1981080"/>
            <a:ext cx="1447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ogic thresholds and C_CO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Buffer Delay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238880" y="1981080"/>
            <a:ext cx="1447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meas and test fixtur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T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st fixture values for 1st wavefor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T Options for 2nd Waveform S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st fixture values for 2nd wavefor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amp Load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238880" y="1981080"/>
            <a:ext cx="14479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oad resistance for ramp time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st-Processing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erating values for optional curve post-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unning S2IBI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“Execute” item from the “Translate”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2IBIS Messa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9128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Model File in Project Directo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 Main Window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10280" y="1981080"/>
            <a:ext cx="1828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he “New Document” ic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reating a New Project Directo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76640" cy="1866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629400" y="205740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er the name of a new directory and click “Crea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mport a SPICE File To the Projec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114880" cy="3467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1981080"/>
            <a:ext cx="19051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elected SPICE file is copied into the project directory. Required process library files may be added here. Click “O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CE File Audi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829040" cy="3152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781680" y="1981080"/>
            <a:ext cx="19051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PICE file is audited for elements that look like a built-in test fixture. Click “Edit Spice” to remove them, and then “Repar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ntents of iobuff.s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05120"/>
            <a:ext cx="7772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UBCKT IO_IN  OUT  IN VDD VSSD1   IN  VDD  DD2   VSS IN  DR1   IN  1   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1    OUT    1  VDD    VDD    pm    L =  5U     W = 120.00U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2    OUT    1  VSS    VSS    nm    L =  5U     W = 50.00U .ENDS IO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UBCKT IO_TEST_LOA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1 LOAD 1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1 1 0 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1 LOAD 0 10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OUT 1 2 3 4 5 IO_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IN 6 1 4 5 IO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LOAD 1 IO_TEST_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DD 4 0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SS 5 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DATA 2 0 PULSE(0 5 0 10n 10n 5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ENA 3 0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RDUM 6 0 1e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imulator lang = spec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pm mos0 type=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nm mos0 type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d  di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ulator lang = 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2514600" cy="1097640"/>
          </a:xfrm>
          <a:prstGeom prst="borderCallout2">
            <a:avLst>
              <a:gd name="adj1" fmla="val 18750"/>
              <a:gd name="adj2" fmla="val -8333"/>
              <a:gd name="adj3" fmla="val 10171"/>
              <a:gd name="adj4" fmla="val -47851"/>
              <a:gd name="adj5" fmla="val 159375"/>
              <a:gd name="adj6" fmla="val -9431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in circuit is a test fixture and must be commente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asses Audit without Warn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829040" cy="31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81680" y="1981080"/>
            <a:ext cx="1905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xed-up file now passes the audit cleanly. Click “Continu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Window Shows Available Subck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0" y="1981080"/>
            <a:ext cx="2057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ubckt definitions are found in the SPICE file. Select “IO_OUT” and “IO_IN”, and click “Instantia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7:43:29Z</dcterms:created>
  <dc:creator>Mike LaBonte - Cadence Design Systems, Inc.</dc:creator>
  <dc:description/>
  <dc:language>en-US</dc:language>
  <cp:lastModifiedBy>Mike LaBonte</cp:lastModifiedBy>
  <cp:lastPrinted>1999-02-23T16:19:22Z</cp:lastPrinted>
  <dcterms:modified xsi:type="dcterms:W3CDTF">1999-06-20T20:15:41Z</dcterms:modified>
  <cp:revision>149</cp:revision>
  <dc:subject/>
  <dc:title>DAC 99 IBIS Summit SpiTran presentation</dc:title>
</cp:coreProperties>
</file>