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xternal load bird  |  Ericsson Internal  |  2010-12-07  |  Page </a:t>
            </a:r>
            <a:fld id="{816AE424-39F2-4E9F-826B-BBAB53BA1559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6280"/>
            <a:ext cx="8352000" cy="14626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478240"/>
            <a:ext cx="8351640" cy="731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External Load/Data Bird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What are the goal with the External load/data structure.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ase 3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testing using output or I/O buffer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buffer internal to IBIS fil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Output or I/O buffer internal to IBIS file ?, external to IBIS file 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ase 4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testing using IBIS ISS “source”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buffer internal to IBIS fil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BIS ISS “source” external to IBIS file 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est 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746640" y="180900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5968080" y="1853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57360" y="1494000"/>
            <a:ext cx="2610000" cy="126036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2360" y="162864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38360" y="214488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4120" y="216072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22400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02360" y="12682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57360" y="284328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1, TEST OF OUTPUT or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35560" y="43300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46280" y="4014720"/>
            <a:ext cx="2610000" cy="126072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1280" y="414972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27280" y="46656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15920" y="374508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46280" y="536400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2, TEST OF OUTPUT or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est 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46640" y="180900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968080" y="1853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57360" y="1494000"/>
            <a:ext cx="2610000" cy="126036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2360" y="162864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38360" y="214488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4120" y="216072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7000" y="122400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2360" y="12682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57360" y="284328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3, Test of 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6012720" y="473472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2000" y="4375080"/>
            <a:ext cx="2609640" cy="126072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37000" y="4510080"/>
            <a:ext cx="23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8400" y="5041800"/>
            <a:ext cx="112896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46640" y="41497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2000" y="572436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4, Test of 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est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918000" y="18010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5968080" y="1853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57360" y="1494000"/>
            <a:ext cx="2610000" cy="126036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2360" y="162864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46280" y="19890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64120" y="204624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6640" y="122400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02360" y="12682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57360" y="284328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5, TEST OF  DIFF OUTPUT or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46280" y="4014720"/>
            <a:ext cx="2610000" cy="126072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81280" y="414972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46280" y="536400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6, TEST OF DIFF OUTPUT or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54200" y="22986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7880" y="233208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1006920" y="4274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35200" y="446256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43120" y="477216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Test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57360" y="1494000"/>
            <a:ext cx="2610000" cy="126036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92360" y="1628640"/>
            <a:ext cx="23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02360" y="12682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57360" y="284328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7, Test of diff 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2000" y="4375080"/>
            <a:ext cx="2609640" cy="1260720"/>
          </a:xfrm>
          <a:prstGeom prst="rect">
            <a:avLst/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37000" y="4510080"/>
            <a:ext cx="23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BIS ISS Subcircui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ort 1 - Port 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46640" y="41497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2000" y="572436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se 8, Test of diff Inp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918000" y="18010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46280" y="19890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54200" y="2298600"/>
            <a:ext cx="811080" cy="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06640" y="122400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Output I/O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5968080" y="185328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64120" y="204624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7880" y="233208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6017400" y="4726800"/>
            <a:ext cx="1123920" cy="674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13440" y="4919760"/>
            <a:ext cx="1128600" cy="792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880" bIns="-3888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13440" y="5205240"/>
            <a:ext cx="1128600" cy="828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38520" bIns="-3852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All 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aveform data can be defined for nodes made external in the IBIS ISS subcircuit declaration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ested buffer assumed part of same IBIS file, referred to by [Model] name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How are we testing series models?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timuli definition needed, Format ? Internal in IBIS or external file ?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Format: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ime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dge ? </a:t>
            </a:r>
            <a:r>
              <a:rPr b="0" lang="en-US" sz="1800" spc="-1" strike="noStrike">
                <a:solidFill>
                  <a:srgbClr val="e32119"/>
                </a:solidFill>
                <a:latin typeface="Arial"/>
              </a:rPr>
              <a:t>(states 1, 0, HiZ ?)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ime  state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1       Z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2      1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3      0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4      1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All Cases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---------------------------------------------------------------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data waveforms are external to ibis file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est data waveforms format need to be defined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ME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odename1 nodename2 nodename3 …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imepoint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V(nodename1) V(nodename2) V(nodename3) …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o definition of the number of points, implicity declared by the number of lines in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file, is that okay 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umber of nodenames allowed in one IBIS ISS load ?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ase 1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Output, I/O testing using input buffer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Output or i/O buffer internal to IBIS fil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nput buffer internal to IBIS file ?, external to IBIS file ?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Case 2</a:t>
            </a:r>
            <a:endParaRPr b="0" lang="en-US" sz="3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Output, I/O testing using IBIS ISS loa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External IBIS ISS load use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>IBIS BIRD</cp:keywords>
  <dc:language>en-US</dc:language>
  <cp:lastModifiedBy>Anders Ekholm</cp:lastModifiedBy>
  <dcterms:modified xsi:type="dcterms:W3CDTF">2010-12-14T16:34:53Z</dcterms:modified>
  <cp:revision>152</cp:revision>
  <dc:subject/>
  <dc:title>External load bi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2-07</vt:lpwstr>
  </property>
  <property fmtid="{D5CDD505-2E9C-101B-9397-08002B2CF9AE}" pid="5" name="DocName">
    <vt:lpwstr>EXTENAL LOAD BIRD</vt:lpwstr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0</vt:bool>
  </property>
  <property fmtid="{D5CDD505-2E9C-101B-9397-08002B2CF9AE}" pid="10" name="FooterType">
    <vt:lpwstr>PresTemp</vt:lpwstr>
  </property>
  <property fmtid="{D5CDD505-2E9C-101B-9397-08002B2CF9AE}" pid="11" name="Keyword">
    <vt:lpwstr>IBIS BIRD</vt:lpwstr>
  </property>
  <property fmtid="{D5CDD505-2E9C-101B-9397-08002B2CF9AE}" pid="12" name="LeftFooterField">
    <vt:lpwstr/>
  </property>
  <property fmtid="{D5CDD505-2E9C-101B-9397-08002B2CF9AE}" pid="13" name="MiddleFooterField">
    <vt:lpwstr>Ericsson Internal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>External load bird</vt:lpwstr>
  </property>
  <property fmtid="{D5CDD505-2E9C-101B-9397-08002B2CF9AE}" pid="21" name="RightFooterField2">
    <vt:lpwstr>2010-12-0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>External load bird</vt:lpwstr>
  </property>
  <property fmtid="{D5CDD505-2E9C-101B-9397-08002B2CF9AE}" pid="28" name="TotalNumb">
    <vt:bool>0</vt:bool>
  </property>
  <property fmtid="{D5CDD505-2E9C-101B-9397-08002B2CF9AE}" pid="29" name="UsedFont">
    <vt:lpwstr>Arial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0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1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