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E4ECB57-FA45-46BC-AB0B-1B2DF3510E4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96165F3-51FE-42B8-AAD1-2E7A6066F38C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0670451-1678-4828-BF8D-45E406E3E74F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66320"/>
            <a:ext cx="18288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D7CB71A-CC00-4420-9914-77493028FCD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62080"/>
            <a:ext cx="1904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the IBIS Quality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cto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1840" y="914400"/>
            <a:ext cx="46213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038480" y="3392640"/>
          <a:ext cx="46371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392640"/>
                    <a:ext cx="4637160" cy="14079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38080" y="6019920"/>
            <a:ext cx="25146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38080" y="3352320"/>
            <a:ext cx="3200400" cy="266724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52680" y="4876560"/>
            <a:ext cx="5410440" cy="144756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486080"/>
          <a:ext cx="5276880" cy="14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486080"/>
                    <a:ext cx="5276880" cy="14094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16200000">
            <a:off x="2747880" y="2671560"/>
            <a:ext cx="2209680" cy="20480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21600" h="21600">
                <a:moveTo>
                  <a:pt x="10890" y="16889"/>
                </a:moveTo>
                <a:arcTo wR="-6090" hR="-6090" stAng="5349199" swAng="-5349199"/>
                <a:lnTo>
                  <a:pt x="0" y="10800"/>
                </a:lnTo>
                <a:arcTo wR="10800" hR="10800" stAng="10800000" swAng="5349199"/>
                <a:lnTo>
                  <a:pt x="10601" y="-2699"/>
                </a:lnTo>
                <a:lnTo>
                  <a:pt x="15730" y="2281"/>
                </a:lnTo>
                <a:lnTo>
                  <a:pt x="10750" y="741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5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Q Checklist has multiple shee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767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et for each Component an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and renam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Component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371600"/>
          <a:ext cx="52642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2642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49400" y="2066760"/>
          <a:ext cx="6432480" cy="418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9400" y="2066760"/>
                    <a:ext cx="6432480" cy="41817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143000"/>
            <a:ext cx="8077320" cy="25909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962520"/>
            <a:ext cx="8077320" cy="21333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81952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use the same Model for two pins if their electrical performance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219320"/>
          <a:ext cx="78483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8483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3520" y="4038480"/>
          <a:ext cx="78483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838080" y="518148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have pin name “A02” if the datasheet has “A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1343160"/>
          <a:ext cx="662940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3160"/>
                    <a:ext cx="662940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81080" y="2028960"/>
          <a:ext cx="623916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28960"/>
                    <a:ext cx="6239160" cy="414324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Model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. Vinl and Vinh for an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ut IQ leve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3249360"/>
            <a:ext cx="7940880" cy="22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es LEVEL 0 check for reasonable C_co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 not checked by any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LEVEL is high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LEVEL 0 model (at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6680" y="1447920"/>
          <a:ext cx="817380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7920"/>
                    <a:ext cx="817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66680" y="1676520"/>
            <a:ext cx="70866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533600"/>
          <a:ext cx="340056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3600"/>
                    <a:ext cx="3400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 IQ level on each 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350496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gain on the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overall IQ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57400"/>
          <a:ext cx="334332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33433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3520" y="2581200"/>
          <a:ext cx="334332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581200"/>
                    <a:ext cx="33433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5800" y="3133800"/>
          <a:ext cx="334332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133800"/>
                    <a:ext cx="3343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05440" y="1214280"/>
          <a:ext cx="4657680" cy="442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05440" y="1214280"/>
                    <a:ext cx="465768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rot="20679000">
            <a:off x="2133720" y="1599840"/>
            <a:ext cx="533160" cy="2362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3276720" cy="1676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 spreadsheet 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219320"/>
            <a:ext cx="356724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ll |IQ 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every copied line has the |I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lipboard Co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219320"/>
          <a:ext cx="4284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284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05520" y="2733840"/>
          <a:ext cx="3352680" cy="29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33840"/>
                    <a:ext cx="335268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05520" y="3733920"/>
            <a:ext cx="114300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819520"/>
            <a:ext cx="18288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|IQ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te into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219320"/>
          <a:ext cx="58593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8593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09720" y="1636200"/>
            <a:ext cx="3186360" cy="27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[Notes] is a good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CHK the file again, to guard against tabs and lines exceeding 80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a curve view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680" y="1219320"/>
          <a:ext cx="8564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219320"/>
                    <a:ext cx="856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38280" y="4819680"/>
          <a:ext cx="64771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19680"/>
                    <a:ext cx="6477120" cy="8190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19320"/>
          <a:ext cx="8382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combined I/V t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905120"/>
          <a:ext cx="66294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6629400" cy="9316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Quality Subcommitte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Q Purpo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Ma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duce IBIS files that users tr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Use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IBIS file tha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specification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Check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ation is needed to understand checklist i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need your feedback 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IQ Checklist Kit and try it yoursel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_kit.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know what needs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checked IBIS files back to the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get a checker program writ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your vendors to send you IBIS files with IQ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 of using the IQ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Checklist spreadsheet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chk3 or ibischk4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 viewer that display I/V and V/T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8640" y="2250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with a blank IQ Checklist spread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52680" y="1265400"/>
          <a:ext cx="45514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265400"/>
                    <a:ext cx="45514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69880" y="1636560"/>
          <a:ext cx="63104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636560"/>
                    <a:ext cx="63104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basic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200400"/>
            <a:ext cx="4572000" cy="130644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 IBISCHK on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36200"/>
            <a:ext cx="3886200" cy="21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latest IBISCH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[IBIS ver] in the file to match the IBISCHK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640" y="3932280"/>
          <a:ext cx="7940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932280"/>
                    <a:ext cx="7940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4095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55560" y="1793880"/>
          <a:ext cx="794088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93880"/>
                    <a:ext cx="79408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 the ibischk res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4876920" cy="14475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733920"/>
            <a:ext cx="1828800" cy="609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he IQ Specification as a 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95280"/>
          <a:ext cx="659916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59916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295280"/>
          <a:ext cx="794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94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IBIS file header i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7400" y="3311640"/>
          <a:ext cx="6781680" cy="27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311640"/>
                    <a:ext cx="6781680" cy="27082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38280" y="4419720"/>
            <a:ext cx="838440" cy="15238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4:01:38Z</dcterms:created>
  <dc:creator>Mike LaBonte</dc:creator>
  <dc:description/>
  <dc:language>en-US</dc:language>
  <cp:lastModifiedBy>Bob Ross</cp:lastModifiedBy>
  <dcterms:modified xsi:type="dcterms:W3CDTF">2005-04-05T22:34:42Z</dcterms:modified>
  <cp:revision>21</cp:revision>
  <dc:subject/>
  <dc:title>Using the IBIS Quality Checklist</dc:title>
</cp:coreProperties>
</file>