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DAECA5E6-ED0A-4042-A69C-0C4ABEF3CB63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E414A20-C2C9-4237-86AA-4D96B97F4D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53F0B407-D9AB-460F-BCD5-3570245956B9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999874DB-1B8F-489C-BDD3-A0362D5F4064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Mike LaBonte</cp:lastModifiedBy>
  <dcterms:modified xsi:type="dcterms:W3CDTF">2004-09-23T19:48:40Z</dcterms:modified>
  <cp:revision>21</cp:revision>
  <dc:subject/>
  <dc:title>Using the IBIS Quality Checklist</dc:title>
</cp:coreProperties>
</file>