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59904BD-5F8B-4E07-8067-FEE6B7132BC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C84FB87-6B5E-42B3-A2FE-5C7E1289B33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0D27B05-F3C2-4081-9ED6-61A8AC1CB35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99A7369-AEFA-4D77-B452-B5B8A395B0F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Mike LaBonte</cp:lastModifiedBy>
  <dcterms:modified xsi:type="dcterms:W3CDTF">2004-09-23T19:48:40Z</dcterms:modified>
  <cp:revision>21</cp:revision>
  <dc:subject/>
  <dc:title>Using the IBIS Quality Checklist</dc:title>
</cp:coreProperties>
</file>