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9939-5878-4485-A492-EB88A8A98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we he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we he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we he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we he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751-9984-4C22-B294-32F49BBC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E9F-74DA-4CE3-9AFE-4987BCE8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090-D39A-4434-A3C4-55CD015C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B96-B7F0-4C2D-A1C5-92B93783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8227-9A8B-4E5E-B329-6254009B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603A-A166-48F5-855C-0052C1C3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EFF8-F3C3-4CC6-87F6-0FA3D663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6BB4-CCF7-4419-8C5C-31327525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F1D8-BE97-4026-9C51-97090048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68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93F6-B6C8-4DB5-A56A-F22C8AAF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2DD0-88F6-48FA-ABAE-3D2809F9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CA6-DA2F-4D22-9955-1D2D2F36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FEA7-9AD6-4916-AEA4-31FF5A71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B2B6-B5A1-408D-B5F6-8CEF7FD6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B424-2C8E-4B25-B8B0-E8B41788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A6BC-6753-4085-B3F8-782FB320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CAF4-43A1-4721-B7B8-8EFF6F7D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B94-7EBD-4F95-A932-2428BA37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9EA-95C8-45FB-83EE-0C62192A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669-2051-4668-A48C-152B94E4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7C7-D159-43D5-8C5C-3C7670C6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237-E7C2-46ED-A534-6420ECBA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74E-AA45-47E1-965F-0807A7CE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311-8C58-48CA-BE91-95AB1BA2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EBD6-C7CF-47C4-8662-9E830BB43A5B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91520" y="6172200"/>
            <a:ext cx="1447560" cy="411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C13B-83AF-4F48-B5FB-CE3616E2685E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36699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isoft.com/ibis-quality/docs" TargetMode="External"/><Relationship Id="rId2" Type="http://schemas.openxmlformats.org/officeDocument/2006/relationships/hyperlink" Target="http://www.sisoft.com/ibis-quality/docs" TargetMode="External"/><Relationship Id="rId3" Type="http://schemas.openxmlformats.org/officeDocument/2006/relationships/hyperlink" Target="http://www.sisoft.com/ibis-quality/docs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isoft.com/ibis-quality" TargetMode="External"/><Relationship Id="rId2" Type="http://schemas.openxmlformats.org/officeDocument/2006/relationships/hyperlink" Target="http://www.sisoft.com/ibis-quality" TargetMode="External"/><Relationship Id="rId3" Type="http://schemas.openxmlformats.org/officeDocument/2006/relationships/hyperlink" Target="http://www.sisoft.com/ibis-quality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3200040"/>
            <a:ext cx="76201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Century Gothic"/>
              </a:rPr>
              <a:t>A Tour of the IBIS Quality Specification</a:t>
            </a:r>
            <a:endParaRPr b="0" lang="en-US" sz="28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Century Gothic"/>
              </a:rPr>
              <a:t>DesignCon East IBIS Summit April 5, 2004</a:t>
            </a:r>
            <a:endParaRPr b="0" lang="en-US" sz="28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6699"/>
                </a:solidFill>
                <a:latin typeface="Century Gothic"/>
              </a:rPr>
              <a:t>Robert Haller 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6699"/>
                </a:solidFill>
                <a:latin typeface="Century Gothic"/>
              </a:rPr>
              <a:t>rhaller@sisoft.com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Signal Integrity Software, Inc.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6 Clock Tower Place – Suite 250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Maynard MA. 01754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978-461-0449 X 15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944" t="20834" r="6944" b="19446"/>
          <a:stretch/>
        </p:blipFill>
        <p:spPr>
          <a:xfrm>
            <a:off x="2971800" y="0"/>
            <a:ext cx="3809880" cy="108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352680" y="99072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39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6699"/>
                </a:solidFill>
                <a:latin typeface="Century Gothic"/>
              </a:rPr>
              <a:t>IQ Specification and Exampl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3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http://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sisoft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.com/ibis-quality/doc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Q_Specification.txt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Q_Example.ib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99"/>
                </a:solidFill>
                <a:latin typeface="Century Gothic"/>
              </a:rPr>
              <a:t>IBIS Quality Specification Level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0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Level 0 requirements can be checked by ibischk3 version 3.2.9 or later  software 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Ibischk3 is highly recommended, to avoid performing level 0 checks manually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1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Level 1 includes all items in level 0 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Plus checks for correctness and completeness, and basic simulation tests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2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Level 2 includes all items in levels 1 &amp; 0, plus correlation: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Spice Correlation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Bench Correlation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IBIS Accuracy Handbook figure of merit (FOM)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39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6699"/>
                </a:solidFill>
                <a:latin typeface="Century Gothic"/>
              </a:rPr>
              <a:t>IQ Specification Index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3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155196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1.0 IBIS Quality Summary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1.1 IBIS Quality level definitions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1.2 IBIS Quality summary as comments in file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2.0 General Header Section Requirements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3.0 Component Section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3.1 Component Package Requirements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3.2 Component Pin Requirements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3.3 Component Diff Pin Requirements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3.4 Component Model Selector Requirements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4.0 Model Section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4.1 Model General Requirements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4.2 Model Waveform Processing Requirements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4.3 Model I-V Table Requirements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4.4 Model V-T Table Requirements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4.5 Model Ramp Data Requirements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5.0 Possible Errors that should be checked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6.0 Correlation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6.1     SPICE correlation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6.2     Lab correlation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Century Gothic"/>
              </a:rPr>
              <a:t>7.0 Model Limitations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marL="330840" indent="0">
              <a:lnSpc>
                <a:spcPct val="98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6699"/>
                </a:solidFill>
                <a:latin typeface="Century Gothic"/>
              </a:rPr>
              <a:t>IQ Document Exampl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111320"/>
            <a:ext cx="7773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[File Name]  iq_example.ibs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[File Rev]   1.0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[Date]       3/30/2004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[Source]     Developed by:  Signal Integrity Software, Inc.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[Notes]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      </a:t>
            </a: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Revision History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                   </a:t>
            </a: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Rev 1.0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                     </a:t>
            </a: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- 03/30/04 Release as iq_example. RJH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###############################################################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IQ IBIS Quality Notes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IQ SUMMARY Overall Quality of component and models Level 2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IQ Level 0 - 0 errors 12 warnings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IQ Level 1 - All checks done for completeness and correctness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IQ Level 2 - HSPICE Coorelation (2003.09) completed FOM =99%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IQ Buffer SSTLDATIO:    Quality level 2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IQ Buffer SSTLADDIO:    Quality level 2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IQ Level 0 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 All I/O Models: When running through ibischk3, this file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 contains 12 warnings about pullup and pulldown being non-monotonic.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 This is due to an IBIS Parser Bug, BUG71. Example warnings;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   WARNING (line  209) - Pulldown Maximum data is non-monotonic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   WARNING (line  210) - Pulldown Typical data is non-monotonic 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 IBISHCK 4.0 produces 0 errors and 0 warnings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IQ Level 1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(insert grep)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IQ Level 2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  <a:p>
            <a:pPr lvl="1" marL="607680" indent="0">
              <a:lnSpc>
                <a:spcPct val="98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Century Gothic"/>
              </a:rPr>
              <a:t>|(insert trailer)</a:t>
            </a:r>
            <a:endParaRPr b="0" lang="en-US" sz="1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IQ Checklist Exampl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606760" y="1295280"/>
          <a:ext cx="4327560" cy="528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1295280"/>
                    <a:ext cx="4327560" cy="52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6699"/>
                </a:solidFill>
                <a:latin typeface="Century Gothic"/>
              </a:rPr>
              <a:t>Summary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520" y="15699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BIS Quality Specific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sisoft.com/ibis-quality/doc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Q Leve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Q Index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Q Example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2406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6699"/>
                </a:solidFill>
                <a:latin typeface="Century Gothic"/>
              </a:rPr>
              <a:t>Additional Resources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Mailing 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bis-quality@freelists.org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freelists.org/archives/ibis-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Web site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http://www.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sisoft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.com/ibis-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e visit IBIS booth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e to our SI and Timing paper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Wed 2pm  (6-WP1)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e to PASS/FAIL Pan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Wed 4 pm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Thank you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Question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6944" t="20834" r="6944" b="19446"/>
          <a:stretch/>
        </p:blipFill>
        <p:spPr>
          <a:xfrm>
            <a:off x="2895480" y="2743200"/>
            <a:ext cx="4038840" cy="114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46:44Z</dcterms:created>
  <dc:creator>Bob Haller</dc:creator>
  <dc:description/>
  <dc:language>en-US</dc:language>
  <cp:lastModifiedBy>Mike LaBonte</cp:lastModifiedBy>
  <dcterms:modified xsi:type="dcterms:W3CDTF">2004-03-31T14:51:20Z</dcterms:modified>
  <cp:revision>35</cp:revision>
  <dc:subject/>
  <dc:title>IBIS QUALITY COMMITTEE REPORT</dc:title>
</cp:coreProperties>
</file>