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33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65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01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33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65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1371600"/>
            <a:ext cx="731520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33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65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33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65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0160" y="1371600"/>
            <a:ext cx="731520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0440" y="457200"/>
            <a:ext cx="8226360" cy="5943600"/>
            <a:chOff x="460440" y="457200"/>
            <a:chExt cx="8226360" cy="5943600"/>
          </a:xfrm>
        </p:grpSpPr>
        <p:sp>
          <p:nvSpPr>
            <p:cNvPr id="1" name=""/>
            <p:cNvSpPr/>
            <p:nvPr/>
          </p:nvSpPr>
          <p:spPr>
            <a:xfrm>
              <a:off x="893880" y="1019160"/>
              <a:ext cx="0" cy="538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3320" y="457200"/>
              <a:ext cx="598176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71680" y="5867280"/>
              <a:ext cx="401400" cy="201600"/>
            </a:xfrm>
            <a:custGeom>
              <a:avLst/>
              <a:gdLst/>
              <a:ahLst/>
              <a:rect l="l" t="t" r="r" b="b"/>
              <a:pathLst>
                <a:path w="253" h="127">
                  <a:moveTo>
                    <a:pt x="0" y="126"/>
                  </a:moveTo>
                  <a:lnTo>
                    <a:pt x="0" y="0"/>
                  </a:lnTo>
                  <a:lnTo>
                    <a:pt x="252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77720" y="5934240"/>
              <a:ext cx="50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2F235C3-7F10-486E-B8A3-534945793888}" type="slidenum"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705720" y="63828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60440" y="644400"/>
              <a:ext cx="446040" cy="45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90640" y="644400"/>
              <a:ext cx="3427200" cy="374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1713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49440" indent="-1731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"/>
          <p:cNvSpPr/>
          <p:nvPr/>
        </p:nvSpPr>
        <p:spPr>
          <a:xfrm>
            <a:off x="458280" y="6400440"/>
            <a:ext cx="22611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BIS Futures - Sep 2000 IBIS Sum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60440" y="457200"/>
            <a:ext cx="8226360" cy="5943600"/>
            <a:chOff x="460440" y="457200"/>
            <a:chExt cx="8226360" cy="5943600"/>
          </a:xfrm>
        </p:grpSpPr>
        <p:sp>
          <p:nvSpPr>
            <p:cNvPr id="48" name=""/>
            <p:cNvSpPr/>
            <p:nvPr/>
          </p:nvSpPr>
          <p:spPr>
            <a:xfrm>
              <a:off x="733320" y="457200"/>
              <a:ext cx="598176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98560" y="1092240"/>
              <a:ext cx="0" cy="530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05720" y="63828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Cadence%20Logo%20Web%20Red%20Title" descr=""/>
            <p:cNvPicPr/>
            <p:nvPr/>
          </p:nvPicPr>
          <p:blipFill>
            <a:blip r:embed="rId2"/>
            <a:stretch/>
          </p:blipFill>
          <p:spPr>
            <a:xfrm>
              <a:off x="4313160" y="1731960"/>
              <a:ext cx="242100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644400"/>
              <a:ext cx="446040" cy="45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90640" y="644400"/>
              <a:ext cx="3427200" cy="374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848600" y="6127560"/>
            <a:ext cx="28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dence Design System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BIS Futures Subcommitte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l: Arpad Muranyi, Stephen Pe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novEDA: Al Davis, John Angul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ntor Graphics: Bob Ro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dence: Mike LaBon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BM: Mike Cohe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xas Instruments: Stephen Nola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General Them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mat consist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dal circuit descrip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sic circuit elements, plus tables, equations, triggers, advanced t-lin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paration of circuit topology and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ataset correlation beyond min/typ/max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isting IBIS files still wor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op Level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20570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ght discussion only, so far. Nothing in writing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rrow from Connector Specific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ame header sectio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[Model]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[End Model]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rrow from XM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[Model name=“gt5623yf” type=“I/O”]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ckward compatibility: parser mode or translator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eparation of Circuit Topology and Data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3049560" cy="396252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tIns="91440" bIns="91440" anchor="t" anchorCtr="1">
            <a:normAutofit/>
          </a:bodyPr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[Model] switchou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odel_type Terminator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nable  Active-Low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|   variable         typ        min       max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_comp            0pF        NA        NA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[Temperature Range]   25 100    0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[Voltage Range] 5.0        4.75     5.25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[Rac]                 1k           NA      NA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[Cac]                 0.5          NA      NA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66720" y="2437920"/>
            <a:ext cx="4419720" cy="396252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tIns="91440" bIns="91440" anchor="t" anchorCtr="1">
            <a:normAutofit/>
          </a:bodyPr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[Define Model] Terminator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.inherit model_bas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.node t1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esistor Rac (pin t1)     R = [Rac] || sho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apacitor Cac (t1 gnd) C = [Cac] || ope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esistor Rpwr (pin power_clamp_ref) R = [Rpower] || ope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esistor Rgnd (pin gnd_clamp_ref) R = [Rgnd] || ope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[End Define Model]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3354840" y="2285640"/>
            <a:ext cx="586080" cy="34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8960" y="2285640"/>
            <a:ext cx="1666800" cy="34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ircuit Top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Nodal Interconnec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rconnect that lies outside of buffers, but how far out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ie to package only?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cluding package parasitics?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ame scope as EBD?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ttle discussion so fa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y or may not use macro language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equency-dependent RLGC transmission lines are possi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acro Languag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anguage used inside [Define Model] sec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st discussed top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bate over how much new simulator development should be requir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ependent sources controlled by any circuit nod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ull equations vs. simple arithmetic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General purpose charge and flux elements (SPICE B element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20:20:44Z</dcterms:created>
  <dc:creator>Mike LaBonte</dc:creator>
  <dc:description/>
  <dc:language>en-US</dc:language>
  <cp:lastModifiedBy>Mike LaBonte</cp:lastModifiedBy>
  <cp:lastPrinted>1998-09-24T04:09:08Z</cp:lastPrinted>
  <dcterms:modified xsi:type="dcterms:W3CDTF">2000-09-05T20:44:04Z</dcterms:modified>
  <cp:revision>9</cp:revision>
  <dc:subject/>
  <dc:title>IBIS Futures Subcommittee</dc:title>
</cp:coreProperties>
</file>