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314D-02C1-44AD-A392-5FDCD4731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B874-F76F-4A40-81B8-E8B2F4D47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8741-FB34-45C6-853E-AE0F8897B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DDD2-7434-4476-B3D1-F1DB0AF18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819C-3871-493D-BFDE-0F83906FD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1104-CB67-43F7-BDFD-4E1E709FA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2E0C-0BB9-4ED2-9943-1D337FE3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82C7-5D4D-4B2D-B3C6-7DAFDFFDB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2189-D079-4AC0-9413-7F196F776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B448-0031-4045-B503-752551F66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673F-9CE8-4AAA-AAB9-EB6283213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668E-FEB7-47AF-B378-45AB7E3EB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white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8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44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ADE-A76D-41C6-A6AB-94233358F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%20Page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11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IBIS FUTURES COMMITTEE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MULTILINGUAL MODEL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ARIFICATION OF UNIQUENESS FOR EXTERNAL MODEL PORT NAMES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40384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an Dod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March 200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01760" y="1450800"/>
            <a:ext cx="66708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xisting IBIS 4.1 specification does not make clear whether the following external model example with duplicate port names (in red) is, or is not legal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rnal Model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nguage VHDL-AM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rner typ foo.vhd  MyEntity(behav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s D_receive A_pcref A_signal A_gcref 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</a:rPr>
              <a:t>A_pcre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</a:rPr>
              <a:t>A_gcre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nd External Model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proposed that the language in the specification be amended to prohibit the use of this type of constru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arification of uniqueness for external model port nam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D, Multiligual Model: Digital Port Issues, 25th March 2004  Non Company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1C74-9A99-4111-B422-FB569F0D1B19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losing%20page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D, Multiligual Model: Digital Port Issues, 25th March 2004  Non Company Confidentia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1FA2-ABE2-4B9B-BEE7-72BF415625E0}" type="slidenum">
              <a:t>3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9:35:49Z</dcterms:created>
  <dc:creator>idodd</dc:creator>
  <dc:description/>
  <dc:language>en-US</dc:language>
  <cp:lastModifiedBy>idodd</cp:lastModifiedBy>
  <cp:lastPrinted>2001-01-30T21:17:45Z</cp:lastPrinted>
  <dcterms:modified xsi:type="dcterms:W3CDTF">2004-05-20T20:36:19Z</dcterms:modified>
  <cp:revision>3</cp:revision>
  <dc:subject/>
  <dc:title>IBIS FUTURES COMMITTEE MULTILINGUAL MODEL: DIGITAL PORT ISSUES</dc:title>
</cp:coreProperties>
</file>