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480" y="620640"/>
            <a:ext cx="9789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480" y="6335640"/>
            <a:ext cx="9789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440" y="154080"/>
            <a:ext cx="98265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C TC 93 / WG 6 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magnetic Compatibility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695840" y="6519960"/>
            <a:ext cx="32220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fld id="{2B746EFC-6743-4ACC-81D3-164EB3B295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720280" y="6426360"/>
            <a:ext cx="7174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 algn="ctr">
              <a:lnSpc>
                <a:spcPct val="90000"/>
              </a:lnSpc>
              <a:spcBef>
                <a:spcPts val="720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 /  02 / 9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52840" y="770040"/>
            <a:ext cx="46069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985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652840" y="770040"/>
            <a:ext cx="460692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11480" y="1449360"/>
            <a:ext cx="48736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ECHOIDE CHA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610160" cy="3543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4651200" cy="369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63560" y="5716440"/>
            <a:ext cx="8912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 mode                                                      Rese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28800" y="770040"/>
            <a:ext cx="51483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4915080" cy="3632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884760" cy="255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392436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1905120"/>
            <a:ext cx="3048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728800" y="770040"/>
            <a:ext cx="514836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754440" cy="300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4251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3626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00000" y="693720"/>
            <a:ext cx="81072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DUCTED and RADIATED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05120" y="1455840"/>
            <a:ext cx="316224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90000"/>
              </a:lnSpc>
              <a:spcBef>
                <a:spcPts val="720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s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SI - EIU</dc:creator>
  <dc:description/>
  <dc:language>en-US</dc:language>
  <cp:lastModifiedBy>Jean-Claude Perrin</cp:lastModifiedBy>
  <cp:revision>0</cp:revision>
  <dc:subject/>
  <dc:title>presentation ute93  27 fevrier 98</dc:title>
</cp:coreProperties>
</file>