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920" y="620640"/>
            <a:ext cx="9736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8920" y="6335640"/>
            <a:ext cx="9736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1440" y="154080"/>
            <a:ext cx="98265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 algn="ctr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EC TC 93 / WG 6 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omagnetic Compatibility task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4695840" y="6519960"/>
            <a:ext cx="32220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 algn="ctr">
              <a:lnSpc>
                <a:spcPct val="90000"/>
              </a:lnSpc>
              <a:spcBef>
                <a:spcPts val="720"/>
              </a:spcBef>
            </a:pPr>
            <a:fld id="{980A7070-E144-4B3C-84BA-4F0BEED68ADE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720280" y="6426360"/>
            <a:ext cx="7174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 algn="ctr">
              <a:lnSpc>
                <a:spcPct val="90000"/>
              </a:lnSpc>
              <a:spcBef>
                <a:spcPts val="720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7 /  02 / 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041560" y="2673360"/>
            <a:ext cx="21034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08240" y="3587760"/>
            <a:ext cx="25113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927000" y="1184400"/>
            <a:ext cx="3411360" cy="2646360"/>
            <a:chOff x="927000" y="1184400"/>
            <a:chExt cx="3411360" cy="2646360"/>
          </a:xfrm>
        </p:grpSpPr>
        <p:sp>
          <p:nvSpPr>
            <p:cNvPr id="48" name=""/>
            <p:cNvSpPr txBox="1"/>
            <p:nvPr/>
          </p:nvSpPr>
          <p:spPr>
            <a:xfrm>
              <a:off x="3027240" y="1184400"/>
              <a:ext cx="13111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trum analy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07960" y="3355920"/>
              <a:ext cx="2095560" cy="1080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1325520" y="3030480"/>
              <a:ext cx="460440" cy="325440"/>
              <a:chOff x="1325520" y="3030480"/>
              <a:chExt cx="460440" cy="325440"/>
            </a:xfrm>
          </p:grpSpPr>
          <p:sp>
            <p:nvSpPr>
              <p:cNvPr id="51" name=""/>
              <p:cNvSpPr/>
              <p:nvPr/>
            </p:nvSpPr>
            <p:spPr>
              <a:xfrm>
                <a:off x="1407960" y="3138480"/>
                <a:ext cx="293760" cy="21744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619280" y="3030480"/>
                <a:ext cx="41400" cy="10800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325520" y="3246480"/>
                <a:ext cx="82440" cy="5400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701720" y="3246480"/>
                <a:ext cx="84240" cy="5400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2876400" y="3030480"/>
              <a:ext cx="84240" cy="3254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30280" y="2813040"/>
              <a:ext cx="252360" cy="1094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86360" y="2908440"/>
              <a:ext cx="51120" cy="20880"/>
            </a:xfrm>
            <a:custGeom>
              <a:avLst/>
              <a:gdLst/>
              <a:ahLst/>
              <a:rect l="0" t="0" r="r" b="b"/>
              <a:pathLst>
                <a:path fill="none" w="142" h="58">
                  <a:moveTo>
                    <a:pt x="142" y="0"/>
                  </a:moveTo>
                  <a:lnTo>
                    <a:pt x="142" y="0"/>
                  </a:lnTo>
                  <a:cubicBezTo>
                    <a:pt x="118" y="0"/>
                    <a:pt x="94" y="3"/>
                    <a:pt x="73" y="8"/>
                  </a:cubicBezTo>
                  <a:cubicBezTo>
                    <a:pt x="51" y="14"/>
                    <a:pt x="32" y="22"/>
                    <a:pt x="19" y="31"/>
                  </a:cubicBezTo>
                  <a:cubicBezTo>
                    <a:pt x="8" y="39"/>
                    <a:pt x="1" y="48"/>
                    <a:pt x="0" y="58"/>
                  </a:cubicBezTo>
                </a:path>
              </a:pathLst>
            </a:custGeom>
            <a:ln w="12600">
              <a:solidFill>
                <a:srgbClr val="00ae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83000" y="2906640"/>
              <a:ext cx="52560" cy="22680"/>
            </a:xfrm>
            <a:custGeom>
              <a:avLst/>
              <a:gdLst/>
              <a:ahLst/>
              <a:rect l="0" t="0" r="r" b="b"/>
              <a:pathLst>
                <a:path fill="none" w="146" h="63">
                  <a:moveTo>
                    <a:pt x="146" y="63"/>
                  </a:moveTo>
                  <a:lnTo>
                    <a:pt x="146" y="63"/>
                  </a:lnTo>
                  <a:cubicBezTo>
                    <a:pt x="144" y="53"/>
                    <a:pt x="138" y="43"/>
                    <a:pt x="127" y="34"/>
                  </a:cubicBezTo>
                  <a:cubicBezTo>
                    <a:pt x="114" y="24"/>
                    <a:pt x="96" y="15"/>
                    <a:pt x="73" y="9"/>
                  </a:cubicBezTo>
                  <a:cubicBezTo>
                    <a:pt x="51" y="3"/>
                    <a:pt x="26" y="0"/>
                    <a:pt x="0" y="0"/>
                  </a:cubicBezTo>
                  <a:lnTo>
                    <a:pt x="0" y="0"/>
                  </a:lnTo>
                </a:path>
              </a:pathLst>
            </a:custGeom>
            <a:ln w="12600">
              <a:solidFill>
                <a:srgbClr val="00ae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3125880" y="3030480"/>
              <a:ext cx="461880" cy="325440"/>
              <a:chOff x="3125880" y="3030480"/>
              <a:chExt cx="461880" cy="325440"/>
            </a:xfrm>
          </p:grpSpPr>
          <p:sp>
            <p:nvSpPr>
              <p:cNvPr id="60" name=""/>
              <p:cNvSpPr/>
              <p:nvPr/>
            </p:nvSpPr>
            <p:spPr>
              <a:xfrm>
                <a:off x="3209760" y="3138480"/>
                <a:ext cx="293760" cy="21744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252960" y="3030480"/>
                <a:ext cx="41400" cy="10800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503520" y="3246480"/>
                <a:ext cx="84240" cy="5400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125880" y="3246480"/>
                <a:ext cx="84240" cy="5400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1954080" y="2922480"/>
              <a:ext cx="1006560" cy="1080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57240" y="3274920"/>
              <a:ext cx="284400" cy="0"/>
            </a:xfrm>
            <a:prstGeom prst="line">
              <a:avLst/>
            </a:prstGeom>
            <a:ln w="2556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93840" y="3214800"/>
              <a:ext cx="0" cy="0"/>
            </a:xfrm>
            <a:custGeom>
              <a:avLst/>
              <a:gdLst/>
              <a:ahLst/>
              <a:rect l="0" t="0" r="r" b="b"/>
              <a:pathLst>
                <a:path fill="none" w="0" h="0">
                  <a:moveTo>
                    <a:pt x="0" y="0"/>
                  </a:moveTo>
                </a:path>
              </a:pathLst>
            </a:custGeom>
            <a:ln w="25560">
              <a:solidFill>
                <a:srgbClr val="996600"/>
              </a:solidFill>
              <a:round/>
            </a:ln>
          </p:spPr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2246400" y="2863800"/>
              <a:ext cx="0" cy="417600"/>
            </a:xfrm>
            <a:prstGeom prst="line">
              <a:avLst/>
            </a:prstGeom>
            <a:ln w="2556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54080" y="3030480"/>
              <a:ext cx="84240" cy="3254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2652840" y="3274920"/>
              <a:ext cx="536400" cy="0"/>
            </a:xfrm>
            <a:prstGeom prst="line">
              <a:avLst/>
            </a:prstGeom>
            <a:ln w="2556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25560" y="3205080"/>
              <a:ext cx="5040" cy="19080"/>
            </a:xfrm>
            <a:custGeom>
              <a:avLst/>
              <a:gdLst/>
              <a:ahLst/>
              <a:rect l="0" t="0" r="r" b="b"/>
              <a:pathLst>
                <a:path fill="none" w="14" h="53">
                  <a:moveTo>
                    <a:pt x="0" y="0"/>
                  </a:moveTo>
                  <a:lnTo>
                    <a:pt x="0" y="0"/>
                  </a:lnTo>
                  <a:cubicBezTo>
                    <a:pt x="0" y="1"/>
                    <a:pt x="0" y="3"/>
                    <a:pt x="0" y="4"/>
                  </a:cubicBezTo>
                  <a:cubicBezTo>
                    <a:pt x="0" y="13"/>
                    <a:pt x="1" y="22"/>
                    <a:pt x="2" y="29"/>
                  </a:cubicBezTo>
                  <a:cubicBezTo>
                    <a:pt x="4" y="37"/>
                    <a:pt x="6" y="43"/>
                    <a:pt x="9" y="48"/>
                  </a:cubicBezTo>
                  <a:cubicBezTo>
                    <a:pt x="11" y="50"/>
                    <a:pt x="12" y="52"/>
                    <a:pt x="14" y="53"/>
                  </a:cubicBezTo>
                </a:path>
              </a:pathLst>
            </a:custGeom>
            <a:ln w="25560">
              <a:solidFill>
                <a:srgbClr val="996600"/>
              </a:solidFill>
              <a:round/>
            </a:ln>
          </p:spPr>
          <p:txBody>
            <a:bodyPr lIns="102600" rIns="1026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2666880" y="2863800"/>
              <a:ext cx="0" cy="417600"/>
            </a:xfrm>
            <a:prstGeom prst="line">
              <a:avLst/>
            </a:prstGeom>
            <a:ln w="2556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92200" y="3463920"/>
              <a:ext cx="127080" cy="540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52960" y="3463920"/>
              <a:ext cx="125280" cy="540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2222640" y="2268360"/>
              <a:ext cx="89208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475000" y="2554200"/>
              <a:ext cx="147600" cy="173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109960" y="3240000"/>
              <a:ext cx="512640" cy="309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927000" y="3559320"/>
              <a:ext cx="1758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mi ridged coaxial ca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 txBox="1"/>
            <p:nvPr/>
          </p:nvSpPr>
          <p:spPr>
            <a:xfrm>
              <a:off x="2884320" y="2593800"/>
              <a:ext cx="112068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ias T net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3395520" y="2859120"/>
              <a:ext cx="141480" cy="193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1319040" y="2508120"/>
              <a:ext cx="7016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C B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43040" y="2798640"/>
              <a:ext cx="0" cy="146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90720" y="1511280"/>
              <a:ext cx="922320" cy="325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85960" y="1728720"/>
              <a:ext cx="42840" cy="5400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31760" y="1565280"/>
              <a:ext cx="293760" cy="1094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500120" y="1620720"/>
              <a:ext cx="34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84360" y="1620720"/>
              <a:ext cx="34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68600" y="1620720"/>
              <a:ext cx="331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00120" y="1674720"/>
              <a:ext cx="34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84360" y="1674720"/>
              <a:ext cx="34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68600" y="1674720"/>
              <a:ext cx="331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949320" y="1260360"/>
              <a:ext cx="10065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gnal sour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06480" y="1811160"/>
              <a:ext cx="1800" cy="211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50840" y="2060640"/>
              <a:ext cx="784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74600" y="2093760"/>
              <a:ext cx="0" cy="1136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14560" y="3274920"/>
              <a:ext cx="179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9760" y="1457280"/>
              <a:ext cx="963720" cy="704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006800" y="1998720"/>
              <a:ext cx="41400" cy="5544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63800" y="1565280"/>
              <a:ext cx="334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63800" y="1890720"/>
              <a:ext cx="334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63800" y="1674720"/>
              <a:ext cx="334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63800" y="1782720"/>
              <a:ext cx="334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260880" y="1565280"/>
              <a:ext cx="331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60880" y="1890720"/>
              <a:ext cx="331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60880" y="1674720"/>
              <a:ext cx="331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60880" y="1782720"/>
              <a:ext cx="331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19640" y="1998720"/>
              <a:ext cx="84240" cy="10944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36840" y="1511280"/>
              <a:ext cx="378000" cy="433440"/>
            </a:xfrm>
            <a:prstGeom prst="round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373560" y="1768320"/>
              <a:ext cx="106200" cy="103320"/>
              <a:chOff x="3373560" y="1768320"/>
              <a:chExt cx="106200" cy="103320"/>
            </a:xfrm>
          </p:grpSpPr>
          <p:sp>
            <p:nvSpPr>
              <p:cNvPr id="109" name=""/>
              <p:cNvSpPr/>
              <p:nvPr/>
            </p:nvSpPr>
            <p:spPr>
              <a:xfrm>
                <a:off x="3373560" y="1863720"/>
                <a:ext cx="0" cy="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382920" y="1768320"/>
                <a:ext cx="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394080" y="1822320"/>
                <a:ext cx="0" cy="3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406680" y="1822320"/>
                <a:ext cx="0" cy="3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3394080" y="1843200"/>
                <a:ext cx="572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429000" y="1863720"/>
                <a:ext cx="0" cy="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440160" y="1768320"/>
                <a:ext cx="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452760" y="1822320"/>
                <a:ext cx="0" cy="3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465360" y="1822320"/>
                <a:ext cx="0" cy="3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478320" y="1835280"/>
                <a:ext cx="144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3490920" y="1768320"/>
              <a:ext cx="104760" cy="103320"/>
              <a:chOff x="3490920" y="1768320"/>
              <a:chExt cx="104760" cy="103320"/>
            </a:xfrm>
          </p:grpSpPr>
          <p:sp>
            <p:nvSpPr>
              <p:cNvPr id="120" name=""/>
              <p:cNvSpPr/>
              <p:nvPr/>
            </p:nvSpPr>
            <p:spPr>
              <a:xfrm>
                <a:off x="3490920" y="1863720"/>
                <a:ext cx="0" cy="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500280" y="1768320"/>
                <a:ext cx="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511440" y="1822320"/>
                <a:ext cx="0" cy="3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522600" y="1822320"/>
                <a:ext cx="0" cy="3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3510000" y="1843200"/>
                <a:ext cx="572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546360" y="1863720"/>
                <a:ext cx="0" cy="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557520" y="1768320"/>
                <a:ext cx="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570120" y="1822320"/>
                <a:ext cx="0" cy="3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584520" y="1822320"/>
                <a:ext cx="0" cy="3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95680" y="183528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3573360" y="1768320"/>
              <a:ext cx="106560" cy="103320"/>
              <a:chOff x="3573360" y="1768320"/>
              <a:chExt cx="106560" cy="103320"/>
            </a:xfrm>
          </p:grpSpPr>
          <p:sp>
            <p:nvSpPr>
              <p:cNvPr id="131" name=""/>
              <p:cNvSpPr/>
              <p:nvPr/>
            </p:nvSpPr>
            <p:spPr>
              <a:xfrm>
                <a:off x="3573360" y="1863720"/>
                <a:ext cx="0" cy="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584520" y="1768320"/>
                <a:ext cx="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595680" y="1822320"/>
                <a:ext cx="0" cy="3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606840" y="1822320"/>
                <a:ext cx="0" cy="3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3594240" y="1843200"/>
                <a:ext cx="5688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30600" y="1863720"/>
                <a:ext cx="0" cy="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641760" y="1768320"/>
                <a:ext cx="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654360" y="1822320"/>
                <a:ext cx="0" cy="3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666960" y="1822320"/>
                <a:ext cx="0" cy="3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678120" y="1835280"/>
                <a:ext cx="180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3627360" y="3267000"/>
              <a:ext cx="3700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29120" y="20937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849920" y="1477800"/>
            <a:ext cx="3443400" cy="1957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508120" y="3886200"/>
            <a:ext cx="5508720" cy="250524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893880" y="4232160"/>
            <a:ext cx="1549440" cy="1482840"/>
            <a:chOff x="893880" y="4232160"/>
            <a:chExt cx="1549440" cy="1482840"/>
          </a:xfrm>
        </p:grpSpPr>
        <p:sp>
          <p:nvSpPr>
            <p:cNvPr id="146" name=""/>
            <p:cNvSpPr/>
            <p:nvPr/>
          </p:nvSpPr>
          <p:spPr>
            <a:xfrm>
              <a:off x="1371600" y="4572000"/>
              <a:ext cx="609480" cy="11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39800" y="4630680"/>
              <a:ext cx="89280" cy="55080"/>
            </a:xfrm>
            <a:custGeom>
              <a:avLst/>
              <a:gdLst/>
              <a:ahLst/>
              <a:rect l="0" t="0" r="r" b="b"/>
              <a:pathLst>
                <a:path fill="none" w="248" h="153">
                  <a:moveTo>
                    <a:pt x="245" y="153"/>
                  </a:moveTo>
                  <a:lnTo>
                    <a:pt x="245" y="153"/>
                  </a:lnTo>
                  <a:cubicBezTo>
                    <a:pt x="247" y="143"/>
                    <a:pt x="248" y="134"/>
                    <a:pt x="248" y="124"/>
                  </a:cubicBezTo>
                  <a:cubicBezTo>
                    <a:pt x="248" y="102"/>
                    <a:pt x="243" y="81"/>
                    <a:pt x="232" y="62"/>
                  </a:cubicBezTo>
                  <a:cubicBezTo>
                    <a:pt x="221" y="43"/>
                    <a:pt x="205" y="28"/>
                    <a:pt x="186" y="17"/>
                  </a:cubicBezTo>
                  <a:cubicBezTo>
                    <a:pt x="168" y="6"/>
                    <a:pt x="146" y="0"/>
                    <a:pt x="124" y="0"/>
                  </a:cubicBezTo>
                  <a:cubicBezTo>
                    <a:pt x="103" y="0"/>
                    <a:pt x="81" y="6"/>
                    <a:pt x="62" y="17"/>
                  </a:cubicBezTo>
                  <a:cubicBezTo>
                    <a:pt x="44" y="28"/>
                    <a:pt x="28" y="43"/>
                    <a:pt x="17" y="62"/>
                  </a:cubicBezTo>
                  <a:cubicBezTo>
                    <a:pt x="6" y="81"/>
                    <a:pt x="0" y="102"/>
                    <a:pt x="0" y="124"/>
                  </a:cubicBezTo>
                  <a:cubicBezTo>
                    <a:pt x="0" y="132"/>
                    <a:pt x="1" y="141"/>
                    <a:pt x="3" y="149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976320" y="4568760"/>
              <a:ext cx="574560" cy="1131840"/>
              <a:chOff x="976320" y="4568760"/>
              <a:chExt cx="574560" cy="1131840"/>
            </a:xfrm>
          </p:grpSpPr>
          <p:sp>
            <p:nvSpPr>
              <p:cNvPr id="149" name=""/>
              <p:cNvSpPr/>
              <p:nvPr/>
            </p:nvSpPr>
            <p:spPr>
              <a:xfrm>
                <a:off x="1308240" y="4622760"/>
                <a:ext cx="69840" cy="114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 txBox="1"/>
              <p:nvPr/>
            </p:nvSpPr>
            <p:spPr>
              <a:xfrm>
                <a:off x="1052640" y="4568760"/>
                <a:ext cx="304920" cy="210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 txBox="1"/>
              <p:nvPr/>
            </p:nvSpPr>
            <p:spPr>
              <a:xfrm>
                <a:off x="1319040" y="4575240"/>
                <a:ext cx="231840" cy="210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308240" y="4775040"/>
                <a:ext cx="69840" cy="114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 txBox="1"/>
              <p:nvPr/>
            </p:nvSpPr>
            <p:spPr>
              <a:xfrm>
                <a:off x="1052640" y="4721400"/>
                <a:ext cx="299880" cy="210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 txBox="1"/>
              <p:nvPr/>
            </p:nvSpPr>
            <p:spPr>
              <a:xfrm>
                <a:off x="1319040" y="4727520"/>
                <a:ext cx="231840" cy="210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308240" y="4927680"/>
                <a:ext cx="69840" cy="114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 txBox="1"/>
              <p:nvPr/>
            </p:nvSpPr>
            <p:spPr>
              <a:xfrm>
                <a:off x="1052640" y="4873680"/>
                <a:ext cx="304920" cy="210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 txBox="1"/>
              <p:nvPr/>
            </p:nvSpPr>
            <p:spPr>
              <a:xfrm>
                <a:off x="1319040" y="4879800"/>
                <a:ext cx="231840" cy="210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308240" y="5079960"/>
                <a:ext cx="69840" cy="114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 txBox="1"/>
              <p:nvPr/>
            </p:nvSpPr>
            <p:spPr>
              <a:xfrm>
                <a:off x="1052640" y="5025960"/>
                <a:ext cx="304920" cy="210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 txBox="1"/>
              <p:nvPr/>
            </p:nvSpPr>
            <p:spPr>
              <a:xfrm>
                <a:off x="1319040" y="5032440"/>
                <a:ext cx="231840" cy="210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308240" y="5232240"/>
                <a:ext cx="69840" cy="114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 txBox="1"/>
              <p:nvPr/>
            </p:nvSpPr>
            <p:spPr>
              <a:xfrm>
                <a:off x="1052640" y="5178600"/>
                <a:ext cx="299880" cy="210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 txBox="1"/>
              <p:nvPr/>
            </p:nvSpPr>
            <p:spPr>
              <a:xfrm>
                <a:off x="1319040" y="5184720"/>
                <a:ext cx="231840" cy="210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08240" y="5384880"/>
                <a:ext cx="69840" cy="114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 txBox="1"/>
              <p:nvPr/>
            </p:nvSpPr>
            <p:spPr>
              <a:xfrm>
                <a:off x="1052640" y="5330880"/>
                <a:ext cx="304920" cy="210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 txBox="1"/>
              <p:nvPr/>
            </p:nvSpPr>
            <p:spPr>
              <a:xfrm>
                <a:off x="1319040" y="5337000"/>
                <a:ext cx="231840" cy="210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308240" y="5537160"/>
                <a:ext cx="69840" cy="114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 txBox="1"/>
              <p:nvPr/>
            </p:nvSpPr>
            <p:spPr>
              <a:xfrm>
                <a:off x="976320" y="5483160"/>
                <a:ext cx="401760" cy="210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G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 txBox="1"/>
              <p:nvPr/>
            </p:nvSpPr>
            <p:spPr>
              <a:xfrm>
                <a:off x="1319040" y="5489640"/>
                <a:ext cx="231840" cy="210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1974960" y="4629240"/>
              <a:ext cx="69840" cy="114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1989000" y="4581360"/>
              <a:ext cx="390600" cy="21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C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1751040" y="4587840"/>
              <a:ext cx="282600" cy="21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74960" y="4781520"/>
              <a:ext cx="69840" cy="114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2003400" y="4734000"/>
              <a:ext cx="299880" cy="21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1751040" y="4740120"/>
              <a:ext cx="282600" cy="21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74960" y="4933800"/>
              <a:ext cx="69840" cy="114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1989000" y="4886280"/>
              <a:ext cx="304920" cy="21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1751040" y="4892760"/>
              <a:ext cx="282600" cy="21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74960" y="5086440"/>
              <a:ext cx="69840" cy="114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1989000" y="5038560"/>
              <a:ext cx="304920" cy="21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1751040" y="5045040"/>
              <a:ext cx="282600" cy="21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74960" y="5238720"/>
              <a:ext cx="69840" cy="114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2003400" y="5191200"/>
              <a:ext cx="299880" cy="21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1751040" y="5197320"/>
              <a:ext cx="282600" cy="21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974960" y="5391000"/>
              <a:ext cx="69840" cy="114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1989000" y="5343480"/>
              <a:ext cx="304920" cy="21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1795320" y="5349960"/>
              <a:ext cx="231840" cy="21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74960" y="5543640"/>
              <a:ext cx="69840" cy="114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1968480" y="5495760"/>
              <a:ext cx="304920" cy="21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1795320" y="5502240"/>
              <a:ext cx="231840" cy="21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893880" y="4232160"/>
              <a:ext cx="15494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ponent pack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 txBox="1"/>
          <p:nvPr/>
        </p:nvSpPr>
        <p:spPr>
          <a:xfrm>
            <a:off x="2874960" y="3803760"/>
            <a:ext cx="527832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ection into pin number 1A - Measurement on other p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666880" y="762120"/>
            <a:ext cx="34671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cted suscepti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999040" y="1060560"/>
            <a:ext cx="119052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fix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108240" y="3587760"/>
            <a:ext cx="25113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388200" cy="41781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290520" y="693720"/>
            <a:ext cx="912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DUCTED and RADIATED SUSCEPT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728800" y="1379520"/>
            <a:ext cx="316224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dels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052640" y="998640"/>
            <a:ext cx="779292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dels proposed to simulate suscept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95440" y="1900080"/>
            <a:ext cx="75564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95440" y="2814480"/>
            <a:ext cx="75564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662120" y="1995480"/>
            <a:ext cx="278928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sic models : I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662120" y="2909880"/>
            <a:ext cx="234936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ments to 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786200" y="2949480"/>
            <a:ext cx="478476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coupling between I/O and power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coupling with logic 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coupling between I/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feedback coupling between I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890720" y="5119560"/>
            <a:ext cx="722952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ement methodologies have to be defined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s validation an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71400" y="4948200"/>
            <a:ext cx="75564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4000" y="2052720"/>
            <a:ext cx="4667400" cy="3408480"/>
          </a:xfrm>
          <a:prstGeom prst="rect">
            <a:avLst/>
          </a:prstGeom>
          <a:ln w="0">
            <a:noFill/>
          </a:ln>
        </p:spPr>
      </p:pic>
      <p:grpSp>
        <p:nvGrpSpPr>
          <p:cNvPr id="208" name=""/>
          <p:cNvGrpSpPr/>
          <p:nvPr/>
        </p:nvGrpSpPr>
        <p:grpSpPr>
          <a:xfrm>
            <a:off x="5302080" y="2773440"/>
            <a:ext cx="3749760" cy="1452600"/>
            <a:chOff x="5302080" y="2773440"/>
            <a:chExt cx="3749760" cy="1452600"/>
          </a:xfrm>
        </p:grpSpPr>
        <p:sp>
          <p:nvSpPr>
            <p:cNvPr id="209" name=""/>
            <p:cNvSpPr txBox="1"/>
            <p:nvPr/>
          </p:nvSpPr>
          <p:spPr>
            <a:xfrm>
              <a:off x="5302080" y="2773440"/>
              <a:ext cx="3394080" cy="30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18960" indent="-31896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Hp = I/O coupling with power supply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5302080" y="3154320"/>
              <a:ext cx="3749760" cy="30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18960" indent="-31896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H1 = coupling with the internal logic core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5302080" y="3535200"/>
              <a:ext cx="2716200" cy="30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18960" indent="-31896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 H2 = I/O feed back coupling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>
              <a:off x="5302080" y="3916440"/>
              <a:ext cx="2725560" cy="30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18960" indent="-31896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 H3 = coupling  to other I/O'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 txBox="1"/>
          <p:nvPr/>
        </p:nvSpPr>
        <p:spPr>
          <a:xfrm>
            <a:off x="290520" y="693720"/>
            <a:ext cx="912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DUCTED and RADIATED SUSCEPT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728800" y="1379520"/>
            <a:ext cx="316224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dels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659040" y="992160"/>
            <a:ext cx="2739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119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66840" y="2128680"/>
            <a:ext cx="75564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09840" y="2141640"/>
            <a:ext cx="759924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ert's position on the NWIP 93 / 67 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66840" y="3119400"/>
            <a:ext cx="77472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509840" y="3056040"/>
            <a:ext cx="210816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oad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814400" y="3817800"/>
            <a:ext cx="478296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tion plan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814400" y="4960800"/>
            <a:ext cx="561672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proposal for a NW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957400" y="4433760"/>
            <a:ext cx="294336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ives ,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33720" y="5500800"/>
            <a:ext cx="209556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tember 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OSI - EIU</dc:creator>
  <dc:description/>
  <dc:language>en-US</dc:language>
  <cp:lastModifiedBy>Jean-Claude Perrin</cp:lastModifiedBy>
  <cp:revision>0</cp:revision>
  <dc:subject/>
  <dc:title>presentation ute93  27 fevrier 98</dc:title>
</cp:coreProperties>
</file>