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520" y="620640"/>
            <a:ext cx="9763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520" y="6335640"/>
            <a:ext cx="9763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440" y="154080"/>
            <a:ext cx="9826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C TC 93 / WG 6 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magnetic Compatibility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695840" y="6519960"/>
            <a:ext cx="322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fld id="{04DF348D-748C-4CE5-87CD-E1B31CAB241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720280" y="6426360"/>
            <a:ext cx="717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 /  02 / 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52640" y="998640"/>
            <a:ext cx="72961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proposed to simulate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5440" y="19000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95440" y="28144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62120" y="1995480"/>
            <a:ext cx="278928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models :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62120" y="2909880"/>
            <a:ext cx="234936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s to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786200" y="2949480"/>
            <a:ext cx="471312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equivalent decoupling impe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mpedance of supply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nternal noise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nternal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oupling between internal logic and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71400" y="494820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85800" y="5043600"/>
            <a:ext cx="72295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methodologies have to be defin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s validation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4188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370400" y="2230560"/>
            <a:ext cx="5342040" cy="3070080"/>
            <a:chOff x="4370400" y="2230560"/>
            <a:chExt cx="5342040" cy="3070080"/>
          </a:xfrm>
        </p:grpSpPr>
        <p:sp>
          <p:nvSpPr>
            <p:cNvPr id="53" name=""/>
            <p:cNvSpPr txBox="1"/>
            <p:nvPr/>
          </p:nvSpPr>
          <p:spPr>
            <a:xfrm>
              <a:off x="4370400" y="2230560"/>
              <a:ext cx="4191120" cy="2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60200" indent="-1602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. Zf = impedance of the decoupling  component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370400" y="2889360"/>
              <a:ext cx="4879800" cy="2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60200" indent="-1602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. Zvdd/Zvss =  impedance of the PCB vdd/vss 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4370400" y="3473280"/>
              <a:ext cx="4727520" cy="2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60200" indent="-1602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. Zp/Ip =  internal noise generator on power supply p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2320" y="3938760"/>
              <a:ext cx="111924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370400" y="4003560"/>
              <a:ext cx="4308480" cy="26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60200" indent="-1602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. Sa/Ga = equivalent loop or antenna inside the I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4370400" y="4738680"/>
              <a:ext cx="5342040" cy="5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60200" indent="-1602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(. H1/H2…).. =  transfer functions  between internal oscilla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0200" indent="-1602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I/O p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 txBox="1"/>
          <p:nvPr/>
        </p:nvSpPr>
        <p:spPr>
          <a:xfrm>
            <a:off x="2805120" y="1379520"/>
            <a:ext cx="3162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00000" y="693720"/>
            <a:ext cx="81072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DUCTED and RADIA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76720" y="838080"/>
            <a:ext cx="4224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diated suscep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8240" y="3587760"/>
            <a:ext cx="2511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756480" cy="4470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82680" y="5792760"/>
            <a:ext cx="898848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lures in microcontroller not observed at incident field of 200V/m or 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SI - EIU</dc:creator>
  <dc:description/>
  <dc:language>en-US</dc:language>
  <cp:lastModifiedBy>Jean-Claude Perrin</cp:lastModifiedBy>
  <cp:revision>0</cp:revision>
  <dc:subject/>
  <dc:title>presentation ute93  27 fevrier 98</dc:title>
</cp:coreProperties>
</file>