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D84CD-6E78-4B22-BACE-7FAB90A9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080" y="620640"/>
            <a:ext cx="981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080" y="6335640"/>
            <a:ext cx="981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440" y="154080"/>
            <a:ext cx="9826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C TC 93 / WG 6 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magnetic Compatibility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695840" y="6519960"/>
            <a:ext cx="322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fld id="{FC75F7B1-DFEA-40FF-A680-31178BDA5BC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720280" y="6426360"/>
            <a:ext cx="717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 /  02 / 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0" y="838080"/>
            <a:ext cx="48387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EC TC  93   /  WG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93920" y="3056040"/>
            <a:ext cx="729612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of electronics integrated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simul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Electromagnetic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33720" y="1684440"/>
            <a:ext cx="31179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rt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47920" y="762120"/>
            <a:ext cx="71820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WIP/NEW WORK ITEM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560" y="1297080"/>
            <a:ext cx="3959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c93wg5/EMC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8640" y="1906560"/>
            <a:ext cx="88362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proposal 93/60/NP …March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2680" y="3430440"/>
            <a:ext cx="83790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ond proposal 93/67/NP…Jun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8480" y="2462040"/>
            <a:ext cx="84549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e to work on  extension of IBIS models for EMC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8480" y="419256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e electrical models for integrated circuit for behavioral EMC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2680" y="5411880"/>
            <a:ext cx="95220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be voted at the tc93 plenar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09680" y="1600200"/>
            <a:ext cx="480060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C93 secretary’s preliminary repo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19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09680"/>
            <a:ext cx="9067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0" y="2516040"/>
            <a:ext cx="95979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3/60/NP  “Ibis Models and EMC Simulation” failed on only 3 expe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572000"/>
            <a:ext cx="923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6360" y="3049560"/>
            <a:ext cx="860760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the presentation made by Mr Perrin project leader of the 93/60/67 NP The TC93 committee agre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97080" y="763560"/>
            <a:ext cx="76932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ENARY MEETING HELD IN Tokyo September 16 to 18 September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8480" y="3963960"/>
            <a:ext cx="88362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et up a pre-item task force on EMC simulation within W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nominate Mr Perrin as the convener of the EMC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bmit request for participation of the TC93 P-members and TC77/TC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6360" y="5487840"/>
            <a:ext cx="92170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s will be sent  to central office for official national experts request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40" y="1068480"/>
            <a:ext cx="99028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C93WG6 EMC SIMULATION AD-HOC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8640" y="1906560"/>
            <a:ext cx="8607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0" y="3811680"/>
            <a:ext cx="898848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4440" y="2592360"/>
            <a:ext cx="807408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progress on the subject of EMC simulation based on the document 93/60/67/NP and proposed a new NWIP to be submitted to the national committ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20760" y="4421160"/>
            <a:ext cx="8379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milestone : TC93 meeting in Autumn 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expert meeting previously planed for March 98 in 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 braught forwards to February 27 due to IBIS foru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reation of an international task force to promote a NWIP on the adaptation of IBIS to handle EMC probl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198108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ident of the task for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JC Perr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-perrin@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ts designed by the national commite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B Ro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ss@mentor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PJ Ker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rry@ra.gnet.gov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C Mar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ot.christian@tlsm70.tls1.siemen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L Dre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onel.dreux@siege.aerospatiale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W Joh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hn@c-lab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PT Jens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nem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tj@delta.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 RA E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a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@edm-hdt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378000"/>
                <a:tab algn="l" pos="2103480"/>
                <a:tab algn="l" pos="361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1295280"/>
            <a:ext cx="2833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EM CELL CONCEP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05120" y="693720"/>
            <a:ext cx="46069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44800" cy="3749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4597560" cy="258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20760" y="5716440"/>
            <a:ext cx="7769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 cell                                                    TEST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652840" y="770040"/>
            <a:ext cx="46069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668680" y="1525680"/>
            <a:ext cx="47214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 CELL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305240" cy="323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4533840" cy="3238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992160" y="5640480"/>
            <a:ext cx="822636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 MODE                             RESET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2560" y="2525760"/>
            <a:ext cx="2076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2440" y="2830680"/>
            <a:ext cx="48006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EUX Lion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EROSPATIALE Sures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UET Clau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EROSPATIALE Toul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ROT Christi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EMENS Automo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ULET Gu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HOMSON C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60" y="1752480"/>
            <a:ext cx="1890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ide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2440" y="2025720"/>
            <a:ext cx="56055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RIN Jean-Clau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AS INSTR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560" y="4811760"/>
            <a:ext cx="1890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2440" y="5116680"/>
            <a:ext cx="270972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8840" indent="-258840">
              <a:lnSpc>
                <a:spcPct val="90000"/>
              </a:lnSpc>
              <a:spcBef>
                <a:spcPts val="720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MBLIN Armel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3240" y="2021040"/>
            <a:ext cx="23749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4 93 22 23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.mail : jc-perrin@t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53240" y="2782800"/>
            <a:ext cx="35845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1 46 97 30 0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.mail : lionel.dreux@siege.aerospatiale.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853240" y="3392640"/>
            <a:ext cx="35845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5 61 93 58 6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.mail : claude.huet@avion.aerospatiale.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53240" y="4002120"/>
            <a:ext cx="4008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5 61 19 82 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.mail : marot.christian@tlsm70.tls1.siemens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53240" y="4611600"/>
            <a:ext cx="267192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1 69 33 01 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53240" y="5068800"/>
            <a:ext cx="274788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one : 33 (0)1 40 93 62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.mail :da@ute.asso.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800" y="998640"/>
            <a:ext cx="86295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mbers of the national initiator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95360" y="182412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20840" y="1882800"/>
            <a:ext cx="4967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AO , standard data exchange , model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4640" y="2903400"/>
            <a:ext cx="91026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TE / CEF 93 / GT5  EMC  ad-hoc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95360" y="3728880"/>
            <a:ext cx="3208320" cy="747720"/>
            <a:chOff x="1395360" y="3728880"/>
            <a:chExt cx="3208320" cy="747720"/>
          </a:xfrm>
        </p:grpSpPr>
        <p:sp>
          <p:nvSpPr>
            <p:cNvPr id="69" name=""/>
            <p:cNvSpPr txBox="1"/>
            <p:nvPr/>
          </p:nvSpPr>
          <p:spPr>
            <a:xfrm>
              <a:off x="1395360" y="3728880"/>
              <a:ext cx="755640" cy="7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220840" y="3787920"/>
              <a:ext cx="23828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 group of  W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95360" y="4414680"/>
            <a:ext cx="8140680" cy="747720"/>
            <a:chOff x="1395360" y="4414680"/>
            <a:chExt cx="8140680" cy="747720"/>
          </a:xfrm>
        </p:grpSpPr>
        <p:sp>
          <p:nvSpPr>
            <p:cNvPr id="72" name=""/>
            <p:cNvSpPr txBox="1"/>
            <p:nvPr/>
          </p:nvSpPr>
          <p:spPr>
            <a:xfrm>
              <a:off x="1395360" y="4414680"/>
              <a:ext cx="755640" cy="7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220840" y="4473720"/>
              <a:ext cx="7315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king group  on IC's ELECTROMAGNETIC COMPATI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557280" y="922320"/>
            <a:ext cx="83120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TE / CEF 93  ( TC 93 ): Design 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76520" y="1501920"/>
            <a:ext cx="58294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simulation tools to evaluate EMC behaviou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ics equipments and system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2800" y="3741840"/>
            <a:ext cx="24400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14440" y="46432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71600" y="4702320"/>
            <a:ext cx="63216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 a standard for EMC Integrated Circuits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04640" y="922320"/>
            <a:ext cx="13096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71680" y="1442880"/>
            <a:ext cx="755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166920" y="1959120"/>
            <a:ext cx="33526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design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qualif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838080" y="990720"/>
            <a:ext cx="8305920" cy="2057400"/>
            <a:chOff x="838080" y="990720"/>
            <a:chExt cx="8305920" cy="2057400"/>
          </a:xfrm>
        </p:grpSpPr>
        <p:sp>
          <p:nvSpPr>
            <p:cNvPr id="83" name=""/>
            <p:cNvSpPr txBox="1"/>
            <p:nvPr/>
          </p:nvSpPr>
          <p:spPr>
            <a:xfrm>
              <a:off x="903240" y="1233360"/>
              <a:ext cx="8177040" cy="173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C is the ability of an electronic or  integrated circ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function satisfactorily in an electromagnetic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out producing intolerable electromagnetic disturb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nything in that environ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990720"/>
              <a:ext cx="8305920" cy="2057400"/>
            </a:xfrm>
            <a:prstGeom prst="rect">
              <a:avLst/>
            </a:prstGeom>
            <a:noFill/>
            <a:ln w="152280">
              <a:solidFill>
                <a:srgbClr val="919191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85880" y="3424320"/>
            <a:ext cx="8742240" cy="2693880"/>
            <a:chOff x="785880" y="3424320"/>
            <a:chExt cx="8742240" cy="2693880"/>
          </a:xfrm>
        </p:grpSpPr>
        <p:sp>
          <p:nvSpPr>
            <p:cNvPr id="86" name=""/>
            <p:cNvSpPr txBox="1"/>
            <p:nvPr/>
          </p:nvSpPr>
          <p:spPr>
            <a:xfrm>
              <a:off x="1585800" y="3476520"/>
              <a:ext cx="245412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al integr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405320" y="4321080"/>
              <a:ext cx="310356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ated fields by  PC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ucted noises on li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785880" y="4262400"/>
              <a:ext cx="755640" cy="7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785880" y="3424320"/>
              <a:ext cx="755640" cy="7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785880" y="5176800"/>
              <a:ext cx="755640" cy="74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405320" y="3559320"/>
              <a:ext cx="51228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 compatibility on a Printed Circuit Bo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585800" y="4314960"/>
              <a:ext cx="176220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iss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1585800" y="5229360"/>
              <a:ext cx="1603440" cy="4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mun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405320" y="5388120"/>
              <a:ext cx="34574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adiated fiel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conducted noises on li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19120" y="853920"/>
            <a:ext cx="83818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 step : state of art on PCB EMC simul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6840" y="1662120"/>
            <a:ext cx="8825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stionnaire (1st semester 96) send by UTE to software purcha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62360" y="2241720"/>
            <a:ext cx="3146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 mailing   ,  7 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2800" y="2881440"/>
            <a:ext cx="8497800" cy="33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al item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s of numerical method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s 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pment elements included in simulation (boxes, cables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nents model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for data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30040" y="3659040"/>
            <a:ext cx="7921800" cy="19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d circuits models us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BIS : all software purcha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PICE : most of software purch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mpany specif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2680" y="671400"/>
            <a:ext cx="47912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conclusio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6360" y="1433520"/>
            <a:ext cx="853128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65000" indent="-255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8000" indent="-23004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ignal integrity : all software purcha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8000" indent="-23004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emissions : most of software purcha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8000" indent="-230040">
              <a:lnSpc>
                <a:spcPct val="9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mmunity : hardly anything software purch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1360" y="1308240"/>
            <a:ext cx="9120240" cy="461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42800" y="5908680"/>
            <a:ext cx="381492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If parasitics elements are included in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5440" y="776160"/>
            <a:ext cx="70992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step : SPICE / IBIS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762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1337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5920" indent="-38592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+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 seems to be the powerful solution for simulation on a complex PCB, in comparison to SPIC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ZapfDingbats"/>
              <a:buChar char="4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096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 is well adapted for signal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43080" indent="-40968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3080" indent="-4096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ore general EMC problems : an evolution of the standard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SI - EIU</dc:creator>
  <dc:description/>
  <dc:language>en-US</dc:language>
  <cp:lastModifiedBy>Jean-Claude Perrin</cp:lastModifiedBy>
  <cp:revision>0</cp:revision>
  <dc:subject/>
  <dc:title>presentation ute93  27 fevrier 98</dc:title>
</cp:coreProperties>
</file>